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8B89-AEFC-4B1E-B4A3-122671A6BEF2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AE6-5A95-4349-B8DA-59F5FB9A872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59C9-ACF9-4328-BBAE-558F4931CFC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144F-6806-480C-85A6-B23F67C3E19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C2FF-645C-42D6-BB54-4CAC5F17B03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5FEB-EDFB-43F6-974C-2E6CFD1176C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8B74-6E79-47A0-A603-F7F77BC334D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F44F-BB84-4541-B345-BB42D99B233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A9E8-E5BD-4E86-9394-E485C5D3AAE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7AAA-35B5-41DD-BDE5-73EAA319AD4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8BF5-422F-47BD-A171-4B8731F3559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0D9A-EC1B-4A94-8577-B41F2CA3CAB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B15D-CDAE-4EBA-8F69-573B59BE82A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00D2-8BC0-43E9-884B-8982ECC73D5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6E91-28C8-4457-A594-9C5689FD2C0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4643-1076-44BC-9236-345AED10713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C20-E5BF-4218-8544-6C43E755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278-67A4-4640-88DA-96C61FC7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320FD-A217-443A-A4A7-42C978B2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A3FE8-C6FE-47AC-BCEB-70CF0B57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1BEEC-0130-495A-84A2-3C8A3A94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F0D70-FB1E-447B-9417-FFD4664E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DECE4-863E-430C-9DC4-768205C5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71A86-D5E0-48C6-93A0-2B89A15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6AFC4-E697-47B3-83B6-C99F988D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5DEF7-F8FE-4E5F-8D30-7834A4A0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084F4-A72C-4955-AB3F-CD533F4C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46284-4B61-4F7F-BD5C-95BE0CAE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543E-84DD-44B7-922F-59DB767CC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2F477-9F40-47AA-8A34-8C8E13C0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794E4-E185-47B5-8BA4-78CE5520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8648C-3F25-4B04-B2BF-6BA4BC51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0248D-4383-43A0-8E17-8EB11E0E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B3C41-BB42-4F20-B4FB-ABE58231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D6517-CE7D-4D4D-8CF7-5947F34F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A8150-5772-4CA6-89BD-01B4344E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B0E7E-69E4-4CBC-9C51-4EFB2A6C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A8398-49A0-449B-90AB-8130994A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65D36-7BF3-4F03-93DB-EC1FFEBE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717-24E8-4811-B309-96397B41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3290C-8263-4D80-914C-600AE3B5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4A094-70D7-4488-BAA1-325AE7A3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040C3-37A4-4219-8EFD-279C3DD1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91ABB-C2F7-465E-A406-25E2FC82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650A6-BC4D-4403-9715-8A44D534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901D1-0289-4A17-9BE1-2B7CD7E4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2D467-0BC5-4CBA-BD97-A2B6E3F0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BCF5E-D3F7-403B-829C-3CE979DF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A14C3-25CF-4F50-B643-C90AB1F9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2FE7D-7A42-4E69-802B-A02CCE22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8265-ECF6-4D91-B031-A395421A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30150-9155-4018-94C3-A452D303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BED01-6434-449F-886E-75743FA0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3E347-757E-49E6-83A1-2FCD5413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B9014-6333-4F54-B324-32D4D9FB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866AA-0953-444F-94B0-B995A85C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57AD8-D8BF-4BBE-A50E-89169916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A4E85-F893-4316-A2D3-F58BF3F2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25133-E3EB-46AB-AC27-ED1A0802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5F121-D993-479F-B41E-B29DC66D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1E1EE-3007-4C3C-B967-B75A9FB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F7BA-2639-46C3-B9D6-BB82EB50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522F1-9BC6-4EB7-AB38-DA6221BE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91FB3-F566-4418-9068-6357258D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404EA-E48A-4EA4-B94C-04126C1A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6EB5F8-4E0C-4649-BF35-7609F498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21B0A4-F316-4B58-A7B7-9A608AC1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4BD9-D8FE-49CB-BFFF-2F74F1BA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E5A1-24CB-4F9D-A629-24208346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31E5-A570-4EE2-9C38-3D2DBD8B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1A23-6221-4912-A77E-6A01DBB0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0127-9683-4DF2-A272-84A19B6A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1E1-3A91-4795-A466-5DD0BB7B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C567-0822-4ADA-925A-FFB0DB6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5F92-B21A-4855-B22C-71AC701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DC43-727A-4EE2-8A76-D3D68A60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368D-0AE0-4106-83E6-E011C4B2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455F-1F4A-4420-9EF2-41B4E02C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1ABF-ADB2-42D4-86B0-1F39FB17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55AF0-1E02-406A-95E7-E2718CA4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500C-A21A-45D9-8DAF-B1AA619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4C85-618A-466C-B217-0CCCE939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A4BE-2C96-43AE-B2AB-4AFA9FE1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FB8-981A-4FA0-AFDF-CDF1B85B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3FDE5-03E7-4E79-A1AE-1D698369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960A-F043-4746-9648-7BF58FB8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CC741-CA10-43B5-88B9-69FF63B7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C4F76-2885-4E0B-A0B9-BAFE31A9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E8AB-0D23-4442-971A-13180FEE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E2A6B-0BF9-44B9-8CF5-3BE8AA61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7B79-DE90-44CB-8B95-C5263A72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8B0F1-2C93-4957-B6B4-8C8E11EB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3EC9-A052-4FFC-B9FA-AD29619E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81C8-B870-4227-A4E0-E302A1D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2CE-FB23-4506-B6D1-27D8812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AF35-838A-4553-961C-E7477162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530D6-6850-415A-82D5-99C1FB91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BD26-729A-4A58-B867-157DE914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A9BF-AE0D-45C1-A553-A0EF8A46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432AD-7714-4D25-AF12-44A7BA66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C98A7-B4C5-4C7B-896E-691E89F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302C-8BFC-4BE3-BD40-34277523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9B4B4-B24F-4110-9112-72E9B06A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A0A4C-1A5C-44C7-921C-D780D1C5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594C8-AF96-42D3-8C35-3710302E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CDA-F88C-475E-9938-2D8AA9A7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F80A-23D9-48F7-B03C-E0011ED4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94487-8097-40FD-A2FC-D362CA3F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DD7D5-E718-442B-846F-01EAE6ED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9150A-47BA-4EE0-9854-80C9823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83D78-B422-44F7-BE63-0D4F912B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253A-81E6-4029-94CC-4609FD64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ADE36-8A0D-4413-9EC8-664138F1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BAF5E-C3C0-43C5-90EC-94625165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024E-A90D-443A-8792-9B997614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46093-5E71-4F1C-9D17-2FBCEEB2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E83-D3C1-468A-960D-3994F423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3B9B2-F4D3-47E8-BA4D-3FD67093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35BF-4D4D-4015-BFDD-8FDC4191C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DC990-5B60-409B-B6A0-9449DAB2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6DC09-7E13-4FE5-8250-044FD4C7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5506-A072-4716-B0C0-CC20578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3E86B-6638-4E09-9EDA-DEB218D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ACA8A-9181-470A-99CA-86E65E4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78494-39DC-40CC-8884-B330FD62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9BB79-F278-4F4F-BCE7-7EBE6454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A7E0D-8FF1-4D86-8438-AE25E573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9FF-5DE0-4082-B8CF-B970B5D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0F96A-2CB4-4B6A-892F-DB9DD5D1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DB6C8-CB32-4510-A8CF-D9CD7ECE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6761-BE1E-420C-A70C-8122FE1E0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80CB-2557-4CD9-B3DE-7AF79B77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2792E-C34C-406A-AF45-532C2A34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29592-2F26-4C6A-8A68-E6FFC5E8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6141B-674E-4BE0-9648-E78030B7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D2AE0-3B4E-4FD0-9E84-80CCF4BE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27189-B616-424C-8E06-3AAA7E91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44985-65D6-41A2-A772-D33FD7D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6F7-8E1B-4AB6-ADFD-BC12054A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AED9A-C7E4-4F1A-AAB0-9F6C567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1901A-A108-4932-90D4-C0EB6932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52B83-F786-4EF0-BEF2-C26C845D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48C7E-B806-4BBE-908B-E796D43E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177D6-D2BD-4FED-91D2-DFDC1C78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184F2-6B19-4129-AD3C-88955395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84F6F-2BE8-4CB5-B2E6-8959196E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6505-D7B1-4115-BD5A-FEBAF5CA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78A70-73EF-472F-8405-FFA8EFE8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4DAC7-FD4C-4E0D-A135-882678F7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5AE7-47AC-42C9-88B9-215D0509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EAE9A-49D5-4D31-B758-C8153AFD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B00C6-36B6-4FD2-B0AF-66A21534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952A7-70ED-423A-9E50-8BDF233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21F6C-7C70-4796-9D04-311E1607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103E2-4F3B-49F9-9418-A1A6F2F4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DB3A8-7E3A-4886-A6C5-7F95D08F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62700-EDCD-44E1-A4F5-458C9ABB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2BA99-17D3-408D-9114-102453C8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6C27C-0B55-4141-9CA3-34CB2338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D07FD-3519-4978-B056-426F64D1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4D35-A974-41EC-ADFA-5E8A6096044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CB89-DD35-40E4-BFCF-69BFCE8267EF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BD2B-0C18-40FB-BB84-266996982B8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40BB-34F5-41B6-8F21-010159C0C21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82D1-4EA7-44B4-A2D5-16D9AE6A8D5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C893-9B57-4A8B-8845-75390931680B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D46A-3400-420C-96FB-1DE84B2DAAF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98FE-E3C3-430D-8E01-DA02CCC8FE7A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823B-91FA-47EB-94D9-A1956BF4ACF4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E188-96CD-4ACA-9AAD-2E9E5982905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5D36-3A56-4A05-A440-B6AE073E77D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D8F-8A34-40D3-BDF8-8CA7BD03E31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nansijski menad</a:t>
            </a:r>
            <a:r>
              <a:rPr b="0" lang="sr-Latn-CS" sz="3200" spc="-1" strike="noStrike">
                <a:solidFill>
                  <a:srgbClr val="000000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n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in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457200" y="1600200"/>
          <a:ext cx="8229600" cy="404352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na kraju prethodn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rethodne godine (2-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bilansa st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krajem planske godine (4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inimalna akumulacija za odrzavanje nepromijenjene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finansijske ravnoteze (6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Maksimalno potrebna akumulacij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28600" y="1676520"/>
          <a:ext cx="8534520" cy="3031920"/>
        </p:xfrm>
        <a:graphic>
          <a:graphicData uri="http://schemas.openxmlformats.org/drawingml/2006/table">
            <a:tbl>
              <a:tblPr/>
              <a:tblGrid>
                <a:gridCol w="1185840"/>
                <a:gridCol w="7348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i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 obaveze po drugoj varijanti plans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vezana sredstva po drugoj varijanti plankog bilansa st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dostatak dugo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ih izvora finansiranja (2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 za ulaganja u nove investicione programe u narednim godin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ebna maksimalna akumulacija (3+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Mogu</a:t>
            </a:r>
            <a:r>
              <a:rPr b="0" lang="sr-Latn-CS" sz="2900" spc="-1" strike="noStrike">
                <a:solidFill>
                  <a:srgbClr val="464653"/>
                </a:solidFill>
                <a:latin typeface="Bookman Old Style"/>
              </a:rPr>
              <a:t>ć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nost ostvarenja minimalno i maksimalno potrebne akumulacije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va varijanta bilansa u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 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rodajnih cijena (pariteta prodajnih i nabavnih cijena)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P</a:t>
            </a:r>
            <a:r>
              <a:rPr b="0" i="1" lang="sr-Latn-CS" sz="2300" spc="-1" strike="noStrike">
                <a:solidFill>
                  <a:srgbClr val="ff0000"/>
                </a:solidFill>
                <a:latin typeface="Gill Sans MT"/>
              </a:rPr>
              <a:t>romjena</a:t>
            </a:r>
            <a:r>
              <a:rPr b="0" i="1" lang="en-US" sz="2300" spc="-1" strike="noStrike">
                <a:solidFill>
                  <a:srgbClr val="ff0000"/>
                </a:solidFill>
                <a:latin typeface="Gill Sans MT"/>
              </a:rPr>
              <a:t> obima proizvodnje i prodaje</a:t>
            </a: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Kona</a:t>
            </a:r>
            <a:r>
              <a:rPr b="0" lang="sr-Latn-CS" sz="2600" spc="-1" strike="noStrike">
                <a:solidFill>
                  <a:srgbClr val="000000"/>
                </a:solidFill>
                <a:latin typeface="Gill Sans MT"/>
              </a:rPr>
              <a:t>č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a varijanta planskog bilansa uspjeha i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oslov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0" y="828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Object 10"/>
          <p:cNvGraphicFramePr/>
          <p:nvPr/>
        </p:nvGraphicFramePr>
        <p:xfrm>
          <a:off x="304920" y="2438280"/>
          <a:ext cx="8001000" cy="9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438280"/>
                    <a:ext cx="8001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5" name="Object 11"/>
          <p:cNvGraphicFramePr/>
          <p:nvPr/>
        </p:nvGraphicFramePr>
        <p:xfrm>
          <a:off x="762120" y="4343400"/>
          <a:ext cx="739116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343400"/>
                    <a:ext cx="73911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68" name="Object 8"/>
          <p:cNvGraphicFramePr/>
          <p:nvPr/>
        </p:nvGraphicFramePr>
        <p:xfrm>
          <a:off x="0" y="2209680"/>
          <a:ext cx="84121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84121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9"/>
          <p:cNvGraphicFramePr/>
          <p:nvPr/>
        </p:nvGraphicFramePr>
        <p:xfrm>
          <a:off x="533520" y="4038480"/>
          <a:ext cx="7867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6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lo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eni leverid</a:t>
            </a:r>
            <a:r>
              <a:rPr b="0" lang="sr-Latn-CS" sz="3200" spc="-1" strike="noStrike">
                <a:solidFill>
                  <a:srgbClr val="464653"/>
                </a:solidFill>
                <a:latin typeface="Bookman Old Style"/>
              </a:rPr>
              <a:t>ž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73" name="Object 5"/>
          <p:cNvGraphicFramePr/>
          <p:nvPr/>
        </p:nvGraphicFramePr>
        <p:xfrm>
          <a:off x="0" y="1828800"/>
          <a:ext cx="8534520" cy="9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853452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6"/>
          <p:cNvGraphicFramePr/>
          <p:nvPr/>
        </p:nvGraphicFramePr>
        <p:xfrm>
          <a:off x="304920" y="3429000"/>
          <a:ext cx="845820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84582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0"/>
          <p:cNvSpPr/>
          <p:nvPr/>
        </p:nvSpPr>
        <p:spPr>
          <a:xfrm>
            <a:off x="-99072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Object 11"/>
          <p:cNvGraphicFramePr/>
          <p:nvPr/>
        </p:nvGraphicFramePr>
        <p:xfrm>
          <a:off x="380880" y="4952880"/>
          <a:ext cx="844884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844884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uspjeh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ski bilans st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novcanih tok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 dugorocnih ulaganj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inansijsko planiranj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da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nabavk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proizvodnj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ulaganja u stalna sredst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iranje kadrov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ski bilans uspjeha – prva varijant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603440" y="1225440"/>
            <a:ext cx="618804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laniranje obrtnih sredstav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457200" y="1219320"/>
          <a:ext cx="8305920" cy="5213160"/>
        </p:xfrm>
        <a:graphic>
          <a:graphicData uri="http://schemas.openxmlformats.org/drawingml/2006/table">
            <a:tbl>
              <a:tblPr/>
              <a:tblGrid>
                <a:gridCol w="692280"/>
                <a:gridCol w="2922480"/>
                <a:gridCol w="922320"/>
                <a:gridCol w="923760"/>
                <a:gridCol w="1460520"/>
                <a:gridCol w="13845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obtnih sred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cinak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vezi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a obrtna sredstva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7ca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u blagaj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na depozitnim racun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artije od vrijed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od kupa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trazivanja za avan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potraziv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rovine i repromaterij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na zali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zavrsena proizvod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lu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 proizvo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govacka r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itan inventar u upotre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tivna vremenska razgranice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plasm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cf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obrtna sredstva (1 do 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pontanih izvora i kratkorocnih kredit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457200" y="1219320"/>
          <a:ext cx="8458200" cy="5578200"/>
        </p:xfrm>
        <a:graphic>
          <a:graphicData uri="http://schemas.openxmlformats.org/drawingml/2006/table">
            <a:tbl>
              <a:tblPr/>
              <a:tblGrid>
                <a:gridCol w="627120"/>
                <a:gridCol w="2504880"/>
                <a:gridCol w="1409760"/>
                <a:gridCol w="1254240"/>
                <a:gridCol w="1487520"/>
                <a:gridCol w="117468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 izv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U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č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ak u toku planskog peri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dana raspolo</a:t>
                      </a: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ž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v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roj kalendarskih dana u planskom peri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lanirani izvori (3*4)/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fb8c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ci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7,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datim hartijama od vrijed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,6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 na prom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kamate, dividende i naknade za ulo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na finansijski rezult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ostale dazb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neto licne dohot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za poreze i doprinose iz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avansima kupa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o obustavama licnih dohod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sivna vremenska razgranice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e6e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ntani izvori i kratkorocni kredi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2,0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osnovnih sredstava i dugorocnih plasman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533520" y="1676520"/>
          <a:ext cx="8229600" cy="2428920"/>
        </p:xfrm>
        <a:graphic>
          <a:graphicData uri="http://schemas.openxmlformats.org/drawingml/2006/table">
            <a:tbl>
              <a:tblPr/>
              <a:tblGrid>
                <a:gridCol w="685800"/>
                <a:gridCol w="2590560"/>
                <a:gridCol w="990720"/>
                <a:gridCol w="1219320"/>
                <a:gridCol w="1295280"/>
                <a:gridCol w="14479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novna sredst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9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i plasm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1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talna sredstva (1 + 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3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Planiranje sopstvenog kapitala i dugorocnih obaveza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457200" y="1219320"/>
          <a:ext cx="8229600" cy="3012840"/>
        </p:xfrm>
        <a:graphic>
          <a:graphicData uri="http://schemas.openxmlformats.org/drawingml/2006/table">
            <a:tbl>
              <a:tblPr/>
              <a:tblGrid>
                <a:gridCol w="609480"/>
                <a:gridCol w="2667240"/>
                <a:gridCol w="1447560"/>
                <a:gridCol w="1143000"/>
                <a:gridCol w="1143000"/>
                <a:gridCol w="12193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vr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pocet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oveca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manjenje u toku planske god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nje na kraju planske godine (3+4-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da7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pis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0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nominirani kapi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a rezervisanja za rizi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cne obave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1d7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vega sopstveni kapital i dugorocne obaveze ( 1 do 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7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,94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ugorocna finansijska ravnotez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457200" y="1600200"/>
          <a:ext cx="8229600" cy="2865600"/>
        </p:xfrm>
        <a:graphic>
          <a:graphicData uri="http://schemas.openxmlformats.org/drawingml/2006/table">
            <a:tbl>
              <a:tblPr/>
              <a:tblGrid>
                <a:gridCol w="1066680"/>
                <a:gridCol w="716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redni bro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tav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da7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postveni kapital i dugoroc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neto dobitak/gubitak po prvoj varijanti planskog bilansa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i sopstveni kapital, dugorocne obaveze i neto dobitak/gubitak (1+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stalna sredst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e stalne zali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1d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irana dugorocno vezana sredstva (4+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8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9:16:36Z</dcterms:created>
  <dc:creator>Miki</dc:creator>
  <dc:description/>
  <dc:language>en-US</dc:language>
  <cp:lastModifiedBy>boris</cp:lastModifiedBy>
  <dcterms:modified xsi:type="dcterms:W3CDTF">2012-11-28T18:30:49Z</dcterms:modified>
  <cp:revision>32</cp:revision>
  <dc:subject/>
  <dc:title>Finansijski menadzment</dc:title>
</cp:coreProperties>
</file>