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4995-8562-40CE-BB54-B7E8CADE06C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2558-D7F1-4091-A5A3-E949C1590699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9033-89E9-4378-9B37-DB90A1A1F107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3C7A-4D51-452F-A4E0-55F1DA97062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CE70-22DE-4029-A426-8FB0BD0ACB7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B5A0-641C-4213-B2FC-43CA7365860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D092-8F59-42CD-B5B0-6ECE0AB78BF8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AC4F-CD61-4532-AC1E-E44937C8FFE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205A-1599-41B9-A01C-25951733B962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7A25-0098-4401-8CB5-99A57E2D2EA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81D4-7981-4F36-AAD7-F61A7060C23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4E64-2716-4FF1-BA65-99F6006250C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52CF-E95B-4F8D-9930-551E2A7604A3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9BF6-D3E4-48F1-B0E4-A669304DF49E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D5FD-18F9-482C-B3B9-B56816BCCF40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2EA7-C799-4928-85B7-60D3B3FE4CFF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1027-7C4A-4BAC-ADDD-CCA02E0440BA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0966-F907-4219-BABC-DC862597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9BA8-1099-49B3-862E-AF24B0E7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12B8-5FA9-410C-AC03-DB8DE52E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FD0-4982-4E36-BF3C-DD2E4A97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439A-E039-4E21-8AA9-52457ED1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E093-3920-41BC-B3F6-694D8BBC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5CB6-3F36-4ECD-B1FF-150389B4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D7D6F-6015-4FCD-B50F-DCA3BF73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C429-5191-4051-AC91-D510E618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79F8-C4B0-40F3-B8AC-C555D855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6199-CBE0-4D7A-A73F-99EA64A8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FFA9-5FE8-4758-A80C-578A87AB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4ABA-39E2-4975-83D9-89B9B5D7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E71D-54B9-4B81-875A-84EB77A7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4192-786A-49DD-9E46-EB2AE28E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D9DE-0D32-4996-86F7-58E7037D2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4251D-A272-4146-B6BE-A6C50A8B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CBB9-F3D8-4937-8B12-14A3BFE4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2932F-3565-46DE-AC1A-4F7A931C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012C2-42E6-4021-8429-F7EEC97D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BF00D-63A5-4C71-AF3B-035B0235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9CE00-2976-43D5-B31D-B1158EC1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A27-A1BB-4A4C-93F5-2F643375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D5958-8EFE-4FAE-B755-C6B70E75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A000A-B11A-4DAA-8EE2-BB8FA842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412FF-3CEC-42FC-B1AD-09A0D457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D1C22-8A31-4C23-905F-C379718B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F1A98-58E3-4DFF-B9DB-E8A45C67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DA645-6788-4009-A6F2-E50AF1427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B50DF-2E84-49DC-937D-01CD6894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E933B-CC3B-45EA-808F-32CD4755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72CE5-C436-4EEF-B51F-9B52C867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1AF20-BC71-41C3-9F0C-98019C3C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67C2-5C03-40E1-9656-EBFD062D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A0648-8ADF-4862-A513-BA780B44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07243-ADA7-4E6A-9320-E9E509DF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B8E1A-AE87-433B-8F68-62935B19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241D3-0453-4D40-8176-62EEAEA9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1C26F-F7DA-4265-BCEC-AF8DD217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3ACF4-C976-4A5A-BB5E-36E1D6C2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DF15B-36D8-4AA2-AAA8-69F0B46E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5D315-6449-4089-BC58-BEF17951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32592-175C-4D64-848A-4B11DF13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12C1C-B2F0-44AB-B7A6-2BC3B358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A8FC-2877-4F24-B704-BCF89086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CD587-FD25-4EE3-9F63-53FA947C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F6391-5B2E-456F-84BB-3CFCAC25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EEB0F-6D7E-422E-AC55-BD0896BE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EC452-09A7-4AAE-80DE-183EFBEB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33E57-87DE-44E0-9DF2-4E17C0FA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4009B-7E1D-4D09-95E0-E9BAC1B5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40976-C9CC-4FB0-B2A4-E1047C89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7CF33-13D2-4BE5-B3EA-6EA6A586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88478-7430-462D-A033-41864243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C1EAA-ECF4-4D8B-8386-7E37A4AF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9A49-2C80-4840-9636-CF93851A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A225B-10F7-4EC6-80D6-11F1E394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71662-9BF9-494F-9691-8546DCA8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1053A-A30B-4579-ACF9-49071A00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6020B-8C44-485E-A465-75FB9EEA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F583F-94D1-4FF8-B38E-63EAEF50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78235-F21D-4CE2-8089-487F5CDE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69E0A-ACDD-479F-BCAA-40CF48E4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2601B-9E60-4D6A-B9DC-375BBE40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56A6C-B714-4CC0-9DB3-69D494E7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B39CF-42C5-4B26-8B4C-9BEA3BFB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CEA-3D14-4D3A-B4F6-50CCF938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7AE58-3C18-454D-9374-B26E70A0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EFDAA-4B7A-496F-B544-58AB8A34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56D8D-1664-4D98-A3B7-5C31FC5C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D33E7-9047-4750-AB53-6BC106C0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BB55B-D646-4EF8-BE21-B041D57E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DFC87-352D-44B6-8A93-3138BE80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31AD9-FAB3-455E-BA76-6372B956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AEB13-4B1C-4957-BC3B-C966774A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051BC-0131-445B-9BDA-259E7AC6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42BEC-9D79-4D76-B11F-0695099E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AE1-ACB8-4917-B834-625C29B4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80F63-ECD9-4176-AFBC-38E8F42C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E1863-82CF-45CB-88FA-FA069D6E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3F767-7064-4B63-8F93-8651D618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9EE0B-3928-4D30-B6B0-16481D33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ED5DF-91FC-4B2C-AFF3-5BFC7B54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7366-BC04-444E-A853-C11F8E7E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F930-7032-4BF2-ABF9-91AE02AA9ED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3664-D8D2-40E4-8BCC-812EE431A70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3E2D-5C5E-4E4C-AA89-E37AD15D210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23E0-E50E-488B-8C7E-8CE5D8E1831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814A-9875-4403-A662-EB12AA0318A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BC9F-4C43-424A-AC9C-C390134959A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1B4D-9124-4E89-9846-230D639EC90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jena isplativosti ulaganja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koja izjednačava  sadašnju vrijednost novčanih tokova sa početnom investicijom (NSV=0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:  IRR mora biti veća od granične stope prinosa, tj.minimalne stope prinosa (troška kapitala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Promjena diskontne stop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Višestruke IRR (česte promjene znaka u novčanim tokovi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93.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451.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2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777.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537.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540.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4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Prvo uzmemo diskontnu stopu koja dovodi do negativne NSV, npr 2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066680" y="2057400"/>
          <a:ext cx="7391520" cy="2595600"/>
        </p:xfrm>
        <a:graphic>
          <a:graphicData uri="http://schemas.openxmlformats.org/drawingml/2006/table">
            <a:tbl>
              <a:tblPr/>
              <a:tblGrid>
                <a:gridCol w="1549440"/>
                <a:gridCol w="2032200"/>
                <a:gridCol w="198108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940.8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890.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5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5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79.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2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421.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31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17" name="TextBox 4"/>
          <p:cNvSpPr/>
          <p:nvPr/>
        </p:nvSpPr>
        <p:spPr>
          <a:xfrm>
            <a:off x="762120" y="502920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nda uzmemo diskontnu stopu koja dovodi do pozitivne NSV, npr 1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Content Placeholder 3"/>
              <p:cNvSpPr txBox="1"/>
              <p:nvPr/>
            </p:nvSpPr>
            <p:spPr>
              <a:xfrm>
                <a:off x="1028880" y="1600200"/>
                <a:ext cx="8115120" cy="28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RR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iza  Ds </m:t>
                    </m:r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ozitivna  NSV</m:t>
                        </m:r>
                        <m:eqAr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zbir apsolutnih 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rijednosti  pozitivne</m:t>
                                </m:r>
                              </m:den>
                            </m:f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i  negativne  NSV </m:t>
                        </m:r>
                      </m:e>
                      <m:e/>
                      <m:e/>
                      <m:e/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isa  Ds - niza  Ds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terna stopa prinos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1752480" y="2111400"/>
                <a:ext cx="6477120" cy="34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RR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ža  Ds 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ozitivna  NSV</m:t>
                            </m:r>
                            <m:eqAr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bir apsolutnih 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rijednosti  pozitivne</m:t>
                                    </m:r>
                                  </m:den>
                                </m:f>
                              </m:e>
                            </m:eqArr>
                            <m:r>
                              <m:rPr>
                                <m:lit/>
                                <m:nor/>
                              </m:rPr>
                              <m:t xml:space="preserve">i  negativne  NSV </m:t>
                            </m:r>
                          </m:e>
                          <m:e/>
                          <m:e/>
                          <m:e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ša  Ds - niža Ds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5</m:t>
                        </m:r>
                        <m:r>
                          <m:t xml:space="preserve">+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1,73 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0,37</m:t>
                                </m:r>
                              </m:den>
                            </m:f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-15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R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 (PI)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424" name="TextBox 4"/>
          <p:cNvSpPr/>
          <p:nvPr/>
        </p:nvSpPr>
        <p:spPr>
          <a:xfrm>
            <a:off x="533520" y="45496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I = {CF1/(1+k)+CF2/(1+k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 ….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+ CFn/(1+k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ⁿ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}/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CO – inicijalni tok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F1, CF2… CFn – godisnji tokovi nov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 = {30,000/(1+0.1)+32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32,000/(1+0.1)</a:t>
            </a:r>
            <a:r>
              <a:rPr b="0" lang="sr-Latn-C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40,000/(1+0.1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}/10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 =1.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Indeks profitabilnost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0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Kriterijum: veci od 1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 – znači da je NSV </a:t>
            </a: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&gt;0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  <a:ea typeface="Times New Roman"/>
              </a:rPr>
              <a:t>Nedostatak: relativna profitabil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Ocjena isplativosti ulaganj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tode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eriod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povr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aćaja investicij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terna stopa prinos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eto sada</a:t>
            </a: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š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nja vrijednos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10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deks profitabilnosti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Broj godina potreban da se vrati početna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Kriterijum prihvatanja: rok povraćaja mora biti manji od maksimalno prihvatljivog rok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 razmatra novčane tokove nakon isteka roka povraćaja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Zanemaruje vremensku vrijednost novca (jednostavna metoda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askimalno prihvatljiv rok povraćaja je subjektivan izbo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ora se koristiti paralelno sa drugim metodam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Period povraćaja investicij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14400" y="1784520"/>
          <a:ext cx="7772400" cy="2595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ok nov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zult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 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1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6,9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0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3,8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e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2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5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,7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,3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,0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382" name="TextBox 4"/>
          <p:cNvSpPr/>
          <p:nvPr/>
        </p:nvSpPr>
        <p:spPr>
          <a:xfrm>
            <a:off x="762120" y="48006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((10,000 – (3,100 + 3,090 + 3,250))/3,320 = (10,000 – 9,440)/3,320 = 560/3,320 =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3 + 0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= 3.1</a:t>
            </a: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7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god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O,17*12=2,04  (2 mjeseca i o,04*30= 1,2 dan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orbel"/>
              </a:rPr>
              <a:t>Period povraćaja investicije iznosi 3 godine, 2 mjeseca i  1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Najrasprostranjenija metod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istem diskontovanog novčanog tok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Sadašnja vrijednost neto novčanih tokova iz projekta umanjena za početnu investicij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Diskontna stopa – trošak kapitala; zahtijevana stopa prinos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Kriterijum prihvatanja  - veća od nu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Tržišna cijena akcija se mijenja za iznos NSV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alibri"/>
              </a:rPr>
              <a:t>Ako je NSV nula, tržišna cijena se ne mijenj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1eeff"/>
                </a:solidFill>
                <a:latin typeface="Consolas"/>
              </a:rPr>
              <a:t>Neto sadaš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Ponderisani prosjek = 0,2*20% + 0,8*2% = 5,6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(20 + 2)/ 2 = 11%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dnost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Vremenska vrijednost novc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Mjeri rizik budućih priliv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ikazuje apsolutnu vrijednost koju generiše projeka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Nedostaci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Jednostavnost metode (ne pokazuje kada se dostiže pozitivna vrijednost, u kojoj godini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ffffff"/>
                </a:solidFill>
                <a:latin typeface="Calibri"/>
              </a:rPr>
              <a:t>Pretpostavka o neograničenim sredstvima (nema kapitalnog racionisanja). Ukoliko su sredstva ograničena nije bitna samo NSV, već i investicija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iskontni fakto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+ 100*0.08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0*(1+0.08) = 108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 = Sada</a:t>
            </a: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šnj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108 = Buduća vrijedno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ffffff"/>
                </a:solidFill>
                <a:latin typeface="Corbel"/>
              </a:rPr>
              <a:t>Ako je period duži od godinu d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0" y="1200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9" descr=""/>
          <p:cNvPicPr/>
          <p:nvPr/>
        </p:nvPicPr>
        <p:blipFill>
          <a:blip r:embed="rId1"/>
          <a:stretch/>
        </p:blipFill>
        <p:spPr>
          <a:xfrm>
            <a:off x="0" y="457200"/>
            <a:ext cx="1076400" cy="4665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2"/>
          <a:stretch/>
        </p:blipFill>
        <p:spPr>
          <a:xfrm>
            <a:off x="0" y="1380960"/>
            <a:ext cx="1619280" cy="466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3"/>
          <a:stretch/>
        </p:blipFill>
        <p:spPr>
          <a:xfrm>
            <a:off x="0" y="2305080"/>
            <a:ext cx="2085840" cy="4762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16" descr=""/>
          <p:cNvPicPr/>
          <p:nvPr/>
        </p:nvPicPr>
        <p:blipFill>
          <a:blip r:embed="rId4"/>
          <a:stretch/>
        </p:blipFill>
        <p:spPr>
          <a:xfrm>
            <a:off x="1295280" y="4114800"/>
            <a:ext cx="2057400" cy="892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"/>
          <p:cNvPicPr/>
          <p:nvPr/>
        </p:nvPicPr>
        <p:blipFill>
          <a:blip r:embed="rId5"/>
          <a:stretch/>
        </p:blipFill>
        <p:spPr>
          <a:xfrm>
            <a:off x="1066680" y="5410080"/>
            <a:ext cx="2743200" cy="790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4" descr=""/>
          <p:cNvPicPr/>
          <p:nvPr/>
        </p:nvPicPr>
        <p:blipFill>
          <a:blip r:embed="rId6"/>
          <a:stretch/>
        </p:blipFill>
        <p:spPr>
          <a:xfrm>
            <a:off x="4800600" y="5486400"/>
            <a:ext cx="3048120" cy="6951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0" y="92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>
            <a:off x="0" y="1847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0" y="2781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eto sada</a:t>
            </a:r>
            <a:r>
              <a:rPr b="0" lang="sr-Latn-CS" sz="4000" spc="-1" strike="noStrike">
                <a:solidFill>
                  <a:srgbClr val="c1eeff"/>
                </a:solidFill>
                <a:latin typeface="Calibri"/>
              </a:rPr>
              <a:t>š</a:t>
            </a: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nja vrijednos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914400" y="1784520"/>
          <a:ext cx="7924680" cy="283500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  <a:gridCol w="1981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cani to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nozila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1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72.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46.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296.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(1.1)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320.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S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335.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20:04:31Z</dcterms:created>
  <dc:creator>Miki</dc:creator>
  <dc:description/>
  <dc:language>en-US</dc:language>
  <cp:lastModifiedBy>boris</cp:lastModifiedBy>
  <dcterms:modified xsi:type="dcterms:W3CDTF">2012-12-18T21:14:00Z</dcterms:modified>
  <cp:revision>34</cp:revision>
  <dc:subject/>
  <dc:title>Finansijski menadzmet</dc:title>
</cp:coreProperties>
</file>