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65F48-4A6D-4796-B674-D16E31E5FBCF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99047-C0E4-44E4-8BC8-6CC86EAA4704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FCF35-62A6-4CD8-A6B2-0335DE502823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73424-C893-4F41-B270-7DB206259A1D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887D9-961F-4B7A-898D-A3EC12583B5E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C0474-2565-427C-9649-8573790CF6B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D7439-0CB1-407F-AEA1-6647D1C9501E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FE1BD-AA82-410F-A18C-7E02024DC3A0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28705-5613-4D20-82A9-D1B283D39FE8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D0D15-1333-45DD-84DD-5BCEA9EBB0BE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A2A57-AA77-4690-9C68-563EB39AA7FA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A2A32-2D4C-4E18-ACC2-EF315AF926B3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25565-9AF4-4B14-A10A-8E91284F4E60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D64D9-41C2-45B6-87C2-3C9873CB38A3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4E576-0B35-4029-8FB2-B3B9870F82CF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D3C15-F2A6-4758-B1BC-27E28E986F8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67F74-2C45-41A9-9B5D-BD5F19A8AEDF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C92F7-D427-45C9-8F58-550043243B28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BD3F0-507A-411B-9A84-2B676D5B96A4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F8237-D997-4ACC-95A5-DD1758A5C98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D26F-C661-4A67-8EA8-53B7F19BF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982C-F4BA-4219-B85B-2A8F0F9FC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53C4-DF86-49D0-A446-368F03EEF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8853-3673-4EDE-8123-7EDED5966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4384D-3D8F-4665-8593-B439BA366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A9A5A-C3CF-4495-A366-6E7E797DD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34104-6EAE-4E5C-9718-1C121F6AB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23825-2DFD-48FE-83A0-CBD0288F3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FF39A-2242-4A8B-A718-D6579155A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7333D-DB17-4B96-9C7D-F5F7D2B81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5D9CE-EA2D-4C64-B819-73789371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A10B-A8E9-4514-8F24-84F2BE889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1DD37-3B18-4E9A-82E6-37FD88F3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A499B-7B6B-429F-B380-3483376E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2E74B-4150-4F54-85F3-33017170D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6C8F8-FA61-474B-88EB-71FADA607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8488C-EA48-498A-928E-DF0FC5EFC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FD231-6F4A-4B96-94A8-F6FF6FDBB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F0FC9-2167-48D2-A7F8-D1D388587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86988-AB22-4B54-AAE3-B883504C5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30BF5-1072-4313-B5AD-23117A9A0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4B3EE-1F88-41AA-AD47-DFE11E777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7B0F-5512-49F4-8657-FF40333DD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D5ACD-B939-41A6-9894-4CD822191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6EFD5-20BC-4C22-9BB8-42F9D0FA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29B57-BF35-4531-81E2-7DB13057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1E676-EDAD-47BA-BB00-434F368F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F4746-BE23-475E-93AE-389E4D1A2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BF7C0-D701-4FF8-98F7-303F6A382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1A381-6377-49D4-9DB5-0553F2B55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D23BA-45C4-4136-ACDA-157EAF2B8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54E06-8137-4B5D-8945-B3BD039EF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A5D91-25EE-4AC1-A714-DBE8419B2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2703-CD21-46E5-9662-7C9539992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5C972-EF0C-4C45-ACE5-23D868190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C377D-2738-4D09-8CF4-DC92C27CB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E9859-E187-4138-93C6-5F126192A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80F93-460D-485B-B90D-E49F5BB7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89AF1-BA9C-440B-9AC7-42364A6A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A5842-1804-484F-839F-DFF1C54B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D6869-57CD-4169-AD39-2C000D17A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C03FC-FCD4-43AA-832D-E9D6F38A2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B7D4D-1A1D-4BC8-A8B9-FBBA99982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FBFBF-E48F-4A54-9216-31CFBFB35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B30A-3491-4D30-90F4-B57930417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B4010-9EDA-47E6-83E0-53C08280A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44FA7-AE8C-473D-846C-33A5246EB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EA55F-96E6-43A4-A9DD-3A8FD1BAC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37513-13A0-4625-ADF7-000EFF0CB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9DAA8-CE02-4C9B-84AC-25AE8102B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4F56A-D124-4ECE-B9FE-7BCDC99E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68E31-8892-426A-9B95-7020F616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7CEE7-5771-41C4-A904-BC369B54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95105-352B-4A84-9FA6-22C4CEB51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E3DE2-1114-4492-902E-9592C058D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AA1A-3CB9-48CB-80EB-8C913CA60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4B5AA-17D0-430E-9374-F5E5DB38F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28229-2426-4946-9156-788588CF4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4469F-B627-4401-8D65-8027077D3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07BDA-F3B3-4884-8DB0-41D985672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5640A-4289-49FF-82B7-68BD30EDA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F805A-7796-4798-A975-816C35BB6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0C39DD-E223-44DE-BFDC-B6A9392A4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84437-D104-47D5-9A55-FA8C7FBF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23798-AF6F-4393-A6A4-3A56AEF1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9DB34-7BB6-4642-ACAF-2DE9B8BA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88F4-E9E8-4A59-863B-9419F3B0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574A7-8438-4A1A-8321-AD87B9CC4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2C9E6-63F5-4FA6-8B5B-B886E560C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F04FD-726D-4F1F-8574-6263BC20B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8F937C-3042-4401-8DAC-6A34D7318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25C85-E560-4DDE-B862-9A5FF1300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0FEABB-3702-44DE-A4B1-E5958A32B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6D4F74-FA7E-4313-8F6B-262476220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181B7-9A2A-40F4-9E45-AB8E2238F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C125E-9B2B-4637-96BF-5C112CEF7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A6FDC1-61B4-4F11-B321-DFFAF82E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9B24-D096-4C92-AD4B-B55EF38F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DBB42-7F36-4F9B-9A98-52E2BB7C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2FE64-64B3-47A9-B205-394F08E1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7E7E87-2000-4AB1-A349-0242E4AFF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D71A36-8517-430B-B8AC-207BB59C5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C5494-A39F-4558-80DB-24EE9DCC5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9BD193-DEA8-44DE-8784-FCE3125BB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56EC7B-4780-4C5B-8CF0-F40DE3096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C817C6-F01D-445A-B723-92C0B63D8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15A1CB-A529-406F-9667-0C3D6BEB1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351ABD-7E91-48AF-A1AB-C79E9926F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8B9D-D0C4-4D8D-824D-05CE1AB4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BAE930-7014-4DB7-9D26-5A0303382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E5FE58-646C-419A-9527-3865416E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0E885-29B9-4153-8DBD-B88115F7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91DBBB-1E61-4D15-B24D-FD5CE231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60ECC8-F357-488D-8171-D83FEAF30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7D1CE1-EF50-4ECA-97AA-5BE19D6C8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2C019A-69C2-42F5-848B-4E60FDE5E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9E4E9-B117-419D-A170-F20932F231F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56742-140E-4D0F-B788-9E34D5998BE3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1071B-43FD-4DC1-8798-903344A176EA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E6F5A-C3E5-4BBA-8223-C4F97154ADBF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3497-949F-4643-92E4-ADF8FAF8E9F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3736D-B7E9-42A9-9A26-C325BE696D06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24DEA-C530-405C-8346-07DA565C791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AFE4C-5537-4205-B34E-C2BEF0944EE8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23.png"/><Relationship Id="rId17" Type="http://schemas.openxmlformats.org/officeDocument/2006/relationships/image" Target="../media/image23.png"/><Relationship Id="rId18" Type="http://schemas.openxmlformats.org/officeDocument/2006/relationships/image" Target="../media/image23.png"/><Relationship Id="rId19" Type="http://schemas.openxmlformats.org/officeDocument/2006/relationships/image" Target="../media/image23.png"/><Relationship Id="rId20" Type="http://schemas.openxmlformats.org/officeDocument/2006/relationships/image" Target="../media/image23.png"/><Relationship Id="rId21" Type="http://schemas.openxmlformats.org/officeDocument/2006/relationships/image" Target="../media/image23.png"/><Relationship Id="rId22" Type="http://schemas.openxmlformats.org/officeDocument/2006/relationships/image" Target="../media/image23.png"/><Relationship Id="rId23" Type="http://schemas.openxmlformats.org/officeDocument/2006/relationships/image" Target="../media/image23.png"/><Relationship Id="rId24" Type="http://schemas.openxmlformats.org/officeDocument/2006/relationships/image" Target="../media/image23.png"/><Relationship Id="rId25" Type="http://schemas.openxmlformats.org/officeDocument/2006/relationships/image" Target="../media/image23.png"/><Relationship Id="rId26" Type="http://schemas.openxmlformats.org/officeDocument/2006/relationships/image" Target="../media/image23.png"/><Relationship Id="rId27" Type="http://schemas.openxmlformats.org/officeDocument/2006/relationships/image" Target="../media/image23.png"/><Relationship Id="rId28" Type="http://schemas.openxmlformats.org/officeDocument/2006/relationships/image" Target="../media/image23.png"/><Relationship Id="rId29" Type="http://schemas.openxmlformats.org/officeDocument/2006/relationships/image" Target="../media/image23.png"/><Relationship Id="rId30" Type="http://schemas.openxmlformats.org/officeDocument/2006/relationships/image" Target="../media/image23.png"/><Relationship Id="rId31" Type="http://schemas.openxmlformats.org/officeDocument/2006/relationships/image" Target="../media/image23.png"/><Relationship Id="rId32" Type="http://schemas.openxmlformats.org/officeDocument/2006/relationships/image" Target="../media/image23.png"/><Relationship Id="rId33" Type="http://schemas.openxmlformats.org/officeDocument/2006/relationships/image" Target="../media/image23.png"/><Relationship Id="rId34" Type="http://schemas.openxmlformats.org/officeDocument/2006/relationships/image" Target="../media/image23.png"/><Relationship Id="rId35" Type="http://schemas.openxmlformats.org/officeDocument/2006/relationships/image" Target="../media/image23.png"/><Relationship Id="rId36" Type="http://schemas.openxmlformats.org/officeDocument/2006/relationships/image" Target="../media/image23.png"/><Relationship Id="rId37" Type="http://schemas.openxmlformats.org/officeDocument/2006/relationships/image" Target="../media/image23.png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23.png"/><Relationship Id="rId17" Type="http://schemas.openxmlformats.org/officeDocument/2006/relationships/image" Target="../media/image23.png"/><Relationship Id="rId18" Type="http://schemas.openxmlformats.org/officeDocument/2006/relationships/image" Target="../media/image23.png"/><Relationship Id="rId19" Type="http://schemas.openxmlformats.org/officeDocument/2006/relationships/image" Target="../media/image23.png"/><Relationship Id="rId20" Type="http://schemas.openxmlformats.org/officeDocument/2006/relationships/image" Target="../media/image23.png"/><Relationship Id="rId21" Type="http://schemas.openxmlformats.org/officeDocument/2006/relationships/image" Target="../media/image23.png"/><Relationship Id="rId22" Type="http://schemas.openxmlformats.org/officeDocument/2006/relationships/image" Target="../media/image23.png"/><Relationship Id="rId23" Type="http://schemas.openxmlformats.org/officeDocument/2006/relationships/image" Target="../media/image23.png"/><Relationship Id="rId24" Type="http://schemas.openxmlformats.org/officeDocument/2006/relationships/image" Target="../media/image23.png"/><Relationship Id="rId25" Type="http://schemas.openxmlformats.org/officeDocument/2006/relationships/image" Target="../media/image23.png"/><Relationship Id="rId26" Type="http://schemas.openxmlformats.org/officeDocument/2006/relationships/image" Target="../media/image23.png"/><Relationship Id="rId27" Type="http://schemas.openxmlformats.org/officeDocument/2006/relationships/image" Target="../media/image23.png"/><Relationship Id="rId28" Type="http://schemas.openxmlformats.org/officeDocument/2006/relationships/image" Target="../media/image23.png"/><Relationship Id="rId29" Type="http://schemas.openxmlformats.org/officeDocument/2006/relationships/image" Target="../media/image23.png"/><Relationship Id="rId30" Type="http://schemas.openxmlformats.org/officeDocument/2006/relationships/image" Target="../media/image23.png"/><Relationship Id="rId31" Type="http://schemas.openxmlformats.org/officeDocument/2006/relationships/image" Target="../media/image23.png"/><Relationship Id="rId32" Type="http://schemas.openxmlformats.org/officeDocument/2006/relationships/image" Target="../media/image23.png"/><Relationship Id="rId33" Type="http://schemas.openxmlformats.org/officeDocument/2006/relationships/image" Target="../media/image23.png"/><Relationship Id="rId34" Type="http://schemas.openxmlformats.org/officeDocument/2006/relationships/image" Target="../media/image23.png"/><Relationship Id="rId35" Type="http://schemas.openxmlformats.org/officeDocument/2006/relationships/image" Target="../media/image23.png"/><Relationship Id="rId36" Type="http://schemas.openxmlformats.org/officeDocument/2006/relationships/image" Target="../media/image23.png"/><Relationship Id="rId37" Type="http://schemas.openxmlformats.org/officeDocument/2006/relationships/image" Target="../media/image23.png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Donja ta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ka rentabilnost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Finansijsko planiranj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 II u nov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im jedinica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Lucida Sans Unicode"/>
              </a:rPr>
              <a:t>Ukoliko su poznate vrijednosti po jedinici proizvoda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19" name="Object 2"/>
              <p:cNvSpPr txBox="1"/>
              <p:nvPr/>
            </p:nvSpPr>
            <p:spPr>
              <a:xfrm>
                <a:off x="2666880" y="3733920"/>
                <a:ext cx="323856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TR</m:t>
                    </m:r>
                    <m:r>
                      <m:rPr>
                        <m:lit/>
                        <m:nor/>
                      </m:rPr>
                      <m:t xml:space="preserve">  I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T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NR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 - 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65044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21" name="Content Placeholder 3"/>
              <p:cNvSpPr txBox="1"/>
              <p:nvPr/>
            </p:nvSpPr>
            <p:spPr>
              <a:xfrm>
                <a:off x="533520" y="1600200"/>
                <a:ext cx="2622600" cy="27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T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30,0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1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RF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6,0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3"/>
              <p:cNvSpPr txBox="1"/>
              <p:nvPr/>
            </p:nvSpPr>
            <p:spPr>
              <a:xfrm>
                <a:off x="3657600" y="1371600"/>
                <a:ext cx="5002200" cy="21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TR</m:t>
                        </m:r>
                        <m:r>
                          <m:rPr>
                            <m:lit/>
                            <m:nor/>
                          </m:rPr>
                          <m:t xml:space="preserve">   I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,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 - 4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,000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,0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ovjera:  5,000 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 1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30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5,000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50,00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30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20,0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50,00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50,0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4"/>
              <p:cNvSpPr txBox="1"/>
              <p:nvPr/>
            </p:nvSpPr>
            <p:spPr>
              <a:xfrm>
                <a:off x="3657600" y="3886200"/>
                <a:ext cx="5141880" cy="184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TR</m:t>
                        </m:r>
                        <m:r>
                          <m:rPr>
                            <m:lit/>
                            <m:nor/>
                          </m:rPr>
                          <m:t xml:space="preserve">  II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,000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6,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 - 4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,000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,0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ovjera:  6,000 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30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6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6,000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60,00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30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6,000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4,0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60,000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60,00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Title 2" descr=""/>
          <p:cNvPicPr/>
          <p:nvPr/>
        </p:nvPicPr>
        <p:blipFill>
          <a:blip r:embed="rId1"/>
          <a:stretch/>
        </p:blipFill>
        <p:spPr>
          <a:xfrm>
            <a:off x="195120" y="219240"/>
            <a:ext cx="8498160" cy="1207800"/>
          </a:xfrm>
          <a:prstGeom prst="rect">
            <a:avLst/>
          </a:prstGeom>
          <a:ln w="0">
            <a:noFill/>
          </a:ln>
        </p:spPr>
      </p:pic>
      <p:sp>
        <p:nvSpPr>
          <p:cNvPr id="425" name="TextBox 7"/>
          <p:cNvSpPr/>
          <p:nvPr/>
        </p:nvSpPr>
        <p:spPr>
          <a:xfrm>
            <a:off x="304920" y="1295280"/>
            <a:ext cx="845820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zračunati DTR I i II u količinskom i novčanom obliku ako su poznati sljedeći podac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Fiksni troškovi                                  5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Varijabilni troškovi po jedinici               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odajna cijena po jedinici                    2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shodi finansiranja                         1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 u="sng">
                <a:solidFill>
                  <a:srgbClr val="000000"/>
                </a:solidFill>
                <a:uFillTx/>
                <a:latin typeface="Arial"/>
              </a:rPr>
              <a:t>Količinsk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 = 50.000/(200-100) = 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2 = (50.000 + 10.000)/(200-100) = 6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 u="sng">
                <a:solidFill>
                  <a:srgbClr val="000000"/>
                </a:solidFill>
                <a:uFillTx/>
                <a:latin typeface="Arial"/>
              </a:rPr>
              <a:t>Novč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=                                               DTR2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li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 = 500*200 = 100.000              DTR2 = 600*200 = 12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8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9" descr=""/>
          <p:cNvPicPr/>
          <p:nvPr/>
        </p:nvPicPr>
        <p:blipFill>
          <a:blip r:embed="rId2"/>
          <a:stretch/>
        </p:blipFill>
        <p:spPr>
          <a:xfrm>
            <a:off x="4800600" y="4724280"/>
            <a:ext cx="2414520" cy="68580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11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12" descr=""/>
          <p:cNvPicPr/>
          <p:nvPr/>
        </p:nvPicPr>
        <p:blipFill>
          <a:blip r:embed="rId3"/>
          <a:stretch/>
        </p:blipFill>
        <p:spPr>
          <a:xfrm>
            <a:off x="1523880" y="4648320"/>
            <a:ext cx="1828800" cy="755640"/>
          </a:xfrm>
          <a:prstGeom prst="rect">
            <a:avLst/>
          </a:prstGeom>
          <a:ln w="0">
            <a:noFill/>
          </a:ln>
        </p:spPr>
      </p:pic>
      <p:sp>
        <p:nvSpPr>
          <p:cNvPr id="433" name="Rectangle 14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5" name="TextBox 3"/>
          <p:cNvSpPr/>
          <p:nvPr/>
        </p:nvSpPr>
        <p:spPr>
          <a:xfrm>
            <a:off x="457200" y="1295280"/>
            <a:ext cx="8001000" cy="86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2) Izračunati DTR I i II u količinskom i novčanom obliku ako su poznati sljedeci podac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Fiksni troškovi                                  10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Varijabilni troškovi po jedinici                  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odajna cijena po jedinici                      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shodi finansiranja                           5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 u="sng">
                <a:solidFill>
                  <a:srgbClr val="000000"/>
                </a:solidFill>
                <a:uFillTx/>
                <a:latin typeface="Arial"/>
              </a:rPr>
              <a:t>Količinsk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 = 10.000/(30-20) = 1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2 = (10.000 + 5.000)/(30-20) = 1.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 u="sng">
                <a:solidFill>
                  <a:srgbClr val="000000"/>
                </a:solidFill>
                <a:uFillTx/>
                <a:latin typeface="Arial"/>
              </a:rPr>
              <a:t>Novč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=                                               DTR2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li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TR1 = 1.000*30 = 30.000              DTR2 = 1.500*30 = 45.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1" descr=""/>
          <p:cNvPicPr/>
          <p:nvPr/>
        </p:nvPicPr>
        <p:blipFill>
          <a:blip r:embed="rId2"/>
          <a:stretch/>
        </p:blipFill>
        <p:spPr>
          <a:xfrm>
            <a:off x="1752480" y="4572000"/>
            <a:ext cx="1600200" cy="754200"/>
          </a:xfrm>
          <a:prstGeom prst="rect">
            <a:avLst/>
          </a:prstGeom>
          <a:ln w="0">
            <a:noFill/>
          </a:ln>
        </p:spPr>
      </p:pic>
      <p:sp>
        <p:nvSpPr>
          <p:cNvPr id="438" name="Rectangle 3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4" descr=""/>
          <p:cNvPicPr/>
          <p:nvPr/>
        </p:nvPicPr>
        <p:blipFill>
          <a:blip r:embed="rId3"/>
          <a:stretch/>
        </p:blipFill>
        <p:spPr>
          <a:xfrm>
            <a:off x="5257800" y="4648320"/>
            <a:ext cx="2209680" cy="695160"/>
          </a:xfrm>
          <a:prstGeom prst="rect">
            <a:avLst/>
          </a:prstGeom>
          <a:ln w="0">
            <a:noFill/>
          </a:ln>
        </p:spPr>
      </p:pic>
      <p:sp>
        <p:nvSpPr>
          <p:cNvPr id="441" name="Rectangle 6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3" name="TextBox 5"/>
          <p:cNvSpPr/>
          <p:nvPr/>
        </p:nvSpPr>
        <p:spPr>
          <a:xfrm>
            <a:off x="152280" y="1219320"/>
            <a:ext cx="8534520" cy="9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3) Izračunati DTR I i II u količinskom i novčanom obliku ako su poznati sljedeći podac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Fiksni troškovi                          2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rža pokrića po jedinici      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odajna cijena po jedinici je 2 puta veća od varijabilnih troškova po jedi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ashodi finansiranja iznose 75% fiksnih troško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rža pokrića po jedinici = prodajna cijena - varijabilni troškovi po jedini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10 = 2X - 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10 = x   -  varijabilni troškovi po jedinici proizv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Fiksni troškovi                         20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Varijabilni troškovi po jedinici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odajna cijena                     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ashodi finansiranja               15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5" name="TextBox 3"/>
          <p:cNvSpPr/>
          <p:nvPr/>
        </p:nvSpPr>
        <p:spPr>
          <a:xfrm>
            <a:off x="228600" y="1600200"/>
            <a:ext cx="8534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astav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oličinsk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TR I      2.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TR II     3.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ovč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TR I     40.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TR II    70.000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7" name=""/>
          <p:cNvGraphicFramePr/>
          <p:nvPr/>
        </p:nvGraphicFramePr>
        <p:xfrm>
          <a:off x="2133720" y="1752480"/>
          <a:ext cx="5149800" cy="4600800"/>
        </p:xfrm>
        <a:graphic>
          <a:graphicData uri="http://schemas.openxmlformats.org/drawingml/2006/table">
            <a:tbl>
              <a:tblPr/>
              <a:tblGrid>
                <a:gridCol w="706320"/>
                <a:gridCol w="2727360"/>
                <a:gridCol w="1716120"/>
              </a:tblGrid>
              <a:tr h="2606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. bro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aziv pozici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zn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irani prihodi od prod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jabilni troško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ža pokrića (1-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shodi perioda bez kam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2606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to rashodi finansiran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rez iz rezult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lovni dobitak (3-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</a:tr>
              <a:tr h="4381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uto dobitak (7-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to dobitak (8-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</a:tr>
              <a:tr h="260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opa marže pokrića (3/1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</a:tr>
              <a:tr h="7797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reban obim prodaje za ostvarenje neutralnog poslovnog rezultata (4/10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</a:tr>
              <a:tr h="7794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reban obim prodaje za ostvarenje neutralnog bruto finansijskog rezultata (4+5/10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7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448" name="TextBox 5"/>
          <p:cNvSpPr/>
          <p:nvPr/>
        </p:nvSpPr>
        <p:spPr>
          <a:xfrm>
            <a:off x="609480" y="129528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spuniti planski bilans uspjeh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50" name="TextBox 3"/>
          <p:cNvSpPr/>
          <p:nvPr/>
        </p:nvSpPr>
        <p:spPr>
          <a:xfrm>
            <a:off x="609480" y="1219320"/>
            <a:ext cx="59436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ješen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1828800" y="1371600"/>
          <a:ext cx="5454720" cy="5030640"/>
        </p:xfrm>
        <a:graphic>
          <a:graphicData uri="http://schemas.openxmlformats.org/drawingml/2006/table">
            <a:tbl>
              <a:tblPr/>
              <a:tblGrid>
                <a:gridCol w="747720"/>
                <a:gridCol w="2889360"/>
                <a:gridCol w="1817640"/>
              </a:tblGrid>
              <a:tr h="3826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. bro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aziv pozici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zn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irani prihodi od prod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jabilni troškov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ža pokrića (1-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shodi perioda bez kam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to rashodi finansiran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rez iz rezult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lovni dobitak (3-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uto dobitak (7-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to dobitak (8-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</a:tr>
              <a:tr h="2905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opa marže pokrića (3/1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</a:tr>
              <a:tr h="8712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reban obim prodaje za ostvarenje neutralnog poslovnog rezultata (4/10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</a:tr>
              <a:tr h="87156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reban obim prodaje za ostvarenje neutralnog bruto finansijskog rezultata (4+5/10 *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5 00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blipFill rotWithShape="0">
                      <a:blip r:embed="rId37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53" name="TextBox 3"/>
          <p:cNvSpPr/>
          <p:nvPr/>
        </p:nvSpPr>
        <p:spPr>
          <a:xfrm>
            <a:off x="533520" y="1371600"/>
            <a:ext cx="8305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U našem primjeru potrebno je ostvariti 250.000 € prihoda od prodaje radi postizanja neutralnog poslovnog rezultata ili 62.5 % planiranih prihoda. Za ostvarivanje nultog bruto finansijskog rezultata potrebno je 270.000 € prihoda od prodaje ili 67.5 % planiranih priho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Group 1"/>
          <p:cNvGrpSpPr/>
          <p:nvPr/>
        </p:nvGrpSpPr>
        <p:grpSpPr>
          <a:xfrm>
            <a:off x="990720" y="2819520"/>
            <a:ext cx="6629040" cy="3211560"/>
            <a:chOff x="990720" y="2819520"/>
            <a:chExt cx="6629040" cy="3211560"/>
          </a:xfrm>
        </p:grpSpPr>
        <p:sp>
          <p:nvSpPr>
            <p:cNvPr id="455" name="Line 2"/>
            <p:cNvSpPr/>
            <p:nvPr/>
          </p:nvSpPr>
          <p:spPr>
            <a:xfrm>
              <a:off x="4305600" y="4256640"/>
              <a:ext cx="0" cy="14371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3"/>
            <p:cNvSpPr/>
            <p:nvPr/>
          </p:nvSpPr>
          <p:spPr>
            <a:xfrm>
              <a:off x="5041800" y="3657600"/>
              <a:ext cx="0" cy="2035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Group 4"/>
            <p:cNvGrpSpPr/>
            <p:nvPr/>
          </p:nvGrpSpPr>
          <p:grpSpPr>
            <a:xfrm>
              <a:off x="990720" y="2819520"/>
              <a:ext cx="6629040" cy="3211560"/>
              <a:chOff x="990720" y="2819520"/>
              <a:chExt cx="6629040" cy="3211560"/>
            </a:xfrm>
          </p:grpSpPr>
          <p:sp>
            <p:nvSpPr>
              <p:cNvPr id="458" name="Line 5"/>
              <p:cNvSpPr/>
              <p:nvPr/>
            </p:nvSpPr>
            <p:spPr>
              <a:xfrm flipV="1">
                <a:off x="2586600" y="2819520"/>
                <a:ext cx="0" cy="287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Line 6"/>
              <p:cNvSpPr/>
              <p:nvPr/>
            </p:nvSpPr>
            <p:spPr>
              <a:xfrm>
                <a:off x="2586600" y="5693760"/>
                <a:ext cx="2946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Line 7"/>
              <p:cNvSpPr/>
              <p:nvPr/>
            </p:nvSpPr>
            <p:spPr>
              <a:xfrm flipV="1">
                <a:off x="2585880" y="3298680"/>
                <a:ext cx="2946240" cy="2395800"/>
              </a:xfrm>
              <a:prstGeom prst="line">
                <a:avLst/>
              </a:prstGeom>
              <a:ln w="55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Line 8"/>
              <p:cNvSpPr/>
              <p:nvPr/>
            </p:nvSpPr>
            <p:spPr>
              <a:xfrm>
                <a:off x="2585880" y="5094360"/>
                <a:ext cx="2946240" cy="0"/>
              </a:xfrm>
              <a:prstGeom prst="line">
                <a:avLst/>
              </a:prstGeom>
              <a:ln w="55080">
                <a:solidFill>
                  <a:srgbClr val="3963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Line 9"/>
              <p:cNvSpPr/>
              <p:nvPr/>
            </p:nvSpPr>
            <p:spPr>
              <a:xfrm>
                <a:off x="2585880" y="4854600"/>
                <a:ext cx="2946240" cy="0"/>
              </a:xfrm>
              <a:prstGeom prst="line">
                <a:avLst/>
              </a:prstGeom>
              <a:ln w="55080">
                <a:solidFill>
                  <a:srgbClr val="da1f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Line 10"/>
              <p:cNvSpPr/>
              <p:nvPr/>
            </p:nvSpPr>
            <p:spPr>
              <a:xfrm flipV="1">
                <a:off x="2586600" y="3418200"/>
                <a:ext cx="3069000" cy="143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Line 11"/>
              <p:cNvSpPr/>
              <p:nvPr/>
            </p:nvSpPr>
            <p:spPr>
              <a:xfrm flipV="1">
                <a:off x="2586600" y="3657600"/>
                <a:ext cx="3069000" cy="143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Text Box 12"/>
              <p:cNvSpPr/>
              <p:nvPr/>
            </p:nvSpPr>
            <p:spPr>
              <a:xfrm>
                <a:off x="5533200" y="2939040"/>
                <a:ext cx="1350360" cy="35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100" spc="-1" strike="noStrike">
                    <a:solidFill>
                      <a:srgbClr val="000000"/>
                    </a:solidFill>
                    <a:latin typeface="Calibri"/>
                  </a:rPr>
                  <a:t>Prihod od prodaj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Text Box 13"/>
              <p:cNvSpPr/>
              <p:nvPr/>
            </p:nvSpPr>
            <p:spPr>
              <a:xfrm>
                <a:off x="5656320" y="4496040"/>
                <a:ext cx="1963440" cy="358560"/>
              </a:xfrm>
              <a:prstGeom prst="rect">
                <a:avLst/>
              </a:prstGeom>
              <a:solidFill>
                <a:srgbClr val="ec767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200" spc="-1" strike="noStrike">
                    <a:solidFill>
                      <a:srgbClr val="000000"/>
                    </a:solidFill>
                    <a:latin typeface="Times New Roman"/>
                  </a:rPr>
                  <a:t>Neto rashodi finansiranaj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Text Box 14"/>
              <p:cNvSpPr/>
              <p:nvPr/>
            </p:nvSpPr>
            <p:spPr>
              <a:xfrm>
                <a:off x="5778720" y="5094360"/>
                <a:ext cx="1719360" cy="360360"/>
              </a:xfrm>
              <a:prstGeom prst="rect">
                <a:avLst/>
              </a:prstGeom>
              <a:solidFill>
                <a:srgbClr val="78d6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200" spc="-1" strike="noStrike">
                    <a:solidFill>
                      <a:srgbClr val="000000"/>
                    </a:solidFill>
                    <a:latin typeface="Calibri"/>
                  </a:rPr>
                  <a:t>Fiksni troškov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Text Box 15"/>
              <p:cNvSpPr/>
              <p:nvPr/>
            </p:nvSpPr>
            <p:spPr>
              <a:xfrm>
                <a:off x="3429000" y="5791680"/>
                <a:ext cx="1227600" cy="239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000" spc="-1" strike="noStrike">
                    <a:solidFill>
                      <a:srgbClr val="000000"/>
                    </a:solidFill>
                    <a:latin typeface="Times New Roman"/>
                  </a:rPr>
                  <a:t>250 000 €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Text Box 16"/>
              <p:cNvSpPr/>
              <p:nvPr/>
            </p:nvSpPr>
            <p:spPr>
              <a:xfrm>
                <a:off x="4800600" y="5791680"/>
                <a:ext cx="982080" cy="239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100" spc="-1" strike="noStrike">
                    <a:solidFill>
                      <a:srgbClr val="000000"/>
                    </a:solidFill>
                    <a:latin typeface="Calibri"/>
                  </a:rPr>
                  <a:t>275 000 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Text Box 17"/>
              <p:cNvSpPr/>
              <p:nvPr/>
            </p:nvSpPr>
            <p:spPr>
              <a:xfrm>
                <a:off x="990720" y="3897360"/>
                <a:ext cx="1473120" cy="358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1200" spc="-1" strike="noStrike">
                    <a:solidFill>
                      <a:srgbClr val="000000"/>
                    </a:solidFill>
                    <a:latin typeface="Calibri"/>
                  </a:rPr>
                  <a:t>Rashodi i prihod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1" name="Down Arrow 20"/>
          <p:cNvSpPr/>
          <p:nvPr/>
        </p:nvSpPr>
        <p:spPr>
          <a:xfrm>
            <a:off x="4267080" y="3505320"/>
            <a:ext cx="76320" cy="761760"/>
          </a:xfrm>
          <a:prstGeom prst="downArrow">
            <a:avLst>
              <a:gd name="adj1" fmla="val 50000"/>
              <a:gd name="adj2" fmla="val 49906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Down Arrow 21"/>
          <p:cNvSpPr/>
          <p:nvPr/>
        </p:nvSpPr>
        <p:spPr>
          <a:xfrm>
            <a:off x="4952880" y="3048120"/>
            <a:ext cx="76320" cy="609480"/>
          </a:xfrm>
          <a:prstGeom prst="downArrow">
            <a:avLst>
              <a:gd name="adj1" fmla="val 50000"/>
              <a:gd name="adj2" fmla="val 49912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22"/>
          <p:cNvSpPr/>
          <p:nvPr/>
        </p:nvSpPr>
        <p:spPr>
          <a:xfrm>
            <a:off x="3886200" y="32004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23"/>
          <p:cNvSpPr/>
          <p:nvPr/>
        </p:nvSpPr>
        <p:spPr>
          <a:xfrm>
            <a:off x="4648320" y="2590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FR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76" name="TextBox 3"/>
          <p:cNvSpPr/>
          <p:nvPr/>
        </p:nvSpPr>
        <p:spPr>
          <a:xfrm>
            <a:off x="457200" y="1523880"/>
            <a:ext cx="7848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irana neto prodajna cijena iznosi 200 € po jednom komadu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 a varijabilni troškovi po jedno komadu iznose 120 €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TR1 = 100.000/(200-120) = 1.2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TR2 = 110.000 /(200-120) = 1.3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Fizički obim proizvodnje pri kom se postiže prag rentabilnosti (u našem primjeru) iznosi 1.250 komada. dok se neutralan bruto finansijski rezultat ostvaruje sa proizvedenih 1.375 kom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Finansijsko planiranje – kvantifikovanje finansijske politik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Kvantifikovanje finansijske snage preduzeća (cilj finansijske politik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Prag rentabilnosti – neutralan rezult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eutralan rezult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Poslovni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ruto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1" descr="Untitled-1.jpg"/>
          <p:cNvPicPr/>
          <p:nvPr/>
        </p:nvPicPr>
        <p:blipFill>
          <a:blip r:embed="rId1"/>
          <a:stretch/>
        </p:blipFill>
        <p:spPr>
          <a:xfrm>
            <a:off x="-42840" y="-42840"/>
            <a:ext cx="9431280" cy="69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onja ta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a rentabilnost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TR I – </a:t>
            </a: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rashodi perioda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ez rashoda finansiranja</a:t>
            </a: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           </a:t>
            </a:r>
            <a:r>
              <a:rPr b="0" lang="sr-Latn-CS" sz="2300" spc="-1" strike="noStrike">
                <a:solidFill>
                  <a:srgbClr val="ff0000"/>
                </a:solidFill>
                <a:latin typeface="Lucida Sans Unicode"/>
              </a:rPr>
              <a:t>poslovni rezultat = 0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TR II – </a:t>
            </a: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rashodi perioda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a rashodima finansiranja</a:t>
            </a: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Lucida Sans Unicode"/>
              </a:rPr>
              <a:t>           </a:t>
            </a:r>
            <a:r>
              <a:rPr b="0" lang="sr-Latn-CS" sz="2300" spc="-1" strike="noStrike">
                <a:solidFill>
                  <a:srgbClr val="ff0000"/>
                </a:solidFill>
                <a:latin typeface="Lucida Sans Unicode"/>
              </a:rPr>
              <a:t>bruto finansijski rezultat = 0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 jedinicama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izvod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86" name="Object 2"/>
              <p:cNvSpPr txBox="1"/>
              <p:nvPr/>
            </p:nvSpPr>
            <p:spPr>
              <a:xfrm>
                <a:off x="4038480" y="1219320"/>
                <a:ext cx="4095720" cy="518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kupni  prihodi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Ukupni  rashodi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 * q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F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v*q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 * q - v*q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FT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 - 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* q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F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q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 - v 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DTR</m:t>
                        </m:r>
                        <m:r>
                          <m:rPr>
                            <m:lit/>
                            <m:nor/>
                          </m:rPr>
                          <m:t xml:space="preserve">  I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 - 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  <m:r>
                          <m:rPr>
                            <m:lit/>
                            <m:nor/>
                          </m:rPr>
                          <m:t xml:space="preserve">- fiksni  troskovi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 - prodajna  cijen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q - kolicina  proizvod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218960"/>
            <a:ext cx="8229600" cy="47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I u nov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im jedinica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7" descr=""/>
          <p:cNvPicPr/>
          <p:nvPr/>
        </p:nvPicPr>
        <p:blipFill>
          <a:blip r:embed="rId2"/>
          <a:stretch/>
        </p:blipFill>
        <p:spPr>
          <a:xfrm>
            <a:off x="1828800" y="2209680"/>
            <a:ext cx="5029200" cy="4572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6" descr=""/>
          <p:cNvPicPr/>
          <p:nvPr/>
        </p:nvPicPr>
        <p:blipFill>
          <a:blip r:embed="rId3"/>
          <a:stretch/>
        </p:blipFill>
        <p:spPr>
          <a:xfrm>
            <a:off x="228600" y="3276720"/>
            <a:ext cx="8763120" cy="4572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5" descr=""/>
          <p:cNvPicPr/>
          <p:nvPr/>
        </p:nvPicPr>
        <p:blipFill>
          <a:blip r:embed="rId4"/>
          <a:stretch/>
        </p:blipFill>
        <p:spPr>
          <a:xfrm>
            <a:off x="1600200" y="4038480"/>
            <a:ext cx="6470640" cy="91440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9"/>
          <p:cNvSpPr/>
          <p:nvPr/>
        </p:nvSpPr>
        <p:spPr>
          <a:xfrm>
            <a:off x="4337640" y="517320"/>
            <a:ext cx="46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0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1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218960"/>
            <a:ext cx="8229600" cy="47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I u nov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im jedinica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Lucida Sans Unicode"/>
              </a:rPr>
              <a:t>Ukoliko su poznate vrijednosti po jedinici proizvod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97" name="Object 2"/>
              <p:cNvSpPr txBox="1"/>
              <p:nvPr/>
            </p:nvSpPr>
            <p:spPr>
              <a:xfrm>
                <a:off x="2895480" y="3124080"/>
                <a:ext cx="2590920" cy="200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TR</m:t>
                    </m:r>
                    <m:r>
                      <m:rPr>
                        <m:lit/>
                        <m:nor/>
                      </m:rPr>
                      <m:t xml:space="preserve">  I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 - 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8" name="Rectangle 8"/>
          <p:cNvSpPr/>
          <p:nvPr/>
        </p:nvSpPr>
        <p:spPr>
          <a:xfrm>
            <a:off x="914400" y="3505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9"/>
          <p:cNvSpPr/>
          <p:nvPr/>
        </p:nvSpPr>
        <p:spPr>
          <a:xfrm>
            <a:off x="4337640" y="517320"/>
            <a:ext cx="46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0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1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I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 jedinicama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izvod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04" name="Object 2"/>
              <p:cNvSpPr txBox="1"/>
              <p:nvPr/>
            </p:nvSpPr>
            <p:spPr>
              <a:xfrm>
                <a:off x="4267080" y="1676520"/>
                <a:ext cx="4046760" cy="25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TR</m:t>
                        </m:r>
                        <m:r>
                          <m:rPr>
                            <m:lit/>
                            <m:nor/>
                          </m:rPr>
                          <m:t xml:space="preserve">   I</m:t>
                        </m:r>
                        <m:r>
                          <m:rPr>
                            <m:lit/>
                            <m:nor/>
                          </m:rPr>
                          <m:t xml:space="preserve"> I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NR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 - v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  <m:r>
                          <m:rPr>
                            <m:lit/>
                            <m:nor/>
                          </m:rPr>
                          <m:t xml:space="preserve">- fiksni  troskovi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RF  - neto  rashodi  finansiranj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 - prodajna  cijena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 - varijabilni  troskovi  po  jedinic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218960"/>
            <a:ext cx="8229600" cy="47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TR 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I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 u nov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č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im jedinica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9"/>
          <p:cNvSpPr/>
          <p:nvPr/>
        </p:nvSpPr>
        <p:spPr>
          <a:xfrm>
            <a:off x="4337640" y="517320"/>
            <a:ext cx="46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0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1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2" descr=""/>
          <p:cNvPicPr/>
          <p:nvPr/>
        </p:nvPicPr>
        <p:blipFill>
          <a:blip r:embed="rId2"/>
          <a:stretch/>
        </p:blipFill>
        <p:spPr>
          <a:xfrm>
            <a:off x="304920" y="3581280"/>
            <a:ext cx="8564400" cy="381240"/>
          </a:xfrm>
          <a:prstGeom prst="rect">
            <a:avLst/>
          </a:prstGeom>
          <a:ln w="0">
            <a:noFill/>
          </a:ln>
        </p:spPr>
      </p:pic>
      <p:sp>
        <p:nvSpPr>
          <p:cNvPr id="41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5"/>
          <p:cNvSpPr/>
          <p:nvPr/>
        </p:nvSpPr>
        <p:spPr>
          <a:xfrm>
            <a:off x="4337640" y="517320"/>
            <a:ext cx="468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6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7"/>
          <p:cNvSpPr/>
          <p:nvPr/>
        </p:nvSpPr>
        <p:spPr>
          <a:xfrm>
            <a:off x="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3" descr=""/>
          <p:cNvPicPr/>
          <p:nvPr/>
        </p:nvPicPr>
        <p:blipFill>
          <a:blip r:embed="rId3"/>
          <a:stretch/>
        </p:blipFill>
        <p:spPr>
          <a:xfrm>
            <a:off x="388800" y="2362320"/>
            <a:ext cx="8755200" cy="4572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" descr=""/>
          <p:cNvPicPr/>
          <p:nvPr/>
        </p:nvPicPr>
        <p:blipFill>
          <a:blip r:embed="rId4"/>
          <a:stretch/>
        </p:blipFill>
        <p:spPr>
          <a:xfrm>
            <a:off x="838080" y="4648320"/>
            <a:ext cx="73152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10:29:08Z</dcterms:created>
  <dc:creator>Miki</dc:creator>
  <dc:description/>
  <dc:language>en-US</dc:language>
  <cp:lastModifiedBy>boris</cp:lastModifiedBy>
  <dcterms:modified xsi:type="dcterms:W3CDTF">2012-11-15T14:10:55Z</dcterms:modified>
  <cp:revision>16</cp:revision>
  <dc:subject/>
  <dc:title>Finansijski menadzment</dc:title>
</cp:coreProperties>
</file>