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D748-289D-4B93-86C5-4A34A4AE4B6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B05A-116D-426C-BB51-AD32AA67CA0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E088-07FA-4399-AE24-0EED8BE0D61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8268-9B48-4E26-BE32-43A6EB60499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1E86-B1AC-4193-8B99-4DF5602770C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9A6C-50ED-4F8A-ACD3-2C77A4DDDA3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99AF-CCA9-4753-8EA8-DD3966B0A4B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94A9-0680-4157-B553-321CC5196F8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775A-03E2-42AB-BB4A-2D30B1FE737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E34A-DDC5-48F0-998C-AD9D19E2876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FC4C-726A-422B-897A-E652100C280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EEBF-96FD-444F-8A11-8C50E581CAC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D0DF-2441-4F66-B88D-BDC4995BFE3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A59E-C017-41BC-886B-28C7A1850EB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E7E2-2AD0-4780-8109-D0CABE6E4A8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DFF0-E35C-4EDC-9B40-3F8631C12ED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D338-5BE1-4AE7-A4B0-79D5A297B7F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464-FC9F-4FBF-A01A-1F17FC6E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EC0-9629-4C86-8B05-F2F882AC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C456-9F55-4767-97F1-551BD923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0AA5-B0EB-4C10-A03F-C6DE2658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4703-C62C-408D-9A5D-BB0043D8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0D51-6CDC-4837-ACF7-2CC625BA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1599-D3A7-40EE-8629-1A6434E1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14FC-94D8-47AD-B311-D8B7D61D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1254-461C-4AAA-9F86-4419895C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EE1A-77A1-42B3-99C1-1A5F4B0F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C4F9-53AE-46D2-87A8-5A602268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DA5-F30D-4AD6-8372-6A59598D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1D4F-FC7A-46C0-9D21-233F1E50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E625-6B47-43B7-B0AD-D4E176D4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17C4-A9C5-4674-B334-D92D18BF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1B5D-8EA0-4FB4-B323-76FE95EF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24E4-23A4-483F-91CF-DBF594E2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226C8-7A5D-46D8-8AEB-1A925F4E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99781-1A27-4BFF-899D-92D1086C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25FE4-4D48-43A8-A97E-AFBA80A6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887F2-DE19-4F78-AD04-1A6FA72A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48200-2ECC-4BEF-A740-635247CD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BC4-E78B-4CD9-A140-843200E9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1E0BE-B6CB-4693-BB6F-4A21D944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998B-9FDA-49E8-8236-10CB3207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61496-6A09-4776-AE46-6630640E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A3ED1-E5AA-4800-8FF0-ECF9C0F4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BFBFF-40CC-4378-93C8-7F8E0F80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8CE40-E0AF-4307-B112-EA55DAF1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40935-8420-435E-AAC5-8F8CC754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C234B-CC49-4882-B918-C01B6B80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8CDE0-22CD-4C52-99DB-02289501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D3C63-845B-46BD-9B31-52143C33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95A-FE26-4F39-A9FF-B0080437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7E8ED-D6EC-4F81-9EDD-CB95807D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09619-98B8-4BA1-82EA-A3498CAF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46721-DB11-4C80-8700-DE638660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48651-AA54-4229-84DF-9F0B7A0E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091C9-D894-4EEB-9C44-566B7AFB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3C458-00C0-440F-8964-B010CD93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79EDD-4E99-4E2B-BDDF-9BC5BAFB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B2C93-52DB-422C-A792-F22730F5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CB92D-B3B8-464E-916E-8E8CCD4B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F74C6-3396-4A74-B4CE-F716BDBA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560-67EF-4738-89F6-98355095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54938-E245-4A5D-BF1B-5698AE12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BB00E-7014-4690-9FC4-92398631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86B63-1E8B-40CA-B718-363A8ACE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406D0-0E4A-4307-BB18-B31C49EC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C477D-04AB-47A8-8AC1-4F37C6FC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188CE-128C-4A85-82C1-602DD6E5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047A6-8859-4F4F-885B-38A94CB4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85377-8EFC-44E1-B5FF-F946FC2A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5A7D3-10B6-4057-84C2-42F0CFA2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F8E37-AC5C-430F-9884-5AE6AE51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A461-68B4-4F2E-A4DA-F9106903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7A1E8-DBE7-4578-9F34-41AD4A52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5B13C-769F-4E78-B319-AEA9DF8C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4558C-7439-4EF4-8CC2-B1E4E500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FA987-7814-4DAE-BBFA-3FAF04AB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4715A-65FE-41F9-8AEC-D6748F5F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DBA7B-5868-4BDD-B41A-7FF09204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2321F-3B52-454B-AEC3-B67F3A25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7F0BD-262A-44A7-8395-E8D584B5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045CA-57AC-44C4-889F-5C80A1B2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608BC-69CB-4841-B573-C24D4B73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A0E-710D-48A3-870F-28AD46D7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4A7CE-7474-4FBC-A87E-40CE63B4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4C4CF-85E5-4277-A6E5-61A024E4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DACFB-5984-4034-BABC-2F254011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B81F9-A3E8-4CB8-AEFC-0C66DCE3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B1EAE-FB0E-42F8-8E22-2BDA2CDF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D85C3-45E8-423C-8393-79197BA3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EFEFD-84C6-4929-8ADB-A0AB5271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11CCD-B92E-41FA-82B9-CDF00D78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C813E-42C5-46D9-92A4-9C013EDB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3C643-3847-44A7-AAF9-0199110A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E89-31C1-4767-AE17-009C4676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701D0-A986-4D10-A549-CD864D99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56380-1DB8-4196-BC66-AFAB77F4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3F44B-AA94-4AC6-89CE-8B98C3F2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CFB83-2FFC-47A3-8270-23F20DD6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D21A9-3076-4CBC-BE09-60D44254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B289-0806-4FE3-94D0-0EB2D3A1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B91C-201C-423E-B4B4-CDC63A3A413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831C-6C7A-4E26-A5FD-67E240628E2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B25A-F96E-44A0-8DD4-C793833ADC6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BF7E-5530-4118-9439-1624C38F106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4062-4AC6-4041-815E-79531C6907C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6D02-80BA-4B29-B5FD-DAC85D014A8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181C-83FE-4837-BFAF-F42CC9E21B8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9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51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77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7.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40.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vo uzmemo diskontnu stopu koja dovodi do negativne NSV, npr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40.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89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79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21.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3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nda uzmemo diskontnu stopu koja dovodi do pozitivne NSV, npr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Content Placeholder 3"/>
              <p:cNvSpPr txBox="1"/>
              <p:nvPr/>
            </p:nvSpPr>
            <p:spPr>
              <a:xfrm>
                <a:off x="1028880" y="1600200"/>
                <a:ext cx="81151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iza  Ds 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zitivna  NSV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bir apsolutnih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rijednosti  pozitivne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i  negativne  NSV </m:t>
                        </m:r>
                      </m:e>
                      <m:e/>
                      <m:e/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sa  Ds - niza  D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1752480" y="2111400"/>
                <a:ext cx="6477120" cy="34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ža  Ds 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zitivna  NSV</m:t>
                            </m:r>
                            <m:eqAr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bir apsolutnih 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rijednosti  pozitivne</m:t>
                                    </m:r>
                                  </m:den>
                                </m:f>
                              </m:e>
                            </m:eqArr>
                            <m:r>
                              <m:rPr>
                                <m:lit/>
                                <m:nor/>
                              </m:rPr>
                              <m:t xml:space="preserve">i  negativne  NSV </m:t>
                            </m:r>
                          </m:e>
                          <m:e/>
                          <m:e/>
                          <m:e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ša  Ds - niža D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0,37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-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2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boris</cp:lastModifiedBy>
  <dcterms:modified xsi:type="dcterms:W3CDTF">2012-12-18T21:14:00Z</dcterms:modified>
  <cp:revision>34</cp:revision>
  <dc:subject/>
  <dc:title>Finansijski menadzmet</dc:title>
</cp:coreProperties>
</file>