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C633-3EDC-41C2-906E-57D7955531B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2574-EB32-4DBA-A95C-63A2CAC9491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FD1A-1979-4AD7-92E8-44FB29BD5658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F3EF-1EFF-4C4D-9635-F01F8F060AE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C9AB-EE43-4255-A69E-3AA55AF1AA23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9D46-50FB-4F6B-AD0A-6027F197138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C336-0C59-4157-9A55-90322B58DED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6FEC-51F5-423E-82FD-9A6003A7F5C8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1413-2C18-4B56-8999-D78F80E98CA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CBFC-DBF1-4A49-8AB0-E78A7F42C05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81A0-709B-4310-90E8-D6BB1B2E54A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138F-B39F-461E-A23A-02B691E41BD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FA02-7C45-4092-B9D5-E59C60BB7DA6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B5C6-5EDA-4B22-A0E6-7CA698EE0423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6183-A5D3-4041-B144-39D997FCA04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F73E-F575-40AC-8E12-BB1BBE8A9CB9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EB74-08FA-4D0D-8342-7530A56B7989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C169-F1B1-4F31-B4AD-0A5FEA6CF0A0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00CE-3583-43EF-9995-F77687481C5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D40-A388-463C-BC05-F0588C93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70D-220C-43B4-86DF-2AF2CC09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FA1A-C8E1-4C3F-8C51-880BE3F6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580-1A27-4AE7-80EF-2117CEDC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85C1-625A-4D93-BBC9-E8AD3222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EEE7-38EC-4EDE-AF23-1161EBBB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F4E2-8B16-4474-BC07-47A89005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15FE-06ED-4097-81F6-FC53AF09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B225-DD61-4EDE-8761-41966BDB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E01A-C254-4465-A032-EB30CAD8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A787-2916-4DA6-8AE4-DBFF070E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7FB-80A0-462A-8C0B-3572EA3A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AFD1-14C3-4169-BA7A-8D0EBC5D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E7BD-7CCC-4FB9-8457-B663F114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879B-82DF-4A1F-88A2-73BBD30D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1018-45B1-47D2-8923-908D33DA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0633-5B5F-4BD6-AC8F-597DA10C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87D80-1180-4F39-B018-11ECAAD9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8CA23-12A3-4560-9B30-8C998BCF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AF6A2-F32D-4F18-8535-005A9135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A1406-360A-4E5A-9771-6D45574A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A4BF3-C8EA-4DFA-B8E7-03AD92E5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AF4-82C4-462D-9F8C-B9C47110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DC402-0351-452A-BF4D-5D6A64BE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0C219-6DEE-41F3-A841-CEF43B76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6AF5A-F5DA-43DB-BFC0-5C74AE92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F6F83-6943-4B80-9CBD-D6272195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3C753-9B16-455E-A17D-28404844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5FF8F-46C7-4B39-A6C5-B2F5AA18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9B05C-A0DC-4484-9B6A-6D87861A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0BA42-183C-4391-9B9A-DE8E2668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1349-0C2F-485A-A512-22A6AEB6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EB593-4B1B-4362-8918-E16E68FC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889-283D-47DE-95B1-5FA23FDE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0CEE1-D7F5-447B-8BFE-A90E9D95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CB913-425E-4164-951E-6DD278E4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F7FB2-16FA-493D-AB53-265A8482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008C1-669E-4641-9365-EBB4B946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B7784-82B4-456E-B72D-47F8ED1F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547D1-D786-491A-94DD-A9759198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7F680-C1A5-4ACC-8EFC-890DC8BC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57458-CBD6-45D2-9AA9-033EC3FC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4BB3F-EFA3-41EF-8217-3698CDEE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F0272-CB8D-48E6-941D-4A0DCC0F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268-97A8-4874-A156-73F8528E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F9694-E161-479A-9C3A-8BDE4724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F5880-2DA5-4EE0-9170-02C44A3D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5F866-58E5-485C-8E91-523807AA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2898F-B14C-4E9C-9CFE-F82D0CA5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24094-C180-4520-8C9B-67BFD728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EDFF6-A502-4C52-9C71-CA018736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AA28F-712A-4D9D-AC8C-E95B4841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388B0-CDA1-4623-BA07-CD5E1048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C07EA-50A7-4C53-88ED-7968E365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A9589-178E-4FA5-82DC-F271339D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BF5-ED85-4B6B-84DA-BFCC95D4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D6D8B-BC80-4098-A18E-2324FEF2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EF101-F7F7-4182-A93B-7C89486C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A1DB1-D47C-40D4-8348-DCCCD90E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A7937-64F3-44DF-8F75-AC34DD0E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C12D2-91A7-4228-9637-63C5F12B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4B5CD-7573-4F15-B73C-1D56A44F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2C2CF-B868-468F-87AF-0E09C338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F03B6-4093-4A4B-886E-BA764DA1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6660F-AC92-4FED-906A-74BD0D01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28195-96F5-4CEA-9288-96BA25EA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8FD-2C61-41B1-BB9A-1E3388C8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C5999-EB00-4D84-8B73-51B4F87D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57CCA-C4CA-40B2-BF36-E8710C2C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04BFC-F869-491B-B837-15E117F8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B83DD-74F4-43C4-945E-6FED581F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6CDE7-B37D-4F7B-8ABF-51E0C9AE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740C7-8284-4907-AC53-D945EBFB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7C87B-98D4-40AC-A60A-ED3DA4FF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833BB-818B-4116-8144-7A3AAF67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54F29-4978-4D81-B74E-2858B5F8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3520C-DB8B-4A82-BF75-05DCF48A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105-FBF2-46F8-B2F3-6DEA4742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777DF-FFBE-4E53-95DB-6E79E632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37B51-6641-41DB-ABD3-D2993BEE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7F812-5F55-44AF-B972-5977FE3A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0D6FD-0E62-41AA-8062-26F52A55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72993-71CB-4BE8-9A00-B102174F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297F-4AF3-47F0-80E3-151DF610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B324-80EC-400E-85FD-E7F8C9C28E96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B017-EC56-41C3-BE8F-3AD24D3B822A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6004-8D53-4EF1-ADC9-D6C4C92DCFD7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AB8D-C57E-431B-A53F-E06977F1E0EC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873B-9763-48CF-BFA9-3974C654F38C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3A69-740F-41D9-AA61-A2DE59DF4801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CBEA-468A-40C9-B930-A71202B49B81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Finansijski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400" spc="-1" strike="noStrike">
                <a:solidFill>
                  <a:srgbClr val="572314"/>
                </a:solidFill>
                <a:latin typeface="Arial"/>
                <a:ea typeface="Arial"/>
              </a:rPr>
              <a:t>menadžmen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h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User</cp:lastModifiedBy>
  <dcterms:modified xsi:type="dcterms:W3CDTF">2019-02-11T13:00:14Z</dcterms:modified>
  <cp:revision>93</cp:revision>
  <dc:subject/>
  <dc:title>Finansijski menadžment</dc:title>
</cp:coreProperties>
</file>