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3629-6785-4241-86AF-B3257130859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9F40-6E58-4D7C-81C9-4FFF791AAA5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A786-0F2C-4D4E-9DDC-E3F566B9CB5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D8BE-590A-4C73-B2F0-DB61C1DCA29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F05A-3E13-4E79-B37E-6B7A1E26C45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A5FF-A376-4979-902C-D9D32461E1A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957A-4E91-4608-BDEB-7CF7B0B40F4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DAA8-B334-4802-A358-83666F71F60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2B7F-4CD4-4B19-92DD-40CD0EF1814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41B9-6D4A-4676-BE9F-BB4C16E9A8C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21E0-B863-495B-B264-BF2B45B1466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B0D8-EFE7-48ED-A8AF-1F50E30B4B6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3B92-F0D1-406F-AC2B-CB1717F8178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DF6B-6B32-4568-B4D7-7FA82A15582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1C07-FC08-4110-9BAE-3F2EC19452D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598F-D5CD-4580-A0B7-38DFE91DA2C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2581-5E6F-411F-B0E1-A46A9ABEA2D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DEF1-7584-4470-9D4B-6AA4B7A937B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A7FE-16A5-43CC-BB71-75D41657271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431B-6712-4A38-8ECB-196CD5DCB66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4C82-6385-4153-8E4E-5F29C3A481D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4508-18F1-4BA3-99A6-D0065F7A3BD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F4D5-CC80-4EBE-9DCD-A822B380BBD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FD27-3773-4D5A-A436-1D22A468718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C6C9-453E-400F-9A4E-C82D47A8334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0CD7-59A1-44BC-827E-41A3E60BA87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8F95-F71F-4774-924C-93980EB887C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89E7-7C12-4B8E-B8E1-37770651862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CC30-BAF3-4C14-9D75-31644A2A2AB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287D-777D-424C-B1DF-8F5CE21D764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3549-20BC-49ED-9404-2C20B5EF4F7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5BFD-6247-4B57-9D71-1D4178F05C1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BBAE-269D-4D67-B3AB-7EE0CD97FD5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84C5-BD5F-4C45-9988-C5764C4AF0F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44D9-AB06-45FE-8FEC-B7F79344D7F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CA2C-FA8E-4086-AEEA-7B373A227D3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FF1F-6009-4A59-A5A7-E62A07C54D3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D133-0F74-4BA6-99B0-2C1D818C757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1F27-7D58-428A-89B3-6925B3D0A5D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E4C-C7B1-4935-8AD6-8A1C05DB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CFE-1799-469C-9612-1EFEEFA4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5D4D-5D00-4A97-B37D-54ACAFDD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670-30FF-405F-B741-B46986ED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4698-AA06-4BA9-B4C4-E2112EBA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3692-5D89-4A1B-B749-2A54F3E8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4599-8A52-4B9C-82BF-DBC3A859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1487-D4AE-4B15-8F26-215E7524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59A3-0598-4C32-B90D-71E823B0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9C42-17B4-4F1A-B93F-CD51CF03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1187-5455-48C3-B404-6B8DB62F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F49-073D-447B-8361-48CDEC4D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BD0D-F2B9-461E-8F2F-696FE592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FFC3-4652-4C2F-BC13-D958FE6A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2FBE-CA70-44D4-BA86-5ED103AD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C930-1BA0-4A8C-BFEF-C1A67C94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8EE6-1200-48DD-A6DA-C992DF10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732D-EDA3-4DFD-B25F-98143344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D2D49-1CE1-4993-849E-C33FEC62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45F3-71C9-4D9C-B74A-BDE85513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63387-64B8-40B8-9E41-646FA045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AABC-F1DF-4213-82B1-A512B730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5F2-6287-4CB9-AB69-FA4DF606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F22E-4644-4718-A17D-96FE298D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38A28-6331-4C48-84B8-1F34273D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82A6-FBAB-4A3C-A240-E369D1C9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82CED-5963-4BA9-866C-876CE55F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170C-FC6C-4870-B344-74219C37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DA14B-280C-47E0-BE42-2AA50F2E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E5BF-C54D-45C2-8C20-E79622D3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D8887-342F-4ACD-995C-752E3E3A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6D9BA-EACB-4EDA-8F77-90A6AD7E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93FD2-4C70-4F15-A92A-1FA10633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067-B360-44A3-80F5-72D9AABE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6B36F-DA05-436A-9544-4E50BAF9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38FB4-F88E-4A79-94BC-79183C08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14DE7-C597-43CB-8ED3-10E793B5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D4150-4EEF-44D4-866C-522DF14D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19C6B-5224-45D1-A043-5CC067B4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82A38-6186-4AAD-813C-75710BDD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4F230-F4E7-46C9-B404-6A941D9A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39BD6-F537-4CE3-B752-21C20EF1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714FD-FDED-468D-B189-80E29829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5EE77-F113-4A4F-A900-A648D753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75C6-0570-41AC-AF98-CE0D9C95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CDDB7-1EAF-42D0-9DA7-57BC6A2A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FFACB-BD50-4EBA-9168-3D815809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8E097-401A-425B-8F60-E527DAC7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1CABA-1472-4BC5-81E6-E1481F44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3117F-198D-445C-96CE-F3B20BD4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676B6-7A96-4DAE-A4E7-0A28022C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479A4-6499-42E3-A0EC-1AE41BBD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DF910-DBC0-471D-9246-BA66C6D5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A2DEE-8060-45D3-BCF8-63873B40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0AB2A-F510-479F-A4A3-C545831B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093-38F1-4063-BC2B-8EB8B84D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F28C4-E35F-41A4-9B40-4A118BE8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B923E-65A5-4DAD-AAD4-CF05746C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B786F-0180-4A96-B779-BAE1580D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7E4AB-27FF-49B2-BAD1-A48E79FE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5DFEA-237D-4790-BD34-E34B95CF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1C7DE-070A-40FA-86D2-B1154367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A71E5-DE18-43D5-95A8-B7E79EBA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CA94D-7C84-4FD5-BF5A-ACC3DDC4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28320-E094-46FA-B486-CBADACF5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6A8F6-06CF-4C2C-BD4D-8C688D41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27D-C793-40B0-AFAD-B5ABCD15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D4CF9-8066-4B25-AF4E-1F96EF2E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3EA4D-760A-4E5B-B855-3A29BAF7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19E0F-5CFD-42AA-9779-07083CF0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1C03C-524D-4677-A1A0-7D84DC06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844C2-6F81-47E6-B781-CD37D468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145A7-1AF7-4C59-BA0E-3D9844C6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FEE91-E0AB-4109-9F77-DFF37D50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C143E-FE7A-4351-8982-79158CD9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6076B-1271-4149-BADD-AAC6361F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0A638-C0FF-4430-A5EB-BC495EB1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167-5847-4B80-AA55-538A7E4D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89901-AC53-4C65-9936-914F4643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54025-6B78-4953-BC6E-A4A8AE6B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12422-88BA-4F9D-AF22-417060B6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5B40D-BC80-481D-8240-3848583E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6F64A-57D3-4F5F-9498-96305968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B3EA4-3D4D-48FC-A64E-D37C52A7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09A47-0CB1-4461-A2E4-2CDBB477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048C2-DA23-467A-9E6F-B5D06B30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9B4AD-E196-4633-9E4D-5D5EEFBF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7627A-4189-49F8-BCDD-914F3671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516-47AA-43A3-85D3-ED6DEB7B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1BF8A-1A07-4998-AB34-F6DFA954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B9AB5-1EAA-4886-99C6-1A348329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DFD33-48EC-4C63-AFE5-A7148EAA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14DE8-3E0F-413B-BCAF-621D2345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C31C1-BBBC-462A-8E30-500B02F2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69181-B8F5-4441-810B-CBE00931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38302-C57E-4A82-8286-B379B5BA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2D6D-749B-4F51-A3F2-A28E6CDA6B9E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86E9-4F33-4346-A287-CDCBC78E790B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5185-74C2-4D37-B46E-3130A91B7630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97C2-5596-42BC-AE1C-D0F13B08F10F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901E-DFFA-4089-AF73-13091DCB47D5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2BB6-C6CF-4F0C-9FF5-AA24E93EC0D1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5D00-DB02-485B-A216-78BC90246B27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6241-6138-4B2F-A234-540C6DD62B2D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993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Modus 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najčešća vrijednost koja se pojavljuje u jednom setu brojeva. Npr. ako je set brojeva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3,4,6,1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9,3,4,6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2,3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0,9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,8,4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5,6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3,3,4,7,8,9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0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5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Onda je modus = 8, dakle, broj koji se najviše puta pojavio u nizu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201600" y="60480"/>
            <a:ext cx="849168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zavisnosti od prirode podataka modus može biti manje ili više korisna mjera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U našem pr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ru da u uzorku ima najviše ispitanika koji imaju 21 godinu, taj podatkak nam i ne govori mnogo. Međut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 ako pogledamo grafik pr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tićemo da je distribucija neravno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rna upravo u ovom sektoru, tačnije kod mlađe kategorije ispitanik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istraživanjima se ner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tko koriste likertove l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stvice proc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ne koje imaju vr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npr.: veome dobro, dobro, loše i veoma loše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tostepena skala: „uopšte se ne slažem”, „ne slažem se”, „nemam mišljenje”, „slažem se”, „potpuno se slažem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ovakvim situacijama modus nam daje vredniju informaciju u poređenju sa aritmetičkom sredinom i medijanom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Zašt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Mjere centralne tendencije samo parcijalno opisuju podatke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Mjere varijablinosti su nužne za potpuni opis neke varijabl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Varijabilnost je sastvani dio distribucij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Centralna tendencija uz mjere varijabilnosti nam pomaže da vizualizujemo oblik jedne distribucij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641520" y="1371600"/>
            <a:ext cx="7511760" cy="4533840"/>
          </a:xfrm>
          <a:prstGeom prst="rect">
            <a:avLst/>
          </a:prstGeom>
          <a:ln w="0">
            <a:noFill/>
          </a:ln>
        </p:spPr>
      </p:pic>
      <p:pic>
        <p:nvPicPr>
          <p:cNvPr id="405" name="Title 1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523880" y="1601640"/>
            <a:ext cx="6391440" cy="3875400"/>
          </a:xfrm>
          <a:prstGeom prst="rect">
            <a:avLst/>
          </a:prstGeom>
          <a:ln w="0">
            <a:noFill/>
          </a:ln>
        </p:spPr>
      </p:pic>
      <p:pic>
        <p:nvPicPr>
          <p:cNvPr id="407" name="Title 1" descr=""/>
          <p:cNvPicPr/>
          <p:nvPr/>
        </p:nvPicPr>
        <p:blipFill>
          <a:blip r:embed="rId2"/>
          <a:stretch/>
        </p:blipFill>
        <p:spPr>
          <a:xfrm>
            <a:off x="225360" y="128520"/>
            <a:ext cx="8467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4748040" cy="4422960"/>
          </a:xfrm>
          <a:prstGeom prst="rect">
            <a:avLst/>
          </a:prstGeom>
          <a:ln w="0">
            <a:noFill/>
          </a:ln>
        </p:spPr>
      </p:pic>
      <p:pic>
        <p:nvPicPr>
          <p:cNvPr id="409" name="Title 1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1981080" y="167652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mjer asimetri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čne distribucije nakrivljene u des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2,2,2,3,3,3,4,4,5,5,5,8,9,10,11,12,13,1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je (4+5)/2=4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119/20=5.9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504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2362320" y="2562120"/>
            <a:ext cx="4267080" cy="3679920"/>
          </a:xfrm>
          <a:prstGeom prst="rect">
            <a:avLst/>
          </a:prstGeom>
          <a:ln w="0">
            <a:noFill/>
          </a:ln>
        </p:spPr>
      </p:pic>
      <p:pic>
        <p:nvPicPr>
          <p:cNvPr id="414" name="Title 1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"/>
          <p:cNvSpPr/>
          <p:nvPr/>
        </p:nvSpPr>
        <p:spPr>
          <a:xfrm>
            <a:off x="2209680" y="190512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mjer asimetri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čne distribucije nakrivljene u lij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3,4,5,5,8,8,8,8,9,9,9,9,9,10,10,11,11,1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(8+8)/2=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= 151/20 = 7.5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60948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Lucida Sans Unicode"/>
              </a:rPr>
              <a:t>ŠTA MORAMO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SAVLADATI</a:t>
            </a:r>
            <a:r>
              <a:rPr b="0" lang="sr-Latn-CS" sz="40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ere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jere varij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ocjenu i značaj distribu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105520" cy="5061240"/>
          </a:xfrm>
          <a:prstGeom prst="rect">
            <a:avLst/>
          </a:prstGeom>
          <a:ln w="0">
            <a:noFill/>
          </a:ln>
        </p:spPr>
      </p:pic>
      <p:pic>
        <p:nvPicPr>
          <p:cNvPr id="419" name="Title 1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2,3,3,3,4,4,4,5,5,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(3+4)/2=3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42/12=3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Normalna distribucija predstavlja onaj tip distribucije u kojem se vrh distribucije poklapa sa aritmetičkom sredinom distribucije (grafikon 5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Ovaj tip distribucije ima oblik ‘zvona’ pa se često upravo ovaj figurativan naziv koristi za normalnu distribuciju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Normalna distribucija, kao koncept, igra veoma važnu ulogu u statistici, naime, veliki broj statističkih testova počiva na pretpostavci da su vrijednosti normalno distribuiran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Asimetrična distribucija je onaj tip distribucije u kome se aritmetička sredina ne poklapa sa vrhom distribucij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Distribucija može biti asimetrična u dva smjera: prvo, ona može biti iskrivljena u desno (grafikon 3) i ona može biti iskrivljena u lijevo (grafikon 4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Najgori mogući slučaj asimetrične distribucije jeste ukoliko je ona nakrivljena istovremeno i u lijevo i u desno - ona ima dva vrh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ada imamo slučaj izrazito asimetrične distribucije, onda nam to govori da mi u okviru populacije imamo dve kategorije (kohorte), koje se suštinski razlikuju po datoj karakteristici . Odvojena analiza.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631280" cy="5278680"/>
          </a:xfrm>
          <a:prstGeom prst="rect">
            <a:avLst/>
          </a:prstGeom>
          <a:ln w="0">
            <a:noFill/>
          </a:ln>
        </p:spPr>
      </p:pic>
      <p:pic>
        <p:nvPicPr>
          <p:cNvPr id="427" name="Title 1" descr=""/>
          <p:cNvPicPr/>
          <p:nvPr/>
        </p:nvPicPr>
        <p:blipFill>
          <a:blip r:embed="rId2"/>
          <a:stretch/>
        </p:blipFill>
        <p:spPr>
          <a:xfrm>
            <a:off x="281160" y="201600"/>
            <a:ext cx="84121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Skewness je parametar koji pokazuje da li je distribucija asimetrična ulijevo ili udesn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Treći momenat distribucij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Skewness je jednak 0 ako je distribucija simetrična, a u suprotnom imaće vrijednost drugačiju od 0 sa predznakom koji je identičan kao i asimetri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gativna asimetrija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, to znači da je distribucija nakošena ulijevo, tj. u tom slučaju veća je frekvencija natprosječnih vrijednost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zitivna asimetrija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, onda je distribucija nakošena udesno, i to znači da je frekvencija vrijednosti u korist ispodprosječnih vrijednost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231840" y="225360"/>
            <a:ext cx="88758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urtosis je parametar koji pruža informaciju o rasprostranjenosti distribucije po y osi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urtosis zapravo govori o tome u kojoj mjeri su vrijednosti koncentrisane oko aritmetičke sredine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Grafikon 2 pokazuje različite mogućnosti distribucije koje su normalne, spljoštene ili zaoštren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Četvrti momenat distribucije i ima vrijednost 3 za normalnu distribuciju (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&lt; 3 distribucija je za</a:t>
            </a: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šiljenija od normalne ,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&gt; 3 distribucija je spl</a:t>
            </a: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</a:t>
            </a: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štenija od normaln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Takođe, od vrijednosti koju smo dobili možemo oduzeti  3 tako da idealna distribucija ima kurtosis = 0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U tom slučaju, spljoštene distribucije imaju negativnu (-) vrijednost a zašiljene pozitivnu (+) vrijednost kurtosis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345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457200" y="1481040"/>
          <a:ext cx="8229600" cy="3606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Xi-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7.68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83.0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1.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8.3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41.5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4.07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07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6.4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.6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9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7.4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.2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.7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6.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1.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6.3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2.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6.66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4.7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97,08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28600" y="148104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7.025  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=2.576 </a:t>
            </a:r>
            <a:r>
              <a:rPr b="0" lang="el-GR" sz="26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=1.605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3=-24.7244/40=-0.6181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4=597.0845/40=14.9271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M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/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-0.6181/4.134=-0.15    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nako</a:t>
            </a:r>
            <a:r>
              <a:rPr b="1" lang="sr-Latn-CS" sz="1900" spc="-1" strike="noStrike">
                <a:solidFill>
                  <a:srgbClr val="000000"/>
                </a:solidFill>
                <a:latin typeface="Lucida Sans Unicode"/>
              </a:rPr>
              <a:t>š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ena ulijev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 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M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/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14.9271/6.636= 2.25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spljo</a:t>
            </a:r>
            <a:r>
              <a:rPr b="1" lang="sr-Latn-CS" sz="1900" spc="-1" strike="noStrike">
                <a:solidFill>
                  <a:srgbClr val="000000"/>
                </a:solidFill>
                <a:latin typeface="Lucida Sans Unicode"/>
              </a:rPr>
              <a:t>š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tenija od normaln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ko oduzmemo 3 od rezultata  kurtosisa dobijamo                 – 0.75 (negativna vrijednost zna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 sp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ljoštenu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distribuciju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228600" cy="457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45720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U statistici postoje numeričke 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mjere varij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jere varijablinosti imaju za cilj da numerički precizno ukažu u kojoj mjeri distribucija vrijednosti odstupa od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663480" y="1523880"/>
            <a:ext cx="7794720" cy="442764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psolutna mjera disperzij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Opseg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(Range) je najjednostavnija 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a varijabilnosti i on odgovara razlici između najveće(max)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 najmanje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(min)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z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en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u nizu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našem gornjem pri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u u kojima smo dali prikaz dstribucije godina ispitanika Opseg = 90–18= 72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NAPOMENA: Range je jedna od mjera varijabilnosti koja je sasvim nedostatna, naime, u okviru opsega (max-min) moguće su sasvim različite distribucije vrijedno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700" spc="-1" strike="noStrike">
                <a:solidFill>
                  <a:srgbClr val="000000"/>
                </a:solidFill>
                <a:latin typeface="Lucida Sans Unicode"/>
              </a:rPr>
              <a:t>Standardna devijacija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e jedna od ključnih mjera varijabilnosti koja ukazuje u kojoj su mjeri vrijednosti udaljene od aritmetičke sredin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Da bi izračunali standardu devijaciju nužno je prvo izračunati 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varijans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Varijansa se izračunava po sledećoj formuli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007560" cy="2971800"/>
          </a:xfrm>
          <a:prstGeom prst="rect">
            <a:avLst/>
          </a:prstGeom>
          <a:ln w="0">
            <a:noFill/>
          </a:ln>
        </p:spPr>
      </p:pic>
      <p:pic>
        <p:nvPicPr>
          <p:cNvPr id="446" name="Title 1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4"/>
          <p:cNvSpPr/>
          <p:nvPr/>
        </p:nvSpPr>
        <p:spPr>
          <a:xfrm>
            <a:off x="380880" y="419112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Na osnovu varijanse se izračunava standardna devijacija, a ona predstavlja pozitivni kvadratni korijen varijan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3"/>
          <a:stretch/>
        </p:blipFill>
        <p:spPr>
          <a:xfrm>
            <a:off x="2895480" y="5181480"/>
            <a:ext cx="2549520" cy="60984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6"/>
          <p:cNvSpPr/>
          <p:nvPr/>
        </p:nvSpPr>
        <p:spPr>
          <a:xfrm>
            <a:off x="557640" y="5943600"/>
            <a:ext cx="435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ema tome u našem primjeru SD j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4952880" y="5867280"/>
            <a:ext cx="2711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eficijent varija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σ/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liki je udio odstupanja u aritmeti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j sredi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58/3=0.526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ko se radi o cijenama, kakav bi bio komenta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Standardna devijacija uz aritmetičku sredinu nam pruža veoma korisne informacij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Ključna uloga standardne devijacije jeste da se na osnovu nje formiraju intervali povjerenj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69520" cy="11588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426240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533520" y="1447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Dakle, aritmetička sredina starosti naših ispitanika je 44,28, a standardna devijacija je 16,82. Slijedi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558280" cy="11588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8205840" cy="167652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"/>
          <p:cNvSpPr/>
          <p:nvPr/>
        </p:nvSpPr>
        <p:spPr>
          <a:xfrm>
            <a:off x="533520" y="4191120"/>
            <a:ext cx="8153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Promptni zaključak: Distribucija je asimetrična i to udesno, naime, sa +/-dve standardne devijacije mi smo potpuno iscrp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li nisk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dnosti tj. mlađi, dok još uvek nismo obuhvatili visok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dnosti tj.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tariji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04920" y="19810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Ukoliko je distribucija normaln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68% vrijednosti će biti obuhvaćene +/-1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95% vrijednosti će biti obuhvaćene +/-2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99,7% vrijednosti će biti obuhvaćene +/-3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1" name="Title 1" descr=""/>
          <p:cNvPicPr/>
          <p:nvPr/>
        </p:nvPicPr>
        <p:blipFill>
          <a:blip r:embed="rId1"/>
          <a:stretch/>
        </p:blipFill>
        <p:spPr>
          <a:xfrm>
            <a:off x="225360" y="128520"/>
            <a:ext cx="877248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ko su pro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a primanja u Crnoj Gori 300 EUR sa standardnom devijacijom 130 EUR. To znači da oko 68%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opulacije u Crnoj Gori ima primanja između 170 i 430 EUR i oko 95% populacije ima platu od 40 do 560 EUR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ko pro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an Crnogorac provede 3 sata pored televizora dnevno sa standardnom devijacijom od 1 sat, to znači da oko 68% populacije provodi pored TV-a između 2 i 4 sata i 95% populacije gleda TV između 1 i 5 sa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ko je prosječna ocjena na skali od 1-5 za X političara 3.0 sa standardnom devijacijom 1.5, to znači da ovog političara 68% populacije ocjenjuje ocjenom od 1.5 do 4.5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rcentili predstavljaju sumarne kumulativne pokazatelje distribucije iskazane relativnim frekvencijam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rcentili u suštini dijele ukupnu kumulativnu distribuciju u jednoj tački, te prema tome se distribucija dijeli na dva dijel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ajčešći u upotrebi je tzv 50-ti percentil, koji ima vrijednost medijane. Kada je o njemu riječ, ukupna distribucija se dijeli na način da polovina slučajeva (objekata) ima vrijednosti ispod a polovina iznad medijan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upotrebi su takođe i 25-ti, 75-ti percentil, a nekada se koriste i 10-ti i 90-ti percenti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potreba je jednostavna, npr. ako je u našem prim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sa godinama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na 25-om percentilu =30, to znači da 25% populacije jeste mlađe od 30 godina. Budući da j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75-og percentila 57,6, to znači da je 75% naših ispitanika mlađe od 57,6 g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od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a. Konsekventno, pošto j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na 90-tom percentilu 68, proističe da je 90% naših ispitanika mlađe od 68 godin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Budući da 25-ti, 50-ti i 75-ti percentil d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i populaciju u četiri grupe, njih nazivamo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kvartilima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a razliku između 75-tog i 25-tog, nazivamo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terkvartilni opseg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(IQR –interquartile rang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ključna svrha upotrebe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era centralne tendencije u društvenim naukam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statistič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 parametr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 -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 sv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ednosti jednog numeričkog niza (varijable)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e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‘centriraju’ i iskazuju posredstvom određene (jedne) numeričk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ednosti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Redukcioniz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a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singularni numerički izra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46160" y="152280"/>
            <a:ext cx="847404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0520" y="15235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‘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osjek’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Dakle, aritmetička sredina predstavlja pros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u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nekog kontinuiranog niza brojev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društv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e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nau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 -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pros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e karakteristike populacije ili uzork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DEFINICIJA: Aritmetička sredina nekog seta kvantitativnih podataka (numeričkog niza) jeste suma svih vrijednosti podijeljena sa ukupnim brojem objekata od kojih se set podataka sastoji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3352680" y="4724280"/>
            <a:ext cx="2210040" cy="11462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533520" y="57913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Napomena: 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Simbol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 se koristi kada se označava aritmetička sredina uzorka, dok se simbol </a:t>
            </a:r>
            <a:r>
              <a:rPr b="0" i="1" lang="el-GR" sz="2000" spc="-1" strike="noStrike">
                <a:solidFill>
                  <a:srgbClr val="000000"/>
                </a:solidFill>
                <a:latin typeface="Lucida Sans Unicode"/>
              </a:rPr>
              <a:t>μ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koristi kada je reč o popul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3"/>
          <a:stretch/>
        </p:blipFill>
        <p:spPr>
          <a:xfrm>
            <a:off x="3048120" y="5562720"/>
            <a:ext cx="312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pr. Ako 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žemo da su ispitanici u našem uzorku stari u prosjeku 44,5 godina to znači 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Dva su ključna faktora od kojih zavisi preciznost ovog podatka (aritmetičke sredine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1. Od veličine uzork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2. Od varijabilnosti tj. opsega (rasprostranjenosti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225360" y="128520"/>
            <a:ext cx="8699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Medijana,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akođe,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ste neka vrsta pros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Nije prosjek, v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ć samo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dnostavno ‘</a:t>
            </a:r>
            <a:r>
              <a:rPr b="0" i="1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medijana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DEFINICIJA: Medijana nekog kvan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ativnog seta podataka jeste srednji broj u situaciji kada se sv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poređaju od najniže do najviše ili obrnut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Ukoliko je niz brojeva neparan, onda je medijana broj u sredini. Ukoliko je broj paran, onda je medijana srednja vrijednost srednja dva broj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r.1. Ako se varijabla sastoji od 7 brojeva 5,7,4,5,20,6 i 2 onda se medijana izračunav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2,4,5,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6,7,20  M=5 (broj u sredini posmatrano s krajev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r.2. Ukoliko je pak varijabla sa parnim brojem brojeva (n=6) , npr. varijabla 4,5,5,6,7,20 onda se medijana izračunav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4,5,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5,6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7,20         M = (5+6)/2 = 5.5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U nekim situacijama medijana je bolja mjera centralne tendencije u odnosu na aritmetičku sredinu. Zašto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eke varijable u društvenim istraživanjima su naročito pogodne za medijanu, npr. prihod iskazan u intervalnoj skali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Prosjek zarada – aritmetička sredina ili medijana?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Medijana je, takođe, pogodna kada se koriste ljestvice procjene, a i zgodnija je za interpretaciju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25360" y="128520"/>
            <a:ext cx="8467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9:30:32Z</dcterms:created>
  <dc:creator>Ana</dc:creator>
  <dc:description/>
  <dc:language>en-US</dc:language>
  <cp:lastModifiedBy>boris</cp:lastModifiedBy>
  <dcterms:modified xsi:type="dcterms:W3CDTF">2015-02-17T10:40:27Z</dcterms:modified>
  <cp:revision>82</cp:revision>
  <dc:subject/>
  <dc:title>DESKRIPTIVNA STATISTIKA II DEO</dc:title>
</cp:coreProperties>
</file>