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E49F-F4F2-4C82-8DF0-6FC1C1DDC05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D209-2B9D-451A-9420-4751C01D3CE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8FBF-68BE-481F-9F2F-3824A6BA4D6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07D4-DCA8-4B56-87F3-FA3BE8A9036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75DE-1EEB-4D35-838F-835E8C59280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1655-22D4-4A87-8432-D022687F32B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1F68-C7A4-4FC8-9D3A-DB8E2489C47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BBAB-4D32-4AE2-B7C4-FBA18D47AAF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9114-1F86-4E41-871A-E23409E6896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0E25-BC59-4824-85B9-5E62BA2422B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753B-95B2-42B3-86DC-F39C1EAC7B1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C3A4-60A4-4AFE-8DEA-8B61C45CCD7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E5C1-176F-4CD1-BA30-4C3F70AFD05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7301-F37D-46F7-AD96-7EAC0DF2BF2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2776-CBCC-4B5C-A220-A1CD1B35CDC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AA48-AA32-404F-A6B0-090A4103DBD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173-7358-4C1B-A606-60F9FA96607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10DF-D43E-470B-9825-B5DD17331AC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6295-E682-4324-86E6-B92C6506A5E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75B2-DA88-44B5-BF5E-D9194628BF7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F301-46ED-41C6-B0E5-9E3C55FD72D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40D7-BE58-44A9-BA4B-7C0846639B2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1AFB-33DE-4DE8-994F-B9E80DB1D50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E43F-2573-43E7-8F58-5E39FFAD75B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C5F7-D4FC-4FB9-9C4E-4B5C39ABBC0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F5C-8754-4CE0-9941-2760A517342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D4E-EDEE-4A57-9EDC-0CC53566AA5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F3B4-2CD9-4886-954E-15E71008744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28C6-0926-44CF-A745-10A29C08A71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84ED-CB81-41F3-A8FD-5DA87B1FB84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1B7B-393F-400E-90F4-9173C807DDB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FC9C-B3AC-4887-A55F-8919F9EB916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B7D4-90F3-4F74-82A3-514E6C0ACC5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4581-25F7-40D3-B3A5-9D9DC128647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93AB-CDB0-412C-905E-7238FB37CF2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92E2-F450-4BC1-8027-DCEB9BF836C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1FC7-1978-491E-9CA9-ABB68A9FA89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9EDE-B682-4D48-9943-85A0B85D16F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3D8F-FAFB-40A1-BA0B-12BD9EC3FEF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832-75B4-400A-93B3-93927DA1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A61-B39F-4389-B8A7-CAB994FE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46A-79C3-49C6-A2F5-0F943C5B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9CC-C08E-47CE-805D-3A43F7C0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88A7-EA0D-4675-B13B-6448166D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15F5-D967-451F-B891-03792D19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C088-F1C7-49E8-8B96-866ED83B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2B9A-CE21-4918-A21D-815E6DEC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7C3-2ABC-4E8E-A973-7D1A9049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40D5-3917-48B0-BE36-B6DE353A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A439-CF8B-486D-901E-6C2B9C47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EEC-52A6-4A9B-BF70-D44ABC95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58BB-2E8C-4EB6-8282-81337A0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5977-7220-4B11-A8F5-3C3F19B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3358-153A-4598-817F-B45EB423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77F7-414F-484B-8E25-831C3DAD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24FC-903B-463C-8DE3-CA0835EC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9141-8A22-443D-A3AD-5AFC6DE0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C4E2-1275-4077-B49A-7BF0E46F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EBD1-CDA9-48B6-BFD7-1ED7DC58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A791-92E3-484F-87D0-C6995D7E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84F9-887C-4396-AF3E-229B21CF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745-BCD8-4C37-BC27-E66183D9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8235-CA38-4F96-8C3B-763AF506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453D-AE5A-4A1A-B912-7EDAAD2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6D7C-BF04-4307-8492-3EF3AC9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AB19-DB9E-4DAF-8CE7-B60498BD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8156-97AA-414C-896C-F4AB8574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E249-F60D-4223-B434-5823A7F1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2094-2AE6-43C2-9DD4-4056FE93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8408-53AC-4E62-84D9-47DD8E86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A56FB-9B00-4847-A5A2-722626B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7844-0723-46ED-8AB6-F85A480E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6FE-A7EE-4C15-B489-9A64EE10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7E52-FAD3-459D-AA41-44D84089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BC7F-A74F-4A14-85E0-6F8D0F0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2511-A9B5-48D2-89BF-AD04B84C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47FA-85DB-4C0D-A4E2-7495FD39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1FDF-4461-4381-B7A0-311D144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C31B-2894-4496-9993-932CAF9C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DF31-27F6-4CAE-A8CF-9BB5B89A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1BC3-AAD4-4154-9E3C-752B9C70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A762-961C-4B00-9A3B-72C55146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3B2DA-9549-40B0-9396-E78DF61C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B8F-15CC-4576-B612-4929CBB8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403CD-AFEB-496C-ADCD-EC5364CE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58CD-F131-412F-B22B-A90C0FC1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C054-DA0F-4A35-BF49-61A4D9A4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06865-C264-439C-A843-6C8D98FC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5195-8976-4C4C-BBDF-7C4712A5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5623C-F84F-4D9A-BAF3-E03A1A96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02ABB-A465-41C8-BBC0-4367FBA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4801-5BE4-4F30-A3E5-0456E77B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225D-73D9-42F6-AC6F-05ABE9C1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DE539-3770-438B-9DCA-B1FFE027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105-3FDA-4612-845C-FC23E3E8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9124-68E5-46A8-B817-C585A624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1FDC4-B07B-4C71-9C6A-1DC7C4AD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CCD6F-2B2D-4A92-90ED-F0A7ABC4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6885-014E-4597-A952-81734E3E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5E4D1-CDEA-4F9D-85B3-7186549D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F4F78-97B5-4AC6-A48D-CF19BAF8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13886-4378-465B-80E8-4F284C06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3C59-8306-4128-B998-F103C76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2177-9C08-49A2-A855-6F2B39E4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AD853-A7CC-410A-A302-303DD7A4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1EA-C34A-4241-B78E-47A7E33B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EC8D-AFEF-41BF-BDB5-27663AAD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B1533-23BE-4948-990F-367867ED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45076-8F56-4FA2-BDF4-08F0E0D7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976B-BFF4-4FFF-A4A4-5010A723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67A12-B88C-4389-B58C-38BF5E62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E62ED-ECE3-4AD4-9E2D-84A97834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F7D4-139F-4AD3-9A81-3FA1ED4B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36F1D-631D-44AF-A1B4-EA54777B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6EF8-8EA8-4BC8-B114-A2A19A20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A3A92-A821-43B5-B33B-17D82260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530-2E8C-40EB-9B38-6742A365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B5EC-CACC-4C4D-A713-6B242C70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FCA39-833E-4133-A649-AE0B9DA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02664-2119-4713-BD8A-9CEC1C97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49CB8-2556-4971-93E1-366A9214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347B0-1415-4A67-8138-6E0004AC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AE30-1F99-43E6-98DA-4ED21A27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25AED-35B7-4D16-A77D-8C2ACB25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0A1EB-20C8-49AD-BD1A-C9F03E35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AE90F-95CC-49E0-8EE6-117B3F7E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76D9C-5085-40C4-83FF-8A51AFF0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980-9D29-490D-A641-A5CF1BE8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187CA-8264-48C8-89DC-D9E1A056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BDE51-B29E-4C57-9C41-4153E371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0BC2-711C-4EC3-B366-EB7362A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BC342-7D4F-43B0-BEFE-BBC78C6A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71E88-04CA-436D-9ED6-4A6429C2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54890-E2C3-4746-8AAE-67B647D1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725D9-599B-4E60-AA42-7DB548F0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A89-C261-4A46-A809-8992DF0FE68D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506F-9CAF-432D-A8B9-9017F414355D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4B10-260D-45A5-A535-86FD620CF87F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18F-7CB4-419B-B141-592B510FB48A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5D14-FB24-4705-B372-397565C045C7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3D51-BDCA-4CAE-9292-88BC7536F9FC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B069-37BE-4EA5-96A8-A75D9F5B21D6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2678-372B-4F62-AEA9-0A62DDA96CF9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92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Modus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najčešća vrijednost koja se pojavljuje u jednom setu brojeva. Npr. ako je set brojeva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4,6,1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9,3,4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2,3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9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,8,4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3,4,7,8,9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Onda je modus = 8, dakle, broj koji se najviše puta pojavio u niz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08080" y="66600"/>
            <a:ext cx="847872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zavisnosti od prirode podataka modus može biti manje ili više korisna mjera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U našem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u da u uzorku ima najviše ispitanika koji imaju 21 godinu, taj podatkak nam i ne govori mnogo. Međut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 ako pogledamo grafik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tićemo da je distribucija neravno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na upravo u ovom sektoru, tačnije kod mlađe kategorije ispitan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istraživanjima se ne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tko koriste likertove l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stvice proc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ne koje imaju v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npr.: veome dobro, dobro, loše i veoma loš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tostepena skala: „uopšte se ne slažem”, „ne slažem se”, „nemam mišljenje”, „slažem se”, „potpuno se slažem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ovakvim situacijama modus nam daje vredniju informaciju u poređenju sa aritmetičkom sredinom i medijanom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Zašt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3059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Mjere centralne tendencije samo parcijalno opisuju podatke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Centralna tendencija uz mjere varijabilnosti nam pomaže da vizualizujemo oblik jedne distribuci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Varijabilnost je sastvani dio distribucij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41520" y="1371600"/>
            <a:ext cx="7511760" cy="4533840"/>
          </a:xfrm>
          <a:prstGeom prst="rect">
            <a:avLst/>
          </a:prstGeom>
          <a:ln w="0">
            <a:noFill/>
          </a:ln>
        </p:spPr>
      </p:pic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523880" y="1601640"/>
            <a:ext cx="6391440" cy="3875400"/>
          </a:xfrm>
          <a:prstGeom prst="rect">
            <a:avLst/>
          </a:prstGeom>
          <a:ln w="0">
            <a:noFill/>
          </a:ln>
        </p:spPr>
      </p:pic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748040" cy="4422960"/>
          </a:xfrm>
          <a:prstGeom prst="rect">
            <a:avLst/>
          </a:prstGeom>
          <a:ln w="0">
            <a:noFill/>
          </a:ln>
        </p:spPr>
      </p:pic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1981080" y="16765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čne distribucije nakrivljene u des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2,2,3,3,3,4,4,5,5,5,8,9,10,11,12,13,1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je (4+5)/2=4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119/20=5.9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9780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2362320" y="2562120"/>
            <a:ext cx="4267080" cy="3679920"/>
          </a:xfrm>
          <a:prstGeom prst="rect">
            <a:avLst/>
          </a:prstGeom>
          <a:ln w="0">
            <a:noFill/>
          </a:ln>
        </p:spPr>
      </p:pic>
      <p:pic>
        <p:nvPicPr>
          <p:cNvPr id="414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2209680" y="19051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čne distribucije nakrivljene u lij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3,4,5,5,8,8,8,8,9,9,9,9,9,10,10,11,11,1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8+8)/2=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= 151/20 = 7.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515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0948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ŠTA MORAMO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AVLADATI</a:t>
            </a: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re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ocjenu i značaj distribu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506124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3,3,3,4,4,4,5,5,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3+4)/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42/1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 predstavlja onaj tip distribucije u kojem se vrh distribucije poklapa sa aritmetičkom sredinom distribucije (grafikon 5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Ovaj tip distribucije ima oblik ‘zvona’ pa se često upravo ovaj figurativan naziv koristi za normalnu distribucij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, kao koncept, igra veoma važnu ulogu u statistici, naime, veliki broj statističkih testova počiva na pretpostavci da su vrijednosti normalno distribuira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Asimetrična distribucija je onaj tip distribucije u kome se aritmetička sredina ne poklapa sa vrhom distribucij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Distribucija može biti asimetrična u dva smjera: prvo, ona može biti iskrivljena u desno (grafikon 3) i ona može biti iskrivljena u lijevo (grafikon 4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Najgori mogući slučaj asimetrične distribucije jeste ukoliko je ona nakrivljena istovremeno i u lijevo i u desno - ona ima dva vrh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ada imamo slučaj izrazito asimetrične distribucije, onda nam to govori da mi u okviru populacije imamo dve kategorije (kohorte), koje se suštinski razlikuju po datoj karakteristici . Odvojena analiza.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31280" cy="5278680"/>
          </a:xfrm>
          <a:prstGeom prst="rect">
            <a:avLst/>
          </a:prstGeom>
          <a:ln w="0">
            <a:noFill/>
          </a:ln>
        </p:spPr>
      </p:pic>
      <p:pic>
        <p:nvPicPr>
          <p:cNvPr id="427" name="Title 1" descr=""/>
          <p:cNvPicPr/>
          <p:nvPr/>
        </p:nvPicPr>
        <p:blipFill>
          <a:blip r:embed="rId2"/>
          <a:stretch/>
        </p:blipFill>
        <p:spPr>
          <a:xfrm>
            <a:off x="285840" y="201600"/>
            <a:ext cx="840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parametar koji pokazuje da li je distribucija asimetrična ulijevo ili udes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Treći momenat distribuci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jednak 0 ako je distribucija simetrična, a u suprotnom imaće vrijednost drugačiju od 0 sa predznakom koji je identičan kao i asimetr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ga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to znači da je distribucija nakošena ulijevo, tj. u tom slučaju veća je frekvencija natprosječnih vrijednost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zi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onda je distribucija nakošena udesno, i to znači da je frekvencija vrijednosti u korist ispodprosječnih vrijedn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37960" y="225360"/>
            <a:ext cx="88758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je parametar koji pruža informaciju o rasprostranjenosti distribucije po y osi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zapravo govori o tome u kojoj mjeri su vrijednosti koncentrisane oko aritmetičke sredine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Grafikon 2 pokazuje različite mogućnosti distribucije koje su normalne, spljoštene ili zaoštren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Četvrti momenat distribucije i ima vrijednost 3 za normalnu distribuciju (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lt; 3 distribucija je spljo</a:t>
            </a:r>
            <a:r>
              <a:rPr b="0" lang="sr-Latn-ME" sz="2100" spc="-1" strike="noStrike">
                <a:solidFill>
                  <a:srgbClr val="000000"/>
                </a:solidFill>
                <a:latin typeface="Lucida Sans Unicode"/>
              </a:rPr>
              <a:t>štenija 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od normalne ,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gt; 3 distribucija je za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šiljenija od normaln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Takođe, od vrijednosti koju smo dobili možemo oduzeti  3 tako da idealna distribucija ima kurtosis = 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U tom slučaju, spljoštene distribucije imaju negativnu (-) vrijednost a zašiljene pozitivnu (+) vrijednost kurtosis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5280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457200" y="1481040"/>
          <a:ext cx="8229600" cy="3606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-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7.6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3.0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1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.3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41.5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4.07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6.4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.6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9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7.4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2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7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6.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.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.3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2.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6.6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4.7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7,08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28600" y="148104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7.025  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2.576 </a:t>
            </a:r>
            <a:r>
              <a:rPr b="0" lang="el-GR" sz="26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1.60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3=-24.7244/40=-0.618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4=597.0845/40=14.927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0.6181/4.134=-0.15   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ak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ena ulijev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 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14.9271/6.636= 2.25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plj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tenija od normaln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ko oduzmemo 3 od rezultata  kurtosisa dobijamo                 – 0.75 (negativna vrijednost zna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 sp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ljoštenu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distribuciju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45720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U statistici postoje numeričke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linosti imaju za cilj da numerički precizno ukažu u kojoj mjeri distribucija vrijednosti odstupa od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63480" y="1523880"/>
            <a:ext cx="7794720" cy="44276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psolutna mjera disperzij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pseg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Range) je najjednostavnija 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a varijabilnosti i on odgovara razlici između najveće(max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 najmanje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min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z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e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u nizu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našem gornjem pri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u u kojima smo dali prikaz dstribucije godina ispitanika Opseg = 90–18= 72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POMENA: Range je jedna od mjera varijabilnosti koja je sasvim nedostatna, naime, u okviru opsega (max-min) moguće su sasvim različite distribucije vrij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700" spc="-1" strike="noStrike">
                <a:solidFill>
                  <a:srgbClr val="000000"/>
                </a:solidFill>
                <a:latin typeface="Lucida Sans Unicode"/>
              </a:rPr>
              <a:t>Standardna devijacija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 jedna od ključnih mjera varijabilnosti koja ukazuje u kojoj su mjeri vrijednosti udaljene od aritmetičke sredin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Da bi izračunali standardu devijaciju nužno je prvo izračunati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varijan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Varijansa se izračunava po sledećoj formul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00756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/>
          <p:cNvSpPr/>
          <p:nvPr/>
        </p:nvSpPr>
        <p:spPr>
          <a:xfrm>
            <a:off x="380880" y="419112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Arial"/>
              </a:rPr>
              <a:t>Na osnovu varijanse se izračunava standardna devijacija, a ona predstavlja pozitivni kvadratni korijen varijan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2549520" cy="6098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557640" y="5943600"/>
            <a:ext cx="435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rema tome u našem primjeru SD 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4952880" y="5867280"/>
            <a:ext cx="2711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varij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σ/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liki je udio odstupanja u aritmeti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j sredi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58/3=0.526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ko se radi o cijenama, kakav bi bio komenta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Standardna devijacija uz aritmetičku sredinu nam pruža veoma korisne informacij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Ključna uloga standardne devijacije jeste da se na osnovu nje formiraju intervali povjerenj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63040" cy="1189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4262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533520" y="144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kle, aritmetička sredina starosti naših ispitanika je 44,28, a standardna devijacija je 16,82. Slijedi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551800" cy="1189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8205840" cy="16765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533520" y="4191120"/>
            <a:ext cx="8153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Promptni zaključak: Distribucija je asimetrična i to udesno, naime, sa +/-dve standardne devijacije mi smo potpuno iscrp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li nis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mlađi, dok još uvek nismo obuhvatili viso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tariji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04920" y="1981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Ukoliko je distribucija normaln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68% vrijednosti će biti obuhvaćene +/-1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5% vrijednosti će biti obuhvaćene +/-2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9,7% vrijednosti će biti obuhvaćene +/-3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7724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su pro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a primanja u Crnoj Gori 300 EUR sa standardnom devijacijom 130 EUR. To znači da oko 68%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pulacije u Crnoj Gori ima primanja između 170 i 430 EUR i oko 95% populacije ima platu od 40 do 560 EUR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predstavljaju sumarne kumulativne pokazatelje distribucije iskazane relativnim frekvencijam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u suštini dijele ukupnu kumulativnu distribuciju u jednoj tački, te prema tome se distribucija dijeli na dva dijel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jčešći u upotrebi je tzv 50-ti percentil, koji ima vrijednost medijane. Kada je o njemu riječ, ukupna distribucija se dijeli na način da polovina slučajeva (objekata) ima vrijednosti ispod a polovina iznad medijan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upotrebi su takođe i 25-ti, 75-ti percentil, a nekada se koriste i 10-ti i 90-ti percenti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potreba je jednostavna, npr. ako je u našem prim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sa godinama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25-om percentilu =30, to znači da 25% populacije jeste mlađe od 30 godina. Budući da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75-og percentila 57,6, to znači da je 75% naših ispitanika mlađe od 57,6 g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a. Konsekventno, pošto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90-tom percentilu 68, proističe da je 90% naših ispitanika mlađe od 68 godin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Budući da 25-ti, 50-ti i 75-ti percentil d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i populaciju u četiri grupe, njih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kvartilima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 razliku između 75-tog i 25-tog,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terkvartilni opseg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IQR –interquartile rang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ključna svrha upotrebe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era centralne tendencije u društvenim naukam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tatistič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paramet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 -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sv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 jednog numeričkog niza (varijable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e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‘centriraju’ i iskazuju posredstvom određene (jedne) numeričk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Redukcioniz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ingularni numerički izra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58760" y="15876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520" y="15235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ruštv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e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nau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pros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karakteristike populacije ili uzork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Aritmetička sredina nekog seta kvantitativnih podataka (numeričkog niza) jeste suma svih vrijednosti podijeljena sa ukupnim brojem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dataka 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 kojih se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zorak 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astoji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31840" y="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3578400"/>
            <a:ext cx="2210040" cy="11458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80880" y="489420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apomena: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Simbo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 se koristi kada se označava aritmetička sredina uzorka, dok se simbol </a:t>
            </a:r>
            <a:r>
              <a:rPr b="0" i="1" lang="el-GR" sz="2000" spc="-1" strike="noStrike">
                <a:solidFill>
                  <a:srgbClr val="000000"/>
                </a:solidFill>
                <a:latin typeface="Lucida Sans Unicode"/>
              </a:rPr>
              <a:t>μ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koristi kada je reč o popul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3"/>
          <a:stretch/>
        </p:blipFill>
        <p:spPr>
          <a:xfrm>
            <a:off x="2890800" y="4670280"/>
            <a:ext cx="3142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pr. Ako 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žemo da su ispitanici u našem uzorku stari u prosjeku 44 god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to znači 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va su ključna faktora od kojih zavisi preciznost ovog podatka (aritmetičke sredin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1. Od veličine uzork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2. Od varijabilnosti tj. opsega (rasprostranjenosti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6994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edijana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akođe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ste neka vrsta pros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Medijana nekog kvan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ativnog seta podataka jeste srednji broj u situaciji kada se sv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poređaju od najniže do najviše ili obrnut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koliko je niz brojeva neparan, onda je medijana broj u sredini. Ukoliko je broj paran, onda je medijana srednja vrijednost srednja dva broj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1. Ako se varijabla sastoji od 7 brojeva 5,7,4,5,20,6 i 2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2,4,5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6,7,20  M=5 (broj u sredini posmatrano s krajev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2. Ukoliko je pak varijabla sa parnim brojem brojeva (n=6) , npr. varijabla 4,5,5,6,7,20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,5,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7,20         M = (5+6)/2 = 5.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U nekim situacijama medijana je bolja mjera centralne tendencije u odnosu na aritmetičku sredinu. Zašto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eke varijable u društvenim istraživanjima su naročito pogodne za medijanu, npr. prihod iskazan u intervalnoj skali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rosjek zarada – aritmetička sredina ili medijana?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9:30:32Z</dcterms:created>
  <dc:creator>Ana</dc:creator>
  <dc:description/>
  <dc:language>en-US</dc:language>
  <cp:lastModifiedBy>User</cp:lastModifiedBy>
  <dcterms:modified xsi:type="dcterms:W3CDTF">2019-02-06T14:26:44Z</dcterms:modified>
  <cp:revision>87</cp:revision>
  <dc:subject/>
  <dc:title>DESKRIPTIVNA STATISTIKA II DEO</dc:title>
</cp:coreProperties>
</file>