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0EF-E9AD-4A94-AD08-E9BB26EC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B17-B6B8-4725-8391-54070BC2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9D3-ED24-4982-BB61-51FCD13D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435-37DC-438A-9810-472AA3CD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8AB2-668B-4146-ACA8-7658DAE4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C78C-F406-496B-A3A0-86EDC9A7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00B3-F118-4F80-B280-1C6BC71F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1E07-15DE-4EBD-A8E3-9206E1B6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B2BA-53D5-446B-A125-E32295B5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059D-B198-429E-A75B-01D14BC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E05B-D663-4EDD-9EEC-2CD4B987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31F-E541-45CB-BE4B-90B1E1EF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0D7B-DBED-4FD9-9437-9D51C43A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860C-90B1-442E-8863-442042AD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8384-A559-4EB2-9C83-60B66D4D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5511-3539-4332-BB2E-81C3BE3C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E291-D604-4542-8F74-0C0C6FD5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FE7E-28CD-4080-9A85-73B2257C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C4BD7-FC3D-4586-B2B0-2367FDA0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EF7FF-1CEF-4E46-8050-C6CA8BC3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65B6-80F7-45B1-A312-E6AC5A94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64BF-F181-4ABF-BA7B-239BD5CE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240-618F-498E-B62D-10A2CEC8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3686-1D3B-47A5-95BC-F246E09F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DBBE-412D-4BF6-8965-5E469D8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9933C-FC2E-441D-90C5-8AA9808D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AC2D0-6DFF-4E06-B384-F168DADB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A100E-82F3-468A-ACC8-E5BAC023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EE58C-E95D-4B68-88E9-FAB6C1ED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5C712-BE39-43AE-BFFF-941634FA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8E683-B4E6-490B-B47E-AA34DE59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F6948-FB0A-490C-A30F-13ADF01F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82D1-46B5-4C30-9641-262EE6D6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1F5-51AB-4C74-9FB8-E08CD600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A8288-ABB5-4BCE-AE13-F42D7538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FF3B-05C8-4D9A-A5AA-03BC58A1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3DAE5-EF22-4503-B88B-51B9B85F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3937A-F831-409F-B91E-E4171481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05D1D-A050-4988-92BE-6B5F04C4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185FC-6136-43EF-A4A8-6CEB1AD4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C0FE0-8B08-4FC7-BE80-BD3C2311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C2F82-3C49-479F-BBBD-DFE89E73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A44D-2F89-4865-85F5-77AA935D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9233C-7D58-473B-B4F1-511AC96C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162-EC9C-4380-9E7F-F6310A95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6BC58-AB57-4632-8A38-8F388B70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B0F46-5F6C-4F4E-9426-2293707C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0CA15-0F71-479F-8F24-8EE0D064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1E70B-9B8E-42F3-816D-EBFCF52F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38B09-1E3C-428F-893A-E0F1ED47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E6319-0421-45A5-8FC0-A6EAFE79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11548-B1AF-49FF-AE7D-4F872D25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BF42F-30AA-459D-ACF8-F84942AE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8DE86-F35B-4EFA-8A84-4E93F2A4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34630-5C50-45CA-8535-F24E7EAB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BE5-8A8D-4537-AB2E-4B78EF09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48A6A-6B8D-484A-99B7-4C4AE1CA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0E8-8F0F-40FC-B63C-36B4DC9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B3D-CA1C-4BF7-9A04-B3982AC1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CF8-4774-4037-B239-8DA6982F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E881-3006-47D5-8F14-46CBFC570A82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6009-2261-413C-8F9E-78659DD9262F}" type="slidenum">
              <a:rPr b="0" lang="sr-Latn-C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951A-F649-49BE-9103-BC4BDD1D91E8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27B1-D886-401F-A3D6-891C7CD46C74}" type="slidenum">
              <a:rPr b="0" lang="sr-Latn-C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6DF6-EAD4-4C52-A451-4C576215C094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8400" y="530280"/>
            <a:ext cx="6960960" cy="2620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RZANSKI INDEKS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213840" y="1609200"/>
            <a:ext cx="7929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zračunavanje DJ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JIA=zbir cijena akcije/djelila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a bi se otklonili problemi u promjeni djelioca, od 1992 se koristi sledeći obrazac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djelilac = Tekući djelilac*(Ukupna prilagođena tržišna vrijednost/Ukupna neprilagođena tržišna vrijednost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Izračunati novi djelilac, koristeći podatke iz prethodnog primjera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Rješenje: 5*(120/150) = 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Usled stalnih prilagođavanja, vrijednost djelioca Dow Jones prosjeka je neprestano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manjivana (danas je ispod 1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ritik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ekcije u djeliocu prikazuju rast indeksa, što ne predstavlja realnu sliku tržiš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30 akcij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ne može biti reprezentativn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Nestalnost procjene (diobe i zamjene akcij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ikaz trenda ci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onderisani su tržišnom vrijednošć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eks = sadašnja tržišna vrijednost/tržišna vrijednost iz baznog period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mpanije sa većim brojem akcija i većom cijenom akcija presudno utiču na kretanje indeksa. Stoga vrijednost indeksa zavisi od 2 faktora: cijene akcije i broja prodatih (ili kupljenih) akci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Nema prilagođavanja djelio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, NASDAQ, Russel 2000 i s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 se sastoji od 4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d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deksa: industrijski, transportni, sektor usluga i finansijsk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ije presudna najveća tržišna vrijednost kompanije za uključivanje u indeks; bitna je reprezentativnost grane i vodeće kompanije iz tih gran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oredna analiza Dow Jones-a i 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-360" y="1609200"/>
            <a:ext cx="80722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imjer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ema podacima u tabeli, izračunati vrijednosno ponderisani indeks tržišta akcija. Dati interpretaciju. Napomena: Akcija A pocijepana je u odnosu 1 stara: 4 nove, akcija B je pocijepana u odnosu 1 stara : 2 nove, dok je kod akcije C izvršena isplata dividende novim akcijama u iznosu od 20%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71680" y="3929040"/>
          <a:ext cx="7358040" cy="1692360"/>
        </p:xfrm>
        <a:graphic>
          <a:graphicData uri="http://schemas.openxmlformats.org/drawingml/2006/table">
            <a:tbl>
              <a:tblPr/>
              <a:tblGrid>
                <a:gridCol w="1000080"/>
                <a:gridCol w="2428920"/>
                <a:gridCol w="1214280"/>
                <a:gridCol w="2714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akcije u EUR, 31.12.200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j ak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akcije u EUR, 31.12.200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214200" y="1428840"/>
            <a:ext cx="7858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Rješenj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rebuchet MS"/>
              </a:rPr>
              <a:t>Indeks prije cijepanja akcija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(16*500 + 5*1.000 + 80*2.000)/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(8*500 + 6*1.000 + 100*2000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173.000/210.000 = 0,8238 *100 = 82,3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rebuchet MS"/>
              </a:rPr>
              <a:t>Indeks nakon cijepanja akcija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(16*2.000 + 5*2.000 + 80*2.400)/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(8*500 + 6*1.000 + 100*2000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234.000/210.000 = 1,114 *100 = 111,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85840" y="1857240"/>
          <a:ext cx="7858080" cy="1597320"/>
        </p:xfrm>
        <a:graphic>
          <a:graphicData uri="http://schemas.openxmlformats.org/drawingml/2006/table">
            <a:tbl>
              <a:tblPr/>
              <a:tblGrid>
                <a:gridCol w="1189080"/>
                <a:gridCol w="2098440"/>
                <a:gridCol w="1212840"/>
                <a:gridCol w="1354320"/>
                <a:gridCol w="2003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k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ijena akcije u EUR, 31.12.200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roj ak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roj akcija novo st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ijena akcije u EUR, 31.12.200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10320" cy="828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OKAZATELJI CIJENA NA TRŽIŠTIMA HOV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ZNAČAJ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RETANJE OPŠTEG NIVOA CI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IKATORI OPŠTEG STANJA U PRIVRED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OSTVARENE CJENOVNE PROMJENE – </a:t>
            </a:r>
            <a:r>
              <a:rPr b="0" lang="sr-Latn-CS" sz="2600" spc="-1" strike="noStrike">
                <a:solidFill>
                  <a:srgbClr val="ff0000"/>
                </a:solidFill>
                <a:latin typeface="Trebuchet MS"/>
              </a:rPr>
              <a:t>EX PO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EDNOSTI I NEDOSTACI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6840" y="1609200"/>
            <a:ext cx="7472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Average - prvi pokazatelj cjenovnih promjena akcija (konstruisan prije više od 100 godin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Od tada se razvijaju brojni oblici mjerenja cjenovnih promjena akcija koji se dijele u dvije grupe: prosjeci cijena akcija i indeksi cijena akci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osjeci cijena akcija – cijenom ponderisani prosjec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eksi cijena akcija – indeksi ponderisani tržišnom vrijednošću akci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82520" y="353880"/>
            <a:ext cx="751068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Izračunavanje prosjeka cijena akcij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Aritmetička sredin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Suma cijena akcija se dijeli sa brojem koji se definiše kao djelila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onder je definisan visinom cijene konkretne hartije od vrijednosti – veće cijena hov, veći relativni uticaj na veličinu prosjek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oblemi kod izračunavanja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Zamjena akcija – 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izabrati novu akciju sa sličnim per</a:t>
            </a: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fo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rmansama ili usaglasiti djelila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omjena veličine liste – 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ponovni obračun kroz usaglašavanje djelioc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Dioba akcija – ako je izvršena dioba akcije od 200eura u razmjeri 5:1, koliko iznosi cijena akcije? Da li to utiče na prosjek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10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Usaglašavanje posle diobe se vrši na 3 način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Zamjena sa drugom akcijom (veoma je teško naći akciju sa sličnim karakteristikama, posebno ako se isključuje iz prosjeka akcija koja ima značajno mjesto u svojoj djelatnosti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išćenje multiplikatora – podjela 4:1 znači množenje nove cijene sa 4; jednostavan način usaglašavan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igovanje djelioca – način koji se koristi kod Dow Jones prosjek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51032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42560" y="1213920"/>
            <a:ext cx="8072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Primjer: data je tabela sa sledećim podacim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Prosjek iznosi 150/5=3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Izvršena je dioba akcije E u razmjeri 4:1. Izračunati vrijednost djelioca cjenovno ponderisanog indeks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51032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571680" y="1857240"/>
          <a:ext cx="4071600" cy="2595600"/>
        </p:xfrm>
        <a:graphic>
          <a:graphicData uri="http://schemas.openxmlformats.org/drawingml/2006/table">
            <a:tbl>
              <a:tblPr/>
              <a:tblGrid>
                <a:gridCol w="2071440"/>
                <a:gridCol w="2000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28400" y="1285920"/>
            <a:ext cx="72673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Stanje cijena nakon diob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Novi prosjek bi iznosio 120/5 = 24. Međutim, kako nije došl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do promjena na tržištu, prosjek mora ostati nepromijenjen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a djelilac se mora usaglasit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rebuchet MS"/>
              </a:rPr>
              <a:t>Novi djelilac = nova agregatna cijena/stari prosje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rebuchet MS"/>
              </a:rPr>
              <a:t>Novi prosjek = nova agregatna cijena/novi djelila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51032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857160" y="1857240"/>
          <a:ext cx="3357720" cy="258444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42560" y="12139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djelilac = 120/30 = 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prosjek = 120/4 = 30        jednak je sa starim prosjekom; promjena nastala pri diobi akcija nije uticala na prosjek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1991 DJIA je koristio djelilac 0,559; DJTA (transportation) je koristio djelilac 0,709; DJUA (utilities) je koristio djelilac 1,997; DJCA (composite) je koristio djelilac 2,751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ight Arrow 3"/>
          <p:cNvSpPr/>
          <p:nvPr/>
        </p:nvSpPr>
        <p:spPr>
          <a:xfrm>
            <a:off x="3857760" y="1785960"/>
            <a:ext cx="4284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95120" y="-19080"/>
            <a:ext cx="7858440" cy="1238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85480" y="1285920"/>
            <a:ext cx="7786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prosjeci predstavljaju osnovni indikator berzanskih prom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Transportation Average (konstruisan 1884, sastojao se od 11 akcija željezničkih kompanija; 1897 prosjek se koriguje sa 11 na 20 akcija, koliko indeks ima i danas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Industrial Average (konstruisan 1897, sastojao se od 12 akcija, a danas se sastoji od 30 akcija; od originalne liste zadržao se samo General Electric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Utilities Average (konstruisan 1929, sastojao se od 18 akcija, a danas se sastoji od 15 akcij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5:17:16Z</dcterms:created>
  <dc:creator>Ana</dc:creator>
  <dc:description/>
  <dc:language>en-US</dc:language>
  <cp:lastModifiedBy>Ana</cp:lastModifiedBy>
  <dcterms:modified xsi:type="dcterms:W3CDTF">2011-03-04T10:29:48Z</dcterms:modified>
  <cp:revision>12</cp:revision>
  <dc:subject/>
  <dc:title>          ANALIZA  BERZANSKOG POSLOVANJA</dc:title>
</cp:coreProperties>
</file>