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BF7E22-3F2F-47B4-A6B6-B6C3A9A1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263D56-F3FE-4657-A027-9AEEE8F1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0BCFB4-AFC4-4B54-B045-0A207FB4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BBF292-62FB-49D0-9393-D51E4C37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747901-0276-414F-A47D-3A785736F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679485-625D-4F6C-A8DE-6ED866F9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AD3375-EEDC-4B93-B41E-91611BBE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09F12B-7C9B-4EEF-ACBC-01C53D7E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CEB10A-3A22-4CF9-8210-A0086895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369C4E-67C6-4DDE-BD5B-D06F76D18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3CF67E-79EA-4EA2-865A-E3E7AE65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6B6756-071F-416E-8536-8418A9F9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629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9900"/>
                </a:solidFill>
                <a:latin typeface="Arial"/>
              </a:rPr>
              <a:t>Dobrodošli u </a:t>
            </a: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Wall Street</a:t>
            </a:r>
            <a:endParaRPr b="1" lang="en-US" sz="7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5" descr="Extension logo 12-01"/>
          <p:cNvPicPr/>
          <p:nvPr/>
        </p:nvPicPr>
        <p:blipFill>
          <a:blip r:embed="rId1"/>
          <a:stretch/>
        </p:blipFill>
        <p:spPr>
          <a:xfrm>
            <a:off x="1676520" y="5673600"/>
            <a:ext cx="17524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3244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Shvatanje tržišta kapital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što kompanije prodaju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mogu biti izvori finansiranja kompan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dje kupiti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pratiti stan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treba investirati u a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Nadzor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Šta je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Wall Street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Picture 5" descr="bs00558a"/>
          <p:cNvPicPr/>
          <p:nvPr/>
        </p:nvPicPr>
        <p:blipFill>
          <a:blip r:embed="rId1"/>
          <a:stretch/>
        </p:blipFill>
        <p:spPr>
          <a:xfrm>
            <a:off x="1295280" y="1447920"/>
            <a:ext cx="5486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Šta je akcij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lasništvo u kompanij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cija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jene/kv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bvezi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ezn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po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žište novca i kapita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70536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Zašto kompanije emituju akcije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32767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panz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447560"/>
            <a:ext cx="60958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Finansijska tržišt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r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Counter Mark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O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nudar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Rizik i prinos – obična akcij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lding period yield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or retur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(HP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 or HP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Y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vidends + Price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chase Price 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324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Berzanski izveštaj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4" descr="e_stocktable"/>
          <p:cNvPicPr/>
          <p:nvPr/>
        </p:nvPicPr>
        <p:blipFill>
          <a:blip r:embed="rId1"/>
          <a:stretch/>
        </p:blipFill>
        <p:spPr>
          <a:xfrm>
            <a:off x="541440" y="2819520"/>
            <a:ext cx="842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ih akc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jenovno ponderisan ind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Koji su njegovi nedostaci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71600" y="1676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Dow J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Industrial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5:28Z</dcterms:created>
  <dc:creator>Ext CDFS</dc:creator>
  <dc:description/>
  <dc:language>en-US</dc:language>
  <cp:lastModifiedBy>User</cp:lastModifiedBy>
  <dcterms:modified xsi:type="dcterms:W3CDTF">2018-02-12T07:09:12Z</dcterms:modified>
  <cp:revision>25</cp:revision>
  <dc:subject/>
  <dc:title>Welcome to Wall Street</dc:title>
</cp:coreProperties>
</file>