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5AC7-A589-46B2-A6BA-C27C48E24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7431-9343-4688-9A2B-196201A8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3177-B14D-4A5C-B02F-F2555D92E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7A4C-A888-4546-B4EE-874EC8BA0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1243-D9A8-45A3-A271-25AACB0B1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4AAD-108B-4DD6-B38A-BD2368D7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0B29-4104-4755-8CF4-D3A8F1C0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EF14-BFFD-4BD2-BD83-627828AC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1AA5-0CE5-4B3B-AC85-5406D72B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D5A6-F8DF-440A-87D4-9DA9A55E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6771-8F1C-4D13-BDE9-94D46DBA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0CF1-5947-421C-9CC4-3188621C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7917-919B-4C09-B35B-154CA125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411B-FE95-430A-B777-329ADAFD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48B2-30FC-460B-B0BE-2CD64752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79E3-DB60-443F-B248-A9F86E6FB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A9ABC-2BEE-4EC3-8DDE-C80E773FC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81602-F5FD-4938-AD44-722B309FD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41165-7361-45B0-9BE0-F1FAFAEA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B59AA-4945-4D0A-9551-34C3566E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62257-1B7A-45BE-996A-94457D91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5CD81-EF74-464E-A625-3CD5EAC2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F5D0-9261-44C4-8DB2-C695C56C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3EC02-F947-44F1-A533-042A6979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8C8EB-BB92-44DB-8913-82EE11A0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9C053-0128-432A-8233-26954E10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2E073-7A69-40D2-BC99-FCBA755B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0EE9F-B3BC-47F1-9917-F006597A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4C114-D8F2-4776-A0A8-5110A092C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D4476-2537-4639-A281-C84680E6F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23203-6693-4F2F-B4DC-23F14EF19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1B926-5511-423A-B7C5-9C290CAB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B3BBA-9D33-46B9-B77D-FD10552A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A322-9794-44B6-A0E4-C37651D4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6A556-9781-435B-BD9C-BA8246E8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0E307-2D0D-4322-A050-6922319E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8D367-225F-4E0A-BBDE-B3394962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777EF-EA19-4ACD-AE4B-990BD003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29BC7-15FD-4F12-8FC8-09BABAC0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A2A6E-01C8-4F7D-B0BC-462904EB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0C5D9-B4F5-42D7-B0AA-987F0285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EC995-7B44-4D06-8A8D-53B1C51FC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1F3FC-D4AF-48FF-8410-EC382A998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6E1EF-788D-4E06-A4D6-B93B5B99D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5286-72F0-462A-B5DF-13333D7C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4F438-6EAB-4444-BAAB-DEEC67A3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90BCE-6192-42C5-8244-CC14B71C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9305B-D562-413C-8AEE-DF8BADC9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1AF19-EF37-4C6B-A083-77FB200A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64A99-21C5-43DF-8FC9-CDD24D8A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5A9D4-282C-46A8-B48A-03E48DC0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8D4D5-F661-485F-9C74-7FD98455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4B6CC-5583-4A2F-81EA-C4288641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2AEA2-D83C-43D3-893B-819DB175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48117-E394-4109-827A-282B00499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7965-DDA5-40B3-B67B-75CA1DC1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3214F-2D9D-4703-BBA4-629B2A478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9448-1E9D-4B4A-B034-A7B22D89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D279-9DB7-4179-94FC-89D1A47F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E0EA-93FE-4A87-B14B-C9ED09E4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E017-9124-4214-8255-A9F2F8BB4AFD}" type="slidenum">
              <a:rPr b="0" lang="sr-Latn-C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6D2F-D1B2-4D5E-99B2-1CCBA436BC8B}" type="slidenum">
              <a:rPr b="0" lang="sr-Latn-C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844D-C92B-4D3B-B98A-3F6136D03302}" type="slidenum">
              <a:rPr b="0" lang="sr-Latn-C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594F-1EB2-4F2B-843C-08243943FED9}" type="slidenum">
              <a:rPr b="0" lang="sr-Latn-C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427E-299A-40D8-92E5-176C1D91E32E}" type="slidenum">
              <a:rPr b="0" lang="sr-Latn-C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Trebuchet MS"/>
              </a:rPr>
              <a:t>Berzansko poslovanj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244440" y="133200"/>
            <a:ext cx="7461360" cy="6588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-360" y="1000080"/>
            <a:ext cx="835812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Finansijsko izvještavanje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 štampani mediji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nn-NO" sz="2000" spc="-1" strike="noStrike">
                <a:solidFill>
                  <a:srgbClr val="000000"/>
                </a:solidFill>
                <a:latin typeface="Trebuchet MS"/>
              </a:rPr>
              <a:t>- elektronski mediji (televizija, radio, internet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Znacaj izvjestavanj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Trebuchet MS"/>
              </a:rPr>
              <a:t>Informacij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Asimetrija informisanosti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Berzansko izvještavanje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– na trzistu novca i kapitala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rebuchet MS"/>
              </a:rPr>
              <a:t>o akcijama i obveznicam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rebuchet MS"/>
              </a:rPr>
              <a:t>o investicionim fondovim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rebuchet MS"/>
              </a:rPr>
              <a:t>opšta tržišna kretanja (indeksi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244440" y="208080"/>
            <a:ext cx="7461360" cy="65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214200" y="1143000"/>
          <a:ext cx="7929720" cy="1584360"/>
        </p:xfrm>
        <a:graphic>
          <a:graphicData uri="http://schemas.openxmlformats.org/drawingml/2006/table">
            <a:tbl>
              <a:tblPr/>
              <a:tblGrid>
                <a:gridCol w="1096920"/>
                <a:gridCol w="855720"/>
                <a:gridCol w="905040"/>
                <a:gridCol w="666720"/>
                <a:gridCol w="880920"/>
                <a:gridCol w="881280"/>
                <a:gridCol w="1141200"/>
                <a:gridCol w="825480"/>
                <a:gridCol w="676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2 wee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igh   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t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vid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Y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/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igh    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los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hg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7     37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/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vj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4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/2    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3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/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3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/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3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4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6     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pf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PC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5      22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/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5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/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 3/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sp>
        <p:nvSpPr>
          <p:cNvPr id="226" name="TextBox 4"/>
          <p:cNvSpPr/>
          <p:nvPr/>
        </p:nvSpPr>
        <p:spPr>
          <a:xfrm>
            <a:off x="357120" y="3000240"/>
            <a:ext cx="7286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Popuniti izvještaj na osnovu sledećih podata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Akcija INS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Neto dobit iznosi 245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Dividende su raspodijeljene – racio plaćanje dividendi iznosi 3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Emitovano je 10.000 ak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Akcija EPC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Poslovna dobit firme iznosi 45.000, a poreska stopa iznosi 20% (nema troškova finansiran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Kompanija emituje 6000 ak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Dividenda je raspodijeljena u razmjeri 1/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244440" y="208080"/>
            <a:ext cx="7461360" cy="65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214200" y="1714680"/>
          <a:ext cx="7929720" cy="1584000"/>
        </p:xfrm>
        <a:graphic>
          <a:graphicData uri="http://schemas.openxmlformats.org/drawingml/2006/table">
            <a:tbl>
              <a:tblPr/>
              <a:tblGrid>
                <a:gridCol w="1096920"/>
                <a:gridCol w="855720"/>
                <a:gridCol w="905040"/>
                <a:gridCol w="666720"/>
                <a:gridCol w="880920"/>
                <a:gridCol w="881280"/>
                <a:gridCol w="1141200"/>
                <a:gridCol w="825480"/>
                <a:gridCol w="676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2 wee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igh   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t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vid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Y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/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igh    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los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hg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7     37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/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vj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8,5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5,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,3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4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/2    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3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/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3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/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3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4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6     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pf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PC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0,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9,2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5      22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/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5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/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 3/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244440" y="208080"/>
            <a:ext cx="7461360" cy="657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HVALA NA PAŽNJI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6:06:55Z</dcterms:created>
  <dc:creator>Ana</dc:creator>
  <dc:description/>
  <dc:language>en-US</dc:language>
  <cp:lastModifiedBy>Ana</cp:lastModifiedBy>
  <dcterms:modified xsi:type="dcterms:W3CDTF">2010-03-23T11:26:33Z</dcterms:modified>
  <cp:revision>13</cp:revision>
  <dc:subject/>
  <dc:title>Finansijsko izvještavanje</dc:title>
</cp:coreProperties>
</file>