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BC03-4ABB-4B62-9770-4DE122CE4BFE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D0B0-9083-431E-8EC1-8F34F768A1F1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D381-1F64-4195-82C4-0C21B19F2326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C0FF-FBCE-49AB-9E8A-6BB40F87E1FB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1A41-894E-455E-90CE-52DD9CBB3629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2B13-B177-4E63-BD9D-E997466A21D4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05D5-D690-4D16-B59C-4552E9A9E9AB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FADD-3159-45C4-806E-AE6E79C26B7B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B9DC-20FE-4675-9119-A6815B6233F6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4012-9EE5-44E2-B7F6-307CB4D8E1AD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59E3-A34E-4B6A-B3FB-36245DC38860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E589-7C6A-4D81-9223-C48DC2206223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77C9-876D-4395-966E-DD5E41AC2346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784F-E34B-4669-A677-404BB80FD30B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365-1A14-4FA2-9388-611E70B4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41B-9235-4275-AFBF-7F98DD86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814-339B-492B-A7BA-4DACDDD8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5C5-CC07-48B7-90EA-F29B4159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1AE7-0502-4E76-9051-8E57D2E1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12C6-BB67-44A9-B406-49515CA1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F144-0EEA-4D2D-AF06-21660910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3978-D957-43ED-A620-23C5AF06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FBF8-2F4F-4EEF-9F8E-E82516DB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913F-7800-4B9C-805E-F6C7D9FA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83A3-FEBD-491C-B0D2-759A6C4D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F51-5B1F-4B77-B678-E38F478B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11D4-10E6-4FFC-9647-967E85E3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C93B-DB20-43F3-BCCB-FF660AFE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1C73-D305-4EB1-A242-D382BE4C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115F-813D-4644-928C-2CA5F5F7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CDA5-D8C9-438C-ABD5-BBFC9504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5CB73-D645-4721-A6EE-56C1F04E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2BFAF-E651-44D0-BC22-A0F97638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53D48-8F07-4146-9416-CD287D86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17376-7B43-44B6-9BE6-46E9C1A3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9E160-9F13-41E7-AB76-723E19C9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FD6-D23B-4B48-B605-BF77760C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7875D-87D9-460A-B6C2-753B8AE0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CE38C-BF34-40E1-A85B-25CF7EAE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913FF-094B-42EA-A8C2-13899A5C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95EF8-4D37-4E23-9F7E-C540AEFD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E1947-7409-4534-B9E5-19D35FB9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13569-A6DA-4B19-A238-2ACC0C48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61465-9B8B-4975-AA45-E71513D8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E9FD8-1287-4DA7-9D37-DA326359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0DF25-D564-4418-8ED4-7AFDD0ED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013EB-E980-4AE3-ACE5-3FC0A7A6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C91-A308-4510-8411-5255CFCB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A1028-35EE-47D7-A6C5-58CEFB87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4584F-747B-4D3D-B6F9-844BFF36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7448F-846F-4AFF-BF1E-8D38B97F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3120D-5A80-4EE8-BB60-0A8688EB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724C-94F2-41F1-A22A-49BB95CB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297EB-EB7A-4E84-951F-DEE4AC29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1D9D-3756-44E0-B75F-5E8053AB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C39A7-1769-41DD-9A58-AEF7E86E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D6372-F9D4-4F6D-903B-F82A03A0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3B5F3-946B-47FE-B98E-8CA6C8C7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A4D-5F09-4AB9-95E1-7FA87E9C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25A5D-C185-41A3-8342-A300EED1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E903A1-F8F2-4EB9-B1E7-DF24A95F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6B0D3-FC50-4CD4-8CC2-35C68494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AA895D-E65F-4170-969B-AC1780C5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71E47C-63B1-4880-905C-F76A732A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280C7-14C6-4A76-AA14-E419D2CD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7DA64-5ACE-49C7-BD88-CECAC8D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234CB-0EB8-4120-876C-835CB3A5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EFD8E-884A-4363-B98E-A536A4C0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40DF9-FF35-4209-AFC1-BA57EBA8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FD6-F6E6-4938-A41E-D94DFB60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7FA41-390F-4498-B57A-066C9D4C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81039-4835-42AA-8474-FA701688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FAA3B-64C0-4C51-87BC-7E5C752A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A7FE3C-8952-4461-9941-D543E81D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74A74-17BD-46F1-B751-9A672C06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8D324-33E5-4B94-BD30-FDF21F5E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95707C-CF45-4611-ABD4-158A0E88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C2F992-01C7-47BF-8E46-BFFA765C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BD9D2-9154-4AE4-9122-2E724989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E1A477-1DAB-4F71-BE2F-347F53E0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18D-665E-4B73-98BA-A0EEFAD4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9F8D97-1EFE-4B94-AB0A-F1110352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D0E08-B573-4072-A29B-50B4EF90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7282D-6EED-40FF-B365-6CC14547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D2026-C7D9-4AED-8C49-680BCDFF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F5D18C-60A7-44B7-B795-47E62D30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DD7AE3-C8A0-4ECE-AAC0-018CEE39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401BB-827D-4214-9B76-E055A5C5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F10D10-2C9B-4D9A-99C6-47F7CD6E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F7F5CB-737C-439E-BF6F-3BBA79B9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C798A8-50AB-42C5-A585-DFABF10C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7D2-8FC8-427C-A4C8-355DA9A3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0DA7A6-7DDF-4C4E-9F0B-429974B9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CA4A1-0D5E-45CE-B8B1-3CBCBF6B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1A6A73-60FE-47D1-965B-E3479EDA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6D61E3-1A35-489E-AC64-176BAB42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F3536-BBAD-49E7-8AF4-2D0BF82E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60E-B878-4342-A96B-56D2E52D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F5A3-636B-40DD-B405-E9D829B51B92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ABA6-3299-4C27-AD55-F8DEC874D48A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BE2A-6910-4514-ADC4-76CAF948C50D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EBE0-E949-43AD-9277-ABCA03DF8C51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4FEC-A5B5-43F2-90BF-54DAF838C35B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290C-A220-4979-BCAB-B83193F009FA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4675-6A90-4D88-8372-79E45C5F0B81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13840" y="999720"/>
            <a:ext cx="8929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inos ekvivalentan obveznici – Bond Equivalent Yield (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be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ili ASK Yield iz listing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b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 ASK Yield se v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zbog nedostatka prethodne metode i prikazuje realniji prinos investito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 pravilu je v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od prinosa dobijenog metodom bankarskog diskon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kont se stavlja u odnos sa prodajnom cijenom i svodi se na god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ji nivo uklju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vanjem svih 365 dan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fektivni god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ji prinos (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ea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koristi slozeni kamatni 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 i predstavlja najrealniji ob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, koji nije u upotrebi kod 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a prinosa zapis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5010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85840" y="1143000"/>
            <a:ext cx="8572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Tržište obveznica – tržište kapitala sa fiksnim prihodo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rednjoročne i dugoročne državne obveznice  (T-notes i T-bonds), dug državnih agencija, municipalne obveznice, hipotekarne hov i s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rednjoročne i dugoročne državne obvezn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zdaju se sa denominacijom od 1.000 dolara i više; polugodišnja isplata kupo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sr-Latn-CS" sz="1800" spc="-1" strike="noStrike">
                <a:solidFill>
                  <a:srgbClr val="000000"/>
                </a:solidFill>
                <a:latin typeface="Century Schoolbook"/>
              </a:rPr>
              <a:t>Treasury bo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14240" y="5000760"/>
          <a:ext cx="7429680" cy="1160280"/>
        </p:xfrm>
        <a:graphic>
          <a:graphicData uri="http://schemas.openxmlformats.org/drawingml/2006/table">
            <a:tbl>
              <a:tblPr/>
              <a:tblGrid>
                <a:gridCol w="1238400"/>
                <a:gridCol w="1905120"/>
                <a:gridCol w="928440"/>
                <a:gridCol w="1214640"/>
                <a:gridCol w="904680"/>
                <a:gridCol w="1238400"/>
              </a:tblGrid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urity Mo/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 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b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4: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4: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y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2: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2: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28760" y="1143000"/>
            <a:ext cx="77580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Obveznica dospijeva  za naplatu 2014. godine. Kuponski prihod iznosi 4% nominalne vrijednost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Brojevi na desnoj strani koji određuju kupovnu i prodajnu cijenu predstavljaju jedinice od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1/32. Tj.,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kupovna cijena iznosi 94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16/32 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li 94,5 prodajna cijena iznosi 94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17/32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ili 94,531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Ove cijene predstavljaju procenat nominalne vrijednosti – cijene su zapravo 945 $ i 945,31 $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romjena od +3 znači da je cijena tog dana porasla za 3/32 (procenat od nominalne vrijed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rinos do dospijeća je mjera godišnje stope prinosa za investitora koji je kupio obveznicu i drži je do dana dospijeć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14200" y="1071720"/>
            <a:ext cx="8715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ug državnih agencija (Fannie Mae, Freddie Mac, Ginnie Mae) – nizak rizik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Euroobveznic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Korporativne obveznice (opozive i konvertibil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Century Schoolbook"/>
              </a:rPr>
              <a:t>Municipalne obveznice – izdaje ih opština i oslobođene su lokalnih poreza na prihod od kamat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vije vrste: general obligation bonds (obveznice opšte obaveze) i revenue bonds (dohodovne obveznice – osigurane prihodima projekta; rizičnije u odnosu na obveznice opšte obaveze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ospijeće do 30 godin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R(1-t) – prinos na oporezive obveznice nakon plaćanja porez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Vrši se komparacija sa prinosom municipalnih obveznica i traži ekvivalentan oporezivi prinos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inosu 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obveznice izuzete od porez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R(1-t)=Rm ili R=Rm/(1-t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15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071720"/>
            <a:ext cx="797256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Ukoliko je ekvivalentni oporezivi prinos veći od stvarnog prinosa na obveznice, onda će investitor rađe držati municipalne obvezn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t= 1- (Rm/R) – što je veći odnos između Rm i R, investitor će preferirati municipalne obvezn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800" spc="-1" strike="noStrike">
                <a:solidFill>
                  <a:srgbClr val="575f6d"/>
                </a:solidFill>
                <a:latin typeface="Century Schoolbook"/>
              </a:rPr>
              <a:t> – FINANSIJSKI INSTRUMENTI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052280"/>
            <a:ext cx="8258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Materijalna vs. Finansijska aktiv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Finansijska aktiva – nematerijalizovan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Klasifikacija finansijske aktive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HOV sa fiksnim prihodom (obveznica donosi kamatnu stopu koja je fiksirana tako da bude za 2% vi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 od stope koja se pla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 na kratkoro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ne dr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vne obveznice – T bills)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Promjenljiva kamatna stopa – isplata zavisi od teku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e kamatne stope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Vezuju se za razli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ita dospije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 i prinose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r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ž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i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š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e novca se odnosi na kratkoro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č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ne HOV koje su visokolikvidne i nose nizak rizik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       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r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ž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i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š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e kapitala se ve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ž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e za dugoro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č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ne HOV – Treasury bonds, visok prinos i visok rizik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Junk obveznice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 (ispod BBB rejtinga)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814392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6044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8143920" cy="69278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980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1.   Akcije – vrijednost akcijskog kapitala se vezuje za uspjeh firme i njenu materijalnu aktivu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2.   Finansijski derivati – opcije i termniski ugovor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all opcija – pravo da se akcije kupe po utvr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noj cijeni izvr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nja (strike cijena) na dan isteka opcije ili prije tog datum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Vrijednost derivata se izvodi iz vrijednosti drugih instrumenata. Vrijednost pomenute call opcije zavisi od cijene akcije na koju se odnosi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ju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rs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Osiguranje od rizika ili prenos rizika na druge ucesnike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1214280"/>
            <a:ext cx="82580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rtfolio – skup investicija jednog investito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vije vrste odluka : o alokaciji aktive (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roke klase) i o odabiru hartija od vrijednosti (hov unutar svake klase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op – dow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zgradnja portfolija po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je alokacijom aktive (berza akcija ili t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 novc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ottom – up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rategija podrazumijeva analizu HOV u koje se ul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 u okviru pojedinih klasa (analiza cijene, prinosa, kamatnih stopa i sl.). Ova strategija usmjerava portfolio na aktivu koja je najprivl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ija za ulagan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6840" y="1214280"/>
            <a:ext cx="847260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ratkoro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 d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ne obvezni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-bills ili Treasury bi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soko likvidno t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a prodaje zapise, a investitori ih kupuju uz diskont ili popust u odnosu na navedeni iznos njihove vrijednosti na dospij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. Prilikom dospij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d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a ispl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je iznos jednak nominalnoj vrijednosti zapis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zlika izmedju kupovne cijene i kon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 vrijednosti na dospij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jeste zarada investito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zdaju se jednom nedeljno (dospijece 28, 91 ili 182 da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upuju se direktno ili putem posredni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daju se u minimalnim apoenima od 1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000 dola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501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428760" y="1285920"/>
          <a:ext cx="7929360" cy="1477800"/>
        </p:xfrm>
        <a:graphic>
          <a:graphicData uri="http://schemas.openxmlformats.org/drawingml/2006/table">
            <a:tbl>
              <a:tblPr/>
              <a:tblGrid>
                <a:gridCol w="1322280"/>
                <a:gridCol w="1606680"/>
                <a:gridCol w="1036440"/>
                <a:gridCol w="1320840"/>
                <a:gridCol w="1322280"/>
                <a:gridCol w="13208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ys to 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 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p 02 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p 09 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v 04 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9001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357120" y="92880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asury b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6"/>
          <p:cNvSpPr/>
          <p:nvPr/>
        </p:nvSpPr>
        <p:spPr>
          <a:xfrm>
            <a:off x="357120" y="292896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mjesto cijene zapisa, listing prikazuje prinose zasnovane na tim cijen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ajna cijena jeste cijena po kojoj diler prodaje, a investitor kup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Kupovna cijena jeste cijena po kojoj diler kupuje, a investitor prod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aspon izmedju kupovne i prodajne cijene je zarada dil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imjena </a:t>
            </a:r>
            <a:r>
              <a:rPr b="0" i="1" lang="en-US" sz="1800" spc="-1" strike="noStrike">
                <a:solidFill>
                  <a:srgbClr val="ff0000"/>
                </a:solidFill>
                <a:latin typeface="Century Schoolbook"/>
              </a:rPr>
              <a:t>metode bankarskog diskonta (Rbd – Discount Banking return)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i obra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u prinosa na prodajnu ili kupovnu cijenu zapisa. Diskont na nominalnu vrijednost se ra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a na godi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jem nivou na bazi od 360 dana i potom prikazuje kao procenat nominalne vrijed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edostaci metode bankarskog disko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Koristi prost kamatni ra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 i 360 dana umje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365 d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avlja u odnos diskont (zaradu) sa nominalnom vrijedno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šć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, umjesto sa kupovnom cijenom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4:18:04Z</dcterms:created>
  <dc:creator>Ana</dc:creator>
  <dc:description/>
  <dc:language>en-US</dc:language>
  <cp:lastModifiedBy>User</cp:lastModifiedBy>
  <dcterms:modified xsi:type="dcterms:W3CDTF">2017-03-14T12:56:38Z</dcterms:modified>
  <cp:revision>32</cp:revision>
  <dc:subject/>
  <dc:title>Slide 1</dc:title>
</cp:coreProperties>
</file>