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025B-99CC-4BE9-95A9-D1601AD7C87F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6AD-176B-4F47-A818-645A4698505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64B-C59C-49A5-9F1A-681C2EDAEAB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1CB-34B1-4AF3-990C-376044AE4F8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F77-1697-4322-8197-2CEC5BA9B88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F03-A0B3-4B9C-A549-D8CF0FC0A34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8E1-68CD-49F8-B5B6-D0EC59798FE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2B51-FBBA-4644-AADC-493781B2C90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5B1-B64B-4AC7-B351-51931E64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0A0-1B93-4ACC-B3C2-C539CD4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B32-51EF-426C-A139-94BA51FE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C5F-A1B7-492F-82C2-844DEBD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5E5-0D9D-4CA0-94DF-16D4E7CA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09E-FD3F-49E7-9E92-77FFC31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F3D-727E-4E57-B99D-08DCB823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4199-CBE6-4C3F-86A5-6AF78C34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FE80-E24C-41A5-98F2-62F5850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A9E3-A8A1-4C15-BEF0-9762FFA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A29-4985-43B7-85A3-8055578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7FD-4E0B-4FCD-AC84-B1F7D99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A23D-4B20-4A72-BE34-28A436E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D10-7ABB-4ABE-8667-C30A9B4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5054-1BBB-4A03-A5EE-1F2B3CB1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436-E979-426E-8E67-D5181851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ED3-F6E9-41DC-9991-5813E991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529B4-29F6-4EA2-8E05-ED7E807D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F6F53-AE7A-4AD9-83EF-F53616A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4803B-C259-4495-BA0D-0825D36D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552AB-C075-4991-9DC3-ADBDE3C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1B53-774E-44E5-98A7-4279F0F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8E8-C639-4E94-98F9-2ADFD3FB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21CCE-05AF-4BED-B03D-8F6AF12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1872D-4624-4169-8720-0D9AE9C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E562D-B0D2-4688-8964-70FE547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1D626-2BB5-4ECD-97E5-9D718DF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24DC0-C349-4F44-85CC-E00A2EB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7FA00-91D3-4A76-B1D5-9B39966C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94DA8-FC8C-419A-89F9-014CDD87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A2C5-F21A-4E37-82DE-AEC240A8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85D3-20A0-47CB-BD81-5CFFE08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0DAC-20E0-4D2A-BEED-10872D97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F1D-5A1C-42B9-B0F7-9E8C3769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303F-C391-428D-BDCA-30EDADB2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3292-8FAC-44C6-84BD-270CC976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89BD-91B4-4F98-A278-CC9D8BED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ED39-F2E1-4A03-9024-74241E2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2340-07D6-43DF-BA4D-7B6EDBD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B256-E30D-4A54-8C18-402AFB8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69CD-1BE7-4F1A-9E2E-647131B1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9636-3D05-4F28-A56C-0AA92603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FF35-8A24-4A18-BDAA-D02A53E7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40E5B-B39B-403C-ACBD-C4F7B6C8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349-FDCA-44C4-B477-A88B587B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04570-00CE-4998-AAD8-7ECC4B9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D0659-BC60-4095-B8C9-5EB025A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176BD-6DAD-4A10-A5A7-B59641B4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F4052-0F9B-4E6D-9B49-6F97FA1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CB656-1EA3-432B-BCD4-A5664994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BADE7-0C14-4BDA-90CA-B2C89D3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2CDE1-94D3-4CF1-B003-EDBAE42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23B88-85F7-426F-A9C3-8E371F3D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3C9F0-B6A7-4CE0-91DC-09241D2B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CE082-B443-4788-AF3B-E81169AB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DEE-3C42-4333-AE35-CADACC8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1AC8B-ED0C-445C-974B-B8006DD3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BD47A-7CCE-4670-B4B2-028097CA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AA18F-FDC2-4B4F-9B67-AD28B890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F2267-9AF2-449D-8662-21416164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FF21A-D62A-498B-8A83-82584EF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46C0F-C41E-4B97-ADFE-37FE15AD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8911B-9BA6-454F-9DBC-3F2CEE42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59C96-98C6-4A74-9411-70CE85A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A377F-1AE4-489A-96ED-218A175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DC11C-EAF3-46F0-BAE7-937C465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F1B-72F8-42AB-86F8-4E7669A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EC815-3657-4CAD-B4B3-2E181B9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E59AB-E14A-4E26-9E7C-C478084F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C9170-756F-476A-B809-BE1CFC9C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4D19E-5A8E-4E2F-90FE-FBA28B9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712C4-F5B4-43DE-8E64-2C35975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2E395-4499-47A5-B100-EB868EEC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A695A-CFA2-467E-8B61-F5D9330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2ECDC-9476-4994-819E-5FA34616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DC429-9390-4717-B615-DB821AB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EDB9C-1F22-4848-BF77-B7E69978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5C0-BCAE-4B75-896E-A7769E7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EEE4E-F866-4FAD-A49C-4EC10A4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53027-C7D5-4C57-B3E5-4BDA472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D9DE7-EE59-4B84-90CA-C30215F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B8717-B4CE-44B4-AD7D-630A6EEC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8EAC0-FE75-47F5-A4A2-619CB51E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22E-C8BB-4DCB-8491-921C496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280-C171-4013-BD48-C250C112738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3F66-76B7-4784-96B5-5F1AA59CBF36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99A-CA07-42A0-B195-9B26823764A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A9D-E16D-4BC0-ABE1-6330D1AB6C2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F8C-AFB6-4BFE-9AC9-B32623E207C5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762-2260-4D8F-8212-690F486C014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5087-1F3A-46ED-9A16-15D634D1BD16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nance.yahoo.com/q" TargetMode="External"/><Relationship Id="rId2" Type="http://schemas.openxmlformats.org/officeDocument/2006/relationships/hyperlink" Target="http://www.finance.yahoo.com/q" TargetMode="External"/><Relationship Id="rId3" Type="http://schemas.openxmlformats.org/officeDocument/2006/relationships/hyperlink" Target="http://www.stockcharts.com/" TargetMode="External"/><Relationship Id="rId4" Type="http://schemas.openxmlformats.org/officeDocument/2006/relationships/hyperlink" Target="http://www.nasdaq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72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marno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(nisu dovoljno poznata široj javnosti; pokrovitelj prve emisije investiciona bank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o tržište – 2 važne funkcij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čini finansijske instrumente likvidni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formiranje cijene na tržištu (kupovina na primarnom tržištu zavisi od cijene na sekundarno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a tržišta su organizovana na 2 način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Berze (Njujorška, Čikaška robna berza – pšenica, kukuruz, srebro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Vanberzansko tržište – aktivno poslovanje dilera sa različitih lokacija; trgovina “preko šaltera”; trgovina putem kompjuter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obveznica američke vlade koje ima veći obim trgovine od Njujorške berza, organizovano je kao vanberzansko tržište. (na OTC se trguje i prenosivim depozitnim certifikatima, bankarskim akceptima, devizama, derivatima i sl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Nasdaq – National Association of Securities Dealers Automated Quota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Users\Ana\Pictures\200px-NASDAQ.jpg"/>
          <p:cNvPicPr/>
          <p:nvPr/>
        </p:nvPicPr>
        <p:blipFill>
          <a:blip r:embed="rId1"/>
          <a:stretch/>
        </p:blipFill>
        <p:spPr>
          <a:xfrm>
            <a:off x="214200" y="1143000"/>
            <a:ext cx="3691080" cy="5357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1143000"/>
            <a:ext cx="4786200" cy="54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Elektronsko tržite a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Osnovan 1971 od strane N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Posjeduje Nordic SE i 1/3 Dubai SE, od 2007 i Philadelphia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Druga po veličini u Amer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87 usled krize uvodi se SOES – Small Order Execu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98 Nasdaq-Amex Marke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3 nivoa kotira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1 pokazuje spread između  najviše kupovne i najniže prodajne cijene (inside qu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2 pokazuje sve javne kotacije, informacije o kupovnoj i prodajnoj cijeni market maker-a, izvršene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3 koriste market maker-i da bi unosili cijene i izršavali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Nasdaq composite (od 2009 preko 3000 komapnija); Nasdaq 100 (nefinansijske institucije; svjetske kompanije; razlika u odnosu na 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&amp;P500 i DJIA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žište novca  (veći obim trgovine, likvidnost, sigurnija investicija, manja fluktuacija cijena kratkoročnih HOV u odnosu na dugoročne HOV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žište kapital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Internacionalizacija finansijskih tržiš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dicionalni instrumenti na međunarodnom tržištu obveznica su strane obveznice – prodaju se u stranoj državi i denominovane su u valuti te držav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eliki dio željezničkih pruga u SAD izgrađenih u XIX vijeku finansiran je prodajom stranih obveznica u Engleskoj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-obveznica – denominovana u valuti koja nije valuta države u kojoj je prodata. Tržište EO raste velikom brzinom. (obveznica denominovana u dolarima, a prodata u Londonu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 – valute (americki dolari deponovani u stranim bankama van SAD ili u svojim bankama u inostranstvu. Američke banke pozajmljuju euro-dolarske depozite i oni čine značajan izvor finansiran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3000"/>
            <a:ext cx="8043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</a:t>
            </a: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finance.yahoo.com/q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stockcharts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nasdaq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nsakcioni troškovi posredovanja (posrednici mogu smanjiti te troškove i obezbijediti likvidne usluge – olakšati transakcij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smanjuju rizik investitora (diversifikaci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Asimetričnost informacija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egativna selekcija – može nastati prije transakcije (zbog visokorizičnih klijenata svi se isključuju sa tržišt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ralni hazard – može nastati nakon transakcij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umanjuju rizik i mogu otkloniti negativnu selekciju ili moralni hazar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00040" y="128592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egulativa mora smanjiti probleme negativne selekcije i moralnog hazarda zbog optimalnog funkcionisanja na tržiš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kon sloma i širenja kriminala 1929 godine, 1933 se donosi Zakon o HOV i osniva Komisija za HO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htijeva se transparentnost, zabranjuje se trgovina na bazi insajd informacija – cilj zaštit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simetrične informacije mogu izazvati “finansijsku paniku” – povlačenje sredstava kako iz sigurnih, tako i iz nesigurnih institucija (posrednici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misija za HOV nadgleda rad finansijskih institu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Zašto obična akcija IBM predstavlja aktivu za vlasnika, a pasivu kompaniji IBM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žete kupiti automobil danas za 5000$ i on će vam donijeti dodatnih 10000$ prihoda, jer ćete pomoću njega raditi kao trgovački putnik. Da li treba da uzmete kredit zbog kupovine automobila od Mark-a (Loan Shark), uz 90% k.s., ukoliko vam niko drugi ne odobrava kredit? Da li je moguće legalizovati davanje kredita uz visoke kamatne stope? Kako takva pojava utiče na finansijska tržišt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ta biste radije držali – obveznice ili akcije kompanije za koju se sumnja da će bankrotirati za godinu dan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avedite slučaj negative selekcije u kojem ste se Vi bili učesn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ako podjela rizika doprinosi i finansijskim posrednicima i privatnim investitorim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a li je moguće potpuno ukloniti asimetriju u informisanju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2-19T13:33:04Z</dcterms:modified>
  <cp:revision>12</cp:revision>
  <dc:subject/>
  <dc:title>Slide 1</dc:title>
</cp:coreProperties>
</file>