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D84-F304-4E4C-A673-B59C12CB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7D3D-4635-40B1-A898-77E0B07C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1258-AAC5-4CD8-8767-40C95FDC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8CB9-61D5-4AB4-8D89-3F39C1B5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9EA7-099A-43C9-8332-0E872D75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4CB4-BC6B-44E8-8C5E-BADDD190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50F7-6003-441A-944D-FEF7EE76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B730-A812-480A-97A5-37CDD083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86E3-243D-49B6-A622-DBC946E2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E280-9F93-4968-AB3B-00898592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FAC7-E9F3-4039-AC3C-2E39CFDC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74F-5B93-4D99-9ED6-A6EFF356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A149-8399-4BBF-BB2E-913E40CC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638D-7346-4DEF-A07D-AE4B8D23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C629-0DD4-4495-A5F9-26095D9D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2EFC-4BDE-4834-884E-C4B0F23E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89F3-E48E-4528-AA95-9D80D19A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50B35-EC23-40F9-BF1D-9685F7D7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623F0-D24B-4A83-8963-CF23FA91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4DE91-62E7-4489-9BF6-1BDE5521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9BA0D-29B0-4A5B-9BB1-845B9292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98419-EFEE-4968-A6E1-D8A8919E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D5C5-E9DB-40F4-B7F1-85CEDF2E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17FC9-E397-46B5-A50E-981338F3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41C6F-6954-4235-B4DD-D94C25EF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2348E-4567-4C82-A238-731B41DF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DDB57-518A-4AD4-82F2-2C941FB6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74A3F-8CCC-4C8F-B2A0-176BEE39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3DA32-2E9C-45CD-B10B-54CB7D44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3DC79-0238-41B7-9EE3-C60B5AEF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D1516-FA49-4711-8215-5847CD5A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B7DD1-0B66-4789-9224-2B7352D5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156AB-5F14-4A47-B932-07E37CAC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D881-9F89-4ACD-82D2-E73D6078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53068-B4DD-400E-9B1B-E6C5F2CB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EDBAE-2B99-43F3-B6D7-6249B38B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CA737-F764-4390-AA60-A1552327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3932C-5218-4BA2-A218-89DE3EAA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03327-7A6F-4157-8F9B-D16DE342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0FB94-A0F4-4305-B5CC-AF193C17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9A002-2EEF-4BE9-A6A5-95344C1B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E141D-C06D-4C23-956C-7A85415C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947AC-DC05-4A21-BF01-F6C70FE9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163CF-EC02-4252-8720-134B7CC9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87E3-BA1E-4574-869B-4608A596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438B3-4FF5-487F-BCFE-215FB3B1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D0FC5-DDFD-4E99-B588-C4778A9E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AFBAA-876A-499B-943F-EE9D1ECD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B54E7-0F43-47CC-AAB2-F4D5DB8E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EB100-95BE-4DDC-854B-94B4AEFD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34789-35C2-4782-A5F7-206106B9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7BA48-D55A-4CF3-A4AD-F8EFC7EF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7B1AE-8C99-4DCE-9718-2E36A684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C554B-9667-4F52-BD41-A6C6C9C1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43917-DE4C-470C-A468-50681C6B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4C5-1329-4F01-BB91-77C9AB71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912C2-099B-4D18-B53B-D53083C3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0A86-266F-42D5-A819-AA3312CC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DC61-DBD9-4F4E-8E8F-1A366566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25DE-404A-47D1-B322-6D046B48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605F-51F7-4FEA-8117-5847F289EBD7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36F4-099D-4202-931D-652A5B7C8760}" type="slidenum">
              <a:rPr b="0" lang="sr-Latn-C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2F1D-8D24-483A-9262-19ED6B66AD84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5906-E0FC-452D-AA4B-3F5C26A142FD}" type="slidenum">
              <a:rPr b="0" lang="sr-Latn-C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605A-5D0C-42ED-87E2-0D88DBE53542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rebuchet MS"/>
              </a:rPr>
              <a:t>Berzansko poslovanj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44440" y="133200"/>
            <a:ext cx="7461360" cy="658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-360" y="1000080"/>
            <a:ext cx="835812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Finansijsko izvještavanj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štampani medij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nn-NO" sz="2000" spc="-1" strike="noStrike">
                <a:solidFill>
                  <a:srgbClr val="000000"/>
                </a:solidFill>
                <a:latin typeface="Trebuchet MS"/>
              </a:rPr>
              <a:t>- elektronski mediji (televizija, radio, internet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Znacaj izvjestavanj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rebuchet MS"/>
              </a:rPr>
              <a:t>Informacij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Asimetrija informisanost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Berzansko izvještavanj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– na trzistu novca i kapitala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rebuchet MS"/>
              </a:rPr>
              <a:t>o akcijama i obveznicam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rebuchet MS"/>
              </a:rPr>
              <a:t>o investicionim fondovim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rebuchet MS"/>
              </a:rPr>
              <a:t>opšta tržišna kretanja (indeksi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244440" y="208080"/>
            <a:ext cx="7461360" cy="65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214200" y="1143000"/>
          <a:ext cx="7929720" cy="1584360"/>
        </p:xfrm>
        <a:graphic>
          <a:graphicData uri="http://schemas.openxmlformats.org/drawingml/2006/table">
            <a:tbl>
              <a:tblPr/>
              <a:tblGrid>
                <a:gridCol w="1096920"/>
                <a:gridCol w="855720"/>
                <a:gridCol w="905040"/>
                <a:gridCol w="666720"/>
                <a:gridCol w="880920"/>
                <a:gridCol w="881280"/>
                <a:gridCol w="1141200"/>
                <a:gridCol w="825480"/>
                <a:gridCol w="67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2 wee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   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vid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/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    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lo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g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7     37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vj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4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2   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6    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pf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P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5      22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5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 3/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226" name="TextBox 4"/>
          <p:cNvSpPr/>
          <p:nvPr/>
        </p:nvSpPr>
        <p:spPr>
          <a:xfrm>
            <a:off x="357120" y="3000240"/>
            <a:ext cx="728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Popuniti izvještaj na osnovu sledećih podata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Akcija INS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Neto dobit iznosi 24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Dividende su raspodijeljene – racio plaćanje dividendi iznosi 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Emitovano je 10.000 a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Akcija EPC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Poslovna dobit firme iznosi 45.000, a poreska stopa iznosi 20% (nema troškova finansiran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Kompanija emituje 6000 a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Dividenda je raspodijeljena u razmjeri 1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44440" y="208080"/>
            <a:ext cx="7461360" cy="65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214200" y="1714680"/>
          <a:ext cx="7929720" cy="1584000"/>
        </p:xfrm>
        <a:graphic>
          <a:graphicData uri="http://schemas.openxmlformats.org/drawingml/2006/table">
            <a:tbl>
              <a:tblPr/>
              <a:tblGrid>
                <a:gridCol w="1096920"/>
                <a:gridCol w="855720"/>
                <a:gridCol w="905040"/>
                <a:gridCol w="666720"/>
                <a:gridCol w="880920"/>
                <a:gridCol w="881280"/>
                <a:gridCol w="1141200"/>
                <a:gridCol w="825480"/>
                <a:gridCol w="67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2 wee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   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vid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/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    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lo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g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7     37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vj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,5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5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,3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4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2   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6    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pf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P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9,2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5      22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5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 3/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44440" y="208080"/>
            <a:ext cx="7461360" cy="657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HVALA NA PAŽNJ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6:06:55Z</dcterms:created>
  <dc:creator>Ana</dc:creator>
  <dc:description/>
  <dc:language>en-US</dc:language>
  <cp:lastModifiedBy>Ana</cp:lastModifiedBy>
  <dcterms:modified xsi:type="dcterms:W3CDTF">2010-03-23T11:26:33Z</dcterms:modified>
  <cp:revision>13</cp:revision>
  <dc:subject/>
  <dc:title>Finansijsko izvještavanje</dc:title>
</cp:coreProperties>
</file>