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D47A-7F1A-483B-9376-21BAF0F11365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CC21-8E34-4DEE-8F45-FBDD9FD9CDC7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3DDD-3AD2-4828-98F1-CF7054CB5AA3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6185-73C3-40D4-9408-62F69D4BF057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3C06-B4A0-4D7E-B104-49BEC2B32DE4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96E2-E1FA-4113-A9B0-3D1A88880D30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0BE9-C0F8-407E-BC97-99B5B15D084A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2850-AB37-4DA5-977B-01D594B87162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5E9-C6D8-40CB-9462-DF5EBE74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517-6349-44AC-A789-6FBDD5D4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0FB-5D75-44D9-BBD6-D8946EF8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945-50A0-4577-9E9B-9B612E52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C7FF-F9D4-40ED-BB4D-3B1B509A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1EFD-244D-4838-9F7E-26D7D978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9A6E-E3C4-4299-A6AF-5ED8FDD8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D17D-BAA3-471D-A3C7-92DB73B8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61FE-4174-432F-AF5D-6C0FE1EA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3C81-4E0D-4D2A-8AF7-91B268B1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D7FE-C7E9-4B9F-8D5A-B6EBA229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3BA-ECD5-4B2D-9DA2-7FA531B9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59A2-2879-430C-947D-C9A75AD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9EB9-976E-4236-BB69-D1CCEB21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314E-8276-421E-B789-49A2C8DF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63B4-8F86-4E03-9FC5-EE438F3F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C858-8E55-4897-88B7-04E2C36F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C7779-418B-4ECF-87AC-E2D74726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07AD5-9ECB-4A84-A14A-475E08AA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653DC-4B09-43E3-BCB6-D7030629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FBB2D-BD4E-4D99-AB61-2E528832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27BCB-3EEC-4428-80B5-DC878506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A1A-67B5-4221-A533-2A604E42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EFAF6-1116-4907-A477-3183242F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E1866-F21B-488E-A95B-9629E354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003CD-0D58-4DD2-BC43-A93FF275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86847-4B02-4AEF-8796-3B532E2C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214DB-D30F-4D2A-A8AD-F3D1348C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C4F9C-0C2C-4FAC-8378-B8023352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90858-9F87-4A8C-B094-6C7CE1F0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29302-3039-4870-908B-91512170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9B105-348B-4700-BE57-FC94F023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F1C3-3C96-4F57-8B0C-50DCB5AA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25D-A9B4-4EAC-8082-5E6F98B3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DA9EB-7FBB-45C1-9B5F-4AA873A5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C91D9-6E66-475B-948E-AAFD0140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1F74B-23A9-4807-A00C-EFEF0270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BAA82-8F5A-4AB9-8273-06E70FB5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AC655-DAC9-4ECB-A021-971B3648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2F736-B298-4720-8E99-5D6873B8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0F3B9-B10D-443F-95A5-83E2312C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8064-5272-433F-8E28-6CC651AC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A5131-9349-43F9-95BC-088330E6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2F03D0-5312-4AF0-AE7A-4AC6C161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597-9A29-4192-B7F4-445DB851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BA7DC-B8A7-4C8C-A252-721E2075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06A73-5E85-42F5-B42E-2B74A06B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5A760-6713-489E-901D-EA02C807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132B01-5B15-4C33-B04A-ABE096B0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29DFA8-F915-4F46-8187-6116E353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56E3A-5D1B-4834-95D8-723C3703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C549C-6787-482F-88DF-8CF6F2D4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8F8A5-3828-4B9F-B96D-CFBCCE47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991E01-C54F-423C-AE07-1B5131AA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F68675-6008-435F-BF19-B3242894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377-2CD6-4CF1-A512-5DF993BB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D5EE7-CD7F-4F88-BC2F-4F527814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EA331-CB50-4154-98A1-B57EE2A8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28F59E-8EEB-48EA-B360-86267447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E369F1-D7B1-49A6-81D1-D665E77D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13A22D-CBB2-4CAB-AE56-A5448A3D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83419-0DC4-4A0E-917E-3C45A268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3FC1C-9DE5-4F83-B4DA-DEB1FB6D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1C4DF-682A-40DF-A91D-3BDD5C02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407EE-42CE-4ABF-8992-B7BBF9DF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ECBC9-15ED-4C32-967D-6AF1A9F4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7A4-DFDA-4CD1-BD3B-BEB2235E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59563-E5A6-4FBC-95E4-8CE1C447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3CCD8B-A139-4CFB-A07E-44A140C7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D732D-F13D-4358-B7DF-F407C7D0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D92CE-C067-4864-8741-D7EF4657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F0A164-C934-4A46-8540-1B4C2B10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6B1C8-4F9F-4C87-9BFE-9DB964B6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1EF56-B30C-4FAB-BCDD-C0EB07A7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1A875-BAED-4153-A979-F880087C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E7A5DE-14E3-4385-8F46-E9EB3E28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F2712-62D7-4B09-8AA5-383AD690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8F6-052E-4CE1-ADD3-69FD6DA2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1CAE7-301E-46F5-9585-A224B2BE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E77B54-1836-4CB6-8047-550BE38A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D618F6-6779-4B09-AECF-15509983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779E52-BBD2-4E36-8D8D-99E81687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36AA75-6322-4AFA-BB9A-71AF566D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58A-3993-41DE-A98C-B459BF2A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6291-937D-434B-B86F-95F2E626E84E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AC38-9CA9-4B51-935A-D7BDECA3891F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CFE1-62F9-4F3C-A80D-6BC54601BD9D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EDD0-6F57-4F2D-AC62-519B9C57594D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719D-305A-4C12-A025-C4BD7A688CA4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A0AE-5508-49BC-A2A2-921D9376AD97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9C5E-F197-485E-A431-2BCCA78AA52C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nance.yahoo.com/q" TargetMode="External"/><Relationship Id="rId2" Type="http://schemas.openxmlformats.org/officeDocument/2006/relationships/hyperlink" Target="http://www.finance.yahoo.com/q" TargetMode="External"/><Relationship Id="rId3" Type="http://schemas.openxmlformats.org/officeDocument/2006/relationships/hyperlink" Target="http://www.stockcharts.com/" TargetMode="External"/><Relationship Id="rId4" Type="http://schemas.openxmlformats.org/officeDocument/2006/relationships/hyperlink" Target="http://www.nasdaq.com/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5723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258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imarno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tržište (nisu dovoljno poznata široj javnosti; pokrovitelj prve emisije investiciona banka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Sekundarno tržište – 2 važne funkcij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1. čini finansijske instrumente likvidni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2. formiranje cijene na tržištu (kupovina na primarnom tržištu zavisi od cijene na sekundarnom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Sekundarna tržišta su organizovana na 2 način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1. Berze (Njujorška, Čikaška robna berza – pšenica, kukuruz, srebro..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2. Vanberzansko tržište – aktivno poslovanje dilera sa različitih lokacija; trgovina “preko šaltera”; trgovina putem kompjuter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Tržište obveznica američke vlade koje ima veći obim trgovine od Njujorške berza, organizovano je kao vanberzansko tržište. (na OTC se trguje i prenosivim depozitnim certifikatima, bankarskim akceptima, devizama, derivatima i sl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Nasdaq – National Association of Securities Dealers Automated Quota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572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C:\Users\Ana\Pictures\200px-NASDAQ.jpg"/>
          <p:cNvPicPr/>
          <p:nvPr/>
        </p:nvPicPr>
        <p:blipFill>
          <a:blip r:embed="rId1"/>
          <a:stretch/>
        </p:blipFill>
        <p:spPr>
          <a:xfrm>
            <a:off x="214200" y="1143000"/>
            <a:ext cx="3691080" cy="53578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"/>
          <p:cNvSpPr/>
          <p:nvPr/>
        </p:nvSpPr>
        <p:spPr>
          <a:xfrm>
            <a:off x="3929040" y="1143000"/>
            <a:ext cx="4786200" cy="544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Elektronsko tržite ak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Osnovan 1971 od strane NA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Posjeduje Nordic SE i 1/3 Dubai SE, od 2007 i Philadelphia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Druga po veličini u Amer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1987 usled krize uvodi se SOES – Small Order Execut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1998 Nasdaq-Amex Market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3 nivoa kotira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- nivo 1 pokazuje spread između  najviše kupovne i najniže prodajne cijene (inside quo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- nivo 2 pokazuje sve javne kotacije, informacije o kupovnoj i prodajnoj cijeni market maker-a, izvršene nal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- nivo 3 koriste market maker-i da bi unosili cijene i izršavali nal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Nasdaq composite (od 2009 preko 3000 komapnija); Nasdaq 100 (nefinansijske institucije; svjetske kompanije; razlika u odnosu na S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&amp;P500 i DJIA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1214280"/>
            <a:ext cx="82580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r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žište novca  (veći obim trgovine, likvidnost, sigurnija investicija, manja fluktuacija cijena kratkoročnih HOV u odnosu na dugoročne HOV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Tržište kapital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Internacionalizacija finansijskih tržišt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Tradicionalni instrumenti na međunarodnom tržištu obveznica su strane obveznice – prodaju se u stranoj državi i denominovane su u valuti te držav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Veliki dio željezničkih pruga u SAD izgrađenih u XIX vijeku finansiran je prodajom stranih obveznica u Engleskoj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Euro-obveznica – denominovana u valuti koja nije valuta države u kojoj je prodata. Tržište EO raste velikom brzinom. (obveznica denominovana u dolarima, a prodata u Londonu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Euro – valute (americki dolari deponovani u stranim bankama van SAD ili u svojim bankama u inostranstvu. Američke banke pozajmljuju euro-dolarske depozite i oni čine značajan izvor finansiranja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143000"/>
            <a:ext cx="8043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</a:t>
            </a:r>
            <a:r>
              <a:rPr b="0" lang="sr-Latn-CS" sz="22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finance.yahoo.com/q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www.stockcharts.co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www.nasdaq.co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Transakcioni troškovi posredovanja (posrednici mogu smanjiti te troškove i obezbijediti likvidne usluge – olakšati transakcije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Finansijski posrednici smanjuju rizik investitora (diversifikacija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Asimetričnost informacijam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Negativna selekcija – može nastati prije transakcije (zbog visokorizičnih klijenata svi se isključuju sa tržišt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Moralni hazard – može nastati nakon transakcij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Finansijski posrednici umanjuju rizik i mogu otkloniti negativnu selekciju ili moralni hazard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00040" y="1285920"/>
            <a:ext cx="8215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Regulativa mora smanjiti probleme negativne selekcije i moralnog hazarda zbog optimalnog funkcionisanja na tržiš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Nakon sloma i širenja kriminala 1929 godine, 1933 se donosi Zakon o HOV i osniva Komisija za HOV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Zahtijeva se transparentnost, zabranjuje se trgovina na bazi insajd informacija – cilj zaštita investito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Asimetrične informacije mogu izazvati “finansijsku paniku” – povlačenje sredstava kako iz sigurnih, tako i iz nesigurnih institucija (posrednici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Komisija za HOV nadgleda rad finansijskih instituci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00040" y="1214280"/>
            <a:ext cx="82152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Zašto obična akcija IBM predstavlja aktivu za vlasnika, a pasivu kompaniji IBM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Možete kupiti automobil danas za 5000$ i on će vam donijeti dodatnih 10000$ prihoda, jer ćete pomoću njega raditi kao trgovački putnik. Da li treba da uzmete kredit zbog kupovine automobila od Mark-a (Loan Shark), uz 90% k.s., ukoliko vam niko drugi ne odobrava kredit? Da li je moguće legalizovati davanje kredita uz visoke kamatne stope? Kako takva pojava utiče na finansijska tržišta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Šta biste radije držali – obveznice ili akcije kompanije za koju se sumnja da će bankrotirati za godinu dana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Navedite slučaj negative selekcije u kojem ste se Vi bili učesnik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Kako podjela rizika doprinosi i finansijskim posrednicima i privatnim investitorima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a li je moguće potpuno ukloniti asimetriju u informisanju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4:18:04Z</dcterms:created>
  <dc:creator>Ana</dc:creator>
  <dc:description/>
  <dc:language>en-US</dc:language>
  <cp:lastModifiedBy>User</cp:lastModifiedBy>
  <dcterms:modified xsi:type="dcterms:W3CDTF">2017-02-19T13:33:04Z</dcterms:modified>
  <cp:revision>12</cp:revision>
  <dc:subject/>
  <dc:title>Slide 1</dc:title>
</cp:coreProperties>
</file>