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43C-72B5-4496-A067-4FD49A1E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57D-8B1F-4F22-9BBA-54D3113C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614-5AAD-406F-9EB8-E137B819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15D-5025-4AFB-9101-F4DA22F4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DC90-2263-4BB7-99CA-D3730E18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13C4-F82C-4A66-AD90-2618A6F6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79B0-E009-4FEE-9B74-5BFC759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B556-0853-4D8C-985A-9AA68339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63F8-643D-451F-A157-9381EF5B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C732-E291-4509-98C8-738EC435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0FA5-BD8E-48D6-810F-CCE1926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A73-B590-483B-894D-F25F6C7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92FE-D2CD-4B2A-87F5-F6CF577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8EB9-BA26-480E-A73D-21F4EB2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6F41-D9B1-4CF8-A30A-7C638306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E2E-F1BA-4BA2-8C87-944031B7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1143-7AB9-4E1B-9010-12359F09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DE99-DD67-43E4-BB24-89FCDC22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D0F4-324F-4C2F-8B6A-77168225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84507-B851-4B47-9C48-9D8CA76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DB46-8406-4F23-9E6D-51E7C6C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38F2-CEBB-40B6-8705-E6F76FC5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30B-EDE7-494D-BF2F-FBBED02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7504-4B60-4CE7-B055-9DFAE272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BBD9-9827-4B24-8DC5-80708E8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642B-8AB0-4184-AE29-83EF9EA2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0A87-886A-41CC-B840-630A95B5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21DB-69F1-44B8-9525-B452F25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8C50-AF41-47D1-9C23-C1582289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8E69-58AF-49D2-A5F9-B0FA19D3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A5D82-CB8C-4CEE-B70A-A25543E2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D5B5-10A1-4E2A-8102-E4BA1679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A038-5F8C-492C-80BE-B8F1605E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501-636F-491D-A88C-CD273A71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6454-E4D2-499A-935C-FCD3D18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20B5-4FEE-42FA-B67C-48FACB57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6227-BCA3-4F64-8E29-7E383BD5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43E7-D072-4C6E-85C5-2804670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C2AF-3645-4C09-91C8-89A6CC83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8726-50EF-48C0-AEE6-606116A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A0A6-6119-4FD8-A21B-74A37E20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39D5-58E5-41C2-B1F5-E28569FA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94EBE-DF7B-4C46-9411-C9FCE6F6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F003-63B0-470E-812E-425B1CD3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9EE-78A1-4811-A77D-DB9B4C6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3F78-3314-4704-8F66-96902A3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148A-C1A9-446A-824C-7811C89F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59F54-9CE6-4406-83D9-868208EF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288D5-8000-45EE-BA4C-A23CAC31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2568-5B74-49E0-8C83-1EFC7C9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29F0-BD6E-4E9D-BB69-CDCF1F9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5B4C2-BD2E-448A-A77F-17C51F1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C9F96-2732-4D04-B822-DCF25554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285A1-3DD9-40E2-ADD2-D606F1B4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951E9-92A6-42EB-B354-3401B5ED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D78-4BDA-4F8F-BEBF-8355907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5D08-987B-4FD0-9E35-9C73D759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B7E-CA19-4F8F-A074-1748B564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017-A8C0-4168-94B9-25A94C55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440-BBB0-4446-BFBE-D0428B97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5732-F258-41DD-9BD4-E0BC7ABC9E01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AD41-A4B7-4772-964E-8718213135E5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1F00-C411-4463-AD36-89166AD20239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6714-7787-4E60-B8A4-448C4724B961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2825-A8DD-4781-8AAE-57BAEA4794EA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8400" y="530280"/>
            <a:ext cx="6960960" cy="2620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RZANSKI INDEKS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13840" y="1609200"/>
            <a:ext cx="792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zračunavanje DJ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JIA=zbir cijena akcije/djelila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a bi se otklonili problemi u promjeni djelioca, od 1992 se koristi sledeći obrazac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Tekući djelilac*(Ukupna prilagođena tržišna vrijednost/Ukupna neprilagođena tržišna vrijednost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ti novi djelilac, koristeći podatke iz prethodnog primjera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Rješenje: 5*(120/150)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led stalnih prilagođavanja, vrijednost djelioca Dow Jones prosjeka je neprestano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manjivana (danas je ispod 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itik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ekcije u djeliocu prikazuju rast indeksa, što ne predstavlja realnu sliku tržiš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30 akcij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ne može biti reprezentativn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stalnost procjene (diobe i zamjene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ikaz trend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nderisani su tržišnom vrijednošć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 = sadašnja tržišna vrijednost/tržišna vrijednost iz baznog perio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mpanije sa većim brojem akcija i većom cijenom akcija presudno utiču na kretanje indeksa. Stoga vrijednost indeksa zavisi od 2 faktora: cijene akcije i broja prodatih (ili kupljenih) akci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ma prilagođavanja djelio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, NASDAQ, Russel 2000 i s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 se sastoji od 4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d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deksa: industrijski, transportni, sektor usluga i finansijsk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ije presudna najveća tržišna vrijednost kompanije za uključivanje u indeks; bitna je reprezentativnost grane i vodeće kompanije iz tih gran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oredna analiza Dow Jones-a i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imjer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ema podacima u tabeli, izračunati vrijednosno ponderisani indeks tržišta akcija. Dati interpretaciju. Napomena: Akcija A pocijepana je u odnosu 1 stara: 4 nove, akcija B je pocijepana u odnosu 1 stara : 2 nove, dok je kod akcije C izvršena isplata dividende novim akcijama u iznosu od 20%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1680" y="3929040"/>
          <a:ext cx="7358040" cy="1692360"/>
        </p:xfrm>
        <a:graphic>
          <a:graphicData uri="http://schemas.openxmlformats.org/drawingml/2006/table">
            <a:tbl>
              <a:tblPr/>
              <a:tblGrid>
                <a:gridCol w="1000080"/>
                <a:gridCol w="2428920"/>
                <a:gridCol w="1214280"/>
                <a:gridCol w="2714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14200" y="1428840"/>
            <a:ext cx="7858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Rješe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prije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500 + 5*1.000 + 80*2.0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173.000/210.000 = 0,8238 *100 = 82,3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nakon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2.000 + 5*2.000 + 80*2.4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234.000/210.000 = 1,114 *100 = 111,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85840" y="1857240"/>
          <a:ext cx="7858080" cy="1597320"/>
        </p:xfrm>
        <a:graphic>
          <a:graphicData uri="http://schemas.openxmlformats.org/drawingml/2006/table">
            <a:tbl>
              <a:tblPr/>
              <a:tblGrid>
                <a:gridCol w="1189080"/>
                <a:gridCol w="2098440"/>
                <a:gridCol w="1212840"/>
                <a:gridCol w="1354320"/>
                <a:gridCol w="200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 novo st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828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KAZATELJI CIJENA NA TRŽIŠTIMA HOV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NAČAJ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ETANJE OPŠTEG NIVO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IKATORI OPŠTEG STANJA U PRIVRED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STVARENE CJENOVNE PROMJENE – </a:t>
            </a:r>
            <a:r>
              <a:rPr b="0" lang="sr-Latn-CS" sz="2600" spc="-1" strike="noStrike">
                <a:solidFill>
                  <a:srgbClr val="ff0000"/>
                </a:solidFill>
                <a:latin typeface="Trebuchet MS"/>
              </a:rPr>
              <a:t>EX PO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EDNOSTI I NEDOSTACI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609200"/>
            <a:ext cx="7472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Average - prvi pokazatelj cjenovnih promjena akcija (konstruisan prije više od 100 godin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d tada se razvijaju brojni oblici mjerenja cjenovnih promjena akcija koji se dijele u dvije grupe: prosjeci cijena akcija i indeksi cijena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osjeci cijena akcija – cijenom ponderisani prosjec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i cijena akcija – indeksi ponderisani tržišnom vrijednošću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82520" y="353880"/>
            <a:ext cx="75106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vanje prosjeka cijena akcij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Aritmetička sredin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Suma cijena akcija se dijeli sa brojem koji se definiše kao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onder je definisan visinom cijene konkretne hartije od vrijednosti – veće cijena hov, veći relativni uticaj na veličinu prosjek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blemi kod izračunavanja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Zamjena akcija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izabrati novu akciju sa sličnim p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fo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rmansama ili usaglasiti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mjena veličine liste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ponovni obračun kroz usaglašavanje djelioc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Dioba akcija – ako je izvršena dioba akcije od 200eura u razmjeri 5:1, koliko iznosi cijena akcije? Da li to utiče na prosjek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aglašavanje posle diobe se vrši na 3 način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amjena sa drugom akcijom (veoma je teško naći akciju sa sličnim karakteristikama, posebno ako se isključuje iz prosjeka akcija koja ima značajno mjesto u svojoj djelatnosti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šćenje multiplikatora – podjela 4:1 znači množenje nove cijene sa 4; jednostavan način usaglašavan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govanje djelioca – način koji se koristi kod Dow Jones prosje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5103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42560" y="1213920"/>
            <a:ext cx="8072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imjer: data je tabela sa sledećim podaci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osjek iznosi 150/5=3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Izvršena je dioba akcije E u razmjeri 4:1. Izračunati vrijednost djelioca cjenovno ponderisanog indeks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571680" y="1857240"/>
          <a:ext cx="4071600" cy="2595600"/>
        </p:xfrm>
        <a:graphic>
          <a:graphicData uri="http://schemas.openxmlformats.org/drawingml/2006/table">
            <a:tbl>
              <a:tblPr/>
              <a:tblGrid>
                <a:gridCol w="2071440"/>
                <a:gridCol w="2000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8400" y="1285920"/>
            <a:ext cx="72673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Stanje cijena nakon diob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Novi prosjek bi iznosio 120/5 = 24. Međutim, kako nije došl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do promjena na tržištu, prosjek mora ostati nepromijenjen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a djelilac se mora usaglasit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djelilac = nova agregatna cijena/stari prosje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prosjek = nova agregatna cijena/novi djelila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857160" y="1857240"/>
          <a:ext cx="3357720" cy="258444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4256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120/30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prosjek = 120/4 = 30        jednak je sa starim prosjekom; promjena nastala pri diobi akcija nije uticala na prosjek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1991 DJIA je koristio djelilac 0,559; DJTA (transportation) je koristio djelilac 0,709; DJUA (utilities) je koristio djelilac 1,997; DJCA (composite) je koristio djelilac 2,751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ight Arrow 3"/>
          <p:cNvSpPr/>
          <p:nvPr/>
        </p:nvSpPr>
        <p:spPr>
          <a:xfrm>
            <a:off x="3857760" y="1785960"/>
            <a:ext cx="4284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95120" y="-19080"/>
            <a:ext cx="7858440" cy="1238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85480" y="1285920"/>
            <a:ext cx="7786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prosjeci predstavljaju osnovni indikator berzanskih prom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Transportation Average (konstruisan 1884, sastojao se od 11 akcija željezničkih kompanija; 1897 prosjek se koriguje sa 11 na 20 akcija, koliko indeks ima i danas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Industrial Average (konstruisan 1897, sastojao se od 12 akcija, a danas se sastoji od 30 akcija; od originalne liste zadržao se samo General Electric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Utilities Average (konstruisan 1929, sastojao se od 18 akcija, a danas se sastoji od 15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17:16Z</dcterms:created>
  <dc:creator>Ana</dc:creator>
  <dc:description/>
  <dc:language>en-US</dc:language>
  <cp:lastModifiedBy>Ana</cp:lastModifiedBy>
  <dcterms:modified xsi:type="dcterms:W3CDTF">2011-03-04T10:29:48Z</dcterms:modified>
  <cp:revision>12</cp:revision>
  <dc:subject/>
  <dc:title>          ANALIZA  BERZANSKOG POSLOVANJA</dc:title>
</cp:coreProperties>
</file>