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00B-56EC-4465-B141-04A33669959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B6F-FB1E-4231-8941-38C1B16A041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914-837A-4E62-8F99-6B400F97E6E1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C15-0585-4CD1-BEB9-853B726A7ED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C04-95BA-44EE-A994-C3412EE34C1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657-2698-4CF5-ADB1-9DDBED3FCE6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F7B-8044-4089-8BC6-0C11B8D2DF2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EC8-DA48-4B6B-95F5-632D11E7C10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330-2C56-45F7-A366-22CE936BD40F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44F3-AC7A-4D90-9C11-7B6DB3A2DD0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F5D0-8B08-4F5C-8AE4-92D2D9791F1F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742F-9D79-4C38-A529-80630B05C89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F7B-EC50-4E08-A758-8285807C4A48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A6F-0D2A-4614-8A7F-DAD2058F3AC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10D-1474-481C-81AE-716A4067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EC9-9B16-4122-9FD8-3FE6FF21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8E1-632C-41E8-91A5-BBC1B608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47B-8975-49D5-8282-8A32FE17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1E12-03A3-494C-B1C3-AE9831E1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16C-B35C-41DA-83C7-60C0985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071-0E9E-4E62-8AFB-761D952D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C5B5-ED23-483C-A92C-069964E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EA5-6136-4039-812F-3F02B75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379-469D-4490-888E-3777C060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56EA-1620-4E5F-A061-58B1544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646-F226-4D59-BC78-33C9302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E11-C45A-41BF-A17A-4E0C04D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AF73-E8FC-4482-873C-EA4852F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B48-9592-43AC-A625-B1B59EB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AB3-0638-4FA1-BE3E-C4A7991D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9F15-EB99-48FA-AFB5-FEE32ED2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5AC2B-E87C-4EAF-968D-8962B0C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42F54-FD45-46B1-AE11-C02F1C2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3EF6C-A2AF-4F5B-85C5-4E78882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45468-72A6-4EE1-9215-ED9289C5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3C055-5835-4ADC-92CA-F09128A9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ADA-7544-421A-9DE3-95CCD82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D987F-0229-4401-8930-BB52806B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D25C6-B441-4D53-A4E3-063C92C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6DE7C-A0BF-41DB-A8EF-4E283D2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3B41C-69B9-487B-9C58-0842FFC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73077-5033-44C9-B0D2-65C920E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682B9-940E-4222-AC5D-CD9CCCF5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AC4D1-32BA-42AF-AC44-572C3D1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D52E-F820-43F3-9498-86E9FA5B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651B-4521-47E9-B377-A67BDC9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4E6C-3DC3-48DF-BB2D-E4EB638E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42B-4AD0-4FD6-B07A-33C3B79F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C14F-9FA8-4DAB-AD38-E58AC30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1E116-1A6C-4ABE-AB80-75C80F3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46DB-AF0A-41D8-9872-1D498E24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0F5F-B465-4B66-B65D-57BDE6F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42A7-189E-4718-8EEC-441A007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3C2C6-4E33-433A-8F2E-8801352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B351-E5F5-438D-A256-7F27AEF5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071E-98DB-46CD-92C5-63AD05E1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E214-CBE2-4F5E-986B-830F0CE9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445A3-8AEC-48FA-B76E-BD816EA7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AF9-1EF2-49D5-BA05-05DC62C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3ADEE-C839-4F4A-B610-30163D7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99D7B-D719-4A33-9662-BD6CFC4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61D4D-3123-4339-A217-F806D3D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B9940-01FF-4562-BC1C-E5A99565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DB278-38CC-4244-8830-F532A99F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56A7A-311B-4F27-8F71-6108B94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58358-3E6B-461A-9AE3-0832966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E0AB1-8AAA-4AFE-B28B-52138E8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A7929-2770-4BFF-8571-090B297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FFF81-47C9-4144-AF57-752E6EA9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13C-1575-42B2-90E7-292A846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40A28-029E-44AE-B5C6-BF277848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5F8C4-3871-4558-94D6-E90E792C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770FE-794F-436A-9F11-123ED94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AE8EE-E926-4385-BA56-CADD6F46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6812A-30AC-4D8E-97BE-BF98752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AE8B1-1690-4E75-838D-3E3CF0E0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1DEC5-771B-4CF0-A5F5-99200368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F22EE-365F-4075-A41E-0DAD024C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7B720-A3A2-41E4-9BC7-3F27550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F1FCA-6FFB-4423-9E9E-E7798FF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DA0-BE19-4F3B-8DAB-117D488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9FF2C-97E9-4908-98C1-B26F910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0621F-8091-4284-B5AD-2511C011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73DCB-EF14-4287-8161-CC7F2C8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AA956-5C1A-4A43-83A3-C30A223C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6497E-734A-43FB-914A-2B86B2C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229A6-10E7-4068-93D4-A38FF7D2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C830F-0631-4581-95FF-991795A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7592B-A276-478C-A800-83D329F4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907B4-A252-4A41-83A7-FE0CA66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195AB-02D5-4FA8-AECF-A1F64B7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B54-CCE3-4F0A-A47C-8F3BCE4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7576B-4EA8-4826-A9CC-B581147F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CFD5E-732C-4B51-AEAB-F20E65F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8D084-CC5E-4293-81DA-030588D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42D37-5D64-4831-BAC1-38DF14D3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D3B0B-DE79-4ED5-BE38-2BDE515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5BE-12A4-4CC4-B5A0-3621C9D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FFE1-CC10-4950-8196-0CCB3ECD0BCA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4D1-DD68-4721-8464-70AE60D66527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B0EE-C9FB-4E20-AECB-AAF68845FC9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99B-D627-40C9-8123-9B3AEA9A103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3C6A-E690-4C19-877F-CEB99A83F6C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1EF-0602-425F-A451-FA146E018844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05E-A9F7-4AD5-8A4C-6C7BE8C6842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99972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os ekvivalentan obveznici – Bond Equivalent Yield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be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li ASK Yield iz listin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ASK Yield se v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zbog nedostatka prethodne metode i prikazuje realniji prinos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 pravilu je v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od prinosa dobijenog metodom bankarskog disko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kont se stavlja u odnos sa prodajnom cijenom i svodi se na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nivo uklju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vanjem svih 365 d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ektivni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prinos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koristi slozeni kamatni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i predstavlja najrealniji 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, koji nije u upotrebi kod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a prinosa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501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1143000"/>
            <a:ext cx="8572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žište obveznica – tržište kapitala sa fiksnim prihod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  (T-notes i T-bonds), dug državnih agencija, municipalne obveznice, hipotekarne hov i s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zdaju se sa denominacijom od 1.000 dolara i više; polugodišnja isplata kupo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Century Schoolbook"/>
              </a:rPr>
              <a:t>Treasury bo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14240" y="5000760"/>
          <a:ext cx="7429680" cy="1160280"/>
        </p:xfrm>
        <a:graphic>
          <a:graphicData uri="http://schemas.openxmlformats.org/drawingml/2006/table">
            <a:tbl>
              <a:tblPr/>
              <a:tblGrid>
                <a:gridCol w="1238400"/>
                <a:gridCol w="1905120"/>
                <a:gridCol w="928440"/>
                <a:gridCol w="1214640"/>
                <a:gridCol w="904680"/>
                <a:gridCol w="123840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 Mo/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b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14300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veznica dospijeva  za naplatu 2014. godine. Kuponski prihod iznosi 4% nominalne vrijedno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ojevi na desnoj strani koji određuju kupovnu i prodajnu cijenu predstavljaju jedinice od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/32. Tj.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upov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6/32 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 94,5 prodaj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7/32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ili 94,53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ve cijene predstavljaju procenat nominalne vrijednosti – cijene su zapravo 945 $ i 945,31 $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mjena od +3 znači da je cijena tog dana porasla za 3/32 (procenat od nominalne vrijed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os do dospijeća je mjera godišnje stope prinosa za investitora koji je kupio obveznicu i drži je do dana dospije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14200" y="1071720"/>
            <a:ext cx="8715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ug državnih agencija (Fannie Mae, Freddie Mac, Ginnie Mae) – nizak riz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obvezn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orporativne obveznice (opozive i konvertibil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entury Schoolbook"/>
              </a:rPr>
              <a:t>Municipalne obveznice – izdaje ih opština i oslobođene su lokalnih poreza na prihod od kama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vije vrste: general obligation bonds (obveznice opšte obaveze) i revenue bonds (dohodovne obveznice – osigurane prihodima projekta; rizičnije u odnosu na obveznice opšte obavez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ospijeće do 30 godin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 – prinos na oporezive obveznice nakon plaćanja porez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rši se komparacija sa prinosom municipalnih obveznica i traži ekvivalentan oporezivi prino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nosu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obveznice izuzete od porez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=Rm ili R=Rm/(1-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koliko je ekvivalentni oporezivi prinos veći od stvarnog prinosa na obveznice, onda će investitor rađe drž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= 1- (Rm/R) – što je veći odnos između Rm i R, investitor će preferir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8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5228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terijalna vs. Finansijska ak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inansijska aktiva – nematerijalizova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lasifikacija finansijske aktive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OV sa fiksnim prihodom (obveznica donosi kamatnu stopu koja je fiksirana tako da bude za 2% v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od stope koja se pla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na kratkoro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vne obveznice – T bills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mjenljiva kamatna stopa – isplata zavisi od teku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e kamatne stop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ezuju se za razl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ta dospij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i prinose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novca se odnosi na kratk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koje su visokolikvidne i nose niza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kapitala se ve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e za dug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– Treasury bonds, visok prinos i viso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Junk obveznic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(ispod BBB rejtinga)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60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.   Akcije – vrijednost akcijskog kapitala se vezuje za uspjeh firme i njenu materijalnu aktiv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.   Finansijski derivati – opcije i termniski ugovor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ll opcija – pravo da se akcije kupe po ut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oj cijeni iz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ja (strike cijena) na dan isteka opcije ili prije tog datum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rijednost derivata se izvodi iz vrijednosti drugih instrumenata. Vrijednost pomenute call opcije zavisi od cijene akcije na koju se odnos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ju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s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Osiguranje od rizika ili prenos rizika na druge ucesnik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folio – skup investicija jednog investit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vije vrste odluka : o alokaciji aktive (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oke klase) i o odabiru hartija od vrijednosti (hov unutar svake klas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 –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gradnja portfolija p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 alokacijom aktive (berza akcija ili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 nov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ottom – u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ja podrazumijeva analizu HOV u koje se u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u okviru pojedinih klasa (analiza cijene, prinosa, kamatnih stopa i sl.). Ova strategija usmjerava portfolio na aktivu koja je najpriv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ja za ulag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214280"/>
            <a:ext cx="8472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atkor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ne obvezni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-bills ili Treasury b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oko likvidno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prodaje zapise, a investitori ih kupuju uz diskont ili popust u odnosu na navedeni iznos njihov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. Prilikom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isp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je iznos jednak nominalnoj vrijednosti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zlika izmedju kupovne cijene i kon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jeste zarad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daju se jednom nedeljno (dospijece 28, 91 ili 182 da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upuju se direktno ili putem posred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aju se u minimalnim apoenima od 1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00 dola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428760" y="1285920"/>
          <a:ext cx="7929360" cy="1477800"/>
        </p:xfrm>
        <a:graphic>
          <a:graphicData uri="http://schemas.openxmlformats.org/drawingml/2006/table">
            <a:tbl>
              <a:tblPr/>
              <a:tblGrid>
                <a:gridCol w="1322280"/>
                <a:gridCol w="1606680"/>
                <a:gridCol w="1036440"/>
                <a:gridCol w="1320840"/>
                <a:gridCol w="1322280"/>
                <a:gridCol w="1320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ys to 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2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9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v 04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357120" y="9288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y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57120" y="29289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mjesto cijene zapisa, listing prikazuje prinose zasnovane na tim cije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ajna cijena jeste cijena po kojoj diler prodaje, a investitor kup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upovna cijena jeste cijena po kojoj diler kupuje, a investitor pro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aspon izmedju kupovne i prodajne cijene je zarada di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jena 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metode bankarskog diskonta (Rbd – Discount Banking return)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 ob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u prinosa na prodajnu ili kupovnu cijenu zapisa. Diskont na nominalnu vrijednost se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a na godi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jem nivou na bazi od 360 dana i potom prikazuje kao procenat nominalne vrije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dostaci metode bankarskog disk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oristi prost kamatni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 i 360 dana umje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365 d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vlja u odnos diskont (zaradu) sa nominalnom vrijedno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ć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, umjesto sa kupovnom cijenom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3-14T12:56:38Z</dcterms:modified>
  <cp:revision>32</cp:revision>
  <dc:subject/>
  <dc:title>Slide 1</dc:title>
</cp:coreProperties>
</file>