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6EA-A43C-45B0-BBDF-4B51E2F492A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179-B604-4945-8BAD-692379BFBAE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959-4EB4-4F95-8D7E-4BD0E0FFC79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kvir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utar kojih se moraju po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nici u izgradnji investicionog objekt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konska regulativa čija je primjena obavez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utonomna regulativa koja se primjenjuje voljom učesnika u izgradn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aki tehnički propisi i standardi spadaju u domen zakonske regulative, jer je npr. rješenjem utvrđena obavezna primjena standarda, dok su drugi u domenu autonomne regulative, odnosno ostavlja se sloboda učesnicima da odgovarajući standard primjenjuju ili 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C2F5-DF8A-4CA1-86AA-A5B8FEE6714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727280" y="685800"/>
            <a:ext cx="3251160" cy="24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32000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vdje nas prvenstveno interesuju zakoni, podzakonska i druga akta kojima se reguliše djelatnost građevinarstva i onih privrednih i vanprivrednih djelatnosti koje su dijelom povezane sa građevinskom djelatnoš}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Zakon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osebno interesantni sa aspekta građevinarstva,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planiranju prostora i izgradnji objekat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akon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z oblas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štite životne sredine, javnih nabavki, obligacionih odnosa, ali i drugi:o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evima, zaštiti spomenika kulture, koncesiji, eksproprijaciji, vodama, zaštiti od elementarnih nepogoda, zaštiti od požara,nacionalnim parkovima, zaštiti prirode i dr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redb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koje se donose na osnovu pojednih zakonskih propis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redbama se regulišu posebna pitanja kao što su način čuvanja i kori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 pojedine dokumentacije, zaštita od buke, klasifikacija i kategorizacija voda, visine pojedinih naknada zbog zagađivanja životne sredin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ravilni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u podzakonska akta ili akta pojedinih institucija koje su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e da regulišu pojedina pitanja iz raznih oblasti života i ra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vilnici tretiraju sva značajna pitanja za projektovanje, izgradnju i održavanje objekata, a posebno: geomehaniku; razne građevinske materijale; razne poluproizvode od betona, čelika i drugih materijala; konstrukcije: građevinske, arhitektonske, prethodno napregnute, spregnute, betonske, čelične, mostovske i dr.; razne mašine za izvršenje radova; način provjere stabilnosti konstrukcija; ispitivanje konstrukcija; razna opter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ja; načine proračuna konstrukcija; preglede i ispitivanja; građenje u seizmičkim područjima; skele; temeljenje objekta; projektovanje puteva; saobr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jnu signalizaciju; opremu na putevima; razna injektiranja; značajna pitanja o vodama; tolerancije; injektiranja; zaštitu od požara; zaštitu od eksplozije; crteže u projektovanju, mjerenja u građevinarstvu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načajno je navesti pravilnike o sadržini i načinu vršenja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revizije idejnih i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lavnih projekata; sadržini i načinu vođenja građevinskog dnevnika, građevinske knjige i knjige inspekcije; sadržini i načinu vršenja nadzora u toku projektovanja i građenja objekata; sadržini i načinu osmatranja tla i objekata u toku građenja i upotrebe; sadržini i načinu vršenja tehničkog pregleda objekta i izdavanja upotrebne dozvole; postupku i načinu izdavanja licenci, programu i načinu polaganja stručnog ispita i sticanju 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licenci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za projektovanje i rukovođenje građenjem; načinu izrade i sadržini tehničke dokumentacije; izradi i održavanju katastra vodova i podzemnih objekata; mjerama zaštite od elementarnih nepogoda; sadržini tehničke dokumentacije za izdavanje vodoprivredne saglasnosti i vodoprivredne dozvole; tehničkom pregledu javnog puta; posebnim mjerama zaštite od požara koje mora da sadrži tehnička dokumentacija za određene investicione objekte; opasnim materijama koje se ne smiju unositi u vode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Uputstv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zdaju organi kojima se bliže regulišu određena pitanja koja se tiču građevinarstv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Rješenjim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se obično reguliš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pitanja iz oblasti utvrđivanja pojedinih standard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dlu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donosi skupština ili nadležni organi kojima se regulišu kategorizacije puteva, usvajanje izmjena i dopuna prostornih planova, određivanje pojedinih naknada (pl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ja) i dr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aredb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ose ovlaš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i organi i organizacije kojima se uređuju pojedina pitanja kao što su atestiranje pojedinih materijala, poluproizvoda i s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akonski propisi i sva podzakonska akta objavljuju se u odgovaraj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 službenom listu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CD05-62E9-421A-BF09-BAFFACC2677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d zakonskih propisa i podzakonskih akata aktivnosti građevinarstva odvijaju se u skladu sa odgovara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tehničkim propisima, standardima i normativima. Ovim aktima regulišu se: procedure, odgovaraj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valitet, način kontrole, dokazi kvaliteta i ostala značajna pitan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 značaja je pomenuti Uzanse o građenju i opšte uslove međunarodnog udruženja konsultanata FIDIC, kojim se na određen način regulišu odnosi između učesnika u izgradnji objek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 sve ovo treba napomenuti da lokalni organi uprave i organizacije od posebnog društvenog interesa i javna preduz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onose odluke, uputstva, naredbe i uslove kojih se učesnici u realizaciji investicionih Projekata moraju pridržavat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97E-116F-4CD1-8FF8-EE1F0EE2F59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ručje izgradnje investicionih objekata je vrlo kompleksno i utiče skoro na sva područja ljudske djelatnosti.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z izgradnju objekata manifestuju se mnogi javni, društveni, lični i svi drugi interes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Zbog toga, zakonska regulativa i iz drugih područja utiče na izgradnju objekata. To se posebno odnosi na zakonsku regulativu kojom se reguliše prostorno planiranj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i uređenje prostora (te je stoga najnovijim zakonskim rješenjem objedinjena izgradnja objekata i uređenje prostor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nergetika, zaštita spomenika kulture, zaštita životne sredine, saobr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j, imovinsko pravni odnosi i d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loženosti ove privredne oblasti veliki je broj zakonskih i ostalih propisa koji uređuje izgradnju objekata. Pored toga građevinarstvo značajno utiče i na mnoge druge privredne i vanprivredne oblasti i djelatnosti, pa se i odnosi sa njima moraju regulisa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bog svega rečenog, a u cilju kvalitetnog, blagovremenog i ekonomičnog izvršavanja zadataka učesnici u realizaciji investicionih Projekata moraju dobro poznavati i stalno pratiti i proučavati zakonske i tehničke propise, podzakonska akta, dom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i međunarodne standarde i norm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vdje se misli na propise koji se odnose direktno na oblast građevinarstva i na opšte propise kojih se učesnici u realizaciji investicionog Projekta moraju pridržavati (finansijsko poslovanje, pravni poslovi, poslovanje sa inostranstvom, carinski propisi, radni odnosi, zaštita životne sredine, komunalni problemi, privredno poslovanje i dr.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bno treba ukazati na potrebu poznavanja propisa, standarda, normativa i običajnih prava u slučajevima realizacije investicionih Projekata u inostranstvu. Od velikog značaja je proučiti propise kojim su regulisani društveni, politički i ekonomski sisitem zemlje; način realizacije investicionih Projekata; rad stranih preduz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; platni promet, izvoz, uvoz, carina i sl.; porezi, doprinosi, takse i sl.; tehnički propisi, normativi i standardi i druga značajna pitanj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4CC-F2C6-4307-9095-9E03F54D030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5A6D-A7BB-4F83-8742-5963EC2C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C1D9-63CE-4B08-B00F-6EA8507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8D8E-05DD-4EB1-8951-79736A73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8FB2-8089-48E0-ABB9-66B991D4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041-231D-4B88-A648-972704A8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D049-0FB4-45A6-BD6B-8E0092AC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658-7ACC-45F6-9E55-99460AED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96B-212A-46C1-BE0F-AACE717C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479-9F07-443C-984C-1D4E319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B715-45E7-4426-8B27-4FB3F93F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643-D129-45F5-9C57-FFD0EC0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4E96-19C5-4569-B1A9-4392E06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075D-F714-46D3-8D9E-348E490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68B-1386-46F2-A02D-6E93420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9309-E218-4F22-B5EE-522885D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FDB6-7DE7-41A2-BDB3-5342390F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095F-5E56-404B-B39D-F570BFC1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A851-BE3D-4AD9-957E-10F8512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B6B7-3AB4-4484-9AC5-90848946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FF5C-C547-4FB2-91CF-D6B14E60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2E04-A68D-4C3F-9CD2-2E2D19A6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1223-1E16-459D-B6AE-C295AB4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C70D0-1DCF-4990-B182-C3A1EEB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B6AD-4BF9-4F2E-8C69-8FF1262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9A8A-2992-433E-8CE1-38B62A0B944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8ADE-A56D-4FB8-A766-FEFA7E07435A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</a:t>
            </a:r>
            <a:r>
              <a:rPr b="0" lang="sr-Latn-CS" sz="4500" spc="-1" strike="noStrike">
                <a:solidFill>
                  <a:srgbClr val="ffffff"/>
                </a:solidFill>
                <a:latin typeface="Arial"/>
              </a:rPr>
              <a:t>ĐEVINSKA REGULATIV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POJAM, ZNAČAJ I SADRŽAJ GRAĐEVINSKE REGUL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POJAM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kup pravila kojima se uređuje izgradnja građevinskih projekata, odnosn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r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j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kvir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utar kojih se moraju pon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i u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nici u izgradnji investicionog objekta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Ostala, tzv.”autonomna regulativa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AKONSK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u regulativu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zako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redb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ravilnic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putstv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ješenj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dluke 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aredb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konske propise donosi skup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na dr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dzakonska i druga akta vla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ojedina ministarstva, ov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 organizacije i/ili organi. Zakoni se donose na osnovu Ustava, a podzakonska akta na osnovu zak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OSTALA REGULATIV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zv. “autonomna” regulativa koju donose privredni i neprivredni subjekti i primjenjuje se voljom učesnika u izgradnj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razni modeli ugovor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odeli konkursne dokumentacij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standardizovani tehnički uslovi i pozicije radov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metode planiranja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ff"/>
                </a:solidFill>
                <a:latin typeface="Arial"/>
              </a:rPr>
              <a:t>normativi utroška rada i materijala i s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ffffff"/>
                </a:solidFill>
                <a:latin typeface="Arial"/>
              </a:rPr>
              <a:t>ZNAČAJ GRAĐEVINSKE REGULATI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oističe iz značaja i kompleksnosti građevinarstva kao djelatnosti od izuzetnog javnog intere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Javni interes se ogleda kroz potrebu obezbjeđenja zašt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i očuvanja prosto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vod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zdravlj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na radu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spomenika kultur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rirod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šuma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ff"/>
                </a:solidFill>
                <a:latin typeface="Arial"/>
              </a:rPr>
              <a:t>poljoprivrednog zemljišta i s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417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ffffff"/>
                </a:solidFill>
                <a:latin typeface="Arial"/>
              </a:rPr>
              <a:t>SADRŽAJ GRAĐEVINSKE REGULATIV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293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Zakoni i uredbe o</a:t>
            </a:r>
            <a:r>
              <a:rPr b="1" i="1" lang="sr-Latn-CS" sz="1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</a:rPr>
              <a:t>planiranju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stor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 i izgradnji objekat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životnoj sredin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nim nabavk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cionim odnosi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e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spomenika kulture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ksproprijaciji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da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elementarnih nepogod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od požar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cionalnim parkovim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aštiti prirode i dr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51280" y="1954080"/>
            <a:ext cx="51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ravilnic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aznim tehničkim uslovima z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jektovanje, izgradnju i održavanje objekata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revizije idejnih i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glavnih projekata;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ođenja građevinskog dnevnika, građevinske knjige i knjige inspekcij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nadzora u toku projektovanja i građenja objekata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osmatranja tla i objekata u toku građenja i upotreb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i načinu vršenja tehničkog pregleda objekta i izdavanja upotrebne dozvol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tupku i načinu izdavanja licenci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u i načinu polaganja stručnog ispita i sticanju ovlaš}enja za projektovanje i rukovođenje građenjem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činu izrade i sadržini tehničke dokumentacij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zradi i održavanju katastra vodova i podzemnih objeka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jerama zaštite od elementarnih nepogod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držini tehničke dokumentacije za izdavanje vodoprivredne saglasnosti i vodoprivredne dozvo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hničkom pregledu javnog put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ebnim mjerama zaštite od požara koje mora da sadrži tehnička dokumentacija za određene investicione objek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asnim materijama koje se ne smiju unositi u vode i dr</a:t>
            </a: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30200" y="5864400"/>
            <a:ext cx="8209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UTONOM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Posebne u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zanse o građenju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326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št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uslov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međunarodnog udruženja konsultanata FIDIC,</a:t>
            </a:r>
            <a:r>
              <a:rPr b="1" lang="sr-Latn-CS" sz="1300" spc="-1" strike="noStrike">
                <a:solidFill>
                  <a:srgbClr val="ffffff"/>
                </a:solidFill>
                <a:latin typeface="Arial"/>
              </a:rPr>
              <a:t>-modeli ugovo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4000" y="1544760"/>
            <a:ext cx="8208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AKONSK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22:52:50Z</dcterms:created>
  <dc:creator>rade</dc:creator>
  <dc:description/>
  <dc:language>en-US</dc:language>
  <cp:lastModifiedBy>zana</cp:lastModifiedBy>
  <dcterms:modified xsi:type="dcterms:W3CDTF">2018-01-29T20:14:10Z</dcterms:modified>
  <cp:revision>20</cp:revision>
  <dc:subject/>
  <dc:title>GRAĐEVINSKA REGULATIVA</dc:title>
</cp:coreProperties>
</file>