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45D8-3BCA-4725-A689-12777C6D596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EB5-452A-43FE-919A-FFBC2FC67B1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0303-8DD7-412A-874D-48357E8D59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1125-1FE4-44FC-BC59-25CAE8AFCE9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vodi se za gradilište u cjelini, a ako se u okviru gradilišta grade objekti koji su prostorno izdvojeni, predstavljaju nezavisnu funkcionalnu cjelinu i zahtijevaju specifičnu organizaciju građenja, građevinska knjiga se može za takve objekte voditi izdvojen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a knjiga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avo upisivanja odgovarajućih podataka i zapažanja u građevinsku knjigu imaju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 predstavnik investitora. U građevinskoj knjizi ne smije biti ništa brisano već se svaka ispravka vrši povlačenjem crte preko pogrešnog i dopisivanja tačn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građevinske knjige čuva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kopiju predstavnik investitora, za sve vrijeme građenja objek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E14D-2E00-44F8-A268-8263C2E25B0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D12A-893A-45FE-9151-97A9A1B3A2E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a lokacijama na kojima se grade objekti koji predstavljaju zaokruženu funkcionalnu cjelinu (objekti kao što s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veći turistički kompleksi, industrijski objekti, proizvodni sistemi i sl.), koje su obuhvaćene planskim dokumentom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za koji je urađena strateška procjena uticaja na životnu sredinu, Elaboratom se može obuhvatiti i područj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ophodno za cjelovito infrastrukturno opremanje prostora, za koje investitor ima pravo svojine, odnosno drugo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avo na građevinskom zemljištu na kome se izvode pripremni radovi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39A-9705-4345-B2C7-6C22253C2F6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vaj pravilnik važi za domaća, ali i za strana lica, u skladu sa Zakon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6841-7B79-46C5-9ED4-9F23D8825A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sr-Latn-C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A81-5940-4572-BE05-991A7D5A45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70EA-EC56-4492-A71A-8FC8443C592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992-73AE-4B1F-81F7-4E5221E503F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F0CB-9B01-4656-A8C1-B86F6AF7C34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900" spc="-1" strike="noStrike">
                <a:solidFill>
                  <a:srgbClr val="000000"/>
                </a:solidFill>
                <a:latin typeface="Arial"/>
              </a:rPr>
              <a:t>zakonom je propisano oduzimanje licenci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duzimanje licence (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arstvo po službenoj dužnosti, ili na zahtjev zainteresovanog lica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) i obavještavanje nadležnog inspekcijskog organa, ako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djelatnost vrši suprotno </a:t>
            </a:r>
            <a:r>
              <a:rPr b="0" lang="sr-Latn-ME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uslovima propisanim zakonom za obavljanje djelatnosti –oduzima se na period od 3 mjeseca do 5 godina, a trajno za revidenta, stručni nadzor i revizo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 utvrdi da je licenca izdata na osnovu netačnih podataka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ispunjava uslove za obavljanje djelatnosti utvrđene ovim zakonom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ocu licence bude oduzeta poslovna sposobno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restane da postoji po sili zakona,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imalac licence postane trajno nesposoban za obavljanje poslo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72C1-8EF4-4D5C-AC6D-DA9ABD23A5A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1DA-1260-4109-9A02-CD1E41CDB55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197-62E6-4A2E-99A7-9C880536A32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3AB9-6ABE-4911-A461-890A0D80DD6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91E-7135-4C59-BF65-1B3902F83A1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1DA4-D44A-4384-8FE3-56A59960F5A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0153-6F5A-4F5D-A5CF-86E2F777CEB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74CC-E8A5-4780-A99E-6FCC9409166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904F-3D05-4E68-814F-F410F673D25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9C7E-8036-43AE-AB72-DE652BF4E8E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rađevinski dnevnik se vodi u obliku povezane i pečatom izvođača radova ovjerene sveske sa dvostruko numerisanim stranama (original i kopij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daci upisani u građevinski dnevnik ne mogu se brisati, ispravljati, naknadno mijenjati ni dopunj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jene i dopune podataka upisanih u građevinski dnevnik vrše se isključivo kao novi upisi, uz obavezno navođenje dana upi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pis podataka u građevinski dnevnik vrši se mastilom ili hemijskom olovk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je dužan da građevinski dnevnik čuva do isteka ugovorenog garantnog roka za izgrađeni objekat, odnosno izvedene rad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ođač radova je dužan da po isteku garantnog roka preda investitoru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itor je dužan da trajno čuva građevinski dnevni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1C09-B83D-4C27-862F-B710825E089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6121440" cy="6840720"/>
          </a:xfrm>
          <a:prstGeom prst="rect">
            <a:avLst/>
          </a:prstGeom>
          <a:noFill/>
          <a:ln w="0">
            <a:noFill/>
          </a:ln>
        </p:spPr>
        <p:txBody>
          <a:bodyPr lIns="252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Glavni inženj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vakodnevno unosi u građevinski dnevni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datum unošenja podatak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vremenske prilike (temperatura, padavine i sl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radno vrijem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) angažovanu radnu snagu i mehanizaciju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) druge okolnosti pod kojima se izvode radovi, a od značaja su za sagledavanje i kontrolu uslova i ispravnosti izvođenja radov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6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rstu i količinu prispjelog materijala i produkat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7)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izvođača materijala i produkata;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eno po novom pravilni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postojanje propisanih sertifikata o kvalitetu isporučenog materijala i produkat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vrstu i položaj radova koji se izvode (pozicija radova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orijentacionu količinu pojedinih radova koji su izvršen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izvršenu kontrolu radova koji su prethodili radovima koji se izvode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kote dna temelja, temeljna jama, podac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 pregledu iskopa temelja, vrsti materijala, predviđenoj nosivosti kao i podaci o sastavu tla ispod kote d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melja, podaci o ispitivanju nosivosti tla, vlažnost i stepen nabijenosti podloga, oplata, armatura i sl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način ugrađivanja odgovarajućih materijala i produkata (ručno, uz primjenu odgovarajuće mehanizacije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3)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čin njege i zaštite već izvedenih radova (njegovanje betona, zaštita od padavina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4)uzorke materijala koji su dostavljeni na kontrolu sa oznakom položaja radova na koje se odgovarajući uzorak odnos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) nedostatke ili greške u tehničkoj dokumentaciji ,po kojoj se radovi izvod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6) nepredviđene okolnosti koje zahtijevaju izmjenu postojećih tehničkih rješenja, odnosno povećan obim ugovorenih radova ili izvođenje naknadnih radova (nepredviđena svojstva tla, aktiviranje klizišta, arheološki nalazi i dr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7)podatke o izvršenim inspekcijskim pregledima gradilišta i osnovnim nalazima i nalozima inspekcijskih organa, sa naznakom mjera koje, po tim nalozima, treba preduze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 građevinski dnevnik ulažu se i pismeni nalazi i dokumentacija koja je gradilištu dostavljena od strane investitora, projektanta i drugih l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6A24-5CD0-4B21-8B16-2BF1618C984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03400" y="179280"/>
            <a:ext cx="3067200" cy="1725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6280" y="1979280"/>
            <a:ext cx="6121440" cy="68403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ni organ unosi u građevinski dnevnik podatke, zapažanja i naloge koji se odnose n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punost tehničke dokumentacije i dopunska objašnjenja projektan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materijala, instalacija, uređaja, postrojenja i opreme koji se ugrađuju ili postavljaju u objekt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tojanje atesta, sertifikata i druge dokumentacije kojima se dokazuje kvalitet materijala, instalacija, uređaja, postrojenja i opreme za materijal i proizvode koji se ugrađuj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valitet i postupak izvođenja pojedinih radova, kao i međusobnu usaglašenost sa ostalim rado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avještavanje investitora o nedostacima u tehničkoj dokumentaciji, građenju objekta suprotno tehničkoj dokumentaciji, propisima, standardima i normama kvaliteta, kao i o preduzetim odgovarajućim mjer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vršeni pregled radova koji se prema prirodi i dinamici izgradnje objekta ne mogu provjeriti u kasnijim fazama izgradnje objekta (radovi na izvođenju temelja, oplate, armature, izolacija i d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love i postupak izmjene tehničke dokumentacije i odobravanja izvođenja viška ugovorenog, odnosno naknadnih ra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) dopunsku tehničku i drugu dokumentaciju koja je dostavljena izvođaču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) rok i dinamiku izvođenja rado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) komentar na primjedbe i zapažanja koja su u građevinski dnevnik upisala ovlašćena l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1) uslove i preduzete mjere za zaštitu životne sredine i zaštitu susjednih objekta, instalacija, uređaja, postrojenja, opreme i d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2) druge primjedbe i zapažanja koja smatra korisnim za usmjeravanje daljeg procesa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vog pravilnika i Pravilnikom o sadržini i načinu vršenja stručnog nadzora definisano je šta nadzorni inženjer upisuje u dnevn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ni inženjer tokom vršenja stručnog nadzora upisuje u građevinski dnevnik: radove nad kojim vrši stručni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nadzor, uočene nedostatke pri izvođenju radova, mjere koje je preduzeo i naložio izvođaču radova da preduzm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rokove koje je nadzorni inženjer dao za njihovo otklanjanje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 primjedbe u pogledu kvaliteta i dinamike građenja,</a:t>
            </a:r>
            <a:r>
              <a:rPr b="0" i="1" lang="sr-Latn-CS" sz="1200" spc="-1" strike="noStrike">
                <a:solidFill>
                  <a:srgbClr val="000000"/>
                </a:solidFill>
                <a:latin typeface="TimesNewRomanPSMT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NewRomanPSMT"/>
              </a:rPr>
              <a:t>i druge podatke koji su bitni za praćenje toka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C880-300C-4A70-959D-5E66FE48A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658A-2908-47B7-8C00-A8EE4BB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15C9-B51B-4D8C-A287-8824C08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0768-11A9-4386-8518-3DC81A14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602E-7C08-4BE5-B2B4-93785DC2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EE0-4548-4B60-ABBB-4E2667B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F016-BE19-4C8E-8340-AAB9F9ED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3E8-5022-4946-A51C-26E0D433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FE5-1AAE-4B6A-8A31-3F3CB12B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D0F4-E951-4151-9D55-8EBF9D8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9112-C7C7-4ECE-BD38-92D85D86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7209-813F-408C-B82D-E6F554C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4354-9B00-4DDF-88AA-A21093E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5072-1524-4BD4-A5B9-FBB11411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D1C-2CEF-4EED-8936-6E2BBC75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F69A-AB5C-494B-A5D8-109C6CB8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B50-D123-4763-B7FC-BB6952BB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BA7FA-D92D-40B6-8578-FAE48BC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FDA6-312A-42B8-A55E-A3326A3E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BF0B-6347-4034-9EF3-AF707ABC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84F5-389B-4ACE-A547-D055ECF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3161B-9673-4EF1-B882-E1B1589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E13D-8236-44A6-BCD4-9DDD1A8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777D-A7D9-4EA9-B9CE-CC05A65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3F89-CDAE-4BC9-BB65-F7E54C6D6B3E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1031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32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1033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34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035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036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037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38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039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40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041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42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043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44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45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046"/>
          <p:cNvSpPr/>
          <p:nvPr/>
        </p:nvSpPr>
        <p:spPr>
          <a:xfrm>
            <a:off x="355680" y="617220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676F-7F4F-40A4-9DE7-9E96A7943CAD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60640" y="1371600"/>
            <a:ext cx="7823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O PLANIRANJU  PROSTORA I IZGRADNJI OB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 služi za obračun izvršenih radova i sadrž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ličine izvršenih radova, kontrolisane i potpisane od strane stručnog nadzor 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mjer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jedinične cije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nacrte u skladu sa ugovorenim predmjerom i predračun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gradilište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600" spc="-1" strike="noStrike">
                <a:solidFill>
                  <a:srgbClr val="ffffff"/>
                </a:solidFill>
                <a:latin typeface="Arial"/>
              </a:rPr>
              <a:t>može posebno da se vodi i za pojedinačne faze, odnosno tehničke i/ili funkcionalne cjeline koje su sastavni dio objekta u cjelini (most, tunel, dionica puta, djelovi turističkog naselja i drugo), odnosno za izvođenje pojedinih vrsta radova na: izradi tehničkih i/ili funkcionalnih sklopova van mjesta ugradnje, ugradnji opreme, radovima pojedinih izvođača radova i drugo, i/ili za radove koji zahtijevaju specifičnu organizaciju građenja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na početka pripremnih radova do dana završetka građenja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spravka se vrši povlačenjem crte preko pogrešnog upisa, nakon čega se unosi ispravka sa potpisom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A KNJIG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građevinsku knjigu unose se sljedeći podac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unošenja podata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im radova po pozicij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is izvršenih radova sa potrebnim skica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bračunske sk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ebne i značajne detalje u vezi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mjene projekta (datum i ime lica koje je naložilo izmjen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 drugim okolnostima pod kojima se izvode radovi, a od značaja su za sagledavanje i kontrolu obračuna obima i uslova izvođenja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SADRŽAJU ELABORATA O PRIPREMNIM RADOVIMA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. list CG 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0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fički dio- šema organizacije gradilišta (1:200 do 1:1000), sadrž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ta na kome se izvode radovi i situaciju zatečenih objekata unutar gradiliš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o za dizalicu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dni položaj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ašin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e postavljaju na objekat ili neposredno uz njega,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 ucrtanim manevarskim i manipulacionim prostor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okacije privremenih objekata sa mjerama za siguran prilaz pri korišćenju i održav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jesta za materijal, skladišta, deponije, gradilišne priključ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rase bezbjednih saobraćajnica, staza za kretanje zaposlenih i pristupnih puteva gradiliš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mjesta za parkiranje, opravku i održavanje vozila i mehanizaci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 radionicama, magacinima i uređajima i mjerama za sigurno korišće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skladišta tečnih goriva, tehničkih gasova i zapaljivih materijala sa mjerama za sigurno korišćenje i održavan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kaz objekata, vodova i električnih instalacija  i rasvjete, sa mjerama zaštite od opasnog dejstva električne stru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režu pitke, tehničke i otpadnih voda sa objektima i uređajima za korišćenje i održavanje i mjer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prječavanje pristupa nepoželjnih lic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kaz sanitarnih objekata postavljenih na lokacijama koje obezbjeđuju siguran pristup, korišćenje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žavanje i mjere za sprječavanje zagađenja okolin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ranice gradilišnog područja, odnosno kruga gradilišta sa znacima opasnosti i mjerama za sprječavanje pristupa nezaposlenim licima, životinjama, vozilima koje ne pripadaju gradilištu i vrstu ogra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SADRŽAJU ELABORATA O PRIPREMNIM RADOV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Tekstualni dio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pis i bliže određivanje mjera prikazanih u šemi organizacije gradilišt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 izvještaj sa redosledom i opisom načina i organizacije izvođenja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sadržaj i obim istraživanja terena prije početka radova, ukoliko se gradilište ili njegov dio nalaze na nekadašnjem ratnom poprišt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čin obezbjeđenja gradilišta koje se ne može u potpunosti ograditi i postavljanje prepreka na prilazima s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znacima upozorenja i opasnosti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zaštite nezaštićenih djelova susjednih objekata, električnih kablova pod naponom, cjevovoda pod pritiskom, prolaza i mjesta rada zaposlenih i javnih saobraćajnica koje se nalaze u manipulacionom prostoru dizalice (prostor ograničen najvišim i najnižim položajem zahvatnog sredstva kao i njegovim </a:t>
            </a:r>
            <a:r>
              <a:rPr b="0" lang="pl-PL" sz="1300" spc="-1" strike="noStrike">
                <a:solidFill>
                  <a:srgbClr val="ffffff"/>
                </a:solidFill>
                <a:latin typeface="Arial"/>
              </a:rPr>
              <a:t>krajnjim položajima na oba kraja dizalične staze, ukoliko ova postoji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usmjeravanja saobraćaja i pješaka na bezbjednu stranu ili postavljanje zaštitne ograde oko ugroženog prostora, odnosno podizanje zaštitne zapreke u slučaju kad se ne može izbjeći kretanje djelova sredstava za rad izvan gradilišnog prostora (manevarski prostor sredstava za rad izlazi izvan gradilišnog prostora), s tim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se zaštitne zapreke za zaštitu od padajućih djelova izrađuju na osnovu projekta koji sadrži statičk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roračun, crteže za izvođenje, uputstvo za montažu i demontažu i opis mjera za pravilno usmjeravan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saobraćaja, signalizacija i osvjetljenje u toku upotreb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način postavljanja konstrukcija za zaštitu od obrušavanja zemljanog materijala i drugih deformacija tla ili za zaštitu od nepovoljnog dejstva površinskih i podzemnih voda kod radova u iskopi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mjere u slučaju rušenja objekata koji se nalaze na lokaciji za izvođenje pripremnih radov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mjere u slučaju prekida radova (sprečavanje prilaza gradilištu nezaposlenim licima, životinjama i saobraćajnim sredstvima)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Vrst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Licenca z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izrade tehničke dokumentacije 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obavljanje djelatnosti revizije tehničke dokumentacije i stručnog nadzora nad građenjem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privredno društvo, pravna licima, odnosno preduzetnik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za fizičko lice (za porodične stamb. zgrade, za ostale objek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e izdaju  u skladu sa odgovarajućom strukom </a:t>
            </a:r>
            <a:r>
              <a:rPr b="0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i specijalističkim smjerom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hodno dokazu o visokom obrazovanju, za sljedeće djelatnosti: arhitektonsku, građevinsku; elektrotehničku; mašinsk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Za strano fizičko lice se u postupku izdavanja licence ovlašćenog inženjera provjerava da li podnosilac zahtjeva ima dozvolu boravka u skladu sa zakonom kojim se uređuje zapošljavanje i rad strana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Postupak izdavanja li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zahtjeva organu uprave nadležnom za poslove planiranja prostora (obrasci zahtjeva su propisan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podnošenje dokumentacije uz zahtj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ocjena ispunjenosti propisanih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donošenje rješenja o utvrđivanju ispunjenosti uslova za stic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izda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ođenje registra licenc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9880" y="1915920"/>
            <a:ext cx="10742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ovlašćenog inženjera (</a:t>
            </a: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fizičkom licu za obavljanje djelatnosti izrade tehničke dokumentacije i građenja objek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, odnosno pasoš za strano lic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otrebn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iskust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dine radnog iskustva na izradi tehničke dokumentacije i/ili građenju objekta (kopija radne knjižice/ugovora u skladu sa zakonom o radu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okaz o najmanje tri godine radnog iskustva na izradi tehničke dokumentacije i/ili građenju objekta u svojstvu saradnika (hronološki opis i popis stručnih poslova koje je podnosilac zahtjeva obavljao kao saradnik na izradi tehničke dokumentacije i/ili građenju objekata, ovjeren od poslodavca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i dokazi prema potreb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 li je podnosilac zahtjeva osuđivan za krivično djelo za koje se gonjenje preduzima po službenoj du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položenom stručnom ispitu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500" spc="-1" strike="noStrike">
                <a:solidFill>
                  <a:srgbClr val="ffffff"/>
                </a:solidFill>
                <a:latin typeface="Arial"/>
              </a:rPr>
              <a:t>za  revizora (</a:t>
            </a:r>
            <a:r>
              <a:rPr b="0" i="1" lang="sr-Latn-ME" sz="1500" spc="-1" strike="noStrike">
                <a:solidFill>
                  <a:srgbClr val="ffffff"/>
                </a:solidFill>
                <a:latin typeface="Arial"/>
              </a:rPr>
              <a:t>fizičkom licu za obavljanje djelatnosti revizije tehničke dokumentacije i stručni nadzor nad građenjem objekt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l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e kart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ovjeren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fotokopij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diplome o str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noj spremi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o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ama iskustva i 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trebnom 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radno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iskustv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kopija radne knjižice/ugovora u skladu sa zakonom o radu; kopija rješenja o imenovanju odgovornog projektanta, vodećeg projektanta, odgovornog vršioca revizije, vodećeg vršioca revizije, odgovornog inženjera, glavnog inženjera, nadzornog inženjera ili glavnog nadzornog inženjera na određenom projektu/objektu; potpisana izjava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dokaz o najmanje </a:t>
            </a:r>
            <a:r>
              <a:rPr b="1" lang="sr-Latn-ME" sz="1500" spc="-1" strike="noStrike" u="sng">
                <a:solidFill>
                  <a:srgbClr val="ffffff"/>
                </a:solidFill>
                <a:uFillTx/>
                <a:latin typeface="Arial"/>
              </a:rPr>
              <a:t>7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godina radnog iskustv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na izradi tehničke dokumentacije i/ili građenju objekta u svojstvu ovlašćenog inženjera odnosno radno iskustvo u svojstvu odgovornog projektanta, vodećeg projektanta, odgovornog vršioca revizije, vodećeg vršioca revizije, odgovornog inženjera, glavnog inženjera, nadzornog inženjera i glavnog nadzornog inženjera (hronološki opis i popis stručnih poslova koje je podnosilac zahtjeva obavljao </a:t>
            </a:r>
            <a:r>
              <a:rPr b="1" lang="vi-VN" sz="1500" spc="-1" strike="noStrike" u="sng">
                <a:solidFill>
                  <a:srgbClr val="ffffff"/>
                </a:solidFill>
                <a:uFillTx/>
                <a:latin typeface="Arial"/>
              </a:rPr>
              <a:t>u svojstvu ovlašćenog inženjera </a:t>
            </a: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vjeren od poslodav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uvjerenje o crnogorskom državljanstv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licenca ovlašćenog inženje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Dokaz o članstvu u Komori*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500" spc="-1" strike="noStrike">
                <a:solidFill>
                  <a:srgbClr val="ffff00"/>
                </a:solidFill>
                <a:latin typeface="Arial"/>
              </a:rPr>
              <a:t>*proističe iz izmjena Zakona o planiranju prostora i izgradnji objekata (82/20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 ovog dijela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15880" y="1916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PRAVILNIK O NAČINU VOĐENJA I SADRŽINI GRAĐEVINSKOG DNEVNIKA I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GRAĐEVINSKE KNJIGE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(Sl. list CG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 68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SADRŽAJU ELABORATA O PRIPREMNIM RADOVIMA (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Sl. list CG 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9edbff"/>
                </a:solidFill>
                <a:latin typeface="Arial"/>
              </a:rPr>
              <a:t>/08</a:t>
            </a: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)</a:t>
            </a: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NAČINU I POSTUPKU IZDAVANJA, MIROVANJA LICENCE I NAČINU VOĐENJA REGISTARA LICENCI (Sl.list CG 79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9edbff"/>
                </a:solidFill>
                <a:latin typeface="Arial"/>
              </a:rPr>
              <a:t>PRAVILNIK O OBLIKU I IZGLEDU TABLE ZA GRAĐENJE OBJEKTA (Sl. list CG 70/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400" spc="-1" strike="noStrike">
                <a:solidFill>
                  <a:srgbClr val="ffff00"/>
                </a:solidFill>
                <a:latin typeface="Arial"/>
              </a:rPr>
              <a:t>*Slično ovom pravilniku urađeni su i pravilnici o sadržaju elaborata o pripremnim radovima za složene inženjerske objek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 </a:t>
            </a:r>
            <a:br>
              <a:rPr sz="2000"/>
            </a:b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eophodna dokumentacija uz zahtjev za izda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projektanta i izvođača radova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 licence ovlašćenog inženje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za 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revidenta </a:t>
            </a:r>
            <a:r>
              <a:rPr b="1" i="1" lang="vi-VN" sz="16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stručnog nadzora (</a:t>
            </a: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privredno društvo, pravna lica, odnosno preduzetnici)</a:t>
            </a:r>
            <a:r>
              <a:rPr b="1" i="1" lang="sr-Latn-CS" sz="16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zvod iz Centralnog registra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rivred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h subjekat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okaz da u radnom odnosu im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ajmanje po jednog zaposlenog revizora za svaki od projekata (arhitektonski, građevinski, elektrotehnički i mašinski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. i datum izdavanj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licenc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zaposle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00"/>
                </a:solidFill>
                <a:latin typeface="Arial"/>
              </a:rPr>
              <a:t>*nijesu unesene izmjene na osnovu izmjena Zakona o planiranju prostora i izgradnji objekata (82/20), u vezi potrebnog broja revizora za objekte i zgrade različitih kvadra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99880" y="2637000"/>
            <a:ext cx="10009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irovanje li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ako nastup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okolnosti zbog kojih 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fizičko lice nije u mogućnosti da obavlja djelatnost za određeni period.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na zahtjev imaoca licence odre</a:t>
            </a: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đuje se </a:t>
            </a:r>
            <a:r>
              <a:rPr b="0" lang="vi-VN" sz="1800" spc="-1" strike="noStrike">
                <a:solidFill>
                  <a:srgbClr val="ffffff"/>
                </a:solidFill>
                <a:latin typeface="Arial"/>
              </a:rPr>
              <a:t>mirovanje prava i obaveza iz li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Ministarstvo rješenjem  određuje mirovanje lice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105000" y="552240"/>
            <a:ext cx="739152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Mirovanje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NAČINU I POSTUPKU IZDAVANJA, MIROVANJA LICENCE I NAČINU VOĐENJA REGISTARA LICENCI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Vođenje registra licen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lektronski regist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izdatih licenc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oduzetih licenci,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ar licenci u mirovanj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gistri se vode z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vlašćene inženj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zident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rezident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zor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ante i izvođač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vidente i stručni nadz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00"/>
                </a:solidFill>
                <a:latin typeface="Arial"/>
              </a:rPr>
              <a:t>PRAVILNIK O PROGRAMU I NAČINU POLAGANJA STRUČNOG ISPITA ZA OBAVLJANJE POSLOVA IZRADE TEHNIČKE DOKUMENTACIJE, ODNOSNO GRAĐENJA OBJEKATA (Sl.list CG 100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9880" y="1680840"/>
            <a:ext cx="1074240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 ima pravo da polaže - Lice koje ispunjava uslove iz člana 123 Zako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sjeduje najmanje kvalifikaciju VII1 podnivoa okvira kvalifikacija 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jmanje tri godine radnog iskustva na stručnim poslovima izrade tehničke dokumentacije i/ili građenja objekta,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dnosi prijavu Komori uz dokumentaciju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piju lične karte ili pasoš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iplomu ili uvjerenje o završenim akademskim????? studijam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tvrdu o radnom iskustvu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Komora kontroliše dokumentaciju i donosi rješenje o ispunjenosti uslova za polaganje stručnog ispita, u roku od 15 dana od dana prijema zahtje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ije polaganja (najmanje 15 dana ranije)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Komisije određuje datum, vrijeme i mjesto polaganja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 Komisije objavljuje spisak kandidata koji će polagati stručni ispit u određenom roku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Ispit se polaže pred komisijom za polaganje stručnog ispita, čiji je sastav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redsjednik (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Dva člana (jednog menuje Komora, a jednog Ministarstvo nadležno za građevinarstvo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ekretara ( pravnik, imenuje ga Komora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Stručni ispit se polaže usmen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Ocjena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položio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ije položio (može ponovo polagati stručni ispit, u narednom ispitnom roku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U toku polaganja se vodi zapisnik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00"/>
                </a:solidFill>
                <a:latin typeface="Arial"/>
              </a:rPr>
              <a:t>Na osnovu zapisnika Komora izdaje uvjerenje o položenom stručnom ispitu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planiranju prostora i izgradnji objekat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Opšta podzakonska a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građenj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izgledu table za građe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stručnog nadzora nad građenjem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ođenja i sadržini građevinskog dnevnika i građevinske knji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 postupku osmatranja tla i objekta u toku građenja i upotreb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spitivanja, načinu izrade i sadržaju analize statičke i seizmičke stabilnosti bespravnog objekta površine do 500 m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ENERGETIK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bližoj sadržini tehničke dokumentac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pripremnih radova za građenje složenih inženjerskih objeka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 za proizvodnju, prenos i distribuciju električne i toplotne energij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 za proizvodnju, prenos i distribuciju električne i toplotne energ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AVILNIK O PROGRAMU I NAČINU POLAGANJA</a:t>
            </a:r>
            <a:r>
              <a:rPr b="1" lang="sr-Latn-ME" sz="2800" spc="-1" strike="noStrike">
                <a:solidFill>
                  <a:srgbClr val="ffff00"/>
                </a:solidFill>
                <a:latin typeface="Arial"/>
              </a:rPr>
              <a:t>…</a:t>
            </a:r>
            <a:br>
              <a:rPr sz="2800"/>
            </a:b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Program stručnog ispita obuhvata poznavanj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9880" y="1628280"/>
            <a:ext cx="1074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odzakonska akta iz oblasti SAOBRAĆAJ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izrade i sadržini tehničke dokumentacije za složene inženjerske objekt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revizije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sadržaju elaborata o pripremnim radovima za složene inženjerske objekte saobraćajne infrastruk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obavljanja stručnog nadzora složenog inženjerskog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načinu vršenja tehničkog pregleda složenih inženjerskih objeka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Zakona o građevinskim proizvodima i podzakonskih akata donijetih na osnovu ovog zakon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Uredba o načinu priznavanja inostranih isprava i znakov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listi usaglašenih standarda za građevinske proizvod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klasifikaciji gradjevinskih proizvoda u odnosu na njihove reakcije i otpornost na pož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Pravilnik o obliku i sadržaju dokumenta o tehničkoj ocjeni i načinu vođenja evidencije; izdatih dokumenata o tehničkoj ocjeni građevinskog proizvod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AVILNIK O OBLIKU I IZGLEDU TABLE ZA GRAĐENJE OBJEKTAI (Sl. list CG 70/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26800" y="1936800"/>
            <a:ext cx="100090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lik table, materijali i bo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pravougaoni obli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3 veličine u zavisnosti od objekta (složeni inženjerski objekti, ostali objekti, pomoćni i privremen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aterijal – četvrtasti željezni profili i pocinčani lim na nosačima fundiranim u be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boja oranž  (za složene inž. objekte) i  žuta (za osta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jesto postavlja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idnom i pristupačnom mjes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 desnoj strani od glavnog ulaza u gradilište, neposredno izvan ograde gradilišta i osvjetljava se zasebnim reflektorskim osvjetljenj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OBLIKU I IZGLEDU TABLE ZA GRAĐENJE OBJEKATA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adržaj tabl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0440" y="1844640"/>
            <a:ext cx="111618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3D vizuelizacija objekta, odnosno prikaz trase infrastrukturnog objekta (1/3 površine table u gornjem lijevom uglu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, namjena i veličina (spratnost i BGP)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urbanističke parcele/lokaciju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 adresa investitor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izradi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i je rukovodio izrad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je revidovalo tehničku dokumentaciju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je rukovodio revizijom cjelokupne tehničke dokumentacij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izvođača radova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ovlašćenog inženjera koje rukovodi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naziv privrednog društva koje vrši stručni nadzor nad građenjem objekta u cjelini, sa podacima (adresa, telefon i e-mail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me i prezime revizora koji rukovodi stručnim nadzorom nad građenjem objekta u cjelini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prijave radova građenja objekta nadležnom inspekcijskom organu i utvrđeni rok za završetak radova (izuzev za složene inženjerske objekte);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broj saglasnosti glavnog državnog odnosno glavnog gradskog arhitekte na idejno rješenj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sr-Latn-ME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15880" y="2852280"/>
            <a:ext cx="7010280" cy="31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 (Sl. list CG 68/1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VILNIK O NAČINU VOĐENJA I SADRŽINI GRAĐEVINSKOG DNEVNIKA I GRAĐEVINSKE KNJI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obavezna dokumentacija na gradilištu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za objekat koji se gradi na osnovu prijave građenja, odnosno  za složeni inženjerski objekat koji se gradi na osnovu građevinske dozvol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vodi ih glavni inženjer izvođača radov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ke upisuju i potpisom ovjerava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inženjer  i ovlašćeni inženje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lavni revizor i revizori koji vrše nadz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e se u obliku povezane i pečatom izvođača radova i stručnog nadzora ovjerene sveske sa dvostruko numerisanim stranama (original i kopij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riginale izvođač čuva trajno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pija treba da se dostavi investitoru sa konačnim izvještajem o vršenju stručnog nadzora (čuvaju se trajn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is podataka vrši se hemijskom olovk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moraju biti dostupne investitoru, nadzoru, vodećem i odgovornim projektantima i organima nadležnim za poslove inspekcij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ument kojim se evidentiraju dnevne aktivnosti na građenju objekta i kojim se dokazuje usklađenost uslova i načina građenja objekta, odnosno izvođenja pojedinih radova na osnovu revidovanog glavnog projekta, Zakona o planiranju prostora i izgradnji objekata, posebnih propisa i pravila stru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tokom građenja za objekat u cjelini, 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Arial"/>
              </a:rPr>
              <a:t>izvođač radova može da vodi i posebni građevinski dnevnik za pojedinačne faze, odnosno tehničke i/ili funkcionalne cjeline koje su sastavni dio objekta u cjelini (most, tunel, dionica puta, djelovi turističkog naselja), odnosno za izvođenje pojedinih vrsta radova na: izradi tehničkih i/ili funkcionalnih sklopova van mjesta ugradnje, ugradnji opreme, radovima izvođača pojedinih vrsta radova na građenju objekta, i/ili za radove koji zahtijevaju specifičnu organizaciju građenja (sastavni djelovi građevinskog dnevnik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odi se od dana izvođenja pripremnih radova na objektu do završetka svih radova i stavljanja objekta u upotrebu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ci upisani u građevinski dnevnik, ne mogu se brisati, ispravljati, naknadno mijenjati, ni dopunjavat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mjene i dopune podataka upisanih u građevinski dnevnik, vrše se isključivo kao novi upisi, uz obavezno navođenje datuma upi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dnevnika za građenje objekta u cje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naziv i sjedište, odnosno ime i adresu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broj i datum prijave građenja, odnosno građevinske dozvole u skladu sa kojom se objekat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sta objekta koji se grad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ćenom inženjeru koji rukovodi građenjem objekta u cjelini ( glavni inženjer) (ime i prezime i broj i datum izdavanja licenc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objekta u cjelini ( glavni revizor)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stalim revizorima na objektu (ime i prezime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objekta sa podacima (naziv i sjedište, registarski broj, broj i datum izdavanja licence) i broj i datum ugovora zaključenih sa izvođačima za pojedine vrste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posebnih dijelova građevinskog dnevnik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</a:t>
            </a:r>
            <a:r>
              <a:rPr b="1" lang="vi-VN" sz="2400" spc="-1" strike="noStrike">
                <a:solidFill>
                  <a:srgbClr val="ffffff"/>
                </a:solidFill>
                <a:latin typeface="Arial"/>
              </a:rPr>
              <a:t>posebnih dijelova građevinskog dnevni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zvođaču radova (naziv i sjedište, registarsk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investitoru (ime/naziv i adresu/sjediš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objekt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ziv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ovlaščenom inženjeru koji rukovodi građenjem pojedinačne faze, tehničkog i/ili funkcionalnog sklopa odnosno vrste radova  (ime i prezime i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stručnom nadzoru (naziv i sjedište, registracioni broj, broj i datum izdavanja licen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revizoru koji rukovodi stručnim nadzorom pojedinačne faze, tehničkog i/ili funkcionalnog sklopa odnosno vrst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tci o svim revizorima na pojedinačnoj fazi, tehničkom i/ili funkcionalnom sklopu odnosno vrsti radova (ime i prezime, broj i datum izdavanja licence)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tum početka odnosno datum završetka vođenja posebnog dijela građevinskog dnevnik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pis svih izvođača pojedinih vrsta radova na građenju pojedinačne faze, tehničkog i/ili funkcionalnog sklopa odnosno vrste radova sa podacima (naziv i sjedište, registarski broj, broj i datum izdavanja licence) i broj i datum ugovora zaključenih sa izvođačima za pojedine vrste radov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inženjera, odnosno ovlašćenih inženj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klimatskim i dr. uslovima na gradilištu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datum, vremenske prilike, radno vrijeme, angažovana radna snaga i mehanizacija, druge bitne okolnosti i usl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projektima i izmjena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datum dostavljanja revidovanog glavnog projekta, podaci o izmjenama projekta, nedostaci ili greške u projektu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građevinskim proizvodima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isporuci i porijeklu proizvoda i opreme koja se ugrađuje sa dokazima o njihovoj upotrebljivosti,  dokazi o upotrebljivosti ugrađenih građevinskih proizvoda, instalacija i opreme, izdati od strane ovlašćenog lic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radovim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vrsta i položaj radova koji se izvode, orijentacionai obim izvršenih radova,  prethodno izvršene kontrole,način ugrađivanja, način njege i zaštite, uzorci materijala za kontrolu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ostali podaci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drugim okolnostima koje su od značaja za izvođenje radova (kontrola uslova i ispravnosti izvođenja radova)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 nepredviđenim okolnostima koje zahtijevaju izmjenu projekta, odnosno povećan obim ugovorenih radova ili izvođenje viška radova i naknadnih radova (nepredviđena svojstva tla, aktiviranje klizišta, arheološki nalazi i dr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Arial"/>
              </a:rPr>
              <a:t>podaci o inspekcijskim pregledima gradilišta, podaci o pismenim nalozima i dokumentaciji na gradilištu, podaci o promjenama  ućesnika i njihovih odnosa i sl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prilaže se i pisana dokumentacija dostavljena od investitora, projektanta, revizora koji vrši stručni nadzor i nadležnog inspekto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GRAĐEVINSKI DNEVNI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Upisi od strane glavnog revizora i revizora (lica koje vrše stručni nadzor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9880" y="1916280"/>
            <a:ext cx="1074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tehničkoj dokumentaciji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slove i postupak izmjene pro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punsku tehničku i drugu dokumentaciju koja je dostavljena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 materijalima i radovim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cje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sklađenosti pregledanih izvedenih radova sa zahtjevima iz revidovanog glavnog projekta, zakona i posebnih propi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ivanje sprovođenja kontrolnih postupak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 rezultatima kontrolnih postupaka sa komentarom o usklađenosti tih rezultata sa rezultatima koji se očekuju prema revidovanom glavnom pro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jere koje preduzima u kojima odobrava ili zabranjuje nastavak radova, odnosno odobrava ili određuje način otklanjanja utvrđenih nepravilnost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jem pojedinačnih faza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ok i dinamika izvođenja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ostali podaci, zapažanja i naloz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tvrđivanje usklađenost iskolčenja sa revidovanim glavnim projektom i odobra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je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čet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izvođenja radova na objek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bavještavanje nadležnog inspekcijskog organa o početku prijema određene faze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bavještavanje nadležnog inspekcijskog organa o građenju objekta suprotno revidovanom glavnom projektu, zakonu, posebnim propisima i pravilima stru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komentar na primjedbe i zapažanja koja su u građevinski dnevnik upisal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 glavni i ovlašćeni inženje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ruge primjedbe i zapaž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dcterms:modified xsi:type="dcterms:W3CDTF">2020-10-15T01:00:18Z</dcterms:modified>
  <cp:revision>207</cp:revision>
  <dc:subject/>
  <dc:title>ZAKON O IZGRADNJI OBJEKATA</dc:title>
</cp:coreProperties>
</file>