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4505-F698-47B4-825A-C00968B235C5}" type="slidenum">
              <a:rPr b="0" lang="sr-Latn-C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DF9-BFC6-4DEA-8F87-E8261B8F6ADA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9EF2-581B-48FE-BE36-4957D3AC887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057-7D0A-4A5F-980F-7282632C6C2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83E2-9F77-4718-8E6A-86012267DB0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BDF-4817-4406-AB40-D1CFB996917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9575-43AF-4B02-83B7-433487EF5B8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ECEF-6AEA-46F4-87BB-AD4C3FB846E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DEE-5D12-4639-8B33-3AC232181D4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026-9FE7-46C4-BCB3-0BB3DD04503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06B-5C71-4065-AC5A-86F087E0D0E4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EDD-0C2A-4AA7-919C-8E4A224F2BC2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46DF-81ED-4FB2-8662-377967356A6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741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rgan za tehničke uslove je organ državne uprave, organ lokalne uprave i pravno lice nadležno za: zaštitu životne sredine, saobraćaj, energetiku, vodovod i kanalizaciju, vode, regionalno vodosnabdijevanje, elektroinstalacije, zaštitu kulturnih dobara, elektronske komunikacije i poštansku djelatnost, zaštitu i zdravlje na radu, katastar, zaštitu i spašavanje, upravljanje državnom imovinom i dr. koji u postupku izrade planskog dokumenta i tehničke dokumentacije dostavlja neophodne tehničke uslove, podloge, mišljenja, saglasnosti i druge dokaze potrebne za planiranje i izgradnj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3959-1CB8-45DE-9817-A631073480E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3480" y="2217600"/>
            <a:ext cx="633708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FC8C-A529-42F5-8725-D0C23670EC9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z Zakona o planiranju prostora i izgradnji objek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nvestitor je dužan da u toku građenja objekta obezbijedi vršenje stručnog nadzo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vrši se počev od dana izvođenja pripremnih radova na objektu do završetka svih radova i stavljanja objekta u upotrebu i obuhvata sv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zor iz stava 1 ovog člana obuhvata, naročito: kontrolu izvođenja radova prema revidovanom glavnom projektu, ovom zakonu i posebnim propisima; kontrolu usklađenosti radova; provjeru kvaliteta izvođenja radova; kontrolu kvaliteta materijala, instalacija i uređaja koji se ugrađuju; provjeru da li materijali, instalacije i uređaji koji se ugrađuju imaju propisanu dokumentaciju neophodnu za njihovo stavljanje u upotrebu; redovno praćenje dinamike izvođenja radova i poštovanje ugovorenih rokova; kontrolu primjene mjera koje je naložio izvođaču radova da preduzme u cilju otklanjanja nedostataka pri izvođenju radova; kontrolu radova koji se nakon zatvaranja, odnosno pokrivanja ne mogu kontrolisati; kontrolu primjene mjera za zaštitu životne sredine; definisanje faza za koje je neophodno sačiniti izvještaj; davanje tehnoloških i organizacionih upustava izvođaču radova i rješavanje drugih pitanja u vezi građenja objekta; saradnju sa projektantom radi obezbjeđenja detalja za nesmetano izvođenje radova i rješavanje drugih pitanja u vezi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 objektima finansiranim u cjelosti ili djelimično iz donacija ili kredita međunarodnih finansijskih institucija ili iz sredstava drugih država kroz projekte međudržavne saradnje i pomoći, nadzor se vrši kao i na složenim inženjerskim objek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Vršenje stručnog nadz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apažanja tokom stručnog nadzora, stručni nadzor upisuje u građevinski dnevni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, bez odlaganja, u pisanoj formi obavijesti investitora ako se radovi ne izvode prema revidovanom glavnom projektu, ovom zakonu i posebnim propisima i/ili naloži izvođaču radova da otkloni utvrđene nedostatke u roku koji mu odre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ko izvođač radova u roku iz stava 2 ovog člana ne otkloni utvrđene nedostatke, stručni nadzor je dužan da građenje objekta suprotno revidovanom glavnom projektu, ovom zakonu i posebnim propisima, bez odlaganja prijav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 izvršenom stručnom nadzoru, stručni nadzor sačinjava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činjava se po fazama građenja objekta i kao konačan izvješta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završetka određene faze građenja, stručni nadzor dužan je da obavijesti nadležni inspekcijski organ tri radna dana prije početk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dležni inspekcijski organ može da prisustvuje prijemu pojedinačne faze građenja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e po fazama stručni nadzor dužan je da dostavlja nadležnom inspekcijskom organu u roku od tri dana od dana prijema radova određene faze građe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rije sačinjavanja konačnog izvještaja, stručni nadzor je dužan da obavijesti organ uprave nadležan za zaštitu kulturnih dobara u slučaju gradnje na ili u neposrednoj blizini objekta koji je zaštićeno kulturno dobro, koji utvrđuje da li je objekat izgrađen u skladu sa revidovanim glavnim projektom, odnosno projektom izvedenog objek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 sa zapisnikom organa iz stava 6 ovog člana u kojem je konstatovano da je objekat građen u skladu sa revidovanim glavnim projektom, odnosno projektom izvedenog objekta, stručni nadzor dužan je da istovremeno dostavi investitoru, izvođaču radova, Ministarstvu, organu uprave nadležnom za zaštitu kulturnih dobara, u slučaju gradnje na ili u neposrednoj blizini objekta koji je zaštićeno kulturno dobro i nadležnom inspekcijskom orga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Način vršenja stručnog nadzora, obavezne faze u toku građenja za koje se radi izvještaj i način izrade i bližu sadržinu izvještaja o stručnom nadzoru propisuje Ministarst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Konačni izvještaj o izvršenom stručnom nadz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0000"/>
                </a:solidFill>
                <a:latin typeface="Arial"/>
              </a:rPr>
              <a:t>Član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Stručni nadzor dužan je da u konačnom izvještaju o izvršenom stručnom nadzoru, navede tačne konstatacije o izvedenim radovima na građenju objekta i da pisanu izjavu da je objekat građen u skladu sa revidovanim glavnim projektom odnosno izgrađen u skladu sa revidovanim projektom izvedenog stanja, zakonom i drugim propisima odnosno izjavu da je objekat podoban za upotrebu i da se može namjenski koristi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ještaj iz stava 1 ovog člana sadrži i elaborat originalnih terenskih podataka izvedenog stanja ovjeren od strane licencirane geodetske organizaci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8D9F-FD65-4840-B6BD-09CEDA50F33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416C-9862-434A-82AB-DDF16A20011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1D0-16F8-4C9B-86DD-41A1F9249A6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4B10-49AA-42C7-8248-95B2A190EA9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C40-6492-49F0-A889-82191C15A447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8172-2A04-4788-8485-5AD7B5548EF3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1C4A-EE65-4A3E-93DB-1B98A9BBA7C5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D78-25B8-4E76-9B86-E013B061514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96FD-0863-4503-88EE-BF39AD28F9E6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29C0-1AC5-4AD8-8E1E-4FB699A1672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7440-E396-4B56-9CD0-2781E6BAB0A0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C1B-CF6C-4DB9-9F42-81D04A7A9D71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5AE9-7DA6-4B44-A57F-CBDC0414FF28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39C-8963-4AAD-B9F0-C07128413BDF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E670-336E-40A0-82E1-8FD0BAD3715E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DD5E-7AA3-4827-B705-39FA340581FB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A079-CA7F-4C9F-974E-D2327BEF417D}" type="slidenum">
              <a:rPr b="0" lang="sr-Latn-C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944720" y="200160"/>
            <a:ext cx="3433680" cy="1931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93560" y="2216160"/>
            <a:ext cx="6336000" cy="76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7A44-3807-4BCD-BF12-18F43E15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05A6-1D79-4A95-896F-B77CA5B1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1CFC-5807-476D-9FA8-E1F60EC1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0BC2-9EDC-4366-84B9-566FE87B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6BBE-B480-4259-A2FC-10F06710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8608-089B-40E8-92AC-6DD58F2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42B-6A1D-4D5B-A0F2-C91021BD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A41-19A1-4220-BB58-B40F49C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1E21-0177-48C7-B074-46A2C11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ACBA-8A24-4C29-A197-FD2A4E9F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9307-56A4-4C4D-99CF-9A37C998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9BF4-93AE-42AA-8AE4-C74B0BE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B8C8-C476-4759-ABD5-B52EC44B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D55E-8A68-4338-8A3E-DB69F713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D842-77D4-45E6-B8ED-A9288F1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526C-588A-4E6E-81EC-9843F8CA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9568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56120" y="198108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23524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39568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56120" y="4130640"/>
            <a:ext cx="300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650-9760-46DF-9CDE-C4B43EBC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2AC1-0D63-49EE-A475-2016898F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0DDE-8F20-4D79-B68F-BAC4413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A36B-3412-4147-9CDF-8A56042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235240" y="457200"/>
            <a:ext cx="9347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1CC0-6B23-402C-84A8-F02E53F3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F896-5D35-4B5D-88F4-F8BE9B6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25040" y="413064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A9A8-F38E-48B4-9012-B7C2896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352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025040" y="1981080"/>
            <a:ext cx="4561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35240" y="4130640"/>
            <a:ext cx="934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5D10-1BC6-402A-85BC-D8FF872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FBEE-C2A0-4535-8585-BF75D48FD00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368280" y="638172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04920" y="304920"/>
            <a:ext cx="1148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04920" y="457200"/>
            <a:ext cx="1661400" cy="1371600"/>
            <a:chOff x="304920" y="457200"/>
            <a:chExt cx="1661400" cy="1371600"/>
          </a:xfrm>
        </p:grpSpPr>
        <p:sp>
          <p:nvSpPr>
            <p:cNvPr id="7" name="Rectangle 9"/>
            <p:cNvSpPr/>
            <p:nvPr/>
          </p:nvSpPr>
          <p:spPr>
            <a:xfrm>
              <a:off x="1246680" y="457200"/>
              <a:ext cx="5940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113480" y="457200"/>
              <a:ext cx="5904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77760" y="457200"/>
              <a:ext cx="5940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42400" y="457200"/>
              <a:ext cx="5940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08840" y="457200"/>
              <a:ext cx="5940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3480" y="457200"/>
              <a:ext cx="5940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438120" y="457200"/>
              <a:ext cx="6120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04920" y="457200"/>
              <a:ext cx="5904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382400" y="457200"/>
              <a:ext cx="5472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513440" y="457200"/>
              <a:ext cx="5256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642680" y="457200"/>
              <a:ext cx="5688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776240" y="457200"/>
              <a:ext cx="5904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909440" y="457200"/>
              <a:ext cx="5688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04920" y="990720"/>
            <a:ext cx="1148076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04920" y="1447920"/>
            <a:ext cx="3047040" cy="2514600"/>
            <a:chOff x="304920" y="1447920"/>
            <a:chExt cx="3047040" cy="2514600"/>
          </a:xfrm>
        </p:grpSpPr>
        <p:sp>
          <p:nvSpPr>
            <p:cNvPr id="59" name="Rectangle 9"/>
            <p:cNvSpPr/>
            <p:nvPr/>
          </p:nvSpPr>
          <p:spPr>
            <a:xfrm>
              <a:off x="2031480" y="1447920"/>
              <a:ext cx="11016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786320" y="1447920"/>
              <a:ext cx="11196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538640" y="1447920"/>
              <a:ext cx="11196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290960" y="1447920"/>
              <a:ext cx="11196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045440" y="1447920"/>
              <a:ext cx="11016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97760" y="1447920"/>
              <a:ext cx="11016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550440" y="1447920"/>
              <a:ext cx="10980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04920" y="1447920"/>
              <a:ext cx="10980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279160" y="1447920"/>
              <a:ext cx="10332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520720" y="1447920"/>
              <a:ext cx="10332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759760" y="1447920"/>
              <a:ext cx="10332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000960" y="1447920"/>
              <a:ext cx="10980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248640" y="1447920"/>
              <a:ext cx="10332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355680" y="6453360"/>
            <a:ext cx="1148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235240" y="1981080"/>
            <a:ext cx="934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7BC0-8438-4D74-94DA-2DBD39D24C4B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7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D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ZAK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KA AKTA NA OSNOVU ZAKONA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O PLANIRANJU PROSTORA I IZGRADNJI OBJEKA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962160" y="426708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200" spc="-1" strike="noStrike">
                <a:solidFill>
                  <a:srgbClr val="ffffff"/>
                </a:solidFill>
                <a:latin typeface="Arial"/>
              </a:rPr>
              <a:t>dio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rojektnog zadatk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lj i svrha izrade tehničke dokumentacij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et tehničke dokumentacije (opšti podaci o objektu, lokacija, namjena, kapacitet, faznost gradnje, zahtijevani materijali i podatke o zahtijevanom nivou instalacija i opreme dr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snove za projektovanje sa podacima o zahtijevanim tehnološkim proce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pecifični zahtjev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otpis i ovje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vestit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stavni dio projektnog zadatka su  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-tehnički uslov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zultati prethodnih proučavanja, ako su ti rezultati urađen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kstualn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tehnički uslovi za izvođenje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gram kontrole i osiguranja kvaliteta sa uslovima za ispunjavanje osnovnih zahtjeva za objekat tokom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i održavanja objekta (procedure za obezbjeđenje kvaliteta, program ispitivanj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 zgrade mora da sadrži rekapitulaciju građevinske brut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vršine objekta (ukupno i po etažama), neto površine objekta (ukupno, po etažama i po posebnim djelov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), bruto i neto površinu podzemnih etaža, bruto i neto površinu nadzemnih etaža, kao i zapreminu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računatu u skladu sa propisom kojim se uređuje način obračuna površine i zapremine objek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ada se radi idejno rješenje tekstualna dokumentacija sadrži 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projektovanog objekta sa navođenjem potrebnih komunalnih kapacite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 zgra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osebni osvr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materijalizaciju i obradu površina elemenata omotača (fasada i krovova), elemenata okvira stolarije/bravarije 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datnih fasadnih elemenata (balkonskih ograda, brisoleja i elemenata dekora), kao i materijalizaciju i obrad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vršina u okviru uređenja terena, potpisana od strane glavnog inženj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tehničkog op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za objekat – potpisuje ga glavni 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Arial"/>
              </a:rPr>
              <a:t>opšti podaci o vrsti i namjeni objek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lokacije objekta sa navođenjem katastarskih parcel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funkcionalnog rješenj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tehničko-tehnološke karakteristike objekta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opis svih građevinskih i građevinsko-zanatskih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važećih standarda p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74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za pojedine djelove tehničke dokumentacije  - potpisuje ga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odgovorni  (ovlašćeni)  </a:t>
            </a: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inženj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snovni podaci o objektu- </a:t>
            </a:r>
            <a:r>
              <a:rPr b="0" lang="sr-Latn-ME" sz="1500" spc="-1" strike="noStrike">
                <a:solidFill>
                  <a:srgbClr val="ffc000"/>
                </a:solidFill>
                <a:latin typeface="Arial"/>
              </a:rPr>
              <a:t>date na obrascu 1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dijela tehničke dokumentacije sa opisom svih radova koji su predmet dijela tehničke dokumentacij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opis ispunjenja uslova propisanih urbanističko-tehničkim uslovima i osnovnih zahtjeva za objeka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500" spc="-1" strike="noStrike">
                <a:solidFill>
                  <a:srgbClr val="ffffff"/>
                </a:solidFill>
                <a:latin typeface="Arial"/>
              </a:rPr>
              <a:t>tehnički uslovi za izvođenje radov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karakteristike i svojstva materijala, instalacija i opreme 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</a:rPr>
              <a:t>spisak primjenjenih propisa, preporuka i standarda rema kojima je objekat projektovan i prema kojima će se izvoditi radov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p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nn-NO" sz="2000" spc="-1" strike="noStrike">
                <a:solidFill>
                  <a:srgbClr val="ffffff"/>
                </a:solidFill>
                <a:latin typeface="Arial"/>
              </a:rPr>
              <a:t> kontrole i osiguranja kvalit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odgovarajućim dijelovima tehničke dokumentacije sadrž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vojstva bitnih karakteristika koje moraju imati građevnski i drugi proizvodi koji se ugrađuju u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trebna ispitivanja i postupke dokazivanja upo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bljivosti građevinskih i drugih proizvoda za one proizvod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ji su proizvedeni na gradilištu za potrebe tog objekta u koji će biti ugrađe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rebna ispitivanja i postupke dokazivanja tehničke i/ili funkcionalne ispravnosti dijel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zahtjeve koji moraju biti ispunjeni tokom izvođenja objekta, a koji mogu uticati na postizanje projektovanih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tehničkih i/ili funkcionalnih svojstava tog dijela objekta, kao i na ispunjavanje osnovnih zahtjeva za objekat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stupke ispitivanja izvedenih dijelova objekta koji se sprovode prije i tokom upotrebe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taljan opis probnog rada kojim se moraju prikazati potrebna ispitivanja ispunjavanja zahtjeva za objekat,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edviđene rezultate ispitivanja i predviđeno vrijeme trajanja probnog rada, ako za taj objekat postoji potreb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bnog rad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htjeve učestalosti periodičnih pregleda tokom upotrebe, a u svrhu održavanja dijela objekta, pregled i opis potrebnih kontrolnih postupaka ispitivanja i zahtijevanih rezultata kojima će se dokazati usaglašenost s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jektom predviđenim svojstvim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pis propisa i standarda čiju primjenu program kontrole i osiguranja kvalitete određuj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numer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Numerička dokumentacija sadrž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odgovarajuće proračun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specifikaciju materijala i opreme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predmjer i predračun radov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šemu opterećenja, analizu opterećenja i sl. (zavisno od vrste objek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Arial"/>
              </a:rPr>
              <a:t>kada se radi idejno rješenje zgrade, numerička dokumentacija sadrži prikaz površina objekta sa namjenama i broj funkcionalnih jedi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graf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63720" y="1916280"/>
            <a:ext cx="106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eodetska podlog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elaborat parcelacije po planskom dokumentu ovjeren od strane organa uprave nadležnog za poslove katastra -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 za objekte infrastrukture prilaže se grafički prikaz buduće trase objek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na ažurnim katastarskim podlog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itu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ivelacioni pl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nov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arakteristični presjeci  ili podužni i poprečni profil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šem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gledi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etalji za izvođenje objek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drugo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visno od vrste tehničke dokumentacije i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adionički crteži svih konstruktivnih elemenata, veza, montažnih i radioničkih nastavaka čeličnih konstrukci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ordinate elementarnih (glavnih) tačaka i nadmorske </a:t>
            </a:r>
            <a:r>
              <a:rPr b="0" lang="nn-NO" sz="1400" spc="-1" strike="noStrike">
                <a:solidFill>
                  <a:srgbClr val="ffffff"/>
                </a:solidFill>
                <a:latin typeface="Arial"/>
              </a:rPr>
              <a:t>visine (kote) objekta u državnom koordinatnom sistemu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birni prikaz (sinhro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lan) tehničke infrastrukture (za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 rekonstrukciju objekta sadrži i priloge postojećeg stanja (situacioni plan, nivelacioni plan, osnove, karakteristične presjeke ili podužne i poprečne profile i izglede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vi grafički prilozi moraju biti potpisani od stran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OG INŽENJER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 odgovorni  ovlašćeni  projektanta i imati zaglavlje urađeno u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skladu sa grafičkim prilogom - Obrazac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Ovjera i razmjera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jera TD u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nskoj form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tpisana kvalifikovanim certifikatom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valifikovani elektronski potpi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jer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dštampanog primjerka glavnog projekta (ovjerava se svaki dio tehničke dokumentacije koji čini glavni projek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štambiljem na kojem je upisan broj, datum i potpis odgovornog lica projektanta i revidenta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fički prilozi tehničke dokumentacije ovjeravaju pečatom projektanta i reviden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akovanje odštamp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uvezuje se u jednu ili viš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knjig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umerisanih stranica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loženih u format A4 (21x29,7 cm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njige moraju biti povezan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jemstvenikom koji se pečatira, kako bi zamjena sastavnih djelova knjiga bila onemoguć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ehnička dokumentacija izrađena u analognoj formi mora biti identična tehničkoj dokumentaciji u elektronskoj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formi na osnovu koje je izvršena prijava građenja objekt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azmjera tehničke dokumentaci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mjerena da obezbijedi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eglednost i detaljnost podataka datih grafičkim prilogom ili drugim grafičkim prikazom primjereno nivou razrad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kladu sa standardom MEST EN ISO 545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 (Sl. list CG 18/18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ma Zakonu (čl. 81.)  revizijom glavnog projekta vrši se provjer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rbanističko-tehničkim uslovima, ovim zakonom, posebnim propisima i pravilima struke u odnosu na pitanja koja nijesu uređena ovim zakonom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sklađenosti projekta sa uslovima oblikovanja i materijalizacije, posebno u odnosu na ambijentalna svojstva područj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osnovnih zahtjeva za objeka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međusobne usklađenosti svih djelova tehničke dokumentacij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edmjera i predračuna svih radova na građenju objekt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spunjenosti uslova prilagođenosti objekta licima smanjene pokretljivosti i licima sa invaliditeto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vještaj o reviziji može bi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gativan- i mora biti navedeno koje su neusklađe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zitivan – mora biti data izjava o tome da je sve usklađeno sa zahtjevima koji su provjerava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26"/>
              </a:spcBef>
              <a:buClr>
                <a:srgbClr val="0078f0"/>
              </a:buClr>
              <a:buSzPct val="11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Prema Pravilniku se još vrši provje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usklađenosti glavnog projekta sa Zakonom, posebnim propisima i pravilima struke u odnosu na pitanja ko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ijesu uređena Zakonom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kompletnosti pro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namjenskih podlog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su u glavnom projektu ispravno primijenjeni rezultati dobijeni u podlogama za temeljenje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ispravnosti i tačnosti arhitektonskih, odnosno građevinskih rješenja, proračuna mehaničke otpornosti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stabilnost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tehničko-tehnoloških i eksploatacionih karakteristika objekta sa opremom i instalacijama, uključujuć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energetske karakteristike objekta, ako je objekat zgrad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detalja za izvođenje radova obuhvaćenih glavnim projektom, kao i tehničko-tehnološka i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rganizaciona rješenja za izgradnju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priključaka objekta na odgovarajuću saobraćajnu i drugu infrastrukturu i uređenje slobodnih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površin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tehničkih rješenja za zaštitu objekta i susjednih objekata od požara i eksplozija i druga tehnička rješenj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zaštit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razrade mjera za sprječavanje ili smanjenje negativnih uticaja objekta na životnu sredinu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rugih projekata i elaborata, u skladu sa namjenom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okaza o pravu svojine na zemljištu, odnosno drugom pravu na građenje na zemljištu ili pravu svojine na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jektu, odnosno drugom pravu na građenje, ako se radi o rekonstrukciji objekta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26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da li je predviđena faznost građenja objekta i ako jeste, da li je na odgovarajući način određena (da li je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300" spc="-1" strike="noStrike">
                <a:solidFill>
                  <a:srgbClr val="ffffff"/>
                </a:solidFill>
                <a:latin typeface="Arial"/>
              </a:rPr>
              <a:t>obezbijeđena podjela na tehničko-tehnološke i funkcionalne cjeline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900" spc="-1" strike="noStrike">
                <a:solidFill>
                  <a:srgbClr val="ffffff"/>
                </a:solidFill>
                <a:latin typeface="Arial"/>
              </a:rPr>
              <a:t>SADRŽAJ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495160" y="1989000"/>
            <a:ext cx="765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PRAVILNIK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O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NAČINU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ZRAD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ADRŽINI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TEHNIČK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DOKUMENTACI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ZA GRAĐENJE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OBJEKTA 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Sl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. list CG 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44/18</a:t>
            </a: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, 43/19</a:t>
            </a:r>
            <a:r>
              <a:rPr b="1" lang="en-US" sz="2000" spc="-1" strike="noStrike">
                <a:solidFill>
                  <a:srgbClr val="9edb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REVIZIJE GLAVNOG PROJEKTA (Sl. list CG 18/18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000" spc="-1" strike="noStrike">
                <a:solidFill>
                  <a:srgbClr val="9edb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edbff"/>
                </a:solidFill>
                <a:latin typeface="Arial"/>
              </a:rPr>
              <a:t>ovi pravilnici va</a:t>
            </a:r>
            <a:r>
              <a:rPr b="0" i="1" lang="sr-Latn-ME" sz="2000" spc="-1" strike="noStrike">
                <a:solidFill>
                  <a:srgbClr val="9edbff"/>
                </a:solidFill>
                <a:latin typeface="Arial"/>
              </a:rPr>
              <a:t>že za objekte koji ne spadaju u složene inženjerske objek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adržaj izvještaja o reviz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Izvještaj o reviziji (u elektronskoj formi, sa elektronskim potpisom), sadrž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lovnu stranu sa podacima o objektu, lokaciji,  investitoru, revidentu, projektantu, ... – Obrazac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datke o vršiocu revizije (naziv, sjedište , adresa, matični broj, djeltnost i s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licencu revid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t o imenovanju revizora koji je rukovodio revizijom glavnog projekta u cjelini i revizora za svaki posebn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revizoru (ime i prezime, akademsko zvanje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u revizora koji je rukovodio revizijom glavnog projekta u cjelini i revizora za posebni dio glavnog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datke o projektant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e, prezime i akademsko zvanje ovlašćenog inženjera koji je rukovodio izradom glavnog projekta u cjelini 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vlašćenih inženjera koji su izradili dio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ziv glavnog projekta, odnosno naziv dijel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pis i sadržaj svih djelova glavn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tačne konstatacije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o usklađenosti, odnosno neusklađenosti glavnog projekta u smislu člana 81 st. 2 i 3</a:t>
            </a:r>
            <a:r>
              <a:rPr b="0" lang="sr-Latn-ME" sz="1400" spc="-1" strike="noStrike">
                <a:solidFill>
                  <a:srgbClr val="adad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adadff"/>
                </a:solidFill>
                <a:latin typeface="Arial"/>
              </a:rPr>
              <a:t>Zakon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piju plana, list nepokretnosti i druge dokaze u skladu sa zakon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36180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zitivan izvještaj sadrži i izjavu, koja je data na obrascu u skladu sa posebnim propisom kojim se propisuju obrasci zahtjeva, prijava i izjava u postupku izgradnje objekata, da se na osnovu glavnog projekta može graditi ob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dent od organa za tehničke uslove zahtijeva (obrazac 1) uz ovjeru elektronskim potpisom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piju plana i list nepokretnost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glasnosti,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mišljenja i drugih dokaza u skladu sa zakon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rgan za tehničke uslove dužan je da u roku od 15 dana od dana prijema zahtjeva od revidenta odgovori i dostavi elektronski potpisane tražene dokaze (bez naknade, takse ili drugih troškov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organ za tehničke uslove u propisanom roku ne dostavi dokaze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otpisane naprednim elektronskim potpisom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matraće se da je saglasan sa dostavljenim revidovanim glavnim projektom (koji je dobio uz zahtjev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u izvještaju prilaže elektronski dokaz potvrde prijema zahtjeva od strane organa nadležnog za izdavanje tehničkih uslov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Revident provjerava sve što je predviđeno ovim Pravilnik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Ako Revident utvrdi da j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eophodna provjera tačnosti numeričkih ili grafičkih rezultata (pojedinih djelova ili kompletnog glavnog projekta)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da nedostaju dokazi koji su od uticaja na provjeru ispunjenosti propisanih usl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predložiće investitoru i glavnom inženjeru da obezbijedi dokaze o ispravnosti i tačnosti glavnog projekta, 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na zahtjev investitora, revident može da izvrši potrebne numeričke i grafičke kontrole glavnog projekta, odnosno da pribavi dokaze koji nedostaj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Arial"/>
              </a:rPr>
              <a:t>PRAVILNIK O NAČINU VRŠENJA REVIZIJE GLAVNOG PROJEKTA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nega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neu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je izvještaj o reviziji pozitiv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je dužan da naved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statacije o u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klađenost tehničke dokumentacije u smislu člana 81 stav 2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 3 Zakona planiranju prostora i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sačini pisanu izjavu da se na osnovu glavnog projekta može graditi objek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poseban obrazac koji potpisuje ovlašćeno lice revident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lektronskim potpisom se potpisuje svaki dio glavnog projekta od stran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vlašćenog lica revidenta (direktora firme)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koji rukovodi revizijom u cjelini, a koji potpisuje svaki dio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0078f0"/>
              </a:buClr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revizora dijela glavnog projekta , a koji potpisuje samo taj dio koji je revidov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ještaj  (pozitivan ili negativan) revident je dužan da dostavi investitoru i projektantu koji je izradio glavni projek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Revident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prikuplj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 organa za tehničke uslov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kaze o uređenju odnosa u pogledu plaća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osebne naknade n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nvesticije, u skladu sa zakonom kojim se uređuje regionalno vodosnabdijevanje Crnogorskog primorj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78f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naknade z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komunalno opremanje građevinskog zemljišt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(d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 donošenja plana generalne regulacije Crne Gore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143160" y="2492280"/>
            <a:ext cx="701064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(Sl. list CG 48/18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Stručni nadz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nvestitor je dužan da u toku građenja objekta obezbijedi vršenje stručnog nad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čev od dana izvođenja pripremnih radova na objektu 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vršetka svih radova i stavljanja objekta u upotrebu i obuhvata sve faze građenj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Vršenje stručnog nadzora se  realizuj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reko fizičkih lica  (revizora) odgovarajuće struke (arhitektonske, građevinske, elektro i mašinske), koja s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aposlena kod stručnog nadzora i ko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ispunjavaju uslove shodno članu 125 Zako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ako se na objektu izvode radovi većeg obima, stručni nadzor može za jednu vrstu radova imenovati više reviz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Obaveze stručog nadzora d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troliše ispunjenost uslova definisanih Zakon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apažanja tokom stručnog nadzora upisuje u građevinski dnevni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u pisanoj formi obavijesti investitora ako se radovi ne izvode prema revidovanom glavnom projektu, ovom zakonu i posebnim propisima i/il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naloži izvođaču radova da otkloni utvrđene nedostatke u roku koji mu odred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bez odlaganja prijav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građenje objekta suprotno revidovanom glavnom projektu, ovom zakonu i posebnim propisim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 (a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ko izvođač radova u roku ne otkloni utvrđene nedostatk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sačinjava izvještaj o izvršenom stručnom nadzoru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o fazama građenja   (i dostavlja ga nadležnom inspekcijskom organu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konačni izvještaj (i dostavlja ga </a:t>
            </a: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investitoru, izvođaču radova, Ministarstvu, organu uprave nadležnom za zaštitu kulturnih dobara, u slučaju gradnje na ili u neposrednoj blizini objekta koji je zaštićeno kulturno dobro i nadležnom inspekcijskom organu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AVILNIK O </a:t>
            </a:r>
            <a:r>
              <a:rPr b="1" lang="hr-HR" sz="2600" spc="-1" strike="noStrike">
                <a:solidFill>
                  <a:srgbClr val="ffffff"/>
                </a:solidFill>
                <a:latin typeface="Arial"/>
              </a:rPr>
              <a:t>NAČINU I POSTUPKU </a:t>
            </a: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VRŠENJA STRUČNOG NADZORA</a:t>
            </a:r>
            <a:br>
              <a:rPr sz="2600"/>
            </a:b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Predmet nadzora (iz Zakon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izvođenja radova prema revidovanom glavnom projektu, ovom zakonu i posebnim propisi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usklađenosti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kvaliteta izvođenja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kvaliteta materijala, instalacija i uređaja koji se ugrađuj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vjera da li materijali, instalacije i uređaji koji se ugrađuju imaju propisanu dokumentaciju neophodnu za njihovo stavljanje u upotreb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edovno praćenje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koje je naložio izvođaču radova da preduzme u cilju otklanjanja nedostataka pri izvođenju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radova koji se nakon zatvaranja, odnosno pokrivanja ne mogu kontrolisati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a primjene mjera za zaštitu životne sredin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efinisanje faza za koje je neophodno sačiniti izvještaj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avanje tehnoloških i organizacionih upustava izvođaču radova i rješavanje drugih pitanja u vezi građenja objek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radnja sa projektantom radi obezbjeđenja detalja za nesmetano izvođenje radova i rješavanje drugih pitanja u vezi građenja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 O NAČINU VRŠENJA STRUČNOG NADZORA NAD GRAĐENJEM OBJEKATA </a:t>
            </a:r>
            <a:br>
              <a:rPr sz="2400"/>
            </a:b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Procedure nadz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je početka građenja objekta stručni nadzor, na osnovu revidovanog glavnog pro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še obavezne faze građenja (radovi koji se nakon završetka izvođenja ne mogu kontrolisati) za koje je neophodno sačiniti izvješt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prema plan prijema radov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ostavlja plan investitoru, nadležnom inspekcijskom organu i izvođaču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toku građenja objekt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kontroliše da li se radovi izvode u skladu sa revidovanim glavnim projektom, Zakonom, posebnim propisima i pravilima struk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 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spunjenost osnovnih zahtjeva za objekat, odnosno zahtjeva definisanih revidovanim glavnim projek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ovjer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v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rađevinsk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proizvod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u skladu sa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određuje način otklanjanja nedostataka, odnosno nepravilnosti nastalih tokom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može da zabrani izvođenje radova  ili rukovođenje radovima u posebnim  slučaje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izvještaje  o izvršenom  stručnom nadzoru na pojedinim fazama građenja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konačni izvještaj  o izvršenom  stručnom nadzoru nad građenjem  objekta ili njegovog dije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pažanja tokom strulnog nadzora upisuje u građevinki dnev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trola da li se radovi izvode u skladu sa revidovanim glavnim projektom, Zakonom, posebnim propisima i pravilima stru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eposredno na gradilištu, u mjeri i učestalosti koja osigurava da se u izvođenju neće odstupiti od revidovanog glavnog projekta, Zakona, posebnih propisa i pravila struke u dijelu u kojem su primjenjivi na objekat koji je predmet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i kontrolom izvođenja radova i na drugim mjestima na kojima se izvode radovi za potrebe građenja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svaki od izvođača radova, sa kojima je investitor sklopio ugovor o građenju,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privredno društvo, pravno lice odnosno preduzetnik koji je sa izvođačem radova zaključio ugovor o podizvođenju određenih radova ispunjava uslove propisane Zakonom i posebnim propisim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da li je iskolčavanje objekta obavilo lice registrovano u Centralnom registru privrednih subjekata za obavljanje tih posl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kontrolom upotrebljivosti građevinskih proizvoda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aćenjem dinamike izvođenja radova i poštovanje ugovorenih rok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njem izvještaja po fazama građenj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71880" indent="-31860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vršenjem drugih aktivnosti propisanih Zakonom, ovim pravilnikom i posebnim propisima u dijelu u kojem su primjenjivi na objekat koji je predmet stručnog nadzora.dodatno definisa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rovjer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a,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odnosno dokazivanj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 ispunjenosti osnovnih zahtjeva za objekat, zahtjeva definisanih revidovanim glavnim projektom kao i obaveze provjere građevinskih proizvoda u skladu sa posebnim propis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u izvršeni pripremni rad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iskolčavanje objekta izvršeno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troliše da li se izvode radovi na objektu u skladu sa revidovanim glavnim projekt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varuje saradnju sa projektantom radi obezbjeđenja detalja za nesmetano izvođenje radova i rješavanje drugih pitanja u vezi građenja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uje kontrolno tijelo i način sprovođenja kontrolnih postupaka u slučaju sumnje na kvalitet izvršenih radova ili ugrađenih građevinskih proizvoda, o čemu predhodno obavještava investit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van gradilišta za potrebe tog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vjerava da li je dokazana upotrebljivost građevinskog proizvoda proizvedenog na gradilištu za potrebe tog objekt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99960" indent="-34272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obrava odnosno zabranjuje ugradnju 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đevinskih proizvoda upisom u građevinski dnevni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Nadzor određuje n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ačin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otklanjanja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utvrđenih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dostataka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vi-VN" sz="2000" spc="-1" strike="noStrike">
                <a:solidFill>
                  <a:srgbClr val="ffffff"/>
                </a:solidFill>
                <a:latin typeface="Arial"/>
              </a:rPr>
              <a:t>nepravilnosti nastalih tokom građenja objek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ko dokumentacijom o ispitivanjima određenih dijelova objekta radi provjere odnosno dokazivanja ispunjenosti osnovnih zahtjeva za objekat predviđenih revidovanim glavnim projektom, nije dokazana usaglašenost, odnosno kvalitet objekta, njegovih dijelova, proizvoda, opreme i/ili postroj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nači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provođenja postupaka kojima se može utvrditi stvarno stanje u odnosu na usaglašenost odnosno kvalitet ugrađenih dijelova objekata, građevinskih i drugih proizvoda, opreme i/ili postroj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ređ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čunske ili druge provjere ispunjavanja propisanih zahtjeva za objekat pri čemu se uzima u obzir stvarno stanje u odnosu na usaglašenost, odnosno kvalitet ugrađenih dijelova objekta, građevinskih i drugih proizvoda, opreme i/ili postrojenja; i/il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dređuje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ugi primjereni način kojim se može utvrditi zatečeno stvarno izvedeno stanje objekta (neposrednim uvidom, uvidom u dokumentaciju objekta, uzimanjem i ispitivanjem uzoraka sklopova objekta i proračunima) u svrhu upoređivanja sa svojstvima koje mora imati objekat odnosno njegovi dijelovi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34880" y="2492280"/>
            <a:ext cx="9117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AVILNIK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ČINU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ZRAD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DRŽINI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HNIČK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CI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 GRAĐENJE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A 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. list C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4/18</a:t>
            </a:r>
            <a:r>
              <a:rPr b="1" lang="sr-Latn-ME" sz="2400" spc="-1" strike="noStrike">
                <a:solidFill>
                  <a:srgbClr val="ffffff"/>
                </a:solidFill>
                <a:latin typeface="Arial"/>
              </a:rPr>
              <a:t>, 43/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Zabrana izvođenja radova u svrhu otklanjanja nedostataka odnosno nepravilnosti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Uslovi pod kojima se može zabraniti izvođenje rado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ko izvođač radova ne ispunjava ili prestane da ispunjava uslove propisane Zakonom i posebnim propis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juje se rukovođenje građenjem, odnosno rukovođenjem pojedinim vrstama radova, ako ovlašćeni inženjer ne ispunjava ili prestane da ispunjava uslove propisane Zakonom i posebnim propis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iskolčavanje objekta nije izvršeno u skladu sa revidovanim glavnim projek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 slučaju da  izvođač radova ne izvodi radove na objektu u skladu sa revidovanim glavnim projektom , nakon što se ocijeni d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stavak građenja odnosno izvođenja pojedinih vrsta radova može ugroziti ili onemogućiti sprovođenje  načina otklanjanja nedostat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ugrožena stabilnost objekta koji se gradi, stabilnost susjednih objekata i/ili zemljišta, i/i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je moguće ugrožavanje života i zdravlja ljudi ili javnog interes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Procedura za zabranu i nastavak građen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zabrana se upisuje u građevinski dnevnik odmah nakon utvrđivanja činje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nakon upisane zabrane treba da se obezbijedi objekat odnosno dio objekta na kojem se građenje obustavlj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vođenje radova se smije nastaviti nakon što revizor utvrdi da li su nedostaci odnosno nepravilnosti  otklonjene i upiše u građevinski dnevnik prestanak zabra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24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prema  ga glavni revizor na osnovu izvještaja za pojedine vrste radova koji su sastavni dio ovog izvještaj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tpisuje  se naprednim elektronskim potpis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e svih  imenovanih reviz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4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naslovna strana (naziv stručnog nadzora; naziv objekta ili njegovog dijela; namjenu i lokaciju objekta; naziv investitora; naziv izvođača radova) - Obrazac 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tke o izvođaču radova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vrsta radova na građenju objekta, zavisno od namjene objekta, na osnovu arhitektonskog, građevinskog, elektro odnosno mašinskog pro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opis vrste radov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podaci o projektantu i revident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izvještaji o sprovođenju kontrolnih ispitivanja i drugih kontrolnih postupaka u pogledu ocjene i provjere svojstava odnosno dokazivanja kvaliteta određenih dijelova objekta odnosno faze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a o nepravilnostima uočenim u toku građenja faze objekta, kao i o nedostacima tokom građenja i njihovom otklanjanju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zjavu ovlašćenog inženjera koji rukovodi izvođenjem pojedinih vrsta radova na građenju objekta, datu na obrascu u skladu sa propisom kojim se uređuju obrasci zahtjeva, prijava, obavještenja i izjave u oblasti izgradnje objekat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ruge podatke u vezi sa vršenjem stručnog nadzora zavisno od vrste objekta i izvedenim radovi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priprem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 g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glavni revizor koji je bio imenovan u trenutku završetka građenja objekta na osnovu izvještaja za pojedine vrste radova koji su sastavni dio konačnog izvještaja i zapisnika o primopredaji radova i dokumentacije od prethodnih revizor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ačinjava se u elektronskom obliku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tpisuje  se naprednim elektronskim potpisom (glavni revizor, revizor i odgovorno lice u privrednom društvu koje je obavljalo poslove stručnog nadzor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ilažu se sljedeći dokumenti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stručnog nadzora koji sadrži podatke o stručnom nadzoru (naziv, sjedište, adresa, matični i registarski broj, djelatnos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kt o imenovanju glavnog revizora i revizora, koji sadrži ime, prezime i akademsko zvanje revi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icence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svih imenovanih reviz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dokaz o osiguranju od profesionalne odgovornosti stručnog nadzor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j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ovlašćenog inženjera koji rukovodi građenjem objekta u cjelini, datu na obrascu u skladu sa propisom kojim se uređuju obrasci zahtjeva, prijava, obavještenja i izjave u oblasti izgradnje objekat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zapis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 nadležnih inspekcijskih organa, koji su u skladu sa posebnim propisima obavezni, a u kojima je konstatovano da je objekat izgrađen u skladu sa revidovanim glavnim projektom, odnosno projektom izvedenog stanja;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laborat originalnih terenskih podataka izvedenog stanja ovjeren od strane registrovane geodetske organizacij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82440" y="1844280"/>
            <a:ext cx="106203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naslov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stran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 (naziv stručnog nadzora; naziv objekta ili njegovog dijela; namjenu i lokaciju objekta; naziv investitora; naziv izvođača radova) -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izvođaču radova (naziv, sjedište, adresa, matični i registarski broj, djelatno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me, prezime i akademsko zvanje ovlašćenog inženjera koji je rukovodio građenjem objekta u cjelini i ovlašćenih inženjera koji su rukovodili izvođenjem pojedinih radova na građenju objekta, zavisno od namjene objekta, na osnovu arhitektonskog, građevinskog, elektro odnosno mašinskog pro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broj prijave građenj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kraći opis objekta (vrste radov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o projektantu i revident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izvještaje o sprovođenju kontrolnih ispitivanja i drugih kontrolnih postupaka u pogledu ocjene i provjere svojstava odnosno dokazivanja kvaliteta određenih dijelova objekta odnosno objekta u cjelin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b9d6e7"/>
                </a:solidFill>
                <a:latin typeface="Arial"/>
              </a:rPr>
              <a:t>z</a:t>
            </a: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apažanja o nepravilnostima uočenim u toku građenja, kao i o nedostacima tokom građenja i njihovom otklanjanju kao i o njihovom uticaju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 vođenju, objedinjavanju i čuvanju građevinskog dnevnik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izmjenama revidovanog glavnog projekta nastalim tokom izvođenja radov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</a:t>
            </a: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1" lang="sr-Latn-ME" sz="2000" spc="-1" strike="noStrike">
                <a:solidFill>
                  <a:srgbClr val="ffffff"/>
                </a:solidFill>
                <a:latin typeface="Arial"/>
              </a:rPr>
              <a:t>Konačni izvještaj stručnog nadzora o izvršenom stručnom nadzoru po fazama građe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82440" y="1752120"/>
            <a:ext cx="106203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>
                <a:solidFill>
                  <a:srgbClr val="ffffff"/>
                </a:solidFill>
                <a:latin typeface="Arial"/>
              </a:rPr>
              <a:t>Sadržaj - </a:t>
            </a:r>
            <a:r>
              <a:rPr b="1" i="1" lang="sr-Latn-ME" sz="1600" spc="-1" strike="noStrike">
                <a:solidFill>
                  <a:srgbClr val="ffffff"/>
                </a:solidFill>
                <a:latin typeface="Arial"/>
              </a:rPr>
              <a:t>nastav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sprovedenom probnom rad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vještaj o probnom opterećenju, ako je sproveden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b9d6e7"/>
                </a:solidFill>
                <a:latin typeface="Arial"/>
              </a:rPr>
              <a:t>zapažanje o eventualno neizvedenim radovima koji su predviđeni revidovanim glavnim projektom, a koji nemaju uticaja na upotrebu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pod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ci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u vezi sa vršenjem stručnog nadzora zavisno od vrste objekta i izvedenim radovima (uvođenje u posao, primopredaja radova i dokumentacije i sl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o cjelovitosti i međusobnoj usklađenosti stručnog nadzo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java stručnog nadzora da je objekat izveden u skladu sa revidovanim glavnim projektom, odnosno projektom izvedenog objekta, Zakonom i posebnim propisima i da je podoban za upotreb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karakteristika tla i objekta, u određenom roku vrši odgovarajuća osmatranja ponašanja tla i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investitora da, u zavisnosti od vrste objekta, u određenom roku vrši odgovarajuća osmatranja uticaja objekta na životnu sredinu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avezu investitora da o rezultatima osmatranja ponašanja tla i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matranja uticaja objekta na životnu sredinu i preduzetim mjerama obavještava nadležni inspekcijski orga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78f0"/>
              </a:buClr>
              <a:buSzPct val="11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27160" y="1916280"/>
            <a:ext cx="10476000" cy="41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uslovi  koje mora ispuniti tehnička dokumentacija, odnosno mora biti u skladu sa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akonom o planiranju prostora i izgradnji objek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osebnim propis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avilima struke 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urbanističko-tehničkim uslov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e vrste tehničke dokumentacije i njihov sadržaj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o rješe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Idejni proje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Glavn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Projekat izvedenog objek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Definisani djelovi tehničke dokumentaci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arhitektonski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građevinski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elektrotehnički 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Arial"/>
              </a:rPr>
              <a:t>mašinski projek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o rješenje</a:t>
            </a: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ikaz planirane koncepcije objekt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ad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vanja saglasnosti državnog arhitekte za zgrade, trgove i ostale javne površin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gledava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resursnih i prostornih mogućnosti i ograničenja izgradnje objek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 ciljem da 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svoji makrolokacija i prostorn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ispozicija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tvrde osnovne funkcio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lne, tehnološke i tehničke karakteristike 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faznost građenj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 prema prostoru i životnoj sredini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dnosno definiše optimalni koridor za linijske objek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Arial"/>
              </a:rPr>
              <a:t>Idejni projekat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međusobno usklađene dijelove pojedinih projekata, kojima s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aju tehnička rješen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bjekta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efiniše objekat u prostoru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rjentaciono dokazuje ispunjenost osnovnih zahtjeva za objek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okazuje usklađenost sa zakonom, propisima, pravilima struke i UT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Glavni projekat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ži međusobno usaglašene projekte neophodne za prijavu građenja i građenje objekta, kojim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se definiše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ložaj i kapacitet objek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storno oblikovanj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zbor konstruktivnog sistem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dimenzionisanje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onstruktivnih elemenat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bor građevinskih materijala, instalacija i opreme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vrijednost građevinskih, zanatskih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instalaterskih i drugih radova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a rješenja priključaka objekta na odgovarajuću saobraćajnu, instalacionu 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drugu infrastrukturu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kao i druge proračune potrebne za prikaz svih detalja neophodnih za građenje objekta,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uređenje slobodnih površina i uslove za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Za linijske infrastrukturne objekte u glavnom projektu se definiše trasa objekta sa svim potrebnim elemen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600" spc="-1" strike="noStrike" u="sng">
                <a:solidFill>
                  <a:srgbClr val="ffffff"/>
                </a:solidFill>
                <a:uFillTx/>
                <a:latin typeface="Arial"/>
              </a:rPr>
              <a:t>Projekat izvedenog objekta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adrži međusobno usaglašene projekte sa prikazom izmjena glavnog projekta 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Zakonom, a neophodnih za korišćenje i održavanje ob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Izrada i sadržaj tehničk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opštu dokument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rojektni zadat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kstualn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umer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grafičku dokumentaciju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loge za izradu tehničke dokumentac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izrađuje se u elektronskoj formi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(bez mogućnost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promjena njenog sadržaja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– (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dan primjerak glavnog projekta izrađuje se u analognoj formi za potreb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rađenja objekta, odnosno izvođenja pojedinih vrsta radova na objektu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n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ivi fajlova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skladu sa naslovom projek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ve se čuva u jednom folderu u kojem postoje posebni folder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pšta dokumentacija i projektni zadata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 d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jelovi tehničke dokumentacij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 (u ovom folderu su kao posebni fajlovi sačuvani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arhitektonski, građevinski, elektrotehnički i mašinski projekat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u .pdf format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folder u kojem se čuvaju 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ostali projekti, elaborati i podlo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naslovna strana sa podacima o  objektu, lokaciji, investitoru, projektantu, datumu izrade.. Obrazac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tehničke dokumentacije, odnosno spisak foldera ukoliko se tehnička dokumentacija sastoji iz više folder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sadržaj pojedinih dijelova tehničke dokumentacije, odnosno foldera koji čine tehničku dokumentacij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vi-VN" sz="1600" spc="-1" strike="noStrike">
                <a:solidFill>
                  <a:srgbClr val="ffffff"/>
                </a:solidFill>
                <a:latin typeface="Arial"/>
              </a:rPr>
              <a:t>govor između investitora i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podaci o projektantu (naziv, sjedište, adresa, matični i registarski broj, djelatnost);izvod iz Centralnog registra privrednih subjekata za  projektantsku organizaciju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licenca  projektan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rješenje o imenovanju ovlašćenog inženjera koji rukovodi izradom tehničke dokumentacije u cjelini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(glavni inženjer)</a:t>
            </a:r>
            <a:r>
              <a:rPr b="0" lang="pt-BR" sz="1600" spc="-1" strike="noStrike">
                <a:solidFill>
                  <a:srgbClr val="9edb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9edbff"/>
                </a:solidFill>
                <a:latin typeface="Arial"/>
              </a:rPr>
              <a:t>spisak odgovornih ovlašćenih inženjera za pojedine djelove tehničke dokumentacije - Obrazac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licenca ovlašćenog inženjera koji rukovodi izradom tehničke dokumentacije u cjelini (glavni inženjer) i licence odgovornih ovlašćenih inženjera za pojedine djelove tehničke dokumentacije (odgovorni inženj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00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7,8 i 9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35240" y="457200"/>
            <a:ext cx="9347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VILNIK O NAČINU IZRADE I SADRŽINI TEHNIČKE DOKUMENTACIJE ZA GRAĐENJE OBJEKTA </a:t>
            </a:r>
            <a:br>
              <a:rPr sz="2000"/>
            </a:br>
            <a:r>
              <a:rPr b="0" lang="sr-Latn-ME" sz="2000" spc="-1" strike="noStrike">
                <a:solidFill>
                  <a:srgbClr val="ffffff"/>
                </a:solidFill>
                <a:latin typeface="Arial"/>
              </a:rPr>
              <a:t>Sadržaj opšte dokument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82440" y="1989000"/>
            <a:ext cx="1062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dokaz o osiguranju od profesionalne odgovornosti projektan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urbanističko - tehnički uslov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zjava odgovornog 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da je tehnička dokumentacija izrađena u skladu sa propisima - Obrazac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i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zjava o međusobnoj usaglašenosti svih djelova tehničke dokumentacije, potpisanu od strane glavnog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 </a:t>
            </a:r>
            <a:r>
              <a:rPr b="0" lang="vi-VN" sz="1600" spc="-1" strike="noStrike">
                <a:solidFill>
                  <a:srgbClr val="9edbff"/>
                </a:solidFill>
                <a:latin typeface="Arial"/>
              </a:rPr>
              <a:t>inženjera</a:t>
            </a: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- Obrazac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</a:rPr>
              <a:t>tehnički opis za objeka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uputstvo za upravljanje sa građevinskim otpadom, odnosno opasnim otpadom koji nastaje tokom građenja, korišćenja odnosno uklanjanja objekta, u skladu sa posebnim propiso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zbirna rekapitulacija predmjera i predračuna radova;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9edbff"/>
                </a:solidFill>
                <a:latin typeface="Arial"/>
              </a:rPr>
              <a:t>podaci potrebni za statistiku dati su na obrascu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c9e4ff"/>
                </a:solidFill>
                <a:latin typeface="Arial"/>
              </a:rPr>
              <a:t>stavke 12, 13, 15, 16, 17 se ne prilažu uz idejno rješen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10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2:39Z</dcterms:created>
  <dc:creator>rade</dc:creator>
  <dc:description/>
  <dc:language>en-US</dc:language>
  <cp:lastModifiedBy>sneza</cp:lastModifiedBy>
  <cp:lastPrinted>2019-03-18T11:47:40Z</cp:lastPrinted>
  <dcterms:modified xsi:type="dcterms:W3CDTF">2020-10-15T00:05:44Z</dcterms:modified>
  <cp:revision>343</cp:revision>
  <dc:subject/>
  <dc:title>ZAKON O IZGRADNJI OBJEKATA</dc:title>
</cp:coreProperties>
</file>