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8AB-FFD4-4D61-957A-C31D9FB2FC9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9402-A7DF-432F-872B-B661EFCE76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028-4614-4EB3-9438-89A6DFCFC8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8C7-FAA2-4AB9-B767-55D10D16370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A615-C4F1-4726-A690-3A787C08A23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2081-8D0C-4B85-BAE9-5010F2F5EB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EDEE-2B30-4F2E-91FE-51EFD7A9FA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AA6D-F675-4DAA-80DE-49AAA3E8848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B29C-CDB5-458E-951D-6D73071FB6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D48-E20D-45EE-B92C-30AA37C047D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1B8-238B-4FA3-9BED-8D3157EB3DE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087-3B3D-457B-ACCB-FDED25DFAC9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BF7-E853-413D-B423-6AD7EE410E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EE70-C51E-4325-A1B2-5F51F39FE3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6403-B57E-42A8-A79C-9A1C94DEDE2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A95-F3D9-412A-A994-98A51ED0267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B8F6-7649-46BA-A755-2146E90723F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CA9-25C2-427E-ABE0-2B16616C8E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AB7-00ED-4CC4-B138-C6057AC1E05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8D6-63EE-4248-8395-ECDEF15413D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05C-CD72-4C43-B160-BCB68259CBE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0F1C-502A-4EE2-BF45-7A31894E917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3747-B106-4A86-A4DD-7E6E2D5EC8F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A6BF-FB24-46E2-AF15-6D8F118FC33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5E8A-B489-4E1C-9C29-C3EA6205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4324-CF4C-44EE-BA70-B95B4C9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0902-5CCF-4540-8423-567B4B7C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8CC3-423A-4E24-A7B3-59E4CACD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2151-07D6-43CA-A33E-2F4FFDEB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49DC-6079-428D-B643-9231511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92BE-30EF-42C0-BFC0-3114F4CB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D3F-FF8D-4A9A-927D-E0A4D55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C6D3-390E-4BCA-A48B-FDF0446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A4C-1667-4E82-9233-8A885EE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69DB-86C7-45BE-949C-39DBD4B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5EE3-D6C9-42BF-B882-38FDD043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320-2C1F-4D43-B0FB-7157906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2E67-D1FA-4091-91BC-0415E28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D4C-18A5-4F2B-96BC-6631293E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127-F02B-490C-A4BC-F8C29AFF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B630-17C6-4065-AA6E-E17C5A4C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9503-0E0A-4A22-8317-DCC8713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3AC4-9DC3-4A55-A200-0B760DF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9DF5-442C-4C4E-B6B0-C671D2CD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5DD3-3695-4E26-A0CF-8C48FA6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8571-4803-4E33-BCE1-D2618ED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DC7C-F320-432C-A1FC-374118C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710C-3BA1-41D1-8B6F-E174DC8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7E3-5A61-4202-9440-57940E0D0F28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508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0980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0980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0980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0CC5-5990-4736-BD74-78FABBA34E3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54/09, 40/11, 42/15, 054/16, 055/18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potrebi </a:t>
            </a:r>
            <a:r>
              <a:rPr b="1" lang="sr-Latn-ME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r>
              <a:rPr b="0" lang="en-US" sz="1400" spc="-1" strike="noStrike">
                <a:solidFill>
                  <a:srgbClr val="93c9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hr-HR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00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ližem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00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00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bližoj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adadff"/>
                </a:solidFill>
                <a:latin typeface="Arial"/>
                <a:ea typeface="Times New Roman"/>
              </a:rPr>
              <a:t>Sl. list CG, br.</a:t>
            </a:r>
            <a:r>
              <a:rPr b="1" i="1" lang="sl-SI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etehnički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2:12:17Z</dcterms:modified>
  <cp:revision>358</cp:revision>
  <dc:subject/>
  <dc:title>ZAKON O IZGRADNJI OBJEKATA</dc:title>
</cp:coreProperties>
</file>