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133360" y="228600"/>
            <a:ext cx="2438280" cy="1905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456840" y="2285640"/>
            <a:ext cx="6095880" cy="6553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A242D-6724-4090-AF64-418BFD444364}"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DC78E-7348-43A9-A317-3FC8E85F081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2082960" y="228600"/>
            <a:ext cx="2539800" cy="1905120"/>
          </a:xfrm>
          <a:prstGeom prst="rect">
            <a:avLst/>
          </a:prstGeom>
          <a:ln w="0">
            <a:noFill/>
          </a:ln>
        </p:spPr>
      </p:sp>
      <p:sp>
        <p:nvSpPr>
          <p:cNvPr id="19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nijete su 1977. godine sa ciljem da se </a:t>
            </a:r>
            <a:r>
              <a:rPr b="1" lang="sr-Latn-CS" sz="1200" spc="-1" strike="noStrike">
                <a:solidFill>
                  <a:srgbClr val="000000"/>
                </a:solidFill>
                <a:latin typeface="Arial"/>
              </a:rPr>
              <a:t>š</a:t>
            </a:r>
            <a:r>
              <a:rPr b="1" lang="en-GB" sz="1200" spc="-1" strike="noStrike">
                <a:solidFill>
                  <a:srgbClr val="000000"/>
                </a:solidFill>
                <a:latin typeface="Arial"/>
              </a:rPr>
              <a:t>to</a:t>
            </a:r>
            <a:r>
              <a:rPr b="1" lang="sr-Latn-CS" sz="1200" spc="-1" strike="noStrike">
                <a:solidFill>
                  <a:srgbClr val="000000"/>
                </a:solidFill>
                <a:latin typeface="Arial"/>
              </a:rPr>
              <a:t> bolje i</a:t>
            </a:r>
            <a:r>
              <a:rPr b="1" lang="en-GB" sz="1200" spc="-1" strike="noStrike">
                <a:solidFill>
                  <a:srgbClr val="000000"/>
                </a:solidFill>
                <a:latin typeface="Arial"/>
              </a:rPr>
              <a:t> pravednije defini</a:t>
            </a:r>
            <a:r>
              <a:rPr b="1" lang="sr-Latn-CS" sz="1200" spc="-1" strike="noStrike">
                <a:solidFill>
                  <a:srgbClr val="000000"/>
                </a:solidFill>
                <a:latin typeface="Arial"/>
              </a:rPr>
              <a:t>š</a:t>
            </a:r>
            <a:r>
              <a:rPr b="1" lang="en-GB" sz="1200" spc="-1" strike="noStrike">
                <a:solidFill>
                  <a:srgbClr val="000000"/>
                </a:solidFill>
                <a:latin typeface="Arial"/>
              </a:rPr>
              <a:t>u odnosi i</a:t>
            </a:r>
            <a:r>
              <a:rPr b="1" lang="sr-Latn-CS" sz="1200" spc="-1" strike="noStrike">
                <a:solidFill>
                  <a:srgbClr val="000000"/>
                </a:solidFill>
                <a:latin typeface="Arial"/>
              </a:rPr>
              <a:t>z</a:t>
            </a:r>
            <a:r>
              <a:rPr b="1" lang="en-GB" sz="1200" spc="-1" strike="noStrike">
                <a:solidFill>
                  <a:srgbClr val="000000"/>
                </a:solidFill>
                <a:latin typeface="Arial"/>
              </a:rPr>
              <a:t>me</a:t>
            </a:r>
            <a:r>
              <a:rPr b="1" lang="sr-Latn-CS" sz="1200" spc="-1" strike="noStrike">
                <a:solidFill>
                  <a:srgbClr val="000000"/>
                </a:solidFill>
                <a:latin typeface="Arial"/>
              </a:rPr>
              <a:t>đ</a:t>
            </a:r>
            <a:r>
              <a:rPr b="1" lang="en-GB" sz="1200" spc="-1" strike="noStrike">
                <a:solidFill>
                  <a:srgbClr val="000000"/>
                </a:solidFill>
                <a:latin typeface="Arial"/>
              </a:rPr>
              <a:t>u u</a:t>
            </a:r>
            <a:r>
              <a:rPr b="1" lang="sr-Latn-CS" sz="1200" spc="-1" strike="noStrike">
                <a:solidFill>
                  <a:srgbClr val="000000"/>
                </a:solidFill>
                <a:latin typeface="Arial"/>
              </a:rPr>
              <a:t>č</a:t>
            </a:r>
            <a:r>
              <a:rPr b="1" lang="en-GB" sz="1200" spc="-1" strike="noStrike">
                <a:solidFill>
                  <a:srgbClr val="000000"/>
                </a:solidFill>
                <a:latin typeface="Arial"/>
              </a:rPr>
              <a:t>esnika</a:t>
            </a:r>
            <a:r>
              <a:rPr b="1" lang="sr-Latn-CS" sz="1200" spc="-1" strike="noStrike">
                <a:solidFill>
                  <a:srgbClr val="000000"/>
                </a:solidFill>
                <a:latin typeface="Arial"/>
              </a:rPr>
              <a:t> u izgradnji objekata. </a:t>
            </a:r>
            <a:r>
              <a:rPr b="1" lang="en-US" sz="1200" spc="-1" strike="noStrike">
                <a:solidFill>
                  <a:srgbClr val="000000"/>
                </a:solidFill>
                <a:latin typeface="Arial"/>
              </a:rPr>
              <a:t>ranije </a:t>
            </a:r>
            <a:r>
              <a:rPr b="1" lang="sr-Latn-CS" sz="1200" spc="-1" strike="noStrike">
                <a:solidFill>
                  <a:srgbClr val="000000"/>
                </a:solidFill>
                <a:latin typeface="Arial"/>
              </a:rPr>
              <a:t>se smatra</a:t>
            </a:r>
            <a:r>
              <a:rPr b="1" lang="en-US" sz="1200" spc="-1" strike="noStrike">
                <a:solidFill>
                  <a:srgbClr val="000000"/>
                </a:solidFill>
                <a:latin typeface="Arial"/>
              </a:rPr>
              <a:t>lo</a:t>
            </a:r>
            <a:r>
              <a:rPr b="1" lang="sr-Latn-CS" sz="1200" spc="-1" strike="noStrike">
                <a:solidFill>
                  <a:srgbClr val="000000"/>
                </a:solidFill>
                <a:latin typeface="Arial"/>
              </a:rPr>
              <a:t> da su Investitor i izvođač u obavezi da ih primjenjuju, ukoliko se u ugovoru izričito ne odreknu ovog prava</a:t>
            </a:r>
            <a:r>
              <a:rPr b="1" lang="en-US" sz="1200" spc="-1" strike="noStrike">
                <a:solidFill>
                  <a:srgbClr val="000000"/>
                </a:solidFill>
                <a:latin typeface="Arial"/>
              </a:rPr>
              <a:t>, ali je to iskljuceno novim Zakonom o obligacionim odnosima, pa one vaze samo ukoliko se u Ugovoru direktno napise da ove va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Uzanse propisuju ono što je uobičajeno da se radi u praks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85B00-8EB2-44BC-A38F-599992E31B5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2082960" y="228600"/>
            <a:ext cx="2539800" cy="1905120"/>
          </a:xfrm>
          <a:prstGeom prst="rect">
            <a:avLst/>
          </a:prstGeom>
          <a:ln w="0">
            <a:noFill/>
          </a:ln>
        </p:spPr>
      </p:sp>
      <p:sp>
        <p:nvSpPr>
          <p:cNvPr id="218"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Nestabilnost tržišta je razlog za izmjenu cijena ugovorenih radova. Ovaj uslov postojao je i u Zakonu  o obligacionim odnosima, ali su granice promjene cijena ovdje drugačije definisane, odnosno:</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se cijene pojedinih materijala, odnosno usluga promijene za </a:t>
            </a:r>
            <a:r>
              <a:rPr b="0" lang="en-GB" sz="700" spc="-1" strike="noStrike">
                <a:solidFill>
                  <a:srgbClr val="000000"/>
                </a:solidFill>
                <a:latin typeface="Arial"/>
              </a:rPr>
              <a:t>&gt;</a:t>
            </a:r>
            <a:r>
              <a:rPr b="0" lang="sr-Latn-CS" sz="700" spc="-1" strike="noStrike">
                <a:solidFill>
                  <a:srgbClr val="000000"/>
                </a:solidFill>
                <a:latin typeface="Arial"/>
              </a:rPr>
              <a:t> od 5%,</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ukupna promjena cijena svih materijala i usluga iznosi  više  od </a:t>
            </a:r>
            <a:r>
              <a:rPr b="0" lang="en-GB" sz="700" spc="-1" strike="noStrike">
                <a:solidFill>
                  <a:srgbClr val="000000"/>
                </a:solidFill>
                <a:latin typeface="Arial"/>
              </a:rPr>
              <a:t>&gt;</a:t>
            </a:r>
            <a:r>
              <a:rPr b="0" lang="sr-Latn-CS" sz="700" spc="-1" strike="noStrike">
                <a:solidFill>
                  <a:srgbClr val="000000"/>
                </a:solidFill>
                <a:latin typeface="Arial"/>
              </a:rPr>
              <a:t> od 3%,</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ukupna promjena cijena materijala i usluga mijenja ugovorenu vrijednost radova za </a:t>
            </a:r>
            <a:r>
              <a:rPr b="0" lang="en-GB" sz="700" spc="-1" strike="noStrike">
                <a:solidFill>
                  <a:srgbClr val="000000"/>
                </a:solidFill>
                <a:latin typeface="Arial"/>
              </a:rPr>
              <a:t>&gt;</a:t>
            </a:r>
            <a:r>
              <a:rPr b="0" lang="sr-Latn-CS" sz="700" spc="-1" strike="noStrike">
                <a:solidFill>
                  <a:srgbClr val="000000"/>
                </a:solidFill>
                <a:latin typeface="Arial"/>
              </a:rPr>
              <a:t> od 2%, </a:t>
            </a:r>
            <a:endParaRPr b="0" lang="en-US" sz="700" spc="-1" strike="noStrike">
              <a:solidFill>
                <a:srgbClr val="000000"/>
              </a:solidFill>
              <a:latin typeface="Arial"/>
            </a:endParaRPr>
          </a:p>
          <a:p>
            <a:pPr lvl="1" marL="685800"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858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Porast troškova života je takođe razlog za korekciju cijena. Rast troškova života se utvrđuje na osnovu statističkih podataka nadležnog organa za poslove statistike. Obračun ove razlike u cijeni radi se na osnovu podataka o % učešća ličnih dohodaka i terenskih dodataka u ukupnom prihodu iz prethodne godine za odgovarajuću granu iz oblasti građevinarstva, a ne za konkretnog izvoćača radova. Ovaj procenat učešća ličnih dohodaka i terenskih dodataka se uzima za proračun tročkova LD i TD u ugovoru (pomnoži se ukupna vrijednost ugovora sa ovim procentom). Na tako dobijen iznos bruto LD i TD primjenjuje se procenat porasta odnosno smanjenja troškova života. Kada tokom realizacije ugovora bude postignut uslov za povećanje porasta troškova života za više od 5 % ima se pravo obračuna razlike u cijeni po ovom osnovu. Sljedeći obračun razlike u cijeni po ovom osnovu radi se nakon 6 mjeseci (bez obzira koliki je rast troškova života u tom periodu). KOnačni obračun razlike u cijeni radi se na kraju u konačnom obračunu.</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Na osnovu ispunjenosti bilo kog uslova za izmjenu cijene po prethodno rečenom treba odrediti i koji se to procenat izmjene cijena priznaje. Uzansama je određeno da je to: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a:solidFill>
                  <a:srgbClr val="000000"/>
                </a:solidFill>
                <a:latin typeface="Arial"/>
              </a:rPr>
              <a:t>Xdz= Xst- Xgr + 0,5 Xgr</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neka je </a:t>
            </a:r>
            <a:r>
              <a:rPr b="0" i="1" lang="sr-Latn-CS" sz="700" spc="-1" strike="noStrike">
                <a:solidFill>
                  <a:srgbClr val="000000"/>
                </a:solidFill>
                <a:latin typeface="Arial"/>
              </a:rPr>
              <a:t>Xgr – granični iznos u % (procenti koji su definisani kao granične vrijednosti u posebnim uzansam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a:solidFill>
                  <a:srgbClr val="000000"/>
                </a:solidFill>
                <a:latin typeface="Arial"/>
              </a:rPr>
              <a:t>	</a:t>
            </a:r>
            <a:r>
              <a:rPr b="0" i="1" lang="sr-Latn-CS" sz="700" spc="-1" strike="noStrike">
                <a:solidFill>
                  <a:srgbClr val="000000"/>
                </a:solidFill>
                <a:latin typeface="Arial"/>
              </a:rPr>
              <a:t>X st – stvarni iznos u % (stvarni % promjene nekih od uslova koji iniciraju izmjenu cijen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a:solidFill>
                  <a:srgbClr val="000000"/>
                </a:solidFill>
                <a:latin typeface="Arial"/>
              </a:rPr>
              <a:t>	</a:t>
            </a:r>
            <a:r>
              <a:rPr b="0" i="1" lang="sr-Latn-CS" sz="700" spc="-1" strike="noStrike">
                <a:solidFill>
                  <a:srgbClr val="000000"/>
                </a:solidFill>
                <a:latin typeface="Arial"/>
              </a:rPr>
              <a:t>X  dz – dozvoljeni iznos u % (dozvoljeni % izmjene cijen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u="sng">
                <a:solidFill>
                  <a:srgbClr val="000000"/>
                </a:solidFill>
                <a:uFillTx/>
                <a:latin typeface="Arial"/>
              </a:rPr>
              <a:t>Prema ZOO je Xdz=Xst-Xgr</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Slično ZOO ugovarač ne može zahtijevati izmjenu cijene zbog promijenjenih okolnosti koje su nastale po isteku roka odreženog za ispunjenje njegove obaveze, osim ako je za docnju kriva druga strana. Ovdje se međutim pravi izuzetak u smislu priznavanja prava na izmjenu cijene i u slučaju ako su promijenjene okolnosti koje bi nastupile i da je ugovorna obaveza  ispunjena u predviđenom roku. (ovakav slučaj postoji kod neočekivanih uslova fundiranja ili sl.)</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Ugovarači se mogu saglasiti da se cijena neće mijenjati kad nastupe promijenjene okolnosti. Međutim, prema Uzansama (u smislu pravičnosti i poštenja) je predviđeno da i pored te klauzule može se zahtijevati izmjena cijena, ukoliko ona iznosi više od 10%. Pri tome se ima pravo na rzliku u cijeni koja prelazi 10%. (NPR: stvarna promjena cijena bi bila 13%, može se zahtijevati izmjena cijena, pri čemu bi cijena bila izmijenjena za 13%-10%=3%.</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Izvođač nema pravo izmjene cijene zbog izmjene cijene materijala (u procentu većem od Xgr), ukoliko je primio avans za nabavku materijala, jer se smatra da je na taj način mogao izbjeći uticaj promjene cijene materijala. S obzirom da avansom izvođač slobodno raspolađe (ukoliko ugovorom nije drugačije rečeno), ovaj uticaj avansa važi samo ukoliko je u ugovoru izričito navedeno da se avans daje za nabavku materijal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izvođač bez prethodne saglasnosti naručioca upotrijebi materijal boljeg kvaliteta od ugovorenog, cijena radova se po tom osnovu može izmijeniti uz pristanak naručioc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Osim ovoga predviđeno je i pravo naručioca na srazmjerno samnjenje cijena ukoliko je kvalitet izvedenih radova ili upotrijebljenog materijala ispod ugovorenog, zatim zbog neestetskog izgleda objekta (što je posledica odstupanja od tehničke dokumentacije bez saglasnosti naručioca). Ovaj iznos se utvrđuje sporazumno između naručioca i izvođač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cijena nije ugovorena kao jedinična cijena nego u ukupnom iznosu (dakle za sve radove ukupno), onda se ona ne mijenja zbog viškova i manjkova radova. Takođe Cijena u ukupnom iznosu obuhvata i vrijednost nepredviđenih radova za radove za koje je izvođač u vrijeme zaključenja ugovora znao ili je morao znati da se moraju izvesti, dok se za ostale nepredbiđene radove cijena naknadno utvršuje ugovorom.</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 </a:t>
            </a:r>
            <a:r>
              <a:rPr b="0" lang="sr-Latn-CS" sz="700" spc="-1" strike="noStrike">
                <a:solidFill>
                  <a:srgbClr val="000000"/>
                </a:solidFill>
                <a:latin typeface="Arial"/>
              </a:rPr>
              <a:t>Odredba “ključ u ruke” ili slično, znači da ugovorena cijena obuhvata vrijednost svih nepredviđenih i viškova radova, a isključuje uticaj manjkova radova. Pa i pored toga, može se zahtijevati izmjena cijene zbog promijenjenih okolnosti koje su ranije navedene i plaćanja naknadnih radov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Ugovorena cijena ne obuhvata naknadne radove- oni se posebno ugovaraju.</a:t>
            </a:r>
            <a:endParaRPr b="0" lang="en-US" sz="7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52870-19DF-42C6-8C2F-62B7962D123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2082960" y="228600"/>
            <a:ext cx="2539800" cy="1905120"/>
          </a:xfrm>
          <a:prstGeom prst="rect">
            <a:avLst/>
          </a:prstGeom>
          <a:ln w="0">
            <a:noFill/>
          </a:ln>
        </p:spPr>
      </p:sp>
      <p:sp>
        <p:nvSpPr>
          <p:cNvPr id="22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ok ne može teći prije dana uvođenja izvođača u posao, ali može kasnije. Ako nije definisan rok , izvođač je dužan da sa radovima otpočne odmah po uvođenju u posao i o tome obavijesti naručioc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radovi ne započnu u ugovorenom roku, naručilac može dati primjeren naknadni rok za započinjanje posla, a ako ni u tom roku izvođač ne započne, naručilac ima pravo raskida ugovoar i nadoknade štete.</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1F66-4024-4CDD-BE12-D23B06ED66F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2082960" y="228600"/>
            <a:ext cx="2539800" cy="1905120"/>
          </a:xfrm>
          <a:prstGeom prst="rect">
            <a:avLst/>
          </a:prstGeom>
          <a:ln w="0">
            <a:noFill/>
          </a:ln>
        </p:spPr>
      </p:sp>
      <p:sp>
        <p:nvSpPr>
          <p:cNvPr id="224"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oduženje roka može da zahtijeva izvođač u slučaju da je zbog promijenjenih okolnosti ili neispunjavanja obaveza naručioca bio spriječen da izvodi radove. Produženje roka se određuje u zavisnosti od trajanja smetnje, ali uključuje u vrijeme potrebno da za ponovno otpočinjanje radova u nepovoljnije godišnje doba. Ovo se odnosi posebno n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rodne događaje (požar, poplave, zemljotrese izutetnoo neuobičajeno loše vrije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jere predviđene aktima nadležnih organ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slovi za izvođenje radova u zemlji ili vod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kašnjenje uvođenja izvođača u posa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stupci naručioca(kapnjenje u isplati abansa ili situacija, neotklanjanje nedostataka u tehničkoj dokumentacij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kašnjenja u isporuci opreme (ako je nabavlja naručilac)</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epredviđeni radov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iškovi radova preko 10%</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su promijenjenen okolnosti nastupile nakon docnje izvožača, on nema pravo da traži produženje roka osim u slučaju ako su promijenjene okolnosti takve prirode da bi nastupie i da su radovi izvedeni u predviženom roku . Ova je odredba kao kod izmjene cijene i docnje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izvođač ne podnese zahtjev čim je saznao za razloge zbog kojih se rok može produžiti, on ima i dalje pravo da traži produženje roka, ali ako njegovo nepodnošenje zahrjeva izazove štetne posledice njemu ili naručiocu, izvođač će biti dužan da ih snosi.</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559C-B7E5-4C39-9B4E-B7394307E1F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2082960" y="228600"/>
            <a:ext cx="2539800" cy="1905120"/>
          </a:xfrm>
          <a:prstGeom prst="rect">
            <a:avLst/>
          </a:prstGeom>
          <a:ln w="0">
            <a:noFill/>
          </a:ln>
        </p:spPr>
      </p:sp>
      <p:sp>
        <p:nvSpPr>
          <p:cNvPr id="227"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vo su uobičajeni uslovi koje treba da obezbijedi naručilac, mećutim, ukoliko tehničku dokumentaciju daje izvođač, onda otpada obaveza naručioca da preda izvošaču tehničku dokumentacij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ok za uvođenje u posao se definiše u ugovoru, a ukoliko ga naručilac ne ispoštuje, i ili ne ispoštuje i naknadno određeni rok, izvođač može raskinuti ugovo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97DDD-92CA-45B2-A480-F5859F2C815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1"/>
          <p:cNvSpPr>
            <a:spLocks noGrp="1"/>
          </p:cNvSpPr>
          <p:nvPr>
            <p:ph type="sldImg"/>
          </p:nvPr>
        </p:nvSpPr>
        <p:spPr>
          <a:xfrm>
            <a:off x="2082960" y="228600"/>
            <a:ext cx="2539800" cy="1905120"/>
          </a:xfrm>
          <a:prstGeom prst="rect">
            <a:avLst/>
          </a:prstGeom>
          <a:ln w="0">
            <a:noFill/>
          </a:ln>
        </p:spPr>
      </p:sp>
      <p:sp>
        <p:nvSpPr>
          <p:cNvPr id="230"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E785-A19A-4D8B-8ADB-268EF5EA109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 name="PlaceHolder 1"/>
          <p:cNvSpPr>
            <a:spLocks noGrp="1"/>
          </p:cNvSpPr>
          <p:nvPr>
            <p:ph type="sldImg"/>
          </p:nvPr>
        </p:nvSpPr>
        <p:spPr>
          <a:xfrm>
            <a:off x="2082960" y="228600"/>
            <a:ext cx="2539800" cy="1905120"/>
          </a:xfrm>
          <a:prstGeom prst="rect">
            <a:avLst/>
          </a:prstGeom>
          <a:ln w="0">
            <a:noFill/>
          </a:ln>
        </p:spPr>
      </p:sp>
      <p:sp>
        <p:nvSpPr>
          <p:cNvPr id="23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ugovorom nije poredviđeno u kojim se slučajevima plaća ugovorna kazna onda se smatra da je ugovorena za slučaj </a:t>
            </a:r>
            <a:r>
              <a:rPr b="1" lang="sr-Latn-CS" sz="1000" spc="-1" strike="noStrike">
                <a:solidFill>
                  <a:srgbClr val="000000"/>
                </a:solidFill>
                <a:latin typeface="Arial"/>
              </a:rPr>
              <a:t>neurednog</a:t>
            </a:r>
            <a:r>
              <a:rPr b="0" lang="sr-Latn-CS" sz="1000" spc="-1" strike="noStrike">
                <a:solidFill>
                  <a:srgbClr val="000000"/>
                </a:solidFill>
                <a:latin typeface="Arial"/>
              </a:rPr>
              <a:t> ispunjenja ugovornih obavez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isina ugovorne kazne je stvar ugovora izvođača i naručioca, Uzanse predvićaju da ona iznosi 1%o od ukupne ugvorene cijene radova za svaki dan zakašnjenja, s tim što ne može preći 5% od ukupne cijene radov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snovicu za obračun čini vrijednost svih ugovorenih radova, a ne samo radova koji nijesu izvedeni u ugovorenom roku. Ukoliko je izvođač ranije završio i predao  dio objekta koji se samostalno može koristiti, onda se njegova vrijednost izuzima iz osnovice z a obračun ugovorne kazne. Ovo takođe znači, da ako je izvođač sve radove završio na vrijem, osim onih koji se odnose na posebnu funkcionalnu i tehničku cjelinu koja se posebno može koristiti, onda se ugovorna kazna plaća smo za te radove na posebnoj cjelin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je ugovarač pretrpio štetu onda može zahtijevati:</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govornu kaznu i razliku i iznosu štete i ugovorne kazne u slučaju da  je iznos štete veći od ugovorne kazne,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govornu kaznu u slučaju da  je iznos štete manji od ugovorne kazn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knadu štete i ugovornu kaznu, samo ako je tako ugovoren, a bez obzira na međusoban odnos kazne i štet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vdje se podrazumijeva da duđnik može dokazivati da nije kriv za neuredno ispunjenje obaveza i u tom slučaju se može oslobađa plaćanja ugovorne kazne.</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2438E-9FA2-4056-9AA7-BABB54F60E6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2082960" y="228600"/>
            <a:ext cx="2539800" cy="1905120"/>
          </a:xfrm>
          <a:prstGeom prst="rect">
            <a:avLst/>
          </a:prstGeom>
          <a:ln w="0">
            <a:noFill/>
          </a:ln>
        </p:spPr>
      </p:sp>
      <p:sp>
        <p:nvSpPr>
          <p:cNvPr id="23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običajeno radovi traju duži vremenski period, pa je neophodno redovno vršiti plaćanje (sukcesivnoo kako se radovi odvijaju) da ne bi izvođača doveli u situaciju da ne mogu da izvode radove. Privremena situacija je zaista privremena, pa se u sljedećoj može korigovati neki iznos koji je u prethodnoj bio odobren i čak plaće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ručilac može da ospori količnu, vrstu ili cijenu radova u situaciji i da o tome u roku obavijesti izvođača. Iz ovoga slijedi da se ne može u privremenim situacijama osporavati kvalitet radova, već se on vrednuje u okončanoj situaciji. Takođe se kaže da ovjeravanje situacije nije uslov za plaćanje na osnovu situacij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rok za plaćanje avansa nije ugovoren, onda se on mora platiti prije izvođenja radove, a to znači da zapravo rok početka radova počinje teći nakon isplate avans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raćanje avansa počinje nakon što vrijednost privremenih situacija dostigne 50% od ugovorene cijene (odnosno kad je realizovano 50% ugovorene vrijednosti radov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 </a:t>
            </a:r>
            <a:r>
              <a:rPr b="0" lang="sr-Latn-CS" sz="1000" spc="-1" strike="noStrike">
                <a:solidFill>
                  <a:srgbClr val="000000"/>
                </a:solidFill>
                <a:latin typeface="Arial"/>
              </a:rPr>
              <a:t>Avans se vraća sukcesivno srazmjerno primljenom avansu i vrijednosti ugovorenih a neizvršenih radov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C7B52-2F3C-479D-855C-EAC646644F9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2082960" y="228600"/>
            <a:ext cx="2539800" cy="1905120"/>
          </a:xfrm>
          <a:prstGeom prst="rect">
            <a:avLst/>
          </a:prstGeom>
          <a:ln w="0">
            <a:noFill/>
          </a:ln>
        </p:spPr>
      </p:sp>
      <p:sp>
        <p:nvSpPr>
          <p:cNvPr id="23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vremene situacije</a:t>
            </a:r>
            <a:r>
              <a:rPr b="0" lang="sr-Latn-CS" sz="1000" spc="-1" strike="noStrike">
                <a:solidFill>
                  <a:srgbClr val="000000"/>
                </a:solidFill>
                <a:latin typeface="Arial"/>
              </a:rPr>
              <a:t> obuhvataju i viškove i nepredviđene radov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FE135-2ABE-4596-9F1B-49DA2BD8A15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1"/>
          <p:cNvSpPr>
            <a:spLocks noGrp="1"/>
          </p:cNvSpPr>
          <p:nvPr>
            <p:ph type="sldImg"/>
          </p:nvPr>
        </p:nvSpPr>
        <p:spPr>
          <a:xfrm>
            <a:off x="2082960" y="228600"/>
            <a:ext cx="2539800" cy="1905120"/>
          </a:xfrm>
          <a:prstGeom prst="rect">
            <a:avLst/>
          </a:prstGeom>
          <a:ln w="0">
            <a:noFill/>
          </a:ln>
        </p:spPr>
      </p:sp>
      <p:sp>
        <p:nvSpPr>
          <p:cNvPr id="242"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držani iznos se isplaćuje kad prestane svrha njihovog zadržavanj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6A856-8B46-4F0D-B678-C44065BEC18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1"/>
          <p:cNvSpPr>
            <a:spLocks noGrp="1"/>
          </p:cNvSpPr>
          <p:nvPr>
            <p:ph type="sldImg"/>
          </p:nvPr>
        </p:nvSpPr>
        <p:spPr>
          <a:xfrm>
            <a:off x="2082960" y="228600"/>
            <a:ext cx="2539800" cy="1905120"/>
          </a:xfrm>
          <a:prstGeom prst="rect">
            <a:avLst/>
          </a:prstGeom>
          <a:ln w="0">
            <a:noFill/>
          </a:ln>
        </p:spPr>
      </p:sp>
      <p:sp>
        <p:nvSpPr>
          <p:cNvPr id="24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može obustaviti radove tek po isteku primjerenog roka koji je ostavio naručiocu za ispunjenje obaveza. Po prestanku smetnje zbog kojih su radovi obustavljeni dužan je nastaviti radov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slučaju privremenog obustavljanja radova izvođač treba da zaštiti radove, i to na ekonomičan način, jer te troškove snosi naručilac, osim u slučaju da je za obustavljanje odgovoran izvođač.</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naj koji je odgovoran za obustavljanje radova dužan je da nadoknadi štetu drugom ugovaraču, a to uključuje i izgubljenu dobi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 svim stvarima u vezi sa privremenim obustavljanjem radova potrebno je pismeno obavijestiti naručioca (to proističe i iz  uzanse br.8 koja se odnosi na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DD241-9FA3-4084-A8CD-A0B05C9029E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2082960" y="228600"/>
            <a:ext cx="2539800" cy="1905120"/>
          </a:xfrm>
          <a:prstGeom prst="rect">
            <a:avLst/>
          </a:prstGeom>
          <a:ln w="0">
            <a:noFill/>
          </a:ln>
        </p:spPr>
      </p:sp>
      <p:sp>
        <p:nvSpPr>
          <p:cNvPr id="194"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8D041-05B3-4CB8-ADC5-ADACF62532B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2082960" y="228600"/>
            <a:ext cx="2539800" cy="1905120"/>
          </a:xfrm>
          <a:prstGeom prst="rect">
            <a:avLst/>
          </a:prstGeom>
          <a:ln w="0">
            <a:noFill/>
          </a:ln>
        </p:spPr>
      </p:sp>
      <p:sp>
        <p:nvSpPr>
          <p:cNvPr id="248"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eć je ranije bilo govora o obavezi izvođača da ispita pravilnost tehničke dokumentacije i da naručioca upozori na greške (pri čemu se ovdje ne podrazumijevaju skrivene man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je dužan da u objekat ugrađuje materijal i opremu koji odgovaraju propisanom ili ugovorenom kvalitetu. Ako je potrebno izvođač je dužan da izvrši ispitivanje materijala (na način određen tehničkom dokumentacijom ili propisima) i da snosni troškove ispitivanja. To znači da se može ugraditi samomaterijal za koji postoji atest  (potvrda o kvalitetu koju je izdala stručna organizacija registrovana za djelatnost ispitivanja materijal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 nedostacima materijala i opreme koja je predviđena tehn. dokumentacijom, ili ih je nabavio investitor, izvođač mora izvijestiti investitora, a takav materijal ili opremu ugraditi samo ako i dalje investitor na tome insistira, a nema opasnosti po stabilnost objekta, zdravlje i živote ljudi, susjedne objekte, saobraćaj i okolin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svim ostalim slučajevima izvođač je odgovoran za upotrebu materijala ili opreme koji ne odgovaraju propisanom, ili ugovoreno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1C30-0B9C-40BA-93C4-12A4637F4CD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2082960" y="228600"/>
            <a:ext cx="2539800" cy="1905120"/>
          </a:xfrm>
          <a:prstGeom prst="rect">
            <a:avLst/>
          </a:prstGeom>
          <a:ln w="0">
            <a:noFill/>
          </a:ln>
        </p:spPr>
      </p:sp>
      <p:sp>
        <p:nvSpPr>
          <p:cNvPr id="25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sledice nekvalitetnog rada i materijala zbog postupanja izvođača, koji ne izvodi radove po: tehn. dokumentaciji, tehn. propisima, standardima , rezultatima sopstvenog ispitivanja i pravilima struke, treba da otkloni izvođač na zahtjev naručioca koji može da traž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bustavljanje radov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omjenu materijal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potrebu materijala i opreme odgovarajućeg kvalitet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ušenje i ponovno izviđenjeradova (koji su doveli u pitanje sigusrnost objekta, života ljudi i susjednih objekat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Konačna ocjena kvaliteta vrši se prilikom primopredaje izvedenih rado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vi nalazi kontrole upisuju se u dnevnik, Ukoliko rezultati kontrole izvođača nijesu saglasni sa rezultatima nalaza naručioca,  radi se zajednička naknadna kontrola, a njeni troškovi padaju na teret onoga čiji nalazi nijesu potrvđeni tokm zajedničkom kontrolom.</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Neotklanjanje nedostataka od strane izvođača daje pravo naručiocu da raskine ugovor i tražiti nadoknadu štete koja je nastala zbog nekvalitetno izvedenih radova i raskida ugvor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Ako se radi o neotklanjanju nedostatka koji su uočeni u tehničkom pregledu i primopredaji radova, onda naručilac ima pravo da na teret izvođača angažuje treće lice za njihovo otklanjan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12200-1F33-4658-AD5D-9CF7D24D9F0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2082960" y="228600"/>
            <a:ext cx="2539800" cy="1905120"/>
          </a:xfrm>
          <a:prstGeom prst="rect">
            <a:avLst/>
          </a:prstGeom>
          <a:ln w="0">
            <a:noFill/>
          </a:ln>
        </p:spPr>
      </p:sp>
      <p:sp>
        <p:nvSpPr>
          <p:cNvPr id="254"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sledice nekvalitetnog rada i materijala zbog postupanja izvođača, koji ne izvodi radove po: tehn. dokumentaciji, tehn. propisima, standardima , rezultatima sopstvenog ispitivanja i pravilima struke, treba da otkloni izvođač na zahtjev naručioca koji može da traž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bustavljanje radov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omjenu materijal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potrebu materijala i opreme odgovarajućeg kvalitet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ušenje i ponovno izviđenjeradova (koji su doveli u pitanje sigusrnost objekta, života ljudi i susjednih objekat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Konačna ocjena kvaliteta vrši se prilikom primopredaje izvedenih rado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vi nalazi kontrole upisuju se u dnevnik, Ukoliko rezultati kontrole izvođača nijesu saglasni sa rezultatima nalaza naručioca,  radi se zajednička naknadna kontrola, a njeni troškovi padaju na teret onoga čiji nalazi nijesu potrvđeni tokm zajedničkom kontrolom.</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Neotklanjanje nedostataka od strane izvođača daje pravo naručiocu da raskine ugovor i tražiti nadoknadu štete koja je nastala zbog nekvalitetno izvedenih radova i raskida ugvor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Ako se radi o neotklanjanju nedostatka koji su uočeni u tehničkom pregledu i primopredaji radova, onda naručilac ima pravo da na teret izvođača angažuje treće lice za njihovo otklanjan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506B-3069-49B2-804E-4528DAD7467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2082960" y="228600"/>
            <a:ext cx="2539800" cy="1905120"/>
          </a:xfrm>
          <a:prstGeom prst="rect">
            <a:avLst/>
          </a:prstGeom>
          <a:ln w="0">
            <a:noFill/>
          </a:ln>
        </p:spPr>
      </p:sp>
      <p:sp>
        <p:nvSpPr>
          <p:cNvPr id="257"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garantuje da su radovi u vrijeme primopredaje izvedeni :</a:t>
            </a:r>
            <a:endParaRPr b="0" lang="en-US" sz="10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skladu sa:</a:t>
            </a:r>
            <a:endParaRPr b="0" lang="en-US" sz="10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govorom</a:t>
            </a:r>
            <a:endParaRPr b="0" lang="en-US" sz="10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opisima</a:t>
            </a:r>
            <a:endParaRPr b="0" lang="en-US" sz="10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avilima struke</a:t>
            </a:r>
            <a:endParaRPr b="0" lang="en-US" sz="10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a nemaju mana koje onemogućavaju ili umanjuju vrijednost ili podobnost za redovnu upotreb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užina garantnog roka predviđena ovom uzansom je u skladu sa obligacionim pravom i odgovarajućim ugovorom o građenju.Zakonom o izgradnji objekata bilo je predviđeno propisivanje minimalnih garažntnih rokova. što do danas nije urađeno, a garantni rokovi mogu biti ugovoreni i duži od ovih predviđenih Zakonom o obligacionim  odnosima i Posebnim uzansama o građenju. Garantni rok počinje teći od dana primopredaje objekta ili dijela objketa, odnosno od dana korišćenja objekta iako nije izvršena primopredaj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pogledu garancije za opremu koju ugrađuje izvođač važi garancija proizvođača opreme, s tim što svu dokumentaciju u vezi sa garnacijom i uputstva za upotrebu treba da dostavi naručioc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ava u garantnom roku važe za naručioca i sve dalje korisnike objekta (kupce, zakup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tklanjanje nedostataka u garantnom roku je na trošak izvođača, a treba ih obaviti u naknadnom primjerenom roku za otklanjanje nedostataka. Narušilac ima i pravo naplate štete po ovoj uzans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okviru ove uzanse ponavlja se pravo naručioca da u sljučaju neotklanjanja nedostataka od strane izvođača, naručilac može da otklonini nedostatke na račun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nema obavezu da otkloni nedsotatke koji su polsjedica nestručnog rukovanja, odnosno nenamjenskog korišćenja objekta ili njegovog dijela.</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9A8DA-DF05-4C37-8E58-1AE37AD1CB6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2082960" y="228600"/>
            <a:ext cx="2539800" cy="1905120"/>
          </a:xfrm>
          <a:prstGeom prst="rect">
            <a:avLst/>
          </a:prstGeom>
          <a:ln w="0">
            <a:noFill/>
          </a:ln>
        </p:spPr>
      </p:sp>
      <p:sp>
        <p:nvSpPr>
          <p:cNvPr id="260" name="PlaceHolder 2"/>
          <p:cNvSpPr>
            <a:spLocks noGrp="1"/>
          </p:cNvSpPr>
          <p:nvPr>
            <p:ph type="body"/>
          </p:nvPr>
        </p:nvSpPr>
        <p:spPr>
          <a:xfrm>
            <a:off x="456840" y="2285640"/>
            <a:ext cx="6095880" cy="6553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ok i mjesto predaje materijala i opreme utvrđeni su u ugovoru, a ako nijesu onda se rok utvrđuje u skladu sa dinamikom rado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Troškove skladištenja, čuvanja i održavanja primljenog materijala snosi izvođač, osim ako su materijal i oprema predati izvođaču prije ugovorenog ro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nogi izvođači kasno se sjete da su obavezni da plaćaju premiju osiguranja. U slučaju da je izvođač računao sa plaćanjem premije osiguranja, on je taj trošak zaračunao naručiocu još u ponudi, a ukoliko je to propustio da uradi, onda zbog toga nema pravo na izmjenu cije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izvođač ne izvrši osiguranje, onda ga može izvršiti naručilac na trošak izvođač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7B56D-C201-4E47-81D6-0198725953B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2082960" y="228600"/>
            <a:ext cx="2539800" cy="1905120"/>
          </a:xfrm>
          <a:prstGeom prst="rect">
            <a:avLst/>
          </a:prstGeom>
          <a:ln w="0">
            <a:noFill/>
          </a:ln>
        </p:spPr>
      </p:sp>
      <p:sp>
        <p:nvSpPr>
          <p:cNvPr id="26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o primopredaje radova rizik slučajne propasti i oštećenja radova., materijala i opreme snos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ručilac ima pravo da vrši strulni nadzor nad radovima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mjedbe u vezi sa načinom izvođenja radova, upotrijebljenim materijalom ili tokom izvođenja radova, naručilac bez odlaganja treba da sopšti izvođaču pismeno ili upisom u građevinski dnevnik.</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se oslobađa odgovornosti u slučaju da su nedostaci  posledica grešaka u projek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80FD1-114C-4A64-B0AB-192E7EDB371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2082960" y="228600"/>
            <a:ext cx="2539800" cy="1905120"/>
          </a:xfrm>
          <a:prstGeom prst="rect">
            <a:avLst/>
          </a:prstGeom>
          <a:ln w="0">
            <a:noFill/>
          </a:ln>
        </p:spPr>
      </p:sp>
      <p:sp>
        <p:nvSpPr>
          <p:cNvPr id="26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ručilac ima pravo da vrši strulni nadzor nad radovima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mjedbe u vezi sa načinom izvođenja radova, upotrijebljenim materijalom ili tokom izvođenja radova, naručilac bez odlaganja treba da sopšti izvođaču pismeno ili upisom u građevinski dnevnik.</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se oslobađa odgovornosti u slučaju da su nedostaci  posledica grešaka u projek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baveza je izvođača da na gradilištu o svom trošku preduzima sve mjere radi obezbjeđenja sigurnosti objekata i radova, opreme, uređaja i instalacija,, radnika, prolaznika, saobraćaja, susjednih objekata  i okolin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na gradilištu radi više izvođača onda svaki od njih obezbjeđuje i čuva svoje radove.&lt; opremu i materija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05C69-8447-40E1-B183-84C3F72C785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2082960" y="228600"/>
            <a:ext cx="2539800" cy="1905120"/>
          </a:xfrm>
          <a:prstGeom prst="rect">
            <a:avLst/>
          </a:prstGeom>
          <a:ln w="0">
            <a:noFill/>
          </a:ln>
        </p:spPr>
      </p:sp>
      <p:sp>
        <p:nvSpPr>
          <p:cNvPr id="26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baveza je izvođača da odmah po završetku radova ovbavijesti naručioca da su radovi završeni. Ovako stoji i u zakonu o izgradnji objek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se radovi ili objekat koriste prije primopredaje smatra se da je primopredaja izvršena danom početka korišćenj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mopredaju obavljaju ovlašćeni predstavnici naručioca i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zapisnik se mogu unositi i drugi podaci, a potpisuju ga predstavnici naručioca i izvođača radova. Ako se u zapisniku obostrano konstatuje da izvođač treba da o svom trošku popravi, doradi ili ponovo izvede neke radove, dužan je da tome odmah pristup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pisnik može saćiniti i samo jedan ugovarač, ukoliko se drugi ne odazove i odbije učešć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26E70-4A25-4D39-BB51-24FC4BF99C8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2082960" y="228600"/>
            <a:ext cx="2539800" cy="1905120"/>
          </a:xfrm>
          <a:prstGeom prst="rect">
            <a:avLst/>
          </a:prstGeom>
          <a:ln w="0">
            <a:noFill/>
          </a:ln>
        </p:spPr>
      </p:sp>
      <p:sp>
        <p:nvSpPr>
          <p:cNvPr id="272"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vdje je dat orijentacioni sadržaj konačnog obračun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onačni obračun se vrši na osnovu dokumenata koji sadrže podatke o činjenicama koje se ovdje pominju. Ta dokumenta su narošito: ugovor (uključujući i tehničku dokumentaciju), građevinski dnevnik, građevinska knjig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pisnik o primopredaji radova, drugi zapisnici, dopisi i sl. KOnačni obračun vrše ovlašćeni predstavnici naručioca i izvođača u pismenoj formi i oni ga i potpisuju sa datumom završetk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ao i kod primopredaje i ovdje postoji pravo ugovarača da sm izvrši konačni obraču ukoliko druga strana bez opravdanog razloga odbije da učestvuje ili odugovlač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FAEB-E1D0-4738-B3C7-0651D925EA5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2082960" y="228600"/>
            <a:ext cx="2539800" cy="1905120"/>
          </a:xfrm>
          <a:prstGeom prst="rect">
            <a:avLst/>
          </a:prstGeom>
          <a:ln w="0">
            <a:noFill/>
          </a:ln>
        </p:spPr>
      </p:sp>
      <p:sp>
        <p:nvSpPr>
          <p:cNvPr id="27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ve što naručilac plati ostaje u njegovom vlasništviu. Pitanje je da li sav materijal mora da “otkupi” od izvođača, s obzirom da ga izvođač može iskoristiti na nekom drugom gradilištu.</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CAA49-09DA-404D-A1CD-94DC0B95677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2082960" y="228600"/>
            <a:ext cx="2539800" cy="1905120"/>
          </a:xfrm>
          <a:prstGeom prst="rect">
            <a:avLst/>
          </a:prstGeom>
          <a:ln w="0">
            <a:noFill/>
          </a:ln>
        </p:spPr>
      </p:sp>
      <p:sp>
        <p:nvSpPr>
          <p:cNvPr id="197"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6B0B-8FAD-4FAB-930C-F702A1DA8BF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2082960" y="228600"/>
            <a:ext cx="2539800" cy="1905120"/>
          </a:xfrm>
          <a:prstGeom prst="rect">
            <a:avLst/>
          </a:prstGeom>
          <a:ln w="0">
            <a:noFill/>
          </a:ln>
        </p:spPr>
      </p:sp>
      <p:sp>
        <p:nvSpPr>
          <p:cNvPr id="278"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64739-2020-4252-87BC-F40BD2B2DEB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2082960" y="228600"/>
            <a:ext cx="2539800" cy="1905120"/>
          </a:xfrm>
          <a:prstGeom prst="rect">
            <a:avLst/>
          </a:prstGeom>
          <a:ln w="0">
            <a:noFill/>
          </a:ln>
        </p:spPr>
      </p:sp>
      <p:sp>
        <p:nvSpPr>
          <p:cNvPr id="200"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ručilac može biti investitor, koji sklapa ugovor sa izvođačem, ali naručilac može biti i izvođač prema svojim podizvođačima. Uzanse se primjenjuju u svim ovim odnosima. Ne primjenju se na one djelove ugovora koji se ne odnose na građenje- izvođenje radova- Na primjer: u slučaju da se ugovorom ustupa i izrada tehničke dokumentacije i građenje, onda se uzanse ne primjenjuj na dio ugovora koji se odnosi na izradu rehničkje dokumentaci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zanse daju okvir za regulisanje ugovornih odnosa naručioca i izvođača, ali to ne znači da se ovi odnosi ne mogu i drugačije regulisati u samom Ugovor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ažnja dobrog privrednika - način postupanja u realizaciji obaveza koji se zahtijeva i od naručioca i izvođača (da postupaju po pravilima struke, odnosno stručno i kvalitetno)</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 može se zahtijevati ispunjenje obaveza od jedne strane (npr. izvođenje radova), a da se pri tome ne izvršavaju sopstvene obaveze (npr. redovno plaćan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i neizvršavanju obaveza od jedne strana, druga strana treba da učini sve da štetu koja zbog toga može nastati smanjina najmanju moguću mjeru: Primjer: ukoliko izvođač ne raspolaže sa odgovarajućom tehničkom dokumentacijom zbog propusta investitora, treba da otpočne izvođenje nekih drugih radova za koje ima tehničku dokumentacij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govorne strane treba svoje obaveze de realizuju u ugovorenim rokovima, a u slučaju kašnjenja ispunjenja obaveze, saglasno načelu poštenja i savjesnosti treba strani koja je u kašnjenju ostaviti primjeren rok za ispunjenje obaveze ‘ osim kad ona izrišito saopšti da tu obavez neće ili ne može izvršiti.</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74423-F518-4F2D-A2A4-0F4F84ED195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2082960" y="228600"/>
            <a:ext cx="2539800" cy="1905120"/>
          </a:xfrm>
          <a:prstGeom prst="rect">
            <a:avLst/>
          </a:prstGeom>
          <a:ln w="0">
            <a:noFill/>
          </a:ln>
        </p:spPr>
      </p:sp>
      <p:sp>
        <p:nvSpPr>
          <p:cNvPr id="20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Određivanje pojmova (definicije), koje se u ugovoru može i drugaćije definisati</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ručilac – lice koje je ugovorom zaključenim sa izvođačem naručilo izvođenje radova koji su predmet ugovor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izvođač – lice koje je ugovorom zaključenim sa naručiocem prihvatilo obavezu da izvede radove koji su predmet ugovor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adovi na građevinskim objektima – izvođenje građevinskih, montažnih, instalaterskih i završnih radova, kao i ugrađivanje uređaja, postrojenja i opreme na novim ili postojećim objektima ili njihovim djelovim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građevinski objekti: zgrade, brane mostovi, tuneli, vodovodi kanalizacije, putevi, željezničke pruge, bunari i ostale građevine koje predstavljaju zaokruženu funkcionalnu cjelinu</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viškovi radova- količne izvedenih radova koje prelaze ugovorene količine</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manjkovi radova- negativna odstupanja izvedenih radova u odnosu na ugovorene količine. </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predviđeni radovi – oni koji ugovorom nijesu obuhvaćeni a moraju se izvesti da bi objekt imao normalnu funkciju ili sigurnost objekta i-ili susjednih objekata i sl.</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knadni radovi – ugovorom nijesu obuhvaćeni i nijesu nužni za ispunjenje ugovora, ali njihovu realizaciju zahtjeva naručilac</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gradilište -  zemljište na kojem se izvode radovi i zemljište koje izvođač koristi radi izvođenja radov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imjereni rok – rok u kojem se po redovnom toku stvari može izvršiti obaveza koja je u pitanj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B0891-F22D-4594-B922-6E028FEE4A1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2082960" y="228600"/>
            <a:ext cx="2539800" cy="1905120"/>
          </a:xfrm>
          <a:prstGeom prst="rect">
            <a:avLst/>
          </a:prstGeom>
          <a:ln w="0">
            <a:noFill/>
          </a:ln>
        </p:spPr>
      </p:sp>
      <p:sp>
        <p:nvSpPr>
          <p:cNvPr id="20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Iz ovoga slijedi da je nezavisno od želje ugovrnih strana tehnička dokumentacija ibavezan sastavni dio ugovora, jer se prema njoj radovi i izvode, tako da je bez nje skoro nemoguće opisati predmet ugovora. Izuzetak je kada Naučilac istim ugovorom ustupa i izradu tehničke dokumentacije i izvođenje rado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Za razliku od tehničke dokumentacije, ostala dokumentacija (npr. ponuda izvođača) je sastavni dio ugovora, samo ako se tako navede u ugovor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Dinamički pan radova je od posebnog zančaja ako radove izvodi više izvođača i kada su u pitanju složenij objekti.</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9D3BA-21D7-4D59-814D-DAAB1E91878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2082960" y="228600"/>
            <a:ext cx="2539800" cy="1905120"/>
          </a:xfrm>
          <a:prstGeom prst="rect">
            <a:avLst/>
          </a:prstGeom>
          <a:ln w="0">
            <a:noFill/>
          </a:ln>
        </p:spPr>
      </p:sp>
      <p:sp>
        <p:nvSpPr>
          <p:cNvPr id="20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užnost izvođača u proučavnju tehničke dokumentacije</a:t>
            </a:r>
            <a:endParaRPr b="0" lang="en-US" sz="800" spc="-1" strike="noStrike">
              <a:solidFill>
                <a:srgbClr val="000000"/>
              </a:solidFill>
              <a:latin typeface="Arial"/>
            </a:endParaRPr>
          </a:p>
          <a:p>
            <a:pPr lvl="1" marL="6858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blagovremeno i detaljno proučavanje tehn. dok.</a:t>
            </a:r>
            <a:endParaRPr b="0" lang="en-US" sz="800" spc="-1" strike="noStrike">
              <a:solidFill>
                <a:srgbClr val="000000"/>
              </a:solidFill>
              <a:latin typeface="Arial"/>
            </a:endParaRPr>
          </a:p>
          <a:p>
            <a:pPr lvl="1" marL="6858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blagoovremeno traženje razjašnjenja od naručioca</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užnost naručioca u slučaju da on obezbjeđuje tehničku dokumentaciju:</a:t>
            </a:r>
            <a:endParaRPr b="0" lang="en-US" sz="800" spc="-1" strike="noStrike">
              <a:solidFill>
                <a:srgbClr val="000000"/>
              </a:solidFill>
              <a:latin typeface="Arial"/>
            </a:endParaRPr>
          </a:p>
          <a:p>
            <a:pPr lvl="1" marL="685800" indent="-2286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avanje razjašnjenja (blagovremeno i u pismenoj formi)</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mjena tehničke dokumentacij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ava izvođač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vođač nema pravo da je mijenj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vođač je dužan da o uočenim nedostacima blagovremeno obavijesti naručioca, kako i o potrebi njene izmjene zbog poboljšanja ili drugih razlog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ekid radova u slučaju da nedostaci ugrožavaju sigurnost objekta, život i zdravlje ljudi, susjedne objekta i sl.</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ava naručioc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ručilac ima pravo izmjene tehn. dokumentacije</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 odgovarjući način se mijenjaju elementi ugovora (rok, cijene i sl.)</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bitne izmjene daju pravo izvođaču na izmjenu ili raskid ugovor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azlozi zbog kojih izvođač nema pravo da mijenja tehničku dokumentaciju, pa čak i kad je on sam izradio:</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astavni je dio ugovorai prema njoj se izvode radov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bjekat se radi za investitora, a on se već opredijelio da se objekat radi prema tehničkoj dokumentacij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zakonska obaveza izvođača da se pridržava tehničke dokumentacije na osnovu koje je dobijena građevinska dozvola </a:t>
            </a: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D3FE3-6DCF-4842-9117-C3D88B3BB7F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2082960" y="228600"/>
            <a:ext cx="2539800" cy="1905120"/>
          </a:xfrm>
          <a:prstGeom prst="rect">
            <a:avLst/>
          </a:prstGeom>
          <a:ln w="0">
            <a:noFill/>
          </a:ln>
        </p:spPr>
      </p:sp>
      <p:sp>
        <p:nvSpPr>
          <p:cNvPr id="212" name="PlaceHolder 2"/>
          <p:cNvSpPr>
            <a:spLocks noGrp="1"/>
          </p:cNvSpPr>
          <p:nvPr>
            <p:ph type="body"/>
          </p:nvPr>
        </p:nvSpPr>
        <p:spPr>
          <a:xfrm>
            <a:off x="456840" y="2285640"/>
            <a:ext cx="6095880" cy="6553080"/>
          </a:xfrm>
          <a:prstGeom prst="rect">
            <a:avLst/>
          </a:prstGeom>
          <a:noFill/>
          <a:ln w="0">
            <a:noFill/>
          </a:ln>
        </p:spPr>
        <p:txBody>
          <a:bodyPr anchor="t">
            <a:noAutofit/>
          </a:bodyPr>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predviđene i naknadne radove najprije treba ponuditi na izvođenje izvođaču, a ukoliko on ne može da ih izvrši na vrijeme ili uopšte, onda se mogu ustupiti trećem licu.</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6208C-22C6-459A-B7D9-5292EFD1203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2082960" y="228600"/>
            <a:ext cx="2539800" cy="1905120"/>
          </a:xfrm>
          <a:prstGeom prst="rect">
            <a:avLst/>
          </a:prstGeom>
          <a:ln w="0">
            <a:noFill/>
          </a:ln>
        </p:spPr>
      </p:sp>
      <p:sp>
        <p:nvSpPr>
          <p:cNvPr id="21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Određivanje cijene kao jedinićne cijene je povoljnije zbog toga što se na taj način naručilac obezbjeđuje da ne plati više nego što je izvedeno, ali se obezbjeđuje i izvođač da ne pretrpi štetu.</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Jedinične cijene važe i za viškove, odnosno manjkove radova, ukoliko one ne prelaze 10% od ugovorenih količin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Vanrednim događajima zbog  kojih se pruža mogućnost izmjena cijena (a mogućnost izmjene cijene daje se bilo kojem od ugovarača) smatraju se:</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mjere utvrđene aktima nadležnih organa</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promjena cijena materijala i usluga trećih lica na tržištui</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Promjene troškova života</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uslovi za ozvođenje radova u tlu (zemlji) ili vodi</a:t>
            </a:r>
            <a:endParaRPr b="0" lang="en-US" sz="7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3017CC-2BE1-46BB-A515-DB4C155558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DDFCD6-4951-4064-936E-7DBE77704F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0237C4-8379-4E10-A4BD-ECF8F20142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A94CBD-581A-480B-B23D-A47CE6C074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8E8700-6A00-47E4-802D-16E3643863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49075-6F9F-48E5-8D63-CA6F4267E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83412-20E8-4FE5-9D9E-C62C9AC4C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62D9E-3309-4CDC-956B-9E7816ECE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67849-177F-4B0D-9B9D-9F466C0D7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A55F0-5FD3-434B-BBBC-822EEF00B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A61E4-5C65-4C8C-88D2-8380595BC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952D61-3C58-4BC8-8249-D3F36439DC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5B4B3-9CCA-43CD-A50C-F33A05201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0AD7C-9A4E-4611-91F9-2CD903B97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A9290-382D-4C35-8567-B966E18A9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DB074A-49CE-4E43-9AF3-11A218AB8D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BAD6A0-EE5C-4A3D-ABA7-52FED57FE8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AED483-017D-47FD-AC63-3F2CF5E957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061870-1A0C-4E8E-959A-6703EF7E1B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59C558-B657-42D2-9604-24B46BAD44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5C3DF6-522E-47B9-A568-412DC3D71B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12FA41-7F1B-468A-97F9-6B79C76EF7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1234CD-F67A-4334-B1A5-48A32CF100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01EA7C-EEB2-449A-9D2A-9C45891AAAA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2FD94-35FC-42B7-9EE1-185E946ABAAD}"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26654-142A-4F02-BA18-D3A6BEEA7CCD}"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POSEBNE UZANSE O GRA</a:t>
            </a:r>
            <a:r>
              <a:rPr b="1" lang="sr-Latn-CS" sz="3800" spc="-1" strike="noStrike">
                <a:solidFill>
                  <a:srgbClr val="ffffff"/>
                </a:solidFill>
                <a:latin typeface="Arial"/>
              </a:rPr>
              <a:t>ĐENJU</a:t>
            </a:r>
            <a:r>
              <a:rPr b="1" lang="sr-Latn-CS" sz="3600" spc="-1" strike="noStrike">
                <a:solidFill>
                  <a:srgbClr val="ffffff"/>
                </a:solidFill>
                <a:latin typeface="Arial"/>
              </a:rPr>
              <a:t> </a:t>
            </a:r>
            <a:endParaRPr b="0" lang="en-US" sz="3600" spc="-1" strike="noStrike">
              <a:solidFill>
                <a:srgbClr val="ffffff"/>
              </a:solidFill>
              <a:latin typeface="Arial"/>
            </a:endParaRPr>
          </a:p>
        </p:txBody>
      </p:sp>
      <p:sp>
        <p:nvSpPr>
          <p:cNvPr id="122" name="PlaceHolder 2"/>
          <p:cNvSpPr>
            <a:spLocks noGrp="1"/>
          </p:cNvSpPr>
          <p:nvPr>
            <p:ph type="subTitle"/>
          </p:nvPr>
        </p:nvSpPr>
        <p:spPr>
          <a:xfrm>
            <a:off x="4191120" y="3962160"/>
            <a:ext cx="4572000" cy="2057400"/>
          </a:xfrm>
          <a:prstGeom prst="rect">
            <a:avLst/>
          </a:prstGeom>
          <a:noFill/>
          <a:ln w="0">
            <a:noFill/>
          </a:ln>
        </p:spPr>
        <p:txBody>
          <a:bodyPr anchor="t">
            <a:no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CIJENE</a:t>
            </a:r>
            <a:endParaRPr b="0" lang="en-US" sz="3200" spc="-1" strike="noStrike">
              <a:solidFill>
                <a:srgbClr val="ffffff"/>
              </a:solidFill>
              <a:latin typeface="Arial"/>
            </a:endParaRPr>
          </a:p>
        </p:txBody>
      </p:sp>
      <p:sp>
        <p:nvSpPr>
          <p:cNvPr id="140" name="PlaceHolder 2"/>
          <p:cNvSpPr>
            <a:spLocks noGrp="1"/>
          </p:cNvSpPr>
          <p:nvPr>
            <p:ph/>
          </p:nvPr>
        </p:nvSpPr>
        <p:spPr>
          <a:xfrm>
            <a:off x="611280" y="1904760"/>
            <a:ext cx="8075520" cy="4190760"/>
          </a:xfrm>
          <a:prstGeom prst="rect">
            <a:avLst/>
          </a:prstGeom>
          <a:noFill/>
          <a:ln w="0">
            <a:noFill/>
          </a:ln>
        </p:spPr>
        <p:txBody>
          <a:bodyPr anchor="t">
            <a:normAutofit/>
          </a:bodyPr>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procenat izmjene cijene usled ispunjenih uslova za izmjenu cijene (iznad graničnih procenata+1/2 iznosa izad tih procenata)</a:t>
            </a:r>
            <a:endParaRPr b="0" lang="en-US" sz="1300" spc="-1" strike="noStrike">
              <a:solidFill>
                <a:srgbClr val="ffffff"/>
              </a:solidFill>
              <a:latin typeface="Arial"/>
            </a:endParaRPr>
          </a:p>
          <a:p>
            <a:pPr lvl="2" marL="628560" indent="-228600">
              <a:spcBef>
                <a:spcPts val="326"/>
              </a:spcBef>
              <a:buClr>
                <a:srgbClr val="0078f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ako se cijene pojedinih materijala, odnosno usluga promijene za </a:t>
            </a:r>
            <a:r>
              <a:rPr b="0" lang="en-GB" sz="1300" spc="-1" strike="noStrike">
                <a:solidFill>
                  <a:srgbClr val="ffffff"/>
                </a:solidFill>
                <a:latin typeface="Arial"/>
              </a:rPr>
              <a:t>&gt;</a:t>
            </a:r>
            <a:r>
              <a:rPr b="0" lang="sr-Latn-CS" sz="1300" spc="-1" strike="noStrike">
                <a:solidFill>
                  <a:srgbClr val="ffffff"/>
                </a:solidFill>
                <a:latin typeface="Arial"/>
              </a:rPr>
              <a:t> od 5%,</a:t>
            </a:r>
            <a:endParaRPr b="0" lang="en-US" sz="1300" spc="-1" strike="noStrike">
              <a:solidFill>
                <a:srgbClr val="ffffff"/>
              </a:solidFill>
              <a:latin typeface="Arial"/>
            </a:endParaRPr>
          </a:p>
          <a:p>
            <a:pPr lvl="2" marL="628560" indent="-228600">
              <a:spcBef>
                <a:spcPts val="326"/>
              </a:spcBef>
              <a:buClr>
                <a:srgbClr val="0078f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ako ukupna promjena cijena svih materijala i usluga iznosi  više  od </a:t>
            </a:r>
            <a:r>
              <a:rPr b="0" lang="en-GB" sz="1300" spc="-1" strike="noStrike">
                <a:solidFill>
                  <a:srgbClr val="ffffff"/>
                </a:solidFill>
                <a:latin typeface="Arial"/>
              </a:rPr>
              <a:t>&gt;</a:t>
            </a:r>
            <a:r>
              <a:rPr b="0" lang="sr-Latn-CS" sz="1300" spc="-1" strike="noStrike">
                <a:solidFill>
                  <a:srgbClr val="ffffff"/>
                </a:solidFill>
                <a:latin typeface="Arial"/>
              </a:rPr>
              <a:t> od 3%,</a:t>
            </a:r>
            <a:endParaRPr b="0" lang="en-US" sz="1300" spc="-1" strike="noStrike">
              <a:solidFill>
                <a:srgbClr val="ffffff"/>
              </a:solidFill>
              <a:latin typeface="Arial"/>
            </a:endParaRPr>
          </a:p>
          <a:p>
            <a:pPr lvl="2" marL="628560" indent="-228600">
              <a:spcBef>
                <a:spcPts val="326"/>
              </a:spcBef>
              <a:buClr>
                <a:srgbClr val="0078f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ako ukupna promjena cijena materijala i usluga mijenja ugovorenu vrijednost radova za </a:t>
            </a:r>
            <a:r>
              <a:rPr b="0" lang="en-GB" sz="1300" spc="-1" strike="noStrike">
                <a:solidFill>
                  <a:srgbClr val="ffffff"/>
                </a:solidFill>
                <a:latin typeface="Arial"/>
              </a:rPr>
              <a:t>&gt;</a:t>
            </a:r>
            <a:r>
              <a:rPr b="0" lang="sr-Latn-CS" sz="1300" spc="-1" strike="noStrike">
                <a:solidFill>
                  <a:srgbClr val="ffffff"/>
                </a:solidFill>
                <a:latin typeface="Arial"/>
              </a:rPr>
              <a:t> od 2%, </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docnje-kašnjenja na izmjenu cijene- samo ako do promijenjenih okolnosti dođe u roku određenog za ispunjenje ugovora, ili ako je za docnju kriva druga strana</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klauzule o nepromjenjivosti cijena (dozvoljena promjena iznad graničnog procenta od 10%)</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primjenog avansa na ugovorenu cijenu (ako je avans namjenski dat za materijal, ne može se tražiti povećanje cijene zbog povećanja cijene materijala)</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kvaliteta na ugovorenu cijenu (za losiji kvalitet srazmjerno smanjenje cijene, a za bolji povećanje samo ako je prethodno naručilac to odobrio)</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viškova i manjkova radova i nepredviđenih radova na cijenu određenu u ukupnom iznosu (manjkovi i viškovi radova ne utiču na cijenu, a nepredviđeni radovi  se naknadno utvrđuju, osim ako je za njih mogao ili morao znati u vrijeme zaključenja ugovora)</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odredba “Ključ u ruke” (cijenom obuhvaćeni viškovi i manjkovi radova i nepredviđeni radovi, ali se ima pravoo na izmjenu cijene usled promjene okolnosti)</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cijena naknadnih radova (uvijek se naknadno ugovara, bez obzira na oblik ugovora)</a:t>
            </a:r>
            <a:endParaRPr b="0" lang="en-US" sz="1300" spc="-1" strike="noStrike">
              <a:solidFill>
                <a:srgbClr val="ffffff"/>
              </a:solidFill>
              <a:latin typeface="Arial"/>
            </a:endParaRPr>
          </a:p>
          <a:p>
            <a:pPr lvl="1" marL="933480" indent="0">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ROKOVI ZA IZVOĐENJE RADOVA</a:t>
            </a:r>
            <a:endParaRPr b="0" lang="en-US" sz="3200" spc="-1" strike="noStrike">
              <a:solidFill>
                <a:srgbClr val="ffffff"/>
              </a:solidFill>
              <a:latin typeface="Arial"/>
            </a:endParaRPr>
          </a:p>
        </p:txBody>
      </p:sp>
      <p:sp>
        <p:nvSpPr>
          <p:cNvPr id="142" name="PlaceHolder 2"/>
          <p:cNvSpPr>
            <a:spLocks noGrp="1"/>
          </p:cNvSpPr>
          <p:nvPr>
            <p:ph/>
          </p:nvPr>
        </p:nvSpPr>
        <p:spPr>
          <a:xfrm>
            <a:off x="914400" y="2205000"/>
            <a:ext cx="7772400" cy="389088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a:t>
            </a:r>
            <a:r>
              <a:rPr b="0" lang="en-GB" sz="1500" spc="-1" strike="noStrike">
                <a:solidFill>
                  <a:srgbClr val="ffffff"/>
                </a:solidFill>
                <a:latin typeface="Arial"/>
              </a:rPr>
              <a:t>okovi </a:t>
            </a:r>
            <a:r>
              <a:rPr b="0" lang="sr-Latn-CS" sz="1500" spc="-1" strike="noStrike">
                <a:solidFill>
                  <a:srgbClr val="ffffff"/>
                </a:solidFill>
                <a:latin typeface="Arial"/>
              </a:rPr>
              <a:t>za izvođenje radova mogu biti i rokovi definisani u dinamičkim plan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teče od datuma uvođenja izvođača u posao, ako nije drugačije ugovoreno</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mjereno produženje roka za otpočinjanje radov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re za ubrzanje radova ‘ na zahtjev naručioca, po procjeni da se radovi neće realizovati u ugovorenom rok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ordiniranje radova – obaveza naručioca u slučaju ustupanja radova dvojici ili većem broju izvođač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ROKOVI ZA IZVOĐENJE RADOVA</a:t>
            </a:r>
            <a:endParaRPr b="0" lang="en-US" sz="3200" spc="-1" strike="noStrike">
              <a:solidFill>
                <a:srgbClr val="ffffff"/>
              </a:solidFill>
              <a:latin typeface="Arial"/>
            </a:endParaRPr>
          </a:p>
        </p:txBody>
      </p:sp>
      <p:sp>
        <p:nvSpPr>
          <p:cNvPr id="144" name="PlaceHolder 2"/>
          <p:cNvSpPr>
            <a:spLocks noGrp="1"/>
          </p:cNvSpPr>
          <p:nvPr>
            <p:ph/>
          </p:nvPr>
        </p:nvSpPr>
        <p:spPr>
          <a:xfrm>
            <a:off x="914400" y="1989000"/>
            <a:ext cx="7772400" cy="410688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duženje rokova – pravo izvođača da zahtijeva u određenim slučajevim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bog promijenjenih okolnosti </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rodni događaji (poplave, požari, zemljotresi...)</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re predviđene aktima nadležnih organ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očekivani uslovi za izvođenje radova u tlu ili vodi</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predviđeni radovi (ali ne svi)</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iškovi radova  (preko10%)od ugovorenih količina radov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bog neispunjavanja obaveza naručioc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je uvođenja u posao</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je u isporuci opreme od strane naručioc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otklanjanje nedistataka u teh. dok.</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nje isplate avans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je plaćanja privremenih situacij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ocnja izvođača – isključuje pravo na produženje roka, osim u posebnom slučaj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nošenje zahtjeva za produženje roka – čim izvođač sazna za razlog zbog kojeg se rok može produžit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VOĐENJE IZVOĐAČA U POSAO</a:t>
            </a:r>
            <a:endParaRPr b="0" lang="en-US" sz="3200" spc="-1" strike="noStrike">
              <a:solidFill>
                <a:srgbClr val="ffffff"/>
              </a:solidFill>
              <a:latin typeface="Arial"/>
            </a:endParaRPr>
          </a:p>
        </p:txBody>
      </p:sp>
      <p:sp>
        <p:nvSpPr>
          <p:cNvPr id="146" name="PlaceHolder 2"/>
          <p:cNvSpPr>
            <a:spLocks noGrp="1"/>
          </p:cNvSpPr>
          <p:nvPr>
            <p:ph/>
          </p:nvPr>
        </p:nvSpPr>
        <p:spPr>
          <a:xfrm>
            <a:off x="914400" y="1752120"/>
            <a:ext cx="7772400" cy="434340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unjenje obaveza naručioca bez čijeg prethodnog ispunjenja započninjanje radova nije faktički moguće, ili pravno nije dozvoljeno</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a gradilišta</a:t>
            </a:r>
            <a:endParaRPr b="0" lang="en-US" sz="1500" spc="-1" strike="noStrike">
              <a:solidFill>
                <a:srgbClr val="ffffff"/>
              </a:solidFill>
              <a:latin typeface="Arial"/>
            </a:endParaRPr>
          </a:p>
          <a:p>
            <a:pPr lvl="2" marL="1333440" indent="-41904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ezbjeđenje i predaja izvošaču parcele ili dijela parcele na kojoj će se izvoditi radovi, s obilježenim linijama osovinama i visinskim tačkama</a:t>
            </a:r>
            <a:endParaRPr b="0" lang="en-US" sz="1500" spc="-1" strike="noStrike">
              <a:solidFill>
                <a:srgbClr val="ffffff"/>
              </a:solidFill>
              <a:latin typeface="Arial"/>
            </a:endParaRPr>
          </a:p>
          <a:p>
            <a:pPr lvl="2" marL="1333440" indent="-41904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ezbjeđenje izvošaču prava pristupa na gradilišt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a tehničke dokumentacije </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a građevinske dozvol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ezbjeđenje sredstava za finansiranje izgradnje objekta i sredstava za plaćanje po zaključenom ugovoru i ptuđanje dokaza o tom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stavlja se zapisnik i konstatuje u građevinskom dnevniku</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za uvođenje u posao- definiše se ugovorom</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knadni rok za uvođenje u posao, ako se ne ispoštuje, izvođač može raskinuti ugovor</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duženje roka za uvođenje u posao zbog dejstva više sile za onoliko vremena koliko traje viša sila i koliko je trebalo za otklanjanje njenih posljedic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STUPANJE RADOVA TREĆEM LICU</a:t>
            </a:r>
            <a:endParaRPr b="0" lang="en-US" sz="3200" spc="-1" strike="noStrike">
              <a:solidFill>
                <a:srgbClr val="ffffff"/>
              </a:solidFill>
              <a:latin typeface="Arial"/>
            </a:endParaRPr>
          </a:p>
        </p:txBody>
      </p:sp>
      <p:sp>
        <p:nvSpPr>
          <p:cNvPr id="148"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može da izvođenje pojedinih radova ustupi trećem licu</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vrši izbor lica kojima ustupa izvođenje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stupanje radova  trećem licu nema uticaja na pravne odnose i međusobna prava i obaveze naručioca i izvođač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GOVORNA KAZNA</a:t>
            </a:r>
            <a:endParaRPr b="0" lang="en-US" sz="3200" spc="-1" strike="noStrike">
              <a:solidFill>
                <a:srgbClr val="ffffff"/>
              </a:solidFill>
              <a:latin typeface="Arial"/>
            </a:endParaRPr>
          </a:p>
        </p:txBody>
      </p:sp>
      <p:sp>
        <p:nvSpPr>
          <p:cNvPr id="150" name="PlaceHolder 2"/>
          <p:cNvSpPr>
            <a:spLocks noGrp="1"/>
          </p:cNvSpPr>
          <p:nvPr>
            <p:ph/>
          </p:nvPr>
        </p:nvSpPr>
        <p:spPr>
          <a:xfrm>
            <a:off x="914400" y="1844280"/>
            <a:ext cx="7772400" cy="4251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ože biti predviđena ugovorom- smatra se da  je ugovorena za slučaj neurednog ispunjenja ugovornih obavez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isina ugovorne kazne 1 promil od ukupne ugovorene cijene za svaki dan kašnjenja, ali ne više od 5% od ukupne cijene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snovica za obračun – ukupno ugovoreni radovi umanjeni za vrijednost radova, ako je predat dio objekta koji se može koristiti kao funkcionalno tehnička cjelin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do koga se obračunava ugovona kazna – do primopredaje objekta, odnosno do početka korišćenja objekta od strane naručioc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htjev za ostvarivanje prava na ugovonu kaznu – najkasnije do završetka konačnog obračun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nos ugovorne kazne (UK) i naknade štete (Š);</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Š&gt;UK, povjerilac može naplatiti UK i tražiti naknadu štete za razliku Š-UK uz dokazivanje štete</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Š&lt;UK, povjerilac može naplatiti UK bez dokazivanja štete </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slobađanje dužnika od plaćanja ugovorne kazne – u slučaju da nije kriv za neispunjenje ugovora</a:t>
            </a: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LA</a:t>
            </a:r>
            <a:r>
              <a:rPr b="1" lang="sr-Latn-CS" sz="3200" spc="-1" strike="noStrike">
                <a:solidFill>
                  <a:srgbClr val="ffffff"/>
                </a:solidFill>
                <a:latin typeface="Arial"/>
              </a:rPr>
              <a:t>ĆANJE</a:t>
            </a:r>
            <a:endParaRPr b="0" lang="en-US" sz="3200" spc="-1" strike="noStrike">
              <a:solidFill>
                <a:srgbClr val="ffffff"/>
              </a:solidFill>
              <a:latin typeface="Arial"/>
            </a:endParaRPr>
          </a:p>
        </p:txBody>
      </p:sp>
      <p:sp>
        <p:nvSpPr>
          <p:cNvPr id="152" name="PlaceHolder 2"/>
          <p:cNvSpPr>
            <a:spLocks noGrp="1"/>
          </p:cNvSpPr>
          <p:nvPr>
            <p:ph/>
          </p:nvPr>
        </p:nvSpPr>
        <p:spPr>
          <a:xfrm>
            <a:off x="914400" y="1916280"/>
            <a:ext cx="7772400" cy="417960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osnovu privremenih i okončane situacije</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lata po osnovu situacije – nesporni dio u roku od 8 (za privremenu situaciju) odnosno 15 dana (za okončan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naručioca da ospori  situaciju ili njen dio u pogledu:</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ijene</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ličine</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ste izvedenih radov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naručioca da o osporenom  iznosu i razlozima obavijesti izvođač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vjeravanje situacije od strane naručioca nije uslov za plaćanje na osnovu situacije</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vans:</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ijeme plaćanja avansa – ako je ugovoren, ali ne i rok plaćanja, onda se plaća prije početka radov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račun avansa</a:t>
            </a:r>
            <a:endParaRPr b="0" lang="en-US" sz="1500" spc="-1" strike="noStrike">
              <a:solidFill>
                <a:srgbClr val="ffffff"/>
              </a:solidFill>
              <a:latin typeface="Arial"/>
            </a:endParaRPr>
          </a:p>
          <a:p>
            <a:pPr lvl="2" marL="133344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činje da se vraća kada se privremenim sitaucijama dostigne 50% ugovorene cijene</a:t>
            </a:r>
            <a:endParaRPr b="0" lang="en-US" sz="1500" spc="-1" strike="noStrike">
              <a:solidFill>
                <a:srgbClr val="ffffff"/>
              </a:solidFill>
              <a:latin typeface="Arial"/>
            </a:endParaRPr>
          </a:p>
          <a:p>
            <a:pPr lvl="2" marL="133344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aća se srazmjerno primljenom avansu  i vrijednosti ugovorenih a neizvršenih radov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LA</a:t>
            </a:r>
            <a:r>
              <a:rPr b="1" lang="sr-Latn-CS" sz="3200" spc="-1" strike="noStrike">
                <a:solidFill>
                  <a:srgbClr val="ffffff"/>
                </a:solidFill>
                <a:latin typeface="Arial"/>
              </a:rPr>
              <a:t>ĆANJE</a:t>
            </a:r>
            <a:endParaRPr b="0" lang="en-US" sz="3200" spc="-1" strike="noStrike">
              <a:solidFill>
                <a:srgbClr val="ffffff"/>
              </a:solidFill>
              <a:latin typeface="Arial"/>
            </a:endParaRPr>
          </a:p>
        </p:txBody>
      </p:sp>
      <p:sp>
        <p:nvSpPr>
          <p:cNvPr id="154" name="PlaceHolder 2"/>
          <p:cNvSpPr>
            <a:spLocks noGrp="1"/>
          </p:cNvSpPr>
          <p:nvPr>
            <p:ph/>
          </p:nvPr>
        </p:nvSpPr>
        <p:spPr>
          <a:xfrm>
            <a:off x="914400" y="2276280"/>
            <a:ext cx="7772400" cy="381924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ispostavljanje situacij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na osnovu i</a:t>
            </a:r>
            <a:r>
              <a:rPr b="0" lang="sr-Latn-CS" sz="1500" spc="-1" strike="noStrike">
                <a:solidFill>
                  <a:srgbClr val="ffffff"/>
                </a:solidFill>
                <a:latin typeface="Arial"/>
              </a:rPr>
              <a:t>z</a:t>
            </a:r>
            <a:r>
              <a:rPr b="0" lang="en-GB" sz="1500" spc="-1" strike="noStrike">
                <a:solidFill>
                  <a:srgbClr val="ffffff"/>
                </a:solidFill>
                <a:latin typeface="Arial"/>
              </a:rPr>
              <a:t>vedenih</a:t>
            </a:r>
            <a:r>
              <a:rPr b="0" lang="sr-Latn-CS" sz="1500" spc="-1" strike="noStrike">
                <a:solidFill>
                  <a:srgbClr val="ffffff"/>
                </a:solidFill>
                <a:latin typeface="Arial"/>
              </a:rPr>
              <a:t> kolićina</a:t>
            </a:r>
            <a:r>
              <a:rPr b="0" lang="en-GB" sz="1500" spc="-1" strike="noStrike">
                <a:solidFill>
                  <a:srgbClr val="ffffff"/>
                </a:solidFill>
                <a:latin typeface="Arial"/>
              </a:rPr>
              <a:t> ugovorenih radova i ugovorenih cijen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kazuju se radovi na način i po specifikaciji u skladu sa tehničkom dokumentacijom</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vremene situacije su za period od mjesec dan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končana se dostavlja po izvršenoj primopredaji izvedenih radov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je sadrže:</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ličine izvedenih radov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ijene izvedenih radov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upna vrijednost izvedenih radov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anije isplaćeni iznos</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za plaćanje po situaciji</a:t>
            </a:r>
            <a:endParaRPr b="0" lang="en-US" sz="1500" spc="-1" strike="noStrike">
              <a:solidFill>
                <a:srgbClr val="ffffff"/>
              </a:solidFill>
              <a:latin typeface="Arial"/>
            </a:endParaRPr>
          </a:p>
          <a:p>
            <a:pPr marL="53352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LA</a:t>
            </a:r>
            <a:r>
              <a:rPr b="1" lang="sr-Latn-CS" sz="3200" spc="-1" strike="noStrike">
                <a:solidFill>
                  <a:srgbClr val="ffffff"/>
                </a:solidFill>
                <a:latin typeface="Arial"/>
              </a:rPr>
              <a:t>ĆANJE</a:t>
            </a:r>
            <a:endParaRPr b="0" lang="en-US" sz="3200" spc="-1" strike="noStrike">
              <a:solidFill>
                <a:srgbClr val="ffffff"/>
              </a:solidFill>
              <a:latin typeface="Arial"/>
            </a:endParaRPr>
          </a:p>
        </p:txBody>
      </p:sp>
      <p:sp>
        <p:nvSpPr>
          <p:cNvPr id="156" name="PlaceHolder 2"/>
          <p:cNvSpPr>
            <a:spLocks noGrp="1"/>
          </p:cNvSpPr>
          <p:nvPr>
            <p:ph/>
          </p:nvPr>
        </p:nvSpPr>
        <p:spPr>
          <a:xfrm>
            <a:off x="914400" y="2276280"/>
            <a:ext cx="7772400" cy="381924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državanje dijela cijene</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naručioca da zadrži srazmjerni dio cijene za otklanjanje nedostataka utvrđenih tokom primopredaje radova, čak i kad ovo pravo nije utvrđeno ugovorom</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je ugovorom definisano pravo naručioca da zadrži dio  cijene za otklanjanje nedostataka, smatra se da se taj iznos služi za otklanjanje nedostataka utvrđenih tokom primopredaje</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držani iznos može se koristiti za otklanjanje nedostataka, ako izvođač na pismeni poziv ne izvrši otklanjanje nedostatak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držani iznos, odnosno njegov nepotrošeni dio isplaćuje se izvođaču u roku od 8 dana od primopredaje odnosno odmah po otklanjanju nedostataka</a:t>
            </a:r>
            <a:endParaRPr b="0" lang="en-US" sz="1500" spc="-1" strike="noStrike">
              <a:solidFill>
                <a:srgbClr val="ffffff"/>
              </a:solidFill>
              <a:latin typeface="Arial"/>
            </a:endParaRPr>
          </a:p>
          <a:p>
            <a:pPr lvl="2" marL="133344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Arial"/>
              </a:rPr>
              <a:t>PRIVREMENO OBUSTAVLJANJE IZVOĐENJA RADOVA</a:t>
            </a:r>
            <a:endParaRPr b="0" lang="en-US" sz="2800" spc="-1" strike="noStrike">
              <a:solidFill>
                <a:srgbClr val="ffffff"/>
              </a:solidFill>
              <a:latin typeface="Arial"/>
            </a:endParaRPr>
          </a:p>
        </p:txBody>
      </p:sp>
      <p:sp>
        <p:nvSpPr>
          <p:cNvPr id="158"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lučajevi u kojima izvođač može obustaviti radove- neispunjenje ili neuredno ispunjenje obaveza naručioc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tklanjanje  nedostataka u tehn. dokumentaciji</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lata avans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lata privremene situaci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stava nakon isteka primjerenog roka za ispunjenje obaveze naručioc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stavljanje obustavljenih radova, po prestanku smetn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štita obustavljenih radova od propadanja preduzimanjem nužnih i najjeftinijih mjera , jer troškove snosi naručilac</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na naknadu štete i izgubljenu dobit ima onaj koji nije odgovoran za obustavljanje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je dužan da odmah obavijesti  naručioca o uzrocima obustavljanja radova, preduzetim mjerama i o nastavku radova</a:t>
            </a: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lvl="1" marL="9334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S</a:t>
            </a:r>
            <a:r>
              <a:rPr b="1" lang="sr-Latn-CS" sz="3900" spc="-1" strike="noStrike">
                <a:solidFill>
                  <a:srgbClr val="ffffff"/>
                </a:solidFill>
                <a:latin typeface="Arial"/>
              </a:rPr>
              <a:t>adržaj</a:t>
            </a:r>
            <a:endParaRPr b="0" lang="en-US" sz="3900" spc="-1" strike="noStrike">
              <a:solidFill>
                <a:srgbClr val="ffffff"/>
              </a:solidFill>
              <a:latin typeface="Arial"/>
            </a:endParaRPr>
          </a:p>
        </p:txBody>
      </p:sp>
      <p:sp>
        <p:nvSpPr>
          <p:cNvPr id="124" name="PlaceHolder 2"/>
          <p:cNvSpPr>
            <a:spLocks noGrp="1"/>
          </p:cNvSpPr>
          <p:nvPr>
            <p:ph/>
          </p:nvPr>
        </p:nvSpPr>
        <p:spPr>
          <a:xfrm>
            <a:off x="914400" y="2057400"/>
            <a:ext cx="7772400" cy="4038480"/>
          </a:xfrm>
          <a:prstGeom prst="rect">
            <a:avLst/>
          </a:prstGeom>
          <a:noFill/>
          <a:ln w="0">
            <a:noFill/>
          </a:ln>
        </p:spPr>
        <p:txBody>
          <a:bodyPr anchor="t">
            <a:normAutofit fontScale="96000"/>
          </a:bodyPr>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PŠTE ODREDB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SASTAVNI DIJELOVI UGOVOR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ROUČAVANJE I IZMJENA TEHNIČKE DOKUMENTACIJ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DSTUPANJE OD PREDMETA UGOVOR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CIJEN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ROKOVI ZA IZVOĐENJE RADOV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VOĐENJE IZVOĐAČA U POSAO</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STUPANJE RADOVA TREĆEM LICU</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GOVORNA KAZN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LAĆANJ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RIVREMENO OBUSTAVLJANJE IZVOĐENJA RADOV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KVALITET RADOVA I MATERIJAL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GARANCIJA ZA KVALITET IZVEDENIH RADOV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VALITET RADOVA I MATERIJALA</a:t>
            </a:r>
            <a:endParaRPr b="0" lang="en-US" sz="3200" spc="-1" strike="noStrike">
              <a:solidFill>
                <a:srgbClr val="ffffff"/>
              </a:solidFill>
              <a:latin typeface="Arial"/>
            </a:endParaRPr>
          </a:p>
        </p:txBody>
      </p:sp>
      <p:sp>
        <p:nvSpPr>
          <p:cNvPr id="160"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je dužan da upozori naručioc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nepravilnost tehničkih rješenja u tehn. dokumentaciji</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uočene ili utvrđene nedostatke materijala i opreme koji su predviđeni tehn. dokument.</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uočene ili utvrđene nedostatke materijala i opreme koju je naručilac nabavio ili izabrao</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aterijal i opremu sa nedostacima može ugrađivati samo ako su ispunjena oba uslo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 pored upozorenja naručilac insistira da se ugrade i</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njihovo ugrađivanje ne ugrožava stabilnost objekta, živote, susjedne objekte saobraćaj i okolinu</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dgovara naručiocu za vidljive i skrivene mane materijale ako on ne odgovara ugovorenom ili propisanom kvalitetu (osim u prethodno navedenom slučaju)</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VALITET RADOVA I MATERIJALA</a:t>
            </a:r>
            <a:endParaRPr b="0" lang="en-US" sz="3200" spc="-1" strike="noStrike">
              <a:solidFill>
                <a:srgbClr val="ffffff"/>
              </a:solidFill>
              <a:latin typeface="Arial"/>
            </a:endParaRPr>
          </a:p>
        </p:txBody>
      </p:sp>
      <p:sp>
        <p:nvSpPr>
          <p:cNvPr id="162" name="PlaceHolder 2"/>
          <p:cNvSpPr>
            <a:spLocks noGrp="1"/>
          </p:cNvSpPr>
          <p:nvPr>
            <p:ph/>
          </p:nvPr>
        </p:nvSpPr>
        <p:spPr>
          <a:xfrm>
            <a:off x="914400" y="2133720"/>
            <a:ext cx="7772400" cy="396216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valitet materijala utvrđen ugovorom</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vrši ispitivanje materijala po potrebi</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dređuje metode ispitivanja ako nijesu odrežene tehn. dokumentacijom</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snosni troškove ispitivanj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ntrola kvalitet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pruža dokaze o kvalitetu materijala, opreme i rado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mogućava naručiocu da vrši kontrolu (u okviru stručnog nadzora i van njeg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snosi troškove kontrole kvaliteta (izuzev ako ga je izvođač spriječio u pogledu vršenja kontrole na vrijeme)</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pis u građevinski dnevnik o nalazima kontrole izvođača i kontrole naručioc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 slučaju nesaglasnih rezultata radi se zajednička naknadna kontrola čije troškove snosi onaj čiji nalaz nije potvrđen</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VALITET RADOVA I MATERIJALA</a:t>
            </a:r>
            <a:endParaRPr b="0" lang="en-US" sz="3200" spc="-1" strike="noStrike">
              <a:solidFill>
                <a:srgbClr val="ffffff"/>
              </a:solidFill>
              <a:latin typeface="Arial"/>
            </a:endParaRPr>
          </a:p>
        </p:txBody>
      </p:sp>
      <p:sp>
        <p:nvSpPr>
          <p:cNvPr id="164" name="PlaceHolder 2"/>
          <p:cNvSpPr>
            <a:spLocks noGrp="1"/>
          </p:cNvSpPr>
          <p:nvPr>
            <p:ph/>
          </p:nvPr>
        </p:nvSpPr>
        <p:spPr>
          <a:xfrm>
            <a:off x="914400" y="2205000"/>
            <a:ext cx="7772400" cy="38908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izvođenje radova po tehn. dokumentaciji, odnosno ugrađivanjee nekvalitetnog rada i materijala daju pravo naručiocu da zahtije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stavljanje daljeg izvođenja rado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mjenu materijala i opreme odgovarajućeg kvalitet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 izvođač poruši radove i ponovo ih io svom trošku zvede kako je ugovoreno (ukoliko je dovedena u pitanje sigurnost objekta, života ljudi i susjednih objekat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 </a:t>
            </a:r>
            <a:r>
              <a:rPr b="0" lang="sr-Latn-CS" sz="1500" spc="-1" strike="noStrike">
                <a:solidFill>
                  <a:srgbClr val="ffffff"/>
                </a:solidFill>
                <a:latin typeface="Arial"/>
              </a:rPr>
              <a:t>neotklanjanje nedostataka od strane izvođač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može raskinuti ugovor i traćiti naknadu štete zbog nekvalitetnih radova i raskida ugovor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se radi o nedostacima koji su utvrđeni tokom tehničkog pregleda i primopredaje, naručilac može to ustupiti trećem licu (na teret izvođač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GARANCIJA ZA KVALITET IZVEDENIH RADOVA</a:t>
            </a:r>
            <a:endParaRPr b="0" lang="en-US" sz="3200" spc="-1" strike="noStrike">
              <a:solidFill>
                <a:srgbClr val="ffffff"/>
              </a:solidFill>
              <a:latin typeface="Arial"/>
            </a:endParaRPr>
          </a:p>
        </p:txBody>
      </p:sp>
      <p:sp>
        <p:nvSpPr>
          <p:cNvPr id="166" name="PlaceHolder 2"/>
          <p:cNvSpPr>
            <a:spLocks noGrp="1"/>
          </p:cNvSpPr>
          <p:nvPr>
            <p:ph/>
          </p:nvPr>
        </p:nvSpPr>
        <p:spPr>
          <a:xfrm>
            <a:off x="755280" y="1773000"/>
            <a:ext cx="7931160" cy="4322520"/>
          </a:xfrm>
          <a:prstGeom prst="rect">
            <a:avLst/>
          </a:prstGeom>
          <a:noFill/>
          <a:ln w="0">
            <a:noFill/>
          </a:ln>
        </p:spPr>
        <p:txBody>
          <a:bodyPr anchor="t">
            <a:normAutofit fontScale="96000"/>
          </a:bodyPr>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držina garancije -izvođač garantuje da su izvedeni radovi u vrijeme primopredaje:</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edni u skladu sa ugovorom, propisima i pravilima struke </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maju mana koje onemogućavaju njihovo korišćenje, umanjuju vrijednost ili podobnost za upotrebu u odnosu na ono utvrđeno ugovorom</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ještenje o nedostacima bez odlaganj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garantni rok za radove– 2 godine ako propisima ilii ugovorom nije drugačije rečeno, počinje teći od primopredaje, odnosno početka korišćenja objekt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garancija za opremu važi garancija proizvođača opreme (izvođač svu dokumentaciju sa uputstvima predaje naručiocu)</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a docnijih korisnika prelaze sa naručioca i važe do kraja garantnog rok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tklanjanje nedostatka u garantnom roku:</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izvođača samo ako su nedostaci  posledica slabog kvaliteta radova i materijala, a ne nestručnog rukovanja i upotrebe i nenamjenskog korišćenj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tklanja neodstatke u primjerenom roku nakon obavještenja </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može otkloniti nedostatake na račun izvođača ukoliko se on ogluši o zahtjev</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ima pravo na naknadu štete  (uključujući i izgubljenu dobit) zbog ovoga</a:t>
            </a:r>
            <a:endParaRPr b="0" lang="en-US" sz="1500" spc="-1" strike="noStrike">
              <a:solidFill>
                <a:srgbClr val="ffffff"/>
              </a:solidFill>
              <a:latin typeface="Arial"/>
            </a:endParaRPr>
          </a:p>
          <a:p>
            <a:pPr marL="5119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MATERIJAL I OPREMA KOJU NABAVLJA NARUČILAC</a:t>
            </a:r>
            <a:endParaRPr b="0" lang="en-US" sz="3200" spc="-1" strike="noStrike">
              <a:solidFill>
                <a:srgbClr val="ffffff"/>
              </a:solidFill>
              <a:latin typeface="Arial"/>
            </a:endParaRPr>
          </a:p>
        </p:txBody>
      </p:sp>
      <p:sp>
        <p:nvSpPr>
          <p:cNvPr id="168" name="PlaceHolder 2"/>
          <p:cNvSpPr>
            <a:spLocks noGrp="1"/>
          </p:cNvSpPr>
          <p:nvPr>
            <p:ph/>
          </p:nvPr>
        </p:nvSpPr>
        <p:spPr>
          <a:xfrm>
            <a:off x="914400" y="1915920"/>
            <a:ext cx="7772400" cy="18730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je dužan da materijal i opremu koju primi od naručioca čuva i skladišti do upotreb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predaje materijala i opreme utvrđen u skladu sa dinamikom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sto utvrđeno ugovorom, a ako nije određeno onda je to gradilišt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roškovi skladištenja, čuvanja i održavanja primljenog materijala snosi izvođač, osim ako ih je predao prije ugovorenog roka</a:t>
            </a: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169" name="Rectangle 2"/>
          <p:cNvSpPr/>
          <p:nvPr/>
        </p:nvSpPr>
        <p:spPr>
          <a:xfrm>
            <a:off x="1828800" y="3500280"/>
            <a:ext cx="7010280" cy="1076400"/>
          </a:xfrm>
          <a:prstGeom prst="rect">
            <a:avLst/>
          </a:prstGeom>
          <a:noFill/>
          <a:ln w="0">
            <a:noFill/>
          </a:ln>
        </p:spPr>
        <p:style>
          <a:lnRef idx="0"/>
          <a:fillRef idx="0"/>
          <a:effectRef idx="0"/>
          <a:fontRef idx="minor"/>
        </p:style>
        <p:txBody>
          <a:bodyPr lIns="90000" rIns="90000" tIns="46800" bIns="46800" anchor="ctr">
            <a:normAutofit/>
          </a:bodyPr>
          <a:p>
            <a:pPr marL="743040" indent="-743040">
              <a:buClr>
                <a:srgbClr val="ffffff"/>
              </a:buClr>
              <a:buSzPct val="85000"/>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OSIGURANJE</a:t>
            </a:r>
            <a:endParaRPr b="0" lang="en-US" sz="3200" spc="-1" strike="noStrike">
              <a:solidFill>
                <a:srgbClr val="ffffff"/>
              </a:solidFill>
              <a:latin typeface="Arial"/>
            </a:endParaRPr>
          </a:p>
        </p:txBody>
      </p:sp>
      <p:sp>
        <p:nvSpPr>
          <p:cNvPr id="170" name="Rectangle 3"/>
          <p:cNvSpPr/>
          <p:nvPr/>
        </p:nvSpPr>
        <p:spPr>
          <a:xfrm>
            <a:off x="990720" y="4653000"/>
            <a:ext cx="7772400" cy="144792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sigurava radove, materijal i opremu do njihove pune vrijednosti od uobičajenih rizika (požar, poplava, lom, krađ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plaća premiju osiguranj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pust izvođača da izvrši osiguranje –pravo naručioca da to on uradi o trošku izvođač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618920" y="476280"/>
            <a:ext cx="7010280" cy="1447920"/>
          </a:xfrm>
          <a:prstGeom prst="rect">
            <a:avLst/>
          </a:prstGeom>
          <a:noFill/>
          <a:ln w="0">
            <a:noFill/>
          </a:ln>
        </p:spPr>
        <p:txBody>
          <a:bodyPr anchor="ctr">
            <a:noAutofit/>
          </a:bodyPr>
          <a:p>
            <a:pPr marL="743040" indent="-74304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SNOŠENJE RIZIKA</a:t>
            </a:r>
            <a:endParaRPr b="0" lang="en-US" sz="3200" spc="-1" strike="noStrike">
              <a:solidFill>
                <a:srgbClr val="ffffff"/>
              </a:solidFill>
              <a:latin typeface="Arial"/>
            </a:endParaRPr>
          </a:p>
        </p:txBody>
      </p:sp>
      <p:sp>
        <p:nvSpPr>
          <p:cNvPr id="172" name="PlaceHolder 2"/>
          <p:cNvSpPr>
            <a:spLocks noGrp="1"/>
          </p:cNvSpPr>
          <p:nvPr>
            <p:ph/>
          </p:nvPr>
        </p:nvSpPr>
        <p:spPr>
          <a:xfrm>
            <a:off x="865080" y="3213000"/>
            <a:ext cx="7772400" cy="2649600"/>
          </a:xfrm>
          <a:prstGeom prst="rect">
            <a:avLst/>
          </a:prstGeom>
          <a:noFill/>
          <a:ln w="0">
            <a:noFill/>
          </a:ln>
        </p:spPr>
        <p:txBody>
          <a:bodyPr anchor="t">
            <a:normAutofit fontScale="96000"/>
          </a:bodyPr>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vršenja stručnog nadzora od strane naručioc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 pogledu vrsta, količina i kvaliteta radova, materijala i opreme i rokov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gradilištu radionicama, pogonima  i mjestima skladištenja materijal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utem  imenovanog lica (nadzornog inženjera prema Zakonu o uređ. prost. i izgradnji objekat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mogućuje vršenja stručnog nadzor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opštavanje i upisivanje primjedaba u pismenoj formi ili upisom u građevinski dnevni</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stupanje po osnovanim zahtjevima naručioc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sebna ovlašćenja stručnog nadzora (daju mu pravo mijenjanja tehn. dokumentacije, ugovora, cijene i drugih odredbi ugovora)</a:t>
            </a:r>
            <a:endParaRPr b="0" lang="en-US" sz="1500" spc="-1" strike="noStrike">
              <a:solidFill>
                <a:srgbClr val="ffffff"/>
              </a:solidFill>
              <a:latin typeface="Arial"/>
            </a:endParaRPr>
          </a:p>
        </p:txBody>
      </p:sp>
      <p:sp>
        <p:nvSpPr>
          <p:cNvPr id="173" name="Rectangle 2"/>
          <p:cNvSpPr/>
          <p:nvPr/>
        </p:nvSpPr>
        <p:spPr>
          <a:xfrm>
            <a:off x="1042920" y="2363760"/>
            <a:ext cx="7416720" cy="977760"/>
          </a:xfrm>
          <a:prstGeom prst="rect">
            <a:avLst/>
          </a:prstGeom>
          <a:noFill/>
          <a:ln w="0">
            <a:noFill/>
          </a:ln>
        </p:spPr>
        <p:style>
          <a:lnRef idx="0"/>
          <a:fillRef idx="0"/>
          <a:effectRef idx="0"/>
          <a:fontRef idx="minor"/>
        </p:style>
        <p:txBody>
          <a:bodyPr lIns="90000" rIns="90000" tIns="46800" bIns="46800" anchor="ctr">
            <a:normAutofit/>
          </a:bodyPr>
          <a:p>
            <a:pPr marL="743040" indent="-743040">
              <a:buClr>
                <a:srgbClr val="ffffff"/>
              </a:buClr>
              <a:buSzPct val="85000"/>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ea typeface="Arial"/>
              </a:rPr>
              <a:t>STRUČNI NADZOR NARUČIOCA</a:t>
            </a:r>
            <a:endParaRPr b="0" lang="en-US" sz="3200" spc="-1" strike="noStrike">
              <a:solidFill>
                <a:srgbClr val="ffffff"/>
              </a:solidFill>
              <a:latin typeface="Arial"/>
            </a:endParaRPr>
          </a:p>
        </p:txBody>
      </p:sp>
      <p:sp>
        <p:nvSpPr>
          <p:cNvPr id="174" name="Rectangle 5"/>
          <p:cNvSpPr/>
          <p:nvPr/>
        </p:nvSpPr>
        <p:spPr>
          <a:xfrm>
            <a:off x="1046160" y="1773360"/>
            <a:ext cx="7772400" cy="86364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izik izvođača do primopredaje izvedenih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izik naručioca nakon primopredaje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160" y="457200"/>
            <a:ext cx="7010280" cy="1295280"/>
          </a:xfrm>
          <a:prstGeom prst="rect">
            <a:avLst/>
          </a:prstGeom>
          <a:noFill/>
          <a:ln w="0">
            <a:noFill/>
          </a:ln>
        </p:spPr>
        <p:txBody>
          <a:bodyPr anchor="ctr">
            <a:noAutofit/>
          </a:bodyPr>
          <a:p>
            <a:pPr marL="743040" indent="-743040">
              <a:buClr>
                <a:srgbClr val="ffffff"/>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ff"/>
                </a:solidFill>
                <a:latin typeface="Arial"/>
              </a:rPr>
              <a:t>ODGOVORNOST IZVOĐAČA ZA STABILNOST I SIGURNOST OBJEKTA</a:t>
            </a:r>
            <a:endParaRPr b="0" lang="en-US" sz="2600" spc="-1" strike="noStrike">
              <a:solidFill>
                <a:srgbClr val="ffffff"/>
              </a:solidFill>
              <a:latin typeface="Arial"/>
            </a:endParaRPr>
          </a:p>
        </p:txBody>
      </p:sp>
      <p:sp>
        <p:nvSpPr>
          <p:cNvPr id="176" name=""/>
          <p:cNvSpPr txBox="1"/>
          <p:nvPr/>
        </p:nvSpPr>
        <p:spPr>
          <a:xfrm>
            <a:off x="914400" y="1822320"/>
            <a:ext cx="7772400" cy="116064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eriod odgovornosti je 10 godina, osim ako su nedostaci posledica grešaka u projektu naručioca, i ako greške nije mogao uočiti</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govornost izvođača i prema drugima korisnicima objekt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i drugi korisnici o ovim nedostacima obavještavanju izvođača bez odlaganj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177" name="Rectangle 6"/>
          <p:cNvSpPr/>
          <p:nvPr/>
        </p:nvSpPr>
        <p:spPr>
          <a:xfrm>
            <a:off x="1763640" y="2997360"/>
            <a:ext cx="6769080" cy="48996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ffffff"/>
              </a:buClr>
              <a:buSzPct val="85000"/>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ff"/>
                </a:solidFill>
                <a:latin typeface="Arial"/>
              </a:rPr>
              <a:t>MJERE SIGURNOSTI</a:t>
            </a:r>
            <a:endParaRPr b="0" lang="en-US" sz="2600" spc="-1" strike="noStrike">
              <a:solidFill>
                <a:srgbClr val="ffffff"/>
              </a:solidFill>
              <a:latin typeface="Arial"/>
            </a:endParaRPr>
          </a:p>
        </p:txBody>
      </p:sp>
      <p:sp>
        <p:nvSpPr>
          <p:cNvPr id="178" name="Rectangle 3"/>
          <p:cNvSpPr/>
          <p:nvPr/>
        </p:nvSpPr>
        <p:spPr>
          <a:xfrm>
            <a:off x="914400" y="3498840"/>
            <a:ext cx="7772400" cy="118116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i trošak  izvođača radi obezbjeđanja sigurnosti objekta, radova, opreme, uređaja, instalacija radnika prolaznika saobraćaja, susjednih objekata i okolin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hvataj i nepredviđene radove u funkciji obezbjeđanja susjednih objekata i druge mjere  sigurnosti</a:t>
            </a:r>
            <a:endParaRPr b="0" lang="en-US" sz="1500" spc="-1" strike="noStrike">
              <a:solidFill>
                <a:srgbClr val="ffffff"/>
              </a:solidFill>
              <a:latin typeface="Arial"/>
            </a:endParaRPr>
          </a:p>
        </p:txBody>
      </p:sp>
      <p:sp>
        <p:nvSpPr>
          <p:cNvPr id="179" name="Rectangle 4"/>
          <p:cNvSpPr/>
          <p:nvPr/>
        </p:nvSpPr>
        <p:spPr>
          <a:xfrm>
            <a:off x="1295280" y="4687920"/>
            <a:ext cx="7669440" cy="533520"/>
          </a:xfrm>
          <a:prstGeom prst="rect">
            <a:avLst/>
          </a:prstGeom>
          <a:noFill/>
          <a:ln w="0">
            <a:noFill/>
          </a:ln>
        </p:spPr>
        <p:style>
          <a:lnRef idx="0"/>
          <a:fillRef idx="0"/>
          <a:effectRef idx="0"/>
          <a:fontRef idx="minor"/>
        </p:style>
        <p:txBody>
          <a:bodyPr lIns="90000" rIns="90000" tIns="46800" bIns="46800" anchor="ctr">
            <a:normAutofit/>
          </a:bodyPr>
          <a:p>
            <a:pPr marL="743040" indent="-743040">
              <a:buClr>
                <a:srgbClr val="ffffff"/>
              </a:buClr>
              <a:buSzPct val="85000"/>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ff"/>
                </a:solidFill>
                <a:latin typeface="Arial"/>
              </a:rPr>
              <a:t>OBEZBJEĐENJE I ČUVANJE GRADILIŠTA</a:t>
            </a:r>
            <a:endParaRPr b="0" lang="en-US" sz="2600" spc="-1" strike="noStrike">
              <a:solidFill>
                <a:srgbClr val="ffffff"/>
              </a:solidFill>
              <a:latin typeface="Arial"/>
            </a:endParaRPr>
          </a:p>
        </p:txBody>
      </p:sp>
      <p:sp>
        <p:nvSpPr>
          <p:cNvPr id="180" name="Rectangle 5"/>
          <p:cNvSpPr/>
          <p:nvPr/>
        </p:nvSpPr>
        <p:spPr>
          <a:xfrm>
            <a:off x="990720" y="5372280"/>
            <a:ext cx="7772400" cy="723600"/>
          </a:xfrm>
          <a:prstGeom prst="rect">
            <a:avLst/>
          </a:prstGeom>
          <a:noFill/>
          <a:ln w="0">
            <a:noFill/>
          </a:ln>
        </p:spPr>
        <p:style>
          <a:lnRef idx="0"/>
          <a:fillRef idx="0"/>
          <a:effectRef idx="0"/>
          <a:fontRef idx="minor"/>
        </p:style>
        <p:txBody>
          <a:bodyPr lIns="90000" rIns="90000" tIns="46800" bIns="46800" anchor="t">
            <a:normAutofit fontScale="86000"/>
          </a:bodyPr>
          <a:p>
            <a:pPr marL="458640" indent="-458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 početka radova do primopredaje je to obaveza izvođača</a:t>
            </a:r>
            <a:endParaRPr b="0" lang="en-US" sz="1500" spc="-1" strike="noStrike">
              <a:solidFill>
                <a:srgbClr val="ffffff"/>
              </a:solidFill>
              <a:latin typeface="Arial"/>
            </a:endParaRPr>
          </a:p>
          <a:p>
            <a:pPr marL="458640" indent="-458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snosi troškove obezbjeđenja i čuvanja gradilišta, odnosno radova, opreme, materijala od uništenja, oštećenja, krađe i propadanja</a:t>
            </a:r>
            <a:endParaRPr b="0" lang="en-US" sz="1500" spc="-1" strike="noStrike">
              <a:solidFill>
                <a:srgbClr val="ffffff"/>
              </a:solidFill>
              <a:latin typeface="Arial"/>
            </a:endParaRPr>
          </a:p>
          <a:p>
            <a:pPr marL="458640" indent="-458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IMOPREDAJA IZVEDENIH RADOVA</a:t>
            </a:r>
            <a:endParaRPr b="0" lang="en-US" sz="3200" spc="-1" strike="noStrike">
              <a:solidFill>
                <a:srgbClr val="ffffff"/>
              </a:solidFill>
              <a:latin typeface="Arial"/>
            </a:endParaRPr>
          </a:p>
        </p:txBody>
      </p:sp>
      <p:sp>
        <p:nvSpPr>
          <p:cNvPr id="182" name="PlaceHolder 2"/>
          <p:cNvSpPr>
            <a:spLocks noGrp="1"/>
          </p:cNvSpPr>
          <p:nvPr>
            <p:ph/>
          </p:nvPr>
        </p:nvSpPr>
        <p:spPr>
          <a:xfrm>
            <a:off x="611280" y="1844280"/>
            <a:ext cx="8075520" cy="4251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bavještava naručioca da su radovi završeni</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stupa se primopredaji bez odlaganja (nakon tehničkog pregleda i dobijene upotrebne dozvol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matra se da je primopredaja izvršena, ako naručilac koristi objekat prije formalne primopreda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pisnik o primopredaji (uz učešće ovlašćenih predstavnika ugovornih strana ili samo jedne strane, ako druga odbije učešće) obuhvata podat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 li su radovi izvedeni po ugovoru, propisima i pravilima stru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 li kvalitet odgovara  ugrađenom kvalitetu i nalozi izvođaču u vezi sa tim</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 koijm tehničkim pitanjima nije postignuta saglasnost između ovlašćenih predstavnika ugovarač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nstatacije o predaji garantnih listova i uzansi</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tum završetka radova i datum izvršene primopreda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se u zapisniku konstatuje da treba neke radove doraditi, popraviti ili ponovno izvesti, izvođač mora odmah  da pristupi izvođenju tih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ve nedostatke može otkloniti naručilac tako što o trošku izvođača angažuje drugo lice</a:t>
            </a:r>
            <a:endParaRPr b="0" lang="en-US" sz="1500" spc="-1" strike="noStrike">
              <a:solidFill>
                <a:srgbClr val="ffffff"/>
              </a:solidFill>
              <a:latin typeface="Arial"/>
            </a:endParaRPr>
          </a:p>
          <a:p>
            <a:pPr lvl="1" marL="9334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ONAČAN OBRAČUN</a:t>
            </a:r>
            <a:endParaRPr b="0" lang="en-US" sz="3200" spc="-1" strike="noStrike">
              <a:solidFill>
                <a:srgbClr val="ffffff"/>
              </a:solidFill>
              <a:latin typeface="Arial"/>
            </a:endParaRPr>
          </a:p>
        </p:txBody>
      </p:sp>
      <p:sp>
        <p:nvSpPr>
          <p:cNvPr id="184" name="PlaceHolder 2"/>
          <p:cNvSpPr>
            <a:spLocks noGrp="1"/>
          </p:cNvSpPr>
          <p:nvPr>
            <p:ph/>
          </p:nvPr>
        </p:nvSpPr>
        <p:spPr>
          <a:xfrm>
            <a:off x="914400" y="1773000"/>
            <a:ext cx="7772400" cy="4322520"/>
          </a:xfrm>
          <a:prstGeom prst="rect">
            <a:avLst/>
          </a:prstGeom>
          <a:noFill/>
          <a:ln w="0">
            <a:noFill/>
          </a:ln>
        </p:spPr>
        <p:txBody>
          <a:bodyPr anchor="t">
            <a:normAutofit fontScale="99000"/>
          </a:bodyPr>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efinitivno utvrđivanje izvršenja prava i obaveza ugovarača</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činje po primopredaji radova</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vršava se u roku od 60 dana od dana primopredaje</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hvata sve radove (ugovorene, naknadne, nepredviđene)  bez obzira da li su bili obuhvaćeni privremenim situacijama</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držaj konačnog obračuna (uz učešće ovlašćenih predstavnika narućioca i izvođača, ili samo jedne strane):</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ijednost izvedenih radova prema ugovorenimm cijenam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razlika u cijeni</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isplaćen po osnovu situacij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naćan iznos koji izvođač treba da primi ili vrati po nespornom dijelu obračun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cijene koji naručilac zadržava za otklanjanje nedostatak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atak o eventualnom prekoračenju rok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atak o tom ekoji ugovarač, po kom osnovu i u kom iznosu traži naplatu ugovorne kazne i naknade štete i njihove osporene i neosporene iznose</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upni iznos cijene izvedenih radov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akte o drugim spornim činjenicam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OSLEDICE RASKIDANJA UGOVORA</a:t>
            </a:r>
            <a:endParaRPr b="0" lang="en-US" sz="3200" spc="-1" strike="noStrike">
              <a:solidFill>
                <a:srgbClr val="ffffff"/>
              </a:solidFill>
              <a:latin typeface="Arial"/>
            </a:endParaRPr>
          </a:p>
        </p:txBody>
      </p:sp>
      <p:sp>
        <p:nvSpPr>
          <p:cNvPr id="186" name="PlaceHolder 2"/>
          <p:cNvSpPr>
            <a:spLocks noGrp="1"/>
          </p:cNvSpPr>
          <p:nvPr>
            <p:ph/>
          </p:nvPr>
        </p:nvSpPr>
        <p:spPr>
          <a:xfrm>
            <a:off x="914400" y="2349000"/>
            <a:ext cx="7772400" cy="374652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naručioca da plati izvedene radove izvođaču, bez obzira ko je odgovoran za r</a:t>
            </a:r>
            <a:r>
              <a:rPr b="0" lang="en-US" sz="1500" spc="-1" strike="noStrike">
                <a:solidFill>
                  <a:srgbClr val="ffffff"/>
                </a:solidFill>
                <a:latin typeface="Arial"/>
              </a:rPr>
              <a:t>a</a:t>
            </a:r>
            <a:r>
              <a:rPr b="0" lang="sr-Latn-CS" sz="1500" spc="-1" strike="noStrike">
                <a:solidFill>
                  <a:srgbClr val="ffffff"/>
                </a:solidFill>
                <a:latin typeface="Arial"/>
              </a:rPr>
              <a:t>skidanje ugovor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 slučaju odgovornosti naručioca, njegova je obaveza da plati i pripremljen materijal i oremu za ugrađivanje, koji su ostali neugrađeni i da mu nadoknadii amortizovanu vrijednost pripremnih radova i izdatke za uređenje gr</a:t>
            </a:r>
            <a:r>
              <a:rPr b="0" lang="en-US" sz="1500" spc="-1" strike="noStrike">
                <a:solidFill>
                  <a:srgbClr val="ffffff"/>
                </a:solidFill>
                <a:latin typeface="Arial"/>
              </a:rPr>
              <a:t>a</a:t>
            </a:r>
            <a:r>
              <a:rPr b="0" lang="sr-Latn-CS" sz="1500" spc="-1" strike="noStrike">
                <a:solidFill>
                  <a:srgbClr val="ffffff"/>
                </a:solidFill>
                <a:latin typeface="Arial"/>
              </a:rPr>
              <a:t>dilišt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ugovarača koji je odgovoran za raskidanje ugovora da drugom naknadi štetu koja je zbog toga nastala, pa i izgubljenu dobit</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štita radova u slučaju raskida je obaveza izvođača, ali na teret naručioca, osim ako je za raskid odgovoran izvođač</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užne, što jeftinije mjere zaštite</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S</a:t>
            </a:r>
            <a:r>
              <a:rPr b="1" lang="sr-Latn-CS" sz="3900" spc="-1" strike="noStrike">
                <a:solidFill>
                  <a:srgbClr val="ffffff"/>
                </a:solidFill>
                <a:latin typeface="Arial"/>
              </a:rPr>
              <a:t>adržaj</a:t>
            </a:r>
            <a:endParaRPr b="0" lang="en-US" sz="3900" spc="-1" strike="noStrike">
              <a:solidFill>
                <a:srgbClr val="ffffff"/>
              </a:solidFill>
              <a:latin typeface="Arial"/>
            </a:endParaRPr>
          </a:p>
        </p:txBody>
      </p:sp>
      <p:sp>
        <p:nvSpPr>
          <p:cNvPr id="126" name="PlaceHolder 2"/>
          <p:cNvSpPr>
            <a:spLocks noGrp="1"/>
          </p:cNvSpPr>
          <p:nvPr>
            <p:ph/>
          </p:nvPr>
        </p:nvSpPr>
        <p:spPr>
          <a:xfrm>
            <a:off x="914400" y="2057400"/>
            <a:ext cx="7772400" cy="4038480"/>
          </a:xfrm>
          <a:prstGeom prst="rect">
            <a:avLst/>
          </a:prstGeom>
          <a:noFill/>
          <a:ln w="0">
            <a:noFill/>
          </a:ln>
        </p:spPr>
        <p:txBody>
          <a:bodyPr anchor="t">
            <a:normAutofit fontScale="97000"/>
          </a:bodyPr>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MATERIJAL I OPREMA KOJE NABAVLJA NARUČILAC</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SIGURANJE</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SNOŠENJE RIZIK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STRUČNI NADZOR NARUČIOC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DGOVORNOST IZVOĐAČA ZA STABILNOST I SIGURNOST OBJEKT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MJERE SIGURNOSTI</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BEZBJEĐENJE I ČUVANJE GRADILIŠT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RIMOPREDAJA IZVEDENIH RADOV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KONAČAN OBRAČUN</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OSLEDICE RASKIDANJA UGOVOR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REĐENJE GRADILIŠT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ZAVRŠNA ODREDB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REĐENJE GRADILIŠTA</a:t>
            </a:r>
            <a:endParaRPr b="0" lang="en-US" sz="3200" spc="-1" strike="noStrike">
              <a:solidFill>
                <a:srgbClr val="ffffff"/>
              </a:solidFill>
              <a:latin typeface="Arial"/>
            </a:endParaRPr>
          </a:p>
        </p:txBody>
      </p:sp>
      <p:sp>
        <p:nvSpPr>
          <p:cNvPr id="188" name="PlaceHolder 2"/>
          <p:cNvSpPr>
            <a:spLocks noGrp="1"/>
          </p:cNvSpPr>
          <p:nvPr>
            <p:ph/>
          </p:nvPr>
        </p:nvSpPr>
        <p:spPr>
          <a:xfrm>
            <a:off x="914400" y="1828440"/>
            <a:ext cx="7772400" cy="42670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izvođača da po okončanju (ili raskidu ugovora) sa gradilišt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vuče svoje radni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loni preostali materijal, opremu ili sredstva za rad,</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loni privremene objekte koje je sagradio</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čisti objekat i gradilišt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roškove snosi izvođač odnosno strana odgovorna za raskid ugovor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OPŠTE ODREDBE</a:t>
            </a:r>
            <a:endParaRPr b="0" lang="en-US" sz="3600" spc="-1" strike="noStrike">
              <a:solidFill>
                <a:srgbClr val="ffffff"/>
              </a:solidFill>
              <a:latin typeface="Arial"/>
            </a:endParaRPr>
          </a:p>
        </p:txBody>
      </p:sp>
      <p:sp>
        <p:nvSpPr>
          <p:cNvPr id="128" name="PlaceHolder 2"/>
          <p:cNvSpPr>
            <a:spLocks noGrp="1"/>
          </p:cNvSpPr>
          <p:nvPr>
            <p:ph/>
          </p:nvPr>
        </p:nvSpPr>
        <p:spPr>
          <a:xfrm>
            <a:off x="914400" y="1904760"/>
            <a:ext cx="7772400" cy="4190760"/>
          </a:xfrm>
          <a:prstGeom prst="rect">
            <a:avLst/>
          </a:prstGeom>
          <a:noFill/>
          <a:ln w="0">
            <a:noFill/>
          </a:ln>
        </p:spPr>
        <p:txBody>
          <a:bodyPr anchor="t">
            <a:normAutofit/>
          </a:bodyPr>
          <a:p>
            <a:pPr marL="533520" indent="-533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rimjenjivost uzansi :</a:t>
            </a:r>
            <a:endParaRPr b="0" lang="en-US" sz="18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dnosi između naručioca i izvođača radova u izvođenju radova na građevinskim objektim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ffff"/>
                </a:solidFill>
                <a:uFillTx/>
                <a:latin typeface="Arial"/>
              </a:rPr>
              <a:t>samo</a:t>
            </a:r>
            <a:r>
              <a:rPr b="1" lang="sr-Latn-CS" sz="1700" spc="-1" strike="noStrike" u="sng">
                <a:solidFill>
                  <a:srgbClr val="ffffff"/>
                </a:solidFill>
                <a:uFillTx/>
                <a:latin typeface="Arial"/>
              </a:rPr>
              <a:t> ukoliko </a:t>
            </a:r>
            <a:r>
              <a:rPr b="1" lang="en-US" sz="1700" spc="-1" strike="noStrike" u="sng">
                <a:solidFill>
                  <a:srgbClr val="ffffff"/>
                </a:solidFill>
                <a:uFillTx/>
                <a:latin typeface="Arial"/>
              </a:rPr>
              <a:t>je</a:t>
            </a:r>
            <a:r>
              <a:rPr b="1" lang="sr-Latn-CS" sz="1700" spc="-1" strike="noStrike" u="sng">
                <a:solidFill>
                  <a:srgbClr val="ffffff"/>
                </a:solidFill>
                <a:uFillTx/>
                <a:latin typeface="Arial"/>
              </a:rPr>
              <a:t> ugovoru izričito </a:t>
            </a:r>
            <a:r>
              <a:rPr b="1" lang="en-US" sz="1700" spc="-1" strike="noStrike" u="sng">
                <a:solidFill>
                  <a:srgbClr val="ffffff"/>
                </a:solidFill>
                <a:uFillTx/>
                <a:latin typeface="Arial"/>
              </a:rPr>
              <a:t>nagla</a:t>
            </a:r>
            <a:r>
              <a:rPr b="1" lang="sr-Latn-CS" sz="1700" spc="-1" strike="noStrike" u="sng">
                <a:solidFill>
                  <a:srgbClr val="ffffff"/>
                </a:solidFill>
                <a:uFillTx/>
                <a:latin typeface="Arial"/>
              </a:rPr>
              <a:t>šeno da se primjenjuju</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sim u dijelovima ugovora koji na drugačiji način reguliše materiju obrađenu u Uzansama</a:t>
            </a:r>
            <a:endParaRPr b="0" lang="en-US" sz="1700" spc="-1" strike="noStrike">
              <a:solidFill>
                <a:srgbClr val="ffffff"/>
              </a:solidFill>
              <a:latin typeface="Arial"/>
            </a:endParaRPr>
          </a:p>
          <a:p>
            <a:pPr marL="533520" indent="-533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Načelo poštenja i savjesnosti – bitno za potrebe tumačenja ugovora i ponašanja učesnika ugovora</a:t>
            </a:r>
            <a:endParaRPr b="0" lang="en-US" sz="1800" spc="-1" strike="noStrike">
              <a:solidFill>
                <a:srgbClr val="ffffff"/>
              </a:solidFill>
              <a:latin typeface="Arial"/>
            </a:endParaRPr>
          </a:p>
          <a:p>
            <a:pPr marL="533520" indent="-533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Ispunjenje obaveza</a:t>
            </a:r>
            <a:endParaRPr b="0" lang="en-US" sz="18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 pažnjom dobrog privrednik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zavisnost uzajamnih obavez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aradnja u ostvarivanju ciljeva ugovor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osledice neizvršenja obaveza treba svesti na najmaju moguću mjeru i samo se u tom slučaju može trađiti nadoknada štete</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u ugovorenom ili naknadnom primjerenom roku</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OPŠTE ODREDBE</a:t>
            </a:r>
            <a:endParaRPr b="0" lang="en-US" sz="3600" spc="-1" strike="noStrike">
              <a:solidFill>
                <a:srgbClr val="ffffff"/>
              </a:solidFill>
              <a:latin typeface="Arial"/>
            </a:endParaRPr>
          </a:p>
        </p:txBody>
      </p:sp>
      <p:sp>
        <p:nvSpPr>
          <p:cNvPr id="130" name="PlaceHolder 2"/>
          <p:cNvSpPr>
            <a:spLocks noGrp="1"/>
          </p:cNvSpPr>
          <p:nvPr>
            <p:ph/>
          </p:nvPr>
        </p:nvSpPr>
        <p:spPr>
          <a:xfrm>
            <a:off x="684000" y="1484280"/>
            <a:ext cx="8002440" cy="4611600"/>
          </a:xfrm>
          <a:prstGeom prst="rect">
            <a:avLst/>
          </a:prstGeom>
          <a:noFill/>
          <a:ln w="0">
            <a:noFill/>
          </a:ln>
        </p:spPr>
        <p:txBody>
          <a:bodyPr anchor="t">
            <a:normAutofit fontScale="98000"/>
          </a:bodyPr>
          <a:p>
            <a:pPr marL="522720" indent="-52272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bavještavanj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blagovremeno o činjenicama koje su od uticaja na ispunjenje ugovor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 pismenoj formi ili upisom u građevinski dnevnik</a:t>
            </a:r>
            <a:endParaRPr b="0" lang="en-US" sz="1400" spc="-1" strike="noStrike">
              <a:solidFill>
                <a:srgbClr val="ffffff"/>
              </a:solidFill>
              <a:latin typeface="Arial"/>
            </a:endParaRPr>
          </a:p>
          <a:p>
            <a:pPr marL="522720" indent="-52272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ređivanje pojmova (definicij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a:t>
            </a:r>
            <a:r>
              <a:rPr b="0" lang="vi-VN" sz="1400" spc="-1" strike="noStrike">
                <a:solidFill>
                  <a:srgbClr val="ffffff"/>
                </a:solidFill>
                <a:latin typeface="Arial"/>
              </a:rPr>
              <a:t>lice koje je ugovorom zaključenim sa izvođačem naručilo izvođenje radova koji su predmet ugovor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izvođač- lice koje je ugovorom zaključenim sa naručiocem prihvatilo obavezu da izvede radove koji su predmet ugovor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adovi na građevinskim objektim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građevinski objekti</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viškovi radova- količne izvedenih radova koje prelaze ugovorene količin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anjkovi radov- negativna odstupanja izvedenih radova u odnosu na ugovorene količin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epredviđeni radovi- oni koji ugovorom nijesu obuhvaćeni a moraju se izvesti da bi objekt imao normalnu funkciju ili sigurnost objekta i-ili susjednih objekata i sl</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knadni radovi- ugovorom nijesu obuhvaćeni i nijesu nužni za ispunjenje ugovora, ali njihovu realizaciju zahtjeva naručilac</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gradilište- zemljište na kojem se izvode radovi i zemljište koje izvođač koristi radi izvođenja radov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imjereni rok</a:t>
            </a:r>
            <a:endParaRPr b="0" lang="en-US" sz="1400" spc="-1" strike="noStrike">
              <a:solidFill>
                <a:srgbClr val="ffffff"/>
              </a:solidFill>
              <a:latin typeface="Arial"/>
            </a:endParaRPr>
          </a:p>
          <a:p>
            <a:pPr marL="522720" indent="-52272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ačunanje rokova određenih u danima – kalendarski dan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SASTAVNI DJELOVI UGOVORA</a:t>
            </a:r>
            <a:endParaRPr b="0" lang="en-US" sz="3200" spc="-1" strike="noStrike">
              <a:solidFill>
                <a:srgbClr val="ffffff"/>
              </a:solidFill>
              <a:latin typeface="Arial"/>
            </a:endParaRPr>
          </a:p>
        </p:txBody>
      </p:sp>
      <p:sp>
        <p:nvSpPr>
          <p:cNvPr id="132" name="PlaceHolder 2"/>
          <p:cNvSpPr>
            <a:spLocks noGrp="1"/>
          </p:cNvSpPr>
          <p:nvPr>
            <p:ph/>
          </p:nvPr>
        </p:nvSpPr>
        <p:spPr>
          <a:xfrm>
            <a:off x="914400" y="2285640"/>
            <a:ext cx="7772400" cy="38098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stavni djelovi ugovora (koje naručilac treba da preda izvođaču prije početka izvođenja radova) su:</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ehnička dokumentacij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sebni i drugi uslovi naručioca koji su određeni ugovorom</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inamički plan radova ako su tako odredili ugovarač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OUČAVANJE I IZMJENA TEHNIČKE DOKUMENTACIJE</a:t>
            </a:r>
            <a:endParaRPr b="0" lang="en-US" sz="3200" spc="-1" strike="noStrike">
              <a:solidFill>
                <a:srgbClr val="ffffff"/>
              </a:solidFill>
              <a:latin typeface="Arial"/>
            </a:endParaRPr>
          </a:p>
        </p:txBody>
      </p:sp>
      <p:sp>
        <p:nvSpPr>
          <p:cNvPr id="134" name="PlaceHolder 2"/>
          <p:cNvSpPr>
            <a:spLocks noGrp="1"/>
          </p:cNvSpPr>
          <p:nvPr>
            <p:ph/>
          </p:nvPr>
        </p:nvSpPr>
        <p:spPr>
          <a:xfrm>
            <a:off x="914400" y="1989000"/>
            <a:ext cx="7772400" cy="410688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učavanje tehničke dokumentacije: </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izvođača </a:t>
            </a:r>
            <a:endParaRPr b="0" lang="en-US" sz="1500" spc="-1" strike="noStrike">
              <a:solidFill>
                <a:srgbClr val="ffffff"/>
              </a:solidFill>
              <a:latin typeface="Arial"/>
            </a:endParaRPr>
          </a:p>
          <a:p>
            <a:pPr lvl="2" marL="1085760" indent="-228600">
              <a:spcBef>
                <a:spcPts val="374"/>
              </a:spcBef>
              <a:buClr>
                <a:srgbClr val="0078f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blagovremeno i detaljno proučavanje tehn. dok.</a:t>
            </a:r>
            <a:endParaRPr b="0" lang="en-US" sz="1500" spc="-1" strike="noStrike">
              <a:solidFill>
                <a:srgbClr val="ffffff"/>
              </a:solidFill>
              <a:latin typeface="Arial"/>
            </a:endParaRPr>
          </a:p>
          <a:p>
            <a:pPr lvl="2" marL="1085760" indent="-228600">
              <a:spcBef>
                <a:spcPts val="374"/>
              </a:spcBef>
              <a:buClr>
                <a:srgbClr val="0078f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blagoovremeno traženje razjašnjenja od naručioc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naručioca -davanje razjašnjenja (blagovremeno i u pismenoj formi)</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mjena tehničke dokumentacije u nadleđnosti naručioc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roškovi izmjene tehničke dokumentacije</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nosi ih naručilac,osim:</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je izmjena u cilju otklanjanja nedostataka tehn. dokumentacije koju je obezbijedio izvođač</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jekat izvedenih radova – projekat izvedenog objekta prema Zakonu o izgradnji objekat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rteži i proračuni izvršenih izmjena i dopuna tehničke dokumenatcije i stvarno izvedenih radova po osnovu tih izmjena i dopun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e izvođač naručiocu nakon završetka radova</a:t>
            </a:r>
            <a:endParaRPr b="0" lang="en-US" sz="1500" spc="-1" strike="noStrike">
              <a:solidFill>
                <a:srgbClr val="ffffff"/>
              </a:solidFill>
              <a:latin typeface="Arial"/>
            </a:endParaRPr>
          </a:p>
          <a:p>
            <a:pPr lvl="2" marL="108576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ODSTUPANJE OD PREDMETA UGOVORA</a:t>
            </a:r>
            <a:endParaRPr b="0" lang="en-US" sz="3200" spc="-1" strike="noStrike">
              <a:solidFill>
                <a:srgbClr val="ffffff"/>
              </a:solidFill>
              <a:latin typeface="Arial"/>
            </a:endParaRPr>
          </a:p>
        </p:txBody>
      </p:sp>
      <p:sp>
        <p:nvSpPr>
          <p:cNvPr id="136"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izvođač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ugovorene radove (uključujući i viškove radova) izvede na način i u rokovima koji su određeni ugovorom, propisima i pravilima stru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na osnovu pismenog naloga naručioca izvede i nepredviđene radove (a bez obavještenja hitne nepredviđene radove za obezbjeđenje stabilnosti objekta, sprećavanja nastanka štete, normalnog korišćenja izgrađenog objekt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o preduzetim hitnim nepredviđenim radovima odmah obavijesti naručioc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naručioc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izvođenje nepredviđenih radova ustupi izvođaču, a trećem licu ako ovaj ne može ili odbije da ih završi</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izvođenje naknadnih radova ponudi izvođaču</a:t>
            </a:r>
            <a:endParaRPr b="0" lang="en-US" sz="1500" spc="-1" strike="noStrike">
              <a:solidFill>
                <a:srgbClr val="ffffff"/>
              </a:solidFill>
              <a:latin typeface="Arial"/>
            </a:endParaRPr>
          </a:p>
          <a:p>
            <a:pPr lvl="1" marL="9334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CIJENE </a:t>
            </a:r>
            <a:endParaRPr b="0" lang="en-US" sz="3200" spc="-1" strike="noStrike">
              <a:solidFill>
                <a:srgbClr val="ffffff"/>
              </a:solidFill>
              <a:latin typeface="Arial"/>
            </a:endParaRPr>
          </a:p>
        </p:txBody>
      </p:sp>
      <p:sp>
        <p:nvSpPr>
          <p:cNvPr id="138" name="PlaceHolder 2"/>
          <p:cNvSpPr>
            <a:spLocks noGrp="1"/>
          </p:cNvSpPr>
          <p:nvPr>
            <p:ph/>
          </p:nvPr>
        </p:nvSpPr>
        <p:spPr>
          <a:xfrm>
            <a:off x="914400" y="1916280"/>
            <a:ext cx="7772400" cy="417960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ređivanje:</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čin određivanja cijena može biti propisan u uslovima za podnošenje ponud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jedinične cijene (za jedinicu mjere ugovorenih radova, faza radova ili jedinicu mjere objekt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upan iznos za vrijednost cijelog objekt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mjene cijene:</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bog promijenjenih okolnosti (vanrednih događaj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re utvrđene aktima nadležnih organ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mjene cijena materijala i usluga trećih lica na tržištu (više od graničnih procenat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mjene troškova života (za više od 5%) šestomjesečni obračun</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slovi za izvođenje radova u zemlji ili vodi koji nijesu predviđeni tehničkom dokumentacijom</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Toshiba</cp:lastModifiedBy>
  <dcterms:modified xsi:type="dcterms:W3CDTF">2019-12-02T12:58:43Z</dcterms:modified>
  <cp:revision>382</cp:revision>
  <dc:subject/>
  <dc:title>ZAKON O IZGRADNJI OBJEKATA</dc:title>
</cp:coreProperties>
</file>