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9C8E-6F4A-4999-A307-B0169B5FF092}"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4869-DAD6-443C-813D-61972C525F4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2082960" y="228600"/>
            <a:ext cx="2539800" cy="1905120"/>
          </a:xfrm>
          <a:prstGeom prst="rect">
            <a:avLst/>
          </a:prstGeom>
          <a:ln w="0">
            <a:noFill/>
          </a:ln>
        </p:spPr>
      </p:sp>
      <p:sp>
        <p:nvSpPr>
          <p:cNvPr id="154"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B01C-7FDB-4707-8094-40DD93A3F6E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2082960" y="228600"/>
            <a:ext cx="2539800" cy="1905120"/>
          </a:xfrm>
          <a:prstGeom prst="rect">
            <a:avLst/>
          </a:prstGeom>
          <a:ln w="0">
            <a:noFill/>
          </a:ln>
        </p:spPr>
      </p:sp>
      <p:sp>
        <p:nvSpPr>
          <p:cNvPr id="18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3460-F92E-4020-BE38-EA79289D671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2082960" y="228600"/>
            <a:ext cx="2539800" cy="1905120"/>
          </a:xfrm>
          <a:prstGeom prst="rect">
            <a:avLst/>
          </a:prstGeom>
          <a:ln w="0">
            <a:noFill/>
          </a:ln>
        </p:spPr>
      </p:sp>
      <p:sp>
        <p:nvSpPr>
          <p:cNvPr id="18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8F54-1C15-4EB3-A2D1-078FDCEC8A3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082960" y="228600"/>
            <a:ext cx="2539800" cy="1905120"/>
          </a:xfrm>
          <a:prstGeom prst="rect">
            <a:avLst/>
          </a:prstGeom>
          <a:ln w="0">
            <a:noFill/>
          </a:ln>
        </p:spPr>
      </p:sp>
      <p:sp>
        <p:nvSpPr>
          <p:cNvPr id="187"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EEB1-1550-4ECE-B7CC-ACF646FE671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2082960" y="228600"/>
            <a:ext cx="2539800" cy="1905120"/>
          </a:xfrm>
          <a:prstGeom prst="rect">
            <a:avLst/>
          </a:prstGeom>
          <a:ln w="0">
            <a:noFill/>
          </a:ln>
        </p:spPr>
      </p:sp>
      <p:sp>
        <p:nvSpPr>
          <p:cNvPr id="19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1E9A-2261-412A-B816-19D711BBFC1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2082960" y="228600"/>
            <a:ext cx="2539800" cy="1905120"/>
          </a:xfrm>
          <a:prstGeom prst="rect">
            <a:avLst/>
          </a:prstGeom>
          <a:ln w="0">
            <a:noFill/>
          </a:ln>
        </p:spPr>
      </p:sp>
      <p:sp>
        <p:nvSpPr>
          <p:cNvPr id="19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6519-53A5-4609-9753-0D11A36C8CE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2082960" y="228600"/>
            <a:ext cx="2539800" cy="1905120"/>
          </a:xfrm>
          <a:prstGeom prst="rect">
            <a:avLst/>
          </a:prstGeom>
          <a:ln w="0">
            <a:noFill/>
          </a:ln>
        </p:spPr>
      </p:sp>
      <p:sp>
        <p:nvSpPr>
          <p:cNvPr id="19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DE59-7DE8-43E3-A0FC-9A8EDC70EF6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2082960" y="228600"/>
            <a:ext cx="2539800" cy="1905120"/>
          </a:xfrm>
          <a:prstGeom prst="rect">
            <a:avLst/>
          </a:prstGeom>
          <a:ln w="0">
            <a:noFill/>
          </a:ln>
        </p:spPr>
      </p:sp>
      <p:sp>
        <p:nvSpPr>
          <p:cNvPr id="1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E781-BBDE-461D-B403-B2900D3ECE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2082960" y="228600"/>
            <a:ext cx="2539800" cy="1905120"/>
          </a:xfrm>
          <a:prstGeom prst="rect">
            <a:avLst/>
          </a:prstGeom>
          <a:ln w="0">
            <a:noFill/>
          </a:ln>
        </p:spPr>
      </p:sp>
      <p:sp>
        <p:nvSpPr>
          <p:cNvPr id="16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E6E0-6448-41FD-95F6-1AA313F7C0B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2082960" y="228600"/>
            <a:ext cx="2539800" cy="1905120"/>
          </a:xfrm>
          <a:prstGeom prst="rect">
            <a:avLst/>
          </a:prstGeom>
          <a:ln w="0">
            <a:noFill/>
          </a:ln>
        </p:spPr>
      </p:sp>
      <p:sp>
        <p:nvSpPr>
          <p:cNvPr id="163"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89D7-1C95-4B5C-96B3-CF5416C2692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2082960" y="228600"/>
            <a:ext cx="2539800" cy="1905120"/>
          </a:xfrm>
          <a:prstGeom prst="rect">
            <a:avLst/>
          </a:prstGeom>
          <a:ln w="0">
            <a:noFill/>
          </a:ln>
        </p:spPr>
      </p:sp>
      <p:sp>
        <p:nvSpPr>
          <p:cNvPr id="1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E10F-3FE3-4088-9533-4ECB183F438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2057400" y="380880"/>
            <a:ext cx="2540160" cy="1905120"/>
          </a:xfrm>
          <a:prstGeom prst="rect">
            <a:avLst/>
          </a:prstGeom>
          <a:ln w="0">
            <a:noFill/>
          </a:ln>
        </p:spPr>
      </p:sp>
      <p:sp>
        <p:nvSpPr>
          <p:cNvPr id="1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49E7-4672-4921-86E4-01F4BB4331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2082960" y="228600"/>
            <a:ext cx="2539800" cy="1905120"/>
          </a:xfrm>
          <a:prstGeom prst="rect">
            <a:avLst/>
          </a:prstGeom>
          <a:ln w="0">
            <a:noFill/>
          </a:ln>
        </p:spPr>
      </p:sp>
      <p:sp>
        <p:nvSpPr>
          <p:cNvPr id="1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D951-BC37-4097-B525-DCEA83DBFB0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2082960" y="228600"/>
            <a:ext cx="2539800" cy="1905120"/>
          </a:xfrm>
          <a:prstGeom prst="rect">
            <a:avLst/>
          </a:prstGeom>
          <a:ln w="0">
            <a:noFill/>
          </a:ln>
        </p:spPr>
      </p:sp>
      <p:sp>
        <p:nvSpPr>
          <p:cNvPr id="175"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46CD-5919-4A24-831C-A4E66D52495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2082960" y="228600"/>
            <a:ext cx="2539800" cy="1905120"/>
          </a:xfrm>
          <a:prstGeom prst="rect">
            <a:avLst/>
          </a:prstGeom>
          <a:ln w="0">
            <a:noFill/>
          </a:ln>
        </p:spPr>
      </p:sp>
      <p:sp>
        <p:nvSpPr>
          <p:cNvPr id="17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D3AACA-060B-45E4-9992-C6C4DFC59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0BCE84-5612-45B7-A9B9-9D096BA71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C72EF1-7919-45AB-9762-34430D8736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5EDF24-D15F-4F38-941B-98545B8540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EECB0-D0B4-4C4C-BF5B-184FB0A6A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84017-9AD9-428C-85AD-3A3197C22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17494-4807-4ECE-AC2D-F85EE096B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9D5D9-ECF2-407A-9BE7-0D3F03485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6FADE-3BB5-4215-A101-C9FCC34D7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C9CB5-4DA2-403C-A986-85565BD07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0CE65-8270-482F-B06F-01047457E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73EAF2-0044-4310-8412-B88DC66BB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9943A-2F1D-497F-8379-D81E77730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905FA-9B6F-4042-8400-AA4B71C3C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EBF18-FE38-456A-8038-E546F9600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D91F3-F13F-4B32-A0B2-87FE493CA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48F5A-E875-4688-BB43-DC56A5D38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8A705-0555-413D-9354-890AA4101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9323A6-3397-4807-B150-AB9B18294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CB0F47-9286-472C-8A25-9E156D1CC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B5D734-0FD3-4B28-9AB9-F5CA8E0DD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6AACBB-27B7-4026-8B31-9BAAB9438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0E73B9-A184-4F29-976F-CF917D135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42DFD-10C5-4EAB-B307-5E8FDF1027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F366-441B-4FAE-B744-2623C194D343}"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6F0B-554F-4A9A-A298-21FCB2E8ED2F}"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m </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3"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47"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49"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eru između vrednosti izvršenog rada bez nedostatka u vreme zaključenja ugovora i vrednosti koju bi irnao u to vr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6"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7"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9"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1" name="PlaceHolder 2"/>
          <p:cNvSpPr>
            <a:spLocks noGrp="1"/>
          </p:cNvSpPr>
          <p:nvPr>
            <p:ph/>
          </p:nvPr>
        </p:nvSpPr>
        <p:spPr>
          <a:xfrm>
            <a:off x="755280" y="1904760"/>
            <a:ext cx="7931160" cy="4190760"/>
          </a:xfrm>
          <a:prstGeom prst="rect">
            <a:avLst/>
          </a:prstGeom>
          <a:noFill/>
          <a:ln w="0">
            <a:noFill/>
          </a:ln>
        </p:spPr>
        <p:txBody>
          <a:bodyPr anchor="t">
            <a:normAutofit fontScale="95000"/>
          </a:bodyPr>
          <a:p>
            <a:pPr marL="506520" indent="-50652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bligaciono – pravni odnosi: vrsta  imovinsko -pravnih odnosa</a:t>
            </a:r>
            <a:endParaRPr b="0" lang="en-US" sz="1800" spc="-1" strike="noStrike">
              <a:solidFill>
                <a:srgbClr val="ffffff"/>
              </a:solidFill>
              <a:latin typeface="Arial"/>
            </a:endParaRPr>
          </a:p>
          <a:p>
            <a:pPr marL="506520" indent="-50652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ubjekti obligacije, odnosno strane u obligacionom odnosu: dužnik i povjerilac</a:t>
            </a:r>
            <a:endParaRPr b="0" lang="en-US" sz="1800" spc="-1" strike="noStrike">
              <a:solidFill>
                <a:srgbClr val="ffffff"/>
              </a:solidFill>
              <a:latin typeface="Arial"/>
            </a:endParaRPr>
          </a:p>
          <a:p>
            <a:pPr marL="506520" indent="-50652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Povjerilac na osnovu obligacionih odnosa sa dužnikom ima pravo da od dužnika zahtijeva davanje ili činjenje, a ovaj (dužnik) je dužan da to uradi</a:t>
            </a:r>
            <a:endParaRPr b="0" lang="en-US" sz="1800" spc="-1" strike="noStrike">
              <a:solidFill>
                <a:srgbClr val="ffffff"/>
              </a:solidFill>
              <a:latin typeface="Arial"/>
            </a:endParaRPr>
          </a:p>
          <a:p>
            <a:pPr marL="506520" indent="-50652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adržina obligacije: pravo povjerioca i obaveza dužnika</a:t>
            </a:r>
            <a:endParaRPr b="0" lang="en-US" sz="1800" spc="-1" strike="noStrike">
              <a:solidFill>
                <a:srgbClr val="ffffff"/>
              </a:solidFill>
              <a:latin typeface="Arial"/>
            </a:endParaRPr>
          </a:p>
          <a:p>
            <a:pPr marL="506520" indent="-50652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edmet obligacije: određeno davanje, činjenje ili nečinjenje</a:t>
            </a:r>
            <a:endParaRPr b="0" lang="en-US" sz="1800" spc="-1" strike="noStrike">
              <a:solidFill>
                <a:srgbClr val="ffffff"/>
              </a:solidFill>
              <a:latin typeface="Arial"/>
            </a:endParaRPr>
          </a:p>
          <a:p>
            <a:pPr marL="506520" indent="-50652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zvori obligacija- pravno relevantne činjenice za koje se vezuje nastanak obligacionih odnosa:</a:t>
            </a:r>
            <a:endParaRPr b="0" lang="en-US" sz="1800" spc="-1" strike="noStrike">
              <a:solidFill>
                <a:srgbClr val="ffffff"/>
              </a:solidFill>
              <a:latin typeface="Arial"/>
            </a:endParaRPr>
          </a:p>
          <a:p>
            <a:pPr lvl="1" marL="886680" indent="-45216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 saglasnost volja 2 ili više lica koje su usmjerene na zaključenje, izmjenu ili prestanak obligacionog odnosa</a:t>
            </a:r>
            <a:endParaRPr b="0" lang="en-US" sz="1800" spc="-1" strike="noStrike">
              <a:solidFill>
                <a:srgbClr val="ffffff"/>
              </a:solidFill>
              <a:latin typeface="Arial"/>
            </a:endParaRPr>
          </a:p>
          <a:p>
            <a:pPr lvl="1" marL="886680" indent="-45216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ouzrokovanje štete</a:t>
            </a:r>
            <a:endParaRPr b="0" lang="en-US" sz="1800" spc="-1" strike="noStrike">
              <a:solidFill>
                <a:srgbClr val="ffffff"/>
              </a:solidFill>
              <a:latin typeface="Arial"/>
            </a:endParaRPr>
          </a:p>
          <a:p>
            <a:pPr lvl="1" marL="886680" indent="-45216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ticanje bez osnova (neosnovano bogaćenje)- sticanje koje se ne temelji na pravno priznatom osnovu ili razlogu.</a:t>
            </a:r>
            <a:endParaRPr b="0" lang="en-US" sz="1800" spc="-1" strike="noStrike">
              <a:solidFill>
                <a:srgbClr val="ffffff"/>
              </a:solidFill>
              <a:latin typeface="Arial"/>
            </a:endParaRPr>
          </a:p>
          <a:p>
            <a:pPr lvl="1" marL="886680" indent="-45216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lovodstvo bez naloga (nezvano vršenje tuđih poslova)</a:t>
            </a:r>
            <a:endParaRPr b="0" lang="en-US" sz="1800" spc="-1" strike="noStrike">
              <a:solidFill>
                <a:srgbClr val="ffffff"/>
              </a:solidFill>
              <a:latin typeface="Arial"/>
            </a:endParaRPr>
          </a:p>
          <a:p>
            <a:pPr lvl="1" marL="886680" indent="-45216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jednostrana izjava volje (obećanje nagrade, konkurs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3"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37"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39"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zana</cp:lastModifiedBy>
  <dcterms:modified xsi:type="dcterms:W3CDTF">2018-04-27T04:59:26Z</dcterms:modified>
  <cp:revision>184</cp:revision>
  <dc:subject/>
  <dc:title>ZAKON O IZGRADNJI OBJEKATA</dc:title>
</cp:coreProperties>
</file>