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DFEE04-5F53-4CC7-9514-4BCC063B502B}" type="datetime5">
              <a:rPr b="0" lang="sr-Latn-CS" sz="1300" spc="-1" strike="noStrike">
                <a:solidFill>
                  <a:srgbClr val="000000"/>
                </a:solidFill>
                <a:latin typeface="Times New Roman"/>
              </a:rPr>
              <a:t>30.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478083-002A-4A15-A709-DD4B24C447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3DC94B-7DED-4422-8271-6CF8F3C1B35E}"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6B5D07-70CE-468A-9E78-0B9502AC14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D571A6-C5FB-4A0C-967F-2A5295DCF5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32D189-5511-465C-AFDA-B20C0EEFF034}"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7CA4FE-5592-4B12-831A-EEFA5590AE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30549B-192E-4AA7-B075-3F9B41FE30D3}"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45867B-3448-413E-B7F8-65E0F8E390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A90906-43E7-467A-BF1C-05EF2990D65F}"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F4D5F1-7559-4309-BF70-85098D46BA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4B977E-8BE3-4BA5-985E-B46D1AC1C9EF}"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C17A38-B91D-48FD-BC8C-C6E0D8A3A8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90537D-DE6E-46C6-B509-1407C961B3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198F82-DA29-4DDF-BF36-A3405684FB4E}"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8CE432-74BC-4441-8AAD-BC2119104E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BEAA93-5FD8-4D6D-BB11-A63F4E284ACA}"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3472DA-489A-431A-9669-6335AD738B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8933BD-5187-4B22-91A0-E008BBAB7902}"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5BED93-470F-42DB-8DF5-F6EEB06CBD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FA27ED-9F91-4FF7-97BC-0821B8DD0E7D}"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09ED5D-813E-4428-8451-6A671AEC93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0235A3-21D0-47B7-83C6-3CD604B3CFBF}"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E9DE24-4902-4CCE-B4CC-3B38C64894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55D4F9-0F00-48B3-A86A-8CB5D35CA7D8}"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7DE296-60C8-4013-AE40-CE4E0148C5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FCFF99-9667-4DC8-B66A-918ABCD0794F}"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505A93-1DD9-4CB3-9B59-E515DA30F1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C3AD2E-2A7D-4F0C-8365-AA4FAC126B42}"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84FF28-301A-450B-93FF-6E53D318B2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C94825-EF60-445D-83D9-0D91CA773C4E}"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5B0503-529D-4E68-BEC5-7AFFF2A3C0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87E3A4-54F9-42FA-8967-5211B81DD237}"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A92A38-2EB8-438E-B69F-7E6009CCA4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37020F-04D7-43D2-85CC-2E406AC35E7A}"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75D197-EC46-4F74-A061-719C9FA320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55EBE3-CF64-49FC-93EE-BFC01FBB4A0F}"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15C7BB-904A-4EBB-AA97-3502103D98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6B25F1-B104-4042-9D02-670260804CE8}"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93B3D9-4829-4BA7-BD5A-A88C664E44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B882F0-2C56-4190-BCF3-6F6CAF96A3F7}"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D9DD02-D565-49FD-A8B0-F02BA5E9D9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52E6F2-F19E-474D-88AF-42E4B649B781}"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CDFE85-F6C2-47E3-A869-5D20DBF307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7A84FF-D9D3-448E-ABB5-DD376A339562}"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91C8AC-E276-4A7E-B5D3-3A2CFC39F6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934B89-DB9F-451F-9040-6C4C7C391416}"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2AE2AB-4CBD-4B55-B05A-3D1052C4D6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4DF39F-FB44-4253-AB02-FA52F8A5CB3C}"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BAC6EC-3266-439C-8949-BE7D0B2DAE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89D9D0-9210-46F2-90D9-17EC1C491298}"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31D04E-6F18-4E55-972C-552915A9B7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3288AA-6C20-4888-825B-16A68B67A0E6}"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C12F37-1AF2-4859-8E13-74E65D4FF2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C01749-5786-4EA3-AE27-F5AAA5A28A1A}" type="datetime">
              <a:rPr b="0" lang="sr-Latn-CS" sz="1300" spc="-1" strike="noStrike">
                <a:solidFill>
                  <a:srgbClr val="000000"/>
                </a:solidFill>
                <a:latin typeface="Arial"/>
              </a:rPr>
              <a:t>30.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041642-7AFB-4148-A04D-96A3519C45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56E10E-4A3D-4F17-A888-546916F1C7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CD5F07-3880-414B-ABBD-9C5F15355B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75FA3F-2BDC-42A2-B5CA-4D19F0B5375D}"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F9D41F-F5EC-42FA-92AD-8F86D704FC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44E049-C17E-4DBD-A011-DDB12E7C33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C9FB48-EB9F-444F-944C-9B258CDD4168}"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5F0FFB-53C2-4833-BD0E-D33D744535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369C69-D1B5-48E0-A485-E15E35374196}"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992B07-8A59-4FAC-A901-91320FB8D13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4F7910-13B9-41C9-8D8B-C6D2CADF8A79}"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88F4EC-6385-46E3-95F4-64C0A57FDF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14F40C-1B58-442B-B4A6-DB5D4168BF56}"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8E7DDE-3165-4C2F-AD79-FDAD6E9FFA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41836F-A9E8-4C1E-BE50-2623E39EF4CE}" type="datetime5">
              <a:rPr b="0" lang="sr-Latn-CS" sz="1300" spc="-1" strike="noStrike">
                <a:solidFill>
                  <a:srgbClr val="000000"/>
                </a:solidFill>
                <a:latin typeface="Arial"/>
              </a:rPr>
              <a:t>30.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2C03B3-260F-45E3-AAFE-7163A5EBFF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1440321-FA66-4EF6-8591-21E0DC770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2C4DDE-E502-4811-BCD0-70E882A8F7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0B4A27-016B-4238-99DE-B69F7FF0CB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C9110A0-F360-42D8-B8FD-7E17E1C000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C25CA85-0492-466B-9EA5-13275F2A7E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BB3CD3F-5AF7-4791-9019-339E584C00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CABE757-EF89-49CF-B50D-F7551D782A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C3A3A17-55C9-4636-A35B-380F611038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DC4A420-B520-44E5-BE23-9C4058F1B1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BE38365-D452-4662-B3FB-8F82BFD14F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C40A3BD-896F-4ED7-AD71-6C707456AA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20E72A2-453A-4745-A431-B70CB197E0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C4CFA15-6714-43F6-AC03-9514A5EB8D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BC667CC-C936-409F-B0F9-A9FE74A511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4A0849B-BF5D-4247-9AA9-4E3251E79E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D97FE0D-0AD7-4FEB-AECE-7529B4DFD1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DB8C574-6DD2-40F2-A0EF-D0A514D057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C656A53-5F55-43A0-8179-AA863DB733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99DC12A-3FCC-4490-9B8A-0613C85FDE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2FD52C-6D2F-4837-B7A5-FF8C84DEB3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BDE446-C845-4F64-8F1E-ECBFE8FBB2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7AF4D7D-D2FC-45F0-BAEC-B7A88622B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77AA86-BE5F-4243-AAD1-5DC84969FF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DE3AF6C-7F92-4DFC-AA89-053F4B0D15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F083-74C5-4469-853D-A6AD1CA5773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7E18-1FBF-4160-9845-AA908AE57C5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C0C0-D3BA-451E-B58F-4BE776E64BE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7A58-AB48-4EDA-9E0A-71A16076384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535B-70C4-4358-B6B9-A122B75D8B7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EF4F-F4FE-4722-BCBC-6B9C2E88A26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E0F0-16D3-4F7A-AC97-6961917C9F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293A-7E5C-4F8E-97D8-8AE35C3B5C7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0006-4C0E-471C-BEBC-F3958E8245A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FC08-2912-4645-ABA0-E4E0FE6E31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D98F-C7ED-4F2F-8D7A-7B350888336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C616-B27D-46F3-B02B-0659F1FD4F3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B62F-1F3F-4A02-AD1B-2D5AA84AE22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E60E-0BD3-46E6-AC16-F8EA491745D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88A3-AA2C-426C-AABA-71880EE32F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A60A-A58A-4AA7-B1C9-C510C878852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AA63-0DEC-4814-B19F-79F61BFE80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676B-AAE5-4911-9A6C-288B1526F2B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915E-474F-4E0F-85A2-9DBB2A9A25E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20CF-6751-47C7-905E-3F52819BE67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F98C-107B-4924-BF9D-93B5876C84F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71C0-1AD6-45C8-AF35-1AA58FC998C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90A1-3FFA-49A6-BC52-3531A922911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5DBB-7765-4F56-B7F7-AEDD680778C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014B-5A1D-466C-8BCE-4427E25182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E798-8B09-4954-89AF-A7DDDB442A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A5E9-A1E0-40CA-8E81-DBD4155BDF7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8721-A9F7-4C47-B750-155915EBE7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6B01-5891-4927-A393-6891D4F81C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B620-859A-4190-9AC5-8F42B371A0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F800-B61E-4C61-86A5-B629723D305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3D4E-5269-4CF8-AF14-A3159FC0951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E994-D666-4D20-8E24-776C9DF0D8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98C2-ED19-4BF9-82A3-C0EB58240A1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189E-2A71-42DD-AA3F-DBD26A41436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0F17-4EE9-435C-BABE-F27292E3E85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3F90-58DF-4C8D-A04C-874C989EE9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DDC5-CD0F-462A-A59E-AFB13A76E0B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F311-7266-4B83-AFE4-95BF6CBE79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4762-AAE6-4163-B55E-E34CBB14D8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DAE8-FCD2-44ED-A6BF-81AEB1950FF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C05C-2DED-4CD1-8615-D627A348D44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E261-3A95-4CB6-8816-7F4DE3E7421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CC33-D7BF-4027-AFD5-C2B129CA56D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1FD2-139F-4494-90BE-F8C2C64CECB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0394-9D9C-484B-BB76-E2E9C5ABF35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5FD7-6581-4639-B776-AAAC03672F8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AB7D-958F-432A-B11D-83AB63C9A19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1703-FC77-4A30-A10E-E45AB78AD6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E1FE-212C-488E-8E5D-A57B344AE82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4B8E-45EA-41E9-9112-54FA15F0C9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E17F-649F-464B-A255-B321DE9C6BE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52DB-3C18-48AB-9082-BEC6A852E3B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D9FA-5B64-416A-813D-6E7BC59460E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4DD0-8464-44DC-A346-7E02954555D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0C09-FFC8-481B-B45D-FB4917CDE68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50BF-7EB2-4349-8B2A-005CAC3CD5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CAA7-CB23-4F9F-8D5A-8F38EA7DA41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9C62-AD86-4635-88F1-9473FFA1DBD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9706-AB16-4E9C-86CA-2D61052A33D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AD6E-7790-48A0-8E40-E1D3AFAD7D4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6AC7-C248-4C62-81B6-01A7C40E053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9A2A-6A23-4673-AC11-CB90B19E929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9BD3-3FDC-4FF2-A8E5-535829042BE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2CDD-A3FC-4964-8D23-EAF96B18DCE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9CAF-17C3-4F99-987F-B3BF0717774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9434-71B1-475B-8084-E0EFA929BE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9B6A-91DD-4DBE-B691-A7C94A9B7CB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E29D-506B-4BE4-B8C7-B27F5FDB3E0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0DA7-AF05-414C-B34B-49E55A5F5D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F2A1-D19D-4852-82B8-148F7138058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2353-BDB9-4341-A480-CDA44C04C5E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F447-5795-4007-BE77-F653FA843DF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28CC-B37F-4BD3-BF89-4B5E21D5106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F20B-86AC-438D-8168-56CED4777E9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C4A6-C61F-40BA-85D7-5FF95491665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03C2-7E9C-47B8-85EA-09F511E503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F31E-05F6-40F6-A49D-134E97B680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0FEA-8C7E-48AD-B060-7CCF581ACBB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78DC-942E-4568-ADD8-D16DCD26663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D92A-1D18-4CEA-AC80-FF20B76C198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EB49-7D85-43CF-A3F6-3ADF8823E64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CAF4-958F-46D8-8608-1753407F01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65F9-B9BE-4C3D-A525-B303BD80B2E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8884-D473-4F86-840F-AF700E1B043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