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3B55-77F5-48C9-8FF9-913FF4632AF4}"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D454-A25B-47E8-B164-DACCE0CF521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2082960" y="228600"/>
            <a:ext cx="2539800" cy="1905120"/>
          </a:xfrm>
          <a:prstGeom prst="rect">
            <a:avLst/>
          </a:prstGeom>
          <a:ln w="0">
            <a:noFill/>
          </a:ln>
        </p:spPr>
      </p:sp>
      <p:sp>
        <p:nvSpPr>
          <p:cNvPr id="158"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D478-E90E-456E-B7DA-593FB198D2D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2082960" y="228600"/>
            <a:ext cx="2539800" cy="1905120"/>
          </a:xfrm>
          <a:prstGeom prst="rect">
            <a:avLst/>
          </a:prstGeom>
          <a:ln w="0">
            <a:noFill/>
          </a:ln>
        </p:spPr>
      </p:sp>
      <p:sp>
        <p:nvSpPr>
          <p:cNvPr id="18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 skladu sa Zakonom o obligacionim odnosima, </a:t>
            </a:r>
            <a:r>
              <a:rPr b="0" lang="en-US" sz="900" spc="-1" strike="noStrike">
                <a:solidFill>
                  <a:srgbClr val="000000"/>
                </a:solidFill>
                <a:latin typeface="Arial"/>
                <a:ea typeface="Arial"/>
              </a:rPr>
              <a:t>Ugovor o građenju mora biti zaključen u pismenoj formi</a:t>
            </a:r>
            <a:r>
              <a:rPr b="0" lang="sr-Latn-CS" sz="900" spc="-1" strike="noStrike">
                <a:solidFill>
                  <a:srgbClr val="000000"/>
                </a:solidFill>
                <a:latin typeface="Arial"/>
              </a:rPr>
              <a:t>. Za razliku od ovog zakona najčešće primjenjiva regulativa koja se odnosi na uslove ugovora (FIDIC-ovi uslovi ugovora) ne insistira na tom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d "građevinom",</a:t>
            </a:r>
            <a:r>
              <a:rPr b="0" lang="sr-Latn-CS" sz="900" spc="-1" strike="noStrike">
                <a:solidFill>
                  <a:srgbClr val="000000"/>
                </a:solidFill>
                <a:latin typeface="Arial"/>
              </a:rPr>
              <a:t> se  </a:t>
            </a:r>
            <a:r>
              <a:rPr b="0" lang="en-US" sz="900" spc="-1" strike="noStrike">
                <a:solidFill>
                  <a:srgbClr val="000000"/>
                </a:solidFill>
                <a:latin typeface="Arial"/>
                <a:ea typeface="Arial"/>
              </a:rPr>
              <a:t>podr</a:t>
            </a:r>
            <a:r>
              <a:rPr b="0" lang="sr-Latn-CS" sz="900" spc="-1" strike="noStrike">
                <a:solidFill>
                  <a:srgbClr val="000000"/>
                </a:solidFill>
                <a:latin typeface="Arial"/>
              </a:rPr>
              <a:t>a</a:t>
            </a:r>
            <a:r>
              <a:rPr b="0" lang="en-US" sz="900" spc="-1" strike="noStrike">
                <a:solidFill>
                  <a:srgbClr val="000000"/>
                </a:solidFill>
                <a:latin typeface="Arial"/>
                <a:ea typeface="Arial"/>
              </a:rPr>
              <a:t>zum</a:t>
            </a:r>
            <a:r>
              <a:rPr b="0" lang="sr-Latn-CS" sz="900" spc="-1" strike="noStrike">
                <a:solidFill>
                  <a:srgbClr val="000000"/>
                </a:solidFill>
                <a:latin typeface="Arial"/>
              </a:rPr>
              <a:t>ij</a:t>
            </a:r>
            <a:r>
              <a:rPr b="0" lang="en-US" sz="900" spc="-1" strike="noStrike">
                <a:solidFill>
                  <a:srgbClr val="000000"/>
                </a:solidFill>
                <a:latin typeface="Arial"/>
                <a:ea typeface="Arial"/>
              </a:rPr>
              <a:t>evaju zgrade, brane, mostovi, tuneli, vodovodi, kanalizacije, putevi, žel</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zničke pruge, bunari i ostali građevinski objekti čija izrada zaht</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va veće i složenije radove. </a:t>
            </a:r>
            <a:endParaRPr b="0" lang="en-US" sz="900" spc="-1" strike="noStrike">
              <a:solidFill>
                <a:srgbClr val="000000"/>
              </a:solidFill>
              <a:latin typeface="Arial"/>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ne može </a:t>
            </a:r>
            <a:r>
              <a:rPr b="0" lang="en-GB" sz="900" spc="-1" strike="noStrike">
                <a:solidFill>
                  <a:srgbClr val="000000"/>
                </a:solidFill>
                <a:latin typeface="Arial"/>
                <a:ea typeface="Arial"/>
              </a:rPr>
              <a:t>zaht</a:t>
            </a:r>
            <a:r>
              <a:rPr b="0" lang="sr-Latn-CS" sz="900" spc="-1" strike="noStrike">
                <a:solidFill>
                  <a:srgbClr val="000000"/>
                </a:solidFill>
                <a:latin typeface="Arial"/>
              </a:rPr>
              <a:t>ij</a:t>
            </a:r>
            <a:r>
              <a:rPr b="0" lang="en-GB" sz="900" spc="-1" strike="noStrike">
                <a:solidFill>
                  <a:srgbClr val="000000"/>
                </a:solidFill>
                <a:latin typeface="Arial"/>
                <a:ea typeface="Arial"/>
              </a:rPr>
              <a:t>evati povećanje ugovorene c</a:t>
            </a:r>
            <a:r>
              <a:rPr b="0" lang="sr-Latn-CS" sz="900" spc="-1" strike="noStrike">
                <a:solidFill>
                  <a:srgbClr val="000000"/>
                </a:solidFill>
                <a:latin typeface="Arial"/>
              </a:rPr>
              <a:t>ij</a:t>
            </a:r>
            <a:r>
              <a:rPr b="0" lang="en-GB" sz="900" spc="-1" strike="noStrike">
                <a:solidFill>
                  <a:srgbClr val="000000"/>
                </a:solidFill>
                <a:latin typeface="Arial"/>
                <a:ea typeface="Arial"/>
              </a:rPr>
              <a:t>ene za radove koje je izvršio bez </a:t>
            </a:r>
            <a:r>
              <a:rPr b="0" lang="sr-Latn-CS" sz="900" spc="-1" strike="noStrike">
                <a:solidFill>
                  <a:srgbClr val="000000"/>
                </a:solidFill>
                <a:latin typeface="Arial"/>
              </a:rPr>
              <a:t>prethodne saglasnosti naručioca.</a:t>
            </a:r>
            <a:endParaRPr b="0" lang="en-US" sz="900" spc="-1" strike="noStrike">
              <a:solidFill>
                <a:srgbClr val="000000"/>
              </a:solidFill>
              <a:latin typeface="Arial"/>
            </a:endParaRPr>
          </a:p>
          <a:p>
            <a:pPr marL="2286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C9AA6-C788-49DC-9BB1-71D250D7FC2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2082960" y="228600"/>
            <a:ext cx="2539800" cy="1905120"/>
          </a:xfrm>
          <a:prstGeom prst="rect">
            <a:avLst/>
          </a:prstGeom>
          <a:ln w="0">
            <a:noFill/>
          </a:ln>
        </p:spPr>
      </p:sp>
      <p:sp>
        <p:nvSpPr>
          <p:cNvPr id="18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9EE36-DC76-4CBF-91CF-F17D93E9031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Član 705</a:t>
            </a:r>
            <a:r>
              <a:rPr b="1" lang="sr-Latn-ME" sz="1200" spc="-1" strike="noStrike">
                <a:solidFill>
                  <a:srgbClr val="000000"/>
                </a:solidFill>
                <a:latin typeface="Arial"/>
              </a:rPr>
              <a:t>-izmjena cij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ugovorom u pogledu izmjene cijene nije predviđeno što drugo, izvođač koji je svoju obavezu ispunio u predviđenom roku može zahtijevati povećanje cijene radova ako su se u vremenu između zaključenja ugovora i njegovog ispunjenja povećale cijene elemenata na osnovu kojih je određena cijena radova, tako da bi trebalo da ta cijena bude veća za više od dva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U slučaju da izvođač svojom krivicom nije izveo radove u roku predviđenom ugovorom on može zahtijevati povećanje cijene radova ako su se u vremenu između zaključenja ugovora i dana kad je prema ugovoru trebalo da radovi budu završeni povećale cijene elemenata na osnovu kojih je određena cijena radova, tako da bi trebalo da ona, prema novim cijenama tih elemenata, bude veća za više od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U slučajevima iz st. 1 i 2 ovog člana izvođač može da zahtijeva samo razliku u cijeni radova koja prelazi dva, odnosno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4) Izvođač se ne može pozivati na povećanje cijene elemenata na osnovu kojih je određena cijena radova, ako je do povećanja cijene došlo nakon njegovog dolaska u docnju.</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dredbe o neprom</a:t>
            </a:r>
            <a:r>
              <a:rPr b="1" lang="sr-Latn-CS" sz="1000" spc="-1" strike="noStrike">
                <a:solidFill>
                  <a:srgbClr val="000000"/>
                </a:solidFill>
                <a:latin typeface="Arial"/>
                <a:ea typeface="Arial"/>
              </a:rPr>
              <a:t>j</a:t>
            </a:r>
            <a:r>
              <a:rPr b="1" lang="en-US" sz="1000" spc="-1" strike="noStrike">
                <a:solidFill>
                  <a:srgbClr val="000000"/>
                </a:solidFill>
                <a:latin typeface="Arial"/>
                <a:ea typeface="Arial"/>
              </a:rPr>
              <a:t>enljivosti c</a:t>
            </a:r>
            <a:r>
              <a:rPr b="1" lang="sr-Latn-CS" sz="1000" spc="-1" strike="noStrike">
                <a:solidFill>
                  <a:srgbClr val="000000"/>
                </a:solidFill>
                <a:latin typeface="Arial"/>
                <a:ea typeface="Arial"/>
              </a:rPr>
              <a:t>ij</a:t>
            </a:r>
            <a:r>
              <a:rPr b="1" lang="en-US" sz="1000" spc="-1" strike="noStrike">
                <a:solidFill>
                  <a:srgbClr val="000000"/>
                </a:solidFill>
                <a:latin typeface="Arial"/>
                <a:ea typeface="Arial"/>
              </a:rPr>
              <a:t>ena</a:t>
            </a:r>
            <a:r>
              <a:rPr b="1" lang="sr-Latn-CS" sz="1000" spc="-1" strike="noStrike">
                <a:solidFill>
                  <a:srgbClr val="000000"/>
                </a:solidFill>
                <a:latin typeface="Arial"/>
              </a:rPr>
              <a:t>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je ugovoreno da se cena radova neće menjati u slučaju da se posle zaključenja ugovora povećaju cene elemenata na osnovu kojih je ona određena, izvođač može, i pored ovakve odredbe ugovora, zahtevati izmenu cene radova ako su se cene elemenata povećale u tolikoj meri da bi trebalo da cena radova bude veća za više od deset proc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li, i u ovom slučaju izvođač može zahtevati samo razliku u ceni koja prelazi deset procenata, osim ako je do povećanja cene elemenata došlo posle njegovog dolaska u docnju.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askid ugovora zbog povećane c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bi u slučajevima iz prethodnih članova ugovorena cena morala biti znatno povećana, naručilac može raskinuti ugov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U slučaju raskida ugovora naručilac je dužan isplatiti izvođaču odgovarajući deo ugovorene cene za dotle izvršene radove, kao i pravičnu naknadu za učinjene neophodne troškove.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vo naručioca da traži sniženje ugovorene cijene</a:t>
            </a:r>
            <a:r>
              <a:rPr b="1" lang="sr-Latn-ME" sz="1200" spc="-1" strike="noStrike">
                <a:solidFill>
                  <a:srgbClr val="000000"/>
                </a:solidFill>
                <a:latin typeface="Arial"/>
              </a:rPr>
              <a:t>  </a:t>
            </a:r>
            <a:r>
              <a:rPr b="1" lang="en-US" sz="1200" spc="-1" strike="noStrike">
                <a:solidFill>
                  <a:srgbClr val="000000"/>
                </a:solidFill>
                <a:latin typeface="Arial"/>
              </a:rPr>
              <a:t>Član 7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su se u vrijeme između zaključenja ugovora i ispunjenja obaveze izvođača cijene elemenata na osnovu kojih je određena cijena radova snizile za više od dva procenta, a radovi su izvršeni u ugovorenom roku, naručilac ima pravo da traži odgovarajuće sniženje ugovorene cijene radova iznad tog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Ako je ugovorena nepromjenljivost cijene radova, a oni su izvršeni u ugovorenom roku, naručilac ima pravo na sniženje ugovorene cijene, u slučaju da su se cijene elemenata na osnovu kojih je određena cijena smanjile za toliko da bi cijena bila niža za više od deset procenata, i to za razliku u cijeni preko des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a:t>
            </a:r>
            <a:r>
              <a:rPr b="0" lang="vi-VN" sz="1200" spc="-1" strike="noStrike" u="sng">
                <a:solidFill>
                  <a:srgbClr val="000000"/>
                </a:solidFill>
                <a:uFillTx/>
                <a:latin typeface="Arial"/>
              </a:rPr>
              <a:t>U slučaju docnje izvođača radova naručilac ima pravo na srazmjerno sniženje cijene radova za svako sniženje cijene elemenata na osnovu kojih je cijena radova određ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FEF4-1680-4EE8-A765-9FCCC408293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ko ugovor o građenju sadrži odredbu "ključ u ruke" ili neku drugu sličnu odredbu izvođač se samostalno obavezuje da izvrši skupa sve radove potrebne za izgradnju i upotrebu određenog celovitog objek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 tom slučaju ugovorena cena obuhvata i vrednost svih nepredviđenih radova i viškova radova, a isključuje uticaj manjkova radova na ugovorenu cenu.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Odeljak 3 - ODGOVORNOST ZA NEDOSTATK</a:t>
            </a:r>
            <a:r>
              <a:rPr b="1" lang="sr-Latn-CS" sz="1200" spc="-1" strike="noStrike">
                <a:solidFill>
                  <a:srgbClr val="000000"/>
                </a:solidFill>
                <a:latin typeface="Arial"/>
              </a:rPr>
              <a: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a odgovornost za nedostatke građevine primenjuju se odgovarajuće odredbe ugovora o delu. </a:t>
            </a:r>
            <a:endParaRPr b="0" lang="en-US" sz="12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gledanje izvršenog dela i obaveštavanje poslenika</a:t>
            </a:r>
            <a:br>
              <a:rPr sz="700"/>
            </a:br>
            <a:r>
              <a:rPr b="0" lang="en-US" sz="700" spc="-1" strike="noStrike">
                <a:solidFill>
                  <a:srgbClr val="000000"/>
                </a:solidFill>
                <a:latin typeface="Arial"/>
                <a:ea typeface="Arial"/>
              </a:rPr>
              <a:t>Naručilac je dužan pregledati izvršen</a:t>
            </a:r>
            <a:r>
              <a:rPr b="0" lang="sr-Latn-CS" sz="700" spc="-1" strike="noStrike">
                <a:solidFill>
                  <a:srgbClr val="000000"/>
                </a:solidFill>
                <a:latin typeface="Arial"/>
              </a:rPr>
              <a:t>I RAD (građevinu) </a:t>
            </a:r>
            <a:r>
              <a:rPr b="0" lang="en-US" sz="700" spc="-1" strike="noStrike">
                <a:solidFill>
                  <a:srgbClr val="000000"/>
                </a:solidFill>
                <a:latin typeface="Arial"/>
                <a:ea typeface="Arial"/>
              </a:rPr>
              <a:t>čim je to po redovnom toku stvari moguće i o nađenim nedostacima bez odlaganja obavestiti </a:t>
            </a:r>
            <a:r>
              <a:rPr b="0" lang="sr-Latn-CS" sz="700" spc="-1" strike="noStrike">
                <a:solidFill>
                  <a:srgbClr val="000000"/>
                </a:solidFill>
                <a:latin typeface="Arial"/>
              </a:rPr>
              <a:t>Izvođača</a:t>
            </a:r>
            <a:r>
              <a:rPr b="0" lang="en-US" sz="700" spc="-1" strike="noStrike">
                <a:solidFill>
                  <a:srgbClr val="000000"/>
                </a:solidFill>
                <a:latin typeface="Arial"/>
                <a:ea typeface="Arial"/>
              </a:rPr>
              <a:t>.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naručilac na poziv </a:t>
            </a:r>
            <a:r>
              <a:rPr b="0" lang="sr-Latn-CS" sz="700" spc="-1" strike="noStrike">
                <a:solidFill>
                  <a:srgbClr val="000000"/>
                </a:solidFill>
                <a:latin typeface="Arial"/>
              </a:rPr>
              <a:t>izvođača</a:t>
            </a:r>
            <a:r>
              <a:rPr b="0" lang="en-US" sz="700" spc="-1" strike="noStrike">
                <a:solidFill>
                  <a:srgbClr val="000000"/>
                </a:solidFill>
                <a:latin typeface="Arial"/>
                <a:ea typeface="Arial"/>
              </a:rPr>
              <a:t> da pregleda i primi izvršeni rad to ne uradi bez opravdanog razloga, smatra se da je rad primljen.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ea typeface="Arial"/>
              </a:rPr>
              <a:t>Posle pregleda i primanja izvršenog rada </a:t>
            </a:r>
            <a:r>
              <a:rPr b="0" i="1" lang="sr-Latn-CS" sz="700" spc="-1" strike="noStrike">
                <a:solidFill>
                  <a:srgbClr val="000000"/>
                </a:solidFill>
                <a:latin typeface="Arial"/>
              </a:rPr>
              <a:t>izvođač</a:t>
            </a:r>
            <a:r>
              <a:rPr b="0" i="1" lang="en-US" sz="700" spc="-1" strike="noStrike">
                <a:solidFill>
                  <a:srgbClr val="000000"/>
                </a:solidFill>
                <a:latin typeface="Arial"/>
                <a:ea typeface="Arial"/>
              </a:rPr>
              <a:t> više ne odgovara za nedostatke</a:t>
            </a:r>
            <a:r>
              <a:rPr b="0" lang="en-US" sz="700" spc="-1" strike="noStrike">
                <a:solidFill>
                  <a:srgbClr val="000000"/>
                </a:solidFill>
                <a:latin typeface="Arial"/>
                <a:ea typeface="Arial"/>
              </a:rPr>
              <a:t> koji su se mogli opaziti običnim pregledom, izuzev ako je znao za njih, a nije ih pokazao naručiocu. </a:t>
            </a:r>
            <a:endParaRPr b="0" lang="en-US" sz="7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018F-1C63-4302-8B0E-991D9158F60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kriveni nedostaci</a:t>
            </a:r>
            <a:br>
              <a:rPr sz="700"/>
            </a:br>
            <a:r>
              <a:rPr b="0" lang="en-US" sz="700" spc="-1" strike="noStrike">
                <a:solidFill>
                  <a:srgbClr val="000000"/>
                </a:solidFill>
                <a:latin typeface="Arial"/>
                <a:ea typeface="Arial"/>
              </a:rPr>
              <a:t>Ako se docnije pokaže neki nedostatak koji se nije mogao otkriti običnim pregledom, naručilac se ipak može pozvati na njega, pod uslovom da o njemu obavesti </a:t>
            </a:r>
            <a:r>
              <a:rPr b="0" lang="sr-Latn-CS" sz="700" spc="-1" strike="noStrike">
                <a:solidFill>
                  <a:srgbClr val="000000"/>
                </a:solidFill>
                <a:latin typeface="Arial"/>
              </a:rPr>
              <a:t>izvođača</a:t>
            </a:r>
            <a:r>
              <a:rPr b="0" lang="en-US" sz="700" spc="-1" strike="noStrike">
                <a:solidFill>
                  <a:srgbClr val="000000"/>
                </a:solidFill>
                <a:latin typeface="Arial"/>
                <a:ea typeface="Arial"/>
              </a:rPr>
              <a:t> što pre, a najduže u roku od mesec dana od njegovog otkriva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Istekom </a:t>
            </a:r>
            <a:r>
              <a:rPr b="0" lang="en-US" sz="700" spc="-1" strike="noStrike" u="sng">
                <a:solidFill>
                  <a:srgbClr val="000000"/>
                </a:solidFill>
                <a:uFillTx/>
                <a:latin typeface="Arial"/>
                <a:ea typeface="Arial"/>
              </a:rPr>
              <a:t>dve godine</a:t>
            </a:r>
            <a:r>
              <a:rPr b="0" lang="en-US" sz="700" spc="-1" strike="noStrike">
                <a:solidFill>
                  <a:srgbClr val="000000"/>
                </a:solidFill>
                <a:latin typeface="Arial"/>
                <a:ea typeface="Arial"/>
              </a:rPr>
              <a:t> od prijema obavljenog posla, naručilac se više ne može pozvati na nedostatke. </a:t>
            </a:r>
            <a:r>
              <a:rPr b="0" i="1" lang="sr-Latn-CS" sz="700" spc="-1" strike="noStrike" u="sng">
                <a:solidFill>
                  <a:srgbClr val="000000"/>
                </a:solidFill>
                <a:uFillTx/>
                <a:latin typeface="Arial"/>
              </a:rPr>
              <a:t>U slučaju građenja i građevina, garantni rok za konstrukciju je minimalno 10 godina, a za zanatske tadove 2 godi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stanak prava</a:t>
            </a:r>
            <a:br>
              <a:rPr sz="700"/>
            </a:br>
            <a:r>
              <a:rPr b="0" lang="en-US" sz="700" spc="-1" strike="noStrike">
                <a:solidFill>
                  <a:srgbClr val="000000"/>
                </a:solidFill>
                <a:latin typeface="Arial"/>
                <a:ea typeface="Arial"/>
              </a:rPr>
              <a:t>Naručilac koji je </a:t>
            </a:r>
            <a:r>
              <a:rPr b="0" lang="sr-Latn-CS" sz="700" spc="-1" strike="noStrike">
                <a:solidFill>
                  <a:srgbClr val="000000"/>
                </a:solidFill>
                <a:latin typeface="Arial"/>
              </a:rPr>
              <a:t>izvođača</a:t>
            </a:r>
            <a:r>
              <a:rPr b="0" lang="en-US" sz="700" spc="-1" strike="noStrike">
                <a:solidFill>
                  <a:srgbClr val="000000"/>
                </a:solidFill>
                <a:latin typeface="Arial"/>
                <a:ea typeface="Arial"/>
              </a:rPr>
              <a:t> na vreme obavestio o nedostacima izvršenog posla ne može svoje pravo ostvariti sudskim putem po isteku godine dana od ućinjenog obavešte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li i po isteku tog roka naručilac može ako je o nedostacima blagovreme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prigovorom protiv </a:t>
            </a:r>
            <a:r>
              <a:rPr b="0" lang="sr-Latn-CS" sz="700" spc="-1" strike="noStrike">
                <a:solidFill>
                  <a:srgbClr val="000000"/>
                </a:solidFill>
                <a:latin typeface="Arial"/>
              </a:rPr>
              <a:t>izvođačevog </a:t>
            </a:r>
            <a:r>
              <a:rPr b="0" lang="en-US" sz="700" spc="-1" strike="noStrike">
                <a:solidFill>
                  <a:srgbClr val="000000"/>
                </a:solidFill>
                <a:latin typeface="Arial"/>
                <a:ea typeface="Arial"/>
              </a:rPr>
              <a:t>zahteva za isplatu naknada istaći svoje pravo na sniženje naknada i na naknadu štete. </a:t>
            </a:r>
            <a:r>
              <a:rPr b="0" lang="sr-Latn-CS" sz="700" spc="-1" strike="noStrike">
                <a:solidFill>
                  <a:srgbClr val="000000"/>
                </a:solidFill>
                <a:latin typeface="Arial"/>
              </a:rPr>
              <a:t> - </a:t>
            </a:r>
            <a:r>
              <a:rPr b="0" i="1" lang="sr-Latn-CS" sz="700" spc="-1" strike="noStrike">
                <a:solidFill>
                  <a:srgbClr val="000000"/>
                </a:solidFill>
                <a:latin typeface="Arial"/>
              </a:rPr>
              <a:t>da bi se ovo ostvarilo treba uvijek zadržeti određeni dio ugovorene vrijednosti do isteka gareantnog roka, ili taj dio zamijeniti odgovarajućom garancijom banke.</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zahtevati uklanjanje nedostatak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koji je ured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da izvršeni rad ima neki nedostatak može zahtevati od njega da nedostatak ukloni i za to mu odrediti primeren rok.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On ima pravo i na naknadu štete koju trpi zbog tog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uklanjanje nedostatka zahteva preterane troškove, </a:t>
            </a:r>
            <a:r>
              <a:rPr b="0" lang="sr-Latn-CS" sz="700" spc="-1" strike="noStrike">
                <a:solidFill>
                  <a:srgbClr val="000000"/>
                </a:solidFill>
                <a:latin typeface="Arial"/>
              </a:rPr>
              <a:t>izvođač</a:t>
            </a:r>
            <a:r>
              <a:rPr b="0" lang="en-US" sz="700" spc="-1" strike="noStrike">
                <a:solidFill>
                  <a:srgbClr val="000000"/>
                </a:solidFill>
                <a:latin typeface="Arial"/>
                <a:ea typeface="Arial"/>
              </a:rPr>
              <a:t> može odbiti da ga izvrši, ali u tom slučaju naručiocu pripada, po njegovom izboru, pravo na sniženje naknade ili raskid ugovora, kao i pravo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askidanje ugovora u posebnom slučaj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obavljeni posao ima takav nedostatak koji ga čini neupotrebljivim ili je obavljen u suprotnosti sa izričitim uslovima ugovora, naručilac može, ne tražeći prethodno otklanjanje nedostatka, raskinuti ugovor i zahtevati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naručioca u slučaju drugih nedostataka izvršenog pos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izvršeni posao ima nedostatak zbog koga delo nije neupotrebljivo, odnosno kad posao nije izvršen u suprotnosti sa izričitim uslovima ugovora, naručilac je dužan dopustiti </a:t>
            </a:r>
            <a:r>
              <a:rPr b="0" lang="sr-Latn-CS" sz="700" spc="-1" strike="noStrike">
                <a:solidFill>
                  <a:srgbClr val="000000"/>
                </a:solidFill>
                <a:latin typeface="Arial"/>
              </a:rPr>
              <a:t>izvođaču</a:t>
            </a:r>
            <a:r>
              <a:rPr b="0" lang="en-US" sz="700" spc="-1" strike="noStrike">
                <a:solidFill>
                  <a:srgbClr val="000000"/>
                </a:solidFill>
                <a:latin typeface="Arial"/>
                <a:ea typeface="Arial"/>
              </a:rPr>
              <a:t> da nedostatak otkloni.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može odrediti </a:t>
            </a:r>
            <a:r>
              <a:rPr b="0" lang="sr-Latn-CS" sz="700" spc="-1" strike="noStrike">
                <a:solidFill>
                  <a:srgbClr val="000000"/>
                </a:solidFill>
                <a:latin typeface="Arial"/>
              </a:rPr>
              <a:t>izvođaču</a:t>
            </a:r>
            <a:r>
              <a:rPr b="0" lang="en-US" sz="700" spc="-1" strike="noStrike">
                <a:solidFill>
                  <a:srgbClr val="000000"/>
                </a:solidFill>
                <a:latin typeface="Arial"/>
                <a:ea typeface="Arial"/>
              </a:rPr>
              <a:t> primeren rok za otklanjanje nedostatk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a:t>
            </a:r>
            <a:r>
              <a:rPr b="0" lang="sr-Latn-CS" sz="700" spc="-1" strike="noStrike">
                <a:solidFill>
                  <a:srgbClr val="000000"/>
                </a:solidFill>
                <a:latin typeface="Arial"/>
              </a:rPr>
              <a:t>izvođač</a:t>
            </a:r>
            <a:r>
              <a:rPr b="0" lang="en-US" sz="700" spc="-1" strike="noStrike">
                <a:solidFill>
                  <a:srgbClr val="000000"/>
                </a:solidFill>
                <a:latin typeface="Arial"/>
                <a:ea typeface="Arial"/>
              </a:rPr>
              <a:t> ne otkloni nedostatak do isteka tog roka, naručilac može, po svom izboru, izvršiti otklanjanje nedostatka na račun </a:t>
            </a:r>
            <a:r>
              <a:rPr b="0" lang="sr-Latn-CS" sz="700" spc="-1" strike="noStrike">
                <a:solidFill>
                  <a:srgbClr val="000000"/>
                </a:solidFill>
                <a:latin typeface="Arial"/>
              </a:rPr>
              <a:t>izvođača</a:t>
            </a:r>
            <a:r>
              <a:rPr b="0" lang="en-US" sz="700" spc="-1" strike="noStrike">
                <a:solidFill>
                  <a:srgbClr val="000000"/>
                </a:solidFill>
                <a:latin typeface="Arial"/>
                <a:ea typeface="Arial"/>
              </a:rPr>
              <a:t>, ili sniziti naknadu, ili raskinuti ugovor.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se radi o neznatnom nedostatku, naručilac se ne može koristiti pravom na raskid ugovor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U svakom slučaju on ima pravo i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niženje naknad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Sniženje naknade vrši se u razmeru između vrednosti izvršenog rada bez nedostatka u vreme zaključenja ugovora i vrednosti koju bi irnao u to vreme izvršeni rad sa nedostatkom.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001C-8CB5-4F63-8D5F-8796E938242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Unicode MS"/>
              </a:rPr>
              <a:t>Odeljak 4 - ODGOVORNOST IZVOĐAČA l PROJEKTANTA ZA SOLIDNOST GRAĐEVIN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U čemu se sastoj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za nedostatke u izradi građevine koji se tiču njene solidnosti, ukoliko bi se ti nedostaci pokazali za vreme od deset godina od predaje i prijema radova</a:t>
            </a:r>
            <a:r>
              <a:rPr b="0" lang="sr-Latn-CS" sz="900" spc="-1" strike="noStrike">
                <a:solidFill>
                  <a:srgbClr val="000000"/>
                </a:solidFill>
                <a:latin typeface="Arial"/>
              </a:rPr>
              <a:t> </a:t>
            </a:r>
            <a:r>
              <a:rPr b="0" i="1" lang="sr-Latn-CS" sz="900" spc="-1" strike="noStrike" u="sng">
                <a:solidFill>
                  <a:srgbClr val="000000"/>
                </a:solidFill>
                <a:uFillTx/>
                <a:latin typeface="Arial"/>
              </a:rPr>
              <a:t> (misli se od trenutka preliminarne primopredaje na osnovu Zakona o uređenju prostora i izgradnji objekata)</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i za nedostatke zemljišta na kome je podignuta građevina, koji bi se pokazali za vreme od deset godina od predaje i prijema radova, osim ako je specijalizovana organizacija dala stručno mišljenje da je zemljište podobno za građenje a u toku građenja se nisu pojavile okolnosti koje dovode u sumnju osnovanost stručnog mišljenja. </a:t>
            </a:r>
            <a:r>
              <a:rPr b="0" i="1" lang="sr-Latn-CS" sz="900" spc="-1" strike="noStrike" u="sng">
                <a:solidFill>
                  <a:srgbClr val="000000"/>
                </a:solidFill>
                <a:uFillTx/>
                <a:latin typeface="Arial"/>
              </a:rPr>
              <a:t>(zato su značajne geološke podloge i geološki nadzor  -naročito za specifične objekte i specifične uslove fundiranj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sto važi i za projektanta ako nedostatak građevine potiče od nekog nedostatka u planu</a:t>
            </a:r>
            <a:r>
              <a:rPr b="0" lang="sr-Latn-CS" sz="900" spc="-1" strike="noStrike">
                <a:solidFill>
                  <a:srgbClr val="000000"/>
                </a:solidFill>
                <a:latin typeface="Arial"/>
                <a:ea typeface="Arial"/>
              </a:rPr>
              <a:t>- projektu</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ni su odgovorni prema odredbama prethodnih stavova ne samo naručiocu, nego i svakom drugom sticaocu građevin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va njihova odgovornost ne može se ugovorom ni isključiti ni ograni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Dužnost obaveštavanja i gubitak pra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Naručilac ili drugi sticalac dužan je o nedostacima obaves-titi izvođača i projektanta u roku od šest meseci od kad je nedostatak ustanovio, inače gubi pravo da se pozove na njeg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avo naručioca ili drugog sticaoca prema izvođaču, odnosno projektantu po osnovu njihove odgovornosti za nedostatke prestaje za godinu dana računajući od dana kad je naručilac, odnosno sticalac obavestio projektanta, odnosno izvođača o nedostatku.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manjenje i isključenje odgovornos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se ne oslobađa odgovornosti ako je šteta nastala zbog toga što je pri izvođenju određenih radova postupao po zahtevima naručioc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li, ako je pre izvršenja određenog rada po zahtevu naručioca upozorio ovog na opasnost od štete, njegova odgovornost se smanjuje, a prema okolnostima konkretnog slučaja može se i isklju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gres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su za štetu odgovorni izvođač i projektant, odgovornost svakog od njih određuje se prema veličini njegove krivic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ojektant koji je izradio projekat građevine i kome je poveren nadzor nad izvršenjem planiranih radova odgovara i za nedostatke u izvršenim radovima nastale krivicom izvođača ako ih je mogao opaziti normalnim i razumnim nadgledanjem radova, ali ima pravo zahtevati od izvođača odgovarajuću naknad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koji je naknadio štetu nastalu usled nedostataka u izvršenim radovima ima pravo zahtevati naknadu od projektanta u meri u kojoj nedostaci u izvršenim radovima potiču od nedostataka u projekt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je za nedostatak odgovorno lice kome je izvođač poverio obavljanje jednog dela posla, izvođač, ako hoće da od njega zahteva naknadu, mora da ga obavesti o postojanju nedostatka u roku od dva meseca, računajući od dana kad je on sam obavešten od naručioca o istom nedostatku.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177B-405E-4533-B702-B5489F6AF34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2082960" y="228600"/>
            <a:ext cx="2539800" cy="1905120"/>
          </a:xfrm>
          <a:prstGeom prst="rect">
            <a:avLst/>
          </a:prstGeom>
          <a:ln w="0">
            <a:noFill/>
          </a:ln>
        </p:spPr>
      </p:sp>
      <p:sp>
        <p:nvSpPr>
          <p:cNvPr id="16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bog širokog polja obligacionih odnosa koji se mogu realizovati između strana u obligaciji, ov</a:t>
            </a:r>
            <a:r>
              <a:rPr b="0" lang="en-US" sz="900" spc="-1" strike="noStrike">
                <a:solidFill>
                  <a:srgbClr val="000000"/>
                </a:solidFill>
                <a:latin typeface="Arial"/>
              </a:rPr>
              <a:t>a</a:t>
            </a:r>
            <a:r>
              <a:rPr b="0" lang="sr-Latn-CS" sz="900" spc="-1" strike="noStrike">
                <a:solidFill>
                  <a:srgbClr val="000000"/>
                </a:solidFill>
                <a:latin typeface="Arial"/>
              </a:rPr>
              <a:t>j zakon ima 1109 članova, a zasnovan je na sljedećim načelima:</a:t>
            </a:r>
            <a:endParaRPr b="0" lang="en-US" sz="9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autonomije volje (slobode uređenja obligacionih odnos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savjesnosti i pošte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a:t>
            </a:r>
            <a:r>
              <a:rPr b="0" lang="sr-Latn-CS" sz="800" spc="-1" strike="noStrike">
                <a:solidFill>
                  <a:srgbClr val="000000"/>
                </a:solidFill>
                <a:latin typeface="Arial"/>
              </a:rPr>
              <a:t>čelo dužnosti saradn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zloupotrebe prav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stvaranja i iskorišćavanja monopolskog položaja na tržištu</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ekvivalentnosti (jednake vrijednosti) dava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
            </a:r>
            <a:r>
              <a:rPr b="0" lang="sr-Latn-CS" sz="800" spc="-1" strike="noStrike">
                <a:solidFill>
                  <a:srgbClr val="000000"/>
                </a:solidFill>
                <a:latin typeface="Arial"/>
              </a:rPr>
              <a:t>ačelo zabrane prouzrokovanja štet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užnosti izvršenja obavez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rješavanja sporova mirnim putem</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ispozitivnog (dopunjujućeg) karaktera odredaba Zakona . konkretno rešenje obligacionih odnosa zasniva se na zakonu ali može biti prilagođeno, shodno volji obligacionih strana </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5CFB-A318-453B-93C6-579894EF2EA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PlaceHolder 1"/>
          <p:cNvSpPr>
            <a:spLocks noGrp="1"/>
          </p:cNvSpPr>
          <p:nvPr>
            <p:ph type="sldImg"/>
          </p:nvPr>
        </p:nvSpPr>
        <p:spPr>
          <a:xfrm>
            <a:off x="2082960" y="228600"/>
            <a:ext cx="2539800" cy="1905120"/>
          </a:xfrm>
          <a:prstGeom prst="rect">
            <a:avLst/>
          </a:prstGeom>
          <a:ln w="0">
            <a:noFill/>
          </a:ln>
        </p:spPr>
      </p:sp>
      <p:sp>
        <p:nvSpPr>
          <p:cNvPr id="16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A1ED-743F-4E33-AFE9-B94BC751531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2082960" y="228600"/>
            <a:ext cx="2539800" cy="1905120"/>
          </a:xfrm>
          <a:prstGeom prst="rect">
            <a:avLst/>
          </a:prstGeom>
          <a:ln w="0">
            <a:noFill/>
          </a:ln>
        </p:spPr>
      </p:sp>
      <p:sp>
        <p:nvSpPr>
          <p:cNvPr id="16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0545-23CB-4ADE-A609-418FF743F1C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2082960" y="228600"/>
            <a:ext cx="2539800" cy="1905120"/>
          </a:xfrm>
          <a:prstGeom prst="rect">
            <a:avLst/>
          </a:prstGeom>
          <a:ln w="0">
            <a:noFill/>
          </a:ln>
        </p:spPr>
      </p:sp>
      <p:sp>
        <p:nvSpPr>
          <p:cNvPr id="17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POJAM OBLIGACIONOG PRAVA</a:t>
            </a:r>
            <a:endParaRPr b="0" lang="en-US" sz="16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ligaciono pravo uređuje obligaciono – pravne odnose kao vrstu imovinsko –pravnih odnos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trane u obligacionom odnosu:</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vjerilac,</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nik</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vjerilac na osnovu obligacionih odnosa sa dužnikom ima pravo da od dužnika zahtijeva davanje ili činjenje, a ovaj (dužnik) je dužan da to uradi. Obligaciono pravo se bavi prometom imovinskih vrijednosti, odnosno njegov osnovni predmet je razmjena dobara i usluga na osnovu saglasnosti volja strana u obligacionom odnosu, ali i mimo volje strana (obligacioni odnosi koji nastaju prouzrokovanjem štete, nezvanim vršenjem tuđih poslova i sl.)</a:t>
            </a:r>
            <a:endParaRPr b="0" lang="en-US" sz="12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D579-F3BF-4BB3-AE40-F5B663FF01F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2057400" y="380880"/>
            <a:ext cx="2540160" cy="1905120"/>
          </a:xfrm>
          <a:prstGeom prst="rect">
            <a:avLst/>
          </a:prstGeom>
          <a:ln w="0">
            <a:noFill/>
          </a:ln>
        </p:spPr>
      </p:sp>
      <p:sp>
        <p:nvSpPr>
          <p:cNvPr id="17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ugovaranja: subjekti ugovora su slobodni da u okviru prinudnih propisa javnog poretka i dobrih običaja urede svoje odnose, a manifestuje se u sljedećem:</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iko ne može biti primoran da zaključi ugovor, odnosno ukoliko je bio prinuđen ili je bio u zabludi pri zaključivanju ugovora, onda je takav ugovor pravno ništavan</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lica sa kojim se zaključuje ugovor</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sadržine ugovora (u okviru imperativnih propis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izbora predmeta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ređivanja načina, mjesta i vremena ispunjenja ugovora, </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lučivanja o promjeni ugovora i sl.</a:t>
            </a:r>
            <a:endParaRPr b="0" lang="en-US" sz="800" spc="-1" strike="noStrike">
              <a:solidFill>
                <a:srgbClr val="000000"/>
              </a:solidFill>
              <a:latin typeface="Arial"/>
            </a:endParaRPr>
          </a:p>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onsensualizam, tj ugovori se zaključuju prostom saglasnošću volja i bez ispunjenja posebnih formalnosti. To znači da su ugovori u principu neformalni, a samo u zakonom  određenim slučajevima moraju poštovati formu zakonom propisanu.</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posobnost ugovaranja podrazumijeva sposobnost fizičkih i pravnih lica za zaključenje ugovora , odnosno poslovnu sposobnost (koju nemaju maloljetna i duševno oboljela lica)i pravnu sposobnost (vršenje djelatnosti za koju je upisano uregistar).</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Jedna od strana daje inicijativu za zaključenje ugovora  (ponuda) a druga je prihvata i zaključuju ugovor. Svemu mogu prethoditi pregovori koji nijesu obavezujući, ali postoji odredba koja kaže da “će strana koja je vodila pregovore bez namjere da zaključi ugovor biti odgovorna za štetu nastalu vođenjem pre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 skladu sa Zakonom ponuda je inicijativa za zaključenje ugovora sa sljedećim obilježjim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ražena je volja za zaključivanje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pućena je određenom licu</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drži sve bitne sastojke ugovor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glasnost volja može biti data: u zabludi, na osnovu prevare, pod prijetnjom. Saglasnost koja je posljedica zablude, prevare ili prijetnje izaziva relativnu ništavnost ugovora, odnosno strana koja je zaključila ugovor pod nekim od ovih uticaja ima pravo da traži poništenje u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dmet ugovora je ono na šta je ugovor usmjeren, tj. određeno davanje, činjenje ili nečinjenje. Predmet ugovora mora biti:</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CS" sz="800" spc="-1" strike="noStrike">
                <a:solidFill>
                  <a:srgbClr val="000000"/>
                </a:solidFill>
                <a:latin typeface="Arial"/>
              </a:rPr>
              <a:t>moguć (objektivno nemoguć - niko ne može realizovati predmet ugovor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opušten (ne može se ugovarati ono što je suprotno pravnim propisima, javnom poretku ili moralu društv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određen ili odrediv (u trenutku zaključenja ugovora se tačno zna šta je predmet ugovora, odnosno šta dužnik duguje povjeriocu, ili su dati podaci na osnovu kojih se ovo može odrediti)</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odjela ugovora moguća je na više načina, jedan od njih prikazan je i u samom sadržaju zakona (podjela na imenovane i neimenovane ugovore), pri čemu su imenovani ugovori regulisani zakonom jer se često javljaju pa je ta regulacija vrlo praktičn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koliko odredbe u ugovoru nijesu jasne i nedvosmislene potrebno ih je tumačiti, kako bi se postigla saglasnost stranaka po pitanju smisla nejasnih ili dvosmislenih odredbi. Vansusdko tumačenje – arbitražu radi stručno i nepristrasno lice koje ima znanje, profesionalni i lični autoritet koji ulivaju povjerenje strankama.</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DD74-85F5-4498-92E2-F35BF7237A0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2082960" y="228600"/>
            <a:ext cx="2539800" cy="1905120"/>
          </a:xfrm>
          <a:prstGeom prst="rect">
            <a:avLst/>
          </a:prstGeom>
          <a:ln w="0">
            <a:noFill/>
          </a:ln>
        </p:spPr>
      </p:sp>
      <p:sp>
        <p:nvSpPr>
          <p:cNvPr id="17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unovažan je ugovor kod kojeg nije ispunjen makar jedan od opštih uslova za zaključenje ugovora. Ovdje postoje dvije kategorije:</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i protivni prinudnim propisima, javnom poretku i moralu društ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ljivi, o čijem se poništenju sud izjašnjava tek po zahtjevu , odnosno tužbi za poništaj (usled zaključenja ugovora od poslovno nesposobnog lica, ili prestanak ugovora usljed nemogućnosti ispunjenja, ukoliko dužnik nije u mogućnosti da ispuni ugovor zbog uslova koji nijesu u njegovoj kontroli</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skid ugovora (sporazumni ili jednostrani) pri čemu se </a:t>
            </a:r>
            <a:r>
              <a:rPr b="0" lang="en-GB" sz="900" spc="-1" strike="noStrike">
                <a:solidFill>
                  <a:srgbClr val="000000"/>
                </a:solidFill>
                <a:latin typeface="Arial"/>
              </a:rPr>
              <a:t>za </a:t>
            </a:r>
            <a:r>
              <a:rPr b="0" lang="sr-Latn-CS" sz="900" spc="-1" strike="noStrike">
                <a:solidFill>
                  <a:srgbClr val="000000"/>
                </a:solidFill>
                <a:latin typeface="Arial"/>
              </a:rPr>
              <a:t>jednostrani predviđaju stroga pravila kad može nastupi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25B4-2A9B-45D4-9E9B-B7A52B40958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2082960" y="228600"/>
            <a:ext cx="2539800" cy="1905120"/>
          </a:xfrm>
          <a:prstGeom prst="rect">
            <a:avLst/>
          </a:prstGeom>
          <a:ln w="0">
            <a:noFill/>
          </a:ln>
        </p:spPr>
      </p:sp>
      <p:sp>
        <p:nvSpPr>
          <p:cNvPr id="179"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F676-FC70-4E84-AF89-5E9C3F0FACD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2082960" y="228600"/>
            <a:ext cx="2539800" cy="1905120"/>
          </a:xfrm>
          <a:prstGeom prst="rect">
            <a:avLst/>
          </a:prstGeom>
          <a:ln w="0">
            <a:noFill/>
          </a:ln>
        </p:spPr>
      </p:sp>
      <p:sp>
        <p:nvSpPr>
          <p:cNvPr id="18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ema ovom Zakonu o obligacionim odnosima, Ugovor o građenju potpisuju Izvođač radova i Naručilac</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C0FFE0-E67D-4CFA-82FB-E80D353C4A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EAFCD0-B7E5-4B16-9B88-68FD54C28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8EBC80-EBEA-4403-AF6F-C04432A082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08819A-E379-4918-97EB-79B6E3830B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6DE19-3AB3-4A39-8A19-57E113ADA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0E690-C593-44BC-A36B-53C0A03DA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2D08D-EFC9-4421-9AF1-C8E770443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B201E-698C-4140-915B-877ECDF35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AD894-28D1-4D8E-AB0E-201112415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E2358-AAC6-4D59-B2D0-D2B709B5E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6487F-93A8-42CA-A7BC-7BDB6D225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3FE279-682A-43FE-8583-554D661ED6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64A58-596D-4853-8067-562A3EB60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5E9BA-65B5-4E2B-B629-258F5A0FC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37333-D89C-403C-845E-3AA19392E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045C9-79C3-413F-B706-03665E559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8E3C4-583C-4030-B34F-93AAFBCF6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D3DB52-7279-438D-911D-498F894C06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CBF6C5-B9C4-457A-BEFF-E6F645FD9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C197CE-33E1-4967-B748-53F5175DF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D9B072-BA96-4790-8D8C-D10D49DFDC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2DCD4F-48ED-46FA-A47F-1DD2194131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A6CD6C-DA98-4637-8ECF-593E2692F0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1B3857-9F07-4288-AA26-BE9A23BBCD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98F8-5539-47EF-8DE5-702FF4A35A58}"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3118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EF5E-107C-4275-8F14-CF45D75A510B}"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ELEMENTI OBLIGACIONOG PRAVA </a:t>
            </a:r>
            <a:br>
              <a:rPr sz="4000"/>
            </a:br>
            <a:r>
              <a:rPr b="0" i="1" lang="sr-Latn-CS" sz="3200" spc="-1" strike="noStrike">
                <a:solidFill>
                  <a:srgbClr val="ffffff"/>
                </a:solidFill>
                <a:latin typeface="Arial"/>
              </a:rPr>
              <a:t>u vezi sa građenjem</a:t>
            </a:r>
            <a:endParaRPr b="0" lang="en-US" sz="32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Zakon o obligacionim odnosima</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govor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sebne uzanse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5"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Poja</a:t>
            </a:r>
            <a:r>
              <a:rPr b="0" lang="sr-Latn-ME" sz="1700" spc="-1" strike="noStrike">
                <a:solidFill>
                  <a:srgbClr val="ffffff"/>
                </a:solidFill>
                <a:latin typeface="Arial"/>
                <a:ea typeface="Times New Roman"/>
              </a:rPr>
              <a:t>m</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ecijalna vrsta ugovora o djel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izvođača: građenje </a:t>
            </a:r>
            <a:r>
              <a:rPr b="0" i="1" lang="sr-Latn-CS" sz="1700" spc="-1" strike="noStrike">
                <a:solidFill>
                  <a:srgbClr val="ffffff"/>
                </a:solidFill>
                <a:latin typeface="Arial"/>
              </a:rPr>
              <a:t>građevine</a:t>
            </a:r>
            <a:r>
              <a:rPr b="0" lang="sr-Latn-CS" sz="1700" spc="-1" strike="noStrike">
                <a:solidFill>
                  <a:srgbClr val="ffffff"/>
                </a:solidFill>
                <a:latin typeface="Arial"/>
              </a:rPr>
              <a:t> (ili izvođenje radova) </a:t>
            </a:r>
            <a:r>
              <a:rPr b="1" lang="sr-Latn-CS" sz="1700" spc="-1" strike="noStrike">
                <a:solidFill>
                  <a:srgbClr val="ffffff"/>
                </a:solidFill>
                <a:latin typeface="Arial"/>
              </a:rPr>
              <a:t>prema projektu</a:t>
            </a:r>
            <a:r>
              <a:rPr b="0" lang="sr-Latn-CS" sz="1700" spc="-1" strike="noStrike">
                <a:solidFill>
                  <a:srgbClr val="ffffff"/>
                </a:solidFill>
                <a:latin typeface="Arial"/>
              </a:rPr>
              <a:t>  u ugovorenom roku na lokaciji</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naručioca: isplata određene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no zaključenje u pismenoj form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Građevina</a:t>
            </a:r>
            <a:r>
              <a:rPr b="0" lang="sr-Latn-ME" sz="1700" spc="-1" strike="noStrike">
                <a:solidFill>
                  <a:srgbClr val="ffffff"/>
                </a:solidFill>
                <a:latin typeface="Arial"/>
                <a:ea typeface="Times New Roman"/>
              </a:rPr>
              <a:t> =zgrade mostovi, brane tuneli, putevi vodovodi, pruge bunar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Nadzor nad radovima i kontrola kvaliteta materijala</a:t>
            </a:r>
            <a:r>
              <a:rPr b="0" lang="sr-Latn-CS" sz="1700" spc="-1" strike="noStrike">
                <a:solidFill>
                  <a:srgbClr val="ffffff"/>
                </a:solidFill>
                <a:latin typeface="Arial"/>
              </a:rPr>
              <a:t> – ovo omogućava Izvođač naručiocu</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Odstupanje od projekta</a:t>
            </a:r>
            <a:r>
              <a:rPr b="0" lang="sr-Latn-CS" sz="1700" spc="-1" strike="noStrike">
                <a:solidFill>
                  <a:srgbClr val="ffffff"/>
                </a:solidFill>
                <a:latin typeface="Arial"/>
              </a:rPr>
              <a:t> – samo uz pismenu saglasnost naručioc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Hitni nepredviđeni radovi</a:t>
            </a:r>
            <a:r>
              <a:rPr b="0" lang="sr-Latn-CS" sz="1700" spc="-1" strike="noStrike">
                <a:solidFill>
                  <a:srgbClr val="ffffff"/>
                </a:solidFill>
                <a:latin typeface="Arial"/>
              </a:rPr>
              <a:t> – i bez prethodne saglasnosti naručioca uz obavezu obavještavanja naručioca o pojavama i hitnim radovim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C</a:t>
            </a:r>
            <a:r>
              <a:rPr b="0" lang="sr-Latn-CS" sz="1700" spc="-1" strike="noStrike">
                <a:solidFill>
                  <a:srgbClr val="ffffff"/>
                </a:solidFill>
                <a:latin typeface="Arial"/>
              </a:rPr>
              <a:t>ij</a:t>
            </a:r>
            <a:r>
              <a:rPr b="0" lang="en-GB" sz="1700" spc="-1" strike="noStrike">
                <a:solidFill>
                  <a:srgbClr val="ffffff"/>
                </a:solidFill>
                <a:latin typeface="Arial"/>
                <a:ea typeface="Times New Roman"/>
              </a:rPr>
              <a:t>ena radova</a:t>
            </a:r>
            <a:r>
              <a:rPr b="0" lang="sr-Latn-CS" sz="1700" spc="-1" strike="noStrike">
                <a:solidFill>
                  <a:srgbClr val="ffffff"/>
                </a:solidFill>
                <a:latin typeface="Arial"/>
              </a:rPr>
              <a:t> sa aspekta jedinice mjere i obračuna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inična cijena – po jedinici mjere ugovorenih radov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kupno ugovorena cijena – ukupan iznos za sve ugovorene radove na objekt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7" name="PlaceHolder 2"/>
          <p:cNvSpPr>
            <a:spLocks noGrp="1"/>
          </p:cNvSpPr>
          <p:nvPr>
            <p:ph/>
          </p:nvPr>
        </p:nvSpPr>
        <p:spPr>
          <a:xfrm>
            <a:off x="914400" y="2276280"/>
            <a:ext cx="7772400" cy="3819240"/>
          </a:xfrm>
          <a:prstGeom prst="rect">
            <a:avLst/>
          </a:prstGeom>
          <a:noFill/>
          <a:ln w="0">
            <a:noFill/>
          </a:ln>
        </p:spPr>
        <p:txBody>
          <a:bodyPr anchor="t">
            <a:normAutofit/>
          </a:bodyPr>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zvođač je dužan omogućiti naručiocu stalan nadzor nad radovim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Nepredviđeni radovi </a:t>
            </a:r>
            <a:r>
              <a:rPr b="0" lang="sr-Latn-ME" sz="1600" spc="-1" strike="noStrike">
                <a:solidFill>
                  <a:srgbClr val="ffffff"/>
                </a:solidFill>
                <a:latin typeface="Arial"/>
                <a:ea typeface="Arial"/>
              </a:rPr>
              <a:t>–radovi čije je </a:t>
            </a:r>
            <a:r>
              <a:rPr b="0" lang="en-GB" sz="1600" spc="-1" strike="noStrike">
                <a:solidFill>
                  <a:srgbClr val="ffffff"/>
                </a:solidFill>
                <a:latin typeface="Arial"/>
                <a:ea typeface="Arial"/>
              </a:rPr>
              <a:t>preduzimanje bilo nužno zbog osiguranja stabilnosti objekta ili radi sprečavanja nastanka štete,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zvođač ima pravo na pravičnu naknadu za nepredviđene radove koji su morali biti obavljeni.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Moguć raskid ugovora zbog povećanja ugovorene cijene zbog nepredviđenih radov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U slučaju raskidanja ugovora, naručilac je dužan isplatiti izvođaču odgovarajući d</a:t>
            </a:r>
            <a:r>
              <a:rPr b="0" lang="sr-Latn-CS" sz="1600" spc="-1" strike="noStrike">
                <a:solidFill>
                  <a:srgbClr val="ffffff"/>
                </a:solidFill>
                <a:latin typeface="Arial"/>
                <a:ea typeface="Arial"/>
              </a:rPr>
              <a:t>i</a:t>
            </a:r>
            <a:r>
              <a:rPr b="0" lang="en-GB" sz="1600" spc="-1" strike="noStrike">
                <a:solidFill>
                  <a:srgbClr val="ffffff"/>
                </a:solidFill>
                <a:latin typeface="Arial"/>
                <a:ea typeface="Arial"/>
              </a:rPr>
              <a:t>o c</a:t>
            </a:r>
            <a:r>
              <a:rPr b="0" lang="sr-Latn-CS" sz="1600" spc="-1" strike="noStrike">
                <a:solidFill>
                  <a:srgbClr val="ffffff"/>
                </a:solidFill>
                <a:latin typeface="Arial"/>
              </a:rPr>
              <a:t>ij</a:t>
            </a:r>
            <a:r>
              <a:rPr b="0" lang="en-GB" sz="1600" spc="-1" strike="noStrike">
                <a:solidFill>
                  <a:srgbClr val="ffffff"/>
                </a:solidFill>
                <a:latin typeface="Arial"/>
                <a:ea typeface="Arial"/>
              </a:rPr>
              <a:t>ene za već izvršene radove, kao i pravičnu naknadu za učinjene neophodne troškove</a:t>
            </a:r>
            <a:r>
              <a:rPr b="0" lang="sr-Latn-CS" sz="1600" spc="-1" strike="noStrike">
                <a:solidFill>
                  <a:srgbClr val="ffffff"/>
                </a:solidFill>
                <a:latin typeface="Arial"/>
              </a:rPr>
              <a:t> (na primjer pribavljeni i na gradilištu uskladišteni materijal i sl.)</a:t>
            </a:r>
            <a:r>
              <a:rPr b="0" lang="en-GB" sz="1600" spc="-1" strike="noStrike">
                <a:solidFill>
                  <a:srgbClr val="ffffff"/>
                </a:solidFill>
                <a:latin typeface="Arial"/>
                <a:ea typeface="Arial"/>
              </a:rPr>
              <a:t>. </a:t>
            </a:r>
            <a:endParaRPr b="0" lang="en-US" sz="1600" spc="-1" strike="noStrike">
              <a:solidFill>
                <a:srgbClr val="ffffff"/>
              </a:solidFill>
              <a:latin typeface="Arial"/>
            </a:endParaRPr>
          </a:p>
          <a:p>
            <a:pPr marL="2286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000" y="33336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9" name="PlaceHolder 2"/>
          <p:cNvSpPr>
            <a:spLocks noGrp="1"/>
          </p:cNvSpPr>
          <p:nvPr>
            <p:ph/>
          </p:nvPr>
        </p:nvSpPr>
        <p:spPr>
          <a:xfrm>
            <a:off x="394920" y="1628640"/>
            <a:ext cx="8497800" cy="4610160"/>
          </a:xfrm>
          <a:prstGeom prst="rect">
            <a:avLst/>
          </a:prstGeom>
          <a:noFill/>
          <a:ln w="0">
            <a:noFill/>
          </a:ln>
        </p:spPr>
        <p:txBody>
          <a:bodyPr anchor="t">
            <a:normAutofit/>
          </a:bodyPr>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lzm</a:t>
            </a:r>
            <a:r>
              <a:rPr b="0" lang="sr-Latn-CS" sz="1600" spc="-1" strike="noStrike">
                <a:solidFill>
                  <a:srgbClr val="ffffff"/>
                </a:solidFill>
                <a:latin typeface="Arial"/>
              </a:rPr>
              <a:t>j</a:t>
            </a:r>
            <a:r>
              <a:rPr b="0" lang="en-GB" sz="1600" spc="-1" strike="noStrike">
                <a:solidFill>
                  <a:srgbClr val="ffffff"/>
                </a:solidFill>
                <a:latin typeface="Arial"/>
                <a:ea typeface="Times New Roman"/>
              </a:rPr>
              <a:t>ena c</a:t>
            </a:r>
            <a:r>
              <a:rPr b="0" lang="sr-Latn-CS" sz="1600" spc="-1" strike="noStrike">
                <a:solidFill>
                  <a:srgbClr val="ffffff"/>
                </a:solidFill>
                <a:latin typeface="Arial"/>
              </a:rPr>
              <a:t>ije</a:t>
            </a:r>
            <a:r>
              <a:rPr b="0" lang="en-GB" sz="1600" spc="-1" strike="noStrike">
                <a:solidFill>
                  <a:srgbClr val="ffffff"/>
                </a:solidFill>
                <a:latin typeface="Arial"/>
                <a:ea typeface="Times New Roman"/>
              </a:rPr>
              <a:t>ne</a:t>
            </a:r>
            <a:r>
              <a:rPr b="0" lang="sr-Latn-CS" sz="1600" spc="-1" strike="noStrike">
                <a:solidFill>
                  <a:srgbClr val="ffffff"/>
                </a:solidFill>
                <a:latin typeface="Arial"/>
              </a:rPr>
              <a:t> –uvijek moguća, bez obzira na odredbe o nepromjenljivosti cijena, ali prema sljedećim uslovima:</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do povećanja cijena elemenata na osnovu kojih je formirana cijena došlo je </a:t>
            </a:r>
            <a:r>
              <a:rPr b="1" lang="sr-Latn-CS" sz="1600" spc="-1" strike="noStrike">
                <a:solidFill>
                  <a:srgbClr val="ffffff"/>
                </a:solidFill>
                <a:latin typeface="Arial"/>
              </a:rPr>
              <a:t>prije nego što je izvođač došao u docnju</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tpostavljeni procenat povećanja ugovorenih cijena (</a:t>
            </a:r>
            <a:r>
              <a:rPr b="0" i="1" lang="sr-Latn-CS" sz="1600" spc="-1" strike="noStrike">
                <a:solidFill>
                  <a:srgbClr val="ffffff"/>
                </a:solidFill>
                <a:latin typeface="Arial"/>
              </a:rPr>
              <a:t>x%</a:t>
            </a:r>
            <a:r>
              <a:rPr b="0" lang="sr-Latn-CS" sz="1600" spc="-1" strike="noStrike">
                <a:solidFill>
                  <a:srgbClr val="ffffff"/>
                </a:solidFill>
                <a:latin typeface="Arial"/>
              </a:rPr>
              <a:t>: ) na osnovu povećanja cijena elemenata od zaključenja ugovora:</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2%, ako </a:t>
            </a:r>
            <a:r>
              <a:rPr b="0" lang="sr-Latn-ME" sz="1600" spc="-1" strike="noStrike">
                <a:solidFill>
                  <a:srgbClr val="ffffff"/>
                </a:solidFill>
                <a:latin typeface="Arial"/>
              </a:rPr>
              <a:t>je </a:t>
            </a:r>
            <a:r>
              <a:rPr b="0" lang="sr-Latn-CS" sz="1600" spc="-1" strike="noStrike">
                <a:solidFill>
                  <a:srgbClr val="ffffff"/>
                </a:solidFill>
                <a:latin typeface="Arial"/>
              </a:rPr>
              <a:t>izvođač izvršio svoju obavezu u roku, izvođač može zahtijevati povećanje cijena u procentu: </a:t>
            </a:r>
            <a:r>
              <a:rPr b="0" i="1" lang="sr-Latn-CS" sz="1600" spc="-1" strike="noStrike">
                <a:solidFill>
                  <a:srgbClr val="ffffff"/>
                </a:solidFill>
                <a:latin typeface="Arial"/>
              </a:rPr>
              <a:t>x%- 2%</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5</a:t>
            </a:r>
            <a:r>
              <a:rPr b="0" lang="en-GB" sz="1600" spc="-1" strike="noStrike">
                <a:solidFill>
                  <a:srgbClr val="ffffff"/>
                </a:solidFill>
                <a:latin typeface="Arial"/>
              </a:rPr>
              <a:t>%, ako </a:t>
            </a:r>
            <a:r>
              <a:rPr b="0" lang="sr-Latn-ME" sz="1600" spc="-1" strike="noStrike">
                <a:solidFill>
                  <a:srgbClr val="ffffff"/>
                </a:solidFill>
                <a:latin typeface="Arial"/>
              </a:rPr>
              <a:t>izvođač kasni,</a:t>
            </a:r>
            <a:r>
              <a:rPr b="0" lang="sr-Latn-CS" sz="1600" spc="-1" strike="noStrike">
                <a:solidFill>
                  <a:srgbClr val="ffffff"/>
                </a:solidFill>
                <a:latin typeface="Arial"/>
              </a:rPr>
              <a:t> može zahtijevati povećanje cijena u procentu: </a:t>
            </a:r>
            <a:r>
              <a:rPr b="0" i="1" lang="sr-Latn-CS" sz="1600" spc="-1" strike="noStrike">
                <a:solidFill>
                  <a:srgbClr val="ffffff"/>
                </a:solidFill>
                <a:latin typeface="Arial"/>
              </a:rPr>
              <a:t>x%- 5%, </a:t>
            </a:r>
            <a:r>
              <a:rPr b="0" lang="sr-Latn-CS" sz="1600" spc="-1" strike="noStrike">
                <a:solidFill>
                  <a:srgbClr val="ffffff"/>
                </a:solidFill>
                <a:latin typeface="Arial"/>
              </a:rPr>
              <a:t>samo ako je do povecanja elemenata došlo u periodu do kada su radovi trebali da budu završeni</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10</a:t>
            </a:r>
            <a:r>
              <a:rPr b="0" lang="en-GB" sz="1600" spc="-1" strike="noStrike">
                <a:solidFill>
                  <a:srgbClr val="ffffff"/>
                </a:solidFill>
                <a:latin typeface="Arial"/>
              </a:rPr>
              <a:t>%,</a:t>
            </a:r>
            <a:r>
              <a:rPr b="0" lang="sr-Latn-CS" sz="1600" spc="-1" strike="noStrike">
                <a:solidFill>
                  <a:srgbClr val="ffffff"/>
                </a:solidFill>
                <a:latin typeface="Arial"/>
              </a:rPr>
              <a:t> a na snazi je odredba o nepromjenjivosti cijena, izvođač može zahtijevati povećanje cijena u procentu: </a:t>
            </a:r>
            <a:r>
              <a:rPr b="0" i="1" lang="sr-Latn-CS" sz="1600" spc="-1" strike="noStrike">
                <a:solidFill>
                  <a:srgbClr val="ffffff"/>
                </a:solidFill>
                <a:latin typeface="Arial"/>
              </a:rPr>
              <a:t>x%- 10%</a:t>
            </a:r>
            <a:r>
              <a:rPr b="0" lang="sr-Latn-CS" sz="1600" spc="-1" strike="noStrike">
                <a:solidFill>
                  <a:srgbClr val="ffffff"/>
                </a:solidFill>
                <a:latin typeface="Arial"/>
              </a:rPr>
              <a:t> samo ako je do povecanja elemenata došlo u periodu do kada su radovi trebali da budu završeni</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askid ugovora zbog povećane cene</a:t>
            </a:r>
            <a:r>
              <a:rPr b="0" lang="sr-Latn-ME" sz="1600" spc="-1" strike="noStrike">
                <a:solidFill>
                  <a:srgbClr val="ffffff"/>
                </a:solidFill>
                <a:latin typeface="Arial"/>
                <a:ea typeface="Times New Roman"/>
              </a:rPr>
              <a:t>- moguće ako bi cijena bila znatno povećana</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avo naručioca da traži sniženje ugovorene cene</a:t>
            </a:r>
            <a:r>
              <a:rPr b="0" lang="sr-Latn-CS" sz="1600" spc="-1" strike="noStrike">
                <a:solidFill>
                  <a:srgbClr val="ffffff"/>
                </a:solidFill>
                <a:latin typeface="Arial"/>
              </a:rPr>
              <a:t> – slično kao pravo Izvođača, s tim da ako izvođač kasni, onda naručilac ima pravo na sniženje cijena  srazmjjerno procentu sniženja cijena elemen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1" name="PlaceHolder 2"/>
          <p:cNvSpPr>
            <a:spLocks noGrp="1"/>
          </p:cNvSpPr>
          <p:nvPr>
            <p:ph/>
          </p:nvPr>
        </p:nvSpPr>
        <p:spPr>
          <a:xfrm>
            <a:off x="900000" y="2133720"/>
            <a:ext cx="7920000" cy="4046400"/>
          </a:xfrm>
          <a:prstGeom prst="rect">
            <a:avLst/>
          </a:prstGeom>
          <a:noFill/>
          <a:ln w="0">
            <a:noFill/>
          </a:ln>
        </p:spPr>
        <p:txBody>
          <a:bodyPr anchor="t">
            <a:normAutofit/>
          </a:bodyPr>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SEBNA ODREDBA: “Ključ u ruke” ili slična odredba – izvođač se obavezuje da će izvršiti sve radove potrebne za izgradnju i upotrebu određenog cjelovitog objekt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ugovorena cijena obuhvata nepredviđene radove i viškove radov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isključuje se uticaj manjkova radova na ugovorenu cijenu</a:t>
            </a:r>
            <a:endParaRPr b="0" lang="en-US" sz="2000" spc="-1" strike="noStrike">
              <a:solidFill>
                <a:srgbClr val="ffffff"/>
              </a:solidFill>
              <a:latin typeface="Arial"/>
            </a:endParaRPr>
          </a:p>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DGOVORNOST ZA NEDOSTATKE (prema ugovoru o djelu)</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egled izvršenih radova po pozivu izvođač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ako ne izvrši pregled, smatra se da nema primjedbe</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Arial"/>
              </a:rPr>
              <a:t>Posle pregleda i primanja izvršenog rada izvođač više ne odgovara za nedostatke koji su se mogli opaziti običnim pregledom, izuzev ako je znao za njih, a nije ih pokazao naručiocu.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3" name="PlaceHolder 2"/>
          <p:cNvSpPr>
            <a:spLocks noGrp="1"/>
          </p:cNvSpPr>
          <p:nvPr>
            <p:ph/>
          </p:nvPr>
        </p:nvSpPr>
        <p:spPr>
          <a:xfrm>
            <a:off x="826560" y="1916280"/>
            <a:ext cx="7993080" cy="4263840"/>
          </a:xfrm>
          <a:prstGeom prst="rect">
            <a:avLst/>
          </a:prstGeom>
          <a:noFill/>
          <a:ln w="0">
            <a:noFill/>
          </a:ln>
        </p:spPr>
        <p:txBody>
          <a:bodyPr anchor="t">
            <a:normAutofit/>
          </a:bodyPr>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kriveni nedostaci- nedostaci koji se naknadno pokažu u garant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mora obavijestiti izvođača u roku od mjesec dan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naručioca da od izvođača zahtijeva da ukloni nedostatke u primjere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ima pravo na naknadu štet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izbora Naručioca da ukoliko se Izvođač ogluši na otklanjanje nedostatak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otkloni neodstatak na račun izvođač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umanji plaćanje (</a:t>
            </a:r>
            <a:r>
              <a:rPr b="0" lang="en-US" sz="1700" spc="-1" strike="noStrike">
                <a:solidFill>
                  <a:srgbClr val="ffffff"/>
                </a:solidFill>
                <a:latin typeface="Arial"/>
              </a:rPr>
              <a:t>Sniženje naknade vrši se u razm</a:t>
            </a:r>
            <a:r>
              <a:rPr b="0" lang="sr-Latn-ME" sz="1700" spc="-1" strike="noStrike">
                <a:solidFill>
                  <a:srgbClr val="ffffff"/>
                </a:solidFill>
                <a:latin typeface="Arial"/>
              </a:rPr>
              <a:t>j</a:t>
            </a:r>
            <a:r>
              <a:rPr b="0" lang="en-US" sz="1700" spc="-1" strike="noStrike">
                <a:solidFill>
                  <a:srgbClr val="ffffff"/>
                </a:solidFill>
                <a:latin typeface="Arial"/>
              </a:rPr>
              <a:t>er</a:t>
            </a:r>
            <a:r>
              <a:rPr b="0" lang="sr-Latn-ME" sz="1700" spc="-1" strike="noStrike">
                <a:solidFill>
                  <a:srgbClr val="ffffff"/>
                </a:solidFill>
                <a:latin typeface="Arial"/>
              </a:rPr>
              <a:t>i</a:t>
            </a:r>
            <a:r>
              <a:rPr b="0" lang="en-US" sz="1700" spc="-1" strike="noStrike">
                <a:solidFill>
                  <a:srgbClr val="ffffff"/>
                </a:solidFill>
                <a:latin typeface="Arial"/>
              </a:rPr>
              <a:t> između vr</a:t>
            </a:r>
            <a:r>
              <a:rPr b="0" lang="sr-Latn-ME" sz="1700" spc="-1" strike="noStrike">
                <a:solidFill>
                  <a:srgbClr val="ffffff"/>
                </a:solidFill>
                <a:latin typeface="Arial"/>
              </a:rPr>
              <a:t>ij</a:t>
            </a:r>
            <a:r>
              <a:rPr b="0" lang="en-US" sz="1700" spc="-1" strike="noStrike">
                <a:solidFill>
                  <a:srgbClr val="ffffff"/>
                </a:solidFill>
                <a:latin typeface="Arial"/>
              </a:rPr>
              <a:t>ednosti izvršenog rada bez nedostatka u vr</a:t>
            </a:r>
            <a:r>
              <a:rPr b="0" lang="sr-Latn-ME" sz="1700" spc="-1" strike="noStrike">
                <a:solidFill>
                  <a:srgbClr val="ffffff"/>
                </a:solidFill>
                <a:latin typeface="Arial"/>
              </a:rPr>
              <a:t>ij</a:t>
            </a:r>
            <a:r>
              <a:rPr b="0" lang="en-US" sz="1700" spc="-1" strike="noStrike">
                <a:solidFill>
                  <a:srgbClr val="ffffff"/>
                </a:solidFill>
                <a:latin typeface="Arial"/>
              </a:rPr>
              <a:t>eme zaključenja ugovora i vr</a:t>
            </a:r>
            <a:r>
              <a:rPr b="0" lang="sr-Latn-ME" sz="1700" spc="-1" strike="noStrike">
                <a:solidFill>
                  <a:srgbClr val="ffffff"/>
                </a:solidFill>
                <a:latin typeface="Arial"/>
              </a:rPr>
              <a:t>ij</a:t>
            </a:r>
            <a:r>
              <a:rPr b="0" lang="en-US" sz="1700" spc="-1" strike="noStrike">
                <a:solidFill>
                  <a:srgbClr val="ffffff"/>
                </a:solidFill>
                <a:latin typeface="Arial"/>
              </a:rPr>
              <a:t>ednosti koju bi irnao u to vr</a:t>
            </a:r>
            <a:r>
              <a:rPr b="0" lang="sr-Latn-ME" sz="1700" spc="-1" strike="noStrike">
                <a:solidFill>
                  <a:srgbClr val="ffffff"/>
                </a:solidFill>
                <a:latin typeface="Arial"/>
              </a:rPr>
              <a:t>ij</a:t>
            </a:r>
            <a:r>
              <a:rPr b="0" lang="en-US" sz="1700" spc="-1" strike="noStrike">
                <a:solidFill>
                  <a:srgbClr val="ffffff"/>
                </a:solidFill>
                <a:latin typeface="Arial"/>
              </a:rPr>
              <a:t>eme izvršeni rad sa nedostatkom</a:t>
            </a:r>
            <a:r>
              <a:rPr b="0" lang="sr-Latn-ME" sz="1700" spc="-1" strike="noStrike">
                <a:solidFill>
                  <a:srgbClr val="ffffff"/>
                </a:solidFill>
                <a:latin typeface="Arial"/>
              </a:rPr>
              <a:t>)</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na raskid ugovora (osim kada se radi o neznatnom nedostatku)</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 zahtjev za naknadu štete</a:t>
            </a:r>
            <a:endParaRPr b="0" lang="en-US" sz="1700" spc="-1" strike="noStrike">
              <a:solidFill>
                <a:srgbClr val="ffffff"/>
              </a:solidFill>
              <a:latin typeface="Arial"/>
            </a:endParaRPr>
          </a:p>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ako je nedostataka veliki- (</a:t>
            </a:r>
            <a:r>
              <a:rPr b="0" lang="en-US" sz="1700" spc="-1" strike="noStrike">
                <a:solidFill>
                  <a:srgbClr val="ffffff"/>
                </a:solidFill>
                <a:latin typeface="Arial"/>
                <a:ea typeface="Arial"/>
              </a:rPr>
              <a:t>obavljeni posao ima takav nedostatak koji ga čini neupotrebljivim ili je obavljen u suprotnosti sa izričitim uslovima ugovora</a:t>
            </a:r>
            <a:r>
              <a:rPr b="0" lang="sr-Latn-ME" sz="1700" spc="-1" strike="noStrike">
                <a:solidFill>
                  <a:srgbClr val="ffffff"/>
                </a:solidFill>
                <a:latin typeface="Arial"/>
                <a:ea typeface="Arial"/>
              </a:rPr>
              <a:t>)</a:t>
            </a:r>
            <a:r>
              <a:rPr b="0" lang="sr-Latn-ME" sz="1700" spc="-1" strike="noStrike">
                <a:solidFill>
                  <a:srgbClr val="ffffff"/>
                </a:solidFill>
                <a:latin typeface="Arial"/>
              </a:rPr>
              <a:t> </a:t>
            </a:r>
            <a:r>
              <a:rPr b="0" lang="en-US" sz="1700" spc="-1" strike="noStrike">
                <a:solidFill>
                  <a:srgbClr val="ffffff"/>
                </a:solidFill>
                <a:latin typeface="Arial"/>
              </a:rPr>
              <a:t>naručilac može</a:t>
            </a:r>
            <a:r>
              <a:rPr b="0" lang="sr-Latn-ME" sz="1700" spc="-1" strike="noStrike">
                <a:solidFill>
                  <a:srgbClr val="ffffff"/>
                </a:solidFill>
                <a:latin typeface="Arial"/>
              </a:rPr>
              <a:t> odmah </a:t>
            </a:r>
            <a:r>
              <a:rPr b="0" lang="en-US" sz="1700" spc="-1" strike="noStrike">
                <a:solidFill>
                  <a:srgbClr val="ffffff"/>
                </a:solidFill>
                <a:latin typeface="Arial"/>
              </a:rPr>
              <a:t>raskinuti ugovor i zaht</a:t>
            </a:r>
            <a:r>
              <a:rPr b="0" lang="sr-Latn-ME" sz="1700" spc="-1" strike="noStrike">
                <a:solidFill>
                  <a:srgbClr val="ffffff"/>
                </a:solidFill>
                <a:latin typeface="Arial"/>
              </a:rPr>
              <a:t>ij</a:t>
            </a:r>
            <a:r>
              <a:rPr b="0" lang="en-US" sz="1700" spc="-1" strike="noStrike">
                <a:solidFill>
                  <a:srgbClr val="ffffff"/>
                </a:solidFill>
                <a:latin typeface="Arial"/>
              </a:rPr>
              <a:t>evati naknadu štete. </a:t>
            </a:r>
            <a:endParaRPr b="0" lang="en-US" sz="1700" spc="-1" strike="noStrike">
              <a:solidFill>
                <a:srgbClr val="ffffff"/>
              </a:solidFill>
              <a:latin typeface="Arial"/>
            </a:endParaRPr>
          </a:p>
          <a:p>
            <a:pPr lvl="1" marL="93348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5"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GOVORNOST IZVOĐAČA l PROJEKTANTA ZA SOLIDNOST GRAĐEVINE</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deset godina od predaje i prijema radov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u izradi koji se tiču solidnosti građevine</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zemljišta na kojem je podignuta građevina (</a:t>
            </a:r>
            <a:r>
              <a:rPr b="0" lang="en-GB" sz="1600" spc="-1" strike="noStrike">
                <a:solidFill>
                  <a:srgbClr val="ffffff"/>
                </a:solidFill>
                <a:latin typeface="Arial"/>
                <a:ea typeface="Arial"/>
              </a:rPr>
              <a:t>osim ako je specijalizovana organizacija dala stručno mišljenje da je zemljište podobno za građenje a u toku građenja se nisu pojavile okolnosti koje dovode u sumnju osnovanost stručnog mišljenj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6 mjeseci za obavještavanje izvođača o nedostatk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godinu dana od dana prijema obavještenja do isteka prava naručioca prema izvođač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đač je odgovoran i za štete koje su nastale kao posledica postupanja po nalogu naručioca</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knada štete u slučaju odgovornosti i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tvrđuje se “veličina” krivice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dgovornost projektanta koji je vršio i projektantski nadzor</a:t>
            </a:r>
            <a:endParaRPr b="0" lang="en-US" sz="1600" spc="-1" strike="noStrike">
              <a:solidFill>
                <a:srgbClr val="ffffff"/>
              </a:solidFill>
              <a:latin typeface="Arial"/>
            </a:endParaRPr>
          </a:p>
          <a:p>
            <a:pPr marL="522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457200"/>
            <a:ext cx="721656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OBLIGACIONIM ODNOSIMA – sadržaj (1109 cl.)*</a:t>
            </a:r>
            <a:endParaRPr b="0" lang="en-US" sz="3600" spc="-1" strike="noStrike">
              <a:solidFill>
                <a:srgbClr val="ffffff"/>
              </a:solidFill>
              <a:latin typeface="Arial"/>
            </a:endParaRPr>
          </a:p>
        </p:txBody>
      </p:sp>
      <p:sp>
        <p:nvSpPr>
          <p:cNvPr id="124" name="PlaceHolder 2"/>
          <p:cNvSpPr>
            <a:spLocks noGrp="1"/>
          </p:cNvSpPr>
          <p:nvPr>
            <p:ph/>
          </p:nvPr>
        </p:nvSpPr>
        <p:spPr>
          <a:xfrm>
            <a:off x="914400" y="1904760"/>
            <a:ext cx="7772400" cy="4190760"/>
          </a:xfrm>
          <a:prstGeom prst="rect">
            <a:avLst/>
          </a:prstGeom>
          <a:noFill/>
          <a:ln w="0">
            <a:noFill/>
          </a:ln>
        </p:spPr>
        <p:txBody>
          <a:bodyPr anchor="t">
            <a:normAutofit fontScale="97000"/>
          </a:bodyPr>
          <a:p>
            <a:pPr marL="517320" indent="-5173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OPŠTI D</a:t>
            </a:r>
            <a:r>
              <a:rPr b="0" lang="en-US" sz="1600" spc="-1" strike="noStrike">
                <a:solidFill>
                  <a:srgbClr val="ffffff"/>
                </a:solidFill>
                <a:latin typeface="Arial"/>
                <a:ea typeface="Times New Roman"/>
              </a:rPr>
              <a:t>i</a:t>
            </a:r>
            <a:r>
              <a:rPr b="0" lang="sr-Latn-CS" sz="1600" spc="-1" strike="noStrike">
                <a:solidFill>
                  <a:srgbClr val="ffffff"/>
                </a:solidFill>
                <a:latin typeface="Arial"/>
                <a:ea typeface="Times New Roman"/>
              </a:rPr>
              <a:t>O</a:t>
            </a:r>
            <a:endParaRPr b="0" lang="en-US" sz="16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OSNOVNA NAČELA</a:t>
            </a:r>
            <a:endParaRPr b="0" lang="en-US" sz="15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NASTANAK OBAVEZ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UGOVOR </a:t>
            </a:r>
            <a:endParaRPr b="0" lang="en-US" sz="15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KLJUČENJE UGOVORA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STUPANJE</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TUMAČENJE UGOVORA</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NEVAŽNOST UGOVORA</a:t>
            </a:r>
            <a:r>
              <a:rPr b="0" lang="sr-Latn-CS" sz="1200" spc="-1" strike="noStrike">
                <a:solidFill>
                  <a:srgbClr val="ffffff"/>
                </a:solidFill>
                <a:latin typeface="Arial"/>
                <a:ea typeface="Times New Roman"/>
              </a:rPr>
              <a:t>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DVOSTRANO OBAVEZNI UGOVORI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O</a:t>
            </a:r>
            <a:r>
              <a:rPr b="0" lang="sr-Latn-CS" sz="1200" spc="-1" strike="noStrike">
                <a:solidFill>
                  <a:srgbClr val="ffffff"/>
                </a:solidFill>
                <a:latin typeface="Arial"/>
                <a:ea typeface="Times New Roman"/>
              </a:rPr>
              <a:t>PŠTA DEJSTVA UGOVORA </a:t>
            </a:r>
            <a:endParaRPr b="0" lang="en-US" sz="12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UZROKOVANJE ŠTETE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STICANJE BEZ OSNOV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OSLOVODSTVO BEZ NALOGA</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JEDNOSTRANA IZJAVA VOLJE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DEJSTVA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ESTANAK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RAZNE VRSTE OBAVEZA</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MENA POV</a:t>
            </a:r>
            <a:r>
              <a:rPr b="0" lang="en-US" sz="1500" spc="-1" strike="noStrike">
                <a:solidFill>
                  <a:srgbClr val="ffffff"/>
                </a:solidFill>
                <a:latin typeface="Arial"/>
                <a:ea typeface="Times New Roman"/>
              </a:rPr>
              <a:t>J</a:t>
            </a:r>
            <a:r>
              <a:rPr b="0" lang="sr-Latn-CS" sz="1500" spc="-1" strike="noStrike">
                <a:solidFill>
                  <a:srgbClr val="ffffff"/>
                </a:solidFill>
                <a:latin typeface="Arial"/>
                <a:ea typeface="Times New Roman"/>
              </a:rPr>
              <a:t>ERIOCA ILI DUŽNIKA </a:t>
            </a:r>
            <a:endParaRPr b="0" lang="en-US" sz="1500" spc="-1" strike="noStrike">
              <a:solidFill>
                <a:srgbClr val="ffffff"/>
              </a:solidFill>
              <a:latin typeface="Arial"/>
            </a:endParaRPr>
          </a:p>
        </p:txBody>
      </p:sp>
      <p:sp>
        <p:nvSpPr>
          <p:cNvPr id="125" name="TextBox 1"/>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27" name="PlaceHolder 2"/>
          <p:cNvSpPr>
            <a:spLocks noGrp="1"/>
          </p:cNvSpPr>
          <p:nvPr>
            <p:ph/>
          </p:nvPr>
        </p:nvSpPr>
        <p:spPr>
          <a:xfrm>
            <a:off x="684000" y="2058840"/>
            <a:ext cx="3809880" cy="411480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 PRODAJ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I RAZMJEN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X PRODAJN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 ZAJAM</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 ZAKUP</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 UGOVOR O DJEL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I UGOVOR O GRAĐE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V PREVOZ</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 UGOVOR O LICENC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 OSTA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 USKLADIŠTE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X KOMISION</a:t>
            </a:r>
            <a:endParaRPr b="0" lang="en-US" sz="1600" spc="-1" strike="noStrike">
              <a:solidFill>
                <a:srgbClr val="ffffff"/>
              </a:solidFill>
              <a:latin typeface="Arial"/>
            </a:endParaRPr>
          </a:p>
        </p:txBody>
      </p:sp>
      <p:sp>
        <p:nvSpPr>
          <p:cNvPr id="128" name="PlaceHolder 3"/>
          <p:cNvSpPr>
            <a:spLocks noGrp="1"/>
          </p:cNvSpPr>
          <p:nvPr>
            <p:ph/>
          </p:nvPr>
        </p:nvSpPr>
        <p:spPr>
          <a:xfrm>
            <a:off x="4211280" y="2266560"/>
            <a:ext cx="4475160" cy="3754440"/>
          </a:xfrm>
          <a:prstGeom prst="rect">
            <a:avLst/>
          </a:prstGeom>
          <a:noFill/>
          <a:ln w="0">
            <a:noFill/>
          </a:ln>
        </p:spPr>
        <p:txBody>
          <a:bodyPr anchor="t">
            <a:normAutofit/>
          </a:bodyPr>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 UGOVOR O TRGOVINSKOM ZASTUP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 POSREDOVANJE</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 OTPREMANJE (ŠPEDICI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I UGOVOR O KONTROLI ROBE l USLUG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V UGOVOR O ORGANIZOVANJU PUTO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 POSREDNIČKI UGOVOR O PUTOV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 UGOVOR O ANGAŽOVANJU UGOSTITELJSKIH KAPACITETA (UGOVOR O ALOTMANU)</a:t>
            </a:r>
            <a:endParaRPr b="0" lang="en-US" sz="1600" spc="-1" strike="noStrike">
              <a:solidFill>
                <a:srgbClr val="ffffff"/>
              </a:solidFill>
              <a:latin typeface="Arial"/>
            </a:endParaRPr>
          </a:p>
        </p:txBody>
      </p:sp>
      <p:sp>
        <p:nvSpPr>
          <p:cNvPr id="129" name="TextBox 4"/>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31"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 OSIGURA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I ZALOG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X JEMSTVO</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 UPUĆIVANJE (ASIGNA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 BANKARSKI NOVČANI DEPOZI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 DEPONOVANJE HARTIJA OD VR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I BANKARSKI TEKUĆI RAČUN XXXIV UGOVOR O SEF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 UGOVOR O KREDIT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 UGOVOR O KREDITU NA OSNOVU ZALOGE HARTIJA OD VRIJ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 AKREDITIV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I BANKARSKA GARAN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X PRIM</a:t>
            </a:r>
            <a:r>
              <a:rPr b="0" lang="sr-Latn-CS" sz="1600" spc="-1" strike="noStrike">
                <a:solidFill>
                  <a:srgbClr val="ffffff"/>
                </a:solidFill>
                <a:latin typeface="Arial"/>
                <a:ea typeface="Times New Roman"/>
              </a:rPr>
              <a:t>J</a:t>
            </a:r>
            <a:r>
              <a:rPr b="0" lang="en-GB" sz="1600" spc="-1" strike="noStrike">
                <a:solidFill>
                  <a:srgbClr val="ffffff"/>
                </a:solidFill>
                <a:latin typeface="Arial"/>
                <a:ea typeface="Times New Roman"/>
              </a:rPr>
              <a:t>ENA ODREDABA O BANKARSKOM POSLOVA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L PORAVNANJE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ELAZNE l ZAVRŠNE ODREDBE</a:t>
            </a:r>
            <a:endParaRPr b="0" lang="en-US" sz="1600" spc="-1" strike="noStrike">
              <a:solidFill>
                <a:srgbClr val="ffffff"/>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TextBox 3"/>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ZAKON O OBLIGACIONIM ODNOSIMA – pojmovi i elementi</a:t>
            </a:r>
            <a:endParaRPr b="0" lang="en-US" sz="3500" spc="-1" strike="noStrike">
              <a:solidFill>
                <a:srgbClr val="ffffff"/>
              </a:solidFill>
              <a:latin typeface="Arial"/>
            </a:endParaRPr>
          </a:p>
        </p:txBody>
      </p:sp>
      <p:sp>
        <p:nvSpPr>
          <p:cNvPr id="134" name="PlaceHolder 2"/>
          <p:cNvSpPr>
            <a:spLocks noGrp="1"/>
          </p:cNvSpPr>
          <p:nvPr>
            <p:ph/>
          </p:nvPr>
        </p:nvSpPr>
        <p:spPr>
          <a:xfrm>
            <a:off x="755280" y="1904760"/>
            <a:ext cx="793116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bligaciono – pravni odnosi: vrsta  imovinsko -pravnih odnosa</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00b0f0"/>
                </a:solidFill>
                <a:latin typeface="Arial"/>
              </a:rPr>
              <a:t>osnovni predmet je razmjena dobara i usluga na osnovu saglasnosti volja strana u obligacionom odnosu, ali i mimo volje strana (obligacioni odnosi koji nastaju prouzrokovanjem štete, nezvanim vršenjem tuđih poslova i sl.)</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bjekti obligacije, odnosno strane u obligacionom odnosu: dužnik i povjerilac</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vjerilac na osnovu obligacionih odnosa sa dužnikom ima pravo da od dužnika zahtijeva davanje ili činjenje, a ovaj (dužnik) je dužan da to uradi</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držina obligacije: pravo povjerioca i obaveza dužnika</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obligacije: određeno davanje, činjenje ili nečinjenje</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ri obligacija- pravno relevantne činjenice za koje se vezuje nastanak obligacionih odnos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govor – saglasnost volja 2 ili više lica koje su usmjerene na zaključenje, izmjenu ili prestanak obligacionog odnos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uzrokovanje štet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ticanje bez osnova (neosnovano bogaćenje)- sticanje koje se ne temelji na pravno priznatom osnovu ili razlog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slovodstvo bez naloga (nezvano vršenje tuđih poslo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jednostrana izjava volje (obećanje nagrade, konkurs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6" name="PlaceHolder 2"/>
          <p:cNvSpPr>
            <a:spLocks noGrp="1"/>
          </p:cNvSpPr>
          <p:nvPr>
            <p:ph/>
          </p:nvPr>
        </p:nvSpPr>
        <p:spPr>
          <a:xfrm>
            <a:off x="684000" y="1904760"/>
            <a:ext cx="8002440" cy="4190760"/>
          </a:xfrm>
          <a:prstGeom prst="rect">
            <a:avLst/>
          </a:prstGeom>
          <a:noFill/>
          <a:ln w="0">
            <a:noFill/>
          </a:ln>
        </p:spPr>
        <p:txBody>
          <a:bodyPr anchor="t">
            <a:normAutofit fontScale="98000"/>
          </a:bodyPr>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a ugovornog prav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o slobode ugovaranja (lica, predmeta, sadrzaja, nacina i vremena  ispunjenja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Konsensualizam – ugovori se zaključuju prostom saglasnošću volja ,bez ispunjenja posebnih formalnosti (osim u zakonom definisanim slucajevim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pšti uslovi za zaklju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posobnost ugovaranja (poslovna i pravn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glasnost volja – ispoljava se i gradi kroz</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govore,</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nudu</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ihvat ponude</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ugovora (mora biti moguć, dopušten, određen ili odrediv)</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snov ugovora – pravni osnov  zaključenja ugovor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Tuma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dsko </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vansudsko (arbitraža)– nije obavezujuće ni za jednu stran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8"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Dejstvo ugovora – proizvodi pravno dejstvo samo za ugovorne strane i njihove naslednike</a:t>
            </a:r>
            <a:endParaRPr b="0" lang="en-US" sz="1700" spc="-1" strike="noStrike">
              <a:solidFill>
                <a:srgbClr val="ffffff"/>
              </a:solidFill>
              <a:latin typeface="Arial"/>
            </a:endParaRPr>
          </a:p>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govora usled:</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evažnosti (nepunovažnosti):</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ištavnosti-ugovor protivan prinudnim propisima, javnom poretku i moralu</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ušljivosti- o poništenju se izjašnjava sud po tužbi za poništaj</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askida</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orazumni raskid</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nostrani raskid- ugovorom treba predvidjeti pravila kada se ovo može ostvariti</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nemogućnosti ispunjenja</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otek vremena i otkaz</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smrti ugovornika</a:t>
            </a:r>
            <a:endParaRPr b="0" lang="en-US" sz="1700" spc="-1" strike="noStrike">
              <a:solidFill>
                <a:srgbClr val="ffffff"/>
              </a:solidFill>
              <a:latin typeface="Arial"/>
            </a:endParaRPr>
          </a:p>
          <a:p>
            <a:pPr lvl="1" marL="914760" indent="0">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UGOVOR O GRA</a:t>
            </a:r>
            <a:r>
              <a:rPr b="1" lang="sr-Latn-CS" sz="3800" spc="-1" strike="noStrike">
                <a:solidFill>
                  <a:srgbClr val="ffffff"/>
                </a:solidFill>
                <a:latin typeface="Arial"/>
              </a:rPr>
              <a:t>ĐENJU</a:t>
            </a:r>
            <a:r>
              <a:rPr b="1" lang="sr-Latn-CS" sz="3600" spc="-1" strike="noStrike">
                <a:solidFill>
                  <a:srgbClr val="ffffff"/>
                </a:solidFill>
                <a:latin typeface="Arial"/>
              </a:rPr>
              <a:t> </a:t>
            </a:r>
            <a:br>
              <a:rPr sz="3600"/>
            </a:br>
            <a:r>
              <a:rPr b="0" i="1" lang="sr-Latn-CS" sz="2800" spc="-1" strike="noStrike">
                <a:solidFill>
                  <a:srgbClr val="ffffff"/>
                </a:solidFill>
                <a:latin typeface="Arial"/>
              </a:rPr>
              <a:t>iz Zakona o obligacionim odnosima</a:t>
            </a:r>
            <a:endParaRPr b="0" lang="en-US" sz="2800" spc="-1" strike="noStrike">
              <a:solidFill>
                <a:srgbClr val="ffffff"/>
              </a:solidFill>
              <a:latin typeface="Arial"/>
            </a:endParaRPr>
          </a:p>
        </p:txBody>
      </p:sp>
      <p:sp>
        <p:nvSpPr>
          <p:cNvPr id="140"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sadržaj iz Zakona*</a:t>
            </a:r>
            <a:endParaRPr b="0" lang="en-US" sz="3900" spc="-1" strike="noStrike">
              <a:solidFill>
                <a:srgbClr val="ffffff"/>
              </a:solidFill>
              <a:latin typeface="Arial"/>
            </a:endParaRPr>
          </a:p>
        </p:txBody>
      </p:sp>
      <p:sp>
        <p:nvSpPr>
          <p:cNvPr id="142" name="PlaceHolder 2"/>
          <p:cNvSpPr>
            <a:spLocks noGrp="1"/>
          </p:cNvSpPr>
          <p:nvPr>
            <p:ph/>
          </p:nvPr>
        </p:nvSpPr>
        <p:spPr>
          <a:xfrm>
            <a:off x="914400" y="2057400"/>
            <a:ext cx="7772400" cy="4038480"/>
          </a:xfrm>
          <a:prstGeom prst="rect">
            <a:avLst/>
          </a:prstGeom>
          <a:noFill/>
          <a:ln w="0">
            <a:noFill/>
          </a:ln>
        </p:spPr>
        <p:txBody>
          <a:bodyPr anchor="t">
            <a:normAutofit/>
          </a:bodyPr>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1 - OPŠTE ODREDB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2 - UGOVOR O GRAĐENJU SA POSEBNOM ODREDBOM</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3 - ODGOVORNOST ZA NEDOSTATK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4 - ODGOVORNOST IZVOĐAČA </a:t>
            </a:r>
            <a:r>
              <a:rPr b="0" lang="sr-Latn-CS" sz="2100" spc="-1" strike="noStrike">
                <a:solidFill>
                  <a:srgbClr val="ffffff"/>
                </a:solidFill>
                <a:latin typeface="Arial"/>
              </a:rPr>
              <a:t> I </a:t>
            </a:r>
            <a:r>
              <a:rPr b="0" lang="en-GB" sz="2100" spc="-1" strike="noStrike">
                <a:solidFill>
                  <a:srgbClr val="ffffff"/>
                </a:solidFill>
                <a:latin typeface="Arial"/>
                <a:ea typeface="Times New Roman"/>
              </a:rPr>
              <a:t>PROJEKTANTA ZA SOLIDNOST GRAĐEVINE</a:t>
            </a:r>
            <a:endParaRPr b="0" lang="en-US" sz="2100" spc="-1" strike="noStrike">
              <a:solidFill>
                <a:srgbClr val="ffffff"/>
              </a:solidFill>
              <a:latin typeface="Arial"/>
            </a:endParaRPr>
          </a:p>
        </p:txBody>
      </p:sp>
      <p:sp>
        <p:nvSpPr>
          <p:cNvPr id="143" name="TextBox 3"/>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Toshiba</cp:lastModifiedBy>
  <dcterms:modified xsi:type="dcterms:W3CDTF">2019-11-27T07:33:38Z</dcterms:modified>
  <cp:revision>187</cp:revision>
  <dc:subject/>
  <dc:title>ZAKON O IZGRADNJI OBJEKATA</dc:title>
</cp:coreProperties>
</file>