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020AAC-29D3-4581-ABA9-EBE0292D9EA0}" type="datetime5">
              <a:rPr b="0" lang="sr-Latn-CS" sz="1300" spc="-1" strike="noStrike">
                <a:solidFill>
                  <a:srgbClr val="000000"/>
                </a:solidFill>
                <a:latin typeface="Times New Roman"/>
              </a:rPr>
              <a:t>31.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D7461A-6698-483D-A6EE-E50DDB63B7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BBE14C-039B-4B69-B900-717120DB7726}"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738018-6438-40EB-8A76-516C1C4BCD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AB27D7-EACB-447E-8241-EF9C618618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8A70A2-D0EA-45A9-9491-31C7E9DFC997}"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96AFBE-A224-4E66-AA0F-1325505820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02A647-71A6-4D84-BE66-A602401B7698}"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B1893A-956F-42D5-8C9F-274EE57DF4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34EE7B-27B2-4607-B35C-3F1D6BB5C7C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04428-8E16-4AAD-9125-4E45EB0513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65A641-E3B5-43E9-8A49-48E954187164}"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452C82-D667-4364-A513-339B00E06D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2B8028-C26A-4EB5-9DDA-AC0042EF28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67F789-6F04-4F09-9AA7-4F8CB072BFF6}"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F3D6A3-252A-4F5D-8F0B-232B5A0C30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186EE2-CDD8-4AF7-8C99-D004EDFC95DF}"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343CF5-0685-4E19-8DEF-7F4DC130B9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784DD0-092A-45C4-9781-BF6F20634710}"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21BDBC-40A7-4B3E-9DAA-7E31044B5AE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657DC2-521F-4499-89B0-9DB23C57193D}"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B9768B-222B-48B6-9FF1-6B2970BBF5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21316E-3096-4FEF-88BE-40CD4857C685}"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8601B7-EC98-40AA-A3E1-FCAF71E70A9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52C9C8-7F0A-4E94-85D6-147BEA9FCAAF}"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7CFB00-299F-435D-B3C5-714E6E39CD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5A4772-1E58-42BB-9A09-D2B9829500C1}"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FFC73D-8842-408F-839A-35F8EB57D2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963863-0F82-4509-BE17-F97ABB07A9E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326FAB-53EB-4071-90C5-701C029CC3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62471B-16C4-40E8-BE44-36D5E3478774}"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B5797C-81B2-4D02-9239-920CCC301A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79856E-EF4B-4EF9-8E1F-22E0679E1C92}"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B34F27-7360-492F-8C01-677E5C003FC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EAA3ED-AEF6-42D0-B500-A718A674F7CF}"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AE3298-309F-4F66-B5D3-4F19CD5D7D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BBCC9C-55DA-4595-8908-8450FB8A11CE}"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321A74-4CA6-4997-A105-6F2A7D8DC5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555E63-41AB-46D1-B571-BD550FA439F4}"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CFC585-206A-4010-A6BA-7CFE54DBBB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67308A-2D66-4CAA-8434-36FAC599DBB0}"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A93154-6998-474E-9C05-E50453CDFB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1C2A27-BF35-4485-81C1-02694D18DAF8}"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D9A576-B66D-4337-88D0-5AF6812FE1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1F5A05-BEC9-4F9A-B2CD-34287B4F84DD}"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5D377E-60CE-44A3-A4E6-00E6126CFB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1EBC7-2968-4592-B1B9-5BFE330663A4}"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817412-30AD-4C2C-91EE-D72B235BAB5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485E3E-A09B-4F5C-9DE7-1CE737A2AB94}"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EA603E-76C8-4EAD-8C7C-368E5C321E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9D4528-EE74-4699-ACB0-D06E9BC185A5}"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6E97CA-F2F9-4B7C-B9E9-4598DBF691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B711E1-2397-4210-86D2-D4A374321229}"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805938-C664-4208-BABB-60B70DC479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712A17-4044-49AD-AE3B-D96597A07AF1}"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1F30A0-CFE0-4257-866F-C4A31AB4D1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DC1361-6D02-4C2D-AFC4-9409EAC49F5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4DB4BF-1917-4C1C-918D-8BFCA999EF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E01D12-27F3-4427-8DF9-8352AC91E4A2}"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339AF2-D837-4878-8104-21C7ED2E0D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898CAF-3638-473F-92C5-B7E7798F56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0D509D-2783-4A4C-AC9F-638E0A2563C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DC2921-D846-46C6-8D33-B4054C06CA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8CCBC9-A0FE-4BDE-A199-273E0E550C1C}"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7724CD-5EDA-4A9B-AE78-B0BABF2CC6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647996-4CD8-4AA1-AC17-D8D5C9055F2D}"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EB4B6E-B02C-4C72-B46A-918CC41D9B0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E644BD-EFCE-40DA-8645-0D6016BBA4BD}"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D26FE9-230F-4161-9FAA-2D3EA369DC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F7F35C-F7D2-4A8E-AC09-EFEA3225A9A4}"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C6BD17-1F54-4CB1-AFF5-5FC406CAD3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DFC1393-5AE5-41B2-BE5C-BBC3A13F72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301078-7561-46E6-B70B-2600CC7A5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4923E27-B45F-4F4D-9A18-E9E6BF103B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DFB043E-203D-4571-920B-96EF9CE57C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7D7299D-B98B-4E44-8083-C5D21B204E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F37FA06-23B3-477E-912E-327EFE95E2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737DA39-DFD8-4470-8E4F-F4A2EEF7C8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BC77C8F-38B5-40DB-8968-F42761B620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00AD8A3-DE55-48AE-BD7E-84A4F72EEB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3F9F8F3-6C72-4528-BA6B-38A496E3FB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3FBB19D-3A6B-4A6C-A115-A08F156225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0CC1F9-74E0-46EB-8077-FD2F23ACC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3123652-BEF8-48F5-A76B-7613E818BB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D351352-CC79-4DA7-BD0A-2E0045CC7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4ECD1FB-2C15-4FCD-82E8-AB4331A3C3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C17E1CD-757F-4D67-ADA8-515BBEC23C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E5DEE7D-B573-49C7-A292-9F6FC77187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A4E618-BB0B-4857-9AE3-1293F1FD1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E2F5D1-7CD1-4AA8-90BD-4FF752D6FA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47580F-653C-4BFD-918E-EED98378E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480BBCA-D2EC-44E8-9088-713CF438B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A2F2C5-0E31-40A6-B5B9-D814BF464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444320-860F-47D2-8DD6-8BDEC4F774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40FC0B-EA1C-47D9-A36B-5091C6E4A6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E8FC-C3F4-4DAC-AD10-01C85D26756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DDCB-9F33-4746-A854-BDA1953BD5E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CB71-209F-4374-B19A-103BC5398D8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A35F-1A0D-4D06-9693-403F6252A6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3ABA-5528-403B-B904-F70504909E3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C72D-E3B3-424F-BF9B-F9AB07FF87A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B9DF-11F7-47D7-849F-2E78B4662F6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487C-4652-49BA-9247-C727C81A414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768F-2F05-485F-AAD7-AC3DB068BD0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CB2F-AC13-4AAE-8068-2E10B0AA657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6AFE-79C5-4314-ADFA-405C81C0732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6FFA-CED7-4D63-BC03-095E25E3B71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A479-D57C-41B7-8CAA-0F7A1E98E1B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47AD-CFF7-40D3-AFB1-3F6838256A2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C888-D391-4EA7-AE81-6E8CD7C6622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14E8-E109-40EB-BD7E-2ACA55C08A8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DF14-D7D0-4FC1-92ED-11407986EC0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D37D-DB71-4214-8F42-8F08F45E57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FBBE-3DD9-45E4-85D4-5DADA4E62A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A252-91E3-495F-ABFF-0074A622FC1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44D9-1403-4D42-883E-4F9C0B21E2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DDD5-C83E-4E42-AC40-8B21CC457B7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A276-E7A3-4CAB-868A-EA9CAF01E0F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1EE3-85DF-4F7E-AEF1-16EA87ABDC6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06DF-91C2-4824-AEA4-C4A58ADD88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C443-68FE-404D-ABE0-86C002C370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3CEC-9ADD-4243-BF9D-417A24AA089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B5EF-9F80-4C32-96C9-C8CD9BAFF3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6048-0E2A-4E6C-970E-9FE526CAE1E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C929-0936-4A78-A01D-F827E5A1302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1F6B-F2F6-415C-A95B-8F7076F518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516A-6ED9-408D-8448-BAA59E3DD3F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8083-BF70-46C9-AFF3-F2DF097555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0644-0C5A-4D4B-8A1A-BB1344B025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D1D3-86CD-4B18-8E0B-9C518F3A9F9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7544-C99D-4F4C-9146-D8AA0FC4C5F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2F09-DA04-4521-978C-4A736A3D4FA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3A30-E380-4415-8650-8710BBC45A5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6FF7-75B3-4052-AC36-A27EBFCFFCD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204B-B35F-47AC-AFF8-3EF8B51A099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F3C0-36E8-406E-8FE5-82218EFC46A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4FFA-F336-4A34-B56D-886C7E36EB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64CE-F32C-44A9-A055-4BDA397261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72F0-2D5F-4B1E-BA72-A4911E09F8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9694-A926-4FE7-A656-3FD4CA992F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A050-5901-450F-B67D-C453937A10B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B002-A0CA-42A3-9211-C1C7071C71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C89C-5A97-480A-B783-9E639A6F11D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0199-4ABA-4391-B627-C5EE9819B03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5B44-E5B2-4AE2-A7FB-DCD1BD7EAB6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AF92-A271-46D9-8BF8-0EB19449980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7B48-2468-4A7E-BBE5-9DED9D2C712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3D6B-3209-40B1-882A-48BB5959E5C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A2EC-DCDA-4527-93D9-CA2DB8221C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B48B-50F3-49BD-8A5F-94EF321B186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F9D1-6200-480C-9AB0-E13952A40A3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0BCA-003F-4CFD-BD30-9C9956D8EF9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DED7-2863-4DEE-9530-05F9FDBE0C5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42B0-F8F5-4712-8E87-BDF41D3FB8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F0A5-D8E8-48E6-84D9-D12A900B369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4E13-D86E-447A-8913-F386304009F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64E0-3104-46EC-85CD-F8B50481D28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A603-B436-4B80-B2DC-409FD3132D6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42D2-BA93-4C4D-AD8A-2757A1EFB4B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03F7-EACB-4981-BD9D-5DC7179ABCF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0A24-76C5-48E3-8F3A-56A7EC108A8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5AB5-4302-4ECF-BFC8-1E28823D538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C272-9843-458D-BE25-D042A7B073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0BDD-FB9D-4C78-8643-397E3685DD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C90D-A2C6-4CE6-8125-FCCBAE1D34A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B6E1-F8C4-4BB5-9EF7-50A9DE63CD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259A-E007-4BF0-B5B1-601861C165D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85EA-87AF-4C9E-9EA1-09471136B63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D813-4933-4824-A1CD-DDFC5C47D04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48A3-DA65-40EA-96BB-B34B3136FB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5746-154D-4B88-B922-832F9B5DF8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FF8E-7D95-4EA7-9530-459CD5E837D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1F57-DB78-4A62-BD9D-19CCE5E142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90EC-C9B5-4D4A-8EB4-94DC2DFDBE5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D847-A649-4FCA-88B8-1F1A0E1370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539E-6B54-41AA-BFD2-DACEB8BDF0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3498-6FEC-497C-A373-3FCBDDE975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2CD8-2E98-42B0-A467-783513F768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2679-565D-455A-90F2-04D7C874E4C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69BA-150C-440B-A650-8518B998006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