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3AAE-4959-408B-9029-F8492285D235}"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5C84-EB5A-40A1-B8CA-E0E1CB3FCFA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1A15-24CE-4EBF-9183-7DE3B880D56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5B65-E666-4478-9F3B-9B8FEDC15ED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D811-2CFB-45A6-A48F-8F444D46AD5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6E6E-08C8-491D-A204-94EEB770200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1DCF-CE7E-4BF8-8958-2484EC0E332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26DC-25AC-4D78-9B0F-842581044CE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0402-EE8B-4737-B585-F339714274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8686-26E9-4477-BF43-2B992E1759E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7687-D1E7-4BE5-9AE2-4C66C2C0A5F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44D8-FFD2-4153-94AE-B91FC517B0D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AE92-4208-4307-9D8B-2023C1C9138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4C5A-A3F3-4F23-85BC-43E1929C426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878D-2058-43B5-8558-576001A5FBE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BA33-9A4C-4645-A0E7-C031C9EBE85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9AEF-17C3-4676-9011-7734F5418D3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ED74-00FC-452E-B457-6F4807C6191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4317-D9DB-48D9-B74A-66F01FC2CAC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24AC-CA11-46D0-9DF4-5D035BEBAA6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DF05-4FA0-463F-AA4D-67CA725EA88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5F54-092C-42C4-A3A6-2A650A2F9F9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A970-BF39-4711-A4DE-C1496E18FB9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E57C-BABE-4874-AD7E-735DE82E061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DC22-67B4-4513-A66F-50E6244F300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49BC-6EFC-4209-871D-4966EDE525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1B1C-394A-4B28-BAFE-B047EF64F7E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75D2-9661-46A7-8DF7-6DE46B1316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0C50-E1A5-4982-9352-9E17F7D45FA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D2BF-9A4F-4DF0-AA23-8C4E595D260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F1E4-AB0A-4B93-B05B-E14E3DD1887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41E97C-F976-44F2-821B-0586B7A663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FA1A0C-B6A4-495B-B39A-85443C6C9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78A172-BA21-40C4-AE3A-F6B6CACD89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2B85E3-668B-4145-ABCE-20E1B3AFC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59CF9-CEB5-43F2-B231-8F7E071CF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E20FA-C40E-40E6-9966-56705FED6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ADC6E-E967-4C8D-B2B6-0DA178875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08EF7-3418-470F-A23C-A54450BC1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90082-9759-4710-8882-6938A5334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A0527-12AB-43A2-8A02-19AD35676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C2978-06BB-48D1-8B55-78421A0D7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91BE26-C004-424B-A495-C3D0602C5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ACA09-127F-4043-819F-7751FC1D2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1C5DB-5F1B-4516-BF9F-B1CDE85F4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58A86-2DD9-4995-93AE-011EF97AA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6B805-3D1B-494E-8F80-5E58E0A16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87613-71E5-4DDA-8E56-25DDE0693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69D16B-AAAE-4697-B481-532DA8EFE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A220EE-9DA3-4535-90E2-9145E1FE3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8B1BA-EC13-4004-B0C0-2551A1E96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D1B7EB-4C37-4003-84CC-98DF5F469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50D19D-8FF3-40CD-BFD7-52692FEB1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FE6F92-E42E-4059-B341-FF64A976B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82173B-FD6C-4C9B-A3ED-07F5A9825C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74C1-8D75-462C-A2CF-AE69CD77E44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277B-D78B-4D46-B518-72614C4872F3}"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611280" y="1904760"/>
            <a:ext cx="8075520" cy="4190760"/>
          </a:xfrm>
          <a:prstGeom prst="rect">
            <a:avLst/>
          </a:prstGeom>
          <a:noFill/>
          <a:ln w="0">
            <a:noFill/>
          </a:ln>
        </p:spPr>
        <p:txBody>
          <a:bodyPr anchor="t">
            <a:normAutofit/>
          </a:bodyPr>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procenat izmjene cijene usled ispunjenih uslova za izmjenu cijene (iznad graničnih procenata+1/2 iznosa izad tih procenata)</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se cijene pojedinih materijala, odnosno usluga promijene za </a:t>
            </a:r>
            <a:r>
              <a:rPr b="0" lang="en-GB" sz="1300" spc="-1" strike="noStrike">
                <a:solidFill>
                  <a:srgbClr val="ffffff"/>
                </a:solidFill>
                <a:latin typeface="Arial"/>
              </a:rPr>
              <a:t>&gt;</a:t>
            </a:r>
            <a:r>
              <a:rPr b="0" lang="sr-Latn-CS" sz="1300" spc="-1" strike="noStrike">
                <a:solidFill>
                  <a:srgbClr val="ffffff"/>
                </a:solidFill>
                <a:latin typeface="Arial"/>
              </a:rPr>
              <a:t> od 5%,</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svih materijala i usluga iznosi  više  od </a:t>
            </a:r>
            <a:r>
              <a:rPr b="0" lang="en-GB" sz="1300" spc="-1" strike="noStrike">
                <a:solidFill>
                  <a:srgbClr val="ffffff"/>
                </a:solidFill>
                <a:latin typeface="Arial"/>
              </a:rPr>
              <a:t>&gt;</a:t>
            </a:r>
            <a:r>
              <a:rPr b="0" lang="sr-Latn-CS" sz="1300" spc="-1" strike="noStrike">
                <a:solidFill>
                  <a:srgbClr val="ffffff"/>
                </a:solidFill>
                <a:latin typeface="Arial"/>
              </a:rPr>
              <a:t> od 3%,</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materijala i usluga mijenja ugovorenu vrijednost radova za </a:t>
            </a:r>
            <a:r>
              <a:rPr b="0" lang="en-GB" sz="1300" spc="-1" strike="noStrike">
                <a:solidFill>
                  <a:srgbClr val="ffffff"/>
                </a:solidFill>
                <a:latin typeface="Arial"/>
              </a:rPr>
              <a:t>&gt;</a:t>
            </a:r>
            <a:r>
              <a:rPr b="0" lang="sr-Latn-CS" sz="1300" spc="-1" strike="noStrike">
                <a:solidFill>
                  <a:srgbClr val="ffffff"/>
                </a:solidFill>
                <a:latin typeface="Arial"/>
              </a:rPr>
              <a:t> od 2%, </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lauzule o nepromjenjivosti cijena (dozvoljena promjena iznad graničnog procenta od 10%)</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valiteta na ugovorenu cijenu (za losiji kvalitet srazmjerno smanjenje cijene, a za bolji povećanje samo ako je prethodno naručilac to odobrio)</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odredba “Ključ u ruke” (cijenom obuhvaćeni viškovi i manjkovi radova i nepredviđeni radovi, ali se ima pravoo na izmjenu cijene usled promjene okolnosti)</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cijena naknadnih radova (uvijek se naknadno ugovara, bez obzira na oblik ugovora)</a:t>
            </a:r>
            <a:endParaRPr b="0" lang="en-US" sz="1300" spc="-1" strike="noStrike">
              <a:solidFill>
                <a:srgbClr val="ffffff"/>
              </a:solidFill>
              <a:latin typeface="Arial"/>
            </a:endParaRPr>
          </a:p>
          <a:p>
            <a:pPr lvl="1" marL="93348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2-02T12:58:43Z</dcterms:modified>
  <cp:revision>382</cp:revision>
  <dc:subject/>
  <dc:title>ZAKON O IZGRADNJI OBJEKATA</dc:title>
</cp:coreProperties>
</file>