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lass.wav" ContentType="audio/x-wav"/>
  <Override PartName="/ppt/media/whoosh.wav" ContentType="audio/x-wav"/>
  <Override PartName="/ppt/media/image2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12.png" ContentType="image/png"/>
  <Override PartName="/ppt/media/image3.gif" ContentType="image/gif"/>
  <Override PartName="/ppt/media/image5.gif" ContentType="image/gif"/>
  <Override PartName="/ppt/media/image14.png" ContentType="image/png"/>
  <Override PartName="/ppt/media/image11.gif" ContentType="image/gif"/>
  <Override PartName="/ppt/media/driveby.wav" ContentType="audio/x-wav"/>
  <Override PartName="/ppt/media/image15.png" ContentType="image/png"/>
  <Override PartName="/ppt/media/drumroll.wav" ContentType="audio/x-wav"/>
  <Override PartName="/ppt/media/image1.png" ContentType="image/png"/>
  <Override PartName="/ppt/media/image4.gif" ContentType="image/gif"/>
  <Override PartName="/ppt/media/ricochet.wav" ContentType="audio/x-wav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CC8C-0FAD-468E-A770-68F2D111D2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omparison, in a stack adds and removes are to/from the same end of he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FIFO queue. Some real life queues are not FIFO. Removal from a queue may be done by priority rather than by arrival time order. For example, loading into a plane– first class, frequent fliers, by rows from back of plane rather than by order in which you arrive at the departure 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FCD-6910-4D4A-98DD-E293553E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471-571F-4FF0-AC40-595F3E12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28D-4946-4E2C-997C-1F63F0F1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E1C-39CD-4B1A-990C-11EF1087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4B6-D827-4C34-ABA5-95E5BFE2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C12-3ECB-4549-BFC0-8361A51A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FE4-6732-45E9-8A34-BABFE8A7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C7E-0671-4A60-AB33-ED67CEC1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E75-8642-47A7-BF6B-A6C28449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2A1-3B8E-4BB9-A49A-15818D6D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7E2-7C31-4549-9850-5E500510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809-0036-43C9-8300-29A35AAD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272C-0679-4006-813B-F99CC0A4F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glass.wav"/><Relationship Id="rId12" Type="http://schemas.openxmlformats.org/officeDocument/2006/relationships/audio" Target="../media/drumroll.wav"/><Relationship Id="rId13" Type="http://schemas.openxmlformats.org/officeDocument/2006/relationships/audio" Target="../media/clap.wav"/><Relationship Id="rId14" Type="http://schemas.openxmlformats.org/officeDocument/2006/relationships/audio" Target="../media/driveby.wav"/><Relationship Id="rId1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1.gif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781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z za predstavljanje re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lementi se smještaju redom 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1]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, i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(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iš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ue[0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pomjera ostale elemente za jednu poziciju ulij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eličina reda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(x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ima prostora, dodaj lement na desni kr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43000" y="914400"/>
            <a:ext cx="6845040" cy="1067760"/>
            <a:chOff x="1143000" y="914400"/>
            <a:chExt cx="6845040" cy="1067760"/>
          </a:xfrm>
        </p:grpSpPr>
        <p:grpSp>
          <p:nvGrpSpPr>
            <p:cNvPr id="128" name=""/>
            <p:cNvGrpSpPr/>
            <p:nvPr/>
          </p:nvGrpSpPr>
          <p:grpSpPr>
            <a:xfrm>
              <a:off x="1143000" y="914400"/>
              <a:ext cx="6845040" cy="1067760"/>
              <a:chOff x="1143000" y="914400"/>
              <a:chExt cx="6845040" cy="1067760"/>
            </a:xfrm>
          </p:grpSpPr>
          <p:sp>
            <p:nvSpPr>
              <p:cNvPr id="129" name=""/>
              <p:cNvSpPr/>
              <p:nvPr/>
            </p:nvSpPr>
            <p:spPr>
              <a:xfrm>
                <a:off x="1143000" y="936360"/>
                <a:ext cx="6845040" cy="520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93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50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08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5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22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79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36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94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51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08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65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2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80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37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72960" y="9144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72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298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870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2052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014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58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93984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2186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1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30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905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74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i dodavanje za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(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 bi se operacije brisanja i dodavanja izvršile za vrijem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ristimo cirkularnu (kružnu) reprezenta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et korist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z za 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52480" y="2514600"/>
            <a:ext cx="3422880" cy="458280"/>
            <a:chOff x="1752480" y="2514600"/>
            <a:chExt cx="3422880" cy="458280"/>
          </a:xfrm>
        </p:grpSpPr>
        <p:sp>
          <p:nvSpPr>
            <p:cNvPr id="162" name=""/>
            <p:cNvSpPr/>
            <p:nvPr/>
          </p:nvSpPr>
          <p:spPr>
            <a:xfrm>
              <a:off x="33591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40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86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735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84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830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52480" y="25146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queue[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 pogled na n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6880" y="4038480"/>
            <a:ext cx="3581640" cy="2592000"/>
            <a:chOff x="2666880" y="4038480"/>
            <a:chExt cx="3581640" cy="2592000"/>
          </a:xfrm>
        </p:grpSpPr>
        <p:sp>
          <p:nvSpPr>
            <p:cNvPr id="171" name=""/>
            <p:cNvSpPr/>
            <p:nvPr/>
          </p:nvSpPr>
          <p:spPr>
            <a:xfrm>
              <a:off x="3206880" y="42735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16360" y="49593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67080" y="42670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59436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48006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6386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724280" y="48769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4280" y="57150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61722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0040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92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920" y="61722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188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189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4290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31240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8320" y="38098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ruga 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209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210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2670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5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37339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2952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istimo cjelobroj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nu poziciju suprotno kazaljki sata od prvog ele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 pozi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jednj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33520" y="4038480"/>
            <a:ext cx="3581280" cy="2591640"/>
            <a:chOff x="533520" y="4038480"/>
            <a:chExt cx="3581280" cy="2591640"/>
          </a:xfrm>
        </p:grpSpPr>
        <p:grpSp>
          <p:nvGrpSpPr>
            <p:cNvPr id="230" name=""/>
            <p:cNvGrpSpPr/>
            <p:nvPr/>
          </p:nvGrpSpPr>
          <p:grpSpPr>
            <a:xfrm>
              <a:off x="533520" y="4038480"/>
              <a:ext cx="3581280" cy="2591640"/>
              <a:chOff x="533520" y="4038480"/>
              <a:chExt cx="3581280" cy="2591640"/>
            </a:xfrm>
          </p:grpSpPr>
          <p:sp>
            <p:nvSpPr>
              <p:cNvPr id="231" name=""/>
              <p:cNvSpPr/>
              <p:nvPr/>
            </p:nvSpPr>
            <p:spPr>
              <a:xfrm>
                <a:off x="10731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826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337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337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193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2189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5909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909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907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35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666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32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767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432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15238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43200" y="51814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0" y="4800600"/>
            <a:ext cx="1295280" cy="533520"/>
            <a:chOff x="0" y="4800600"/>
            <a:chExt cx="1295280" cy="533520"/>
          </a:xfrm>
        </p:grpSpPr>
        <p:sp>
          <p:nvSpPr>
            <p:cNvPr id="249" name=""/>
            <p:cNvSpPr/>
            <p:nvPr/>
          </p:nvSpPr>
          <p:spPr>
            <a:xfrm>
              <a:off x="0" y="480060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" y="50292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124080" y="4648320"/>
            <a:ext cx="1524240" cy="609480"/>
            <a:chOff x="3124080" y="4648320"/>
            <a:chExt cx="1524240" cy="609480"/>
          </a:xfrm>
        </p:grpSpPr>
        <p:sp>
          <p:nvSpPr>
            <p:cNvPr id="252" name=""/>
            <p:cNvSpPr/>
            <p:nvPr/>
          </p:nvSpPr>
          <p:spPr>
            <a:xfrm>
              <a:off x="373392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124080" y="49532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334120" y="4038480"/>
            <a:ext cx="3581280" cy="2591640"/>
            <a:chOff x="5334120" y="4038480"/>
            <a:chExt cx="3581280" cy="2591640"/>
          </a:xfrm>
        </p:grpSpPr>
        <p:grpSp>
          <p:nvGrpSpPr>
            <p:cNvPr id="255" name=""/>
            <p:cNvGrpSpPr/>
            <p:nvPr/>
          </p:nvGrpSpPr>
          <p:grpSpPr>
            <a:xfrm>
              <a:off x="5334120" y="4038480"/>
              <a:ext cx="3581280" cy="2591640"/>
              <a:chOff x="5334120" y="4038480"/>
              <a:chExt cx="3581280" cy="2591640"/>
            </a:xfrm>
          </p:grpSpPr>
          <p:sp>
            <p:nvSpPr>
              <p:cNvPr id="256" name=""/>
              <p:cNvSpPr/>
              <p:nvPr/>
            </p:nvSpPr>
            <p:spPr>
              <a:xfrm>
                <a:off x="58737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832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343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199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0195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3915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3915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913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341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672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438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0773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438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16292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43600" y="510516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618320" y="4876920"/>
            <a:ext cx="1524240" cy="609480"/>
            <a:chOff x="7618320" y="4876920"/>
            <a:chExt cx="1524240" cy="609480"/>
          </a:xfrm>
        </p:grpSpPr>
        <p:sp>
          <p:nvSpPr>
            <p:cNvPr id="274" name=""/>
            <p:cNvSpPr/>
            <p:nvPr/>
          </p:nvSpPr>
          <p:spPr>
            <a:xfrm>
              <a:off x="8228160" y="4876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618320" y="51818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724280" y="4648320"/>
            <a:ext cx="1295640" cy="532800"/>
            <a:chOff x="4724280" y="4648320"/>
            <a:chExt cx="1295640" cy="532800"/>
          </a:xfrm>
        </p:grpSpPr>
        <p:sp>
          <p:nvSpPr>
            <p:cNvPr id="277" name=""/>
            <p:cNvSpPr/>
            <p:nvPr/>
          </p:nvSpPr>
          <p:spPr>
            <a:xfrm>
              <a:off x="472428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10080" y="487656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281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01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04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76520" y="3200400"/>
            <a:ext cx="4114800" cy="3430080"/>
            <a:chOff x="1676520" y="3200400"/>
            <a:chExt cx="4114800" cy="3430080"/>
          </a:xfrm>
        </p:grpSpPr>
        <p:grpSp>
          <p:nvGrpSpPr>
            <p:cNvPr id="310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11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29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962520" y="5334120"/>
              <a:ext cx="914400" cy="1296360"/>
              <a:chOff x="3962520" y="5334120"/>
              <a:chExt cx="914400" cy="1296360"/>
            </a:xfrm>
          </p:grpSpPr>
          <p:sp>
            <p:nvSpPr>
              <p:cNvPr id="332" name=""/>
              <p:cNvSpPr/>
              <p:nvPr/>
            </p:nvSpPr>
            <p:spPr>
              <a:xfrm>
                <a:off x="3962520" y="61722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267080" y="5334120"/>
                <a:ext cx="0" cy="91440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762120" y="243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element stavi 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rear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510552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a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hea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i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tai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lanj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1486080" cy="102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1500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338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58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61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209680" y="3200400"/>
            <a:ext cx="3581640" cy="2592000"/>
            <a:chOff x="2209680" y="3200400"/>
            <a:chExt cx="3581640" cy="2592000"/>
          </a:xfrm>
        </p:grpSpPr>
        <p:grpSp>
          <p:nvGrpSpPr>
            <p:cNvPr id="366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67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828800" y="3352680"/>
            <a:ext cx="1295280" cy="533520"/>
            <a:chOff x="1828800" y="3352680"/>
            <a:chExt cx="1295280" cy="533520"/>
          </a:xfrm>
        </p:grpSpPr>
        <p:sp>
          <p:nvSpPr>
            <p:cNvPr id="385" name=""/>
            <p:cNvSpPr/>
            <p:nvPr/>
          </p:nvSpPr>
          <p:spPr>
            <a:xfrm>
              <a:off x="1828800" y="33526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358128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800240" y="3809880"/>
            <a:ext cx="1524240" cy="609840"/>
            <a:chOff x="4800240" y="3809880"/>
            <a:chExt cx="1524240" cy="609840"/>
          </a:xfrm>
        </p:grpSpPr>
        <p:sp>
          <p:nvSpPr>
            <p:cNvPr id="388" name=""/>
            <p:cNvSpPr/>
            <p:nvPr/>
          </p:nvSpPr>
          <p:spPr>
            <a:xfrm>
              <a:off x="5410080" y="38098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800240" y="41148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vrat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fron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905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imes New Roman"/>
              </a:rPr>
              <a:t>Pomjeranje u smjeru kazaljke sat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752480" y="2590920"/>
            <a:ext cx="4419720" cy="2591640"/>
            <a:chOff x="1752480" y="2590920"/>
            <a:chExt cx="4419720" cy="2591640"/>
          </a:xfrm>
        </p:grpSpPr>
        <p:grpSp>
          <p:nvGrpSpPr>
            <p:cNvPr id="394" name=""/>
            <p:cNvGrpSpPr/>
            <p:nvPr/>
          </p:nvGrpSpPr>
          <p:grpSpPr>
            <a:xfrm>
              <a:off x="2209680" y="2590920"/>
              <a:ext cx="3581640" cy="2591640"/>
              <a:chOff x="2209680" y="2590920"/>
              <a:chExt cx="3581640" cy="259164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2209680" y="2590920"/>
                <a:ext cx="3581640" cy="2591640"/>
                <a:chOff x="2209680" y="2590920"/>
                <a:chExt cx="3581640" cy="25916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749680" y="282564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359160" y="3511440"/>
                  <a:ext cx="977760" cy="97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09880" y="281952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809880" y="449568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895480" y="3352680"/>
                  <a:ext cx="53352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2895480" y="419112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4267080" y="342864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267080" y="426708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66880" y="4724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096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74320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41972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9528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419720" y="4724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3200400" y="30481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038480" y="304812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19720" y="37339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752480" y="3276720"/>
              <a:ext cx="1295640" cy="533160"/>
              <a:chOff x="1752480" y="3276720"/>
              <a:chExt cx="1295640" cy="533160"/>
            </a:xfrm>
          </p:grpSpPr>
          <p:sp>
            <p:nvSpPr>
              <p:cNvPr id="414" name=""/>
              <p:cNvSpPr/>
              <p:nvPr/>
            </p:nvSpPr>
            <p:spPr>
              <a:xfrm>
                <a:off x="1752480" y="3276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438280" y="35053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647960" y="3200400"/>
              <a:ext cx="1524240" cy="609480"/>
              <a:chOff x="4647960" y="3200400"/>
              <a:chExt cx="1524240" cy="609480"/>
            </a:xfrm>
          </p:grpSpPr>
          <p:sp>
            <p:nvSpPr>
              <p:cNvPr id="417" name=""/>
              <p:cNvSpPr/>
              <p:nvPr/>
            </p:nvSpPr>
            <p:spPr>
              <a:xfrm>
                <a:off x="5257800" y="32004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647960" y="35053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"/>
          <p:cNvSpPr/>
          <p:nvPr/>
        </p:nvSpPr>
        <p:spPr>
          <a:xfrm>
            <a:off x="6858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= capacity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ar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(rear + 1) % capac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33720" y="1295280"/>
            <a:ext cx="4417920" cy="2592000"/>
            <a:chOff x="2133720" y="1295280"/>
            <a:chExt cx="4417920" cy="2592000"/>
          </a:xfrm>
        </p:grpSpPr>
        <p:grpSp>
          <p:nvGrpSpPr>
            <p:cNvPr id="42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590920" y="1295280"/>
                <a:ext cx="3581280" cy="2592000"/>
                <a:chOff x="2590920" y="1295280"/>
                <a:chExt cx="3581280" cy="25920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13056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740040" y="2216160"/>
                  <a:ext cx="97812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19112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19112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76720" y="2057400"/>
                  <a:ext cx="53316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3276360" y="2895480"/>
                  <a:ext cx="53316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4648320" y="2133720"/>
                  <a:ext cx="60948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4832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0481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5909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24080" y="1295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8006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3341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0060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44197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5760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0040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027400" y="2133720"/>
              <a:ext cx="1524240" cy="609480"/>
              <a:chOff x="5027400" y="2133720"/>
              <a:chExt cx="1524240" cy="609480"/>
            </a:xfrm>
          </p:grpSpPr>
          <p:sp>
            <p:nvSpPr>
              <p:cNvPr id="444" name=""/>
              <p:cNvSpPr/>
              <p:nvPr/>
            </p:nvSpPr>
            <p:spPr>
              <a:xfrm>
                <a:off x="563724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027400" y="243828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133720" y="1905120"/>
              <a:ext cx="1295280" cy="533160"/>
              <a:chOff x="2133720" y="1905120"/>
              <a:chExt cx="1295280" cy="533160"/>
            </a:xfrm>
          </p:grpSpPr>
          <p:sp>
            <p:nvSpPr>
              <p:cNvPr id="447" name=""/>
              <p:cNvSpPr/>
              <p:nvPr/>
            </p:nvSpPr>
            <p:spPr>
              <a:xfrm>
                <a:off x="213372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19520" y="21337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52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53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576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3419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72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V="1">
            <a:off x="47242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78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79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4275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98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38098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poslije više brisanja red postaje prazan, ima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red konstruiše, on je pra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 ga 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50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505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00400" y="23623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751040" y="32767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524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 flipV="1">
            <a:off x="2666880" y="2666880"/>
            <a:ext cx="838440" cy="6098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2209680" y="1295280"/>
            <a:ext cx="4418280" cy="2592000"/>
            <a:chOff x="2209680" y="1295280"/>
            <a:chExt cx="4418280" cy="2592000"/>
          </a:xfrm>
        </p:grpSpPr>
        <p:grpSp>
          <p:nvGrpSpPr>
            <p:cNvPr id="530" name=""/>
            <p:cNvGrpSpPr/>
            <p:nvPr/>
          </p:nvGrpSpPr>
          <p:grpSpPr>
            <a:xfrm>
              <a:off x="2666880" y="1295280"/>
              <a:ext cx="3581640" cy="2592000"/>
              <a:chOff x="2666880" y="1295280"/>
              <a:chExt cx="3581640" cy="259200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2666880" y="1295280"/>
                <a:ext cx="3581640" cy="2592000"/>
                <a:chOff x="2666880" y="1295280"/>
                <a:chExt cx="3581640" cy="25920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20688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16360" y="221616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26708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6708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52680" y="205740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3352680" y="289548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4724280" y="2133720"/>
                  <a:ext cx="6098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72428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124080" y="34290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668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004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87692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4100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8769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4495680" y="312408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339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27672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103720" y="2133720"/>
              <a:ext cx="1524240" cy="609480"/>
              <a:chOff x="5103720" y="2133720"/>
              <a:chExt cx="1524240" cy="609480"/>
            </a:xfrm>
          </p:grpSpPr>
          <p:sp>
            <p:nvSpPr>
              <p:cNvPr id="550" name=""/>
              <p:cNvSpPr/>
              <p:nvPr/>
            </p:nvSpPr>
            <p:spPr>
              <a:xfrm>
                <a:off x="571356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103720" y="2438280"/>
                <a:ext cx="60984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209680" y="1905120"/>
              <a:ext cx="1295640" cy="533160"/>
              <a:chOff x="2209680" y="1905120"/>
              <a:chExt cx="1295640" cy="533160"/>
            </a:xfrm>
          </p:grpSpPr>
          <p:sp>
            <p:nvSpPr>
              <p:cNvPr id="553" name=""/>
              <p:cNvSpPr/>
              <p:nvPr/>
            </p:nvSpPr>
            <p:spPr>
              <a:xfrm>
                <a:off x="220968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95480" y="21337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58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576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286000" y="1447920"/>
            <a:ext cx="1295280" cy="533160"/>
            <a:chOff x="2286000" y="1447920"/>
            <a:chExt cx="1295280" cy="533160"/>
          </a:xfrm>
        </p:grpSpPr>
        <p:sp>
          <p:nvSpPr>
            <p:cNvPr id="579" name=""/>
            <p:cNvSpPr/>
            <p:nvPr/>
          </p:nvSpPr>
          <p:spPr>
            <a:xfrm>
              <a:off x="2286000" y="1447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71800" y="16765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85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03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5715000" y="13716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028840" y="1600200"/>
            <a:ext cx="68580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za autobu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5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971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97180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371600" y="1752480"/>
            <a:ext cx="685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611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29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5715000" y="32004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00600" y="24382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5028840" y="2895480"/>
            <a:ext cx="685800" cy="53352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5800" y="43434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lije niza dodavanja, red je pun, pa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možemo napraviti razliku između praznog reda i punog re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dozvoliti da se red napu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dodavanje elementa uzrokuje prepunjavanje, povećati veličinu niza (moguće u C/C++ i Java-i, nije moguće u Pascal-u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sati Bulovs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astOperationIsAdd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razan ako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!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jelobrojnu promjenljiv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raza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arrayLeng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 neznatno bolje ako se koristi prva starte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4714920" cy="5343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d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5000400" cy="54100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lete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7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337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91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103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334120" y="1981080"/>
            <a:ext cx="8794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IFO (First In First 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i element koji se dodaje u strukturu je i prvi element koji napušta strukt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eracije sa redo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7086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FullQ … v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ra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daje element na kraj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En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anja i vraća element sa početka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De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38880" y="1219320"/>
            <a:ext cx="147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C++ STL implemenat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 empt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red prazan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suprotn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&amp; fro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na vrijednost sa front-a nepraznog r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op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klanja el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praznog re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ush(const T&amp; fo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meć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 fo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 kraj reda (rea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_type siz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 ukupan broj elemen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re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19:56:27Z</dcterms:modified>
  <cp:revision>282</cp:revision>
  <dc:subject/>
  <dc:title>Data Representation Methods</dc:title>
</cp:coreProperties>
</file>