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CF8-311C-46CF-9F4B-8587CC8E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7D0-BEBC-4452-9E32-66A03CD0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C28-60B8-435D-9FF0-3B938827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F97-56A2-4963-8BBF-A37EB3D3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7B8D-4D90-44A8-8AB0-9F12EDE4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9B5D-1FBE-4A09-8F0D-DFAD5927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573-F010-4268-B55C-8C79583A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B185-D0E5-455B-8216-B9B31FC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B674-E725-49E5-9452-7ADFE37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942E-B87F-473A-83EB-39B93924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E1D7-C5C3-4508-9402-8B9F60B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70A-341E-4962-A769-10A64CD9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5E8-28E2-4D9C-A883-ECCC3B6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09AA-B2DB-46B8-A163-B6C8662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02F4-B7D2-445E-A165-9BDC0B65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172-A8A4-409F-9D0D-308A5826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1CD8-DE85-4E41-ADBC-F5E933A2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A30-4E05-4F2A-9484-6388C64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7FB-4952-4014-A403-9060868C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391-1317-48C9-BE2A-DD91ED9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D49-4E1B-49DF-8A10-8A3266F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A38-DEFC-4B81-A2A9-7846E3F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5B6-B820-4D8F-A1CE-3545E91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68D-298F-4A89-8410-1833251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458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41E6-A88D-4973-8B49-7507137DB34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533520" y="380880"/>
          <a:ext cx="9651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9651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6D34-31A3-4CBF-8908-BB1AA86B122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8" name="fig22-1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06F-076E-414E-8D27-6A9CF60166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širinu (B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6D0-85D3-4210-8685-A114048D17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fig22-3" descr=""/>
          <p:cNvPicPr/>
          <p:nvPr/>
        </p:nvPicPr>
        <p:blipFill>
          <a:blip r:embed="rId1"/>
          <a:srcRect l="0" t="0" r="0" b="15647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D5E-6459-4169-AA4D-C640DAD489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fig22-9" descr=""/>
          <p:cNvPicPr/>
          <p:nvPr/>
        </p:nvPicPr>
        <p:blipFill>
          <a:blip r:embed="rId1"/>
          <a:srcRect l="0" t="0" r="31817" b="75943"/>
          <a:stretch/>
        </p:blipFill>
        <p:spPr>
          <a:xfrm>
            <a:off x="1066680" y="2057400"/>
            <a:ext cx="6400800" cy="340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F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F23-9B2C-4D19-AA2F-4A68CFE279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B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09" name="BF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6628320" y="11430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190512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5179320" y="24382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Set up s and initializ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152280" y="3886200"/>
            <a:ext cx="8915400" cy="23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833400" y="525780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Explore all the vertices adjace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u and update d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 and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778-2179-493B-BEB7-4FFD3B3C3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p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346-C378-42FC-936D-802C5842F3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019920" cy="44528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dubinu (D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EB8-1EEC-4865-8690-56AED1C2B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fig22-4" descr=""/>
          <p:cNvPicPr/>
          <p:nvPr/>
        </p:nvPicPr>
        <p:blipFill>
          <a:blip r:embed="rId1"/>
          <a:srcRect l="0" t="0" r="0" b="18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21E-A73D-4B15-A50B-BE545893BB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D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22" name="DFS_visit" descr=""/>
          <p:cNvPicPr/>
          <p:nvPr/>
        </p:nvPicPr>
        <p:blipFill>
          <a:blip r:embed="rId2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0AF-555A-416C-9DCD-B4D0E7BE18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polo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ško sortiranj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133B-D1CE-431E-AA12-90BEB6246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fig22-7" descr=""/>
          <p:cNvPicPr/>
          <p:nvPr/>
        </p:nvPicPr>
        <p:blipFill>
          <a:blip r:embed="rId1"/>
          <a:srcRect l="0" t="0" r="0" b="2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1E-5E6B-4F40-BC2B-E714F3DFE5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fig22-2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1240" y="39988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標楷體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標楷體"/>
              </a:rPr>
              <a:t>bit per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FCE-E519-44C1-ACAC-3015343120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lgoritam za najkraće puteve iz datog čvor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Dijk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97F-591F-416F-A5A5-49A5104A62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7" name=""/>
          <p:cNvCxnSpPr>
            <a:stCxn id="933" idx="6"/>
            <a:endCxn id="92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2" idx="0"/>
            <a:endCxn id="92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2" idx="7"/>
            <a:endCxn id="93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0"/>
            <a:endCxn id="93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6"/>
            <a:endCxn id="93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6" idx="6"/>
            <a:endCxn id="93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4"/>
            <a:endCxn id="93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4"/>
            <a:endCxn id="931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endCxn id="93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>
            <a:stCxn id="934" idx="6"/>
            <a:endCxn id="93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7" name=""/>
          <p:cNvCxnSpPr>
            <a:stCxn id="934" idx="7"/>
            <a:endCxn id="92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9" name=""/>
          <p:cNvCxnSpPr>
            <a:stCxn id="930" idx="4"/>
            <a:endCxn id="931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D10-4170-4A09-835B-0F9B5309DA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73" name=""/>
          <p:cNvCxnSpPr>
            <a:stCxn id="969" idx="6"/>
            <a:endCxn id="965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68" idx="0"/>
            <a:endCxn id="965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stCxn id="968" idx="7"/>
            <a:endCxn id="971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>
            <a:stCxn id="971" idx="0"/>
            <a:endCxn id="966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5" idx="6"/>
            <a:endCxn id="966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72" idx="6"/>
            <a:endCxn id="97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9" idx="4"/>
            <a:endCxn id="97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71" idx="4"/>
            <a:endCxn id="967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981" name=""/>
          <p:cNvCxnSpPr>
            <a:endCxn id="968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0" idx="6"/>
            <a:endCxn id="968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70" idx="7"/>
            <a:endCxn id="965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95" name=""/>
          <p:cNvCxnSpPr>
            <a:stCxn id="966" idx="4"/>
            <a:endCxn id="967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DCE-BA81-46DF-8447-535F044905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9" name=""/>
          <p:cNvCxnSpPr>
            <a:stCxn id="1005" idx="6"/>
            <a:endCxn id="100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1004" idx="0"/>
            <a:endCxn id="100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4" idx="7"/>
            <a:endCxn id="1007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7" idx="0"/>
            <a:endCxn id="1002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3" name=""/>
          <p:cNvCxnSpPr>
            <a:stCxn id="1001" idx="6"/>
            <a:endCxn id="100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8" idx="6"/>
            <a:endCxn id="100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5" idx="4"/>
            <a:endCxn id="100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7" idx="4"/>
            <a:endCxn id="1003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7" name=""/>
          <p:cNvCxnSpPr>
            <a:endCxn id="100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1006" idx="6"/>
            <a:endCxn id="100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1006" idx="7"/>
            <a:endCxn id="100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1" name=""/>
          <p:cNvCxnSpPr>
            <a:stCxn id="1002" idx="4"/>
            <a:endCxn id="1003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3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7998120" y="25146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24</a:t>
            </a:r>
            <a:r>
              <a:rPr b="1" lang="sr-Latn-C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930640" y="6289560"/>
            <a:ext cx="1538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ako da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018-3243-480E-9E8D-75774920E93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6" name=""/>
          <p:cNvCxnSpPr>
            <a:stCxn id="1042" idx="6"/>
            <a:endCxn id="1038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1" idx="0"/>
            <a:endCxn id="1038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1" idx="7"/>
            <a:endCxn id="1044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44" idx="0"/>
            <a:endCxn id="1039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8" idx="6"/>
            <a:endCxn id="1039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1" name=""/>
          <p:cNvCxnSpPr>
            <a:stCxn id="1045" idx="6"/>
            <a:endCxn id="1043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2" name=""/>
          <p:cNvCxnSpPr>
            <a:stCxn id="1042" idx="4"/>
            <a:endCxn id="1043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3" name=""/>
          <p:cNvCxnSpPr>
            <a:stCxn id="1044" idx="4"/>
            <a:endCxn id="1040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4" name=""/>
          <p:cNvCxnSpPr>
            <a:endCxn id="1041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5" name=""/>
          <p:cNvCxnSpPr>
            <a:stCxn id="1043" idx="6"/>
            <a:endCxn id="1041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6" name=""/>
          <p:cNvCxnSpPr>
            <a:stCxn id="1043" idx="7"/>
            <a:endCxn id="1038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8" name=""/>
          <p:cNvCxnSpPr>
            <a:stCxn id="1039" idx="4"/>
            <a:endCxn id="1040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686-C99A-4252-9837-D63B2A19C1F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7" name=""/>
          <p:cNvCxnSpPr>
            <a:stCxn id="1083" idx="6"/>
            <a:endCxn id="107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82" idx="0"/>
            <a:endCxn id="107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2" idx="7"/>
            <a:endCxn id="108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5" idx="0"/>
            <a:endCxn id="108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9" idx="6"/>
            <a:endCxn id="108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86" idx="6"/>
            <a:endCxn id="108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3" idx="4"/>
            <a:endCxn id="108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4" name=""/>
          <p:cNvCxnSpPr>
            <a:stCxn id="1085" idx="4"/>
            <a:endCxn id="1081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endCxn id="108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4" idx="6"/>
            <a:endCxn id="108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84" idx="7"/>
            <a:endCxn id="107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09" name=""/>
          <p:cNvCxnSpPr>
            <a:stCxn id="1080" idx="4"/>
            <a:endCxn id="1081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AFD-C4C5-4CAC-AC72-50EB9E5472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8" name=""/>
          <p:cNvCxnSpPr>
            <a:stCxn id="1124" idx="6"/>
            <a:endCxn id="1120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3" idx="0"/>
            <a:endCxn id="1120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23" idx="7"/>
            <a:endCxn id="1126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26" idx="0"/>
            <a:endCxn id="1121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20" idx="6"/>
            <a:endCxn id="1121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27" idx="6"/>
            <a:endCxn id="1125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124" idx="4"/>
            <a:endCxn id="1125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126" idx="4"/>
            <a:endCxn id="1122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endCxn id="1123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25" idx="6"/>
            <a:endCxn id="1123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5" idx="7"/>
            <a:endCxn id="1120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0" name=""/>
          <p:cNvCxnSpPr>
            <a:stCxn id="1121" idx="4"/>
            <a:endCxn id="1122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51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6840000" y="41752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842112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"/>
          <p:cNvSpPr/>
          <p:nvPr/>
        </p:nvSpPr>
        <p:spPr>
          <a:xfrm>
            <a:off x="824112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39E-EB9C-4C75-B7C6-FB993E44B6A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9" name=""/>
          <p:cNvCxnSpPr>
            <a:stCxn id="1165" idx="6"/>
            <a:endCxn id="116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>
            <a:stCxn id="1164" idx="0"/>
            <a:endCxn id="116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4" idx="7"/>
            <a:endCxn id="1167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7" idx="0"/>
            <a:endCxn id="1162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1" idx="6"/>
            <a:endCxn id="116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8" idx="6"/>
            <a:endCxn id="116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5" idx="4"/>
            <a:endCxn id="116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7" idx="4"/>
            <a:endCxn id="1163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177" name=""/>
          <p:cNvCxnSpPr>
            <a:endCxn id="116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6" idx="6"/>
            <a:endCxn id="116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6" idx="7"/>
            <a:endCxn id="116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1" name=""/>
          <p:cNvCxnSpPr>
            <a:stCxn id="1162" idx="4"/>
            <a:endCxn id="1163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9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EBF-F7BE-4B19-91F7-729089FC80C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10" name=""/>
          <p:cNvCxnSpPr>
            <a:stCxn id="1206" idx="6"/>
            <a:endCxn id="1202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205" idx="0"/>
            <a:endCxn id="1202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7"/>
            <a:endCxn id="1208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8" idx="0"/>
            <a:endCxn id="1203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202" idx="6"/>
            <a:endCxn id="1203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09" idx="6"/>
            <a:endCxn id="1207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06" idx="4"/>
            <a:endCxn id="1207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08" idx="4"/>
            <a:endCxn id="1204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18" name=""/>
          <p:cNvCxnSpPr>
            <a:endCxn id="1205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7" idx="6"/>
            <a:endCxn id="1205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07" idx="7"/>
            <a:endCxn id="1202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1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2" name=""/>
          <p:cNvCxnSpPr>
            <a:stCxn id="1203" idx="4"/>
            <a:endCxn id="1204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3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2AF-932D-4D90-BAB6-A5698EFD38A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51" name=""/>
          <p:cNvCxnSpPr>
            <a:stCxn id="1247" idx="6"/>
            <a:endCxn id="1243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46" idx="0"/>
            <a:endCxn id="1243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46" idx="7"/>
            <a:endCxn id="1249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49" idx="0"/>
            <a:endCxn id="1244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43" idx="6"/>
            <a:endCxn id="1244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250" idx="6"/>
            <a:endCxn id="1248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47" idx="4"/>
            <a:endCxn id="1248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45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9" name=""/>
          <p:cNvCxnSpPr>
            <a:endCxn id="1246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0" name=""/>
          <p:cNvCxnSpPr>
            <a:stCxn id="1248" idx="6"/>
            <a:endCxn id="1246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61" name=""/>
          <p:cNvCxnSpPr>
            <a:stCxn id="1248" idx="7"/>
            <a:endCxn id="1243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2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3" name=""/>
          <p:cNvCxnSpPr>
            <a:stCxn id="1244" idx="4"/>
            <a:endCxn id="1245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4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190-4787-4FA1-A19B-7723D7D940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raf: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22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66688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988320" y="4575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35560" y="433692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51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194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302520" y="3432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65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1" name=""/>
          <p:cNvCxnSpPr>
            <a:stCxn id="97" idx="6"/>
            <a:endCxn id="93" idx="2"/>
          </p:cNvCxnSpPr>
          <p:nvPr/>
        </p:nvCxnSpPr>
        <p:spPr>
          <a:xfrm flipV="1">
            <a:off x="3460680" y="3050280"/>
            <a:ext cx="12549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6" idx="0"/>
            <a:endCxn id="93" idx="4"/>
          </p:cNvCxnSpPr>
          <p:nvPr/>
        </p:nvCxnSpPr>
        <p:spPr>
          <a:xfrm flipV="1">
            <a:off x="4903920" y="3289320"/>
            <a:ext cx="2894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6" idx="7"/>
            <a:endCxn id="99" idx="3"/>
          </p:cNvCxnSpPr>
          <p:nvPr/>
        </p:nvCxnSpPr>
        <p:spPr>
          <a:xfrm flipV="1">
            <a:off x="5235120" y="3831480"/>
            <a:ext cx="12042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0"/>
            <a:endCxn id="94" idx="3"/>
          </p:cNvCxnSpPr>
          <p:nvPr/>
        </p:nvCxnSpPr>
        <p:spPr>
          <a:xfrm flipV="1">
            <a:off x="6770160" y="3066480"/>
            <a:ext cx="605880" cy="356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6"/>
            <a:endCxn id="94" idx="2"/>
          </p:cNvCxnSpPr>
          <p:nvPr/>
        </p:nvCxnSpPr>
        <p:spPr>
          <a:xfrm flipV="1">
            <a:off x="5670720" y="2895480"/>
            <a:ext cx="1559520" cy="155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0" idx="6"/>
            <a:endCxn id="98" idx="2"/>
          </p:cNvCxnSpPr>
          <p:nvPr/>
        </p:nvCxnSpPr>
        <p:spPr>
          <a:xfrm>
            <a:off x="1631520" y="4193640"/>
            <a:ext cx="10263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7" idx="4"/>
            <a:endCxn id="98" idx="0"/>
          </p:cNvCxnSpPr>
          <p:nvPr/>
        </p:nvCxnSpPr>
        <p:spPr>
          <a:xfrm>
            <a:off x="2982600" y="3517920"/>
            <a:ext cx="15300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9" idx="4"/>
            <a:endCxn id="95" idx="0"/>
          </p:cNvCxnSpPr>
          <p:nvPr/>
        </p:nvCxnSpPr>
        <p:spPr>
          <a:xfrm>
            <a:off x="6770160" y="3898800"/>
            <a:ext cx="68652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endCxn id="96" idx="6"/>
          </p:cNvCxnSpPr>
          <p:nvPr/>
        </p:nvCxnSpPr>
        <p:spPr>
          <a:xfrm flipH="1" flipV="1">
            <a:off x="5381280" y="4565160"/>
            <a:ext cx="1597680" cy="23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6"/>
            <a:endCxn id="96" idx="2"/>
          </p:cNvCxnSpPr>
          <p:nvPr/>
        </p:nvCxnSpPr>
        <p:spPr>
          <a:xfrm>
            <a:off x="3612960" y="4422240"/>
            <a:ext cx="81324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8" idx="7"/>
            <a:endCxn id="93" idx="3"/>
          </p:cNvCxnSpPr>
          <p:nvPr/>
        </p:nvCxnSpPr>
        <p:spPr>
          <a:xfrm flipV="1">
            <a:off x="3467160" y="3222360"/>
            <a:ext cx="139464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 rot="21252600">
            <a:off x="5995080" y="2647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rot="16938000">
            <a:off x="4674240" y="337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rot="20055000">
            <a:off x="5344920" y="3796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rot="19463400">
            <a:off x="3531960" y="355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910600">
            <a:off x="3643200" y="2822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626200">
            <a:off x="7013160" y="402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565800">
            <a:off x="5884200" y="4330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695400">
            <a:off x="3684240" y="4149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4665000">
            <a:off x="2906640" y="3686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832200">
            <a:off x="1836000" y="396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rot="19708200">
            <a:off x="6697080" y="2958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2E1-A715-46B5-B393-22836E1AC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92" name=""/>
          <p:cNvCxnSpPr>
            <a:stCxn id="1288" idx="6"/>
            <a:endCxn id="1284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7" idx="0"/>
            <a:endCxn id="1284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4" name=""/>
          <p:cNvCxnSpPr>
            <a:stCxn id="1287" idx="7"/>
            <a:endCxn id="1290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5" name=""/>
          <p:cNvCxnSpPr>
            <a:stCxn id="1290" idx="0"/>
            <a:endCxn id="1285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6" name=""/>
          <p:cNvCxnSpPr>
            <a:stCxn id="1284" idx="6"/>
            <a:endCxn id="1285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91" idx="6"/>
            <a:endCxn id="1289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8" idx="4"/>
            <a:endCxn id="1289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0" idx="4"/>
            <a:endCxn id="1286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0" name=""/>
          <p:cNvCxnSpPr>
            <a:endCxn id="1287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1" name=""/>
          <p:cNvCxnSpPr>
            <a:stCxn id="1289" idx="6"/>
            <a:endCxn id="1287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2" name=""/>
          <p:cNvCxnSpPr>
            <a:stCxn id="1289" idx="7"/>
            <a:endCxn id="1284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3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14" name=""/>
          <p:cNvCxnSpPr>
            <a:stCxn id="1285" idx="4"/>
            <a:endCxn id="1286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5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49-852B-461F-8CDF-4A7711CC3D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3" name=""/>
          <p:cNvCxnSpPr>
            <a:stCxn id="1329" idx="6"/>
            <a:endCxn id="1325" idx="2"/>
          </p:cNvCxnSpPr>
          <p:nvPr/>
        </p:nvCxnSpPr>
        <p:spPr>
          <a:xfrm flipV="1">
            <a:off x="3323880" y="2488680"/>
            <a:ext cx="150732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4" name=""/>
          <p:cNvCxnSpPr>
            <a:stCxn id="1328" idx="0"/>
            <a:endCxn id="1325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5" name=""/>
          <p:cNvCxnSpPr>
            <a:stCxn id="1328" idx="7"/>
            <a:endCxn id="1331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6" name=""/>
          <p:cNvCxnSpPr>
            <a:stCxn id="1331" idx="0"/>
            <a:endCxn id="1326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37" name=""/>
          <p:cNvCxnSpPr>
            <a:stCxn id="1325" idx="6"/>
            <a:endCxn id="1326" idx="2"/>
          </p:cNvCxnSpPr>
          <p:nvPr/>
        </p:nvCxnSpPr>
        <p:spPr>
          <a:xfrm flipV="1">
            <a:off x="5971680" y="2204640"/>
            <a:ext cx="186444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8" name=""/>
          <p:cNvCxnSpPr>
            <a:stCxn id="1332" idx="6"/>
            <a:endCxn id="133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29" idx="4"/>
            <a:endCxn id="133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0" name=""/>
          <p:cNvCxnSpPr>
            <a:stCxn id="1331" idx="4"/>
            <a:endCxn id="1327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1" name=""/>
          <p:cNvCxnSpPr/>
          <p:nvPr/>
        </p:nvCxnSpPr>
        <p:spPr>
          <a:xfrm flipH="1" flipV="1">
            <a:off x="5638320" y="5257440"/>
            <a:ext cx="1915200" cy="43560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2" name=""/>
          <p:cNvCxnSpPr>
            <a:stCxn id="1330" idx="6"/>
            <a:endCxn id="1328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3" name=""/>
          <p:cNvCxnSpPr>
            <a:stCxn id="1330" idx="7"/>
            <a:endCxn id="1325" idx="3"/>
          </p:cNvCxnSpPr>
          <p:nvPr/>
        </p:nvCxnSpPr>
        <p:spPr>
          <a:xfrm flipV="1">
            <a:off x="3332160" y="2792160"/>
            <a:ext cx="1674000" cy="1892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5" name=""/>
          <p:cNvCxnSpPr>
            <a:stCxn id="1326" idx="4"/>
            <a:endCxn id="1327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EED-CB7E-4C34-96AF-CBC73EF9D8F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74" name=""/>
          <p:cNvCxnSpPr>
            <a:stCxn id="1370" idx="6"/>
            <a:endCxn id="1366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75" name=""/>
          <p:cNvCxnSpPr>
            <a:stCxn id="1369" idx="0"/>
            <a:endCxn id="1366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6" name=""/>
          <p:cNvCxnSpPr>
            <a:stCxn id="1369" idx="7"/>
            <a:endCxn id="1372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2" idx="0"/>
            <a:endCxn id="1367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8" name=""/>
          <p:cNvCxnSpPr>
            <a:stCxn id="1366" idx="6"/>
            <a:endCxn id="1367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>
            <a:stCxn id="1373" idx="6"/>
            <a:endCxn id="1371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70" idx="4"/>
            <a:endCxn id="1371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72" idx="4"/>
            <a:endCxn id="1368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2" name=""/>
          <p:cNvCxnSpPr>
            <a:endCxn id="1369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3" name=""/>
          <p:cNvCxnSpPr>
            <a:stCxn id="1371" idx="6"/>
            <a:endCxn id="1369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71" idx="7"/>
            <a:endCxn id="1366" idx="3"/>
          </p:cNvCxnSpPr>
          <p:nvPr/>
        </p:nvCxnSpPr>
        <p:spPr>
          <a:xfrm flipV="1">
            <a:off x="3332160" y="2801520"/>
            <a:ext cx="1674000" cy="18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5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6" name=""/>
          <p:cNvCxnSpPr>
            <a:stCxn id="1367" idx="4"/>
            <a:endCxn id="1368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7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376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DD2-FB83-414B-959C-DBF7FCCF88E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5" name=""/>
          <p:cNvCxnSpPr>
            <a:stCxn id="1411" idx="6"/>
            <a:endCxn id="1407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0" idx="0"/>
            <a:endCxn id="1407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7" name=""/>
          <p:cNvCxnSpPr>
            <a:stCxn id="1410" idx="7"/>
            <a:endCxn id="1413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13" idx="0"/>
            <a:endCxn id="1408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9" name=""/>
          <p:cNvCxnSpPr>
            <a:stCxn id="1407" idx="6"/>
            <a:endCxn id="1408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stCxn id="1414" idx="6"/>
            <a:endCxn id="1412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411" idx="4"/>
            <a:endCxn id="1412" idx="0"/>
          </p:cNvCxnSpPr>
          <p:nvPr/>
        </p:nvCxnSpPr>
        <p:spPr>
          <a:xfrm>
            <a:off x="2754000" y="3331800"/>
            <a:ext cx="183240" cy="12214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3" idx="4"/>
            <a:endCxn id="1409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3" name=""/>
          <p:cNvCxnSpPr>
            <a:endCxn id="1410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4" name=""/>
          <p:cNvCxnSpPr>
            <a:stCxn id="1412" idx="6"/>
            <a:endCxn id="1410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5" name=""/>
          <p:cNvCxnSpPr>
            <a:stCxn id="1412" idx="7"/>
            <a:endCxn id="1407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6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37" name=""/>
          <p:cNvCxnSpPr>
            <a:stCxn id="1408" idx="4"/>
            <a:endCxn id="1409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8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042-003A-47CF-A536-98586084FA1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6" name=""/>
          <p:cNvCxnSpPr>
            <a:stCxn id="1452" idx="6"/>
            <a:endCxn id="1448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1" idx="0"/>
            <a:endCxn id="1448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58" name=""/>
          <p:cNvCxnSpPr>
            <a:stCxn id="1451" idx="7"/>
            <a:endCxn id="1454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>
            <a:stCxn id="1454" idx="0"/>
            <a:endCxn id="1449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0" name=""/>
          <p:cNvCxnSpPr>
            <a:stCxn id="1448" idx="6"/>
            <a:endCxn id="1449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61" name=""/>
          <p:cNvCxnSpPr>
            <a:stCxn id="1455" idx="6"/>
            <a:endCxn id="1453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2" name=""/>
          <p:cNvCxnSpPr>
            <a:stCxn id="1452" idx="4"/>
            <a:endCxn id="1453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3" name=""/>
          <p:cNvCxnSpPr>
            <a:stCxn id="1454" idx="4"/>
            <a:endCxn id="1450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4" name=""/>
          <p:cNvCxnSpPr>
            <a:endCxn id="1451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5" name=""/>
          <p:cNvCxnSpPr>
            <a:stCxn id="1453" idx="6"/>
            <a:endCxn id="1451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6" name=""/>
          <p:cNvCxnSpPr>
            <a:stCxn id="1453" idx="7"/>
            <a:endCxn id="1448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78" name=""/>
          <p:cNvCxnSpPr>
            <a:stCxn id="1449" idx="4"/>
            <a:endCxn id="1450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7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43E-3D4B-4203-8DAC-5D74A860DB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7" name=""/>
          <p:cNvCxnSpPr>
            <a:stCxn id="1493" idx="6"/>
            <a:endCxn id="1489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2" idx="0"/>
            <a:endCxn id="1489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99" name=""/>
          <p:cNvCxnSpPr>
            <a:stCxn id="1492" idx="7"/>
            <a:endCxn id="1495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0" name=""/>
          <p:cNvCxnSpPr>
            <a:stCxn id="1495" idx="0"/>
            <a:endCxn id="1490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1" name=""/>
          <p:cNvCxnSpPr>
            <a:stCxn id="1489" idx="6"/>
            <a:endCxn id="1490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2" name=""/>
          <p:cNvCxnSpPr>
            <a:stCxn id="1496" idx="6"/>
            <a:endCxn id="1494" idx="2"/>
          </p:cNvCxnSpPr>
          <p:nvPr/>
        </p:nvCxnSpPr>
        <p:spPr>
          <a:xfrm>
            <a:off x="1141200" y="4573440"/>
            <a:ext cx="1215000" cy="4168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3" name=""/>
          <p:cNvCxnSpPr>
            <a:stCxn id="1493" idx="4"/>
            <a:endCxn id="1494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4" name=""/>
          <p:cNvCxnSpPr>
            <a:stCxn id="1495" idx="4"/>
            <a:endCxn id="1491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5" name=""/>
          <p:cNvCxnSpPr>
            <a:endCxn id="1492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6" name=""/>
          <p:cNvCxnSpPr>
            <a:stCxn id="1494" idx="6"/>
            <a:endCxn id="1492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7" name=""/>
          <p:cNvCxnSpPr>
            <a:stCxn id="1494" idx="7"/>
            <a:endCxn id="1489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9" name=""/>
          <p:cNvCxnSpPr>
            <a:stCxn id="1490" idx="4"/>
            <a:endCxn id="1491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ACF-11EE-4CD9-8848-F800558E656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o najkraće putanje je takođe najkraća putanj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edy Algorith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drvo najkraćih putanja od početnog čvora do svih drugih čvoroav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ngle source shortest pa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3: algoritam radi samo ako su težine grana pozitiv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6D8-B185-4316-BA6F-D148B396F0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533520" y="2179440"/>
            <a:ext cx="7489800" cy="2949480"/>
            <a:chOff x="533520" y="2179440"/>
            <a:chExt cx="7489800" cy="2949480"/>
          </a:xfrm>
        </p:grpSpPr>
        <p:sp>
          <p:nvSpPr>
            <p:cNvPr id="1533" name=""/>
            <p:cNvSpPr/>
            <p:nvPr/>
          </p:nvSpPr>
          <p:spPr>
            <a:xfrm>
              <a:off x="4572000" y="23842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86600" y="2228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V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35680" y="4136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82920" y="389880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FW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62320" y="26128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F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14600" y="37558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149880" y="2993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35272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N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41" name=""/>
            <p:cNvCxnSpPr>
              <a:stCxn id="1537" idx="6"/>
              <a:endCxn id="1533" idx="2"/>
            </p:cNvCxnSpPr>
            <p:nvPr/>
          </p:nvCxnSpPr>
          <p:spPr>
            <a:xfrm flipV="1">
              <a:off x="3317400" y="2612160"/>
              <a:ext cx="12358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/>
            <p:nvPr/>
          </p:nvCxnSpPr>
          <p:spPr>
            <a:xfrm flipV="1">
              <a:off x="4750920" y="2840760"/>
              <a:ext cx="289440" cy="10198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3" name=""/>
            <p:cNvCxnSpPr>
              <a:stCxn id="1536" idx="7"/>
              <a:endCxn id="1539" idx="3"/>
            </p:cNvCxnSpPr>
            <p:nvPr/>
          </p:nvCxnSpPr>
          <p:spPr>
            <a:xfrm flipV="1">
              <a:off x="5082840" y="3403080"/>
              <a:ext cx="120420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4" name=""/>
            <p:cNvCxnSpPr>
              <a:stCxn id="1539" idx="0"/>
              <a:endCxn id="1534" idx="3"/>
            </p:cNvCxnSpPr>
            <p:nvPr/>
          </p:nvCxnSpPr>
          <p:spPr>
            <a:xfrm flipV="1">
              <a:off x="6618240" y="2637360"/>
              <a:ext cx="605520" cy="337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5" name=""/>
            <p:cNvCxnSpPr>
              <a:stCxn id="1533" idx="6"/>
              <a:endCxn id="1534" idx="2"/>
            </p:cNvCxnSpPr>
            <p:nvPr/>
          </p:nvCxnSpPr>
          <p:spPr>
            <a:xfrm flipV="1">
              <a:off x="5527440" y="2457360"/>
              <a:ext cx="154044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6" name=""/>
            <p:cNvCxnSpPr/>
            <p:nvPr/>
          </p:nvCxnSpPr>
          <p:spPr>
            <a:xfrm>
              <a:off x="1488960" y="3736440"/>
              <a:ext cx="1007280" cy="229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7" name=""/>
            <p:cNvCxnSpPr/>
            <p:nvPr/>
          </p:nvCxnSpPr>
          <p:spPr>
            <a:xfrm>
              <a:off x="2819160" y="3050640"/>
              <a:ext cx="15300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8" name=""/>
            <p:cNvCxnSpPr/>
            <p:nvPr/>
          </p:nvCxnSpPr>
          <p:spPr>
            <a:xfrm>
              <a:off x="6629040" y="3450600"/>
              <a:ext cx="68652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9" name=""/>
            <p:cNvCxnSpPr/>
            <p:nvPr/>
          </p:nvCxnSpPr>
          <p:spPr>
            <a:xfrm flipH="1" flipV="1">
              <a:off x="5238360" y="4107600"/>
              <a:ext cx="1597680" cy="2386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0" name=""/>
            <p:cNvCxnSpPr/>
            <p:nvPr/>
          </p:nvCxnSpPr>
          <p:spPr>
            <a:xfrm>
              <a:off x="3470040" y="3965040"/>
              <a:ext cx="794520" cy="1436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1" name=""/>
            <p:cNvCxnSpPr>
              <a:stCxn id="1538" idx="7"/>
              <a:endCxn id="1533" idx="3"/>
            </p:cNvCxnSpPr>
            <p:nvPr/>
          </p:nvCxnSpPr>
          <p:spPr>
            <a:xfrm flipV="1">
              <a:off x="3314520" y="2792880"/>
              <a:ext cx="1394280" cy="1010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2" name=""/>
            <p:cNvSpPr/>
            <p:nvPr/>
          </p:nvSpPr>
          <p:spPr>
            <a:xfrm rot="21252600">
              <a:off x="5842800" y="2209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4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6938000">
              <a:off x="4521960" y="2941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0055000">
              <a:off x="5192640" y="33584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8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9463400">
              <a:off x="3379680" y="31204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910600">
              <a:off x="3490920" y="2383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2626200">
              <a:off x="6786720" y="35870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9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565800">
              <a:off x="5731560" y="38919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695400">
              <a:off x="3531600" y="3711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23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4665000">
              <a:off x="2754360" y="32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3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832200">
              <a:off x="1683720" y="3526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5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9708200">
              <a:off x="6544800" y="2511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63" name=""/>
            <p:cNvCxnSpPr>
              <a:stCxn id="1534" idx="4"/>
              <a:endCxn id="1535" idx="7"/>
            </p:cNvCxnSpPr>
            <p:nvPr/>
          </p:nvCxnSpPr>
          <p:spPr>
            <a:xfrm>
              <a:off x="7554600" y="2704680"/>
              <a:ext cx="81360" cy="1479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64" name=""/>
            <p:cNvSpPr/>
            <p:nvPr/>
          </p:nvSpPr>
          <p:spPr>
            <a:xfrm rot="5208000">
              <a:off x="7418520" y="30960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0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54520" y="4760640"/>
              <a:ext cx="48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Primj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drvo najkraćih putanja iz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land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C09-2431-4839-BF21-6D6F4A6CDF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jk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algoritam gradi drv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oji putanja od svakog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a do počet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primjer, tražimo najkraće puteve od čvora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62120" y="54100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na granama su cijene ili tež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pored čvorova su ukupne tež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1066680" y="3200400"/>
            <a:ext cx="2133720" cy="2057400"/>
            <a:chOff x="1066680" y="3200400"/>
            <a:chExt cx="2133720" cy="2057400"/>
          </a:xfrm>
        </p:grpSpPr>
        <p:sp>
          <p:nvSpPr>
            <p:cNvPr id="1570" name=""/>
            <p:cNvSpPr/>
            <p:nvPr/>
          </p:nvSpPr>
          <p:spPr>
            <a:xfrm>
              <a:off x="1905120" y="320040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6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051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8195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8195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51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1371600" y="3504960"/>
              <a:ext cx="5335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35812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2285640" y="3504960"/>
              <a:ext cx="6094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42670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6000" y="42670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74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86000" y="5029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718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7160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388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81080" y="3581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90920" y="3505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8600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10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954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8600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00600" y="3048120"/>
            <a:ext cx="2362320" cy="2209680"/>
            <a:chOff x="4800600" y="3048120"/>
            <a:chExt cx="2362320" cy="2209680"/>
          </a:xfrm>
        </p:grpSpPr>
        <p:sp>
          <p:nvSpPr>
            <p:cNvPr id="1593" name=""/>
            <p:cNvSpPr/>
            <p:nvPr/>
          </p:nvSpPr>
          <p:spPr>
            <a:xfrm>
              <a:off x="5638680" y="320040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80060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6386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530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30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638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5105520" y="3504960"/>
              <a:ext cx="533160" cy="53316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791320" y="358128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19920" y="426708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91320" y="441972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19920" y="502920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3048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13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58000" y="380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672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816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0060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299-83C4-4AAB-9416-D79EE8FB46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vaki čvor, čuva se sledeća inform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oolean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 da li nam je poznat najkraći put do 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 je tru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 samo 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užina najkraćeg poznatog puta do da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0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rethodnik na tom putu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, nepoznat za sve čvorove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goritam radi po fazama - u svakoj f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d čvorova za koje nam nije poznata najkraća putanja, izabrati čv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a najmanjim do sada poznatim rastojanjem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ostaviti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o boolean polje n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sve čvorov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usjedne čvoru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, test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iramo da li je dužina poznatog puta veća od zbira dužine najkraćeg puta do v i rastojanja o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ako jeste, postavljamo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jkraći put na novu vrijednost a za prethodnika čvor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pr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glašavam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0D3-F26C-42DC-AF43-350A863C1D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1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286000"/>
            <a:ext cx="6510600" cy="3063600"/>
            <a:chOff x="1371600" y="2286000"/>
            <a:chExt cx="6510600" cy="3063600"/>
          </a:xfrm>
        </p:grpSpPr>
        <p:sp>
          <p:nvSpPr>
            <p:cNvPr id="125" name=""/>
            <p:cNvSpPr/>
            <p:nvPr/>
          </p:nvSpPr>
          <p:spPr>
            <a:xfrm>
              <a:off x="1371600" y="22860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22874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26287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8960" y="26287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5560" y="26287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2560" y="43765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2560" y="43783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0040" y="48625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8960" y="48625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5880" y="48625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0880" y="47638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18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1880" y="46353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8680" y="4763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0076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9320" y="46353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15520" y="4763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036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8560" y="46353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8600" y="47638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388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92480" y="47638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580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5800" y="46353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600" y="4763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084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7760" y="47638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104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104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652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472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3200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3200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200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90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5000" y="27572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4840" y="27572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5720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1776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540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540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540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8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79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27572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67400" y="24717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4732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10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872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7872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872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57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3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156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260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260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01560" y="25574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1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356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356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356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67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42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260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512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512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096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700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60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60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560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164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9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92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24717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9592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2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5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8160" y="2557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68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68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80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1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5920" y="27572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000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600" y="25574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6156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096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096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096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4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739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000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8160" y="24717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816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576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594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94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94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2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24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48160" y="27572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328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7328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08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52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460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8460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460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74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27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76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9320" y="24732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66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0884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02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02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02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8312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05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076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7668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2720" y="25574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7640" y="27572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7640" y="30877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7640" y="27716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60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4648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766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6720" y="30304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8040" y="30160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617720" y="30160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25640" y="30016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960" y="30160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35280" y="30016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24200" y="30160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46480" y="30160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38560" y="30160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65360" y="30160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7000" y="30160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60840" y="30160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321240" y="30160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984480" y="30304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092400" y="30160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9440" y="30160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30160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822840" y="30304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0040" y="30160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11400" y="29876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63880" y="30160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51680" y="30160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5720" y="2570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440" y="46274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095880" y="16765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= 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ACA-E9DA-4A60-A370-5EE94D9DD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 podatka za svaki čv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postoji najkraći put (stavljamo +), najkraći put do sada i prethodnik čvora u najkraćem p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04920" y="2286000"/>
            <a:ext cx="1904400" cy="1828440"/>
            <a:chOff x="304920" y="2286000"/>
            <a:chExt cx="1904400" cy="1828440"/>
          </a:xfrm>
        </p:grpSpPr>
        <p:sp>
          <p:nvSpPr>
            <p:cNvPr id="1615" name=""/>
            <p:cNvSpPr/>
            <p:nvPr/>
          </p:nvSpPr>
          <p:spPr>
            <a:xfrm>
              <a:off x="1053360" y="228600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920" y="3030840"/>
              <a:ext cx="34020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5336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6948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6948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5336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77080" y="2556720"/>
              <a:ext cx="47628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89080" y="26244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flipV="1">
              <a:off x="1392840" y="2556720"/>
              <a:ext cx="54396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5120" y="3233880"/>
              <a:ext cx="40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3200" y="323388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8908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3200" y="391140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0556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7080" y="25596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28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21040" y="2622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65360" y="2559600"/>
              <a:ext cx="2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32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2104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3716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93200" y="35730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2819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čv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3581280" y="2590920"/>
            <a:ext cx="914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o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4495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5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105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58672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5530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1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7924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609480" y="4267080"/>
            <a:ext cx="2176560" cy="1905120"/>
            <a:chOff x="609480" y="4267080"/>
            <a:chExt cx="2176560" cy="1905120"/>
          </a:xfrm>
        </p:grpSpPr>
        <p:sp>
          <p:nvSpPr>
            <p:cNvPr id="1646" name=""/>
            <p:cNvSpPr/>
            <p:nvPr/>
          </p:nvSpPr>
          <p:spPr>
            <a:xfrm>
              <a:off x="1433520" y="426708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580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33520" y="581976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51080" y="581976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5108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433520" y="504360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957240" y="4549680"/>
              <a:ext cx="476280" cy="4939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69960" y="4619520"/>
              <a:ext cx="0" cy="4240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74800" y="525456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69960" y="5396040"/>
              <a:ext cx="0" cy="4237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74800" y="596124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752480" y="42670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0200" y="472428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14600" y="480060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76520" y="556272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438280" y="556272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480" y="47242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CC8-2CA2-448C-84C0-C1A17937B9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Najkraće putanje između svih čvoro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lgorit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F35-C1A0-4862-AAC1-764CCCED91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341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pozi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O(n(n+m)log n)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1771560" cy="3679920"/>
          </a:xfrm>
          <a:prstGeom prst="rect">
            <a:avLst/>
          </a:prstGeom>
          <a:ln w="0">
            <a:noFill/>
          </a:ln>
        </p:spPr>
      </p:pic>
      <p:grpSp>
        <p:nvGrpSpPr>
          <p:cNvPr id="1667" name=""/>
          <p:cNvGrpSpPr/>
          <p:nvPr/>
        </p:nvGrpSpPr>
        <p:grpSpPr>
          <a:xfrm>
            <a:off x="3200400" y="1371600"/>
            <a:ext cx="4343400" cy="2133720"/>
            <a:chOff x="3200400" y="1371600"/>
            <a:chExt cx="4343400" cy="2133720"/>
          </a:xfrm>
        </p:grpSpPr>
        <p:sp>
          <p:nvSpPr>
            <p:cNvPr id="1668" name=""/>
            <p:cNvSpPr/>
            <p:nvPr/>
          </p:nvSpPr>
          <p:spPr>
            <a:xfrm>
              <a:off x="3886200" y="1600200"/>
              <a:ext cx="34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O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mož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že stići možda putujući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 zatim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00400" y="1371600"/>
              <a:ext cx="4343400" cy="2133720"/>
            </a:xfrm>
            <a:prstGeom prst="cloudCallout">
              <a:avLst>
                <a:gd name="adj1" fmla="val -46273"/>
                <a:gd name="adj2" fmla="val 74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4876920" y="4038480"/>
            <a:ext cx="411480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ti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čk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r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l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gori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FFB-DD0E-402A-B5D3-03996A6109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696600" y="1523880"/>
            <a:ext cx="7304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risati čvorove brojev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…,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od čv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čv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prolaska kroz bilo koji drugi č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(edge(i,j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ka to bude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između čvo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prolazi kroz čvoro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, …, k, as intermediate vertices,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a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ješenje načeg 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7758000" y="152280"/>
            <a:ext cx="1100160" cy="228600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7E0-6C23-496E-8145-FE7B891E3A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3174840" y="2049480"/>
            <a:ext cx="11160" cy="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"/>
          <p:cNvSpPr/>
          <p:nvPr/>
        </p:nvSpPr>
        <p:spPr>
          <a:xfrm>
            <a:off x="4194000" y="2657520"/>
            <a:ext cx="5004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"/>
          <p:cNvSpPr/>
          <p:nvPr/>
        </p:nvSpPr>
        <p:spPr>
          <a:xfrm>
            <a:off x="5978520" y="2284560"/>
            <a:ext cx="4986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"/>
          <p:cNvSpPr/>
          <p:nvPr/>
        </p:nvSpPr>
        <p:spPr>
          <a:xfrm>
            <a:off x="2819520" y="175248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79" name=""/>
          <p:cNvCxnSpPr>
            <a:stCxn id="1678" idx="4"/>
            <a:endCxn id="1676" idx="1"/>
          </p:cNvCxnSpPr>
          <p:nvPr/>
        </p:nvCxnSpPr>
        <p:spPr>
          <a:xfrm flipH="1" rot="16200000">
            <a:off x="3430800" y="1869840"/>
            <a:ext cx="473760" cy="1197360"/>
          </a:xfrm>
          <a:prstGeom prst="curvedConnector5">
            <a:avLst>
              <a:gd name="adj1" fmla="val 42889"/>
              <a:gd name="adj2" fmla="val 49984"/>
              <a:gd name="adj3" fmla="val 4288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0" name=""/>
          <p:cNvCxnSpPr>
            <a:stCxn id="1676" idx="7"/>
            <a:endCxn id="1677" idx="3"/>
          </p:cNvCxnSpPr>
          <p:nvPr/>
        </p:nvCxnSpPr>
        <p:spPr>
          <a:xfrm flipH="1" flipV="1" rot="5400000">
            <a:off x="5330880" y="1985040"/>
            <a:ext cx="10080" cy="1430640"/>
          </a:xfrm>
          <a:prstGeom prst="curvedConnector5">
            <a:avLst>
              <a:gd name="adj1" fmla="val -1914814"/>
              <a:gd name="adj2" fmla="val 23408"/>
              <a:gd name="adj3" fmla="val -19148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1" name=""/>
          <p:cNvSpPr/>
          <p:nvPr/>
        </p:nvSpPr>
        <p:spPr>
          <a:xfrm>
            <a:off x="1314360" y="259092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"/>
          <p:cNvSpPr/>
          <p:nvPr/>
        </p:nvSpPr>
        <p:spPr>
          <a:xfrm>
            <a:off x="4776480" y="289548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3" name=""/>
          <p:cNvCxnSpPr>
            <a:stCxn id="1678" idx="5"/>
            <a:endCxn id="1677" idx="2"/>
          </p:cNvCxnSpPr>
          <p:nvPr/>
        </p:nvCxnSpPr>
        <p:spPr>
          <a:xfrm flipH="1" rot="16200000">
            <a:off x="4428360" y="983160"/>
            <a:ext cx="349920" cy="27136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684" name=""/>
          <p:cNvSpPr/>
          <p:nvPr/>
        </p:nvSpPr>
        <p:spPr>
          <a:xfrm>
            <a:off x="3222720" y="160020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 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1720800" y="3917880"/>
                <a:ext cx="618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ight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dg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rana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č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76520" y="5410080"/>
                <a:ext cx="4505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F6D-10AD-4817-B690-2AD77CFA88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761040" y="182880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"/>
          <p:cNvSpPr/>
          <p:nvPr/>
        </p:nvSpPr>
        <p:spPr>
          <a:xfrm>
            <a:off x="1360440" y="4987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"/>
          <p:cNvSpPr/>
          <p:nvPr/>
        </p:nvSpPr>
        <p:spPr>
          <a:xfrm>
            <a:off x="136044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655720" y="36162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4103640" y="4911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402732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4" name=""/>
          <p:cNvCxnSpPr>
            <a:stCxn id="1689" idx="0"/>
            <a:endCxn id="1690" idx="4"/>
          </p:cNvCxnSpPr>
          <p:nvPr/>
        </p:nvCxnSpPr>
        <p:spPr>
          <a:xfrm flipV="1">
            <a:off x="1588680" y="28634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5" name=""/>
          <p:cNvCxnSpPr>
            <a:stCxn id="1689" idx="6"/>
            <a:endCxn id="1692" idx="2"/>
          </p:cNvCxnSpPr>
          <p:nvPr/>
        </p:nvCxnSpPr>
        <p:spPr>
          <a:xfrm flipV="1">
            <a:off x="1827000" y="51397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0" idx="5"/>
            <a:endCxn id="1691" idx="1"/>
          </p:cNvCxnSpPr>
          <p:nvPr/>
        </p:nvCxnSpPr>
        <p:spPr>
          <a:xfrm>
            <a:off x="1750680" y="27972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92" idx="0"/>
            <a:endCxn id="1693" idx="4"/>
          </p:cNvCxnSpPr>
          <p:nvPr/>
        </p:nvCxnSpPr>
        <p:spPr>
          <a:xfrm flipH="1" flipV="1">
            <a:off x="4255920" y="28634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8" name=""/>
          <p:cNvCxnSpPr>
            <a:stCxn id="1689" idx="7"/>
            <a:endCxn id="1691" idx="3"/>
          </p:cNvCxnSpPr>
          <p:nvPr/>
        </p:nvCxnSpPr>
        <p:spPr>
          <a:xfrm flipV="1">
            <a:off x="1750680" y="40161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6"/>
            <a:endCxn id="1693" idx="2"/>
          </p:cNvCxnSpPr>
          <p:nvPr/>
        </p:nvCxnSpPr>
        <p:spPr>
          <a:xfrm>
            <a:off x="1827000" y="26254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0" name=""/>
          <p:cNvCxnSpPr>
            <a:stCxn id="1692" idx="1"/>
            <a:endCxn id="1691" idx="5"/>
          </p:cNvCxnSpPr>
          <p:nvPr/>
        </p:nvCxnSpPr>
        <p:spPr>
          <a:xfrm flipH="1" flipV="1">
            <a:off x="3045960" y="40158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3" idx="3"/>
            <a:endCxn id="1691" idx="7"/>
          </p:cNvCxnSpPr>
          <p:nvPr/>
        </p:nvCxnSpPr>
        <p:spPr>
          <a:xfrm flipH="1">
            <a:off x="3045960" y="27972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2" name=""/>
          <p:cNvSpPr/>
          <p:nvPr/>
        </p:nvSpPr>
        <p:spPr>
          <a:xfrm>
            <a:off x="1286280" y="354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2151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"/>
          <p:cNvSpPr/>
          <p:nvPr/>
        </p:nvSpPr>
        <p:spPr>
          <a:xfrm>
            <a:off x="3294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"/>
          <p:cNvSpPr/>
          <p:nvPr/>
        </p:nvSpPr>
        <p:spPr>
          <a:xfrm>
            <a:off x="2760840" y="521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4285080" y="361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"/>
          <p:cNvSpPr/>
          <p:nvPr/>
        </p:nvSpPr>
        <p:spPr>
          <a:xfrm>
            <a:off x="3267360" y="285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2200680" y="293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283716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574-F631-4255-8622-21CB97B7D8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837000" y="175248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13874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138744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"/>
          <p:cNvSpPr/>
          <p:nvPr/>
        </p:nvSpPr>
        <p:spPr>
          <a:xfrm>
            <a:off x="268272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"/>
          <p:cNvSpPr/>
          <p:nvPr/>
        </p:nvSpPr>
        <p:spPr>
          <a:xfrm>
            <a:off x="413064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40543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9" name=""/>
          <p:cNvCxnSpPr>
            <a:stCxn id="1714" idx="0"/>
            <a:endCxn id="1715" idx="4"/>
          </p:cNvCxnSpPr>
          <p:nvPr/>
        </p:nvCxnSpPr>
        <p:spPr>
          <a:xfrm flipV="1">
            <a:off x="161568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0" name=""/>
          <p:cNvCxnSpPr>
            <a:stCxn id="1714" idx="6"/>
            <a:endCxn id="1717" idx="2"/>
          </p:cNvCxnSpPr>
          <p:nvPr/>
        </p:nvCxnSpPr>
        <p:spPr>
          <a:xfrm flipV="1">
            <a:off x="185400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1" name=""/>
          <p:cNvCxnSpPr>
            <a:stCxn id="1715" idx="5"/>
            <a:endCxn id="1716" idx="1"/>
          </p:cNvCxnSpPr>
          <p:nvPr/>
        </p:nvCxnSpPr>
        <p:spPr>
          <a:xfrm>
            <a:off x="177768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2" name=""/>
          <p:cNvCxnSpPr>
            <a:stCxn id="1717" idx="0"/>
            <a:endCxn id="1718" idx="4"/>
          </p:cNvCxnSpPr>
          <p:nvPr/>
        </p:nvCxnSpPr>
        <p:spPr>
          <a:xfrm flipH="1" flipV="1">
            <a:off x="428292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4" idx="7"/>
            <a:endCxn id="1716" idx="3"/>
          </p:cNvCxnSpPr>
          <p:nvPr/>
        </p:nvCxnSpPr>
        <p:spPr>
          <a:xfrm flipV="1">
            <a:off x="177768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4" name=""/>
          <p:cNvCxnSpPr>
            <a:stCxn id="1715" idx="6"/>
            <a:endCxn id="1718" idx="2"/>
          </p:cNvCxnSpPr>
          <p:nvPr/>
        </p:nvCxnSpPr>
        <p:spPr>
          <a:xfrm>
            <a:off x="185400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5" name=""/>
          <p:cNvCxnSpPr>
            <a:stCxn id="1717" idx="1"/>
            <a:endCxn id="1716" idx="5"/>
          </p:cNvCxnSpPr>
          <p:nvPr/>
        </p:nvCxnSpPr>
        <p:spPr>
          <a:xfrm flipH="1" flipV="1">
            <a:off x="307296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6" name=""/>
          <p:cNvCxnSpPr>
            <a:stCxn id="1718" idx="3"/>
            <a:endCxn id="1716" idx="7"/>
          </p:cNvCxnSpPr>
          <p:nvPr/>
        </p:nvCxnSpPr>
        <p:spPr>
          <a:xfrm flipH="1">
            <a:off x="307296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27" name=""/>
          <p:cNvSpPr/>
          <p:nvPr/>
        </p:nvSpPr>
        <p:spPr>
          <a:xfrm>
            <a:off x="131328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"/>
          <p:cNvSpPr/>
          <p:nvPr/>
        </p:nvSpPr>
        <p:spPr>
          <a:xfrm>
            <a:off x="2178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3321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"/>
          <p:cNvSpPr/>
          <p:nvPr/>
        </p:nvSpPr>
        <p:spPr>
          <a:xfrm>
            <a:off x="278784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>
            <a:off x="43120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"/>
          <p:cNvSpPr/>
          <p:nvPr/>
        </p:nvSpPr>
        <p:spPr>
          <a:xfrm>
            <a:off x="329436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/>
          <p:nvPr/>
        </p:nvSpPr>
        <p:spPr>
          <a:xfrm>
            <a:off x="222768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"/>
          <p:cNvSpPr/>
          <p:nvPr/>
        </p:nvSpPr>
        <p:spPr>
          <a:xfrm>
            <a:off x="286416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791-C8E1-4A79-B666-F0BD7C2735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76104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"/>
          <p:cNvSpPr/>
          <p:nvPr/>
        </p:nvSpPr>
        <p:spPr>
          <a:xfrm>
            <a:off x="131112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13111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"/>
          <p:cNvSpPr/>
          <p:nvPr/>
        </p:nvSpPr>
        <p:spPr>
          <a:xfrm>
            <a:off x="260676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40543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"/>
          <p:cNvSpPr/>
          <p:nvPr/>
        </p:nvSpPr>
        <p:spPr>
          <a:xfrm>
            <a:off x="397836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4" name=""/>
          <p:cNvCxnSpPr>
            <a:stCxn id="1739" idx="0"/>
            <a:endCxn id="1740" idx="4"/>
          </p:cNvCxnSpPr>
          <p:nvPr/>
        </p:nvCxnSpPr>
        <p:spPr>
          <a:xfrm flipV="1">
            <a:off x="153936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5" name=""/>
          <p:cNvCxnSpPr>
            <a:stCxn id="1739" idx="6"/>
            <a:endCxn id="1742" idx="2"/>
          </p:cNvCxnSpPr>
          <p:nvPr/>
        </p:nvCxnSpPr>
        <p:spPr>
          <a:xfrm flipV="1">
            <a:off x="177768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6" name=""/>
          <p:cNvCxnSpPr>
            <a:stCxn id="1740" idx="5"/>
            <a:endCxn id="1741" idx="1"/>
          </p:cNvCxnSpPr>
          <p:nvPr/>
        </p:nvCxnSpPr>
        <p:spPr>
          <a:xfrm>
            <a:off x="170136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7" name=""/>
          <p:cNvCxnSpPr>
            <a:stCxn id="1742" idx="0"/>
            <a:endCxn id="1743" idx="4"/>
          </p:cNvCxnSpPr>
          <p:nvPr/>
        </p:nvCxnSpPr>
        <p:spPr>
          <a:xfrm flipH="1" flipV="1">
            <a:off x="420624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8" name=""/>
          <p:cNvCxnSpPr>
            <a:stCxn id="1739" idx="7"/>
            <a:endCxn id="1741" idx="3"/>
          </p:cNvCxnSpPr>
          <p:nvPr/>
        </p:nvCxnSpPr>
        <p:spPr>
          <a:xfrm flipV="1">
            <a:off x="170136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9" name=""/>
          <p:cNvCxnSpPr>
            <a:stCxn id="1740" idx="6"/>
            <a:endCxn id="1743" idx="2"/>
          </p:cNvCxnSpPr>
          <p:nvPr/>
        </p:nvCxnSpPr>
        <p:spPr>
          <a:xfrm>
            <a:off x="177768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0" name=""/>
          <p:cNvCxnSpPr>
            <a:stCxn id="1742" idx="1"/>
            <a:endCxn id="1741" idx="5"/>
          </p:cNvCxnSpPr>
          <p:nvPr/>
        </p:nvCxnSpPr>
        <p:spPr>
          <a:xfrm flipH="1" flipV="1">
            <a:off x="299700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1" name=""/>
          <p:cNvCxnSpPr>
            <a:stCxn id="1743" idx="3"/>
            <a:endCxn id="1741" idx="7"/>
          </p:cNvCxnSpPr>
          <p:nvPr/>
        </p:nvCxnSpPr>
        <p:spPr>
          <a:xfrm flipH="1">
            <a:off x="299700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52" name=""/>
          <p:cNvSpPr/>
          <p:nvPr/>
        </p:nvSpPr>
        <p:spPr>
          <a:xfrm>
            <a:off x="12369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2102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3245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27118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>
            <a:off x="423576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"/>
          <p:cNvSpPr/>
          <p:nvPr/>
        </p:nvSpPr>
        <p:spPr>
          <a:xfrm>
            <a:off x="321804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"/>
          <p:cNvSpPr/>
          <p:nvPr/>
        </p:nvSpPr>
        <p:spPr>
          <a:xfrm>
            <a:off x="215136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"/>
          <p:cNvSpPr/>
          <p:nvPr/>
        </p:nvSpPr>
        <p:spPr>
          <a:xfrm>
            <a:off x="278784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767-B83C-4F99-9088-5411D97B39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9" name=""/>
          <p:cNvCxnSpPr>
            <a:stCxn id="1764" idx="0"/>
            <a:endCxn id="1765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4" idx="6"/>
            <a:endCxn id="1767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5" idx="5"/>
            <a:endCxn id="1766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7" idx="0"/>
            <a:endCxn id="1768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3" name=""/>
          <p:cNvCxnSpPr>
            <a:stCxn id="1764" idx="7"/>
            <a:endCxn id="1766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4" name=""/>
          <p:cNvCxnSpPr>
            <a:stCxn id="1765" idx="6"/>
            <a:endCxn id="1768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5" name=""/>
          <p:cNvCxnSpPr>
            <a:stCxn id="1767" idx="1"/>
            <a:endCxn id="1766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68" idx="3"/>
            <a:endCxn id="1766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7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E33-C078-4CFB-A6FA-3648FB60C1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94" name=""/>
          <p:cNvCxnSpPr>
            <a:stCxn id="1789" idx="0"/>
            <a:endCxn id="1790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5" name=""/>
          <p:cNvCxnSpPr>
            <a:stCxn id="1789" idx="6"/>
            <a:endCxn id="1792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0" idx="5"/>
            <a:endCxn id="1791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2" idx="0"/>
            <a:endCxn id="1793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89" idx="7"/>
            <a:endCxn id="1791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9" name=""/>
          <p:cNvCxnSpPr>
            <a:stCxn id="1790" idx="6"/>
            <a:endCxn id="1793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0" name=""/>
          <p:cNvCxnSpPr>
            <a:stCxn id="1792" idx="1"/>
            <a:endCxn id="1791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1" name=""/>
          <p:cNvCxnSpPr>
            <a:stCxn id="1793" idx="3"/>
            <a:endCxn id="1791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02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1C7-5794-4E24-8DC5-A470413D27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2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905120"/>
            <a:ext cx="2089080" cy="1272240"/>
            <a:chOff x="533520" y="1905120"/>
            <a:chExt cx="2089080" cy="1272240"/>
          </a:xfrm>
        </p:grpSpPr>
        <p:sp>
          <p:nvSpPr>
            <p:cNvPr id="338" name=""/>
            <p:cNvSpPr/>
            <p:nvPr/>
          </p:nvSpPr>
          <p:spPr>
            <a:xfrm>
              <a:off x="2440080" y="2043000"/>
              <a:ext cx="36360" cy="1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008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0080" y="2060640"/>
              <a:ext cx="36360" cy="79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38200" y="288108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23"/>
                  </a:moveTo>
                  <a:lnTo>
                    <a:pt x="6" y="29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54120" y="259884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2" y="23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18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73200" y="2598840"/>
              <a:ext cx="774720" cy="318960"/>
            </a:xfrm>
            <a:custGeom>
              <a:avLst/>
              <a:gdLst/>
              <a:ahLst/>
              <a:rect l="l" t="t" r="r" b="b"/>
              <a:pathLst>
                <a:path w="488" h="201">
                  <a:moveTo>
                    <a:pt x="482" y="201"/>
                  </a:moveTo>
                  <a:lnTo>
                    <a:pt x="488" y="178"/>
                  </a:lnTo>
                  <a:lnTo>
                    <a:pt x="6" y="0"/>
                  </a:lnTo>
                  <a:lnTo>
                    <a:pt x="0" y="23"/>
                  </a:lnTo>
                  <a:lnTo>
                    <a:pt x="482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480" y="2598840"/>
              <a:ext cx="3672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3"/>
                  </a:move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9400" y="214308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1" y="29"/>
                  </a:moveTo>
                  <a:lnTo>
                    <a:pt x="0" y="23"/>
                  </a:lnTo>
                  <a:lnTo>
                    <a:pt x="17" y="0"/>
                  </a:lnTo>
                  <a:lnTo>
                    <a:pt x="23" y="6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2152440"/>
              <a:ext cx="785520" cy="482760"/>
            </a:xfrm>
            <a:custGeom>
              <a:avLst/>
              <a:gdLst/>
              <a:ahLst/>
              <a:rect l="l" t="t" r="r" b="b"/>
              <a:pathLst>
                <a:path w="495" h="304">
                  <a:moveTo>
                    <a:pt x="483" y="304"/>
                  </a:moveTo>
                  <a:lnTo>
                    <a:pt x="495" y="28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483" y="3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3480" y="2598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23" y="1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040" y="29448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23"/>
                  </a:moveTo>
                  <a:lnTo>
                    <a:pt x="6" y="29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5400" y="2598840"/>
              <a:ext cx="857160" cy="382320"/>
            </a:xfrm>
            <a:custGeom>
              <a:avLst/>
              <a:gdLst/>
              <a:ahLst/>
              <a:rect l="l" t="t" r="r" b="b"/>
              <a:pathLst>
                <a:path w="540" h="241">
                  <a:moveTo>
                    <a:pt x="540" y="23"/>
                  </a:moveTo>
                  <a:lnTo>
                    <a:pt x="528" y="0"/>
                  </a:lnTo>
                  <a:lnTo>
                    <a:pt x="0" y="218"/>
                  </a:lnTo>
                  <a:lnTo>
                    <a:pt x="11" y="241"/>
                  </a:lnTo>
                  <a:lnTo>
                    <a:pt x="54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960" y="2197080"/>
              <a:ext cx="3636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96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960" y="2216160"/>
              <a:ext cx="36360" cy="63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9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573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9040" y="2043000"/>
              <a:ext cx="17683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573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040" y="2990880"/>
              <a:ext cx="1768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520" y="1905120"/>
              <a:ext cx="31896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400" y="1909800"/>
              <a:ext cx="31284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93920" y="2854440"/>
              <a:ext cx="32868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7160" y="2857320"/>
              <a:ext cx="32076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7680" y="2462040"/>
              <a:ext cx="31896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20920" y="2465280"/>
              <a:ext cx="312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3920" y="1905120"/>
              <a:ext cx="32868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7160" y="1909800"/>
              <a:ext cx="32076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854440"/>
              <a:ext cx="31896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400" y="2857320"/>
              <a:ext cx="31284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240" y="1931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4000" y="1960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7040" y="2489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960" y="2917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03360" y="289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03440" y="5981760"/>
            <a:ext cx="79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756440" y="4800600"/>
            <a:ext cx="40636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g(v)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8320" y="1828800"/>
            <a:ext cx="2173320" cy="2324160"/>
            <a:chOff x="4648320" y="1828800"/>
            <a:chExt cx="2173320" cy="2324160"/>
          </a:xfrm>
        </p:grpSpPr>
        <p:sp>
          <p:nvSpPr>
            <p:cNvPr id="377" name=""/>
            <p:cNvSpPr/>
            <p:nvPr/>
          </p:nvSpPr>
          <p:spPr>
            <a:xfrm>
              <a:off x="5280480" y="3760560"/>
              <a:ext cx="154116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2200" y="3241440"/>
              <a:ext cx="154152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2200" y="2768400"/>
              <a:ext cx="1541520" cy="3906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72200" y="2320920"/>
              <a:ext cx="98604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1828800"/>
              <a:ext cx="154152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4080" y="20066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1560" y="200664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4080" y="200664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200664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080" y="249876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560" y="249876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4080" y="249876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30920" y="249876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4080" y="295416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21560" y="295416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4080" y="295416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95416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4080" y="393048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1560" y="393048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04080" y="393048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30920" y="393048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69120" y="394020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69120" y="3438360"/>
              <a:ext cx="113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69120" y="296388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69120" y="2508120"/>
              <a:ext cx="61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1920" y="2014560"/>
              <a:ext cx="103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4528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476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2020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528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020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528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476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2020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500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412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2956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4528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9476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020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26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26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7240" y="1887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97240" y="38116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0660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30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296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24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296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7880" y="2862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7180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232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944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8320" y="18414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560" y="184608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8320" y="230652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51560" y="231120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8320" y="279072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51560" y="279396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8320" y="326556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1560" y="3268440"/>
              <a:ext cx="303480" cy="3034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37386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1560" y="374328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4080" y="342900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30920" y="342900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40640" y="342900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8680" y="234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1440" y="1866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58840" y="28033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600" y="3298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8320" y="37702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F14-E077-4A1A-B773-454B73374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761040" y="175248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13111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"/>
          <p:cNvSpPr/>
          <p:nvPr/>
        </p:nvSpPr>
        <p:spPr>
          <a:xfrm>
            <a:off x="13111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"/>
          <p:cNvSpPr/>
          <p:nvPr/>
        </p:nvSpPr>
        <p:spPr>
          <a:xfrm>
            <a:off x="260676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"/>
          <p:cNvSpPr/>
          <p:nvPr/>
        </p:nvSpPr>
        <p:spPr>
          <a:xfrm>
            <a:off x="405432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"/>
          <p:cNvSpPr/>
          <p:nvPr/>
        </p:nvSpPr>
        <p:spPr>
          <a:xfrm>
            <a:off x="397836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9" name=""/>
          <p:cNvCxnSpPr>
            <a:stCxn id="1814" idx="0"/>
            <a:endCxn id="1815" idx="4"/>
          </p:cNvCxnSpPr>
          <p:nvPr/>
        </p:nvCxnSpPr>
        <p:spPr>
          <a:xfrm flipV="1">
            <a:off x="153936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0" name=""/>
          <p:cNvCxnSpPr>
            <a:stCxn id="1814" idx="6"/>
            <a:endCxn id="1817" idx="2"/>
          </p:cNvCxnSpPr>
          <p:nvPr/>
        </p:nvCxnSpPr>
        <p:spPr>
          <a:xfrm flipV="1">
            <a:off x="177768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1" name=""/>
          <p:cNvCxnSpPr>
            <a:stCxn id="1815" idx="5"/>
            <a:endCxn id="1816" idx="1"/>
          </p:cNvCxnSpPr>
          <p:nvPr/>
        </p:nvCxnSpPr>
        <p:spPr>
          <a:xfrm>
            <a:off x="170136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7" idx="0"/>
            <a:endCxn id="1818" idx="4"/>
          </p:cNvCxnSpPr>
          <p:nvPr/>
        </p:nvCxnSpPr>
        <p:spPr>
          <a:xfrm flipH="1" flipV="1">
            <a:off x="420624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4" idx="7"/>
            <a:endCxn id="1816" idx="3"/>
          </p:cNvCxnSpPr>
          <p:nvPr/>
        </p:nvCxnSpPr>
        <p:spPr>
          <a:xfrm flipV="1">
            <a:off x="170136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15" idx="6"/>
            <a:endCxn id="1818" idx="2"/>
          </p:cNvCxnSpPr>
          <p:nvPr/>
        </p:nvCxnSpPr>
        <p:spPr>
          <a:xfrm>
            <a:off x="177768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17" idx="1"/>
            <a:endCxn id="1816" idx="5"/>
          </p:cNvCxnSpPr>
          <p:nvPr/>
        </p:nvCxnSpPr>
        <p:spPr>
          <a:xfrm flipH="1" flipV="1">
            <a:off x="299700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3"/>
            <a:endCxn id="1816" idx="7"/>
          </p:cNvCxnSpPr>
          <p:nvPr/>
        </p:nvCxnSpPr>
        <p:spPr>
          <a:xfrm flipH="1">
            <a:off x="299700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123696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"/>
          <p:cNvSpPr/>
          <p:nvPr/>
        </p:nvSpPr>
        <p:spPr>
          <a:xfrm>
            <a:off x="2102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"/>
          <p:cNvSpPr/>
          <p:nvPr/>
        </p:nvSpPr>
        <p:spPr>
          <a:xfrm>
            <a:off x="3245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"/>
          <p:cNvSpPr/>
          <p:nvPr/>
        </p:nvSpPr>
        <p:spPr>
          <a:xfrm>
            <a:off x="27118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"/>
          <p:cNvSpPr/>
          <p:nvPr/>
        </p:nvSpPr>
        <p:spPr>
          <a:xfrm>
            <a:off x="42357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321804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2151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278784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C3A-4C39-4D27-820A-7E1D26913B3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447920" y="1828800"/>
            <a:ext cx="655308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gorit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ovi 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tex pairs (i,j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 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edge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 of ed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n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"/>
          <p:cNvSpPr/>
          <p:nvPr/>
        </p:nvSpPr>
        <p:spPr>
          <a:xfrm>
            <a:off x="6858720" y="2590920"/>
            <a:ext cx="11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"/>
          <p:cNvSpPr/>
          <p:nvPr/>
        </p:nvSpPr>
        <p:spPr>
          <a:xfrm>
            <a:off x="7094520" y="4343400"/>
            <a:ext cx="8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1F9-0931-4EEB-86C3-DE395D3DD5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alno drvo razapinjan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um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397-A32A-4CEB-B865-F7DCD35F5B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ati gr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V,E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editi dr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V,E’), E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da je suma težina grana drveta T minim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naziva minimalnim drvetom razapinjanja grafa G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al spanning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597-330D-4AA2-8B8E-472209A736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56" name=""/>
          <p:cNvCxnSpPr>
            <a:stCxn id="1850" idx="6"/>
            <a:endCxn id="185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stCxn id="1853" idx="6"/>
            <a:endCxn id="184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8" name=""/>
          <p:cNvCxnSpPr>
            <a:stCxn id="1849" idx="6"/>
            <a:endCxn id="185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9" name=""/>
          <p:cNvCxnSpPr>
            <a:stCxn id="1852" idx="6"/>
            <a:endCxn id="185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0" name=""/>
          <p:cNvCxnSpPr>
            <a:stCxn id="1850" idx="4"/>
            <a:endCxn id="184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1" name=""/>
          <p:cNvCxnSpPr>
            <a:stCxn id="1848" idx="4"/>
            <a:endCxn id="185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49" idx="7"/>
            <a:endCxn id="185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4" idx="7"/>
            <a:endCxn id="185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53" idx="5"/>
            <a:endCxn id="185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54" idx="5"/>
            <a:endCxn id="185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1" idx="7"/>
            <a:endCxn id="185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7" name=""/>
          <p:cNvCxnSpPr>
            <a:stCxn id="1851" idx="5"/>
            <a:endCxn id="184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55" idx="7"/>
            <a:endCxn id="184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48" idx="5"/>
            <a:endCxn id="184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7B2-C793-40C9-A9DA-8F026AEF95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94" name=""/>
          <p:cNvCxnSpPr>
            <a:stCxn id="1888" idx="6"/>
            <a:endCxn id="189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91" idx="6"/>
            <a:endCxn id="188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87" idx="6"/>
            <a:endCxn id="189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7" name=""/>
          <p:cNvCxnSpPr>
            <a:stCxn id="1890" idx="6"/>
            <a:endCxn id="189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8" name=""/>
          <p:cNvCxnSpPr>
            <a:stCxn id="1888" idx="4"/>
            <a:endCxn id="188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9" name=""/>
          <p:cNvCxnSpPr>
            <a:stCxn id="1886" idx="4"/>
            <a:endCxn id="189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0" name=""/>
          <p:cNvCxnSpPr>
            <a:stCxn id="1887" idx="7"/>
            <a:endCxn id="189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1" name=""/>
          <p:cNvCxnSpPr>
            <a:stCxn id="1892" idx="7"/>
            <a:endCxn id="189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2" name=""/>
          <p:cNvCxnSpPr>
            <a:stCxn id="1891" idx="5"/>
            <a:endCxn id="189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2" idx="5"/>
            <a:endCxn id="189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889" idx="7"/>
            <a:endCxn id="188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5" name=""/>
          <p:cNvCxnSpPr>
            <a:stCxn id="1889" idx="5"/>
            <a:endCxn id="188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6" name=""/>
          <p:cNvCxnSpPr>
            <a:stCxn id="1893" idx="7"/>
            <a:endCxn id="188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7" name=""/>
          <p:cNvCxnSpPr>
            <a:stCxn id="1886" idx="5"/>
            <a:endCxn id="188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0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DB8-F5EE-4CCB-A49D-DCCEFC8B3FB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2" name=""/>
          <p:cNvCxnSpPr>
            <a:stCxn id="1926" idx="6"/>
            <a:endCxn id="192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29" idx="6"/>
            <a:endCxn id="192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4" name=""/>
          <p:cNvCxnSpPr>
            <a:stCxn id="1925" idx="6"/>
            <a:endCxn id="192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5" name=""/>
          <p:cNvCxnSpPr>
            <a:stCxn id="1928" idx="6"/>
            <a:endCxn id="193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6" name=""/>
          <p:cNvCxnSpPr>
            <a:stCxn id="1926" idx="4"/>
            <a:endCxn id="192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4" idx="4"/>
            <a:endCxn id="193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8" name=""/>
          <p:cNvCxnSpPr>
            <a:stCxn id="1925" idx="7"/>
            <a:endCxn id="193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30" idx="7"/>
            <a:endCxn id="192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29" idx="5"/>
            <a:endCxn id="193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0" idx="5"/>
            <a:endCxn id="192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27" idx="7"/>
            <a:endCxn id="192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27" idx="5"/>
            <a:endCxn id="192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4" name=""/>
          <p:cNvCxnSpPr>
            <a:stCxn id="1931" idx="7"/>
            <a:endCxn id="192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24" idx="5"/>
            <a:endCxn id="192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34E-DA4A-468D-A3AE-183A4C68D26B}" type="slidenum">
              <a:t>56</a:t>
            </a:fld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0" name=""/>
          <p:cNvCxnSpPr>
            <a:stCxn id="1964" idx="6"/>
            <a:endCxn id="196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7" idx="6"/>
            <a:endCxn id="196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2" name=""/>
          <p:cNvCxnSpPr>
            <a:stCxn id="1963" idx="6"/>
            <a:endCxn id="196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3" name=""/>
          <p:cNvCxnSpPr>
            <a:stCxn id="1966" idx="6"/>
            <a:endCxn id="196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4" name=""/>
          <p:cNvCxnSpPr>
            <a:stCxn id="1964" idx="4"/>
            <a:endCxn id="196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5" name=""/>
          <p:cNvCxnSpPr>
            <a:stCxn id="1962" idx="4"/>
            <a:endCxn id="196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6" name=""/>
          <p:cNvCxnSpPr>
            <a:stCxn id="1963" idx="7"/>
            <a:endCxn id="196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68" idx="7"/>
            <a:endCxn id="196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67" idx="5"/>
            <a:endCxn id="196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8" idx="5"/>
            <a:endCxn id="196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0" name=""/>
          <p:cNvCxnSpPr>
            <a:stCxn id="1965" idx="7"/>
            <a:endCxn id="196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81" name=""/>
          <p:cNvCxnSpPr>
            <a:stCxn id="1965" idx="5"/>
            <a:endCxn id="196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2" name=""/>
          <p:cNvCxnSpPr>
            <a:stCxn id="1969" idx="7"/>
            <a:endCxn id="196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62" idx="5"/>
            <a:endCxn id="196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611-CE09-43BA-8F9D-37AE7AE440F8}" type="slidenum">
              <a:t>57</a:t>
            </a:fld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90480" y="1827360"/>
            <a:ext cx="800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Kruska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ake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rt the edges of E[G] by nondecreasing weigh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[G], in order by nondecreasing weigh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{(u,v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D0C-42A3-4590-ADC9-7DEAF9CC6A3D}" type="slidenum">
              <a:t>58</a:t>
            </a:fld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10" name=""/>
          <p:cNvCxnSpPr>
            <a:stCxn id="2004" idx="6"/>
            <a:endCxn id="20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1" name=""/>
          <p:cNvCxnSpPr>
            <a:stCxn id="2007" idx="6"/>
            <a:endCxn id="20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2" name=""/>
          <p:cNvCxnSpPr>
            <a:stCxn id="2003" idx="6"/>
            <a:endCxn id="20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3" name=""/>
          <p:cNvCxnSpPr>
            <a:stCxn id="2006" idx="6"/>
            <a:endCxn id="20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4" name=""/>
          <p:cNvCxnSpPr>
            <a:stCxn id="2004" idx="4"/>
            <a:endCxn id="20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02" idx="4"/>
            <a:endCxn id="20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03" idx="7"/>
            <a:endCxn id="20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08" idx="7"/>
            <a:endCxn id="20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07" idx="5"/>
            <a:endCxn id="20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08" idx="5"/>
            <a:endCxn id="20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2005" idx="7"/>
            <a:endCxn id="20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2005" idx="5"/>
            <a:endCxn id="20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2" name=""/>
          <p:cNvCxnSpPr>
            <a:stCxn id="2009" idx="7"/>
            <a:endCxn id="20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3" name=""/>
          <p:cNvCxnSpPr>
            <a:stCxn id="2002" idx="5"/>
            <a:endCxn id="20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22C-D14D-40FE-B06B-0BE4473A684A}" type="slidenum">
              <a:t>59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3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00960" y="283536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s O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63600" y="5154480"/>
            <a:ext cx="129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376280" y="5154480"/>
            <a:ext cx="78732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7575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7575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389240" y="4965840"/>
            <a:ext cx="787320" cy="1038240"/>
          </a:xfrm>
          <a:custGeom>
            <a:avLst/>
            <a:gdLst>
              <a:gd name="textAreaLeft" fmla="*/ 62640 w 787320"/>
              <a:gd name="textAreaRight" fmla="*/ 724680 w 78732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481">
                <a:moveTo>
                  <a:pt x="5891" y="0"/>
                </a:moveTo>
                <a:arcTo wR="5891" hR="5891" stAng="16200000" swAng="-5400000"/>
                <a:lnTo>
                  <a:pt x="0" y="22590"/>
                </a:lnTo>
                <a:arcTo wR="5891" hR="5891" stAng="10800000" swAng="-5400000"/>
                <a:lnTo>
                  <a:pt x="15709" y="28481"/>
                </a:lnTo>
                <a:arcTo wR="5891" hR="5891" stAng="5400000" swAng="-5400000"/>
                <a:lnTo>
                  <a:pt x="21600" y="5891"/>
                </a:lnTo>
                <a:arcTo wR="5891" hR="5891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5361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8547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2622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2748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66868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66868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28744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434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7658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3173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9974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0" y="5154480"/>
            <a:ext cx="8114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57984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57984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186000" y="4965840"/>
            <a:ext cx="811440" cy="1038240"/>
          </a:xfrm>
          <a:custGeom>
            <a:avLst/>
            <a:gdLst>
              <a:gd name="textAreaLeft" fmla="*/ 62640 w 811440"/>
              <a:gd name="textAreaRight" fmla="*/ 748800 w 8114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635">
                <a:moveTo>
                  <a:pt x="5718" y="0"/>
                </a:moveTo>
                <a:arcTo wR="5718" hR="5718" stAng="16200000" swAng="-5400000"/>
                <a:lnTo>
                  <a:pt x="0" y="21917"/>
                </a:lnTo>
                <a:arcTo wR="5718" hR="5718" stAng="10800000" swAng="-5400000"/>
                <a:lnTo>
                  <a:pt x="15882" y="27635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33328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36770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127400" y="582444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8960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4095720" y="5154480"/>
            <a:ext cx="8002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47840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47840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09716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424260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57560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49579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83236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970520" y="5154480"/>
            <a:ext cx="8618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881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53881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4965840"/>
            <a:ext cx="847800" cy="1038240"/>
          </a:xfrm>
          <a:custGeom>
            <a:avLst/>
            <a:gdLst>
              <a:gd name="textAreaLeft" fmla="*/ 62640 w 847800"/>
              <a:gd name="textAreaRight" fmla="*/ 785160 w 84780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6450">
                <a:moveTo>
                  <a:pt x="5476" y="0"/>
                </a:moveTo>
                <a:arcTo wR="5476" hR="5476" stAng="16200000" swAng="-5400000"/>
                <a:lnTo>
                  <a:pt x="0" y="20974"/>
                </a:lnTo>
                <a:arcTo wR="5476" hR="5476" stAng="10800000" swAng="-5400000"/>
                <a:lnTo>
                  <a:pt x="16124" y="26450"/>
                </a:lnTo>
                <a:arcTo wR="5476" hR="5476" stAng="5400000" swAng="-5400000"/>
                <a:lnTo>
                  <a:pt x="21600" y="5476"/>
                </a:lnTo>
                <a:arcTo wR="5476" hR="5476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514116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4979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8928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7183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59054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29928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29928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5905440" y="4965840"/>
            <a:ext cx="812880" cy="1038240"/>
          </a:xfrm>
          <a:custGeom>
            <a:avLst/>
            <a:gdLst>
              <a:gd name="textAreaLeft" fmla="*/ 63000 w 812880"/>
              <a:gd name="textAreaRight" fmla="*/ 749880 w 812880"/>
              <a:gd name="textAreaTop" fmla="*/ 63000 h 1038240"/>
              <a:gd name="textAreaBottom" fmla="*/ 975240 h 1038240"/>
            </a:gdLst>
            <a:ahLst/>
            <a:rect l="textAreaLeft" t="textAreaTop" r="textAreaRight" b="textAreaBottom"/>
            <a:pathLst>
              <a:path w="21600" h="27586">
                <a:moveTo>
                  <a:pt x="5718" y="0"/>
                </a:moveTo>
                <a:arcTo wR="5718" hR="5718" stAng="16200000" swAng="-5400000"/>
                <a:lnTo>
                  <a:pt x="0" y="21868"/>
                </a:lnTo>
                <a:arcTo wR="5718" hR="5718" stAng="10800000" swAng="-5400000"/>
                <a:lnTo>
                  <a:pt x="15882" y="27586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052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3964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6791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76280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5154480"/>
            <a:ext cx="8240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19784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719784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804000" y="4965840"/>
            <a:ext cx="824040" cy="1038240"/>
          </a:xfrm>
          <a:custGeom>
            <a:avLst/>
            <a:gdLst>
              <a:gd name="textAreaLeft" fmla="*/ 62640 w 824040"/>
              <a:gd name="textAreaRight" fmla="*/ 761400 w 8240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212">
                <a:moveTo>
                  <a:pt x="5635" y="0"/>
                </a:moveTo>
                <a:arcTo wR="5635" hR="5635" stAng="16200000" swAng="-5400000"/>
                <a:lnTo>
                  <a:pt x="0" y="21577"/>
                </a:lnTo>
                <a:arcTo wR="5635" hR="5635" stAng="10800000" swAng="-5400000"/>
                <a:lnTo>
                  <a:pt x="15965" y="27212"/>
                </a:lnTo>
                <a:arcTo wR="5635" hR="5635" stAng="5400000" swAng="-5400000"/>
                <a:lnTo>
                  <a:pt x="21600" y="5635"/>
                </a:lnTo>
                <a:arcTo wR="5635" hR="5635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9634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73076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8194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01528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80576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5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36088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252036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23371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24948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263160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718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2877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21012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235680" y="56786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3393360" y="56786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3568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39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639600" y="5265720"/>
            <a:ext cx="21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6529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124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41576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434124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52808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5277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46857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4563000" y="567864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734720" y="56786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5042880" y="52657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190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0198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517932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463000" y="5265720"/>
            <a:ext cx="2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54500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60952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574488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5931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608904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594144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608904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63486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65080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877800" y="526572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704952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47920" y="1600200"/>
            <a:ext cx="6510600" cy="3063600"/>
            <a:chOff x="1447920" y="1600200"/>
            <a:chExt cx="6510600" cy="3063600"/>
          </a:xfrm>
        </p:grpSpPr>
        <p:sp>
          <p:nvSpPr>
            <p:cNvPr id="559" name=""/>
            <p:cNvSpPr/>
            <p:nvPr/>
          </p:nvSpPr>
          <p:spPr>
            <a:xfrm>
              <a:off x="1447920" y="16002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7920" y="16016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86040" y="19429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5280" y="19429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01880" y="19429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58880" y="36907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8880" y="36925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16360" y="41767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45280" y="41767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2200" y="41767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172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1172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7200" y="40780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82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8200" y="39495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5000" y="40780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708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5640" y="39495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1840" y="40780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14880" y="39495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64920" y="40780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020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2020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68800" y="40780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7212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2120" y="39495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6920" y="4078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86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6716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84080" y="40780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736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736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1284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104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0832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832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653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51320" y="20714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81160" y="20714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004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352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9408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172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172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1172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84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56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00400" y="20714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43720" y="17859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3720" y="17874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13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74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504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504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504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120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9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2788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2892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892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7880" y="18716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88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988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3988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130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005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2892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2144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2144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3728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1332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324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24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796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75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056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2240" y="17859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7224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95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82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44480" y="1871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832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832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832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7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2240" y="20714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9632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632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44920" y="18716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3788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728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0728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0728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80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02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9632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24480" y="17859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2448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03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40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58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358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58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8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788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24480" y="20714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60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960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971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15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6092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092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092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37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3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960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708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75640" y="17874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929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8516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66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866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866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944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468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708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300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30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371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29040" y="18716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3960" y="20714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63960" y="24019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3960" y="20858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7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2280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30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43040" y="23446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54360" y="23302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694040" y="23302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601960" y="23158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62280" y="23302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811600" y="23158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00520" y="23302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2800" y="23302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14880" y="23302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41680" y="23302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83320" y="23302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737160" y="23302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397560" y="23302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60800" y="23446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168720" y="23302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65760" y="23302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34120" y="23302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899160" y="23446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986360" y="23302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87720" y="23018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840200" y="23302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128000" y="23302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72040" y="18842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9760" y="3941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7575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266868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357984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7840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3881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629928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719784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7174080" y="4361040"/>
            <a:ext cx="1346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049880" y="4437000"/>
            <a:ext cx="1260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6286680" y="4361040"/>
            <a:ext cx="110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361040"/>
            <a:ext cx="18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5400720" y="4361040"/>
            <a:ext cx="98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252760" y="4361040"/>
            <a:ext cx="363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4514760" y="4361040"/>
            <a:ext cx="9864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354200" y="4361040"/>
            <a:ext cx="49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3738600" y="4361040"/>
            <a:ext cx="14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468600" y="4361040"/>
            <a:ext cx="1605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41120" y="4361040"/>
            <a:ext cx="111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2557080" y="4411800"/>
            <a:ext cx="13500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81360" y="4344840"/>
            <a:ext cx="11088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658520" y="4437000"/>
            <a:ext cx="1969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90600" y="1996920"/>
            <a:ext cx="1731960" cy="3505320"/>
            <a:chOff x="390600" y="1996920"/>
            <a:chExt cx="1731960" cy="3505320"/>
          </a:xfrm>
        </p:grpSpPr>
        <p:sp>
          <p:nvSpPr>
            <p:cNvPr id="819" name=""/>
            <p:cNvSpPr/>
            <p:nvPr/>
          </p:nvSpPr>
          <p:spPr>
            <a:xfrm>
              <a:off x="452520" y="1996920"/>
              <a:ext cx="1333440" cy="3276720"/>
            </a:xfrm>
            <a:custGeom>
              <a:avLst/>
              <a:gdLst/>
              <a:ahLst/>
              <a:rect l="l" t="t" r="r" b="b"/>
              <a:pathLst>
                <a:path w="840" h="2064">
                  <a:moveTo>
                    <a:pt x="840" y="2064"/>
                  </a:moveTo>
                  <a:cubicBezTo>
                    <a:pt x="444" y="1780"/>
                    <a:pt x="48" y="1496"/>
                    <a:pt x="24" y="1152"/>
                  </a:cubicBezTo>
                  <a:cubicBezTo>
                    <a:pt x="0" y="808"/>
                    <a:pt x="348" y="404"/>
                    <a:pt x="69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0600" y="2055600"/>
              <a:ext cx="1731960" cy="3446640"/>
            </a:xfrm>
            <a:custGeom>
              <a:avLst/>
              <a:gdLst/>
              <a:ahLst/>
              <a:rect l="l" t="t" r="r" b="b"/>
              <a:pathLst>
                <a:path w="1091" h="2171">
                  <a:moveTo>
                    <a:pt x="855" y="2171"/>
                  </a:moveTo>
                  <a:cubicBezTo>
                    <a:pt x="459" y="1887"/>
                    <a:pt x="0" y="1621"/>
                    <a:pt x="39" y="1259"/>
                  </a:cubicBezTo>
                  <a:cubicBezTo>
                    <a:pt x="78" y="897"/>
                    <a:pt x="872" y="262"/>
                    <a:pt x="1091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1C8-D1D6-49DF-A486-7DD2A7FA1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48" name=""/>
          <p:cNvCxnSpPr>
            <a:stCxn id="2042" idx="6"/>
            <a:endCxn id="20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9" name=""/>
          <p:cNvCxnSpPr>
            <a:stCxn id="2045" idx="6"/>
            <a:endCxn id="20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0" name=""/>
          <p:cNvCxnSpPr>
            <a:stCxn id="2041" idx="6"/>
            <a:endCxn id="20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51" name=""/>
          <p:cNvCxnSpPr>
            <a:stCxn id="2044" idx="6"/>
            <a:endCxn id="20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2" name=""/>
          <p:cNvCxnSpPr>
            <a:stCxn id="2042" idx="4"/>
            <a:endCxn id="20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3" name=""/>
          <p:cNvCxnSpPr>
            <a:stCxn id="2040" idx="4"/>
            <a:endCxn id="20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4" name=""/>
          <p:cNvCxnSpPr>
            <a:stCxn id="2041" idx="7"/>
            <a:endCxn id="20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5" name=""/>
          <p:cNvCxnSpPr>
            <a:stCxn id="2046" idx="7"/>
            <a:endCxn id="20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6" name=""/>
          <p:cNvCxnSpPr>
            <a:stCxn id="2045" idx="5"/>
            <a:endCxn id="20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7" name=""/>
          <p:cNvCxnSpPr>
            <a:stCxn id="2046" idx="5"/>
            <a:endCxn id="20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8" name=""/>
          <p:cNvCxnSpPr>
            <a:stCxn id="2043" idx="7"/>
            <a:endCxn id="20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9" name=""/>
          <p:cNvCxnSpPr>
            <a:stCxn id="2043" idx="5"/>
            <a:endCxn id="20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0" name=""/>
          <p:cNvCxnSpPr>
            <a:stCxn id="2047" idx="7"/>
            <a:endCxn id="20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1" name=""/>
          <p:cNvCxnSpPr>
            <a:stCxn id="2040" idx="5"/>
            <a:endCxn id="20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AA2-2848-46AB-887E-3BF39665F17F}" type="slidenum">
              <a:t>60</a:t>
            </a:fld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86" name=""/>
          <p:cNvCxnSpPr>
            <a:stCxn id="2080" idx="6"/>
            <a:endCxn id="20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7" name=""/>
          <p:cNvCxnSpPr>
            <a:stCxn id="2083" idx="6"/>
            <a:endCxn id="20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8" name=""/>
          <p:cNvCxnSpPr>
            <a:stCxn id="2079" idx="6"/>
            <a:endCxn id="20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89" name=""/>
          <p:cNvCxnSpPr>
            <a:stCxn id="2082" idx="6"/>
            <a:endCxn id="20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0" name=""/>
          <p:cNvCxnSpPr>
            <a:stCxn id="2080" idx="4"/>
            <a:endCxn id="20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1" name=""/>
          <p:cNvCxnSpPr>
            <a:stCxn id="2078" idx="4"/>
            <a:endCxn id="20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2" name=""/>
          <p:cNvCxnSpPr>
            <a:stCxn id="2079" idx="7"/>
            <a:endCxn id="20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stCxn id="2084" idx="7"/>
            <a:endCxn id="20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4" name=""/>
          <p:cNvCxnSpPr>
            <a:stCxn id="2083" idx="5"/>
            <a:endCxn id="20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stCxn id="2084" idx="5"/>
            <a:endCxn id="20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6" name=""/>
          <p:cNvCxnSpPr>
            <a:stCxn id="2081" idx="7"/>
            <a:endCxn id="20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stCxn id="2081" idx="5"/>
            <a:endCxn id="20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stCxn id="2085" idx="7"/>
            <a:endCxn id="20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9" name=""/>
          <p:cNvCxnSpPr>
            <a:stCxn id="2078" idx="5"/>
            <a:endCxn id="20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754-CCD3-4F6C-965A-38FA2F91290D}" type="slidenum">
              <a:t>61</a:t>
            </a:fld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24" name=""/>
          <p:cNvCxnSpPr>
            <a:stCxn id="2118" idx="6"/>
            <a:endCxn id="21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1" idx="6"/>
            <a:endCxn id="21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7" idx="6"/>
            <a:endCxn id="21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20" idx="6"/>
            <a:endCxn id="21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8" name=""/>
          <p:cNvCxnSpPr>
            <a:stCxn id="2118" idx="4"/>
            <a:endCxn id="21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9" name=""/>
          <p:cNvCxnSpPr>
            <a:stCxn id="2116" idx="4"/>
            <a:endCxn id="21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0" name=""/>
          <p:cNvCxnSpPr>
            <a:stCxn id="2117" idx="7"/>
            <a:endCxn id="21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1" name=""/>
          <p:cNvCxnSpPr>
            <a:stCxn id="2122" idx="7"/>
            <a:endCxn id="21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32" name=""/>
          <p:cNvCxnSpPr>
            <a:stCxn id="2121" idx="5"/>
            <a:endCxn id="21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3" name=""/>
          <p:cNvCxnSpPr>
            <a:stCxn id="2122" idx="5"/>
            <a:endCxn id="21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4" name=""/>
          <p:cNvCxnSpPr>
            <a:stCxn id="2119" idx="7"/>
            <a:endCxn id="21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5" name=""/>
          <p:cNvCxnSpPr>
            <a:stCxn id="2119" idx="5"/>
            <a:endCxn id="21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6" name=""/>
          <p:cNvCxnSpPr>
            <a:stCxn id="2123" idx="7"/>
            <a:endCxn id="21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7" name=""/>
          <p:cNvCxnSpPr>
            <a:stCxn id="2116" idx="5"/>
            <a:endCxn id="21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0F9-AA03-4CFE-AE29-014FB5D59063}" type="slidenum">
              <a:t>62</a:t>
            </a:fld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62" name=""/>
          <p:cNvCxnSpPr>
            <a:stCxn id="2156" idx="6"/>
            <a:endCxn id="21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59" idx="6"/>
            <a:endCxn id="21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4" name=""/>
          <p:cNvCxnSpPr>
            <a:stCxn id="2155" idx="6"/>
            <a:endCxn id="21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5" name=""/>
          <p:cNvCxnSpPr>
            <a:stCxn id="2158" idx="6"/>
            <a:endCxn id="21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6" name=""/>
          <p:cNvCxnSpPr>
            <a:stCxn id="2156" idx="4"/>
            <a:endCxn id="21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7" name=""/>
          <p:cNvCxnSpPr>
            <a:stCxn id="2154" idx="4"/>
            <a:endCxn id="21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8" name=""/>
          <p:cNvCxnSpPr>
            <a:stCxn id="2155" idx="7"/>
            <a:endCxn id="21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9" name=""/>
          <p:cNvCxnSpPr>
            <a:stCxn id="2160" idx="7"/>
            <a:endCxn id="21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0" name=""/>
          <p:cNvCxnSpPr>
            <a:stCxn id="2159" idx="5"/>
            <a:endCxn id="21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1" name=""/>
          <p:cNvCxnSpPr>
            <a:stCxn id="2160" idx="5"/>
            <a:endCxn id="21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2" name=""/>
          <p:cNvCxnSpPr>
            <a:stCxn id="2157" idx="7"/>
            <a:endCxn id="21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3" name=""/>
          <p:cNvCxnSpPr>
            <a:stCxn id="2157" idx="5"/>
            <a:endCxn id="21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4" name=""/>
          <p:cNvCxnSpPr>
            <a:stCxn id="2161" idx="7"/>
            <a:endCxn id="21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54" idx="5"/>
            <a:endCxn id="21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2B4-EFB8-4E38-AB42-6DABFE05FBFE}" type="slidenum">
              <a:t>63</a:t>
            </a:fld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00" name=""/>
          <p:cNvCxnSpPr>
            <a:stCxn id="2194" idx="6"/>
            <a:endCxn id="219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1" name=""/>
          <p:cNvCxnSpPr>
            <a:stCxn id="2197" idx="6"/>
            <a:endCxn id="219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2" name=""/>
          <p:cNvCxnSpPr>
            <a:stCxn id="2193" idx="6"/>
            <a:endCxn id="219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3" name=""/>
          <p:cNvCxnSpPr>
            <a:stCxn id="2196" idx="6"/>
            <a:endCxn id="219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4" name=""/>
          <p:cNvCxnSpPr>
            <a:stCxn id="2194" idx="4"/>
            <a:endCxn id="219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5" name=""/>
          <p:cNvCxnSpPr>
            <a:stCxn id="2192" idx="4"/>
            <a:endCxn id="219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6" name=""/>
          <p:cNvCxnSpPr>
            <a:stCxn id="2193" idx="7"/>
            <a:endCxn id="219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7" name=""/>
          <p:cNvCxnSpPr>
            <a:stCxn id="2198" idx="7"/>
            <a:endCxn id="219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8" name=""/>
          <p:cNvCxnSpPr>
            <a:stCxn id="2197" idx="5"/>
            <a:endCxn id="219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09" name=""/>
          <p:cNvCxnSpPr>
            <a:stCxn id="2198" idx="5"/>
            <a:endCxn id="219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0" name=""/>
          <p:cNvCxnSpPr>
            <a:stCxn id="2195" idx="7"/>
            <a:endCxn id="219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1" name=""/>
          <p:cNvCxnSpPr>
            <a:stCxn id="2195" idx="5"/>
            <a:endCxn id="219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2" name=""/>
          <p:cNvCxnSpPr>
            <a:stCxn id="2199" idx="7"/>
            <a:endCxn id="219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3" name=""/>
          <p:cNvCxnSpPr>
            <a:stCxn id="2192" idx="5"/>
            <a:endCxn id="219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AA5-4F2F-4408-A9C8-C4094BE8BA20}" type="slidenum">
              <a:t>64</a:t>
            </a:fld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8" name=""/>
          <p:cNvCxnSpPr>
            <a:stCxn id="2232" idx="6"/>
            <a:endCxn id="223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9" name=""/>
          <p:cNvCxnSpPr>
            <a:stCxn id="2235" idx="6"/>
            <a:endCxn id="223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31" idx="6"/>
            <a:endCxn id="223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1" name=""/>
          <p:cNvCxnSpPr>
            <a:stCxn id="2234" idx="6"/>
            <a:endCxn id="223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2" name=""/>
          <p:cNvCxnSpPr>
            <a:stCxn id="2232" idx="4"/>
            <a:endCxn id="223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3" name=""/>
          <p:cNvCxnSpPr>
            <a:stCxn id="2230" idx="4"/>
            <a:endCxn id="223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4" name=""/>
          <p:cNvCxnSpPr>
            <a:stCxn id="2231" idx="7"/>
            <a:endCxn id="223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5" name=""/>
          <p:cNvCxnSpPr>
            <a:stCxn id="2236" idx="7"/>
            <a:endCxn id="223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6" name=""/>
          <p:cNvCxnSpPr>
            <a:stCxn id="2235" idx="5"/>
            <a:endCxn id="223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7" name=""/>
          <p:cNvCxnSpPr>
            <a:stCxn id="2236" idx="5"/>
            <a:endCxn id="223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48" name=""/>
          <p:cNvCxnSpPr>
            <a:stCxn id="2233" idx="7"/>
            <a:endCxn id="223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9" name=""/>
          <p:cNvCxnSpPr>
            <a:stCxn id="2233" idx="5"/>
            <a:endCxn id="223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0" name=""/>
          <p:cNvCxnSpPr>
            <a:stCxn id="2237" idx="7"/>
            <a:endCxn id="222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1" name=""/>
          <p:cNvCxnSpPr>
            <a:stCxn id="2230" idx="5"/>
            <a:endCxn id="222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69-B5A0-4EBD-8AFD-C7BE27529149}" type="slidenum">
              <a:t>65</a:t>
            </a:fld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76" name=""/>
          <p:cNvCxnSpPr>
            <a:stCxn id="2270" idx="6"/>
            <a:endCxn id="227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7" name=""/>
          <p:cNvCxnSpPr>
            <a:stCxn id="2273" idx="6"/>
            <a:endCxn id="226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78" name=""/>
          <p:cNvCxnSpPr>
            <a:stCxn id="2269" idx="6"/>
            <a:endCxn id="227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9" name=""/>
          <p:cNvCxnSpPr>
            <a:stCxn id="2272" idx="6"/>
            <a:endCxn id="227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0" name=""/>
          <p:cNvCxnSpPr>
            <a:stCxn id="2270" idx="4"/>
            <a:endCxn id="226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1" name=""/>
          <p:cNvCxnSpPr>
            <a:stCxn id="2268" idx="4"/>
            <a:endCxn id="227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2" name=""/>
          <p:cNvCxnSpPr>
            <a:stCxn id="2269" idx="7"/>
            <a:endCxn id="227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83" name=""/>
          <p:cNvCxnSpPr>
            <a:stCxn id="2274" idx="7"/>
            <a:endCxn id="227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4" name=""/>
          <p:cNvCxnSpPr>
            <a:stCxn id="2273" idx="5"/>
            <a:endCxn id="227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5" name=""/>
          <p:cNvCxnSpPr>
            <a:stCxn id="2274" idx="5"/>
            <a:endCxn id="227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1" idx="7"/>
            <a:endCxn id="227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7" name=""/>
          <p:cNvCxnSpPr>
            <a:stCxn id="2271" idx="5"/>
            <a:endCxn id="226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75" idx="7"/>
            <a:endCxn id="226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9" name=""/>
          <p:cNvCxnSpPr>
            <a:stCxn id="2268" idx="5"/>
            <a:endCxn id="226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1F3-28DF-4B9C-98EC-0B0799A2455D}" type="slidenum">
              <a:t>66</a:t>
            </a:fld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14" name=""/>
          <p:cNvCxnSpPr>
            <a:stCxn id="2308" idx="6"/>
            <a:endCxn id="231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5" name=""/>
          <p:cNvCxnSpPr>
            <a:stCxn id="2311" idx="6"/>
            <a:endCxn id="230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16" name=""/>
          <p:cNvCxnSpPr>
            <a:stCxn id="2307" idx="6"/>
            <a:endCxn id="231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7" name=""/>
          <p:cNvCxnSpPr>
            <a:stCxn id="2310" idx="6"/>
            <a:endCxn id="231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8" name=""/>
          <p:cNvCxnSpPr>
            <a:stCxn id="2308" idx="4"/>
            <a:endCxn id="230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9" name=""/>
          <p:cNvCxnSpPr>
            <a:stCxn id="2306" idx="4"/>
            <a:endCxn id="231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0" name=""/>
          <p:cNvCxnSpPr>
            <a:stCxn id="2307" idx="7"/>
            <a:endCxn id="231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1" name=""/>
          <p:cNvCxnSpPr>
            <a:stCxn id="2312" idx="7"/>
            <a:endCxn id="231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2" name=""/>
          <p:cNvCxnSpPr>
            <a:stCxn id="2311" idx="5"/>
            <a:endCxn id="231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3" name=""/>
          <p:cNvCxnSpPr>
            <a:stCxn id="2312" idx="5"/>
            <a:endCxn id="231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4" name=""/>
          <p:cNvCxnSpPr>
            <a:stCxn id="2309" idx="7"/>
            <a:endCxn id="230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5" name=""/>
          <p:cNvCxnSpPr>
            <a:stCxn id="2309" idx="5"/>
            <a:endCxn id="230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6" name=""/>
          <p:cNvCxnSpPr>
            <a:stCxn id="2313" idx="7"/>
            <a:endCxn id="230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7" name=""/>
          <p:cNvCxnSpPr>
            <a:stCxn id="2306" idx="5"/>
            <a:endCxn id="230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CE6-C54F-4D3E-98EE-06973BA07286}" type="slidenum">
              <a:t>67</a:t>
            </a:fld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52" name=""/>
          <p:cNvCxnSpPr>
            <a:stCxn id="2346" idx="6"/>
            <a:endCxn id="234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53" name=""/>
          <p:cNvCxnSpPr>
            <a:stCxn id="2349" idx="6"/>
            <a:endCxn id="234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4" name=""/>
          <p:cNvCxnSpPr>
            <a:stCxn id="2345" idx="6"/>
            <a:endCxn id="234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8" idx="6"/>
            <a:endCxn id="235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stCxn id="2346" idx="4"/>
            <a:endCxn id="234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stCxn id="2344" idx="4"/>
            <a:endCxn id="235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stCxn id="2345" idx="7"/>
            <a:endCxn id="235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9" name=""/>
          <p:cNvCxnSpPr>
            <a:stCxn id="2350" idx="7"/>
            <a:endCxn id="234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stCxn id="2349" idx="5"/>
            <a:endCxn id="235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1" name=""/>
          <p:cNvCxnSpPr>
            <a:stCxn id="2350" idx="5"/>
            <a:endCxn id="234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2" name=""/>
          <p:cNvCxnSpPr>
            <a:stCxn id="2347" idx="7"/>
            <a:endCxn id="234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3" name=""/>
          <p:cNvCxnSpPr>
            <a:stCxn id="2347" idx="5"/>
            <a:endCxn id="234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64" name=""/>
          <p:cNvCxnSpPr>
            <a:stCxn id="2351" idx="7"/>
            <a:endCxn id="234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5" name=""/>
          <p:cNvCxnSpPr>
            <a:stCxn id="2344" idx="5"/>
            <a:endCxn id="234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6E5-91DF-4A80-9622-92D4A8B1CF2D}" type="slidenum">
              <a:t>68</a:t>
            </a:fld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0" name=""/>
          <p:cNvCxnSpPr>
            <a:stCxn id="2384" idx="6"/>
            <a:endCxn id="238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91" name=""/>
          <p:cNvCxnSpPr>
            <a:stCxn id="2387" idx="6"/>
            <a:endCxn id="238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stCxn id="2383" idx="6"/>
            <a:endCxn id="238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stCxn id="2386" idx="6"/>
            <a:endCxn id="238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4" name=""/>
          <p:cNvCxnSpPr>
            <a:stCxn id="2384" idx="4"/>
            <a:endCxn id="238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2" idx="4"/>
            <a:endCxn id="238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6" name=""/>
          <p:cNvCxnSpPr>
            <a:stCxn id="2383" idx="7"/>
            <a:endCxn id="238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7" name=""/>
          <p:cNvCxnSpPr>
            <a:stCxn id="2388" idx="7"/>
            <a:endCxn id="238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8" name=""/>
          <p:cNvCxnSpPr>
            <a:stCxn id="2387" idx="5"/>
            <a:endCxn id="238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9" name=""/>
          <p:cNvCxnSpPr>
            <a:stCxn id="2388" idx="5"/>
            <a:endCxn id="238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stCxn id="2385" idx="7"/>
            <a:endCxn id="238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stCxn id="2385" idx="5"/>
            <a:endCxn id="238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stCxn id="2389" idx="7"/>
            <a:endCxn id="238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3" name=""/>
          <p:cNvCxnSpPr>
            <a:stCxn id="2382" idx="5"/>
            <a:endCxn id="238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0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9CC-0942-4F5B-BD5D-9F93EEB1F478}" type="slidenum">
              <a:t>69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4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155600" y="2057400"/>
            <a:ext cx="6061320" cy="2563920"/>
            <a:chOff x="1155600" y="2057400"/>
            <a:chExt cx="6061320" cy="2563920"/>
          </a:xfrm>
        </p:grpSpPr>
        <p:sp>
          <p:nvSpPr>
            <p:cNvPr id="823" name=""/>
            <p:cNvSpPr/>
            <p:nvPr/>
          </p:nvSpPr>
          <p:spPr>
            <a:xfrm>
              <a:off x="1380960" y="4222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8096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228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180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2096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0192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813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6192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144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2096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19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813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6192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4144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096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019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813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6192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180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096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019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8096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6228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180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096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0192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08600" y="2322360"/>
              <a:ext cx="5364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08600" y="4383000"/>
              <a:ext cx="5364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08600" y="2349360"/>
              <a:ext cx="5364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2640" y="4368960"/>
              <a:ext cx="5256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5"/>
                  </a:moveTo>
                  <a:lnTo>
                    <a:pt x="17" y="34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3386160"/>
              <a:ext cx="52200" cy="666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42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33" y="1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1800" y="3413160"/>
              <a:ext cx="1347840" cy="995400"/>
            </a:xfrm>
            <a:custGeom>
              <a:avLst/>
              <a:gdLst/>
              <a:ahLst/>
              <a:rect l="l" t="t" r="r" b="b"/>
              <a:pathLst>
                <a:path w="849" h="627">
                  <a:moveTo>
                    <a:pt x="832" y="627"/>
                  </a:moveTo>
                  <a:lnTo>
                    <a:pt x="849" y="602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832" y="6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01800" y="34131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5"/>
                  </a:moveTo>
                  <a:lnTo>
                    <a:pt x="17" y="33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55760" y="2309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42"/>
                  </a:moveTo>
                  <a:lnTo>
                    <a:pt x="0" y="33"/>
                  </a:lnTo>
                  <a:lnTo>
                    <a:pt x="26" y="0"/>
                  </a:lnTo>
                  <a:lnTo>
                    <a:pt x="42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2760" y="2336760"/>
              <a:ext cx="1360440" cy="1116000"/>
            </a:xfrm>
            <a:custGeom>
              <a:avLst/>
              <a:gdLst/>
              <a:ahLst/>
              <a:rect l="l" t="t" r="r" b="b"/>
              <a:pathLst>
                <a:path w="857" h="703">
                  <a:moveTo>
                    <a:pt x="831" y="703"/>
                  </a:moveTo>
                  <a:lnTo>
                    <a:pt x="857" y="678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831" y="7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338616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7" y="42"/>
                  </a:moveTo>
                  <a:lnTo>
                    <a:pt x="34" y="3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55760" y="4368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25"/>
                  </a:moveTo>
                  <a:lnTo>
                    <a:pt x="26" y="34"/>
                  </a:lnTo>
                  <a:lnTo>
                    <a:pt x="0" y="9"/>
                  </a:lnTo>
                  <a:lnTo>
                    <a:pt x="17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82760" y="3413160"/>
              <a:ext cx="1346040" cy="995400"/>
            </a:xfrm>
            <a:custGeom>
              <a:avLst/>
              <a:gdLst/>
              <a:ahLst/>
              <a:rect l="l" t="t" r="r" b="b"/>
              <a:pathLst>
                <a:path w="848" h="627">
                  <a:moveTo>
                    <a:pt x="848" y="25"/>
                  </a:moveTo>
                  <a:lnTo>
                    <a:pt x="831" y="0"/>
                  </a:lnTo>
                  <a:lnTo>
                    <a:pt x="0" y="602"/>
                  </a:lnTo>
                  <a:lnTo>
                    <a:pt x="17" y="627"/>
                  </a:lnTo>
                  <a:lnTo>
                    <a:pt x="848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0160" y="2322360"/>
              <a:ext cx="5220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0160" y="4383000"/>
              <a:ext cx="5220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70160" y="2349360"/>
              <a:ext cx="5220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0160" y="2322360"/>
              <a:ext cx="2700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35600" y="2322360"/>
              <a:ext cx="266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97160" y="2322360"/>
              <a:ext cx="26384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0160" y="4356000"/>
              <a:ext cx="2700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5600" y="4356000"/>
              <a:ext cx="266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97160" y="4356000"/>
              <a:ext cx="26384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55600" y="2109960"/>
              <a:ext cx="4809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6208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95840" y="4143240"/>
              <a:ext cx="4791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196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440" y="3186000"/>
              <a:ext cx="47952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1120" y="319248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95840" y="2109960"/>
              <a:ext cx="4791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196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55600" y="4143240"/>
              <a:ext cx="4809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6208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02840" y="21636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1280" y="22035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7000" y="3240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55680" y="4195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67200" y="2475000"/>
              <a:ext cx="2349720" cy="18493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6264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4216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2132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0264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16560" y="249552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16560" y="2841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16560" y="3186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16560" y="3532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16560" y="3876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94920" y="4191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914400" y="5105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Spac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標楷體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053-45EA-4F37-9B01-506AAFC19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8" name=""/>
          <p:cNvCxnSpPr>
            <a:stCxn id="2422" idx="6"/>
            <a:endCxn id="242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9" name=""/>
          <p:cNvCxnSpPr>
            <a:stCxn id="2425" idx="6"/>
            <a:endCxn id="242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0" name=""/>
          <p:cNvCxnSpPr>
            <a:stCxn id="2421" idx="6"/>
            <a:endCxn id="242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1" name=""/>
          <p:cNvCxnSpPr>
            <a:stCxn id="2424" idx="6"/>
            <a:endCxn id="242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2" name=""/>
          <p:cNvCxnSpPr>
            <a:stCxn id="2422" idx="4"/>
            <a:endCxn id="242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3" name=""/>
          <p:cNvCxnSpPr>
            <a:stCxn id="2420" idx="4"/>
            <a:endCxn id="242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4" name=""/>
          <p:cNvCxnSpPr>
            <a:stCxn id="2421" idx="7"/>
            <a:endCxn id="242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5" name=""/>
          <p:cNvCxnSpPr>
            <a:stCxn id="2426" idx="7"/>
            <a:endCxn id="242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5" idx="5"/>
            <a:endCxn id="242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7" name=""/>
          <p:cNvCxnSpPr>
            <a:stCxn id="2426" idx="5"/>
            <a:endCxn id="242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stCxn id="2423" idx="7"/>
            <a:endCxn id="242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9" name=""/>
          <p:cNvCxnSpPr>
            <a:stCxn id="2423" idx="5"/>
            <a:endCxn id="242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stCxn id="2427" idx="7"/>
            <a:endCxn id="241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1" name=""/>
          <p:cNvCxnSpPr>
            <a:stCxn id="2420" idx="5"/>
            <a:endCxn id="241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sp>
        <p:nvSpPr>
          <p:cNvPr id="244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170-C166-4B11-BF76-099C92F03C45}" type="slidenum">
              <a:t>70</a:t>
            </a:fld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66" name=""/>
          <p:cNvCxnSpPr>
            <a:stCxn id="2460" idx="6"/>
            <a:endCxn id="246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7" name=""/>
          <p:cNvCxnSpPr>
            <a:stCxn id="2463" idx="6"/>
            <a:endCxn id="245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6"/>
            <a:endCxn id="246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9" name=""/>
          <p:cNvCxnSpPr>
            <a:stCxn id="2462" idx="6"/>
            <a:endCxn id="246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0" idx="4"/>
            <a:endCxn id="245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58" idx="4"/>
            <a:endCxn id="246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2" name=""/>
          <p:cNvCxnSpPr>
            <a:stCxn id="2459" idx="7"/>
            <a:endCxn id="246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3" name=""/>
          <p:cNvCxnSpPr>
            <a:stCxn id="2464" idx="7"/>
            <a:endCxn id="246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4" name=""/>
          <p:cNvCxnSpPr>
            <a:stCxn id="2463" idx="5"/>
            <a:endCxn id="246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5" name=""/>
          <p:cNvCxnSpPr>
            <a:stCxn id="2464" idx="5"/>
            <a:endCxn id="246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6" name=""/>
          <p:cNvCxnSpPr>
            <a:stCxn id="2461" idx="7"/>
            <a:endCxn id="246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7" name=""/>
          <p:cNvCxnSpPr>
            <a:stCxn id="2461" idx="5"/>
            <a:endCxn id="245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8" name=""/>
          <p:cNvCxnSpPr>
            <a:stCxn id="2465" idx="7"/>
            <a:endCxn id="245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479" name=""/>
          <p:cNvCxnSpPr>
            <a:stCxn id="2458" idx="5"/>
            <a:endCxn id="245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48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74B-C2D3-42F0-9D9E-96AE518833CA}" type="slidenum">
              <a:t>71</a:t>
            </a:fld>
          </a:p>
        </p:txBody>
      </p: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4" name=""/>
          <p:cNvCxnSpPr>
            <a:stCxn id="2498" idx="6"/>
            <a:endCxn id="250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5" name=""/>
          <p:cNvCxnSpPr>
            <a:stCxn id="2501" idx="6"/>
            <a:endCxn id="249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6" name=""/>
          <p:cNvCxnSpPr>
            <a:stCxn id="2497" idx="6"/>
            <a:endCxn id="250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7" name=""/>
          <p:cNvCxnSpPr>
            <a:stCxn id="2500" idx="6"/>
            <a:endCxn id="250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498" idx="4"/>
            <a:endCxn id="249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09" name=""/>
          <p:cNvCxnSpPr>
            <a:stCxn id="2496" idx="4"/>
            <a:endCxn id="250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497" idx="7"/>
            <a:endCxn id="250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1" name=""/>
          <p:cNvCxnSpPr>
            <a:stCxn id="2502" idx="7"/>
            <a:endCxn id="250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2" name=""/>
          <p:cNvCxnSpPr>
            <a:stCxn id="2501" idx="5"/>
            <a:endCxn id="250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3" name=""/>
          <p:cNvCxnSpPr>
            <a:stCxn id="2502" idx="5"/>
            <a:endCxn id="250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499" idx="7"/>
            <a:endCxn id="249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5" name=""/>
          <p:cNvCxnSpPr>
            <a:stCxn id="2499" idx="5"/>
            <a:endCxn id="249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503" idx="7"/>
            <a:endCxn id="249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7" name=""/>
          <p:cNvCxnSpPr>
            <a:stCxn id="2496" idx="5"/>
            <a:endCxn id="249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1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3D1-E2F0-45A7-A8C7-9EADDE753CEF}" type="slidenum">
              <a:t>72</a:t>
            </a:fld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2" name=""/>
          <p:cNvCxnSpPr>
            <a:stCxn id="2536" idx="6"/>
            <a:endCxn id="253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3" name=""/>
          <p:cNvCxnSpPr>
            <a:stCxn id="2539" idx="6"/>
            <a:endCxn id="253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4" name=""/>
          <p:cNvCxnSpPr>
            <a:stCxn id="2535" idx="6"/>
            <a:endCxn id="253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5" name=""/>
          <p:cNvCxnSpPr>
            <a:stCxn id="2538" idx="6"/>
            <a:endCxn id="254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6" name=""/>
          <p:cNvCxnSpPr>
            <a:stCxn id="2536" idx="4"/>
            <a:endCxn id="253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7" name=""/>
          <p:cNvCxnSpPr>
            <a:stCxn id="2534" idx="4"/>
            <a:endCxn id="254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48" name=""/>
          <p:cNvCxnSpPr>
            <a:stCxn id="2535" idx="7"/>
            <a:endCxn id="254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9" name=""/>
          <p:cNvCxnSpPr>
            <a:stCxn id="2540" idx="7"/>
            <a:endCxn id="253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0" name=""/>
          <p:cNvCxnSpPr>
            <a:stCxn id="2539" idx="5"/>
            <a:endCxn id="254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0" idx="5"/>
            <a:endCxn id="253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2" name=""/>
          <p:cNvCxnSpPr>
            <a:stCxn id="2537" idx="7"/>
            <a:endCxn id="253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37" idx="5"/>
            <a:endCxn id="253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4" name=""/>
          <p:cNvCxnSpPr>
            <a:stCxn id="2541" idx="7"/>
            <a:endCxn id="253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5" name=""/>
          <p:cNvCxnSpPr>
            <a:stCxn id="2534" idx="5"/>
            <a:endCxn id="253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5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6F6-1D13-4555-A5C7-12B474334005}" type="slidenum">
              <a:t>73</a:t>
            </a:fld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80" name=""/>
          <p:cNvCxnSpPr>
            <a:stCxn id="2574" idx="6"/>
            <a:endCxn id="257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7" idx="6"/>
            <a:endCxn id="257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stCxn id="2573" idx="6"/>
            <a:endCxn id="257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76" idx="6"/>
            <a:endCxn id="257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74" idx="4"/>
            <a:endCxn id="257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2" idx="4"/>
            <a:endCxn id="257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6" name=""/>
          <p:cNvCxnSpPr>
            <a:stCxn id="2573" idx="7"/>
            <a:endCxn id="257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78" idx="7"/>
            <a:endCxn id="257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8" name=""/>
          <p:cNvCxnSpPr>
            <a:stCxn id="2577" idx="5"/>
            <a:endCxn id="257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9" name=""/>
          <p:cNvCxnSpPr>
            <a:stCxn id="2578" idx="5"/>
            <a:endCxn id="257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0" name=""/>
          <p:cNvCxnSpPr>
            <a:stCxn id="2575" idx="7"/>
            <a:endCxn id="257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1" name=""/>
          <p:cNvCxnSpPr>
            <a:stCxn id="2575" idx="5"/>
            <a:endCxn id="257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2" name=""/>
          <p:cNvCxnSpPr>
            <a:stCxn id="2579" idx="7"/>
            <a:endCxn id="257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3" name=""/>
          <p:cNvCxnSpPr>
            <a:stCxn id="2572" idx="5"/>
            <a:endCxn id="257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9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15D-0137-4AF8-855C-C9E1D851DDFD}" type="slidenum">
              <a:t>74</a:t>
            </a:fld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061640" y="1447920"/>
            <a:ext cx="575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Prim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,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u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ExtractM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and w(u,v) &lt;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41E-BEC9-4DCB-A20D-2CEB4AD921CF}" type="slidenum">
              <a:t>75</a:t>
            </a:fld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20" name=""/>
          <p:cNvCxnSpPr>
            <a:stCxn id="2614" idx="6"/>
            <a:endCxn id="261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1" name=""/>
          <p:cNvCxnSpPr>
            <a:stCxn id="2617" idx="6"/>
            <a:endCxn id="261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2" name=""/>
          <p:cNvCxnSpPr>
            <a:stCxn id="2613" idx="6"/>
            <a:endCxn id="261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3" name=""/>
          <p:cNvCxnSpPr>
            <a:stCxn id="2616" idx="6"/>
            <a:endCxn id="261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4" name=""/>
          <p:cNvCxnSpPr>
            <a:stCxn id="2614" idx="4"/>
            <a:endCxn id="261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5" name=""/>
          <p:cNvCxnSpPr>
            <a:stCxn id="2612" idx="4"/>
            <a:endCxn id="261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6" name=""/>
          <p:cNvCxnSpPr>
            <a:stCxn id="2613" idx="7"/>
            <a:endCxn id="261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7" name=""/>
          <p:cNvCxnSpPr>
            <a:stCxn id="2618" idx="7"/>
            <a:endCxn id="261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8" name=""/>
          <p:cNvCxnSpPr>
            <a:stCxn id="2617" idx="5"/>
            <a:endCxn id="261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9" name=""/>
          <p:cNvCxnSpPr>
            <a:stCxn id="2618" idx="5"/>
            <a:endCxn id="261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0" name=""/>
          <p:cNvCxnSpPr>
            <a:stCxn id="2615" idx="7"/>
            <a:endCxn id="261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1" name=""/>
          <p:cNvCxnSpPr>
            <a:stCxn id="2615" idx="5"/>
            <a:endCxn id="261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2" name=""/>
          <p:cNvCxnSpPr>
            <a:stCxn id="2619" idx="7"/>
            <a:endCxn id="261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3" name=""/>
          <p:cNvCxnSpPr>
            <a:stCxn id="2612" idx="5"/>
            <a:endCxn id="261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B22-A8FD-4C2E-AF10-6FF03497A6B4}" type="slidenum">
              <a:t>76</a:t>
            </a:fld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8" name=""/>
          <p:cNvCxnSpPr>
            <a:stCxn id="2652" idx="6"/>
            <a:endCxn id="265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9" name=""/>
          <p:cNvCxnSpPr>
            <a:stCxn id="2655" idx="6"/>
            <a:endCxn id="265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0" name=""/>
          <p:cNvCxnSpPr>
            <a:stCxn id="2651" idx="6"/>
            <a:endCxn id="265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1" name=""/>
          <p:cNvCxnSpPr>
            <a:stCxn id="2654" idx="6"/>
            <a:endCxn id="265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2" name=""/>
          <p:cNvCxnSpPr>
            <a:stCxn id="2652" idx="4"/>
            <a:endCxn id="265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3" name=""/>
          <p:cNvCxnSpPr>
            <a:stCxn id="2650" idx="4"/>
            <a:endCxn id="265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4" name=""/>
          <p:cNvCxnSpPr>
            <a:stCxn id="2651" idx="7"/>
            <a:endCxn id="265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5" name=""/>
          <p:cNvCxnSpPr>
            <a:stCxn id="2656" idx="7"/>
            <a:endCxn id="265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6" name=""/>
          <p:cNvCxnSpPr>
            <a:stCxn id="2655" idx="5"/>
            <a:endCxn id="265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7" name=""/>
          <p:cNvCxnSpPr>
            <a:stCxn id="2656" idx="5"/>
            <a:endCxn id="265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8" name=""/>
          <p:cNvCxnSpPr>
            <a:stCxn id="2653" idx="7"/>
            <a:endCxn id="265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9" name=""/>
          <p:cNvCxnSpPr>
            <a:stCxn id="2653" idx="5"/>
            <a:endCxn id="265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0" name=""/>
          <p:cNvCxnSpPr>
            <a:stCxn id="2657" idx="7"/>
            <a:endCxn id="264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50" idx="5"/>
            <a:endCxn id="264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F6D-CDF9-4BB5-8593-ECE61B11B499}" type="slidenum">
              <a:t>77</a:t>
            </a:fld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96" name=""/>
          <p:cNvCxnSpPr>
            <a:stCxn id="2690" idx="6"/>
            <a:endCxn id="269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7" name=""/>
          <p:cNvCxnSpPr>
            <a:stCxn id="2693" idx="6"/>
            <a:endCxn id="268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8" name=""/>
          <p:cNvCxnSpPr>
            <a:stCxn id="2689" idx="6"/>
            <a:endCxn id="269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9" name=""/>
          <p:cNvCxnSpPr>
            <a:stCxn id="2692" idx="6"/>
            <a:endCxn id="269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0" name=""/>
          <p:cNvCxnSpPr>
            <a:stCxn id="2690" idx="4"/>
            <a:endCxn id="268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1" name=""/>
          <p:cNvCxnSpPr>
            <a:stCxn id="2688" idx="4"/>
            <a:endCxn id="269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2" name=""/>
          <p:cNvCxnSpPr>
            <a:stCxn id="2689" idx="7"/>
            <a:endCxn id="269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3" name=""/>
          <p:cNvCxnSpPr>
            <a:stCxn id="2694" idx="7"/>
            <a:endCxn id="269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4" name=""/>
          <p:cNvCxnSpPr>
            <a:stCxn id="2693" idx="5"/>
            <a:endCxn id="269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5" name=""/>
          <p:cNvCxnSpPr>
            <a:stCxn id="2694" idx="5"/>
            <a:endCxn id="269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6" name=""/>
          <p:cNvCxnSpPr>
            <a:stCxn id="2691" idx="7"/>
            <a:endCxn id="269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07" name=""/>
          <p:cNvCxnSpPr>
            <a:stCxn id="2691" idx="5"/>
            <a:endCxn id="268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8" name=""/>
          <p:cNvCxnSpPr>
            <a:stCxn id="2695" idx="7"/>
            <a:endCxn id="268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9" name=""/>
          <p:cNvCxnSpPr>
            <a:stCxn id="2688" idx="5"/>
            <a:endCxn id="268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364-B2FA-423F-BBB8-3CD5826A0206}" type="slidenum">
              <a:t>78</a:t>
            </a:fld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34" name=""/>
          <p:cNvCxnSpPr>
            <a:stCxn id="2728" idx="6"/>
            <a:endCxn id="273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35" name=""/>
          <p:cNvCxnSpPr>
            <a:stCxn id="2731" idx="6"/>
            <a:endCxn id="272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6" name=""/>
          <p:cNvCxnSpPr>
            <a:stCxn id="2727" idx="6"/>
            <a:endCxn id="273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stCxn id="2730" idx="6"/>
            <a:endCxn id="273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8" name=""/>
          <p:cNvCxnSpPr>
            <a:stCxn id="2728" idx="4"/>
            <a:endCxn id="272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stCxn id="2726" idx="4"/>
            <a:endCxn id="273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0" name=""/>
          <p:cNvCxnSpPr>
            <a:stCxn id="2727" idx="7"/>
            <a:endCxn id="273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stCxn id="2732" idx="7"/>
            <a:endCxn id="273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stCxn id="2731" idx="5"/>
            <a:endCxn id="273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3" name=""/>
          <p:cNvCxnSpPr>
            <a:stCxn id="2732" idx="5"/>
            <a:endCxn id="273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4" name=""/>
          <p:cNvCxnSpPr>
            <a:stCxn id="2729" idx="7"/>
            <a:endCxn id="272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45" name=""/>
          <p:cNvCxnSpPr>
            <a:stCxn id="2729" idx="5"/>
            <a:endCxn id="272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6" name=""/>
          <p:cNvCxnSpPr>
            <a:stCxn id="2733" idx="7"/>
            <a:endCxn id="272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7" name=""/>
          <p:cNvCxnSpPr>
            <a:stCxn id="2726" idx="5"/>
            <a:endCxn id="272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4E3-AC2B-4E42-B99D-BD1C8486F3C2}" type="slidenum">
              <a:t>79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5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657320" y="1599840"/>
            <a:ext cx="425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33224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AA0-9B64-43B2-9D24-2253B03D2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72" name=""/>
          <p:cNvCxnSpPr>
            <a:stCxn id="2766" idx="6"/>
            <a:endCxn id="276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73" name=""/>
          <p:cNvCxnSpPr>
            <a:stCxn id="2769" idx="6"/>
            <a:endCxn id="276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4" name=""/>
          <p:cNvCxnSpPr>
            <a:stCxn id="2765" idx="6"/>
            <a:endCxn id="276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5" name=""/>
          <p:cNvCxnSpPr>
            <a:stCxn id="2768" idx="6"/>
            <a:endCxn id="277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6" name=""/>
          <p:cNvCxnSpPr>
            <a:stCxn id="2766" idx="4"/>
            <a:endCxn id="276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7" name=""/>
          <p:cNvCxnSpPr>
            <a:stCxn id="2764" idx="4"/>
            <a:endCxn id="277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8" name=""/>
          <p:cNvCxnSpPr>
            <a:stCxn id="2765" idx="7"/>
            <a:endCxn id="277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9" name=""/>
          <p:cNvCxnSpPr>
            <a:stCxn id="2770" idx="7"/>
            <a:endCxn id="276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0" name=""/>
          <p:cNvCxnSpPr>
            <a:stCxn id="2769" idx="5"/>
            <a:endCxn id="277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1" name=""/>
          <p:cNvCxnSpPr>
            <a:stCxn id="2770" idx="5"/>
            <a:endCxn id="276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2" name=""/>
          <p:cNvCxnSpPr>
            <a:stCxn id="2767" idx="7"/>
            <a:endCxn id="276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3" name=""/>
          <p:cNvCxnSpPr>
            <a:stCxn id="2767" idx="5"/>
            <a:endCxn id="276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4" name=""/>
          <p:cNvCxnSpPr>
            <a:stCxn id="2771" idx="7"/>
            <a:endCxn id="276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5" name=""/>
          <p:cNvCxnSpPr>
            <a:stCxn id="2764" idx="5"/>
            <a:endCxn id="276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4FA-32B5-4AEE-AD3D-A789043BE60D}" type="slidenum">
              <a:t>80</a:t>
            </a:fld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10" name=""/>
          <p:cNvCxnSpPr>
            <a:stCxn id="2804" idx="6"/>
            <a:endCxn id="28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1" name=""/>
          <p:cNvCxnSpPr>
            <a:stCxn id="2807" idx="6"/>
            <a:endCxn id="28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2" name=""/>
          <p:cNvCxnSpPr>
            <a:stCxn id="2803" idx="6"/>
            <a:endCxn id="28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3" name=""/>
          <p:cNvCxnSpPr>
            <a:stCxn id="2806" idx="6"/>
            <a:endCxn id="28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4" name=""/>
          <p:cNvCxnSpPr>
            <a:stCxn id="2804" idx="4"/>
            <a:endCxn id="28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5" name=""/>
          <p:cNvCxnSpPr>
            <a:stCxn id="2802" idx="4"/>
            <a:endCxn id="28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6" name=""/>
          <p:cNvCxnSpPr>
            <a:stCxn id="2803" idx="7"/>
            <a:endCxn id="28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7" name=""/>
          <p:cNvCxnSpPr>
            <a:stCxn id="2808" idx="7"/>
            <a:endCxn id="28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8" name=""/>
          <p:cNvCxnSpPr>
            <a:stCxn id="2807" idx="5"/>
            <a:endCxn id="28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9" name=""/>
          <p:cNvCxnSpPr>
            <a:stCxn id="2808" idx="5"/>
            <a:endCxn id="28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0" name=""/>
          <p:cNvCxnSpPr>
            <a:stCxn id="2805" idx="7"/>
            <a:endCxn id="28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21" name=""/>
          <p:cNvCxnSpPr>
            <a:stCxn id="2805" idx="5"/>
            <a:endCxn id="28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2" name=""/>
          <p:cNvCxnSpPr>
            <a:stCxn id="2809" idx="7"/>
            <a:endCxn id="28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02" idx="5"/>
            <a:endCxn id="28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3DB-6013-4FC0-86CA-097ED4B38B14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8" name=""/>
          <p:cNvCxnSpPr>
            <a:stCxn id="2842" idx="6"/>
            <a:endCxn id="28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49" name=""/>
          <p:cNvCxnSpPr>
            <a:stCxn id="2845" idx="6"/>
            <a:endCxn id="28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"/>
          <p:cNvCxnSpPr>
            <a:stCxn id="2841" idx="6"/>
            <a:endCxn id="28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1" name=""/>
          <p:cNvCxnSpPr>
            <a:stCxn id="2844" idx="6"/>
            <a:endCxn id="28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2" name=""/>
          <p:cNvCxnSpPr>
            <a:stCxn id="2842" idx="4"/>
            <a:endCxn id="28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0" idx="4"/>
            <a:endCxn id="28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4" name=""/>
          <p:cNvCxnSpPr>
            <a:stCxn id="2841" idx="7"/>
            <a:endCxn id="28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7"/>
            <a:endCxn id="28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6" name=""/>
          <p:cNvCxnSpPr>
            <a:stCxn id="2845" idx="5"/>
            <a:endCxn id="28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7" name=""/>
          <p:cNvCxnSpPr>
            <a:stCxn id="2846" idx="5"/>
            <a:endCxn id="28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43" idx="7"/>
            <a:endCxn id="28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9" name=""/>
          <p:cNvCxnSpPr>
            <a:stCxn id="2843" idx="5"/>
            <a:endCxn id="28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0" name=""/>
          <p:cNvCxnSpPr>
            <a:stCxn id="2847" idx="7"/>
            <a:endCxn id="28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1" name=""/>
          <p:cNvCxnSpPr>
            <a:stCxn id="2840" idx="5"/>
            <a:endCxn id="28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04C-DA8A-4492-87DD-BF9E25A192F4}" type="slidenum">
              <a:t>82</a:t>
            </a:fld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6" name=""/>
          <p:cNvCxnSpPr>
            <a:stCxn id="2880" idx="6"/>
            <a:endCxn id="28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83" idx="6"/>
            <a:endCxn id="28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8" name=""/>
          <p:cNvCxnSpPr>
            <a:stCxn id="2879" idx="6"/>
            <a:endCxn id="28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0" name=""/>
          <p:cNvCxnSpPr>
            <a:stCxn id="2880" idx="4"/>
            <a:endCxn id="28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1" name=""/>
          <p:cNvCxnSpPr>
            <a:stCxn id="2878" idx="4"/>
            <a:endCxn id="28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2" name=""/>
          <p:cNvCxnSpPr>
            <a:stCxn id="2879" idx="7"/>
            <a:endCxn id="28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3" name=""/>
          <p:cNvCxnSpPr>
            <a:stCxn id="2884" idx="7"/>
            <a:endCxn id="28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3" idx="5"/>
            <a:endCxn id="28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4" idx="5"/>
            <a:endCxn id="28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1" idx="7"/>
            <a:endCxn id="28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7" name=""/>
          <p:cNvCxnSpPr>
            <a:stCxn id="2881" idx="5"/>
            <a:endCxn id="28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8" name=""/>
          <p:cNvCxnSpPr>
            <a:stCxn id="2885" idx="7"/>
            <a:endCxn id="28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9" name=""/>
          <p:cNvCxnSpPr>
            <a:stCxn id="2878" idx="5"/>
            <a:endCxn id="28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650-4F45-4FF7-B4C8-37F25E5859A6}" type="slidenum">
              <a:t>83</a:t>
            </a:fld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4" name=""/>
          <p:cNvCxnSpPr>
            <a:stCxn id="2918" idx="6"/>
            <a:endCxn id="29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5" name=""/>
          <p:cNvCxnSpPr>
            <a:stCxn id="2921" idx="6"/>
            <a:endCxn id="29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6" name=""/>
          <p:cNvCxnSpPr>
            <a:stCxn id="2917" idx="6"/>
            <a:endCxn id="29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7" name=""/>
          <p:cNvCxnSpPr>
            <a:stCxn id="2920" idx="6"/>
            <a:endCxn id="29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8" name=""/>
          <p:cNvCxnSpPr>
            <a:stCxn id="2918" idx="4"/>
            <a:endCxn id="29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9" name=""/>
          <p:cNvCxnSpPr>
            <a:stCxn id="2916" idx="4"/>
            <a:endCxn id="29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0" name=""/>
          <p:cNvCxnSpPr>
            <a:stCxn id="2917" idx="7"/>
            <a:endCxn id="29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1" name=""/>
          <p:cNvCxnSpPr>
            <a:stCxn id="2922" idx="7"/>
            <a:endCxn id="29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2" name=""/>
          <p:cNvCxnSpPr>
            <a:stCxn id="2921" idx="5"/>
            <a:endCxn id="29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3" name=""/>
          <p:cNvCxnSpPr>
            <a:stCxn id="2922" idx="5"/>
            <a:endCxn id="29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4" name=""/>
          <p:cNvCxnSpPr>
            <a:stCxn id="2919" idx="7"/>
            <a:endCxn id="29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5" name=""/>
          <p:cNvCxnSpPr>
            <a:stCxn id="2919" idx="5"/>
            <a:endCxn id="29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6" name=""/>
          <p:cNvCxnSpPr>
            <a:stCxn id="2923" idx="7"/>
            <a:endCxn id="29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7" name=""/>
          <p:cNvCxnSpPr>
            <a:stCxn id="2916" idx="5"/>
            <a:endCxn id="29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686-9AF5-410C-BF1C-1EC38E783FB5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2" name=""/>
          <p:cNvCxnSpPr>
            <a:stCxn id="2956" idx="6"/>
            <a:endCxn id="29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3" name=""/>
          <p:cNvCxnSpPr>
            <a:stCxn id="2959" idx="6"/>
            <a:endCxn id="29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4" name=""/>
          <p:cNvCxnSpPr>
            <a:stCxn id="2955" idx="6"/>
            <a:endCxn id="29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5" name=""/>
          <p:cNvCxnSpPr>
            <a:stCxn id="2958" idx="6"/>
            <a:endCxn id="29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6" name=""/>
          <p:cNvCxnSpPr>
            <a:stCxn id="2956" idx="4"/>
            <a:endCxn id="29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7" name=""/>
          <p:cNvCxnSpPr>
            <a:stCxn id="2954" idx="4"/>
            <a:endCxn id="29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8" name=""/>
          <p:cNvCxnSpPr>
            <a:stCxn id="2955" idx="7"/>
            <a:endCxn id="29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9" name=""/>
          <p:cNvCxnSpPr>
            <a:stCxn id="2960" idx="7"/>
            <a:endCxn id="29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0" name=""/>
          <p:cNvCxnSpPr>
            <a:stCxn id="2959" idx="5"/>
            <a:endCxn id="29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1" name=""/>
          <p:cNvCxnSpPr>
            <a:stCxn id="2960" idx="5"/>
            <a:endCxn id="29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2" name=""/>
          <p:cNvCxnSpPr>
            <a:stCxn id="2957" idx="7"/>
            <a:endCxn id="29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57" idx="5"/>
            <a:endCxn id="29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1" idx="7"/>
            <a:endCxn id="29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5" name=""/>
          <p:cNvCxnSpPr>
            <a:stCxn id="2954" idx="5"/>
            <a:endCxn id="29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9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EC4-EE4D-42EE-AB12-B52E32B37020}" type="slidenum">
              <a:t>85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ead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ED0C-14F2-4C94-A49B-F9B1A7ED8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3:14:38Z</dcterms:created>
  <dc:creator>柯皓仁</dc:creator>
  <dc:description/>
  <dc:language>en-US</dc:language>
  <cp:lastModifiedBy>administrator</cp:lastModifiedBy>
  <cp:lastPrinted>2001-03-06T22:50:36Z</cp:lastPrinted>
  <dcterms:modified xsi:type="dcterms:W3CDTF">2004-05-05T11:58:08Z</dcterms:modified>
  <cp:revision>78</cp:revision>
  <dc:subject/>
  <dc:title>Chapter 22 Elementary Graph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and time">
    <vt:lpwstr>sadf</vt:lpwstr>
  </property>
</Properties>
</file>