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18D-44C0-46D3-92D3-C6107D40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B43-82CC-45DA-B2D6-434C655F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F9E-656A-420B-884B-FE940454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B12-C6F0-4D1F-A69B-6EAF283F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4AA9-AF60-4C8F-8AC6-0D94C9A9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C9EE-D016-4459-B9FB-CCB305E4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0D2D-568C-4BE0-9C0E-40204FA5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F695-C165-449A-BA65-C70B29A2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F5A9-D148-4C73-B5CC-790CBE65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F051-284C-4B00-AB0C-0430AF27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94BF-913C-46E1-8EE6-9ECFD3CE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267-44AC-40EC-9646-8C093A2E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8570-3BEC-4F6E-8901-6B3C0423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8CD0-74E7-442E-887E-4FD89838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6165-8459-4EBF-B1C0-9B8F1599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1F9D-F18C-4A54-B918-88D37585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7DEA-0C5F-49F8-B74B-245FA2BC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8AE4-410D-4922-BAA6-C2AEE644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B15-122D-4DB9-9041-9CCDF6EF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EB4-5C4F-4758-944B-2DC36AEC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08A-07C4-4A71-9C8D-8A3A93C7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0AD-CE3F-4FA3-9547-A046B6A7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DE8-AC5C-4A44-B46A-295D912F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AEE-635B-4461-A08D-D3BC247F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447920"/>
            <a:ext cx="472464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609480"/>
            <a:ext cx="838044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Simple Genetic Algorithms</a:t>
            </a:r>
            <a:br>
              <a:rPr sz="4000"/>
            </a:b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Primjer sa realnim vrijednostima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0. 9. 2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, Dong-Ye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selek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šemo slučaj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br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z opseg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0,1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Ako j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ta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le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uje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prv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romo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nač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sele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uje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sr-Latn-ME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romo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m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2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op_siz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takav da j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914400" y="1523880"/>
          <a:ext cx="3429000" cy="5029200"/>
        </p:xfrm>
        <a:graphic>
          <a:graphicData uri="http://schemas.openxmlformats.org/drawingml/2006/table">
            <a:tbl>
              <a:tblPr/>
              <a:tblGrid>
                <a:gridCol w="533520"/>
                <a:gridCol w="1447560"/>
                <a:gridCol w="144792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11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11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975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086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538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625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6507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276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880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156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668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824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008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832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109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942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482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424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575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3" name="Object 84"/>
              <p:cNvSpPr txBox="1"/>
              <p:nvPr/>
            </p:nvSpPr>
            <p:spPr>
              <a:xfrm>
                <a:off x="1073160" y="533520"/>
                <a:ext cx="315612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ze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537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4" name="Picture 85" descr="C:\temp\Image2.bmp"/>
          <p:cNvPicPr/>
          <p:nvPr/>
        </p:nvPicPr>
        <p:blipFill>
          <a:blip r:embed="rId1"/>
          <a:stretch/>
        </p:blipFill>
        <p:spPr>
          <a:xfrm>
            <a:off x="5562720" y="1752480"/>
            <a:ext cx="136656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Genet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ski o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perat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ori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ssover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 (ukrštanj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point cross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ossover r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Crossov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uje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d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roditel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še se slučajan br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z interva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[0,1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Ako j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ada izvršava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rossov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ta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cija (mut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a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cija mijenja jedan ili više gena sa vjerovatnoćom jednak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stepenu mutacij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5"/>
          <p:cNvGrpSpPr/>
          <p:nvPr/>
        </p:nvGrpSpPr>
        <p:grpSpPr>
          <a:xfrm>
            <a:off x="1600200" y="1676520"/>
            <a:ext cx="5153040" cy="1222200"/>
            <a:chOff x="1600200" y="1676520"/>
            <a:chExt cx="5153040" cy="1222200"/>
          </a:xfrm>
        </p:grpSpPr>
        <mc:AlternateContent>
          <mc:Choice xmlns:a14="http://schemas.microsoft.com/office/drawing/2010/main" Requires="a14">
            <p:sp>
              <p:nvSpPr>
                <p:cNvPr id="148" name="Object 2"/>
                <p:cNvSpPr txBox="1"/>
                <p:nvPr/>
              </p:nvSpPr>
              <p:spPr>
                <a:xfrm>
                  <a:off x="1600200" y="1676520"/>
                  <a:ext cx="515304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100110110100101101000000010111001</m:t>
                          </m:r>
                          <m:r>
                            <m:t xml:space="preserve">]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011010100001100010110011001100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Line 3"/>
            <p:cNvSpPr/>
            <p:nvPr/>
          </p:nvSpPr>
          <p:spPr>
            <a:xfrm>
              <a:off x="4419720" y="1752480"/>
              <a:ext cx="1440" cy="22860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Rectangle 4"/>
            <p:cNvSpPr/>
            <p:nvPr/>
          </p:nvSpPr>
          <p:spPr>
            <a:xfrm>
              <a:off x="2209680" y="2057400"/>
              <a:ext cx="4343400" cy="380880"/>
            </a:xfrm>
            <a:prstGeom prst="rect">
              <a:avLst/>
            </a:prstGeom>
            <a:noFill/>
            <a:ln cap="sq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2209680" y="2514600"/>
              <a:ext cx="4419720" cy="304920"/>
            </a:xfrm>
            <a:prstGeom prst="rect">
              <a:avLst/>
            </a:prstGeom>
            <a:noFill/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Group 13"/>
          <p:cNvGrpSpPr/>
          <p:nvPr/>
        </p:nvGrpSpPr>
        <p:grpSpPr>
          <a:xfrm>
            <a:off x="1600200" y="3124080"/>
            <a:ext cx="5130720" cy="800280"/>
            <a:chOff x="1600200" y="3124080"/>
            <a:chExt cx="5130720" cy="800280"/>
          </a:xfrm>
        </p:grpSpPr>
        <mc:AlternateContent>
          <mc:Choice xmlns:a14="http://schemas.microsoft.com/office/drawing/2010/main" Requires="a14">
            <p:sp>
              <p:nvSpPr>
                <p:cNvPr id="153" name="Object 6"/>
                <p:cNvSpPr txBox="1"/>
                <p:nvPr/>
              </p:nvSpPr>
              <p:spPr>
                <a:xfrm>
                  <a:off x="1600200" y="3124080"/>
                  <a:ext cx="5130720" cy="80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100110110100101100010110011001100</m:t>
                          </m:r>
                          <m:r>
                            <m:t xml:space="preserve">]</m:t>
                          </m:r>
                        </m:e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011010100001101000000010111001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Rectangle 8"/>
            <p:cNvSpPr/>
            <p:nvPr/>
          </p:nvSpPr>
          <p:spPr>
            <a:xfrm>
              <a:off x="2209680" y="3144960"/>
              <a:ext cx="2286000" cy="304560"/>
            </a:xfrm>
            <a:prstGeom prst="rect">
              <a:avLst/>
            </a:prstGeom>
            <a:noFill/>
            <a:ln cap="sq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4495680" y="3525840"/>
              <a:ext cx="2133720" cy="304920"/>
            </a:xfrm>
            <a:prstGeom prst="rect">
              <a:avLst/>
            </a:prstGeom>
            <a:noFill/>
            <a:ln cap="sq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4495680" y="3144960"/>
              <a:ext cx="2133720" cy="304560"/>
            </a:xfrm>
            <a:prstGeom prst="rect">
              <a:avLst/>
            </a:prstGeom>
            <a:noFill/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2209680" y="3525840"/>
              <a:ext cx="2286000" cy="304920"/>
            </a:xfrm>
            <a:prstGeom prst="rect">
              <a:avLst/>
            </a:prstGeom>
            <a:noFill/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Object 45"/>
              <p:cNvSpPr txBox="1"/>
              <p:nvPr/>
            </p:nvSpPr>
            <p:spPr>
              <a:xfrm>
                <a:off x="1600200" y="4876920"/>
                <a:ext cx="51084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110110100101100010110011001100</m:t>
                        </m:r>
                        <m:r>
                          <m:t xml:space="preserve">]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110110100101100010010011001100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50"/>
          <p:cNvSpPr/>
          <p:nvPr/>
        </p:nvSpPr>
        <p:spPr>
          <a:xfrm>
            <a:off x="5073480" y="5272200"/>
            <a:ext cx="0" cy="380880"/>
          </a:xfrm>
          <a:prstGeom prst="line">
            <a:avLst/>
          </a:prstGeom>
          <a:ln cap="sq" w="1260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E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ks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periment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i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Podešavanj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parametr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m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ion condition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ximum_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pop_size (large, small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5 parameter setting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0 ru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meter setting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ti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Najbolj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romo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omi iz prethodne populacije  se samo kopiraju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Funkcije za eksperi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Funkcija sa slaj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*) - maxim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strigi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minim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kley – minim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hwefel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minim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Test 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f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un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kcije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Funkcij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strigin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447920" y="2057400"/>
                <a:ext cx="5734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5" name="Picture 5" descr="C:\temp\Image3.bmp"/>
          <p:cNvPicPr/>
          <p:nvPr/>
        </p:nvPicPr>
        <p:blipFill>
          <a:blip r:embed="rId1"/>
          <a:stretch/>
        </p:blipFill>
        <p:spPr>
          <a:xfrm>
            <a:off x="1752480" y="3343320"/>
            <a:ext cx="51357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Funkcij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kley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-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Funkcij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wefel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-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990720" y="2133720"/>
                <a:ext cx="795636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y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2176560" y="4800600"/>
                <a:ext cx="551160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29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rad>
                          </m:e>
                        </m:d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rad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Re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z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ult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ati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Za izabranu funkci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Tabela 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a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a funkciju i vaš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al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z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 hromo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u svim eksperiment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Grafik 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ness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 funkcije kada je nađeno najbolje rješen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219320" y="2624040"/>
          <a:ext cx="7696080" cy="2865600"/>
        </p:xfrm>
        <a:graphic>
          <a:graphicData uri="http://schemas.openxmlformats.org/drawingml/2006/table">
            <a:tbl>
              <a:tblPr/>
              <a:tblGrid>
                <a:gridCol w="1218960"/>
                <a:gridCol w="1676520"/>
                <a:gridCol w="762120"/>
                <a:gridCol w="838080"/>
                <a:gridCol w="1676520"/>
                <a:gridCol w="685800"/>
                <a:gridCol w="838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rge 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_siz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mall 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_siz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verag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S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verag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S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tting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tting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tting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tting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tting 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C:\temp\dycho.bmp"/>
          <p:cNvPicPr/>
          <p:nvPr/>
        </p:nvPicPr>
        <p:blipFill>
          <a:blip r:embed="rId1"/>
          <a:stretch/>
        </p:blipFill>
        <p:spPr>
          <a:xfrm>
            <a:off x="1752480" y="1828800"/>
            <a:ext cx="6309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Reference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rce C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e GA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 libr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enetic Algorithms and Engineering Desig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Mitsuo Gen and Runwei Cheng, pp. 1-15, John Wiley &amp; Sons, 199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Optimizalna vrijednost funkcije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j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1752480" y="2057400"/>
                <a:ext cx="480060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π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π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4" name="Picture 5" descr="C:\temp\Image1.bmp"/>
          <p:cNvPicPr/>
          <p:nvPr/>
        </p:nvPicPr>
        <p:blipFill>
          <a:blip r:embed="rId1"/>
          <a:stretch/>
        </p:blipFill>
        <p:spPr>
          <a:xfrm>
            <a:off x="1752480" y="3295800"/>
            <a:ext cx="5896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Reprezentacija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–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 Binarni stringovi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 ko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1523880" y="2286000"/>
                <a:ext cx="5118120" cy="22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1000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51000</m:t>
                        </m:r>
                        <m:r>
                          <m:t xml:space="preserve">≤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000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7000</m:t>
                        </m:r>
                        <m:r>
                          <m:t xml:space="preserve">≤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8" name="Group 12"/>
          <p:cNvGrpSpPr/>
          <p:nvPr/>
        </p:nvGrpSpPr>
        <p:grpSpPr>
          <a:xfrm>
            <a:off x="1828800" y="4952880"/>
            <a:ext cx="4491000" cy="1155600"/>
            <a:chOff x="1828800" y="4952880"/>
            <a:chExt cx="4491000" cy="1155600"/>
          </a:xfrm>
        </p:grpSpPr>
        <mc:AlternateContent>
          <mc:Choice xmlns:a14="http://schemas.microsoft.com/office/drawing/2010/main" Requires="a14">
            <p:sp>
              <p:nvSpPr>
                <p:cNvPr id="99" name="Object 5"/>
                <p:cNvSpPr txBox="1"/>
                <p:nvPr/>
              </p:nvSpPr>
              <p:spPr>
                <a:xfrm>
                  <a:off x="1828800" y="4952880"/>
                  <a:ext cx="449100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                33bit                           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000001010100101001101111011111110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18bit             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15bit          </m:t>
                          </m:r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Line 6"/>
            <p:cNvSpPr/>
            <p:nvPr/>
          </p:nvSpPr>
          <p:spPr>
            <a:xfrm flipH="1">
              <a:off x="1905120" y="5105160"/>
              <a:ext cx="190512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7"/>
            <p:cNvSpPr/>
            <p:nvPr/>
          </p:nvSpPr>
          <p:spPr>
            <a:xfrm>
              <a:off x="4419720" y="5105160"/>
              <a:ext cx="175248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Line 8"/>
            <p:cNvSpPr/>
            <p:nvPr/>
          </p:nvSpPr>
          <p:spPr>
            <a:xfrm flipH="1">
              <a:off x="1905120" y="5943600"/>
              <a:ext cx="83808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>
              <a:off x="3353040" y="5943600"/>
              <a:ext cx="83808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 flipH="1">
              <a:off x="4267080" y="5943600"/>
              <a:ext cx="68580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11"/>
            <p:cNvSpPr/>
            <p:nvPr/>
          </p:nvSpPr>
          <p:spPr>
            <a:xfrm>
              <a:off x="5562720" y="5943600"/>
              <a:ext cx="60948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Preslikavanj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nar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nog stringa u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br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1828800" y="2438280"/>
                <a:ext cx="465300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ecimal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ubstrin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8" name="Object 56"/>
          <p:cNvGraphicFramePr/>
          <p:nvPr/>
        </p:nvGraphicFramePr>
        <p:xfrm>
          <a:off x="1828800" y="3352680"/>
          <a:ext cx="4724280" cy="9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352680"/>
                    <a:ext cx="472428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0" name="Object 57"/>
              <p:cNvSpPr txBox="1"/>
              <p:nvPr/>
            </p:nvSpPr>
            <p:spPr>
              <a:xfrm>
                <a:off x="1828800" y="4648320"/>
                <a:ext cx="471816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17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7960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318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65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Opšti oblik 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Simple G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752480" y="1828800"/>
            <a:ext cx="2971800" cy="45720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Initial 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52480" y="2895480"/>
            <a:ext cx="2971800" cy="3812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Fit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752480" y="4952880"/>
            <a:ext cx="2971800" cy="3812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Par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752480" y="5867280"/>
            <a:ext cx="2971800" cy="3812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New Offsp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1752480" y="3733920"/>
            <a:ext cx="2971800" cy="685800"/>
          </a:xfrm>
          <a:prstGeom prst="flowChartDecision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mination Condition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7" name="AutoShape 8"/>
          <p:cNvCxnSpPr>
            <a:stCxn id="112" idx="2"/>
            <a:endCxn id="113" idx="0"/>
          </p:cNvCxnSpPr>
          <p:nvPr/>
        </p:nvCxnSpPr>
        <p:spPr>
          <a:xfrm>
            <a:off x="3238200" y="22856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8" name="AutoShape 9"/>
          <p:cNvCxnSpPr>
            <a:stCxn id="113" idx="2"/>
            <a:endCxn id="116" idx="0"/>
          </p:cNvCxnSpPr>
          <p:nvPr/>
        </p:nvCxnSpPr>
        <p:spPr>
          <a:xfrm>
            <a:off x="3238200" y="327672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AutoShape 10"/>
          <p:cNvCxnSpPr>
            <a:stCxn id="116" idx="2"/>
            <a:endCxn id="114" idx="0"/>
          </p:cNvCxnSpPr>
          <p:nvPr/>
        </p:nvCxnSpPr>
        <p:spPr>
          <a:xfrm>
            <a:off x="3238200" y="44193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AutoShape 11"/>
          <p:cNvCxnSpPr>
            <a:stCxn id="114" idx="2"/>
            <a:endCxn id="115" idx="0"/>
          </p:cNvCxnSpPr>
          <p:nvPr/>
        </p:nvCxnSpPr>
        <p:spPr>
          <a:xfrm>
            <a:off x="3238200" y="53337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Text Box 12"/>
          <p:cNvSpPr/>
          <p:nvPr/>
        </p:nvSpPr>
        <p:spPr>
          <a:xfrm>
            <a:off x="4878720" y="37339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277800" y="45720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" name="AutoShape 14"/>
          <p:cNvCxnSpPr>
            <a:stCxn id="115" idx="2"/>
            <a:endCxn id="113" idx="1"/>
          </p:cNvCxnSpPr>
          <p:nvPr/>
        </p:nvCxnSpPr>
        <p:spPr>
          <a:xfrm flipV="1" rot="16200000">
            <a:off x="914040" y="3923640"/>
            <a:ext cx="3162960" cy="1486800"/>
          </a:xfrm>
          <a:prstGeom prst="bentConnector4">
            <a:avLst>
              <a:gd name="adj1" fmla="val -7216"/>
              <a:gd name="adj2" fmla="val 115379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24" name="Oval 15"/>
          <p:cNvSpPr/>
          <p:nvPr/>
        </p:nvSpPr>
        <p:spPr>
          <a:xfrm>
            <a:off x="5486400" y="2362320"/>
            <a:ext cx="2514600" cy="53316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tness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16"/>
          <p:cNvSpPr/>
          <p:nvPr/>
        </p:nvSpPr>
        <p:spPr>
          <a:xfrm flipH="1">
            <a:off x="3276720" y="2590920"/>
            <a:ext cx="2209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17"/>
          <p:cNvSpPr/>
          <p:nvPr/>
        </p:nvSpPr>
        <p:spPr>
          <a:xfrm>
            <a:off x="5486400" y="5257800"/>
            <a:ext cx="2514600" cy="5335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ossover, Mu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8"/>
          <p:cNvSpPr/>
          <p:nvPr/>
        </p:nvSpPr>
        <p:spPr>
          <a:xfrm flipH="1">
            <a:off x="3276720" y="5562720"/>
            <a:ext cx="2209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5486400" y="3809880"/>
            <a:ext cx="2514600" cy="5335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st Individ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9" name="AutoShape 20"/>
          <p:cNvCxnSpPr>
            <a:stCxn id="116" idx="3"/>
            <a:endCxn id="128" idx="2"/>
          </p:cNvCxnSpPr>
          <p:nvPr/>
        </p:nvCxnSpPr>
        <p:spPr>
          <a:xfrm>
            <a:off x="4723920" y="4076280"/>
            <a:ext cx="76284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Početna p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opula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cija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Počet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pula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cija je slučajno generisa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1828800" y="2355840"/>
                <a:ext cx="5178600" cy="404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00001010100101001101111011111110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01110101110011000000010101001000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11000111000001000010101001000110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110110100101101000000010111001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00010111101100010001110001101000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11110101011011000000010110011001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10100010011111000100110011101101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01011010100001100010110011001100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11110001011101100011101000111101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11101001110101010000010101101010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Izračunavanje f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itness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-a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izračunav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ver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ovanj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pa hromozoma u 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o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Ovo znači 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vert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ovanj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inar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nog stringa u realne vrijednost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zračunavanje ciljne funkcije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ive function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vert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ovanj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vrijednosti ciljn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kcije u fit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a maksim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fitness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e jednak vrijednosti ciljn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a minim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ness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e recipročan vrijednosti ciljn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e (ili se promijeni znak ciljne funkcije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1905120" y="1905120"/>
                <a:ext cx="5045040" cy="404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7969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6165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5119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4101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014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089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9457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46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054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9951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59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122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1286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728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609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8084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434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054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2067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170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8717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0256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49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319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1267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35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1669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6273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190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24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Sele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k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ci</a:t>
            </a:r>
            <a:r>
              <a:rPr b="0" lang="sr-Latn-ME" sz="4000" spc="-1" strike="noStrike">
                <a:solidFill>
                  <a:srgbClr val="cbcbcb"/>
                </a:solidFill>
                <a:latin typeface="굴림"/>
              </a:rPr>
              <a:t>ja</a:t>
            </a:r>
            <a:endParaRPr b="0" lang="en-US" sz="4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ffffff"/>
                </a:solidFill>
                <a:latin typeface="Times New Roman"/>
              </a:rPr>
              <a:t>Selekcija proporcionalna fitnesu (npr. rul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Rul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se može 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stru</a:t>
            </a: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isati na sljedeći nač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Računamo ukupa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tness popula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cij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Računamo vjerovatnoće selekcij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a svaki hromozo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Web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Računamo 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mulativ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nu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vjerovatoću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a svak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romo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3581280" y="3048120"/>
                <a:ext cx="16448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ze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2362320" y="4191120"/>
                <a:ext cx="4022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2362320" y="5289480"/>
                <a:ext cx="39114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09:20:43Z</dcterms:created>
  <dc:creator>Cho, Dong-Yeon</dc:creator>
  <dc:description/>
  <dc:language>en-US</dc:language>
  <cp:lastModifiedBy>Goran Sukovic</cp:lastModifiedBy>
  <dcterms:modified xsi:type="dcterms:W3CDTF">2017-10-31T12:12:10Z</dcterms:modified>
  <cp:revision>36</cp:revision>
  <dc:subject/>
  <dc:title>Optimization Problem with Simple Genetic Algorithms</dc:title>
</cp:coreProperties>
</file>