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2D8A-178F-4F7A-8C7C-2E9FF963A665}" type="slidenum">
              <a:rPr b="0" lang="sr-Latn-C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651B-875F-4C49-AE7A-C11A8936A6A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BAC0-F251-414D-B31D-F6FB7FADC0B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61A6-54A2-4F84-8297-EC8C7836A39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356B-A424-44CF-930F-7706DD3A4B3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E434-B999-45FF-A3A6-EE88551F4BE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1BB-1430-4D6C-AC28-DDDE12BE0FA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D5B6-5C02-47CC-A33C-167EADD508B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7CDB-03CE-4721-A3E8-2588C7EAC05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F404-3872-4C27-B954-8B26A6AF363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A247-1417-48A5-8A8F-4E15089D676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CD48-279F-4FE8-9D14-16D8705AE3B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1B1B-E9F5-406D-9A9C-4CA2D0155C1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41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rgan za tehničke uslove je organ državne uprave, organ lokalne uprave i pravno lice nadležno za: zaštitu životne sredine, saobraćaj, energetiku, vodovod i kanalizaciju, vode, regionalno vodosnabdijevanje, elektroinstalacije, zaštitu kulturnih dobara, elektronske komunikacije i poštansku djelatnost, zaštitu i zdravlje na radu, katastar, zaštitu i spašavanje, upravljanje državnom imovinom i dr. koji u postupku izrade planskog dokumenta i tehničke dokumentacije dostavlja neophodne tehničke uslove, podloge, mišljenja, saglasnosti i druge dokaze potrebne za planiranje i izgradnj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4DA6-DF76-450D-848B-57A2521E7FE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2E98-BFDE-4503-A791-7A06573B7CE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Arial"/>
              </a:rPr>
              <a:t>Iz Zakona o planiranju prostora i izgradnji objek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nvestitor je dužan da u toku građenja objekta obezbijedi vršenje stručnog nadz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vrši se počev od dana izvođenja pripremnih radova na objektu do završetka svih radova i stavljanja objekta u upotrebu i obuhvata sv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obuhvata, naročito: kontrolu izvođenja radova prema revidovanom glavnom projektu, ovom zakonu i posebnim propisima; kontrolu usklađenosti radova; provjeru kvaliteta izvođenja radova; kontrolu kvaliteta materijala, instalacija i uređaja koji se ugrađuju; provjeru da li materijali, instalacije i uređaji koji se ugrađuju imaju propisanu dokumentaciju neophodnu za njihovo stavljanje u upotrebu; redovno praćenje dinamike izvođenja radova i poštovanje ugovorenih rokova; kontrolu primjene mjera koje je naložio izvođaču radova da preduzme u cilju otklanjanja nedostataka pri izvođenju radova; kontrolu radova koji se nakon zatvaranja, odnosno pokrivanja ne mogu kontrolisati; kontrolu primjene mjera za zaštitu životne sredine; definisanje faza za koje je neophodno sačiniti izvještaj; davanje tehnoloških i organizacionih upustava izvođaču radova i rješavanje drugih pitanja u vezi građenja objekta; saradnju sa projektantom radi obezbjeđenja detalja za nesmetano izvođenje radova i rješavanje drugih pitanja u vezi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 objektima finansiranim u cjelosti ili djelimično iz donacija ili kredita međunarodnih finansijskih institucija ili iz sredstava drugih država kroz projekte međudržavne saradnje i pomoći, nadzor se vrši kao i na složenim inženjerskim objekt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Vršenje stručnog nadz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apažanja tokom stručnog nadzora, stručni nadzor upisuje u građevinski dnevni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, bez odlaganja, u pisanoj formi obavijesti investitora ako se radovi ne izvode prema revidovanom glavnom projektu, ovom zakonu i posebnim propisima i/ili naloži izvođaču radova da otkloni utvrđene nedostatke u roku koji mu odre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ko izvođač radova u roku iz stava 2 ovog člana ne otkloni utvrđene nedostatke, stručni nadzor je dužan da građenje objekta suprotno revidovanom glavnom projektu, ovom zakonu i posebnim propisima, bez odlaganja prijav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 izvršenom stručnom nadzoru, stručni nadzor sačinjava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činjava se po fazama građenja objekta i kao konačan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završetka određene faze građenja, stručni nadzor dužan je da obavijesti nadležni inspekcijski organ tri radna dana prije početk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ležni inspekcijski organ može da prisustvuje prijemu pojedinačne faze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e po fazama stručni nadzor dužan je da dostavlja nadležnom inspekcijskom organu u roku od tri dana od dan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sačinjavanja konačnog izvještaja, stručni nadzor je dužan da obavijesti organ uprave nadležan za zaštitu kulturnih dobara u slučaju gradnje na ili u neposrednoj blizini objekta koji je zaštićeno kulturno dobro, koji utvrđuje da li je objekat izgrađen u skladu sa revidovanim glavnim projektom, odnosno projektom izvedenog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 sa zapisnikom organa iz stava 6 ovog člana u kojem je konstatovano da je objekat građen u skladu sa revidovanim glavnim projektom, odnosno projektom izvedenog objekta, stručni nadzor dužan je da istovremeno dostavi investitoru, izvođaču radova, Ministarstvu, organu uprave nadležnom za zaštitu kulturnih dobara, u slučaju gradnje na ili u neposrednoj blizini objekta koji je zaštićeno kulturno dobro 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čin vršenja stručnog nadzora, obavezne faze u toku građenja za koje se radi izvještaj i način izrade i bližu sadržinu izvještaja o stručnom nadzoru propisuje Ministarst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 u konačnom izvještaju o izvršenom stručnom nadzoru, navede tačne konstatacije o izvedenim radovima na građenju objekta i da pisanu izjavu da je objekat građen u skladu sa revidovanim glavnim projektom odnosno izgrađen u skladu sa revidovanim projektom izvedenog stanja, zakonom i drugim propisima odnosno izjavu da je objekat podoban za upotrebu i da se može namjenski koristi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drži i elaborat originalnih terenskih podataka izvedenog stanja ovjeren od strane licencirane geodetske organizaci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F30A-1F0D-4840-B669-98E7ED282BB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9A1B-0312-4E4D-8EC9-32AAF35641D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8D9A-8EAA-47A1-A502-625D005A3FB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0FB3-EE1C-4C11-923A-67579D2B465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365B-E2A7-424F-AE71-76499B7FA3F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5E27-64C9-47A5-95CC-17C19BC9B3C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BE97-B429-4D51-A706-CA6BC8BAA3C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2A2E-1F87-4C7F-8DB8-7EA0C10F804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D680-85F5-4BFB-BD56-67BC19426D8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FABA-CB71-4DD1-AFA0-2E48ED3340B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1EB2-96FB-4992-BB7E-77D1923B6EF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11B4-5F17-450F-8510-B62D60A6DBF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CE4A-273D-40A3-8631-845B07E8F6C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D46F-88C4-43DA-8335-CCEDAC5E3F1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F829-7334-4881-B6D9-5697D3667A2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68BC-D5E0-4F30-B4F6-4A8CA7122C8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106E-EC9C-4EEF-B79C-49DFC89D673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F8A9-2C3B-4061-BC93-E6AEE06F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4F9C-F900-4B12-B74B-64C56570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9BC7-6BAC-468A-9627-AEC75AEF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9960-7915-46C9-84BF-CB87A979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E45C-D4A0-4223-B1C9-DD138958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9489-79B0-4910-B0FC-17BC1ECB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7E47-38FD-4AF7-97C5-3CD9A00D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51A6-579D-4BF6-A0E3-B81D407B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F8F3-27A3-4894-BEBD-CB894AF7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C45E-4D76-4737-AE27-5CF942A2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A146-BF10-4484-9455-9EC0A6DF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755C-80AB-4781-BC0B-FCBE9183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9F5B-97B2-4840-9412-24F9BFBC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C6AE-1B5E-4489-975F-D7E42226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0C87-9070-4854-A9D2-7DA19C5C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56B5-2D8D-4E6D-87A0-CB9E5490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B23A-E58D-4C4B-9845-F62E014E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1747-9397-491F-9561-37BF5681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7919-B30C-400D-AB65-FC6CC384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2CB2-99E7-4EC2-B6DB-2B9CAE61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9BF4-65BC-4EED-9DF0-4CF6D565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8D94-E78E-400C-B10C-D865C290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0AE9-040B-485F-99F4-42F2E77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2E22-231C-4973-B5F0-1133AEAC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BC83-2A56-4ADA-8646-214021B54EEC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68280" y="638172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45336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7942-C64C-446C-9CE4-82A376E52FB0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760" y="1371600"/>
            <a:ext cx="6476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O PLANIRANJU PROSTORA I IZGRADNJI OBJEK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rojektnog zadat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lj i svrha izrade tehničke dokumentac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et tehničke dokumentacije (opšti podaci o objektu, lokacija, namjena, kapacitet, faznost gradnje, zahtijevani materijali i podatke o zahtijevanom nivou instalacija i opreme dr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snove za projektovanje sa podacima o zahtijevanim tehnološkim proce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pecifični zahtje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otpis i ovje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vestit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stavni dio projektnog zadatka su  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-tehnički uslov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zultati prethodnih proučavanja, ako su ti rezultati urađen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kstualn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tehnički uslovi za izvođenj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gram kontrole i osiguranja kvaliteta sa uslovima za ispunjavanje osnovnih zahtjeva za objekat tokom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i održavanja objekta (procedure za obezbjeđenje kvaliteta, program ispitivanj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zgrade mora da sadrži rekapitulaciju građevinske brut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vršine objekta (ukupno i po etažama), neto površine objekta (ukupno, po etažama i po posebnim djelov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), bruto i neto površinu podzemnih etaža, bruto i neto površinu nadzemnih etaža, kao i zapreminu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računatu u skladu sa propisom kojim se uređuje način obračuna površine i zapremine objek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ada se radi idejno rješenje tekstualna dokumentacija sadrži 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projektovanog objekta sa navođenjem potrebnih komunalnih kapacit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a zgra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osebni osvr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materijalizaciju i obradu površina elemenata omotača (fasada i krovova), elemenata okvira stolarije/bravarije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datnih fasadnih elemenata (balkonskih ograda, brisoleja i elemenata dekora), kao i materijalizaciju i obrad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vršina u okviru uređenja terena, potpisana od strane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hničkog op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za objekat – potpisuje ga glavni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opšti podaci o vrsti i namjeni objek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lokacije objekta sa navođenjem katastarskih parcel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funkcionalnog rješenj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tehničko-tehnološke karakteristike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svih građevinskih i građevinsko-zanatskih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važećih standarda p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za pojedine djelove tehničke dokumentacije  - potpisuje ga odgovorni  (ovlašćeni) 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snovni podaci o objektu- date na obrascu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dijela tehničke dokumentacije sa opisom svih radova koji su predmet dijela tehničke dokumentaci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ispunjenja uslova propisanih urbanističko-tehničkim uslovima i osnovnih zahtjeva za objek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tehnički uslovi za izvođenje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karakteristike i svojstva materijala, instalacija i opreme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standarda 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 kontrole i osiguranja kvalit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odgovarajućim dijelovima tehničke dokumentacije sadrž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vojstva bitnih karakteristika koje moraju imati građevnski i drugi proizvodi koji se ugrađuju u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trebna ispitivanja i postupke dokazivanja up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bljivosti građevinskih i drugih proizvoda za one proizvo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ji su proizvedeni na gradilištu za potrebe tog objekta u koji će biti ugrađe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rebna ispitivanja i postupke dokazivanja tehničke i/ili funkcionalne ispravnosti dijel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htjeve koji moraju biti ispunjeni tokom izvođenja objekta, a koji mogu uticati na postizanje projektovanih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tehničkih i/ili funkcionalnih svojstava tog dijela objekta, kao i na ispunjavanje osnovnih zahtjeva za objekat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tupke ispitivanja izvedenih dijelova objekta koji se sprovode prije i tokom upotrebe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taljan opis probnog rada kojim se moraju prikazati potrebna ispitivanja ispunjavanja zahtjeva za objekat,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edviđene rezultate ispitivanja i predviđeno vrijeme trajanja probnog rada, ako za taj objekat postoji potreb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bnog rad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htjeve učestalosti periodičnih pregleda tokom upotrebe, a u svrhu održavanja dijela objekta, pregled i opis potrebnih kontrolnih postupaka ispitivanja i zahtijevanih rezultata kojima će se dokazati usaglašenost s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jektom predviđenim svojstvim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pis propisa i standarda čiju primjenu program kontrole i osiguranja kvalitete određuj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numer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Numerička dokumentacija sadrž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odgovarajuće proraču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specifikaciju materijala i oprem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predmjer i predračun rad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šemu opterećenja, analizu opterećenja i sl. (zavisno od vrste objek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kada se radi idejno rješenje zgrade, numerička dokumentacija sadrži prikaz površina objekta sa namjenama i broj funkcionalnih jedi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graf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63720" y="1916280"/>
            <a:ext cx="106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eodetska podlog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laborat parcelacije po planskom dokumentu ovjeren od strane organa uprave nadležnog za poslove katastra -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 za objekte infrastrukture prilaže se grafički prikaz buduće trase ob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na ažurnim katastarskim podlog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itu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ivel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nov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arakteristični presjeci  ili podužni i poprečni profil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šem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gledi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etalji za izvođenje objek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rugo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visno od vrste tehničke dokumentacije i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adionički crteži svih konstruktivnih elemenata, veza, montažnih i radioničkih nastavaka čeličnih konstrukci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ordinate elementarnih (glavnih) tačaka i nadmorske 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visine (kote) objekta u državnom koordinatnom sistemu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birni prikaz (sinhro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lan) tehničke infrastrukture (za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rekonstrukciju objekta sadrži i priloge postojećeg stanja (situacioni plan, nivelacioni plan, osnove, karakteristične presjeke ili podužne i poprečne profile i izglede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vi grafički prilozi moraju biti potpisani od stran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OG INŽENJER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 odgovorni  ovlašćeni  projektanta i imati zaglavlje urađeno u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kladu sa grafičkim prilogom - Obrazac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Ovjera i razmjera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jera TD u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nskoj form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tpisana kvalifikovanim certifikatom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valifikovani elektronski potpi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jer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štampanog primjerka glavnog projekta (ovjerava se svaki dio tehničke dokumentacije koji čini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štambiljem na kojem je upisan broj, datum i potpis odgovornog lica projektanta i revident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fički prilozi tehničke dokumentacije ovjeravaju pečatom projektanta i revide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akovanje odštamp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vezuje se u jednu ili viš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knjig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stranic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loženih u format A4 (21x29,7 cm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njige moraju biti poveza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jemstvenikom koji se pečatira, kako bi zamjena sastavnih djelova knjiga bila onemoguće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ehnička dokumentacija izrađena u analognoj formi mora biti identična tehničkoj dokumentaciji u elektrons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formi na osnovu koje je izvršena prijava građenja ob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zmjera tehničke dokumentaci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mjerena da obezbijedi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eglednost i detaljnost podataka datih grafičkim prilogom ili drugim grafičkim prikazom primjereno nivou razrad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kladu sa standardom MEST EN ISO 545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ma Zakonu (čl. 81.)  revizijom glavnog projekta vrši se provjer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rbanističko-tehničkim uslovima, ovim zakonom, posebnim propisima i pravilima struke u odnosu na pitanja koja nijesu uređena ovim zakonom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slovima oblikovanja i materijalizacije, posebno u odnosu na ambijentalna svojstva područj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osnovnih zahtjeva za objeka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eđusobne usklađenosti svih djelova tehničke dokumentacij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jera i predračuna svih radova na građenju objek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uslova prilagođenosti objekta licima smanjene pokretljivosti i licima sa invaliditeto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vještaj o reviziji može bi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gativan- i mora biti navedeno koje su neusklađe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zitivan – mora biti data izjava o tome da je sve usklađeno sa zahtjevima koji su provjerava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26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ema Pravilniku se još vrši provje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usklađenosti glavnog projekta sa Zakonom, posebnim propisima i pravilima struke u odnosu na pitanja ko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ijesu uređen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kompletnosti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mjenskih podlog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su u glavnom projektu ispravno primijenjeni rezultati dobijeni u podlogam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ispravnosti i tačnosti arhitektonskih, odnosno građevinskih rješenja, proračuna mehaničke otpornosti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tabilnost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tehničko-tehnoloških i eksploatacionih karakteristika objekta sa opremom i instalacijama, uključujuć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nergetske karakteristike objekta, ako je objekat zgrad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detalja za izvođenje radova obuhvaćenih glavnim projektom, kao i tehničko-tehnološka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rganizaciona rješenja za izgradnju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priključaka objekta na odgovarajuću saobraćajnu i drugu infrastrukturu i uređenje slobodnih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ovrš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h rješenja za zaštitu objekta i susjednih objekata od požara i eksplozija i druga tehnička rješen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štit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mjera za sprječavanje ili smanjenje negativnih uticaja objekt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rugih projekata i elaborata, u skladu sa namjenom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okaza o pravu svojine na zemljištu, odnosno drugom pravu na građenje na zemljištu ili pravu svojine n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jektu, odnosno drugom pravu na građenje, ako se radi o rekonstrukcij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je predviđena faznost građenja objekta i ako jeste, da li je na odgovarajući način određena (da li 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ezbijeđena podjela na tehničko-tehnološke i funkcionalne cjeline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95160" y="198900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vi pravilnici va</a:t>
            </a:r>
            <a:r>
              <a:rPr b="0" i="1" lang="sr-Latn-ME" sz="2000" spc="-1" strike="noStrike">
                <a:solidFill>
                  <a:srgbClr val="ffffff"/>
                </a:solidFill>
                <a:latin typeface="Arial"/>
              </a:rPr>
              <a:t>že za objekte koji ne spadaju u složene inženjerske objek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izvještaja o reviz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zvještaj o reviziji (u elektronskoj formi, sa elektronskim potpisom), sadrž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lovnu stranu sa podacima o objektu, lokaciji,  investitoru, revidentu, projektantu, ... – Obrazac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tke o vršiocu revizije (naziv, sjedište , adresa, matični broj, djeltnost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icenc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zora koji je rukovodio revizijom glavnog projekta u cjelini i revizora za svaki posebn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revizoru (ime i prezime, akademsko zvanj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u revizora koji je rukovodio revizijom glavnog projekta u cjelini i revizora za posebni dio glavnog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projektant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e, prezime i akademsko zvanje ovlašćenog inženjera koji je rukovodio izradom glavnog projekta u cjelini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lašćenih inženjera koji su izradili dio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ziv glavnog projekta, odnosno naziv dijel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pis i sadržaj svih djelov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ačne konstatacije o usklađenosti, odnosno neusklađenosti glavnog projekta u smislu člana 81 st. 2 i 3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kon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piju plana, list nepokretnosti i druge dokaze u skladu sa zakon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zitivan izvještaj sadrži i izjavu, koja je data na obrascu u skladu sa posebnim propisom kojim se propisuju obrasci zahtjeva, prijava i izjava u postupku izgradnje objekata, da se na osnovu glavnog projekta može graditi ob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dent od organa za tehničke uslove zahtijeva (obrazac 1) uz ovjeru elektronskim potpiso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piju plana i list nepokret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glasnosti,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mišljenja i drugih dokaza u skladu sa zakon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za tehničke uslove dužan je da u roku od 15 dana od dana prijema zahtjeva od revidenta odgovori i dostavi elektronski potpisane tražene dokaze (bez naknade, takse ili drugih troškov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organ za tehničke uslove u propisanom roku ne dostavi dokaz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tpisane naprednim elektronskim potpis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matraće se da je saglasan sa dostavljenim revidovanim glavnim projektom (koji je dobio uz zahtjev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u izvještaju prilaže elektronski dokaz potvrde prijema zahtjeva od strane organa nadležnog za izdavanje tehničkih uslov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provjerava sve što je predviđeno ovim Pravilnik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Ako Revident utvrdi da j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eophodna provjera tačnosti numeričkih ili grafičkih rezultata (pojedinih djelova ili kompletnog glavnog projekta)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da nedostaju dokazi koji su od uticaja na provjeru ispunjenosti propisanih usl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edložiće investitoru i glavnom inženjeru da obezbijedi dokaze o ispravnosti i tačnosti glavnog projekta,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a zahtjev investitora, revident može da izvrši potrebne numeričke i grafičke kontrole glavnog projekta, odnosno da pribavi dokaze koji nedostaj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nega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neu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pozi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statacije o u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čini pisanu izjavu da se na osnovu glavnog projekta može graditi objek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poseban obrazac koji potpisuje ovlašćeno lice revident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lektronskim potpisom se potpisuje svaki dio glavnog projekta od stra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lašćenog lica revidenta (direktora firme)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koji rukovodi revizijom u cjelini, a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dijela glavnog projekta , a koji potpisuje samo taj dio koji je revidov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ještaj  (pozitivan ili negativan) revident je dužan da dostavi investitoru i projektantu koji je izradio glavni pro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rikuplj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 organa za tehničke uslov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kaze o uređenju odnosa u pogledu plać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ebne naknade n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nvesticije, u skladu sa zakonom kojim se uređuje regionalno vodosnabdijevanje Crnogorskog primorj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knad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munalno opremanje građevinskog zemljiš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d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 donošenja plana generalne regulacije Crne Gor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tručni nad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nvestitor je dužan da u toku građenja objekta obezbijedi vršenje stručnog nad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čev od dana izvođenja pripremnih radova na objektu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vršetka svih radova i stavljanja objekta u upotrebu i obuhvata sve faze građen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Vršenje stručnog nadzora se  realizuj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reko fizičkih lica  (revizora) odgovarajuće struke (arhitektonske, građevinske, elektro i mašinske), koja s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poslena kod stručnog nadzora i ko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spunjavaju uslove shodno članu 125 Zako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ako se na objektu izvode radovi većeg obima, stručni nadzor može za jednu vrstu radova imenovati više revi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eze stručog nadzora 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troliše ispunjenost uslova definisanih Zakon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apažanja tokom stručnog nadzora upisuje u građevinski dnevni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pisanoj formi obavijesti investitora ako se radovi ne izvode prema revidovanom glavnom projektu, ovom zakonu i posebnim propisima i/il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loži izvođaču radova da otkloni utvrđene nedostatke u roku koji mu odred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ez odlaganja prijav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rađenje objekta suprotno revidovanom glavnom projektu, ovom zakonu i posebnim propisi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izvođač radova u roku ne otkloni utvrđene nedostat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ačinjava izvještaj o izvršenom stručnom nadzor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 fazama građenja   (i dostavlja ga nadležnom inspekcijskom organ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ačni izvještaj (i dostavlja g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nvestitoru, izvođaču radova, Ministarstvu, organu uprave nadležnom za zaštitu kulturnih dobara, u slučaju gradnje na ili u neposrednoj blizini objekta koji je zaštićeno kulturno dobro 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NAČINU I POSTUPKU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VRŠENJA STRUČNOG NADZORA</a:t>
            </a:r>
            <a:br>
              <a:rPr sz="2600"/>
            </a:b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Predmet nadzora (iz Zakon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izvođenja radova prema revidovanom glavnom projektu, ovom zakonu i posebnim propisi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usklađenosti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kvaliteta izvođenja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kvaliteta materijala, instalacija i uređaja koji se ugrađuj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da li materijali, instalacije i uređaji koji se ugrađuju imaju propisanu dokumentaciju neophodnu za njihovo stavljanje u upotreb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dovno praćenje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koje je naložio izvođaču radova da preduzme u cilju otklanjanja nedostataka pri izvođenju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radova koji se nakon zatvaranja, odnosno pokrivanja ne mogu kontrolisati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za zaštitu životne sredin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finisanje faza za koje je neophodno sačiniti izvještaj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vanje tehnoloških i organizacionih upustava izvođaču radova i rješavanje drugih pitanja u vezi građenja objek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radnja sa projektantom radi obezbjeđenja detalja za nesmetano izvođenje radova i rješavanje drugih pitanja u vez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e nadz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je početka građenja objekta stručni nadzor, na osnovu revidov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še obavezne faze građenja (radovi koji se nakon završetka izvođenja ne mogu kontrolisati) za koje je neophodno sačiniti izvješt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prema plan prijema radov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stavlja plan investitoru, nadležnom inspekcijskom organu i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toku građenja ob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troliše da li se radovi izvode u skladu sa revidovanim glavnim projektom, Zakonom, posebnim propisima i pravilima stru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spunjenost osnovnih zahtjeva za objekat, odnosno zahtjeva definisanih revidovanim glavnim projek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rađevins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proizvod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 skladu sa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uje način otklanjanja nedostataka, odnosno nepravilnosti nastalih tokom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da zabrani izvođenje radova  ili rukovođenje radovima u posebnim  slučaje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izvještaje  o izvršenom  stručnom nadzoru na pojedinim fazama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konačni izvještaj  o izvršenom  stručnom nadzoru nad građenjem  objekta ili njegovog dij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pažanja tokom strulnog nadzora upisuje u građevinki dnev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trola da li se radovi izvode u skladu sa revidovanim glavnim projektom, Zakonom, posebnim propisima i pravilima str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posredno na gradilištu, u mjeri i učestalosti koja osigurava da se u izvođenju neće odstupiti od revidovanog glavnog projekta, Zakona, posebnih propisa i pravila struke u dijelu u kojem su primjenjivi na objekat koji je predmet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i kontrolom izvođenja radova i na drugim mjestima na kojima se izvode radovi za potrebe građenja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svaki od izvođača radova, sa kojima je investitor sklopio ugovor o građenju,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privredno društvo, pravno lice odnosno preduzetnik koji je sa izvođačem radova zaključio ugovor o podizvođenju određenih radova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je iskolčavanje objekta obavilo lice registrovano u Centralnom registru privrednih subjekata za obavljanje tih posl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upotrebljivosti građevinskih proizvoda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njem izvještaja po fazama građenj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šenjem drugih aktivnosti propisanih Zakonom, ovim pravilnikom i posebnim propisima u dijelu u kojem su primjenjivi na objekat koji je predmet stručnog nadzora.dodatno definis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rovjer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a,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odnosno dokazivanj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ispunjenosti osnovnih zahtjeva za objekat, zahtjeva definisanih revidovanim glavnim projektom kao i obaveze provjere građevinskih proizvoda u skladu sa posebnim propis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u izvršeni pripremni rad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iskolčavanje objekta izvršeno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e izvode radovi na objektu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varuje saradnju sa projektantom radi obezbjeđenja detalja za nesmetano izvođenje radova i rješavanje drugih pitanja u vezi građenj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uje kontrolno tijelo i način sprovođenja kontrolnih postupaka u slučaju sumnje na kvalitet izvršenih radova ili ugrađenih građevinskih proizvoda, o čemu predhodno obavještava investit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van gradilišta za potrebe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na gradilištu za potrebe tog objekt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obrava odnosno zabranjuje ugradnju 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đevinskih proizvoda upisom u građevinski dnevni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Nadzor određuje n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ačin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otklanjanj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utvrđenih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dostataka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pravilnosti nastalih tokom građenja ob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ko dokumentacijom o ispitivanjima određenih dijelova objekta radi provjere odnosno dokazivanja ispunjenosti osnovnih zahtjeva za objekat predviđenih revidovanim glavnim projektom, nije dokazana usaglašenost, odnosno kvalitet objekta, njegovih dijelova, proizvoda, opreme i/ili postroj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nači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provođenja postupaka kojima se može utvrditi stvarno stanje u odnosu na usaglašenost odnosno kvalitet ugrađenih dijelova objekata, građevinskih i drugih proizvoda, opreme i/ili postroj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čunske ili druge provjere ispunjavanja propisanih zahtjeva za objekat pri čemu se uzima u obzir stvarno stanje u odnosu na usaglašenost, odnosno kvalitet ugrađenih dijelova objekta, građevinskih i drugih proizvoda, opreme i/ili postrojenja; i/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ugi primjereni način kojim se može utvrditi zatečeno stvarno izvedeno stanje objekta (neposrednim uvidom, uvidom u dokumentaciju objekta, uzimanjem i ispitivanjem uzoraka sklopova objekta i proračunima) u svrhu upoređivanja sa svojstvima koje mora imati objekat odnosno njegovi dijelovi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34880" y="2492280"/>
            <a:ext cx="9117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Zabrana izvođenja radova u svrhu otklanjanja nedostataka odnosno nepravilnosti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Uslovi pod kojima se može zabraniti izvođenje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izvođač radova ne ispunjava ili prestane da ispunjava uslove propisane Zakonom i posebnim propis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juje se rukovođenje građenjem, odnosno rukovođenjem pojedinim vrstama radova, ako ovlašćeni inženjer ne ispunjava ili prestane da ispunjava uslove propisane Zakonom i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iskolčavanje objekta nije izvršeno u skladu sa revidovanim glavnim projek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 izvođač radova ne izvodi radove na objektu u skladu sa revidovanim glavnim projektom , nakon što se ocijeni d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tavak građenja odnosno izvođenja pojedinih vrsta radova može ugroziti ili onemogućiti sprovođenje  načina otklanjanja nedostat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ugrožena stabilnost objekta koji se gradi, stabilnost susjednih objekata i/ili zemljišta, i/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moguće ugrožavanje života i zdravlja ljudi ili javnog inter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Procedura za zabranu i nastavak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a se upisuje u građevinski dnevnik odmah nakon utvrđivanja činje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kon upisane zabrane treba da se obezbijedi objekat odnosno dio objekta na kojem se građenje obustavl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đenje radova se smije nastaviti nakon što revizor utvrdi da li su nedostaci odnosno nepravilnosti  otklonjene i upiše u građevinski dnevnik prestanak zabra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prema  ga glavni revizor na osnovu izvještaja za pojedine vrste radova koji su sastavni dio ovog izvještaj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pisuje  se naprednim elektronskim potpis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vih  imenova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naslovna strana (naziv stručnog nadzora; naziv objekta ili njegovog dijela; namjenu i lokaciju objekta; naziv investitora; naziv izvođača radova) - Obrazac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tke o izvođaču radova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vrsta radova na građenju objekta, zavisno od namjene objekta, na osnovu arhitektonskog, građevinskog, elektro odnosno mašinsk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opis vrste radov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ci o projektantu i reviden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zvještaji o sprovođenju kontrolnih ispitivanja i drugih kontrolnih postupaka u pogledu ocjene i provjere svojstava odnosno dokazivanja kvaliteta određenih dijelova objekta odnosno faz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a o nepravilnostima uočenim u toku građenja faze objekta, kao i o nedostacima tokom građenja i njihovom otklanj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javu ovlašćenog inženjera koji rukovodi izvođenjem pojedinih vrsta radova na građenju objekta, datu na obrascu u skladu sa propisom kojim se uređuju obrasci zahtjeva, prijava, obavještenja i izjave u oblasti izgradnje objekat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ruge podatke u vezi sa vršenjem stručnog nadzora zavisno od vrste objekta i izvedenim radovi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g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lavni revizor koji je bio imenovan u trenutku završetka građenja objekta na osnovu izvještaja za pojedine vrste radova koji su sastavni dio konačnog izvještaja i zapisnika o primopredaji radova i dokumentacije od prethodnih revizor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tpisuje  se naprednim elektronskim potpisom (glavni revizor, revizor i odgovorno lice u privrednom društvu koje je obavljalo poslove stručnog nadzor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vih imenovanih reviz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j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vlašćenog inženjera koji rukovodi građenjem objekta u cjelini, datu na obrascu u skladu sa propisom kojim se uređuju obrasci zahtjeva, prijava, obavještenja i izjave u oblasti izgrad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pis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nadležnih inspekcijskih organa, koji su u skladu sa posebnim propisima obavezni, a u kojima je konstatovano da je objekat izgrađen u skladu sa revidovanim glavnim projektom, odnosno projektom izvedenog stanj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aborat originalnih terenskih podataka izvedenog stanja ovjeren od strane registrovane geodetske organizac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82440" y="1844280"/>
            <a:ext cx="106203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naslov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stra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(naziv stručnog nadzora; naziv objekta ili njegovog dijela; namjenu i lokaciju objekta; naziv investitora; naziv izvođača radova) -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izvođaču radova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radova na građenju objekta, zavisno od namjene objekta, na osnovu arhitektonskog, građevinskog, elektro odnosno mašinskog pro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kraći opis objekta (vrste radov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projektantu i revident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zvještaje o sprovođenju kontrolnih ispitivanja i drugih kontrolnih postupaka u pogledu ocjene i provjere svojstava odnosno dokazivanja kvaliteta određenih dijelova objekta odnosno objekta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z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apažanja o nepravilnostima uočenim u toku građenja, kao i o nedostacima tokom građenja i njihovom otklanjanju kao i o njihovom uticaju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 vođenju, objedinjavanju i čuvanju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izmjenama revidovanog glavnog projekta nastalim tokom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82440" y="1752120"/>
            <a:ext cx="10620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 -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nastav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sprovedenom probnom rad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probnom opterećenj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u vezi sa vršenjem stručnog nadzora zavisno od vrste objekta i izvedenim radovima (uvođenje u posao, primopredaja radova i dokumentacije i sl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cjelovitosti i međusobnoj usklađenosti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a stručnog nadzora da je objekat izveden u skladu sa revidovanim glavnim projektom, odnosno projektom izvedenog objekta, Zakonom i posebnim propisima i da je podoban za upotreb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karakteristika tla i objekta, u određenom roku vrši odgovarajuća osmatranja ponašanja tla i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vrste objekta, u određenom roku vrši odgovarajuća osmatranja uticaja objekta na životnu sredinu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u investitora da o rezultatima osmatranja ponašanja tla i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matranja uticaja objekta na životnu sredinu i preduzetim mjerama obavještava nadležni inspekcijski org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27160" y="1916280"/>
            <a:ext cx="1047600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uslovi  koje mora ispuniti tehnička dokumentacija, odnosno mora biti u skladu s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akonom o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sebnim propis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ilima struke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rbanističko-tehničkim uslo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e vrste tehničke dokumentacije i njihov sadržaj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o rješe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i proje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jekat izvedenog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djelovi tehničke dokumentaci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rhitektonsk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đevinsk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tehnički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ašinsk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o rješenje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ikaz planirane koncepcije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d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vanja saglasnosti državnog arhitekte za zgrade, trgove i ostale javne površi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gledava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sursnih i prostornih mogućnosti i ograničenja izgradnje objek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 ciljem da 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svoji makrolokacija i prostor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ispozicija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tvrde osnovne funkcio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lne, tehnološke i tehničke karakteristike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aznost građenj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 prema prostoru i životnoj sredin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no definiše optimalni koridor za linijske objek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i projekat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eđusobno usklađene dijelove pojedinih projekata, kojima s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ju tehnička rješ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efiniše objekat u prostoru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rjentaciono dokazuje ispunjenost osnovnih zahtjeva za objek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uje usklađenost sa zakonom, propisima, pravilima struke i U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Glavni projekat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ži međusobno usaglašene projekte neophodne za prijavu građenja i građenje objekta, koj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e definiš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ložaj i kapacitet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storno oblikovanj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bor konstruktivnog siste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imenzionisan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struktivnih elemena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bor građevinskih materijala, instalacija i oprem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vrijednost građevinskih, zanatskih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nstalaterskih i drugih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a rješenja priključaka objekta na odgovarajuću saobraćajnu, instalacionu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u infrastruktur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ao i druge proračune potrebne za prikaz svih detalja neophodnih za građenje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ređenje slobodnih površina i uslove za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 linijske infrastrukturne objekte u glavnom projektu se definiše trasa objekta sa svim potrebnim elemen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Projekat izvedenog objekt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 međusobno usaglašene projekte sa prikazom izmjena glavnog projekta 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Zakonom, a neophodnih za korišćenje i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Izrada i sadržaj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štu dokument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ni zadat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kstualn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umer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rafičku dokumentaciju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rađuje se u elektronskoj form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bez mogućnost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mjena njenog sadrža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– (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dan primjerak glavnog projekta izrađuje se u analognoj formi za potreb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objekta, odnosno izvođenja pojedinih vrsta radova na objekt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vi fajlov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naslovom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ve se čuva u jednom folderu u kojem postoje posebni folder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pšta dokumentacija i projektni zadata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lovi tehničke dokumentacij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 (u ovom folderu su kao posebni fajlovi sačuvan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rhitektonski, građevinski, elektrotehnički i mašinski projeka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slovna strana sa podacima o  objektu, lokaciji, investitoru, projektantu, datumu izrade..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tehničke dokumentacije, odnosno spisak foldera ukoliko se tehnička dokumentacija sastoji iz više folde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pojedinih dijelova tehničke dokumentacije, odnosno foldera koji čine tehn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vor između investitora i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projektantu (naziv, sjedište, adresa, matični i registarski broj, djelatnost);izvod iz Centralnog registra privrednih subjekata za  projektantsku organiz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 projekta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rješenje o imenovanju ovlašćenog inženjera koji rukovodi izradom tehničke dokumentacije u cjelini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(glavni inženjer)</a:t>
            </a: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edbff"/>
                </a:solidFill>
                <a:latin typeface="Arial"/>
              </a:rPr>
              <a:t>spisak odgovornih ovlašćenih inženjera za pojedine djelove tehničke dokumentacije - Obrazac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licenca ovlašćenog inženjera koji rukovodi izradom tehničke dokumentacije u cjelini (glavni inženjer) i licence odgovornih ovlašćenih inženjera za pojedine djelove tehničke dokumentacije (odgovorni inženj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0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7,8 i 9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 - tehnički usl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zjava odgovornog 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da je tehnička dokumentacija izrađena u skladu sa propisima - Obrazac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zjava o međusobnoj usaglašenosti svih djelova tehničke dokumentacije, potpisanu od strane glavnog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- Obrazac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za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uputstvo za upravljanje sa građevinskim otpadom, odnosno opasnim otpadom koji nastaje tokom građenja, korišćenja odnosno uklanjanja objekta,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zbirna rekapitulacija predmjera i predračuna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podaci potrebni za statistiku dati su na obrascu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12, 13, 15, 16, 17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cp:lastPrinted>2019-03-18T11:47:40Z</cp:lastPrinted>
  <dcterms:modified xsi:type="dcterms:W3CDTF">2022-10-03T19:34:26Z</dcterms:modified>
  <cp:revision>345</cp:revision>
  <dc:subject/>
  <dc:title>ZAKON O IZGRADNJI OBJEKATA</dc:title>
</cp:coreProperties>
</file>