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EA27-A4BA-443E-948B-17098D303D8A}"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398D-8D5F-4BFD-AD8A-7DF26898C0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C80A-EFE0-4B21-B63A-C7607953D5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64AE-E432-4347-B976-DC0F28516EA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A9B1-4296-44AD-A99C-A72B84EC3A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FAB4-A7AE-4831-A4CC-41B59214093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6C2B-0A94-4818-A1EE-25EF725A34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A70F-D6F1-46BE-98F3-2EE7B84FB4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D3CC-0C23-4451-A2A7-3F97E1BB7BC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8DE5-421B-4DF1-9CD7-B63C82C310D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3AF2-A680-4679-92A3-F1B70F95CB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4EE5-93AF-49C9-808A-E69B85CA406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D03D-6C1D-42C8-AAB5-07AFECFEC3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3C32-EFCF-4AC9-9CB1-BE071A7C9F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4EB6-7BC5-490B-A783-2E2BE63D59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14E6-602F-4881-9992-FA4A82DB71B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B271-5D33-494E-87E4-341D55765B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6BA8-5CEA-4EA6-B996-57B838D7DBA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1401-50CD-4139-8155-C8CA4B72C85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BF20-CFBA-4183-9A8D-D37F5C788CD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9CEB-9F57-4873-83EE-0F86438651A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1806-9A89-411D-B47E-3717EB14612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D429-545E-4B54-B37F-2E78F25368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6AF6-F2D5-46BD-BDC1-8C59DF6A340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13A1-F0CF-4A8B-89C0-9345539F3A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ABAA-761D-432C-91EA-38970ACC445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0ABE-6E7E-4BB6-A4B3-435DF0F707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2579-318A-43CA-8D79-24DCA66DBFB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CED9-122E-4216-898A-2DD9B22D8CD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47B6-7843-42E4-9157-6DE5E0F046A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4BCB-5A89-4312-8775-331745E80E7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960EFB-A33F-46A8-B25D-45D802D28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F469A9-579F-425B-B979-1269B24AA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846BB9-4EC9-4311-BDD0-4DDCD2CA50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52B107-F8E5-4E90-B4AD-9491C108E1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A7DC5-6618-4AF4-AEA2-B8D1F195D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5B031-B6F6-4AF3-B61A-41FC0EFB4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16F59-F095-46A9-98A7-FBEC34B52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EB756-2F18-4D2E-86BE-183128C8B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034A1-C4D0-4DB5-9985-A1B9A8ACD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8CAB2-0878-488B-842D-CCCE1C396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DB7FF-E4CD-44EE-9FBA-3DCF6D756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228F99-F1B1-42E6-BFDA-E3299542C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D4BC0-2A2A-4CAF-8468-426D7A722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D06AC-D3B8-4746-8349-2C3745B5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66A9E-5A4B-4AAE-BE5E-A65EB4A2A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93E6F-C62E-43B2-89F5-5D3C77B75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92F15-64C0-46C6-A3E1-E2577B612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1022C4-9F2D-47D4-AAC7-3E9D65940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82FBFF-E029-446F-BD86-F5D5BCA14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4A01DD-4C60-4E2C-A50C-4460DA5BA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B76B63-169F-482E-BFB8-D5A7029FC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4DB6D6-5484-4F5E-8BC2-0F8D1F5C6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E73252-EA9F-4E49-AC49-4138FB02D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0C8B46-2B1A-427F-BF67-76AA283992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34A5-D33D-4D75-B503-0D73215663A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0E3C-BAD3-4593-9E42-36760365D6B9}"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9:16Z</dcterms:modified>
  <cp:revision>383</cp:revision>
  <dc:subject/>
  <dc:title>ZAKON O IZGRADNJI OBJEKATA</dc:title>
</cp:coreProperties>
</file>