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AF9-A410-4B22-AFE1-762CDFC2458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B71C-78BB-4C14-AD0A-FA3B91FFA58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1C03-4228-4535-8A59-DE7245BB38B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2E26-015F-400D-82C1-F2A9A48C109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6C4E-401B-411B-92C3-A94A8E96B7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9C90-994A-42C5-B0EB-D97C3043F16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70D4-5A85-4E69-9D08-8A013A9DA30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F77-16B3-4CC2-B0A8-03A0E89AE08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4D69-C5D6-4A5C-86ED-07066EE2A5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158-F465-49ED-9D5D-45DBC54E566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AD20-8087-4920-9B50-B222157FC90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1FE-44E1-4513-A450-7164B4D407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25A3-85A0-4B91-840E-BFAEC882800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9330-68D2-4B9C-801C-45EAF08D3CB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244C-E68F-425E-B972-65E70F3B41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AEF-A4C3-4656-9097-E98882BFBF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506F-B82C-4FA3-9BB6-4FD5D867CC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1F12-2C02-4F77-8C6E-506DE07BFA5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9EA-4C3C-4A85-87C7-F0D05B97278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68C2-98A4-4D8C-9DDC-D9871B9968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483F-CD3B-47C2-AA39-37CA13228FF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685C-810B-4F28-A50E-48B31FE9FF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8EC-C5DC-44FF-9A21-4C606AB087A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127D-90BD-420D-81F5-94A0C84F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A99F-7404-4043-92F9-93A6011A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6C61-FC97-4A86-87AE-DA4F744C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5D49-88DB-4A78-9A11-24C5AEAD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4F3A-2F7E-4C6C-91A8-1F161BF1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D20A-3974-4A34-8CDB-7F1FB435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A41-94B1-45C9-BB64-0705054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829-B6A1-4C04-86DA-7FBC622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5D1-74A7-4903-98F1-7AF3FBF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50B0-7A99-4BA3-A63B-71AAF769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C9E2-F67A-43BF-B819-84554B01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62D2-8CA9-4DBC-8EE5-0001C6D9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D0F1-D431-46B7-AAD5-C647883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1392-BAD5-41B2-89C4-AB7839B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7D28-82A0-447C-8450-0212650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4F6A-5E9E-4856-BE52-866FE840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D25F-4AFB-4504-8353-41A05885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1ED5-A280-4C95-9EA1-09ACC83B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7A5F-2A24-49AF-8352-7A5824D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A2C2-7EA2-4A30-A269-1627977A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4E42-C2D0-4FCC-A750-796E1A09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DBF5-B1BC-429C-85F7-76E96D2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0CA3-0678-427A-B395-454A089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8D15-AD0A-4A97-8F11-CC06996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A21F-2799-4E78-B284-6CC97A7C0F0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306D-68B8-40E0-A031-FE0BFC40C22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78/21 i 102/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(i priznavanje inostrane diplo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sa VII1 nivoom obrazovan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uvjerenje o crnogorskom državljanstv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c000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na izradi tehničke dokumentacije i/ili građenju objekta u svojstvu ovlašćenog inženjer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 ,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vjeren od poslodavc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</a:t>
            </a:r>
            <a:r>
              <a:rPr b="1" lang="pl-PL" sz="1600" spc="-1" strike="noStrike">
                <a:solidFill>
                  <a:srgbClr val="ffc000"/>
                </a:solidFill>
                <a:latin typeface="Arial"/>
              </a:rPr>
              <a:t>78/21 i 102/21</a:t>
            </a: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zaposlen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revizor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za 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pisane vrst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jekata (arhitektonski, građevinski, elektrotehnički i mašinski)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u zavisnosti od vrste objekata, prema članu 124. Zakona o planiranju i izgradnji objekata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Registar licenci se vodi u elektronskoj for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 i </a:t>
            </a:r>
            <a:r>
              <a:rPr b="1" lang="sr-Latn-ME" sz="2000" spc="-1" strike="noStrike">
                <a:solidFill>
                  <a:srgbClr val="ffc000"/>
                </a:solidFill>
                <a:latin typeface="Arial"/>
              </a:rPr>
              <a:t>registar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1400" y="595440"/>
            <a:ext cx="9347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12:53Z</dcterms:modified>
  <cp:revision>217</cp:revision>
  <dc:subject/>
  <dc:title>ZAKON O IZGRADNJI OBJEKATA</dc:title>
</cp:coreProperties>
</file>