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7180-C2F0-4612-A97B-BB636F35FE1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5543-117C-41F2-8CD5-F89303C1A21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755E-E9E1-478A-B409-C1DFFD684A2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j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kvir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utar kojih se moraju po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nici u izgradnji investicionog objekt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Zakonska regulativa čija je primjena obavez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utonomna regulativa koja se primjenjuje voljom učesnika u izgradn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aki tehnički propisi i standardi spadaju u domen zakonske regulative, jer je npr. rješenjem utvrđena obavezna primjena standarda, dok su drugi u domenu autonomne regulative, odnosno ostavlja se sloboda učesnicima da odgovarajući standard primjenjuju ili 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808B-F15F-41A9-AE5E-7556C615CE2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727280" y="68580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32000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vdje nas prvenstveno interesuju zakoni, podzakonska i druga akta kojima se reguliše djelatnost građevinarstva i onih privrednih i vanprivrednih djelatnosti koje su dijelom povezane sa građevinskom djelatnoš}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Zakon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osebno interesantni sa aspekta građevinarstva,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laniranju prostora i izgradnji objekat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zakon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z oblas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štite životne sredine, javnih nabavki, obligacionih odnosa, ali i drugi: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tevima, zaštiti spomenika kulture, koncesiji, eksproprijaciji, vodama, zaštiti od elementarnih nepogoda, zaštiti od požara,nacionalnim parkovima, zaštiti prirode i dr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redb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koje se donose na osnovu pojednih zakonskih propis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redbama se regulišu posebna pitanja kao što su način čuvanja i kori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 pojedine dokumentacije, zaštita od buke, klasifikacija i kategorizacija voda, visine pojedinih naknada zbog zagađivanja životne sredin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ravilni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ili akta pojedinih institucija koje su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e da regulišu pojedina pitanja iz raznih oblasti života i ra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vilnici tretiraju sva značajna pitanja za projektovanje, izgradnju i održavanje objekata, a posebno: geomehaniku; razne građevinske materijale; razne poluproizvode od betona, čelika i drugih materijala; konstrukcije: građevinske, arhitektonske, prethodno napregnute, spregnute, betonske, čelične, mostovske i dr.; razne mašine za izvršenje radova; način provjere stabilnosti konstrukcija; ispitivanje konstrukcija; razna opter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; načine proračuna konstrukcija; preglede i ispitivanja; građenje u seizmičkim područjima; skele; temeljenje objekta; projektovanje puteva; saobr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jnu signalizaciju; opremu na putevima; razna injektiranja; značajna pitanja o vodama; tolerancije; injektiranja; zaštitu od požara; zaštitu od eksplozije; crteže u projektovanju, mjerenja u građevinarstvu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načajno je navesti pravilnike o sadržini i načinu vršenja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revizije idejnih 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avnih projekata; sadržini i načinu vođenja građevinskog dnevnika, građevinske knjige i knjige inspekcije; sadržini i načinu vršenja nadzora u toku projektovanja i građenja objekata; sadržini i načinu osmatranja tla i objekata u toku građenja i upotrebe; sadržini i načinu vršenja tehničkog pregleda objekta i izdavanja upotrebne dozvole; postupku i načinu izdavanja licenci, programu i načinu polaganja stručnog ispita i sticanju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licen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za projektovanje i rukovođenje građenjem; načinu izrade i sadržini tehničke dokumentacije; izradi i održavanju katastra vodova i podzemnih objekata; mjerama zaštite od elementarnih nepogoda; sadržini tehničke dokumentacije za izdavanje vodoprivredne saglasnosti i vodoprivredne dozvole; tehničkom pregledu javnog puta; posebnim mjerama zaštite od požara koje mora da sadrži tehnička dokumentacija za određene investicione objekte; opasnim materijama koje se ne smiju unositi u vod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putstv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zdaju organi kojima se bliže regulišu određena pitanja koja se tiču građevinarst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Rješenjim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 obično reguliš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pitanja iz oblasti utvrđivanja pojedinih standar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dlu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onosi skupština ili nadležni organi kojima se regulišu kategorizacije puteva, usvajanje izmjena i dopuna prostornih planova, određivanje pojedinih naknada (pl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ja)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aredb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ose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i organi i organizacije kojima se uređuju pojedina pitanja kao što su atestiranje pojedinih materijala, poluproizvoda i s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ski propisi i sva podzakonska akta objavljuju se 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 službenom list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F6AE-97C6-43E3-AEC0-D141BC3FA7F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d zakonskih propisa i podzakonskih akata aktivnosti građevinarstva odvijaju se u skladu sa odgovaraj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tehničkim propisima, standardima i normativima. Ovim aktima regulišu se: procedure, odgovaraj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valitet, način kontrole, dokazi kvaliteta i ostala značajna pitanj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 značaja je pomenuti Uzanse o građenju i opšte uslove međunarodnog udruženja konsultanata FIDIC, kojim se na određen način regulišu odnosi između učesnika u izgradnji objek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 sve ovo treba napomenuti da lokalni organi uprave i organizacije od posebnog društvenog interesa i javna preduz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onose odluke, uputstva, naredbe i uslove kojih se učesnici u realizaciji investicionih Projekata moraju pridrž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E470-F5CF-4C8B-8458-EA1D59F7E04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dručje izgradnje investicionih objekata je vrlo kompleksno i utiče skoro na sva područja ljudske djelatnosti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oz izgradnju objekata manifestuju se mnogi javni, društveni, lični i svi drugi interes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Zbog toga, zakonska regulativa i iz drugih područja utiče na izgradnju objekata. To se posebno odnosi na zakonsku regulativu kojom se reguliše prostorno planiranj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i uređenje prostora (te je stoga najnovijim zakonskim rješenjem objedinjena izgradnja objekata i uređenje prostor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nergetika, zaštita spomenika kulture, zaštita životne sredine, saobr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j, imovinsko pravni odnosi i d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loženosti ove privredne oblasti veliki je broj zakonskih i ostalih propisa koji uređuje izgradnju objekata. Pored toga građevinarstvo značajno utiče i na mnoge druge privredne i vanprivredne oblasti i djelatnosti, pa se i odnosi sa njima moraju regulisa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vega rečenog, a u cilju kvalitetnog, blagovremenog i ekonomičnog izvršavanja zadataka učesnici u realizaciji investicionih Projekata moraju dobro poznavati i stalno pratiti i proučavati zakonske i tehničke propise, podzakonska akta, dom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i međunarodne standarde i norm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dje se misli na propise koji se odnose direktno na oblast građevinarstva i na opšte propise kojih se učesnici u realizaciji investicionog Projekta moraju pridržavati (finansijsko poslovanje, pravni poslovi, poslovanje sa inostranstvom, carinski propisi, radni odnosi, zaštita životne sredine, komunalni problemi, privredno poslovanje i dr.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bno treba ukazati na potrebu poznavanja propisa, standarda, normativa i običajnih prava u slučajevima realizacije investicionih Projekata u inostranstvu. Od velikog značaja je proučiti propise kojim su regulisani društveni, politički i ekonomski sisitem zemlje; način realizacije investicionih Projekata; rad stranih preduz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; platni promet, izvoz, uvoz, carina i sl.; porezi, doprinosi, takse i sl.; tehnički propisi, normativi i standardi i druga značajna pitanj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7B95-FC4C-42F5-8FEE-FB59D8C0A22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4EC6-6C30-44FB-A99C-22A6A4E4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4890-63F4-4CF4-A294-88D99CE6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662C-0C54-4A00-9241-552D6B25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3749-ED04-4DE8-A7EB-8A367E36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5991-CF5C-4F37-8734-BD556470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0852-10F6-4A4C-8736-54FDCA7B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040E-1398-4CCA-84CD-F7DB0C13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FB8D-6DE4-435A-8E38-28C5B2A8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D214-D3E5-484E-BA5D-0D230A9E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3234-76D6-40CB-AC83-99B945DD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A0AF-2DB2-4503-8F82-68B307B5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9D99-CBC0-4728-ACD1-F5AC95BC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6C04-AEE6-4283-9D00-C7720602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2B8A-F4B2-43B0-B9E5-E7FE5201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BCFB-24D9-4995-A430-1B4FE5BD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602F-E83F-4FEF-920C-539FBF57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BF3F-672D-402D-B01C-74EB751A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2D9D-E0F5-42B6-BB43-C777D7D0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4697-B867-4FC0-B1E4-CF20D7B2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F1E96-E7A5-4711-9CBD-2B7E947E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1E23-73A7-466B-B4DB-9195FBD0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A98E0-C21F-4DBB-8832-0F6A7662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B783-BF3C-483F-AF4E-08F226EE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0380-7B78-444B-8DE3-5158ADC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85E1-C270-4EA9-A21B-7DBF942770F8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5607-A4AC-4DB4-93B9-7C3AC6933D1E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</a:t>
            </a:r>
            <a:r>
              <a:rPr b="0" lang="sr-Latn-CS" sz="4500" spc="-1" strike="noStrike">
                <a:solidFill>
                  <a:srgbClr val="ffffff"/>
                </a:solidFill>
                <a:latin typeface="Arial"/>
              </a:rPr>
              <a:t>ĐEVINSKA REGULATIVA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POJAM, ZNAČAJ I SADRŽAJ GRAĐEVINSKE REGUL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POJAM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r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j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kvir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utar kojih se moraju pon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i u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nici u izgradnji investicionog objekt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Ostala, tzv.”autonomna regulativa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u regulativu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zakon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redb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avilnic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putstv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ješenj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dluke 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aredbe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e propise donosi skup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na dr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dzakonska i druga akta vlad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ojedina ministarstva, ovla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 organizacije i/ili organi. Zakoni se donose na osnovu Ustava, a podzakonska akta na osnovu zak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OSTAL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zv. “autonomna” regulativa koju donose privredni i neprivredni subjekti i primjenjuje se voljom učesnika u izgradnj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razni modeli ugovor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odeli konkursne dokumentacij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standardizovani tehnički uslovi i pozicije radov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etode planiranj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normativi utroška rada i materijala i s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NAČAJ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oističe iz značaja i kompleksnosti građevinarstva kao djelatnosti od izuzetnog javnog intere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Javni interes se ogleda kroz potrebu obezbjeđenja zašt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i očuvanja prostor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vod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zdravlj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na radu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spomenika kultur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rirod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šum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oljoprivrednog zemljišta i s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74170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ffffff"/>
                </a:solidFill>
                <a:latin typeface="Arial"/>
              </a:rPr>
              <a:t>SADRŽAJ GRAĐEVINSKE REGULATIV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293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Zakoni i uredbe o</a:t>
            </a:r>
            <a:r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laniranju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stor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i izgradnji objekat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životnoj sredin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nim nabavka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cionim odnosi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e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spomenika kultur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ksproprijaciji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da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elementarnih nepogod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požar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cionalnim parko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prirode i dr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51280" y="1954080"/>
            <a:ext cx="51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ravilnic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nim tehničkim uslovima z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jektovanje, izgradnju i održavanje objek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evizije idejnih i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glavnih projekata;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ođenja građevinskog dnevnika, građevinske knjige i knjige inspekcij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nadzora u toku projektovanja i građenja objekata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osmatranja tla i objekata u toku građenja i upotreb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tehničkog pregleda objekta i izdavanja upotrebne dozvol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tupku i načinu izdavanja licenc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u i načinu polaganja stručnog ispita i sticanju ovlaš}enja za projektovanje i rukovođenje građenjem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činu izrade i sadržini tehničke dokumentacij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zradi i održavanju katastra vodova i podzemnih objeka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jerama zaštite od elementarnih nepogod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tehničke dokumentacije za izdavanje vodoprivredne saglasnosti i vodoprivredne dozvol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hničkom pregledu javnog pu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ebnim mjerama zaštite od požara koje mora da sadrži tehnička dokumentacija za određene investicione objekt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asnim materijama koje se ne smiju unositi u vode i dr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30200" y="5864400"/>
            <a:ext cx="8209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TONOM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Posebne u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zanse o građenju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št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uslov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međunarodnog udruženja konsultanata FIDIC,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-modeli ugovo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24000" y="1544760"/>
            <a:ext cx="820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AKONS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22:52:50Z</dcterms:created>
  <dc:creator>rade</dc:creator>
  <dc:description/>
  <dc:language>en-US</dc:language>
  <cp:lastModifiedBy>zana</cp:lastModifiedBy>
  <dcterms:modified xsi:type="dcterms:W3CDTF">2018-01-29T20:14:10Z</dcterms:modified>
  <cp:revision>20</cp:revision>
  <dc:subject/>
  <dc:title>GRAĐEVINSKA REGULATIVA</dc:title>
</cp:coreProperties>
</file>