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643040" y="228600"/>
            <a:ext cx="31147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456840" y="2133720"/>
            <a:ext cx="6172200" cy="67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4057-470B-4779-AB4A-11F22EDE956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4A94-0D85-4444-B2D1-59149F15BCF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643040" y="228600"/>
            <a:ext cx="3114720" cy="17524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6840" y="2133720"/>
            <a:ext cx="6172200" cy="67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8B25-F122-4D4B-BF50-7C4DD2D5718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C942-6E92-43F9-AEA0-E97F23BF733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ME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A307-E3AE-4AB9-96B7-74487DA33C1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ME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2964-0B23-4962-8901-6A0BC2751CE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Značenje izraza</a:t>
            </a:r>
            <a:r>
              <a:rPr b="1" lang="sr-Latn-CS" sz="1000" spc="-1" strike="noStrike">
                <a:solidFill>
                  <a:srgbClr val="000000"/>
                </a:solidFill>
                <a:latin typeface="Arial"/>
              </a:rPr>
              <a:t> (prema ovom Zakon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Pojedini izrazi upotrijebljeni u ovom zakonu imaju sljedeća značenj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) dozvola ili odobrenje za izvođenje projekta je odluka nadležnog organa kojom se nosilac projekta ovlašćuje da realizuje projekat, odnosno građevinska dozvola, prijava građenja, odobrenje ili saglasnos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2) javnost je jedno ili više fizičkih ili pravnih lica, udruženja i organizacij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3) nosilac projekta je domaće ili strano pravno lice, preduzetnik ili fizičko lice koje podnosi zahtjev za izdavanje dozvole ili odobrenja za izvođenje projek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4) projekat odnosno izvođenje projekta je građenje, rekonstrukcija, instaliranje, uklanjanje i demontaža objekata, postrojenja ili sistema, sanacija, ostale aktivnosti u prirodi i prirodnom okruženju i eksploatacija mineralnih sirovin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5) postojeće stanje životne sredine je zatečeno stanje segmenata životne sredine prije izvođenja bilo kakvih radova na lokaciji i neposrednoj blizini lokacije na kojoj se planira izvođenje projek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6) zainteresovana javnost je javnost na koju projekat utiče ili se očekuje da će uticati, uključujući i nevladine organizacije koje su registrovane za zaštitu životne sredine u skladu sa zakonom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7) zainteresovani organi i organizacije su državni organi, organizacije i organi lokalne samouprave koji imaju interes u donošenju odluka koje se odnose na zaštitu životne sredin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730E-DE65-48AA-A3DB-C65EF69826C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743200" y="0"/>
            <a:ext cx="1219320" cy="6858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osilac projekta </a:t>
            </a:r>
            <a:r>
              <a:rPr b="1" i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dnosi zahtjev za</a:t>
            </a:r>
            <a:r>
              <a:rPr b="0" i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odlučivanje o potrebi procjene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uticaja nadležnom organu.   Uz zahtjev iz nosilac projekta podnos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dokumentaciju definisanu posebnim pravilnikom, a koja sadrži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) opis lokacij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2) opis projek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3) opis mogućih značajnih uticaja projekta na životnu sredinu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4) Izvori podatak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) popunjen upitnik o uticaju projekta na životnu sredinu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Razmatranje zahtjeva</a:t>
            </a:r>
            <a:r>
              <a:rPr b="1" lang="sr-Latn-CS" sz="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 prijemu zahtjeva za odlučivanje o potrebi procjene uticaja, nadležni organ provjerava da li je uz zahtjev podnijeta propisana dokumentacij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ko je nepotpuna,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adležni organ u roku od tri dana od dana prijema zahtjeva, obavještava nosioca projekta da upotpuni dokumentaciju i određuje rok za dostavljanje dokumentacije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ko podnosilac zahtjeva ne dostavi dodatne podatke, obavještenja i dokumentaciju u ostavljenom roku, nadležni organ u roku od sedam dana od dana isteka roka za dostavljanje dokumentacije, odbiće zahtje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FC28-8B76-4328-835F-EFEBB4C720B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743200" y="0"/>
            <a:ext cx="1219320" cy="6858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Zahtjev za određivanje obima i sadržaj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osilac projekta </a:t>
            </a:r>
            <a:r>
              <a:rPr b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može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podnijeti zahtjev za određivanje obima i sadržaja elaborata. Uz zahtjev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osilac projekta podnos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dokumentaciju definisanu posebnim pravilnikom, a koja sadrži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) </a:t>
            </a:r>
            <a:r>
              <a:rPr b="0" lang="pl-PL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daci o nosiocu projekta (naziv i sjedište, odnosno ime i adresa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2) opis lokacij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3) opis projek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4)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zvještaj o postojećem stanju segmenata životne sredine mora se uraditi za projekte u oblastima zaštićenih prirodnih i kulturnih dobara, turizmu i složene inženjerske objekte, a za ostale projekte u skladu sa odlukom nadležnog organ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5) opis mogućih alternativ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) opis segmenata životne sredin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7) opis mogućih značajnih uticaja projekta na životnu sredinu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8) opis mjera predviđenih u cilju sprečavanja, smanjenja ili otklanjanja značajnog štetnog uticaja na životnu sredinu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9) program praćenja uticaja na životnu sredinu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0) netehnički rezime informacija iz tač. 2 do 7 ovog stav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1) podatke o mogućim poteškoćama na koje je naišao nosilac projekta u prikupljanju podataka i dokumentacij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2) rezultati sprovedenih postupaka uticaja planiranog projekta na životnu sredinu u skladu sa posebnim propisim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3) dodatne informacije i karakteristike projekta za određivanje obima i sadržaja elabor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4) izvori podatak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adržaj elaborat</a:t>
            </a:r>
            <a:r>
              <a:rPr b="1" lang="sr-Latn-C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tom se vrši analiza i ocjenjuje kvalitet segmenata životne sredine i njihov uticaj na određenom prostoru, međusobni uticaj postojećih i planiranih aktivnosti, direktnih i indirektnih uticaja projekta na životnu sredinu i sprovođenje mjera za sprečavanje, otklanjanje, ublažavanje ili sanaciju štetnih uticaja na životnu sredinu i zdravlje ljudi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t i saglasnost na elaborat su sastavni dio dokumentacije potrebne za pribavljanje dozvole ili odobrenja za izvođenje projekt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t sadrži podatke iz </a:t>
            </a:r>
            <a:r>
              <a:rPr b="0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dokumentacije koja se podnosi uz zahtjev za određivanje sadržaja i obima elaborata, kao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 podatke o organizaciji i licima koja su učestvovala u izradi elaborat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rilikom izrade elaborata mogu se koristiti postojeći podaci o praćenju stanja pojedinih segmenata životne sredine u skladu sa posebnim propisima, radi izbjegavanja dupliranja podatak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Bližu sadržinu elaborata propisuje Ministarstvo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Članovi komisije za procjenu uticaja ne mogu biti lica, koja su učestvovala u izradi elaborata ili su osnivači ili zaposleni kod nosioca projekta ili kod pravnog lica ili preduzetnika koje je izradilo elabo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Visinu troškova za rad komisije za procjenu uticaja u zavisnosti od vrste i složenosti pojedinih projekata za koje se vrši procjena uticaja, određuje nadležni organ, uz prethodno pribavljeno mišljenje organa državne uprave nadležnog za poslove finansi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86E2-3D9B-4A20-AECD-82340D76F40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2743200" y="0"/>
            <a:ext cx="1219320" cy="6858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9A5D-09B2-4CFD-964E-059D03EC91A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743200" y="0"/>
            <a:ext cx="1219320" cy="6858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</a:rPr>
              <a:t>Komisija za procjenu uticaja se obrazuje iz reda zaposlenih u nadležnom organu i drugih stručnih lica koja imaju najmanje završen VII-1 nivo nacionalnog okvira kvalifikacija i najmanje pet godina radnog iskustva u struci za pojedine segmente životne sredin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</a:rPr>
              <a:t>Rješenjem o obrazovanju komisije za procjenu uticaja određuje se broj, sastav i način rada komisij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</a:rPr>
              <a:t>Članovi komisije za procjenu uticaja ne mogu biti lica, koja su učestvovala u izradi elaborata ili su osnivači ili zaposleni kod nosioca projekta ili kod pravnog lica ili preduzetnika koje je izradilo elabor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</a:rPr>
              <a:t>Visinu troškova za rad komisije za procjenu uticaja u zavisnosti od vrste i složenosti pojedinih projekata za koje se vrši procjena uticaja, određuje nadležni organ, uz prethodno pribavljeno mišljenje organa državne uprave nadležnog za poslove finansij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Ocjena elabor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Član 2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Nadležni organ dostavlja komisiji za procjenu uticaja, elaborat u roku od dva radna dana od dana njenog obrazovanja, a izvještaj sa mišljenjima i primjedbe sa javne rasprave u roku od tri radna dana od dana održane javne rasprav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Komisija za procjenu uticaja, može nosiocu projekta najviše dva puta dostavljeni elaborat vratiti, da izvrši izmjene i dopune i da dodatno angažuje stručno lice za izmjenu i dopunu elaborata za određene segmente životne sredin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Nosilac projekta dužan je da komisiji za procjenu uticaja dostavi izmijenjen i dopunjen elaborat u roku koji odredi komisij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Ako nosilac projekta ne postupi u skladu sa stavom 3 ovog člana, komisija za procjenu uticaja, vrši ocjenu elaborata na osnovu raspoložive dokumentacij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Komisija za procjenu uticaja dužna je da izvještaj o ocjeni elaborata sa predlogom odluke o odbijanju ili davanju saglasnosti na elaborat, kao i razlozima za prihvatanje ili odbijanje primjedaba, predloga i mišljenja zainteresovanih organa i organizacija i zainteresovane javnosti, dostavi nadležnom organu najkasnije u roku od 25 radnih dana od dana prijema dokumentacije iz stava 1 ovog čla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U rok iz stava 5 ovog člana, ne uračunava se rok za izmjene i dopune elaborat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Troškovi procjene uticaj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Član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Nosilac projekta snosi troškove izrade elaborata, troškove za obavještavanja iz čl. 13, 14, 16, 20 i 24 ovog zakona, troškove organizovanja i vođenja javne rasprave iz člana 20 ovog zakona, kao i troškove rada komisije za procjenu uticaj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5C07-6591-48D3-AEB4-2239DA0380B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743200" y="0"/>
            <a:ext cx="1219320" cy="6858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Odluka naročito sadrži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1) razloge na kojima se odluka zasniva uključujući i informacije o učešću zainteresovanih organa i organizacija i zainteresovane javnosti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2) uslove zaštite životne sredine, opis svih komponenti projekta i/ili mjera koje je nosilac projekta dužan da preduzima u cilju izbjegavanja, sprečavanja, otklanjanja ili ublažavanja štetnih posljedica i praćenja stanja životne sredin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Odluka o odbijanju zahtjeva za davanje saglasnosti na elaborat sadrži razloge o odbijanju davanja saglasnosti na elabora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1C34-5297-4A2B-8548-E1C220EBE1A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743200" y="0"/>
            <a:ext cx="1219320" cy="6858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Odluka naročito sadrži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1) razloge na kojima se odluka zasniva uključujući i informacije o učešću zainteresovanih organa i organizacija i zainteresovane javnosti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2) uslove zaštite životne sredine, opis svih komponenti projekta i/ili mjera koje je nosilac projekta dužan da preduzima u cilju izbjegavanja, sprečavanja, otklanjanja ili ublažavanja štetnih posljedica i praćenja stanja životne sredin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Odluka o odbijanju zahtjeva za davanje saglasnosti na elaborat sadrži razloge o odbijanju davanja saglasnosti na elabora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F48D-206D-418B-9651-E72F68F84E0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643040" y="228600"/>
            <a:ext cx="3114720" cy="17524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6840" y="2133720"/>
            <a:ext cx="6172200" cy="67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DA65-9805-43F1-941A-BADE8092172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New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05CC-F6AF-47AA-B47B-E99F65FE039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New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2EBD-329A-4B8D-8A90-97ACED81760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New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ACC4-D969-41EF-8C2F-56A0AA93B3D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New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CD6A-3D50-4D88-B4F7-93FC6BC48CB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6C0B-1336-4FB5-BAC3-F7F1FBBBFC0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F108-0D42-48F7-A5F6-0AA37C0AF66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Strateška procjena se vrši za planove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e kad postoji mogućnost da njihova realizacija izazove znatne posledice po životnu sredi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Izrada strateške procjen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1) je obavezna za planove i program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iz oblasti: poljoprivrede, šumarstva, ribarstva, lovstva, energetike, industrije, uključujući rudarstvo, saobraćaja, telekomunikacija, turizma, regionalnog razvoja, urbanističkog i prostornog planiranja ili korišćenja zemljišta, upravljanja morskim dobrom, upravljanja vodama, upravljanja otpadom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koji daju okvir za razvoj budućih projekata koji podliježu izradi procjene uticaja na životnu sredinu u skladu sa posebnim propisom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koji, s obzirom na područje u kome se realizuju, mogu uticati na zaštićena područja, prirodna staništa i očuvanje divlje flore i fau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2) se može zahtijevati za planove i programe iz stava 2 tačka 1 ovog član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kojima je predvi</a:t>
            </a:r>
            <a:r>
              <a:rPr b="0" lang="vi-VN" sz="9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eno korišćenje manjih površina na lokalnom nivou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kojima je predvi</a:t>
            </a:r>
            <a:r>
              <a:rPr b="0" lang="vi-VN" sz="9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ena manja izmjena planova i programa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koji nijesu navedeni u stavu 2 tačka 1 alineja 1 ovog člana, a koji daju okvir za razvoj projekata koji podliježu izradi procjene uticaja na životnu sredin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3) se ne vrši za planove i programe namijenjen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dbrani zemlje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ublažavanju i otklanjanju posljedica elementarnih nepogoda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za finansijske i budžetske plano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dluku o potrebi izrade strateške procjene za planove ili programe, kojima je predviđeno korišćenje manjih površina na lokalnom nivou ili u slučaju manjih izmjena planova ili programa koje ne zahtijevaju propisani postupak usvajanja, kao i za planove ili programe koji nijesu navedeni u stavu 2 ovog člana, donosi organ nadležan za pripremu plana ili programa ako, prema kriterijumima propisanim ovim zakonom, utvrdi da postoji mogućnost značajnih uticaja na životnu sredi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Strateška procjena se ne vrši za planove i programe namijenjene odbrani zemlje, za planove ublažavanja i otklanjanja posljedica elementarnih nepogoda i za finansijske i budžetske planov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E81C-EB35-459C-852C-B3195A4D87F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4216320" y="228600"/>
            <a:ext cx="1625760" cy="914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 u="sng">
                <a:solidFill>
                  <a:srgbClr val="000000"/>
                </a:solidFill>
                <a:uFillTx/>
                <a:latin typeface="Arial"/>
              </a:rPr>
              <a:t>Predlog odluke o izradi strateške procjene (za planove i programe za oje je obavezna izrada)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sadrži sljedeć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1) vrstu plana i programa za koji se izrađuje izvještaj o strateškoj procjen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2) osnov za razvoj plana i programa u skladu sa članom 7 tačka 1 ovog zakon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vi-VN" sz="900" spc="-1" strike="noStrike">
                <a:solidFill>
                  <a:srgbClr val="000000"/>
                </a:solidFill>
                <a:latin typeface="Arial"/>
              </a:rPr>
              <a:t>3) područje ili geografski obuhvat plana (nacionalna, regionalna, lokalna, manje površine) za koje se izrađuje plan i program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4) prikaz pitanja i problema vezanih za životnu sredinu u planu i programu koji će biti razmatran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5) razloge za vršenje strateške procjene i razloge za izostavljanje pojedinih pitanja i problema vazanih za životnu sredinu u planu i programu iz strateške procje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6) obim i vrstu podataka koji se moraju uključiti u izvještaj o strateškoj procjen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7) način izbora i obaveze nosioca izrade izvještaja o strateškoj procjeni (predlog metodologije, sastav stručnog tima, rok izrade i d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8) zainteresovane organe i organizacije i javnost i način njihovog učešća u postupku izrade i razmatranja izvještaja o strateškoj procjen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9) druge podatke od značaja za izradu izvještaja o strateškoj procjen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ok za dostavljanje mišljenja</a:t>
            </a:r>
            <a:r>
              <a:rPr b="0" lang="sr-Latn-ME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na predlog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j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5 dana od dana prijema zahtjeva.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otvrđivanje, korigovanje ili preinačenje odluke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Organ nadležan za pripremu plana ili programa, u roku od 15 dana od dana isteka roka za dostavljanje mišljenja, donosi odluku o potrebi ili nepostajanju potrebe za izradu starteške procjene. dužan je da prilikom odlučivanja razmotri dostavljena mišljenj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Odluka je sastavni dio odluke o pripremi plana ili programa i objavljuju se u "Službenom listu Republike Crne Gore", odnosno u glasilu jedinice lokalne samouprave.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Odlučivanje o potrebi izrade strateške procjene</a:t>
            </a:r>
            <a:r>
              <a:rPr b="1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vi-VN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za planove i programe </a:t>
            </a:r>
            <a:r>
              <a:rPr b="1" lang="sr-Latn-ME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za koje se može zahtijevati izrada </a:t>
            </a:r>
            <a:r>
              <a:rPr b="1" lang="sr-Latn-CS" sz="800" spc="-1" strike="noStrike" u="sng">
                <a:solidFill>
                  <a:srgbClr val="000000"/>
                </a:solidFill>
                <a:uFillTx/>
                <a:latin typeface="Arial"/>
              </a:rPr>
              <a:t>-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 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Kriterijum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trebu izrade strateške procjene za planove i programe </a:t>
            </a:r>
            <a:r>
              <a:rPr b="0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za </a:t>
            </a:r>
            <a:r>
              <a:rPr b="0" lang="sr-Latn-ME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koje se može zahtijevati izrada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organ nadležan za pripremu plana i programa utvrđuje od slučaja do slučaja ispitivanjem, a na osnovu sljedećih kriterijuma za utvrđivanje značajnih uticaja na životnu sredinu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) kriterijumi vezani za plan i program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značaj plana i programa za zaštitu životne sredine i održivi razvoj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problemi zaštite životne sredine plana i programa i mogućnost uticaja na: vazduh; vode i more; zemljište; klimu i klimatske promjene; jonizujuća i nejonizujuća zračenja; buku i vibracije; biljni i životinjski svijet; staništa i biodiverzitet; zaštićena prirodna dobra; stanovništvo i zdravlje ljudi; gradove i druga naselja; kulturnu baštinu; infrastrukturne, industrijske i druge objekte; druge prirodne i stvorene vrijednosti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stepen u kome plan i program utiče na druge planove i programe, uključujući i one u različitim hijerarhijskim strukturama - nivoim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stepen kojim se planom i programom uspostavlja okvir za realizaciju projekata, bilo u pogledu lokacije, prirode, obima i uslova funkcionisanja ili u pogledu lokacije resurs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2) kriterijumi vezani za uticaje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vjerovatnoća, intenzitet, složenost, reverzibilnos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vremenska dimenzija (trajanje, učestalost, ponavljanje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prostorna dimenzija: lokacija; geografska oblast; broj izloženih stanovnika; preko-granična priroda uticaj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kumulativna i sinergijska priroda uticaj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rizici po zdravlje ljudi i životnu sredin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djelovanje na oblasti od prirodnog, kulturnog i drugog značaja: posebne prirodne karakteristike; oblasti ili prirodni predjeli kojima je priznat zaštićeni status na državnom ili međunarodnom nivou; kulturnu baštinu; gusto naseljene oblasti; oblasti sa različitim režimima zaštit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ugrožene oblasti: prekoračeni standardi kvaliteta životne sredine ili granične vrijednosti; intenzivno korišćenje zemljišta; postojeći i mogući rizici; smanjeni kapacitet životne sredine; posebno osjetljive i rijetke oblasti; ekosistemi; biljne i životinjske vrs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Za planove ili programe za koje nije potrebna izrada strateške procjen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nadležni organ donosi odluku o nepreduzimanju izrade strateške procjene, koja sadrži podatke o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) vrsti plana ili programa za koji se ne radi izvještaj o strateškoj procjeni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2) razlozima za nepreduzimanje izrade strateške procjen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3) kriterijumima na osnovu kojih je ocijenjeno da ne postoji mogućnost značajnih uticaja na životnu sredinu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4) druge relevantne podatke na osnovu kojih je odlučeno da se ne radi izvještaj o strateškoj procjeni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43BF-D361-480F-AF31-2AF1D5C2C283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4216320" y="228600"/>
            <a:ext cx="1625760" cy="9144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snovu izvještaja o strateškoj procjeni čini plan i program kojim se utvrđuje okvir za razvoj određene oblasti, odnosno njegove karakteristike, ciljevi i prostorni obuhva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Ukoliko pojedini planovi i programi predstavljaju dio šireg hijerarhijskog okvira, uzimajući u obzir potrebu izbjegavanja dvostrukog sprovođenja strateške procjene, strateška procjena se sprovodi u skladu sa ovim zakonom na različitim hijerarhijskim nivoi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Izvještaji o strateškoj procjeni koji se izrađuju za planove i programe na različitim hijerarhijskim nivoima moraju biti međusobno usklađeni i usklađeni sa procjenama uticaja projekata na životnu sredinu, kao i planovima i programima zaštite životne sredin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Izvještaj o strateškoj procjeni sadrži podatke kojima se opisuju i procjenjuju mogući značajni uticaji na životnu sredinu do kojih može doći realizacijom plana i programa, kao i razmatrana varijantna rješenja, uz vođenje računa o ciljevima i geografskom obuhvatu plana i programa, u obimu utvrđenom odlukom iz člana 10 ovog zako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Pored podataka iz stava 1 ovog člana, izvještaj o strateškoj procjeni sadrži i sljedeće podatk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) kratak pregled sadržaja i glavnih ciljeva plana i programa i odnos prema drugim planovima i programim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2) opis postojećeg stanja životne sredine i njenog mogućeg razvoja, ukoliko se plan i program ne realizuj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3) identifikaciju područja za koja postoji mogućnost da budu izložene značajnom riziku i karakteristike životne sredine u tim područjim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4) postojeći problemi u pogledu životne sredine u vezi sa planom i programom, uključujući naročito one koje se odnose na oblasti koje su posebno značajne za životnu sredinu, kao što su staništa divljeg biljnog i životinjskog svijeta sa aspekta njihovog očuvanja, posebno zaštićena područja, nacionalni parkovi ili morsko dobr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5) opšti i posebni ciljevi zaštite životne sredine ustanovljeni na državnom ili međunarodnom nivou koji su od značaja za plan i program i način na koji su ovi ciljevi, kao i svi ostali aspekti od značaja za životnu sredinu, bili uzeti u razmatranje u procesu priprem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6) moguće značajne posljedice po zdravlje ljudi i životnu sredinu, uključujući faktore kao što su: biološka raznovrsnost, stanovništvo, fauna, flora, zemljište, voda, vazduh, klimatski činioci koji utiču na klimatske promjene, materijalni resursi, kulturno nasleđe, uključujući arhitektonsko i arheološko nasleđe, pejzaž i međusobni odnos ovih faktor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7) mjere predviđene u cilju sprječavanja, smanjenja ili otklanjanja, u najvećoj mogućoj mjeri, bilo kog značajnog negativnog uticaja na zdravlje ljudi i životnu sredinu do koga dovodi realizacija plana i program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8) pregled razloga koji su poslužili kao osnova za izbor plana i programa sa aspekta razmatranih varijantnih rješenja koje su uzete u obzir, kao i opis načina procjene, uključujući i eventualne teškoće do kojih je prilikom formulisanja traženih podataka došlo (kao što su tehnički podaci ili nepostojanje know-how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9) prikaz mogućih značajnih prekograničnih uticaja na životnu sredin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0) opis programa praćenja stanja životne sredine, uključujući i zdravlje ljudi u toku i nakon realizacije plana i programa (monitoring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1) zaključke do kojih se došlo tokom izrade izveštaja o strateškoj procjeni predstavljene na način razumljiv javnost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2) rezim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FC3D-1722-45F0-B87C-58DE1B9E2AD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4216320" y="228600"/>
            <a:ext cx="1625760" cy="914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rgan nadležan za pripremu plana i programa odlučuje o izboru nosioca izrade izvještaja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Nosilac izrade izvještaja iz stava 1 ovog člana može biti domaće ili strano pravno lice ili preduzetnik registrovano u Centralnom registru privrednih subjekata (u daljem tekstu: CRPS), odnosno u odgovarajućem registru nadležnog organa matične države stranog pravnog lica ili preduzetnika, za obavljanje poslova izrade planskih dokumenata, studija i analiza uticaja na životnu sredi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Pravno lice ili preduzetnik iz stava 2 ovog člana za izradu strateške procjene, odnosno izvještaja o strateškoj procjeni mora obrazovati multidisciplinarni tim sastavljen od stručnih lica kvalifikovanih za analizu svakog elementa izvještaja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Stručno lice iz stava 3 ovog člana kvalifikovano je za izradu strateške procjene, odnosno izvještaja o strateškoj procjeni ako ima visoku stručnu spremu odgovarajućeg smjera i najmanje pet godina rada u struci, stručne reference, odnosno učešće u izradi najmanje dva izvještaja o uticaju plana i programa na životnu sredinu koji su realizova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Stručno lice iz stava 3 ovog člana ne može biti lice za koje organ nadležan za pripremu plana i programa utvrdi da je zaposleno u nekom od zainteresovanih organa i organizacija iz člana 10 tačka 8 ovog zako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Pravno lice ili preduzetnik koji učestvuje u izradi plana i programa ne može učestvovati u izradi izvještaja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9ADA-726E-4445-9966-FD5AD69CF87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4216320" y="228600"/>
            <a:ext cx="1625760" cy="9144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Učešće zainteresovanih organa i organizacija Član 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rgan nadležan za pripremu plana i programa dostavlja zainteresovanim organima i organizacijama na mišljenje izvještaj o strateškoj procjeni iz člana 15 ovog zako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Zainteresovani organi i organizacije dužni su da dostave mišljenje u roku od 30 dana od dana dostavljanja izvještaja o strateškoj procjeni iz stava 1 ovog čla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Ako se mišljenje ne dostavi u roku iz stava 2 ovog člana, smatra se da nema primjedaba na dostavljeni izvještaj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Javna rasprava Član 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rgan nadležan za pripremu plana i programa obavještava javnost i zainteresovanu javnost o načinu i rokovima uvida u sadržinu izvještaja o strateškoj procjeni, dostavljanju mišljenja, kao i vremenu i mjestu održavanja javne rasprav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Javnu raspravu sprovodi organ nadležan za pripremu plana i progra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Izvještaj o učešću zainteresovanih organa i organizacija i javnoj raspravi Član 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gran nadležan za pripremu planova i programa izrađuje izvještaj o učešću zainteresovanih organa i organizacija i javnoj raspravi koji sadrži mišljenja iz člana 17 stav 2 ovog zakona, kao i mišljenja dostavljena u toku javnog uvida i javne rasprave o izvještaju o strateškoj procjeni iz člana 19 ovog zako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Izvještaj iz stava 1 ovog člana izrađuje se u roku od 30 dana od dana završetka javne rasprave i sadrži obrazloženje o svim prihvaćenim ili neprihvaćenim mišljenji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Ocjena izvještaja o strateškoj procjen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Član 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rgan nadležan za pripremu plana i programa dostavlja organu nadležnom za zaštitu životne sredine na saglasnost izvještaj o strateškoj procjeni, sa izvještajem o učešću zainteresovanih organa i organizacija i javnoj raspravi iz člana 20 stav 1 ovog zako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Po dobijanju izvještaja iz stava 1 ovog člana organ nadležan za poslove zaštite životne sredine može pribaviti mišljenje drugih ovlašćenih organizacija ili stručnih lica za pojedine oblasti ili može obrazovati komisiju za ocjenu izvještaja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cjena izvještaja iz stava 1 ovog člana vrši se na osnovu sljedećih kriterijum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) Plan i program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i su ciljevi i sadržaj plana i programa, područje za koje se priprema plan i program, prostorni obuhvat i vremenski horizon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itanja zaštite životne sredine koja su zastupljena u pripremi ciljeva plana i program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e su veze sa drugim relevantnim planovima i programi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2) Stanje životne sredin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o je postojeće i buduće stanje životne sredi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pis stanja životne sredine usklađen je sa ciljevima i indikatorima strateške procje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i su izvori podataka o stanju životne sredine i metodologija koja je usklađena sa stepenom složenosti strateške procjen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3) Varijantna rješenj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 je način na koji su pripremljena i razmatrana varijantna rješenja za pitanja i probleme vezane za životnu sredin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premljeno je varijantno rješenje nerealizovanja plana i programa i varijantno rješenje najpovoljnije sa stanovišta zaštite životne sredi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ocijenjeni su uticaji varijantnih rješenja na životnu sredinu i izvršeno poređenj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brazloženi su razlozi za izbor najpovoljnijeg varijantnog rješenja sa stanovišta zaštite životne sredin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4) Procjena uticaja na životnu sredinu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 je način na koji su određeni i vrjednovani značajni uticaji plana i programa na životnu sredin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 procjeni uticaja na životnu sredinu uključeni su sledeći činioci: vazduh, voda, zemljište, klima, biljni i životinjski svijet, staništa, biodiverzitet, predjeli (prirodna ljepota), prirodna dobra, stanovništvo i zdravlje, gradovi i druga naselja, kulturno-istorijska baština, infrastrukturni, industrijski i drugi objekti, druge stvorene vrijednost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 procjeni uticaja na životnu sredinu uzete su u obzir sledeće karakteristike uticaja: vjerovatnoća, intenzitet, složenost/reverzibilnost, vremenska dimenzija (trajanje, učestalost, ponavljanje), prostorna dimenzija (lokacija, geografska oblast, broj izloženih stanovnika, prekogranična priroda uticaja), kumulativna i sinergijska priroda uticaja, druge karakteristike uticaj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dređivanje i vrjednovanje značajnih uticaja usklađeno je sa važećim standardima, propisima i graničnim vrijednostim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pisana je korišćena metodologij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5) Mjere i program praćenja stanja životne sredin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edviđene su mjere za sprječavanje i ograničavanje negativnih, odnosno uvećanje pozitivnih uticaja na životnu sredinu za svaki procijenjeni uticaj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 je način na koji su pripremljene smjernice za izradu procjene uticaja projekata na životnu sredinu i drugih strateških procjen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premljen je program praćenja stanja životne sredine u toku i nakon realizacije plana i progra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6) Izvještaj o strateškoj procjen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jasno je definisana uloga nadležnih organa u izradi strateške procje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izvještaj o strateškoj procjeni je pripremljen na jasan i precizan nači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brađeni su svi elementi izvještaja o strateškoj procjeni propisani u članu 15 ovog zakona i dati izvori informacija, uključujući stručna mišljenj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 je način na koji su pitanja životne sredine uključena u plan i program, način na koji se vršilo odlučivanje i opisani razlozi odlučujući za izbor datog plana i programa sa aspekta varijantnih rješenja koja su bila razmatran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zaključci o izrađenom izvještaju o strateškoj procjeni predstavljeni su na način razumljiv javnost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7) Učešće zainteresovanih organa i organizacija i javnost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bezbijeđeno je učešće zainteresovanih organa i organizacija i javnosti u postupku izrade strateške procje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dostavljena su mišljenja zainteresovanih organa i organizacija i javnosti na izvještaj o strateškoj procjeni i prikazan način na koji se odlučivalo o mišljenji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Saglasnost na izvještaj o strateškoj procjeni Član 2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Na osnovu ocjene iz člana 21 ovog zakona, organ nadležan za poslove zaštite životne sredine daje ili odbija zahtjev za davanje saglasnosti na izvještaj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Rok za odlučivanje o saglasnosti iz stava 1 ovog člana je 30 dana od dana prijema zahtjeva od nadležnog organa za pripremu plana i progra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3EEAB-B3C4-4C29-B1B0-2D7F3161F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1036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1036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7BD96-BF9A-4976-85D1-1223C927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52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49511-2473-4A22-8512-A6F4DB129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2840" y="198108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226720" y="198108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722840" y="413064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8226720" y="413064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39235-219A-4AB9-AC57-AAEA98608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96D4-9AFE-482B-B312-5DA91A9ED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10362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0535-3BD1-48C4-9024-7E53C550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10362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79C8-8677-4455-86BC-A32A5596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0219-3BFE-40AA-9D20-073198EC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D193-4399-4E8F-8AC2-24B54BAD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235240" y="457200"/>
            <a:ext cx="9347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F1A7-A4F1-41B0-9BAC-AC523EE6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94D7-F9C1-49F8-A9FA-6FAF3FF3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10362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4E84F-79E0-43F2-BFA6-FBF824C4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2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DEFC-404F-4E74-8C7E-248EBB05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1036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18AB-F0F0-4ACE-A620-7C31CBE1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1036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1036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0823-3F10-416C-BD2C-64BF342E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52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DE71-537D-4B2D-80A1-9C035E91A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22840" y="198108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226720" y="198108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722840" y="413064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226720" y="413064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B713-54F2-4F81-BD07-07D2A5FE1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10362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E25F0-E802-4F82-A18F-79D7A882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86E6F-5DA9-4B4B-9B5D-4B44088E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3737B-32CB-45B4-BDFC-C96BAFD7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235240" y="457200"/>
            <a:ext cx="9347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CFCD7-2CF0-46FB-9870-AC8831E8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40990-82A6-4A76-94C8-FD062892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69818-0DED-4357-8F5D-E2A9845E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1036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49FC1-D09C-4680-8A2F-6A3EAAF0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10362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F5B1-872E-48FD-8BA3-DC04D1EDB40A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355680" y="6172200"/>
            <a:ext cx="1148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04920" y="304920"/>
            <a:ext cx="114807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304920" y="457200"/>
            <a:ext cx="1661400" cy="1371600"/>
            <a:chOff x="304920" y="457200"/>
            <a:chExt cx="1661400" cy="1371600"/>
          </a:xfrm>
        </p:grpSpPr>
        <p:sp>
          <p:nvSpPr>
            <p:cNvPr id="7" name="Rectangle 9"/>
            <p:cNvSpPr/>
            <p:nvPr/>
          </p:nvSpPr>
          <p:spPr>
            <a:xfrm>
              <a:off x="1246680" y="457200"/>
              <a:ext cx="5940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113480" y="457200"/>
              <a:ext cx="5904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977760" y="457200"/>
              <a:ext cx="5940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42400" y="457200"/>
              <a:ext cx="5940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08840" y="457200"/>
              <a:ext cx="5940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73480" y="457200"/>
              <a:ext cx="5940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438120" y="457200"/>
              <a:ext cx="6120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304920" y="457200"/>
              <a:ext cx="5904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382400" y="457200"/>
              <a:ext cx="5472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513440" y="457200"/>
              <a:ext cx="5256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642680" y="457200"/>
              <a:ext cx="5688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776240" y="457200"/>
              <a:ext cx="5904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909440" y="457200"/>
              <a:ext cx="5688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304920" y="990720"/>
            <a:ext cx="1148076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304920" y="1447920"/>
            <a:ext cx="3047040" cy="2514600"/>
            <a:chOff x="304920" y="1447920"/>
            <a:chExt cx="3047040" cy="2514600"/>
          </a:xfrm>
        </p:grpSpPr>
        <p:sp>
          <p:nvSpPr>
            <p:cNvPr id="59" name="Rectangle 9"/>
            <p:cNvSpPr/>
            <p:nvPr/>
          </p:nvSpPr>
          <p:spPr>
            <a:xfrm>
              <a:off x="2031480" y="1447920"/>
              <a:ext cx="11016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786320" y="1447920"/>
              <a:ext cx="11196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538640" y="1447920"/>
              <a:ext cx="11196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1290960" y="1447920"/>
              <a:ext cx="11196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1045440" y="1447920"/>
              <a:ext cx="11016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797760" y="1447920"/>
              <a:ext cx="11016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550440" y="1447920"/>
              <a:ext cx="10980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304920" y="1447920"/>
              <a:ext cx="10980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2279160" y="1447920"/>
              <a:ext cx="10332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2520720" y="1447920"/>
              <a:ext cx="10332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759760" y="1447920"/>
              <a:ext cx="10332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3000960" y="1447920"/>
              <a:ext cx="10980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3248640" y="1447920"/>
              <a:ext cx="10332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355680" y="6172200"/>
            <a:ext cx="1148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10362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7782-6136-47FC-ABDA-17A078BA9F06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60640" y="1371600"/>
            <a:ext cx="78235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ffff"/>
                </a:solidFill>
                <a:latin typeface="Arial"/>
              </a:rPr>
              <a:t>REGULATIVA IZ OBLASTI ZA</a:t>
            </a:r>
            <a:r>
              <a:rPr b="1" lang="sr-Latn-CS" sz="4500" spc="-1" strike="noStrike">
                <a:solidFill>
                  <a:srgbClr val="ffffff"/>
                </a:solidFill>
                <a:latin typeface="Arial"/>
              </a:rPr>
              <a:t>ŠTITE ŽIVOTNE SREDIN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962160" y="4267080"/>
            <a:ext cx="772164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2800"/>
            </a:br>
            <a:r>
              <a:rPr b="0" i="1" lang="sr-Latn-CS" sz="1600" spc="-1" strike="noStrike">
                <a:solidFill>
                  <a:srgbClr val="93c9ff"/>
                </a:solidFill>
                <a:latin typeface="Arial"/>
              </a:rPr>
              <a:t>Sl. list CG, br. 75/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redmet uređivanja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način i postupak procjene uticaja za projekte koji mogu imati značajan uticaj na životnu sredinu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izrade i ocjene elaborata o procjeni uticaja na životnu sredinu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i druga pitanja od značaja za procjenu uticaja na životnu sredinu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KO je odgovoran za sprovođenje postupka procjene uticaj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organ </a:t>
            </a: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(državne) </a:t>
            </a: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uprave nadležan za poslove zaštite životne sredine - za projekte za koje je potrebna građevinska dozvola, odnosno prijava građenja i za projekte za koje saglasnosti, odobrenja i dozvole izdaje drugi organ državne uprav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organ lokalne uprave nadležan za poslove zaštite životne sredine za projekte za koje je potrebna prijava građenja i za projekte za koje saglasnosti, odobrenja i dozvole izdaju drugi organi lokalne uprav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28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Definicija i značaj procjene uticaja na životnu sredi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 u="sng">
                <a:solidFill>
                  <a:srgbClr val="ffffff"/>
                </a:solidFill>
                <a:uFillTx/>
                <a:latin typeface="Arial"/>
              </a:rPr>
              <a:t>Definicija :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stupak koji obuhvata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ipremu elaborata o procjeni uticaja na životnu sredinu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učešće zainteresovanih organa i organizacija i javnosti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stupak ocjene elaborata i donošenje odluke o davanju saglasnosti, odnosno odbijanju davanja saglasnosti, i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brazloženje značajnih uticaja projekta na životnu sredinu na kojem se odluka zasniva, uzimajući u obzir rezultate javnih konsultaci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400" spc="-1" strike="noStrike" u="sng">
                <a:solidFill>
                  <a:srgbClr val="ffffff"/>
                </a:solidFill>
                <a:uFillTx/>
                <a:latin typeface="Arial"/>
              </a:rPr>
              <a:t>značaj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: Procjenom se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tvrđuju, opisuju i vrednuju u svakom pojedinačnom slučaju, mogući direktni i indirektni uticaji planiranog projekta na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segmente životne sred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tanovništvo i zdravlje ljudi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biodiverzitet, a naročito na zaštićene vrste biljaka, životinja i gljiva i njihovih staniš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emljište, vodu, vazduh, klimu i pejzaž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aterijalna dobra i kulturnu baštin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buhvata i mogući rizik od velikih nesreća ili katastrofa, koji su relevantni za projekat za koji se vrši procjena uticaj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2800"/>
            </a:br>
            <a:r>
              <a:rPr b="1" lang="sr-Latn-ME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redmet procjene uticaja na životnu sredi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ojekti koji se planiraju i izvode, a koji mogu značajno da utiču na životnu sredinu ili zdravlje ljudi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ojekti iz oblasti industrije, rudarstva, energetike, saobraćaja, turizma, poljoprivrede, šumarstva, vodoprivrede, komunalnih djelatnosti i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ojekti koji se planiraju u zaštićenom prirodnom dobru i lokalitetu nepokretnog kulturnog dobra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e vrši se za projekte namijenjene isključivo u svrhu odbrane, odnosno otklanjanja posljedica elementarnih nepogoda i prirodnih katastrof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ocjena uticaja vrši se za projekte za koje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je obavezna izrada elaborata procjene uticaja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se može zahtijevati izrada elaborata (Nadležni organ odlučuje o potrebi izrade elaborata u svakom pojedinačnom slučaju za ove projekte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ojekte za koje se vrši procjena uticaja propisuje Vlada Crne Gore (Uredbom)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Značenje izraz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dozvola ili odobrenje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za izvođenje projekta je odluka nadležnog organa kojom se nosilac projekta ovlašćuje da realizuje projekat, odnosno građevinska dozvola, prijava građenja, odobrenje ili saglasnost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javnost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 je jedno ili više fizičkih ili pravnih lica, udruženja i organizacij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nosilac projekta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je domaće ili strano pravno lice, preduzetnik ili fizičko lice koje podnosi zahtjev za izdavanje dozvole ili odobrenja za izvođenje projekta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. (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Nosilac projekta snosi troškove izrade elaborata, troškove za obavještavanja, troškove organizovanja i vođenja javne rasprave, kao i troškove rada komisije za procjenu uticaja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projekat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 odnosno izvođenje projekta je građenje, rekonstrukcija, instaliranje, uklanjanje i demontaža objekata, postrojenja ili sistema, sanacija, ostale aktivnosti u prirodi i prirodnom okruženju i eksploatacija mineralnih sirovin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postojeće stanje životne sredine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je zatečeno stanje segmenata životne sredine prije izvođenja bilo kakvih radova na lokaciji i neposrednoj blizini lokacije na kojoj se planira izvođenje pro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zainteresovana javnost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je javnost na koju projekat utiče ili se očekuje da će uticati, uključujući i nevladine organizacije koje su registrovane za zaštitu životne sredine u skladu sa zakonom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zainteresovani organi i organizacije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su državni organi, organizacije i organi lokalne samouprave koji imaju interes u donošenju odluka koje se odnose na zaštitu životne sredine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dlučivanje o potrebi procjene</a:t>
            </a:r>
            <a:r>
              <a:rPr b="1" lang="sr-Latn-CS" sz="1300" spc="-1" strike="noStrike">
                <a:solidFill>
                  <a:srgbClr val="ffffff"/>
                </a:solidFill>
                <a:latin typeface="Arial"/>
              </a:rPr>
              <a:t> uticaja </a:t>
            </a:r>
            <a:r>
              <a:rPr b="1" lang="sr-Latn-ME" sz="1300" spc="-1" strike="noStrike">
                <a:solidFill>
                  <a:srgbClr val="ffffff"/>
                </a:solidFill>
                <a:latin typeface="Arial"/>
              </a:rPr>
              <a:t>za projekte za koje se može zahtijevati izrada elaborata </a:t>
            </a: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(ne donosi se odluka za obavezne projekte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odnošenje zahtjeva o potrebi procjene uticaja (u pisanoj formi u tri primjerka i/ili elektronskoj formi na portalu e-Uprave i/ili na e-mail nadležnog organ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rovjera dostavljene dokumentacije i eventualna dopun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bavještavanje zainteresovanih organa, organizacija i javnosti o zahtjevu u roku od 3 r. dana od dana prijema urednog zahtjev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rok od 5 r.dana za dostavljanje mišljenja nadležnom organu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donošenje odluke o potrebi izrade elaborata u roku od 4 r. dana (sa obrazloženjem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bavještavanje zainteresovanih organa i organizacija i zainteresovane javnosti o odluci u roku od 3 r. dana od njenog donošenj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78f0"/>
              </a:buClr>
              <a:buSzPct val="11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ffffff"/>
                </a:solidFill>
                <a:latin typeface="Arial"/>
              </a:rPr>
              <a:t>određivanje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bima i sadržaja 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elaborat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 procjeni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 uticaja 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(nije obavezno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3c9ff"/>
                </a:solidFill>
                <a:latin typeface="Arial"/>
              </a:rPr>
              <a:t>Nosilac projekta </a:t>
            </a:r>
            <a:r>
              <a:rPr b="1" lang="sr-Latn-CS" sz="1200" spc="-1" strike="noStrike" u="sng">
                <a:solidFill>
                  <a:srgbClr val="93c9ff"/>
                </a:solidFill>
                <a:uFillTx/>
                <a:latin typeface="Arial"/>
              </a:rPr>
              <a:t>može</a:t>
            </a:r>
            <a:r>
              <a:rPr b="0" lang="sr-Latn-CS" sz="1200" spc="-1" strike="noStrike">
                <a:solidFill>
                  <a:srgbClr val="93c9ff"/>
                </a:solidFill>
                <a:latin typeface="Arial"/>
              </a:rPr>
              <a:t> podnijeti zahtjev, </a:t>
            </a:r>
            <a:r>
              <a:rPr b="1" lang="sr-Latn-CS" sz="1200" spc="-1" strike="noStrike" u="sng">
                <a:solidFill>
                  <a:srgbClr val="93c9ff"/>
                </a:solidFill>
                <a:uFillTx/>
                <a:latin typeface="Arial"/>
              </a:rPr>
              <a:t>a ne mora</a:t>
            </a:r>
            <a:r>
              <a:rPr b="0" lang="sr-Latn-CS" sz="1200" spc="-1" strike="noStrike">
                <a:solidFill>
                  <a:srgbClr val="93c9ff"/>
                </a:solidFill>
                <a:latin typeface="Arial"/>
              </a:rPr>
              <a:t>, nego može raditi elaborat čiji je sadržaj definisan posebnim pravilnik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podnošenje zahtjeva za određivanje obima i sadržaja elaborata (u pisanoj formi u tri primjerka i/ili elektronskoj formi na portalu e-Uprave i/ili na e-mail nadležnog orga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odlučivanje o zahtjevu (uz provjeru potpunosti dokumentacije čiji je sadržaj definisan Pravilnikom 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o sadrzaju dokumentacije koja se podnosi uz zahtjev....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proslijeđivanje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zahtjev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a Komisiji za procjenu uticaja (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u roku od 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r.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dana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razmatranje zahtjeva i dostavljanje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izvještaj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sa predlogom obima i sadržaja elaborata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u roku od 1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r.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na od dana prijema zahtjeva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Prosljeđivanje predloga Komisije nosiocu projekta (u roku od 5 r. da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obavještavanje zainteresovanih i javnosti (u roku od 5 r. da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dostavljanje mišljenja nadležnom organu- z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ainteresovani organi i organizacije i zainteresovana javnost, 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20 r.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dana od dana prijema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obavještenj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donošenje odluke o obimu i sadržini elaborata (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5 r.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dana od isteka roka za dostavljanje mišljenja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dostavljanje odluke nosiocu projekta i obavještavanje zainteresovanih (u roku od  3 r. danaod dana donošenj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Utvrđivanje obima i sadržaja elaborat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i ocjenu elaborat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, vrši komisija za procjenu uticaja koju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rješenjem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brazuje nadležni organ iz reda zaposlenih u nadležnom organu i drugih stručnih lica koja imaju najmanje završen VII-1 nivo nacionalnog okvira kvalifikacija i najmanje pet godina radnog iskustva u struci za pojedine segmente životne sred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300" spc="-1" strike="noStrike">
                <a:solidFill>
                  <a:srgbClr val="ffffff"/>
                </a:solidFill>
                <a:latin typeface="Arial"/>
              </a:rPr>
              <a:t>Izrada Elaborat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Elaborat može da izrađuje pravno lice ili preduzetnik, koje je upisano u Centralni registar privrednih subjekata za obavljanje djelatnosti projektovanja i inžinjeringa, izrade studija i analiza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dužno je da na izradi elaborata angažuje stručna lica za pojedine segmente životne sredine, koja imaju završen najmanje VII-1 nivo nacionalnog okvira kvalifikacija i najmanje pet godina radnog iskustva u struci i odredi lice koje će kooridinirati izradom elaborata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za projekte koji se realizuju u zaštićenom području obavezno je angažovanje i stručnog lica sa završenim najmanje VII-1 nivo nacionalnog okvira kvalifikacija iz oblasti biologije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Nadležni organ, drugi organi državne uprave i lokalne uprave, dužni su da na zahtjev nosioca projekta, obezbijede potrebne podatke i dokumentaciju od značaja za utvrđivanje i procjenu direktnih i indirektnih uticaja projekta na životnu sredinu, kao i rezultate sprovedenih postupaka uticaja planiranog projekta na životnu sredinu u skladu sa posebnim propisima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(u roku od 15 dan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Elaboratom se vrši analiza i ocjenjuje kvalitet segmenata životne sredine i njihov uticaj na određenom prostoru, međusobni uticaj postojećih i planiranih aktivnosti, direktnih i indirektnih uticaja projekta na životnu sredinu i sprovođenje mjera za sprečavanje, otklanjanje, ublažavanje ili sanaciju štetnih uticaja na životnu sredinu i zdravlje ljudi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11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ffffff"/>
                </a:solidFill>
                <a:latin typeface="Arial"/>
              </a:rPr>
              <a:t>ocjena Elaborata 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cjeni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 uticaj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nosilac projekta  nadležnom organu podnosi zahtjev za davanje saglasnosti na elaborat (uz elaborat). Zahtjev  se podnosi najkasnije u roku od 2 godine od dana prijema odluke o potrebi izrade elaborata, ili najkasnije u roku od dvije godine od dana prijema odluke o obimu i sadržaju elaborata (ako je takva odluka donese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Nadležni organ organizuje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i vodi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javnu raspravu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traje najmanje 30 dan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 i o tome obaještava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zainteresovane organe i organizacije i zainteresovanu javnost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5 r.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dana od dana prijema zahtjev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Elaborat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se objavljuje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na internet stranici nadležnog organa i portalu e-Uprave, danom početka javne rasprav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Javna tribina može se održati najranije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10 r.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dana od dana obavještavanja zainteresovanih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Na javnoj tribini </a:t>
            </a:r>
            <a:r>
              <a:rPr b="1" lang="vi-VN" sz="1200" spc="-1" strike="noStrike">
                <a:solidFill>
                  <a:srgbClr val="ffffff"/>
                </a:solidFill>
                <a:latin typeface="Arial"/>
              </a:rPr>
              <a:t>mora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da učestvuje nosilac projekta, lice koje je koordiniralo izradom elaborata i najmanje jedno lice koje je učestvovalo u izradi elaborat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(a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ko javnoj tribini ne prisustvuju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ova lica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, javna tribina se mora ponovo organizovati za vrijeme trajanja javne rasprave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cjenu elaborata vrši komisija za procjenu uticaja koju obrazuje nadležni organ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(može biti ista koja je odlučivala o obimu i sadržaju elaborat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dostavljanje elaborata Komisiji u rku od 2. r. dana od njenog imenovanj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dostavljaje Komisiji izvještaja sa primjedbama i mišljenjima sa javne rasprave (u roku od 3 r.da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Komisja dostavlja izvještaj o ocjeni elaborata (sa predlogom odluke o odbijanju ili davanju saglasnosti na elaborat, kao i razlozima za prihvatanje ili odbijanje primjedaba, predloga i mišljenja zainteresovanih organa i organizacija i zainteresovane javnosti) -najkasnije u roku od 25 r.dana od dana prijema kompletirane dokumentacij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11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dlučivanje o davanju saglasnosti na 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elaborat o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cjeni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 uticaj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dluku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(sa obrazloženjem)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donosi nadležni organ na osnovu izvještaja i predloga odluke komisije za procjenu uticaj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dostavlj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se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nosiocu projekta 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5 r.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dana od dana prijema izvještaja i predloga odluke komisije za procjenu uticaj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Nadležni organ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5 r.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dan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od dana donošenja odluke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bavje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štava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zainteresovane organe i organizacije i zainteresovanu javno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bjav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ljuje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na svojoj internet stranici i portalu e-Uprav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dluku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izvještaj o razlozima za prihvatanje ili odbijanje primjedaba, predloga i mišljenja zainteresovanih organa i organizacija i zainteresovane javnosti; 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elabor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dluk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u sa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elaboratom dostavlja ekološkoj inspekciji 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5 r.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dana od dana donošenja odluk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dluka o davanju saglasnosti na elaborat, kao i odluka da nije potrebna izrada elaborata, prestaje da važi, ako nosilac projekta ne pribavi građevinsku dozvolu ili podnese prijavu početka građenja objekta ili odobrenje ili saglasnost za izvođenje projekta 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godine od dana prijema odluk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Nadležni organ vodi evidenciju o odlukama o davanju saglasnosti i odbijanju zahtjeva za davanje saglasnosti na elabor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400" spc="-1" strike="noStrike">
                <a:solidFill>
                  <a:srgbClr val="ffffff"/>
                </a:solidFill>
                <a:latin typeface="Arial"/>
              </a:rPr>
              <a:t>Sprovođenje mjera utvrđenih elabor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Elaborat i saglasnost na elaborat su sastavni dio dokumentacije potrebne za pribavljanje dozvole ili odobrenja za izvođenje projek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Nosilac projekta dužan je da sprovede mjere utvrđene elaboratom na koji je data saglasnost ili mjere utvrđene odlukom da nije potrebna izrada elabora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ovjeru sprovođenja mjera vrši ekološki inspektor i sačinjava zapisnik koji dostavlja nadležnom organ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RELEVANTNA ZAKONSKA REGULATI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Zakon o životnoj sredini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Sl. list CG, br. </a:t>
            </a:r>
            <a:r>
              <a:rPr b="0" lang="sr-Latn-ME" sz="1400" spc="-1" strike="noStrike">
                <a:solidFill>
                  <a:srgbClr val="93c9ff"/>
                </a:solidFill>
                <a:latin typeface="Arial"/>
              </a:rPr>
              <a:t>52</a:t>
            </a:r>
            <a:r>
              <a:rPr b="0" lang="en-GB" sz="1400" spc="-1" strike="noStrike">
                <a:solidFill>
                  <a:srgbClr val="93c9ff"/>
                </a:solidFill>
                <a:latin typeface="Arial"/>
              </a:rPr>
              <a:t>/</a:t>
            </a:r>
            <a:r>
              <a:rPr b="0" lang="sr-Latn-ME" sz="1400" spc="-1" strike="noStrike">
                <a:solidFill>
                  <a:srgbClr val="93c9ff"/>
                </a:solidFill>
                <a:latin typeface="Arial"/>
              </a:rPr>
              <a:t>16,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ffc000"/>
                </a:solidFill>
                <a:latin typeface="Arial"/>
              </a:rPr>
              <a:t>73/19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RCG, br. 80/05, Sl. list CG 73/10, 40/11, 59/11, 52/16 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Sl. list CG, br. 75/18,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0000"/>
                </a:solidFill>
                <a:latin typeface="Arial"/>
              </a:rPr>
              <a:t>Zakon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o integrisanom sprečavanju i kontroli zagađivanja životne sredine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ff0000"/>
                </a:solidFill>
                <a:latin typeface="Arial"/>
              </a:rPr>
              <a:t>(Sl. list RCG, br. 80/05, Sl. list CG 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</a:rPr>
              <a:t> 54/09, 40/11, 42/15, 054/16, 055/18</a:t>
            </a:r>
            <a:r>
              <a:rPr b="0" lang="sr-Latn-CS" sz="1400" spc="-1" strike="noStrike">
                <a:solidFill>
                  <a:srgbClr val="ff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Uredba 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o projektima za koje se vrši procjena uticaja na životnu sredinu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CG, br</a:t>
            </a:r>
            <a:r>
              <a:rPr b="0" lang="sr-Latn-CS" sz="1400" spc="-1" strike="noStrike">
                <a:solidFill>
                  <a:srgbClr val="adadff"/>
                </a:solidFill>
                <a:latin typeface="Arial"/>
              </a:rPr>
              <a:t>. 20/07, 47/13, 53/14, 37/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o bližem sad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ju dokumentacije koja se podnosi uz zahtjev za odlu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vanje o potrebi </a:t>
            </a:r>
            <a:r>
              <a:rPr b="1" lang="sr-Latn-M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zrade elaborata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CG, br. 19/19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o bližem sad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ju dokumentacije koja se podnosi uz zahtjev za određivanje obima i sad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j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elaborata o procjeni uticaja na životnu sredinu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CG, br. 19/19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ravilnik 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o bližoj sadr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ni elaborata o procjeni uticaja na 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votnu sredinu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RCG, br. 19/19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Uredba o visini naknada, načinu obračuna i plaćanja naknada zbog zagađivanja životne sredine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RCG, br. 26/97, 9/00, 52/00, 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Sl list CG </a:t>
            </a:r>
            <a:r>
              <a:rPr b="0" lang="pl-PL" sz="1400" spc="-1" strike="noStrike">
                <a:solidFill>
                  <a:srgbClr val="93c9ff"/>
                </a:solidFill>
                <a:latin typeface="Arial"/>
              </a:rPr>
              <a:t>. 33/08, 5/09, 64/09, 40/11, 49/11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)</a:t>
            </a:r>
            <a:r>
              <a:rPr b="0" lang="en-GB" sz="1400" spc="-1" strike="noStrike">
                <a:solidFill>
                  <a:srgbClr val="93c9ff"/>
                </a:solidFill>
                <a:latin typeface="Arial"/>
              </a:rPr>
              <a:t> i d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UREDBA O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KTIMA ZA KOJ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 VR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ŠI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JENA UTICAJA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 ŽIVOTNU SREDINU</a:t>
            </a:r>
            <a:br>
              <a:rPr sz="2400"/>
            </a:br>
            <a:r>
              <a:rPr b="1" lang="sr-Latn-ME" sz="2400" spc="-1" strike="noStrike">
                <a:solidFill>
                  <a:srgbClr val="adadff"/>
                </a:solidFill>
                <a:latin typeface="Arial"/>
              </a:rPr>
              <a:t>(</a:t>
            </a:r>
            <a:r>
              <a:rPr b="0" i="1" lang="sr-Latn-CS" sz="2000" spc="-1" strike="noStrike">
                <a:solidFill>
                  <a:srgbClr val="adadff"/>
                </a:solidFill>
                <a:latin typeface="Arial"/>
              </a:rPr>
              <a:t>Sl. list CG, br. 20/07, 47/13, 53/14, 37/1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sta 1-obavezna izrada procjene uticaja – za objekte većih kapacitet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ljoprivredni objekti (za intenzivan uzgoj životinj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industrijski objekti većih kapaciteta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strojenja za proizvodnju energije snage preko 300M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vodovi za transport gasa, nafte, materija opasnih po vode i sl., dalekovod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bjekti za skladištenje nafte, hemikalija i sl. kapaciteta preko 200.000 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infrastrukturni projekti: željeznice, aerodromi, autoputevi, putevi sa 4 ili više traka, hidrotehnički objekti, brane i dr. objekti na akumulacijama preko 10.000.000 m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strojenja za spaljivanja opasnog i neopasnog otpada i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postrojenja za tretman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tpadnih voda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sta 2.- moguće je tražiti izradu procjen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uglavnom za objekte iz Liste 1, ali manjih kapaciteta,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za vikend naselja, hotelske komplekse i s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o bližem sadr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aju dokumentacije koja se podnosi uz zahtjev za odlu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ivanje o potrebi </a:t>
            </a:r>
            <a:r>
              <a:rPr b="1" lang="sr-Latn-ME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izrade elaborata</a:t>
            </a:r>
            <a:br>
              <a:rPr sz="2100"/>
            </a:br>
            <a:r>
              <a:rPr b="1" i="1" lang="sl-SI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l. list CG, br.19/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odaci o nosiocu projekt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(naziv pravnog lica/preduzetnika, ime i prezime odgovornog lica, adresa, registracioni/lični broj, brojeve telefona, fax-a i e-mail adresu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Opis lokacije</a:t>
            </a:r>
            <a:r>
              <a:rPr b="1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osebno u pogledu osjetljivosti životne sredine geografskog područja na koje bi projekat mogao imati uticaj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, a naročito u pogledu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ostojećeg i odobrenog korišćenja zemljiš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lativne zastupljenosti, dostupnosti, kvaliteta i regenerativnog kapaciteta prirodnih resurs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sorpcionog kapaciteta prirodne sredine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pis projekta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pis fizičkih karakteristika cijelog pro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pis glavnih karakteristika funkcionisanja projekta svih postupaka proizvodnj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cjenu vrste i količine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otpada i otpadnih materij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rste i karakteristike mogućeg uticaja projekta na životnu sredin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pis mogućih značajnih uticaja projekta na životnu sredin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pis mjera predviđenih u cilju sprečavanja, smanjenja, ili otklanjanja značajnog štetnog uticaja na životnu sredinu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pis izvora podatak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 bližem sad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ju dokumentacije koja se podnosi uz zahtjev za određivanje obima i sad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ja elaborata o procjeni uticaja n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votnu sredin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l. list CG, br.19/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odaci o nosiocu projekt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(naziv pravnog lica/preduzetnika, ime i prezime odgovornog lica, adresa, registracioni/lični broj, brojeve telefona, fax-a i e-mail adresu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Opis lokacije</a:t>
            </a:r>
            <a:r>
              <a:rPr b="1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osebno u pogledu osjetljivosti životne sredine geografskog područja na koje bi projekat mogao imati uticaj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, a naročito u pogledu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postojećeg i odobrenog korišćenja zemljiš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relativne zastupljenosti, dostupnosti, kvaliteta i regenerativnog kapaciteta prirodnih resurs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sorpcionog kapaciteta prirodne sredine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is projekt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is fizičkih karakteristika cijelog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is glavnih karakteristika funkcionisanja projekta svih postupaka proizvodn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procjenu vrste i količine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otpada i otpadnih materi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Izvještaj o postojećem stanju segmenata životne sredine i prikaz vjerovatnih promjena stanja životne sred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is mogućih alternativa projekta, tehnologij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, lokacij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, veličin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 i sl. I razloga za izabranu varijant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is segmenata životne sredine sadrži opis mogućih značajnih uticaja projekta na životnu sredinu za koje postoji mogućnost da budu značajno izloženi riziku usljed realizacije projekta, uključujući sljedeće faktor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 bližem sad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ju dokumentacije koja se podnosi uz zahtjev za određivanje obima i sad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ja elaborata o procjeni uticaja n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votnu sredin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l. list CG, br.19/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400" spc="-1" strike="noStrike">
                <a:solidFill>
                  <a:srgbClr val="ffffff"/>
                </a:solidFill>
                <a:latin typeface="Arial"/>
              </a:rPr>
              <a:t>Opis mogućih značajnih uticaja projekta na životnu sredin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pis mjera predviđenih u cilju sprečavanja, smanjenja, ili otklanjanja značajnog štetnog uticaja na životnu sredinu obuhv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ogram praćenja uticaja na životnu sredinu (monitoring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etehnički rezime informacija sadrži rezime elaborata o procjeni uticaja na životnu sredinu na način razumljiv široj javnost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odaci o mogućim poteškoćama prilikom prikupljanja podataka i dokumentacije odnose se na poteškoće i osnovne nejasnoće na koje je nosilac projekta naišao prilikom prikupljanja potrebnih informacija (kao što su nedostatak tehničke dokumentacije ili nedostatak stručnog znanja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Rezultati sprovedenih postupaka uticaja planiranog projekta na životnu sredinu u skladu sa posebnim propisima sadrži opis očekivanih značajnih štetnih uticaja projekta na životnu sredinu koji proizlaze iz podložnosti projekta na rizike od velikih nesreća i/ili udesa, kao i informacije o procjenama rizika i drugim procjenama dobijenim u skladu sa posebnim propisima i procjenom uticaja na životnu sredinu, a po potrebi, opis sadrži mjere predviđene za sprečavanje ili ublažavanje značajnih štetnih uticaja na životnu sredinu, kao i mjere pripravnosti i mjere koje će se preduzeti u slučaju velikih nesreća i/ili udes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odatne informacije i karakteristike projekta za određivanje obima i sadržaja elabora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zvori podataka obuhvataju referenti popis u kojem se navode izvori podataka korišćeni za opise i procjene date u elaborat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o bližoj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sadr</a:t>
            </a:r>
            <a:r>
              <a:rPr b="1" lang="hr-HR" sz="2100" spc="-1" strike="noStrike">
                <a:solidFill>
                  <a:srgbClr val="ffffff"/>
                </a:solidFill>
                <a:latin typeface="Arial"/>
              </a:rPr>
              <a:t>žini 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elaborata o procjeni uticaja na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ivotnu sredinu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2100"/>
            </a:b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Sadržaj elaborata</a:t>
            </a:r>
            <a:br>
              <a:rPr sz="2100"/>
            </a:br>
            <a:r>
              <a:rPr b="1" i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Sl. list CG, br.19/19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11160" y="1752120"/>
            <a:ext cx="10671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pšte (o nosiocu projekta, o projektu i licima koja rade elaborat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pis lokacije (katastarske parcele, potrebna površina zemljišta za vrijeme izgradnje i vrijeme funkcionisanja, geološke, pedološke i dr. karakteristike, izvorišta, hidrološke karakteristike, klimatske i meteorološke, pejzažne, flora i fauna, zaštićeni objekti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pis projekta (veličina, opis prethodnih i pripremnih radova, detaljan opis projekta i planiranog proizvodnog procesa kori</a:t>
            </a:r>
            <a:r>
              <a:rPr b="0" lang="hr-HR" sz="1300" spc="-1" strike="noStrike">
                <a:solidFill>
                  <a:srgbClr val="ffffff"/>
                </a:solidFill>
                <a:latin typeface="Arial"/>
              </a:rPr>
              <a:t>š</a:t>
            </a: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ćenje prirodnih resursa i energije, stvaranje otpada, zagađivanje i neprijetni mirisi, prikaz tehnologije tretiranja otpad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izvještaj o postojećem stanju segmenata životne sredine koji se izrađuje za projekte u oblastima zaštićenih prirodnih i kulturnih dobara, turizmu i složene inženjerske objekte, a za ostale projekte u skladu sa odlukom nadležnog organ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pis razmatranih alternativa projekta (lokacija, proizvodni procesi ili tehnologija, izbor materijala, planovi i nacrti, dinamika izgradnje i funkcionisanja, obim proizvodnje, uređenje i odlaganje otpada, planovi za vanredne prilike...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pis segmenata životne sredine za koje postoji mogućnost znatnog izlaganja riziku (stanovništvo, flora i fauna, zemljište, vazduh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pis mogućih značajnih uticaja projekta na životnu sredinu u redovnom funkcionisanju ili u slučaju udes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pis mjera predviđenih u cilju sprečavanja smanjenja ili otklanjanja štetnog uticaja na životnu sredinu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rogram praćenja uticaja na životnu sredinu (prikaz stanja životne sredine prije puštanja objekta u rad, parametri za ocjenu uticaja i način mjerenja, sadržaj i dinamika izvještavanja o izvršenim mjerenjima, obaveza obavještavanja javnosti o izvršenim mjerenjim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Netehnički rezime prethodnih informacija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odaci o mogućim teškoćama na koje je naišao nosilac projekt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rezultate sprovedenih postupaka uticaja planiranog projekta na životnu sredinu u skladu sa posebnim propisim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dodatne informacije i karakteristike projekta za određivanje obima i sadržaja elaborata; i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izvore podatak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(Sl. list RCG, br. 80/05, Sl. list CG 73/10, 40/11, 59/11, 52/16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Predmet uređivanja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lovi, način i postupak vršenja procjene uticaja određenih planova i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grama na životnu sredinu, kroz integrisanje principa zaštite životne sredine u postupak pripreme, usvajanja i realizacije planova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grama koji imaju značajan uticaj na životnu sredin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KO je odgovoran za sprovođenje postupka strateške procje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gan državne uprave nadležan za pripremu plana ili programa - za planove i programe koje usvaja organ na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ržavno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iv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gan lokalne uprave nadležan za pripremu plana ili programa - za planove i programe koje usvaja organ na lokalnom niv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Značenje izra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lanovi ili programi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 su svi razvojni planovi i programi i dokumenti, uklju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č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uju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ć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i i planove i programe koje sufinansira Evropska Unija i njihove izmjene, koje priprema i/ili usvaja organ dr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ž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avne ili lokalne uprave ili koje usvaja Skup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š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tina Crne Gore ili Vlada Crne Gore, odnosno skup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š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tina jedinice lokalne samouprave, kao i planovi i programi koji se donose na osnovu propis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trateška procjena uticaja</a:t>
            </a:r>
            <a:r>
              <a:rPr b="0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planova ili programa na životnu sredinu je procjena mogućih uticaja na životnu sredinu, uključujući i zdravlje ljudi, koja se sastoji u pripremi izveštaja o strateškoj procjeni, sprovođenju postupka za učešće javnosti i konsultacija i uzimanje u obzir izvještaja o strateškoj procjeni i rezultata učešća javnosti i konsultacija u postupku odlučivanja i donošenja ili usvajanja određenih planova i program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zvještaj o strateškoj procjeni je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 dio dokumentacije koja se prilaže uz plan ili program i sadrži identifikaciju, opis i procjenu mogućih značajnih uticaja na životnu sredinu, uključujući i prekogranične uticaje, zbog realizacije plana ili programa, kao i razmatrana i usvojena varijantna rješenja, uz vođenje računa o ciljevima i geografskom obuhvatu plana ili programa, kao i mjere za smanjenje negativnih uticaja na životnu sredinu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javnost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 je jedno ili više fizičkih ili pravnih lica, udruženja i organizacije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zainteresovana javnost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 je javnost na koju plan ili program utiče ili može uticati, uključujući i nevladine organizacije koje se bave zaštitom životne sredine i evidentirane su kod organa državne uprave nadležnog za zaštitu životne sredine u skladu sa zakonom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zainteresovani organi i organizacije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su državni organi i organizacije i organi lokalne samouprave koji, u skladu sa svojim nadležnostima, imaju obavezu ili interes u donošenju odluka koje se odnose na zaštitu životne sredine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Obaveznost izr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obavezna je za planove i program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z oblasti: poljoprivrede, šumarstva, ribarstva, lovstva, energetike, industrije, uključujući rudarstvo, saobraćaja, telekomunikacija, turizma, regionalnog razvoja, urbanističkog i prostornog planiranja ili korišćenja zemljišta, upravljanja morskim dobrom, upravljanja vodama, upravljanja otpadom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oji daju okvir za razvoj budućih projekata koji podliježu izradi procjene uticaja na životnu sredinu u skladu sa posebnim propisom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oji, s obzirom na područje u kome se realizuju, mogu uticati na zaštićena područja, prirodna staništa i očuvanje divlje flore i faun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ože se zahtijevati za planove i programe koji su gore nabrojani ako j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edvi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đ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no korišćenje manjih površina na lokalnom nivou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edvi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đ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na manja izmjena planova i programa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ne vrši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se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za planove i programe namijenjen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dbrani zemlje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blažavanju i otklanjanju posljedica elementarnih nepogoda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a finansijske i budžetske plano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strateške procjen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faza </a:t>
            </a: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 donošenja odlu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 u="sng">
                <a:solidFill>
                  <a:srgbClr val="ffffff"/>
                </a:solidFill>
                <a:uFillTx/>
                <a:latin typeface="Arial"/>
              </a:rPr>
              <a:t>donošenje odluke u zavisnosti od vrste plan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dluka o izradi strateške procjene (ako plan ili program spada u one za koje je obavezna izrada strateške procjene uticaj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donosi se najprije predlog odluk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pribavlja se mišljenje na predlog odluke 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organa nadležnog za poslove zaštite životne sredin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organa nadležnog za zdravl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drugih zaintersovanih organa i organizacija i zainteresovane javnos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donošenje odluke i objava u Službenom listu C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dluka o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trebi izrade strateške procjene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 (ako plan ili program spada u one za koje je moguće zahtijevati izradu strateške procjene)- odluka se donosi od slučaja do slučaja, na bazi kriterijuma koji su vezani za plan i program, odnosno za moguće uticaj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odluka o nepreduzimanju izrade strateške procje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2800"/>
            </a:b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Postupak strateške procjen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-faza </a:t>
            </a: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utvrdjivanja obima i sadrža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15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utvrđivanje obima i sadržaja izvještaja o strateškoj procjen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usklađenost izvještaja za planove različitih hijerarhijskih nivo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usklađenost sa procjenom uticaja projek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sadrži podatke kojima se opisuju i procjenjuju mogući značajni uticaji na životnu sredinu do kojih može doći realizacijom plana i programa, kao i razmatrana varijantna rješenja, uz vođenje računa o ciljevima i geografskom obuhvatu plana i program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ffffff"/>
                </a:solidFill>
                <a:latin typeface="Arial"/>
              </a:rPr>
              <a:t>kratak pregl</a:t>
            </a: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ed sadržaja i glavnih ciljeva plana i programa i odnos prema drugim planovima i programima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opis postojećeg stanja životne sredine i njenog mogućeg razvoja, ukoliko se plan i program ne realizuju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identifikaciju područja za koja postoji mogućnost da budu izložene značajnom riziku i karakteristike životne sredine u tim područjima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postojeći problemi u pogledu životne sredine u vezi sa planom i programom, uključujući naročito one koje se odnose na oblasti koje su posebno značajne za životnu sredinu, kao što su staništa divljeg biljnog i životinjskog svijeta sa aspekta njihovog očuvanja, posebno zaštićena područja, nacionalni parkovi ili morsko dobro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opšti i posebni ciljevi zaštite životne sredine ustanovljeni na državnom ili međunarodnom nivou koji su od značaja za plan i program i način na koji su ovi ciljevi, kao i svi ostali aspekti od značaja za životnu sredinu, bili uzeti u razmatranje u procesu pripreme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moguće značajne posljedice po zdravlje ljudi i životnu sredinu, uključujući faktore kao što su: biološka raznovrsnost, stanovništvo, fauna, flora, zemljište, voda, vazduh, klimatski činioci koji utiču na klimatske promjene, materijalni resursi, kulturno nasleđe, uključujući arhitektonsko i arheološko nasleđe, pejzaž i međusobni odnos ovih faktora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mjere predviđene u cilju sprječavanja, smanjenja ili otklanjanja, u najvećoj mogućoj mjeri, bilo kog značajnog negativnog uticaja na zdravlje ljudi i životnu sredinu do koga dovodi realizacija plana i programa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pregled razloga koji su poslužili kao osnova za izbor plana i programa sa aspekta razmatranih varijantnih rješenja koje su uzete u obzir, kao i opis načina procjene, uključujući i eventualne teškoće do kojih je prilikom formulisanja traženih podataka došlo (kao što su tehnički podaci ili nepostojanje know-how)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prikaz mogućih značajnih prekograničnih uticaja na životnu sredinu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opis programa praćenja stanja životne sredine, uključujući i zdravlje ljudi u toku i nakon realizacije plana i programa (monitoring)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zaključke do kojih se došlo tokom izrade izveštaja o strateškoj procjeni predstavljene na način razumljiv javnosti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rezi</a:t>
            </a:r>
            <a:r>
              <a:rPr b="0" lang="sr-Latn-ME" sz="900" spc="-1" strike="noStrike">
                <a:solidFill>
                  <a:srgbClr val="ffffff"/>
                </a:solidFill>
                <a:latin typeface="Arial"/>
              </a:rPr>
              <a:t>m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strateške procjen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faza izra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15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400" spc="-1" strike="noStrike" u="sng">
                <a:solidFill>
                  <a:srgbClr val="ffffff"/>
                </a:solidFill>
                <a:uFillTx/>
                <a:latin typeface="Arial"/>
              </a:rPr>
              <a:t>izrada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izvještaja o strateškoj procje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rgan nadležan za pripremu plana i programa odlučuje o izboru nosioca izrade izvještaja o strateškoj procjen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osilac izrade izvještaja  o strateškoj procje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omaće ili strano pravno lice ili preduzetnik registrovano u Centralnom registru privrednih subjekata (u daljem tekstu: CRPS), odnosno u odgovarajućem registru nadležnog organa matične države stranog pravnog lica ili preduzetnika, za obavljanje poslova izrade planskih dokumenata, studija i analiza uticaja na životnu sredin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avno lice ili preduzetnik koji učestvuje u izradi plana i programa ne može učestvovati u izradi izvještaja o strateškoj procjen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ora obrazovati multidisciplinarni tim sastavljen od stručnih lica kvalifikovanih za analizu svakog elementa izvještaja o strateškoj procjen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visoka stručna sprema odgovarajućeg smjer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ajmanje pet godina rada u struci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tručne reference, odnosno učešće u izradi najmanje dva izvještaja o uticaju plana i programa na životnu sredinu koji su realizovan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e može biti lice za koje organ nadležan za pripremu plana i programa utvrdi da je zaposleno u nekom od zainteresovanih organa i organizacij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15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strateške procjen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faza pribavljanja saglasnos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0078f0"/>
              </a:buClr>
              <a:buSzPct val="15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</a:rPr>
              <a:t>odlučivanje o davanju saglasnosti na izvještaj o strateškoj procjeni</a:t>
            </a:r>
            <a:r>
              <a:rPr b="1" lang="sr-Latn-ME" sz="13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procedura u nadležnosti 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Organ nadležan za pripremu plana i programa 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dostavljanje izvještaja zainteresovanim organima i organizacijam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davanje mišljenja (tih organa) u roku od 30 dan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bavještavanje javnosti o rokovima i načinima javne rasprav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sprovođenje javne rasprave najranije 30 dana od dana obavještavanja o javnoj raspravi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izrada izvještaja o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učešću zainteresovanih organa i organizacija i javnoj raspravi</a:t>
            </a: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dostavljanje izvještaja o strateškoj procjeni (sa izvještajem o učešću zainteresovanih organa i organizacija i javnoj raspravi) organu nadležnom za zaštitu životne sredine na saglasnost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rocedura u nadležnosti  organa za poslove zaštite životne sredin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cjena izvještaja o strateškoj procjeni (na bazi Zakonom definisanih kriterijum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pribavljanjem mišljenja drugih ovlašćenih organizacija ili stručnih lica za pojedine oblasti ili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obrazovanjem komisije za ocjenu izvještaja o strateškoj procjeni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saglasnost na izvještaj o strateškoj procjeni u roku od 30 dana od dana prijema zahtjeva (ili odbija saglasnost na izvještaj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0:22:39Z</dcterms:created>
  <dc:creator>rade</dc:creator>
  <dc:description/>
  <dc:language>en-US</dc:language>
  <cp:lastModifiedBy>sneza</cp:lastModifiedBy>
  <dcterms:modified xsi:type="dcterms:W3CDTF">2022-10-03T20:24:10Z</dcterms:modified>
  <cp:revision>364</cp:revision>
  <dc:subject/>
  <dc:title>ZAKON O IZGRADNJI OBJEKATA</dc:title>
</cp:coreProperties>
</file>