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14C944-562D-43F2-8FD1-7838FF11243D}"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213F9B-0F7F-445C-8845-CD0D5C462A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642728-E2BE-4185-9EAE-53E7DC1EAC5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5EC388-8D69-4B97-A473-73C394BCF2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A0C0B8-A10A-4BB3-A3E2-F637EAEF81A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1D3AD7-03F7-4CE2-B9CF-7EA1C315CB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A588F6-4FE8-4C4F-AF80-43F0A63197D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33612F-C6D9-4BE6-9103-AFB6C4C9E5C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7A7DE3-15C1-431B-856A-7D97418117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CF63DF-497A-4219-B283-1C00BC7EB4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904D57-135B-46C3-8CBE-EAB6DAA788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1A209F-D2EB-4DCA-99BE-9DECAC60FC3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DAE27E-2AAD-4419-ACCB-2AA1C45131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3F04E2-276F-449C-B22F-B82E75A76DB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123368-E262-4D92-A432-C2B202CA1C3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0FB9D7-60CD-42A4-8488-225C31A395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DA3D0F-508B-45B9-93AF-2E573581AA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8E7D3E-A250-466D-A1F8-D1AE0CB37CE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928F25-54D4-4B72-B3F9-26C5962E93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7986D0-AE07-4030-8617-AD3393D8163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795ED6-F9B2-4917-980B-A2042CE1BF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F329BE-4676-4468-847B-F9AC586B27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C81F88-F368-4F16-8490-091DC630DA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DDC40A-0703-48CD-9DDF-837C83607D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1B2149-F864-4D64-BAFC-52AB79004BD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955A03-8C60-478E-A9B0-0690CB189E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B83D72-4387-474B-93F8-E2C987AF43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C0F2F7-6955-473D-B7F7-C744DAF21E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8CAD4F-5B92-4C2E-9D6C-DB85619ED8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2EBEF9-4C25-4FA8-8E61-CDF61D0D56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CFCD94-80DF-4B50-89F9-0C204060C44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DAD7AFC-4ED2-4EFC-8B06-4E89577AAF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086E95-75E5-4194-85F1-DEA5F5097B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54579B-0C90-4E7B-924D-59FCDF000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9DB7DF-F5E0-43F0-AE67-614F7D61D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42D5BD-1A77-49D1-9234-98DDE6E59E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042CE4-AC46-4806-853E-4825577012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1B1B1-871C-4149-93F8-AC6D947C2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556E8-0E47-42D4-B20D-BBAE497D0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D2BA-73EE-4DC9-AFD4-4C5FE8E68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E1097-C3EB-4493-BA95-E1A57B37C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53D95-7495-48C1-B9A3-106DD88C8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DD4DB-93A7-4A8C-80CA-38CAB3D4F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074A8-0B0A-448F-A11A-71F3279F8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B822E0-2FE1-4CDC-ACA7-33A32642F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CF21-ED7C-4813-9D90-21BE85691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4BAC1-156B-43EA-B815-2EC019A12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98640-DC8F-44BB-87C4-16D49C018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7317A-4AAB-4D7A-A36A-54030781D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13540-1F5E-4E0A-B84B-BA14789ED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E1114C-CC3A-4AD9-BDE4-DCC2A3513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2AF87A-9AD4-4A3E-BA35-7D6BAA785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D94314-9D3E-4F36-8439-BAC84FD5D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065AFE-0962-42FE-8128-4B9DEEBE2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C0678-AE96-45DC-8472-10255B8F5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CC391E-098D-4053-9A57-FD4C0572E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DB207-BC80-4962-BE79-ACDE6C5EFD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AA17-3D9D-4F51-B167-3AEABC354BF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2E5A-2FD1-4889-88B0-1E7DD9BB470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ovo se podrazumijeva da se nalazi u dokumentaciji kod inspekcisj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a:t>
            </a:r>
            <a:r>
              <a:rPr b="0" lang="sr-Latn-ME" sz="1400" spc="-1" strike="noStrike">
                <a:solidFill>
                  <a:srgbClr val="ffffff"/>
                </a:solidFill>
                <a:latin typeface="Arial"/>
              </a:rPr>
              <a:t>radova I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Ako u toku gra</a:t>
            </a:r>
            <a:r>
              <a:rPr b="0" lang="sr-Latn-ME" sz="1500" spc="-1" strike="noStrike">
                <a:solidFill>
                  <a:srgbClr val="ffffff"/>
                </a:solidFill>
                <a:latin typeface="Arial"/>
              </a:rPr>
              <a:t>đ</a:t>
            </a:r>
            <a:r>
              <a:rPr b="0" lang="vi-VN" sz="1500" spc="-1" strike="noStrike">
                <a:solidFill>
                  <a:srgbClr val="ffffff"/>
                </a:solidFill>
                <a:latin typeface="Arial"/>
              </a:rPr>
              <a:t>enja objekta do</a:t>
            </a:r>
            <a:r>
              <a:rPr b="0" lang="sr-Latn-ME" sz="1500" spc="-1" strike="noStrike">
                <a:solidFill>
                  <a:srgbClr val="ffffff"/>
                </a:solidFill>
                <a:latin typeface="Arial"/>
              </a:rPr>
              <a:t>đ</a:t>
            </a:r>
            <a:r>
              <a:rPr b="0" lang="vi-VN" sz="1500" spc="-1" strike="noStrike">
                <a:solidFill>
                  <a:srgbClr val="ffffff"/>
                </a:solidFill>
                <a:latin typeface="Arial"/>
              </a:rPr>
              <a:t>e do promjene izvo</a:t>
            </a:r>
            <a:r>
              <a:rPr b="0" lang="sr-Latn-ME" sz="1500" spc="-1" strike="noStrike">
                <a:solidFill>
                  <a:srgbClr val="ffffff"/>
                </a:solidFill>
                <a:latin typeface="Arial"/>
              </a:rPr>
              <a:t>đ</a:t>
            </a:r>
            <a:r>
              <a:rPr b="0" lang="vi-VN" sz="1500" spc="-1" strike="noStrike">
                <a:solidFill>
                  <a:srgbClr val="ffffff"/>
                </a:solidFill>
                <a:latin typeface="Arial"/>
              </a:rPr>
              <a:t>a</a:t>
            </a:r>
            <a:r>
              <a:rPr b="0" lang="sr-Latn-ME" sz="1500" spc="-1" strike="noStrike">
                <a:solidFill>
                  <a:srgbClr val="ffffff"/>
                </a:solidFill>
                <a:latin typeface="Arial"/>
              </a:rPr>
              <a:t>č</a:t>
            </a:r>
            <a:r>
              <a:rPr b="0" lang="vi-VN" sz="1500" spc="-1" strike="noStrike">
                <a:solidFill>
                  <a:srgbClr val="ffffff"/>
                </a:solidFill>
                <a:latin typeface="Arial"/>
              </a:rPr>
              <a:t>a radova, odnosno stru</a:t>
            </a:r>
            <a:r>
              <a:rPr b="0" lang="sr-Latn-ME" sz="1500" spc="-1" strike="noStrike">
                <a:solidFill>
                  <a:srgbClr val="ffffff"/>
                </a:solidFill>
                <a:latin typeface="Arial"/>
              </a:rPr>
              <a:t>č</a:t>
            </a:r>
            <a:r>
              <a:rPr b="0" lang="vi-VN" sz="1500" spc="-1" strike="noStrike">
                <a:solidFill>
                  <a:srgbClr val="ffffff"/>
                </a:solidFill>
                <a:latin typeface="Arial"/>
              </a:rPr>
              <a:t>nog nadzora</a:t>
            </a:r>
            <a:r>
              <a:rPr b="0" lang="sr-Latn-ME" sz="1500" spc="-1" strike="noStrike">
                <a:solidFill>
                  <a:srgbClr val="ffffff"/>
                </a:solidFill>
                <a:latin typeface="Arial"/>
              </a:rPr>
              <a:t> - </a:t>
            </a:r>
            <a:r>
              <a:rPr b="0" lang="vi-VN" sz="1500" spc="-1" strike="noStrike">
                <a:solidFill>
                  <a:srgbClr val="ffffff"/>
                </a:solidFill>
                <a:latin typeface="Arial"/>
              </a:rPr>
              <a:t>u roku od tri dana od dana nastanka promjene, pisanim putem obavijesti nadle</a:t>
            </a:r>
            <a:r>
              <a:rPr b="0" lang="sr-Latn-ME" sz="1500" spc="-1" strike="noStrike">
                <a:solidFill>
                  <a:srgbClr val="ffffff"/>
                </a:solidFill>
                <a:latin typeface="Arial"/>
              </a:rPr>
              <a:t>ž</a:t>
            </a:r>
            <a:r>
              <a:rPr b="0" lang="vi-VN" sz="1500" spc="-1" strike="noStrike">
                <a:solidFill>
                  <a:srgbClr val="ffffff"/>
                </a:solidFill>
                <a:latin typeface="Arial"/>
              </a:rPr>
              <a:t>ni inspekcijski organ</a:t>
            </a:r>
            <a:r>
              <a:rPr b="0" lang="sr-Latn-ME" sz="1500" spc="-1" strike="noStrike">
                <a:solidFill>
                  <a:srgbClr val="ffffff"/>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svu gradilišnu dokumentaciju (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a:t>
            </a:r>
            <a:r>
              <a:rPr b="0" lang="sr-Latn-ME" sz="1600" spc="-1" strike="noStrike">
                <a:solidFill>
                  <a:srgbClr val="ffffff"/>
                </a:solidFill>
                <a:latin typeface="Arial"/>
              </a:rPr>
              <a:t>,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a:t>
            </a:r>
            <a:r>
              <a:rPr b="0" lang="sr-Latn-ME" sz="1400" spc="-1" strike="noStrike">
                <a:solidFill>
                  <a:srgbClr val="ffffff"/>
                </a:solidFill>
                <a:latin typeface="Arial"/>
              </a:rPr>
              <a:t>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u prethodnom zakonu  „preliminarna primopredaja“) nakon završetka građenj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a:t>
            </a:r>
            <a:r>
              <a:rPr b="0" lang="sr-Latn-ME" sz="1200" spc="-1" strike="noStrike">
                <a:solidFill>
                  <a:srgbClr val="ffffff"/>
                </a:solidFill>
                <a:latin typeface="Arial"/>
              </a:rPr>
              <a:t>), a po prethodno pribavljenoj saglasnosti Ministarstva i organa državne uprave nadležnih za zaštitu kulturnih dobara i zaštitu životne sredine, 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lokalne uprave (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a:t>
            </a:r>
            <a:r>
              <a:rPr b="0" lang="sr-Latn-ME" sz="1400" spc="-1" strike="noStrike">
                <a:solidFill>
                  <a:srgbClr val="ffffff"/>
                </a:solidFill>
                <a:latin typeface="Arial"/>
              </a:rPr>
              <a:t>organu lokalne uprave (u </a:t>
            </a:r>
            <a:r>
              <a:rPr b="0" lang="sr-Latn-ME" sz="1400" spc="-1" strike="noStrike">
                <a:solidFill>
                  <a:srgbClr val="ffffff"/>
                </a:solidFill>
                <a:latin typeface="Arial"/>
              </a:rPr>
              <a:t>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a:bodyPr>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ff"/>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a:t>
            </a:r>
            <a:r>
              <a:rPr b="0" lang="sr-Latn-ME" sz="1600" spc="-1" strike="noStrike">
                <a:solidFill>
                  <a:srgbClr val="ffffff"/>
                </a:solidFill>
                <a:latin typeface="Arial"/>
              </a:rPr>
              <a:t>naknade). 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7:30Z</dcterms:modified>
  <cp:revision>522</cp:revision>
  <dc:subject/>
  <dc:title>ZAKON O IZGRADNJI OBJEKATA</dc:title>
</cp:coreProperties>
</file>