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6285-0D2C-44D5-944E-960D4941A3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154-65F8-4A53-A64C-0C1A5E24B12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BABB-A899-4782-BF79-BC57FB45C25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12BE-C690-4E5F-AC6B-0AD82C7DE73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D0A4-4AB3-480C-AA0D-355B482B51E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6BCA-3618-4785-AAEA-8BA137582C9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C6C-E01D-4499-866A-5884BA15BDA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C816-A788-48D6-80B2-5618B722462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636-EDE9-4174-B98E-DA1F3CA5F5F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2B9A-B804-4BF4-A42C-95D53DCB1A4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D221-DA52-44FC-ABAE-068193B2841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E45A-34E2-4398-9A5C-FF3D5DF88C6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D439-3F8A-4FD6-B911-62DE3A45F46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9E5-0AFF-4E7B-8AB0-6760063C08A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BDA2-F0E1-4206-AE72-AEC51E33793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C7AB-DC9A-42E1-A1F3-A9C86981A96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820-ABDE-4CB5-8A3C-5082D4C5BB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329-5DFC-4125-85D9-6B9D190382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480-AD2B-4C40-ACBD-E8FC5CF4D0F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9AA4-970B-47A7-ACBA-5A75EE083DC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3D3C-2E8F-4CD9-A573-8EB83D483E6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68E4-8B10-4E99-A414-1BD69D062AB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826E-9958-4D95-BD1D-69740B30667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EDD7-3857-4F91-AC5E-CE4EAFCA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5120-6C70-43FF-A220-B72382DE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FE9B-E52A-4557-A75B-D16CB362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7F30-940F-4BBE-9E73-1CB72DEE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2172-FB38-464C-AD9E-9E11E37B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EA0-E589-47A6-9D36-921EA12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56D7-6C7B-4F21-A743-1E169C3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CE74-AA4A-4FF9-AFA4-BFC6921A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BBBD-5B0F-4ED1-8DA0-C0D4CDB1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0AE4-35CE-4593-AB71-AFC02FE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DB7-513F-4821-8481-5EAE0F9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AE23-0128-4BFA-8A6E-1074EF08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4C2D-64A4-49D2-B086-31207C23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D9F-9605-4A98-BC69-D12F526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BFE-7095-46B0-9DCC-08153D70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B06C-C147-48BB-8328-D990F7BB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AFC6-F585-4743-BFFF-EDC89ACE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08C7-9AD7-4F98-A07A-F571414B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D1F6-3C2A-4568-AD88-FB47605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A3FB-AC5C-4FB7-81B2-A8195756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1BE3-CC4D-44E3-A2C9-705D8E73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B554-2733-4CE9-BD44-1BF8E46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47D0-3D19-4FAE-B76C-FB6C063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5422-966B-42FA-A9D5-B94E2D8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4A3-3586-47C2-8A81-1E0FD9DC5C7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5D76-6CAD-4BE4-BB6B-F48BE08A7D1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i dokazi prema potreb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 li je podnosilac zahtjeva osuđivan za krivično djelo za koje se gonjenje preduzima po službenoj du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položenom stručnom ispitu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trebnom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skustv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kopija radne knjižice/ugovora u skladu sa zakonom o radu; kopija rješenja o imenovanju odgovornog projektanta, vodećeg projektanta, odgovornog vršioca revizije, vodećeg vršioca revizije, odgovornog inženjera, glavnog inženjera, nadzornog inženjera ili glavnog nadzornog inženjera na određenom projektu/objektu; potpisana izjava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ffff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na izradi tehničke dokumentacije i/ili građenju objekta u svojstvu ovlašćenog inženjera 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vjeren od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uvjerenje o crnogorskom državljanstv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ajmanje po jednog zaposlenog revizora za svaki od projekata (arhitektonski, građevinski, elektrotehnički i mašinski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nijesu unesene izmjene na osnovu izmjena Zakona o planiranju prostora i izgradnji objekata (82/20), u vezi potrebnog broja revizora za objekte i zgrade različitih kvadra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Vođenje registra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lektronski regist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izdatih licenc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oduzetih licenci,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licenci u mirovanj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ri se vode z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vlašćene inženj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zident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reziden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zor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ante i izvođač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dente i stručni nadz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Program stručnog ispita obuhvata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I Zakona o planiranju prostora i izgradnji objekata i podzakonskih akata donijetih na osnovu ovog zakon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OPŠ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izrade i sadržini tehničke dokumentacije za građenj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ršenja revizije glavn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obliku i izgledu table za građenje objeka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ršenja stručnog nadzora nad građenjem objeka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ođenja i sadržini građevinskog dnevnika i građevinske knjig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i postupku osmatranja tla i objekta u toku građenja i upotreb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LEGALIZACI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ispitivanja, načinu izrade i sadržaju analize statičke i seizmičke stabilnosti bespravnog objekta površine do 500 m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ENERGETIK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izrade i bližoj sadržini tehničke dokumentacije složenih inženjerskih objekata za proizvodnju, prenos i distribuciju električne i toplotne energ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ršenja revizije složenih inženjerskih objekata za proizvodnju, prenos i distribuciju električne i toplotne energ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sadržaju elaborata pripremnih radova za građenje složenih inženjerskih objekata za proizvodnju, prenos i distribuciju električne i toplotne energ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obavljanja stručnog nadzora složenog inženjerskog objekta za proizvodnju, prenos i distribuciju električne i toplotne energ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ršenja tehničkog pregleda složenih inženjerskih objekata za proizvodnju, prenos i distribuciju električne i toplotne energi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SAOBRAĆAJ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izrade i sadržini tehničke dokumentacije za složene inženjerske objek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ršenja revizije složenog inženjersk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sadržaju elaborata o pripremnim radovima za složene inženjerske objekte saobraćajne infrastruktur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obavljanja stručnog nadzora složenog inženjersk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načinu vršenja tehničkog pregleda složenih inženjerskih objeka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II Zakona o građevinskim proizvodima i podzakonskih akata donijetih na osnovu ovog zakon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Uredba o načinu priznavanja inostranih isprava i znakova za građevinske proizvod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listi usaglašenih standarda za građevinske proizvod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klasifikaciji gradjevinskih proizvoda u odnosu na njihove reakcije i otpornost na poža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- Pravilnik o obliku i sadržaju dokumenta o tehničkoj ocjeni i načinu vođenja evidencije; izdatih dokumenata o tehničkoj ocjeni građevinskog proizvod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0-10-15T00:50:09Z</dcterms:modified>
  <cp:revision>205</cp:revision>
  <dc:subject/>
  <dc:title>ZAKON O IZGRADNJI OBJEKATA</dc:title>
</cp:coreProperties>
</file>