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12E8-F758-4EEF-9DD5-D83DB4B71D7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77AF-074A-4DBB-BCC3-058AAA0987F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37E5-FDA3-42E3-A54F-64CBDE79750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a knjiga vodi se za gradilište u cjelini, a ako se u okviru gradilišta grade objekti koji su prostorno izdvojeni, predstavljaju nezavisnu funkcionalnu cjelinu i zahtijevaju specifičnu organizaciju građenja, građevinska knjiga se može za takve objekte voditi izdvojen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a knjiga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avo upisivanja odgovarajućih podataka i zapažanja u građevinsku knjigu imaju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 predstavnik investitora. U građevinskoj knjizi ne smije biti ništa brisano već se svaka ispravka vrši povlačenjem crte preko pogrešnog i dopisivanja tačn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iginal građevinske knjige čuva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a kopiju predstavnik investitora, za sve vrijeme građenja objek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38E5-358B-4412-9A26-84EBBDE2D73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a knjiga vodi se za gradilište u cjelini, a ako se u okviru gradilišta grade objekti koji su prostorno izdvojeni, predstavljaju nezavisnu funkcionalnu cjelinu i zahtijevaju specifičnu organizaciju građenja, građevinska knjiga se može za takve objekte voditi izdvojen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a knjiga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avo upisivanja odgovarajućih podataka i zapažanja u građevinsku knjigu imaju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 predstavnik investitora. U građevinskoj knjizi ne smije biti ništa brisano već se svaka ispravka vrši povlačenjem crte preko pogrešnog i dopisivanja tačn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iginal građevinske knjige čuva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a kopiju predstavnik investitora, za sve vrijeme građenja objek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DEAE-7AF2-4F70-ADF6-DE65461E977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ACCC-9630-4D0C-98A1-D86B602AD21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Na lokacijama na kojima se grade objekti koji predstavljaju zaokruženu funkcionalnu cjelinu (objekti kao što su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veći turistički kompleksi, industrijski objekti, proizvodni sistemi i sl.), koje su obuhvaćene planskim dokumentom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za koji je urađena strateška procjena uticaja na životnu sredinu, Elaboratom se može obuhvatiti i područje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neophodno za cjelovito infrastrukturno opremanje prostora, za koje investitor ima pravo svojine, odnosno drugo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pravo na građevinskom zemljištu na kome se izvode pripremni radovi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3E81-E08E-45D5-A63E-AEEAE0C5924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Ovaj pravilnik važi za domaća, ali i za strana lica, u skladu sa Zakon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C066-A8FD-4A27-902D-4426BAE489D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sr-Latn-C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B19A-C88D-4569-B7A9-9DAA8E910EA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9978-EE09-42E4-AE2B-193276C57FF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F2F0-71F8-4732-8F2E-E4D0FEA1CF0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53DE-2372-4A1E-9166-100DE799CE1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ME" sz="900" spc="-1" strike="noStrike">
                <a:solidFill>
                  <a:srgbClr val="000000"/>
                </a:solidFill>
                <a:latin typeface="Arial"/>
              </a:rPr>
              <a:t>zakonom je propisano oduzimanje licenc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Oduzimanje licence (</a:t>
            </a:r>
            <a:r>
              <a:rPr b="0" lang="sr-Latn-ME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arstvo po službenoj dužnosti, ili na zahtjev zainteresovanog lica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) i obavještavanje nadležnog inspekcijskog organa, ako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lac licence djelatnost vrši suprotno </a:t>
            </a:r>
            <a:r>
              <a:rPr b="0" lang="sr-Latn-ME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uslovima propisanim zakonom za obavljanje djelatnosti –oduzima se na period od 3 mjeseca do 5 godina, a trajno za revidenta, stručni nadzor i revizo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se utvrdi da je licenca izdata na osnovu netačnih podataka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lac licence prestane da ispunjava uslove za obavljanje djelatnosti utvrđene ovim zakonom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ocu licence bude oduzeta poslovna sposobno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lac licence prestane da postoji po sili zakona, 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lac licence postane trajno nesposoban za obavljanje poslov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B6D8-CEE7-48E8-A9E2-3675237D204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90DB-BB6C-44D6-A300-E16A49A648A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FE72-3BE4-4D29-8EBB-665F1528740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4ADD-6D79-4B86-95BE-94FEA75CA2D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6129-CCC4-4D72-8CD4-39FC7DD75B1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64AD-A6D6-4151-ADD9-1821AD5403D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DAAB-1215-420D-B315-E47898AEC77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38B3-7350-4A5C-9EF5-DEC9466E9FA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i dnevnik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daci upisani u građevinski dnevnik ne mogu se brisati, ispravljati, naknadno mijenjati ni dopunjava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mjene i dopune podataka upisanih u građevinski dnevnik vrše se isključivo kao novi upisi, uz obavezno navođenje dana upi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pis podataka u građevinski dnevnik vrši se mastilom ili hemijskom olovk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je dužan da građevinski dnevnik čuva do isteka ugovorenog garantnog roka za izgrađeni objekat, odnosno izvedene rad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 je dužan da po isteku garantnog roka preda investitoru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vestitor je dužan da trajno čuva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4FE1-6129-43C5-A45C-272FD19F86E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i dnevnik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daci upisani u građevinski dnevnik ne mogu se brisati, ispravljati, naknadno mijenjati ni dopunjava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mjene i dopune podataka upisanih u građevinski dnevnik vrše se isključivo kao novi upisi, uz obavezno navođenje dana upi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pis podataka u građevinski dnevnik vrši se mastilom ili hemijskom olovk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je dužan da građevinski dnevnik čuva do isteka ugovorenog garantnog roka za izgrađeni objekat, odnosno izvedene rad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 je dužan da po isteku garantnog roka preda investitoru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vestitor je dužan da trajno čuva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84C7-31CD-4449-B2B8-46B3443F95B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i dnevnik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daci upisani u građevinski dnevnik ne mogu se brisati, ispravljati, naknadno mijenjati ni dopunjava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mjene i dopune podataka upisanih u građevinski dnevnik vrše se isključivo kao novi upisi, uz obavezno navođenje dana upi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pis podataka u građevinski dnevnik vrši se mastilom ili hemijskom olovk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je dužan da građevinski dnevnik čuva do isteka ugovorenog garantnog roka za izgrađeni objekat, odnosno izvedene rad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 je dužan da po isteku garantnog roka preda investitoru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vestitor je dužan da trajno čuva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B6F6-E6D6-45C3-AF7F-796D35EFAD1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6121440" cy="6840720"/>
          </a:xfrm>
          <a:prstGeom prst="rect">
            <a:avLst/>
          </a:prstGeom>
          <a:noFill/>
          <a:ln w="0">
            <a:noFill/>
          </a:ln>
        </p:spPr>
        <p:txBody>
          <a:bodyPr lIns="252000"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vakodnevno unosi u građevinski dnevnik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) datum unošenja podatak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) vremenske prilike (temperatura, padavine i sl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) radno vrijem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) angažovanu radnu snagu i mehanizaciju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5) druge okolnosti pod kojima se izvode radovi, a od značaja su za sagledavanje i kontrolu uslova i ispravnosti izvođenja radov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6)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vrstu i količinu prispjelog materijala i produkat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sključeno po novom pravilni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7)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izvođača materijala i produkata;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sključeno po novom pravilni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8) postojanje propisanih sertifikata o kvalitetu isporučenog materijala i produkat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9) vrstu i položaj radova koji se izvode (pozicija radova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) orijentacionu količinu pojedinih radova koji su izvršen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1) izvršenu kontrolu radova koji su prethodili radovima koji se izvode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kote dna temelja, temeljna jama, podac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 pregledu iskopa temelja, vrsti materijala, predviđenoj nosivosti kao i podaci o sastavu tla ispod kote dn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melja, podaci o ispitivanju nosivosti tla, vlažnost i stepen nabijenosti podloga, oplata, armatura i sl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2) način ugrađivanja odgovarajućih materijala i produkata (ručno, uz primjenu odgovarajuće mehanizacije i dr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3)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ačin njege i zaštite već izvedenih radova (njegovanje betona, zaštita od padavina i dr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4)uzorke materijala koji su dostavljeni na kontrolu sa oznakom položaja radova na koje se odgovarajući uzorak odnos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5) nedostatke ili greške u tehničkoj dokumentaciji ,po kojoj se radovi izvod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6) nepredviđene okolnosti koje zahtijevaju izmjenu postojećih tehničkih rješenja, odnosno povećan obim ugovorenih radova ili izvođenje naknadnih radova (nepredviđena svojstva tla, aktiviranje klizišta, arheološki nalazi i dr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7)podatke o izvršenim inspekcijskim pregledima gradilišta i osnovnim nalazima i nalozima inspekcijskih organa, sa naznakom mjera koje, po tim nalozima, treba preduze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 građevinski dnevnik ulažu se i pismeni nalazi i dokumentacija koja je gradilištu dostavljena od strane investitora, projektanta i drugih lic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9BBA-A521-4C39-BB1A-309B95D4647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adzorni organ unosi u građevinski dnevnik podatke, zapažanja i naloge koji se odnose n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tpunost tehničke dokumentacije i dopunska objašnjenja projektan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valitet materijala, instalacija, uređaja, postrojenja i opreme koji se ugrađuju ili postavljaju u objekt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stojanje atesta, sertifikata i druge dokumentacije kojima se dokazuje kvalitet materijala, instalacija, uređaja, postrojenja i opreme za materijal i proizvode koji se ugrađuj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valitet i postupak izvođenja pojedinih radova, kao i međusobnu usaglašenost sa ostalim radov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bavještavanje investitora o nedostacima u tehničkoj dokumentaciji, građenju objekta suprotno tehničkoj dokumentaciji, propisima, standardima i normama kvaliteta, kao i o preduzetim odgovarajućim mjer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ršeni pregled radova koji se prema prirodi i dinamici izgradnje objekta ne mogu provjeriti u kasnijim fazama izgradnje objekta (radovi na izvođenju temelja, oplate, armature, izolacija i d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love i postupak izmjene tehničke dokumentacije i odobravanja izvođenja viška ugovorenog, odnosno naknadnih rado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8) dopunsku tehničku i drugu dokumentaciju koja je dostavljena izvođaču radov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9) rok i dinamiku izvođenja radov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) komentar na primjedbe i zapažanja koja su u građevinski dnevnik upisala ovlašćena lic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1) uslove i preduzete mjere za zaštitu životne sredine i zaštitu susjednih objekta, instalacija, uređaja, postrojenja, opreme i d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2) druge primjedbe i zapažanja koja smatra korisnim za usmjeravanje daljeg procesa građen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Osim ovog pravilnika i Pravilnikom o sadržini i načinu vršenja stručnog nadzora definisano je šta nadzorni inženjer upisuje u dnevn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Nadzorni inženjer tokom vršenja stručnog nadzora upisuje u građevinski dnevnik: radove nad kojim vrši stručni</a:t>
            </a:r>
            <a:r>
              <a:rPr b="0" i="1" lang="sr-Latn-CS" sz="12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nadzor, uočene nedostatke pri izvođenju radova, mjere koje je preduzeo i naložio izvođaču radova da preduzme,</a:t>
            </a:r>
            <a:r>
              <a:rPr b="0" i="1" lang="sr-Latn-CS" sz="12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rokove koje je nadzorni inženjer dao za njihovo otklanjanje,</a:t>
            </a:r>
            <a:r>
              <a:rPr b="0" i="1" lang="sr-Latn-CS" sz="12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 primjedbe u pogledu kvaliteta i dinamike građenja,</a:t>
            </a:r>
            <a:r>
              <a:rPr b="0" i="1" lang="sr-Latn-CS" sz="12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i druge podatke koji su bitni za praćenje toka građenja objek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7F3C5-CC2C-4533-835A-595E8CE2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B0E64-8A1B-40C9-9DA4-87C0390F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A28C5-7949-4F52-8FA7-07A36564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9568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55612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23524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539568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855612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AA0A5-97CA-4339-A509-149570E42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0B36-52A7-451C-AFDF-C5CC366DF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82A4-C1A8-4506-A304-C16FC11A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8442-8465-41AB-804C-84AE7689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758F-2D40-4CC6-9AFD-EA18CC73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D4B2-8C82-4437-B311-33538F17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8320-922B-44CE-8C09-8DDE8AD9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E896-070D-4792-B550-BF125A7F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9D1B8-B1E9-4065-9AA8-627E0AD0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E419-805C-4DE0-A4B0-CDBDAFCD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4D9A-F680-45DA-8B11-2E6ACD84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F701-8F70-4F28-A830-56C9AB17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4292-27D1-4D52-A6FD-D8EBAFB3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9568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5612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23524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539568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5612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37B8-A87A-4061-8BC1-9A8F2D8B8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F2C76-7AED-428A-B16B-437F1C02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3E0FD-830C-4534-BC32-DADB785A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91550-770E-4BD2-AFC8-3FBFA32B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07623-C1E3-4F88-B5E8-5DA4DF65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3C988-A4B3-4568-B199-1990B4CD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0B343-FCA3-4103-BE0F-70F367EA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DAB52-6266-4B7D-8121-B5757E0E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1162-D34D-4888-9C4B-82A18B18BA9C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355680" y="617220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04920" y="304920"/>
            <a:ext cx="114807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304920" y="457200"/>
            <a:ext cx="1661400" cy="1371600"/>
            <a:chOff x="304920" y="457200"/>
            <a:chExt cx="1661400" cy="1371600"/>
          </a:xfrm>
        </p:grpSpPr>
        <p:sp>
          <p:nvSpPr>
            <p:cNvPr id="7" name="Rectangle 9"/>
            <p:cNvSpPr/>
            <p:nvPr/>
          </p:nvSpPr>
          <p:spPr>
            <a:xfrm>
              <a:off x="1246680" y="457200"/>
              <a:ext cx="5940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113480" y="457200"/>
              <a:ext cx="5904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77760" y="457200"/>
              <a:ext cx="5940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42400" y="457200"/>
              <a:ext cx="5940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08840" y="457200"/>
              <a:ext cx="5940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73480" y="457200"/>
              <a:ext cx="5940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438120" y="457200"/>
              <a:ext cx="6120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304920" y="457200"/>
              <a:ext cx="5904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382400" y="457200"/>
              <a:ext cx="5472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513440" y="457200"/>
              <a:ext cx="5256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642680" y="457200"/>
              <a:ext cx="5688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776240" y="457200"/>
              <a:ext cx="5904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909440" y="457200"/>
              <a:ext cx="5688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1031"/>
          <p:cNvSpPr/>
          <p:nvPr/>
        </p:nvSpPr>
        <p:spPr>
          <a:xfrm>
            <a:off x="304920" y="990720"/>
            <a:ext cx="1148076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1032"/>
          <p:cNvGrpSpPr/>
          <p:nvPr/>
        </p:nvGrpSpPr>
        <p:grpSpPr>
          <a:xfrm>
            <a:off x="304920" y="1447920"/>
            <a:ext cx="3047040" cy="2514600"/>
            <a:chOff x="304920" y="1447920"/>
            <a:chExt cx="3047040" cy="2514600"/>
          </a:xfrm>
        </p:grpSpPr>
        <p:sp>
          <p:nvSpPr>
            <p:cNvPr id="59" name="Rectangle 1033"/>
            <p:cNvSpPr/>
            <p:nvPr/>
          </p:nvSpPr>
          <p:spPr>
            <a:xfrm>
              <a:off x="2031480" y="1447920"/>
              <a:ext cx="11016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34"/>
            <p:cNvSpPr/>
            <p:nvPr/>
          </p:nvSpPr>
          <p:spPr>
            <a:xfrm>
              <a:off x="1786320" y="1447920"/>
              <a:ext cx="11196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035"/>
            <p:cNvSpPr/>
            <p:nvPr/>
          </p:nvSpPr>
          <p:spPr>
            <a:xfrm>
              <a:off x="1538640" y="1447920"/>
              <a:ext cx="11196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036"/>
            <p:cNvSpPr/>
            <p:nvPr/>
          </p:nvSpPr>
          <p:spPr>
            <a:xfrm>
              <a:off x="1290960" y="1447920"/>
              <a:ext cx="11196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037"/>
            <p:cNvSpPr/>
            <p:nvPr/>
          </p:nvSpPr>
          <p:spPr>
            <a:xfrm>
              <a:off x="1045440" y="1447920"/>
              <a:ext cx="11016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038"/>
            <p:cNvSpPr/>
            <p:nvPr/>
          </p:nvSpPr>
          <p:spPr>
            <a:xfrm>
              <a:off x="797760" y="1447920"/>
              <a:ext cx="11016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039"/>
            <p:cNvSpPr/>
            <p:nvPr/>
          </p:nvSpPr>
          <p:spPr>
            <a:xfrm>
              <a:off x="550440" y="1447920"/>
              <a:ext cx="10980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040"/>
            <p:cNvSpPr/>
            <p:nvPr/>
          </p:nvSpPr>
          <p:spPr>
            <a:xfrm>
              <a:off x="304920" y="1447920"/>
              <a:ext cx="10980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041"/>
            <p:cNvSpPr/>
            <p:nvPr/>
          </p:nvSpPr>
          <p:spPr>
            <a:xfrm>
              <a:off x="2279160" y="1447920"/>
              <a:ext cx="10332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042"/>
            <p:cNvSpPr/>
            <p:nvPr/>
          </p:nvSpPr>
          <p:spPr>
            <a:xfrm>
              <a:off x="2520720" y="1447920"/>
              <a:ext cx="10332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043"/>
            <p:cNvSpPr/>
            <p:nvPr/>
          </p:nvSpPr>
          <p:spPr>
            <a:xfrm>
              <a:off x="2759760" y="1447920"/>
              <a:ext cx="10332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044"/>
            <p:cNvSpPr/>
            <p:nvPr/>
          </p:nvSpPr>
          <p:spPr>
            <a:xfrm>
              <a:off x="3000960" y="1447920"/>
              <a:ext cx="10980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045"/>
            <p:cNvSpPr/>
            <p:nvPr/>
          </p:nvSpPr>
          <p:spPr>
            <a:xfrm>
              <a:off x="3248640" y="1447920"/>
              <a:ext cx="10332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1046"/>
          <p:cNvSpPr/>
          <p:nvPr/>
        </p:nvSpPr>
        <p:spPr>
          <a:xfrm>
            <a:off x="355680" y="617220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5637-908E-4F57-BBC5-7C99AA85201B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60640" y="1371600"/>
            <a:ext cx="7823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D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ZAKO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KA AKTA NA OSNOVU ZAKONA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O PLANIRANJU  PROSTORA I IZGRADNJI OBJEK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962160" y="4267080"/>
            <a:ext cx="77216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200" spc="-1" strike="noStrike">
                <a:solidFill>
                  <a:srgbClr val="ffffff"/>
                </a:solidFill>
                <a:latin typeface="Arial"/>
              </a:rPr>
              <a:t>dio 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GRAĐEVINSKA KNJI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okument koji služi za obračun izvršenih radova i sadrž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ličine izvršenih radova, kontrolisane i potpisane od strane stručnog nadzor a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jedinične mjere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jedinične cijen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bračunske nacrte u skladu sa ugovorenim predmjerom i predračun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i se tokom građenja za gradilište u cjelini, il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1600" spc="-1" strike="noStrike">
                <a:solidFill>
                  <a:srgbClr val="ffffff"/>
                </a:solidFill>
                <a:latin typeface="Arial"/>
              </a:rPr>
              <a:t>može posebno da se vodi i za pojedinačne faze, odnosno tehničke i/ili funkcionalne cjeline koje su sastavni dio objekta u cjelini (most, tunel, dionica puta, djelovi turističkog naselja i drugo), odnosno za izvođenje pojedinih vrsta radova na: izradi tehničkih i/ili funkcionalnih sklopova van mjesta ugradnje, ugradnji opreme, radovima pojedinih izvođača radova i drugo, i/ili za radove koji zahtijevaju specifičnu organizaciju građenja</a:t>
            </a:r>
            <a:r>
              <a:rPr b="0" i="1" lang="sr-Latn-ME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i se od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ana početka pripremnih radova do dana završetka građenja objekt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spravka se vrši povlačenjem crte preko pogrešnog upisa, nakon čega se unosi ispravka sa potpisom glavnog inženje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GRAĐEVINSKA KNJIGA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Sadrža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 građevinsku knjigu unose se sljedeći podac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atum unošenja podatak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bim radova po pozicijam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pis izvršenih radova sa potrebnim skicam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bračunske skic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sebne i značajne detalje u vezi izvođenja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zmjene projekta (datum i ime lica koje je naložilo izmjene)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 drugim okolnostima pod kojima se izvode radovi, a od značaja su za sagledavanje i kontrolu obračuna obima i uslova izvođenja radov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AVILNIK O SADRŽAJU ELABORATA O PRIPREMNIM RADOVIMA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l. list CG 8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08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SADRŽAJU ELABORATA O PRIPREMNIM RADOV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Grafički dio- šema organizacije gradilišta (1:200 do 1:1000), sadrži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kaz objekta na kome se izvode radovi i situaciju zatečenih objekata unutar gradilišt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jesto za dizalicu,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radni položaj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ašina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koj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se postavljaju na objekat ili neposredno uz njega,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a ucrtanim manevarskim i manipulacionim prostor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lokacije privremenih objekata sa mjerama za siguran prilaz pri korišćenju i održavanj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jesta za materijal, skladišta, deponije, gradilišne priključk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trase bezbjednih saobraćajnica, staza za kretanje zaposlenih i pristupnih puteva gradilišt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kaz mjesta za parkiranje, opravku i održavanje vozila i mehanizacije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sa radionicama, magacinima i uređajima i mjerama za sigurno korišćen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kaz skladišta tečnih goriva, tehničkih gasova i zapaljivih materijala sa mjerama za sigurno korišćenje i održavan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kaz objekata, vodova i električnih instalacija  i rasvjete, sa mjerama zaštite od opasnog dejstva električne stru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mrežu pitke, tehničke i otpadnih voda sa objektima i uređajima za korišćenje i održavanje i mjere z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sprječavanje pristupa nepoželjnih lic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ikaz sanitarnih objekata postavljenih na lokacijama koje obezbjeđuju siguran pristup, korišćenje 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državanje i mjere za sprječavanje zagađenja okolin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granice gradilišnog područja, odnosno kruga gradilišta sa znacima opasnosti i mjerama za sprječavanje pristupa nezaposlenim licima, životinjama, vozilima koje ne pripadaju gradilištu i vrstu ogra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SADRŽAJU ELABORATA O PRIPREMNIM RADOV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Tekstualni dio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opis i bliže određivanje mjera prikazanih u šemi organizacije gradilišt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tehnički izvještaj sa redosledom i opisom načina i organizacije izvođenja radov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sadržaj i obim istraživanja terena prije početka radova, ukoliko se gradilište ili njegov dio nalaze na nekadašnjem ratnom poprištu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način obezbjeđenja gradilišta koje se ne može u potpunosti ograditi i postavljanje prepreka na prilazima s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znacima upozorenja i opasnosti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mjere zaštite nezaštićenih djelova susjednih objekata, električnih kablova pod naponom, cjevovoda pod pritiskom, prolaza i mjesta rada zaposlenih i javnih saobraćajnica koje se nalaze u manipulacionom prostoru dizalice (prostor ograničen najvišim i najnižim položajem zahvatnog sredstva kao i njegovim </a:t>
            </a:r>
            <a:r>
              <a:rPr b="0" lang="pl-PL" sz="1300" spc="-1" strike="noStrike">
                <a:solidFill>
                  <a:srgbClr val="ffffff"/>
                </a:solidFill>
                <a:latin typeface="Arial"/>
              </a:rPr>
              <a:t>krajnjim položajima na oba kraja dizalične staze, ukoliko ova postoji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način usmjeravanja saobraćaja i pješaka na bezbjednu stranu ili postavljanje zaštitne ograde oko ugroženog prostora, odnosno podizanje zaštitne zapreke u slučaju kad se ne može izbjeći kretanje djelova sredstava za rad izvan gradilišnog prostora (manevarski prostor sredstava za rad izlazi izvan gradilišnog prostora), s tim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da se zaštitne zapreke za zaštitu od padajućih djelova izrađuju na osnovu projekta koji sadrži statički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proračun, crteže za izvođenje, uputstvo za montažu i demontažu i opis mjera za pravilno usmjeravanje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saobraćaja, signalizacija i osvjetljenje u toku upotreb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način postavljanja konstrukcija za zaštitu od obrušavanja zemljanog materijala i drugih deformacija tla ili za zaštitu od nepovoljnog dejstva površinskih i podzemnih voda kod radova u iskopim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mjere u slučaju rušenja objekata koji se nalaze na lokaciji za izvođenje pripremnih radov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mjere u slučaju prekida radova (sprečavanje prilaza gradilištu nezaposlenim licima, životinjama i saobraćajnim sredstvima).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AVILNIK O NAČINU I POSTUPKU IZDAVANJA, MIROVANJA LICENCE I NAČINU VOĐENJA REGISTARA LICENCI (Sl.list CG 79/1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 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Vrste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Licenca za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za obavljanje djelatnosti izrade tehničke dokumentacije i građenja ob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za privredno društvo, pravna licima, odnosno preduzetni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za fizičko l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Licenca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za obavljanje djelatnosti revizije tehničke dokumentacije i stručnog nadzora nad građenjem ob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za privredno društvo, pravna licima, odnosno preduzetni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za fizičko lice (za porodične stamb. zgrade, za ostale objekt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Licence se izdaju  u skladu sa odgovarajućom strukom </a:t>
            </a:r>
            <a:r>
              <a:rPr b="0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i specijalističkim smjerom,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shodno dokazu o visokom obrazovanju, za sljedeće djelatnosti: arhitektonsku, građevinsku; elektrotehničku; mašinsk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ffffff"/>
                </a:solidFill>
                <a:latin typeface="Arial"/>
              </a:rPr>
              <a:t>Za strano fizičko lice se u postupku izdavanja licence ovlašćenog inženjera provjerava da li podnosilac zahtjeva ima dozvolu boravka u skladu sa zakonom kojim se uređuje zapošljavanje i rad strana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Postupak izdavanja lic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podnošenje zahtjeva organu uprave nadležnom za poslove planiranja prostora (obrasci zahtjeva su propisan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podnošenje dokumentacije uz zahtje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ocjena ispunjenosti propisanih uslova za sticanje lic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donošenje rješenja o utvrđivanju ispunjenosti uslova za sticanje lic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izdavanje lic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vođenje registra licenc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Neophodna dokumentacija uz zahtjev za izdavanje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9880" y="1915920"/>
            <a:ext cx="107424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za  ovlašćenog inženjera (</a:t>
            </a:r>
            <a:r>
              <a:rPr b="0" i="1" lang="sr-Latn-ME" sz="1600" spc="-1" strike="noStrike">
                <a:solidFill>
                  <a:srgbClr val="ffffff"/>
                </a:solidFill>
                <a:latin typeface="Arial"/>
              </a:rPr>
              <a:t>fizičkom licu za obavljanje djelatnosti izrade tehničke dokumentacije i građenja objekt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vjeren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fotokopij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li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ne karte, odnosno pasoš za strano lic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vjeren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fotokopij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diplome o stru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noj spremi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dokaz o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godinama iskustva i 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otrebno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radno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iskustv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u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okaz o najmanje </a:t>
            </a:r>
            <a:r>
              <a:rPr b="1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3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godine radnog iskustva na izradi tehničke dokumentacije i/ili građenju objekta (kopija radne knjižice/ugovora u skladu sa zakonom o radu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okaz o najmanje tri godine radnog iskustva na izradi tehničke dokumentacije i/ili građenju objekta u svojstvu saradnika (hronološki opis i popis stručnih poslova koje je podnosilac zahtjeva obavljao kao saradnik na izradi tehničke dokumentacije i/ili građenju objekata, ovjeren od poslodavca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rugi dokazi prema potreb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a li je podnosilac zahtjeva osuđivan za krivično djelo za koje se gonjenje preduzima po službenoj dužnos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ffff00"/>
                </a:solidFill>
                <a:latin typeface="Arial"/>
              </a:rPr>
              <a:t>Dokaz o položenom stručnom ispitu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ffff00"/>
                </a:solidFill>
                <a:latin typeface="Arial"/>
              </a:rPr>
              <a:t>Dokaz o članstvu u Komori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ffff00"/>
                </a:solidFill>
                <a:latin typeface="Arial"/>
              </a:rPr>
              <a:t>*proističe iz izmjena Zakona o planiranju prostora i izgradnji objekata (82/2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 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Neophodna dokumentacija uz zahtjev za izdavanje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500" spc="-1" strike="noStrike">
                <a:solidFill>
                  <a:srgbClr val="ffffff"/>
                </a:solidFill>
                <a:latin typeface="Arial"/>
              </a:rPr>
              <a:t>za  revizora (</a:t>
            </a:r>
            <a:r>
              <a:rPr b="0" i="1" lang="sr-Latn-ME" sz="1500" spc="-1" strike="noStrike">
                <a:solidFill>
                  <a:srgbClr val="ffffff"/>
                </a:solidFill>
                <a:latin typeface="Arial"/>
              </a:rPr>
              <a:t>fizičkom licu za obavljanje djelatnosti revizije tehničke dokumentacije i stručni nadzor nad građenjem objekt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ovjeren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fotokopij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li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ne kart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ovjeren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fotokopij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diplome o stru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noj spremi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dokaz o </a:t>
            </a: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godinama iskustva i 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trebnom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radno</a:t>
            </a: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iskustv</a:t>
            </a: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u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kopija radne knjižice/ugovora u skladu sa zakonom o radu; kopija rješenja o imenovanju odgovornog projektanta, vodećeg projektanta, odgovornog vršioca revizije, vodećeg vršioca revizije, odgovornog inženjera, glavnog inženjera, nadzornog inženjera ili glavnog nadzornog inženjera na određenom projektu/objektu; potpisana izjava poslodavc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dokaz o najmanje </a:t>
            </a:r>
            <a:r>
              <a:rPr b="1" lang="sr-Latn-ME" sz="1500" spc="-1" strike="noStrike" u="sng">
                <a:solidFill>
                  <a:srgbClr val="ffffff"/>
                </a:solidFill>
                <a:uFillTx/>
                <a:latin typeface="Arial"/>
              </a:rPr>
              <a:t>7 </a:t>
            </a:r>
            <a:r>
              <a:rPr b="1" lang="vi-VN" sz="1500" spc="-1" strike="noStrike" u="sng">
                <a:solidFill>
                  <a:srgbClr val="ffffff"/>
                </a:solidFill>
                <a:uFillTx/>
                <a:latin typeface="Arial"/>
              </a:rPr>
              <a:t>godina radnog iskustva </a:t>
            </a: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na izradi tehničke dokumentacije i/ili građenju objekta u svojstvu ovlašćenog inženjera odnosno radno iskustvo u svojstvu odgovornog projektanta, vodećeg projektanta, odgovornog vršioca revizije, vodećeg vršioca revizije, odgovornog inženjera, glavnog inženjera, nadzornog inženjera i glavnog nadzornog inženjera (hronološki opis i popis stručnih poslova koje je podnosilac zahtjeva obavljao </a:t>
            </a:r>
            <a:r>
              <a:rPr b="1" lang="vi-VN" sz="1500" spc="-1" strike="noStrike" u="sng">
                <a:solidFill>
                  <a:srgbClr val="ffffff"/>
                </a:solidFill>
                <a:uFillTx/>
                <a:latin typeface="Arial"/>
              </a:rPr>
              <a:t>u svojstvu ovlašćenog inženjera </a:t>
            </a: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ovjeren od poslodavc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uvjerenje o crnogorskom državljanstvu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licenca ovlašćenog inženjera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500" spc="-1" strike="noStrike">
                <a:solidFill>
                  <a:srgbClr val="ffff00"/>
                </a:solidFill>
                <a:latin typeface="Arial"/>
              </a:rPr>
              <a:t>Dokaz o članstvu u Komori*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500" spc="-1" strike="noStrike">
                <a:solidFill>
                  <a:srgbClr val="ffff00"/>
                </a:solidFill>
                <a:latin typeface="Arial"/>
              </a:rPr>
              <a:t>*proističe iz izmjena Zakona o planiranju prostora i izgradnji objekata (82/20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3900" spc="-1" strike="noStrike">
                <a:solidFill>
                  <a:srgbClr val="ffffff"/>
                </a:solidFill>
                <a:latin typeface="Arial"/>
              </a:rPr>
              <a:t>Sadržaj ovog dijela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215880" y="19162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PRAVILNIK O NAČINU VOĐENJA I SADRŽINI GRAĐEVINSKOG DNEVNIKA I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GRAĐEVINSKE KNJIGE</a:t>
            </a: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(Sl. list CG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 68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/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8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PRAVILNIK O SADRŽAJU ELABORATA O PRIPREMNIM RADOVIMA (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Sl. list CG 8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/08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)</a:t>
            </a:r>
            <a:r>
              <a:rPr b="1" lang="sr-Latn-ME" sz="1600" spc="-1" strike="noStrike">
                <a:solidFill>
                  <a:srgbClr val="ffff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PRAVILNIK O NAČINU I POSTUPKU IZDAVANJA, MIROVANJA LICENCE I NAČINU VOĐENJA REGISTARA LICENCI (Sl.list CG 79/17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ffff00"/>
                </a:solidFill>
                <a:latin typeface="Arial"/>
              </a:rPr>
              <a:t>PRAVILNIK O PROGRAMU I NAČINU POLAGANJA STRUČNOG ISPITA ZA OBAVLJANJE POSLOVA IZRADE TEHNIČKE DOKUMENTACIJE, ODNOSNO GRAĐENJA OBJEKATA (Sl.list CG 100/2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PRAVILNIK O OBLIKU I IZGLEDU TABLE ZA GRAĐENJE OBJEKTA (Sl. list CG 70/17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ME" sz="1400" spc="-1" strike="noStrike">
                <a:solidFill>
                  <a:srgbClr val="ffff00"/>
                </a:solidFill>
                <a:latin typeface="Arial"/>
              </a:rPr>
              <a:t>*Slično ovom pravilniku urađeni su i pravilnici o sadržaju elaborata o pripremnim radovima za složene inženjerske objekt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 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Neophodna dokumentacija uz zahtjev za izdavanje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za  </a:t>
            </a:r>
            <a:r>
              <a:rPr b="1" i="1" lang="vi-VN" sz="1600" spc="-1" strike="noStrike">
                <a:solidFill>
                  <a:srgbClr val="ffffff"/>
                </a:solidFill>
                <a:latin typeface="Arial"/>
              </a:rPr>
              <a:t>projektanta i izvođača radova</a:t>
            </a:r>
            <a:r>
              <a:rPr b="1" i="1" lang="sr-Latn-ME" sz="1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privredno društvo, pravna lica, odnosno preduzetnic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zvod iz Centralnog registr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rivredn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h subjekat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dokaz da u radnom odnosu im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vlašćenog inženjer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br. i datum izdavanja licence ovlašćenog inženjer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za  </a:t>
            </a:r>
            <a:r>
              <a:rPr b="1" i="1" lang="sr-Latn-ME" sz="1600" spc="-1" strike="noStrike">
                <a:solidFill>
                  <a:srgbClr val="ffffff"/>
                </a:solidFill>
                <a:latin typeface="Arial"/>
              </a:rPr>
              <a:t>revidenta </a:t>
            </a:r>
            <a:r>
              <a:rPr b="1" i="1" lang="vi-VN" sz="1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i="1" lang="sr-Latn-ME" sz="1600" spc="-1" strike="noStrike">
                <a:solidFill>
                  <a:srgbClr val="ffffff"/>
                </a:solidFill>
                <a:latin typeface="Arial"/>
              </a:rPr>
              <a:t>stručnog nadzora (</a:t>
            </a: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privredno društvo, pravna lica, odnosno preduzetnici)</a:t>
            </a:r>
            <a:r>
              <a:rPr b="1" i="1" lang="sr-Latn-CS" sz="1600" spc="-1" strike="noStrike">
                <a:solidFill>
                  <a:srgbClr val="ffff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zvod iz Centralnog registr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rivredn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h subjekat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dokaz da u radnom odnosu ima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najmanje po jednog zaposlenog revizora za svaki od projekata (arhitektonski, građevinski, elektrotehnički i mašinski)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br. i datum izdavanj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licenc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zaposlenih revizo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ffff00"/>
                </a:solidFill>
                <a:latin typeface="Arial"/>
              </a:rPr>
              <a:t>*nijesu unesene izmjene na osnovu izmjena Zakona o planiranju prostora i izgradnji objekata (82/20), u vezi potrebnog broja revizora za objekte i zgrade različitih kvadra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199880" y="2637000"/>
            <a:ext cx="1000908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mirovanje lic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ako nastupe </a:t>
            </a:r>
            <a:r>
              <a:rPr b="0" lang="vi-VN" sz="1800" spc="-1" strike="noStrike">
                <a:solidFill>
                  <a:srgbClr val="ffffff"/>
                </a:solidFill>
                <a:latin typeface="Arial"/>
              </a:rPr>
              <a:t>okolnosti zbog kojih </a:t>
            </a: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800" spc="-1" strike="noStrike">
                <a:solidFill>
                  <a:srgbClr val="ffffff"/>
                </a:solidFill>
                <a:latin typeface="Arial"/>
              </a:rPr>
              <a:t>fizičko lice nije u mogućnosti da obavlja djelatnost za određeni period.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ffffff"/>
                </a:solidFill>
                <a:latin typeface="Arial"/>
              </a:rPr>
              <a:t>na zahtjev imaoca licence odre</a:t>
            </a: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đuje se </a:t>
            </a:r>
            <a:r>
              <a:rPr b="0" lang="vi-VN" sz="1800" spc="-1" strike="noStrike">
                <a:solidFill>
                  <a:srgbClr val="ffffff"/>
                </a:solidFill>
                <a:latin typeface="Arial"/>
              </a:rPr>
              <a:t>mirovanje prava i obaveza iz licen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Ministarstvo rješenjem  određuje mirovanje licen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3105000" y="552240"/>
            <a:ext cx="7391520" cy="13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Mirovanje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Vođenje registra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Elektronski registr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registar izdatih licenc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registar oduzetih licenci,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registar licenci u mirovanju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Registri se vode za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vlašćene inženj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rezidente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erezident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revizor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ojektante i izvođače radov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revidente i stručni nadz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ffff00"/>
                </a:solidFill>
                <a:latin typeface="Arial"/>
              </a:rPr>
              <a:t>PRAVILNIK O PROGRAMU I NAČINU POLAGANJA STRUČNOG ISPITA ZA OBAVLJANJE POSLOVA IZRADE TEHNIČKE DOKUMENTACIJE, ODNOSNO GRAĐENJA OBJEKATA (Sl.list CG 100/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AVILNIK O PROGRAMU I NAČINU POLAGANJA</a:t>
            </a:r>
            <a:r>
              <a:rPr b="1" lang="sr-Latn-ME" sz="2800" spc="-1" strike="noStrike">
                <a:solidFill>
                  <a:srgbClr val="ffff00"/>
                </a:solidFill>
                <a:latin typeface="Arial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39880" y="1680840"/>
            <a:ext cx="1074240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Ko ima pravo da polaže - Lice koje ispunjava uslove iz člana 123 Zakona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posjeduje najmanje kvalifikaciju VII1 podnivoa okvira kvalifikacija i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najmanje tri godine radnog iskustva na stručnim poslovima izrade tehničke dokumentacije i/ili građenja objekta,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Podnosi prijavu Komori uz dokumentaciju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kopiju lične karte ili pasoš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diplomu ili uvjerenje o završenim akademskim????? studijam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potvrdu o radnom iskustvu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Komora kontroliše dokumentaciju i donosi rješenje o ispunjenosti uslova za polaganje stručnog ispita, u roku od 15 dana od dana prijema zahtjev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Prije polaganja (najmanje 15 dana ranije)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Predsjednik Komisije određuje datum, vrijeme i mjesto polaganja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Sekretar Komisije objavljuje spisak kandidata koji će polagati stručni ispit u određenom roku,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Ispit se polaže pred komisijom za polaganje stručnog ispita, čiji je sastav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Predsjednik (imenuje ga Komor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Dva člana (jednog menuje Komora, a jednog Ministarstvo nadležno za građevinarstvo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sekretara ( pravnik, imenuje ga Komor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Stručni ispit se polaže usmeno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Ocjena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položio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nije položio (može ponovo polagati stručni ispit, u narednom ispitnom roku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U toku polaganja se vodi zapisnik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Na osnovu zapisnika Komora izdaje uvjerenje o položenom stručnom ispitu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AVILNIK O PROGRAMU I NAČINU POLAGANJA</a:t>
            </a:r>
            <a:r>
              <a:rPr b="1" lang="sr-Latn-ME" sz="2800" spc="-1" strike="noStrike">
                <a:solidFill>
                  <a:srgbClr val="ffff00"/>
                </a:solidFill>
                <a:latin typeface="Arial"/>
              </a:rPr>
              <a:t>…</a:t>
            </a:r>
            <a:br>
              <a:rPr sz="2800"/>
            </a:b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Program stručnog ispita obuhvata poznavanj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9880" y="1628280"/>
            <a:ext cx="1074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Zakona o planiranju prostora i izgradnji objekata i podzakonskih akata donijetih na osnovu ovog zakon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Opšta podzakonska a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načinu izrade i sadržini tehničke dokumentacije za građenje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načinu vršenja revizije glavnog 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obliku i izgledu table za građenje objeka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načinu vršenja stručnog nadzora nad građenjem objeka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načinu vođenja i sadržini građevinskog dnevnika i građevinske knjig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načinu i postupku osmatranja tla i objekta u toku građenja i upotreb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načinu ispitivanja, načinu izrade i sadržaju analize statičke i seizmičke stabilnosti bespravnog objekta površine do 500 m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odzakonska akta iz oblasti ENERGETIK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načinu izrade i bližoj sadržini tehničke dokumentacije složenih inženjerskih objekata za proizvodnju, prenos i distribuciju električne i toplotne energi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načinu vršenja revizije složenih inženjerskih objekata za proizvodnju, prenos i distribuciju električne i toplotne energi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sadržaju elaborata pripremnih radova za građenje složenih inženjerskih objekata za proizvodnju, prenos i distribuciju električne i toplotne energi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načinu obavljanja stručnog nadzora složenog inženjerskog objekta za proizvodnju, prenos i distribuciju električne i toplotne energi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načinu vršenja tehničkog pregleda složenih inženjerskih objekata za proizvodnju, prenos i distribuciju električne i toplotne energij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AVILNIK O PROGRAMU I NAČINU POLAGANJA</a:t>
            </a:r>
            <a:r>
              <a:rPr b="1" lang="sr-Latn-ME" sz="2800" spc="-1" strike="noStrike">
                <a:solidFill>
                  <a:srgbClr val="ffff00"/>
                </a:solidFill>
                <a:latin typeface="Arial"/>
              </a:rPr>
              <a:t>…</a:t>
            </a:r>
            <a:br>
              <a:rPr sz="2800"/>
            </a:b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Program stručnog ispita obuhvata poznavanj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39880" y="1628280"/>
            <a:ext cx="1074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odzakonska akta iz oblasti SAOBRAĆAJ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načinu izrade i sadržini tehničke dokumentacije za složene inženjerske objekt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načinu vršenja revizije složenog inženjerskog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sadržaju elaborata o pripremnim radovima za složene inženjerske objekte saobraćajne infrastruk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načinu obavljanja stručnog nadzora složenog inženjerskog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načinu vršenja tehničkog pregleda složenih inženjerskih objeka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Zakona o građevinskim proizvodima i podzakonskih akata donijetih na osnovu ovog zakon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Uredba o načinu priznavanja inostranih isprava i znakova za građevinske proizvod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listi usaglašenih standarda za građevinske proizvod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klasifikaciji gradjevinskih proizvoda u odnosu na njihove reakcije i otpornost na poža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obliku i sadržaju dokumenta o tehničkoj ocjeni i načinu vođenja evidencije; izdatih dokumenata o tehničkoj ocjeni građevinskog proizvod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AVILNIK O OBLIKU I IZGLEDU TABLE ZA GRAĐENJE OBJEKTAI (Sl. list CG 70/1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</a:t>
            </a:r>
            <a:r>
              <a:rPr b="1" lang="sr-Latn-ME" sz="2800" spc="-1" strike="noStrike">
                <a:solidFill>
                  <a:srgbClr val="ffffff"/>
                </a:solidFill>
                <a:latin typeface="Arial"/>
              </a:rPr>
              <a:t>OBLIKU I IZGLEDU TABLE ZA GRAĐENJE OBJEKAT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26800" y="1936800"/>
            <a:ext cx="1000908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blik table, materijali i boj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ravougaoni obli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3 veličine u zavisnosti od objekta (složeni inženjerski objekti, ostali objekti, pomoćni i privremen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materijal – četvrtasti željezni profili i pocinčani lim na nosačima fundiranim u bet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boja oranž  (za složene inž. objekte) i  žuta (za osta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Mjesto postavljanj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idnom i pristupačnom mjest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a desnoj strani od glavnog ulaza u gradilište, neposredno izvan ograde gradilišta i osvjetljava se zasebnim reflektorskim osvjetljenj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</a:t>
            </a:r>
            <a:r>
              <a:rPr b="1" lang="sr-Latn-ME" sz="2800" spc="-1" strike="noStrike">
                <a:solidFill>
                  <a:srgbClr val="ffffff"/>
                </a:solidFill>
                <a:latin typeface="Arial"/>
              </a:rPr>
              <a:t>OBLIKU I IZGLEDU TABLE ZA GRAĐENJE OBJEKATA</a:t>
            </a: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Sadržaj tabl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50440" y="1844640"/>
            <a:ext cx="11161800" cy="41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3D vizuelizacija objekta, odnosno prikaz trase infrastrukturnog objekta (1/3 površine table u gornjem lijevom uglu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, namjena i veličina (spratnost i BGP) objekta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broj urbanističke parcele/lokaciju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i adresa investitora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privrednog društva koje je izradilo tehničku dokumentaciju sa podacima (adresa, telefon i e-mail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ime i prezime ovlašćenog inženjera koji je rukovodio izradom cjelokupne tehničke dokumentacij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privrednog društva koje je revidovalo tehničku dokumentaciju sa podacima (adresa, telefon i e-mail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ime i prezime revizora koji je rukovodio revizijom cjelokupne tehničke dokumentacij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izvođača radova sa podacima (adresa, telefon i e-mail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ime i prezime ovlašćenog inženjera koje rukovodi građenjem objekta u cjelini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privrednog društva koje vrši stručni nadzor nad građenjem objekta u cjelini, sa podacima (adresa, telefon i e-mail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ime i prezime revizora koji rukovodi stručnim nadzorom nad građenjem objekta u cjelini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datum prijave radova građenja objekta nadležnom inspekcijskom organu i utvrđeni rok za završetak radova (izuzev za složene inženjerske objekte); 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broj saglasnosti glavnog državnog odnosno glavnog gradskog arhitekte na idejno rješenje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OĐENJA I SADRŽINI GRAĐEVINSKOG DNEVNIKA I GRAĐEVINSKE KNJIGE (Sl. list CG 68/1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NAČINU VOĐENJA I SADRŽINI GRAĐEVINSKOG DNEVNIKA I GRAĐEVINSKE KNJI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bavezna dokumentacija na gradilištu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e se za objekat koji se gradi na osnovu prijave građenja, odnosno  za složeni inženjerski objekat koji se gradi na osnovu građevinske dozvol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vodi ih glavni inženjer izvođača radova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tke upisuju i potpisom ovjeravaj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glavni inženjer  i ovlašćeni inženjer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glavni revizor i revizori koji vrše nadz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e se u obliku povezane i pečatom izvođača radova i stručnog nadzora ovjerene sveske sa dvostruko numerisanim stranama (original i kopija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riginale izvođač čuva trajno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pija treba da se dostavi investitoru sa konačnim izvještajem o vršenju stručnog nadzora (čuvaju se trajn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is podataka vrši se hemijskom olovk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moraju biti dostupne investitoru, nadzoru, vodećem i odgovornim projektantima i organima nadležnim za poslove inspekcij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okument kojim se evidentiraju dnevne aktivnosti na građenju objekta i kojim se dokazuje usklađenost uslova i načina građenja objekta, odnosno izvođenja pojedinih radova na osnovu revidovanog glavnog projekta, Zakona o planiranju prostora i izgradnji objekata, posebnih propisa i pravila struk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i se tokom građenja za objekat u cjelini, il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ffffff"/>
                </a:solidFill>
                <a:latin typeface="Arial"/>
              </a:rPr>
              <a:t>izvođač radova može da vodi i posebni građevinski dnevnik za pojedinačne faze, odnosno tehničke i/ili funkcionalne cjeline koje su sastavni dio objekta u cjelini (most, tunel, dionica puta, djelovi turističkog naselja), odnosno za izvođenje pojedinih vrsta radova na: izradi tehničkih i/ili funkcionalnih sklopova van mjesta ugradnje, ugradnji opreme, radovima izvođača pojedinih vrsta radova na građenju objekta, i/ili za radove koji zahtijevaju specifičnu organizaciju građenja (sastavni djelovi građevinskog dnevnik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i se od dana izvođenja pripremnih radova na objektu do završetka svih radova i stavljanja objekta u upotrebu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odaci upisani u građevinski dnevnik, ne mogu se brisati, ispravljati, naknadno mijenjati, ni dopunjavati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mjene i dopune podataka upisanih u građevinski dnevnik, vrše se isključivo kao novi upisi, uz obavezno navođenje datuma upi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Sadržaj dnevnika za građenje objekta u cjeli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izvođaču radova (naziv i sjedište, registarski broj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investitoru (naziv i sjedište, odnosno ime i adresu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aziv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broj i datum prijave građenja, odnosno građevinske dozvole u skladu sa kojom se objekat grad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rsta objekta koji se grad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ovlašćenom inženjeru koji rukovodi građenjem objekta u cjelini ( glavni inženjer) (ime i prezime i broj i datum izdavanja licenc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stručnom nadzoru (naziv i sjedište, registracioni broj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revizoru koji rukovodi stručnim nadzorom objekta u cjelini ( glavni revizor) (ime i prezime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ostalim revizorima na objektu (ime i prezime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atum početka odnosno datum završetka vođenja građevinskog dnevnik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pis svih izvođača pojedinih vrsta radova na građenju objekta sa podacima (naziv i sjedište, registarski broj, broj i datum izdavanja licence) i broj i datum ugovora zaključenih sa izvođačima za pojedine vrste radov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pis posebnih dijelova građevinskog dnevnik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Sadržaj </a:t>
            </a: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posebnih dijelova građevinskog dnevni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izvođaču radova (naziv i sjedište, registarski broj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investitoru (ime/naziv i adresu/sjedišt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aziv objekta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aziv pojedinačne faze, tehničkog i/ili funkcionalnog sklopa odnosno vrste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ovlaščenom inženjeru koji rukovodi građenjem pojedinačne faze, tehničkog i/ili funkcionalnog sklopa odnosno vrste radova  (ime i prezime i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stručnom nadzoru (naziv i sjedište, registracioni broj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revizoru koji rukovodi stručnim nadzorom pojedinačne faze, tehničkog i/ili funkcionalnog sklopa odnosno vrste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tci o svim revizorima na pojedinačnoj fazi, tehničkom i/ili funkcionalnom sklopu odnosno vrsti radova (ime i prezime, broj i datum izdavanja licence)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atum početka odnosno datum završetka vođenja posebnog dijela građevinskog dnevnik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pis svih izvođača pojedinih vrsta radova na građenju pojedinačne faze, tehničkog i/ili funkcionalnog sklopa odnosno vrste radova sa podacima (naziv i sjedište, registarski broj, broj i datum izdavanja licence) i broj i datum ugovora zaključenih sa izvođačima za pojedine vrste radov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Upisi od strane glavnog inženjera, odnosno ovlašćenih inženj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klimatskim i dr. uslovima na gradilištu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datum, vremenske prilike, radno vrijeme, angažovana radna snaga i mehanizacija, druge bitne okolnosti i uslov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projektima i izmjenam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datum dostavljanja revidovanog glavnog projekta, podaci o izmjenama projekta, nedostaci ili greške u projektu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građevinskim proizvodima: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 isporuci i porijeklu proizvoda i opreme koja se ugrađuje sa dokazima o njihovoj upotrebljivosti,  dokazi o upotrebljivosti ugrađenih građevinskih proizvoda, instalacija i opreme, izdati od strane ovlašćenog lic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radovima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vrsta i položaj radova koji se izvode, orijentacionai obim izvršenih radova,  prethodno izvršene kontrole,način ugrađivanja, način njege i zaštite, uzorci materijala za kontrolu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ostali podaci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 drugim okolnostima koje su od značaja za izvođenje radova (kontrola uslova i ispravnosti izvođenja radova)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 nepredviđenim okolnostima koje zahtijevaju izmjenu projekta, odnosno povećan obim ugovorenih radova ili izvođenje viška radova i naknadnih radova (nepredviđena svojstva tla, aktiviranje klizišta, arheološki nalazi i dr.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inspekcijskim pregledima gradilišta, podaci o pismenim nalozima i dokumentaciji na gradilištu, podaci o promjenama  ućesnika i njihovih odnosa i sl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ilaže se i pisana dokumentacija dostavljena od investitora, projektanta, revizora koji vrši stručni nadzor i nadležnog inspektor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Upisi od strane glavnog revizora i revizora (lica koje vrše stručni nadzor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tehničkoj dokumentaciji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uslove i postupak izmjene projekt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dopunsku tehničku i drugu dokumentaciju koja je dostavljena izvođaču rado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materijalima i radovim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cjen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usklađenosti pregledanih izvedenih radova sa zahtjevima iz revidovanog glavnog projekta, zakona i posebnih propi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dređivanje sprovođenja kontrolnih postupak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d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o rezultatima kontrolnih postupaka sa komentarom o usklađenosti tih rezultata sa rezultatima koji se očekuju prema revidovanom glavnom projekt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mjere koje preduzima u kojima odobrava ili zabranjuje nastavak radova, odnosno odobrava ili određuje način otklanjanja utvrđenih nepravilnosti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ijem pojedinačnih faza građen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ok i dinamika izvođenja rado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stali podaci, zapažanja i nalozi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utvrđivanje usklađenost iskolčenja sa revidovanim glavnim projektom i odobrav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je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četk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izvođenja radova na objekt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bavještavanje nadležnog inspekcijskog organa o početku prijema određene faze građen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bavještavanje nadležnog inspekcijskog organa o građenju objekta suprotno revidovanom glavnom projektu, zakonu, posebnim propisima i pravilima struk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komentar na primjedbe i zapažanja koja su u građevinski dnevnik upisal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 glavni i ovlašćeni inženjer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druge primjedbe i zapažan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0:22:39Z</dcterms:created>
  <dc:creator>rade</dc:creator>
  <dc:description/>
  <dc:language>en-US</dc:language>
  <cp:lastModifiedBy>sneza</cp:lastModifiedBy>
  <dcterms:modified xsi:type="dcterms:W3CDTF">2020-10-15T01:00:18Z</dcterms:modified>
  <cp:revision>207</cp:revision>
  <dc:subject/>
  <dc:title>ZAKON O IZGRADNJI OBJEKATA</dc:title>
</cp:coreProperties>
</file>