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7BA7-8FB5-4198-B3B2-6300D3B83D87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E01-1FBA-4276-BE45-73096574C63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7B6B-DD9C-4998-8227-9C005E05416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AC7-AD42-4116-9DBB-A07B821D3F2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7EDF-AC86-45EB-9C48-D170B794E75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D11-4E41-44DA-A0EB-AD479EDFFF0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B1A-5BC7-46C5-B289-5AF39F360E9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B85A-8A67-461A-BBAD-BA7A9D3FD36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231C-EC97-4AD6-84CE-B4C59D9221E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B37-78E2-4F46-AD4A-BE0016F7368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48C-7F75-46EB-AD6C-A5A5B5DEB53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D49-F5E8-4E32-A6B6-6DBC9B5D5C8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3BC9-14AE-4B46-B2BB-239A13B2621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8811-0048-464C-B161-755902EB5F8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D3F-7F98-4D1C-8F1F-FD2A3F23473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09B2-8C92-4BC0-8BAC-6F0E20FE4BF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86C-1FF2-4A52-A792-68DCB05A33A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927-6DEF-4046-BFEC-5A7C55087D2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EC85-FBF7-4D9A-B9C7-807A44896AA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A713-CCD0-458C-8C9B-60DAC1C1C77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869-3630-4D2A-8BA0-AAC150CAB14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9BD-394B-43D0-BB74-4461540238A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42A-D7BE-4945-9DA7-016F05CCCC4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F232-593F-4532-9EA9-733B2635F2A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FB2-46AA-4927-97AE-2A49EB9F0DB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36B-BC3E-4D47-BCC9-33A8FBC262D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983C-EE1F-480E-9F31-5DE6FA23264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5EA4-6AAF-4B94-B25F-AA2B8DA2D36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C71-46F8-42B7-AF3B-82A1A66B2DD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B5D1-AAA4-4A31-9B69-B7CC368CE5C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0C06-ABF4-4A89-98AD-E6B38BE77FC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F0FA-4C5F-4788-8ADC-0AE12B0273E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FD10-EAB2-4002-818B-B08EEF1D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4D73-8635-41F6-8069-7575FC62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2C26-BC0E-4559-AF12-28429682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2F43-7E05-4860-A00F-015072A3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89B-9FAA-4C82-B75F-8A37292B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BCAD-1F21-4A55-87C4-EB7DD33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C740-1D1C-456A-8B6C-8404157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FC4-3F2D-4873-892B-03DDE3D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B6C3-04F4-4FD3-98BE-1B1C2324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8D6-1B8E-4E9F-AF23-2C65E12B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5D82-8400-4522-912B-5C22261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0D48-9174-4F59-A56F-220880F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F82E-FFDC-4127-9482-1E411E9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D3CD-9435-455F-B6D4-28FD087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BEFD-92C7-4CBC-AF79-7DAC98F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2668-DA49-4CFF-8C4A-7457A175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8C5-BCB2-45D2-BC38-DBB4AD6A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31E3-78F6-4047-883B-84CA2DF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ADE5-0FAA-4B87-907A-46A8CBA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F400-3467-49DC-85A3-4768357E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D6E4-D43F-485C-881B-87D27167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C4DB-0E6E-4F5A-98E7-4891446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8E74-19D6-42D2-9F35-601FECE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42DC-A812-4538-8E8A-0C9C3ED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70B-97D8-43EE-86E1-6876F4C4413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62F-0C0A-43F8-9EEA-9F47F7E1C1F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odgovorni  (ovlašćeni) 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edb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9edb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o usklađenosti, odnosno neusklađenosti glavnog projekta u smislu člana 81 st. 2 i 3</a:t>
            </a:r>
            <a:r>
              <a:rPr b="0" lang="sr-Latn-ME" sz="1400" spc="-1" strike="noStrike">
                <a:solidFill>
                  <a:srgbClr val="adad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0-10-15T00:05:44Z</dcterms:modified>
  <cp:revision>343</cp:revision>
  <dc:subject/>
  <dc:title>ZAKON O IZGRADNJI OBJEKATA</dc:title>
</cp:coreProperties>
</file>