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E2E-627D-452D-9DC0-1E7A3EE7409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D54-A345-4F92-B27E-F3F219D2E14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22E-0CF5-4E4D-B483-9D88BF4DB1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071-0A53-4E83-AEC8-E5F416C1CB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4B1-7664-4211-9E99-7726AC2FA1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ED1-DE61-461F-B5E8-88F2DEB37C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6F7-C860-485B-916E-67542EBA3DF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2C4-04A9-4C30-A67D-ACEDD46006F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B562-F07E-486E-BBDA-F2BA5DE4388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1BC9-E83E-4432-AE70-3505C295F8B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126-5924-4180-8DC6-6BF2C5A4962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05B-AD69-4F80-95BE-65FCC40933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2F0-4BCC-47EB-AEBA-CABB9C8EA07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699-411A-462C-829C-4D4B10AB56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4A6-DD3F-4EAD-A8C8-D2E568A6A2E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853-B611-4D27-8622-26A22ABAA1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AC37-DF1D-4FC2-85E3-4F8EBC98BF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F5D-ED70-45C2-86CB-66077131256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15C-14DD-4E55-848B-A284CC296D2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D07-2BE5-47B5-9E7C-9C64282C6EF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CB5-FFE8-4944-82F5-6DDDEB64125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9362-D032-47CB-9122-93F6E46C45C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322-1442-4E75-873E-815FAB21C02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8B50-9919-45C4-8490-4E9EC7F3CA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D61E-11C4-4865-8EF9-0BB29455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4CC8-C67D-4BB1-9044-46064C8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2619-103C-4F4C-8FF9-9A8F60E9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74D8-3A09-42F2-86E6-AABED5F9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CA15-6E25-490F-BBFB-302CA08E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0AEC-45A9-4A80-8287-35A70728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6FDD-9794-4AC4-AE4E-FAAA83A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3DF-4808-411F-BC02-1F7CB60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17D-0304-42A5-A0C8-E8F0AE37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1BB-2264-4416-AD51-FCB0469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47F-2770-4622-8587-1E30A5B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2521-D55F-4D37-A6B2-1696A02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A60-FEAA-4861-8DB1-830DB2C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D998-5AF9-458C-A12F-66FFAF0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A1C-3E94-46B1-97F0-D53C578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6A7-0436-4BDA-8D85-54CB461F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6CB5-C49B-492E-AE06-E617BAEC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C502-91A5-4322-814E-1642AB1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E72A-9CF0-4F97-B061-E4E40B80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9381-DFC5-42E9-AE20-10B8212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DCA8-3D2B-4144-A502-869E87D7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7484-F3BE-4A3E-B32D-00FAB92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5B2A-D906-40A7-8102-B0B449A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53EF-690D-4FD5-A78A-91C2407D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2EC-2D0D-4FEA-83BD-FAF5E3A9A08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508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0980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0980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0980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C80-8A01-49F8-B565-4EA6612423A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54/09, 40/11, 42/15, 054/16, 055/18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potrebi </a:t>
            </a:r>
            <a:r>
              <a:rPr b="1" lang="sr-Latn-ME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r>
              <a:rPr b="0" lang="en-US" sz="1400" spc="-1" strike="noStrike">
                <a:solidFill>
                  <a:srgbClr val="93c9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hr-HR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00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etehnički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2:12:17Z</dcterms:modified>
  <cp:revision>358</cp:revision>
  <dc:subject/>
  <dc:title>ZAKON O IZGRADNJI OBJEKATA</dc:title>
</cp:coreProperties>
</file>