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0C97-6CAE-4C00-BAA6-C468671D28C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FF75-58A3-4E71-BD3F-EB4593ECB75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2763-1698-4AC2-B350-E234ADEBDB5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5B41-0706-4021-A18C-A717413DF79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DB6D-0066-4387-914F-84B1CE0E97E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B669-E850-429B-889A-272046EFB9C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C5E3-F1F9-47D8-BBD9-9698746BE4D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C883-84D8-4A09-AF2D-B716F5BE9E8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7348-A434-4752-8410-622774E88B4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22A2-A858-4E60-9D18-179E5F5098B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54FC-95A3-4530-A4EF-97ABF139135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D88D-D916-4749-A183-AE20D19440A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D423-089B-4B8F-98D9-0ECC997EEBE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B436-63FF-4EBA-99E1-2EFB51F15E0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BACD-2E0E-469E-822F-619258BDF28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8002-1B0D-4681-9F83-B8BE5521944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DD64-E970-4FEA-8F2C-442849705ED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6559-331A-48A8-8390-ECC76E3B9B6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457C-A7F8-4200-9974-79A58494AC5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AFB-F165-4053-97E9-C560291D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AC0-A1E6-4D59-83E7-39A6521A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701-A315-42C7-A3B9-E332F5C4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DDE-DB47-4289-B451-B529D7AC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225B-D4C3-4ABA-BFC9-BC4FE901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24E3-2FC2-471F-BB9C-5AEF0F0C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38CB-8F04-4B94-8442-D666216D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C12-A1F0-4A99-8B3F-4E988F64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AA45-46E6-47F9-B6BC-EE1DA5AC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07D4-6239-4075-9DD8-34419A7A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4EE7-C4F1-435F-900E-135FE41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5C0-A0F9-4F5D-B707-3A917334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0A0A-DB01-41D8-BAFB-131F8AC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B858-0F48-4601-8A43-D241D03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D0DB-D5FF-42AA-B9BA-A85C38C7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046A-12AF-4D78-8A9B-68B47E20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8C12-0C7C-41BA-8F93-B7005365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66B74-7D44-4F80-869B-3D63AE24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2BE1-0D25-411E-9DF3-1252D589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D76E-5729-4807-A9BB-25EAC28A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A774-FED5-4139-AD30-63E1F0D6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DBEF-C975-4FB4-91D9-6973BD4B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EA7-F3B6-4425-8662-A1BA202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295E-C80E-4AD5-B0E6-FFC5E758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2B6A-3069-4371-89B5-58C0DB57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7013-8A0F-4741-B5BF-B294AE2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3BFA-77BE-4CAB-9A30-201F737A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D5C1-7E3C-4E0F-8BAE-C06CD88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10CD-90BB-4501-A76A-701BC2EC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D584-4F88-45EC-8646-9C807F88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0EC5-E1CD-4BE2-A36A-DDFDC7E1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D6DD-1F76-40ED-B118-5F45AFF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A1D7-3A9F-45EE-9D88-6E1250AB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D5D-AD56-481E-9BEB-F818B353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FB0A-E4A5-4013-840A-310EABBF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CA42-B5D8-4537-AB63-DB6FC582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220A0-E3AA-4273-9CAB-6ED97254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A1B05-99C6-4139-BA32-E25974A0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B7A6-B2DA-4141-A9CD-57657DBC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753F-0585-4B49-B305-6838169D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3C2D-2526-43DE-944B-BF26D185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3C2E-2EAC-4CD9-AED0-94297728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016E-C467-4D05-B748-B00F2835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9D18F-AF68-45BF-A768-7B9AFDD9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D2A-C68E-495F-8743-61B87906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A770-7226-4F00-BB04-25AD1197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76903-CEAE-40A8-9D2E-BF5F171B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E0E84-4B5F-4B26-BACD-8B322677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45F0E-3C84-45FC-B5C2-30797732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249E-38AF-4F61-AAD9-05C14443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44337-724B-4DFC-8FC8-998D8DA2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9599-30F4-490A-9811-6B6DE63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20332-38B5-47B2-A8E3-FC2CF25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718E-BE37-4FD9-BAC5-DEFCD1E3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BC814-D490-4EFE-AA2E-18162BFD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4EE-F374-433F-9273-2BF7B7D2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4F71-C420-4631-90A4-07140873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AF29-6B5A-48EC-A92A-888AEAC6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5298A-468D-4ED6-933A-EE4E37D1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1519-249A-4215-BCD9-A482862C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E548F-FB96-426F-B053-EF431EF5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99363-A446-4E04-BBBD-12560B17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6E57E-C941-430A-B8A3-1B573717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6134-1292-4436-850F-8AD48F4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E41D-5321-4038-9793-371BEF72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E6428-6C28-4634-8FBA-332CF779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3F2-44B4-4736-9C4C-9A2930A0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7311-25DC-4E5B-A4A0-E01F57F5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CDCD2-C33A-4750-9EAA-1D2A13BB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F4E57-118F-414A-9448-09D3B489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AD296-8DAF-497A-8C52-63D675BC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1D984-866F-40B4-8A85-17D5ED67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D1FE8-2DB3-4B5C-B095-05B217E1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3E91-B496-418E-87BD-1AB62EBA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432B6-D323-4A79-A6F8-BC7CACA1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79397-A726-4424-87BC-E6DF7EC2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932FD-2F86-4316-82F7-192E8B0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651-DA1A-49E0-907B-01B25E66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336BF-0219-4D12-9F8B-6DD66D9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A7911-B31D-4D40-A28A-7E45838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16854-DB0E-4350-9A3F-255E5D8D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27481-32EF-4E77-8BD3-34457533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72B1A-86EE-40FA-A7F8-0E45EB30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B7A-0659-4ECA-8656-8904488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6C9E-550A-4667-9A28-F0739BD0C724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77B6-6454-49B5-9A14-B27959933F8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8DED-9CB0-4165-B1B8-A62DF7DAD10B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4074-7442-4416-A3E5-89AF0D4A006D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5A5E-2BFD-4B13-8D81-7D245CDE82C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E58C-52B0-4959-A384-851700846DA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EC67-3A9F-4A16-BA67-7DC0704C2FC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User</cp:lastModifiedBy>
  <dcterms:modified xsi:type="dcterms:W3CDTF">2019-02-11T13:00:14Z</dcterms:modified>
  <cp:revision>93</cp:revision>
  <dc:subject/>
  <dc:title>Finansijski menadžment</dc:title>
</cp:coreProperties>
</file>