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810B-01B8-4782-8646-C1462D0016F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0AB5-7C63-4947-B000-6C63488AB02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C4BC-D10D-42E5-AA80-5836BC299EC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698F-20C8-4F73-8DA1-4DD96894C4A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BB05-4186-43D3-B463-D8E089F112E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D7B2-2952-4EA7-9C17-B02DD7E7E6C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2050-9748-4C65-B2BE-EFCDE12D683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EECA-66AB-4F1A-B6B7-12D1B782566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6520-B1D0-4637-A985-6ED99E65661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67E9-817C-4689-8DEE-93AD8B404EC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0068-8491-4C78-B372-074312C1268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8EBA-C5F9-4119-8FE0-6EE857B8A6E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23EE-6E2D-4AD0-A073-0F1BDAC7D34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264F-630C-40D4-A8FE-392B3B3E2B7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46DE-B94E-4BDC-891F-7FDD52BB5C1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5D47-792F-499A-856D-A9E4B1DB5A4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6C04-31C3-4C49-A1D0-044E669136E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D4D7-9A6A-4F0E-8F30-77F9F093B7E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29EA-C143-4C4C-A964-48B518BEAD0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C4A-1158-40CE-A209-BEA94458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933-A282-472E-98BD-48FD7985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E04-9995-45FB-9AB0-730D7176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DDA7-6CDE-4C06-9871-D0C4138E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DA48-2C0B-41C4-9B72-D07FD860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7576-F0F7-4A83-A534-090CA147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9916-15F4-41A1-8FD6-9DAF9B6F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B9B7-1084-4BDE-9449-50B6A6E5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472C-7C80-4B09-A4DA-0DD487D4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000C-320A-4F93-A333-83361D2C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0C66-33A4-424A-8027-537BC5DD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27D8-F00D-49E9-AC62-29FF122D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C7DD-3C98-4058-AA76-4AF36391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F8BE-26F4-4C27-B6C6-8F54DD78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5183-8E73-430A-9216-7AFD01C1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32E3-7B02-4AAD-977E-E8696275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AA00-363E-4188-AB13-6C3ED9F0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246E9-7496-40C7-9430-46285CFC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66DDE-E9FE-4F48-9ACE-9E1BFB6B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7D75F-809D-4F19-B6CD-93CA70A7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41F90-18A1-4DCB-94F6-2649DD5B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BEC84-72E7-4795-992B-EFD6D8D2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387-AFD8-42F5-995B-53B4A64D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F399C-C3C7-4314-AE01-67E4656F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B873-D074-4049-8E0D-694DD55A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9D373-1D3C-49DA-B70C-54CEBE7C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CDE71-6F4C-4E9F-90A1-1610BDD4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6110-9CFE-4AD7-A59D-54ED8FF2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CE837-3170-4C73-BBDB-99A7CCD3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7B2F7-E1F7-4B0D-949E-DB62A53B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F990E-98CE-4996-B7BE-74D6AC94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48B30-C729-43E0-858A-AD75A81F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92D68-13B5-4CC0-86CC-414D9CC2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65D-6AE5-4795-BE12-8439D880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BDD7F-E426-407E-8819-D3379D43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C23A5-8A78-4365-B106-43C77FEB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93F65-94B8-4D6E-96D1-46EDC89F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C824B-99C4-421D-8F81-7356A816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7A48E-2615-4BA0-A6A3-3EF166B0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4F810-5E46-43A4-A1AE-D32596E2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84A1C-7261-418D-A05D-76E7EC9A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DDFC4-11BF-4167-98CC-8B5E7448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A7060-0BE9-476F-9AA6-16CB0ECF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9F41A-D5E1-43F9-A928-8BD46E85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831-0D6D-4C90-BB3A-BDC046CD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26252-AE1F-4866-A6BE-22F6613B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A885C-B1B4-4657-B9FE-E6E21B1E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0D0C9-AD7E-418D-B49F-C9FD4369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586EF-B84D-4745-B1F2-952EEC88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7E9BF-78A2-48EE-8261-00CE0F91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B27D7-91A4-4F1C-A36E-6FF60945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D3840-646B-4B2F-A64A-BAFB7EB3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3D9E2-C041-4770-97DE-E28DE186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BE347-F34C-4B66-B9AD-22BF6BD0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F6455-47B5-49CD-8D66-14C013DB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E6D-7ACB-4854-A056-9921C280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6DF6F-CF15-4D5E-A8DE-8ED85863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13F0F-9B89-4A31-B075-FE274C42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3DAA6-F473-4D5B-9E90-EDFE0C78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92B40-4F40-425C-9052-3872C7BD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40CE0-0938-4A84-BB3B-AC732768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C53D0-8B58-44DB-8842-73646C3E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83CE6-2F2E-40A7-8367-5769DEB3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548B9-4096-41EC-B870-14362786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D35C0-74FF-4F01-8EAB-E69E2FE2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CC2FF-4218-475A-8E0B-DFCAA538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551-B6B7-4C10-84C7-6EED0C3B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CBAB2-8AF1-4A7F-914B-3377763D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A2602-B73B-4401-93F0-E812956B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43EBB-8275-4D69-B9F5-E9763B4E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2D771-A434-49AD-A095-843CBCAF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4D43E-5EAF-40E1-A2B5-E64D0DFA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DB538-D1E3-4D74-84BE-3220D57C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15EF5-4DAE-42DE-888C-ABEAF733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F4608-C1FF-476A-BDE3-1170FBCF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F5E8B-7229-4403-BEE1-E4C29283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FB6A0-7167-4DD1-9822-C8DA6A9F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610-8E54-4F6A-8463-4053B76F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870AC-8D1D-4FC8-AE20-A12E28CB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202CB-8D64-4379-8F0A-57116392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FC86C-DED1-4A94-AECA-F1E5E75D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A8E41-66C8-46E1-90C3-D17C83BF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0E64E-4F6C-4DC6-817A-39FEA0B9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8E2-29B4-4268-8FE9-B2EBF22B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CAEA-D1C3-4D99-923B-B3846292AFD1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EE3C-2A5B-4104-9747-3BD92443FD21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8AB7-9F6B-4A7B-A1AD-B82EA828805D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6A73-60FB-4784-9C6A-E6F1C9F0432A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1397-5C84-4A35-A217-B87B41D58D62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D80B-86D2-4FEF-81E3-474C17682597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CC19-BA70-4261-87C6-6C36D06D7F69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genta – agency problem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lasnik vs menadž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žnost finansijskog menadžme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boris</cp:lastModifiedBy>
  <dcterms:modified xsi:type="dcterms:W3CDTF">2012-09-21T12:41:16Z</dcterms:modified>
  <cp:revision>91</cp:revision>
  <dc:subject/>
  <dc:title>Finansijski menadžment</dc:title>
</cp:coreProperties>
</file>