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A1B8-4A89-4D69-AEDB-290725C45E4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AA1A-21A4-4DFB-A3FC-06E101608F6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679C-DF75-459E-B6E8-46B8DE2BB0E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346D-D043-4CBD-B39C-EDF53A160B7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E57B-2C86-4BC9-9778-1C9825537D6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850F-3C3D-432A-A7A1-C04A95359C3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26DA-D0EE-4886-AB9D-B1F28BB2204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5930-608D-44BD-810F-EC230E0588C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11F7-592A-4F8F-8968-A86FBE5E588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9B59-0ED1-4AC6-BF10-D58FC6E32AE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409A-4912-4A4C-A43F-1B8B3D50298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A172-29CB-431E-B3A5-FD6D1A49A82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72C6-889D-45D8-87C4-A0382D009F9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5447-D0EB-4ED7-98E2-A715DF41AC6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D812-3C72-45CB-987E-757392DB624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1568-1F4F-4A6A-8CC8-260B69D9B85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F4E9-8C50-475C-A01B-D94A8015597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0DF-C4DC-4F84-B3A0-E2C9022C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577-75BE-4EA8-8D86-E1B1E30E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D7A8-CC5A-4F78-85A0-AB132640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E06-AB38-4FBE-AD89-2D1FA4B3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AA78-4F46-4586-8785-5485749E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D59A-12B3-4638-B23D-8F391371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F54A-713F-47D7-84D0-2A1882D9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DA2F-61F6-487A-BC79-16086869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11C5-AF65-4459-91D7-D4E79DE3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28B4-B419-4AA9-8AC1-E949286D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B53C-8E67-41A8-A9FD-2FD92288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017-57F9-45FC-8C43-7FD9731C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910D-3C95-497E-8802-A8E13391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8A89-2920-4301-AAE1-36A07ABA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07E4-5623-4F16-BF07-E89B2A77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A58B-F7E3-4DE0-BB0E-52F84A65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2909-642A-49FD-99E6-B016E5B7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238DF-6397-4A6B-94D7-14C62C9E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07AA4-11CC-472B-9B33-BF3CA57F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079B4-9DDF-450B-843A-C9F4ED9A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76F80-9167-4AD2-B137-118E48FF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87469-7C4F-4B95-9903-085D3FED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381E-7E2F-44B0-908A-B451F73D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C4B03-ADBA-46F0-9113-4F10B790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4136D-21C7-4F31-BEDD-CCD0F4E0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C972F-DD04-4B44-9C36-3EEFA051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FB0A5-6BED-4735-9067-D1B77438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53EB7-0189-4EE0-8825-22474E84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DEEA5-9808-4B94-9648-F268C9C0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BF312-E71D-4BA7-B43C-B2078AE8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F77FD-2F17-43F4-A27A-6117A094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DD529-B710-4139-A956-1E2A74A3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5FB0A-53C2-49BB-8004-14FC9BDD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B41-8E71-4C53-837F-290049FA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354B4-A144-4166-96D6-355C4708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3AF72-F751-4461-86F1-CA2084E7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467E0-9EB4-419F-AB5F-9FC80533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B194B-81EE-4BAF-A194-18A1F74E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B2713-1C4E-4908-BA08-AADF3C7C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0F8B0-B296-43B8-B9BC-1CC076C1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351C9-E06B-43A5-91B0-07F7F783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FABF6-330A-4A61-A581-8AD72E50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D3F3E-0DDD-44A2-B5DA-347FB147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0EDF7-9C50-42A1-B769-0A8F431D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D692-891A-4915-8F19-4F513266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B500C-0C33-4D9C-A697-8BC967CD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1119A-1542-42B5-9852-A26A9248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28C36-D7F6-47D2-A143-2DD6221B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E522F-EDAE-4E30-9E11-8A60BE3F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52319-0D28-49C1-B849-3E15EA89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D0407-F653-46AA-90B2-91D901AE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1E4B9-C94F-4BA0-BC0B-CF283469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3588E-DAD3-4D0C-9411-A866BFEC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7BCA6-3CC6-4D37-8141-A990149A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2BD9A-0C24-4CBD-B2CB-7C0990CE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6F7C-2C37-4445-AC32-E7841C64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9E526-B535-4BC0-AED2-A578B91B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5EC4D-AD7F-4498-BCC5-0EF437AB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47A34-AC8A-4427-82E1-A173265F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57707-FCF4-40A7-BC16-31D28184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ECDE7-D9A1-407A-BC16-D1323355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BB2B7-52A7-4465-BED6-0740A0A5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4E88B-2563-46F2-AFF3-5C40E251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3EA38-D8D4-40F1-994E-01C724CA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434FE-DBB8-414D-8B9A-E76577EB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C6DD8-A58C-46EA-A26A-C624D408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49F-1C21-4C26-859E-5DEFCB51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3EDDF-881B-4FBC-89BF-14DF5867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7923C-E40F-41EE-98B1-EA7A79FF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52777-0E94-4F27-B8E1-60D7F34E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4D4F9-AC6A-4419-B2FD-F56939BB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95B83-EA25-44ED-903A-DE024D0B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6AF5F-6A86-482B-8427-6E324C31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C9EA9-9B06-4600-896D-E5A2997B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D1FC7-82B6-4B14-A9AE-444D82AC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FE327-1673-4C04-9FE4-62C7C964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B9E10-9B77-43E6-BD2A-33E9F3F7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810-918B-4393-BEFD-FE6B839F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C664F-81C9-4F2A-9711-3983AB01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B5F83-349F-4525-B09B-BCFD67A1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EEE32-919D-4C91-B904-B0862DB0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2AD3F-B5A7-4961-AA81-D643257D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5428D-1C49-4B78-9EF8-1EDA2BDB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93E-A2C7-43D9-B1E1-F2D4B51A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D5C6-4467-4072-8942-8F21C7BC05F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AC44-FB36-480B-8C7C-DBDD46BD894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E790-6023-4DF9-B839-4AFDC21A215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0478-7F16-433E-B1D4-677574CDD5D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6DCA-28AE-4215-B0C1-7FF3FCC27D6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AB98-CE29-4AE9-8612-ABE4EDA8AF5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DDA2-A82E-4D63-920D-C0D554D0E13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jena isplativosti ulaganj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koja izjednačava  sadašnju vrijednost novčanih tokova sa početnom investicijom (NSV=0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:  IRR mora biti veća od granične stope prinosa, tj.minimalne stope prinosa (troška kapitala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Promjena diskontne sto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Višestruke IRR (česte promjene znaka u novčanim tokovi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93.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451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77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37.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40.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4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vo uzmemo diskontnu stopu koja dovodi do negativne NSV, npr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940.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890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79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421.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31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7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nda uzmemo diskontnu stopu koja dovodi do pozitivne NSV, npr 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Content Placeholder 3"/>
              <p:cNvSpPr txBox="1"/>
              <p:nvPr/>
            </p:nvSpPr>
            <p:spPr>
              <a:xfrm>
                <a:off x="1028880" y="1600200"/>
                <a:ext cx="811512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iza  Ds </m:t>
                    </m:r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ozitivna  NSV</m:t>
                        </m:r>
                        <m:eqAr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zbir apsolutnih 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rijednosti  pozitivne</m:t>
                                </m:r>
                              </m:den>
                            </m:f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i  negativne  NSV </m:t>
                        </m:r>
                      </m:e>
                      <m:e/>
                      <m:e/>
                      <m:e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sa  Ds - niza  D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1752480" y="2111400"/>
                <a:ext cx="6477120" cy="34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ža  Ds 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zitivna  NSV</m:t>
                            </m:r>
                            <m:eqAr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bir apsolutnih 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rijednosti  pozitivne</m:t>
                                    </m:r>
                                  </m:den>
                                </m:f>
                              </m:e>
                            </m:eqArr>
                            <m:r>
                              <m:rPr>
                                <m:lit/>
                                <m:nor/>
                              </m:rPr>
                              <m:t xml:space="preserve">i  negativne  NSV </m:t>
                            </m:r>
                          </m:e>
                          <m:e/>
                          <m:e/>
                          <m:e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ša  Ds - niža D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0,37</m:t>
                                </m:r>
                              </m:den>
                            </m:f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-15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 (PI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24" name="TextBox 4"/>
          <p:cNvSpPr/>
          <p:nvPr/>
        </p:nvSpPr>
        <p:spPr>
          <a:xfrm>
            <a:off x="533520" y="45496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 = {CF1/(1+k)+CF2/(1+k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 ….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 CFn/(1+k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ⁿ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}/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CO – inicijalni tok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F1, CF2… CFn – godisnji tokovi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 = {30,000/(1+0.1)+32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32,000/(1+0.1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40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}/1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 =1.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0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riterijum: veci od 1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 – znači da je NSV 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&gt;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Nedostatak: relativna profitabil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Ocjena isplativosti ulaganj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tod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erio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povr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aćaja investicij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 stopa prinos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to sada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š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ja vrijedno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deks profitabilnosti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Broj godina potreban da se vrati početna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Kriterijum prihvatanja: rok povraćaja mora biti manji od maksimalno prihvatljivog rok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 razmatra novčane tokove nakon isteka roka povraćaj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Zanemaruje vremensku vrijednost novca (jednostavna metoda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askimalno prihvatljiv rok povraćaja je subjektivan izb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ora se koristiti paralelno sa drugim metodam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zult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 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6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0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3,8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5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,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,0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4"/>
          <p:cNvSpPr/>
          <p:nvPr/>
        </p:nvSpPr>
        <p:spPr>
          <a:xfrm>
            <a:off x="762120" y="4800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(10,000 – (3,100 + 3,090 + 3,250))/3,320 = (10,000 – 9,440)/3,320 = 560/3,320 =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3 +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= 3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go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O,17*12=2,04  (2 mjeseca i o,04*30= 1,2 da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Period povraćaja investicije iznosi 3 godine, 2 mjeseca i  1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ajrasprostranjenija metod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istem diskontovanog novčanog tok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adašnja vrijednost neto novčanih tokova iz projekta umanjena za početnu investicij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– trošak kapitala; zahtijevana stopa prinos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  - veća od nu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Tržišna cijena akcija se mijenja za iznos NSV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Ako je NSV nula, tržišna cijena se ne mijenj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Neto sadaš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Ponderisani prosjek = 0,2*20% + 0,8*2% = 5,6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(20 + 2)/ 2 = 11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dnost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Vremenska vrijednost nov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jeri rizik budućih priliv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ikazuje apsolutnu vrijednost koju generiše projek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Jednostavnost metode (ne pokazuje kada se dostiže pozitivna vrijednost, u kojoj godini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tpostavka o neograničenim sredstvima (nema kapitalnog racionisanja). Ukoliko su sredstva ograničena nije bitna samo NSV, već i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iskontni fakt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+ 100*0.08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0*(1+0.08) 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= Sada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šnj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8 = Buduć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Ako je period duži od godinu d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0" y="457200"/>
            <a:ext cx="1076400" cy="466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0" y="1380960"/>
            <a:ext cx="1619280" cy="466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0" y="2305080"/>
            <a:ext cx="2085840" cy="476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6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/>
          <p:cNvPicPr/>
          <p:nvPr/>
        </p:nvPicPr>
        <p:blipFill>
          <a:blip r:embed="rId5"/>
          <a:stretch/>
        </p:blipFill>
        <p:spPr>
          <a:xfrm>
            <a:off x="1066680" y="5410080"/>
            <a:ext cx="2743200" cy="790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6"/>
          <a:stretch/>
        </p:blipFill>
        <p:spPr>
          <a:xfrm>
            <a:off x="4800600" y="5486400"/>
            <a:ext cx="3048120" cy="6951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14400" y="1784520"/>
          <a:ext cx="7924680" cy="2835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0:04:31Z</dcterms:created>
  <dc:creator>Miki</dc:creator>
  <dc:description/>
  <dc:language>en-US</dc:language>
  <cp:lastModifiedBy>boris</cp:lastModifiedBy>
  <dcterms:modified xsi:type="dcterms:W3CDTF">2012-12-18T21:14:00Z</dcterms:modified>
  <cp:revision>34</cp:revision>
  <dc:subject/>
  <dc:title>Finansijski menadzmet</dc:title>
</cp:coreProperties>
</file>