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D926-A407-42C4-8F92-435CDCAF785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910-B660-4715-961A-E273BF47CAC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C03C-9DC3-47B4-828F-2A59C8A8327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701-42B1-49C5-B93D-FE65382A2C2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964E-3146-4733-B176-4CAEC27DC7D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D65-13FE-4F7D-9BBC-56CB164C787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25A5-1A60-430F-8F40-5D074942766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8DA-6D3E-4696-AB7A-88370975927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6D9F-AB2B-4B56-9DC3-F322529D258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6208-CCBB-4CB2-8138-53F9C3D4CA5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0A5-EAC3-4671-A4CC-1CDD3D9161C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51E-62E3-4566-A80F-44976219286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99D1-5F36-4001-B57C-2005C9BE69C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BBE-A200-4D93-B561-B678195540E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D80-7511-4342-B06F-AA579EDBD86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07C-3961-4665-A923-11376BCF2DF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60D9-0C06-4846-A68C-E611CADED78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35E-BF32-4C46-A0C4-0E9C80D8563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0E7-5107-41F1-8DB3-CCB64990394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5B2-630C-432E-BBFF-A3A546DD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F95-8C45-49E7-9B37-93F95C7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780-A7B0-424E-98F5-5677C0E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E8E-159E-46FA-B320-07D7D81D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1BF-5BA3-4E43-9BBA-3ECB5CAB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050A-A786-4B11-B230-09707FD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1B8-7268-45A6-80E5-E6DECE7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972-7C42-4F3A-B9AD-64452716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8CDD-3E4E-4360-9AA0-4C7C7D4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EAF-6BC6-483D-BDC8-1FBF045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3CC3-E99F-459D-AC6B-7B93854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142-500A-45AB-8067-0536BE31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2C3C-643B-4E5B-B089-FDFD7B5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7963-4716-4F76-B59D-37AEBB3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E297-BEC9-4285-A19A-B490CC1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5AC3-3966-407A-A898-37A7C628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AA42-7828-4317-B75A-5CFA5931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179A-4AD1-4A12-BCC1-57FFE2CB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BC0D-3819-4C64-8F2A-8A082D9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1E28-EF2A-40B2-975D-0D7DE716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45C4-C72F-49F4-9086-A77289AE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2560-D5CA-4ED8-9AD0-D56049D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E18-46B5-4EB7-936F-1F2BFD04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B830-D363-41B9-8845-005B217D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11C2-0F40-4541-83B5-540864B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F4BD-D246-4122-9B0F-E62FA302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036D-8326-462A-9DDE-DA18F92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6F7E-631C-48FD-B501-EE92A06F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22AD-1471-4297-B3C5-CEC9052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94BE-F73A-4CD6-B22C-2B80E79B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FA4C-57AE-4482-A0A6-F9A2A243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BED9-ECE8-46F9-8395-9427A378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6D28-12C1-4682-B5CD-DB445B6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6C4-08F7-4378-86AC-738E9BE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E653-C280-4486-9264-684B8D01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4AEC-2835-4D12-8DD9-5EC10F39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BFF6-5523-46C2-8807-50AEC3C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E4B8-CF9C-40AA-B7B8-FAD53FA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972C-48E3-44F0-B37C-5A34669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AB9B-A312-4A0A-B7B6-9E9320F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CDC3-CF4E-442D-98FA-1ED59649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F7CB-809C-401D-A990-6F65EAAD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12A3-2A52-41C1-AF81-E1180F1A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27F2-5D9B-4B47-A46A-CDDE5AB9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6FA-33FC-4106-9CC0-1014168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DF36-6999-4D22-83B7-21BE394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69D64-CF3C-4ECF-B8C0-1B0A411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4A5C-5831-47FF-823F-2EF47FE5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FC82-5722-4CB5-90E6-5F2E842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B2258-AAF8-4C9F-8AC0-28F3374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E6C2-F48E-4999-A62E-1F4A06E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D2E2-59E3-4786-ADB4-4C45B96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7918-7FEA-41A3-ABD9-391D5A8F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9072-E199-4F68-B0CC-7FD421A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2199-5EA8-4E26-9831-F2EC8584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A94-073A-43D4-9362-D476EA6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359F-F515-46C7-A9B2-CCE48785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31C8-7422-4D0E-9DF7-8EA2F399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BF3C-9253-46AC-AE19-6E6E97E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DD7B-39DC-498E-8DC6-98ADD2B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23A6-97EE-4C30-ABD9-5252CDD4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C449-695D-4C9F-B332-A4E7F70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E062-0652-42B3-9FED-BF8472FF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FF6A-6C65-4782-A550-AB1458D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A5A6-3B23-48AB-9E38-16A028F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B4DB-685E-40EA-AEA0-2053F2D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486-5485-4D5A-BB59-3D6DCA38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F701-326B-4B94-91CF-13D74B1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0113-71AB-4DE0-BB7C-67EB7409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0EDC-3DDE-4299-8272-2A6DAF87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E99F-00CB-482B-B2DA-0CB153F0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3DA3A-7855-4136-8D6C-48177C17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F0B1-82AB-4D7C-9477-A5BB840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185B-1D80-4E76-849A-34C5F62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80C7-F279-4DC1-8328-8F6D70B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6B216-404A-42FC-B756-55626D7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FA60E-D19D-43FA-B0F0-42317BA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E60-0F81-4495-8E81-BE10E44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5E23-6D80-4CC9-B370-BCB2153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8C6D-58FA-4B89-B8BE-1A40DC4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8A22-BE48-4CA4-A5DC-801851F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CE54-3D97-4382-A5DE-D7175829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8042-87A4-438B-BA04-AB3D63BC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889-812F-49E8-B377-6E3C614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A35A-29A0-4C50-A88C-CA319F6E499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5E7-88A2-4EA7-8B0E-B8912BD45D8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06B-B845-43C9-9A26-601DC6079D0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1318-3750-4C13-9177-ED05A27D478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8AE8-EB36-4ECC-86D5-59EFEAB7E9A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DEF-7BBD-488E-99DF-E3025007DF3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BD3-E219-41BE-994A-82CFE314EFD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User</cp:lastModifiedBy>
  <dcterms:modified xsi:type="dcterms:W3CDTF">2019-02-11T13:00:14Z</dcterms:modified>
  <cp:revision>93</cp:revision>
  <dc:subject/>
  <dc:title>Finansijski menadžment</dc:title>
</cp:coreProperties>
</file>