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A15D-5B75-43AA-A719-6EA6E0B8CA6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D4D4-EDE6-446C-8306-891A4ACEC09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9891-3672-41E5-8D27-B47A6C83EFB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4E2C-44BD-427E-932C-CA15665AF33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598E-FA67-4B10-B77F-C33EDF2100F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03CB-7657-4981-9F5D-D1364B97D49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DB26-B761-4F72-811E-38610161918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A2F1-9DEA-4040-9BD2-1245A2D9D2C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1CCC-64BE-437B-A991-94ABEB6525F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26C9-5C40-499C-831D-36F24A5AACB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E08D-0BDF-4019-BB11-44B5832A058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1805-EC97-4F37-9821-DA25A4E7112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4C82-4CF9-42F6-9DBC-267EA0DBE66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7C37-5F78-4F3E-A976-771EA20B51F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7557-809C-4C71-9401-D3485A95A9B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B45F-02A1-4602-97F0-6B911AF3D97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B7FE-842D-499B-94F1-82803DD8CD1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68A7-F70F-4C84-A540-2121E408FCA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4208-DAF2-4A46-AF51-2EAD7FB5212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2A28-C565-4CB3-80E5-67EDD02A69B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FF37-FA79-4E9A-A128-B61491F6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FEFB-BE55-4FD5-8920-09CFCFE9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183-2F20-4294-BD88-8740EDC0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5CAA-CE2D-470B-9D3E-A9412EBC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697F-C9AC-4D61-8CA8-0555DFCF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DB1B-5C93-4500-AEBB-982B9971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2E94-CD33-422B-8CFD-7C2E4C67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795B-246D-46A5-AF56-ACE4E591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F559-51B4-4820-A9F9-252BE49A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1DA8-AFD8-443A-8DC6-BC0CEC89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A9BA-9EB4-4CFA-8C59-BD19EFCE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D2FE-0D00-4F6B-AB6C-EC224A48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F627-8A8D-481B-93F8-70D641C7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77E9-36DE-49A3-B626-5BEDB7ED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1AE5-40B9-4480-8648-A1F9A9CF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3325-B69A-4C4D-B65E-77A628D8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9033-B167-4DB9-ACBD-1F00BCB7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650DF-81A6-4DFC-9F51-B097E1D4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781F3-4A0E-4A10-A54C-84E2BF94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2155B-3DB9-43E3-9101-0388C0ED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F23EB-8C5F-4B28-AA83-5AA85DF7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C32BE-436D-44E0-9B3D-13DBDAC7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8959-E254-408D-8E33-70F4C483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2B5CD-CB99-4E12-BAF3-89017888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E9E85-BC07-4923-83A2-DBF1D91F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4E881-4B5A-471A-9E43-CBA6B7CF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11F64-4029-4041-A8A7-708D5F89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F47EC-6049-42C3-A1A7-1205CC52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1B2A6-567A-4E1C-B150-393A83B0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FE914-F4A4-42DF-991D-BE60BDCD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F60BA-AFE5-4504-8DBA-0C3D8207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19725-8B58-4EC8-8019-4E0847A4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00A56-B70C-4ACE-902B-15F59A65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198E-1E1E-434F-B424-2FED3385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97536-6CBC-4120-BA6E-393E463C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839B8-2876-44B3-BF5A-E8503181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CFF56-9821-4606-B8E5-07AE55AA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BEEB4-632E-4DA8-BED0-6561FE2F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8A6B6-E759-4C85-9821-57A070FD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A48C7-6923-4228-AE93-45259805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4F9E1-2092-4FD2-B419-61B35B13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BED6D-5C11-484D-86FD-40D49FD4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CC00A-F7F6-416F-B172-C7C7FAFA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41B03-C1B4-4327-B8D4-EF2E7510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A803-23D0-4A85-A7DD-71AA5478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E5063-A91A-49F5-9EE7-1A748418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6CD26-BAF8-4C41-8536-8C645175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741E7-D4C0-45A2-98FF-A2089C05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4E627-00F9-48EC-91C3-A026D9CF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232F5-29EE-40DD-AE60-7340760B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BE787-F595-4088-BD06-4A417473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63EB7-1A4B-4FFC-993F-FAA77519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FAE0D-E6B3-408F-BE53-D3D409CE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1B8A9-CA44-4AB9-8849-942B5F75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AE5D5-77FF-4D86-8F02-B347B43A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E4EE-4C46-4217-A4DF-A3C976BA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1A152-11E8-421B-A142-CE4F741B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EC1A9-9122-487F-B25E-8FF25C97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592FA-37F0-404D-B146-FF115F79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81312-4B45-4DA8-B8B3-3E24F690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62333-9117-42F6-B4A8-4C95CF45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F6394-37D5-4E3B-8BAD-7E7DD6F2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2611D-2243-4659-A4B9-194BF628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21F85-EC04-4F3C-800F-60C7DE79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CE732-34E2-4EE7-8F4D-BB079A3C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4B484-49B1-4D28-8924-10F4DBFB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B6B5-6B31-48EB-AF73-192939C3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FD495-A7CA-42DB-87C0-1AC92907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B5FF1-1B1B-4866-BD9C-8FAC7C51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65245-1B67-44E0-9B5F-73D8BB6F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3870B-AF13-4B42-A26A-8103921B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11A05-CB80-45CB-9B43-C4DD5C5C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3CF95-C2DB-45B3-9459-7C6548E6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5E662-7D0C-49F6-8039-1C7A418D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4D54E-E0EB-4385-BE61-2AB1B681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399AB-3DA4-4B85-A368-8054EE4A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67FEF-6B21-40B8-B298-55DFEEF2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B529-E222-47F9-9B71-7BDDDB20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44B91-D3E7-4110-9A6D-80DBE956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5D945-65E4-4DDE-93F8-8EE8880E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C6AAC-6688-4139-B893-703F107B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681C6-3A20-409A-A9BA-4BCA7B06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7ACC2-35F8-4F0F-B037-92EB279D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76824-0908-4FC7-91AB-31C5D3F9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244E7-2E88-4060-AF14-2D6E9E15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2523C-3FE9-47DF-B69D-0528E654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6B158-ADF7-4A1F-AF7D-DD6E7919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BB636-4809-43BC-80A5-B1266744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08B3-DC14-49E2-9C61-F0C27493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2E182-050A-464F-8B80-0AE90876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0C697-FFFD-4E8F-A49F-5710C2CE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20F64-845B-4E58-8ACE-131C85F2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34773-020A-4346-8FB8-3B24D00B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5A92E-37AF-440E-9EE0-7B0019B2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B2571-24F8-4206-AB6A-1F5E3E4E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AFE86-F81B-4185-BC5D-A1B31111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8226-B60D-4C12-A13E-6727494E949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978B-2B66-4A82-BFD8-C0B55F4A09D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4231-E9CE-4297-A213-80B51E15BBC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54D1-37BD-41E9-AEBD-861897C5F21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AB48-A859-4BED-B5DA-4EBD73E4277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85B1-221F-4DC4-ABD7-CF60AE7348F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27B9-1A0C-445D-AF53-CEDCBB3CFF9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2872-84A2-4A51-90C2-0F82A1C65ED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Finansijsko planiran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 I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2666880" y="3733920"/>
                <a:ext cx="3238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NR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044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533520" y="1600200"/>
                <a:ext cx="262260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T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6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3657600" y="1371600"/>
                <a:ext cx="50022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5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5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5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3657600" y="3886200"/>
                <a:ext cx="5141880" cy="18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6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6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19240"/>
            <a:ext cx="8498160" cy="12078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7"/>
          <p:cNvSpPr/>
          <p:nvPr/>
        </p:nvSpPr>
        <p:spPr>
          <a:xfrm>
            <a:off x="304920" y="1295280"/>
            <a:ext cx="84582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zračunati DTR I i II u količinskom i novčanom obliku ako su poznati sljedeć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.000/(200-100) =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50.000 + 10.000)/(200-100) = 6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0*200 = 100.000              DTR2 = 600*200 = 12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"/>
          <p:cNvPicPr/>
          <p:nvPr/>
        </p:nvPicPr>
        <p:blipFill>
          <a:blip r:embed="rId2"/>
          <a:stretch/>
        </p:blipFill>
        <p:spPr>
          <a:xfrm>
            <a:off x="4800600" y="4724280"/>
            <a:ext cx="2414520" cy="6858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2" descr=""/>
          <p:cNvPicPr/>
          <p:nvPr/>
        </p:nvPicPr>
        <p:blipFill>
          <a:blip r:embed="rId3"/>
          <a:stretch/>
        </p:blipFill>
        <p:spPr>
          <a:xfrm>
            <a:off x="1523880" y="4648320"/>
            <a:ext cx="1828800" cy="7556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1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457200" y="1295280"/>
            <a:ext cx="8001000" cy="86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) Izračunati DTR I i II u količinskom i novčanom obliku ako su poznati sljedec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 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 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  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0.000/(30-20) = 1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10.000 + 5.000)/(30-20) = 1.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.000*30 = 30.000              DTR2 = 1.500*30 = 4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" descr=""/>
          <p:cNvPicPr/>
          <p:nvPr/>
        </p:nvPicPr>
        <p:blipFill>
          <a:blip r:embed="rId2"/>
          <a:stretch/>
        </p:blipFill>
        <p:spPr>
          <a:xfrm>
            <a:off x="1752480" y="4572000"/>
            <a:ext cx="1600200" cy="7542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>
            <a:off x="5257800" y="4648320"/>
            <a:ext cx="2209680" cy="69516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3" name="TextBox 5"/>
          <p:cNvSpPr/>
          <p:nvPr/>
        </p:nvSpPr>
        <p:spPr>
          <a:xfrm>
            <a:off x="152280" y="1219320"/>
            <a:ext cx="853452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Izračunati DTR I i II u količinskom i novčanom obliku ako su poznati sljedeći poda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po jedinici je 2 puta veća od varijabilnih troškova po jedi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iznose 75% fiksnih troš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= prodajna cijena - varijabilni troškovi po jedin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2X -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x   -  varijabilni troškovi po jedinici proiz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arijabilni troškovi po jedinici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              1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TextBox 3"/>
          <p:cNvSpPr/>
          <p:nvPr/>
        </p:nvSpPr>
        <p:spPr>
          <a:xfrm>
            <a:off x="228600" y="1600200"/>
            <a:ext cx="8534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stav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ličins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 2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 3.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ovč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40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70.0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133720" y="1752480"/>
          <a:ext cx="5149800" cy="4600800"/>
        </p:xfrm>
        <a:graphic>
          <a:graphicData uri="http://schemas.openxmlformats.org/drawingml/2006/table">
            <a:tbl>
              <a:tblPr/>
              <a:tblGrid>
                <a:gridCol w="706320"/>
                <a:gridCol w="2727360"/>
                <a:gridCol w="1716120"/>
              </a:tblGrid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38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779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779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609480" y="1295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spuniti planski bilans uspje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3"/>
          <p:cNvSpPr/>
          <p:nvPr/>
        </p:nvSpPr>
        <p:spPr>
          <a:xfrm>
            <a:off x="609480" y="1219320"/>
            <a:ext cx="5943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ješen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828800" y="1371600"/>
          <a:ext cx="5454720" cy="5030640"/>
        </p:xfrm>
        <a:graphic>
          <a:graphicData uri="http://schemas.openxmlformats.org/drawingml/2006/table">
            <a:tbl>
              <a:tblPr/>
              <a:tblGrid>
                <a:gridCol w="747720"/>
                <a:gridCol w="2889360"/>
                <a:gridCol w="1817640"/>
              </a:tblGrid>
              <a:tr h="382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871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871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"/>
          <p:cNvSpPr/>
          <p:nvPr/>
        </p:nvSpPr>
        <p:spPr>
          <a:xfrm>
            <a:off x="533520" y="137160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našem primjeru potrebno je ostvariti 250.000 € prihoda od prodaje radi postizanja neutralnog poslovnog rezultata ili 62.5 % planiranih prihoda. Za ostvarivanje nultog bruto finansijskog rezultata potrebno je 270.000 € prihoda od prodaje ili 67.5 % planiranih priho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"/>
          <p:cNvGrpSpPr/>
          <p:nvPr/>
        </p:nvGrpSpPr>
        <p:grpSpPr>
          <a:xfrm>
            <a:off x="990720" y="2819520"/>
            <a:ext cx="6629040" cy="3211560"/>
            <a:chOff x="990720" y="2819520"/>
            <a:chExt cx="6629040" cy="3211560"/>
          </a:xfrm>
        </p:grpSpPr>
        <p:sp>
          <p:nvSpPr>
            <p:cNvPr id="455" name="Line 2"/>
            <p:cNvSpPr/>
            <p:nvPr/>
          </p:nvSpPr>
          <p:spPr>
            <a:xfrm>
              <a:off x="4305600" y="4256640"/>
              <a:ext cx="0" cy="1437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3"/>
            <p:cNvSpPr/>
            <p:nvPr/>
          </p:nvSpPr>
          <p:spPr>
            <a:xfrm>
              <a:off x="5041800" y="3657600"/>
              <a:ext cx="0" cy="203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4"/>
            <p:cNvGrpSpPr/>
            <p:nvPr/>
          </p:nvGrpSpPr>
          <p:grpSpPr>
            <a:xfrm>
              <a:off x="990720" y="2819520"/>
              <a:ext cx="6629040" cy="3211560"/>
              <a:chOff x="990720" y="2819520"/>
              <a:chExt cx="6629040" cy="3211560"/>
            </a:xfrm>
          </p:grpSpPr>
          <p:sp>
            <p:nvSpPr>
              <p:cNvPr id="458" name="Line 5"/>
              <p:cNvSpPr/>
              <p:nvPr/>
            </p:nvSpPr>
            <p:spPr>
              <a:xfrm flipV="1">
                <a:off x="2586600" y="2819520"/>
                <a:ext cx="0" cy="287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6"/>
              <p:cNvSpPr/>
              <p:nvPr/>
            </p:nvSpPr>
            <p:spPr>
              <a:xfrm>
                <a:off x="2586600" y="5693760"/>
                <a:ext cx="294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7"/>
              <p:cNvSpPr/>
              <p:nvPr/>
            </p:nvSpPr>
            <p:spPr>
              <a:xfrm flipV="1">
                <a:off x="2585880" y="3298680"/>
                <a:ext cx="2946240" cy="2395800"/>
              </a:xfrm>
              <a:prstGeom prst="line">
                <a:avLst/>
              </a:prstGeom>
              <a:ln w="55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8"/>
              <p:cNvSpPr/>
              <p:nvPr/>
            </p:nvSpPr>
            <p:spPr>
              <a:xfrm>
                <a:off x="2585880" y="5094360"/>
                <a:ext cx="2946240" cy="0"/>
              </a:xfrm>
              <a:prstGeom prst="line">
                <a:avLst/>
              </a:prstGeom>
              <a:ln w="55080">
                <a:solidFill>
                  <a:srgbClr val="3963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9"/>
              <p:cNvSpPr/>
              <p:nvPr/>
            </p:nvSpPr>
            <p:spPr>
              <a:xfrm>
                <a:off x="2585880" y="4854600"/>
                <a:ext cx="2946240" cy="0"/>
              </a:xfrm>
              <a:prstGeom prst="line">
                <a:avLst/>
              </a:prstGeom>
              <a:ln w="5508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0"/>
              <p:cNvSpPr/>
              <p:nvPr/>
            </p:nvSpPr>
            <p:spPr>
              <a:xfrm flipV="1">
                <a:off x="2586600" y="34182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1"/>
              <p:cNvSpPr/>
              <p:nvPr/>
            </p:nvSpPr>
            <p:spPr>
              <a:xfrm flipV="1">
                <a:off x="2586600" y="36576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12"/>
              <p:cNvSpPr/>
              <p:nvPr/>
            </p:nvSpPr>
            <p:spPr>
              <a:xfrm>
                <a:off x="5533200" y="2939040"/>
                <a:ext cx="135036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Prihod od prodaj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13"/>
              <p:cNvSpPr/>
              <p:nvPr/>
            </p:nvSpPr>
            <p:spPr>
              <a:xfrm>
                <a:off x="5656320" y="4496040"/>
                <a:ext cx="1963440" cy="358560"/>
              </a:xfrm>
              <a:prstGeom prst="rect">
                <a:avLst/>
              </a:prstGeom>
              <a:solidFill>
                <a:srgbClr val="ec76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Times New Roman"/>
                  </a:rPr>
                  <a:t>Neto rashodi finansirana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14"/>
              <p:cNvSpPr/>
              <p:nvPr/>
            </p:nvSpPr>
            <p:spPr>
              <a:xfrm>
                <a:off x="5778720" y="5094360"/>
                <a:ext cx="1719360" cy="360360"/>
              </a:xfrm>
              <a:prstGeom prst="rect">
                <a:avLst/>
              </a:prstGeom>
              <a:solidFill>
                <a:srgbClr val="78d6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Fiksni troškov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15"/>
              <p:cNvSpPr/>
              <p:nvPr/>
            </p:nvSpPr>
            <p:spPr>
              <a:xfrm>
                <a:off x="3429000" y="5791680"/>
                <a:ext cx="122760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000" spc="-1" strike="noStrike">
                    <a:solidFill>
                      <a:srgbClr val="000000"/>
                    </a:solidFill>
                    <a:latin typeface="Times New Roman"/>
                  </a:rPr>
                  <a:t>250 000 €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16"/>
              <p:cNvSpPr/>
              <p:nvPr/>
            </p:nvSpPr>
            <p:spPr>
              <a:xfrm>
                <a:off x="4800600" y="5791680"/>
                <a:ext cx="98208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275 000 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17"/>
              <p:cNvSpPr/>
              <p:nvPr/>
            </p:nvSpPr>
            <p:spPr>
              <a:xfrm>
                <a:off x="990720" y="3897360"/>
                <a:ext cx="147312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Rashodi i prihod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Down Arrow 20"/>
          <p:cNvSpPr/>
          <p:nvPr/>
        </p:nvSpPr>
        <p:spPr>
          <a:xfrm>
            <a:off x="4267080" y="3505320"/>
            <a:ext cx="76320" cy="7617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Down Arrow 21"/>
          <p:cNvSpPr/>
          <p:nvPr/>
        </p:nvSpPr>
        <p:spPr>
          <a:xfrm>
            <a:off x="4952880" y="3048120"/>
            <a:ext cx="76320" cy="60948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2"/>
          <p:cNvSpPr/>
          <p:nvPr/>
        </p:nvSpPr>
        <p:spPr>
          <a:xfrm>
            <a:off x="3886200" y="3200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3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F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3"/>
          <p:cNvSpPr/>
          <p:nvPr/>
        </p:nvSpPr>
        <p:spPr>
          <a:xfrm>
            <a:off x="457200" y="152388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irana neto prodajna cijena iznosi 200 € po jednom komad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a varijabilni troškovi po jedno komadu iznose 120 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1 = 100.000/(200-120) = 1.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2 = 110.000 /(200-120) = 1.3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izički obim proizvodnje pri kom se postiže prag rentabilnosti (u našem primjeru) iznosi 1.250 komada. dok se neutralan bruto finansijski rezultat ostvaruje sa proizvedenih 1.375 kom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Finansijsko planiranje – kvantifikovanje finansijske politi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Kvantifikovanje finansijske snage preduzeća (cilj finansijske politik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Prag rentabilnosti – 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oslovni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rut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Untitled-1.jpg"/>
          <p:cNvPicPr/>
          <p:nvPr/>
        </p:nvPicPr>
        <p:blipFill>
          <a:blip r:embed="rId1"/>
          <a:stretch/>
        </p:blipFill>
        <p:spPr>
          <a:xfrm>
            <a:off x="-42840" y="-42840"/>
            <a:ext cx="94312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z rashod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poslovn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 rashodim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bruto finansijsk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4038480" y="1219320"/>
                <a:ext cx="4095720" cy="518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kupni  prihodi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Ukupni  rashod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F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v*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- v*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 - 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* q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- kolicina  proizvo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029200" cy="457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228600" y="3276720"/>
            <a:ext cx="8763120" cy="457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1600200" y="4038480"/>
            <a:ext cx="6470640" cy="9144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2895480" y="3124080"/>
                <a:ext cx="2590920" cy="20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8"/>
          <p:cNvSpPr/>
          <p:nvPr/>
        </p:nvSpPr>
        <p:spPr>
          <a:xfrm>
            <a:off x="914400" y="350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4267080" y="1676520"/>
                <a:ext cx="404676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</m:t>
                        </m:r>
                        <m:r>
                          <m:rPr>
                            <m:lit/>
                            <m:nor/>
                          </m:rPr>
                          <m:t xml:space="preserve">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NR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- neto  rashodi  finansiranj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- varijabilni  troskovi  po  jedinic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564400" cy="38124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3"/>
          <a:stretch/>
        </p:blipFill>
        <p:spPr>
          <a:xfrm>
            <a:off x="388800" y="2362320"/>
            <a:ext cx="8755200" cy="457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" descr=""/>
          <p:cNvPicPr/>
          <p:nvPr/>
        </p:nvPicPr>
        <p:blipFill>
          <a:blip r:embed="rId4"/>
          <a:stretch/>
        </p:blipFill>
        <p:spPr>
          <a:xfrm>
            <a:off x="838080" y="4648320"/>
            <a:ext cx="7315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29:08Z</dcterms:created>
  <dc:creator>Miki</dc:creator>
  <dc:description/>
  <dc:language>en-US</dc:language>
  <cp:lastModifiedBy>boris</cp:lastModifiedBy>
  <dcterms:modified xsi:type="dcterms:W3CDTF">2012-11-15T14:10:55Z</dcterms:modified>
  <cp:revision>16</cp:revision>
  <dc:subject/>
  <dc:title>Finansijski menadzment</dc:title>
</cp:coreProperties>
</file>