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7967-0CED-4AC5-AD60-4A6BD9D3709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14E0-1EE3-4CA8-878B-357017C6940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97FC-B6E6-454A-955A-5A6CD87BAE7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5780-246D-4AF7-AAA1-B42F4FE6620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DE4D-AE4A-470A-9EE9-E8416994A7B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566A-8486-47B2-95C4-62C8E96F0F8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FB13-A640-4877-A05A-51C6C889BD5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2048-522D-43C8-89F2-02B9A7D5C0D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B2A9-7DA6-4F24-9073-A543689FA20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B650-33C3-4EF7-993B-CA88C84D036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C6F2-9589-4AC4-A598-6D7E17B9283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21FF-5DEC-4CF4-8775-74B0239031E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E164-16BB-4D5F-B273-1C180E4CF92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A056-ADB5-4C50-8012-D44AD82D371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70D9-32EB-4282-87CA-5D1F436C2FB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925B-7523-4CE8-942D-4EDEE72C497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74FA-C1B2-455E-8526-8B9994C1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3921-75D1-4628-952D-7597071A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7EAC6-89ED-4FA0-ABC6-65A45F46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FB2B5-F8AD-4B51-8C87-3F0BF839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2FC8D-DCC2-40B2-9F72-ACB576F6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2E49A-D1D9-4FCC-869F-470A903B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B6E8E-33E3-4B62-853A-13CB8A68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9CCB4-104A-4A72-8B90-A0AFD8DE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64D53-FE57-468C-9067-CDB0B10E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F1393-A2F4-4E53-B31E-DCD5051A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38E68-3327-4F49-823B-D40AC8CE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B3E8D-8548-4645-AC0F-74916B34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AE81-E020-4870-BF4D-18F5EDB0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9E76A-1606-48E4-9958-15336DCD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11EB1-5668-4599-B6CA-472E0A2C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42F9D-657F-45A9-ABD8-EF9DA3FE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F0C43-A3B9-424F-827F-9084CB66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9AB6A-8A71-4BE1-AE2A-B47C20B4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CB7D3-6453-4E6F-9766-47A51879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D43D1-A166-4E7D-AF2B-AF889371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51AC6-5F1C-4734-A37A-17A38AC9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34963-5F33-4DB8-8FF4-9D1C604E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BF9AE-2619-4AF1-B6C3-F55534C6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09EB-4346-4660-82E7-EDEE1322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F12F0-B0DE-4B05-B65D-03A6CEF3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D4B44-FD82-4075-8B37-9E688C5A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6CC9E-28DE-44F3-A5AA-2958D297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15515-BA9D-4C89-BC00-2449321E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75D83-62DF-4EB0-A55D-2BCCE69F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EA2F2-EC95-412E-8507-91EB761E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BC45A-818D-4845-AE9D-A83410ED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5DFA4-6110-4794-92E7-CB174A94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ACE7F-86D7-4228-A13C-FBE08FF7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1AFBE-BF59-438F-A7EC-0B4E16E7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173E-D0A1-40C9-87F9-2DA2039E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9F891-5D61-4004-BC07-E069EDA3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389ED-90C1-4462-A241-7FA690BB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C988D-4A0F-4748-85F6-B206F713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64BD9-95FC-4F9C-A083-728005AE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F57EE-8C73-45C0-8718-A7A868E0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04833-27E3-4BB2-8509-1F1CAF95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E3415-5710-40C7-A3B0-4617CD99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7219E-2CC8-4E67-B5C1-83C938F0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42E5E-69CC-434A-914F-4D85E35C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155E0-8768-4959-86C8-B991E59A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0AEE-B92D-4988-B889-C37A8387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80CCC-C1A8-4413-B7EB-BADD838F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C258C-9E87-4A82-869B-D96C62FE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C17C2-5538-4D48-BE4E-2BE822FF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D8A9A-312C-47FA-A976-C102BCDE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41EE6-8D8D-494F-A9C2-9E7FA045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2D48-E966-43C1-872E-1BD9C611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1442-A996-4863-8CE2-7431A1F9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7C68-B49D-4950-BB5B-D26A9C02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496C-59BD-41E7-8C67-28A895E9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1A33-5195-412A-91BF-93D2F173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4D77-C8A3-4867-9CB0-364F940F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7B50-D26C-4E2E-88AC-2B65622C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DDC9-59F2-436A-99DB-B7D251D3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E1E4-A292-4827-98D1-6744E5F8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0412-D1CB-4724-8FA4-C0EBE5DE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3732-A867-4996-AEE7-9D446170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9459B-9FF9-4F9E-9F12-99A76C17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83E16-2BC4-4201-BD01-48F1326C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2E249-575A-426D-9FCF-8F1CB86B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98355-6D84-436A-A56F-1141E705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E0613-F845-4C3A-88D4-B8AC6724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AE4C-F59A-4395-AC1D-E38FD698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CC53A-27E5-4181-87CF-16F68AA2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7EA7C-4BD9-4D2C-B7DF-BDDEEE88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5AD87-00D1-40C6-B20E-D521C178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4AA75-1D74-4E28-9AF3-9A0310A3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051F8-693D-416C-8CDC-098EE054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4984C-B00B-4A9B-94FA-25DB7253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CF35B-C848-46AC-956C-1D4A2DAA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5AC30-D2A9-4F23-AFA9-519DB419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C2938-4714-4C49-A8B4-CCFAF1CE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CF595-EEF0-4CAF-8F45-B0B4940D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ED33-509D-43D1-855F-4246CF82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12495-3303-4185-A210-89C4075F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A7D12-D1CA-47A8-969B-85835286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80571-746C-445F-B9DD-C04876CB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6E362-1723-4ABA-B036-49F3DFAB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02006-54A1-409E-AF51-A7161C10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053F9-9065-45F2-94F7-40440C8E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0A1B6-2015-4AC4-BF00-81DAED4F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8D788-675B-4892-8F40-2723463A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0902A-AB51-4867-B495-CFF99177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1C5DC-FA0A-4B45-B30B-83A61A40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29FD-C2CA-4BEF-9700-BB170063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9F433-7503-4E29-B1AD-CBC3EDBC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AEF19-CEA9-4602-AEF3-4EE0C518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1889A-3FB4-4B00-910F-C100DB9A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6FC42-160F-499E-9908-B60A3F95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48A5B-67E9-4ACE-977A-22B8A237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77A53-761C-402B-B0F4-3D9F76AC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17D3B-DAF8-409D-85D9-7E491B93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1FD31-642D-4FB0-BC40-751AA2F9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D1F9F-140E-4506-9B53-938164B3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D2B79-0062-4A7E-A627-8B220B28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7188-D84E-4917-B963-C7753F85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0CA0C-BF9A-4F1C-836C-4BD32417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0E81C-0DA3-4ECE-ACE4-C910125C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14776-008D-4DA6-A296-974E7DFD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6C768-CDC8-47C2-8735-03437EBC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50703-F0C1-4268-B3D2-8B444214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96B28-3890-46E4-AFA6-6113DE66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12197-1AAA-4139-B8CA-A7604DBA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9750A-BD12-4917-AD80-EA814878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B87BE-EFF2-499B-8E36-EE79A204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627CC-4C1F-4110-9690-F6F9EEC5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B049-0E2F-44DE-B6EC-FE259DCF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0E0CB-D31A-4358-A8A6-BE505A84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02475-FD69-4C67-B5FC-AD79632A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2A4B3-C49C-4B43-84E8-D3DDA6A9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EA6F6-E0DC-42FF-A5C3-C3444C03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FA79A-8692-44A5-828A-205CDF76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EBB47-054E-45CC-8E0E-403A0EB6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BFF3F-FAD1-40AD-A558-F1DD0A79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2FD74-25F1-4FEF-A98E-CBCB2974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B8CC8-D094-46DD-AA29-7B37AE1A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456BF-801C-410C-8C4B-28AD3DA2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E411-897E-4668-A9C9-27C62104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E0932-E104-4A69-B980-579F4952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AEAA1-F5B0-49B1-8703-63764F5E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98967-CA81-4026-857D-19873A18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C91A8-CE48-49C3-AEBB-DBF6116E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4F8BA-29A7-4F42-9D81-392980E4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F3738-CDBA-4D8B-B7AA-656874CE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97728-D99C-4898-8852-23EF5E28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B2E13-70ED-48AE-ABA7-9A8D0726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90072-4018-4FF6-ADEF-21E09485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89659-F0E7-40E3-88B0-555E8436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75A4-85DA-4AD4-9D0B-877F6012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8D439-476D-4B24-9CA7-63E17404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85EBE-747A-41D2-AB80-CB9C1550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34B8E-4E9D-4AE9-BCBD-D8165F4F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467A1-AD3D-4BED-82F8-A0C01EA2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4B83B-DD93-4A69-BF87-FD643DF8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CD1D0-A8E9-4ED8-B1AE-F56D6755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E0E01-7DAF-480A-8429-83AC65EC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41F03-5270-4199-B017-B8FAC216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6F4F7-12E1-4DAC-AD67-999DBC26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27323-ACEC-4980-8C2F-8B2A408D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A709-E6D7-4E99-972D-D2F8B5F2F3A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1019-B0F3-473E-A636-2F6DA3CDDA56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2726-7C92-4074-A115-065FFC79717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F472-C0A3-496E-AC10-EB9B6C4076C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8A19-8BE6-4AB2-94BB-D9D0730DAE9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B2CE-781D-4DB7-91B8-C5FBB2D611E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3440-B45F-426C-B70D-3D1BA5491021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316F-2C97-4B84-9402-2ED218DD0B6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F056-9437-4472-AB49-4765B6C794B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7CD1-16BD-447B-8ECC-CA9390D726B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0FF6-F41C-4E8F-896D-9D697EC915E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698A-9036-4733-8D81-F221DF0245F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nansijski menad</a:t>
            </a:r>
            <a:r>
              <a:rPr b="0" lang="sr-Latn-CS" sz="3200" spc="-1" strike="noStrike">
                <a:solidFill>
                  <a:srgbClr val="000000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in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457200" y="1600200"/>
          <a:ext cx="8229600" cy="4043520"/>
        </p:xfrm>
        <a:graphic>
          <a:graphicData uri="http://schemas.openxmlformats.org/drawingml/2006/table">
            <a:tbl>
              <a:tblPr/>
              <a:tblGrid>
                <a:gridCol w="1143000"/>
                <a:gridCol w="7086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rethodne godine (2-1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bilansa st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lanske godine (4-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inimalna akumulacija za odrzavanje nepromijenjene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finansijske ravnoteze (6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aks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228600" y="1676520"/>
          <a:ext cx="8534520" cy="3031920"/>
        </p:xfrm>
        <a:graphic>
          <a:graphicData uri="http://schemas.openxmlformats.org/drawingml/2006/table">
            <a:tbl>
              <a:tblPr/>
              <a:tblGrid>
                <a:gridCol w="1185840"/>
                <a:gridCol w="7348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plan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(2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za ulaganja u nove investicione programe u narednim godin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aksimalna akumulacija (3+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Mogu</a:t>
            </a:r>
            <a:r>
              <a:rPr b="0" lang="sr-Latn-CS" sz="2900" spc="-1" strike="noStrike">
                <a:solidFill>
                  <a:srgbClr val="464653"/>
                </a:solidFill>
                <a:latin typeface="Bookman Old Style"/>
              </a:rPr>
              <a:t>ć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nost ostvarenja minimalno i maksimalno potrebne akumulacij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va varijanta bilansa u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 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rodajnih cijena (pariteta prodajnih i nabavnih cijena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 obima proizvodnje i prodaj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ona</a:t>
            </a:r>
            <a:r>
              <a:rPr b="0" lang="sr-Latn-CS" sz="26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 varijanta planskog bilansa us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oslov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0" y="82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Object 10"/>
          <p:cNvGraphicFramePr/>
          <p:nvPr/>
        </p:nvGraphicFramePr>
        <p:xfrm>
          <a:off x="304920" y="2438280"/>
          <a:ext cx="8001000" cy="9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8001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Object 11"/>
          <p:cNvGraphicFramePr/>
          <p:nvPr/>
        </p:nvGraphicFramePr>
        <p:xfrm>
          <a:off x="762120" y="4343400"/>
          <a:ext cx="739116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343400"/>
                    <a:ext cx="73911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68" name="Object 8"/>
          <p:cNvGraphicFramePr/>
          <p:nvPr/>
        </p:nvGraphicFramePr>
        <p:xfrm>
          <a:off x="0" y="2209680"/>
          <a:ext cx="84121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841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9"/>
          <p:cNvGraphicFramePr/>
          <p:nvPr/>
        </p:nvGraphicFramePr>
        <p:xfrm>
          <a:off x="533520" y="4038480"/>
          <a:ext cx="7867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038480"/>
                    <a:ext cx="7867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lo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73" name="Object 5"/>
          <p:cNvGraphicFramePr/>
          <p:nvPr/>
        </p:nvGraphicFramePr>
        <p:xfrm>
          <a:off x="0" y="1828800"/>
          <a:ext cx="8534520" cy="9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85345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6"/>
          <p:cNvGraphicFramePr/>
          <p:nvPr/>
        </p:nvGraphicFramePr>
        <p:xfrm>
          <a:off x="304920" y="3429000"/>
          <a:ext cx="8458200" cy="91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429000"/>
                    <a:ext cx="84582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-99072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Object 11"/>
          <p:cNvGraphicFramePr/>
          <p:nvPr/>
        </p:nvGraphicFramePr>
        <p:xfrm>
          <a:off x="380880" y="4952880"/>
          <a:ext cx="844884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952880"/>
                    <a:ext cx="84488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uspjeh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novcanih tok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dugorocnih ulag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da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nabavk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izvodn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ulaganja u stalna sredst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kadr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ski bilans uspjeha – prva varijant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42" name="Content Placeholder 3" descr=""/>
          <p:cNvPicPr/>
          <p:nvPr/>
        </p:nvPicPr>
        <p:blipFill>
          <a:blip r:embed="rId1"/>
          <a:stretch/>
        </p:blipFill>
        <p:spPr>
          <a:xfrm>
            <a:off x="1603440" y="1225440"/>
            <a:ext cx="61880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iranje obrtnih sredstav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457200" y="1219320"/>
          <a:ext cx="8305920" cy="5213160"/>
        </p:xfrm>
        <a:graphic>
          <a:graphicData uri="http://schemas.openxmlformats.org/drawingml/2006/table">
            <a:tbl>
              <a:tblPr/>
              <a:tblGrid>
                <a:gridCol w="692280"/>
                <a:gridCol w="2922480"/>
                <a:gridCol w="922320"/>
                <a:gridCol w="923760"/>
                <a:gridCol w="1460520"/>
                <a:gridCol w="13845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obtnih sredst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cinak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veziv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a obrtna sredstva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u blagaj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na depozitnim racuni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artije od vrijed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od kupa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za avan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potraziva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rovine i repromaterij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na zalih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zavrsena proizvod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lu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 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govacka r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u upotre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tivna vremenska razgranice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plasma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obrtna sredstva (1 do 1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pontanih izvora i kratkorocnih kredi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457200" y="1219320"/>
          <a:ext cx="8458200" cy="5578200"/>
        </p:xfrm>
        <a:graphic>
          <a:graphicData uri="http://schemas.openxmlformats.org/drawingml/2006/table">
            <a:tbl>
              <a:tblPr/>
              <a:tblGrid>
                <a:gridCol w="627120"/>
                <a:gridCol w="2504880"/>
                <a:gridCol w="1409760"/>
                <a:gridCol w="1254240"/>
                <a:gridCol w="1487520"/>
                <a:gridCol w="117468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izv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č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ak u toku planskog peri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raspolo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ž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v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i izvori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ci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7,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datim hartijama od vrijedn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,6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 na prom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kamate, dividende i naknade za ulo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na finansijski rezul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ostale dazb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neto licne dohot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iz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avansima kupa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obustavama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sivna vremenska razgranice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ntani izvori i 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2,0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osnovnih sredstava i dugorocnih plasman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533520" y="1676520"/>
          <a:ext cx="8229600" cy="2428920"/>
        </p:xfrm>
        <a:graphic>
          <a:graphicData uri="http://schemas.openxmlformats.org/drawingml/2006/table">
            <a:tbl>
              <a:tblPr/>
              <a:tblGrid>
                <a:gridCol w="685800"/>
                <a:gridCol w="2590560"/>
                <a:gridCol w="990720"/>
                <a:gridCol w="1219320"/>
                <a:gridCol w="1295280"/>
                <a:gridCol w="144792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novna sredst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9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i plasm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talna sredstva (1 + 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3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opstvenog kapitala i dugorocnih obavez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457200" y="1219320"/>
          <a:ext cx="8229600" cy="3012840"/>
        </p:xfrm>
        <a:graphic>
          <a:graphicData uri="http://schemas.openxmlformats.org/drawingml/2006/table">
            <a:tbl>
              <a:tblPr/>
              <a:tblGrid>
                <a:gridCol w="609480"/>
                <a:gridCol w="2667240"/>
                <a:gridCol w="1447560"/>
                <a:gridCol w="1143000"/>
                <a:gridCol w="1143000"/>
                <a:gridCol w="12193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pis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nominir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a rezervisanja za rizi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e obave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opstveni kapital i dugorocne obaveze ( 1 do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7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9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ugorocna finansijska ravnotez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57200" y="1600200"/>
          <a:ext cx="8229600" cy="2865600"/>
        </p:xfrm>
        <a:graphic>
          <a:graphicData uri="http://schemas.openxmlformats.org/drawingml/2006/table">
            <a:tbl>
              <a:tblPr/>
              <a:tblGrid>
                <a:gridCol w="1066680"/>
                <a:gridCol w="716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stveni kapital i dugoroc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to dobitak/gubitak po prvoj varijanti planskog bilansa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, dugorocne obaveze i neto dobitak/gubitak (1+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stalna sredst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e stalne zali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cno vezana sredstva (4+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9:16:36Z</dcterms:created>
  <dc:creator>Miki</dc:creator>
  <dc:description/>
  <dc:language>en-US</dc:language>
  <cp:lastModifiedBy>boris</cp:lastModifiedBy>
  <dcterms:modified xsi:type="dcterms:W3CDTF">2012-11-28T18:30:49Z</dcterms:modified>
  <cp:revision>32</cp:revision>
  <dc:subject/>
  <dc:title>Finansijski menadzment</dc:title>
</cp:coreProperties>
</file>