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D56F-F697-49A9-8057-15DDF5F3B31F}" type="slidenum"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94D6-C160-4ADA-AA6E-19B27326273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425D-EF7B-4CE0-99B4-6005A4AF47A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FBA4-5756-4DBC-9391-9E282556302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8775-A9AC-4309-ACAB-59D2E75785C8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C7FC-8AA7-4A3C-980F-35FEF46BCD4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9629-BDA7-4DDD-ADA1-85E792D13544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6493-0B35-4553-A770-47014B30705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839E-391A-479D-9379-4A4980589247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A968-C7AF-4529-A01E-8BCB53AFE04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46D6-3D48-4FFC-88E9-F4071D6C883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3337-6D4A-428D-98DF-2075BED1804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5E8C-2098-4B2F-9129-EF09C3DED566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AF65-19DE-480D-992E-4443DEB10BEC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089B-2C1C-4C78-ACF9-CD0ABF07D4F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2F25-6475-48AE-9B7D-7E0C707588A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9330-F37A-4EFA-9D94-88D4F49977CE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CF9C-EAE1-4F3B-AA19-B153DF890BA9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6B95-4511-4B7D-80DF-BB0794C0B5C2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EB36-D0EA-4BA9-9F92-0462F3BD2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507-E724-46C5-854C-399D6C4B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57B-7009-454F-ADE3-40C449CB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644-E0C4-4F96-9C50-57826BE91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A118-1F49-49C2-92DF-A7A8A7218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8460-E31D-483E-84C8-15928B01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4BFD-8E17-4A55-B4C5-0E7ADAD1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FFC4-8077-4954-8608-BA5A88CC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8D0E-3C99-4A81-915C-D9C24A0B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05C3-FD2E-488B-8242-1034E7B6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D5DC-6ACD-43E7-8764-E8447DF0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1F6-4962-45B3-8484-0DAF384B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66CA9-B84E-46D6-A0C0-EB4228E3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3ABA-A770-48F7-A08A-410AD079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8529-193A-45D7-BF8F-28D14B23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2AAF-C03C-4F84-9831-25C71062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8E91-D6A8-426D-B756-5595A7BC3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27E63-42C2-4F61-ACBB-1F03D91E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70AA7-77B8-475D-87C7-C0C24D15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992DD-0B76-4CBB-B646-FDD5CD1A4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210BF-8AB4-4611-B5CC-48B1EB3F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48CFA-E427-4E7D-BF61-B324EEFE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2C9-A53B-4D6F-8632-3FCBDE62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247D1-CC46-4D10-BEF1-700D4267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EEEAD-528E-4DBD-8952-AF9E0FAE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08906-34A6-49B0-A74B-65B22F80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A0F45-B95E-444C-A62C-76C765FA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BBB80-90E1-41A0-9F0E-4DCC43D9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A21DA-B071-4D9F-BDB2-35501A9E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4A55D-6AD8-47B3-800A-933DE20B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CC460-29B1-4707-B8EF-3750CF1F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BCCD1-16EE-478C-8006-52AF3BBD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2E706-1601-48F2-8129-646699EC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794-A9E8-4BE5-A681-8AF07349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E09DB-A224-43FB-807B-A1DC8DB3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67FD5-F963-4BE4-A989-FF9B68DA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F87EA-6657-443C-8A64-F247F47F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C5EA9-E6A7-48B7-ABD1-25D45084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04CDF-2556-446B-9F18-BCC83A40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A74A0-7F0E-4E76-8259-69322261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6F0A9-C51A-41A0-851B-916B323B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4E938-5795-4833-BC60-D65D1F7E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3B4A2-F2E3-4EBA-87C9-057847D9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48A87-D378-463D-B390-D0E957C2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9E3-518A-4ADC-AC7F-A31D543F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5DCBD-B26F-45DB-BC1A-E8BF7B7D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60F79-05B8-4001-93E4-B75185F1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726D0-09ED-49B5-9F80-05FAB41B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19087-8DB7-4CD6-98FA-27DC522F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AA066-ECFD-4B57-B721-1F24F164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E9205-9913-46DC-8004-6274B352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CC80C-6E44-47FF-BC5F-98A247A8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5E0FC-1255-4C9A-A4AC-6387F8A9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D64A2-4854-4398-95F4-427086DF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AE4CA-270F-49BB-AA07-B6224B700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50E-F0B9-4943-9F56-C88DC699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3DE2B-561D-4DD0-998E-9FFBA06B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B615B-B4BB-4D38-8907-BEE0BF3B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308A6-355C-49F8-B02B-D6FB19E0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EC063-914E-4A1B-9739-61FEA5D0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FE324-B9E3-4425-8AE6-91BAE021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92226-C761-4522-966C-8402D85E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27454-68E6-4199-B0C7-EC30F170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9983A-A842-45CB-941A-519BD395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51EED-A274-46E1-BFB8-F3D72197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55D61-2FA3-4BF6-8AA7-A8EC4E13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651-27AF-4EBE-97E4-95F23280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01233-1CA9-459D-95CF-2DFBD16F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D173B-E144-48F7-A210-128DD9F7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CBCA6-2C2D-4233-A043-D62827D1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B359C-E66A-4077-BCE9-08BF931A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5EF68-3F36-4E92-846C-D8BB4D93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DD072-341A-4A93-90D9-F9B5F12D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C5F11-9BDF-4C63-806B-26082238A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8DD74-FDBD-4B7D-9CF7-2B3A4838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D8221-0655-4FC3-8DFF-0A23ECCD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202A91-E6A5-4234-AD28-F889D804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0794-CFCB-4DD5-945C-0099A046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9852F-10E8-4C54-B7C7-0A5848C2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F9730-7A07-45DC-B84E-6234CF4A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6DEFD-E44F-44A3-B1C0-1BAA471E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904BC-DF13-44B4-9161-A4EAF2D3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D0A17-2DAB-4819-A671-2DDA321C0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ADA-1B1D-417B-9B6A-4FC455AD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C305-5699-41DD-9B27-1B23EFB68476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E883-C8A7-4894-82AB-2CC7194EF10A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B2F3-6099-4F3C-BA4D-17AE913595C8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74C0-9D3F-404C-BE40-13827EC0C51E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3D62-A94B-47B2-B97B-E4E9FF73B94E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ED0B-7854-4008-9922-7D48DD60F0F5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65FF-23E2-4E9C-AF44-9B94E5835CBF}" type="slidenum">
              <a:rPr b="0" lang="sr-Latn-C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00120" y="1071360"/>
            <a:ext cx="7407360" cy="14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r>
              <a:rPr b="0" lang="en-US" sz="4400" spc="-1" strike="noStrike">
                <a:solidFill>
                  <a:srgbClr val="572314"/>
                </a:solidFill>
                <a:latin typeface="Arial"/>
                <a:ea typeface="Arial"/>
              </a:rPr>
              <a:t>Finansijski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sr-Latn-CS" sz="4400" spc="-1" strike="noStrike">
                <a:solidFill>
                  <a:srgbClr val="572314"/>
                </a:solidFill>
                <a:latin typeface="Arial"/>
                <a:ea typeface="Arial"/>
              </a:rPr>
              <a:t>menadžment</a:t>
            </a:r>
            <a:endParaRPr b="0" lang="en-US" sz="4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736640" y="271476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320e04"/>
                </a:solidFill>
                <a:latin typeface="Arial"/>
                <a:ea typeface="Arial"/>
              </a:rPr>
              <a:t>Analiza finansijskih izvještaj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214280" y="1285920"/>
          <a:ext cx="7499520" cy="4719600"/>
        </p:xfrm>
        <a:graphic>
          <a:graphicData uri="http://schemas.openxmlformats.org/drawingml/2006/table">
            <a:tbl>
              <a:tblPr/>
              <a:tblGrid>
                <a:gridCol w="3065760"/>
                <a:gridCol w="2357280"/>
                <a:gridCol w="2076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ilans uspje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prihodi od pr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9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7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ošak prodatih proizvo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profit (marža pokrić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prodaje, opšti i administrativni rasho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iz poslovanja (EBI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ashod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ruto dobit (EB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ez na dob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600" y="1213920"/>
            <a:ext cx="7494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rast od 58.000 u 2002 godini mora biti jednak iznosima iz bilansa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2       1.014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adržana zarada u 2001          956.00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ovećanje zadržane zarade       58.000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500120" y="2000160"/>
          <a:ext cx="6096240" cy="1482840"/>
        </p:xfrm>
        <a:graphic>
          <a:graphicData uri="http://schemas.openxmlformats.org/drawingml/2006/table">
            <a:tbl>
              <a:tblPr/>
              <a:tblGrid>
                <a:gridCol w="2928960"/>
                <a:gridCol w="1571760"/>
                <a:gridCol w="1595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/smanjenj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bit nakon oporez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čane divide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ast zadržane za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poslov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investicionih aktivnost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ovčani tok iz aktivnosti finansir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1214280" y="1857240"/>
          <a:ext cx="7499520" cy="2764080"/>
        </p:xfrm>
        <a:graphic>
          <a:graphicData uri="http://schemas.openxmlformats.org/drawingml/2006/table">
            <a:tbl>
              <a:tblPr/>
              <a:tblGrid>
                <a:gridCol w="4999320"/>
                <a:gridCol w="2500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tovina generisana iz poslovnih aktivnost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(pocetno stanje gotovi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8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laćene kamate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povećanja po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45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 po osnovu kratk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o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čnih obaveza iz poslovanja (dobavljač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poslov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6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sp>
        <p:nvSpPr>
          <p:cNvPr id="352" name="TextBox 6"/>
          <p:cNvSpPr/>
          <p:nvPr/>
        </p:nvSpPr>
        <p:spPr>
          <a:xfrm>
            <a:off x="1071720" y="471492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oslovne aktivnosti  se vezuju i za zalihe, amortizaciju, obaveze po osnovu hov, doprinosa, poreza, kam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143000" y="1785960"/>
          <a:ext cx="7497720" cy="3475080"/>
        </p:xfrm>
        <a:graphic>
          <a:graphicData uri="http://schemas.openxmlformats.org/drawingml/2006/table">
            <a:tbl>
              <a:tblPr/>
              <a:tblGrid>
                <a:gridCol w="5357880"/>
                <a:gridCol w="2139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nabavke nekretnina, opreme i nematerijalnih ula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12539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ulaganja u kratkoročne finansijske plasmane – oročeni depoz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dugoročnih finansijskih plasmana (kam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rodaje stalne imov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92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 tok gotovine (odliv) iz investicionih aktiv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511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285920" y="2071800"/>
          <a:ext cx="7499160" cy="1854000"/>
        </p:xfrm>
        <a:graphic>
          <a:graphicData uri="http://schemas.openxmlformats.org/drawingml/2006/table">
            <a:tbl>
              <a:tblPr/>
              <a:tblGrid>
                <a:gridCol w="5143320"/>
                <a:gridCol w="2355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okovi gotovine iz aktivnosti finansiran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ilivi po osnovu povećanja dug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3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isplate dividend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3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dlivi po osnovu otplate kratkoročnog kred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20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tok gotovine (priliv) iz aktivnosti finansir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00080" y="0"/>
            <a:ext cx="81439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85560" y="1214280"/>
            <a:ext cx="749772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42920" y="2170080"/>
            <a:ext cx="9001080" cy="4083120"/>
          </a:xfrm>
          <a:prstGeom prst="rect">
            <a:avLst/>
          </a:prstGeom>
          <a:ln w="0">
            <a:noFill/>
          </a:ln>
        </p:spPr>
      </p:pic>
      <p:sp>
        <p:nvSpPr>
          <p:cNvPr id="360" name="TextBox 6"/>
          <p:cNvSpPr/>
          <p:nvPr/>
        </p:nvSpPr>
        <p:spPr>
          <a:xfrm>
            <a:off x="1214280" y="6286680"/>
            <a:ext cx="67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Telekom gru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08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Finansijska racija ili indeksi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Pružaju veoma bitne informacije (prinos, aktivnost, zaduženost i sl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oraju biti smisle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zalihe/emisiona prem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?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naliza tekućeg i budućeg stanja, komparacija sa prošlim stanjem – in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Komparacija preduzeća sa industrijskom granom ili prosjekom – eksterna poređenj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HVALA NA PAŽNJI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800" spc="-1" strike="noStrike">
                <a:solidFill>
                  <a:srgbClr val="572314"/>
                </a:solidFill>
                <a:latin typeface="Arial"/>
              </a:rPr>
              <a:t>– </a:t>
            </a:r>
            <a:r>
              <a:rPr b="0" i="1" lang="sr-Latn-CS" sz="2800" spc="-1" strike="noStrike">
                <a:solidFill>
                  <a:srgbClr val="572314"/>
                </a:solidFill>
                <a:latin typeface="Arial"/>
              </a:rPr>
              <a:t>pojam – </a:t>
            </a:r>
            <a:br>
              <a:rPr sz="2400"/>
            </a:b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720" y="1142640"/>
            <a:ext cx="7858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-je odlučivanja finansijskog menadžmenta – investiranje, finansiranje i upravljanje imovino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ilj menadžera – maksimiziranje bogatstva akcionar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pjeh poslovne odluke se reflektuje kroz cijenu akcije na tržišt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aksimiziranje zarade po akciji (EP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ksim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ziranje tržišne cijene akcij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blem agenta – agency problem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lasnik vs menadž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ukovodilac finans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 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ukovodilac računovodst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Važnost finansijskog menadžmen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Šta je finansijski izvještaj (bilans)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novčanih toko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zadržanoj zaradi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 o promjenama na kapital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071360" y="1143000"/>
            <a:ext cx="77864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zvještaji 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*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stanj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imovina: stalna i obrtna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ktiva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baveze i imovina vlasnika (kaptial) –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pas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lika stanja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iznosi su prikazani u hiljad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214280" y="1785960"/>
          <a:ext cx="7643880" cy="3349440"/>
        </p:xfrm>
        <a:graphic>
          <a:graphicData uri="http://schemas.openxmlformats.org/drawingml/2006/table">
            <a:tbl>
              <a:tblPr/>
              <a:tblGrid>
                <a:gridCol w="2857680"/>
                <a:gridCol w="2500200"/>
                <a:gridCol w="228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vac i novčani ek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rtaživanja od kup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li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naprijed plaćeni troško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i plaćeni por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tna (tekuća)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285920" y="1857240"/>
          <a:ext cx="7499160" cy="2600640"/>
        </p:xfrm>
        <a:graphic>
          <a:graphicData uri="http://schemas.openxmlformats.org/drawingml/2006/table">
            <a:tbl>
              <a:tblPr/>
              <a:tblGrid>
                <a:gridCol w="3502080"/>
                <a:gridCol w="1992240"/>
                <a:gridCol w="2004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k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ksna imovina po nabavnoj cije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umulirana amortizac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85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(7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eto fiks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e investi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a dugoroč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a stalna imov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434960" y="1447920"/>
          <a:ext cx="7499520" cy="2971800"/>
        </p:xfrm>
        <a:graphic>
          <a:graphicData uri="http://schemas.openxmlformats.org/drawingml/2006/table">
            <a:tbl>
              <a:tblPr/>
              <a:tblGrid>
                <a:gridCol w="4432320"/>
                <a:gridCol w="1419480"/>
                <a:gridCol w="1647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ankarski zajmovi i obaveze po izdatim h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aveze prema dobavljač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računati pore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stale obračunat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kuć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8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ugoročni du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e obav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285920" y="1785960"/>
          <a:ext cx="7499160" cy="2595600"/>
        </p:xfrm>
        <a:graphic>
          <a:graphicData uri="http://schemas.openxmlformats.org/drawingml/2006/table">
            <a:tbl>
              <a:tblPr/>
              <a:tblGrid>
                <a:gridCol w="3779640"/>
                <a:gridCol w="1928880"/>
                <a:gridCol w="1790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asi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kcionarski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bične ak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misiona prem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   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Zadržana zar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Ukupni kapital akciona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7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572314"/>
                </a:solidFill>
                <a:latin typeface="Arial"/>
              </a:rPr>
              <a:t>Finansijski menadžment  </a:t>
            </a:r>
            <a:r>
              <a:rPr b="0" lang="sr-Latn-CS" sz="2400" spc="-1" strike="noStrike">
                <a:solidFill>
                  <a:srgbClr val="572314"/>
                </a:solidFill>
                <a:latin typeface="Arial"/>
              </a:rPr>
              <a:t>- </a:t>
            </a:r>
            <a:r>
              <a:rPr b="0" i="1" lang="sr-Latn-CS" sz="2400" spc="-1" strike="noStrike">
                <a:solidFill>
                  <a:srgbClr val="572314"/>
                </a:solidFill>
                <a:latin typeface="Arial"/>
              </a:rPr>
              <a:t>analiza finansijskih izvještaja -</a:t>
            </a: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85560" y="1428480"/>
            <a:ext cx="764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Aldine Manufacturing company (Van Horne and Wachow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Bilans uspjeha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i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ashod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ezult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Profitabilnost preduzeća u određenom vremenskom periodu (tromesječje, godina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1:48:27Z</dcterms:created>
  <dc:creator>Ana</dc:creator>
  <dc:description/>
  <dc:language>en-US</dc:language>
  <cp:lastModifiedBy>boris</cp:lastModifiedBy>
  <dcterms:modified xsi:type="dcterms:W3CDTF">2012-09-21T12:41:16Z</dcterms:modified>
  <cp:revision>91</cp:revision>
  <dc:subject/>
  <dc:title>Finansijski menadžment</dc:title>
</cp:coreProperties>
</file>