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165C-1844-4403-AE85-38E545A0B48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FB0E-96DF-453E-994A-2F9C8F9F2EA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1420-954F-403B-8FB7-EED4A519650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8486-2830-448E-9762-49F72867635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9FCD-FD6E-42FD-90C1-73114095B6D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9827-877B-46C7-AE2A-DDD4E6969FB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1DC0-2CB1-4818-927D-14243510337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6A13-069F-4AE7-BD42-56526A3296A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FF03-10E0-48BB-9BDC-B6907CD74DC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EDBC-5E16-4F87-9A7C-BEDC94547C3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20F5-6198-4C21-AAAB-52851BD594C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02BB-EC68-4150-91C3-28AC44839AD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6A14-99E8-426D-87F8-8D12D51E8AA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3FAC-6DD7-4018-AE7F-A32A083EF98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3620-40F3-40AC-8987-7E73C2A84D0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3A2F-2423-4CDA-9CE3-82E3F1EE509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C445-730E-4ABC-99AC-2954A3DD7C3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0FF-517D-4B00-924B-47A2A3E2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3BD-AF30-4BE6-AD61-56A6C18B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577-68DE-4E96-8662-0A4D34F0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0AE-C2D4-4356-A735-11BBEF74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DE37-E8DD-4363-A90F-E1992E23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A85A-C18D-478F-9CAE-D5090EA0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C099-ADED-4143-9A16-01082848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7F8A-E1D3-4989-83B2-379A5719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DF72-E637-4A23-834A-43E0435E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416A-6DC8-4DA2-91EC-91111E5D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0FAC-373D-47B1-A56C-A937C224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47C0-A0BB-42C1-9B45-E7C3A057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64B5-394D-490A-963B-C342ED61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B0CA-61E2-4044-94B6-085DD9FE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D608-7497-431D-8078-77EAF0C4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6857-FFD7-4827-A0A8-87E3F495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7CAB-F1E7-4E3A-B27B-5D4D7403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B925A-AFC5-42C1-B3F9-45916C8E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2441F-A37F-4D39-805F-3437A657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A3136-1BBB-4C38-A5F2-F6857605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444C1-514D-4F37-8BFA-5BE14D26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A4E91-3235-4E5B-9E82-5E881E49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6F8F-6E0F-4EC2-BA3E-E18661ED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29944-87A0-40F6-B06A-641DB5D4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D7184-A76F-4640-B0F5-2BE4797A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A2BD7-894A-4A0A-9FCC-DF077D4B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ABE46-F4EA-495E-831B-40941696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FD7E5-543A-4106-BD29-4EB9E2C5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1A82C-212D-441D-B4A3-05F6367A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C467C-CB0E-40DB-9EDF-F3D5C2F8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5E10B-9253-4179-AED1-4EB688FA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7AF0E-A6C8-48AF-A974-5023F451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E7408-76C9-4A69-9555-8B445AFA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FD5-0E0C-4455-935A-EC68B661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A753A-90A4-4538-AC08-67BDF826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67B3B-F1C6-4079-8C20-68E6C8F5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2BAC1-9CD6-46CD-B718-3BDB1F50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E9A3B-C949-4ADC-92DF-B81B5E86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97BD4-56F1-4F6A-BE47-73BDF5E4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7DB97-B51F-41F5-B0EE-CAEC7CD2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3D8A8-D4D9-40A4-A8B2-E8EE662C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66444-4EF6-4CF9-8628-1B4B0EDC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CE58F-BA2B-429E-9575-D5C421BA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D9624-6D9C-4673-A26A-49E35E91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505-16D9-4B61-B0EE-2CA90ECE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16101-70A2-4538-BCB4-E13A8026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1C2BD-4E6B-4ACE-A65D-5D30EC69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87C3B-C4F8-4FD8-83A2-424C5334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146A0-9EBC-4E25-93B8-FEAADE5F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A4978-F584-4D92-B4EF-327AC42C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3F8E8-3CDA-4958-91B8-6BF43330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E218F-4F37-443C-BCC1-8D76C05F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DFC4D-38F5-41C4-B4E1-4CEBA90D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0459E-939E-4B0C-8441-016F79AA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0B61F-90CC-4940-B929-FA9DDA35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4AA-DEB9-40C5-9F17-35760F5E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745B7-2B87-4A7A-A794-50137FDA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54EF0-2A92-4D61-9D86-3BB12FB5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0E6F8-248E-4431-8F57-1DF2F070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26DFB-AFB0-4B81-8407-60C75104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66335-A1C1-432A-A2E1-642B5EEB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312E8-62AC-40FC-9D29-60C99D06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E41DA-69F0-45CC-B8C9-715F1208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CF373-34FB-4828-9588-A06CCEE2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23CEC-BF23-42BF-B22E-C9BF2B63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BFD00-46F9-4089-A969-7D248566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726C-99ED-4B71-9074-4C75B809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3364D-799B-4B53-9225-39D09EEA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4DD8B-AB10-4AA9-BE77-560D9DF4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DD383-CFA2-4D67-A3EA-2963FD12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D46A4-DCB9-4428-A8EB-E72DCB59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CDDA4-53D3-4EF9-8702-C64023F5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FBAE2-A787-4B0E-9505-B635FC6A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999A3-5078-47D6-9D93-5F63A566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C4AD9-081B-4D76-8F69-3303FD8E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D9515-672D-41BF-B746-CE64CE2A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4BA9E-87D0-45BA-B791-7A0E7439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FA8E-28C3-4342-B247-F763DA56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BE12C-138D-405B-999A-CA10CE79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619D8-D3EB-44C1-BB7C-20A7B48E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35489-85CD-4B82-A205-607F9CEE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35984-35D5-41D1-B3CC-D10E2E24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BEB66-4FED-4011-9FCC-40D7F92F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935-92D9-4AB1-90C9-C48F7D62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8A95-9FC2-421C-B68B-F6F69B64334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11B9-C838-465D-BC7D-FC6FAF495AD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6755-7AB4-4CD7-81C4-ED9609BF4C0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D285-6340-4E1C-B535-7E1CC4E56C4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9862-6DD5-4953-82C5-888EE8773B5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B8E6-1BA1-4077-8704-5787045AAA0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C849-053F-4B18-89B4-EED8EA578F6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jena isplativosti ulaganj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koja izjednačava  sadašnju vrijednost novčanih tokova sa početnom investicijom (NSV=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:  IRR mora biti veća od granične stope prinosa, tj.minimalne stope prinosa (troška kapitala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Promjena diskontne sto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Višestruke IRR (česte promjene znaka u novčanim tokovi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93.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451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77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37.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40.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4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vo uzmemo diskontnu stopu koja dovodi do negativne NSV, npr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940.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890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79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421.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31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7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nda uzmemo diskontnu stopu koja dovodi do pozitivne NSV, npr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Content Placeholder 3"/>
              <p:cNvSpPr txBox="1"/>
              <p:nvPr/>
            </p:nvSpPr>
            <p:spPr>
              <a:xfrm>
                <a:off x="1028880" y="1600200"/>
                <a:ext cx="81151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iza  Ds </m:t>
                    </m:r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ozitivna  NSV</m:t>
                        </m:r>
                        <m:eqAr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zbir apsolutnih 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rijednosti  pozitivne</m:t>
                                </m:r>
                              </m:den>
                            </m:f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i  negativne  NSV </m:t>
                        </m:r>
                      </m:e>
                      <m:e/>
                      <m:e/>
                      <m:e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sa  Ds - niza  D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1752480" y="2111400"/>
                <a:ext cx="6477120" cy="34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ža  Ds 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zitivna  NSV</m:t>
                            </m:r>
                            <m:eqAr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bir apsolutnih 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rijednosti  pozitivne</m:t>
                                    </m:r>
                                  </m:den>
                                </m:f>
                              </m:e>
                            </m:eqArr>
                            <m:r>
                              <m:rPr>
                                <m:lit/>
                                <m:nor/>
                              </m:rPr>
                              <m:t xml:space="preserve">i  negativne  NSV </m:t>
                            </m:r>
                          </m:e>
                          <m:e/>
                          <m:e/>
                          <m:e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ša  Ds - niža D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0,37</m:t>
                                </m:r>
                              </m:den>
                            </m:f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-1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 (PI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24" name="TextBox 4"/>
          <p:cNvSpPr/>
          <p:nvPr/>
        </p:nvSpPr>
        <p:spPr>
          <a:xfrm>
            <a:off x="533520" y="4549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 = {CF1/(1+k)+CF2/(1+k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 ….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 CFn/(1+k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}/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CO – inicijalni tok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F1, CF2… CFn – godisnji tokovi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 = {30,000/(1+0.1)+32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32,000/(1+0.1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40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}/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 =1.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0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riterijum: veci od 1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 – znači da je NSV 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Nedostatak: relativna profitabil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Ocjena isplativosti ulagan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tod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erio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povr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aćaja investicij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 stopa prinos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to sada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š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ja vrijedno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deks profitabilnosti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Broj godina potreban da se vrati početna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Kriterijum prihvatanja: rok povraćaja mora biti manji od maksimalno prihvatljivog rok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 razmatra novčane tokove nakon isteka roka povraćaj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Zanemaruje vremensku vrijednost novca (jednostavna metoda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askimalno prihvatljiv rok povraćaja je subjektivan izb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ora se koristiti paralelno sa drugim metodam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zul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 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6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0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,8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,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0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4"/>
          <p:cNvSpPr/>
          <p:nvPr/>
        </p:nvSpPr>
        <p:spPr>
          <a:xfrm>
            <a:off x="762120" y="4800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(10,000 – (3,100 + 3,090 + 3,250))/3,320 = (10,000 – 9,440)/3,320 = 560/3,320 =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3 +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= 3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go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O,17*12=2,04  (2 mjeseca i o,04*30= 1,2 da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Period povraćaja investicije iznosi 3 godine, 2 mjeseca i  1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ajrasprostranjenija metod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istem diskontovanog novčanog tok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adašnja vrijednost neto novčanih tokova iz projekta umanjena za početnu investicij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– trošak kapitala; zahtijevana stopa prinos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  - veća od n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Tržišna cijena akcija se mijenja za iznos NSV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Ako je NSV nula, tržišna cijena se ne mijenj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Neto sadaš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Ponderisani prosjek = 0,2*20% + 0,8*2% = 5,6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20 + 2)/ 2 = 11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dnost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Vremenska vrijednost nov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jeri rizik budućih priliv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ikazuje apsolutnu vrijednost koju generiše projek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Jednostavnost metode (ne pokazuje kada se dostiže pozitivna vrijednost, u kojoj godini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tpostavka o neograničenim sredstvima (nema kapitalnog racionisanja). Ukoliko su sredstva ograničena nije bitna samo NSV, već i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skontni fak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+ 100*0.08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0*(1+0.08) 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= Sada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šnj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8 = Buduć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Ako je period duži od godinu d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0" y="45720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0" y="1380960"/>
            <a:ext cx="161928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0" y="2305080"/>
            <a:ext cx="2085840" cy="476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6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5"/>
          <a:stretch/>
        </p:blipFill>
        <p:spPr>
          <a:xfrm>
            <a:off x="1066680" y="5410080"/>
            <a:ext cx="2743200" cy="790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3048120" cy="6951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14400" y="1784520"/>
          <a:ext cx="7924680" cy="2835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04:31Z</dcterms:created>
  <dc:creator>Miki</dc:creator>
  <dc:description/>
  <dc:language>en-US</dc:language>
  <cp:lastModifiedBy>boris</cp:lastModifiedBy>
  <dcterms:modified xsi:type="dcterms:W3CDTF">2012-12-18T21:14:00Z</dcterms:modified>
  <cp:revision>34</cp:revision>
  <dc:subject/>
  <dc:title>Finansijski menadzmet</dc:title>
</cp:coreProperties>
</file>