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9548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43C-AE28-4ECB-BB4C-B972BEAB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B125-82A3-46F7-B495-26636CE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2D22-8DC8-47B6-BE5F-FCF90518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9BDF-CDB6-4C69-91A5-A96A15A9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B93A-43FC-46CB-902D-B3476E72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117A-16C7-454B-A1D9-3BD5596F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1691-075C-44DB-B366-5FA7D494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D27A-0E88-4F84-8AC9-D141A6D0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C706A-FA98-4BF2-8AB9-4AD38CF8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5506-E6BF-4453-B65A-1BA51F05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2886-A655-43B1-AC1D-F3B888D9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072-5466-417C-A04C-F81AFFF5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2568-2300-41AD-8579-106A0025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2F6A-9B7D-4D0A-AF96-FCBAB2AA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A1CE-594F-47B2-BDD3-0B074D5C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F798-81AE-4385-8368-7F06BFC0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FF08-CA55-426F-A93F-F56CDC2D0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568-9D40-48E9-ACE8-F8B9456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901-FDB3-4216-BCD8-933B13F2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8704-F67B-4878-8C99-D357B07A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FD84-5BF5-4333-8373-FF103CB4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B54-CF12-4DD8-BB3F-90E1632E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1DEF-9919-4EDA-8BFE-C8579216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EAD5-2A46-4AD5-A633-629E2829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ADC0-819D-465C-AE7E-018FF54194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3C07-15BB-42BA-8321-2892A8639A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nicode.org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Istorijat i osnovni pojmo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Podaci i operaci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Faze razvoja programskih jezi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III Faza: oko 1970.te godin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na osnovu prethodnih iskustava kreiranje jednostavnih i moćnih programskih jezika) Standardizacija i usvajanje tehnologije strukturnog programiran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tvoreni su jezici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APL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ostavio trag na kasnije jezike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BASI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Beginners All-purpose Instruction Code omogućio silazak programiranja iz naučnih laboratorija među “narod” – stvorena prva video igrica Star Wars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Pascal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smišljen kao edukacioni programski jezik ali je postao jedan od najpopularnijih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omogućio lako pisanje sistemskog softvera i pristup hardveru). COBOL i C su u ovoj faz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standardizovani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Faze razvoja programskih jezi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IV Faza: oko 1980.te godin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nakon softverske krize dolazi do razvoja programskih jezika za objektn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jentisano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iranje koji omogućavaju “lakše” pisanje velikih paketa). Stvoreni ili usavršeni jezici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C++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Jav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Smalltalk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Ad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V Faza – danas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teško je izdvojiti preovlađujući pravac) Razvoj jezika za paralelno programiranje, razvoj strategija za OO projektovanje (UML), mrežne aplikacije, programiranje na prenosnim uređajima (mobilni telefoni, Palm pilo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tableti, fableti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td), povezivanje aplikacija (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Visual Basi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nas mo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žda govorimo </a:t>
            </a:r>
            <a:r>
              <a:rPr b="0" lang="sr-Latn-RS" sz="2400" spc="-1" strike="noStrike">
                <a:solidFill>
                  <a:srgbClr val="00cc00"/>
                </a:solidFill>
                <a:latin typeface="Tahoma"/>
              </a:rPr>
              <a:t>VI fazi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– integraciji senzora, ogromne količine podataka, eri otvorenog softvera Open Source, stasavanju vještačke inteligencije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Dobar programski jezik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aspolaže sa malim brojem međusobno usaglašenih </a:t>
            </a:r>
            <a:r>
              <a:rPr b="1" lang="sl-SI" sz="2400" spc="-1" strike="noStrike" u="sng">
                <a:solidFill>
                  <a:srgbClr val="ff0000"/>
                </a:solidFill>
                <a:uFillTx/>
                <a:latin typeface="Tahoma"/>
              </a:rPr>
              <a:t>ključnih riječ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ključne riječi u C-u su npr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a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void, for it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avila koja se provode nad ključnim riječima su pro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ora biti usmjeren aplikaciji (MATLAB ka matematici, C ka sistemskom softveru, COBOL ka ekonomij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ora biti nezavisan od računarske platforme (lako ili bez prepravljanja kada se prenosi sa računara na računar i operativnog sistema na operativni siste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a programskim jezikom se isporučuje integrisano okruženje koje omogućava jednostavno edito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e, prevođenje, testiranje i izvršavanje 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oznati programski jezi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isual BAS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895480" y="2057400"/>
            <a:ext cx="33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-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Kot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u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362320" y="60199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822d"/>
                </a:solidFill>
                <a:latin typeface="Times New Roman"/>
              </a:rPr>
              <a:t>Dobar programski jezik traje</a:t>
            </a:r>
            <a:r>
              <a:rPr b="1" lang="en-US" sz="2400" spc="-1" strike="noStrike">
                <a:solidFill>
                  <a:srgbClr val="ff822d"/>
                </a:solidFill>
                <a:latin typeface="Times New Roman"/>
              </a:rPr>
              <a:t> </a:t>
            </a:r>
            <a:r>
              <a:rPr b="1" lang="sl-SI" sz="2400" spc="-1" strike="noStrike">
                <a:solidFill>
                  <a:srgbClr val="ff822d"/>
                </a:solidFill>
                <a:latin typeface="Times New Roman"/>
              </a:rPr>
              <a:t>više od 20 godin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5029200" y="205740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ask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ompajliranje i interpretira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stoje dvije strategije pr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o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đenj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rograma na mašinski jezik (jezik razumljiv procesoru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Inte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r</a:t>
            </a: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preteri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du od naredbe do naredbe koda programa, tumače tu naredbu i izvršavaju je. Kako tumačenje naredbe može da uzima neko vrijeme to su interpreteri često spori, program koji se interpretira zahtjeva da na platformi postoji i program za interpretaciju, neke greške u programu se otkrivaju veoma kasno itd. Osnovna prednost interpretera je </a:t>
            </a:r>
            <a:r>
              <a:rPr b="0" lang="sl-SI" sz="2000" spc="-1" strike="noStrike">
                <a:solidFill>
                  <a:srgbClr val="ff63b1"/>
                </a:solidFill>
                <a:latin typeface="Tahoma"/>
              </a:rPr>
              <a:t>JEDNOSTAVNOST!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Poznati interpreteri su Basic i MATLAB. Postoje “poluintepreteri” ili “inteligentni intepreteri”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oji izbjegavaju neke od l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ših strana interp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dnost interpretiranja je i u manjim memorijskim zahtjevima za smještaj programa što ih čini atraktivnim za mobilna sredst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Kompajleri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su znatno složenij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li su u nekim aspektima bolji od interprete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ompajle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ačunar razumije jezik nula i jedinica. U prevodu sa jezika koji je blizak jeziku algoritama (kod programskog jezika) u jezik blizak računarima (nule i jedinice – mašinski jezik) postoji nekoliko faz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vođenje u asemblerski jezik (jedan tip asemblerskog jezika ste upoznali iz Osnova računarstv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revođenje u mašinski jezik u relativnim adresama (adrese pojedinih instrukcija koje čine program u memoriji su određene u odnosu na početak programa a ne apsolutno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ovezivanje (linkovanje) više programskih modula (glavnog programa i potprograma) u jednu cjelin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reiranje izvršnog programa u apsolutnim adresam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ompajle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ezultat ko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liranja (ako nema grešaka) je EXE verzija (izvršni program) kojeg možete prodati bez uvida kupca u vašu prog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ersku vješti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mpajliranje ima više faza koje se dijele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nalizu (prepoznavanje naziva promjenljivih, ključnih riječi, oznaka blanko, operatora matematičkih i drugih operacija, određivanje naredbi i izraza, kreiranje tabele simbola koji se koriste u programu i otkrivanje grešak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intezu (vrši kreiranje koda praćenu optimizacijom, npr. programske petlje se često optimizuju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znati kompajleri C, Pascal, FORTRAN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Translato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mpajleri i interpreteri se jednom riječju zovu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translat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 napisan u ko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leru se brže izvršava, lakše se na račun njega zarađu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je memorijski prostor potreban za smještanje EXE fajlova ponekad veoma velik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ODACI!!!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Memorijski objekt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a kojima program izvod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operacij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nazivaju se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podac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daci moraju biti nekog od definisanih tipova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ipove podataka dijelimo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elementarn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lože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lementarni tipove se realizuju hardversk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složeni kombinacijom elementarni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jpoznatiji elementarni tipovi su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cijeli broj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int ili integer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realni broj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float, real ili double) i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karakte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char ili characte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ODACI I PROMJENLJIV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ipovi podataka imaju sledeće karakteristi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Memoriju koju zauzimaj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eracije koje se mogu nad njima izvršava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omen ili oblast definisanost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vaki podatak u programu mora imati ime (postoje izuzeci kao što su konstante i privremeni podac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o tome kasnije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Imena promjenljivih podliježu određenim pravilima koja variraju od programskog jezika do programskog jez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mjeri p</a:t>
            </a: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rocedu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Život se sastoji od ponavljanja nek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ut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noge od tih rutina (odlazak na posao, polaganje ispita, izlazak na izbore) mogu se opisati na nedvosmislen način procedur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cedura bi trebala da bude primjenjiva na slučaj svih mogućih ulaznih podataka (referendumi, republički, lokalni izb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različiti ispiti, odlazak na posao ponedjeljkom i utorkom it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 sličan način se mogu predstaviti i “obrade podataka” (obračun penzija, rad u katastru, računanje poreza, obrada fotografije it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ODACI I PROMJENLJIV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General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mena 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gu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asto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od slova i podvlake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_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Zabranjeno je koristiti zagrade, oznake matematičkih operacija, znake interpunkcije itd. Mogu se koristiti cif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ime promjenljive ne može nj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a poč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stoje programski jezici koji prave razliku između malih i velikih slova u nazivu podata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neki stariji ne prave. Za nas ova razlika nije bitna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A12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ABC_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C2D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u dobri nazivi promjenljiv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k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12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(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CD: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nijes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ziv promjenljive se u izvršnom kodu programa mijenja sa memorijskom lokacijom gdje se promjenljiva nalazi. Kažemo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“ime promjenljive je pristupna adresa toj promjenljivoj”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arakteristike tipova podata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emorija koju zauzimaju promjenljive se određuje hardverski i zavisi od mašine na kojoj se implementacija vrši, upotrijebljenog translatora i operativnog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stoje metode da se program piše uspješno i prenosivo sa računara na računar i pored ove razli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imer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romjenljiva tipa karakter obično zauzima 1Bajt (8 bita). Sadržaj toga bajta memorije se tumači (hardverski) na osnovu ASCII tabele kao karakter. Dakle, tumačenje se obavlja na osnovu sadržaja memorije i saznanja o tipu promjenljive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arakteri i ASCII tabel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ke važne karakteristike ASCII tabele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drži 26 malih slova engleske abecede poređanih jedan za drugim (ako binarni zapis sadržaja memorije pretvorimo u dekadni to znači da je karakter </a:t>
            </a: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za jedan manji od karaktera </a:t>
            </a: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drži 26 velikih slova engleske abecede (isto pravilo kao gor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drži 10 cifara (poređanih od </a:t>
            </a: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0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0" lang="sl-SI" sz="2000" spc="-1" strike="noStrike">
                <a:solidFill>
                  <a:srgbClr val="00cc00"/>
                </a:solidFill>
                <a:latin typeface="Tahoma"/>
              </a:rPr>
              <a:t>9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drži znake matematičkih operacija, osnovne interpunkcijske simbole, prazninu – blanko, zagrade, i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drži i neke specijalne simbole (znak za novi red, tabulaciju, novu stranicu, “zvonce”, kraj niza karaktera, vrati se gore znak, kraj fajla it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arakteri i dome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adržaj memorijske lokacije na kojoj se čuva karakter je 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itni binarni broj. Što je onda domen za prikaz karaktera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Ranije prenos podataka na računarima nije bio pouzd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a 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zapra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ao nosioc informacija koristilo 7 bi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jedan dodatni (bit najveće važnosti) je bio za provjeru parnosti. Znači u 256 mogućih karaktera je smještano 2 puta po 128 istih karaktera. Dakle, domen je bio od 0 do 127 zapisano dekad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anas je prenos (i skladištenje) podataka mnogo pouzdaniji pa se sadržaj memorije 00000000 do 11111111 može tumačiti kao 0 do 255 dekadno ili –128 do 127 ako se jedinica na početku tumači kao predznak. Kod nekih jezika ovo može da reguliše programer. Za nas u ovom kursu nije previše bit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arakteri i opera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ka je </a:t>
            </a:r>
            <a:r>
              <a:rPr b="0" lang="sl-SI" sz="2400" spc="-1" strike="noStrike">
                <a:solidFill>
                  <a:srgbClr val="ff822d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‘A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ki programski jezici dozvoljavaju operacije tipa B=A+1. Pretvorilo bi A u dekadni broj sabralo sa 1 i ako je B promjenljiva tipa karakter protumačilo rezultat kao naredni karakter u ASCII tabe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eki jezici ovo ne dozvoljavaj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već se to radi kao B=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int2cha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char2in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(A)+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828800" y="2514600"/>
            <a:ext cx="0" cy="45720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2286000" y="2514600"/>
            <a:ext cx="12952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990720" y="29718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22d"/>
                </a:solidFill>
                <a:latin typeface="Times New Roman"/>
              </a:rPr>
              <a:t>ime promjenljiv</a:t>
            </a:r>
            <a:r>
              <a:rPr b="0" lang="sl-SI" sz="2000" spc="-1" strike="noStrike">
                <a:solidFill>
                  <a:srgbClr val="ff822d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konstantni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karakteri se 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bi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 prika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zuju unutar                                   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ff3300"/>
                </a:solidFill>
                <a:latin typeface="Times New Roman"/>
              </a:rPr>
              <a:t>                  apostro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343400" y="5943600"/>
            <a:ext cx="4495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pretvara karakter u cijeli b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cc00"/>
                </a:solidFill>
                <a:latin typeface="Times New Roman"/>
              </a:rPr>
              <a:t>pretvara cijeli broj u karak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arakteri i operacije poređe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lično se mogu vršiti i druge operacije sa karakte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ećina programskih jezika dozvoljava operacije tipa </a:t>
            </a:r>
            <a:r>
              <a:rPr b="0" lang="sl-SI" sz="2400" spc="-1" strike="noStrike">
                <a:solidFill>
                  <a:srgbClr val="ff822d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ff822d"/>
                </a:solidFill>
                <a:latin typeface="Tahoma"/>
              </a:rPr>
              <a:t>&gt;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gdje su </a:t>
            </a:r>
            <a:r>
              <a:rPr b="0" lang="en-US" sz="2400" spc="-1" strike="noStrike">
                <a:solidFill>
                  <a:srgbClr val="ff822d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400" spc="-1" strike="noStrike">
                <a:solidFill>
                  <a:srgbClr val="ff822d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mjenljive tipa karakte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aj izraz provjerava da li je </a:t>
            </a:r>
            <a:r>
              <a:rPr b="0" lang="en-US" sz="2400" spc="-1" strike="noStrike">
                <a:solidFill>
                  <a:srgbClr val="ff822d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će od </a:t>
            </a:r>
            <a:r>
              <a:rPr b="0" lang="sl-SI" sz="2400" spc="-1" strike="noStrike">
                <a:solidFill>
                  <a:srgbClr val="ff822d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provjera se vrši na osnovu zapisa u ASCII kodu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vo ćemo koristiti za sortiranje po abecednom redu (podsjetite se da su karakteri poređani po abecednom redu i da oni na poč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 niz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a manjim ASCII ko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u i na početku abeced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 “komplikacijama” kod logičkih operacija i operacijama poređenja biće više riječi u dijelu opisa prikaza cijelih broje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UNICO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Unicode je kreirao posebni “neprofitni” konzorcijum (</a:t>
            </a:r>
            <a:r>
              <a:rPr b="0" lang="en-US" sz="2400" spc="-1" strike="noStrike" u="sng">
                <a:solidFill>
                  <a:srgbClr val="ff63b1"/>
                </a:solidFill>
                <a:uFillTx/>
                <a:latin typeface="Tahoma"/>
                <a:hlinkClick r:id="rId1"/>
              </a:rPr>
              <a:t>http://www.unicode.org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 sastavljen 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velikih kompanija zainteresov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h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za širenje tržiš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odr</a:t>
            </a: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žan od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vlada pojedinih zemalja sa “komplikovanim” setovima karaktera zainteresovanih za kompjutersko opismenjavanj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va verzija je podrazumjevala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ajtni zapis karaktera sa 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=65536 mogućih karakt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anašnje najnapredija verzija je UTF-32 sa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32 bit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Unico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4495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se Unicode karakteri pretvore u cijele brojeve dobijamo od 0 do FFFFFFFF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heksadecimalni zapis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se ne koriste svi mogući karakteri unutar tog se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već samo pojedini gru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jčešće podvarijanta Unicode-a je UTF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oja podrazumjeva brojeve od 0 do FFFF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ahoma"/>
              </a:rPr>
              <a:t>16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va dva “bajta” podrazumjevaju upotrijebljeni karakter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ok druga dva podrazumjevaju konkretni karakter unutar s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Mi nećemo podrazumjevati da je naš set karaktera implementiran ni u ASCII-u ni u Unicode-u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 već samo da je karakter set pravilan i da omogućava sortiranja i druge pogodne operacije nad karakterima ili grupama karakte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95120" y="609120"/>
            <a:ext cx="3581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jeli broje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ijeli brojevi (u kompjuterskoj terminologiji poznati kao int, inte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td) zauzimaju memoriju od 2 ili 4 bajta pa čak ponekad i 8 bajtova (obič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er može izabrati “količinu memorije u datim granicama”;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za nas opet nebitno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zauzima 2 bajta to su brojevi od –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o 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1 ako se prvi bit tumači kao predznak. Ako se prvi bit ne tumači kao predznak dobijaju se nenegativni cijeli brojevi od 0 do 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se zauzima četiri bajta domen je –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3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o 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31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1 ili od 0 do 2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ahoma"/>
              </a:rPr>
              <a:t>32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-1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eri opet u nekim programskim jezicima mogu da podešavaju način tumačenja sadržaja memorije zauzete za cijele brojeve (prirodni ili svi cijeli brojevi). </a:t>
            </a:r>
            <a:r>
              <a:rPr b="0" lang="sl-SI" sz="1600" spc="-1" strike="noStrike">
                <a:solidFill>
                  <a:srgbClr val="000000"/>
                </a:solidFill>
                <a:latin typeface="Tahoma"/>
              </a:rPr>
              <a:t>Za nas ova podešavanja nijesu bitn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Cijeli brojevi i opera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9621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+B – sabiran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-B – oduzima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*B – množ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– dijelje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B+C – pridr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van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43080" y="4316400"/>
            <a:ext cx="3543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cc00"/>
                </a:solidFill>
                <a:latin typeface="Times New Roman"/>
              </a:rPr>
              <a:t>navodimo samo operacije koje postoje u gotovo svim programskim jezic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4724280" y="2133720"/>
            <a:ext cx="358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avno, dozvoljene su operacije tipa: A+2, 3-A, 4+5, 7*8 it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6"/>
          <p:cNvSpPr/>
          <p:nvPr/>
        </p:nvSpPr>
        <p:spPr>
          <a:xfrm flipV="1">
            <a:off x="3886200" y="327672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5486400" y="2971800"/>
            <a:ext cx="31240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Pridruživanje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 nije jednako matemati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čkom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naku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jednako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ti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U programiranju se obavlja tako što se odradi operacija na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desno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j strani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 pa se zatim dobijena vrijednost pridruži onoj na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lijevo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j stra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533520" y="5105520"/>
            <a:ext cx="3352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Matematički je dozvoljeno</a:t>
            </a:r>
            <a:br>
              <a:rPr sz="1600"/>
            </a:b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4=3+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ali u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programiranju nije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jer pokušaj pridruživanja </a:t>
            </a:r>
            <a:br>
              <a:rPr sz="1600"/>
            </a:b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cijelom broju nečega nema smis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4724280" y="5105520"/>
            <a:ext cx="3353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U matematici nije dozvoljeno </a:t>
            </a: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A=A+B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ali u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programiranju jest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jer se obavi operacija na desnoj strani i pridruži rezultat onome na lijevoj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Obrada podata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esto postoji potreba da se procedura provede nad 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mnom količinom podataka. Np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pis stanovništva, obrada penzija,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To bi zahtjevalo ogroman ljudski rad i mnoštvo grešaka prouzrokovanih nepažnj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oš u XIX vijeku su se javile ideje za konstruisanje mašina za obradu podataka (to su bile mehaničke mašine, modeli Bebidža, Paskala it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ve prave raču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 mašine (kompjuteri) pojavile su se nakon II svjetskog rata i bile su (kao i danas) realizovane na elektronskim uređaj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ako se izvršavaju alg. opera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960" y="21333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B+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3200400"/>
            <a:ext cx="281916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Proce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457200" y="3962520"/>
            <a:ext cx="13716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(dio ko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izvrš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operaci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2133720" y="3962520"/>
            <a:ext cx="7617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2133720" y="43434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2133720" y="47242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2133720" y="571500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7"/>
          <p:cNvSpPr/>
          <p:nvPr/>
        </p:nvSpPr>
        <p:spPr>
          <a:xfrm>
            <a:off x="2514600" y="51055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18"/>
          <p:cNvSpPr/>
          <p:nvPr/>
        </p:nvSpPr>
        <p:spPr>
          <a:xfrm>
            <a:off x="2514600" y="5257800"/>
            <a:ext cx="76320" cy="763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19"/>
          <p:cNvSpPr/>
          <p:nvPr/>
        </p:nvSpPr>
        <p:spPr>
          <a:xfrm>
            <a:off x="2514600" y="5410080"/>
            <a:ext cx="76320" cy="763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20"/>
          <p:cNvSpPr/>
          <p:nvPr/>
        </p:nvSpPr>
        <p:spPr>
          <a:xfrm>
            <a:off x="2514600" y="55627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1828800" y="36259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registri proces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3"/>
          <p:cNvSpPr/>
          <p:nvPr/>
        </p:nvSpPr>
        <p:spPr>
          <a:xfrm>
            <a:off x="3962520" y="2133720"/>
            <a:ext cx="2666880" cy="38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Memor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25"/>
          <p:cNvSpPr/>
          <p:nvPr/>
        </p:nvSpPr>
        <p:spPr>
          <a:xfrm>
            <a:off x="3962520" y="266688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26"/>
          <p:cNvSpPr/>
          <p:nvPr/>
        </p:nvSpPr>
        <p:spPr>
          <a:xfrm>
            <a:off x="3962520" y="39625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27"/>
          <p:cNvSpPr/>
          <p:nvPr/>
        </p:nvSpPr>
        <p:spPr>
          <a:xfrm>
            <a:off x="3962520" y="4267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28"/>
          <p:cNvSpPr/>
          <p:nvPr/>
        </p:nvSpPr>
        <p:spPr>
          <a:xfrm>
            <a:off x="3962520" y="52578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29"/>
          <p:cNvSpPr/>
          <p:nvPr/>
        </p:nvSpPr>
        <p:spPr>
          <a:xfrm>
            <a:off x="3962520" y="55627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6248520" y="3886200"/>
            <a:ext cx="29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A  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(lokacija gdje se smješta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      promjenljiva 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6248520" y="5165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32"/>
          <p:cNvSpPr/>
          <p:nvPr/>
        </p:nvSpPr>
        <p:spPr>
          <a:xfrm>
            <a:off x="2895480" y="4495680"/>
            <a:ext cx="1067040" cy="914400"/>
          </a:xfrm>
          <a:custGeom>
            <a:avLst/>
            <a:gdLst/>
            <a:ahLst/>
            <a:rect l="l" t="t" r="r" b="b"/>
            <a:pathLst>
              <a:path w="672" h="576">
                <a:moveTo>
                  <a:pt x="672" y="576"/>
                </a:moveTo>
                <a:cubicBezTo>
                  <a:pt x="656" y="408"/>
                  <a:pt x="640" y="240"/>
                  <a:pt x="528" y="144"/>
                </a:cubicBezTo>
                <a:cubicBezTo>
                  <a:pt x="416" y="48"/>
                  <a:pt x="208" y="2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6858000" y="1828800"/>
            <a:ext cx="2133720" cy="1067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99ff"/>
                </a:solidFill>
                <a:latin typeface="Times New Roman"/>
              </a:rPr>
              <a:t>I korak.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Smjestiti promjenljivu sa lokacije B u neki od regist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32767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99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2971800" y="4724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99ff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6934320" y="3048120"/>
            <a:ext cx="2133360" cy="824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99ff"/>
                </a:solidFill>
                <a:latin typeface="Times New Roman"/>
              </a:rPr>
              <a:t>II korak.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Hardverski generisati konstantu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u registr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38"/>
          <p:cNvSpPr/>
          <p:nvPr/>
        </p:nvSpPr>
        <p:spPr>
          <a:xfrm>
            <a:off x="1143000" y="2438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39"/>
          <p:cNvSpPr/>
          <p:nvPr/>
        </p:nvSpPr>
        <p:spPr>
          <a:xfrm flipH="1">
            <a:off x="1828440" y="4495680"/>
            <a:ext cx="304920" cy="9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40"/>
          <p:cNvSpPr/>
          <p:nvPr/>
        </p:nvSpPr>
        <p:spPr>
          <a:xfrm flipH="1" flipV="1">
            <a:off x="1828440" y="4724280"/>
            <a:ext cx="30492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1"/>
          <p:cNvSpPr/>
          <p:nvPr/>
        </p:nvSpPr>
        <p:spPr>
          <a:xfrm>
            <a:off x="1143000" y="28036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99ff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1676520" y="414504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99ff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3"/>
          <p:cNvSpPr/>
          <p:nvPr/>
        </p:nvSpPr>
        <p:spPr>
          <a:xfrm>
            <a:off x="6934320" y="4695840"/>
            <a:ext cx="2133360" cy="1310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99ff"/>
                </a:solidFill>
                <a:latin typeface="Times New Roman"/>
              </a:rPr>
              <a:t>III korak.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ALU prepoznaje da je riječ o sabiranju i izvršava operaciju nad podacima iz regista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44"/>
          <p:cNvSpPr/>
          <p:nvPr/>
        </p:nvSpPr>
        <p:spPr>
          <a:xfrm>
            <a:off x="914400" y="5562720"/>
            <a:ext cx="1219320" cy="431640"/>
          </a:xfrm>
          <a:custGeom>
            <a:avLst/>
            <a:gdLst/>
            <a:ahLst/>
            <a:rect l="l" t="t" r="r" b="b"/>
            <a:pathLst>
              <a:path w="768" h="272">
                <a:moveTo>
                  <a:pt x="0" y="0"/>
                </a:moveTo>
                <a:cubicBezTo>
                  <a:pt x="56" y="104"/>
                  <a:pt x="112" y="208"/>
                  <a:pt x="240" y="240"/>
                </a:cubicBezTo>
                <a:cubicBezTo>
                  <a:pt x="368" y="272"/>
                  <a:pt x="680" y="200"/>
                  <a:pt x="768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5"/>
          <p:cNvSpPr/>
          <p:nvPr/>
        </p:nvSpPr>
        <p:spPr>
          <a:xfrm>
            <a:off x="1333440" y="599436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99ff"/>
                </a:solidFill>
                <a:latin typeface="Times New Roman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6"/>
          <p:cNvSpPr/>
          <p:nvPr/>
        </p:nvSpPr>
        <p:spPr>
          <a:xfrm>
            <a:off x="3352680" y="6019920"/>
            <a:ext cx="2514600" cy="8240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99ff"/>
                </a:solidFill>
                <a:latin typeface="Times New Roman"/>
              </a:rPr>
              <a:t>IV korak.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Rezultat operacije se smiješta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privremeno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u regist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47"/>
          <p:cNvSpPr/>
          <p:nvPr/>
        </p:nvSpPr>
        <p:spPr>
          <a:xfrm>
            <a:off x="2895480" y="3886200"/>
            <a:ext cx="1067040" cy="1981080"/>
          </a:xfrm>
          <a:custGeom>
            <a:avLst/>
            <a:gdLst/>
            <a:ahLst/>
            <a:rect l="l" t="t" r="r" b="b"/>
            <a:pathLst>
              <a:path w="672" h="1248">
                <a:moveTo>
                  <a:pt x="0" y="1248"/>
                </a:moveTo>
                <a:cubicBezTo>
                  <a:pt x="132" y="1220"/>
                  <a:pt x="264" y="1192"/>
                  <a:pt x="336" y="1008"/>
                </a:cubicBezTo>
                <a:cubicBezTo>
                  <a:pt x="408" y="824"/>
                  <a:pt x="376" y="288"/>
                  <a:pt x="432" y="144"/>
                </a:cubicBezTo>
                <a:cubicBezTo>
                  <a:pt x="488" y="0"/>
                  <a:pt x="580" y="72"/>
                  <a:pt x="672" y="14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8"/>
          <p:cNvSpPr/>
          <p:nvPr/>
        </p:nvSpPr>
        <p:spPr>
          <a:xfrm>
            <a:off x="3581280" y="3581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6699ff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9"/>
          <p:cNvSpPr/>
          <p:nvPr/>
        </p:nvSpPr>
        <p:spPr>
          <a:xfrm>
            <a:off x="5943600" y="6172200"/>
            <a:ext cx="3124080" cy="580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6699ff"/>
                </a:solidFill>
                <a:latin typeface="Times New Roman"/>
              </a:rPr>
              <a:t>V korak.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Rezultat se iz registara prebacuje u memoriju na lokaciji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Izvrš. alg. operacija - nastava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bajte sami što se dešava u slučaju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=A+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mjenljiva koja je kao međurezultat bila smještena u registre prije presipanja u memoriju naziva se privremenom. Ima sve karakteristike promjenljivih datog tip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nema ime i ne može joj se pristup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ioriteti operacija važe kao i u matematic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B+C*D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množenje i dijeljenje imaju veći prioritet od sabiranja i oduziman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vo izvršava množenje uz kreiranje privremene promjenlj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zatim se ta privremena promjenljiva sabira s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na kraju “presipa” u promjenjivu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oriteti opera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bajte sami da opišete što se dešava u registrima kod operacije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B+C*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ioritet se može promjeniti upotrebom zagrada: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=(B+C)*D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jer se prvo izvršava ono u zagrad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Ako se u nekom jeziku uvede još neki operator algebarske operacije nastoji se  zadržati njihov prioritet kao u matemati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i ćemo sve ostale operatore i sve matematičke funkcije realizovati preko osnovnih matematičkih opera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Razlike mat. operacija i na računar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Već smo vidjel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d operatora pridruživanja postoje razlike između matematičkih operacija i onih koje se realizuju na računar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ad ćemo naučiti još neke razli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=A+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ne mora da da očekivani rezultat zbog ograničenja uzrokovanih domeno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pr. neka je memorija za cijele brojeve 2 bajta i neka je najveći cijeli broj koji se može prikazati 111....111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=65535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redb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=6553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B=A+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će dati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=65536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već št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AutoShape 4"/>
          <p:cNvSpPr/>
          <p:nvPr/>
        </p:nvSpPr>
        <p:spPr>
          <a:xfrm rot="5400000">
            <a:off x="5524200" y="457200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095880" y="5181480"/>
            <a:ext cx="152424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7620120" y="50673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16 jedin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Razlike mat. operacija i na računar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Druga važna razlika (važan problem) postoji kod operacije 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eljenj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ka su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cijeli brojevi koji iznos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=4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=3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eracija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aj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Razlo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peracija se izvodi nad cijelim brojevima i za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rezultat se ostavlja memorija kao za cijeli broj. Zbog toga dolazi do odsjecanja necjelobrojnog dije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Operacija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¾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aje </a:t>
            </a:r>
            <a:r>
              <a:rPr b="0" lang="sl-SI" sz="2000" spc="-1" strike="noStrike">
                <a:solidFill>
                  <a:srgbClr val="ff822d"/>
                </a:solidFill>
                <a:latin typeface="Tahoma"/>
              </a:rPr>
              <a:t>0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r se vrši odsjecanje rezult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 ne zaokruživan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Operacije poređe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d cijelim brojevima se mogu izvoditi operacije poređenj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&gt;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aje rezultat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a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veće od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u suprotnom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(realizacija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će biti razmatrana kasni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&lt;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aje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a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nje o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daje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a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nje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ili jednako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d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da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a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veće ili jednako od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daje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a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dnako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a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ko 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različito od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295280" y="4267080"/>
            <a:ext cx="685800" cy="1524240"/>
          </a:xfrm>
          <a:prstGeom prst="rect">
            <a:avLst/>
          </a:prstGeom>
          <a:noFill/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5"/>
          <p:cNvSpPr/>
          <p:nvPr/>
        </p:nvSpPr>
        <p:spPr>
          <a:xfrm>
            <a:off x="1503360" y="5791320"/>
            <a:ext cx="103968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2543040" y="5791320"/>
            <a:ext cx="5762880" cy="73332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obično se u programiranju koriste drugačije oznake ovih operacija poređenj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ali ćemo mi koristiti matematičk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400"/>
            </a:br>
            <a:r>
              <a:rPr b="0" lang="sl-SI" sz="14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sl-SI" sz="1400" spc="-1" strike="noStrike">
                <a:solidFill>
                  <a:srgbClr val="ff3300"/>
                </a:solidFill>
                <a:latin typeface="Tahoma"/>
              </a:rPr>
              <a:t> je uvedeno radi razlikovanja od = (operatora pridruživanj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ratko o skup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98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kup je kolekcija nekih elemenata. Posto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onačni skupovi </a:t>
            </a:r>
            <a:r>
              <a:rPr b="1" lang="sl-SI" sz="20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{1,2,3,6,11}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skon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 skupovi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a beskonačno mnogo elemen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znak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označava d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ripada skupu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znaka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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označava da </a:t>
            </a:r>
            <a:r>
              <a:rPr b="0" lang="sl-SI" sz="2400" spc="-1" strike="noStrike">
                <a:solidFill>
                  <a:srgbClr val="ff822d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ne pripada skupu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S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znak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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označava da je skup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odskup skup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Oval 4"/>
          <p:cNvSpPr/>
          <p:nvPr/>
        </p:nvSpPr>
        <p:spPr>
          <a:xfrm>
            <a:off x="1314360" y="4965840"/>
            <a:ext cx="1779840" cy="1090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5"/>
          <p:cNvSpPr/>
          <p:nvPr/>
        </p:nvSpPr>
        <p:spPr>
          <a:xfrm>
            <a:off x="1828800" y="5278320"/>
            <a:ext cx="789120" cy="54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2001600" y="5261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738080" y="50180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8"/>
          <p:cNvSpPr/>
          <p:nvPr/>
        </p:nvSpPr>
        <p:spPr>
          <a:xfrm>
            <a:off x="3294000" y="5278320"/>
            <a:ext cx="131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797360" y="5018040"/>
            <a:ext cx="189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vi elementi skupa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 moraju biti i u skupu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ratko o skup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Oznaka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nač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stoji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arem jedno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koje j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lan skup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koje zadovoljava neki zadati uslo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znaka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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A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nači svak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  <a:ea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koje je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lan skup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zadovoljava neki zadati uslov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ratko o skup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Oznak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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označava novi skup (presjek skupova) čiji se elementi nalaze i u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u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označava novi skup (uniju skupova) koji č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vi elementi skupov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Oval 4"/>
          <p:cNvSpPr/>
          <p:nvPr/>
        </p:nvSpPr>
        <p:spPr>
          <a:xfrm>
            <a:off x="914400" y="4108320"/>
            <a:ext cx="1039680" cy="10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5"/>
          <p:cNvSpPr/>
          <p:nvPr/>
        </p:nvSpPr>
        <p:spPr>
          <a:xfrm>
            <a:off x="1690560" y="4108320"/>
            <a:ext cx="1127160" cy="10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1187280" y="4091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7"/>
          <p:cNvSpPr/>
          <p:nvPr/>
        </p:nvSpPr>
        <p:spPr>
          <a:xfrm>
            <a:off x="2152440" y="409104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 flipH="1">
            <a:off x="1688760" y="4387680"/>
            <a:ext cx="198360" cy="20484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0"/>
          <p:cNvSpPr/>
          <p:nvPr/>
        </p:nvSpPr>
        <p:spPr>
          <a:xfrm flipH="1">
            <a:off x="1695240" y="4476600"/>
            <a:ext cx="228600" cy="228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11"/>
          <p:cNvSpPr/>
          <p:nvPr/>
        </p:nvSpPr>
        <p:spPr>
          <a:xfrm flipH="1">
            <a:off x="1726920" y="4578480"/>
            <a:ext cx="228600" cy="22860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12"/>
          <p:cNvSpPr/>
          <p:nvPr/>
        </p:nvSpPr>
        <p:spPr>
          <a:xfrm flipH="1">
            <a:off x="1784160" y="4749840"/>
            <a:ext cx="152280" cy="152280"/>
          </a:xfrm>
          <a:prstGeom prst="line">
            <a:avLst/>
          </a:prstGeom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3"/>
          <p:cNvSpPr/>
          <p:nvPr/>
        </p:nvSpPr>
        <p:spPr>
          <a:xfrm>
            <a:off x="1828800" y="4800600"/>
            <a:ext cx="0" cy="76212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1066680" y="5638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1523880" y="57150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cc00"/>
                </a:solidFill>
                <a:latin typeface="Tahoma"/>
              </a:rPr>
              <a:t>A</a:t>
            </a:r>
            <a:r>
              <a:rPr b="0" lang="sl-SI" sz="1600" spc="-1" strike="noStrike">
                <a:solidFill>
                  <a:srgbClr val="00cc00"/>
                </a:solidFill>
                <a:latin typeface="Symbol"/>
                <a:ea typeface="Symbol"/>
              </a:rPr>
              <a:t></a:t>
            </a:r>
            <a:r>
              <a:rPr b="1" lang="sl-SI" sz="1600" spc="-1" strike="noStrike">
                <a:solidFill>
                  <a:srgbClr val="00cc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4800600" y="4184640"/>
            <a:ext cx="1039680" cy="10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17"/>
          <p:cNvSpPr/>
          <p:nvPr/>
        </p:nvSpPr>
        <p:spPr>
          <a:xfrm>
            <a:off x="5576760" y="4184640"/>
            <a:ext cx="1127160" cy="10526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8"/>
          <p:cNvSpPr/>
          <p:nvPr/>
        </p:nvSpPr>
        <p:spPr>
          <a:xfrm>
            <a:off x="5073480" y="4167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6038640" y="41673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5715000" y="4876920"/>
            <a:ext cx="0" cy="76176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4952880" y="57150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6"/>
          <p:cNvSpPr/>
          <p:nvPr/>
        </p:nvSpPr>
        <p:spPr>
          <a:xfrm>
            <a:off x="5410080" y="579132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cc00"/>
                </a:solidFill>
                <a:latin typeface="Tahoma"/>
              </a:rPr>
              <a:t>A</a:t>
            </a:r>
            <a:r>
              <a:rPr b="0" lang="sl-SI" sz="1600" spc="-1" strike="noStrike">
                <a:solidFill>
                  <a:srgbClr val="00cc00"/>
                </a:solidFill>
                <a:latin typeface="Symbol"/>
                <a:ea typeface="Symbol"/>
              </a:rPr>
              <a:t></a:t>
            </a:r>
            <a:r>
              <a:rPr b="1" lang="sl-SI" sz="1600" spc="-1" strike="noStrike">
                <a:solidFill>
                  <a:srgbClr val="00cc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Neki poznati skup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kup prirodnih brojeva 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{0,1,2,3,4,....}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p pozitivnih cijelih brojeva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 baseline="30000">
                <a:solidFill>
                  <a:srgbClr val="ff3300"/>
                </a:solidFill>
                <a:latin typeface="Tahoma"/>
              </a:rPr>
              <a:t>+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={1,2,3,4,....}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p cijelih brojev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={...,-4,-3,-2,-1,0,1,2,3,4,...}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p realnih brojev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oji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ini uniju svih cijelih brojeva, brojeva koji se mogu prikazati u pokretnom zarezu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3.42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1.23 10</a:t>
            </a:r>
            <a:r>
              <a:rPr b="1" lang="sl-SI" sz="12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-4.56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skup iracionalnih brojeva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l-SI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sl-SI" sz="1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l-SI" sz="1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skup razlomak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– racionalnih brojev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l-SI" sz="1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/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1/27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Za doma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ći: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Kakvi su me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đ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usobni odnosi ovih skupova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Kompjuter i obrada podata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lektronske komponente koje su danas u upotrebi imaju l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u na nivou nula i jedin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isanje male procedure na nivou nula i j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ica bilo bi veoma zametno za ljude sa mogućnošću mnoštva greša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Ljudi očigledno dobro razumiju jezik proced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Stoga su razvijeni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programski jezic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pomoću kojih je proceduru moguće zapisati na način blizak ljudi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 ipak dovoljno jednostav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a se lako mogu prevesti na jezik nula i jedinica razumljiv računari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ar pitanja o skupovi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{1,3,6,11}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={-2,3,11,24}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mu su jednake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unija i presjek ovih skupo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={3.45,1,34,-7/6}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mu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su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jednaki presjek i unija ovog skupa sa skupom prirodnih broje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Da li je ovaj skup podskup skupa cijelih broje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Logičke opera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menućemo četiri operacije koje se provode nad logičkim promjenljivi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logička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“I”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 operacija (logičko množenje). Daje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ko su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Tačn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 u svim ostalim slučajevima daje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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logička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“ILI”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operacija (logičko sabiranje). Daje 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T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ačno 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kada je barem jedno od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dnako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rezultat kada su obije logičke promjenljive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tačne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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ekskluzivno ili operacij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Daje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kada su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različiti (jedno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drugo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tačn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3300"/>
                </a:solidFill>
                <a:latin typeface="Symbol"/>
                <a:ea typeface="Symbol"/>
              </a:rPr>
              <a:t>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negacij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 Daje suprotno od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4"/>
          <p:cNvSpPr/>
          <p:nvPr/>
        </p:nvSpPr>
        <p:spPr>
          <a:xfrm flipH="1">
            <a:off x="1294920" y="3276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5"/>
          <p:cNvSpPr/>
          <p:nvPr/>
        </p:nvSpPr>
        <p:spPr>
          <a:xfrm flipH="1" flipV="1">
            <a:off x="1371240" y="35812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6"/>
          <p:cNvSpPr/>
          <p:nvPr/>
        </p:nvSpPr>
        <p:spPr>
          <a:xfrm flipH="1" flipV="1">
            <a:off x="1294920" y="3809520"/>
            <a:ext cx="381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"/>
          <p:cNvSpPr/>
          <p:nvPr/>
        </p:nvSpPr>
        <p:spPr>
          <a:xfrm flipH="1" flipV="1">
            <a:off x="1219320" y="4038480"/>
            <a:ext cx="3808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228600" y="2971800"/>
            <a:ext cx="1371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Times New Roman"/>
              </a:rPr>
              <a:t>U prog. jezicima se koriste druge ozn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9"/>
          <p:cNvSpPr/>
          <p:nvPr/>
        </p:nvSpPr>
        <p:spPr>
          <a:xfrm>
            <a:off x="1905120" y="59436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048120" y="594360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ovo je </a:t>
            </a: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unarna operacija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koja se primjenjuje nad jednim </a:t>
            </a:r>
            <a:r>
              <a:rPr b="1" lang="sl-SI" sz="1600" spc="-1" strike="noStrike">
                <a:solidFill>
                  <a:srgbClr val="ff3300"/>
                </a:solidFill>
                <a:latin typeface="Times New Roman"/>
              </a:rPr>
              <a:t>operando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dok su ostale </a:t>
            </a:r>
            <a:r>
              <a:rPr b="1" lang="sl-SI" sz="1600" spc="-1" strike="noStrike">
                <a:solidFill>
                  <a:srgbClr val="6699ff"/>
                </a:solidFill>
                <a:latin typeface="Times New Roman"/>
              </a:rPr>
              <a:t>binarne</a:t>
            </a: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 jer se primjenjuju nad dva oper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Tabele istinitost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Line 4"/>
          <p:cNvSpPr/>
          <p:nvPr/>
        </p:nvSpPr>
        <p:spPr>
          <a:xfrm>
            <a:off x="22860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5"/>
          <p:cNvSpPr/>
          <p:nvPr/>
        </p:nvSpPr>
        <p:spPr>
          <a:xfrm>
            <a:off x="175248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304920" y="2209680"/>
            <a:ext cx="2819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A      B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       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F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       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F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       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F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       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28954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441972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2971800" y="2209680"/>
            <a:ext cx="2819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A      B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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       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F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       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       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       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571500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723888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2"/>
          <p:cNvSpPr/>
          <p:nvPr/>
        </p:nvSpPr>
        <p:spPr>
          <a:xfrm>
            <a:off x="5791320" y="2209680"/>
            <a:ext cx="28191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A      B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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       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F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       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       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       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2286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838080" y="4572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304920" y="4572000"/>
            <a:ext cx="2819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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F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T</a:t>
            </a:r>
            <a:br>
              <a:rPr sz="2400"/>
            </a:b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</a:t>
            </a: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6"/>
          <p:cNvSpPr/>
          <p:nvPr/>
        </p:nvSpPr>
        <p:spPr>
          <a:xfrm>
            <a:off x="3200400" y="480060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imes New Roman"/>
              </a:rPr>
              <a:t>F=FALSE=NETAČNO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T=TRUE=TAČNO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Realizacija logičkih promjenljivi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visi od programskog jezi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ki programski jezici (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FORTRAN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 uvode specijalnu logičku promjenljivu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LOGICAL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il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BOOLEAN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sa kojom se mogu vršiti logičke operaci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li ne i aritmetič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Drugi programski jezici (npr.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C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 koriste cijele brojeve kao logičke promjenljive i tumače kao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broj različit od nule i nulu kao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Neki programs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jezici koriste drugu opcij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ali korisnici u formi </a:t>
            </a:r>
            <a:r>
              <a:rPr b="0" lang="sl-SI" sz="2000" spc="-1" strike="noStrike">
                <a:solidFill>
                  <a:srgbClr val="ff3300"/>
                </a:solidFill>
                <a:latin typeface="Tahoma"/>
              </a:rPr>
              <a:t>nabrajanja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 mogu sami da definišu logičke promjenljive (npr. </a:t>
            </a:r>
            <a:r>
              <a:rPr b="0" lang="sl-SI" sz="2000" spc="-1" strike="noStrike">
                <a:solidFill>
                  <a:srgbClr val="6699ff"/>
                </a:solidFill>
                <a:latin typeface="Tahoma"/>
              </a:rPr>
              <a:t>C++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remenom se vr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ća moda specijalnih tipova podataka sa logičkim promjenljivim (npr. uključeno u standard C++-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Za nas se logička promjenljiva može koristiti samo za logičke operaci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Suštinski sva tri metoda zapisa logičkih promjenljivih se u memoriji računara svode na cijele brojeve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jeri logičkih izra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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gt;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da li je t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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N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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gt;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da li je tača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koje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e logi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čki izraz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</a:t>
            </a:r>
            <a:r>
              <a:rPr b="1" lang="sl-SI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0" lang="sl-SI" sz="24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&gt;3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tač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pamtite: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prioritet operacije negacije je veći od prioriteta ostalih logičkih operacij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ioritet logičkih operacija može se mijenjati </a:t>
            </a: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zagradam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rimjeri logičkih izra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Za koje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l-SI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su logički izrazi tačn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(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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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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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(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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) 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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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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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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(B</a:t>
            </a:r>
            <a:r>
              <a:rPr b="0" lang="sl-SI" sz="2400" spc="-1" strike="noStrike">
                <a:solidFill>
                  <a:srgbClr val="6699ff"/>
                </a:solidFill>
                <a:latin typeface="Symbol"/>
                <a:ea typeface="Symbol"/>
              </a:rPr>
              <a:t></a:t>
            </a:r>
            <a:r>
              <a:rPr b="0" lang="sl-SI" sz="2400" spc="-1" strike="noStrike">
                <a:solidFill>
                  <a:srgbClr val="6699ff"/>
                </a:solidFill>
                <a:latin typeface="Tahoma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Mi nećemo detaljnije zalaziti u logičke izra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ali je d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oji vam je prezentiran neophodan radi daljeg praćenja kur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Algoritam i program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er polazi od postavljenog problema i kreira proceduru –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algoritam*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koja dati problem rješ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rogramer je dakle “prevodilac” sa jezika procedure na jezik sa kojeg se može dalje prevoditi na jezik blizak računar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Pored “prevođenja” programer obično kreira i proceduru na osnovu postavljenog proble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ahoma"/>
              </a:rPr>
              <a:t>*</a:t>
            </a:r>
            <a:r>
              <a:rPr b="0" lang="en-US" sz="1600" spc="-1" strike="noStrike">
                <a:solidFill>
                  <a:srgbClr val="ff63b1"/>
                </a:solidFill>
                <a:latin typeface="Tahoma"/>
              </a:rPr>
              <a:t>   </a:t>
            </a:r>
            <a:r>
              <a:rPr b="0" lang="sl-SI" sz="1600" spc="-1" strike="noStrike">
                <a:solidFill>
                  <a:srgbClr val="ff63b1"/>
                </a:solidFill>
                <a:latin typeface="Tahoma"/>
              </a:rPr>
              <a:t>Pojam algoritam potiče od Al-Horezmija koji je u IX vijeku definisao načine za izračunavanja nad dekadnim brojevima koj</a:t>
            </a:r>
            <a:r>
              <a:rPr b="0" lang="en-US" sz="1600" spc="-1" strike="noStrike">
                <a:solidFill>
                  <a:srgbClr val="ff63b1"/>
                </a:solidFill>
                <a:latin typeface="Tahoma"/>
              </a:rPr>
              <a:t>i</a:t>
            </a:r>
            <a:r>
              <a:rPr b="0" lang="sl-SI" sz="1600" spc="-1" strike="noStrike">
                <a:solidFill>
                  <a:srgbClr val="ff63b1"/>
                </a:solidFill>
                <a:latin typeface="Tahoma"/>
              </a:rPr>
              <a:t> se i danas koriste i uče u osnovnoj školi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Mašinske instru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Kao malu digresiju podsjetimo se kako izgleda jedna instrukcija koju računar razumije (pravilnije je reći koju p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cesor izvršav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762120" y="3657600"/>
            <a:ext cx="7924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10666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13716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16765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1981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2286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>
            <a:off x="25909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28954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32004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3505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4"/>
          <p:cNvSpPr/>
          <p:nvPr/>
        </p:nvSpPr>
        <p:spPr>
          <a:xfrm>
            <a:off x="3809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4114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44197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>
            <a:off x="47242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50292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53341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56386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59436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2485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5530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71629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74674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77724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28"/>
          <p:cNvSpPr/>
          <p:nvPr/>
        </p:nvSpPr>
        <p:spPr>
          <a:xfrm>
            <a:off x="8077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29"/>
          <p:cNvSpPr/>
          <p:nvPr/>
        </p:nvSpPr>
        <p:spPr>
          <a:xfrm>
            <a:off x="8381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30"/>
          <p:cNvSpPr/>
          <p:nvPr/>
        </p:nvSpPr>
        <p:spPr>
          <a:xfrm rot="5400000">
            <a:off x="4533480" y="418680"/>
            <a:ext cx="304920" cy="8001000"/>
          </a:xfrm>
          <a:custGeom>
            <a:avLst/>
            <a:gdLst>
              <a:gd name="textAreaLeft" fmla="*/ 0 w 304920"/>
              <a:gd name="textAreaRight" fmla="*/ 110160 w 304920"/>
              <a:gd name="textAreaTop" fmla="*/ 208440 h 8001000"/>
              <a:gd name="textAreaBottom" fmla="*/ 7792560 h 800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1"/>
          <p:cNvSpPr/>
          <p:nvPr/>
        </p:nvSpPr>
        <p:spPr>
          <a:xfrm>
            <a:off x="1752480" y="4648320"/>
            <a:ext cx="518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imes New Roman"/>
              </a:rPr>
              <a:t>Instrukcije određene dužine (određenog broja bitov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2"/>
          <p:cNvSpPr/>
          <p:nvPr/>
        </p:nvSpPr>
        <p:spPr>
          <a:xfrm rot="5400000">
            <a:off x="1714320" y="3085920"/>
            <a:ext cx="228600" cy="213336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33"/>
          <p:cNvSpPr/>
          <p:nvPr/>
        </p:nvSpPr>
        <p:spPr>
          <a:xfrm>
            <a:off x="1143000" y="4191120"/>
            <a:ext cx="0" cy="1371600"/>
          </a:xfrm>
          <a:prstGeom prst="line">
            <a:avLst/>
          </a:prstGeom>
          <a:ln w="93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4"/>
          <p:cNvSpPr/>
          <p:nvPr/>
        </p:nvSpPr>
        <p:spPr>
          <a:xfrm>
            <a:off x="609480" y="5638680"/>
            <a:ext cx="518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cc00"/>
                </a:solidFill>
                <a:latin typeface="Times New Roman"/>
              </a:rPr>
              <a:t>Jedan dio bitova (obično na početku) je iskorišćen da definiše operaciju (npr. sabiran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35"/>
          <p:cNvSpPr/>
          <p:nvPr/>
        </p:nvSpPr>
        <p:spPr>
          <a:xfrm rot="5400000">
            <a:off x="4152600" y="2781000"/>
            <a:ext cx="228600" cy="2743200"/>
          </a:xfrm>
          <a:custGeom>
            <a:avLst/>
            <a:gdLst>
              <a:gd name="textAreaLeft" fmla="*/ 0 w 228600"/>
              <a:gd name="textAreaRight" fmla="*/ 82440 w 22860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36"/>
          <p:cNvSpPr/>
          <p:nvPr/>
        </p:nvSpPr>
        <p:spPr>
          <a:xfrm rot="5400000">
            <a:off x="7048080" y="2628360"/>
            <a:ext cx="228600" cy="3048120"/>
          </a:xfrm>
          <a:custGeom>
            <a:avLst/>
            <a:gdLst>
              <a:gd name="textAreaLeft" fmla="*/ 0 w 228600"/>
              <a:gd name="textAreaRight" fmla="*/ 8244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37"/>
          <p:cNvSpPr/>
          <p:nvPr/>
        </p:nvSpPr>
        <p:spPr>
          <a:xfrm>
            <a:off x="5410080" y="4191120"/>
            <a:ext cx="838440" cy="83808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38"/>
          <p:cNvSpPr/>
          <p:nvPr/>
        </p:nvSpPr>
        <p:spPr>
          <a:xfrm>
            <a:off x="7848720" y="4191120"/>
            <a:ext cx="0" cy="76176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9"/>
          <p:cNvSpPr/>
          <p:nvPr/>
        </p:nvSpPr>
        <p:spPr>
          <a:xfrm>
            <a:off x="5410080" y="5105520"/>
            <a:ext cx="3429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822d"/>
                </a:solidFill>
                <a:latin typeface="Times New Roman"/>
              </a:rPr>
              <a:t>Ostatak mašinske riječi obično na neki način definiše operande (to su podaci nad kojima se vrše operacije</a:t>
            </a:r>
            <a:r>
              <a:rPr b="0" lang="en-US" sz="1600" spc="-1" strike="noStrike">
                <a:solidFill>
                  <a:srgbClr val="ff822d"/>
                </a:solidFill>
                <a:latin typeface="Times New Roman"/>
              </a:rPr>
              <a:t>;</a:t>
            </a:r>
            <a:r>
              <a:rPr b="0" lang="sl-SI" sz="1600" spc="-1" strike="noStrike">
                <a:solidFill>
                  <a:srgbClr val="ff822d"/>
                </a:solidFill>
                <a:latin typeface="Times New Roman"/>
              </a:rPr>
              <a:t> kod sabiranja to mogu da budu a+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0"/>
          <p:cNvSpPr/>
          <p:nvPr/>
        </p:nvSpPr>
        <p:spPr>
          <a:xfrm>
            <a:off x="304920" y="6248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3300"/>
                </a:solidFill>
                <a:latin typeface="Times New Roman"/>
              </a:rPr>
              <a:t>!!!!Operandi i operacije će biti razmatrani danas na časovima vjež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tru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principu se mogu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zvršavati tri tipa instrukci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3+5 (operacije nad konstantama kada su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perandi instrukcije ono nad čime se operacija vrš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a+b (operacije nad promjenljivim kad su operandi instrukcije memorijske lokacije na kojima se nalaze operandi operacije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*a+*b (operacije putem pokazivača kada su operandi instrukcije memorijske lokacije na kojima se nalazi adresa na kojima se nalaze promjenljive nad kojima treba izvršiti operaciju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l-SI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1028"/>
          <p:cNvSpPr/>
          <p:nvPr/>
        </p:nvSpPr>
        <p:spPr>
          <a:xfrm>
            <a:off x="1295280" y="5486400"/>
            <a:ext cx="2667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29"/>
          <p:cNvSpPr/>
          <p:nvPr/>
        </p:nvSpPr>
        <p:spPr>
          <a:xfrm>
            <a:off x="304920" y="54100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imes New Roman"/>
              </a:rPr>
              <a:t>instrukc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030"/>
          <p:cNvSpPr/>
          <p:nvPr/>
        </p:nvSpPr>
        <p:spPr>
          <a:xfrm>
            <a:off x="4038480" y="5562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33"/>
          <p:cNvSpPr/>
          <p:nvPr/>
        </p:nvSpPr>
        <p:spPr>
          <a:xfrm>
            <a:off x="4800600" y="5302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imes New Roman"/>
              </a:rPr>
              <a:t>1. slučaj saberi drugi i treći dio instruk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034"/>
          <p:cNvSpPr/>
          <p:nvPr/>
        </p:nvSpPr>
        <p:spPr>
          <a:xfrm>
            <a:off x="213372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035"/>
          <p:cNvSpPr/>
          <p:nvPr/>
        </p:nvSpPr>
        <p:spPr>
          <a:xfrm>
            <a:off x="2971800" y="5486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036"/>
          <p:cNvSpPr/>
          <p:nvPr/>
        </p:nvSpPr>
        <p:spPr>
          <a:xfrm flipH="1">
            <a:off x="1676520" y="571500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037"/>
          <p:cNvSpPr/>
          <p:nvPr/>
        </p:nvSpPr>
        <p:spPr>
          <a:xfrm flipH="1">
            <a:off x="1371240" y="5715000"/>
            <a:ext cx="20574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038"/>
          <p:cNvSpPr/>
          <p:nvPr/>
        </p:nvSpPr>
        <p:spPr>
          <a:xfrm>
            <a:off x="990720" y="5943600"/>
            <a:ext cx="266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39"/>
          <p:cNvSpPr/>
          <p:nvPr/>
        </p:nvSpPr>
        <p:spPr>
          <a:xfrm>
            <a:off x="609480" y="6400800"/>
            <a:ext cx="2667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040"/>
          <p:cNvSpPr/>
          <p:nvPr/>
        </p:nvSpPr>
        <p:spPr>
          <a:xfrm>
            <a:off x="685800" y="59119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041"/>
          <p:cNvSpPr/>
          <p:nvPr/>
        </p:nvSpPr>
        <p:spPr>
          <a:xfrm>
            <a:off x="304920" y="6369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1042"/>
          <p:cNvSpPr/>
          <p:nvPr/>
        </p:nvSpPr>
        <p:spPr>
          <a:xfrm>
            <a:off x="3657600" y="5911920"/>
            <a:ext cx="152280" cy="793800"/>
          </a:xfrm>
          <a:custGeom>
            <a:avLst/>
            <a:gdLst>
              <a:gd name="textAreaLeft" fmla="*/ 0 w 152280"/>
              <a:gd name="textAreaRight" fmla="*/ 55080 w 152280"/>
              <a:gd name="textAreaTop" fmla="*/ 20520 h 793800"/>
              <a:gd name="textAreaBottom" fmla="*/ 773280 h 79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043"/>
          <p:cNvSpPr/>
          <p:nvPr/>
        </p:nvSpPr>
        <p:spPr>
          <a:xfrm>
            <a:off x="3962520" y="6172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63b1"/>
                </a:solidFill>
                <a:latin typeface="Times New Roman"/>
              </a:rPr>
              <a:t>2. slučaj a+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44"/>
          <p:cNvSpPr/>
          <p:nvPr/>
        </p:nvSpPr>
        <p:spPr>
          <a:xfrm>
            <a:off x="3352680" y="4876920"/>
            <a:ext cx="2057400" cy="1218960"/>
          </a:xfrm>
          <a:prstGeom prst="line">
            <a:avLst/>
          </a:prstGeom>
          <a:ln w="9360">
            <a:solidFill>
              <a:srgbClr val="ff822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45"/>
          <p:cNvSpPr/>
          <p:nvPr/>
        </p:nvSpPr>
        <p:spPr>
          <a:xfrm>
            <a:off x="5562720" y="594360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822d"/>
                </a:solidFill>
                <a:latin typeface="Times New Roman"/>
              </a:rPr>
              <a:t>ovi se na</a:t>
            </a:r>
            <a:r>
              <a:rPr b="0" lang="sl-SI" sz="1600" spc="-1" strike="noStrike">
                <a:solidFill>
                  <a:srgbClr val="ff822d"/>
                </a:solidFill>
                <a:latin typeface="Times New Roman"/>
              </a:rPr>
              <a:t>čini mogu i kombinova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Početak “programiranja”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Na prvim računarima “programiranje” se sprovodilo fizičkim lemljenjem pojedinih elektronskih djelova (projekat Enia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Još je interesantnije da je prvi programski jezik razvio Konrad Zuse (Njemačka) 1946. godine (programski jezik se zvao Plankalkul po poznatom naučniku Plank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ed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ći razvijeni programski jezik 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bio je Short-code 1949-te god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ahoma"/>
              </a:rPr>
              <a:t>Faze razvoja programskih jezi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I Faza: oko 1950.t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razvoj prvih programskih jezika) Stvoreni su jezici: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Plankal</a:t>
            </a:r>
            <a:r>
              <a:rPr b="0" lang="en-US" sz="2400" spc="-1" strike="noStrike">
                <a:solidFill>
                  <a:srgbClr val="ff63b1"/>
                </a:solidFill>
                <a:latin typeface="Tahoma"/>
              </a:rPr>
              <a:t>k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ul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Shortcod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MATH-MATIC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Autocod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itd. Uglavnom nijesu zaživje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cc00"/>
                </a:solidFill>
                <a:latin typeface="Tahoma"/>
              </a:rPr>
              <a:t>II Faza: Oko 1960.te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razvoj teorije i prvih kval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etnih programskih jezika). Stvoreni su jezici: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Fortran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FORmula TRANslation system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ALGOL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ALGOrithm Language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LISP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LISt Programming – za podršku vještačkoj inteligenciji), </a:t>
            </a:r>
            <a:r>
              <a:rPr b="0" lang="sl-SI" sz="2400" spc="-1" strike="noStrike">
                <a:solidFill>
                  <a:srgbClr val="ff63b1"/>
                </a:solidFill>
                <a:latin typeface="Tahoma"/>
              </a:rPr>
              <a:t>COBOL</a:t>
            </a:r>
            <a:r>
              <a:rPr b="0" lang="sl-SI" sz="2400" spc="-1" strike="noStrike">
                <a:solidFill>
                  <a:srgbClr val="000000"/>
                </a:solidFill>
                <a:latin typeface="Tahoma"/>
              </a:rPr>
              <a:t> (COmmon Business Oriented Language). Utiču na razvoj programiranja do današnjih dana, neki od njih su bili komplikovani. Ovo je i period početka programerske eduka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5-12-02T13:19:19Z</dcterms:modified>
  <cp:revision>129</cp:revision>
  <dc:subject/>
  <dc:title>Uvod u programiranje</dc:title>
</cp:coreProperties>
</file>