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7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8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9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ACD5-5ECA-4EE1-B477-5EB0E251B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B80-E6BE-4011-A7D6-59BED391B37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291D-BBA6-4A4F-97A9-302AECF8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0AEF-3260-42B3-BAB8-23FC71D3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33FA-BC34-4B6A-BECC-A4A3E7F2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2CEE-5B03-44CD-ABC1-3BA259BB1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46F1-88DD-4A88-8F29-2E302569B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2849-E782-483E-A558-F4AEF4E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7F04-1577-4E46-A672-0DAFE86F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540-A740-4F79-BDB1-CB75DA95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232-1620-4545-A4B7-097CE01A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3305-F80A-444E-86BC-0DF642F0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17D2-23D4-46C2-8E39-C47E6328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D7C-7308-4335-8347-98E1394E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DA99-2EA2-4DF0-802C-C7C4BBB9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47ED-94B9-4F96-A7A7-5EF5991A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FE5C-6E2D-4316-805A-89721A97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BE68-E219-4272-BA90-B3FB0542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D7D10-683A-4014-87F0-EA9C9838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4E32-4FD7-403E-B701-C60AA793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92F-E430-4E53-99D3-4176F5E6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D74A-2995-46E7-BAEE-6A87D93F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0C9C-4725-40DA-A4E6-2EDEB2B2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75A-7888-4938-BB5D-4DAA38E7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B25E-059A-475B-ACE2-48189C52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B23-605F-4A53-996C-17E0A761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FCF8-9880-4E49-9B94-BF2B81367E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165F-4A0F-480B-9EA4-33F06D88C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jektno-orijentisano programir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OP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8160" y="2133360"/>
            <a:ext cx="9068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OP postoj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d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je S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stru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nije bilo prihva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 zbog složeno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strup je iskoristio postojeći strukturni kompajler i dopunio ga OO koncept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taj način 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io sistem koji omogućava pisanje programa na klasičan način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arnim/strukturn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gramiranjem), što je pogodno za manje programe, i OO konceptom koji je pogodan za veće projek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a verzija ovog kompajlera se zval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“C sa klasama”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se danas naziva 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C++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međuvr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u su formirani i drugi moćni OO jezici (Java, C#, Pyth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Što je to problem kod struktur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ipove podataka smo do sada dijelili n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lementarne (npr. cijeli broj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ložene (npr. struktur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to ima cijeli bro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Memoriju koju zauzim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cije koje se nad njime mogu izvodit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Domen (oblast definisanosti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it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to od ovoga nema struktur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peracije nijesu dio tip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već su funkc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koje korisnik kreira. 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TO JE PROBLEM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Što je to klasa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je tip pod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 koji je sličan struktur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Sastoji se od podataka članov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li ima predviđene operacije koje se izvode nad tipom i koje su implementirane u okviru same kla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klaracija klase u našem pseudo kodu: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LASS RADNIK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IM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10]:CHA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PREZIME[10]:CHA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TAZ:INTEGE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DAJSTAZ():INTEGER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POSTAVISTAZ(A:INTEGER)</a:t>
            </a:r>
            <a:br>
              <a:rPr sz="2400"/>
            </a:b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276720" y="4508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181480" y="434340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733920" y="426708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omjenljive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č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nice klase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(zovemo ih i atributi klase ili osobine klas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>
            <a:off x="3809880" y="5638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952880" y="51814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Funkcije deklarisane unutar klase (zovemo i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h i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funkcije članice ili metodi</a:t>
            </a: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 ili operacije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228600" y="2057400"/>
            <a:ext cx="3581280" cy="283824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CLASS RADNIK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IME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[10]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PREZIME[10]:CHA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TAZ:INT</a:t>
            </a: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DAJSTAZ():INTEGER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POSTAVISTAZ(A:INTEGER)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ENDCLA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03848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4876920" y="205740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Grafička oznaka koja će biti korišćena u algoritamskoj shemi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038480" y="3429000"/>
            <a:ext cx="4800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Podaci članovi klase (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tributi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) mogu biti svi elementarni tipovi podataka, nizovi, stringovi i matrice (sve dimenzije im moraju biti zadate), pokazivači (mi ih nećemo koristiti), podaci strukturnog tipa, podaci klasnog tipa (ne mogu podaci istog klasnog tipa, ali mogu pokazivači na njih)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ja sadrži klas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jer klase koja sadrži klasu (tzv. ugnježdena klasa) može bi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33520" y="2895480"/>
            <a:ext cx="2438280" cy="1923480"/>
          </a:xfrm>
          <a:prstGeom prst="rect">
            <a:avLst/>
          </a:prstGeom>
          <a:noFill/>
          <a:ln w="93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CLASS POGO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ARB[50]:RADNIK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....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SPLATAPLATA()</a:t>
            </a:r>
            <a:br>
              <a:rPr sz="2000"/>
            </a:b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...</a:t>
            </a:r>
            <a:br>
              <a:rPr sz="2000"/>
            </a:b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ENDCLAS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352680" y="28195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Klasa, ponovo kao i struktura, predstavlja mustru po kojoj se kreiraju promjenljive. Preci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znije rečeno, klasa ne zauzima memoriju, ali promjenljive klasnog tipa zauzimaj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04920" y="5029200"/>
            <a:ext cx="8381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Promjenljive klasnog tipa se nazivaju objektima. Odatle i naziv objektno-or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jentisano programiranj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Objekti zauzimaju memoriju koja jednaka je memoriji njihovih promjenljivih (memoriju objekata ne čine funkcije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azlike strukture i kl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veća razlika strukture i klase je ta što se promjenljivim članicama strukture može pristupati spolja direktno 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=JOCO.STAZ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se ne može pristupati promjenljivim članicama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mjenlj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članicama kl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ogu da pristupaju samo funkcije članice klase (ako se drugačije ne naglasi). Funkcije članice su po pravilu vi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ive spo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ovaj način su “ubačene u kapsulu” -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enkapsuliran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enkapsulaci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jedan od osnovnih OO koncepata) informacije o unutrašnjoj organizaciji objekta (odnosno klas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azlike strukture i kl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320" y="228564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nkapsulacija, dalje, znači da drugi djelovi koda komuniciraju sa promjenljivim članicama klase samo preko njenih meto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ovo znači da promjena u unutrašnjoj organizaciji klase znači samo izmjenu u metodima, a ne i van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k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ncept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nkapsulaci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bezbjeđuje ograničeno prepravljanje koda, lokalizovano samo na metode klase (naravno, pod uslovom da je ono što mi u kodu inoviramo sama klas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mjenljive klasnog tipa mogu biti argumenti funkci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mogu biti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jihovi rezultati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380520" y="2437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kle, dozvoljena je funkcija sa zaglavljem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UN(A:INTEGER,B:RADNIK):RAD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gdje 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rav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drazum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no da je 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lasni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strukture se ne može napisat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=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dje s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mjenljive strukturnog ti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kod klase ovo moguće. Prilikom ove operacije vrši se kopiranje primjeraka objekata klase podatak po podata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že se zaključiti da je klasa potpuni tip podata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struktura donekle nepotpun tip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azlike strukture i kl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etodi kod kl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22860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što “spoljni svijet” ne može da pristupi direktno onda je to moguće samo preko metoda (funkcija članic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 funkcija koja postavlja staž radniku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POSTAVISTAZ(A: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se ova funkcija realizuj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govor: Kao i svaka druga funkcija sa dvije razli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Funkcija članica se realizuj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dna za sve objekte date klase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ko se funkcija članica pozove za konkretni objekat onda ona vidi podatke članove datog objek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meto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3520" y="2286000"/>
            <a:ext cx="4572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STAVISTAZ(A:INTEGER)   </a:t>
            </a:r>
            <a:r>
              <a:rPr b="0" lang="sr-Latn-CS" sz="1600" spc="-1" strike="noStrike">
                <a:solidFill>
                  <a:srgbClr val="ff3300"/>
                </a:solidFill>
                <a:latin typeface="Times New Roman"/>
              </a:rPr>
              <a:t>FROM RADNI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>
            <a:off x="609480" y="230040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5029200" y="23004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>
            <a:off x="487692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6095880" y="21337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aglašavamo iz koje klase je dati metod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26668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1981080" y="29718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cc00"/>
                </a:solidFill>
                <a:latin typeface="Times New Roman"/>
              </a:rPr>
              <a:t>STAZ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=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>
            <a:off x="2514600" y="3276720"/>
            <a:ext cx="2666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257800" y="3505320"/>
            <a:ext cx="32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Staž se odnosi na konkretni objekat za koji je funkcija pozvan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04920" y="411480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Npr. dio glavnog programa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MARKO,JANKO: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MARKO.POSTAVISTAZ(7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JANKO.POSTAVISTAZ(13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6"/>
          <p:cNvSpPr/>
          <p:nvPr/>
        </p:nvSpPr>
        <p:spPr>
          <a:xfrm>
            <a:off x="4038480" y="5105520"/>
            <a:ext cx="1143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4114800" y="5410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5410080" y="4876920"/>
            <a:ext cx="327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Na osnovu navedenog objekta za koji se poziva funkcija članica se određuje kojem će se objektu postaviti staž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228600" y="57150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Funkcije koje postavljaju vrijednosti objektima nazivaju se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mutatori!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anje u programiranju sredinom 80-tih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redinom 80-tih se razvijaj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i veliki softverski pake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i paketi su prikazali snagu programiranja “običnim” korisnic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htjevi “običnih korisnika” postajali su sve već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irme su morale da proizvode nove i nove verzije paketa u kratkom vreme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mo izdavanje novih poboljšanih verzija u kratkom vremenu je moglo da produkuje prof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meto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jedna funkcija zna kojem objektu da promjeni podatak član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gramska relizacija ovoga je relativ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ložena. Naime, OO jezici uvode jedan implicitni argument koji ukazuje na objekat za koji se funkcija poziva. Mi ga u našem pseudo kodu nećemo korist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čitanja stanja objekta koriste se funkcije koje ne mijenjaju stanje objekta. Nazivaju s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inspektori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343400" y="5486400"/>
            <a:ext cx="44197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cc00"/>
                </a:solidFill>
                <a:latin typeface="Times New Roman"/>
              </a:rPr>
              <a:t>CONS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DAJSTAZ():INTEGER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ROM RADNI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441972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8686800" y="5486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6553080" y="5943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5867280" y="6172200"/>
            <a:ext cx="14479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962160" y="579132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0"/>
          <p:cNvSpPr/>
          <p:nvPr/>
        </p:nvSpPr>
        <p:spPr>
          <a:xfrm>
            <a:off x="152280" y="55468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CONST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naglašava da je u pitanju inspektor koji ne mijenja podatke članove klase (ako pokuša došlo bi do greške u programu)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meto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rav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ogu se definisati i drugi metodi. Npr. metod koji sabira dva kompleksna broja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LASS 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,IM: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SABCOMP(X:COMPLEX):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ENDCLASS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ABCOMP(X:COMPLEX):COMPLEX FROM 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Z: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Z.RE=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+X.RE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Z.IM=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IM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+X.IM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RETURN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Line 4"/>
          <p:cNvSpPr/>
          <p:nvPr/>
        </p:nvSpPr>
        <p:spPr>
          <a:xfrm flipV="1">
            <a:off x="3048120" y="4419720"/>
            <a:ext cx="14475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4800600" y="41911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rgument funkci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4419720" y="31240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drugi metodi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7"/>
          <p:cNvSpPr/>
          <p:nvPr/>
        </p:nvSpPr>
        <p:spPr>
          <a:xfrm>
            <a:off x="2057400" y="609588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3886200" y="608004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tiče od objekta za koji je funkcija pozvan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metod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hodn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izgled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oma jednostavan primjer je, ipak, suštinske prir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glavnom programu pretpostav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ledeće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A,B,C: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....</a:t>
            </a:r>
            <a:r>
              <a:rPr b="0" lang="sr-Latn-CS" sz="1600" spc="-1" strike="noStrike">
                <a:solidFill>
                  <a:srgbClr val="00cc00"/>
                </a:solidFill>
                <a:latin typeface="Tahoma"/>
              </a:rPr>
              <a:t>(nared</a:t>
            </a:r>
            <a:r>
              <a:rPr b="0" lang="en-US" sz="1600" spc="-1" strike="noStrike">
                <a:solidFill>
                  <a:srgbClr val="00cc00"/>
                </a:solidFill>
                <a:latin typeface="Tahoma"/>
              </a:rPr>
              <a:t>b</a:t>
            </a:r>
            <a:r>
              <a:rPr b="0" lang="sr-Latn-CS" sz="1600" spc="-1" strike="noStrike">
                <a:solidFill>
                  <a:srgbClr val="00cc00"/>
                </a:solidFill>
                <a:latin typeface="Tahoma"/>
              </a:rPr>
              <a:t>e koje postavljaju vr</a:t>
            </a:r>
            <a:r>
              <a:rPr b="0" lang="en-US" sz="1600" spc="-1" strike="noStrike">
                <a:solidFill>
                  <a:srgbClr val="00cc00"/>
                </a:solidFill>
                <a:latin typeface="Tahoma"/>
              </a:rPr>
              <a:t>ij</a:t>
            </a:r>
            <a:r>
              <a:rPr b="0" lang="sr-Latn-CS" sz="1600" spc="-1" strike="noStrike">
                <a:solidFill>
                  <a:srgbClr val="00cc00"/>
                </a:solidFill>
                <a:latin typeface="Tahoma"/>
              </a:rPr>
              <a:t>ednosti promjenljivim A i B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=A.SABCOMP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4"/>
          <p:cNvSpPr/>
          <p:nvPr/>
        </p:nvSpPr>
        <p:spPr>
          <a:xfrm>
            <a:off x="3352680" y="426708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4343400" y="419112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Čudan zapis koji nam, međutim, završava posao sabiranja kompleksnih brojeva. 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ekvivalentno C=B.SABCOMP(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57200" y="502920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a li se u prethodnom primjeru metod mogao deklarisati kao 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CONST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onstruktor i destruk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klasa je moguće definisati poseban metod, koji se naziva konstruktor, i koji pomaže prilikom alokacije memorije za objekte klasnog tipa, a može da postavlja i neku početnu vrijedn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j metod ima ime kao i sama kla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 ako želimo da prilikom kreiranja kompleksnog broja on uzme vrijednost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(0,0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o se postiže sa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LASS 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,IM:FLOAT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OMPLEX()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2514600" y="55627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276720" y="6019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nstruktor ne može da vrati vrijednos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657600" y="480060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OMPLEX() FROM 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RE=0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IM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7"/>
          <p:cNvSpPr/>
          <p:nvPr/>
        </p:nvSpPr>
        <p:spPr>
          <a:xfrm flipH="1">
            <a:off x="2133720" y="4648320"/>
            <a:ext cx="259056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108000" y="6019920"/>
            <a:ext cx="354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Ovo se naziva default (podrazumjevana) vrijednos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onstruktor i destruk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mo kreirali konstruktor za klasu kompleksnih brojeva tada poziv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A:COMPLEX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avlja vrijednost objekta na 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(0,0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nstruktor može da ima argumente, a može da postoji i više konstruktora u sistemu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!?!?!?!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pr.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LASS 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,IM:FLOAT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OMPLEX(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OMPLEX(A:FLOAT)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Line 4"/>
          <p:cNvSpPr/>
          <p:nvPr/>
        </p:nvSpPr>
        <p:spPr>
          <a:xfrm flipV="1">
            <a:off x="2133720" y="4952520"/>
            <a:ext cx="2666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800600" y="472428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onstruktor iz prethodnog primjer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6"/>
          <p:cNvSpPr/>
          <p:nvPr/>
        </p:nvSpPr>
        <p:spPr>
          <a:xfrm>
            <a:off x="2627280" y="5589720"/>
            <a:ext cx="95400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581280" y="5410080"/>
            <a:ext cx="53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OMPLEX(A:FLOAT) FROM 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RE=A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IM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opljeni konstruk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se definiše više konstrukora mi tu situaciju nazivamo preklapanjem konstruktora. Kako to izgleda u glavnom program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:COMPLEX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B(2):CO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X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kon ovih naredb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ma i realni i imaginarni dio jednak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ma realni dio jednak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ekim jezicima je dozvoljen eksplicitni poziv konstruktora dok u drugim je to moguće samo za privremene objekte (što nećemo objašnjavati)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: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C.COMPLEX(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opljeni konstruk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se vrši tumačenje poziva kod preklopljenog konstruktor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ncip je dosta jednostavan. Pogledaju se argumenti konstruktora, a zatim pozove konstruktor koji najbolje odgovara argumentima za koje je pozvan. Naravno, sve se može iskomplikovati po želj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ćem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zadržati na jednostavnim 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ajevi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struktor je specijalna funkcija članica koja pomaže pri dealokaciji (uništavanju) objekata klas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kodu je nepotrebna. Za njom se potreba javlja kod programa koji su bazirani na pokazivač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opljeni konstrukto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klopljeni konstruktor igra još jednu važnu ulogu kod klasnih metoda. Igra ulog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mplicitne konverzije podata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jmo poziv funkcije za sabiranje kompleksnih brojeva oblika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A,B: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B=A.SABCOMP(2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268360" y="47973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179280" y="4941720"/>
            <a:ext cx="896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unkcija </a:t>
            </a:r>
            <a:r>
              <a:rPr b="1" lang="sr-Latn-CS" sz="2000" spc="-1" strike="noStrike">
                <a:solidFill>
                  <a:srgbClr val="009900"/>
                </a:solidFill>
                <a:latin typeface="Times New Roman"/>
              </a:rPr>
              <a:t>SABCOMP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očekuje argument koji j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mpleksni broj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ali pošto ga nema poziv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aj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konstruktor koji od realnog broja pravi kompleksni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Konstuktor sa jednim argumentom, dakle, koristi se za konverziju u klasni tip podatak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Što se dešava u slučaju poziva: </a:t>
            </a:r>
            <a:r>
              <a:rPr b="1" lang="sr-Latn-CS" sz="2000" spc="-1" strike="noStrike">
                <a:solidFill>
                  <a:srgbClr val="00cc00"/>
                </a:solidFill>
                <a:latin typeface="Tahoma"/>
              </a:rPr>
              <a:t>B=A.SABCOMP(2)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klopljeni metod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467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OOP-a konstruktor nije jedina funkcija članica klase koja se može preklopi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 posmatrajmo klasu RADNIK i neka su kod nje definisana dva metoda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ZURIRAJSTAZ()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ZURIRAJSTAZ(A:INTEG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njihova realizacija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AZURIRAJSTAZ() FROM RADNIK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TAZ=STAZ+1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ZURIRAJSTAZ(A:INTEGER) FROM 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STAZ=STAZ+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4"/>
          <p:cNvSpPr/>
          <p:nvPr/>
        </p:nvSpPr>
        <p:spPr>
          <a:xfrm flipV="1">
            <a:off x="5386320" y="4005000"/>
            <a:ext cx="9144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"/>
          <p:cNvSpPr/>
          <p:nvPr/>
        </p:nvSpPr>
        <p:spPr>
          <a:xfrm flipV="1">
            <a:off x="5486400" y="4343040"/>
            <a:ext cx="7621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6400800" y="3581280"/>
            <a:ext cx="2743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smisao metoda bi mogao biti da uveća radnicima na početku nove kalendarske godine staž za 1 ili da spoji staž sa stažom provedenim u drugoj firm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idljiv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 sada smo pretpostavljali da su funkcije članice klase vide spolja, a da se podaci članovi ne vide. Ovo se može promjeniti kod klasa dodavanjem odgovarajućeg prefiksa ispred podataka i funkcija čla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ks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ćemo postavljati ispred podataka članova za koje želimo da uspostavimo vidljivost spol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ćemo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–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stavljati ispred funkcija članica koje želimo da zaštitimo od vidljivosti spo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no što je vidljivo spolja nazivam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avn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članove klase nevidljive spolja nazivam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ivatn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Prog. paketi u strukturnom program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685800" y="243828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609480" y="342900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1066680" y="4952880"/>
            <a:ext cx="14479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457200" y="4267080"/>
            <a:ext cx="1447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 flipV="1">
            <a:off x="2057040" y="55627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914400" y="6035760"/>
            <a:ext cx="40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Tipovi podataka različite složenosti najčešće strukturnog tip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2590920" y="1981080"/>
            <a:ext cx="3276360" cy="68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12"/>
          <p:cNvSpPr/>
          <p:nvPr/>
        </p:nvSpPr>
        <p:spPr>
          <a:xfrm>
            <a:off x="2666880" y="3124080"/>
            <a:ext cx="2667240" cy="8384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14"/>
          <p:cNvSpPr/>
          <p:nvPr/>
        </p:nvSpPr>
        <p:spPr>
          <a:xfrm>
            <a:off x="5867280" y="2438280"/>
            <a:ext cx="327672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15"/>
          <p:cNvSpPr/>
          <p:nvPr/>
        </p:nvSpPr>
        <p:spPr>
          <a:xfrm>
            <a:off x="3581280" y="4114800"/>
            <a:ext cx="3276720" cy="1143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 flipH="1" flipV="1">
            <a:off x="7010280" y="3809520"/>
            <a:ext cx="45720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5486400" y="556272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Programski moduli (glavni program, funkcije, skripte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8"/>
          <p:cNvSpPr/>
          <p:nvPr/>
        </p:nvSpPr>
        <p:spPr>
          <a:xfrm flipH="1">
            <a:off x="4114800" y="2666880"/>
            <a:ext cx="380880" cy="45720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9"/>
          <p:cNvSpPr/>
          <p:nvPr/>
        </p:nvSpPr>
        <p:spPr>
          <a:xfrm flipV="1">
            <a:off x="5334120" y="3276720"/>
            <a:ext cx="685800" cy="30456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4724280" y="3886200"/>
            <a:ext cx="381240" cy="22860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4952880" y="2590920"/>
            <a:ext cx="990720" cy="160020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22"/>
          <p:cNvSpPr/>
          <p:nvPr/>
        </p:nvSpPr>
        <p:spPr>
          <a:xfrm flipH="1">
            <a:off x="6019560" y="3429000"/>
            <a:ext cx="533160" cy="76212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23"/>
          <p:cNvSpPr/>
          <p:nvPr/>
        </p:nvSpPr>
        <p:spPr>
          <a:xfrm>
            <a:off x="5791320" y="2438280"/>
            <a:ext cx="380880" cy="228600"/>
          </a:xfrm>
          <a:prstGeom prst="line">
            <a:avLst/>
          </a:prstGeom>
          <a:ln w="38160">
            <a:solidFill>
              <a:srgbClr val="ff63b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24"/>
          <p:cNvSpPr/>
          <p:nvPr/>
        </p:nvSpPr>
        <p:spPr>
          <a:xfrm flipV="1">
            <a:off x="2133720" y="2514240"/>
            <a:ext cx="457200" cy="2286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5"/>
          <p:cNvSpPr/>
          <p:nvPr/>
        </p:nvSpPr>
        <p:spPr>
          <a:xfrm>
            <a:off x="2209680" y="2743200"/>
            <a:ext cx="3657600" cy="2286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26"/>
          <p:cNvSpPr/>
          <p:nvPr/>
        </p:nvSpPr>
        <p:spPr>
          <a:xfrm>
            <a:off x="2133720" y="2819520"/>
            <a:ext cx="914400" cy="38088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27"/>
          <p:cNvSpPr/>
          <p:nvPr/>
        </p:nvSpPr>
        <p:spPr>
          <a:xfrm flipV="1">
            <a:off x="2057400" y="2514240"/>
            <a:ext cx="914400" cy="11430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28"/>
          <p:cNvSpPr/>
          <p:nvPr/>
        </p:nvSpPr>
        <p:spPr>
          <a:xfrm flipV="1">
            <a:off x="2057400" y="3657600"/>
            <a:ext cx="609480" cy="7632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29"/>
          <p:cNvSpPr/>
          <p:nvPr/>
        </p:nvSpPr>
        <p:spPr>
          <a:xfrm>
            <a:off x="2057400" y="3809880"/>
            <a:ext cx="1600200" cy="6858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1"/>
          <p:cNvSpPr/>
          <p:nvPr/>
        </p:nvSpPr>
        <p:spPr>
          <a:xfrm flipV="1">
            <a:off x="1905120" y="3809520"/>
            <a:ext cx="1066680" cy="6858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32"/>
          <p:cNvSpPr/>
          <p:nvPr/>
        </p:nvSpPr>
        <p:spPr>
          <a:xfrm>
            <a:off x="1905120" y="4572000"/>
            <a:ext cx="1676160" cy="15228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33"/>
          <p:cNvSpPr/>
          <p:nvPr/>
        </p:nvSpPr>
        <p:spPr>
          <a:xfrm flipV="1">
            <a:off x="2514600" y="3886200"/>
            <a:ext cx="762120" cy="137160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4"/>
          <p:cNvSpPr/>
          <p:nvPr/>
        </p:nvSpPr>
        <p:spPr>
          <a:xfrm flipV="1">
            <a:off x="2514600" y="4952520"/>
            <a:ext cx="1295280" cy="304920"/>
          </a:xfrm>
          <a:prstGeom prst="line">
            <a:avLst/>
          </a:prstGeom>
          <a:ln w="38160">
            <a:solidFill>
              <a:srgbClr val="66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idljivost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LASS PRIMJER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+B:FLO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+C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3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-FUN(A:INTEGER):PRIMJE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CONST FUN1():INTEGE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IMJER()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-PRIMJER(A:INTEGER)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4"/>
          <p:cNvSpPr/>
          <p:nvPr/>
        </p:nvSpPr>
        <p:spPr>
          <a:xfrm flipV="1">
            <a:off x="3124080" y="2819160"/>
            <a:ext cx="2057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257800" y="243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da s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ože pristupati spolja promjenljivim B i 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6"/>
          <p:cNvSpPr/>
          <p:nvPr/>
        </p:nvSpPr>
        <p:spPr>
          <a:xfrm flipV="1">
            <a:off x="4114800" y="4648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4952880" y="388620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FUN i druga varijanta PRIMJER sada nisu vidljive spolj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ali im mogu pristupati drugi metodi iz ove klas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4724280" y="39625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onverz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idjeli smo da se konstruktor koji ima argumente može iskoristiti za konverziju cijelog broja u objekat klas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 bi tip podataka bio potpun treba da se omogući da konverzija bude obostra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dnosno da se može konvertovati i objekat klasnog tipa u objekat osnov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 funkcij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INTEGER(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od objekta klasnog tipa vraća cijeli broj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LASS COMPLEX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RE,IM:</a:t>
            </a:r>
            <a:r>
              <a:rPr b="0" lang="en-US" sz="2400" spc="-1" strike="noStrike">
                <a:solidFill>
                  <a:srgbClr val="00cc00"/>
                </a:solidFill>
                <a:latin typeface="Tahoma"/>
              </a:rPr>
              <a:t>FLOAT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...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INTEGER(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343400" y="487692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imes New Roman"/>
              </a:rPr>
              <a:t>INTEGER</a:t>
            </a: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() FROM COMPLEX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RETURN 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 flipH="1">
            <a:off x="5562360" y="5638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3809880" y="6095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267080" y="601992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unkcija konvertuje kompleksni broj u cijeli broj, ali preko FLOAT-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3429000" y="51055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22096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T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ip koji se vraća naglašava se imenom funkcije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jateljske funkcije i klas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e se kreiraju da modeluju neki element problem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mpleksan broj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kto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del mašin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del Windows prozora,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esto u programskim problemima više srodnih klasa modeluje različite, ali srodne elemente probl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e klase čine tzv.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društvo saradni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jateljske klase i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jmo model koji predstavlja opis rada neke maši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mamo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SI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u društvu saradnika imamo još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PERA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DRZAVAN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PERA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čigledno ne mora da zna unutrašnja stanja klase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MASIN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ć samo što klasa rad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las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DRZAVAN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eđut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reba ponekad da ”zaviri” i u unutrašnja stanja kla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SI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dan način je učiniti promjenljive članice klase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MASI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idljivim spo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b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eđut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grozil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nkapsulacij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jateljske klase i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 bi se narušavanje enkapsulacije izbjeglo u društvu saradnika uveden je koncept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prijateljskih funkcij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 klas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jmo primjer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LASS EXAMPLE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B():INTEGER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RIEND FUN1(C:INTEGER)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FRIEND FUN2(X:CHAR) FROM DRUGAKLASA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FRIEND TRECAKLAS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4"/>
          <p:cNvSpPr/>
          <p:nvPr/>
        </p:nvSpPr>
        <p:spPr>
          <a:xfrm flipV="1">
            <a:off x="3733920" y="35812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4419720" y="304812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prijateljska funkcija koja nije članica nijedn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6"/>
          <p:cNvSpPr/>
          <p:nvPr/>
        </p:nvSpPr>
        <p:spPr>
          <a:xfrm flipV="1">
            <a:off x="4759200" y="433548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5334120" y="39625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prijateljska funkcija koja je članica druge klas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8"/>
          <p:cNvSpPr/>
          <p:nvPr/>
        </p:nvSpPr>
        <p:spPr>
          <a:xfrm>
            <a:off x="3638520" y="554364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4267080" y="57913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4343400" y="579132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rijateljska klas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jateljske klase i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da je dozvoljeno da sve deklarisane prijateljske funkcije i klase pristupaju promjenljivoj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je privatna članica klas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klasa deklarisana kao prijateljska to znači da su sve funkcije članice te klase prijatelji datoj klas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Da li prijateljstvo ugrožava enkapsulaciju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. Prijateljstvo kontroliše sama klasa i ne može se “oteti” van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klasa B prijatelj klasi A da li je klasa A prijatelj klasi B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se to eventualno ne naglasi u samoj klas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atički podaci članov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 standardnih podataka članova u klasi se mogu deklarisati statički podaci članov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i podaci članovi se najavljuju sa ključnom riječ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sp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j podatak član je zajednički za čitavu kla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dnosno postoji jedan za sve objekte k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e i svi objekti ga mogu mijenjati 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(zove se i zajednički član klase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m podatku se mora postaviti vrijednost na početku (mora se inicijalizova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j član postoji prije svih objek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la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jer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klase sa statičkim člano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CLA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A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STATIC B(0)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() FROM </a:t>
            </a: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B=B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4"/>
          <p:cNvSpPr/>
          <p:nvPr/>
        </p:nvSpPr>
        <p:spPr>
          <a:xfrm flipV="1">
            <a:off x="2057400" y="266688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657600" y="2286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početna vrijednost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129528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4648320" y="35053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konstruk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"/>
          <p:cNvSpPr/>
          <p:nvPr/>
        </p:nvSpPr>
        <p:spPr>
          <a:xfrm>
            <a:off x="1143000" y="426708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4495680" y="41148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još dosta toga!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0"/>
          <p:cNvSpPr/>
          <p:nvPr/>
        </p:nvSpPr>
        <p:spPr>
          <a:xfrm flipV="1">
            <a:off x="2057400" y="5257800"/>
            <a:ext cx="3124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5257800" y="47242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ealizacija konstrukt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Što konstruktor r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klase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alizovaćemo djelove klase kompleksnih brojeva na osnovu znanja kojeg imamo o kompleksnim brojevima i znanja o klas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nekoliko slajdova ćemo samo deklarisati klas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zatim ćemo na jednom ilustrativnom primjeru na narednom času demonstrirati osnovne operacije vezane za o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ježbu pokušajte da na osnovu ovoga kreir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la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EKTO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će se sastojati od dva podatka člana (dužine niza i vektora cijelih brojeva od maksimalno 100 članov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LASS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RE,IM: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STATIC BROJCOMPL(0)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OMPL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OMPLEX(A:FLO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COMPLEX(A: FLOAT,B: FLO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8000"/>
                </a:solidFill>
                <a:latin typeface="Tahoma"/>
              </a:rPr>
              <a:t>POSTAVI_REAL(X:FLO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8000"/>
                </a:solidFill>
                <a:latin typeface="Tahoma"/>
              </a:rPr>
              <a:t>POSTAVI_IMAG(X:FLO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AJ_REAL():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CONST DAJ_IMAG():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4"/>
          <p:cNvSpPr/>
          <p:nvPr/>
        </p:nvSpPr>
        <p:spPr>
          <a:xfrm flipV="1">
            <a:off x="2819520" y="2666880"/>
            <a:ext cx="2361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562720" y="236232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odaci članov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"/>
          <p:cNvSpPr/>
          <p:nvPr/>
        </p:nvSpPr>
        <p:spPr>
          <a:xfrm>
            <a:off x="51814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5791320" y="2971800"/>
            <a:ext cx="304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822d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ff822d"/>
                </a:solidFill>
                <a:latin typeface="Times New Roman"/>
              </a:rPr>
              <a:t>tatički podatak član</a:t>
            </a:r>
            <a:br>
              <a:rPr sz="2400"/>
            </a:br>
            <a:r>
              <a:rPr b="1" lang="sr-Latn-CS" sz="2400" spc="-1" strike="noStrike">
                <a:solidFill>
                  <a:srgbClr val="ff822d"/>
                </a:solidFill>
                <a:latin typeface="Times New Roman"/>
              </a:rPr>
              <a:t>koji broji koliko je kompleksnih broje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2895480" y="3657600"/>
            <a:ext cx="2895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3505320" y="4114800"/>
            <a:ext cx="2286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4952880" y="46483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6095880" y="41911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onstruktor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267080" y="4952880"/>
            <a:ext cx="1143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13"/>
          <p:cNvSpPr/>
          <p:nvPr/>
        </p:nvSpPr>
        <p:spPr>
          <a:xfrm flipV="1">
            <a:off x="4343400" y="525744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5638680" y="49528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M</a:t>
            </a:r>
            <a:r>
              <a:rPr b="1" lang="sr-Latn-CS" sz="2400" spc="-1" strike="noStrike">
                <a:solidFill>
                  <a:srgbClr val="008000"/>
                </a:solidFill>
                <a:latin typeface="Times New Roman"/>
              </a:rPr>
              <a:t>utatori koji postavljaju vrijednost objekt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15"/>
          <p:cNvSpPr/>
          <p:nvPr/>
        </p:nvSpPr>
        <p:spPr>
          <a:xfrm>
            <a:off x="4267080" y="59436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16"/>
          <p:cNvSpPr/>
          <p:nvPr/>
        </p:nvSpPr>
        <p:spPr>
          <a:xfrm flipV="1">
            <a:off x="4343400" y="62481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5029200" y="60199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nspektori koji samo čitaju sta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ogramski paket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prethodnom crt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u 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ljubičast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linije označavaju međusobno pozivanje pojedinih modula 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Cija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linije označavaju da se strukture koriste u pojedinim modul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izdavanje poboljšane verzije programa zahtjeva prepravku u nekoj struktur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di simplifikacije posmatrajmo struktur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OMPLE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TYPE COMPLEX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RE,IM:FLOAT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ONST MODUO():FLO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ONST SABCOMP</a:t>
            </a: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(X:COMPLEX)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ONST ODUZMICOMPLEX(X:COMPLEX)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ONST MNOZICOMPLEX(X:COMPLEX)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CONST DIJELICOMPLEX(X:COMPLEX)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822d"/>
                </a:solidFill>
                <a:latin typeface="Tahoma"/>
              </a:rPr>
              <a:t>FLOA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END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4"/>
          <p:cNvSpPr/>
          <p:nvPr/>
        </p:nvSpPr>
        <p:spPr>
          <a:xfrm>
            <a:off x="1905120" y="457200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733920" y="4572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822d"/>
                </a:solidFill>
                <a:latin typeface="Times New Roman"/>
              </a:rPr>
              <a:t>konverzija podatak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5638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COMPLEX(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RE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IM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BROJCOMPL= BROJCOMPL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COMPLEX(A:FLOAT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RE=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IM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BROJCOMPL= BROJCOMPL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COMPLEX(A:FLOAT,B:FLOAT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RE=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IM=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BROJCOMPL= BROJCOMPL+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Line 4"/>
          <p:cNvSpPr/>
          <p:nvPr/>
        </p:nvSpPr>
        <p:spPr>
          <a:xfrm flipV="1">
            <a:off x="1981080" y="2590560"/>
            <a:ext cx="4724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5"/>
          <p:cNvSpPr/>
          <p:nvPr/>
        </p:nvSpPr>
        <p:spPr>
          <a:xfrm flipV="1">
            <a:off x="2819520" y="2743200"/>
            <a:ext cx="38098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6"/>
          <p:cNvSpPr/>
          <p:nvPr/>
        </p:nvSpPr>
        <p:spPr>
          <a:xfrm flipV="1">
            <a:off x="2819520" y="2971800"/>
            <a:ext cx="388620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6705720" y="24382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ealizacija konstruktor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POSTAVI_REAL(X:FLOAT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RE=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POSTAVI_IMAG(X:FLOAT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IM=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DAJ_REAL():FLOAT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RETURN 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DAJ_IMAG():FLOAT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RETURN 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Line 4"/>
          <p:cNvSpPr/>
          <p:nvPr/>
        </p:nvSpPr>
        <p:spPr>
          <a:xfrm>
            <a:off x="5181480" y="2666880"/>
            <a:ext cx="10670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5"/>
          <p:cNvSpPr/>
          <p:nvPr/>
        </p:nvSpPr>
        <p:spPr>
          <a:xfrm flipV="1">
            <a:off x="4876920" y="3505320"/>
            <a:ext cx="1295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6"/>
          <p:cNvSpPr/>
          <p:nvPr/>
        </p:nvSpPr>
        <p:spPr>
          <a:xfrm flipV="1">
            <a:off x="4724280" y="365724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 flipV="1">
            <a:off x="4724280" y="3809520"/>
            <a:ext cx="1447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6477120" y="312408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realizacija nekoliko jednostavnih metod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MODUO():FLOAT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RETURN 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SQRT(</a:t>
            </a:r>
            <a:r>
              <a:rPr b="0" lang="sr-Latn-CS" sz="2000" spc="-1" strike="noStrike">
                <a:solidFill>
                  <a:srgbClr val="00cc00"/>
                </a:solidFill>
                <a:latin typeface="Tahoma"/>
              </a:rPr>
              <a:t>RE*RE+IM*IM</a:t>
            </a:r>
            <a:r>
              <a:rPr b="0" lang="en-US" sz="2000" spc="-1" strike="noStrike">
                <a:solidFill>
                  <a:srgbClr val="00cc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SABCOMP</a:t>
            </a:r>
            <a:r>
              <a:rPr b="0" lang="en-US" sz="2000" spc="-1" strike="noStrike">
                <a:solidFill>
                  <a:srgbClr val="ff822d"/>
                </a:solidFill>
                <a:latin typeface="Tahoma"/>
              </a:rPr>
              <a:t>L</a:t>
            </a: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(X:COMPLEX):COMPLEX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22d"/>
                </a:solidFill>
                <a:latin typeface="Tahoma"/>
              </a:rPr>
              <a:t>Z:</a:t>
            </a: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Z.RE=RE+X.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Z.IM=IM+</a:t>
            </a:r>
            <a:r>
              <a:rPr b="0" lang="en-US" sz="2000" spc="-1" strike="noStrike">
                <a:solidFill>
                  <a:srgbClr val="ff822d"/>
                </a:solidFill>
                <a:latin typeface="Tahoma"/>
              </a:rPr>
              <a:t>X</a:t>
            </a: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.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822d"/>
                </a:solidFill>
                <a:latin typeface="Tahoma"/>
              </a:rPr>
              <a:t>RETURN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2438280" y="4191120"/>
            <a:ext cx="1752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191120" y="4572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 sličan način realizujte i funkciju z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duzima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lasa kompleksnih broje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MNOZICOMPLEX(X:COMPLEX):COMPLEX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Z:</a:t>
            </a: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Z.RE=RE*X.RE</a:t>
            </a: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-</a:t>
            </a: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IM</a:t>
            </a: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*</a:t>
            </a: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X.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Z.IM=RE*X.IM+IM*X.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63b1"/>
                </a:solidFill>
                <a:latin typeface="Tahoma"/>
              </a:rPr>
              <a:t>RETURN 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FLOAT() FROM COMPL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RETURN </a:t>
            </a: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MODUO(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4"/>
          <p:cNvSpPr/>
          <p:nvPr/>
        </p:nvSpPr>
        <p:spPr>
          <a:xfrm>
            <a:off x="3733920" y="2971800"/>
            <a:ext cx="1295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5146560" y="2560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 sličan način se može realizovati i dijeljenj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6"/>
          <p:cNvSpPr/>
          <p:nvPr/>
        </p:nvSpPr>
        <p:spPr>
          <a:xfrm flipV="1">
            <a:off x="3048120" y="4437000"/>
            <a:ext cx="13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4606920" y="35463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Nakon ovoga se objekat klase COMPLEX može koristiti gdje god se koristi realni bro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8"/>
          <p:cNvSpPr/>
          <p:nvPr/>
        </p:nvSpPr>
        <p:spPr>
          <a:xfrm flipH="1">
            <a:off x="1904760" y="51055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9"/>
          <p:cNvSpPr/>
          <p:nvPr/>
        </p:nvSpPr>
        <p:spPr>
          <a:xfrm>
            <a:off x="108000" y="5234040"/>
            <a:ext cx="892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Pozvali smo funkciju članicu klase. U većini sistema ovo se ne može provesti na ovaj način već moramo naglasiti objekat za koji se funkcija poziva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 međutim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 pošto se taj objekat u ovom slučaju ne zna unaprijed koristi s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THIS.MODUO()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 gdje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THIS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 (ovaj n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ngleskom) podrazumijeva objekat za koji je predmetna funkcija i pozvan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abosti 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ukturnog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mpleksni broj predstavlja se na sl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li se potpuno ravnopravno može prikazati i u Eulerovom obli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gdje j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3124080" y="2801880"/>
          <a:ext cx="220356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801880"/>
                    <a:ext cx="220356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5"/>
          <p:cNvGraphicFramePr/>
          <p:nvPr/>
        </p:nvGraphicFramePr>
        <p:xfrm>
          <a:off x="2438280" y="4495680"/>
          <a:ext cx="3610080" cy="84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495680"/>
                    <a:ext cx="3610080" cy="84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6"/>
          <p:cNvGraphicFramePr/>
          <p:nvPr/>
        </p:nvGraphicFramePr>
        <p:xfrm>
          <a:off x="2424240" y="5486400"/>
          <a:ext cx="4644720" cy="6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24240" y="5486400"/>
                    <a:ext cx="464472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abosti 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ukturnog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itna prepravka da kom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ksni broj prikažemo u Eulerovom umjesto u standardnom zapisu zahtjeva od nas da 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prepravimo sve funkcije za rad sa kompleksnim brojevim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funkcije koje vraćaju moduo, realni dio, imaginarni dio) ali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!!!!sve djelove programa gdje se informacija  o načinu zapisa kompleksnog broja u ranijoj verziji eksplicitno koristila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eciznije rečen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zb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jedne jedine prepravke moramo prepraviti čitav k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e 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t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oramo testirati kako radi. Vrijeme testiranja u odnosu na vrijeme kodiranja počelo je drastično da ras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abosti 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ukturnog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ošlo je do toga da su programeri sredinom 80-tih testirali prog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nijesu ih pisa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 je značilo da se ni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u mogli posvetit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s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nju novih rutina u programskim paketima u dovoljnoj mjeri i testirati ih na različitim programskim p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oblemi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kratkom vremenskom rok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, dalje, značilo da su softverski paketi krajem 80-tih bili prepuni greš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, dalje, vodilo do toga da su mnoge softverske kuće propada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 bi problem bio veći korisni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zahtjevi su i dalje rasl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abosti 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rukturnog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m je p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la činjenica da uskoro nijedna softverska kuća neće moći izbaciti na tržište iol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bug-fre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aket u pristojnom vremen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rebala je nova strategija u razvoju 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dam se da ste shvatili mane 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ukturno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gramiranja kod kojeg su moduli i tipovi podataka razdvojene cijeline, iako je sve ilustrova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jednostavnom primjeru strukture kompleksnih broje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mislite sada prepravke na složenijim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ktura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ključujući one ko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u baratali softverskim i hardverskim komponent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Nova strateg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Bjarne Stroustru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krajem 80-tih radio za AT&amp;T – Bell laboratorie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Bio je dio programerske ekipe koja je trebala da realizuje softver za telefonsku central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hvatio je da sa datim t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 datom kompajleru u datom vremenu ne može da odradi dati posa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rebao je moćniji programski alat, odnosno moćniji kompajler zasnovan na novim konceptima u programira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iješenje je našao u 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bjektno-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tisanom 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ogramiranju 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OO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5-11-25T11:28:45Z</dcterms:modified>
  <cp:revision>385</cp:revision>
  <dc:subject/>
  <dc:title>Uvod u programiranje</dc:title>
</cp:coreProperties>
</file>