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6D2-1F30-4540-BB01-378416C3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935-516F-4912-AEB9-C55B293A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BF4-F640-4A95-A0BD-F2F18FD6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504-A6A7-4AC5-8C23-805A85E2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EA6D-231C-4AE8-B114-6B634D26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6AB4-0E09-41DF-9AFA-344577DC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ED72-F54D-4853-A145-F2809449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42D9-E3E1-4953-910A-8DC4D89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2D30-3526-422E-B8FA-4A9950C0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BDE-91F7-42A8-A895-25D954F1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9DCB-93EB-44FF-AE63-E81658C5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9E8-C2A1-4FF5-B197-23A1A8E9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F940-D0CB-4E05-A9A0-F94AFEAA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CC13-503C-44F4-8D2B-E9140F60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B8A7-DD08-41F6-9050-6DFF6A80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A4B7-C317-4062-BFF0-147E1E79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14BA-BD46-4920-A596-9E9E4686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49C-103B-43F7-B0D2-5434BAE9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80C-E301-4F53-A69E-CA81EC7E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885-DFB2-45A6-B7EB-5434BB8C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4F5-A819-4436-AE1E-6D653F0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EE3-F9E7-4259-9353-76F004D8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0AC-33D3-4FCA-A072-7F9ED42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455-7F12-47E7-BA82-A7138E5E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5AF4-3931-4C18-ADA6-49CA87E3752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2AC9-BE06-4368-BAD4-236073072C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28ED-6EE5-4563-B0B4-C42102A0CCE5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03AA-60B7-4941-BF9A-34E2C1E27C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knjizara/catalog.php" TargetMode="External"/><Relationship Id="rId2" Type="http://schemas.openxmlformats.org/officeDocument/2006/relationships/hyperlink" Target="file:///knjizara/catalog.php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ocalhost/php/bookstore/index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php-txt/bookstore/admin/links.html" TargetMode="External"/><Relationship Id="rId3" Type="http://schemas.openxmlformats.org/officeDocument/2006/relationships/hyperlink" Target="file:///php-txt/bookstore/admin/display.php.txt" TargetMode="External"/><Relationship Id="rId4" Type="http://schemas.openxmlformats.org/officeDocument/2006/relationships/hyperlink" Target="file:///php-txt/bookstore/admin/display.php.txt" TargetMode="External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php-txt/bookstore/admin/insert.php.txt" TargetMode="External"/><Relationship Id="rId3" Type="http://schemas.openxmlformats.org/officeDocument/2006/relationships/hyperlink" Target="file:///php-txt/bookstore/admin/insert.php.txt" TargetMode="External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file:///php-txt/bookstore/admin/update.php.txt" TargetMode="External"/><Relationship Id="rId4" Type="http://schemas.openxmlformats.org/officeDocument/2006/relationships/hyperlink" Target="file:///php-txt/bookstore/admin/update.php.txt" TargetMode="External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php-txt/bookstore/admin/delete.php.txt" TargetMode="External"/><Relationship Id="rId3" Type="http://schemas.openxmlformats.org/officeDocument/2006/relationships/hyperlink" Target="file:///php-txt/bookstore/admin/delete.php.txt" TargetMode="External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njizara/db_connect.php" TargetMode="External"/><Relationship Id="rId2" Type="http://schemas.openxmlformats.org/officeDocument/2006/relationships/hyperlink" Target="file:///knjizara/db_connect.php" TargetMode="External"/><Relationship Id="rId3" Type="http://schemas.openxmlformats.org/officeDocument/2006/relationships/hyperlink" Target="file:///knjizara/db_connect.php" TargetMode="External"/><Relationship Id="rId4" Type="http://schemas.openxmlformats.org/officeDocument/2006/relationships/hyperlink" Target="file:///knjizara/db_connect.php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knjizara/catalog.php" TargetMode="External"/><Relationship Id="rId2" Type="http://schemas.openxmlformats.org/officeDocument/2006/relationships/hyperlink" Target="file:///knjizara/catalog.php" TargetMode="External"/><Relationship Id="rId3" Type="http://schemas.openxmlformats.org/officeDocument/2006/relationships/hyperlink" Target="file:///knjizara/cart.php" TargetMode="External"/><Relationship Id="rId4" Type="http://schemas.openxmlformats.org/officeDocument/2006/relationships/hyperlink" Target="file:///knjizara/cart.php" TargetMode="External"/><Relationship Id="rId5" Type="http://schemas.openxmlformats.org/officeDocument/2006/relationships/hyperlink" Target="file:///knjizara/checkout.php" TargetMode="External"/><Relationship Id="rId6" Type="http://schemas.openxmlformats.org/officeDocument/2006/relationships/hyperlink" Target="file:///knjizara/checkout.php" TargetMode="External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knjizara/bookstore.sq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Web Dizaj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ine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KNJIŽA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Bookstore Application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njiga: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ternet &amp; World Wide Web How to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ttp://www.cs.laurentian.ca/badams/c2206/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Document"/>
          <p:cNvSpPr/>
          <p:nvPr/>
        </p:nvSpPr>
        <p:spPr>
          <a:xfrm flipH="1" rot="10800000">
            <a:off x="3827880" y="382860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a korisn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custom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ustomer_id  CHAR(32)    PRIMARY KEY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irst_name   VARCHAR(50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ast_name    VARCHAR(50) NO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114800"/>
            <a:ext cx="36576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omjenlji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_id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ije isto št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ssion_id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to što korisnik može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iše puta naručiti 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oku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dne ses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343400"/>
            <a:ext cx="2514600" cy="1447920"/>
          </a:xfrm>
          <a:prstGeom prst="wedgeRoundRectCallout">
            <a:avLst>
              <a:gd name="adj1" fmla="val -99180"/>
              <a:gd name="adj2" fmla="val -114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oguće uključiti i razna polja kao što su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nfo o kreditnoj kartic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ABD-E70F-46AB-9272-C271FC2465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49A9F-F139-4F57-8962-59BE1692D81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a naručene_knj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books_order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ustomer_id  CHAR(32)  PRIMARY KEY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sbn         CHAR(15)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quantity     INT       NO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114800"/>
            <a:ext cx="36576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adržaj naručene_knjige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 nakon provjere prebačen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ovu tabe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114800"/>
            <a:ext cx="3429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be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s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jedno čine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RUDŽBI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AA7-FD83-48DB-96DA-606687530A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84820-EAD8-4729-8DE3-1B24F3C9874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IKAZ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display p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50080" cy="328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88200" y="5116680"/>
            <a:ext cx="50868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vaki ovaj podatak sadrži skriv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lje 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ko da u svakom trenutku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namo kada je 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tisn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267760" y="4457520"/>
            <a:ext cx="380880" cy="609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91320" y="4952520"/>
            <a:ext cx="2666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D7D-0E48-4F25-96A4-219386AFFE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08A66-EE7A-4BFB-A2D5-AAEF7D0005B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Skriveno polje u katalogu za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SB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ikaz svakog unesenog polja u katalog odvija se na osnovu vrste u tabeli koja je oblika kao u poslednjoj kolon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ada 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 pošalje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bn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se takođe pošalje kao skriveno polj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66688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input type="hidden" name="isbn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="&lt;?php echo $isbn?&gt;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text" name="quantity" value="1" size="2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remove" value="remove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358-FBDF-49F2-9045-D5ABEA07FB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E329D-E218-48F6-A3FC-1EF6BDCD92B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OGIKA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600200"/>
            <a:ext cx="8458200" cy="23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books from books table for c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dd button was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dd book to cart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atalog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atalog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4419720"/>
            <a:ext cx="59436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 boo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book already in cart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pdate book quantity in cart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sert new book into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209680"/>
            <a:ext cx="3581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590920"/>
            <a:ext cx="685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734-BA39-48B7-A4DD-7FE32B64DE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1C430-BC70-4183-A86B-FA2FD1AE4028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display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600200"/>
            <a:ext cx="84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from $book_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3733920"/>
            <a:ext cx="4190760" cy="1676160"/>
          </a:xfrm>
          <a:prstGeom prst="wedgeRectCallout">
            <a:avLst>
              <a:gd name="adj1" fmla="val -95606"/>
              <a:gd name="adj2" fmla="val -1018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da dobijem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ve informacije o knjizi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je će biti prikazane u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TALOG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D70-DE0D-4E15-8174-ADC0E5BADD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1A5E7-C6E7-4A41-BCA1-8D4448A1F69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find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from $cart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$session_id' AND isbn = '$isb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657600"/>
            <a:ext cx="3505320" cy="2133720"/>
          </a:xfrm>
          <a:prstGeom prst="wedgeRectCallout">
            <a:avLst>
              <a:gd name="adj1" fmla="val -121106"/>
              <a:gd name="adj2" fmla="val -1038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da saznamo da li knjiga postoji u karti za kupovin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ako postoji, nakon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tiska digmeta add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dodaj) njeno ažuriranj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8AC-A005-4667-A60F-4D07C9E86F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B4911-BF04-4E37-ADDB-BBF5943400F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insert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$cart_table VALU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'$session_id', '$isbn', '$quantity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3733920"/>
            <a:ext cx="3505320" cy="1904760"/>
          </a:xfrm>
          <a:prstGeom prst="wedgeRectCallout">
            <a:avLst>
              <a:gd name="adj1" fmla="val -115398"/>
              <a:gd name="adj2" fmla="val -9558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koristimo da dodamo knjigu po prvi put u kartu za kupovinu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da se pritis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dodaj) dug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53E-26CD-4040-8335-2C63F11A02A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E351E-2D6A-4728-9C16-F249893D096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 script update 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DATE $cart_table SET quantity = '$new_quantity'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$session_id' AND isbn = '$isb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3733920"/>
            <a:ext cx="3505320" cy="1904760"/>
          </a:xfrm>
          <a:prstGeom prst="wedgeRectCallout">
            <a:avLst>
              <a:gd name="adj1" fmla="val -115398"/>
              <a:gd name="adj2" fmla="val -9558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se upit koristi d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zuriramo količinu postojeće knjige u tabeli karte za kupovinu kada je 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ekir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2AC-ABD5-460A-A74B-15057B2CAD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BE042-AC10-4F99-A05D-BC269B30C57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alog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293920"/>
            <a:ext cx="7467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prikaž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cript </a:t>
            </a: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knjizara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/catalog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BEB-39EA-4701-8BA3-07075DBFD2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2DDAD-D51D-4AB7-84C2-90FF9782D355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line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njiž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astoji se iz nekolik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 f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ajlova i tabela u bazi podatak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akođe, knjizara sadrži i komponentu ADMINISTRIRANJE za ažuriranje podata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File"/>
          <p:cNvSpPr/>
          <p:nvPr/>
        </p:nvSpPr>
        <p:spPr>
          <a:xfrm>
            <a:off x="1752480" y="3809880"/>
            <a:ext cx="1295640" cy="8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ile"/>
          <p:cNvSpPr/>
          <p:nvPr/>
        </p:nvSpPr>
        <p:spPr>
          <a:xfrm>
            <a:off x="3581280" y="4343400"/>
            <a:ext cx="1676520" cy="8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ile"/>
          <p:cNvSpPr/>
          <p:nvPr/>
        </p:nvSpPr>
        <p:spPr>
          <a:xfrm>
            <a:off x="5715000" y="4886280"/>
            <a:ext cx="1295280" cy="8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4" idx="6"/>
          </p:cNvCxnSpPr>
          <p:nvPr/>
        </p:nvCxnSpPr>
        <p:spPr>
          <a:xfrm flipH="1" rot="16200000">
            <a:off x="2833560" y="4204800"/>
            <a:ext cx="31500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4966200" y="4738320"/>
            <a:ext cx="31500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3042360" y="1980360"/>
            <a:ext cx="51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localhost/php/bookstore/index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D09-3255-4AB1-861F-8092FD10FA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E6BCC-988E-44F4-B393-50688828747A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kaz Karte za kupovin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50080" cy="295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1920" y="4937040"/>
            <a:ext cx="576036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vaka vrsta u zadnjoj koloni sadrzi i skriv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lje z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 osnovu kojeg mi znam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je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ug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 pritisn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218440" y="3848040"/>
            <a:ext cx="380880" cy="609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91320" y="4343400"/>
            <a:ext cx="2617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FA0-7F5F-4EBD-9BDF-C88D7E4F3E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DA6D1-B9A8-4753-AB11-19999F27B80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Skriveno polje z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ISB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a bi prikazali kompletan sadrzaj carte za kupovinu koristimo podatak u vrsti u zadnjoj kolon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ada se pošalje forma tada se 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bn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šalje u obliku skrivenog pol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51460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method="POST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input type="hidden" name="isbn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="&lt;?php echo $isbn?&gt;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submit" name="remove" value="remove"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57D-DEFA-41AF-AEB7-098E89302A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8D5A9-3C65-4042-8064-FDF8C4BD970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ogika u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ript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u c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600200"/>
            <a:ext cx="84582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je pritisnuto dug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Ukloni knjigu iz karte za kupovinu (cart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Uzmi tekući sadršaj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kaži knjige koje je korisnik odabra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Uzmi tekući sadržaj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kaži knjige koje je korisnik odabra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F71-46D3-4577-8306-B0A7B5D5E4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2EBEE-0EC5-4B76-8DD8-8F5138DC32D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upit delete u scripu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FROM $cart_table WHE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ession_id = '$session_id' AND isbn = '$isb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3733920"/>
            <a:ext cx="3505320" cy="1676160"/>
          </a:xfrm>
          <a:prstGeom prst="wedgeRectCallout">
            <a:avLst>
              <a:gd name="adj1" fmla="val -115398"/>
              <a:gd name="adj2" fmla="val -1018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koristimo d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klonimo knjig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z karte za kupovinu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njige ka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ssion_i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koris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026-E4AF-435B-B71A-0CD0516D9C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6C33D-F26D-4DD0-AC89-3DE01AF3CFC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upit select u scriptu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00200"/>
            <a:ext cx="84582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$cart_table.isbn AS isbn, quantity, titl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, pub, year, pri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$cart_table, $book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$cart_table.session_id = '$session_id'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 $cart_table.isbn = $book_table.is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657600"/>
            <a:ext cx="3505320" cy="2590920"/>
          </a:xfrm>
          <a:prstGeom prst="wedgeRectCallout">
            <a:avLst>
              <a:gd name="adj1" fmla="val -47870"/>
              <a:gd name="adj2" fmla="val -6556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PAJA (PREKLAP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bel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(kartu za kupovinu) 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belu knjige 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lju da bi dobili sve potrebne informacije koje treba prikazati u karti za kupovi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733920"/>
            <a:ext cx="14479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3733920"/>
            <a:ext cx="144792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nji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1680" y="5638680"/>
            <a:ext cx="40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pojiti (preklopiti) na polj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b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800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361960" y="48769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634-FAC9-415F-BE89-143C26D5DE3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568B0-1C71-4DD4-9DE6-B15B123E02A7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293920"/>
            <a:ext cx="7010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prikaž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cript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knjižar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cart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658-0234-4EA9-ABF6-58565AA893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1B194-26AA-4785-98C7-CBE08E8893AE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ovj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1768320"/>
            <a:ext cx="4114800" cy="3278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1320" y="2971800"/>
            <a:ext cx="2819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stvarnoj aplikaciji bilo bi potrebno mnogo više polja koje bi koristili za provjeru kao što su: provjera kreditne kartice, adresa, i t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4F0-AE7A-45DE-8881-3426112406E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24720-96D7-4872-8B9D-4A01739BE969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ogika scripta za Provjer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523880"/>
            <a:ext cx="84582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customer's books from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there are no books in cart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empty cart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submit button clicke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Validate 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form is valid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Make a customer or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Remove customer's books from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isplay order complete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Display page for correct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DI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display customer data pa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DB2-F0BB-4C9A-B3CB-9DFF44427FC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3CE94-C873-491E-A287-52E404ACF9E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ogika scripta za Provjeru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 a unique customer I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customer has entries left in cart D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sert entry in to order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WHI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customer data into customers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343400"/>
            <a:ext cx="2514600" cy="685800"/>
          </a:xfrm>
          <a:prstGeom prst="wedgeRectCallout">
            <a:avLst>
              <a:gd name="adj1" fmla="val -56125"/>
              <a:gd name="adj2" fmla="val -165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ocesuiraj PORIDŽBI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5D2-2DC5-45FB-970D-FF4FEBD7ED9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E499C-B4E4-4045-8AD2-7C3910BCE9EC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upit select u scriptu za provjer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isbn, quantity FROM $cart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$session_i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4267080"/>
            <a:ext cx="3505320" cy="1676520"/>
          </a:xfrm>
          <a:prstGeom prst="wedgeRectCallout">
            <a:avLst>
              <a:gd name="adj1" fmla="val -124092"/>
              <a:gd name="adj2" fmla="val -9327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im upitom dobijamo s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njige u Karti za kupovinu koju je korisnik kreirao na osnov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ssion_i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koji je dodijeljen tom korisni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60E-5DD7-4E41-BBC8-57233E2CC40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15347-C256-4529-8890-3D7E7EE67F7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četna str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550880"/>
            <a:ext cx="419112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1880" y="3870360"/>
            <a:ext cx="7800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&lt;title&gt;Online Bookstore&lt;/title&gt;&lt;/head&gt;&lt;body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1&gt;Online Bookstore&lt;/h1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"catalog.php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Enter Bookstore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&gt;&lt;a href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"admin/index.html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Booksto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dministration&lt;/a&gt;&lt;/p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FCB-A04D-44EE-AEBA-F0E2754603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DE02A-3B78-405E-BF14-5D53A8EC3FDD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upit insert u scriptu za provjer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$order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S ('$customer_id', '$isbn', '$quantity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971800"/>
            <a:ext cx="3505320" cy="1676520"/>
          </a:xfrm>
          <a:prstGeom prst="wedgeRectCallout">
            <a:avLst>
              <a:gd name="adj1" fmla="val -50453"/>
              <a:gd name="adj2" fmla="val -77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pri prenosu knjiga iz karte za kupovin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tabel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895480"/>
            <a:ext cx="12189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952880"/>
            <a:ext cx="220968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3794040"/>
            <a:ext cx="28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en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data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be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tabe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_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751-F2CC-4A91-A3DD-D2FCEE6B465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6C197-9F40-4256-834E-0881CE02951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upit insert u scriptu za provjer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INTO $customer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S ('$customer_id', '$first_name', '$last_nam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3581280"/>
            <a:ext cx="3505320" cy="1676520"/>
          </a:xfrm>
          <a:prstGeom prst="wedgeRectCallout">
            <a:avLst>
              <a:gd name="adj1" fmla="val -124092"/>
              <a:gd name="adj2" fmla="val -9327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slučaju kada želimo da unesemmo podatak u tabelu korisnik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kon provjere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28A-8831-4357-B83E-35AB19F06E7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5FC3A-E9DB-4F51-A3F9-3428C480F0C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upit delete u scriptu za provjer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600200"/>
            <a:ext cx="8458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FROM $cart_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session_id = 'session_i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581280"/>
            <a:ext cx="3505320" cy="1676520"/>
          </a:xfrm>
          <a:prstGeom prst="wedgeRectCallout">
            <a:avLst>
              <a:gd name="adj1" fmla="val -124092"/>
              <a:gd name="adj2" fmla="val -9327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j upit se koristi da uklonimo određenu knjigu u karti za kupovi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018-81DF-4C15-89AE-68C21A04086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FDFD6-1ADE-46ED-92F4-27CB3445A220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out.p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293920"/>
            <a:ext cx="7696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prikaž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cript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knjizar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checkout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5B9-82A3-4C86-BAB0-8F80BB45B9F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0F9C5-2E5F-4AA5-A746-E267DAD930C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dministr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admin ope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c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splay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kaz knjiga u baz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brisanje knjige na osnov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ert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ove knjige na osnov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fomacija o knjizi na osnov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248000" y="1432080"/>
            <a:ext cx="3358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njizara\admin\index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236124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njiz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dmin/display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35196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njiz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dmin/delete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25052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njiz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dmin/insert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524088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njiz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dmin/update.ph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B0B-7C0F-4DFC-95CC-B544E73640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A3CE8-8BDE-42B5-A853-7F3B37B78DBF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ikaz baze knjig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95440" y="1852560"/>
            <a:ext cx="7953120" cy="3152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715000"/>
            <a:ext cx="2057400" cy="533520"/>
          </a:xfrm>
          <a:prstGeom prst="wedgeEllipseCallout">
            <a:avLst>
              <a:gd name="adj1" fmla="val 114504"/>
              <a:gd name="adj2" fmla="val -94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link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4267080" y="4038480"/>
            <a:ext cx="533520" cy="2362320"/>
          </a:xfrm>
          <a:custGeom>
            <a:avLst/>
            <a:gdLst>
              <a:gd name="textAreaLeft" fmla="*/ 0 w 533520"/>
              <a:gd name="textAreaRight" fmla="*/ 19260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35"/>
                </a:lnTo>
                <a:cubicBezTo>
                  <a:pt x="10800" y="9635"/>
                  <a:pt x="16200" y="10535"/>
                  <a:pt x="21600" y="10535"/>
                </a:cubicBezTo>
                <a:cubicBezTo>
                  <a:pt x="16200" y="10535"/>
                  <a:pt x="10800" y="11435"/>
                  <a:pt x="10800" y="1233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579024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knjiž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admin/display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FE5-6B1D-49C4-B889-DD39CE6C326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1566B-A620-4361-9892-A5FF555BB13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Forma za 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sert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nove knj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89000" y="1685880"/>
            <a:ext cx="5166000" cy="3486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200400" y="5774400"/>
            <a:ext cx="4876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knjiz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/admin/insert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1BB-8A5A-4360-BC93-C369F441D28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943C5-4719-42D7-B5C5-9615E362C93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Forma za 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date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inform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0200" cy="1942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22440" y="3124080"/>
            <a:ext cx="7897680" cy="3200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343400" y="1371600"/>
            <a:ext cx="3124080" cy="1295280"/>
          </a:xfrm>
          <a:prstGeom prst="wedgeRoundRectCallout">
            <a:avLst>
              <a:gd name="adj1" fmla="val -82217"/>
              <a:gd name="adj2" fmla="val 27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nes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B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 forma za dopun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nformacija o knjizi će biti prikaz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592668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knjiž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admin/update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371-E3A2-4950-A625-6CDF1D88CE8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72556-329F-4644-95C9-8D14550159A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Forma za brisanje knj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57480" y="2475000"/>
            <a:ext cx="3029040" cy="190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581280" y="5790240"/>
            <a:ext cx="4953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kaž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ipt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knjiž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/admin/delete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7A0-0326-4B49-97A1-40A61207E10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10AA5-7659-488D-8FEC-A6DAE4C90BD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Šta treba uraditi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ould be better to include price information in the cart and books_ordered tables: price may change between order generation and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 scripts should be protected by a user name and password (Do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n order fullfillment script that displays a complete order page using the books, customers, and books_ordered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868-8E47-4382-9DAB-C0F5172B70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7C8D3-8D19-4128-9C5E-EE01BD36F491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plikacija knjižara – fajlovi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talog.ph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ikazuju korisnički katalog sa dugmetom dodaj (add) za svaku knjigu koju naručuje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r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ikazuje listu naručenih knjiga sa dugmetom izbaci (remove) za svaku knjigu u li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heckou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ovjer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tpremanje 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card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8D7-FC63-4051-A081-823A718318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A9416-F1D2-40D2-B0D4-D2641B565413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Aplikacija knjižara – fajlovi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b_connect.php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Funkcija za povezivanje sa bazom podat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file is in the includes directo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:\Apache\php-includes\db_connect.php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rikaži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db_connect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EB5-640B-4060-9703-D60C3BD194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A1416-E529-420F-B296-612583C3EC6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nk structure 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aplikacije knjža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371600"/>
            <a:ext cx="20574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log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1371600"/>
            <a:ext cx="20574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886200"/>
            <a:ext cx="20574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out.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3581280" y="175212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 flipH="1">
            <a:off x="3580920" y="201888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V="1">
            <a:off x="6400440" y="23616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2133720" y="2362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5720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9056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90920" y="2362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893480"/>
            <a:ext cx="4876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gled skrip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knjizar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/catalog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334840"/>
            <a:ext cx="4648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gled skrip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knjizara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cart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7720" y="5622120"/>
            <a:ext cx="5085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gled skrip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knjizara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/checkout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26A-FFF5-42F6-B2C0-376C48711B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CEBBE-2EA2-4817-AA5B-DC778584489B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e u baz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bn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aslo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u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zdava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godi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cij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id, isbn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 kolicina za svaku knjig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ultiple shopp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korisnik (kupa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id, first and last nam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_ordered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(narucne knji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risni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d, isbn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lic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438080" y="5866560"/>
            <a:ext cx="45608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rip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bookstore/bookstore.sq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4AA-B119-41EE-8F41-C80E6CB3BB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9FB26-5B2F-47BC-A593-6491C84C176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a knji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600200"/>
            <a:ext cx="84582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boo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sbn   CHAR(15)     PRIMARY KEY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title  VARCHAR(100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uthor VARCHAR(100)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ub    VARCHAR(20)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year   YEAR       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rice  DECIMAL(9,2) DEFAUL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37C-EF75-40B1-AB2E-75A0901334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D847A-2620-4555-8E5E-9AE1984D6AB6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abe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0020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ca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ession_id  CHAR(32) 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sbn        CHAR(15)  PRIMARY KEY NOT NUL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quantity    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114800"/>
            <a:ext cx="3429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P sess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utomatsk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eneriš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_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4114800"/>
            <a:ext cx="3429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se koristi 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išestruku kupovi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ppers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1C4-7C5A-4075-A02A-7B6790FFFF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4BB3C-1C90-46C3-8263-D3B9FB1224E2}" type="datetime1">
              <a:rPr lang="en-US"/>
              <a:t>07/30/26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7:04:13Z</dcterms:created>
  <dc:creator>Barry Adams</dc:creator>
  <dc:description/>
  <dc:language>en-US</dc:language>
  <cp:lastModifiedBy>budo lutovac</cp:lastModifiedBy>
  <cp:lastPrinted>1999-09-14T12:12:50Z</cp:lastPrinted>
  <dcterms:modified xsi:type="dcterms:W3CDTF">2006-11-13T12:24:33Z</dcterms:modified>
  <cp:revision>140</cp:revision>
  <dc:subject>Online Bookstore Application</dc:subject>
  <dc:title>COSC 2206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c1046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ork\Html01\badams\c104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