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A35-2321-4D3A-B7D9-A0D59999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D3E-092C-4CF1-BE41-3F0C6DA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9DE-A0E8-4706-828D-C9234736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302-8A0E-4011-A01C-7505CA13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6FB-9C15-40CB-99D2-E76F167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988-F49C-40F9-8796-A59D3731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E91-6A18-46FA-BDDA-9FA65CA2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803-D831-4437-AF5A-CC9525A2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64D-6A10-4B49-B63C-ED48335F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F92-BAD1-4D1D-B4F9-ED14A95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283-ACA8-4C5F-AE4F-5ADF2F8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331-FEB5-474F-B6A8-6988C8F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18D-0569-4A1E-BCE5-8CB43C7C6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WE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200" spc="-1" strike="noStrike">
                <a:solidFill>
                  <a:srgbClr val="898989"/>
                </a:solidFill>
                <a:latin typeface="Calibri"/>
              </a:rPr>
              <a:t>Predavanje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200" spc="-1" strike="noStrike">
                <a:solidFill>
                  <a:srgbClr val="898989"/>
                </a:solidFill>
                <a:latin typeface="Calibri"/>
              </a:rPr>
              <a:t>- PRAKTIČAN PRIMJER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sl2.jpg"/>
          <p:cNvPicPr/>
          <p:nvPr/>
        </p:nvPicPr>
        <p:blipFill>
          <a:blip r:embed="rId1"/>
          <a:srcRect l="0" t="0" r="0" b="10660"/>
          <a:stretch/>
        </p:blipFill>
        <p:spPr>
          <a:xfrm>
            <a:off x="1332000" y="4286160"/>
            <a:ext cx="6567480" cy="23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11" name="AutoShape 1"/>
          <p:cNvCxnSpPr/>
          <p:nvPr/>
        </p:nvCxnSpPr>
        <p:spPr>
          <a:xfrm>
            <a:off x="1402920" y="414936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cxnSp>
        <p:nvCxnSpPr>
          <p:cNvPr id="112" name="AutoShape 2"/>
          <p:cNvCxnSpPr/>
          <p:nvPr/>
        </p:nvCxnSpPr>
        <p:spPr>
          <a:xfrm>
            <a:off x="394920" y="25992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sp>
        <p:nvSpPr>
          <p:cNvPr id="113" name="Rectangle 3"/>
          <p:cNvSpPr/>
          <p:nvPr/>
        </p:nvSpPr>
        <p:spPr>
          <a:xfrm>
            <a:off x="324000" y="333360"/>
            <a:ext cx="8640720" cy="381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h2&gt;Uloguj se&lt;/h2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form  action="login.php" method="post"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abl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d&gt;Korisnicko ime&lt;/td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d&gt;&lt;input type="text" name="username"&gt;&lt;/td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d&gt;Lozinka&lt;/td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d&gt;&lt;input type="password" name="password"&gt;&lt;/td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d&gt;&lt;/td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d&gt;&lt;input type="submit" name="submit" value="Uloguj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se!"&gt;&lt;/td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tabl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form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?ph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require("footer.php"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  <a:ea typeface="Calibri"/>
              </a:rPr>
              <a:t>?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000000"/>
                </a:solidFill>
                <a:latin typeface="Calibri"/>
              </a:rPr>
              <a:t>logout.ph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što sada imamo stranu za prijavljivanje napravićemo i stranu za odjavljivan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amo izmijeniti i header.php kako bi omogućili korisniku da, kada je ulogovan, ima i link da se izloguje, i da mu se dodaju linkovi za novu kategoriju i novi zapis. Novi kod se nalazi ispod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lt;a href="viewcat.php"&gt;kategorije&lt;/a&gt;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 izgleda ovak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AutoShape 2"/>
          <p:cNvCxnSpPr/>
          <p:nvPr/>
        </p:nvCxnSpPr>
        <p:spPr>
          <a:xfrm>
            <a:off x="899640" y="1074240"/>
            <a:ext cx="6622200" cy="514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118" name="AutoShape 1"/>
          <p:cNvCxnSpPr/>
          <p:nvPr/>
        </p:nvCxnSpPr>
        <p:spPr>
          <a:xfrm>
            <a:off x="971280" y="2349000"/>
            <a:ext cx="6622200" cy="5004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119" name="Rectangle 3"/>
          <p:cNvSpPr/>
          <p:nvPr/>
        </p:nvSpPr>
        <p:spPr>
          <a:xfrm>
            <a:off x="971640" y="1146240"/>
            <a:ext cx="6621480" cy="113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?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ession_start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ession_destroy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equire("config.php"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eader("Location: " . $config_basedir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?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AutoShape 8"/>
          <p:cNvCxnSpPr/>
          <p:nvPr/>
        </p:nvCxnSpPr>
        <p:spPr>
          <a:xfrm>
            <a:off x="1042560" y="328428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123" name="AutoShape 7"/>
          <p:cNvCxnSpPr/>
          <p:nvPr/>
        </p:nvCxnSpPr>
        <p:spPr>
          <a:xfrm>
            <a:off x="971280" y="685764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124" name="Rectangle 9"/>
          <p:cNvSpPr/>
          <p:nvPr/>
        </p:nvSpPr>
        <p:spPr>
          <a:xfrm>
            <a:off x="971640" y="3290760"/>
            <a:ext cx="6621480" cy="3567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a href="viewcat.php"&gt;kategorije&lt;/a&gt;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if(isset($_SESSION['USERNAME']) == TRUE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cho "&lt;a href='logout.php'&gt;izloguj se&lt;/a&gt;"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cho " - "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cho "&lt;a href='addentry.php'&gt;novi unos&lt;/a&gt;"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cho " - ";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cho "&lt;a href='addcat.php'&gt;nova kategorija&lt;/a&gt;"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echo "&lt;a href='login.php'&gt;uloguj se&lt;/a&gt;"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r>
              <a:rPr b="0" lang="sr-Latn-ME" sz="1400" spc="-1" strike="noStrike">
                <a:solidFill>
                  <a:srgbClr val="000000"/>
                </a:solidFill>
                <a:latin typeface="Calibri"/>
                <a:ea typeface="Calibri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div id="main"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92880" y="2728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Unos Koment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l3.jpg"/>
          <p:cNvPicPr/>
          <p:nvPr/>
        </p:nvPicPr>
        <p:blipFill>
          <a:blip r:embed="rId2"/>
          <a:stretch/>
        </p:blipFill>
        <p:spPr>
          <a:xfrm>
            <a:off x="684360" y="1319040"/>
            <a:ext cx="7397640" cy="553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Kreiranje Baze Poda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42920" y="2060640"/>
          <a:ext cx="6767640" cy="91440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ME TAB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ADRŽAJ TAB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eg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zličite kategorije blo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ši u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entari na un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g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risnička imena i lozi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16"/>
          <p:cNvSpPr/>
          <p:nvPr/>
        </p:nvSpPr>
        <p:spPr>
          <a:xfrm>
            <a:off x="1281240" y="3429000"/>
            <a:ext cx="6675480" cy="201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1884240" y="3614760"/>
            <a:ext cx="99864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categ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3254400" y="3610080"/>
            <a:ext cx="1125360" cy="16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ent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cat_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datepos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4721400" y="3610080"/>
            <a:ext cx="1125360" cy="16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blog_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datepos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com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6130800" y="3619440"/>
            <a:ext cx="99864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log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AutoShape 18"/>
          <p:cNvCxnSpPr/>
          <p:nvPr/>
        </p:nvCxnSpPr>
        <p:spPr>
          <a:xfrm>
            <a:off x="2882880" y="3973320"/>
            <a:ext cx="37224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AutoShape 17"/>
          <p:cNvCxnSpPr/>
          <p:nvPr/>
        </p:nvCxnSpPr>
        <p:spPr>
          <a:xfrm>
            <a:off x="4379400" y="3973320"/>
            <a:ext cx="3423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Probni Uno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16000" y="1620720"/>
          <a:ext cx="1690560" cy="762120"/>
        </p:xfrm>
        <a:graphic>
          <a:graphicData uri="http://schemas.openxmlformats.org/drawingml/2006/table">
            <a:tbl>
              <a:tblPr/>
              <a:tblGrid>
                <a:gridCol w="169056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jub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10"/>
          <p:cNvSpPr/>
          <p:nvPr/>
        </p:nvSpPr>
        <p:spPr>
          <a:xfrm>
            <a:off x="1112400" y="1312920"/>
            <a:ext cx="148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Tabela </a:t>
            </a:r>
            <a:r>
              <a:rPr b="1" i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categ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16000" y="2844720"/>
          <a:ext cx="6095880" cy="870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98360"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t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_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tepost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ubj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o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35160"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zaberite </a:t>
                      </a:r>
                      <a:r>
                        <a:rPr b="1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 </a:t>
                      </a: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kci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brodošli na moj blog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o je moj prvi unos u moj blo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zaberite </a:t>
                      </a:r>
                      <a:r>
                        <a:rPr b="1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 </a:t>
                      </a: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kci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gi unos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o je drugi unos u moj blo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3"/>
          <p:cNvSpPr/>
          <p:nvPr/>
        </p:nvSpPr>
        <p:spPr>
          <a:xfrm>
            <a:off x="1116000" y="253800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Tabela </a:t>
            </a:r>
            <a:r>
              <a:rPr b="1" i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entri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4286160"/>
          <a:ext cx="6095880" cy="7002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98360"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t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_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tepost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m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67760"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</a:t>
                      </a: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zaberite </a:t>
                      </a:r>
                      <a:r>
                        <a:rPr b="1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 </a:t>
                      </a: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kci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avo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Izaberite </a:t>
                      </a:r>
                      <a:r>
                        <a:rPr b="1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 </a:t>
                      </a:r>
                      <a:r>
                        <a:rPr b="0" i="1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kci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n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dam se da ćeš se lijepo zabaviti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4"/>
          <p:cNvSpPr/>
          <p:nvPr/>
        </p:nvSpPr>
        <p:spPr>
          <a:xfrm>
            <a:off x="1116000" y="39801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Tabela </a:t>
            </a:r>
            <a:r>
              <a:rPr b="1" i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16000" y="5581800"/>
          <a:ext cx="3382920" cy="4395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</a:tblGrid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us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ss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"/>
          <p:cNvSpPr/>
          <p:nvPr/>
        </p:nvSpPr>
        <p:spPr>
          <a:xfrm>
            <a:off x="1114920" y="5254200"/>
            <a:ext cx="10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  <a:ea typeface="Calibri"/>
              </a:rPr>
              <a:t>Tabela </a:t>
            </a:r>
            <a:r>
              <a:rPr b="1" i="1" lang="sr-Latn-CS" sz="1400" spc="-1" strike="noStrike">
                <a:solidFill>
                  <a:srgbClr val="000000"/>
                </a:solidFill>
                <a:latin typeface="Calibri"/>
                <a:ea typeface="Calibri"/>
              </a:rPr>
              <a:t>log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Programiranje Blo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2"/>
          <p:cNvCxnSpPr/>
          <p:nvPr/>
        </p:nvCxnSpPr>
        <p:spPr>
          <a:xfrm>
            <a:off x="684000" y="494136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65" name="AutoShape 1"/>
          <p:cNvCxnSpPr/>
          <p:nvPr/>
        </p:nvCxnSpPr>
        <p:spPr>
          <a:xfrm>
            <a:off x="684000" y="177300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66" name="Rectangle 3"/>
          <p:cNvSpPr/>
          <p:nvPr/>
        </p:nvSpPr>
        <p:spPr>
          <a:xfrm>
            <a:off x="684360" y="1844640"/>
            <a:ext cx="6621480" cy="3048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$dbhost = "localhost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$dbuser = "root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$dbpassword = "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$dbdatabase = "weblog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$config_blogname = "MOJ PRVI WEBLOG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$config_author = "Branimir Jelic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$config_basedir = "http://localhost/weblog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error_reporting(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681440" y="993240"/>
            <a:ext cx="100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nsolas"/>
                <a:ea typeface="Calibri"/>
              </a:rPr>
              <a:t>PRIMJE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Korisnički interfej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AutoShape 2"/>
          <p:cNvCxnSpPr/>
          <p:nvPr/>
        </p:nvCxnSpPr>
        <p:spPr>
          <a:xfrm>
            <a:off x="539280" y="141264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72" name="AutoShape 1"/>
          <p:cNvCxnSpPr/>
          <p:nvPr/>
        </p:nvCxnSpPr>
        <p:spPr>
          <a:xfrm>
            <a:off x="539280" y="638136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73" name="Rectangle 3"/>
          <p:cNvSpPr/>
          <p:nvPr/>
        </p:nvSpPr>
        <p:spPr>
          <a:xfrm>
            <a:off x="539640" y="1484280"/>
            <a:ext cx="777744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require("config.php"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!DOCTYPE HTML PUBLIC "-//W3C//DTD HTML 4.01 Transitional//EN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"http://www.w3.org/TR/html4/loose.dtd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title&gt;&lt;?php echo $config_blogname; ?&gt;&lt;/titl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link rel="stylesheet" href="stylesheet.css" type="text/css" 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div id="header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h1&gt;&lt;?php echo $config_blogname; ?&gt;&lt;/h1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div id="menu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a href="index.php"&gt;počtna strana&lt;/a&gt;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a href="viewcat.php"&gt;kategorije&lt;/a&gt;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a href="login.php"&gt;uloguj se&lt;/a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div id="main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72480" y="1028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200" spc="-1" strike="noStrike">
                <a:solidFill>
                  <a:srgbClr val="000000"/>
                </a:solidFill>
                <a:latin typeface="Consolas"/>
                <a:ea typeface="Calibri"/>
              </a:rPr>
              <a:t>header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Korisnički interfej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AutoShape 2"/>
          <p:cNvCxnSpPr/>
          <p:nvPr/>
        </p:nvCxnSpPr>
        <p:spPr>
          <a:xfrm>
            <a:off x="971280" y="155700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78" name="AutoShape 1"/>
          <p:cNvCxnSpPr/>
          <p:nvPr/>
        </p:nvCxnSpPr>
        <p:spPr>
          <a:xfrm>
            <a:off x="971280" y="357300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79" name="Rectangle 3"/>
          <p:cNvSpPr/>
          <p:nvPr/>
        </p:nvSpPr>
        <p:spPr>
          <a:xfrm>
            <a:off x="971640" y="1628640"/>
            <a:ext cx="662148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div id="footer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amp;copy; &lt;?php echo $config_author; 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077120" y="1244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0000"/>
                </a:solidFill>
                <a:latin typeface="Consolas"/>
                <a:ea typeface="Calibri"/>
              </a:rPr>
              <a:t>footer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8000" y="547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AutoShape 8"/>
          <p:cNvCxnSpPr/>
          <p:nvPr/>
        </p:nvCxnSpPr>
        <p:spPr>
          <a:xfrm>
            <a:off x="971280" y="630828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84" name="AutoShape 7"/>
          <p:cNvCxnSpPr/>
          <p:nvPr/>
        </p:nvCxnSpPr>
        <p:spPr>
          <a:xfrm>
            <a:off x="899640" y="429228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85" name="Rectangle 9"/>
          <p:cNvSpPr/>
          <p:nvPr/>
        </p:nvSpPr>
        <p:spPr>
          <a:xfrm>
            <a:off x="900000" y="4365720"/>
            <a:ext cx="6621480" cy="192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84360" y="501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900000" y="441864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require("header.php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//ovdje ide ostatak ko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require("footer.php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080720" y="392796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0000"/>
                </a:solidFill>
                <a:latin typeface="Consolas"/>
                <a:ea typeface="Calibri"/>
              </a:rPr>
              <a:t>index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Iz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sl1.jpg"/>
          <p:cNvPicPr/>
          <p:nvPr/>
        </p:nvPicPr>
        <p:blipFill>
          <a:blip r:embed="rId1"/>
          <a:srcRect l="0" t="0" r="0" b="-479"/>
          <a:stretch/>
        </p:blipFill>
        <p:spPr>
          <a:xfrm>
            <a:off x="611280" y="1557360"/>
            <a:ext cx="7993080" cy="530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Prikaz Uno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 bi omogućili konekciju sa bazom podataka na svakoj strani, u header.php ćemo dodati, odmah ispo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quire("header.php")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ledeći ko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ME" sz="2000" spc="-1" strike="noStrike">
                <a:solidFill>
                  <a:srgbClr val="000000"/>
                </a:solidFill>
                <a:latin typeface="Calibri"/>
              </a:rPr>
              <a:t>ndex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826920" y="1989000"/>
            <a:ext cx="6621480" cy="63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$db = mysql_connect($dbhost, $dbuser, $dbpassword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ysql_select_db($dbdatabase, $db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AutoShape 1"/>
          <p:cNvCxnSpPr/>
          <p:nvPr/>
        </p:nvCxnSpPr>
        <p:spPr>
          <a:xfrm>
            <a:off x="826560" y="263664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cxnSp>
        <p:nvCxnSpPr>
          <p:cNvPr id="96" name="AutoShape 3"/>
          <p:cNvCxnSpPr/>
          <p:nvPr/>
        </p:nvCxnSpPr>
        <p:spPr>
          <a:xfrm>
            <a:off x="826560" y="198864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sp>
        <p:nvSpPr>
          <p:cNvPr id="9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AutoShape 8"/>
          <p:cNvCxnSpPr/>
          <p:nvPr/>
        </p:nvCxnSpPr>
        <p:spPr>
          <a:xfrm>
            <a:off x="826560" y="299700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100" name="AutoShape 7"/>
          <p:cNvCxnSpPr/>
          <p:nvPr/>
        </p:nvCxnSpPr>
        <p:spPr>
          <a:xfrm>
            <a:off x="826560" y="652428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101" name="Rectangle 9"/>
          <p:cNvSpPr/>
          <p:nvPr/>
        </p:nvSpPr>
        <p:spPr>
          <a:xfrm>
            <a:off x="826920" y="3068640"/>
            <a:ext cx="6621480" cy="342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$sql = "SELECT entries.*, categories.c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FROM entries, categ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WHERE entries.cat_id = categories.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ORDER BY dateposted DE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LIMIT 1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$result = mysql_query($sql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$row = mysql_fetch_assoc($resul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if(isset($row['id']))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echo "&lt;h2&gt;&lt;a href='viewentry.php?id=" . $row['id'] . "'&gt;" . $row['subject'] 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        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"&lt;/a&gt;&lt;/h2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echo "&lt;i&gt;Kategorija &lt;a href='viewcat.php?id=" . $row['cat_id']."'&gt;" . $row['cat'] . "&lt;/a&gt; -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Postavljeno: " . date("j.n.Y. G:i", strtotime($row['dateposted'])) . "&lt;/i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echo "&lt;p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echo nl2br($row['body']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echo "&lt;/p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} else { echo "Nema unosa.";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echo "&lt;hr /&gt;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000000"/>
                </a:solidFill>
                <a:latin typeface="Calibri"/>
              </a:rPr>
              <a:t>login.ph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AutoShape 2"/>
          <p:cNvCxnSpPr/>
          <p:nvPr/>
        </p:nvCxnSpPr>
        <p:spPr>
          <a:xfrm>
            <a:off x="394920" y="90756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headEnd len="med" type="diamond" w="med"/>
          </a:ln>
        </p:spPr>
      </p:cxnSp>
      <p:cxnSp>
        <p:nvCxnSpPr>
          <p:cNvPr id="106" name="AutoShape 1"/>
          <p:cNvCxnSpPr/>
          <p:nvPr/>
        </p:nvCxnSpPr>
        <p:spPr>
          <a:xfrm>
            <a:off x="394920" y="6668640"/>
            <a:ext cx="6622200" cy="1080"/>
          </a:xfrm>
          <a:prstGeom prst="straightConnector1">
            <a:avLst/>
          </a:prstGeom>
          <a:ln w="38160">
            <a:solidFill>
              <a:srgbClr val="7c7c7c"/>
            </a:solidFill>
            <a:miter/>
            <a:tailEnd len="med" type="diamond" w="med"/>
          </a:ln>
        </p:spPr>
      </p:cxnSp>
      <p:sp>
        <p:nvSpPr>
          <p:cNvPr id="107" name="Rectangle 3"/>
          <p:cNvSpPr/>
          <p:nvPr/>
        </p:nvSpPr>
        <p:spPr>
          <a:xfrm>
            <a:off x="324000" y="907920"/>
            <a:ext cx="8424720" cy="576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require("config.php"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db = mysql_connect($dbhost, $dbuser, $dbpassword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mysql_select_db($dbdatabase, $db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if($_POST['submit']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sql = "SELECT * FROM logi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WHERE username = '" . $_POST['username'] . "' AND password = '" 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                       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_POST['password'] . "';"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result = mysql_query($sql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numrows = mysql_num_rows($result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if($numrows == 1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row = mysql_fetch_assoc($result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session_register("USERNAME"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session_register("USERID"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_SESSION['USERNAME'] = $row['username']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$_SESSION['USERID'] = $row['id']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header("Location: " . $config_basedir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header("Location: " . $config_basedir . "/login.php?error=1"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require("header.php"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if($_GET['error']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echo "Netacno, probajte ponovo!"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7:02:50Z</dcterms:created>
  <dc:creator>Sonjka</dc:creator>
  <dc:description/>
  <dc:language>en-US</dc:language>
  <cp:lastModifiedBy>Sonjka</cp:lastModifiedBy>
  <dcterms:modified xsi:type="dcterms:W3CDTF">2010-11-28T17:39:55Z</dcterms:modified>
  <cp:revision>6</cp:revision>
  <dc:subject/>
  <dc:title>WEBLOG</dc:title>
</cp:coreProperties>
</file>