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166-7D4A-4FC4-B670-AFFC1F8FCC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C71F-FEA0-4990-8BC5-A78CEA79EC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0A11-091F-4029-83C3-C3D4784FE3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8D90-2B68-49D6-8C4D-FF01EA4837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CEC6-AB3F-4D2C-BB50-1BBC2B1759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BE7-62D8-4951-B1CB-45C03193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B79-FC9A-4D63-AAAE-6D8F894F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966-ECDF-47BF-8BD4-B44324AB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A3B-5F74-48A3-A51E-19FCC6F8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752-B7A9-476C-9B9A-F86FF608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5A1-513E-45D7-9A04-803353DF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2AF-4D66-4F30-9B8A-D23D6B82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096-5D73-47D3-BD9F-351095DA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110-576B-4B3B-8F0F-594BEFF5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19B-5C78-4E19-86F3-AAE9CE86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4BE-E929-4313-B754-4E99A988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76A-FF73-46B0-BCA6-09D6574A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6056-95CC-4394-876C-FE374C28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– ovo je lo</a:t>
            </a:r>
            <a:r>
              <a:rPr b="0" lang="sr-Latn-RS" sz="2400" spc="-1" strike="noStrike">
                <a:solidFill>
                  <a:srgbClr val="ff0033"/>
                </a:solidFill>
                <a:latin typeface="Times New Roman"/>
              </a:rPr>
              <a:t>še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6" name="Group 5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7" name="Rectangle 6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" name="Line 7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" name="Line 8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" name="Line 9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3" name="Line 12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4" name="Line 13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" name="Line 14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" name="Line 15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7" name="Line 16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8" name="Line 17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0" name="Line 19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1" name="Line 20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2" name="Rectangle 21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3" name="Rectangle 22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4" name="Rectangle 23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5" name="Rectangle 24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6" name="Rectangle 25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7" name="Rectangle 26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8" name="Rectangle 27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9" name="Rectangle 28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Rectangle 29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035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0" name="Rectangle 1028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Rectangle 1029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Rectangle 1030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Rectangle 1031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Rectangle 1032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Rectangle 1033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Rectangle 1034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7" name="Rectangle 1036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8" name="Group 1051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69" name="Oval 1037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Oval 1038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Line 1039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Line 1040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Line 1041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Line 1042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Line 1043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Line 1044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Rectangle 1045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Rectangle 1046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Rectangle 1047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Rectangle 1048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Rectangle 1049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Rectangle 1050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Rectangle 1027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5" name="Group 1046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6" name="Group 1042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7" name="Oval 1028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8" name="Oval 1029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9" name="Line 1030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0" name="Line 1031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1" name="Line 1032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2" name="Line 1033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3" name="Line 1034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Line 1035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5" name="Rectangle 1036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6" name="Rectangle 1037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" name="Rectangle 1038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" name="Rectangle 1039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Rectangle 1040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Rectangle 1041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1043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Rectangle 1044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Rectangle 1045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7" name="Group 18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08" name="Oval 4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Oval 5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Line 6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Line 8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Line 9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Line 11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8" name="Rectangle 14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0" name="Rectangle 16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1" name="Rectangle 17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Rectangle 19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Rectangle 20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7" name="Group 22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28" name="Group 18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29" name="Oval 4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0" name="Oval 5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1" name="Line 6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2" name="Line 7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3" name="Line 8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4" name="Line 9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5" name="Line 10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" name="Line 11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Rectangle 19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Rectangle 20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Rectangle 21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7" name="Rectangle 23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0" name="Rectangle 26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52" name="Group 47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3" name="Group 43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4" name="Oval 29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" name="Oval 30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" name="Line 31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" name="Line 32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8" name="Line 33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9" name="Line 34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0" name="Line 35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1" name="Line 36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4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Rectangle 45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Rectangle 46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1" name="Group 50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2" name="Rectangle 48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Line 49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4" name="Group 53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5" name="Rectangle 51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Line 52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8" name="Group 28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79" name="Group 21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0" name="Group 17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1" name="Oval 3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4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5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6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7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8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9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10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1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2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3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4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15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6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Rectangle 18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6" name="Rectangle 19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" name="Rectangle 20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299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0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27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2" name="Rectangle 25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3" name="Line 26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Rectangle 29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7" name="Group 28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08" name="Group 18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09" name="Oval 4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0" name="Oval 5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5" name="Line 10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Line 11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7" name="Rectangle 12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8" name="Rectangle 13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9" name="Rectangle 14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0" name="Rectangle 15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1" name="Rectangle 16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2" name="Rectangle 17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Rectangle 19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Rectangle 20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Rectangle 21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26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7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7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0" name="Rectangle 25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1" name="Line 26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Rectangle 29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5" name="Group 28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6" name="Group 21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7" name="Group 17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38" name="Oval 3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4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5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6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7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8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9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10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11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3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4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5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16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Rectangle 18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3" name="Rectangle 19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4" name="Rectangle 20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6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7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7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59" name="Rectangle 25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0" name="Line 26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Rectangle 29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SPOT-L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SPOT-R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4" name="Group 17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5" name="Oval 3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6" name="Oval 4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7" name="Line 5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8" name="Line 6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9" name="Line 7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0" name="Line 8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1" name="Line 9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2" name="Line 10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4" name="Rectangle 12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5" name="Rectangle 13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" name="Rectangle 14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7" name="Rectangle 15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Rectangle 18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2" name="Group 24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3" name="Rectangle 22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5" name="Group 27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6" name="Rectangle 25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Line 26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8" name="Rectangle 28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1" name="Group 31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2" name="Group 21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3" name="Group 17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4" name="Oval 3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4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5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6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7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8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9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10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11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12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13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14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15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16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Rectangle 18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9" name="Rectangle 19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0" name="Rectangle 20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24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2" name="Rectangle 22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3" name="Line 23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Group 27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5" name="Rectangle 25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6" name="Line 26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Rectangle 28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tangle 29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30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2" name="Group 22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3" name="Group 18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4" name="Oval 4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Oval 5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6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7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Line 8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9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10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11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2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3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4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6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7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Rectangle 19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" name="Rectangle 20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" name="Rectangle 21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5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2" name="Rectangle 23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" name="Line 24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8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5" name="Rectangle 26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" name="Line 27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0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1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2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3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4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5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6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7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8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9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0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Rectangle 20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Rectangle 21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68" name="Rectangle 23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9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0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2" name="Line 27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6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7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0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1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3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4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5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6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7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8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9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0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Rectangle 20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Rectangle 21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4" name="Rectangle 23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5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6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8" name="Line 27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2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3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8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4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5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6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Rectangle 20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Rectangle 21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0" name="Rectangle 23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1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2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4" name="Line 27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0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28" name="Group 22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29" name="Group 18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0" name="Oval 4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Oval 5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Line 6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7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8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Line 9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Line 10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Line 11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Rectangle 12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Rectangle 13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14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Rectangle 15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Rectangle 16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17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Rectangle 19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5" name="Rectangle 20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6" name="Rectangle 21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5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48" name="Rectangle 23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9" name="Line 24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8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1" name="Rectangle 26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2" name="Line 27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18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6" name="Oval 4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Oval 5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Line 6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Line 7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Line 8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Line 9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Line 10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Rectangle 14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Rectangle 15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Rectangle 16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Rectangle 17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0" name="Rectangle 19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Rectangle 20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4" name="Rectangle 22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Line 23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76" name="Group 27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7" name="Rectangle 25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Line 26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9" name="Rectangle 28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8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3" name="Oval 4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Oval 5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5" name="Line 6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" name="Line 7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" name="Line 8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" name="Line 9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" name="Line 10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" name="Rectangle 12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2" name="Rectangle 13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Rectangle 15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" name="Rectangle 17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97" name="Rectangle 19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Rectangle 21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1" name="Rectangle 22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2" name="Line 23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03" name="Rectangle 25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Rectangle 26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Rectangle 27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Line 28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Group 17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09" name="Oval 3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0" name="Oval 4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" name="Line 7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" name="Rectangle 11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8" name="Rectangle 12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Rectangle 13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Rectangle 14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6" name="Group 23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7" name="Rectangle 21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9" name="Rectangle 24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Rectangle 25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Rectangle 26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Rectangle 27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Line 28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Group 51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Text Box 50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57" name="Picture 49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Picture 54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6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7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8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59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Text Box 61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Rectangle 62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Rectangle 63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Text Box 64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Rectangle 65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Text Box 66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Rectangle 67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Picture 69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0" descr="person5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1" descr="person8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5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6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77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Picture 19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person5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92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15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04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13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person7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Kole</cp:lastModifiedBy>
  <cp:lastPrinted>2000-03-30T20:56:41Z</cp:lastPrinted>
  <dcterms:modified xsi:type="dcterms:W3CDTF">2020-04-03T11:56:58Z</dcterms:modified>
  <cp:revision>283</cp:revision>
  <dc:subject/>
  <dc:title>Data Representation Methods</dc:title>
</cp:coreProperties>
</file>