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7C5-7B23-4CEF-9775-4068F7D7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936-0163-441C-8584-9A3D7509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DA3-74F6-4EDF-81B0-2BA926A5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BD6-E4F2-45D3-B041-BADA93EE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925-5B07-4AE0-994C-DB76901E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B68-1A3E-4614-BF4F-FBE3E71F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06A-A21A-4ED4-93F9-70EE35AA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00A-2C19-4C7A-A01C-294B1712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C7D-154B-4F72-823B-271FD613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483-7483-4A02-A98D-7CB22285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230-962B-48F0-B89A-14CFC0EC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86E-5661-4CB8-A56C-CBDA54A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3468-BC6E-4D4E-AD0E-EED4F8746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Kontrola pristupa na nivou sistema datote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omjena vlasničkih od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promjenu vla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hown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-R] new_owner object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promjenu grupe se koristi nare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chgrp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-R] new_</a:t>
            </a: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group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object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arametar R se koristi za rekurzivnu promjenu vlasništva nad direktorijumom i svim objektima koji se nalaze u nj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koliko se navede parametar R argument mora da bude direktorij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Vlasni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čki odnosi i prava prist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ntrolom pristupa na nivou sistema datoteka određ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kup korisnika koji mogu pristupiti datotekama i direktorijum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kup akcija koje korisnici mogu izvršavati (nivo pristu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sniva se na vlasništvu nad objektom i pravima prist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ava pristupa u sistemu datot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ava pristupa određuju skup korisnika koji mogu pristupati datotekama i direktorijumima i skup akcija koje ti korisnici mogu da izvrše nad n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ls –l prikazuje listing sadržaja direktorijuma u dugom formatu (parametar –l/*ong*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buhvaćene su sledeće informa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Tip objekta (- je datoteka, d je direktorijum,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a pristupa za tri vlasničke kategorije (vlasnik, grupa, ost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Korisničko ime val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Ime grupe kojoj objekat pri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ategorije pristupnih 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Vlasničke kategor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Vlasnik – korisnik koji je kreirao obje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Grupa – korisnička grupa kojoj je datoteka pridruž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Os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kup prava za svaku vlasničku kategor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čitanja (simbol r-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upisa (simbol w-wr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avo izvršavanja (simbol x-exec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Uvijek je prva pozicija pravo čitanja, druga pozicija pravo upisa i treća pravo izvrš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Ako se u na odgovarajućoj poziciji pojavi “-” tada je pravo uki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ava pristupa za datoteke i direktorij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datete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read – korisnik može da čita sadržaj datote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write – korisnik može modifikovati sadržaj datote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xecute – korisnik može izvršavati datot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Za direktorij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read – korisnik može da izvrši komandu 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write – korisnik može da dodaje nove i briše postojeće dototeke i poddirektorij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execute – korisnik može da izvršava komande cd, ls –l, fin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odrazumijevana prava prist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Dodjeljuju se na osnovu vrijednosti promjenljive umask koja je specifična za svakog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ada se mijenja potrebno je zadati tri oktalne cifre kao ag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nicijalna prava direktorijuma = 777 – u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Inicijalna prava datoteke = 666 &amp; comp(um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Promjena pristupnih 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Komanda ch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ava pristupa mogu da mijenjaju valsnici i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imbolički ili relativni rež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Oktalni ili apsolutni rež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a chmod simbolički rež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chmod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[-R] symbolic_mode object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symbolic_mode = category op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category je valsnička kategorija: u=vlasnik, g=grupa, ostali=o, sve kategorije=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op je operator koji djeluje na prava: + je dodjela prava, - je ukidanje prava, = je dodjela tačno određenih p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ermissions su prava: r za čitanje, w za modifikaciju, x za izvrš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Comic Sans MS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chmod go+w myfile (dodata prava upisa kategorijama group i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chmod u-w myfile (oduzeto upisa pravo vlasni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Komanda chmod oktalni rež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odjeljuju se prava pristupa svim vlasničkim kategorijama istovrem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Argument su tri oktalne cifre, jedna cifra predstavlja prava za jednu katego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Dodijeljena prava imaju vrijednost 2, ukinut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vako pravo se zatim stepenuje, a eksponent se određuje na osnovu pozicije prava (za čitanje je eksponent 2, za upis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, i izvršavanje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Saberu se vrijednosti i dobije se oktalni broj koji određuje prava pristupa za jednu vlasničku katego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3399"/>
                </a:solidFill>
                <a:latin typeface="Comic Sans MS"/>
              </a:rPr>
              <a:t>Primj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rwx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4 + 2 +1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-wx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0 + 2 + 1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Comic Sans MS"/>
              </a:rPr>
              <a:t>chmod 555 my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08:38:04Z</dcterms:created>
  <dc:creator>Savo Tomovic</dc:creator>
  <dc:description/>
  <dc:language>en-US</dc:language>
  <cp:lastModifiedBy>Luka Bulatovic</cp:lastModifiedBy>
  <dcterms:modified xsi:type="dcterms:W3CDTF">2017-10-23T18:23:05Z</dcterms:modified>
  <cp:revision>36</cp:revision>
  <dc:subject/>
  <dc:title>Kontrola pristupa na nivou sistema datoteka</dc:title>
</cp:coreProperties>
</file>