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FEB-7C7A-48A9-AE3F-EDB72AE2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655-F35E-4437-9EE9-28A7353F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63F-4531-4E3E-A5DE-C48C6DD3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BC2-4B6E-4701-930C-F947574D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450-272A-4FF0-A0F6-EAC40997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DA5-EB33-430E-A241-3816BD03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187-34BF-4671-B474-EC00E569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210-7E1E-46BF-961B-15CDD6CD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682-C2A6-4E74-9B9B-5FBE13CC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58C-ED97-44C2-BD81-844721EB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137-2FDF-4A7F-AC29-7E8C3986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05A-00C0-4A58-AC89-5D57D029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F7D5-D3AF-479E-A13B-A6CB3C36D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Rad sa datotekama iz komandne lin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Dobijanje pomo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ommand --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ma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interne  komande – info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info info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apropos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ikazuje ime i opis svih komandi koje u opisu imaju zadati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Lokatori koma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whereis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ikazuje lokaciju izvršnih datoteka, izvornog koda i prateće dokumentacije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ntaks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where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–bm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]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omadna which prikazuje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amo lokaciju izvršnih dat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ntaks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which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–a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]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kazivanje informacija o siste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uname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kazuje ime operativnog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uname –a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ikazuje pored imena operativnog sistema, arhitekturu hardvera i ime host račun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Određivanje tipa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grami koji rade u UNIX komandnoj liniji ne prepoznaju datoteke na osnovu eks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Tipovi dat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ekstualne datote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zvršne datote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atoteke u koje su smješteni po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ntaksa komande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file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fil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-z] [-f namefile] [-m magicfiles] file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dn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strings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za prikazivanje vidljivih karaktera u izvršnim ili binarnim datote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piranje datoteka i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39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p SOURC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piranje jedne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p source_fil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p a.a b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piranje grupe dat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p source_files dest_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cp a* /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piranje direktorijumskog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p –r source_dir dest_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p –r source_files dest_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p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r /etc /tmp/my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p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r a* /tmp/my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trebni i dovoljni uslovi za ko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iranje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a bi korisnik mogao da iskopira datoteku &lt;file&gt; iz direktorijuma &lt;dir1&gt; u direktorijum &lt;dir2&gt; potrebno je da ima sledeća dva 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r nad datotekom &lt;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w nad direktorijumom &lt;dir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mjeranje datoteka i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mv SOURC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jena imena i/ili pomjeranje jedne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source_fil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a.a b.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/home/a.a /tmp/a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/home/a.a /tmp/b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mjeranje grupe datote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source_files dest_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a* /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mv a?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0-9].txt /usr/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trebni i dovoljni uslovi za pomjeranje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a bi korisnik mogao da promijeni ime datoteke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&lt;file&gt; u direktorijumu &lt;dir1&gt; potrebno je da ima pravo w nad direktorijumom &lt;dir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pomjeranje datoteke &lt;file&gt; iz direktorijuma &lt;dir1&gt; u direktorijum &lt;dir2&gt; potrebno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r nad datotekom &lt;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w nad direktorijumom &lt;dir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w nad direktorijumom &lt;dir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Brisanje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rm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služi za brisanje datoteka i direkt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ntaks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rm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risanje jedne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rm file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rm a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risanje grupe datoteka iz istog direkt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rm group_of_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rm 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Rekurzivno brisanje direktorijumskog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rm –r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$ rm –r /tmp/my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slovi za brisanje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brisanje datoteke &lt;file&gt; iz direktorijuma &lt;dir&gt; potrebno je pravo w nad direktorijumom &lt;di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Komandni interpreter (sh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hell je interfejs između korisnika i jezgra operativnog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Funkcije komandnog interpre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nterpretacija komandne li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okretan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Redirekcija ulaza i izl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ovezivanje komandi u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hell program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Rad sa direktorijum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retanje po direktorijumskom stab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kazivanje sadržaja direkt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reiranje i brisanje direkt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piranje, pomjeranje i brisanje direktorijumskog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retanje po direktorijumskom stab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pwd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prikazuje apsolutnu putanju tekućeg direktoriju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Tekući direktorijum se mijenja komandom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d 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cd ~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(prelazak na home direktorijum korisnik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cd ..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(prelazak na roditeljski direktorij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kazivanje sadržaja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l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options]  [dir] [filespe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&lt;filespec&gt; formira se pomoću džoker karaktera i određuje koji se objekti prikazu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&lt;dir&gt; određuje direktorijum čiji se sadržaj prikaz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&lt;options&gt; (ako se ne navedu prikazuju se samo imena objekata u abecednom red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R  rekurzivno se prikazuje sardžaj svih poddirektoruj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l   osim imena i informacije upisane u i-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1  samo imena objek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r  imena objekata sortirana u opadajućem redosl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d  prikazuju se imena direktorij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kazivanje sadržaja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r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prikazivanje inverzno sortiranih imena objekata tekućeg direktoriju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l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prikazivanje konteksta svih objekata tekućeg direktoriju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R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prikazivanje imena objekata tekućeg direktorijuma i svih poddirektoriju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reiranje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mkdi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options] 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a opcijom –p komanda će kreirati i roditeljski direktorijum ukoliko on već ne posto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Brisanje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rmdi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-p] 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riše se isključivo prazan direktorijum, sa opcijom –p uklanja se i stablo roditeljskih direktorijuma ako su pra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rmdir –p /backup/tape1/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ethodno je ekvivalentno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rmdir /backup/tape1/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rmdir /backup/ta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rmdir /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om rm se uklanjaju cijela direktorijumska stabla sa datote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rm –r /bac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piranje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p dir1 di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pija se formira u obliku dir2/di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irektorijum se ne može iskopirati pod drugim im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etraživanje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find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traži datoteke čiji atributi zadovoljavaju kriterijume pretage u direktorijumu koji je naveden kao početna tačka pretrage i svim poddirektorijum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 traži se datoteka myfile.txt u cijelom aktivnom stab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find / -name myfile.txt -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 traže se sve datoteke koje pripadaju korisniku jsmith veličine najmanje 50 blo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find / -user jsmith –size +50 -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etraživanje direktor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rgumenti komande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find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Kriterijumi pre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Akcioni izr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Kvalifikatori pret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sadrži jedan ili više kriterijuma pretrage, jedan akcioni izraz, i opciono  kvalifikator pre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1" lang="sr-Latn-CS" sz="3200" spc="-1" strike="noStrike">
                <a:solidFill>
                  <a:srgbClr val="ff0000"/>
                </a:solidFill>
                <a:latin typeface="Comic Sans MS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riterijumi pre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me datoteke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–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Veličina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–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Vlasnik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us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cioni izra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Štampanje apsolutne putanje i imena datoteke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–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valifikatori pret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prečava da pretraga pređe granice sistema datoteka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Interpretacija komand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na linija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comman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opcije] [argument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može da b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Eks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cije i argumenti su parametri koje shell prenosi komandi (npr. ime datote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razdvajanje djelova komandne linije se koristi razmak (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Više komadi u istoj komadnoj liniji razdvojene sa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Rad sa tekstualnim datote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agledanje sadržaja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rojanje karaktera, riječi i li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poređivanje i uređivanje sadržaja dat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Traženje teksta u datot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Ekranski editori teksta vi, joe i j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egledanje sadržaja tekstualne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cat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= Concatenate and Append to th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a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-s]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a opcijom –s se nikad ne prikazuje vi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še od jedne prazne li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se koristi za prikaz sardžaja datoteke ekran po ek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less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ozvoljava dvosmjernu navigaciju po datot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kazivanje početka i kraja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head –n 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n je broj linija koje se prikazu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head -3 /etc/pass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tail -3 /etc/pass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Brojanje karaktera, riječi i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word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wc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-cwl] fil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a karakte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–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za rij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i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–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za linije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–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bez opcija prikazuje sve tri vrij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wc –l /etc/pass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wc /tmp/my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poređivanje sadržaja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mp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-l | -s] file1 file2 [skip1 [skip2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1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prikazuje broj svakog karaktera koji se razlikuje i oktalnu vrijednost ASCII koda tog karak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-s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ne prikazuje rezultat na ekranu, već samo vraća izlazni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rgumenti skip1 i skip2 su redni brojevi karaktera od kojih počinje da se vrši upoređ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zlazni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0 datoteke su identič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1 datoteke se razliku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&gt;1 pojavila se greš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poređivanje sadržaja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diff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option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]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from-file to-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koliko je from-file direktorijum upoređuju se datoteke from-file/to-file i to-file (slično ako je to-file direktorij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koliko su oba parametra direktorijumi upoređuju se datoteke sa istim imenima iz ovih direktorij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i ignoriše razilike između malih i velikih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w ignoriše bj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b ignoriše blanko znake na kraju li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zlazni status je kao i kod komande c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diff –i letter1.txt letter2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ređivanje sadržaja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sor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OPTION]…[FILE]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b ignoriše blanko karaktere na početku li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f ne pravi razliku između malih i velikih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-r inverzno sor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sort my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prema tekstualnih datoteka za šta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prema obuh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odjelu datoteke na stra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Numerisanje stra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Navođenje datuma i imena datoteke u zagalv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pr /etc/passwd &gt; /tmp/fpass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štampanje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at /tmp/fpasswd &gt; /dev/l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djela tekstualnih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split condition inputfile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Gdje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condition – uslov podjele (npr. broj bajtova ili linija po jednom dije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nputfile – datoteka koja se dij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efix – prefiks na osnovu koga se formiraju nove datote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mena novih datoteka su prefixaa, prefixab,...,prifixba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split –b8 myfile mypiec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jelovi su veličine 8 bajt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split –l2 myfile mypiec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jelovi su veličine 2 lin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Uklananje duplikata linija iz datote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un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uniq duplicates.txt &gt; noduplicates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lternativno ime kom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inta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$ alias aliasname=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alias c=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alias home=“cd; 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om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alias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se prikazuju unaprijed dodijeljni alij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om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unalias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se mogu ukloniti dodijeljeni alij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Redirekcija ulaza i iz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Većina komandi koristi tastaturu kao standardni ulaz, a monitor kao standardni izl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NIX omogućava da se ulaz i izlaz preusmj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laz komande se preusmjerava 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ommand &lt; input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wc –l &lt; /tmp/myfile.txt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(standardni ulaz sa tastature zamijenjen je tekstualnom datotek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Redirekcija izlaza u datoteku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ls –l /home &gt; my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reiranje prazne datoteke: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&gt; empty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vezivanje komandi u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ipeline – standardni izlaz komande sa lijeve strane znaka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|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staje ulaz za komandu sa desne st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pšta sintaksa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$ command1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|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command2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|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..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|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comman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Brojanje datoteka u direktorijumu /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s –l /etc | wc 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Brojanje korisnika koji su prijavljeni na sistem a ime im počinje sa “a” i prikazuje ih sortirane po abecednom 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$ finger | grep a* | wc –l |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Zamjena imena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žoker karak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mijenja bilo koji niz znakova proizvoljne du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?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mijenja bilo koji znak (tačno jedan zn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poc-kraj]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mijenja ta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no jedan znak iz ops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d /var/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d /?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ls –d /etc/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a-d][a-d]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Traženje teksta u datot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grep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 = Global Regular Expression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zvršava globalnu pretragu datoteke, traži regularni izraz i štampa na ekranu linije u kojima je taj izraz pronađ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grep only my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Tačka (.) može da zamijeni bilo koji karakter osim novog 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grep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‘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w.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’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 myfile.txt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mora pod apostrof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zorak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[abc12] mijenja bilo koji od karaktera a,b,c,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$ grep ‘w[fhmkz]’ my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ra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ženje teksta u datot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o je prvi karakter u uglastim zagr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ama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^ onda se interpretira kao bilo koji karakter koji se ne nalazi u navedenom sk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$ grep ‘w[^fhmkz]’ my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pseg se formuli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še pomoću znaka minus, npr.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[a-zA-Z] odgovara svim malim i velikim slo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gularnim izrazom oblika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karakter\{min,max\}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može se specificirati koliko puta karakter treba da se pon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grep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‘p\{2,4\}’ myfil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Karakter * ozna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čava nula ili više ponavljanja nekog regularnog iz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X* se interpretira kao prazan string, X, XX, XXX,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Traženje teksta u datot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o se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^ navede kao 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vi karakter regularnog izraza uzorak se upoređuje sa početkom li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^[Tt]he odgovara svim linijama datoteke koje po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nju sa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tringom the ili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o se $ navede kao poslednji karakter regularnog izraza, uzorak se upoređuje sa krajem li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[Tt]h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$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odgovara svim linijama datoteke koj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e završavaju stringovima the ili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 složenog regularnog izraza (američki da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[A-Z][a-z]\{2,8\} [0-9]\{1,2\}, [0-9]\{4\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ra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ženje teksta u datot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g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grep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options] LRE [file(s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Gdje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RE osnovni regularni iz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les je skup datoteka koje se pretra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žu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opcij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Comic Sans MS"/>
              </a:rPr>
              <a:t>-c broj linija u kojima je nađen uzo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Comic Sans MS"/>
              </a:rPr>
              <a:t>-i ignoriše razliku između malih i velikih sl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33399"/>
                </a:solidFill>
                <a:latin typeface="Comic Sans MS"/>
              </a:rPr>
              <a:t>-n prije svake linije prikazuje se i redni broj lin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eg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egrep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[options] 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 [file(s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FRE je prošireni regularni izr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R+ jedno ili više pojavljivanja izraz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R? jedno ili ni jedno pojavljivanje izraz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R1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| R2 tr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ži se regularni izraz R1 ili R2 (logičko i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(R) grupiše se veći broj regularnih izr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Traženje teksta u datote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raženje linija koje sadrže najmanje dva uzastopna velika slova u datotekama file1.txt i file2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egrep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‘[A-Z][A-Z]+’ file1.txt file2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raženje linija koje sadrže stringove UNIX ili Linux u datotekama file1.txt i file2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egrep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‘UNIX | Linux’ file1.txt file2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raženje linija koje sadrže riječi cut ili cat u datoteci file1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Comic Sans MS"/>
              </a:rPr>
              <a:t>$ egrep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(a|u)t’ file1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Kr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navljanje komand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vaka komanda se upisuje u history datote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who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f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history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Shell promjenlj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jenljive se mogu klasifikovati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Lok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omjenljive okru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Lokalne promjenlj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VARIABLE=valu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dodjeljivanje vrijednosti promjenljivo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unset VARIABL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uklanjanje promjenlj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echo $VARIABLE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prikaz vrijednosti promjenlj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set 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(vrijednosti svih promjenljivih vidljivih iz tekućeg sh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jenljive okruž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export VARIABLE=value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(izvođenje promjenljivi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env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 (prikazuje promjenljive okruže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ilagođavanje promp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odrazumijevano je odziv u bash shell-u znak $ za obične korisnike, a # za superu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ompt se mijenja pomoću lokalne promjenljive PS1 (prompt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Comic Sans MS"/>
              </a:rPr>
              <a:t>$ PS1=“Good morning $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pecijalni karakteri pomoću kojih se može formirati prom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u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korisni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ko 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d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eku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ć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h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me host ra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č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n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\W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eku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ć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i direktorij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znati komandni interpre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ourne shell (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C shell (c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Bourne-again shell (ba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rn shell (k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Osnovne komande za rad sa datote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obijanje pomoć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Lokatori koma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dređivanje tipa datote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nformacije o siste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09:44:38Z</dcterms:created>
  <dc:creator>Savo Tomovic</dc:creator>
  <dc:description/>
  <dc:language>en-US</dc:language>
  <cp:lastModifiedBy>Luka Bulatovic</cp:lastModifiedBy>
  <dcterms:modified xsi:type="dcterms:W3CDTF">2017-11-04T11:59:41Z</dcterms:modified>
  <cp:revision>174</cp:revision>
  <dc:subject/>
  <dc:title>Rad sa datotekama iz komandne linije</dc:title>
</cp:coreProperties>
</file>