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74C-B176-4E77-8A91-3FCDAE7341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17E1-0506-4FF6-891F-ADC0928C61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2317-E163-4862-A5B2-62F3B3ECD2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FE5-8908-44B8-93D5-3EC0F2EC26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F11-3A73-44AF-ADFB-EADB2A6217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FA6-67ED-4294-A674-2087723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30E-7992-4345-B171-E50C839D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5DE-FFEF-439A-8A0B-7BCB2503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B82-B0FA-4A88-9763-E1E982F7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7CB-EEDD-4B8A-B0DB-A56DB0F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2D8-D78D-44CA-BCC9-54CC8B6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82F-2B9C-4E5E-9651-B0D8FD0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F06-9064-4B6F-A2CF-C78A41C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3D4-5A44-4209-87AF-3BE4768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F1A-C6BA-41AD-9375-C953AAB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48A-D33B-467B-9A41-F2D293A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E87-114E-4406-A732-17852FD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51E-D514-4BBB-BED2-CD1D35A2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– ovo je lo</a:t>
            </a:r>
            <a:r>
              <a:rPr b="0" lang="sr-Latn-RS" sz="2400" spc="-1" strike="noStrike">
                <a:solidFill>
                  <a:srgbClr val="ff0033"/>
                </a:solidFill>
                <a:latin typeface="Times New Roman"/>
              </a:rPr>
              <a:t>še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6" name="Group 5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8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12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Line 13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14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15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Line 16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Line 19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20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Rectangle 21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Rectangle 22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Rectangle 23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Rectangle 24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Rectangle 25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Rectangle 26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Rectangle 27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Rectangle 29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35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0" name="Rectangle 1028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Rectangle 1029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Rectangle 1030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031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Rectangle 1032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Rectangle 1033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Rectangle 1034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7" name="Rectangle 1036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8" name="Group 1051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69" name="Oval 1037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Oval 1038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Line 1039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Line 1040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Line 1041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Line 1042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Line 1043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Line 1044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Rectangle 1045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1046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1047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1048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Rectangle 1049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Rectangle 1050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Rectangle 1027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Group 1046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6" name="Group 1042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7" name="Oval 1028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Oval 1029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1030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1031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Line 1032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1033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1034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Line 1035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Rectangle 1036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Rectangle 1037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Rectangle 1038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39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Rectangle 1040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Rectangle 1041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1043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Rectangle 1044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Rectangle 1045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7" name="Group 18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08" name="Oval 4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Oval 5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Line 8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Line 9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Line 11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19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Rectangle 20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7" name="Group 22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28" name="Group 18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29" name="Oval 4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0" name="Oval 5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1" name="Line 6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4" name="Line 9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" name="Line 10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" name="Line 11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Rectangle 19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7" name="Rectangle 23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0" name="Rectangle 26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3" name="Group 43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4" name="Oval 29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Oval 30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Line 31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Line 32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" name="Line 33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9" name="Line 34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Line 35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Line 36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4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Rectangle 46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1" name="Group 50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2" name="Rectangle 48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49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4" name="Group 53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5" name="Rectangle 51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52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8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79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0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1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299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2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08" name="Group 18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Rectangle 12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Rectangle 13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Rectangle 14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Rectangle 15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Rectangle 16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" name="Rectangle 17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Rectangle 19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21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6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7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0" name="Rectangle 25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1" name="Line 26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Rectangle 29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6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38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59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POT-L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POT-R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4" name="Group 17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5" name="Oval 3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6" name="Oval 4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" name="Line 5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9" name="Line 7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" name="Line 8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" name="Rectangle 12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5" name="Rectangle 13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Rectangle 14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Rectangle 15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8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3" name="Rectangle 22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5" name="Group 27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6" name="Rectangle 25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28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31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2" name="Group 21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3" name="Group 17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4" name="Oval 3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5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6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1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12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13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14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15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16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Rectangle 18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" name="Rectangle 19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Rectangle 20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24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2" name="Rectangle 22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Line 23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27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5" name="Rectangle 25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6" name="Line 26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Rectangle 28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2" name="Group 22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3" name="Group 18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4" name="Oval 4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5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7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8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9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10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11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2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3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4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6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7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Rectangle 19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" name="Rectangle 20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5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" name="Line 24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" name="Line 27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0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3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4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5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6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7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8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9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Rectangle 20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68" name="Rectangle 23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9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0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2" name="Line 27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6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7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1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4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9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0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4" name="Rectangle 23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6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8" name="Line 27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2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3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0" name="Rectangle 23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1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2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4" name="Line 27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0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29" name="Group 18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0" name="Oval 4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5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7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8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9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10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11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12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13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14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5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6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7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Rectangle 19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5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48" name="Rectangle 23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" name="Line 24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8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1" name="Rectangle 26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2" name="Line 27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6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0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4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7" name="Rectangle 25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Line 26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Rectangle 28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3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7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1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3" name="Rectangle 25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Line 28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Group 17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09" name="Oval 3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Oval 4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Rectangle 12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6" name="Group 23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7" name="Rectangle 21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9" name="Rectangle 24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Line 28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Group 51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Text Box 50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57" name="Picture 49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Picture 54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6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8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61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Rectangle 6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Rectangle 65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6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6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6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1" descr="person8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6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7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Picture 1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92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15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4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3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erson7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Kole</cp:lastModifiedBy>
  <cp:lastPrinted>2000-03-30T20:56:41Z</cp:lastPrinted>
  <dcterms:modified xsi:type="dcterms:W3CDTF">2020-04-03T11:56:58Z</dcterms:modified>
  <cp:revision>283</cp:revision>
  <dc:subject/>
  <dc:title>Data Representation Methods</dc:title>
</cp:coreProperties>
</file>