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5D7-3384-45EF-8111-512B1848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C37-EDF2-4A3F-BE75-25F6DD4B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0F4-2A36-4908-9885-4A2EEB20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863-CC0A-445C-B9E6-51C6742F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5EB-CA74-42B0-A70E-E9AC47E9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272-153A-483A-A8A4-126C7ABA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4CC-24C9-4C43-94EC-3D24D47E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8D5-868C-4496-BAD3-37FF2327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286-11FC-4CDA-8380-75FD2217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FC4-B9D9-4F53-8D38-C3816AE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60E-BEA6-4097-B2B5-2E29B321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F44-3932-4794-8DAA-534D3160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0147-2BBE-497F-A5C3-46A3F85A5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Kontrola pristupa na nivou sistema datote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omjena vlasničkih od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promjenu vla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hown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-R] new_owner object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promjenu grupe se koristi nare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chgrp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-R] new_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grou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bject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arametar R se koristi za rekurzivnu promjenu vlasništva nad direktorijumom i svim objektima koji se nalaze u nj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koliko se navede parametar R argument mora da bude direktorij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Vlasni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čki odnosi i prava prist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ntrolom pristupa na nivou sistema datoteka određ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kup korisnika koji mogu pristupiti datotekama i direktorijum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kup akcija koje korisnici mogu izvršavati (nivo pristu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sniva se na vlasništvu nad objektom i pravima prist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ava pristupa u sistemu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ava pristupa određuju skup korisnika koji mogu pristupati datotekama i direktorijumima i skup akcija koje ti korisnici mogu da izvrše nad 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ls –l prikazuje listing sadržaja direktorijuma u dugom formatu (parametar –l/*ong*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buhvaćene su sledeće informa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ip objekta (- je datoteka, d je direktorijum,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a pristupa za tri vlasničke kategorije (vlasnik, grupa, ost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orisničko ime val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me grupe kojoj objekat pri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ategorije pristupnih 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Vlasničke kategor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Vlasnik – korisnik koji je kreirao obje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Grupa – korisnička grupa kojoj je datoteka pridruž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Os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kup prava za svaku vlasničku kategor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čitanja (simbol r-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upisa (simbol w-wr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izvršavanja (simbol x-exec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vijek je prva pozicija pravo čitanja, druga pozicija pravo upisa i treća pravo izvrš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se u na odgovarajućoj poziciji pojavi “-” tada je pravo uki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ava pristupa za datoteke i direktorij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datete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read – korisnik može da čita sadržaj datote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write – korisnik može modifikovati sadržaj datote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xecute – korisnik može izvršavati datot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direktorij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read – korisnik može da izvrši komandu 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write – korisnik može da dodaje nove i briše postojeće dototeke i poddirektorij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xecute – korisnik može da izvršava komande cd, ls –l, fin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drazumijevana prava prist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odjeljuju se na osnovu vrijednosti promjenljive umask koja je specifična za svakog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ada se mijenja potrebno je zadati tri oktalne cifre kao ag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nicijalna prava direktorijuma = 777 – u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nicijalna prava datoteke = 666 &amp; comp(um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omjena pristupnih 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ch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ava pristupa mogu da mijenjaju valsnici i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mbolički ili relativni rež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ktalni ili apsolutni rež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a chmod simbolički rež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chmod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-R] symbolic_mode object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ymbolic_mode = category op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category je valsnička kategorija: u=vlasnik, g=grupa, ostali=o, sve kategorije=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op je operator koji djeluje na prava: + je dodjela prava, - je ukidanje prava, = je dodjela tačno određenih p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ermissions su prava: r za čitanje, w za modifikaciju, x za izvrš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chmod go+w myfile (dodata prava upisa kategorijama group i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chmod u-w myfile (oduzeto upisa pravo vlasni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a chmod oktalni rež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odjeljuju se prava pristupa svim vlasničkim kategorijama istovrem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Argument su tri oktalne cifre, jedna cifra predstavlja prava za jednu katego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odijeljena prava imaju vrijednost 2, ukinut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vako pravo se zatim stepenuje, a eksponent se određuje na osnovu pozicije prava (za čitanje je eksponent 2, za upis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, i izvršavanje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aberu se vrijednosti i dobije se oktalni broj koji određuje prava pristupa za jednu vlasničku katego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rwx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4 + 2 +1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-wx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0 + 2 + 1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chmod 555 my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08:38:04Z</dcterms:created>
  <dc:creator>Savo Tomovic</dc:creator>
  <dc:description/>
  <dc:language>en-US</dc:language>
  <cp:lastModifiedBy>Luka Bulatovic</cp:lastModifiedBy>
  <dcterms:modified xsi:type="dcterms:W3CDTF">2017-10-23T18:23:05Z</dcterms:modified>
  <cp:revision>36</cp:revision>
  <dc:subject/>
  <dc:title>Kontrola pristupa na nivou sistema datoteka</dc:title>
</cp:coreProperties>
</file>