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ABC-D824-4521-9F1C-44B2D71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0A3-046D-4F2F-8DAC-61C388DE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739-9630-43BF-8B0D-D52B82EA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2F0-9748-4CC2-B7AB-D912B298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EA4-BD56-4EE2-83CF-3F0314D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29D-63A6-4965-A454-5129164D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5FB-BB5C-4B5E-93BB-C57666B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32F-629F-4BFB-932E-3C87AF6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578-F56F-4BC9-AE8B-31B08EE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9D5-2FBF-420E-BE6F-8ECCEAD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AEB-6837-4507-81A9-F5C280D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3F4-599C-45F3-8290-87DF761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3321-2A93-4CC3-AA4E-4CF4C393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ad sa datotekama iz komandne lin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Dobijanje po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 --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a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interne  komande – info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info info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apropo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ime i opis svih komandi koje u opisu imaju zadati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Lokatori kom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wherei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lokaciju izvršnih datoteka, izvornog koda i prateće dokumentacije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here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–bm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dna which prikazuj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amo lokaciju izvršnih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hic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–a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informacija o sist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m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uje ime operativnog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me –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pored imena operativnog sistema, arhitekturu hardvera i ime host raču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dređivanje tip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i koji rade u UNIX komandnoj liniji ne prepoznaju datoteke na osnovu eks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ipovi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ekstualn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zvršn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toteke u koje su smješten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 komande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l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l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-z] [-f namefile] [-m magicfiles] fil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dn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string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za prikazivanje vidljivih karaktera u izvršnim ili binarnim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piranje datoteka i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39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p SOURC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source_fi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a.a b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grupe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cp a* 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–r source_dir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–r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p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r /etc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p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r a*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trebni i dovoljni uslovi za ko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ranj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korisnik mogao da iskopira datoteku &lt;file&gt; iz direktorijuma &lt;dir1&gt; u direktorijum &lt;dir2&gt; potrebno je da ima sledeća dva 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r nad datotekom &lt;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mjeranje datoteka i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v SOURC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a imena i/ili pomjer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source_fi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.a b.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/home/a.a /tmp/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/home/a.a /tmp/b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mjeranje grupe datote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* 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?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0-9].txt /usr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trebni i dovoljni uslovi za pomjer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a bi korisnik mogao da promijeni ime datotek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file&gt; u direktorijumu &lt;dir1&gt; potrebno je da ima pravo w nad direktorijumom &lt;dir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omjeranje datoteke &lt;file&gt; iz direktorijuma &lt;dir1&gt; u direktorijum &lt;dir2&gt; 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r nad datotekom &lt;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is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rm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luži za brisanje datoteka i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rm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s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fil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sanje grupe datoteka iz istog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group_of_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kurzivno bris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–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–r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slovi za bris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brisanje datoteke &lt;file&gt; iz direktorijuma &lt;dir&gt; potrebno je pravo w nad direktorijumom &lt;di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omandni interpreter (sh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je interfejs između korisnika i jezgra operativnog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Funkcije komandnog interp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pretacija komand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kretan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vezivanje komandi u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hell program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ad sa direktorijum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tanje po direktorijumskom st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iranje i brisanje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, pomjeranje i bris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retanje po direktorijumskom stab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pw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apsolutnu putanju tekućeg direktorij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ekući direktorijum se mijenja 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d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d ~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elazak na home direktorijum korisni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cd ..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elazak na roditeljski direktorij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l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s]  [dir] [filesp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filespec&gt; formira se pomoću džoker karaktera i određuje koji se objekti prika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dir&gt; određuje direktorijum čiji se sadržaj prikaz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options&gt; (ako se ne navedu prikazuju se samo imena objekata u abecednom re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 rekurzivno se prikazuje sardžaj svih poddirektoruj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   osim imena i informacije upisane u i-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1  samo imena ob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 imena objekata sortirana u opadajućem redosl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d  prikazuju se imena direktorij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r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inverzno sortiranih imena objekata tekućeg 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l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konteksta svih objekata tekućeg 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R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imena objekata tekućeg direktorijuma i svih pod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reir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kdi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s]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a opcijom –p komanda će kreirati i roditeljski direktorijum ukoliko on već ne posto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is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rmdi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p]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še se isključivo prazan direktorijum, sa opcijom –p uklanja se i stablo roditeljskih direktorijuma ako su pra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dir –p /backup/tape1/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ethodno je ekvivalentno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/tape1/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/ta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rm se uklanjaju cijela direktorijumska stabla sa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–r /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pir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p dir1 di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ja se formira u obliku dir2/di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irektorijum se ne može iskopirati pod drugim im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traživ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n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traži datoteke čiji atributi zadovoljavaju kriterijume pretage u direktorijumu koji je naveden kao početna tačka pretrage i svim poddirektorij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traži se datoteka myfile.txt u cijelom aktivnom st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d / -name myfile.txt -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traže se sve datoteke koje pripadaju korisniku jsmith veličine najmanje 50 blo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d / -user jsmith –size +50 -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traživ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rgumenti komande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n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riterijumi pre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Akcioni izr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valifikatori pre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sadrži jedan ili više kriterijuma pretrage, jedan akcioni izraz, i opciono  kvalifikator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iterijumi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datotek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eličina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lasnik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cioni izr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Štampanje apsolutne putanje i imena datotek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valifikatori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prečava da pretraga pređe granice sistema datoteka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nterpretacija komand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na linij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cije] [argument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može da b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ks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 i argumenti su parametri koje shell prenosi komandi (npr. ime datote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razdvajanje djelova komandne linije se koristi razmak (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iše komadi u istoj komadnoj liniji razdvojene sa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ad sa tekstualnim datote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gledanje sadržaja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ojanje karaktera, riječi i li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poređivanje i uređivanje sadržaja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Ekranski editori teksta vi, joe i j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gledanje sadržaja tekstualn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at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= Concatenate and Append to th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a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s]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 opcijom –s se nikad ne prikazuje v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še od jedne prazne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koristi za prikaz sardžaja datoteke ekran po 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less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zvoljava dvosmjernu navigaciju po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početka i kraj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head –n 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 je broj linija koje se prika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head -3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tail -3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ojanje karaktera, riječi i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word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c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cwl] 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a karakt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–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a rij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i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za linij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ez opcija prikazuje sve tri vrij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c –l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c /tmp/my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poređivanje sadržaj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mp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l | -s] file1 file2 [skip1 [skip2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prikazuje broj svakog karaktera koji se razlikuje i oktalnu vrijednost ASCII koda tog karak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s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ne prikazuje rezultat na ekranu, već samo vraća izlazni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rgumenti skip1 i skip2 su redni brojevi karaktera od kojih počinje da se vrši upoređ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lazni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0 datoteke su identi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1 datoteke se razlik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&gt;1 pojavila se gr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poređivanje sadržaj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dif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option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rom-file to-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je from-file direktorijum upoređuju se datoteke from-file/to-file i to-file (slično ako je to-file direktorij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u oba parametra direktorijumi upoređuju se datoteke sa istim imenima iz ovih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i ignoriše razilike između malih i velikih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w ignoriše bj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b ignoriše blanko znake na kraju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lazni status je kao i kod komande 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diff –i letter1.txt letter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ređivanje sadržaj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sor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]…[FILE]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b ignoriše blanko karaktere na početku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f ne pravi razliku između malih i velikih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inverzno sor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ort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prema tekstualnih datoteka za šta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prema obuh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djelu datoteke na str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umerisanje str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avođenje datuma i imena datoteke u zagalv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pr /etc/passwd &gt; /tmp/f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štampanje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at /tmp/fpasswd &gt; /dev/l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djela tekstualnih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split condition inputfile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Gdj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ondition – uslov podjele (npr. broj bajtova ili linija po jednom dij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putfile – datoteka koja se dij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efix – prefiks na osnovu koga se formiraju nov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novih datoteka su prefixaa, prefixab,...,prifixba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plit –b8 myfile mypiec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jelovi su veličine 8 bajt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plit –l2 myfile mypiec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jelovi su veličine 2 lin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klananje duplikata linija iz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uniq duplicates.txt &gt; noduplicates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lternativno ime ko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$ alias aliasname=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alias c=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alias home=“cd; 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alia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prikazuju unaprijed dodijeljni alij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lia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mogu ukloniti dodijeljeni alij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ećina komandi koristi tastaturu kao standardni ulaz, a monitor kao standardni iz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NIX omogućava da se ulaz i izlaz preusmj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laz komande se preusmjerav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 &lt; input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wc –l &lt; /tmp/myfile.txt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(standardni ulaz sa tastature zamijenjen je tekstualnom datotek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izlaza u datoteku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ls –l /home &gt; my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iranje prazne datoteke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&gt; empty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vezivanje komandi u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ipeline – standardni izlaz komande sa lijeve strane znak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staje ulaz za komandu sa desne st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šta sintaks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2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..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anje datoteka u direktorijumu /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s –l /etc | wc 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anje korisnika koji su prijavljeni na sistem a ime im počinje sa “a” i prikazuje ih sortirane po abecednom 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$ finger | grep a* | wc –l |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Zamjena imen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žoker karak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mijenja bilo koji niz znakova proizvoljne du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mijenja bilo koji znak (tačno jedan zn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poc-kraj]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mijenja ta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no jedan znak iz ops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var/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?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etc/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a-d][a-d]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grep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= Global Regular Expressio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vršava globalnu pretragu datoteke, traži regularni izraz i štampa na ekranu linije u kojima je taj izraz prona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only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ačka (.) može da zamijeni bilo koji karakter osim novog 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‘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w.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myfile.tx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mora pod apostrof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zorak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abc12] mijenja bilo koji od karaktera a,b,c,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$ grep ‘w[fhmkz]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ra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je prvi karakter u uglastim zag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m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^ onda se interpretira kao bilo koji karakter koji se ne nalazi u navedenom sk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$ grep ‘w[^fhmkz]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seg se formul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še pomoću znaka minus, npr.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a-zA-Z] odgovara svim malim i velikim sl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gularnim izrazom oblika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karakter\{min,max\}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se specificirati koliko puta karakter treba da se pon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‘p\{2,4\}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arakter * ozn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ava nula ili više ponavljanja nekog regularnog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X* se interpretira kao prazan string, X, XX, XXX,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^ navede kao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vi karakter regularnog izraza uzorak se upoređuje sa početkom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^[Tt]he odgovara svim linijama datoteke koje po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ju sa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ingom the ili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$ navede kao poslednji karakter regularnog izraza, uzorak se upoređuje sa krajem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Tt]h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odgovara svim linijama datoteke koj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e završavaju stringovima the ili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 složenog regularnog izraza (američki da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A-Z][a-z]\{2,8\} [0-9]\{1,2\}, [0-9]\{4\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ra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options] LRE [file(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Gdje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RE osnovni regularni iz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es je skup datoteka koje se pretra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ž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opci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c broj linija u kojima je nađen uzo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i ignoriše razliku između malih i velikih sl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n prije svake linije prikazuje se i redni broj lin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e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options]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 [file(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FRE je prošireni regularni izr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+ jedno ili više pojavljivanja izraz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? jedno ili ni jedno pojavljivanje izraz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1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| R2 tr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ži se regularni izraz R1 ili R2 (logičko i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(R) grupiše se veći broj regularnih iz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najmanje dva uzastopna velika slova u datotekama file1.txt i file2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‘[A-Z][A-Z]+’ file1.txt file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stringove UNIX ili Linux u datotekama file1.txt i file2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‘UNIX | Linux’ file1.txt file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riječi cut ili cat u datoteci file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(a|u)t’ file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Kr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navljanje komand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vaka komanda se upisuje u history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ho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histor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Shell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se mogu klasifikovati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k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mjenljive okru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kalne promjenlj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VARIABLE=valu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odjeljivanje vrijednosti promjenljivo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unset VARIAB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uklanjanje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cho $VARIAB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 vrijednosti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e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vrijednosti svih promjenljivih vidljivih iz tekućeg s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okruž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xport VARIABLE=valu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izvođenje promjenljivi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nv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ikazuje promjenljive okruže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lagođavanje prom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drazumijevano je odziv u bash shell-u znak $ za obične korisnike, a # za superu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pt se mijenja pomoću lokalne promjenljive PS1 (prompt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PS1=“Good morning $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pecijalni karakteri pomoću kojih se može formirati prom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korisni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ko 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k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h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me host ra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W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k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direktorij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znati komandni interpre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ourne shell (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 shell (c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ourne-again shell (ba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rn shell (k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snovne komande za rad sa datote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bijanje pomo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katori koma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dređivanje tipa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formacije o sist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9:44:38Z</dcterms:created>
  <dc:creator>Savo Tomovic</dc:creator>
  <dc:description/>
  <dc:language>en-US</dc:language>
  <cp:lastModifiedBy>Luka Bulatovic</cp:lastModifiedBy>
  <dcterms:modified xsi:type="dcterms:W3CDTF">2017-11-04T11:59:41Z</dcterms:modified>
  <cp:revision>174</cp:revision>
  <dc:subject/>
  <dc:title>Rad sa datotekama iz komandne linije</dc:title>
</cp:coreProperties>
</file>