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1CA-7B74-42FB-8B87-0EA04E50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E61-4301-4C82-BC5F-B6EEA090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070E-53FD-486D-A7D3-AE1C23FB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A820-BA4F-49BB-9614-69D4B6B1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048-1C4E-4978-A701-0BE2B8C3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3CF-80E4-475C-830B-B9D8542B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EDA-0902-412C-86C4-EB8AD35B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67B-2BA0-4BFE-9F98-79202B9C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03B0-D888-4179-A93F-626D46CF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CD12-3C8C-4F54-B64E-200CD2E5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150-E9E1-44B3-B960-EAC55C8E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983-F259-4C31-9CC4-F4C675FE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7601-CAA7-4A8C-8045-484BACCD7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hell program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mande specifične za shell program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echo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prikazuje tekst ili vrijednost promjenljive na ekranu. Sintak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echo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[opcije] [string, promjenljive…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pci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n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ne prebacuje kursor u novi red nakon izvr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šenja kom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e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nterpretira karaktere u kombinaciji sa kosom cr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\a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upozor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\n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novi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\\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brnuta kosa cr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$ echo –e “Linux\n\t\tOS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!\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mande specifične za shell program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Navod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vostruki navodnici (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ve što je u ovim navodnicima gubi originalno značenje, osim $ i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\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Jednostruki navodnici (sve što je zatvoreno jednostrukim navodnicima ostaje nepromijenje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Obrnuti navodnici (izraz zatvoren ovim navodnicima se tretira kao komanda koju treba izvrši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echo “Današnji datum je: d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Današnji datum je: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echo “Današnji datum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je: `date`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Današnji datum je: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Fri Apr 2 16:30:35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mande specifične za shell program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p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koristi se za jednostavne aritmeti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čke operacije. Sintak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$ expr op1 operator o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op1 i op2 su cijeli brojevi, a operator +, -,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\*, /,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rimje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$ expr 1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$ expr 20 %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$ echo 6+3=`expr 6 + 3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mande specifične za shell program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ead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koristi se za 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čitanje ulaznih podataka sa tastature i memorisanje unijete vrijednosti u promjenlji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intaksa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$ read variable1, variable2, ... ,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ogram ss2 čita ulazni podatak sa tastature u promjenljivu var1 i ispisuje ga na ek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#s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echo “Unesite podatak: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read  va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echo “Unijeli ste: $var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mande specifične za shell program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Osnovna funkcija komande 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grep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je da pronađe sve linije sa traženim uzor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grep proba /tmp/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grep proba /tmp/data –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wc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prebrojava broj linija, riječi i bajtova u datot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sort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uređuje linije tekstualne datoteke po abecedi (ili nekom drugom kriterijum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mande specifične za shell program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ogram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bc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služi za izračunavanje vrijednosti izraza – interaktivno ili sa komandne lin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#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print “Unesite početnu vrijednost: ”; i=rea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print “Unesite krajnju vrijednost: ”; j=rea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while (i&lt;=j)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{print i^2; print “\n”; i=i+1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*****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$ bc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hell program i komandni argum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grumentima komandne linije se iz shell programa pristupa pomo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ću promjenljiv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$0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me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$1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vi komandni arg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$2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rugi komandni arg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$3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treći komandni arg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$9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eveti komandni arg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$#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broj komandnih argume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#ss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echo “Svi argumenti su redom: $*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Redirekcija ulaza i izl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ada komandni interpreter pokreće program otvaraju se tri datoteke, čije su opisne riječi 0, 1 i 2 nazvane standarni ulaz (stdin), izlaz (stdout) i greška (stder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Redirekcija stdout u datote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ls –l &gt; test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Redirekcija stderr u datote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grep proba * 2&gt; greperr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Redirekcija datoteke u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prog &lt;infile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ipe mehaniz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ls –l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| wc –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921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Izlazni status kom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Linux komande vraćaju vrijednost na osnovu koje se može odrediti da li je komanda izvršena uspješno ili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Ako je povratna vrijednost 0 komanda je uspješno izvršena, inače druga vrijednost predstavlja izlazni ili dijagnostički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Da bi se odredila ova vrijednost koristi se sistemska promjenljiva $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rm pr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rm: cannot remove proba : No such file or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echo $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Grupisanje koman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(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Kreira se posebni shell potprogram u koma se izvršavaju sve komande iz l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omjenljive važe samo unutar pot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{list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zvršavanje komandi iz liste u tekućem shell konteks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Ne kreira se poseban pro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Znak ; ili prazan red je obavezan na kraju l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hell program je datoteka koji 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čini niz Linux komandi koje se mogu izvršavati sekvencijalno ili povezati programskim struktu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hell program se ne prevo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Ulaz se zadaje u komandnoj liniji ili interaktivno, a izlaz se može prikazati na ekra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hell program se piše za određeni komandni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Konstrukcije u shell programira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Uslovne konstruk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etl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unk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Uslovne konstrukcije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, konstrukcija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konstrukcija se mo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že primijeniti u tri oblika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f-then-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f-then-else-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f-then-elif-else-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f-then-fi, sintaksa najprostijeg obl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if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comman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comman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Uslovne konstrukcije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, konstrukcija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ovjera uslova se realizuje preko izlazne vrijednosti koja može biti 0 ako je uslov ispunjen, a različita od 0 ako uslov nije ispun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Uslov može da bude izlazni status kom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3300"/>
                </a:solidFill>
                <a:latin typeface="Comic Sans MS"/>
              </a:rPr>
              <a:t>#s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3300"/>
                </a:solidFill>
                <a:latin typeface="Comic Sans MS"/>
              </a:rPr>
              <a:t>if rm 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33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ff3300"/>
                </a:solidFill>
                <a:latin typeface="Comic Sans MS"/>
              </a:rPr>
              <a:t>echo “Datoteka $1 je uspješno izbrisan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3300"/>
                </a:solidFill>
                <a:latin typeface="Comic Sans MS"/>
              </a:rPr>
              <a:t>fi</a:t>
            </a:r>
            <a:r>
              <a:rPr b="0" lang="sr-Latn-C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Uslov može da bude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[ expression ] ili test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#ss5, da li je arg. pozitivan b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if [ $1 –gt 0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cho “$1 je pozitivan broj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Uslovne konstrukcije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, konstrukcija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Za upore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đivanje cijelih brojeva se koriste ope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eq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jednakost (5==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ne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nejednakost (5!=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lt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trogo manje od (5&lt;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le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manje od ili jednako (5&lt;=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gt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trogo veće od (5&gt;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ge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veće od ili jednako (5&gt;=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Za upoređivanje nizova se koriste operato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tr1 = str2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tr1 != st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tr1 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da li je str1 definisan i ako jeste da li nije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n str1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da li str1 nije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z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da li je str1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Uslovne konstrukcije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, konstrukcija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Testovi nad datotekama i direktorijum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s file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a li datoteka ima neki sadrža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f file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a li datoteka postoji, da li je obič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d dir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a li direktorijum postoji, da li nije obična datote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w file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a li je datoteka sa pravom up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r file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a li je datoteka read-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x file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a li je datoteka izvr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Logički test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!expression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logička neg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exp1 –a exp2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logičko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exp1 –o exp2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logičko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Uslovne konstrukcije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, konstrukcija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f-then-else-fi, sinta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if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command1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s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command2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Uslovne konstrukcije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, konstrukcija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#da li je argument pozitivan ili negativan br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if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[ $# -eq 0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cho “$0: Morate navesti jedan 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numerički arg.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exi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if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[ $1 –gt 0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cho “$1 je pozitiva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cho “$1 je pozitiva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Uslovne konstrukcije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, konstrukcija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-then-elif-else-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#da li je arg pozitivan, negativan ili n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if [ $1 –gt 0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cho “$1 je pozitiva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lif [ $1 –lt 0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cho “$1 je negativa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lif [ $1 –eq 0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cho “Argument je nula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cho “$1 nije numericki argu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Uslovne konstrukcije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, konstrukcij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intak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ase $var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attern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mmand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attern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mmand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mmand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Uslovne konstrukcije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, konstrukcij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rim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if [ -z $1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cho “Unesite korisnicko im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xi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ase $1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korisnik1”) echo “Korisnik1”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korisnik2”) echo “Korisnik2”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*) echo “Nepoznat korisnik!”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s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Nekoliko bitnih elemenata koje obuhvata shell programi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Tipovi podataka (koristi se univerzalni tip promjenlj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Naredbe (interne ili ekster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ogramske strukture (petlje, uslovni skokovi, funkc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etlje, while pet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inta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[ condition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comman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comman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one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etlje, while pet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imj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#tablica mnozenja za dati b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if [ $# -eq 0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then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cho “Argument nije navede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xi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n=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i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while [ $i –le 10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cho “$n * $i = `expr $i \* $n`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i=`expr $i + 1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etlje, until pet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intaksa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until [ condition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imj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c=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until [ $c –lt 10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cho c = $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let c-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etlje, for pet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intaksa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for name [in words…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imj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if [ $# -eq 0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cho “Argument nije navede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n=$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for i in 1 2 3 4 5 6 7 8 9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cho “$n * $i = `expr $i \* $n`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aredba se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Sintaksa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select name [in words…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Primj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opcije=“Pozdrav Kraj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select op in $opcij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if [ “$op” = “Kraj”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echo 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ex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elif [ “$op” = “Pozdrav”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echo Pozdra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ex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cl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echo Opcija ne postoj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imje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Kreirati shell skript datoteku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za spajanje svih datoteka koje korisnik unosi u datoteku sve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Kreirati shell skript datoteku koja se poziva 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./stamp 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 u slu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čaju da je ime datoteka prikazuje njen sadržaj, ako je ime direktorijum prelazi na njega i lista njegov sadržaj, a u ostalim slučajevima se prikazuje poruka o greš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Osnovi shell programi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Jednostavan shell skript s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#prvi shel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echo “Hello World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Može se koristiti bilo koji Linux tekstualni editor (vi ili jo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otrebno je dati korisnicima execute dozvolu nad datote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chmod +x s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okretanje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./s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okretanje shell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okretanje shell programa uključuje dva k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odjela dozvole za izvrša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okretanje programa iz komandne lin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Ukoliko se program ne nalazi u tekućem direktorijumu potrebno je navesti putanju do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Može da se specifikuje komandni interpreter u kome će se program izvršav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#!/bin/b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hell program može da se izvrši i 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bash s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omjenljive u Linux operativnom siste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omjenljive omogućavaju čuvanje podataka u operativnoj memor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Na Linux sistemima postoje dva tipa promjenljivi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istemske promjenlj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Korisnički definisane promjenlj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istemske promjenljive se mogu vidjeti sa komandom 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BASH, HOME, PATH, PS1, PWD, USERNAM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kazivanje vrijednsti promjenlj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echo $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risničke promjenlj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vaka promjenljiva je univerzalna i nema deklaraciju t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omjenljiva se definiše 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variablename =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Na prim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br=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me promjenljive mora početi alfanumeričkim karakterom ili donjom crtom praćenim sa jednim ili više alfanumeričkih karak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azne karaktere ne treba stavljati ni sa jedne strane znaka jednakosti prilikom dodjele vrijednosti promjenljiv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risničke promjenlj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mena promjenljivih su osjetljiva na mala i velika sl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NULL promjenljiva nema vrijednost u trenutku defin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$ br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mena promjenljivih ne smiju sadržati specijalne znake (poput ? ili 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Da bi prikazali vrijednost promjenljive var koristi se ko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echo $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risničke promjenljive - primj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1: Definisati primjenljive x i xn koje će imati vijednosti 10 i abc respektivno i prikazati njihove vrijednosti na ekranu u istom r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2: Koristeći naredbu expr prikazati zbir dva broja na ekra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3: Definisati promjenljive x i y, i promjenljivu z kao njihov količnik. Vrijednosti za x i y su 20 i 5 respektivno. Rezultat prikazati na ekranu u jednom r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x=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y=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z=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`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expr $x / $y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echo x/y=$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5:31:45Z</dcterms:created>
  <dc:creator>Savo Tomovic</dc:creator>
  <dc:description/>
  <dc:language>en-US</dc:language>
  <cp:lastModifiedBy>Luka Bulatovic</cp:lastModifiedBy>
  <dcterms:modified xsi:type="dcterms:W3CDTF">2017-11-11T19:34:21Z</dcterms:modified>
  <cp:revision>59</cp:revision>
  <dc:subject/>
  <dc:title>Slide 1</dc:title>
</cp:coreProperties>
</file>