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43B-A063-40BF-AA15-540E6E06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DE6-FD4A-4D34-850A-4A7F7AD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7F4-702C-4AC4-8711-6D7AD255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1AE-6D46-4677-8291-94D5E1AA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114-3E7E-4967-92B6-C4636742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2D2-F5F3-4CCD-8990-E2D13E3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97D-B671-4A8C-84B6-0ABE210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ECC-A56C-4793-A892-1A2ABD6C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4F2-485C-4D05-B22A-4B2A45F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3A6-A5CC-4608-860F-1242F3C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232-310F-401F-B65A-F5298B0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399-3F5D-43F0-85C9-F6DE262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C38-7F49-49EA-880B-8BD3B445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Lex – ukrat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kcija je obavez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vila su ob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šablon a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dej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ad god skener učita sekvencu sa ulaza koja odgovara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šablonu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izvršava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a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ije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šablona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ne smije da postoje bjeline, a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akci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moraju da počnu u istom r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akci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mogu da budu pojedinačne C komande, ili grupa komadni između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}; ako nije specifikovana nijedna akcija prepoznati token se ignori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%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[ \t]+ putchar( ’ ’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[ \t]+$ /*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ignoriše bjeline na kraju linije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šabloni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se zapisuju pomoću proširenog skupa regularnih iz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038240"/>
          <a:ext cx="8229600" cy="5668920"/>
        </p:xfrm>
        <a:graphic>
          <a:graphicData uri="http://schemas.openxmlformats.org/drawingml/2006/table">
            <a:tbl>
              <a:tblPr/>
              <a:tblGrid>
                <a:gridCol w="2616120"/>
                <a:gridCol w="56134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ularni izra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en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-9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asa karaktera, oz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v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|1|2|3|4|5|6|7|8|9. Mo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će je specifikovati više od jednog opsega, npr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-9a-z], kao i pojedi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ne karaktere, npr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aeiou0-9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irana klasa karaktera, complement specifikovanog skupa karaktera, npr. [^0-9] preklapa sve karaktere koji nijesu cif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izvoljan karakter osim \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z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va 0 ili 1 pojavljivanje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značava da se x pojavljuje 1 ili više puta; ekvivalentno sa xx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{m,n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z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va da se x pojavljuje između m i n put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lapa x ali samo na početku lin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lapa x ali samo na kraju lin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/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lapa ab ali samo ako posle slijedi 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klapa x kao tekstualni karakter, npr. “x*” preklapa x za kojim slijedi *.  Specijalno z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nje pojedinačnog karaktera može da se isključi ako je ispred karakter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, npr. \. o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čava tač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im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mjenjuje sa ranije definisanim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om i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23888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Prepoznavanje u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ener u ulazu traži string koji odgovara nekom šabl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eklapa se najduži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moguće preklapanje dva ili više stringa iste dužine, preklapanje se ostvaruje po pravilu koje je prvo naved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epoznati token je dostupan preko globalnog pokazivača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yytex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a njegova dužina preko globalnog integera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yyleng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koliko nema poklapanja: tekući karakter sa ulaza se kopira na iz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Globalne promjenljive u Lex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yytex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ring koji sadrži tekuću leksi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yyleng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užina leksime iz yy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yylval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ijednost leks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yylloc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lokaciju tok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y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lazna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Lex je alat za izgradnju skenera ili leksičkog analiza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izajnirali ga Lesk i Schmit (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boljšana verzija FLex, Poa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Lex  ra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osnovu specifikacije generiše 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KA prevodi u ekvivalentan D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inimizuje broj stanja u D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eneriše kod u jeziku C koji implementira aut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Kako Lex rad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pecifika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kenera u Lex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gularni izrazi za to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 kod za a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ajl sa specifikacijom ima ekstenziju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.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Lex generiše fajl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lex.yy.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koji sadrži izvorni kod ske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ajl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lex.yy.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definiše funkciju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yylex()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koja prepoznaje jedan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o je kompajlirati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lex.yy.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i linkovati sa 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lex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bibliotek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Kako Lex rad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ethodno nabrojani koraci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lex myFile.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2800" spc="-1" strike="noStrike">
                <a:solidFill>
                  <a:srgbClr val="99cc00"/>
                </a:solidFill>
                <a:latin typeface="Comic Sans MS"/>
              </a:rPr>
              <a:t>/*kreira lex.yy.c sa C kodom za skener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gcc –o skener lex.yy.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 –lf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sr-Latn-CS" sz="2800" spc="-1" strike="noStrike">
                <a:solidFill>
                  <a:srgbClr val="99cc00"/>
                </a:solidFill>
                <a:latin typeface="Comic Sans MS"/>
              </a:rPr>
              <a:t>/*kompajlira skener, linkuje sa (f)lex bibliotekom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skener </a:t>
            </a:r>
            <a:r>
              <a:rPr b="0" i="1" lang="sr-Latn-CS" sz="2800" spc="-1" strike="noStrike">
                <a:solidFill>
                  <a:srgbClr val="99cc00"/>
                </a:solidFill>
                <a:latin typeface="Comic Sans MS"/>
              </a:rPr>
              <a:t>/*pokreće skener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Tok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dentifikator možemo da predstavimo regularnim izrazom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(letter)(letter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|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digit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dgovarajući DKA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449604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296000" y="3657600"/>
            <a:ext cx="261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r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oto stat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te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a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c = letter goto stat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 stat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te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a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c = letter goto stat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c = digit goto stat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 stat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te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ccep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Ulazni fajl za 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Ulazni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.l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fajl je organizovan na 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ekla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%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efini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%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av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%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Korisni</a:t>
            </a:r>
            <a:r>
              <a:rPr b="0" lang="sr-Latn-CS" sz="2800" spc="-1" strike="noStrike">
                <a:solidFill>
                  <a:srgbClr val="333399"/>
                </a:solidFill>
                <a:latin typeface="Comic Sans MS"/>
              </a:rPr>
              <a:t>čki definisane fu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 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Dekla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ekcija je opci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adrži obični C kod koji se kopira u izlazni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lex.yy.c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fa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a prim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%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nt i=0, j=0, k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%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fini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kcija je opci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cije su ob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me defin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e ri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č koja počinje sa slovom ili _, posle čega slijedi nula ili više slova, cifara, _ ili 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definicija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očinje sa prvim ne-bjelina karakterom iza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imena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i završava se na kraju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ekcij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fini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cija se u sekciji za pravila referencira sa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{ime}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što se transformiše u </a:t>
            </a:r>
            <a:r>
              <a:rPr b="0" lang="sr-Latn-CS" sz="3200" spc="-1" strike="noStrike">
                <a:solidFill>
                  <a:srgbClr val="333399"/>
                </a:solidFill>
                <a:latin typeface="Comic Sans MS"/>
              </a:rPr>
              <a:t>(definic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IFRA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0-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CIFRA}+"."{CIFRA}*       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[0-9])+"."([0-9]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6:28:34Z</dcterms:created>
  <dc:creator>Savo Tomovic</dc:creator>
  <dc:description/>
  <dc:language>en-US</dc:language>
  <cp:lastModifiedBy>Microsoft account</cp:lastModifiedBy>
  <dcterms:modified xsi:type="dcterms:W3CDTF">2022-03-06T12:22:59Z</dcterms:modified>
  <cp:revision>33</cp:revision>
  <dc:subject/>
  <dc:title>Slide 1</dc:title>
</cp:coreProperties>
</file>