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EDF80-8EB6-48B9-9491-AA3241432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4CB9B-8C72-49CE-BCFA-BAFEDFA30B4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651E1-5F45-436A-8C61-70C985FD830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E4C58-CA7A-406D-A45B-5C11D7368BA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A27D0-2071-4559-92B0-A726B973EFD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A3536-18E7-4C2C-9781-88941B898FD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05D29-10B7-4384-9E50-BC82410F492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FFB2B-FBE5-4188-9B8B-0D2A930B2CB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CA4F5-9916-45CB-BCEE-E9D7405AFFF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247FA-8024-4493-A298-C39ECE38101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AC003-7173-4A78-93FC-AFF86BDE760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C97B9-CA97-49DD-9A60-492AF5E5534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CDC75-4DAC-4408-9273-CA855A6A860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DB02A-4424-404D-9513-C65DA21C24B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B685F-5FDA-4E00-B8A9-B7D7F256172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6D241-3465-49EB-8A4C-4B274E61F13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B541F-C370-432D-AC5D-50A4E249AD5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44BA6-365E-4C26-8794-FF53770809A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C60E1-7677-41B7-AF2D-A93D94B032B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5986E-30F4-4060-AF6A-33B6A1D91F8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F33CA-C58A-4C25-82C9-D53CD277528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14DC0-EC9C-47A4-915E-C118EB7B2E9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42A5F-7BBF-4A52-BD3E-98CB57C9A9C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A5DA2-A610-440A-8916-E327CAD7422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D65A1-97FC-43C0-B665-99E3EE97239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22BB9-ED3B-4949-8D97-E63623E5E2B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35514-0782-4E0A-800F-311231A0D44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ED4BB-1382-407C-A2BD-6516C6861EB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5F230-4E74-4B5A-8CD8-67F46B8EE13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FA8C9-077C-43D3-96B7-3A674197078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9E93D-2B68-475B-9C1C-244255417A3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1B19D-A63B-4C13-86D2-547B44FE33B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FB4C1-B018-4C0D-886F-0283E6F5D20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C365F-C549-48EF-B62E-BCA6021EB9E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B7BCE-4832-40E2-B121-E430EA7A0DF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3177D-35A1-411B-8815-3054811892BD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3BDF6-B251-4629-88EC-F61000B7A5C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E70AF-A7EA-45B7-93A3-4EA5EE992C5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AA6BD-E675-44D0-BFA7-AC311A5F88B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90AC6-1EE2-4C68-8C8D-9F6DFBD1590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3804E-30A4-4BD4-9BD3-45933073DD8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F5B5E-CB16-49D7-B6C5-84DC95F1EAB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D1EA5-8E09-4205-8C6A-F7A63DA4DD6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173A0-CE6F-46AF-9D8D-73E9BE5E376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DAE38-D3D6-443E-B5DF-9CB2D5C7862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457DF-6ABB-4941-9E93-E3EB4B0A2F5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837F7-F713-432E-902E-D57E4B0EF2D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67867-C5A9-4550-B0AD-CADB2D429E3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B7323-6A0E-4595-A584-704973A4F6D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69BCF-74B0-485C-B5D0-57680FD7841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E3269-AE02-4347-8148-F990FAD6D85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920AD-206F-4D66-90A0-DA222280D40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8A244-DCC8-42D1-9283-A11E26CB9AF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1F44D-F2C6-43D8-AD9B-FB85E8FE7D6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CA0FF-0DD0-4BB3-BC9A-000B9B473DA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05B0D-F3BA-4097-9458-FCBBB9C6C0C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0B83D-5E19-47E4-B4F9-14E29E7FEE46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55272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6B10B533-C151-4DCF-AF7E-49DA346CC26A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Uvo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okretanje prevedenog programa 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47" name="Diagram 33" descr=""/>
          <p:cNvPicPr/>
          <p:nvPr/>
        </p:nvPicPr>
        <p:blipFill>
          <a:blip r:embed="rId1"/>
          <a:stretch/>
        </p:blipFill>
        <p:spPr>
          <a:xfrm>
            <a:off x="2309760" y="225360"/>
            <a:ext cx="451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FFECF9D8-8842-4C8B-9771-3A548D0583A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zadati ins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la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ogramski jezik viso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la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mbl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rske instrukcije nis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mpajler vrši prevođenj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(translaciju)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ita i razumije progra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e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o određuje koje su tražene 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hvata kako da doslovno izvrši te 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aje instrukcije računaru za izvođenje akci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C992462-34C9-4021-90CF-6BD7703BCEAA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Ulaz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ndard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imperativ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i jezic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Java, C, C++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Promjenljive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ure,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Nizov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zračunavan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zraz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(aritmeti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č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logi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č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td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.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ssignment statement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Control flow (conditionals, loops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Procedur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3E9067D7-EB7E-4105-9F8D-E994668B4B7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laz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egist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Memo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ja sa “ravnim”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dresnim prostoro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d – load/store arhit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oad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tore instru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ritmet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ke i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og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k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ope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cije nad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egist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m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nstrukcije grananja (b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anch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1CC7CD45-BF66-4483-AD87-CCF43D76330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source cod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82A3734-D6D1-4BBD-BDF3-7DF52219080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laz –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semb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erski k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d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352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sumcalc: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952880" y="1143000"/>
            <a:ext cx="3353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ize   sumcalc, .-sumcalc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ection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rame1: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CIE1-.LSCI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SCIE1: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tring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""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-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c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7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9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align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CIE1: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FDE1-.LASFD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ASFDE1-.Lfram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quad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quad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E2-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4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CFI0-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e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86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4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CFI1-.LCFI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d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6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align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Mapping Time Continuum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pilation to Interpret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ompile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C compil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ink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Binary layout optimiz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oad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JIT compil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Java Interpreter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65E8A8B-46E5-42BE-BA37-06738C10AFB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st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rogram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ji čita program napisan u jeziku S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 izvršava funkcije tog program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169" name="AutoShape 5"/>
          <p:cNvCxnSpPr/>
          <p:nvPr/>
        </p:nvCxnSpPr>
        <p:spPr>
          <a:xfrm flipH="1">
            <a:off x="4571640" y="2057400"/>
            <a:ext cx="2160" cy="144864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pic>
        <p:nvPicPr>
          <p:cNvPr id="170" name="Diagram 1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08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evođenje (t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ansl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mp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vodi program napisan u jeziku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inski jezi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oceso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hard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ersk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a mašinski jezi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Diagram 15" descr=""/>
          <p:cNvPicPr/>
          <p:nvPr/>
        </p:nvPicPr>
        <p:blipFill>
          <a:blip r:embed="rId1"/>
          <a:stretch/>
        </p:blipFill>
        <p:spPr>
          <a:xfrm>
            <a:off x="2084400" y="3121200"/>
            <a:ext cx="4968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Program u originalnom obliku – izvorni progra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("source program", "source code"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revedena verzija – objektni kod ("object code"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Kompajler (engl. compiler) – termin koji je uvela Grace Hoper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Terminologi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fld id="{8E287F02-767C-4D57-BF70-F60A4EC543EC}" type="slidenum"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egle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757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575"/>
                </a:solidFill>
                <a:latin typeface="Tahoma"/>
              </a:rPr>
              <a:t>Administrativne informa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Uvod u programske prevodioc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ta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su kompajleri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ašto ih izučavamo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Anatom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ija k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omp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j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ler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tion vs. Translation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Lakše je napisat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interpreter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bliži PJ, pa daje bolji opis grešak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sporij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10x?),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li je kod manj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2X?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daje mogućnost nezavisnosti skupa instrukcij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vršava se na svakoj mašin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tion vs. Translation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ranslated/compiled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od je skoro uvijek efikasniji i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ima bolje preformanse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Važno za mnoge aplikacije, posebno OS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ranslation/compilation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pomaže sakrivanju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 “source”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od korisnika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odel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za zarađivanje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p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 Microsoft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čuva svoj source  kod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Alternati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vni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model, “open source”,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re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ira vrijednost objavljivanjem source kod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3BCA3395-9AB3-4F90-9EFB-BBA543DCD1EF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762120" y="3809880"/>
            <a:ext cx="7619760" cy="2286000"/>
            <a:chOff x="762120" y="3809880"/>
            <a:chExt cx="7619760" cy="2286000"/>
          </a:xfrm>
        </p:grpSpPr>
        <p:sp>
          <p:nvSpPr>
            <p:cNvPr id="183" name="Oval 4"/>
            <p:cNvSpPr/>
            <p:nvPr/>
          </p:nvSpPr>
          <p:spPr>
            <a:xfrm>
              <a:off x="762120" y="3809880"/>
              <a:ext cx="2286000" cy="228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napi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a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rogram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skom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jeziku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6095880" y="3809880"/>
              <a:ext cx="2286000" cy="22860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semb</a:t>
              </a:r>
              <a:r>
                <a:rPr b="0" lang="sr-Latn-CS" sz="2400" spc="-1" strike="noStrike">
                  <a:solidFill>
                    <a:srgbClr val="00ffff"/>
                  </a:solidFill>
                  <a:latin typeface="Times New Roman"/>
                </a:rPr>
                <a:t>erski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ffff"/>
                  </a:solidFill>
                  <a:latin typeface="Times New Roman"/>
                </a:rPr>
                <a:t>jezik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200400" y="4191120"/>
              <a:ext cx="2819520" cy="1403280"/>
            </a:xfrm>
            <a:prstGeom prst="rightArrow">
              <a:avLst>
                <a:gd name="adj1" fmla="val 50000"/>
                <a:gd name="adj2" fmla="val 50231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150090"/>
                  </a:solidFill>
                  <a:latin typeface="Times New Roman"/>
                </a:rPr>
                <a:t>K</a:t>
              </a:r>
              <a:r>
                <a:rPr b="1" lang="en-US" sz="4000" spc="-1" strike="noStrike">
                  <a:solidFill>
                    <a:srgbClr val="150090"/>
                  </a:solidFill>
                  <a:latin typeface="Times New Roman"/>
                </a:rPr>
                <a:t>omp</a:t>
              </a:r>
              <a:r>
                <a:rPr b="1" lang="sr-Latn-CS" sz="4000" spc="-1" strike="noStrike">
                  <a:solidFill>
                    <a:srgbClr val="150090"/>
                  </a:solidFill>
                  <a:latin typeface="Times New Roman"/>
                </a:rPr>
                <a:t>ajler</a:t>
              </a:r>
              <a:endParaRPr b="0" lang="en-US" sz="4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186" name="WordArt 7"/>
          <p:cNvSpPr txBox="1"/>
          <p:nvPr/>
        </p:nvSpPr>
        <p:spPr>
          <a:xfrm>
            <a:off x="3276720" y="2666880"/>
            <a:ext cx="220968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??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6F3F1350-3C81-42F4-89F1-96F97C7E7B68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809880" y="10666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ksičk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nal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iz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2933640" y="1913040"/>
            <a:ext cx="2852640" cy="515160"/>
            <a:chOff x="2933640" y="1913040"/>
            <a:chExt cx="2852640" cy="515160"/>
          </a:xfrm>
        </p:grpSpPr>
        <p:sp>
          <p:nvSpPr>
            <p:cNvPr id="195" name="AutoShape 10"/>
            <p:cNvSpPr/>
            <p:nvPr/>
          </p:nvSpPr>
          <p:spPr>
            <a:xfrm>
              <a:off x="2933640" y="191304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3886200" y="1968480"/>
              <a:ext cx="19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token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1066680"/>
            <a:ext cx="5143680" cy="569880"/>
            <a:chOff x="2895480" y="1066680"/>
            <a:chExt cx="5143680" cy="569880"/>
          </a:xfrm>
        </p:grpSpPr>
        <p:sp>
          <p:nvSpPr>
            <p:cNvPr id="198" name="AutoShape 13"/>
            <p:cNvSpPr/>
            <p:nvPr/>
          </p:nvSpPr>
          <p:spPr>
            <a:xfrm>
              <a:off x="2895480" y="1066680"/>
              <a:ext cx="762120" cy="4989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3848040" y="11768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rogram (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karaketera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C20E54B8-9B1F-4CC6-AB58-F0A7F45E8CE1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naliz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Scann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9680" y="2666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234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61640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mul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80692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874680" y="2666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1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094000" y="2666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add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48440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r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Rectangle 26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88760" y="2666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-2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C7E6A47C-CB59-4EF8-BC32-D80C3A27CE4C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naliz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Scann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8..23 + val#ue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9680" y="2666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234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61640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mul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80692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874680" y="2666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1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094000" y="2666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add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748440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r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Rectangle 29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6188760" y="2666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-2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63" name="Group 33"/>
          <p:cNvGrpSpPr/>
          <p:nvPr/>
        </p:nvGrpSpPr>
        <p:grpSpPr>
          <a:xfrm>
            <a:off x="990720" y="4724280"/>
            <a:ext cx="2833200" cy="1110600"/>
            <a:chOff x="990720" y="4724280"/>
            <a:chExt cx="2833200" cy="1110600"/>
          </a:xfrm>
        </p:grpSpPr>
        <p:sp>
          <p:nvSpPr>
            <p:cNvPr id="264" name="Line 34"/>
            <p:cNvSpPr/>
            <p:nvPr/>
          </p:nvSpPr>
          <p:spPr>
            <a:xfrm>
              <a:off x="990720" y="4724280"/>
              <a:ext cx="9140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65" name="Text Box 35"/>
            <p:cNvSpPr/>
            <p:nvPr/>
          </p:nvSpPr>
          <p:spPr>
            <a:xfrm>
              <a:off x="1888920" y="5375160"/>
              <a:ext cx="19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 number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266" name="Group 36"/>
          <p:cNvGrpSpPr/>
          <p:nvPr/>
        </p:nvGrpSpPr>
        <p:grpSpPr>
          <a:xfrm>
            <a:off x="2514600" y="4724280"/>
            <a:ext cx="6435720" cy="707400"/>
            <a:chOff x="2514600" y="4724280"/>
            <a:chExt cx="6435720" cy="707400"/>
          </a:xfrm>
        </p:grpSpPr>
        <p:sp>
          <p:nvSpPr>
            <p:cNvPr id="267" name="Line 37"/>
            <p:cNvSpPr/>
            <p:nvPr/>
          </p:nvSpPr>
          <p:spPr>
            <a:xfrm>
              <a:off x="2514600" y="4724280"/>
              <a:ext cx="1204920" cy="37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3690000" y="4971960"/>
              <a:ext cx="52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riable names cannot have ‘#’ charact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 leksičke analiz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1981080" cy="2057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if (i == j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z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els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z = 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514600" y="1980720"/>
            <a:ext cx="6400800" cy="685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\tif (i == j)\n\t\tz = 0;\n\telse\n\t\tz = 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2895480"/>
            <a:ext cx="2895480" cy="379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Whitespace, “\t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Keyword, “if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OpenPar, “(“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Identifier, “i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Relation, “==“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Identifier, “j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…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45720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\t o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 ta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\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 novi red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94708A3-73AB-4756-96F5-A62D225BDC94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3" name="Group 12"/>
          <p:cNvGrpSpPr/>
          <p:nvPr/>
        </p:nvGrpSpPr>
        <p:grpSpPr>
          <a:xfrm>
            <a:off x="2933640" y="1913040"/>
            <a:ext cx="2852640" cy="515160"/>
            <a:chOff x="2933640" y="1913040"/>
            <a:chExt cx="2852640" cy="515160"/>
          </a:xfrm>
        </p:grpSpPr>
        <p:sp>
          <p:nvSpPr>
            <p:cNvPr id="284" name="AutoShape 13"/>
            <p:cNvSpPr/>
            <p:nvPr/>
          </p:nvSpPr>
          <p:spPr>
            <a:xfrm>
              <a:off x="2933640" y="191304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3886200" y="1968480"/>
              <a:ext cx="19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t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ken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286" name="Group 15"/>
          <p:cNvGrpSpPr/>
          <p:nvPr/>
        </p:nvGrpSpPr>
        <p:grpSpPr>
          <a:xfrm>
            <a:off x="2895480" y="2743200"/>
            <a:ext cx="2857680" cy="880920"/>
            <a:chOff x="2895480" y="2743200"/>
            <a:chExt cx="2857680" cy="880920"/>
          </a:xfrm>
        </p:grpSpPr>
        <p:sp>
          <p:nvSpPr>
            <p:cNvPr id="287" name="AutoShape 16"/>
            <p:cNvSpPr/>
            <p:nvPr/>
          </p:nvSpPr>
          <p:spPr>
            <a:xfrm>
              <a:off x="2895480" y="274320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848040" y="279864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Drvo parsiranj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EFDFB7D5-C4DB-424E-981B-630FE7ABAF67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n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a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a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(Pars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292" name="AutoShape 4"/>
          <p:cNvCxnSpPr/>
          <p:nvPr/>
        </p:nvCxnSpPr>
        <p:spPr>
          <a:xfrm flipH="1">
            <a:off x="1752120" y="2514600"/>
            <a:ext cx="1139040" cy="6433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3" name="AutoShape 5"/>
          <p:cNvCxnSpPr/>
          <p:nvPr/>
        </p:nvCxnSpPr>
        <p:spPr>
          <a:xfrm>
            <a:off x="3052440" y="2514600"/>
            <a:ext cx="2205720" cy="6433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4" name="AutoShape 6"/>
          <p:cNvCxnSpPr/>
          <p:nvPr/>
        </p:nvCxnSpPr>
        <p:spPr>
          <a:xfrm flipH="1">
            <a:off x="3657240" y="3352320"/>
            <a:ext cx="1519920" cy="5677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5" name="AutoShape 7"/>
          <p:cNvCxnSpPr/>
          <p:nvPr/>
        </p:nvCxnSpPr>
        <p:spPr>
          <a:xfrm>
            <a:off x="5338440" y="3352320"/>
            <a:ext cx="1367640" cy="5677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6" name="AutoShape 8"/>
          <p:cNvCxnSpPr/>
          <p:nvPr/>
        </p:nvCxnSpPr>
        <p:spPr>
          <a:xfrm>
            <a:off x="5257800" y="3385800"/>
            <a:ext cx="388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7" name="AutoShape 9"/>
          <p:cNvCxnSpPr/>
          <p:nvPr/>
        </p:nvCxnSpPr>
        <p:spPr>
          <a:xfrm flipH="1">
            <a:off x="4342680" y="4114800"/>
            <a:ext cx="834120" cy="7200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298" name="Text Box 10"/>
          <p:cNvSpPr/>
          <p:nvPr/>
        </p:nvSpPr>
        <p:spPr>
          <a:xfrm>
            <a:off x="3961800" y="5672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99" name="AutoShape 11"/>
          <p:cNvCxnSpPr/>
          <p:nvPr/>
        </p:nvCxnSpPr>
        <p:spPr>
          <a:xfrm>
            <a:off x="5338440" y="4114800"/>
            <a:ext cx="834120" cy="7200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0" name="Text Box 12"/>
          <p:cNvSpPr/>
          <p:nvPr/>
        </p:nvSpPr>
        <p:spPr>
          <a:xfrm>
            <a:off x="5830560" y="5672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01" name="AutoShape 13"/>
          <p:cNvCxnSpPr/>
          <p:nvPr/>
        </p:nvCxnSpPr>
        <p:spPr>
          <a:xfrm>
            <a:off x="5257440" y="4147920"/>
            <a:ext cx="1080" cy="6865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2" name="Text Box 14"/>
          <p:cNvSpPr/>
          <p:nvPr/>
        </p:nvSpPr>
        <p:spPr>
          <a:xfrm>
            <a:off x="5069160" y="574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03" name="AutoShape 15"/>
          <p:cNvCxnSpPr/>
          <p:nvPr/>
        </p:nvCxnSpPr>
        <p:spPr>
          <a:xfrm>
            <a:off x="2971440" y="2547720"/>
            <a:ext cx="10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4" name="AutoShape 16"/>
          <p:cNvCxnSpPr>
            <a:endCxn id="300" idx="0"/>
          </p:cNvCxnSpPr>
          <p:nvPr/>
        </p:nvCxnSpPr>
        <p:spPr>
          <a:xfrm>
            <a:off x="6171840" y="5062320"/>
            <a:ext cx="208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5" name="AutoShape 17"/>
          <p:cNvCxnSpPr>
            <a:endCxn id="302" idx="0"/>
          </p:cNvCxnSpPr>
          <p:nvPr/>
        </p:nvCxnSpPr>
        <p:spPr>
          <a:xfrm>
            <a:off x="5257800" y="5062320"/>
            <a:ext cx="2160" cy="6865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6" name="AutoShape 18"/>
          <p:cNvCxnSpPr>
            <a:endCxn id="298" idx="0"/>
          </p:cNvCxnSpPr>
          <p:nvPr/>
        </p:nvCxnSpPr>
        <p:spPr>
          <a:xfrm flipH="1">
            <a:off x="4323600" y="5062320"/>
            <a:ext cx="1980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7" name="Text Box 19"/>
          <p:cNvSpPr/>
          <p:nvPr/>
        </p:nvSpPr>
        <p:spPr>
          <a:xfrm>
            <a:off x="3468960" y="3919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6593040" y="3919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2782800" y="391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0" name="AutoShape 22"/>
          <p:cNvCxnSpPr>
            <a:endCxn id="309" idx="0"/>
          </p:cNvCxnSpPr>
          <p:nvPr/>
        </p:nvCxnSpPr>
        <p:spPr>
          <a:xfrm flipH="1">
            <a:off x="2962080" y="3386160"/>
            <a:ext cx="10080" cy="53424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11" name="Text Box 23"/>
          <p:cNvSpPr/>
          <p:nvPr/>
        </p:nvSpPr>
        <p:spPr>
          <a:xfrm>
            <a:off x="1334520" y="3919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2" name="AutoShape 24"/>
          <p:cNvCxnSpPr>
            <a:endCxn id="311" idx="0"/>
          </p:cNvCxnSpPr>
          <p:nvPr/>
        </p:nvCxnSpPr>
        <p:spPr>
          <a:xfrm flipH="1">
            <a:off x="1696680" y="3386160"/>
            <a:ext cx="56160" cy="53424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13" name="Text Box 25"/>
          <p:cNvSpPr/>
          <p:nvPr/>
        </p:nvSpPr>
        <p:spPr>
          <a:xfrm>
            <a:off x="2514600" y="21337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4838400" y="3005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1333440" y="3005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3924000" y="468144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4832280" y="38275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5746680" y="468144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2629080" y="300528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op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4915080" y="468144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op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Rectangle 33"/>
          <p:cNvSpPr/>
          <p:nvPr/>
        </p:nvSpPr>
        <p:spPr>
          <a:xfrm>
            <a:off x="905400" y="1523880"/>
            <a:ext cx="47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um ‘*’ ‘(‘ num ‘+’ num ‘)’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739456F-CB80-496F-8856-44606BE6DCB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n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a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a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(Pars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* foo(i, j, k)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for(i=0; i j) 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fi(i&gt;j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return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343400" y="2286000"/>
            <a:ext cx="3316680" cy="1110600"/>
            <a:chOff x="4343400" y="2286000"/>
            <a:chExt cx="3316680" cy="1110600"/>
          </a:xfrm>
        </p:grpSpPr>
        <p:sp>
          <p:nvSpPr>
            <p:cNvPr id="326" name="Line 5"/>
            <p:cNvSpPr/>
            <p:nvPr/>
          </p:nvSpPr>
          <p:spPr>
            <a:xfrm>
              <a:off x="4343400" y="228600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27" name="Text Box 6"/>
            <p:cNvSpPr/>
            <p:nvPr/>
          </p:nvSpPr>
          <p:spPr>
            <a:xfrm>
              <a:off x="5240520" y="293688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xtra parentheses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28" name="Group 7"/>
          <p:cNvGrpSpPr/>
          <p:nvPr/>
        </p:nvGrpSpPr>
        <p:grpSpPr>
          <a:xfrm>
            <a:off x="3657600" y="4191120"/>
            <a:ext cx="4767840" cy="554400"/>
            <a:chOff x="3657600" y="4191120"/>
            <a:chExt cx="4767840" cy="554400"/>
          </a:xfrm>
        </p:grpSpPr>
        <p:sp>
          <p:nvSpPr>
            <p:cNvPr id="329" name="Text Box 8"/>
            <p:cNvSpPr/>
            <p:nvPr/>
          </p:nvSpPr>
          <p:spPr>
            <a:xfrm>
              <a:off x="5961600" y="428580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Missing incremen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3657600" y="4191120"/>
              <a:ext cx="23684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3352680" y="4191120"/>
            <a:ext cx="3282840" cy="1110600"/>
            <a:chOff x="3352680" y="4191120"/>
            <a:chExt cx="3282840" cy="1110600"/>
          </a:xfrm>
        </p:grpSpPr>
        <p:sp>
          <p:nvSpPr>
            <p:cNvPr id="332" name="Line 11"/>
            <p:cNvSpPr/>
            <p:nvPr/>
          </p:nvSpPr>
          <p:spPr>
            <a:xfrm>
              <a:off x="3352680" y="419112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3" name="Text Box 12"/>
            <p:cNvSpPr/>
            <p:nvPr/>
          </p:nvSpPr>
          <p:spPr>
            <a:xfrm>
              <a:off x="4251240" y="4842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n expression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1295280" y="4724280"/>
            <a:ext cx="2892600" cy="1110600"/>
            <a:chOff x="1295280" y="4724280"/>
            <a:chExt cx="2892600" cy="1110600"/>
          </a:xfrm>
        </p:grpSpPr>
        <p:sp>
          <p:nvSpPr>
            <p:cNvPr id="335" name="Line 14"/>
            <p:cNvSpPr/>
            <p:nvPr/>
          </p:nvSpPr>
          <p:spPr>
            <a:xfrm>
              <a:off x="1295280" y="472428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2195280" y="537516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 keywor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18FB66B9-B251-4D78-987A-0ACC9767E704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Zašto izučav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mo kompajler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Daju nam mogućnost programiranja primjenom programskih jezika visokog nivoa a ne primjenom mašinskog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Malleability, Portability, Modularity, Simplicity, Programmer Productivity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lso Efficiency and Performanc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30B845F9-1E56-40D1-81B2-9C0F8E564B14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48" name="Group 14"/>
          <p:cNvGrpSpPr/>
          <p:nvPr/>
        </p:nvGrpSpPr>
        <p:grpSpPr>
          <a:xfrm>
            <a:off x="2895480" y="3581280"/>
            <a:ext cx="6058080" cy="881280"/>
            <a:chOff x="2895480" y="3581280"/>
            <a:chExt cx="6058080" cy="881280"/>
          </a:xfrm>
        </p:grpSpPr>
        <p:sp>
          <p:nvSpPr>
            <p:cNvPr id="349" name="AutoShape 15"/>
            <p:cNvSpPr/>
            <p:nvPr/>
          </p:nvSpPr>
          <p:spPr>
            <a:xfrm>
              <a:off x="2895480" y="3581280"/>
              <a:ext cx="762120" cy="497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848040" y="3637080"/>
              <a:ext cx="510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Međuprogramska reprezentacija (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PR, engl..Intermediate Representation, IR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351" name="Rectangle 17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52" name="Group 18"/>
          <p:cNvGrpSpPr/>
          <p:nvPr/>
        </p:nvGrpSpPr>
        <p:grpSpPr>
          <a:xfrm>
            <a:off x="2819520" y="2743200"/>
            <a:ext cx="3657240" cy="515160"/>
            <a:chOff x="2819520" y="2743200"/>
            <a:chExt cx="3657240" cy="515160"/>
          </a:xfrm>
        </p:grpSpPr>
        <p:sp>
          <p:nvSpPr>
            <p:cNvPr id="353" name="AutoShape 19"/>
            <p:cNvSpPr/>
            <p:nvPr/>
          </p:nvSpPr>
          <p:spPr>
            <a:xfrm>
              <a:off x="2819520" y="2743200"/>
              <a:ext cx="97524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54" name="Text Box 20"/>
            <p:cNvSpPr/>
            <p:nvPr/>
          </p:nvSpPr>
          <p:spPr>
            <a:xfrm>
              <a:off x="4038480" y="27986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Drvo parsiranj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322BF268-3C0A-4212-9F8D-DCCB72DF730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emant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 analaz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* foo(i, j, k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x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x = x + j + N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return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4038480" y="2286000"/>
            <a:ext cx="3357720" cy="1110600"/>
            <a:chOff x="4038480" y="2286000"/>
            <a:chExt cx="3357720" cy="1110600"/>
          </a:xfrm>
        </p:grpSpPr>
        <p:sp>
          <p:nvSpPr>
            <p:cNvPr id="359" name="Line 5"/>
            <p:cNvSpPr/>
            <p:nvPr/>
          </p:nvSpPr>
          <p:spPr>
            <a:xfrm>
              <a:off x="4038480" y="228600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0" name="Text Box 6"/>
            <p:cNvSpPr/>
            <p:nvPr/>
          </p:nvSpPr>
          <p:spPr>
            <a:xfrm>
              <a:off x="4935600" y="2936880"/>
              <a:ext cx="24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Type not declared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447920" y="2438280"/>
            <a:ext cx="6819840" cy="2666880"/>
            <a:chOff x="1447920" y="2438280"/>
            <a:chExt cx="6819840" cy="2666880"/>
          </a:xfrm>
        </p:grpSpPr>
        <p:sp>
          <p:nvSpPr>
            <p:cNvPr id="362" name="Line 8"/>
            <p:cNvSpPr/>
            <p:nvPr/>
          </p:nvSpPr>
          <p:spPr>
            <a:xfrm>
              <a:off x="1447920" y="2438280"/>
              <a:ext cx="364356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 flipV="1">
              <a:off x="2985840" y="4267080"/>
              <a:ext cx="210528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4" name="Text Box 10"/>
            <p:cNvSpPr/>
            <p:nvPr/>
          </p:nvSpPr>
          <p:spPr>
            <a:xfrm>
              <a:off x="5168520" y="4038480"/>
              <a:ext cx="30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Mismatched return typ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5" name="Group 11"/>
          <p:cNvGrpSpPr/>
          <p:nvPr/>
        </p:nvGrpSpPr>
        <p:grpSpPr>
          <a:xfrm>
            <a:off x="2209680" y="4648320"/>
            <a:ext cx="6287040" cy="535680"/>
            <a:chOff x="2209680" y="4648320"/>
            <a:chExt cx="6287040" cy="535680"/>
          </a:xfrm>
        </p:grpSpPr>
        <p:sp>
          <p:nvSpPr>
            <p:cNvPr id="366" name="Text Box 12"/>
            <p:cNvSpPr/>
            <p:nvPr/>
          </p:nvSpPr>
          <p:spPr>
            <a:xfrm>
              <a:off x="5024160" y="472428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Uninitialized variable use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2209680" y="4648320"/>
              <a:ext cx="28958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8" name="Group 14"/>
          <p:cNvGrpSpPr/>
          <p:nvPr/>
        </p:nvGrpSpPr>
        <p:grpSpPr>
          <a:xfrm>
            <a:off x="3886200" y="4495680"/>
            <a:ext cx="3620520" cy="1265400"/>
            <a:chOff x="3886200" y="4495680"/>
            <a:chExt cx="3620520" cy="1265400"/>
          </a:xfrm>
        </p:grpSpPr>
        <p:sp>
          <p:nvSpPr>
            <p:cNvPr id="369" name="Line 15"/>
            <p:cNvSpPr/>
            <p:nvPr/>
          </p:nvSpPr>
          <p:spPr>
            <a:xfrm>
              <a:off x="3886200" y="4495680"/>
              <a:ext cx="914400" cy="122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70" name="Text Box 16"/>
            <p:cNvSpPr/>
            <p:nvPr/>
          </p:nvSpPr>
          <p:spPr>
            <a:xfrm>
              <a:off x="4782600" y="530136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Undeclared variable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A21ED1F-F3DD-441F-8122-6DBBDE46993C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2933640" y="4411800"/>
            <a:ext cx="762120" cy="498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AutoShape 13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886200" y="2798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Drvo parsi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nj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n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86" name="Group 18"/>
          <p:cNvGrpSpPr/>
          <p:nvPr/>
        </p:nvGrpSpPr>
        <p:grpSpPr>
          <a:xfrm>
            <a:off x="2933640" y="4411800"/>
            <a:ext cx="5981760" cy="515160"/>
            <a:chOff x="2933640" y="4411800"/>
            <a:chExt cx="5981760" cy="515160"/>
          </a:xfrm>
        </p:grpSpPr>
        <p:sp>
          <p:nvSpPr>
            <p:cNvPr id="387" name="AutoShape 19"/>
            <p:cNvSpPr/>
            <p:nvPr/>
          </p:nvSpPr>
          <p:spPr>
            <a:xfrm>
              <a:off x="2933640" y="4411800"/>
              <a:ext cx="762120" cy="498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88" name="Text Box 20"/>
            <p:cNvSpPr/>
            <p:nvPr/>
          </p:nvSpPr>
          <p:spPr>
            <a:xfrm>
              <a:off x="3886200" y="446724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ptimiz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ovana MP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C03B9EAF-6CF7-430E-AA23-56F32907D77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cij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x, t, u, v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u = ((a&lt;&lt;2)/b)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v = 0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t = i+1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x = x + v + t*t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v = v + u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2133720"/>
            <a:ext cx="45720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+4*a/b*i+(i+1)*(i+1)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 + b*y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4038480" y="365760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04E44A0B-532F-4322-981A-D64AE2819393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219320" y="491004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933640" y="4411800"/>
            <a:ext cx="762120" cy="498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2933640" y="524196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886200" y="529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3886200" y="363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M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6" name="AutoShape 14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8" name="AutoShape 16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3886200" y="27986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Drvo parsiranj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0" name="AutoShape 18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1219320" y="4910040"/>
            <a:ext cx="4114800" cy="331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13" name="Group 21"/>
          <p:cNvGrpSpPr/>
          <p:nvPr/>
        </p:nvGrpSpPr>
        <p:grpSpPr>
          <a:xfrm>
            <a:off x="2933640" y="4411800"/>
            <a:ext cx="5981760" cy="515160"/>
            <a:chOff x="2933640" y="4411800"/>
            <a:chExt cx="5981760" cy="515160"/>
          </a:xfrm>
        </p:grpSpPr>
        <p:sp>
          <p:nvSpPr>
            <p:cNvPr id="414" name="AutoShape 22"/>
            <p:cNvSpPr/>
            <p:nvPr/>
          </p:nvSpPr>
          <p:spPr>
            <a:xfrm>
              <a:off x="2933640" y="4411800"/>
              <a:ext cx="762120" cy="498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15" name="Text Box 23"/>
            <p:cNvSpPr/>
            <p:nvPr/>
          </p:nvSpPr>
          <p:spPr>
            <a:xfrm>
              <a:off x="3886200" y="446724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Optimizovani MP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16" name="Group 24"/>
          <p:cNvGrpSpPr/>
          <p:nvPr/>
        </p:nvGrpSpPr>
        <p:grpSpPr>
          <a:xfrm>
            <a:off x="2895480" y="5257800"/>
            <a:ext cx="5333760" cy="515160"/>
            <a:chOff x="2895480" y="5257800"/>
            <a:chExt cx="5333760" cy="515160"/>
          </a:xfrm>
        </p:grpSpPr>
        <p:sp>
          <p:nvSpPr>
            <p:cNvPr id="417" name="AutoShape 25"/>
            <p:cNvSpPr/>
            <p:nvPr/>
          </p:nvSpPr>
          <p:spPr>
            <a:xfrm>
              <a:off x="2895480" y="5257800"/>
              <a:ext cx="790200" cy="497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3882960" y="5313240"/>
              <a:ext cx="434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s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emblerski ko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A3140BAD-69F6-4AFB-BA11-39939B386FA8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Generisanje kod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4120" y="2133360"/>
            <a:ext cx="3581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sumcalc: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xorl    %r8d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xorl    %ec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r9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%edx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g      .L7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sall    $2, %edi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5:    movl    %edi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divl   %esi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1(%rcx), %ed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%r10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cx, %r10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(%r10,%rcx)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ax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%r9d, %ed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le     .L5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7:    movl    %r8d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4267080" y="365760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152280" y="2133720"/>
            <a:ext cx="4267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x, t, u, v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u = ((a&lt;&lt;2)/b)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v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t = i+1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 + v + t*t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v = v + u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A7BFCDC3-8D3F-4467-8D34-B08C66055961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evođenje progra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rektnos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cije koje se zahtijevaju u programu moraju biti doslovno izvršen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f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asnos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nteligent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 i efiksana upotreba dostupnih resurs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Riječ optimizacija koristi se u “širokom”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ačenju u kompajlerim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– Optimiz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rajući 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mp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jleri nikada nisu optimaln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C3DA129-12CB-4838-A14B-E8773893C2CC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429" name="Group 3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430" name="Picture 4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5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6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33" name="Group 7"/>
          <p:cNvGrpSpPr/>
          <p:nvPr/>
        </p:nvGrpSpPr>
        <p:grpSpPr>
          <a:xfrm>
            <a:off x="3200400" y="2244600"/>
            <a:ext cx="655200" cy="819000"/>
            <a:chOff x="3200400" y="2244600"/>
            <a:chExt cx="655200" cy="819000"/>
          </a:xfrm>
        </p:grpSpPr>
        <p:sp>
          <p:nvSpPr>
            <p:cNvPr id="434" name="Freeform 8"/>
            <p:cNvSpPr/>
            <p:nvPr/>
          </p:nvSpPr>
          <p:spPr>
            <a:xfrm flipH="1">
              <a:off x="3200400" y="2244600"/>
              <a:ext cx="655200" cy="81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5" name="Freeform 9"/>
            <p:cNvSpPr/>
            <p:nvPr/>
          </p:nvSpPr>
          <p:spPr>
            <a:xfrm flipH="1">
              <a:off x="3743640" y="263448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6" name="Freeform 10"/>
            <p:cNvSpPr/>
            <p:nvPr/>
          </p:nvSpPr>
          <p:spPr>
            <a:xfrm flipH="1">
              <a:off x="3651480" y="262080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7" name="Freeform 11"/>
            <p:cNvSpPr/>
            <p:nvPr/>
          </p:nvSpPr>
          <p:spPr>
            <a:xfrm flipH="1">
              <a:off x="3532320" y="266076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 flipH="1">
              <a:off x="3503880" y="282348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9" name="Freeform 13"/>
            <p:cNvSpPr/>
            <p:nvPr/>
          </p:nvSpPr>
          <p:spPr>
            <a:xfrm flipH="1">
              <a:off x="3556800" y="291204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0" name="Freeform 14"/>
            <p:cNvSpPr/>
            <p:nvPr/>
          </p:nvSpPr>
          <p:spPr>
            <a:xfrm flipH="1">
              <a:off x="3438360" y="284796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1" name="Freeform 15"/>
            <p:cNvSpPr/>
            <p:nvPr/>
          </p:nvSpPr>
          <p:spPr>
            <a:xfrm flipH="1">
              <a:off x="3240000" y="238968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 flipH="1">
              <a:off x="3464640" y="2709360"/>
              <a:ext cx="250200" cy="2311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 flipH="1">
              <a:off x="3479760" y="252648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4" name="Freeform 18"/>
            <p:cNvSpPr/>
            <p:nvPr/>
          </p:nvSpPr>
          <p:spPr>
            <a:xfrm flipH="1">
              <a:off x="3528000" y="296424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5" name="Freeform 19"/>
            <p:cNvSpPr/>
            <p:nvPr/>
          </p:nvSpPr>
          <p:spPr>
            <a:xfrm flipH="1">
              <a:off x="3441960" y="2491200"/>
              <a:ext cx="207000" cy="2091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 flipH="1">
              <a:off x="3301200" y="224892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 flipH="1">
              <a:off x="3327840" y="239220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8" name="Freeform 22"/>
            <p:cNvSpPr/>
            <p:nvPr/>
          </p:nvSpPr>
          <p:spPr>
            <a:xfrm flipH="1">
              <a:off x="3449520" y="275976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 flipH="1">
              <a:off x="3481920" y="279972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0" name="Freeform 24"/>
            <p:cNvSpPr/>
            <p:nvPr/>
          </p:nvSpPr>
          <p:spPr>
            <a:xfrm flipH="1">
              <a:off x="3504600" y="271368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51" name="Group 25"/>
          <p:cNvGrpSpPr/>
          <p:nvPr/>
        </p:nvGrpSpPr>
        <p:grpSpPr>
          <a:xfrm>
            <a:off x="457200" y="1447920"/>
            <a:ext cx="7848720" cy="1104120"/>
            <a:chOff x="457200" y="1447920"/>
            <a:chExt cx="7848720" cy="1104120"/>
          </a:xfrm>
        </p:grpSpPr>
        <p:pic>
          <p:nvPicPr>
            <p:cNvPr id="452" name="Picture 26" descr="z-general"/>
            <p:cNvPicPr/>
            <p:nvPr/>
          </p:nvPicPr>
          <p:blipFill>
            <a:blip r:embed="rId3"/>
            <a:stretch/>
          </p:blipFill>
          <p:spPr>
            <a:xfrm>
              <a:off x="457200" y="2168640"/>
              <a:ext cx="14288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27"/>
            <p:cNvSpPr/>
            <p:nvPr/>
          </p:nvSpPr>
          <p:spPr>
            <a:xfrm>
              <a:off x="1935360" y="2092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General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4" name="AutoShape 28"/>
            <p:cNvSpPr/>
            <p:nvPr/>
          </p:nvSpPr>
          <p:spPr>
            <a:xfrm>
              <a:off x="4724280" y="1482840"/>
              <a:ext cx="3581640" cy="838080"/>
            </a:xfrm>
            <a:prstGeom prst="wedgeRoundRectCallout">
              <a:avLst>
                <a:gd name="adj1" fmla="val -52481"/>
                <a:gd name="adj2" fmla="val 71592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5" name="Text Box 29"/>
            <p:cNvSpPr/>
            <p:nvPr/>
          </p:nvSpPr>
          <p:spPr>
            <a:xfrm>
              <a:off x="4706280" y="1447920"/>
              <a:ext cx="30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Cross the river and tak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defensive position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456" name="Picture 30" descr="z-sergeant"/>
          <p:cNvPicPr/>
          <p:nvPr/>
        </p:nvPicPr>
        <p:blipFill>
          <a:blip r:embed="rId4"/>
          <a:stretch/>
        </p:blipFill>
        <p:spPr>
          <a:xfrm>
            <a:off x="861840" y="3768840"/>
            <a:ext cx="619200" cy="7905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31"/>
          <p:cNvSpPr/>
          <p:nvPr/>
        </p:nvSpPr>
        <p:spPr>
          <a:xfrm>
            <a:off x="1884240" y="3997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58" name="Group 32"/>
          <p:cNvGrpSpPr/>
          <p:nvPr/>
        </p:nvGrpSpPr>
        <p:grpSpPr>
          <a:xfrm>
            <a:off x="3192120" y="3997440"/>
            <a:ext cx="671400" cy="701640"/>
            <a:chOff x="3192120" y="3997440"/>
            <a:chExt cx="671400" cy="701640"/>
          </a:xfrm>
        </p:grpSpPr>
        <p:sp>
          <p:nvSpPr>
            <p:cNvPr id="459" name="Freeform 33"/>
            <p:cNvSpPr/>
            <p:nvPr/>
          </p:nvSpPr>
          <p:spPr>
            <a:xfrm flipH="1">
              <a:off x="3245760" y="4002120"/>
              <a:ext cx="609480" cy="39852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0" name="Freeform 34"/>
            <p:cNvSpPr/>
            <p:nvPr/>
          </p:nvSpPr>
          <p:spPr>
            <a:xfrm flipH="1">
              <a:off x="3525840" y="4002120"/>
              <a:ext cx="16848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 flipH="1">
              <a:off x="3273480" y="3997440"/>
              <a:ext cx="2556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 flipH="1">
              <a:off x="3237840" y="4159080"/>
              <a:ext cx="493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3" name="Freeform 37"/>
            <p:cNvSpPr/>
            <p:nvPr/>
          </p:nvSpPr>
          <p:spPr>
            <a:xfrm flipH="1">
              <a:off x="3243240" y="4254480"/>
              <a:ext cx="604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4" name="Freeform 38"/>
            <p:cNvSpPr/>
            <p:nvPr/>
          </p:nvSpPr>
          <p:spPr>
            <a:xfrm flipH="1">
              <a:off x="3833280" y="4335480"/>
              <a:ext cx="298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5" name="Freeform 39"/>
            <p:cNvSpPr/>
            <p:nvPr/>
          </p:nvSpPr>
          <p:spPr>
            <a:xfrm flipH="1">
              <a:off x="3675240" y="4251240"/>
              <a:ext cx="18576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6" name="Freeform 40"/>
            <p:cNvSpPr/>
            <p:nvPr/>
          </p:nvSpPr>
          <p:spPr>
            <a:xfrm flipH="1">
              <a:off x="3196440" y="4262400"/>
              <a:ext cx="452520" cy="433440"/>
            </a:xfrm>
            <a:prstGeom prst="pie">
              <a:avLst/>
            </a:prstGeom>
            <a:solidFill>
              <a:srgbClr val="c6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7" name="Freeform 41"/>
            <p:cNvSpPr/>
            <p:nvPr/>
          </p:nvSpPr>
          <p:spPr>
            <a:xfrm flipH="1">
              <a:off x="3243240" y="4254480"/>
              <a:ext cx="209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8" name="Freeform 42"/>
            <p:cNvSpPr/>
            <p:nvPr/>
          </p:nvSpPr>
          <p:spPr>
            <a:xfrm flipH="1">
              <a:off x="3196440" y="4260960"/>
              <a:ext cx="57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9" name="Freeform 43"/>
            <p:cNvSpPr/>
            <p:nvPr/>
          </p:nvSpPr>
          <p:spPr>
            <a:xfrm flipH="1">
              <a:off x="3191760" y="4441680"/>
              <a:ext cx="9684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0" name="Freeform 44"/>
            <p:cNvSpPr/>
            <p:nvPr/>
          </p:nvSpPr>
          <p:spPr>
            <a:xfrm flipH="1">
              <a:off x="3440880" y="4530600"/>
              <a:ext cx="1731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1" name="Freeform 45"/>
            <p:cNvSpPr/>
            <p:nvPr/>
          </p:nvSpPr>
          <p:spPr>
            <a:xfrm flipH="1">
              <a:off x="3602160" y="4349880"/>
              <a:ext cx="5400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2" name="Freeform 46"/>
            <p:cNvSpPr/>
            <p:nvPr/>
          </p:nvSpPr>
          <p:spPr>
            <a:xfrm flipH="1">
              <a:off x="3444120" y="4303800"/>
              <a:ext cx="204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D9C52B8-CECA-4A6A-BAEF-D665461C54CA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AutoShape 2"/>
          <p:cNvSpPr/>
          <p:nvPr/>
        </p:nvSpPr>
        <p:spPr>
          <a:xfrm>
            <a:off x="4267080" y="2438280"/>
            <a:ext cx="4876920" cy="2438640"/>
          </a:xfrm>
          <a:prstGeom prst="cloudCallout">
            <a:avLst>
              <a:gd name="adj1" fmla="val -62143"/>
              <a:gd name="adj2" fmla="val 38412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477" name="Picture 5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7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80" name="Group 8"/>
          <p:cNvGrpSpPr/>
          <p:nvPr/>
        </p:nvGrpSpPr>
        <p:grpSpPr>
          <a:xfrm>
            <a:off x="3200400" y="2244600"/>
            <a:ext cx="655200" cy="819000"/>
            <a:chOff x="3200400" y="2244600"/>
            <a:chExt cx="655200" cy="819000"/>
          </a:xfrm>
        </p:grpSpPr>
        <p:sp>
          <p:nvSpPr>
            <p:cNvPr id="481" name="Freeform 9"/>
            <p:cNvSpPr/>
            <p:nvPr/>
          </p:nvSpPr>
          <p:spPr>
            <a:xfrm flipH="1">
              <a:off x="3200400" y="2244600"/>
              <a:ext cx="655200" cy="81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flipH="1">
              <a:off x="3743640" y="263448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flipH="1">
              <a:off x="3651480" y="262080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flipH="1">
              <a:off x="3532320" y="266076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 flipH="1">
              <a:off x="3503880" y="282348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 flipH="1">
              <a:off x="3556800" y="291204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 flipH="1">
              <a:off x="3438360" y="284796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 flipH="1">
              <a:off x="3240000" y="238968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 flipH="1">
              <a:off x="3464640" y="2709360"/>
              <a:ext cx="250200" cy="2311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 flipH="1">
              <a:off x="3479760" y="252648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 flipH="1">
              <a:off x="3528000" y="296424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 flipH="1">
              <a:off x="3441960" y="2491200"/>
              <a:ext cx="207000" cy="2091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 flipH="1">
              <a:off x="3301200" y="224892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 flipH="1">
              <a:off x="3327840" y="239220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5" name="Freeform 23"/>
            <p:cNvSpPr/>
            <p:nvPr/>
          </p:nvSpPr>
          <p:spPr>
            <a:xfrm flipH="1">
              <a:off x="3449520" y="275976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6" name="Freeform 24"/>
            <p:cNvSpPr/>
            <p:nvPr/>
          </p:nvSpPr>
          <p:spPr>
            <a:xfrm flipH="1">
              <a:off x="3481920" y="279972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7" name="Freeform 25"/>
            <p:cNvSpPr/>
            <p:nvPr/>
          </p:nvSpPr>
          <p:spPr>
            <a:xfrm flipH="1">
              <a:off x="3504600" y="271368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98" name="Group 26"/>
          <p:cNvGrpSpPr/>
          <p:nvPr/>
        </p:nvGrpSpPr>
        <p:grpSpPr>
          <a:xfrm>
            <a:off x="457200" y="1447920"/>
            <a:ext cx="7848720" cy="1104120"/>
            <a:chOff x="457200" y="1447920"/>
            <a:chExt cx="7848720" cy="1104120"/>
          </a:xfrm>
        </p:grpSpPr>
        <p:pic>
          <p:nvPicPr>
            <p:cNvPr id="499" name="Picture 27" descr="z-general"/>
            <p:cNvPicPr/>
            <p:nvPr/>
          </p:nvPicPr>
          <p:blipFill>
            <a:blip r:embed="rId3"/>
            <a:stretch/>
          </p:blipFill>
          <p:spPr>
            <a:xfrm>
              <a:off x="457200" y="2168640"/>
              <a:ext cx="14288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28"/>
            <p:cNvSpPr/>
            <p:nvPr/>
          </p:nvSpPr>
          <p:spPr>
            <a:xfrm>
              <a:off x="1935360" y="2092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General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1" name="AutoShape 29"/>
            <p:cNvSpPr/>
            <p:nvPr/>
          </p:nvSpPr>
          <p:spPr>
            <a:xfrm>
              <a:off x="4724280" y="1482840"/>
              <a:ext cx="3581640" cy="838080"/>
            </a:xfrm>
            <a:prstGeom prst="wedgeRoundRectCallout">
              <a:avLst>
                <a:gd name="adj1" fmla="val -52481"/>
                <a:gd name="adj2" fmla="val 71592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2" name="Text Box 30"/>
            <p:cNvSpPr/>
            <p:nvPr/>
          </p:nvSpPr>
          <p:spPr>
            <a:xfrm>
              <a:off x="4706280" y="1447920"/>
              <a:ext cx="30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Cross the river and tak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defensive position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03" name="Picture 31" descr="z-sergeant"/>
          <p:cNvPicPr/>
          <p:nvPr/>
        </p:nvPicPr>
        <p:blipFill>
          <a:blip r:embed="rId4"/>
          <a:stretch/>
        </p:blipFill>
        <p:spPr>
          <a:xfrm>
            <a:off x="861840" y="3768840"/>
            <a:ext cx="619200" cy="7905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2"/>
          <p:cNvSpPr/>
          <p:nvPr/>
        </p:nvSpPr>
        <p:spPr>
          <a:xfrm>
            <a:off x="1884240" y="3997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05" name="Group 33"/>
          <p:cNvGrpSpPr/>
          <p:nvPr/>
        </p:nvGrpSpPr>
        <p:grpSpPr>
          <a:xfrm>
            <a:off x="3192120" y="3997440"/>
            <a:ext cx="671400" cy="701640"/>
            <a:chOff x="3192120" y="3997440"/>
            <a:chExt cx="671400" cy="701640"/>
          </a:xfrm>
        </p:grpSpPr>
        <p:sp>
          <p:nvSpPr>
            <p:cNvPr id="506" name="Freeform 34"/>
            <p:cNvSpPr/>
            <p:nvPr/>
          </p:nvSpPr>
          <p:spPr>
            <a:xfrm flipH="1">
              <a:off x="3245760" y="4002120"/>
              <a:ext cx="609480" cy="39852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7" name="Freeform 35"/>
            <p:cNvSpPr/>
            <p:nvPr/>
          </p:nvSpPr>
          <p:spPr>
            <a:xfrm flipH="1">
              <a:off x="3525840" y="4002120"/>
              <a:ext cx="16848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8" name="Freeform 36"/>
            <p:cNvSpPr/>
            <p:nvPr/>
          </p:nvSpPr>
          <p:spPr>
            <a:xfrm flipH="1">
              <a:off x="3273480" y="3997440"/>
              <a:ext cx="2556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9" name="Freeform 37"/>
            <p:cNvSpPr/>
            <p:nvPr/>
          </p:nvSpPr>
          <p:spPr>
            <a:xfrm flipH="1">
              <a:off x="3237840" y="4159080"/>
              <a:ext cx="493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0" name="Freeform 38"/>
            <p:cNvSpPr/>
            <p:nvPr/>
          </p:nvSpPr>
          <p:spPr>
            <a:xfrm flipH="1">
              <a:off x="3243240" y="4254480"/>
              <a:ext cx="604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1" name="Freeform 39"/>
            <p:cNvSpPr/>
            <p:nvPr/>
          </p:nvSpPr>
          <p:spPr>
            <a:xfrm flipH="1">
              <a:off x="3833280" y="4335480"/>
              <a:ext cx="298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2" name="Freeform 40"/>
            <p:cNvSpPr/>
            <p:nvPr/>
          </p:nvSpPr>
          <p:spPr>
            <a:xfrm flipH="1">
              <a:off x="3675240" y="4251240"/>
              <a:ext cx="18576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3" name="Freeform 41"/>
            <p:cNvSpPr/>
            <p:nvPr/>
          </p:nvSpPr>
          <p:spPr>
            <a:xfrm flipH="1">
              <a:off x="3196440" y="4262400"/>
              <a:ext cx="452520" cy="433440"/>
            </a:xfrm>
            <a:prstGeom prst="pie">
              <a:avLst/>
            </a:prstGeom>
            <a:solidFill>
              <a:srgbClr val="c6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4" name="Freeform 42"/>
            <p:cNvSpPr/>
            <p:nvPr/>
          </p:nvSpPr>
          <p:spPr>
            <a:xfrm flipH="1">
              <a:off x="3243240" y="4254480"/>
              <a:ext cx="209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5" name="Freeform 43"/>
            <p:cNvSpPr/>
            <p:nvPr/>
          </p:nvSpPr>
          <p:spPr>
            <a:xfrm flipH="1">
              <a:off x="3196440" y="4260960"/>
              <a:ext cx="57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6" name="Freeform 44"/>
            <p:cNvSpPr/>
            <p:nvPr/>
          </p:nvSpPr>
          <p:spPr>
            <a:xfrm flipH="1">
              <a:off x="3191760" y="4441680"/>
              <a:ext cx="9684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7" name="Freeform 45"/>
            <p:cNvSpPr/>
            <p:nvPr/>
          </p:nvSpPr>
          <p:spPr>
            <a:xfrm flipH="1">
              <a:off x="3440880" y="4530600"/>
              <a:ext cx="1731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8" name="Freeform 46"/>
            <p:cNvSpPr/>
            <p:nvPr/>
          </p:nvSpPr>
          <p:spPr>
            <a:xfrm flipH="1">
              <a:off x="3602160" y="4349880"/>
              <a:ext cx="5400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9" name="Freeform 47"/>
            <p:cNvSpPr/>
            <p:nvPr/>
          </p:nvSpPr>
          <p:spPr>
            <a:xfrm flipH="1">
              <a:off x="3444120" y="4303800"/>
              <a:ext cx="204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520" name="Text Box 48"/>
          <p:cNvSpPr/>
          <p:nvPr/>
        </p:nvSpPr>
        <p:spPr>
          <a:xfrm>
            <a:off x="4789440" y="2895480"/>
            <a:ext cx="416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Where to cross the river? Use the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ridge upstream or  surprise the enemy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y crossing downstream?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ow do I minimize the  casualties??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C01229A-1EED-4BB6-BC0A-024BEDBACB3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3886200" y="2438280"/>
            <a:ext cx="4800600" cy="1828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524" name="Group 4"/>
          <p:cNvGrpSpPr/>
          <p:nvPr/>
        </p:nvGrpSpPr>
        <p:grpSpPr>
          <a:xfrm>
            <a:off x="3371760" y="1890720"/>
            <a:ext cx="769680" cy="1157400"/>
            <a:chOff x="3371760" y="1890720"/>
            <a:chExt cx="769680" cy="1157400"/>
          </a:xfrm>
        </p:grpSpPr>
        <p:sp>
          <p:nvSpPr>
            <p:cNvPr id="525" name="Freeform 5"/>
            <p:cNvSpPr/>
            <p:nvPr/>
          </p:nvSpPr>
          <p:spPr>
            <a:xfrm>
              <a:off x="3430440" y="1890720"/>
              <a:ext cx="711000" cy="11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3371760" y="2373480"/>
              <a:ext cx="504720" cy="6746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3885840" y="2606760"/>
              <a:ext cx="192240" cy="376200"/>
            </a:xfrm>
            <a:prstGeom prst="pie">
              <a:avLst/>
            </a:prstGeom>
            <a:solidFill>
              <a:srgbClr val="ade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3468600" y="2500200"/>
              <a:ext cx="96480" cy="1126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3463560" y="2459160"/>
              <a:ext cx="104760" cy="6336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3430440" y="2116080"/>
              <a:ext cx="680760" cy="4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3722400" y="2558880"/>
              <a:ext cx="196920" cy="125640"/>
            </a:xfrm>
            <a:prstGeom prst="pie">
              <a:avLst/>
            </a:prstGeom>
            <a:solidFill>
              <a:srgbClr val="ade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713040" y="1979640"/>
              <a:ext cx="338040" cy="555480"/>
            </a:xfrm>
            <a:prstGeom prst="pie">
              <a:avLst/>
            </a:prstGeom>
            <a:solidFill>
              <a:srgbClr val="dda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865320" y="2305080"/>
              <a:ext cx="1206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3838320" y="2395440"/>
              <a:ext cx="15732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3873240" y="2444760"/>
              <a:ext cx="982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3460320" y="2173320"/>
              <a:ext cx="986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3474720" y="2141640"/>
              <a:ext cx="5868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38" name="Picture 18" descr="z-president"/>
          <p:cNvPicPr/>
          <p:nvPr/>
        </p:nvPicPr>
        <p:blipFill>
          <a:blip r:embed="rId1"/>
          <a:stretch/>
        </p:blipFill>
        <p:spPr>
          <a:xfrm>
            <a:off x="609480" y="1890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9"/>
          <p:cNvSpPr/>
          <p:nvPr/>
        </p:nvSpPr>
        <p:spPr>
          <a:xfrm>
            <a:off x="1765440" y="22716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343400" y="1433520"/>
            <a:ext cx="3581280" cy="838080"/>
          </a:xfrm>
          <a:prstGeom prst="wedgeRoundRectCallout">
            <a:avLst>
              <a:gd name="adj1" fmla="val -54254"/>
              <a:gd name="adj2" fmla="val 64013"/>
              <a:gd name="adj3" fmla="val 16667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322520" y="1398600"/>
            <a:ext cx="32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y poll ratings are low,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ets invade a small natio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42" name="Group 22"/>
          <p:cNvGrpSpPr/>
          <p:nvPr/>
        </p:nvGrpSpPr>
        <p:grpSpPr>
          <a:xfrm>
            <a:off x="3429000" y="4149720"/>
            <a:ext cx="655200" cy="818640"/>
            <a:chOff x="3429000" y="4149720"/>
            <a:chExt cx="655200" cy="818640"/>
          </a:xfrm>
        </p:grpSpPr>
        <p:sp>
          <p:nvSpPr>
            <p:cNvPr id="543" name="Freeform 23"/>
            <p:cNvSpPr/>
            <p:nvPr/>
          </p:nvSpPr>
          <p:spPr>
            <a:xfrm flipH="1">
              <a:off x="3429000" y="4149720"/>
              <a:ext cx="655200" cy="81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4" name="Freeform 24"/>
            <p:cNvSpPr/>
            <p:nvPr/>
          </p:nvSpPr>
          <p:spPr>
            <a:xfrm flipH="1">
              <a:off x="3972240" y="453924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5" name="Freeform 25"/>
            <p:cNvSpPr/>
            <p:nvPr/>
          </p:nvSpPr>
          <p:spPr>
            <a:xfrm flipH="1">
              <a:off x="3880080" y="452592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6" name="Freeform 26"/>
            <p:cNvSpPr/>
            <p:nvPr/>
          </p:nvSpPr>
          <p:spPr>
            <a:xfrm flipH="1">
              <a:off x="3760920" y="456588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7" name="Freeform 27"/>
            <p:cNvSpPr/>
            <p:nvPr/>
          </p:nvSpPr>
          <p:spPr>
            <a:xfrm flipH="1">
              <a:off x="3732480" y="472824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flipH="1">
              <a:off x="3785400" y="481680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flipH="1">
              <a:off x="3666960" y="475272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flipH="1">
              <a:off x="3468600" y="429480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flipH="1">
              <a:off x="3693240" y="4614120"/>
              <a:ext cx="250200" cy="2307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flipH="1">
              <a:off x="3708360" y="443160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flipH="1">
              <a:off x="3756600" y="486900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4" name="Freeform 34"/>
            <p:cNvSpPr/>
            <p:nvPr/>
          </p:nvSpPr>
          <p:spPr>
            <a:xfrm flipH="1">
              <a:off x="3670560" y="4395960"/>
              <a:ext cx="207000" cy="2088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5" name="Freeform 35"/>
            <p:cNvSpPr/>
            <p:nvPr/>
          </p:nvSpPr>
          <p:spPr>
            <a:xfrm flipH="1">
              <a:off x="3529800" y="415404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6" name="Freeform 36"/>
            <p:cNvSpPr/>
            <p:nvPr/>
          </p:nvSpPr>
          <p:spPr>
            <a:xfrm flipH="1">
              <a:off x="3556440" y="429732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7" name="Freeform 37"/>
            <p:cNvSpPr/>
            <p:nvPr/>
          </p:nvSpPr>
          <p:spPr>
            <a:xfrm flipH="1">
              <a:off x="3678120" y="466452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8" name="Freeform 38"/>
            <p:cNvSpPr/>
            <p:nvPr/>
          </p:nvSpPr>
          <p:spPr>
            <a:xfrm flipH="1">
              <a:off x="3710520" y="470448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9" name="Freeform 39"/>
            <p:cNvSpPr/>
            <p:nvPr/>
          </p:nvSpPr>
          <p:spPr>
            <a:xfrm flipH="1">
              <a:off x="3733200" y="461844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60" name="Picture 40" descr="z-general"/>
          <p:cNvPicPr/>
          <p:nvPr/>
        </p:nvPicPr>
        <p:blipFill>
          <a:blip r:embed="rId2"/>
          <a:stretch/>
        </p:blipFill>
        <p:spPr>
          <a:xfrm>
            <a:off x="457200" y="4378320"/>
            <a:ext cx="1428840" cy="3618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41"/>
          <p:cNvSpPr/>
          <p:nvPr/>
        </p:nvSpPr>
        <p:spPr>
          <a:xfrm>
            <a:off x="1935360" y="4302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Text Box 42"/>
          <p:cNvSpPr/>
          <p:nvPr/>
        </p:nvSpPr>
        <p:spPr>
          <a:xfrm>
            <a:off x="4645080" y="2743200"/>
            <a:ext cx="31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ussia or Bermuda?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r just stall for his poll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bers to go up?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1C1B4DC-1ED3-4EA6-B40D-4F7BDD24ADF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odir sa</a:t>
            </a: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stalim oblast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eor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j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onačni automati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gramatike i parsiran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protok podatak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lgoritm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Gr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fovi, dinamičko programiranje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Strukture podatak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Tabele seimbol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str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na sintaksna drvet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em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okacija i imenovan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višeprolazni istemi,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rhite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a računar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Hijerarhija memeori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selekcija instrukcij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interlok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ovi i latensi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para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izam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gurnsot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Dete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ija i zaštita od prijetnji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oft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versko inženjerstvo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Razvoj softver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debugging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Vještačka inteligencij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Heuristi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ča traženj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8C8040E-7B13-4019-93AF-B330216B6C8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slikavanje od visokog do nis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irektno preslikavanj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ograma u asemblesrki jezik vodi ka neefikasnom izvršavanju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eči nivo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eća neefikasno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ko nije efikasn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pstrakcija vi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og nivoa je beskorisn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trebno je d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bezbijedimo visok nivo apstr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a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erforma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ama koje imaju instrukcije niskog nivo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6EBF8004-D174-41D1-A183-733B2C917887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 podiže nivo apstrak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876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rogram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jezic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C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 OO-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zika sa “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garbage collectio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oš apstraktnije defini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icroproceso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 prostog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CISC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-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 RISC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VLIW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5715000" y="1600200"/>
            <a:ext cx="1752480" cy="1676520"/>
            <a:chOff x="5715000" y="1600200"/>
            <a:chExt cx="1752480" cy="1676520"/>
          </a:xfrm>
        </p:grpSpPr>
        <p:sp>
          <p:nvSpPr>
            <p:cNvPr id="570" name="AutoShape 5"/>
            <p:cNvSpPr/>
            <p:nvPr/>
          </p:nvSpPr>
          <p:spPr>
            <a:xfrm>
              <a:off x="5715000" y="1600200"/>
              <a:ext cx="1752480" cy="762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71" name="Rectangle 6"/>
            <p:cNvSpPr/>
            <p:nvPr/>
          </p:nvSpPr>
          <p:spPr>
            <a:xfrm>
              <a:off x="6172200" y="236232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572" name="Group 7"/>
          <p:cNvGrpSpPr/>
          <p:nvPr/>
        </p:nvGrpSpPr>
        <p:grpSpPr>
          <a:xfrm>
            <a:off x="5715000" y="4191480"/>
            <a:ext cx="1752480" cy="1675800"/>
            <a:chOff x="5715000" y="4191480"/>
            <a:chExt cx="1752480" cy="1675800"/>
          </a:xfrm>
        </p:grpSpPr>
        <p:sp>
          <p:nvSpPr>
            <p:cNvPr id="573" name="AutoShape 8"/>
            <p:cNvSpPr/>
            <p:nvPr/>
          </p:nvSpPr>
          <p:spPr>
            <a:xfrm flipV="1">
              <a:off x="5715000" y="5105520"/>
              <a:ext cx="1752480" cy="761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 flipV="1">
              <a:off x="6172200" y="4191120"/>
              <a:ext cx="838080" cy="9140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074804A-ED12-4163-B927-A4874A83D51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 - primjer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E8A22D0-7083-48E1-A7C1-69D04EC21F82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8688960" y="76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52280" y="152280"/>
            <a:ext cx="52578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CB566845-D37C-4753-9650-51A31BC22869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oraci optimiza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C4499AE1-D866-4F53-9A7E-6D5CAE507484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urier New"/>
              </a:rPr>
              <a:t>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2907BC86-CA08-41ED-9EC7-9ABC17EBEBD5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E34CFAB-1B7F-4C20-AD56-760E87C38936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5DF6898-FDAB-416F-9A13-9AE0B296A114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0A4DFE7-94C7-4659-9E4F-DD9BAF1D3022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b*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1E8D3B4-9CBF-4233-A823-8DD2646A66F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ražajnost jezik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risti se za opisivanje bilo koje ak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je vezan za kontek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iše načina da se opiše ista akci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Fle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sibil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4142A82E-2C13-4A8F-A626-716C643C80C8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10F13464-06B6-4CC0-9722-13F6FD7C6559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A62AB50C-7607-47C1-9D9F-15B315E79029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 =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A996F0B8-74E1-4586-9D86-E8ADB6FF6B6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A2528D78-017B-4595-9DE6-19366599808A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6DD3C099-111A-4AF6-A43E-044277FCE6EA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i+1)*(i+1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E9D92DE8-515C-40BB-97D0-E38D9FEAC5F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*t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0D42EE88-4981-4B73-814B-118B6FEF63C1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89B90099-4DCC-4CF9-9BA0-F26F7F1DBFB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136735E0-E10D-4D0B-81EA-89B14998E444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7236C0B0-61B1-474F-9746-FB635D3047DF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dati in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irodni jezic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Engl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es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Open the pod bay doors, Hal.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I am sorry Dave, I am afraid I cannot do that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Daleko smo od tog nivoa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irodni jezic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zražajni (moćni)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al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Dvosmisleni (nejasni)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Neki izrazi opisuju više mogućih akcij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7696080" y="1447920"/>
            <a:ext cx="1001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2734DA0-15C8-4BC3-80D6-B35DE49BCC2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D23DD80-9068-4291-9FB3-FD41B81FA16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(4*a/b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8F6B129-4057-4FF3-98B4-6D28839E4A9C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 = (4*a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FD33319E-8F40-4BA1-B56C-B46B5B92CD4E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4*a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u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508B3D1-4E1C-4A72-B4ED-9C400D08C4D8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4*a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u*i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A1F66C48-7D18-42F7-8510-9F788BAB4606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a&lt;&lt;2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 = v +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77167893-54DB-4CFB-B1A8-CFFE84849D96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egister Allo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ffff"/>
              </a:solidFill>
              <a:latin typeface="Courier New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1600200" y="1347840"/>
            <a:ext cx="5032800" cy="1607760"/>
            <a:chOff x="1600200" y="1347840"/>
            <a:chExt cx="5032800" cy="1607760"/>
          </a:xfrm>
        </p:grpSpPr>
        <p:sp>
          <p:nvSpPr>
            <p:cNvPr id="651" name="Line 5"/>
            <p:cNvSpPr/>
            <p:nvPr/>
          </p:nvSpPr>
          <p:spPr>
            <a:xfrm flipH="1">
              <a:off x="5437800" y="1912680"/>
              <a:ext cx="698400" cy="0"/>
            </a:xfrm>
            <a:prstGeom prst="line">
              <a:avLst/>
            </a:prstGeom>
            <a:ln w="9360">
              <a:solidFill>
                <a:srgbClr val="cc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2" name="Text Box 6"/>
            <p:cNvSpPr/>
            <p:nvPr/>
          </p:nvSpPr>
          <p:spPr>
            <a:xfrm>
              <a:off x="6112440" y="13478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imes New Roman"/>
                </a:rPr>
                <a:t>fp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3" name="Rectangle 7"/>
            <p:cNvSpPr/>
            <p:nvPr/>
          </p:nvSpPr>
          <p:spPr>
            <a:xfrm>
              <a:off x="1600200" y="190260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X</a:t>
              </a: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>
              <a:off x="1600200" y="225216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Y</a:t>
              </a: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5" name="Rectangle 9"/>
            <p:cNvSpPr/>
            <p:nvPr/>
          </p:nvSpPr>
          <p:spPr>
            <a:xfrm>
              <a:off x="1600200" y="260136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47FBB764-A4B1-4AA4-AF99-AB53BBC920C2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egister Allo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8d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X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9d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t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10d = u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ebx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v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ecx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i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9" name="Line 4"/>
          <p:cNvSpPr/>
          <p:nvPr/>
        </p:nvSpPr>
        <p:spPr>
          <a:xfrm flipH="1">
            <a:off x="5438880" y="1913040"/>
            <a:ext cx="698400" cy="0"/>
          </a:xfrm>
          <a:prstGeom prst="line">
            <a:avLst/>
          </a:prstGeom>
          <a:ln w="936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6112440" y="13478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f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1600200" y="1903320"/>
            <a:ext cx="3843360" cy="354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1600200" y="2252520"/>
            <a:ext cx="3843360" cy="354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1600200" y="2602080"/>
            <a:ext cx="3843360" cy="3538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1600200" y="1905120"/>
            <a:ext cx="3886200" cy="106668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 flipH="1">
            <a:off x="1523520" y="1905120"/>
            <a:ext cx="3962520" cy="106668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A7036437-C66B-40A5-86E0-19EC6BC9063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vani ko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t, u, v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u = ((a&lt;&lt;2)/b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v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v + t*t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v = v + u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12C5B132-8512-4025-A0A5-755E3EBDB3B9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5638680" y="533160"/>
            <a:ext cx="3353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xorl    %r8d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xorl    %ec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r9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%edx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g      .L7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sall    $2, %edi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5:    movl    %edi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divl   %esi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1(%rcx), %ed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%r10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cx, %r10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(%r10,%rcx)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ax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%r9d, %ed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le     .L5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7:    movl    %r8d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152280" y="533520"/>
            <a:ext cx="4419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72" name="Group 4"/>
          <p:cNvGrpSpPr/>
          <p:nvPr/>
        </p:nvGrpSpPr>
        <p:grpSpPr>
          <a:xfrm>
            <a:off x="297720" y="4952880"/>
            <a:ext cx="8380080" cy="1313640"/>
            <a:chOff x="297720" y="4952880"/>
            <a:chExt cx="8380080" cy="1313640"/>
          </a:xfrm>
        </p:grpSpPr>
        <p:sp>
          <p:nvSpPr>
            <p:cNvPr id="673" name="Text Box 5"/>
            <p:cNvSpPr/>
            <p:nvPr/>
          </p:nvSpPr>
          <p:spPr>
            <a:xfrm>
              <a:off x="297720" y="4952880"/>
              <a:ext cx="3183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Inner Loop: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10*mov + 5*lea + 5*add/inc </a:t>
              </a:r>
              <a:br>
                <a:rPr sz="2000"/>
              </a:b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+ 4*div/mul + 5*cmp/br/jmp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= 29 instruction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4" name="Text Box 6"/>
            <p:cNvSpPr/>
            <p:nvPr/>
          </p:nvSpPr>
          <p:spPr>
            <a:xfrm>
              <a:off x="5479560" y="4952880"/>
              <a:ext cx="3198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4*mov + 2*lea + 1*add/inc+ </a:t>
              </a:r>
              <a:br>
                <a:rPr sz="2000"/>
              </a:b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3*div/mul + 2*cmp/br/jmp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= 12 instruction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675" name="Text Box 7"/>
          <p:cNvSpPr/>
          <p:nvPr/>
        </p:nvSpPr>
        <p:spPr>
          <a:xfrm>
            <a:off x="532800" y="7632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optimized Cod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5714280" y="763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ptimized Cod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77" name="Group 9"/>
          <p:cNvGrpSpPr/>
          <p:nvPr/>
        </p:nvGrpSpPr>
        <p:grpSpPr>
          <a:xfrm>
            <a:off x="453240" y="6172200"/>
            <a:ext cx="7597800" cy="398880"/>
            <a:chOff x="453240" y="6172200"/>
            <a:chExt cx="7597800" cy="398880"/>
          </a:xfrm>
        </p:grpSpPr>
        <p:sp>
          <p:nvSpPr>
            <p:cNvPr id="678" name="Text Box 10"/>
            <p:cNvSpPr/>
            <p:nvPr/>
          </p:nvSpPr>
          <p:spPr>
            <a:xfrm>
              <a:off x="5406120" y="617220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Execution time = 17 sec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9" name="Text Box 11"/>
            <p:cNvSpPr/>
            <p:nvPr/>
          </p:nvSpPr>
          <p:spPr>
            <a:xfrm>
              <a:off x="453240" y="617220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Execution time = 43 sec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011603EC-4948-40EF-ADB3-F26EF6252429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ogra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ski jezici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Željena svojstv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eciz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Konciz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z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j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isoki nivo apstr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D1FF179B-6162-45FC-A451-B744A8F44DF5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omp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ajleri o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timiz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uju p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rogram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e zbog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erforman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Brzine izvršav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elič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 kod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trošnje elektricitet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Brž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fikasni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 kompilaci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gurnos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i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uzdanost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bugging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FCD90F90-1394-4EC2-B0EE-920572A75D93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d visokog nivoa apstrakcije do niskog nivoa detalja implementa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70" name="Picture 4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6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73" name="Group 7"/>
          <p:cNvGrpSpPr/>
          <p:nvPr/>
        </p:nvGrpSpPr>
        <p:grpSpPr>
          <a:xfrm>
            <a:off x="695160" y="1398600"/>
            <a:ext cx="7686720" cy="1649520"/>
            <a:chOff x="695160" y="1398600"/>
            <a:chExt cx="7686720" cy="1649520"/>
          </a:xfrm>
        </p:grpSpPr>
        <p:grpSp>
          <p:nvGrpSpPr>
            <p:cNvPr id="74" name="Group 8"/>
            <p:cNvGrpSpPr/>
            <p:nvPr/>
          </p:nvGrpSpPr>
          <p:grpSpPr>
            <a:xfrm>
              <a:off x="3957480" y="1890720"/>
              <a:ext cx="769680" cy="1157400"/>
              <a:chOff x="3957480" y="1890720"/>
              <a:chExt cx="769680" cy="1157400"/>
            </a:xfrm>
          </p:grpSpPr>
          <p:sp>
            <p:nvSpPr>
              <p:cNvPr id="75" name="Freeform 9"/>
              <p:cNvSpPr/>
              <p:nvPr/>
            </p:nvSpPr>
            <p:spPr>
              <a:xfrm>
                <a:off x="4016160" y="1890720"/>
                <a:ext cx="711000" cy="1154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6" name="Freeform 10"/>
              <p:cNvSpPr/>
              <p:nvPr/>
            </p:nvSpPr>
            <p:spPr>
              <a:xfrm>
                <a:off x="3957480" y="2373480"/>
                <a:ext cx="504720" cy="67464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7" name="Freeform 11"/>
              <p:cNvSpPr/>
              <p:nvPr/>
            </p:nvSpPr>
            <p:spPr>
              <a:xfrm>
                <a:off x="4471560" y="2606760"/>
                <a:ext cx="192240" cy="376200"/>
              </a:xfrm>
              <a:prstGeom prst="pie">
                <a:avLst/>
              </a:prstGeom>
              <a:solidFill>
                <a:srgbClr val="ade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8" name="Freeform 12"/>
              <p:cNvSpPr/>
              <p:nvPr/>
            </p:nvSpPr>
            <p:spPr>
              <a:xfrm>
                <a:off x="4054320" y="2500200"/>
                <a:ext cx="96480" cy="1126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9" name="Freeform 13"/>
              <p:cNvSpPr/>
              <p:nvPr/>
            </p:nvSpPr>
            <p:spPr>
              <a:xfrm>
                <a:off x="4049280" y="2459160"/>
                <a:ext cx="104760" cy="6336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0" name="Freeform 14"/>
              <p:cNvSpPr/>
              <p:nvPr/>
            </p:nvSpPr>
            <p:spPr>
              <a:xfrm>
                <a:off x="4016160" y="2116080"/>
                <a:ext cx="68076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1" name="Freeform 15"/>
              <p:cNvSpPr/>
              <p:nvPr/>
            </p:nvSpPr>
            <p:spPr>
              <a:xfrm>
                <a:off x="4308120" y="2558880"/>
                <a:ext cx="196920" cy="125640"/>
              </a:xfrm>
              <a:prstGeom prst="pie">
                <a:avLst/>
              </a:prstGeom>
              <a:solidFill>
                <a:srgbClr val="ade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2" name="Freeform 16"/>
              <p:cNvSpPr/>
              <p:nvPr/>
            </p:nvSpPr>
            <p:spPr>
              <a:xfrm>
                <a:off x="4298760" y="1979640"/>
                <a:ext cx="338040" cy="555480"/>
              </a:xfrm>
              <a:prstGeom prst="pie">
                <a:avLst/>
              </a:prstGeom>
              <a:solidFill>
                <a:srgbClr val="dda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3" name="Freeform 17"/>
              <p:cNvSpPr/>
              <p:nvPr/>
            </p:nvSpPr>
            <p:spPr>
              <a:xfrm>
                <a:off x="4451040" y="2305080"/>
                <a:ext cx="1206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4" name="Freeform 18"/>
              <p:cNvSpPr/>
              <p:nvPr/>
            </p:nvSpPr>
            <p:spPr>
              <a:xfrm>
                <a:off x="4424040" y="2395440"/>
                <a:ext cx="1573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4458960" y="2444760"/>
                <a:ext cx="982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6" name="Freeform 20"/>
              <p:cNvSpPr/>
              <p:nvPr/>
            </p:nvSpPr>
            <p:spPr>
              <a:xfrm>
                <a:off x="4046040" y="2173320"/>
                <a:ext cx="9864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7" name="Freeform 21"/>
              <p:cNvSpPr/>
              <p:nvPr/>
            </p:nvSpPr>
            <p:spPr>
              <a:xfrm>
                <a:off x="4060440" y="2141640"/>
                <a:ext cx="5868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95160" y="1398600"/>
              <a:ext cx="7686720" cy="1444680"/>
              <a:chOff x="695160" y="1398600"/>
              <a:chExt cx="7686720" cy="1444680"/>
            </a:xfrm>
          </p:grpSpPr>
          <p:pic>
            <p:nvPicPr>
              <p:cNvPr id="89" name="Picture 23" descr="z-president"/>
              <p:cNvPicPr/>
              <p:nvPr/>
            </p:nvPicPr>
            <p:blipFill>
              <a:blip r:embed="rId3"/>
              <a:stretch/>
            </p:blipFill>
            <p:spPr>
              <a:xfrm>
                <a:off x="695160" y="1890720"/>
                <a:ext cx="952560" cy="95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24"/>
              <p:cNvSpPr/>
              <p:nvPr/>
            </p:nvSpPr>
            <p:spPr>
              <a:xfrm>
                <a:off x="1851120" y="2271960"/>
                <a:ext cx="131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President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1" name="AutoShape 25"/>
              <p:cNvSpPr/>
              <p:nvPr/>
            </p:nvSpPr>
            <p:spPr>
              <a:xfrm>
                <a:off x="4800600" y="1433520"/>
                <a:ext cx="3581280" cy="838440"/>
              </a:xfrm>
              <a:prstGeom prst="wedgeRoundRectCallout">
                <a:avLst>
                  <a:gd name="adj1" fmla="val -54254"/>
                  <a:gd name="adj2" fmla="val 64013"/>
                  <a:gd name="adj3" fmla="val 16667"/>
                </a:avLst>
              </a:prstGeom>
              <a:solidFill>
                <a:srgbClr val="15009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2" name="Text Box 26"/>
              <p:cNvSpPr/>
              <p:nvPr/>
            </p:nvSpPr>
            <p:spPr>
              <a:xfrm>
                <a:off x="4779720" y="1398600"/>
                <a:ext cx="328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My poll ratings are low,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lets invade a small nation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Group 27"/>
          <p:cNvGrpSpPr/>
          <p:nvPr/>
        </p:nvGrpSpPr>
        <p:grpSpPr>
          <a:xfrm>
            <a:off x="457200" y="2803680"/>
            <a:ext cx="7848720" cy="1310760"/>
            <a:chOff x="457200" y="2803680"/>
            <a:chExt cx="7848720" cy="1310760"/>
          </a:xfrm>
        </p:grpSpPr>
        <p:grpSp>
          <p:nvGrpSpPr>
            <p:cNvPr id="94" name="Group 28"/>
            <p:cNvGrpSpPr/>
            <p:nvPr/>
          </p:nvGrpSpPr>
          <p:grpSpPr>
            <a:xfrm>
              <a:off x="4014720" y="3295800"/>
              <a:ext cx="655200" cy="818640"/>
              <a:chOff x="4014720" y="3295800"/>
              <a:chExt cx="655200" cy="818640"/>
            </a:xfrm>
          </p:grpSpPr>
          <p:sp>
            <p:nvSpPr>
              <p:cNvPr id="95" name="Freeform 29"/>
              <p:cNvSpPr/>
              <p:nvPr/>
            </p:nvSpPr>
            <p:spPr>
              <a:xfrm flipH="1">
                <a:off x="4014720" y="3295800"/>
                <a:ext cx="655200" cy="81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6" name="Freeform 30"/>
              <p:cNvSpPr/>
              <p:nvPr/>
            </p:nvSpPr>
            <p:spPr>
              <a:xfrm flipH="1">
                <a:off x="4557960" y="3685320"/>
                <a:ext cx="3960" cy="172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7" name="Freeform 31"/>
              <p:cNvSpPr/>
              <p:nvPr/>
            </p:nvSpPr>
            <p:spPr>
              <a:xfrm flipH="1">
                <a:off x="4465800" y="3672000"/>
                <a:ext cx="85680" cy="352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8" name="Freeform 32"/>
              <p:cNvSpPr/>
              <p:nvPr/>
            </p:nvSpPr>
            <p:spPr>
              <a:xfrm flipH="1">
                <a:off x="4346640" y="3711960"/>
                <a:ext cx="322920" cy="2728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9" name="Freeform 33"/>
              <p:cNvSpPr/>
              <p:nvPr/>
            </p:nvSpPr>
            <p:spPr>
              <a:xfrm flipH="1">
                <a:off x="4318200" y="3874320"/>
                <a:ext cx="114120" cy="9000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 flipH="1">
                <a:off x="4371120" y="3962880"/>
                <a:ext cx="127080" cy="7416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1" name="Freeform 35"/>
              <p:cNvSpPr/>
              <p:nvPr/>
            </p:nvSpPr>
            <p:spPr>
              <a:xfrm flipH="1">
                <a:off x="4252680" y="3898800"/>
                <a:ext cx="129600" cy="7020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2" name="Freeform 36"/>
              <p:cNvSpPr/>
              <p:nvPr/>
            </p:nvSpPr>
            <p:spPr>
              <a:xfrm flipH="1">
                <a:off x="4054320" y="3440880"/>
                <a:ext cx="366840" cy="40068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 flipH="1">
                <a:off x="4278960" y="3760200"/>
                <a:ext cx="250200" cy="2307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 flipH="1">
                <a:off x="4294080" y="3577680"/>
                <a:ext cx="308160" cy="17352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5" name="Freeform 39"/>
              <p:cNvSpPr/>
              <p:nvPr/>
            </p:nvSpPr>
            <p:spPr>
              <a:xfrm flipH="1">
                <a:off x="4342320" y="4015080"/>
                <a:ext cx="198000" cy="6624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6" name="Freeform 40"/>
              <p:cNvSpPr/>
              <p:nvPr/>
            </p:nvSpPr>
            <p:spPr>
              <a:xfrm flipH="1">
                <a:off x="4256280" y="3542040"/>
                <a:ext cx="207000" cy="20880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7" name="Freeform 41"/>
              <p:cNvSpPr/>
              <p:nvPr/>
            </p:nvSpPr>
            <p:spPr>
              <a:xfrm flipH="1">
                <a:off x="4115520" y="3300120"/>
                <a:ext cx="305640" cy="20700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8" name="Freeform 42"/>
              <p:cNvSpPr/>
              <p:nvPr/>
            </p:nvSpPr>
            <p:spPr>
              <a:xfrm flipH="1">
                <a:off x="4142160" y="3443400"/>
                <a:ext cx="24120" cy="3492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9" name="Freeform 43"/>
              <p:cNvSpPr/>
              <p:nvPr/>
            </p:nvSpPr>
            <p:spPr>
              <a:xfrm flipH="1">
                <a:off x="4263840" y="3810600"/>
                <a:ext cx="21600" cy="5256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0" name="Freeform 44"/>
              <p:cNvSpPr/>
              <p:nvPr/>
            </p:nvSpPr>
            <p:spPr>
              <a:xfrm flipH="1">
                <a:off x="4296240" y="3850560"/>
                <a:ext cx="32760" cy="1728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1" name="Freeform 45"/>
              <p:cNvSpPr/>
              <p:nvPr/>
            </p:nvSpPr>
            <p:spPr>
              <a:xfrm flipH="1">
                <a:off x="4318920" y="3764520"/>
                <a:ext cx="28080" cy="4824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46"/>
            <p:cNvGrpSpPr/>
            <p:nvPr/>
          </p:nvGrpSpPr>
          <p:grpSpPr>
            <a:xfrm>
              <a:off x="457200" y="2803680"/>
              <a:ext cx="7848720" cy="1104120"/>
              <a:chOff x="457200" y="2803680"/>
              <a:chExt cx="7848720" cy="1104120"/>
            </a:xfrm>
          </p:grpSpPr>
          <p:pic>
            <p:nvPicPr>
              <p:cNvPr id="113" name="Picture 47" descr="z-general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524400"/>
                <a:ext cx="142884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48"/>
              <p:cNvSpPr/>
              <p:nvPr/>
            </p:nvSpPr>
            <p:spPr>
              <a:xfrm>
                <a:off x="1935360" y="3448080"/>
                <a:ext cx="114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l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49"/>
              <p:cNvSpPr/>
              <p:nvPr/>
            </p:nvSpPr>
            <p:spPr>
              <a:xfrm>
                <a:off x="4724280" y="2838600"/>
                <a:ext cx="3581640" cy="838080"/>
              </a:xfrm>
              <a:prstGeom prst="wedgeRoundRectCallout">
                <a:avLst>
                  <a:gd name="adj1" fmla="val -52481"/>
                  <a:gd name="adj2" fmla="val 71592"/>
                  <a:gd name="adj3" fmla="val 16667"/>
                </a:avLst>
              </a:prstGeom>
              <a:solidFill>
                <a:srgbClr val="15009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6" name="Text Box 50"/>
              <p:cNvSpPr/>
              <p:nvPr/>
            </p:nvSpPr>
            <p:spPr>
              <a:xfrm>
                <a:off x="4706280" y="2803680"/>
                <a:ext cx="3080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Cross the river and take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defensive positions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Group 51"/>
          <p:cNvGrpSpPr/>
          <p:nvPr/>
        </p:nvGrpSpPr>
        <p:grpSpPr>
          <a:xfrm>
            <a:off x="861840" y="4064040"/>
            <a:ext cx="7596360" cy="1193040"/>
            <a:chOff x="861840" y="4064040"/>
            <a:chExt cx="7596360" cy="1193040"/>
          </a:xfrm>
        </p:grpSpPr>
        <p:pic>
          <p:nvPicPr>
            <p:cNvPr id="118" name="Picture 52" descr="z-sergeant"/>
            <p:cNvPicPr/>
            <p:nvPr/>
          </p:nvPicPr>
          <p:blipFill>
            <a:blip r:embed="rId5"/>
            <a:stretch/>
          </p:blipFill>
          <p:spPr>
            <a:xfrm>
              <a:off x="861840" y="4327560"/>
              <a:ext cx="6192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53"/>
            <p:cNvSpPr/>
            <p:nvPr/>
          </p:nvSpPr>
          <p:spPr>
            <a:xfrm>
              <a:off x="1884240" y="455616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ergean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grpSp>
          <p:nvGrpSpPr>
            <p:cNvPr id="120" name="Group 54"/>
            <p:cNvGrpSpPr/>
            <p:nvPr/>
          </p:nvGrpSpPr>
          <p:grpSpPr>
            <a:xfrm>
              <a:off x="4007160" y="4556160"/>
              <a:ext cx="670680" cy="700920"/>
              <a:chOff x="4007160" y="4556160"/>
              <a:chExt cx="670680" cy="700920"/>
            </a:xfrm>
          </p:grpSpPr>
          <p:sp>
            <p:nvSpPr>
              <p:cNvPr id="121" name="Freeform 55"/>
              <p:cNvSpPr/>
              <p:nvPr/>
            </p:nvSpPr>
            <p:spPr>
              <a:xfrm flipH="1">
                <a:off x="4060800" y="4560840"/>
                <a:ext cx="609120" cy="398520"/>
              </a:xfrm>
              <a:prstGeom prst="pie">
                <a:avLst/>
              </a:prstGeom>
              <a:solidFill>
                <a:srgbClr val="007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2" name="Freeform 56"/>
              <p:cNvSpPr/>
              <p:nvPr/>
            </p:nvSpPr>
            <p:spPr>
              <a:xfrm flipH="1">
                <a:off x="4339440" y="4560840"/>
                <a:ext cx="16740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3" name="Freeform 57"/>
              <p:cNvSpPr/>
              <p:nvPr/>
            </p:nvSpPr>
            <p:spPr>
              <a:xfrm flipH="1">
                <a:off x="4087800" y="4556160"/>
                <a:ext cx="254160" cy="16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4" name="Freeform 58"/>
              <p:cNvSpPr/>
              <p:nvPr/>
            </p:nvSpPr>
            <p:spPr>
              <a:xfrm flipH="1">
                <a:off x="4053240" y="4718160"/>
                <a:ext cx="4824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5" name="Freeform 59"/>
              <p:cNvSpPr/>
              <p:nvPr/>
            </p:nvSpPr>
            <p:spPr>
              <a:xfrm flipH="1">
                <a:off x="4057920" y="4813200"/>
                <a:ext cx="604080" cy="15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6" name="Freeform 60"/>
              <p:cNvSpPr/>
              <p:nvPr/>
            </p:nvSpPr>
            <p:spPr>
              <a:xfrm flipH="1">
                <a:off x="4648320" y="4894560"/>
                <a:ext cx="2916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7" name="Freeform 61"/>
              <p:cNvSpPr/>
              <p:nvPr/>
            </p:nvSpPr>
            <p:spPr>
              <a:xfrm flipH="1">
                <a:off x="4488480" y="4810320"/>
                <a:ext cx="187200" cy="9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8" name="Freeform 62"/>
              <p:cNvSpPr/>
              <p:nvPr/>
            </p:nvSpPr>
            <p:spPr>
              <a:xfrm flipH="1">
                <a:off x="4011480" y="4821480"/>
                <a:ext cx="452520" cy="432720"/>
              </a:xfrm>
              <a:prstGeom prst="pie">
                <a:avLst/>
              </a:prstGeom>
              <a:solidFill>
                <a:srgbClr val="c67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9" name="Freeform 63"/>
              <p:cNvSpPr/>
              <p:nvPr/>
            </p:nvSpPr>
            <p:spPr>
              <a:xfrm flipH="1">
                <a:off x="4057920" y="4813200"/>
                <a:ext cx="20844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0" name="Freeform 64"/>
              <p:cNvSpPr/>
              <p:nvPr/>
            </p:nvSpPr>
            <p:spPr>
              <a:xfrm flipH="1">
                <a:off x="4011840" y="4818240"/>
                <a:ext cx="5688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1" name="Freeform 65"/>
              <p:cNvSpPr/>
              <p:nvPr/>
            </p:nvSpPr>
            <p:spPr>
              <a:xfrm flipH="1">
                <a:off x="4006800" y="5000040"/>
                <a:ext cx="96840" cy="22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2" name="Freeform 66"/>
              <p:cNvSpPr/>
              <p:nvPr/>
            </p:nvSpPr>
            <p:spPr>
              <a:xfrm flipH="1">
                <a:off x="4255920" y="5088960"/>
                <a:ext cx="172800" cy="16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3" name="Freeform 67"/>
              <p:cNvSpPr/>
              <p:nvPr/>
            </p:nvSpPr>
            <p:spPr>
              <a:xfrm flipH="1">
                <a:off x="4415040" y="4907880"/>
                <a:ext cx="5436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4" name="Freeform 68"/>
              <p:cNvSpPr/>
              <p:nvPr/>
            </p:nvSpPr>
            <p:spPr>
              <a:xfrm flipH="1">
                <a:off x="4258440" y="4861800"/>
                <a:ext cx="20556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AutoShape 69"/>
            <p:cNvSpPr/>
            <p:nvPr/>
          </p:nvSpPr>
          <p:spPr>
            <a:xfrm>
              <a:off x="4876920" y="4098960"/>
              <a:ext cx="3581280" cy="838080"/>
            </a:xfrm>
            <a:prstGeom prst="wedgeRoundRectCallout">
              <a:avLst>
                <a:gd name="adj1" fmla="val -61791"/>
                <a:gd name="adj2" fmla="val 74810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36" name="Text Box 70"/>
            <p:cNvSpPr/>
            <p:nvPr/>
          </p:nvSpPr>
          <p:spPr>
            <a:xfrm>
              <a:off x="4858560" y="4064040"/>
              <a:ext cx="31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rward march, turn lef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top!, Shoo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57F15725-D193-4068-85ED-2A0851BF5DC1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zadati ins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00400" y="4191120"/>
            <a:ext cx="2819520" cy="1403280"/>
          </a:xfrm>
          <a:prstGeom prst="rightArrow">
            <a:avLst>
              <a:gd name="adj1" fmla="val 50000"/>
              <a:gd name="adj2" fmla="val 50231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0090"/>
                </a:solidFill>
                <a:latin typeface="Times New Roman"/>
              </a:rPr>
              <a:t>Compiler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2514600"/>
            <a:ext cx="8610840" cy="3581280"/>
            <a:chOff x="380880" y="2514600"/>
            <a:chExt cx="8610840" cy="3581280"/>
          </a:xfrm>
        </p:grpSpPr>
        <p:sp>
          <p:nvSpPr>
            <p:cNvPr id="141" name="Oval 5"/>
            <p:cNvSpPr/>
            <p:nvPr/>
          </p:nvSpPr>
          <p:spPr>
            <a:xfrm>
              <a:off x="6095880" y="3809880"/>
              <a:ext cx="2286000" cy="22860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semblerski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jezik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80880" y="2514600"/>
              <a:ext cx="86108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Mikroprocesor</a:t>
              </a:r>
              <a:r>
                <a:rPr b="0" lang="sr-Latn-CS" sz="2800" spc="-1" strike="noStrike">
                  <a:solidFill>
                    <a:srgbClr val="ccffff"/>
                  </a:solidFill>
                  <a:latin typeface="Tahoma"/>
                </a:rPr>
                <a:t>i “govore”</a:t>
              </a: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 asembl</a:t>
              </a:r>
              <a:r>
                <a:rPr b="0" lang="sr-Latn-CS" sz="2800" spc="-1" strike="noStrike">
                  <a:solidFill>
                    <a:srgbClr val="ccffff"/>
                  </a:solidFill>
                  <a:latin typeface="Tahoma"/>
                </a:rPr>
                <a:t>erskim jezikom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cff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Tahoma"/>
                </a:rPr>
                <a:t>Low-level Implementation Detail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69000" y="1447920"/>
            <a:ext cx="8253360" cy="4647960"/>
            <a:chOff x="369000" y="1447920"/>
            <a:chExt cx="8253360" cy="4647960"/>
          </a:xfrm>
        </p:grpSpPr>
        <p:sp>
          <p:nvSpPr>
            <p:cNvPr id="144" name="Oval 8"/>
            <p:cNvSpPr/>
            <p:nvPr/>
          </p:nvSpPr>
          <p:spPr>
            <a:xfrm>
              <a:off x="762120" y="3809880"/>
              <a:ext cx="2286000" cy="228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napi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a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rogram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skom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jeziku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369000" y="1447920"/>
              <a:ext cx="8253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sr-Latn-CS" sz="3200" spc="-1" strike="noStrike">
                  <a:solidFill>
                    <a:srgbClr val="00ffff"/>
                  </a:solidFill>
                  <a:latin typeface="Times New Roman"/>
                </a:rPr>
                <a:t>Napišite program u nekom programskom jeziku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High-level Abstract Description</a:t>
              </a:r>
              <a:br>
                <a:rPr sz="2800"/>
              </a:b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8T13:24:48Z</dcterms:created>
  <dc:creator>Saman Amarasinghe</dc:creator>
  <dc:description/>
  <dc:language>en-US</dc:language>
  <cp:lastModifiedBy>gorans</cp:lastModifiedBy>
  <cp:lastPrinted>1998-09-09T12:10:23Z</cp:lastPrinted>
  <dcterms:modified xsi:type="dcterms:W3CDTF">2011-02-10T08:21:08Z</dcterms:modified>
  <cp:revision>145</cp:revision>
  <dc:subject/>
  <dc:title>Lecture 1: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compiler.lcs.mit.edu/~saman</vt:lpwstr>
  </property>
  <property fmtid="{D5CDD505-2E9C-101B-9397-08002B2CF9AE}" pid="9" name="LinkColor">
    <vt:r8>16711782</vt:r8>
  </property>
  <property fmtid="{D5CDD505-2E9C-101B-9397-08002B2CF9AE}" pid="10" name="MailAddress">
    <vt:lpwstr>saman@lcs.mit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I:\wwwroot\6035-99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