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D3F27-5FAC-4009-82C1-C7AEDFC21F74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ftmost derivation going down Top dow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ightmost derivation coming up, bottom u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day, look at top-dow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608E-FA6F-4CA3-8C6B-1DF09CD2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7880" y="35348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B21E-EFBC-4FF1-8110-C7B0F335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7880" y="35348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560" y="35348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5A2-5888-449B-ADB9-0E0C6DC2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5880" y="10666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3520" y="10666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7880" y="35348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5880" y="35348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3520" y="35348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9AA-4F8D-4628-BDEF-22B65DCE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0446-D7C5-4B13-899D-B683D73E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D033-4C9D-44A5-BA60-89C65643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DBE-5D44-4023-88CA-57CDF512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F3D-49F4-4AC1-8C05-C96419F6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223-62D5-4452-BFEF-6DD53B4D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7880" y="35348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C22-7828-4FFA-BAEF-C2543EC5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560" y="35348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401A-D9EA-483F-BF1D-DD8B0A4C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7880" y="35348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A65-9036-400A-B79D-87F41D2B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37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BD96-2EFF-41F5-87DF-44281C6B107A}" type="datetime">
              <a:rPr b="0" i="1" lang="en-US" sz="16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712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6EE6-6752-4D85-AC76-F8F41BF23BDB}" type="slidenum">
              <a:rPr b="0" lang="en-US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167520"/>
            <a:ext cx="703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op-down parsiran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17F8-8D01-4BD9-8614-397A59089F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zija u pravilima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Transformacija G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sa lijevom r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G’ (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sa desnom r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G: X –&gt; Xa | Xb | AB | C | DEF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Dodati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erm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inal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X’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a kraj svakog nerekurzivnog pravila za X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–&gt; ABX' | CX' | DEFX'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' –&gt; aX' | bX' |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Isti jezik, ali je rekurzija sada na desnoj stran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Ovo je vezano za pojedine algoritme za kreiranje parsera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505-C654-4CF0-A0FE-3D5AA82FC9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Indirektna rekurzija ili prefiks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Rekurzija ili zajednički prefiksi ne moraju biti odmah vidljiv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Re</a:t>
            </a:r>
            <a:r>
              <a:rPr b="0" lang="sr-Latn-CS" sz="2800" spc="-1" strike="noStrike" u="sng">
                <a:solidFill>
                  <a:srgbClr val="3333cc"/>
                </a:solidFill>
                <a:uFillTx/>
                <a:latin typeface="Tahoma"/>
              </a:rPr>
              <a:t>k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r</a:t>
            </a:r>
            <a:r>
              <a:rPr b="0" lang="sr-Latn-CS" sz="2800" spc="-1" strike="noStrike" u="sng">
                <a:solidFill>
                  <a:srgbClr val="3333cc"/>
                </a:solidFill>
                <a:uFillTx/>
                <a:latin typeface="Tahoma"/>
              </a:rPr>
              <a:t>zij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sr-Latn-CS" sz="2800" spc="-1" strike="noStrike" u="sng">
                <a:solidFill>
                  <a:srgbClr val="3333cc"/>
                </a:solidFill>
                <a:uFillTx/>
                <a:latin typeface="Tahoma"/>
              </a:rPr>
              <a:t>Zajednički prefi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-&gt;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X -&gt; aW | VZ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-&gt; X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 -&gt; aY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Poslije primjene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va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ili tri pravil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-&gt; YW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X -&gt; aW | VZ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Y -&gt; XZ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V -&gt; aY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XZW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aW,  X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aYZ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AEE4-65DF-4E28-903F-A04CA0C9DC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Lijeva rekurzija -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a|b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c|Sd|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liminisanje indirektne rekurzije S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a|b  A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c|Aad|bd|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liminacijom direktne lijeve rekurzi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bdA’|A’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’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cA’|adA’|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91D-5B78-4DDC-BF16-AA16BBD109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Načini parsiran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7880" y="1066320"/>
            <a:ext cx="7856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op dow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reće se od početnog neterminalnog simbola gramatik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imjenjuju se pravila (produkcije) dok se ne dobije tražena sentenc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zgradnja drveta parsiranja od korijena ka listovima,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eorder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ottom up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očinjemo od  sente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dukcija na startni simbo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(proces obrnut desnoj derivaciji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FA44-F185-48CC-B762-73DD35FD73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op down parsiranje - ide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319560" y="5105520"/>
            <a:ext cx="5331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4019400"/>
            <a:ext cx="53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484440" y="4253040"/>
            <a:ext cx="1684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1371600"/>
            <a:ext cx="16761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5889600" y="2759040"/>
            <a:ext cx="1273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743200"/>
            <a:ext cx="1752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2819520"/>
            <a:ext cx="1989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b-phr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5105520"/>
            <a:ext cx="21020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chee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4059360"/>
            <a:ext cx="990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0" name=""/>
          <p:cNvCxnSpPr>
            <a:stCxn id="144" idx="2"/>
            <a:endCxn id="146" idx="0"/>
          </p:cNvCxnSpPr>
          <p:nvPr/>
        </p:nvCxnSpPr>
        <p:spPr>
          <a:xfrm flipH="1">
            <a:off x="1561680" y="1861920"/>
            <a:ext cx="2782080" cy="88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1" name=""/>
          <p:cNvCxnSpPr>
            <a:stCxn id="147" idx="0"/>
            <a:endCxn id="144" idx="2"/>
          </p:cNvCxnSpPr>
          <p:nvPr/>
        </p:nvCxnSpPr>
        <p:spPr>
          <a:xfrm flipV="1">
            <a:off x="3585960" y="1861560"/>
            <a:ext cx="757800" cy="957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2" name=""/>
          <p:cNvCxnSpPr>
            <a:stCxn id="145" idx="0"/>
            <a:endCxn id="144" idx="2"/>
          </p:cNvCxnSpPr>
          <p:nvPr/>
        </p:nvCxnSpPr>
        <p:spPr>
          <a:xfrm flipH="1" flipV="1">
            <a:off x="4342680" y="1861560"/>
            <a:ext cx="2183400" cy="897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3" name=""/>
          <p:cNvCxnSpPr>
            <a:stCxn id="154" idx="2"/>
            <a:endCxn id="148" idx="0"/>
          </p:cNvCxnSpPr>
          <p:nvPr/>
        </p:nvCxnSpPr>
        <p:spPr>
          <a:xfrm>
            <a:off x="7603920" y="4510080"/>
            <a:ext cx="1080" cy="596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46" idx="2"/>
            <a:endCxn id="142" idx="0"/>
          </p:cNvCxnSpPr>
          <p:nvPr/>
        </p:nvCxnSpPr>
        <p:spPr>
          <a:xfrm flipH="1">
            <a:off x="1560240" y="3269880"/>
            <a:ext cx="2160" cy="749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7" idx="2"/>
            <a:endCxn id="141" idx="0"/>
          </p:cNvCxnSpPr>
          <p:nvPr/>
        </p:nvCxnSpPr>
        <p:spPr>
          <a:xfrm>
            <a:off x="3585960" y="4527360"/>
            <a:ext cx="1080" cy="57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45" idx="2"/>
            <a:endCxn id="149" idx="0"/>
          </p:cNvCxnSpPr>
          <p:nvPr/>
        </p:nvCxnSpPr>
        <p:spPr>
          <a:xfrm flipH="1">
            <a:off x="5524200" y="3252960"/>
            <a:ext cx="1002240" cy="807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5" idx="2"/>
            <a:endCxn id="154" idx="0"/>
          </p:cNvCxnSpPr>
          <p:nvPr/>
        </p:nvCxnSpPr>
        <p:spPr>
          <a:xfrm>
            <a:off x="6525720" y="3252600"/>
            <a:ext cx="1078560" cy="764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3090960" y="4000680"/>
            <a:ext cx="9903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0" name=""/>
          <p:cNvCxnSpPr/>
          <p:nvPr/>
        </p:nvCxnSpPr>
        <p:spPr>
          <a:xfrm>
            <a:off x="4258800" y="5790960"/>
            <a:ext cx="1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47" idx="2"/>
            <a:endCxn id="157" idx="0"/>
          </p:cNvCxnSpPr>
          <p:nvPr/>
        </p:nvCxnSpPr>
        <p:spPr>
          <a:xfrm>
            <a:off x="3585960" y="3241800"/>
            <a:ext cx="1080" cy="759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2" name=""/>
          <p:cNvCxnSpPr/>
          <p:nvPr/>
        </p:nvCxnSpPr>
        <p:spPr>
          <a:xfrm>
            <a:off x="8145000" y="3428640"/>
            <a:ext cx="1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7147080" y="4016520"/>
            <a:ext cx="914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AEA0-0A76-458F-BC87-014E6DBC7C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2133720" y="1066680"/>
            <a:ext cx="4383000" cy="5105520"/>
            <a:chOff x="2133720" y="1066680"/>
            <a:chExt cx="4383000" cy="510552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2133720" y="1066680"/>
              <a:ext cx="43830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 txBox="1"/>
            <p:nvPr/>
          </p:nvSpPr>
          <p:spPr>
            <a:xfrm>
              <a:off x="2133720" y="1066680"/>
              <a:ext cx="4383000" cy="5105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op down parsiranje - ide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56F-1338-495D-80E9-01C4C9730E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ottom up p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arsiranje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- ide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500520" cy="316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A5D-65A8-43F5-ACB5-8688C10BB0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ottom up p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arsiranje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- ide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752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f  x == y then z = 1; else z = 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6934320" cy="248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F700-7EC3-48BD-A5B6-01D7683184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2514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: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057040" y="1828440"/>
            <a:ext cx="5257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Top-down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Bottom up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 * 3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 * 3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* 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* 3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 * 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* In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 * 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* F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 * F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* 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 * In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 * 3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228600"/>
            <a:ext cx="281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 + E | 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 * T | 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4572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lazni niz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*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ED7-D4EA-4D25-98A1-39A8F5BCEB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op-dow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ako se koriste sa malim gramatikama i za ad hoc parser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arser posmatra 1 token unaprijed, ne čitav string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ako izabrati produkciju na osnovu 1 tokena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a primjer: B -&gt; b  |  bB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blem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jednički prefiks!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304-B52A-48D5-A172-0C1A63B5C5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Gramatike - podsje</a:t>
            </a:r>
            <a:r>
              <a:rPr b="0" lang="hr-HR" sz="4000" spc="-1" strike="noStrike">
                <a:solidFill>
                  <a:srgbClr val="000099"/>
                </a:solidFill>
                <a:latin typeface="Tahoma"/>
              </a:rPr>
              <a:t>ćan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SG kao vodič za izgradnju parser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trebno je modifikovati gramatike da bi se moga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primijeniti odgovarajući algoritam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etpostavimo da imamo gramatiku G za dati jezik 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a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 konstruišemo parser za dati jezik na osnovu gramatike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6E6-7A6C-4F94-90CC-625891AD9B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Mogući pristup: backtracking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mjena pravila, provjeriti da li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pravilo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lazi, ako se zaglavimo, vraćam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se naza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ože se primijeniti više pravila do zaglavljivan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oguć je veliki  broj povrataka i višestruko primjenjivanje pravil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F3D-95E5-4F71-AD2D-AE770D3E2F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acktracking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99"/>
                </a:solidFill>
                <a:uFillTx/>
                <a:latin typeface="Tahoma"/>
              </a:rPr>
              <a:t>Sent. form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 u="sng">
                <a:solidFill>
                  <a:srgbClr val="000099"/>
                </a:solidFill>
                <a:uFillTx/>
                <a:latin typeface="Tahoma"/>
              </a:rPr>
              <a:t>Ulaz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 u="sng">
                <a:solidFill>
                  <a:srgbClr val="000099"/>
                </a:solidFill>
                <a:uFillTx/>
                <a:latin typeface="Tahoma"/>
              </a:rPr>
              <a:t>Derivacija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S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ušaj p + Int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+ Int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lapanje p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+ Int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oops, “+” 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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“*”, povratak,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ušaj sledeće pravilo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S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ušaj p * Int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* Int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lapanje p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* Int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lapanje *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5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ušaj Int -&gt; 5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uspjeh!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152280"/>
            <a:ext cx="2362320" cy="175284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atik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-&gt; p + I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-&gt; p * 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-&gt; 5 | 6 |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8D1-80B7-40B6-9D7E-E92EB9CB4C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sobine backtracking-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ednosti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že se primijeniti na svaku KS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entualno daje poklapanj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dostaci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ombinatorna eksplozija (Combinatorial explosion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očni efekti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dodati simboli u tabelu simbola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mora se uraditi </a:t>
            </a:r>
            <a:r>
              <a:rPr b="1" lang="en-US" sz="2400" spc="-1" strike="noStrike">
                <a:solidFill>
                  <a:srgbClr val="cc00cc"/>
                </a:solidFill>
                <a:latin typeface="Tahoma"/>
              </a:rPr>
              <a:t>undo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 bočnih efekata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DD65-313B-47FC-BA53-C83113EEC5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op-down bez backtracking-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retanje naprijed, bez backtracking-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ramatika mora poštovati određena pravil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avilo se bira na osnovu sledećeg token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ije potreban backtracking ak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je G LL(1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: skeniranje ulaza slijeva udesn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: lijeva derivacij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1: posmatra se 1 ulazni token (lookahead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2F74-5D0E-4D24-BFF9-7C40A65B85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sobine LL(1) gramatik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blem zajedničkog prefiksa: lijevo faktorisanj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L(1) parser bira pravilo na osnovu sledećeg token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blem lijeve rekurzij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sna rekurzija je OK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evesti G u LL(1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liminisati nejasnoć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vo  nije dovoljno; G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dalje ne mora biti LL(1). Formalna definici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biće data kasnije, ovo koristite kao intuicij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FB4-4BE0-4984-831A-A582E651F1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mplementacija top-down parse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8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ta je LL(1) gramatik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ekurzivni spust (Recursive descent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able-driven prediktivni parser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(Kao rekurzivni spust, ali može se implementirati u nerekurzivnim jezicima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0EB-F713-4ADC-9F78-439D74F45B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arsiranje rekurzivnim spustom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arsiranje  sentence primjenom pravila na startni simbol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a svaki neterminalni simbol W, piše se f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unkc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ja za W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pravilo odgovara, vr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i true i pređi na sledeći ulazni simbo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ne odgovara, vr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i false i vrati ulazni pokazivač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ko je G rekurzivna, f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unkcij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 mogu biti rekurziv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B4A4-5790-4A0E-BBA0-ACB090E6E3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1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2976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–&gt; FUNC identifier ( parameter_list ) statement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void ParseFunction() {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ssert(lookahead == T_FUN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lookahead = GetSym(); // saw “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UNC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”; get next toke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arseIdentifier(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ssert(lookahead == T_LPAREN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lookahead = GetSym();  // saw “(“, get next toke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arseParameterList();  // go parse list of parm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ssert(lookahead == T_RPAREN) 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lookahead = GetSym(); // saw “)“, get next toke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arseStatements(); // go parse body of functio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rimjedba: Call stack evidentira trenutnu poziciju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D302-80E3-402D-8E4E-5511DAE25BB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zbor pravil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Primjer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mt -&gt; if_stmt | null_stmt | return_stmt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assg_stmt | while_stm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block_of_stm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Može se vidjeti samo sledeći token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oja desna strana može izvesti odgovarajuću sentencu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Ne želimo backtracking!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Rješenje problema: </a:t>
            </a:r>
            <a:r>
              <a:rPr b="0" i="1" lang="en-US" sz="3000" spc="-1" strike="noStrike">
                <a:solidFill>
                  <a:srgbClr val="000099"/>
                </a:solidFill>
                <a:latin typeface="Tahoma"/>
              </a:rPr>
              <a:t>First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skupovi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607-CB3D-4520-8FE1-E0C7ABDFAAD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First sku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lično z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jedničkim prefiksima, samo uz tranzitivno zatvorenj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mjer: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X -&gt; YZW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|     VQR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rst (YZW) sadrži sve tokene kojim mogu počinjati sentence izvedene iz YZW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ko token t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rst(YZW) tada ak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želimo da reduciramo X po nekom pravilu 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t je tekući ulazni simbol, tada je X -&gt; YZW moguće pravilo koje možemo primjeniti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ko token t ne pripada First(VQR)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, tada je 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X -&gt; YZW jedino pravilo koje možemo primjeniti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2055-1EE1-4B4D-80F7-82B54E9FD3C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ransformacija gramatik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788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klanjanje nejasno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ć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Uklanjanje zajedničkih prefiksa (lijevo faktorisanje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leminisanje lijeve rekurzije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64C-35DB-4AF1-B8ED-7B59EAE460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First skup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45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rst skup niza simbola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, u oznaci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rst(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je skup terminalnih simbola kojim može početi niz sentenci koje se mogu izvesti iz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rmalno, razmatramo sve stringove koje možemo izvesti iz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=&gt;*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, gdje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očinje terminalnim simbolom t, tada t pripada skupu Firs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).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=&gt;*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, tad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ipada skupu Firs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029-1ACB-4313-94E7-4502697FB2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Upotreba First skupov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G ima produkcije X -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1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|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2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|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3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| ... |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Tekući ulazni  token je t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K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o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je od pravila X -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izabarati?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Ako je t u tačno jednom od skupova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First (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), možemo predvidjeti (predict)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Ako je t u First(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j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) i First(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k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), nije moguće predvidjeti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Za izgradnju prediktivnog parsera nad G: 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Za svaki neterminalni simbol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i sva pravila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-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1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|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2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| ... </a:t>
            </a:r>
            <a:r>
              <a:rPr b="0" lang="sr-Latn-C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, skupovi First(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) moraju biti disjunktni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F27B-142E-4076-83EE-DE5656DF0F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First skupovi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Nulabilni (nullable) neterminalni simboli. 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-&gt; ABC | DEF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-&gt;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Tekući simbol t 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Nije dovoljno 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aći  First(A) and First(D)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ko A zamijenimo sa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, šta ako B može izvesti string koji počinje sa t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Rješenje: Follow skupovi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ollow(A) uključuje sve tokene koji se mogu pojaviti neposredno iza A u nekoj sentencijalnoj formi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zračunavanje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m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First i Follow skupova, može 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s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e izgraditi parser sa rekurzivnim spustom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098-5742-4763-A64A-8D478603C33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zračunavanje First sku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liminacija nejasnoća, lijeve rekurzije, zajedničkih prefiksa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ahoma"/>
              </a:rPr>
              <a:t>First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skup za svaki neterminalni simbol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sa lijeve strane pravila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0" lang="sr-Latn-CS" sz="24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X2 ... Xn, je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1.  Ako je X1 terminalni simbol, dodaj X1 skupu First(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. Kraj!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2. Ako je  X1 neterminalni simbol, dodaj (First(X1) - 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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skupu First(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.  Ako je X1 nulabilan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1 =&gt;*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sr-Latn-CS" sz="3000" spc="-1" strike="noStrike">
                <a:solidFill>
                  <a:srgbClr val="3333cc"/>
                </a:solidFill>
                <a:latin typeface="Symbol"/>
                <a:ea typeface="Symbol"/>
              </a:rPr>
              <a:t>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, dodaj (First(X2) –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 skupu Firs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ko X2 =&gt;*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dodaj (First(X3)–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, itd.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 do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Xn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dok ne n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đemo na prvi nenulabilni net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min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al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 simbol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. Ako X1 X2... Xn =&gt;*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, dodaj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skupu First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83D-0B64-4325-8959-3E2659AB757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zračunavanje Follow sku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a svaki  neterminal A gramatike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1.  Dodati EOF u Follow(S),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gdje je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 startni simbol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gramatik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 EOF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je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$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. Za svako pravilo A –&gt;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, gdje su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i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stringovi simbola gramatike i B je neterminalni simbol, dodaj sve elemente skupa First(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(osim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skupu Follow(B)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3. Za svako pravilo A –&gt;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, ili pravilo A –&gt;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gdje First(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sadrži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t.j.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je nulabilan), dodati sve elemente skupa Follow(A) skupu Follow(B)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B82-6645-42A0-9F37-885A5F9DB3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cursive-descent parser: kod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void ParseA() {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witch (lookahead) {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ase First(u1):         /* code to recognize u1 */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turn;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ase First(u2):        /* code to recognize u2 */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turn;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ase Follow(A):  // predict production A-&gt;</a:t>
            </a:r>
            <a:r>
              <a:rPr b="0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if A nullable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/* usually do nothing here */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efault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rintf("syntax error \n");   /* no rule matches */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xit(0);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}}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674-112C-4E1F-AB2E-7F9F92CE06D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cursive-descent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Gramatika za IF naredbu u nekom PJ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f_stmt –&gt; IF expr THEN stmt ENDIF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| IF expr THEN stmt ELSE stmt ENDIF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Lijeva faktorizacija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f_stmt –&gt; IF expr THEN stmt close_if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close_if –&gt; ENDIF | ELSE stmt ENDIF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G Times"/>
              </a:rPr>
              <a:t>Parsirati “IF true THEN temp++ ENDIF”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E45-9C2D-4E87-BF88-A01190B8C9C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cursive-descent primjer kod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G Times"/>
              </a:rPr>
              <a:t>void ParseIfStmt()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MatchToken(T_IF);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ParseExpr ();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MatchToken(T_THEN);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ParseStmt();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ParseCloseIf(); }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C84-3513-4536-98EE-2256A0318F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533520"/>
            <a:ext cx="80773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G Times"/>
              </a:rPr>
              <a:t>void ParseCloseIf() {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if (lookahead == T_ENDIF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lookahead = GetSym();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else {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   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MatchToken(T_ELSE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ParseStmt();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   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MatchToken(T_ENDIF);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}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476-97EC-4E09-9D68-3CC856C1B10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Primjer rekurzivnog spust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G Times"/>
              </a:rPr>
              <a:t>Ulazni niz: </a:t>
            </a:r>
            <a:r>
              <a:rPr b="0" lang="en-US" sz="3200" spc="-1" strike="noStrike">
                <a:solidFill>
                  <a:srgbClr val="000099"/>
                </a:solidFill>
                <a:latin typeface="CG Times"/>
              </a:rPr>
              <a:t>IF true THEN temp++ ENDIF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G Times"/>
              </a:rPr>
              <a:t>Pr</a:t>
            </a:r>
            <a:r>
              <a:rPr b="0" lang="hr-HR" sz="3200" spc="-1" strike="noStrike">
                <a:solidFill>
                  <a:srgbClr val="000099"/>
                </a:solidFill>
                <a:latin typeface="CG Times"/>
              </a:rPr>
              <a:t>oć</a:t>
            </a:r>
            <a:r>
              <a:rPr b="0" lang="sr-Latn-CS" sz="3200" spc="-1" strike="noStrike">
                <a:solidFill>
                  <a:srgbClr val="000099"/>
                </a:solidFill>
                <a:latin typeface="CG Times"/>
              </a:rPr>
              <a:t>i kroz kod primjera sa prethodnog slajda (dodati prikaz call-steka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526A-FF6B-4BFA-B0C6-3A5E00384A3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Nejasne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99"/>
                </a:solidFill>
                <a:latin typeface="Tahoma"/>
              </a:rPr>
              <a:t>Dvosmislenost - nejasnoća (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Ambiguity</a:t>
            </a:r>
            <a:r>
              <a:rPr b="0" i="1" lang="sr-Latn-CS" sz="28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a jednu rečenicu više od jednog stabla parsiran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Vidi primjer na sljedećem slajd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189-0F6D-4953-A58F-259253D2F8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1066680"/>
            <a:ext cx="784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ramatika G (sa BNF pro</a:t>
            </a:r>
            <a:r>
              <a:rPr b="0" lang="hr-HR" sz="3200" spc="-1" strike="noStrike">
                <a:solidFill>
                  <a:srgbClr val="000099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renom notacijo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 = { N , T , S , P 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terminalni simboli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 = { A , B , C , D 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erminalni simbol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 = { "(" , ")" , "+" , "a" , "[" , "]" , "." 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artni simbol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 = 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7C9-6ED2-4DCE-BA59-9E1FF59BCB4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(nastavak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Pravila (produkcije) gramatike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B "."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[ "a" | "(" C ")" | "[" B "]" ]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B D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{ "+" B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1A17-3415-412A-9B9B-7C6C56D37A1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1371600"/>
            <a:ext cx="739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B "."  (1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"a" (2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"(" C ")" (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"[" B "]" (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</a:t>
            </a: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B D (6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"+" B D (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 </a:t>
            </a: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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AB9-9B15-476A-8CDE-D56F675DADD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447920"/>
            <a:ext cx="784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RST(A) = { "a" , "(" , "["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"."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RST(B) = { "a" , "(" , "["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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RST(D) = { "+" ,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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RST(C) = FIRST(B) U FIRST(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LLOW(D) = FOLLOW(C) = { ")" 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LLOW(B) = { "." , "]" , "+" } 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{ ")" } = { "." , "]" , "+" , ")" 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LLOW(A) = {$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4A3-CD68-4B68-A941-E0E0F85C2FB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752480"/>
            <a:ext cx="815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#include &lt;stdlib.h&gt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 sym; // Source tok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getsym(void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 = getchar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122-FD98-4A77-A205-69DABB7954E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447920"/>
            <a:ext cx="7772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accept(char expectedterminal, char *errormessage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sym != expectedterminal) {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s(errormessage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t(1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sym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330B-633C-4216-B56B-006E7A8D8D4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371600"/>
            <a:ext cx="79246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A(void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('.', " Error ­ '.' expected"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C(void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D6F-6307-4D53-9AB2-5594922227F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990720"/>
            <a:ext cx="85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B(void)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itch (sym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a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sym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k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(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sym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(')', " Error ­ ')' expected")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k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4048-41C7-40A4-B2FD-B83EBA6856C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1219320"/>
            <a:ext cx="86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[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sym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(']', " Error ­ ']' expected")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k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)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]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+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.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k; //no action for followers of 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74A1-9616-4982-AF3A-CF187411231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295280"/>
            <a:ext cx="807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aul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tf("Unknown symbol\n")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t(1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A15F-84A4-49E1-8B0C-4B35A2D112A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Nejasne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14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E op E | ( E ) | i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op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+ | - | * | /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put: 10 –2 * 5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62120" y="2666880"/>
            <a:ext cx="3352320" cy="2971440"/>
            <a:chOff x="762120" y="2666880"/>
            <a:chExt cx="3352320" cy="2971440"/>
          </a:xfrm>
        </p:grpSpPr>
        <p:sp>
          <p:nvSpPr>
            <p:cNvPr id="60" name=""/>
            <p:cNvSpPr/>
            <p:nvPr/>
          </p:nvSpPr>
          <p:spPr>
            <a:xfrm>
              <a:off x="1563840" y="4636800"/>
              <a:ext cx="4370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ff"/>
                  </a:solidFill>
                  <a:latin typeface="Courier New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2120" y="3886920"/>
              <a:ext cx="34776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71680" y="3886920"/>
              <a:ext cx="3502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84080" y="2666880"/>
              <a:ext cx="3488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73120" y="4609800"/>
              <a:ext cx="3506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06320" y="3886920"/>
              <a:ext cx="3506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21320" y="3323520"/>
              <a:ext cx="348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08120" y="3323520"/>
              <a:ext cx="348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19960" y="3389040"/>
              <a:ext cx="350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7400" y="3914640"/>
              <a:ext cx="4370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8840" y="5293800"/>
              <a:ext cx="4370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71" name=""/>
            <p:cNvCxnSpPr>
              <a:stCxn id="63" idx="2"/>
              <a:endCxn id="67" idx="0"/>
            </p:cNvCxnSpPr>
            <p:nvPr/>
          </p:nvCxnSpPr>
          <p:spPr>
            <a:xfrm flipH="1">
              <a:off x="1781640" y="3000240"/>
              <a:ext cx="976680" cy="32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"/>
            <p:cNvCxnSpPr>
              <a:stCxn id="68" idx="0"/>
              <a:endCxn id="63" idx="2"/>
            </p:cNvCxnSpPr>
            <p:nvPr/>
          </p:nvCxnSpPr>
          <p:spPr>
            <a:xfrm flipH="1" flipV="1">
              <a:off x="2758320" y="2999880"/>
              <a:ext cx="337680" cy="389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"/>
            <p:cNvCxnSpPr>
              <a:stCxn id="66" idx="0"/>
              <a:endCxn id="63" idx="2"/>
            </p:cNvCxnSpPr>
            <p:nvPr/>
          </p:nvCxnSpPr>
          <p:spPr>
            <a:xfrm flipH="1" flipV="1">
              <a:off x="2758320" y="2999880"/>
              <a:ext cx="1137600" cy="32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"/>
            <p:cNvCxnSpPr>
              <a:stCxn id="67" idx="2"/>
              <a:endCxn id="62" idx="0"/>
            </p:cNvCxnSpPr>
            <p:nvPr/>
          </p:nvCxnSpPr>
          <p:spPr>
            <a:xfrm>
              <a:off x="1782000" y="3659760"/>
              <a:ext cx="765720" cy="227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"/>
            <p:cNvCxnSpPr>
              <a:stCxn id="67" idx="2"/>
              <a:endCxn id="65" idx="0"/>
            </p:cNvCxnSpPr>
            <p:nvPr/>
          </p:nvCxnSpPr>
          <p:spPr>
            <a:xfrm>
              <a:off x="1782000" y="3659760"/>
              <a:ext cx="1080" cy="227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"/>
            <p:cNvCxnSpPr>
              <a:stCxn id="67" idx="2"/>
              <a:endCxn id="61" idx="0"/>
            </p:cNvCxnSpPr>
            <p:nvPr/>
          </p:nvCxnSpPr>
          <p:spPr>
            <a:xfrm flipH="1">
              <a:off x="936000" y="3659760"/>
              <a:ext cx="846720" cy="227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"/>
            <p:cNvCxnSpPr>
              <a:stCxn id="65" idx="2"/>
              <a:endCxn id="60" idx="0"/>
            </p:cNvCxnSpPr>
            <p:nvPr/>
          </p:nvCxnSpPr>
          <p:spPr>
            <a:xfrm>
              <a:off x="1782000" y="4220640"/>
              <a:ext cx="108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"/>
            <p:cNvCxnSpPr>
              <a:stCxn id="64" idx="2"/>
              <a:endCxn id="70" idx="0"/>
            </p:cNvCxnSpPr>
            <p:nvPr/>
          </p:nvCxnSpPr>
          <p:spPr>
            <a:xfrm flipH="1">
              <a:off x="2547360" y="4943160"/>
              <a:ext cx="2160" cy="351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"/>
            <p:cNvCxnSpPr>
              <a:stCxn id="66" idx="2"/>
              <a:endCxn id="69" idx="0"/>
            </p:cNvCxnSpPr>
            <p:nvPr/>
          </p:nvCxnSpPr>
          <p:spPr>
            <a:xfrm>
              <a:off x="3895560" y="3659400"/>
              <a:ext cx="1080" cy="255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0" name=""/>
            <p:cNvSpPr/>
            <p:nvPr/>
          </p:nvSpPr>
          <p:spPr>
            <a:xfrm>
              <a:off x="3677400" y="4636800"/>
              <a:ext cx="4370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81" name=""/>
            <p:cNvCxnSpPr>
              <a:stCxn id="69" idx="2"/>
              <a:endCxn id="80" idx="0"/>
            </p:cNvCxnSpPr>
            <p:nvPr/>
          </p:nvCxnSpPr>
          <p:spPr>
            <a:xfrm>
              <a:off x="3895560" y="4193280"/>
              <a:ext cx="1080" cy="44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2" name=""/>
            <p:cNvSpPr/>
            <p:nvPr/>
          </p:nvSpPr>
          <p:spPr>
            <a:xfrm>
              <a:off x="2875680" y="3914640"/>
              <a:ext cx="4370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ff"/>
                  </a:solidFill>
                  <a:latin typeface="Courier New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83" name=""/>
            <p:cNvCxnSpPr>
              <a:stCxn id="68" idx="2"/>
              <a:endCxn id="82" idx="0"/>
            </p:cNvCxnSpPr>
            <p:nvPr/>
          </p:nvCxnSpPr>
          <p:spPr>
            <a:xfrm flipH="1">
              <a:off x="3093840" y="3725640"/>
              <a:ext cx="1800" cy="189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"/>
            <p:cNvCxnSpPr>
              <a:stCxn id="62" idx="2"/>
              <a:endCxn id="64" idx="0"/>
            </p:cNvCxnSpPr>
            <p:nvPr/>
          </p:nvCxnSpPr>
          <p:spPr>
            <a:xfrm>
              <a:off x="2547720" y="4220640"/>
              <a:ext cx="2160" cy="389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5" name=""/>
            <p:cNvSpPr/>
            <p:nvPr/>
          </p:nvSpPr>
          <p:spPr>
            <a:xfrm>
              <a:off x="762120" y="4609800"/>
              <a:ext cx="3506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99160" y="5359320"/>
              <a:ext cx="4370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87" name=""/>
            <p:cNvCxnSpPr>
              <a:stCxn id="85" idx="2"/>
              <a:endCxn id="86" idx="0"/>
            </p:cNvCxnSpPr>
            <p:nvPr/>
          </p:nvCxnSpPr>
          <p:spPr>
            <a:xfrm>
              <a:off x="938160" y="4943520"/>
              <a:ext cx="480240" cy="416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"/>
            <p:cNvCxnSpPr>
              <a:stCxn id="61" idx="2"/>
              <a:endCxn id="85" idx="0"/>
            </p:cNvCxnSpPr>
            <p:nvPr/>
          </p:nvCxnSpPr>
          <p:spPr>
            <a:xfrm>
              <a:off x="936360" y="4220640"/>
              <a:ext cx="2160" cy="389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89" name=""/>
          <p:cNvGrpSpPr/>
          <p:nvPr/>
        </p:nvGrpSpPr>
        <p:grpSpPr>
          <a:xfrm>
            <a:off x="5105520" y="2666880"/>
            <a:ext cx="3352320" cy="3048120"/>
            <a:chOff x="5105520" y="2666880"/>
            <a:chExt cx="3352320" cy="3048120"/>
          </a:xfrm>
        </p:grpSpPr>
        <p:sp>
          <p:nvSpPr>
            <p:cNvPr id="90" name=""/>
            <p:cNvSpPr/>
            <p:nvPr/>
          </p:nvSpPr>
          <p:spPr>
            <a:xfrm>
              <a:off x="6734520" y="2666880"/>
              <a:ext cx="30024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32360" y="3488040"/>
              <a:ext cx="30168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92" name=""/>
            <p:cNvCxnSpPr>
              <a:stCxn id="90" idx="2"/>
              <a:endCxn id="93" idx="0"/>
            </p:cNvCxnSpPr>
            <p:nvPr/>
          </p:nvCxnSpPr>
          <p:spPr>
            <a:xfrm flipH="1">
              <a:off x="5293080" y="2987640"/>
              <a:ext cx="1591920" cy="500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>
              <a:stCxn id="91" idx="0"/>
              <a:endCxn id="90" idx="2"/>
            </p:cNvCxnSpPr>
            <p:nvPr/>
          </p:nvCxnSpPr>
          <p:spPr>
            <a:xfrm flipV="1">
              <a:off x="5983560" y="2987280"/>
              <a:ext cx="901080" cy="500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"/>
            <p:cNvCxnSpPr>
              <a:endCxn id="90" idx="2"/>
            </p:cNvCxnSpPr>
            <p:nvPr/>
          </p:nvCxnSpPr>
          <p:spPr>
            <a:xfrm flipH="1" flipV="1">
              <a:off x="6883920" y="2987280"/>
              <a:ext cx="627480" cy="374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6" name=""/>
            <p:cNvSpPr/>
            <p:nvPr/>
          </p:nvSpPr>
          <p:spPr>
            <a:xfrm>
              <a:off x="5794560" y="4056480"/>
              <a:ext cx="375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ff"/>
                  </a:solidFill>
                  <a:latin typeface="Courier New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97" name=""/>
            <p:cNvCxnSpPr>
              <a:stCxn id="91" idx="2"/>
              <a:endCxn id="96" idx="0"/>
            </p:cNvCxnSpPr>
            <p:nvPr/>
          </p:nvCxnSpPr>
          <p:spPr>
            <a:xfrm flipH="1">
              <a:off x="5982120" y="3811680"/>
              <a:ext cx="2160" cy="245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"/>
            <p:cNvSpPr/>
            <p:nvPr/>
          </p:nvSpPr>
          <p:spPr>
            <a:xfrm>
              <a:off x="5105520" y="4751280"/>
              <a:ext cx="3758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99" name=""/>
            <p:cNvCxnSpPr>
              <a:stCxn id="98" idx="0"/>
              <a:endCxn id="100" idx="2"/>
            </p:cNvCxnSpPr>
            <p:nvPr/>
          </p:nvCxnSpPr>
          <p:spPr>
            <a:xfrm flipV="1">
              <a:off x="5293080" y="4324680"/>
              <a:ext cx="1080" cy="426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3" name=""/>
            <p:cNvSpPr/>
            <p:nvPr/>
          </p:nvSpPr>
          <p:spPr>
            <a:xfrm>
              <a:off x="5143320" y="3488040"/>
              <a:ext cx="29988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05520" y="4056480"/>
              <a:ext cx="375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01" name=""/>
            <p:cNvCxnSpPr>
              <a:stCxn id="93" idx="2"/>
              <a:endCxn id="100" idx="0"/>
            </p:cNvCxnSpPr>
            <p:nvPr/>
          </p:nvCxnSpPr>
          <p:spPr>
            <a:xfrm>
              <a:off x="5293080" y="3811680"/>
              <a:ext cx="1080" cy="245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"/>
            <p:cNvSpPr/>
            <p:nvPr/>
          </p:nvSpPr>
          <p:spPr>
            <a:xfrm>
              <a:off x="7361280" y="4751280"/>
              <a:ext cx="3758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ff"/>
                  </a:solidFill>
                  <a:latin typeface="Courier New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47400" y="4030200"/>
              <a:ext cx="2988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18720" y="4030200"/>
              <a:ext cx="30132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18720" y="4725360"/>
              <a:ext cx="30132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98000" y="4030200"/>
              <a:ext cx="30168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24280" y="3488040"/>
              <a:ext cx="29988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82000" y="5446440"/>
              <a:ext cx="3758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09" name=""/>
            <p:cNvCxnSpPr>
              <a:stCxn id="107" idx="2"/>
              <a:endCxn id="104" idx="0"/>
            </p:cNvCxnSpPr>
            <p:nvPr/>
          </p:nvCxnSpPr>
          <p:spPr>
            <a:xfrm>
              <a:off x="7574400" y="3811680"/>
              <a:ext cx="696240" cy="218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"/>
            <p:cNvCxnSpPr>
              <a:stCxn id="107" idx="2"/>
              <a:endCxn id="106" idx="0"/>
            </p:cNvCxnSpPr>
            <p:nvPr/>
          </p:nvCxnSpPr>
          <p:spPr>
            <a:xfrm flipH="1">
              <a:off x="7548840" y="3811680"/>
              <a:ext cx="25560" cy="218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"/>
            <p:cNvCxnSpPr>
              <a:stCxn id="107" idx="2"/>
              <a:endCxn id="103" idx="0"/>
            </p:cNvCxnSpPr>
            <p:nvPr/>
          </p:nvCxnSpPr>
          <p:spPr>
            <a:xfrm flipH="1">
              <a:off x="6797160" y="3811680"/>
              <a:ext cx="777600" cy="218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"/>
            <p:cNvCxnSpPr>
              <a:stCxn id="105" idx="2"/>
              <a:endCxn id="108" idx="0"/>
            </p:cNvCxnSpPr>
            <p:nvPr/>
          </p:nvCxnSpPr>
          <p:spPr>
            <a:xfrm>
              <a:off x="8269560" y="5046480"/>
              <a:ext cx="1080" cy="400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"/>
            <p:cNvCxnSpPr>
              <a:stCxn id="104" idx="2"/>
              <a:endCxn id="105" idx="0"/>
            </p:cNvCxnSpPr>
            <p:nvPr/>
          </p:nvCxnSpPr>
          <p:spPr>
            <a:xfrm>
              <a:off x="8269560" y="4351320"/>
              <a:ext cx="1080" cy="374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4" name=""/>
            <p:cNvSpPr/>
            <p:nvPr/>
          </p:nvSpPr>
          <p:spPr>
            <a:xfrm>
              <a:off x="6645960" y="4725360"/>
              <a:ext cx="30168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15" name=""/>
            <p:cNvCxnSpPr>
              <a:stCxn id="103" idx="2"/>
              <a:endCxn id="114" idx="0"/>
            </p:cNvCxnSpPr>
            <p:nvPr/>
          </p:nvCxnSpPr>
          <p:spPr>
            <a:xfrm>
              <a:off x="6797160" y="4351320"/>
              <a:ext cx="1080" cy="374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6" name=""/>
            <p:cNvSpPr/>
            <p:nvPr/>
          </p:nvSpPr>
          <p:spPr>
            <a:xfrm>
              <a:off x="6609240" y="5320080"/>
              <a:ext cx="3758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17" name=""/>
            <p:cNvCxnSpPr>
              <a:stCxn id="114" idx="2"/>
              <a:endCxn id="116" idx="0"/>
            </p:cNvCxnSpPr>
            <p:nvPr/>
          </p:nvCxnSpPr>
          <p:spPr>
            <a:xfrm>
              <a:off x="6797160" y="5046480"/>
              <a:ext cx="1080" cy="274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"/>
            <p:cNvCxnSpPr>
              <a:stCxn id="106" idx="2"/>
              <a:endCxn id="102" idx="0"/>
            </p:cNvCxnSpPr>
            <p:nvPr/>
          </p:nvCxnSpPr>
          <p:spPr>
            <a:xfrm>
              <a:off x="7549200" y="4350960"/>
              <a:ext cx="1080" cy="400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19" name=""/>
          <p:cNvSpPr/>
          <p:nvPr/>
        </p:nvSpPr>
        <p:spPr>
          <a:xfrm>
            <a:off x="1219320" y="5562720"/>
            <a:ext cx="733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55627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je je stablo ispravn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726-9562-4CAB-A8D2-FB8211B494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371600"/>
            <a:ext cx="792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D(void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(sym == '+'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sym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0D22-550E-40B0-AD70-DAA07E8240F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371600"/>
            <a:ext cx="77724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main(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 = getchar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tf("Successful\n"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AA42-BD73-4EA9-A85A-E6AE61B86FF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omaći zadatak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! 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apisati rekurzivni prediktivni parser za aritmetičke izraze, sa 4 osnovne računske operacij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Promjenljive mogu biti samo slova engleske abecede, brojne konstante kao u C-u,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Odredit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First 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Follow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 skupov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Dodati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printf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 u kod tako da se štampa koje je pravilo primjenjeno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Razmislite kako da obradite eventualne grešk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C3D-5639-4EA2-8CB8-D3A462DAD55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Nerekurzivni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LL(1) pars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op-down,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ao 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re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v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i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od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re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v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og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spusta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n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i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j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obrađuju akciju za neterminal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ll stack 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evidentira napredak u parsiranj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Može doći do rekurzivnih poziva, npr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xp -&gt; term -&gt; factor -&gt; ( exp 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erekurzivn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predi</a:t>
            </a:r>
            <a:r>
              <a:rPr b="0" i="1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tiv</a:t>
            </a:r>
            <a:r>
              <a:rPr b="0" i="1" lang="sr-Latn-CS" sz="2800" spc="-1" strike="noStrike">
                <a:solidFill>
                  <a:srgbClr val="000099"/>
                </a:solidFill>
                <a:latin typeface="Tahoma"/>
              </a:rPr>
              <a:t>n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parser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sam čuva informacij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k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licit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ni zapis na steku za svako pravilo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k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licit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na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ab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čuva informaciju o akcijam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096-B9EA-40F6-A51D-A3BA09BF0B5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Izgradnja tabele parse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zgradnja tabele - ogroman rad ali jasno definisan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Za datu gramatiku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, tab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reba da implementira preslikavanje koje par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&lt;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neterminal na steku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ulazn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s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bol&gt;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preslikava u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&lt;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pravilo gramatik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Preslikavanje mora biti f-ij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(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.j. moramo naći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rst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Follow s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kupov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Preslikavanje je f-ij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&lt;==&gt; G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j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LL(1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4D4-1134-48A4-A2FB-06476F68A0C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Formalna definicija LL(1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Bez nejasnoća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bez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l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ijeve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re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je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G 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je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LL(1) 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ako za svake dvije produkcije   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A –&gt; </a:t>
            </a:r>
            <a:r>
              <a:rPr b="0" lang="en-US" sz="30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| </a:t>
            </a:r>
            <a:r>
              <a:rPr b="0" lang="en-US" sz="30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važi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rs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)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rs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) =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Najviše iz jednog od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može se izvesti prazan str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ako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=&gt;*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tada se iz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ne može izvesti string koji počinj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erminal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om iz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Follow(A)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 (t.j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rst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Follow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moraju biti disjunktni ako je A nulabilan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A69-BB91-4686-BAB1-E939813B01D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1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jeLLRap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va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hanced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LR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imated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rser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cs.duke.edu/~rodger/tools/jellrap/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pomen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oristite ! (znak uvika) umjesto epsil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FD83-BC9E-4899-B508-BBD72DB2241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ramtika za aritmeti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čke izraz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 -&gt;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+T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|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-&gt;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*F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|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 -&gt; (E) |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liminišemo lijevu rekurzij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D7C-1C1C-4D4C-80BB-42FD6C73779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1523880"/>
            <a:ext cx="79250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ramatika za aritmeti</a:t>
            </a:r>
            <a:r>
              <a:rPr b="0" lang="hr-HR" sz="32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e izra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 -&gt;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-&gt; +TA |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 -&gt; F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-&gt; *FB |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 -&gt; (E) |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2FD4-E444-40E9-8C35-2485A1171B9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1066680"/>
            <a:ext cx="777240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IRST(E) = {</a:t>
            </a:r>
            <a:r>
              <a:rPr b="0" lang="en-US" sz="30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, ( }, FOLLOW(E) = {$,  )}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IRST(T) = {</a:t>
            </a:r>
            <a:r>
              <a:rPr b="0" lang="en-US" sz="30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, ( }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OLLOW(T) = {+,  $,  )}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IRST(F) = {</a:t>
            </a:r>
            <a:r>
              <a:rPr b="0" lang="en-US" sz="30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, ( }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OLLOW(F) = { *,  $,  ),+}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IRST(A) = {+, </a:t>
            </a:r>
            <a:r>
              <a:rPr b="0" lang="en-US" sz="30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} , FOLLOW(A) = {$, )}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IRST(B) = {*, </a:t>
            </a:r>
            <a:r>
              <a:rPr b="0" lang="en-US" sz="30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}, FOLLOW(B) = {+, $ , )}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8BC-17BD-4D33-A2F5-7296CA5579D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90360" y="106668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Ponekad nije neophodno eliminisati nejasnoće (zavisi od tipa parsera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Prilikom pisanja gramatike treba voditi računa da se eleminišu nejasnoć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E  Add_op  T   |   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Add_op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+  |  -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T  Mult_op  F   |   F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Mult_op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*  |  /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(E)   |   int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Otklanjanje nejasnoć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76360" y="657360"/>
            <a:ext cx="6372000" cy="1839600"/>
            <a:chOff x="576360" y="657360"/>
            <a:chExt cx="6372000" cy="1839600"/>
          </a:xfrm>
        </p:grpSpPr>
        <p:sp>
          <p:nvSpPr>
            <p:cNvPr id="124" name=""/>
            <p:cNvSpPr/>
            <p:nvPr/>
          </p:nvSpPr>
          <p:spPr>
            <a:xfrm>
              <a:off x="576360" y="657360"/>
              <a:ext cx="3094920" cy="182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6680" y="666720"/>
              <a:ext cx="3361680" cy="18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64C-7031-418C-A570-F3BB031B35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Kreiranje tabele parse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77520" y="1066680"/>
            <a:ext cx="8008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Za svaki neterminalni simbol N i  terminalni simbol x iz skupa First(N), u polju tabl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[x,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] upisujemo odgovar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ju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ću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dukcij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Ako </a:t>
            </a:r>
            <a:r>
              <a:rPr b="0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pripada skupu First(N), tada za svaki element y iz skupa Follow(N) u polje tabl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[y,N] upisujemo odgovaraju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ć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produkcij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EE3-D3B8-4BAA-90BE-906C5015362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523880"/>
            <a:ext cx="9144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+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$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E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-&gt;TA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    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    E-&gt;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-&gt;+T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A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A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   T-&gt;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 T-&gt;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B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B-&gt;*FB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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F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-&gt;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  F-&gt;(E)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abela nerekurzivnog prediktivnog parse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52388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152388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152388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4724280" y="152388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152388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7238880" y="160020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057400"/>
            <a:ext cx="883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438280"/>
            <a:ext cx="883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895480"/>
            <a:ext cx="883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276720"/>
            <a:ext cx="883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733920"/>
            <a:ext cx="883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818-DD06-43C4-B1FC-C5D523CFD8A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21932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ek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lazni niz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k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d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-&gt;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d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T-&gt;F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d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F-&gt;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d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B-&gt;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DACB-011C-4630-A82A-58040704EC6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447920"/>
            <a:ext cx="8534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-&gt;+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+T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-&gt;F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-&gt;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-&gt;*F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B61C-D983-4CE2-AB0D-EC757789F63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1219320"/>
            <a:ext cx="87631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ek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lazni niz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k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*F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F-&gt;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d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         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-&gt;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         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-&gt;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  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cce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CEB8-13F9-4EA1-9A5E-E58D8FDD021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brada grešaka pri parsiranj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rsiranje zasnovano na gramatikama je odlično za prepoznavanje ispravnih ulaznih nizova.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ko je ulazni niz  neispravan, korisnik želi da vidi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Greške po redosljedu pojavljivan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Lokaciju greške u izvornom kod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ruke izražene terminima source jezik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pr. “simbol T na steku a token je x” je primjer besmislene poruk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javljivanje svih grešaka, ali ne i svih koje proisitiču zbog jedne nepravilnosti (na primjer, ako promjenljiva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nije deklarisana, ne prijavljivati grešku za svaku upotrebu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1EF-29F1-47B8-A2F6-8C1CFB813FB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Zajednički prefiks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45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eki parseri korist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sledeći terminal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token)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za izbor pravila gramatik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Ako dva pravila imaju isti prefiks, nemoguće je odrediti koje od njih treba primjenit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X -&gt; aBcD | aB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Lijevo faktorisanje eliminiše zajedničke prefiks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X -&gt; aB End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nd -&gt;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| cD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Pojednostavljuje generisanje parser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D3F4-FD52-4940-BB31-9ED1A257A4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Lijevo faktorisanj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-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S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iEtS|iEtSeS|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b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Ovdje je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if,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then,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else,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i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S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o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značavaju izraz i naredb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iEtSS’ |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S’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S|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b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AAB-1A10-41FE-8656-F7F5089883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zija u pravilima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U teoriji uobičajen način predstavljanja, problem nastaje kod implementacij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(Re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r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v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na pravila mogu dovesti do bekonačne petlj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-&gt; Aw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lijeva rekurzi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-&gt; w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desna rekurzi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975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Primjer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: &lt;var_list&gt; -&gt; &lt;var_list&gt; &lt;variable&gt; | &lt;variable&gt;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Gramatika se može transformisati tako da se deterministički eliminiše lijeva ili desna rekurzija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E0D-A43A-495F-BEB4-7A4E80E617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Goran</cp:lastModifiedBy>
  <dcterms:modified xsi:type="dcterms:W3CDTF">2010-04-01T14:11:42Z</dcterms:modified>
  <cp:revision>1045</cp:revision>
  <dc:subject/>
  <dc:title>Welcome to CS143</dc:title>
</cp:coreProperties>
</file>