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74CB-CC78-46EF-B62C-CB7F6222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3152-FF16-4E5F-A185-D440049D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086A-E376-459E-B945-2CB546BD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9AE-B5D3-4208-A32A-BE5D67DE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F35-58FB-4B0B-A2CF-472DF5C1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0160-BCEF-477E-9C5B-42C0576F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0AAE-BCCB-4863-BEEC-04B2EF9E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6F21-BB01-4BD5-8BAA-EC44C0D4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880-AB7B-44BA-A946-A0E1F7A8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ABBA-A81E-48B1-9DDE-396CACF9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4EC-8E52-4DDC-B953-1F10562A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4E23-5355-4D37-A233-5BAE9933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55272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38DF-F9D8-4B5D-A3CA-341A92563CD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Run-time okolin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0DC3-E537-40AF-B346-B1DBB8DE0A4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8A01C-4493-44E3-A244-780F7841F8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inamički podaci (heap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7721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aci kreirani sa malloc ili New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Decaf-u, svi objekti su na heap-u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aci na heap-u žive dok ih ne dealociramo ili do završetka programa. 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arbage collection / reference counting su načini automatske dealokacije “mrtve memorije” (kojoj ne pristupamo) na heap-u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991640" y="949320"/>
            <a:ext cx="901440" cy="5103720"/>
            <a:chOff x="7991640" y="949320"/>
            <a:chExt cx="901440" cy="5103720"/>
          </a:xfrm>
        </p:grpSpPr>
        <p:sp>
          <p:nvSpPr>
            <p:cNvPr id="144" name=""/>
            <p:cNvSpPr/>
            <p:nvPr/>
          </p:nvSpPr>
          <p:spPr>
            <a:xfrm>
              <a:off x="7994520" y="24004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8432640" y="17524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91640" y="5251320"/>
              <a:ext cx="90144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91640" y="4464000"/>
              <a:ext cx="90144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91640" y="3740040"/>
              <a:ext cx="90144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91640" y="949320"/>
              <a:ext cx="901440" cy="803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91640" y="2990880"/>
              <a:ext cx="901440" cy="74916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76AB-A2A2-4762-A20C-FB211D16416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C85C6-2448-447E-B2F3-A482A87A1A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inamički podaci (heap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eap alokacija počinje na dnu heap-a (niže adrese)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alocira ka višim adresama. Zahtjevi za poravnavanjem (alignment), specifični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z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pojedine algoritme alokacije mogu dovesti da memorije bude alocirana van adresnog redosled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1 = new Big()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2 = new Medium()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3 = new Big()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4 = new Tiny()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a je  (int)p2 &gt; (int)p1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li (int)p4 &lt; (int)p3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ređenje pointera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a jednakost, a ne  &lt;  ili  &gt;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191120" y="3336840"/>
            <a:ext cx="4800600" cy="2624400"/>
            <a:chOff x="4191120" y="3336840"/>
            <a:chExt cx="4800600" cy="2624400"/>
          </a:xfrm>
        </p:grpSpPr>
        <p:sp>
          <p:nvSpPr>
            <p:cNvPr id="154" name=""/>
            <p:cNvSpPr/>
            <p:nvPr/>
          </p:nvSpPr>
          <p:spPr>
            <a:xfrm>
              <a:off x="6781680" y="55015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x10000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4191120" y="3336840"/>
              <a:ext cx="2741400" cy="2462760"/>
              <a:chOff x="4191120" y="3336840"/>
              <a:chExt cx="2741400" cy="2462760"/>
            </a:xfrm>
          </p:grpSpPr>
          <p:sp>
            <p:nvSpPr>
              <p:cNvPr id="156" name=""/>
              <p:cNvSpPr/>
              <p:nvPr/>
            </p:nvSpPr>
            <p:spPr>
              <a:xfrm>
                <a:off x="4191120" y="3336840"/>
                <a:ext cx="2741400" cy="820800"/>
              </a:xfrm>
              <a:prstGeom prst="rect">
                <a:avLst/>
              </a:prstGeom>
              <a:solidFill>
                <a:srgbClr val="febfb4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*p3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91120" y="4978800"/>
                <a:ext cx="2741400" cy="820800"/>
              </a:xfrm>
              <a:prstGeom prst="rect">
                <a:avLst/>
              </a:prstGeom>
              <a:solidFill>
                <a:srgbClr val="febfb4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*p1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000840" y="4157640"/>
                <a:ext cx="698400" cy="820800"/>
              </a:xfrm>
              <a:prstGeom prst="rect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*p4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191120" y="4157640"/>
                <a:ext cx="1600200" cy="820800"/>
              </a:xfrm>
              <a:prstGeom prst="rect">
                <a:avLst/>
              </a:prstGeom>
              <a:solidFill>
                <a:srgbClr val="b2b2b2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*p2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7FC9-97B3-4E14-8660-F14E29EFA03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22C5B-1CD5-4B65-B9F0-D765BB8CD1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untime ste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7480" y="711360"/>
            <a:ext cx="7823160" cy="59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aci potrebni za pozivanje f-ije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e deklarisane lokalno u f-iji (uključujući main) tzv. “automatski” podaci. Izuzetak su static promjenljiv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e deklarisane u anonimnom bloku unutar f-ij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rgumenti f-ije (predaje ih pozivač)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ivremene promjenljive koje koristi generisani kod (nisu imena u source kodu)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oguće vrijednost koju vraća pozvana funkcij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163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D310-2052-4F30-A51D-240BDEF651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25B3C-E129-4916-908D-396E73D846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untime ste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7480" y="622080"/>
            <a:ext cx="75661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ipovi podataka koji mogu biti alocirani na runtime steku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C-u, svi tipovi: prosti tipovi, struct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, arrays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++: objekti deklarisani kao class tip, kao i pokaziva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č</a:t>
            </a:r>
            <a:r>
              <a:rPr b="0" lang="hr-HR" sz="3200" spc="-1" strike="noStrike">
                <a:solidFill>
                  <a:srgbClr val="000099"/>
                </a:solidFill>
                <a:latin typeface="Tahoma"/>
              </a:rPr>
              <a:t>i (po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teri)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800c8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c800c8"/>
                </a:solidFill>
                <a:latin typeface="Tahoma"/>
              </a:rPr>
              <a:t> </a:t>
            </a:r>
            <a:r>
              <a:rPr b="0" lang="en-US" sz="3400" spc="-1" strike="noStrike">
                <a:solidFill>
                  <a:srgbClr val="c800c8"/>
                </a:solidFill>
                <a:latin typeface="Tahoma"/>
              </a:rPr>
              <a:t>Drone dilbert(17);</a:t>
            </a:r>
            <a:endParaRPr b="0" lang="en-US" sz="3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caf: objekti su uvijek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locirani  na heap-u. Lokalni pokazivač (pointer) na objekat čuva se na steku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ki programski jezici ne dozvoljavaju nizove na steku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173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14D7-2219-42C5-9D94-031C4994232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76B28-DE7F-4996-BCDF-1389E23825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tek terminologi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7480" y="761760"/>
            <a:ext cx="8737560" cy="58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ek je apstraktni tip podatak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ush postavlja novu vrijednost na vrh(Top); Pop uzima vrijednost sa pozicije Top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2680" y="1413000"/>
            <a:ext cx="7251120" cy="3288240"/>
            <a:chOff x="382680" y="1413000"/>
            <a:chExt cx="7251120" cy="3288240"/>
          </a:xfrm>
        </p:grpSpPr>
        <p:grpSp>
          <p:nvGrpSpPr>
            <p:cNvPr id="183" name=""/>
            <p:cNvGrpSpPr/>
            <p:nvPr/>
          </p:nvGrpSpPr>
          <p:grpSpPr>
            <a:xfrm>
              <a:off x="382680" y="1543320"/>
              <a:ext cx="4079160" cy="3054240"/>
              <a:chOff x="382680" y="1543320"/>
              <a:chExt cx="4079160" cy="3054240"/>
            </a:xfrm>
          </p:grpSpPr>
          <p:sp>
            <p:nvSpPr>
              <p:cNvPr id="184" name=""/>
              <p:cNvSpPr/>
              <p:nvPr/>
            </p:nvSpPr>
            <p:spPr>
              <a:xfrm>
                <a:off x="383760" y="3553200"/>
                <a:ext cx="4078080" cy="104436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83760" y="3051360"/>
                <a:ext cx="4078080" cy="104472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82680" y="2548080"/>
                <a:ext cx="4078080" cy="104472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82680" y="2046600"/>
                <a:ext cx="4078080" cy="104436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680" y="1543320"/>
                <a:ext cx="4078080" cy="104472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884480" y="1413000"/>
              <a:ext cx="266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64040" y="4119840"/>
              <a:ext cx="266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as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4812-EBFE-45B5-854E-8D9F1160493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CB7E3-EE4F-4A83-9CD7-33A9C5B8B5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tek terminologi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7840" y="723600"/>
            <a:ext cx="7835760" cy="59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ahoma"/>
              </a:rPr>
              <a:t>Stek </a:t>
            </a:r>
            <a:r>
              <a:rPr b="0" i="1" lang="en-US" sz="3100" spc="-1" strike="noStrike">
                <a:solidFill>
                  <a:srgbClr val="000099"/>
                </a:solidFill>
                <a:latin typeface="Tahoma"/>
              </a:rPr>
              <a:t>implementacija </a:t>
            </a:r>
            <a:r>
              <a:rPr b="0" lang="en-US" sz="3100" spc="-1" strike="noStrike">
                <a:solidFill>
                  <a:srgbClr val="000099"/>
                </a:solidFill>
                <a:latin typeface="Tahoma"/>
              </a:rPr>
              <a:t>može rasti u oba pravca.  </a:t>
            </a:r>
            <a:endParaRPr b="0" lang="en-US" sz="31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ahoma"/>
              </a:rPr>
              <a:t>MIPS stek raste naniže (od viših memorijskih adresa ka nižim).  </a:t>
            </a:r>
            <a:endParaRPr b="0" lang="en-US" sz="31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ahoma"/>
              </a:rPr>
              <a:t>Mogući problemi sa terminologjom, jer se u  literaturi govori o kretanju gore i dolje u steku (up i down).</a:t>
            </a:r>
            <a:endParaRPr b="0" lang="en-US" sz="31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ahoma"/>
              </a:rPr>
              <a:t>Koristi se i apstrakcija gdje gore znači “noviji objekat”, ka Top-u.</a:t>
            </a:r>
            <a:endParaRPr b="0" lang="en-US" sz="31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ahoma"/>
              </a:rPr>
              <a:t>Drugi govore (uključujući gdb) “gore” sa značenjem  “ka starijim objektima na steku”, ka Base.</a:t>
            </a:r>
            <a:endParaRPr b="0" lang="en-US" sz="31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991640" y="949320"/>
            <a:ext cx="901440" cy="5103720"/>
            <a:chOff x="7991640" y="949320"/>
            <a:chExt cx="901440" cy="5103720"/>
          </a:xfrm>
        </p:grpSpPr>
        <p:sp>
          <p:nvSpPr>
            <p:cNvPr id="194" name=""/>
            <p:cNvSpPr/>
            <p:nvPr/>
          </p:nvSpPr>
          <p:spPr>
            <a:xfrm>
              <a:off x="7994520" y="24004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8432640" y="17524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91640" y="5251320"/>
              <a:ext cx="90144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91640" y="4464000"/>
              <a:ext cx="90144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91640" y="3740040"/>
              <a:ext cx="90144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91640" y="949320"/>
              <a:ext cx="901440" cy="80316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91640" y="2990880"/>
              <a:ext cx="90144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3446-E77C-49C0-BF39-AD42E0F6C99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0324B-57FA-4F09-988F-05E9955DFB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3048120" y="585720"/>
            <a:ext cx="6095880" cy="6119640"/>
            <a:chOff x="3048120" y="585720"/>
            <a:chExt cx="6095880" cy="6119640"/>
          </a:xfrm>
        </p:grpSpPr>
        <p:graphicFrame>
          <p:nvGraphicFramePr>
            <p:cNvPr id="202" name=""/>
            <p:cNvGraphicFramePr/>
            <p:nvPr/>
          </p:nvGraphicFramePr>
          <p:xfrm>
            <a:off x="3048120" y="830160"/>
            <a:ext cx="4475160" cy="5875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830160"/>
                      <a:ext cx="4475160" cy="587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>
              <a:off x="7464600" y="4870080"/>
              <a:ext cx="167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18520" y="585720"/>
              <a:ext cx="167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as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0" y="0"/>
            <a:ext cx="8915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Vizuelni prikaz steka koji raste naniž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1452600"/>
            <a:ext cx="5105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stead of stacking the next plate, how about “hanging” the new fram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D5DA-69C0-4221-9C22-C2E2DF07973C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FA74B-6F56-498D-8421-15BAF0B4D0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rugi resursi u runtime okruženj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763120" cy="57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eš (Cache) - veoma brz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guće na više nivo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zička memorija (brza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Virtuelna memorija (swapping je sporiji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ključuje glavnu memoriju i swap prostor na disku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egistri (najbrži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Često su samo vidljivi registri i memorijske adres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ve ostalo se krije iza adresiranja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ve operacije se izvode u registrima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E8BC-14E1-43C4-A468-9221D69C67A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6E29D-D948-4E62-9D10-35B8693DE8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Nizovi: Decaf i ostali jezic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7480" y="761760"/>
            <a:ext cx="873756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Obično se nizovi smještaju u jedan veliki prostor za sve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emente. Ako je niz deklarisan sa “int a [n] [k] ”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 koristi row-major redosled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Čitav prvi red, pa drugi red, itd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rtran koristi column-major redosled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Čitava prva kolona, pa druga kolona, itd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oristi se i dalje veliki blok memorije, ali su kolone uzastopne a ne redovi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4181-FF87-49FA-98E0-5DC2679BB66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443EC-9C93-4613-BD5B-B2517E26EC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08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99"/>
                </a:solidFill>
                <a:uFillTx/>
                <a:latin typeface="Tahoma"/>
              </a:rPr>
              <a:t>C  nizovi 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471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Posle startovanja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main, niz a je 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inicijalizovan.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(gdb)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print 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{ { 0, 1, 2, 3, 4 }, { 10, 11, 12, 13, 14 }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(gdb)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p &amp;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$1 = (int (*)[2][5]) 0x208a0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(gdb)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p &amp;a[0]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$2 = (int (*)[5]) 0x208a0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(gdb)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p &amp;a[1]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$3 = (int (*)[5]) 0x208b4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4889520" y="0"/>
            <a:ext cx="4254480" cy="29289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t a [2][5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void main(void)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t i, j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r (i=0; i&lt;2; i+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r (j=0; j&lt;5; j+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[i] [j] = 10*i+j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9FA-AD40-4E94-9BC2-D0C69C4CB1D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3CCBC-3D4A-4DEC-9D3D-468076E7AE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mpilacija od početka do kra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1333440"/>
            <a:ext cx="1828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ntaksna analiz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1333440"/>
            <a:ext cx="152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ksička analiz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6934320" y="1333440"/>
            <a:ext cx="1904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mantička analiz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191040"/>
            <a:ext cx="914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PR g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3191040"/>
            <a:ext cx="251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oboljšanje MPR-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9" name=""/>
          <p:cNvCxnSpPr>
            <a:stCxn id="46" idx="3"/>
            <a:endCxn id="47" idx="1"/>
          </p:cNvCxnSpPr>
          <p:nvPr/>
        </p:nvCxnSpPr>
        <p:spPr>
          <a:xfrm flipH="1">
            <a:off x="380160" y="1776240"/>
            <a:ext cx="8458920" cy="1858320"/>
          </a:xfrm>
          <a:prstGeom prst="curvedConnector5">
            <a:avLst>
              <a:gd name="adj1" fmla="val -2702"/>
              <a:gd name="adj2" fmla="val 24995"/>
              <a:gd name="adj3" fmla="val -2702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477120" y="3191040"/>
            <a:ext cx="2133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Generisanje ko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510552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ing &amp;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5319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zvršavan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3" name=""/>
          <p:cNvCxnSpPr>
            <a:stCxn id="50" idx="3"/>
            <a:endCxn id="54" idx="1"/>
          </p:cNvCxnSpPr>
          <p:nvPr/>
        </p:nvCxnSpPr>
        <p:spPr>
          <a:xfrm flipH="1">
            <a:off x="380520" y="3633840"/>
            <a:ext cx="8230320" cy="1946880"/>
          </a:xfrm>
          <a:prstGeom prst="curvedConnector5">
            <a:avLst>
              <a:gd name="adj1" fmla="val -2777"/>
              <a:gd name="adj2" fmla="val 27316"/>
              <a:gd name="adj3" fmla="val -2777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1" idx="3"/>
            <a:endCxn id="52" idx="1"/>
          </p:cNvCxnSpPr>
          <p:nvPr/>
        </p:nvCxnSpPr>
        <p:spPr>
          <a:xfrm>
            <a:off x="5715000" y="5578560"/>
            <a:ext cx="129600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8" idx="3"/>
            <a:endCxn id="50" idx="1"/>
          </p:cNvCxnSpPr>
          <p:nvPr/>
        </p:nvCxnSpPr>
        <p:spPr>
          <a:xfrm>
            <a:off x="4952880" y="3633480"/>
            <a:ext cx="15249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7" name=""/>
          <p:cNvGrpSpPr/>
          <p:nvPr/>
        </p:nvGrpSpPr>
        <p:grpSpPr>
          <a:xfrm>
            <a:off x="152280" y="1295280"/>
            <a:ext cx="1143000" cy="947160"/>
            <a:chOff x="152280" y="1295280"/>
            <a:chExt cx="1143000" cy="947160"/>
          </a:xfrm>
        </p:grpSpPr>
        <p:sp>
          <p:nvSpPr>
            <p:cNvPr id="58" name=""/>
            <p:cNvSpPr/>
            <p:nvPr/>
          </p:nvSpPr>
          <p:spPr>
            <a:xfrm>
              <a:off x="190440" y="1768320"/>
              <a:ext cx="1067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1295280"/>
              <a:ext cx="1143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ourc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ko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743200" y="1295280"/>
            <a:ext cx="1143000" cy="520560"/>
            <a:chOff x="2743200" y="1295280"/>
            <a:chExt cx="1143000" cy="520560"/>
          </a:xfrm>
        </p:grpSpPr>
        <p:cxnSp>
          <p:nvCxnSpPr>
            <p:cNvPr id="61" name=""/>
            <p:cNvCxnSpPr>
              <a:stCxn id="45" idx="3"/>
              <a:endCxn id="44" idx="1"/>
            </p:cNvCxnSpPr>
            <p:nvPr/>
          </p:nvCxnSpPr>
          <p:spPr>
            <a:xfrm>
              <a:off x="2819160" y="1806120"/>
              <a:ext cx="106740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" name=""/>
            <p:cNvSpPr/>
            <p:nvPr/>
          </p:nvSpPr>
          <p:spPr>
            <a:xfrm>
              <a:off x="2743200" y="1295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tokeni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257440" y="1295280"/>
            <a:ext cx="1752480" cy="947160"/>
            <a:chOff x="5257440" y="1295280"/>
            <a:chExt cx="1752480" cy="947160"/>
          </a:xfrm>
        </p:grpSpPr>
        <p:cxnSp>
          <p:nvCxnSpPr>
            <p:cNvPr id="64" name=""/>
            <p:cNvCxnSpPr>
              <a:stCxn id="44" idx="3"/>
              <a:endCxn id="46" idx="1"/>
            </p:cNvCxnSpPr>
            <p:nvPr/>
          </p:nvCxnSpPr>
          <p:spPr>
            <a:xfrm>
              <a:off x="5257440" y="1806120"/>
              <a:ext cx="175284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5257800" y="1295280"/>
              <a:ext cx="1642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Drvo  parsiranj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294920" y="3200400"/>
            <a:ext cx="1447920" cy="520560"/>
            <a:chOff x="1294920" y="3200400"/>
            <a:chExt cx="1447920" cy="520560"/>
          </a:xfrm>
        </p:grpSpPr>
        <p:cxnSp>
          <p:nvCxnSpPr>
            <p:cNvPr id="67" name=""/>
            <p:cNvCxnSpPr>
              <a:stCxn id="47" idx="3"/>
              <a:endCxn id="48" idx="1"/>
            </p:cNvCxnSpPr>
            <p:nvPr/>
          </p:nvCxnSpPr>
          <p:spPr>
            <a:xfrm>
              <a:off x="1294920" y="3663720"/>
              <a:ext cx="144828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" name=""/>
            <p:cNvSpPr/>
            <p:nvPr/>
          </p:nvSpPr>
          <p:spPr>
            <a:xfrm>
              <a:off x="1488600" y="3200400"/>
              <a:ext cx="86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MP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209680" y="510552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ocatable k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510552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šinski k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2670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semblerski k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5257800" y="32004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P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53197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emb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2286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pravno 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74" name=""/>
          <p:cNvCxnSpPr>
            <a:stCxn id="54" idx="3"/>
            <a:endCxn id="51" idx="1"/>
          </p:cNvCxnSpPr>
          <p:nvPr/>
        </p:nvCxnSpPr>
        <p:spPr>
          <a:xfrm flipV="1">
            <a:off x="2361960" y="5578200"/>
            <a:ext cx="144828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CC76-A1E4-4536-8C13-2C7BE8374EA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FD098-9DD2-4793-9B7C-380383EA11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Nizovi u Decaf-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caf n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zovi nisu u jednom velikom bloku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vaki red predstavlja jednu blok memorij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[2][5] ima po jedan pokazivač za svaki od 2 red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741320" y="3132000"/>
          <a:ext cx="5872320" cy="33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1320" y="3132000"/>
                    <a:ext cx="587232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2298600" y="3162240"/>
            <a:ext cx="116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[0]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648C-7349-476B-ABC0-D0D5910C46D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32545-BE0F-418A-9021-3F7888323B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1- i 2-dimenzionalni niz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4582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[3]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je jedan neprekidan blok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[3][4] ima 3 pokazivača na po 4 element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305080" y="1473120"/>
            <a:ext cx="3587400" cy="762120"/>
            <a:chOff x="2305080" y="1473120"/>
            <a:chExt cx="3587400" cy="762120"/>
          </a:xfrm>
        </p:grpSpPr>
        <p:sp>
          <p:nvSpPr>
            <p:cNvPr id="223" name=""/>
            <p:cNvSpPr/>
            <p:nvPr/>
          </p:nvSpPr>
          <p:spPr>
            <a:xfrm>
              <a:off x="2305080" y="1473120"/>
              <a:ext cx="119088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0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10000" y="1473120"/>
              <a:ext cx="119124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1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01600" y="1473120"/>
              <a:ext cx="119088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2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09520" y="3111480"/>
            <a:ext cx="8934120" cy="3110760"/>
            <a:chOff x="209520" y="3111480"/>
            <a:chExt cx="8934120" cy="3110760"/>
          </a:xfrm>
        </p:grpSpPr>
        <p:grpSp>
          <p:nvGrpSpPr>
            <p:cNvPr id="227" name=""/>
            <p:cNvGrpSpPr/>
            <p:nvPr/>
          </p:nvGrpSpPr>
          <p:grpSpPr>
            <a:xfrm>
              <a:off x="209520" y="3111480"/>
              <a:ext cx="3213000" cy="762120"/>
              <a:chOff x="209520" y="3111480"/>
              <a:chExt cx="3213000" cy="762120"/>
            </a:xfrm>
          </p:grpSpPr>
          <p:sp>
            <p:nvSpPr>
              <p:cNvPr id="228" name=""/>
              <p:cNvSpPr/>
              <p:nvPr/>
            </p:nvSpPr>
            <p:spPr>
              <a:xfrm>
                <a:off x="209520" y="3111480"/>
                <a:ext cx="106668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A[0]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88800" y="3111480"/>
                <a:ext cx="106704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A[1]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355840" y="3111480"/>
                <a:ext cx="106668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A[2]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247320" y="5520960"/>
              <a:ext cx="5410440" cy="701280"/>
              <a:chOff x="247320" y="5520960"/>
              <a:chExt cx="5410440" cy="701280"/>
            </a:xfrm>
          </p:grpSpPr>
          <p:sp>
            <p:nvSpPr>
              <p:cNvPr id="232" name=""/>
              <p:cNvSpPr/>
              <p:nvPr/>
            </p:nvSpPr>
            <p:spPr>
              <a:xfrm>
                <a:off x="247320" y="5520960"/>
                <a:ext cx="137160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0,0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618920" y="5520960"/>
                <a:ext cx="135900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0, 1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977920" y="5520960"/>
                <a:ext cx="132084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0,2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298760" y="5520960"/>
                <a:ext cx="135900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0,3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618920" y="4568760"/>
              <a:ext cx="5410440" cy="701280"/>
              <a:chOff x="1618920" y="4568760"/>
              <a:chExt cx="5410440" cy="701280"/>
            </a:xfrm>
          </p:grpSpPr>
          <p:sp>
            <p:nvSpPr>
              <p:cNvPr id="237" name=""/>
              <p:cNvSpPr/>
              <p:nvPr/>
            </p:nvSpPr>
            <p:spPr>
              <a:xfrm>
                <a:off x="1618920" y="4568760"/>
                <a:ext cx="137160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1,0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990520" y="4568760"/>
                <a:ext cx="135900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1, 1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349520" y="4568760"/>
                <a:ext cx="132084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1,2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70360" y="4568760"/>
                <a:ext cx="135900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1,3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241" name=""/>
            <p:cNvCxnSpPr>
              <a:stCxn id="228" idx="2"/>
              <a:endCxn id="232" idx="0"/>
            </p:cNvCxnSpPr>
            <p:nvPr/>
          </p:nvCxnSpPr>
          <p:spPr>
            <a:xfrm>
              <a:off x="742320" y="3914640"/>
              <a:ext cx="191160" cy="1592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29" idx="2"/>
              <a:endCxn id="237" idx="0"/>
            </p:cNvCxnSpPr>
            <p:nvPr/>
          </p:nvCxnSpPr>
          <p:spPr>
            <a:xfrm>
              <a:off x="1822320" y="3914640"/>
              <a:ext cx="483120" cy="640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3" name=""/>
            <p:cNvSpPr/>
            <p:nvPr/>
          </p:nvSpPr>
          <p:spPr>
            <a:xfrm>
              <a:off x="3422520" y="3674880"/>
              <a:ext cx="336600" cy="377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59120" y="3687480"/>
              <a:ext cx="1371600" cy="701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2,0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130720" y="3687480"/>
              <a:ext cx="1358640" cy="701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2, 1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02320" y="3687480"/>
              <a:ext cx="1320840" cy="701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2,2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823160" y="3687480"/>
              <a:ext cx="1320480" cy="701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2,3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DF0D-8483-4B7C-B7F2-224EE66136D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D55BE-2526-475B-A63D-7E9EDFE813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Višedimenzionalni niz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748800"/>
            <a:ext cx="914400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[3][4][5] ima 3 pokazivača, svaki pokazuje na 4 pokazivača, od kojih svaki pokazuje na red od 5 cijelih brojeva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46160" y="2057400"/>
            <a:ext cx="3213000" cy="762120"/>
            <a:chOff x="146160" y="2057400"/>
            <a:chExt cx="3213000" cy="762120"/>
          </a:xfrm>
        </p:grpSpPr>
        <p:sp>
          <p:nvSpPr>
            <p:cNvPr id="251" name=""/>
            <p:cNvSpPr/>
            <p:nvPr/>
          </p:nvSpPr>
          <p:spPr>
            <a:xfrm>
              <a:off x="146160" y="2057400"/>
              <a:ext cx="106668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0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25440" y="2057400"/>
              <a:ext cx="106704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1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92480" y="2057400"/>
              <a:ext cx="106668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2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cxnSp>
        <p:nvCxnSpPr>
          <p:cNvPr id="254" name=""/>
          <p:cNvCxnSpPr>
            <a:stCxn id="255" idx="2"/>
            <a:endCxn id="256" idx="0"/>
          </p:cNvCxnSpPr>
          <p:nvPr/>
        </p:nvCxnSpPr>
        <p:spPr>
          <a:xfrm flipH="1">
            <a:off x="1251000" y="4594320"/>
            <a:ext cx="2032200" cy="117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"/>
          <p:cNvGrpSpPr/>
          <p:nvPr/>
        </p:nvGrpSpPr>
        <p:grpSpPr>
          <a:xfrm>
            <a:off x="949320" y="3790800"/>
            <a:ext cx="6273720" cy="763560"/>
            <a:chOff x="949320" y="3790800"/>
            <a:chExt cx="6273720" cy="763560"/>
          </a:xfrm>
        </p:grpSpPr>
        <p:sp>
          <p:nvSpPr>
            <p:cNvPr id="258" name=""/>
            <p:cNvSpPr/>
            <p:nvPr/>
          </p:nvSpPr>
          <p:spPr>
            <a:xfrm>
              <a:off x="949320" y="3790800"/>
              <a:ext cx="1606320" cy="762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0,0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55640" y="3790800"/>
              <a:ext cx="1454400" cy="762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0,1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10040" y="3790800"/>
              <a:ext cx="1574640" cy="762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0,2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84680" y="3792240"/>
              <a:ext cx="1638360" cy="762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0,3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cxnSp>
        <p:nvCxnSpPr>
          <p:cNvPr id="261" name=""/>
          <p:cNvCxnSpPr>
            <a:stCxn id="251" idx="2"/>
            <a:endCxn id="258" idx="0"/>
          </p:cNvCxnSpPr>
          <p:nvPr/>
        </p:nvCxnSpPr>
        <p:spPr>
          <a:xfrm>
            <a:off x="678960" y="2860200"/>
            <a:ext cx="1073520" cy="91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62" name=""/>
          <p:cNvGrpSpPr/>
          <p:nvPr/>
        </p:nvGrpSpPr>
        <p:grpSpPr>
          <a:xfrm>
            <a:off x="380880" y="5778360"/>
            <a:ext cx="8242560" cy="703080"/>
            <a:chOff x="380880" y="5778360"/>
            <a:chExt cx="8242560" cy="703080"/>
          </a:xfrm>
        </p:grpSpPr>
        <p:sp>
          <p:nvSpPr>
            <p:cNvPr id="256" name=""/>
            <p:cNvSpPr/>
            <p:nvPr/>
          </p:nvSpPr>
          <p:spPr>
            <a:xfrm>
              <a:off x="380880" y="5780160"/>
              <a:ext cx="1739880" cy="70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0,1,0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20760" y="5780160"/>
              <a:ext cx="1625760" cy="70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0,1,1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46520" y="5780160"/>
              <a:ext cx="1625760" cy="70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0,1,2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72280" y="5778360"/>
              <a:ext cx="1625400" cy="70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0,1,3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97680" y="5778360"/>
              <a:ext cx="1625760" cy="70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0,1,4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276-3E40-45B3-B3C0-360DAFC31D9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0BCF6-4C1D-48B9-8FD9-27F2CD7377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Generisanje koda za referenciranje niz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C-u, koristi se veličina elementa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interval indeksa svake dimenzije da bi odredili offset za pojedinačni element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A ima m redova i n kolona elemenata veličine 4 bajta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&amp;A[i] [j]  je &amp;A + 4 * (n * i + j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Decaf-u, moramo uraditi jedno dereferenciranje i jedan offset za svaku dimenziju, nema jedinstvene formul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9B10-49A0-4024-BA52-68B6EC23968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9EB74-5028-4C0F-ACD7-6233F34172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 strukture i Decaf objekt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65240" y="762120"/>
            <a:ext cx="8673840" cy="24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rukture u C-u se čuvaju u susjednim memorijskim riječima, dovoljno za sva polja, da budu poravnat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62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struct cow {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62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char milk;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 // 3 prazna bajta posle ovog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62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char* name;   /* poravnat na jednu riječ*/ } Cow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152800" y="3618000"/>
            <a:ext cx="5371920" cy="963360"/>
            <a:chOff x="2152800" y="3618000"/>
            <a:chExt cx="5371920" cy="963360"/>
          </a:xfrm>
        </p:grpSpPr>
        <p:sp>
          <p:nvSpPr>
            <p:cNvPr id="272" name=""/>
            <p:cNvSpPr/>
            <p:nvPr/>
          </p:nvSpPr>
          <p:spPr>
            <a:xfrm>
              <a:off x="2152800" y="3618000"/>
              <a:ext cx="224784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‘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52800" y="4060800"/>
              <a:ext cx="2247840" cy="4633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0x20000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00640" y="40608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“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ossy”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0" y="4665600"/>
            <a:ext cx="86742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ecaf objekti se čuvaju slično strukturama u C-u, sa svim poljima i naslijeđenim članovima, i sa vptr (pokazivač na tabelu funkcija članov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8BE3-56B7-4DD6-945A-2EC8093398D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B6BA6-2B2A-49B0-9F83-AB8B743450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99"/>
                </a:solidFill>
                <a:uFillTx/>
                <a:latin typeface="Tahoma"/>
              </a:rPr>
              <a:t>Decaf objekti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7480" y="152280"/>
            <a:ext cx="84582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lass Mammal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har* name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oid noise() { print “Grr” }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lass Cow extends Mammal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har milk; // production grad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oid noise() { print “Moo”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 weight() { return 1000; }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w elsie = new Cow(‘A’, “Elsie”)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851040" y="5502240"/>
            <a:ext cx="2184120" cy="463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40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851040" y="5925960"/>
            <a:ext cx="2184120" cy="4269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827520" y="5905440"/>
            <a:ext cx="2019240" cy="520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si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851040" y="5059440"/>
            <a:ext cx="2184120" cy="4269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t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851040" y="3505320"/>
            <a:ext cx="2209680" cy="1373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a heap-u, pronalazimo  objekat elsi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3819600" y="3505320"/>
            <a:ext cx="2027160" cy="1373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 segmentu statičkih podatak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84" name=""/>
          <p:cNvCxnSpPr>
            <a:stCxn id="278" idx="3"/>
            <a:endCxn id="280" idx="1"/>
          </p:cNvCxnSpPr>
          <p:nvPr/>
        </p:nvCxnSpPr>
        <p:spPr>
          <a:xfrm>
            <a:off x="3042720" y="5741640"/>
            <a:ext cx="777240" cy="4323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3835440" y="5245200"/>
            <a:ext cx="2019240" cy="463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amp; we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86" name=""/>
          <p:cNvCxnSpPr>
            <a:stCxn id="281" idx="3"/>
            <a:endCxn id="287" idx="1"/>
          </p:cNvCxnSpPr>
          <p:nvPr/>
        </p:nvCxnSpPr>
        <p:spPr>
          <a:xfrm flipV="1">
            <a:off x="3042720" y="5004720"/>
            <a:ext cx="785160" cy="2768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3835440" y="4765680"/>
            <a:ext cx="2019240" cy="463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amp;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88" name=""/>
          <p:cNvCxnSpPr>
            <a:stCxn id="287" idx="3"/>
            <a:endCxn id="289" idx="1"/>
          </p:cNvCxnSpPr>
          <p:nvPr/>
        </p:nvCxnSpPr>
        <p:spPr>
          <a:xfrm flipV="1">
            <a:off x="5862240" y="3312360"/>
            <a:ext cx="754920" cy="1693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5" idx="3"/>
            <a:endCxn id="291" idx="1"/>
          </p:cNvCxnSpPr>
          <p:nvPr/>
        </p:nvCxnSpPr>
        <p:spPr>
          <a:xfrm flipV="1">
            <a:off x="5862240" y="5059080"/>
            <a:ext cx="76284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5862600" y="1689120"/>
            <a:ext cx="3041640" cy="542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 tekst segmentu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6624720" y="2832120"/>
            <a:ext cx="2287440" cy="9619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d za Cow::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6632640" y="4578480"/>
            <a:ext cx="2287440" cy="9619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d za Cow::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97E1-BF86-40F2-89B0-6BAA5073ED5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28085-8E85-440E-BBFA-056CD48E7B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OO m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thod dispatch jo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š jednom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98560" y="914400"/>
            <a:ext cx="7637400" cy="522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9E25-3722-4A7E-B073-92B8994C4A4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EDA96-0A2C-49F3-B1F9-3038090112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Metod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214280" y="914400"/>
            <a:ext cx="5815080" cy="2579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846000" y="3753000"/>
            <a:ext cx="7718400" cy="220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C66-1FA9-4B51-A5BD-684653C94E3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18FDA-E05E-41A7-87EA-8054AD70EC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Nasl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j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eđivan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80880" y="952560"/>
            <a:ext cx="8458200" cy="499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E3FD-4A89-4226-BA8F-36786077DEA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A4141-FDEB-4A0B-8A57-CA22547299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ispatch vektor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760840" y="1020600"/>
            <a:ext cx="3686040" cy="542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6CF2-D078-432B-A678-4E4E75B8706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6C877-54C0-4BDE-B296-9A7644695E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untime environmen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99172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ako se program smješta u memoriju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374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Kod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74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Podaci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74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Stek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74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Heap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ahoma"/>
              </a:rPr>
              <a:t>Kako se predaje i</a:t>
            </a:r>
            <a:r>
              <a:rPr b="0" lang="sr-Latn-CS" sz="3400" spc="-1" strike="noStrike">
                <a:solidFill>
                  <a:srgbClr val="000099"/>
                </a:solidFill>
                <a:latin typeface="Tahoma"/>
              </a:rPr>
              <a:t>n</a:t>
            </a:r>
            <a:r>
              <a:rPr b="0" lang="en-US" sz="3400" spc="-1" strike="noStrike">
                <a:solidFill>
                  <a:srgbClr val="000099"/>
                </a:solidFill>
                <a:latin typeface="Tahoma"/>
              </a:rPr>
              <a:t>formacija između pozivačke i pozvane funkcije</a:t>
            </a:r>
            <a:endParaRPr b="0" lang="en-US" sz="3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0B53-373E-4FF2-96D6-235F36E7C2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66965-7C8D-49B7-92AD-5D5CFD8165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Predstavljanje objekat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143000" y="1127160"/>
            <a:ext cx="6797520" cy="350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E9AB-B6FA-4789-9377-39E49377951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22898-67D0-4EB0-B9AF-5D42634B0A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Alokacija objekat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80880" y="1336680"/>
            <a:ext cx="8534520" cy="426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935-E5E6-41D0-8410-B64480F8BAA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22CBD-4818-4912-9CB4-DBCEEB50B1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80880" y="1008000"/>
            <a:ext cx="8534520" cy="493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DB27-7234-4A32-9D42-2C1580E33E1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3CDFC-4EB7-4E80-BBCE-2518619802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80880" y="1355760"/>
            <a:ext cx="8534520" cy="42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FF63-B7A1-489B-9F1C-E3BB0696166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CC7FC-4B4B-468C-8A9B-7064E4FF82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Pozivi f-ija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65240" y="901800"/>
            <a:ext cx="8826480" cy="56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a je potrebno za generisanje poziv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ushParam, PopParam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Call, ACal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eginFunc, EndFunc, Retur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 šta radi pozivačka (caller) ili pozvana (callee) funkcija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ako međusobno komuniciraju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IPS, u opštem slučaju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ecaf, kao poseban slučaj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5998-574C-4C5F-AD68-FC2D07F085B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1B820-D769-4706-BF6E-F7E918A99E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Ko šta radi? (I)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2280" y="876240"/>
            <a:ext cx="851544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ije poziva f-ije, pozivačka f-ij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ačuva sve neophodne registr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tavi argumente na stek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tavlja statičku vezu (ako je potrebno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Šta je to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ačuva povratnu adresu u  $r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e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zuje skok ili grananje (jump ili branch) na pozvanu f-ij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C60C-FAEB-4E8E-81BA-C63B83CCB93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1554D6-F413-4922-8CD7-E2E75D081B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Ko šta radi?</a:t>
            </a:r>
            <a:r>
              <a:rPr b="0" lang="sr-Latn-C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(II)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52280" y="876240"/>
            <a:ext cx="86868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toku poziva f-ije, pozvana f-ij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ačuva sve neophodne registr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tavlja novi frame pokazivač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iprema prostor za lokalne promjenljive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pomo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ć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 promjenljiv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Odrađuje svoj posao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tavlja povratnu vrijednost u $v0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riše frame pokazivač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sta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čku vez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Vraća vrijednosti u registr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kok na povratnu adresu (sačuvanu na steku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7E11-0F4E-4691-86C5-06FA824860B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65358-3800-4B18-9927-138A0DE0B8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Ko šta radi? (III)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280" y="875880"/>
            <a:ext cx="8686800" cy="56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lije poziva f-ije pozivačka f-ij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klanja povratnu adresu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parametre s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stek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zima povratnu vrijednost sa $v0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Vraća vrijednosti u registr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stavlja sa izvršavanjem svog kod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azličite arhitekture / kompajleri biraju različite načine čuvanja i povraćaja vrijednosti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gledati SPIM_Manual.pdf  za opšti slučaj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DAA3-5B1F-43F5-8880-D2955C76B62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CE87F-08C6-4CC5-82BF-3C6ECD233F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edaja parametar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 vrijednosti (Call by value): argument se izračunava i kopiju vrijednosti šalje na stek pozivač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Obično se prvih nekoliko parametara mogu predati preko registara (opšte namjene ili FP), radi  bržeg pristupa. 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U Decaf-u :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cc"/>
                </a:solidFill>
                <a:latin typeface="Tahoma"/>
              </a:rPr>
              <a:t>Emitujemo pozivački kod za push argumenata na stek.</a:t>
            </a:r>
            <a:endParaRPr b="0" lang="en-US" sz="30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cc"/>
                </a:solidFill>
                <a:latin typeface="Tahoma"/>
              </a:rPr>
              <a:t>Emitujemo kod za pozvanu f-iju da pročita parametre sa steka.</a:t>
            </a:r>
            <a:endParaRPr b="0" lang="en-US" sz="30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AF9E-0CA9-4757-A7DC-4514233140C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FB36F-82B2-4C7D-9F5C-A02A59302D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02680" y="-360"/>
            <a:ext cx="485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ozivač: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5056200" cy="58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ush parm3, parm2, parm 1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Učitava return addr u $ra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Jumps to callee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Za pozivača, emitujemo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ushParam (s)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LCall ili Acall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($ra će biti učitan u asm kod koji se generiše)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330800" y="320760"/>
            <a:ext cx="4976640" cy="5752800"/>
            <a:chOff x="4330800" y="320760"/>
            <a:chExt cx="4976640" cy="5752800"/>
          </a:xfrm>
        </p:grpSpPr>
        <p:sp>
          <p:nvSpPr>
            <p:cNvPr id="323" name=""/>
            <p:cNvSpPr/>
            <p:nvPr/>
          </p:nvSpPr>
          <p:spPr>
            <a:xfrm>
              <a:off x="5600880" y="320760"/>
              <a:ext cx="2311200" cy="853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revious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r’s fram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00880" y="12034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00880" y="16462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00880" y="20890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00880" y="25318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aved f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600880" y="29750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aved r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00880" y="34178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00880" y="38606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00880" y="43038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600880" y="47466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600880" y="51894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10160" y="250992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$fp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30800" y="4724280"/>
              <a:ext cx="136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$sp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00880" y="56466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12080" y="1195560"/>
              <a:ext cx="353880" cy="1314360"/>
            </a:xfrm>
            <a:custGeom>
              <a:avLst/>
              <a:gdLst>
                <a:gd name="textAreaLeft" fmla="*/ 0 w 353880"/>
                <a:gd name="textAreaRight" fmla="*/ 127800 w 353880"/>
                <a:gd name="textAreaTop" fmla="*/ 34200 h 1314360"/>
                <a:gd name="textAreaBottom" fmla="*/ 1280160 h 131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12080" y="2523960"/>
              <a:ext cx="353880" cy="2200320"/>
            </a:xfrm>
            <a:custGeom>
              <a:avLst/>
              <a:gdLst>
                <a:gd name="textAreaLeft" fmla="*/ 0 w 353880"/>
                <a:gd name="textAreaRight" fmla="*/ 127800 w 353880"/>
                <a:gd name="textAreaTop" fmla="*/ 57240 h 2200320"/>
                <a:gd name="textAreaBottom" fmla="*/ 2143080 h 220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265960" y="1562040"/>
              <a:ext cx="103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265960" y="3333600"/>
              <a:ext cx="10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E249-5020-4DC5-977F-83389BF88BF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582AE-E218-4AD8-BD42-D53C5A23C3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zgled memorije pri izvršavanj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27000"/>
            <a:ext cx="9144000" cy="54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PIM_Manual.pdf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652840"/>
            <a:ext cx="6807240" cy="3906720"/>
            <a:chOff x="838080" y="2652840"/>
            <a:chExt cx="6807240" cy="3906720"/>
          </a:xfrm>
        </p:grpSpPr>
        <p:grpSp>
          <p:nvGrpSpPr>
            <p:cNvPr id="80" name=""/>
            <p:cNvGrpSpPr/>
            <p:nvPr/>
          </p:nvGrpSpPr>
          <p:grpSpPr>
            <a:xfrm>
              <a:off x="838080" y="2890080"/>
              <a:ext cx="2971800" cy="3460680"/>
              <a:chOff x="838080" y="2890080"/>
              <a:chExt cx="2971800" cy="3460680"/>
            </a:xfrm>
          </p:grpSpPr>
          <p:sp>
            <p:nvSpPr>
              <p:cNvPr id="81" name=""/>
              <p:cNvSpPr/>
              <p:nvPr/>
            </p:nvSpPr>
            <p:spPr>
              <a:xfrm>
                <a:off x="838080" y="5830200"/>
                <a:ext cx="2971800" cy="520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38080" y="5295240"/>
                <a:ext cx="2971800" cy="520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Static data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38080" y="4760280"/>
                <a:ext cx="2971800" cy="520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Global data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562040" y="3746520"/>
                <a:ext cx="457200" cy="492120"/>
              </a:xfrm>
              <a:prstGeom prst="upArrow">
                <a:avLst>
                  <a:gd name="adj1" fmla="val 38889"/>
                  <a:gd name="adj2" fmla="val 56245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2247840" y="3385440"/>
                <a:ext cx="457200" cy="493560"/>
              </a:xfrm>
              <a:prstGeom prst="upArrow">
                <a:avLst>
                  <a:gd name="adj1" fmla="val 38889"/>
                  <a:gd name="adj2" fmla="val 5641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38080" y="2890080"/>
                <a:ext cx="2971800" cy="5205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Runtime stack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38080" y="4245840"/>
                <a:ext cx="2971800" cy="5205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 Narrow"/>
                  </a:rPr>
                  <a:t>Dynamic data (heap)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4178160" y="2652840"/>
              <a:ext cx="303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High memory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30800" y="6039000"/>
              <a:ext cx="288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Low memory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92640" y="422928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(not to scale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250F-7931-4331-8902-C917EB9B0F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2B1EA-EE81-48F4-81EA-68DFA1B5B2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2680" y="-360"/>
            <a:ext cx="485316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ozvana f-ija: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-360" y="583920"/>
            <a:ext cx="5397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sta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v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lja $fp i $sp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$sp markira slobodan prostor na steku (za temps)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zvršava kod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Vraća vrijednost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Za pozvanu f-iju, emitujemo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BeginFunc n;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(Regs get set in asm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TAC for callee’s code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EndFunc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(Restores regs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Return ili Return t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(loads $v0, jumps to old $ra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4330800" y="320760"/>
            <a:ext cx="4976640" cy="5752800"/>
            <a:chOff x="4330800" y="320760"/>
            <a:chExt cx="4976640" cy="5752800"/>
          </a:xfrm>
        </p:grpSpPr>
        <p:sp>
          <p:nvSpPr>
            <p:cNvPr id="344" name=""/>
            <p:cNvSpPr/>
            <p:nvPr/>
          </p:nvSpPr>
          <p:spPr>
            <a:xfrm>
              <a:off x="5600880" y="320760"/>
              <a:ext cx="2311200" cy="853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revious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r’s fram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00880" y="12034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00880" y="16462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00880" y="20890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00880" y="25318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aved f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00880" y="29750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aved r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00880" y="34178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00880" y="38606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00880" y="43038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00880" y="47466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00880" y="51894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10160" y="250992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$fp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30800" y="4724280"/>
              <a:ext cx="136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$sp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600880" y="56466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12080" y="1195560"/>
              <a:ext cx="353880" cy="1314360"/>
            </a:xfrm>
            <a:custGeom>
              <a:avLst/>
              <a:gdLst>
                <a:gd name="textAreaLeft" fmla="*/ 0 w 353880"/>
                <a:gd name="textAreaRight" fmla="*/ 127800 w 353880"/>
                <a:gd name="textAreaTop" fmla="*/ 34200 h 1314360"/>
                <a:gd name="textAreaBottom" fmla="*/ 1280160 h 131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12080" y="2523960"/>
              <a:ext cx="353880" cy="2200320"/>
            </a:xfrm>
            <a:custGeom>
              <a:avLst/>
              <a:gdLst>
                <a:gd name="textAreaLeft" fmla="*/ 0 w 353880"/>
                <a:gd name="textAreaRight" fmla="*/ 127800 w 353880"/>
                <a:gd name="textAreaTop" fmla="*/ 57240 h 2200320"/>
                <a:gd name="textAreaBottom" fmla="*/ 2143080 h 220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65960" y="1562040"/>
              <a:ext cx="103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5960" y="3333600"/>
              <a:ext cx="10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41A-13CC-487B-A725-0020E4EDC63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2FD79-62EB-4BA2-A76E-B6B745DC44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02680" y="-360"/>
            <a:ext cx="485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oslije poziva: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02680" y="752400"/>
            <a:ext cx="4853160" cy="58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Za pozivača, emitujemo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pParams (n)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Generisani Asm će očistiti registre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330800" y="320760"/>
            <a:ext cx="4976640" cy="5752800"/>
            <a:chOff x="4330800" y="320760"/>
            <a:chExt cx="4976640" cy="5752800"/>
          </a:xfrm>
        </p:grpSpPr>
        <p:sp>
          <p:nvSpPr>
            <p:cNvPr id="365" name=""/>
            <p:cNvSpPr/>
            <p:nvPr/>
          </p:nvSpPr>
          <p:spPr>
            <a:xfrm>
              <a:off x="5600880" y="320760"/>
              <a:ext cx="2311200" cy="853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revious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r’s fram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00880" y="12034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600880" y="16462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00880" y="20890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00880" y="25318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aved f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00880" y="29750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aved r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00880" y="34178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00880" y="38606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00880" y="43038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00880" y="47466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00880" y="51894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10160" y="250992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$fp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30800" y="4724280"/>
              <a:ext cx="136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$sp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00880" y="56466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12080" y="1195560"/>
              <a:ext cx="353880" cy="1314360"/>
            </a:xfrm>
            <a:custGeom>
              <a:avLst/>
              <a:gdLst>
                <a:gd name="textAreaLeft" fmla="*/ 0 w 353880"/>
                <a:gd name="textAreaRight" fmla="*/ 127800 w 353880"/>
                <a:gd name="textAreaTop" fmla="*/ 34200 h 1314360"/>
                <a:gd name="textAreaBottom" fmla="*/ 1280160 h 131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12080" y="2523960"/>
              <a:ext cx="353880" cy="2200320"/>
            </a:xfrm>
            <a:custGeom>
              <a:avLst/>
              <a:gdLst>
                <a:gd name="textAreaLeft" fmla="*/ 0 w 353880"/>
                <a:gd name="textAreaRight" fmla="*/ 127800 w 353880"/>
                <a:gd name="textAreaTop" fmla="*/ 57240 h 2200320"/>
                <a:gd name="textAreaBottom" fmla="*/ 2143080 h 220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265960" y="1562040"/>
              <a:ext cx="103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265960" y="3333600"/>
              <a:ext cx="10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197B-FF46-4493-9256-748D628746A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E769C-B5A3-4209-A0B4-8E4312A72A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mještanje programa u memorij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Od nižih adresa ka višim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d (tekst segment, instrukcije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atički (konstantni) podac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lobalni podac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inamički podaci (heap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untime stek (pozivi procedura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egled svake sekcije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94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DAC0-16D6-4423-99BA-EF54BFF9FB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016F6-FF78-4F9C-800A-D5806CF175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ekst segment (executable code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7480" y="761760"/>
            <a:ext cx="7823160" cy="58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varne ma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š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e instrukci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 MIPS/u, sve su 32 bit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ritmeti</a:t>
            </a:r>
            <a:r>
              <a:rPr b="0" lang="hr-HR" sz="3200" spc="-1" strike="noStrike">
                <a:solidFill>
                  <a:srgbClr val="3333cc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ko / logičk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oređenje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Grananje (Branch - short distances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kokovi (Jump - long distances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oad / stor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omjeranje podatak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anipulisanje konstantam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104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463A-A016-4638-965F-F96F87AF30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BE2D8-C5FA-4158-A279-C319858064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ekst segment (nastavak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761760"/>
            <a:ext cx="7823160" cy="58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d segment je write-protected, pa se startovanjem koda ne može obrisati segment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Debuger može obrisati.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114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D5D-A4C8-40E7-88C8-F6B75E63A9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333BE-B64F-4974-90CC-DA27F451D9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gment podataka (data segment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7480" y="761760"/>
            <a:ext cx="7823160" cy="58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daci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ja je veličina po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ata u vrijeme kompajliranj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Čiji je životni ciklus cijelo izvršavanje programa a ne samo vrijeme izvršavanja f-ije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ahoma"/>
              </a:rPr>
              <a:t>Statički podaci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ključuju  stvari koje se mijenjaju (mogu biti write-protected)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abele za virtue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e f-ij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tring literali korišćeni u instrukcijam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rithmetički literali bi mogli biti, ali se češće uključuju u instrukcij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124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CEE3-8211-463B-A88D-AF13525E454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A5652-BE4C-45E1-B02B-80C3DD3A18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gment podataka (data segment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7480" y="761760"/>
            <a:ext cx="7566120" cy="58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lobalni podaci (ne samo statički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lobalno deklarisane promjenljiv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okalne static promjenljive (u C-u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okalne za f-iju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Čuva se njihova vrijednost između 2 izvršavanja f-ije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mantička analiza obezbjeđuje da statičke lokalne promjenljive nisu referencirane van njihovog opseg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134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A437-CB1B-47A3-A87B-6561C9DF14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4C767-08EA-44B0-A7EC-B794BAE773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gorans</cp:lastModifiedBy>
  <dcterms:modified xsi:type="dcterms:W3CDTF">2009-04-16T07:38:23Z</dcterms:modified>
  <cp:revision>5441</cp:revision>
  <dc:subject/>
  <dc:title>Welcome to CS143</dc:title>
</cp:coreProperties>
</file>