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B3565-6A35-40AA-8BA3-5A3BAFF3A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458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520" y="3740400"/>
            <a:ext cx="8458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98D02-C942-49B0-8CD9-B7E234290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4127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14560" y="914400"/>
            <a:ext cx="4127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520" y="3740400"/>
            <a:ext cx="4127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14560" y="3740400"/>
            <a:ext cx="4127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C4F50-0117-4506-BBC9-3A1193364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2723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40360" y="914400"/>
            <a:ext cx="2723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0560" y="914400"/>
            <a:ext cx="2723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520" y="3740400"/>
            <a:ext cx="2723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40360" y="3740400"/>
            <a:ext cx="2723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0560" y="3740400"/>
            <a:ext cx="2723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C3299-F2CD-467B-9B4E-0C0F16DCD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520" y="9144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0BEF3-70DB-45C0-9D4D-64366B41C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F4ACE-44AA-4329-A211-E94D59288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4127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14560" y="914400"/>
            <a:ext cx="4127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33BA1-5B81-41FA-AFB4-15D15FB0D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B4786-7427-4CCB-AED5-BAAC8F4B5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520" y="-360"/>
            <a:ext cx="85345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1F5F9-EAF8-4274-96D8-A87C818E6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4127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14560" y="914400"/>
            <a:ext cx="4127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520" y="3740400"/>
            <a:ext cx="4127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653E5-DC3F-4927-AF51-06598CD5A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4127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14400"/>
            <a:ext cx="4127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14560" y="3740400"/>
            <a:ext cx="4127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05FA4-D478-4A6F-BA72-C41E4ACF2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4127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14400"/>
            <a:ext cx="4127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520" y="3740400"/>
            <a:ext cx="8458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ECC11-697C-4307-9E28-AD9934722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520" y="9144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cc00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48320" y="6552720"/>
            <a:ext cx="26668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0" y="6552720"/>
            <a:ext cx="4191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467120" y="6552720"/>
            <a:ext cx="1676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83901-E2E2-4944-8793-9C8A33CD8CFC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Objektno-orijentisani jezici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788B7-A292-417B-840A-D7A0649F4B01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AF605D-FC20-4DE9-A269-6CD656CC7DA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Pitanje opsega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761760"/>
            <a:ext cx="861048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Članovi klase dostupni samo u metodama klase ili metodima izvedenih klasa.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Unutar metoda klase, kako pronaći deklaraciju promjenljive?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ajugnježdeniji opseg (najbliži blok, ako postoji)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ijelo funkcije pa formalni parametri (2 opsega)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cc"/>
                </a:solidFill>
                <a:latin typeface="Tahoma"/>
              </a:rPr>
              <a:t>Nema ugnježdenih f-ija kao u Pascal-u</a:t>
            </a:r>
            <a:endParaRPr b="0" lang="en-US" sz="2800" spc="-1" strike="noStrike">
              <a:solidFill>
                <a:srgbClr val="cc00cc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pseg klase (class scope)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pseg roditeljske klase , “djedovske” klase, itd. do najdaljeg pretka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pseg datoteke (file scope)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globalni opseg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31998-142E-4143-A555-AB04613352D8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516242-E29C-442A-9E94-0B2CF513A04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Primjer određivanja opsega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80520" y="7617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Exec::getRaise()  {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   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boats = boats + 1; 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alary = salary * execBoost; 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}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Posmatrajmo</a:t>
            </a:r>
            <a:r>
              <a:rPr b="0" i="1" lang="en-US" sz="32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promjenljivu</a:t>
            </a:r>
            <a:r>
              <a:rPr b="0" i="1" lang="en-US" sz="3200" spc="-1" strike="noStrike">
                <a:solidFill>
                  <a:srgbClr val="000099"/>
                </a:solidFill>
                <a:latin typeface="Tahoma"/>
              </a:rPr>
              <a:t> boats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: 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Lokalna najbližem bloku ili f-iji getRaise? Ne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Definisana kao član klase Exec?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Da, pa je upotreba promjenljive </a:t>
            </a:r>
            <a:r>
              <a:rPr b="0" i="1" lang="en-US" sz="3200" spc="-1" strike="noStrike">
                <a:solidFill>
                  <a:srgbClr val="000099"/>
                </a:solidFill>
                <a:latin typeface="Tahoma"/>
              </a:rPr>
              <a:t>boats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 riješena na nivou klase.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66B15-9387-4CD5-8E2D-F560A7E40534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D3B10B-17FD-4E50-8505-848F90C4FAD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Primjer određivanja opsega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520" y="7617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Exec::getRaise()  {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   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boats = boats + 1; 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alary = salary * execBoost; 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}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Posmatrajmo</a:t>
            </a:r>
            <a:r>
              <a:rPr b="0" i="1" lang="en-US" sz="32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promjenljivu</a:t>
            </a:r>
            <a:r>
              <a:rPr b="0" i="1" lang="en-US" sz="3200" spc="-1" strike="noStrike">
                <a:solidFill>
                  <a:srgbClr val="000099"/>
                </a:solidFill>
                <a:latin typeface="Tahoma"/>
              </a:rPr>
              <a:t> salary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Lokalna najbližem bloku ili f-iji getRaise? Ne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Definisana kao član klase Exec? Ne.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Definisana kao član klase Mgr? 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Ne.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Definisana kao član klase Empl? Da.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4C525-97F5-4A91-80FD-8FA2232C58FC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81E17F-ABF6-4144-9622-DB4FFCD4744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Primjer određivanja opsega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Posmatrajmo</a:t>
            </a:r>
            <a:r>
              <a:rPr b="0" i="1" lang="en-US" sz="32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promjenljivu</a:t>
            </a:r>
            <a:r>
              <a:rPr b="0" i="1" lang="en-US" sz="3200" spc="-1" strike="noStrike">
                <a:solidFill>
                  <a:srgbClr val="000099"/>
                </a:solidFill>
                <a:latin typeface="Tahoma"/>
              </a:rPr>
              <a:t> execBoost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Lokalna najbližem bloku ili f-iji getRaise? Ne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Definisana kao član klase Exec? Ne.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Definisana kao član klase Mgr? 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Ne.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Definisana kao član klase Empl? Ne.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Definisana na nivou datoteke?  Ne.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Globalna promjenljiva variable?  Da  (loše projektovanje, ali validan opseg)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45EF2-A954-4D2C-A595-0B1CBBFEF8B3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C1EBE4-A4CE-4982-8F94-0C31EBAD8C7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Opseg kod f-ija koje nisu članovi klase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bool  Exploitable (Empl e) {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bool  b;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if (e.salary() &lt;= minWage) return true;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return false; }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Za pronalaženje promjenljive salary, “e.” prefiks nam govori da tražimo u klasi za e i eventualno njoj nadređenim klasama. Mora se tražiti u opsegu klase, jer se koristi OO notacija.  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Za pronalaženje minWage, po standardnoj C-putanji: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ajbliži blok, lokalna f-ija, datoteka, globalna.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8B245-7F12-4D2A-839F-9623643A5089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CED10E-C18A-4B09-9042-F6D7B65A61B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Pretraživanje u klasnom opsegu objekta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e.” prefiks nam govori da pretražujemo u opsegu klase objekta e i da se krećemo kroz hijerarhiju klasa.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Šta je klasni opseg za e?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e ima statički tip iz svoje deklaracije.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Sve klase potomci klase Empl su </a:t>
            </a:r>
            <a:r>
              <a:rPr b="0" i="1" lang="en-US" sz="2800" spc="-1" strike="noStrike">
                <a:solidFill>
                  <a:srgbClr val="000099"/>
                </a:solidFill>
                <a:latin typeface="Tahoma"/>
              </a:rPr>
              <a:t>kompatibilne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sa Empl.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Exploitable (wally) predaje Empl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Exploitable (dilbert) predaje Drone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Exploitable (pointy) predaje Mgr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Exploitable pronalazi salary u Empl za svakog.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0473F-63DE-4DEF-B35F-793FA3633E17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54BABE-E632-4EC3-BECD-16317A62EB4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Pozivanje metoda (member function)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28600" y="914400"/>
            <a:ext cx="87631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dogbert.getRaise() 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Koji getRaise metod je pozvan?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C++ </a:t>
            </a:r>
            <a:r>
              <a:rPr b="1" lang="en-US" sz="4000" spc="-1" strike="noStrike">
                <a:solidFill>
                  <a:srgbClr val="000099"/>
                </a:solidFill>
                <a:latin typeface="Symbol"/>
                <a:ea typeface="Symbol"/>
              </a:rPr>
              <a:t>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 Decaf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U C++, 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bj</a:t>
            </a:r>
            <a:r>
              <a:rPr b="1" lang="en-US" sz="3200" spc="-1" strike="noStrike">
                <a:solidFill>
                  <a:srgbClr val="fc4122"/>
                </a:solidFill>
                <a:latin typeface="Tahoma"/>
              </a:rPr>
              <a:t>.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memFunc() određuje memFunc u skladu sa </a:t>
            </a:r>
            <a:r>
              <a:rPr b="0" i="1" lang="en-US" sz="3200" spc="-1" strike="noStrike">
                <a:solidFill>
                  <a:srgbClr val="3333cc"/>
                </a:solidFill>
                <a:latin typeface="Tahoma"/>
              </a:rPr>
              <a:t>statičkim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tipom objekta obj.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bjp</a:t>
            </a:r>
            <a:r>
              <a:rPr b="1" lang="en-US" sz="3200" spc="-1" strike="noStrike">
                <a:solidFill>
                  <a:srgbClr val="fc4122"/>
                </a:solidFill>
                <a:latin typeface="Tahoma"/>
              </a:rPr>
              <a:t>-&gt;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memFunc() određuje memFunc u skladu sa </a:t>
            </a:r>
            <a:r>
              <a:rPr b="0" i="1" lang="en-US" sz="3200" spc="-1" strike="noStrike">
                <a:solidFill>
                  <a:srgbClr val="3333cc"/>
                </a:solidFill>
                <a:latin typeface="Tahoma"/>
              </a:rPr>
              <a:t>dinamičkim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tipom obj (ako je  memfunc declarisana kao </a:t>
            </a:r>
            <a:r>
              <a:rPr b="0" i="1" lang="en-US" sz="3200" spc="-1" strike="noStrike">
                <a:solidFill>
                  <a:srgbClr val="3333cc"/>
                </a:solidFill>
                <a:latin typeface="Tahoma"/>
              </a:rPr>
              <a:t>virtual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).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D067C-E684-4B0D-A8D5-8FBDB866A984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FF46B5-803A-4AA5-B561-AEA42437966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C++ - metod dispatch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Drone dilbert = Drone(); 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Mgr* dogbert = new Exec(); 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Mgr   pointy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= *dogbert;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Dilbert.greet()   štampa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I work in a box.”         // statički 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Dogbert-&gt;greet() štampa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I have options.”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      // dinamički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Pointy.greet() štampa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I have pointy hair.”     // statički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FEE95-8193-4F1A-BB80-2FE6F7E4B32E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69AE97-0CCA-4E70-8AED-398B4D0D3AB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Method dispatching u Decaf-u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80520" y="685440"/>
            <a:ext cx="853452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U Decaf-u je uvijek dinamički.</a:t>
            </a:r>
            <a:endParaRPr b="0" lang="en-US" sz="3000" spc="-1" strike="noStrike">
              <a:solidFill>
                <a:srgbClr val="000099"/>
              </a:solidFill>
              <a:latin typeface="Tahoma"/>
            </a:endParaRPr>
          </a:p>
          <a:p>
            <a:pPr marL="332640" indent="0"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Bazira se na </a:t>
            </a:r>
            <a:r>
              <a:rPr b="0" i="1" lang="en-US" sz="3000" spc="-1" strike="noStrike">
                <a:solidFill>
                  <a:srgbClr val="000099"/>
                </a:solidFill>
                <a:latin typeface="Tahoma"/>
              </a:rPr>
              <a:t>runtime</a:t>
            </a: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 klasi objekta.</a:t>
            </a:r>
            <a:endParaRPr b="0" lang="en-US" sz="3000" spc="-1" strike="noStrike">
              <a:solidFill>
                <a:srgbClr val="000099"/>
              </a:solidFill>
              <a:latin typeface="Tahoma"/>
            </a:endParaRPr>
          </a:p>
          <a:p>
            <a:pPr marL="332640" indent="0"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Drone dilbert = new Drone(); </a:t>
            </a:r>
            <a:endParaRPr b="0" lang="en-US" sz="3000" spc="-1" strike="noStrike">
              <a:solidFill>
                <a:srgbClr val="000099"/>
              </a:solidFill>
              <a:latin typeface="Tahoma"/>
            </a:endParaRPr>
          </a:p>
          <a:p>
            <a:pPr marL="332640" indent="0"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Mgr dogbert = new Exec(); </a:t>
            </a:r>
            <a:endParaRPr b="0" lang="en-US" sz="3000" spc="-1" strike="noStrike">
              <a:solidFill>
                <a:srgbClr val="000099"/>
              </a:solidFill>
              <a:latin typeface="Tahoma"/>
            </a:endParaRPr>
          </a:p>
          <a:p>
            <a:pPr marL="332640" indent="0"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Mgr pointy</a:t>
            </a: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 = new Mgr();</a:t>
            </a:r>
            <a:endParaRPr b="0" lang="en-US" sz="3000" spc="-1" strike="noStrike">
              <a:solidFill>
                <a:srgbClr val="000099"/>
              </a:solidFill>
              <a:latin typeface="Tahom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Dilbert.greet() 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štampa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32640" indent="0"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“</a:t>
            </a: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I work in a box.”         // Drone method </a:t>
            </a:r>
            <a:endParaRPr b="0" lang="en-US" sz="3000" spc="-1" strike="noStrike">
              <a:solidFill>
                <a:srgbClr val="000099"/>
              </a:solidFill>
              <a:latin typeface="Tahom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Dogbert.greet() 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štampa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32640" indent="0"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“</a:t>
            </a: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I have options.”</a:t>
            </a: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       // Exec method </a:t>
            </a:r>
            <a:endParaRPr b="0" lang="en-US" sz="3000" spc="-1" strike="noStrike">
              <a:solidFill>
                <a:srgbClr val="000099"/>
              </a:solidFill>
              <a:latin typeface="Tahom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Pointy.greet() 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štampa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32640" indent="0"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“</a:t>
            </a: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I have pointy hair.”     // Mgr method </a:t>
            </a:r>
            <a:endParaRPr b="0" lang="en-US" sz="3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36E79-AE58-4C03-B6B2-A0FFA24E7464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E460CD-A7F0-4634-BC67-C25042C6071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Polimorfizam u Decaf-u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51920" y="838080"/>
            <a:ext cx="8991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74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Polimorfne f-ije (polymorphic) –  isto ime i signatura, ali različite implementacije u različitim podklasama.</a:t>
            </a:r>
            <a:endParaRPr b="0" lang="en-US" sz="30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374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cc"/>
                </a:solidFill>
                <a:latin typeface="Tahoma"/>
              </a:rPr>
              <a:t>npr. </a:t>
            </a:r>
            <a:r>
              <a:rPr b="1" lang="en-US" sz="3000" spc="-1" strike="noStrike">
                <a:solidFill>
                  <a:srgbClr val="3333cc"/>
                </a:solidFill>
                <a:latin typeface="Tahoma"/>
              </a:rPr>
              <a:t>init</a:t>
            </a:r>
            <a:r>
              <a:rPr b="0" lang="en-US" sz="3000" spc="-1" strike="noStrike">
                <a:solidFill>
                  <a:srgbClr val="3333cc"/>
                </a:solidFill>
                <a:latin typeface="Tahoma"/>
              </a:rPr>
              <a:t>, </a:t>
            </a:r>
            <a:r>
              <a:rPr b="1" lang="en-US" sz="3000" spc="-1" strike="noStrike">
                <a:solidFill>
                  <a:srgbClr val="3333cc"/>
                </a:solidFill>
                <a:latin typeface="Tahoma"/>
              </a:rPr>
              <a:t>getRaise</a:t>
            </a:r>
            <a:r>
              <a:rPr b="0" lang="en-US" sz="3000" spc="-1" strike="noStrike">
                <a:solidFill>
                  <a:srgbClr val="3333cc"/>
                </a:solidFill>
                <a:latin typeface="Tahoma"/>
              </a:rPr>
              <a:t>, </a:t>
            </a:r>
            <a:r>
              <a:rPr b="1" lang="en-US" sz="3000" spc="-1" strike="noStrike">
                <a:solidFill>
                  <a:srgbClr val="3333cc"/>
                </a:solidFill>
                <a:latin typeface="Tahoma"/>
              </a:rPr>
              <a:t>greet</a:t>
            </a:r>
            <a:r>
              <a:rPr b="0" lang="en-US" sz="3000" spc="-1" strike="noStrike">
                <a:solidFill>
                  <a:srgbClr val="3333cc"/>
                </a:solidFill>
                <a:latin typeface="Tahoma"/>
              </a:rPr>
              <a:t>, ali ne </a:t>
            </a:r>
            <a:r>
              <a:rPr b="1" lang="en-US" sz="3000" spc="-1" strike="noStrike">
                <a:solidFill>
                  <a:srgbClr val="3333cc"/>
                </a:solidFill>
                <a:latin typeface="Tahoma"/>
              </a:rPr>
              <a:t>layoff</a:t>
            </a:r>
            <a:endParaRPr b="0" lang="en-US" sz="3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374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Verzija podklase ima prednost u odnosu na nadređenu klasu ako se ime i formalni parametri potpuno poklapaju.</a:t>
            </a:r>
            <a:endParaRPr b="0" lang="en-US" sz="30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374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Decaf  f-ije su istinski polimorfne = virtuelne, dinamički dispatched.</a:t>
            </a:r>
            <a:endParaRPr b="0" lang="en-US" sz="30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374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Generičke, preopterećene (generics, overloaded) ista f-ija ili operator ima više implementacija za argumente različitih tipova.</a:t>
            </a:r>
            <a:endParaRPr b="0" lang="en-US" sz="3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22E16-7C09-40D8-B77E-DB806003F2CD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AFDC0B-B081-456D-A082-91DED0C0B14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Koncepti OO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Podsjetiti se OO programskih jezika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99"/>
                </a:solidFill>
                <a:latin typeface="Tahoma"/>
              </a:rPr>
              <a:t>čuvanje podataka zajedno sa funkcijama koje manpiulišu njima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 (modularnost i enkapsulacija)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pisanje opšteg koda kada je moguće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specijalizacija kada je neophodno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nasleđivanje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59243-5E54-4062-BCD1-E56F3D6A03EA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423925-276B-4F4F-8D05-19C307DAA40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Statička provjera tipa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28600" y="761760"/>
            <a:ext cx="861048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Izrazi koji uključuju objekat moraju biti kompatibilni sa statičkim tipom objekta: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Empl wally = new Drone();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Drone dilbert = new Drone();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dilbert.layoff();   // Drone metod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wally.layoff();      // </a:t>
            </a:r>
            <a:r>
              <a:rPr b="0" lang="en-US" sz="3200" spc="-1" strike="noStrike">
                <a:solidFill>
                  <a:srgbClr val="fc4122"/>
                </a:solidFill>
                <a:latin typeface="Tahoma"/>
              </a:rPr>
              <a:t>Greška!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wally je Drone u vrijeme izvršavanja ali je samo Empl u vrijeme kompajliranja. 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Semantička provjera za wally.layoff() daje grešku jer layoff nije član statičkog tipa za wally.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401A0-232E-4660-B674-2B1F6C390914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40299E-09FD-4370-9EEA-CCD4BFF4E28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Decaf semantička provjera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52280" y="685440"/>
            <a:ext cx="86868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Mgr pointy = new Exec();</a:t>
            </a:r>
            <a:endParaRPr b="0" lang="en-US" sz="3000" spc="-1" strike="noStrike">
              <a:solidFill>
                <a:srgbClr val="000099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pointy.greet()</a:t>
            </a:r>
            <a:endParaRPr b="0" lang="en-US" sz="3000" spc="-1" strike="noStrike">
              <a:solidFill>
                <a:srgbClr val="000099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Statička provjera:</a:t>
            </a:r>
            <a:endParaRPr b="0" lang="en-US" sz="3000" spc="-1" strike="noStrike">
              <a:solidFill>
                <a:srgbClr val="000099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cc"/>
                </a:solidFill>
                <a:latin typeface="Tahoma"/>
              </a:rPr>
              <a:t>Da li je metod greet </a:t>
            </a:r>
            <a:endParaRPr b="0" lang="en-US" sz="3000" spc="-1" strike="noStrike">
              <a:solidFill>
                <a:srgbClr val="000099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cc"/>
                </a:solidFill>
                <a:latin typeface="Tahoma"/>
              </a:rPr>
              <a:t>     </a:t>
            </a:r>
            <a:r>
              <a:rPr b="0" lang="en-US" sz="3000" spc="-1" strike="noStrike">
                <a:solidFill>
                  <a:srgbClr val="3333cc"/>
                </a:solidFill>
                <a:latin typeface="Tahoma"/>
              </a:rPr>
              <a:t>definisan u Mgr ili Empl.</a:t>
            </a:r>
            <a:endParaRPr b="0" lang="en-US" sz="3000" spc="-1" strike="noStrike">
              <a:solidFill>
                <a:srgbClr val="000099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Dinamički dispatch: </a:t>
            </a:r>
            <a:endParaRPr b="0" lang="en-US" sz="3000" spc="-1" strike="noStrike">
              <a:solidFill>
                <a:srgbClr val="000099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runtime tip za pointy je Exec, pa pointy.greet() je Exec::greet() i štampa  “I have options.”</a:t>
            </a:r>
            <a:endParaRPr b="0" lang="en-US" sz="3000" spc="-1" strike="noStrike">
              <a:solidFill>
                <a:srgbClr val="000099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Potrebno je generisati kod koji poziva ispravnu metodu greet.</a:t>
            </a:r>
            <a:endParaRPr b="0" lang="en-US" sz="3000" spc="-1" strike="noStrike">
              <a:solidFill>
                <a:srgbClr val="000099"/>
              </a:solidFill>
              <a:latin typeface="Tahoma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5830560" y="311760"/>
            <a:ext cx="3133080" cy="2943360"/>
            <a:chOff x="5830560" y="311760"/>
            <a:chExt cx="3133080" cy="2943360"/>
          </a:xfrm>
        </p:grpSpPr>
        <p:sp>
          <p:nvSpPr>
            <p:cNvPr id="95" name=""/>
            <p:cNvSpPr/>
            <p:nvPr/>
          </p:nvSpPr>
          <p:spPr>
            <a:xfrm>
              <a:off x="6698160" y="311760"/>
              <a:ext cx="1142280" cy="58140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cc"/>
                  </a:solidFill>
                  <a:latin typeface="Tahoma"/>
                </a:rPr>
                <a:t>Emp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589520" y="1530720"/>
              <a:ext cx="1374120" cy="58140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cc"/>
                  </a:solidFill>
                  <a:latin typeface="Tahoma"/>
                </a:rPr>
                <a:t>Dron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30560" y="2673720"/>
              <a:ext cx="1046520" cy="58140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cc"/>
                  </a:solidFill>
                  <a:latin typeface="Tahoma"/>
                </a:rPr>
                <a:t>Exe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1530720"/>
              <a:ext cx="966960" cy="58140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cc"/>
                  </a:solidFill>
                  <a:latin typeface="Tahoma"/>
                </a:rPr>
                <a:t>Mgr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99" name=""/>
            <p:cNvCxnSpPr>
              <a:stCxn id="98" idx="2"/>
              <a:endCxn id="97" idx="0"/>
            </p:cNvCxnSpPr>
            <p:nvPr/>
          </p:nvCxnSpPr>
          <p:spPr>
            <a:xfrm>
              <a:off x="6353280" y="2127240"/>
              <a:ext cx="2160" cy="53172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0" name=""/>
            <p:cNvCxnSpPr>
              <a:stCxn id="95" idx="2"/>
              <a:endCxn id="98" idx="0"/>
            </p:cNvCxnSpPr>
            <p:nvPr/>
          </p:nvCxnSpPr>
          <p:spPr>
            <a:xfrm flipH="1">
              <a:off x="6352920" y="907920"/>
              <a:ext cx="916560" cy="60840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1" name=""/>
            <p:cNvCxnSpPr>
              <a:stCxn id="95" idx="2"/>
              <a:endCxn id="96" idx="0"/>
            </p:cNvCxnSpPr>
            <p:nvPr/>
          </p:nvCxnSpPr>
          <p:spPr>
            <a:xfrm>
              <a:off x="7268760" y="907920"/>
              <a:ext cx="1008720" cy="60840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5EFED-46A8-4619-8562-B02DE74B6AB9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367C15-50AA-48CC-A719-4565FC73AD7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Kompatibilnost u Decaf-u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52280" y="685440"/>
            <a:ext cx="86868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Klase potomci klase P su uvijek kompatibilne sa klasom P.</a:t>
            </a:r>
            <a:endParaRPr b="0" lang="en-US" sz="3000" spc="-1" strike="noStrike">
              <a:solidFill>
                <a:srgbClr val="000099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bool  Exploitable (Empl e) {}</a:t>
            </a:r>
            <a:endParaRPr b="0" lang="en-US" sz="3000" spc="-1" strike="noStrike">
              <a:solidFill>
                <a:srgbClr val="000099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Empl wally = new Exec;  </a:t>
            </a: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  // OK</a:t>
            </a:r>
            <a:endParaRPr b="0" lang="en-US" sz="3000" spc="-1" strike="noStrike">
              <a:solidFill>
                <a:srgbClr val="000099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Exploitable(wally); </a:t>
            </a: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  </a:t>
            </a: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  // OK</a:t>
            </a:r>
            <a:endParaRPr b="0" lang="en-US" sz="3000" spc="-1" strike="noStrike">
              <a:solidFill>
                <a:srgbClr val="000099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Klasa nije kompatibilna sa svojim podklasama</a:t>
            </a:r>
            <a:endParaRPr b="0" lang="en-US" sz="3000" spc="-1" strike="noStrike">
              <a:solidFill>
                <a:srgbClr val="000099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Empl wally.layoff()</a:t>
            </a: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         </a:t>
            </a:r>
            <a:r>
              <a:rPr b="0" lang="en-US" sz="3000" spc="-1" strike="noStrike">
                <a:solidFill>
                  <a:srgbClr val="fc4122"/>
                </a:solidFill>
                <a:latin typeface="Tahoma"/>
              </a:rPr>
              <a:t>// Greška</a:t>
            </a:r>
            <a:endParaRPr b="0" lang="en-US" sz="3000" spc="-1" strike="noStrike">
              <a:solidFill>
                <a:srgbClr val="000099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Exec dogbert = new Mgr()     </a:t>
            </a:r>
            <a:r>
              <a:rPr b="0" lang="en-US" sz="3000" spc="-1" strike="noStrike">
                <a:solidFill>
                  <a:srgbClr val="fc4122"/>
                </a:solidFill>
                <a:latin typeface="Tahoma"/>
              </a:rPr>
              <a:t>// Greška</a:t>
            </a:r>
            <a:endParaRPr b="0" lang="en-US" sz="3000" spc="-1" strike="noStrike">
              <a:solidFill>
                <a:srgbClr val="000099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“</a:t>
            </a: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Rođačke” klase nisu kompatibilne u oba smjera:</a:t>
            </a:r>
            <a:endParaRPr b="0" lang="en-US" sz="3000" spc="-1" strike="noStrike">
              <a:solidFill>
                <a:srgbClr val="000099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Drone dilbert = new Mgr();    </a:t>
            </a:r>
            <a:r>
              <a:rPr b="0" lang="en-US" sz="3000" spc="-1" strike="noStrike">
                <a:solidFill>
                  <a:srgbClr val="fc4122"/>
                </a:solidFill>
                <a:latin typeface="Tahoma"/>
              </a:rPr>
              <a:t>// Greška</a:t>
            </a:r>
            <a:endParaRPr b="0" lang="en-US" sz="3000" spc="-1" strike="noStrike">
              <a:solidFill>
                <a:srgbClr val="000099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Exec dogbert = new Drone(); </a:t>
            </a:r>
            <a:r>
              <a:rPr b="0" lang="en-US" sz="3000" spc="-1" strike="noStrike">
                <a:solidFill>
                  <a:srgbClr val="fc4122"/>
                </a:solidFill>
                <a:latin typeface="Tahoma"/>
              </a:rPr>
              <a:t>// Greška</a:t>
            </a:r>
            <a:endParaRPr b="0" lang="en-US" sz="3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7EC52-0803-4B56-8D2F-EFB3052BE5A6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438446-1167-475C-8DC3-91547F60569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Interfejsi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52280" y="609120"/>
            <a:ext cx="876312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Šta ako klasa treba da ima svojstva više nepovezanih klasa?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spcBef>
                <a:spcPts val="75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cc"/>
                </a:solidFill>
                <a:latin typeface="Tahoma"/>
              </a:rPr>
              <a:t>U C++, višestruko nasleđivanje (multiple inheritance). Teško  za upotrebu, još teže za  implementaciju.</a:t>
            </a:r>
            <a:endParaRPr b="0" lang="en-US" sz="3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cc"/>
                </a:solidFill>
                <a:latin typeface="Tahoma"/>
              </a:rPr>
              <a:t>Java koristi interfejse (</a:t>
            </a:r>
            <a:r>
              <a:rPr b="0" i="1" lang="en-US" sz="3000" spc="-1" strike="noStrike">
                <a:solidFill>
                  <a:srgbClr val="3333cc"/>
                </a:solidFill>
                <a:latin typeface="Tahoma"/>
              </a:rPr>
              <a:t>interfaces</a:t>
            </a:r>
            <a:r>
              <a:rPr b="0" lang="en-US" sz="3000" spc="-1" strike="noStrike">
                <a:solidFill>
                  <a:srgbClr val="3333cc"/>
                </a:solidFill>
                <a:latin typeface="Tahoma"/>
              </a:rPr>
              <a:t>), kao i Decaf.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Interfejs (interface) je skup f-ija sa određenim tipovima signatura.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Implementacija interfejsa je obećanje da obezbijedimo tijela za te f-ije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7F665-7170-4F99-B619-618EA6E76DDE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2AA32F-4D29-42F2-A009-20A60C9A38D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Primjer interfejsa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520" y="685440"/>
            <a:ext cx="84582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Posmatrajmo interfejs 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 algn="just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interface Saveable {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 algn="just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WriteOut(file)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 algn="just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ReadIn(file) }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Svaka klasa koja implementira ove dvije f-ije  može sačuvati objekte na disk i ponovo ih učitati sa diska.  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Najčešće se koristi u Javi za grafičke rutine.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3A402-1BAF-4F75-9499-BB3D7CDA91BC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D6B232-6FF2-431F-9099-8CCE09C497A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Primjer interfejsa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240" y="762120"/>
            <a:ext cx="89154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class Empl  implements Saveable {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00cc66"/>
                </a:solidFill>
                <a:latin typeface="Tahoma"/>
              </a:rPr>
              <a:t>void init(int ID) { badge = id; }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66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00cc66"/>
                </a:solidFill>
                <a:latin typeface="Tahoma"/>
              </a:rPr>
              <a:t>void getRaise( salary = salary * 1.05; ) 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66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00cc66"/>
                </a:solidFill>
                <a:latin typeface="Tahoma"/>
              </a:rPr>
              <a:t>void greet { Print ”I have a job”; }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66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de3e12"/>
                </a:solidFill>
                <a:latin typeface="Tahoma"/>
              </a:rPr>
              <a:t>void WriteOut(file){ 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e3e12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de3e12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de3e12"/>
                </a:solidFill>
                <a:latin typeface="Tahoma"/>
              </a:rPr>
              <a:t>Print(file, “[ Empl [Badge ”)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e3e12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de3e12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de3e12"/>
                </a:solidFill>
                <a:latin typeface="Tahoma"/>
              </a:rPr>
              <a:t>Print(file, badge, “] [Salary “)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e3e12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de3e12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de3e12"/>
                </a:solidFill>
                <a:latin typeface="Tahoma"/>
              </a:rPr>
              <a:t>Print(file, salary, “] ]”)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e3e12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de3e12"/>
                </a:solidFill>
                <a:latin typeface="Tahoma"/>
              </a:rPr>
              <a:t>} 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e3e12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de3e12"/>
                </a:solidFill>
                <a:latin typeface="Tahoma"/>
              </a:rPr>
              <a:t>void ReadIn. . . .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c800c8"/>
                </a:solidFill>
                <a:latin typeface="Tahoma"/>
              </a:rPr>
              <a:t>int badge;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00c8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c800c8"/>
                </a:solidFill>
                <a:latin typeface="Tahoma"/>
              </a:rPr>
              <a:t>double salary;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 }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221EE-8CF5-47BD-95DD-4F47B1177053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501E31-4A5C-43BA-B749-321B59727CB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Primjer interfejsa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240" y="609120"/>
            <a:ext cx="891540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class Drone  {  // don’t have to repeat it?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00cc66"/>
                </a:solidFill>
                <a:latin typeface="Tahoma"/>
              </a:rPr>
              <a:t>void init(int ID) { badge = id; salary = 1; cube = 5; }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66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00cc66"/>
                </a:solidFill>
                <a:latin typeface="Tahoma"/>
              </a:rPr>
              <a:t>void getRaise( salary = salary * 1.01; ) 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66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00cc66"/>
                </a:solidFill>
                <a:latin typeface="Tahoma"/>
              </a:rPr>
              <a:t>void greet { Print ”I work in a box”; }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66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de3e12"/>
                </a:solidFill>
                <a:latin typeface="Tahoma"/>
              </a:rPr>
              <a:t>void WriteOut(file){ 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e3e12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de3e12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de3e12"/>
                </a:solidFill>
                <a:latin typeface="Tahoma"/>
              </a:rPr>
              <a:t>Print(file, “[ Drone [Badge ”)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e3e12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de3e12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de3e12"/>
                </a:solidFill>
                <a:latin typeface="Tahoma"/>
              </a:rPr>
              <a:t>Print(file, badge, “] [Salary ”)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e3e12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de3e12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de3e12"/>
                </a:solidFill>
                <a:latin typeface="Tahoma"/>
              </a:rPr>
              <a:t>Print(file, salary, “] [Cube ”)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e3e12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de3e12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de3e12"/>
                </a:solidFill>
                <a:latin typeface="Tahoma"/>
              </a:rPr>
              <a:t>Print(file, cube, “ ] ] ”)   }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de3e12"/>
                </a:solidFill>
                <a:latin typeface="Tahoma"/>
              </a:rPr>
              <a:t>void ReadIn. . . .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00c8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c800c8"/>
                </a:solidFill>
                <a:latin typeface="Tahoma"/>
              </a:rPr>
              <a:t>int badge;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00c8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c800c8"/>
                </a:solidFill>
                <a:latin typeface="Tahoma"/>
              </a:rPr>
              <a:t>double salary;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int cube; }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3DC98-1786-4E98-954D-FA8C8B314A88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2925A2-4B68-4692-B665-E27A090D193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Semantika interfejsa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Interfejs je implementiran u klasi.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Ime interfejsa je ime tipa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Klasa koja implementira interfejs je kompatibilna sa interfejsom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Na primjer.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void computeStorage (Saveable d);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class Empl implements Saveable { … }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class Drone extends Empl { … }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Empl wally = new Drone();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computeStorage (wally); // OK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E611E-CF44-4750-BA2D-31EE431E07A8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C2332D-138E-43BC-8CB2-080BF80282E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C++ primjer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class Base { public: virtual int vf (void); };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Base *bp = /* pointer to a subclass */;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bp-&gt;vf ();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class Derived : public Base {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public: virtual int vf (void); };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Derived d;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bp = &amp;d;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bp-&gt;vf (); // invokes Derived::vf()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2FDEA-3FBB-4207-90E5-06761DD0AF1A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4F34AB-78AB-4C0E-907E-0B53A196D99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C++ primjer</a:t>
            </a:r>
            <a:r>
              <a:rPr b="0" lang="sr-Latn-CS" sz="4000" spc="-1" strike="noStrike">
                <a:solidFill>
                  <a:srgbClr val="000099"/>
                </a:solidFill>
                <a:latin typeface="Tahoma"/>
              </a:rPr>
              <a:t> (2)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truct Base {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virtual int vf1 (void) f cout &lt;&lt; "hello\n"; g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int f1 (void);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truct Derived1 : public Base {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virtual int vf1 (void) { cout &lt;&lt; "world\n"; }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9D30B-0450-497E-A178-C2839FDA67B1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A32223-D385-4C5A-BF3F-13096E97D6D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Java, C++ i Decaf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520" y="914040"/>
            <a:ext cx="84582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Klasa ima podatke i f-ije kao članove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Podklasa proširuje (extend) roditeljsku klasu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Podklasa (subclass) nasleđuje sve podatke i f-ije od nadklase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Podklasa može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pecijalizovati se za svoj  tip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odati još podataka i funkcija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verride f-ije sa istim imenom i signaturo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Promjenljive Class (type) su </a:t>
            </a:r>
            <a:r>
              <a:rPr b="0" i="1" lang="en-US" sz="3200" spc="-1" strike="noStrike">
                <a:solidFill>
                  <a:srgbClr val="000099"/>
                </a:solidFill>
                <a:latin typeface="Tahoma"/>
              </a:rPr>
              <a:t>objekti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8CCF4-3287-4E72-A4B9-95DF59E61E0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1327FC-2BBD-4DD1-864C-BDED8FBDCD2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C++ primjer</a:t>
            </a:r>
            <a:r>
              <a:rPr b="0" lang="sr-Latn-CS" sz="4000" spc="-1" strike="noStrike">
                <a:solidFill>
                  <a:srgbClr val="000099"/>
                </a:solidFill>
                <a:latin typeface="Tahoma"/>
              </a:rPr>
              <a:t> (3)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truct Derived2 : public Derived1 {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// Still a virtual: : :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int vf1 (void) { cout &lt;&lt; "hello world\n"; }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int f1 (void); // not virtual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truct Derived3 : public Derived2 {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virtual int vf2 (int);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// diferent from vf1!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virtual int vf1 (int); // Be careful!!!!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CD5DF-E679-4EEA-96CB-5ACFB4A882A6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651696-4FF3-4AD3-9689-798158256A3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C++ primjer</a:t>
            </a:r>
            <a:r>
              <a:rPr b="0" lang="sr-Latn-CS" sz="4000" spc="-1" strike="noStrike">
                <a:solidFill>
                  <a:srgbClr val="000099"/>
                </a:solidFill>
                <a:latin typeface="Tahoma"/>
              </a:rPr>
              <a:t> (4)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void foo (Base *bp) {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bp-&gt;vf1 (); // virtual function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Base b;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Base *bp = &amp;b;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bp-&gt;vf1 (); // prints "hello"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Derived1 d;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bp = &amp;d;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bp-&gt;vf1 (); // prints "world"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foo (&amp;b); // prints "hello"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foo (&amp;d); // prints "world"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FA3FC-DCEF-42BA-963A-23375BF7FD7E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C60B5C-EE9B-46B6-9BFA-8D9C7208628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Poka</a:t>
            </a:r>
            <a:r>
              <a:rPr b="0" lang="sr-Latn-CS" sz="4000" spc="-1" strike="noStrike">
                <a:solidFill>
                  <a:srgbClr val="000099"/>
                </a:solidFill>
                <a:latin typeface="Tahoma"/>
              </a:rPr>
              <a:t>zivač this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 Unicode MS"/>
              </a:rPr>
              <a:t>Class Date { 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Arial Unicode MS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Arial Unicode MS"/>
              </a:rPr>
              <a:t>public : int year, month, day;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 Unicode MS"/>
              </a:rPr>
              <a:t>};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Arial Unicode MS"/>
              </a:rPr>
              <a:t>this je adresa samog objekta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 Unicode MS"/>
              </a:rPr>
              <a:t>// Primjer this pokaziva</a:t>
            </a:r>
            <a:r>
              <a:rPr b="0" lang="sr-Latn-CS" sz="3200" spc="-1" strike="noStrike">
                <a:solidFill>
                  <a:srgbClr val="000099"/>
                </a:solidFill>
                <a:latin typeface="Arial Unicode MS"/>
              </a:rPr>
              <a:t>č</a:t>
            </a:r>
            <a:r>
              <a:rPr b="0" lang="en-US" sz="3200" spc="-1" strike="noStrike">
                <a:solidFill>
                  <a:srgbClr val="000099"/>
                </a:solidFill>
                <a:latin typeface="Arial Unicode MS"/>
              </a:rPr>
              <a:t>a 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 Unicode MS"/>
              </a:rPr>
              <a:t>Date::setMonth( int mn ) { 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Arial Unicode MS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Arial Unicode MS"/>
              </a:rPr>
              <a:t>month = mn; // </a:t>
            </a:r>
            <a:r>
              <a:rPr b="0" lang="sr-Latn-CS" sz="3200" spc="-1" strike="noStrike">
                <a:solidFill>
                  <a:srgbClr val="000099"/>
                </a:solidFill>
                <a:latin typeface="Arial Unicode MS"/>
              </a:rPr>
              <a:t>3 ekvivalentne</a:t>
            </a:r>
            <a:r>
              <a:rPr b="0" lang="en-US" sz="3200" spc="-1" strike="noStrike">
                <a:solidFill>
                  <a:srgbClr val="000099"/>
                </a:solidFill>
                <a:latin typeface="Arial Unicode MS"/>
              </a:rPr>
              <a:t> </a:t>
            </a:r>
            <a:r>
              <a:rPr b="0" lang="sr-Latn-CS" sz="3200" spc="-1" strike="noStrike">
                <a:solidFill>
                  <a:srgbClr val="000099"/>
                </a:solidFill>
                <a:latin typeface="Arial Unicode MS"/>
              </a:rPr>
              <a:t>naredbe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Arial Unicode MS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Arial Unicode MS"/>
              </a:rPr>
              <a:t>this-&gt;month = mn; 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Arial Unicode MS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Arial Unicode MS"/>
              </a:rPr>
              <a:t>(*this).month = mn; }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7A013-2A00-432C-B28D-76B55BAB59BD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B02297-9ED9-41D6-9945-3A554AA66E5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Primjer Decaf hijerarhije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520" y="685440"/>
            <a:ext cx="84582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class Empl  {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394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00cc66"/>
                </a:solidFill>
                <a:latin typeface="Tahoma"/>
              </a:rPr>
              <a:t>void init(int ID) {}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394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66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00cc66"/>
                </a:solidFill>
                <a:latin typeface="Tahoma"/>
              </a:rPr>
              <a:t>void getRaise() 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394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66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00cc66"/>
                </a:solidFill>
                <a:latin typeface="Tahoma"/>
              </a:rPr>
              <a:t>void greet { Print ”I have a job”; }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394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c800c8"/>
                </a:solidFill>
                <a:latin typeface="Tahoma"/>
              </a:rPr>
              <a:t>int badge;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394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00c8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c800c8"/>
                </a:solidFill>
                <a:latin typeface="Tahoma"/>
              </a:rPr>
              <a:t>double salary;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}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394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Tahoma"/>
            </a:endParaRPr>
          </a:p>
          <a:p>
            <a:pPr marL="3394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class Mgr extends Empl {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394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00cc66"/>
                </a:solidFill>
                <a:latin typeface="Tahoma"/>
              </a:rPr>
              <a:t>void init(int ID) {}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394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66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00cc66"/>
                </a:solidFill>
                <a:latin typeface="Tahoma"/>
              </a:rPr>
              <a:t>void getRaise()  {}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394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66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00cc66"/>
                </a:solidFill>
                <a:latin typeface="Tahoma"/>
              </a:rPr>
              <a:t>void greet { Print ”I have pointy hair”; }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394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c800c8"/>
                </a:solidFill>
                <a:latin typeface="Tahoma"/>
              </a:rPr>
              <a:t>int options;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}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6640920" y="891000"/>
            <a:ext cx="1142280" cy="58140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Emp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727680" y="2140560"/>
            <a:ext cx="966960" cy="58140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Mg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1" name=""/>
          <p:cNvCxnSpPr>
            <a:stCxn id="49" idx="2"/>
            <a:endCxn id="50" idx="0"/>
          </p:cNvCxnSpPr>
          <p:nvPr/>
        </p:nvCxnSpPr>
        <p:spPr>
          <a:xfrm>
            <a:off x="7211520" y="1487160"/>
            <a:ext cx="1080" cy="63900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0086B-0CF8-4DF4-B83F-0AD458AA8CF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2EEDFD-44EE-4364-90D0-C1A6BB95009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Primjer Decaf hijerarhije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104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class Exec extends Mgr {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00cc66"/>
                </a:solidFill>
                <a:latin typeface="Tahoma"/>
              </a:rPr>
              <a:t>void init (int ID) {}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66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00cc66"/>
                </a:solidFill>
                <a:latin typeface="Tahoma"/>
              </a:rPr>
              <a:t>void getRaise()   {}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66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00cc66"/>
                </a:solidFill>
                <a:latin typeface="Tahoma"/>
              </a:rPr>
              <a:t>void greet { 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66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cc66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cc66"/>
                </a:solidFill>
                <a:latin typeface="Tahoma"/>
              </a:rPr>
              <a:t>Print ”I have options.”; }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00c8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c800c8"/>
                </a:solidFill>
                <a:latin typeface="Tahoma"/>
              </a:rPr>
              <a:t>int boats;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}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class Drone extends Empl {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00cc66"/>
                </a:solidFill>
                <a:latin typeface="Tahoma"/>
              </a:rPr>
              <a:t>void init(int ID) {}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66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00cc66"/>
                </a:solidFill>
                <a:latin typeface="Tahoma"/>
              </a:rPr>
              <a:t>void getRaise()  {}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66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00cc66"/>
                </a:solidFill>
                <a:latin typeface="Tahoma"/>
              </a:rPr>
              <a:t>void greet { Print ”I work in a box.”; }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66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void layoff()    {}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00c8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c800c8"/>
                </a:solidFill>
                <a:latin typeface="Tahoma"/>
              </a:rPr>
              <a:t>int cube;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}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5830560" y="921240"/>
            <a:ext cx="3133080" cy="2943360"/>
            <a:chOff x="5830560" y="921240"/>
            <a:chExt cx="3133080" cy="2943360"/>
          </a:xfrm>
        </p:grpSpPr>
        <p:sp>
          <p:nvSpPr>
            <p:cNvPr id="55" name=""/>
            <p:cNvSpPr/>
            <p:nvPr/>
          </p:nvSpPr>
          <p:spPr>
            <a:xfrm>
              <a:off x="6698160" y="921240"/>
              <a:ext cx="1142280" cy="58140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cc"/>
                  </a:solidFill>
                  <a:latin typeface="Tahoma"/>
                </a:rPr>
                <a:t>Emp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7589520" y="2140200"/>
              <a:ext cx="1374120" cy="58140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cc"/>
                  </a:solidFill>
                  <a:latin typeface="Tahoma"/>
                </a:rPr>
                <a:t>Dron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5830560" y="3283200"/>
              <a:ext cx="1046520" cy="58140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cc"/>
                  </a:solidFill>
                  <a:latin typeface="Tahoma"/>
                </a:rPr>
                <a:t>Exe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869080" y="2140200"/>
              <a:ext cx="966960" cy="58140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cc"/>
                  </a:solidFill>
                  <a:latin typeface="Tahoma"/>
                </a:rPr>
                <a:t>Mgr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9" name=""/>
            <p:cNvCxnSpPr>
              <a:stCxn id="58" idx="2"/>
              <a:endCxn id="57" idx="0"/>
            </p:cNvCxnSpPr>
            <p:nvPr/>
          </p:nvCxnSpPr>
          <p:spPr>
            <a:xfrm>
              <a:off x="6353280" y="2736720"/>
              <a:ext cx="2160" cy="53172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0" name=""/>
            <p:cNvCxnSpPr>
              <a:stCxn id="55" idx="2"/>
              <a:endCxn id="58" idx="0"/>
            </p:cNvCxnSpPr>
            <p:nvPr/>
          </p:nvCxnSpPr>
          <p:spPr>
            <a:xfrm flipH="1">
              <a:off x="6352920" y="1517400"/>
              <a:ext cx="916560" cy="60840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1" name=""/>
            <p:cNvCxnSpPr>
              <a:stCxn id="55" idx="2"/>
              <a:endCxn id="56" idx="0"/>
            </p:cNvCxnSpPr>
            <p:nvPr/>
          </p:nvCxnSpPr>
          <p:spPr>
            <a:xfrm>
              <a:off x="7268760" y="1517400"/>
              <a:ext cx="1008720" cy="60840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F709C-1E16-4EE6-A2F3-673420A7FBB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270830-DB29-4BB5-8175-AEC1539C259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Naslijeđeni i novi članovi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Drone ima: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66"/>
                </a:solidFill>
                <a:latin typeface="Tahoma"/>
              </a:rPr>
              <a:t>void init(int ID) {}   Overridden od Empl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66"/>
                </a:solidFill>
                <a:latin typeface="Tahoma"/>
              </a:rPr>
              <a:t>void getRaise() {}</a:t>
            </a:r>
            <a:r>
              <a:rPr b="0" lang="en-US" sz="3200" spc="-1" strike="noStrike">
                <a:solidFill>
                  <a:srgbClr val="00cc66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cc66"/>
                </a:solidFill>
                <a:latin typeface="Tahoma"/>
              </a:rPr>
              <a:t> Overridden od Empl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66"/>
                </a:solidFill>
                <a:latin typeface="Tahoma"/>
              </a:rPr>
              <a:t>void greet() {}</a:t>
            </a:r>
            <a:r>
              <a:rPr b="0" lang="en-US" sz="3200" spc="-1" strike="noStrike">
                <a:solidFill>
                  <a:srgbClr val="00cc66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cc66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cc66"/>
                </a:solidFill>
                <a:latin typeface="Tahoma"/>
              </a:rPr>
              <a:t> Overridden od Empl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void layoff() {}     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Definisan u Drone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00c8"/>
                </a:solidFill>
                <a:latin typeface="Tahoma"/>
              </a:rPr>
              <a:t>int badge;</a:t>
            </a:r>
            <a:r>
              <a:rPr b="0" lang="en-US" sz="3200" spc="-1" strike="noStrike">
                <a:solidFill>
                  <a:srgbClr val="c800c8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c800c8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c800c8"/>
                </a:solidFill>
                <a:latin typeface="Tahoma"/>
              </a:rPr>
              <a:t> Naslijeđen iz Empl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00c8"/>
                </a:solidFill>
                <a:latin typeface="Tahoma"/>
              </a:rPr>
              <a:t>double salary;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800c8"/>
                </a:solidFill>
                <a:latin typeface="Tahoma"/>
              </a:rPr>
              <a:t>Naslijeđen iz Empl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00c8"/>
                </a:solidFill>
                <a:latin typeface="Tahoma"/>
              </a:rPr>
              <a:t>int cube;</a:t>
            </a:r>
            <a:r>
              <a:rPr b="0" lang="en-US" sz="3200" spc="-1" strike="noStrike">
                <a:solidFill>
                  <a:srgbClr val="c800c8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c800c8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c800c8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c800c8"/>
                </a:solidFill>
                <a:latin typeface="Tahoma"/>
              </a:rPr>
              <a:t> Definisan u Drone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377DA-1F76-4586-BC53-1A510E3FD8D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3B295A-FC70-4383-B838-13E922489E2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Naslijeđeni i novi članovi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Exec ima: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66"/>
                </a:solidFill>
                <a:latin typeface="Tahoma"/>
              </a:rPr>
              <a:t>void init(int ID) {}   Overridden od Empl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66"/>
                </a:solidFill>
                <a:latin typeface="Tahoma"/>
              </a:rPr>
              <a:t>void getRaise()  {}</a:t>
            </a:r>
            <a:r>
              <a:rPr b="0" lang="en-US" sz="3200" spc="-1" strike="noStrike">
                <a:solidFill>
                  <a:srgbClr val="00cc66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cc66"/>
                </a:solidFill>
                <a:latin typeface="Tahoma"/>
              </a:rPr>
              <a:t> Overridden od Empl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66"/>
                </a:solidFill>
                <a:latin typeface="Tahoma"/>
              </a:rPr>
              <a:t>void greet() {}</a:t>
            </a:r>
            <a:r>
              <a:rPr b="0" lang="en-US" sz="3200" spc="-1" strike="noStrike">
                <a:solidFill>
                  <a:srgbClr val="00cc66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cc66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cc66"/>
                </a:solidFill>
                <a:latin typeface="Tahoma"/>
              </a:rPr>
              <a:t> Overridden od Empl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00c8"/>
                </a:solidFill>
                <a:latin typeface="Tahoma"/>
              </a:rPr>
              <a:t>int badge;</a:t>
            </a:r>
            <a:r>
              <a:rPr b="0" lang="en-US" sz="3200" spc="-1" strike="noStrike">
                <a:solidFill>
                  <a:srgbClr val="c800c8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c800c8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c800c8"/>
                </a:solidFill>
                <a:latin typeface="Tahoma"/>
              </a:rPr>
              <a:t> Naslijeđen od Empl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00c8"/>
                </a:solidFill>
                <a:latin typeface="Tahoma"/>
              </a:rPr>
              <a:t>double salary;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800c8"/>
                </a:solidFill>
                <a:latin typeface="Tahoma"/>
              </a:rPr>
              <a:t>Naslijeđen od Empl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00c8"/>
                </a:solidFill>
                <a:latin typeface="Tahoma"/>
              </a:rPr>
              <a:t>int options;</a:t>
            </a:r>
            <a:r>
              <a:rPr b="0" lang="en-US" sz="3200" spc="-1" strike="noStrike">
                <a:solidFill>
                  <a:srgbClr val="c800c8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c800c8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c800c8"/>
                </a:solidFill>
                <a:latin typeface="Tahoma"/>
              </a:rPr>
              <a:t> Naslijeđen od Mgr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00c8"/>
                </a:solidFill>
                <a:latin typeface="Tahoma"/>
              </a:rPr>
              <a:t>int boats;</a:t>
            </a:r>
            <a:r>
              <a:rPr b="0" lang="en-US" sz="3200" spc="-1" strike="noStrike">
                <a:solidFill>
                  <a:srgbClr val="c800c8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c800c8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c800c8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c800c8"/>
                </a:solidFill>
                <a:latin typeface="Tahoma"/>
              </a:rPr>
              <a:t> Definisan u Exec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8FC40-921F-4ACF-90B1-692D223AEA1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819D37-C1BE-41F6-9B62-9A67DD46C80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Decaf - pojednostavljenja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Java, C++: public, protected, private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Decaf - svi podaci su protected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ože im se pristupiti samo iz klase i njenih podklasa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Sve Decaf funkcije su public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ože ih svako pozvati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Nema konstruktora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Nasleđivanje (inheritance) je public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++ : class Drone:  public Empl { }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CBA21-EBE3-43EE-BE78-6FDA3FD94AF5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6581B4-43BC-4671-94F4-785E6349B83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Primjer Decaf objekata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52280" y="609480"/>
            <a:ext cx="883944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Drone dilbert;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// tip je Drone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Mgr pointy;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      // tip je Mgr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Empl wally;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        // tip je Empl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Exec dogbert; 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// tip je Exec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dilbert.Init (143);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pointy.Init (17);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wally.Init (0);     // Šta radi ovaj radnik?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Pristup članovima klase: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lvl="1" marL="735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dilbert.salary = 5;  </a:t>
            </a:r>
            <a:r>
              <a:rPr b="0" lang="en-US" sz="2600" spc="-1" strike="noStrike">
                <a:solidFill>
                  <a:srgbClr val="fc4122"/>
                </a:solidFill>
                <a:latin typeface="Tahoma"/>
              </a:rPr>
              <a:t>// Pogrešno u Decaf-u</a:t>
            </a:r>
            <a:endParaRPr b="0" lang="en-US" sz="26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Moraju postojati accessor funkcije: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lvl="1" marL="735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Class Empl { void setpay(int pay) { salary = pay; } </a:t>
            </a:r>
            <a:endParaRPr b="0" lang="en-US" sz="26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      </a:t>
            </a: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int getpay(void)       { return salary; }  }</a:t>
            </a:r>
            <a:endParaRPr b="0" lang="en-US" sz="2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CFF4F-758F-4FAD-8139-CFC6DA547E0A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00F372-BEE9-4F61-A8AA-DCE4929E079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5T08:15:37Z</dcterms:created>
  <dc:creator>Godmar Back</dc:creator>
  <dc:description/>
  <dc:language>en-US</dc:language>
  <cp:lastModifiedBy>Goran</cp:lastModifiedBy>
  <dcterms:modified xsi:type="dcterms:W3CDTF">2009-11-07T11:49:22Z</dcterms:modified>
  <cp:revision>4678</cp:revision>
  <dc:subject/>
  <dc:title>Welcome to CS143</dc:title>
</cp:coreProperties>
</file>