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E7CA-2D1B-421F-B9BE-16B1A13EE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40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FAE5-045F-40E0-B210-C76841C3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456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9EDD-C8DB-4AAD-B634-20B79D39D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056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056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06BB-F098-4706-82EC-C24567D90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24B4-FB59-4218-86CC-0D80276A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71E8-985B-4BBF-8759-840DF865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B4C3-4D06-423E-9A61-3482E0A4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E1D8-4AC8-49F4-98BC-52ECA770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043D-19C1-4C63-B5C5-5FD63463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A774-C039-48C7-8AAB-D08E6213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456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FD8A-C226-48B9-9CC5-067D274F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AD9E-9BA5-4244-BDDB-7C98B0FE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48320" y="6552720"/>
            <a:ext cx="2666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552720"/>
            <a:ext cx="4191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67120" y="6552720"/>
            <a:ext cx="1676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1238-42CD-4FA2-9284-5FB16C688B79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 gramatike- pregled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Gramatike koje gener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šu LR jezik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Reg </a:t>
            </a:r>
            <a:r>
              <a:rPr b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R(0) </a:t>
            </a:r>
            <a:r>
              <a:rPr b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SLR(1) </a:t>
            </a:r>
            <a:r>
              <a:rPr b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ALR(1) </a:t>
            </a:r>
            <a:r>
              <a:rPr b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R(1) </a:t>
            </a:r>
            <a:r>
              <a:rPr b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CFG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zgradnj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parser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o gramatikama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Različite gramatike su pogodne za različite tehnike parsiranja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(Regular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i izrazi su "dobri"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za skener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84D9-188D-4D27-9E12-C27C14864A9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72FD03-4EF3-4CAE-8F78-2D7E5CB681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Da li je spajanje bezbjedno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emoguće je da se pojav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hift-reduce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nfl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Moguće je da se pojav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reduce-reduce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nfl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ko postoji k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nfli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gram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tike nij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ALR,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po definiciji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lgorit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m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za konstrukciju tabel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defin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š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LALR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ko tabela dobijena primjenom algoritma konstrukicje ne sadfrži konflikte, tada je gramatik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ALR(1)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C2DA-AA49-4740-A5B9-7E5BFEC23A4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6EABA3-F43A-4700-BE2E-B8D218B9938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S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hift-reduce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onfli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t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i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Zamislit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ALR s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up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I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hift-reduce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nfl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om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X -&gt; uA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v , look1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X -&gt; uA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look2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ako su ova dva itema došla u isti skup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pajamo stanja sa istim jezgrom, p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X -&gt; uA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v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i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X -&gt; uA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u već u istom skupu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683D-976E-439C-92D9-E254A44AA4A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BFB7DB-03A8-4B06-95A2-BDCCAE1B40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R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educe-reduce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onfli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t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osmatrajmo sledeće skupov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In     =  { X -&gt; u </a:t>
            </a:r>
            <a:r>
              <a:rPr b="0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, a   ;  Y -&gt; u </a:t>
            </a:r>
            <a:r>
              <a:rPr b="0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, b }</a:t>
            </a:r>
            <a:endParaRPr b="0" lang="en-US" sz="26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Im    =  { X -&gt; u </a:t>
            </a:r>
            <a:r>
              <a:rPr b="0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, b   ;  Y -&gt; u </a:t>
            </a:r>
            <a:r>
              <a:rPr b="0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, a }</a:t>
            </a:r>
            <a:endParaRPr b="0" lang="en-US" sz="26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ko su u različitim stanjim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sve je OK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Spajanjem dobijamo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Inm  =  { X -&gt; u </a:t>
            </a:r>
            <a:r>
              <a:rPr b="0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, a/b ;  Y -&gt; u </a:t>
            </a:r>
            <a:r>
              <a:rPr b="0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, a/b }</a:t>
            </a:r>
            <a:endParaRPr b="0" lang="en-US" sz="26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Spajanje dovodi do konflikta, p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G n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j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ALR(1)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Pitanje: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z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š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o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 ne raditi spajanja osim u ovakvom slučaju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? 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Zar to ne bi napravilo algoritam primjenljivijim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5D5C-D862-4B1B-93D8-863AA7CDCD7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4E4989-4ED7-4106-9206-F75700F56EE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onstrukcija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ALR(1) tab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nstru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šemo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t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ja primjenom algoritma spajanja n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LR(1) st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j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In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Im  Inm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rute force”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konstruk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ija tabele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Postoje bolji načini z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mplement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ciju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je odgovaraju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lookahead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-ovim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st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# st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ja kao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LR(1),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vjerovatno će biti više akcij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uccessor(Inm) = un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j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uccessor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z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In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Im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oristi s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R(1) alg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or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it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m za tabelu akcija i prelazak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A6D8-4787-4D71-9EBC-347FDFCADF8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898D8E-03B3-4294-9199-B31E3B58C41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r "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brute force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"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28600" y="762120"/>
          <a:ext cx="6835680" cy="5686200"/>
        </p:xfrm>
        <a:graphic>
          <a:graphicData uri="http://schemas.openxmlformats.org/drawingml/2006/table">
            <a:tbl>
              <a:tblPr/>
              <a:tblGrid>
                <a:gridCol w="1295280"/>
                <a:gridCol w="1067040"/>
                <a:gridCol w="1143000"/>
                <a:gridCol w="1295280"/>
                <a:gridCol w="1066680"/>
                <a:gridCol w="968400"/>
              </a:tblGrid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t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a</a:t>
                      </a:r>
                      <a:r>
                        <a:rPr b="0" lang="sr-Latn-C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A</a:t>
                      </a:r>
                      <a:r>
                        <a:rPr b="0" lang="sr-Latn-C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k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i</a:t>
                      </a:r>
                      <a:r>
                        <a:rPr b="0" lang="sr-Latn-C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j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Prelasc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$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s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s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s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r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s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r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accep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7391520" y="685800"/>
            <a:ext cx="1523880" cy="16779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' –&gt; 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 –&gt; X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 –&gt; aX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  –&gt; b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5105520"/>
            <a:ext cx="3733920" cy="136440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R(1) tab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Kandidati za spajanj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3&amp;6, 4&amp;7, 8&amp;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2DAA-656A-46D3-B4A1-17D3406BF79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7D7A18-77F7-458B-87E6-85D3FBAAC0B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r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brute force 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28600" y="762120"/>
          <a:ext cx="6835680" cy="4265640"/>
        </p:xfrm>
        <a:graphic>
          <a:graphicData uri="http://schemas.openxmlformats.org/drawingml/2006/table">
            <a:tbl>
              <a:tblPr/>
              <a:tblGrid>
                <a:gridCol w="1295280"/>
                <a:gridCol w="1067040"/>
                <a:gridCol w="1143000"/>
                <a:gridCol w="1295280"/>
                <a:gridCol w="1066680"/>
                <a:gridCol w="968400"/>
              </a:tblGrid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t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a</a:t>
                      </a:r>
                      <a:r>
                        <a:rPr b="0" lang="sr-Latn-C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A</a:t>
                      </a:r>
                      <a:r>
                        <a:rPr b="0" lang="sr-Latn-C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k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i</a:t>
                      </a:r>
                      <a:r>
                        <a:rPr b="0" lang="sr-Latn-C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j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Prelasc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$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3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4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8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3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3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3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4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4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4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accep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8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7391520" y="685800"/>
            <a:ext cx="1523880" cy="16779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' –&gt; 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 –&gt; X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 –&gt; aX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  –&gt; b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4120" y="4343400"/>
            <a:ext cx="3276360" cy="12819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ALR(1) tab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3 spojena stanja, ne postoje konflikti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B473-2558-4168-8D1E-A68B86388CB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2223B4-DC42-4ADB-9691-8C735B6AC4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onstru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c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ija korak po korak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ko se prvo grad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R(1) s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upov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, p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ća se cijena konstrukcije z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R(1)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Ušteda je u izvršavanju, jer je tabela manja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Bolji način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: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zgradnja i spajanje istovremeno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Osnovn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ide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j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a: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u trenutku dodavanja novog skup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Uporediti njegovo jezgro sa postojećim jezgrima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Ako se poklap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sa postojećim jezgrom, item dodajemo u taj skup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9AE6-3D48-4E3B-BBFA-D0E310A3B4F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25A86F-FDA6-4D53-9797-4A8A9E1C6D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r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orak po korak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51814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Sledeće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sta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nje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, I11,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je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{ E </a:t>
            </a:r>
            <a:r>
              <a:rPr b="0" lang="en-US" sz="2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F </a:t>
            </a:r>
            <a:r>
              <a:rPr b="0" lang="en-US" sz="26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,  ) / + }</a:t>
            </a:r>
            <a:endParaRPr b="0" lang="en-US" sz="26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Isto jezgro kao i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I6,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pa ih kombinujemo u </a:t>
            </a:r>
            <a:endParaRPr b="0" lang="en-US" sz="26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I611: { E -&gt; F </a:t>
            </a:r>
            <a:r>
              <a:rPr b="0" lang="en-US" sz="26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, $ / + / ) }</a:t>
            </a:r>
            <a:endParaRPr b="0" lang="en-US" sz="26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762120"/>
            <a:ext cx="8610480" cy="45972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’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;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=E  ;  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 | E+F  ;  F -&gt; V | int | (E)  ;  V -&gt;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0" y="1523880"/>
          <a:ext cx="9143640" cy="342900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  <a:gridCol w="3047760"/>
              </a:tblGrid>
              <a:tr h="34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0: S'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S,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V = E,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V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d, 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1: S' -&gt; S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2: S' -&gt; V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= E,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3: V -&gt; id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4: S -&gt; V =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E,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F, $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E + F, $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V, $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nt, $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E), $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V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d, $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5: S -&gt; V = E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E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+ F, $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6: E -&gt; F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$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7: F-&gt; V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$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8: F-&gt; int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$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9: F-&gt; (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E), $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F, )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E + F, )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V, )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nt, )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E), )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V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d )/+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10: F-&gt; (E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), $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E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+ F, )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AD06-163A-4384-A9AE-DA48389000A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EB2501-0B21-4A50-AEF9-97C6D9D93C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Da li je korak po korak bolj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Da li je korak po korak metroda (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tep-by-step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nstru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je tabele bolja od metod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"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brute force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"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Da li je potrebno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(n</a:t>
            </a:r>
            <a:r>
              <a:rPr b="0" lang="en-US" sz="36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)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za upoređivanje svih jezgar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ako efikasno implementirati ovaj metod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9C0E-7B21-4883-9F69-5033D9B057D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AEA8BE-4844-4E11-9DD9-AB5F95FA03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Da li je korak po korak bolj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Da li je korak po korak metroda (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tep-by-step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nstru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je tabele bolja od metod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"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brute force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"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Da li je potrebno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(n</a:t>
            </a:r>
            <a:r>
              <a:rPr b="0" lang="en-US" sz="36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)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za upoređivanje svih jezgar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ako efikasno implementirati ovaj metod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e treba upoređivati sa cijelom listom jezgara kada naiđe novo jezgro, već treba koristiti heš tabelu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E47A-A2C7-47FC-A99E-0BB3A80434E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EF150C-6227-42E3-89DC-D0C7716AD0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 gram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atik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: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oređenj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1828800"/>
          <a:ext cx="8610480" cy="4946760"/>
        </p:xfrm>
        <a:graphic>
          <a:graphicData uri="http://schemas.openxmlformats.org/drawingml/2006/table">
            <a:tbl>
              <a:tblPr/>
              <a:tblGrid>
                <a:gridCol w="1219320"/>
                <a:gridCol w="3886200"/>
                <a:gridCol w="35049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Predn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Ma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LR(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ajmanje tabele, najlakše za izgradnj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eodgovarajuće za mnoge konstrukcije P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SLR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Više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nforma</a:t>
                      </a: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</a:t>
                      </a: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ja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d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LR(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Mnoge korisne gramatike nisu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LR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ALR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ame size tables as SLR, more langs, efficient to bui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LR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ajpreciznija upotreba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lookahead, </a:t>
                      </a: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ajveći dio konstrukcija PJ koje mi želi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ab</a:t>
                      </a: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le</a:t>
                      </a: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su za red veličine veće od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LR(1)</a:t>
                      </a: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tabe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28600" y="83808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Reg </a:t>
            </a:r>
            <a:r>
              <a:rPr b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R(0) </a:t>
            </a:r>
            <a:r>
              <a:rPr b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SLR(1) </a:t>
            </a:r>
            <a:r>
              <a:rPr b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ALR(1) </a:t>
            </a:r>
            <a:r>
              <a:rPr b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R(1) </a:t>
            </a:r>
            <a:r>
              <a:rPr b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CF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8E52-337A-47BC-B88A-A45D5D339AE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1AF867-D554-4062-86FB-858279D88AB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ALR: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"najbolji" metod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More discriminating than SLR(1), but matches more PL language constructs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Veličina tabele razumna z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real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e jezike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Osnova z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generator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parser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 kao što su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yacc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bison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ostojanje 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nfl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ta  ne utiče n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ALR 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Razrješavanje konflikta direktno u tabeli poslije konstrukcije ("</a:t>
            </a:r>
            <a:r>
              <a:rPr b="0" lang="en-US" sz="3000" spc="-1" strike="noStrike">
                <a:solidFill>
                  <a:srgbClr val="3333cc"/>
                </a:solidFill>
                <a:latin typeface="Comic Sans MS"/>
              </a:rPr>
              <a:t>dangling else</a:t>
            </a:r>
            <a:r>
              <a:rPr b="0" lang="sr-Latn-CS" sz="3000" spc="-1" strike="noStrike">
                <a:solidFill>
                  <a:srgbClr val="3333cc"/>
                </a:solidFill>
                <a:latin typeface="Comic Sans MS"/>
              </a:rPr>
              <a:t>")</a:t>
            </a:r>
            <a:endParaRPr b="0" lang="en-US" sz="30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Gram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tika može biti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skoro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” LALR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BF61-AAAF-4EFA-BBFE-BA72DF947E7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C2EF26-ABAB-443A-B1B7-BA6FF99EED6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oboljšanja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LALR?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Šta se dešava ako "naslijepo"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spajamo i ond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dete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ujemo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reduce-reduce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nfl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Zašto ne odbijemo spajanje u takvom slučaju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3333cc"/>
                </a:solidFill>
                <a:latin typeface="Comic Sans MS"/>
              </a:rPr>
              <a:t>Dobićemo više </a:t>
            </a:r>
            <a:r>
              <a:rPr b="0" lang="en-US" sz="3000" spc="-1" strike="noStrike">
                <a:solidFill>
                  <a:srgbClr val="3333cc"/>
                </a:solidFill>
                <a:latin typeface="Comic Sans MS"/>
              </a:rPr>
              <a:t>sta</a:t>
            </a:r>
            <a:r>
              <a:rPr b="0" lang="sr-Latn-CS" sz="3000" spc="-1" strike="noStrike">
                <a:solidFill>
                  <a:srgbClr val="3333cc"/>
                </a:solidFill>
                <a:latin typeface="Comic Sans MS"/>
              </a:rPr>
              <a:t>nja</a:t>
            </a:r>
            <a:r>
              <a:rPr b="0" lang="en-US" sz="3000" spc="-1" strike="noStrike">
                <a:solidFill>
                  <a:srgbClr val="3333cc"/>
                </a:solidFill>
                <a:latin typeface="Comic Sans MS"/>
              </a:rPr>
              <a:t>, </a:t>
            </a:r>
            <a:r>
              <a:rPr b="0" lang="sr-Latn-CS" sz="3000" spc="-1" strike="noStrike">
                <a:solidFill>
                  <a:srgbClr val="3333cc"/>
                </a:solidFill>
                <a:latin typeface="Comic Sans MS"/>
              </a:rPr>
              <a:t>ali će to biti i dalje manje nego za </a:t>
            </a:r>
            <a:r>
              <a:rPr b="0" lang="en-US" sz="3000" spc="-1" strike="noStrike">
                <a:solidFill>
                  <a:srgbClr val="3333cc"/>
                </a:solidFill>
                <a:latin typeface="Comic Sans MS"/>
              </a:rPr>
              <a:t>LR(1)</a:t>
            </a:r>
            <a:endParaRPr b="0" lang="en-US" sz="30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ažljivo proučite algoritam i zaključite zašto to ne možemo uradit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70D8-5406-4D4A-80AD-05424F24E8E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6C7E4D-28E6-4F13-BA32-DA45377DD8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Od teorije ka praksi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R(1) gram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tike ne mogu imati nejasnoće, pa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ALR(1) gram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tike ne mogu imati nejasnoć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li mi možemo koristiti LALR alate čak i ako gramatika ima nejasnoće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Yacc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 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Bison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su zasnovani n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ALR gram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tikam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li ne robuju tome, tj. ne zahtijevaju da njihov ulaz bude list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ALR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ko želimo posebno obraditi specijalne slučajeve i razriješiti konflikte ručno, možemo koristiti LALR alat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rimjer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: u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otreba nejasnih gramatika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385A-5ED8-4B96-9E6C-EDFDCA98A71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3002CC-CDAE-4540-A72E-1ADCD6D5814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Upotreba nejasnih gramatik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ejasnoća u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R gram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tic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G: G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roizvodi viš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desnih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deriva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j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 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rimjer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G = { E </a:t>
            </a:r>
            <a:r>
              <a:rPr b="0" lang="en-US" sz="26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 E + E  |  E * E  |  (E)  |  id  }</a:t>
            </a:r>
            <a:endParaRPr b="0" lang="en-US" sz="26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Dodali smo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erm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fa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or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da bi otkonili nejasnoće za ispravan poredak operacija i asocijativnost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Šta kao pustimo algoritam za konstrukciju LR tabele z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G?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onflikt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=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reviše akcija u poljima tabele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Biramo koju akciju želimo, eliminišemo ostale</a:t>
            </a:r>
            <a:endParaRPr b="0" lang="en-US" sz="2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9551-AD8C-4487-9C77-1970C0BB3AB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5E0F6A-692E-4245-BD2A-EE6A9401C1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Ručno popravljanje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SLR(1) tab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28600" y="838080"/>
          <a:ext cx="8610480" cy="4472280"/>
        </p:xfrm>
        <a:graphic>
          <a:graphicData uri="http://schemas.openxmlformats.org/drawingml/2006/table">
            <a:tbl>
              <a:tblPr/>
              <a:tblGrid>
                <a:gridCol w="2590920"/>
                <a:gridCol w="2819160"/>
                <a:gridCol w="3200400"/>
              </a:tblGrid>
              <a:tr h="448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0: E'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E + E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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*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(E)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1:  E' -&gt; E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E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+ E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E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* E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2: E -&gt; (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E +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E *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(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3: E -&gt;id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4: E -&gt; E+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E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E +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E *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(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5: E -&gt; E*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E +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E *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(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6: E -&gt; (E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E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+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E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*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c4122"/>
                          </a:solidFill>
                          <a:latin typeface="Comic Sans MS"/>
                        </a:rPr>
                        <a:t>I7:</a:t>
                      </a:r>
                      <a:r>
                        <a:rPr b="1" lang="en-US" sz="800" spc="-1" strike="noStrike">
                          <a:solidFill>
                            <a:srgbClr val="fc4122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c4122"/>
                          </a:solidFill>
                          <a:latin typeface="Comic Sans MS"/>
                        </a:rPr>
                        <a:t>E -&gt; E + E </a:t>
                      </a:r>
                      <a:r>
                        <a:rPr b="1" lang="en-US" sz="2400" spc="-1" strike="noStrike">
                          <a:solidFill>
                            <a:srgbClr val="fc4122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c4122"/>
                          </a:solidFill>
                          <a:latin typeface="Comic Sans MS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fc4122"/>
                          </a:solidFill>
                          <a:latin typeface="Comic Sans MS"/>
                        </a:rPr>
                        <a:t>E -&gt; E </a:t>
                      </a:r>
                      <a:r>
                        <a:rPr b="1" lang="en-US" sz="2400" spc="-1" strike="noStrike">
                          <a:solidFill>
                            <a:srgbClr val="fc4122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1" lang="en-US" sz="2400" spc="-1" strike="noStrike">
                          <a:solidFill>
                            <a:srgbClr val="fc4122"/>
                          </a:solidFill>
                          <a:latin typeface="Comic Sans MS"/>
                        </a:rPr>
                        <a:t> +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c4122"/>
                          </a:solidFill>
                          <a:latin typeface="Comic Sans MS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fc4122"/>
                          </a:solidFill>
                          <a:latin typeface="Comic Sans MS"/>
                        </a:rPr>
                        <a:t>E -&gt; E </a:t>
                      </a:r>
                      <a:r>
                        <a:rPr b="1" lang="en-US" sz="2400" spc="-1" strike="noStrike">
                          <a:solidFill>
                            <a:srgbClr val="fc4122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1" lang="en-US" sz="2400" spc="-1" strike="noStrike">
                          <a:solidFill>
                            <a:srgbClr val="fc4122"/>
                          </a:solidFill>
                          <a:latin typeface="Comic Sans MS"/>
                        </a:rPr>
                        <a:t> *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8: E -&gt; E * E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E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+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E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*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9: E -&gt; (E)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0" y="0"/>
            <a:ext cx="2286000" cy="1447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E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E + E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|  E * E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|  (E)  |  id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5486400"/>
            <a:ext cx="8610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66ff"/>
                </a:solidFill>
                <a:latin typeface="Comic Sans MS"/>
              </a:rPr>
              <a:t>Sta</a:t>
            </a:r>
            <a:r>
              <a:rPr b="0" lang="sr-Latn-CS" sz="2600" spc="-1" strike="noStrike">
                <a:solidFill>
                  <a:srgbClr val="6666ff"/>
                </a:solidFill>
                <a:latin typeface="Comic Sans MS"/>
              </a:rPr>
              <a:t>nje</a:t>
            </a:r>
            <a:r>
              <a:rPr b="0" lang="en-US" sz="2600" spc="-1" strike="noStrike">
                <a:solidFill>
                  <a:srgbClr val="6666ff"/>
                </a:solidFill>
                <a:latin typeface="Comic Sans MS"/>
              </a:rPr>
              <a:t> I7 </a:t>
            </a:r>
            <a:r>
              <a:rPr b="0" lang="sr-Latn-CS" sz="2600" spc="-1" strike="noStrike">
                <a:solidFill>
                  <a:srgbClr val="6666ff"/>
                </a:solidFill>
                <a:latin typeface="Comic Sans MS"/>
              </a:rPr>
              <a:t>- </a:t>
            </a:r>
            <a:r>
              <a:rPr b="0" lang="en-US" sz="2600" spc="-1" strike="noStrike">
                <a:solidFill>
                  <a:srgbClr val="6666ff"/>
                </a:solidFill>
                <a:latin typeface="Comic Sans MS"/>
              </a:rPr>
              <a:t>shift-reduce </a:t>
            </a:r>
            <a:r>
              <a:rPr b="0" lang="sr-Latn-CS" sz="2600" spc="-1" strike="noStrike">
                <a:solidFill>
                  <a:srgbClr val="6666ff"/>
                </a:solidFill>
                <a:latin typeface="Comic Sans MS"/>
              </a:rPr>
              <a:t>k</a:t>
            </a:r>
            <a:r>
              <a:rPr b="0" lang="en-US" sz="2600" spc="-1" strike="noStrike">
                <a:solidFill>
                  <a:srgbClr val="6666ff"/>
                </a:solidFill>
                <a:latin typeface="Comic Sans MS"/>
              </a:rPr>
              <a:t>onfli</a:t>
            </a:r>
            <a:r>
              <a:rPr b="0" lang="sr-Latn-CS" sz="2600" spc="-1" strike="noStrike">
                <a:solidFill>
                  <a:srgbClr val="6666ff"/>
                </a:solidFill>
                <a:latin typeface="Comic Sans MS"/>
              </a:rPr>
              <a:t>k</a:t>
            </a:r>
            <a:r>
              <a:rPr b="0" lang="en-US" sz="2600" spc="-1" strike="noStrike">
                <a:solidFill>
                  <a:srgbClr val="6666ff"/>
                </a:solidFill>
                <a:latin typeface="Comic Sans MS"/>
              </a:rPr>
              <a:t>t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6666ff"/>
                </a:solidFill>
                <a:latin typeface="Comic Sans MS"/>
              </a:rPr>
              <a:t>Da li možemo izabrati samo jednu akciju od ponuđenih</a:t>
            </a:r>
            <a:r>
              <a:rPr b="0" lang="en-US" sz="2600" spc="-1" strike="noStrike">
                <a:solidFill>
                  <a:srgbClr val="6666ff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06BB-F9F0-4EF9-B982-CAAA442B34F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CED3E0-2B6A-42D9-9314-420CEDFA93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Ručno popravljanje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SLR(1) tab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osmatramo proces parsiranja da bi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dobili naznaku kako da popravimo tabelu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0"/>
            <a:ext cx="2286000" cy="1447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E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E +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|  E *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|  (E)  | 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600200"/>
            <a:ext cx="8458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Ulaz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“id + id * i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očinjemo s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0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st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e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Push id, reduce E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d, goto S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Push “+” (S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Push id, reduce E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d, goto S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Ulaz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“*”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u stanju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7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Reduce E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E+E?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li treb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hift “*”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ko bi sledeća operacija bil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“+”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da li treb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shift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 il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redu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Biramo po prioritetu i asocijativnos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5496-C579-4AC7-B13D-BE2E774C55E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F9F0F0-0B3A-42D0-A639-BE183FB452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Ručno popravljanje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SLR(1) tab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6782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Ako je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shift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ovano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E+E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i ulaz je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“*”,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radimo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i="1" lang="en-US" sz="2600" spc="-1" strike="noStrike">
                <a:solidFill>
                  <a:srgbClr val="000099"/>
                </a:solidFill>
                <a:latin typeface="Comic Sans MS"/>
              </a:rPr>
              <a:t>shift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jer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*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ima veći prioritet od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+.</a:t>
            </a:r>
            <a:endParaRPr b="0" lang="en-US" sz="26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0" y="0"/>
            <a:ext cx="2286000" cy="1444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E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E +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|  E *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|  (E)  | 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1828800"/>
            <a:ext cx="8686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Ako se pomjeramo od operatora višeg ka operatoru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nižeg prioriteta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radimo </a:t>
            </a:r>
            <a:r>
              <a:rPr b="0" i="1" lang="en-US" sz="2600" spc="-1" strike="noStrike">
                <a:solidFill>
                  <a:srgbClr val="000099"/>
                </a:solidFill>
                <a:latin typeface="Comic Sans MS"/>
              </a:rPr>
              <a:t>reduce</a:t>
            </a:r>
            <a:r>
              <a:rPr b="0" i="1" lang="sr-Latn-CS" sz="2600" spc="-1" strike="noStrike">
                <a:solidFill>
                  <a:srgbClr val="000099"/>
                </a:solidFill>
                <a:latin typeface="Comic Sans MS"/>
              </a:rPr>
              <a:t>.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Ako je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shift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ovano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E+E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i ulaz je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“+”, reduce E</a:t>
            </a:r>
            <a:r>
              <a:rPr b="0" lang="en-US" sz="2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E+E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zbog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asoci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j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ativ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nosti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Ako smo parsirali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E op E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za desno asocijativne operatoire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0" i="1" lang="en-US" sz="2600" spc="-1" strike="noStrike">
                <a:solidFill>
                  <a:srgbClr val="000099"/>
                </a:solidFill>
                <a:latin typeface="Comic Sans MS"/>
              </a:rPr>
              <a:t>shift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n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“op”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Sve nejasne gramatike će imati ovakve konflikte, čak i neke jas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Ako izaberemo akcije za svaki konflikt, generatori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parser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a nam mogu pomoći, bez obzira što gramatika nije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LR(0) / SLR(1) / LALR(1) /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bilo šta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A71E-E80D-4698-B04A-5A92F6BD107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70939C-489A-48CC-803B-9CCA3DF43F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Nejasnoć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: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"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dangling else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"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91440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838080"/>
            <a:ext cx="83822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Čak čist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R(k) gram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tike ne generišu sbe programske konstrukcij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1) S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if E then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2) S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if E then S else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ko naiđe "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viable prefix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"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“if E then if E then S”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, pa zatim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“else”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76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hift (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ravilo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2)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76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Reduce (reduce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sa pravilom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1)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99"/>
                </a:solidFill>
                <a:latin typeface="Comic Sans MS"/>
              </a:rPr>
              <a:t>U LR gramatikama ne može se otkloniti problem "</a:t>
            </a:r>
            <a:r>
              <a:rPr b="0" i="1" lang="en-US" sz="2800" spc="-1" strike="noStrike">
                <a:solidFill>
                  <a:srgbClr val="000099"/>
                </a:solidFill>
                <a:latin typeface="Comic Sans MS"/>
              </a:rPr>
              <a:t>dangling else</a:t>
            </a:r>
            <a:r>
              <a:rPr b="0" i="1" lang="sr-Latn-CS" sz="2800" spc="-1" strike="noStrike">
                <a:solidFill>
                  <a:srgbClr val="000099"/>
                </a:solidFill>
                <a:latin typeface="Comic Sans MS"/>
              </a:rPr>
              <a:t>"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Može se promijeniti tabela, tako da se izbjegne konflikt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62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Za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C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Jav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u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bira se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shift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, što znači vezivanje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“else”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za najbliži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“if”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 lijevo od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“else”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157A-2099-4E85-BDB0-D71B59579BC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9BEE1D-1913-4CB1-B845-CEED1E9869F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Zašto koristiti nejasne gramatik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Gram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tike i kod komuniciraju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Od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rogramer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k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mp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uter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Od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rogramer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k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programer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Čitljivije su ljudim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Moraju se dokumentovati izmjene u tabelam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Manje pravila znači i manje tabele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Lakše se implementiraju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Manje pravila znači i manje vrijeme potrebno za prelaske tip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E </a:t>
            </a:r>
            <a:r>
              <a:rPr b="0" lang="en-US" sz="3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T</a:t>
            </a:r>
            <a:r>
              <a:rPr b="0" lang="en-US" sz="3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F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9BE2-2961-44F0-BBD2-A2DA897F208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4DC33E-D2C6-426D-A399-06E2B15884C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ostor gramatik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3" name=""/>
          <p:cNvSpPr/>
          <p:nvPr/>
        </p:nvSpPr>
        <p:spPr>
          <a:xfrm>
            <a:off x="3638520" y="3602160"/>
            <a:ext cx="3365640" cy="10778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29080" y="3076560"/>
            <a:ext cx="5047920" cy="19731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24000" y="2286000"/>
            <a:ext cx="5889600" cy="342108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65320" y="2549520"/>
            <a:ext cx="2355840" cy="2895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21160" y="3630600"/>
            <a:ext cx="17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R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4120" y="32004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LR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57640" y="2382840"/>
            <a:ext cx="151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57600" y="2743200"/>
            <a:ext cx="9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L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82680" y="1628640"/>
            <a:ext cx="7067520" cy="434340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838080"/>
            <a:ext cx="8077320" cy="579132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560" y="1871640"/>
            <a:ext cx="336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as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F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65320" y="1101600"/>
            <a:ext cx="336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F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95920" y="4027320"/>
            <a:ext cx="1320840" cy="5270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83040" y="403380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(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17EB-B4A5-48FE-85A4-F5837662501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75EB9F-1C0B-47E4-B0B1-80C844DADD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 gram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atik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: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oređenj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28600" y="1828800"/>
          <a:ext cx="8610480" cy="4946760"/>
        </p:xfrm>
        <a:graphic>
          <a:graphicData uri="http://schemas.openxmlformats.org/drawingml/2006/table">
            <a:tbl>
              <a:tblPr/>
              <a:tblGrid>
                <a:gridCol w="1219320"/>
                <a:gridCol w="3886200"/>
                <a:gridCol w="35049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Predn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Ma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LR(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ajmanje tabele, najlakše za izgradnj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eodgovarajuće za mnoge konstrukcije P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SLR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Više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nforma</a:t>
                      </a: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</a:t>
                      </a: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ja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d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LR(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Mnoge korisne gramatike nisu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LR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66"/>
                          </a:solidFill>
                          <a:latin typeface="Arial Narrow"/>
                        </a:rPr>
                        <a:t>LALR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cc0066"/>
                          </a:solidFill>
                          <a:latin typeface="Comic Sans MS"/>
                        </a:rPr>
                        <a:t>Veličina tabele kao</a:t>
                      </a:r>
                      <a:r>
                        <a:rPr b="0" lang="en-US" sz="2400" spc="-1" strike="noStrike">
                          <a:solidFill>
                            <a:srgbClr val="cc0066"/>
                          </a:solidFill>
                          <a:latin typeface="Comic Sans MS"/>
                        </a:rPr>
                        <a:t> SLR, </a:t>
                      </a:r>
                      <a:r>
                        <a:rPr b="0" lang="sr-Latn-CS" sz="2400" spc="-1" strike="noStrike">
                          <a:solidFill>
                            <a:srgbClr val="cc0066"/>
                          </a:solidFill>
                          <a:latin typeface="Comic Sans MS"/>
                        </a:rPr>
                        <a:t>više jezika</a:t>
                      </a:r>
                      <a:r>
                        <a:rPr b="0" lang="en-US" sz="2400" spc="-1" strike="noStrike">
                          <a:solidFill>
                            <a:srgbClr val="cc0066"/>
                          </a:solidFill>
                          <a:latin typeface="Comic Sans MS"/>
                        </a:rPr>
                        <a:t>, ef</a:t>
                      </a:r>
                      <a:r>
                        <a:rPr b="0" lang="sr-Latn-CS" sz="2400" spc="-1" strike="noStrike">
                          <a:solidFill>
                            <a:srgbClr val="cc0066"/>
                          </a:solidFill>
                          <a:latin typeface="Comic Sans MS"/>
                        </a:rPr>
                        <a:t>ikasnije za izgradnj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66"/>
                          </a:solidFill>
                          <a:latin typeface="Comic Sans MS"/>
                        </a:rPr>
                        <a:t>Defin</a:t>
                      </a:r>
                      <a:r>
                        <a:rPr b="0" lang="sr-Latn-CS" sz="2400" spc="-1" strike="noStrike">
                          <a:solidFill>
                            <a:srgbClr val="cc0066"/>
                          </a:solidFill>
                          <a:latin typeface="Comic Sans MS"/>
                        </a:rPr>
                        <a:t>isanje empirijski a ne matematičk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LR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ajpreciznija upotreba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lookahead, </a:t>
                      </a: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ajveći dio konstrukcija PJ koje mi želi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ab</a:t>
                      </a: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le</a:t>
                      </a: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su za red veličine veće od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LR(1)</a:t>
                      </a: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tabe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228600" y="83808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91440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Reg </a:t>
            </a:r>
            <a:r>
              <a:rPr b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R(0) </a:t>
            </a:r>
            <a:r>
              <a:rPr b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SLR(1) </a:t>
            </a:r>
            <a:r>
              <a:rPr b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ALR(1) </a:t>
            </a:r>
            <a:r>
              <a:rPr b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R(1) </a:t>
            </a:r>
            <a:r>
              <a:rPr b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CF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B167-57A2-462B-8B7D-95F340843B4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6BE0EE-C17B-44CB-A7F5-8BC12899FAF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ostor gramatik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3638520" y="3602160"/>
            <a:ext cx="3365640" cy="107784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29080" y="3076560"/>
            <a:ext cx="5047920" cy="1973160"/>
          </a:xfrm>
          <a:prstGeom prst="ellipse">
            <a:avLst/>
          </a:prstGeom>
          <a:solidFill>
            <a:srgbClr val="bebaf8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24000" y="2286000"/>
            <a:ext cx="5889600" cy="342108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65320" y="2549520"/>
            <a:ext cx="2355840" cy="2895480"/>
          </a:xfrm>
          <a:prstGeom prst="ellipse">
            <a:avLst/>
          </a:prstGeom>
          <a:solidFill>
            <a:srgbClr val="febfb4">
              <a:alpha val="50000"/>
            </a:srgbClr>
          </a:solidFill>
          <a:ln w="28440">
            <a:solidFill>
              <a:srgbClr val="fc41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21160" y="3630600"/>
            <a:ext cx="17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SLR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32004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LR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57640" y="2382840"/>
            <a:ext cx="151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LR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57600" y="2743200"/>
            <a:ext cx="9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82680" y="1628640"/>
            <a:ext cx="7067520" cy="434340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838080"/>
            <a:ext cx="8077320" cy="579132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560" y="1871640"/>
            <a:ext cx="336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b2b2b2"/>
                </a:solidFill>
                <a:latin typeface="Arial"/>
              </a:rPr>
              <a:t>Jasne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CF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65320" y="1101600"/>
            <a:ext cx="336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CF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95920" y="4027320"/>
            <a:ext cx="1320840" cy="52704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83040" y="403380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LR(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3049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Mi radimo 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572000" y="914400"/>
            <a:ext cx="312408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400800" y="914400"/>
            <a:ext cx="1295280" cy="259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876560" y="914400"/>
            <a:ext cx="281916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70F2-24D3-4768-B589-0E47BDD0B2A7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E398EF-2DC7-450B-B3F2-DB9FEA9D72A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L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LALR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L(k)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LALR(k)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u uobičajeni izbor u praksi i najčešće je k=1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riterijumi za izbor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mplement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j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Jednostavnost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Opštost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Uslovi za transformaciju gramatik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Oporavak od grešak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Veličina tabel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fikasnost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9D71-B56A-4F71-9726-4C7E96DBCE4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5FFED1-33FA-4D3F-A296-11F08E1D915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L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LALR: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uslovi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43815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otrebno je mnogo transformacija z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L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roste gramatike postaju složenije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419720" y="914040"/>
            <a:ext cx="4419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ALR ma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š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ne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mogu obraditi mnoge gramatike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čak 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n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-LALR!)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2895480"/>
            <a:ext cx="85341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Upoređivanje implementacionih zahtjev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Koliko dodatnog vremena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Vrijeme za transformaciju i pokuša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Kome se vjeruje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Mogu li čitati svoju transformisanu gramatiku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Može li se nadgraditi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11B7-4EC3-4B03-A087-2D1CD29BB3B2}" type="slidenum">
              <a:t>3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5E31B9-2805-4584-BEB7-7F41D0EDCD7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L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LALR: implementa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c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j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1529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Re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ur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z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v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i spust može se ručno kodirati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li izgraditi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able-driven LL parser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s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Lgen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86120" y="914040"/>
            <a:ext cx="4152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ALR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aizgled se uvijek generišu mašinski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Generator (yacc / bison)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može pronaći problem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 nejasnoće u gramatic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B303-5BD8-489C-927C-A723E1C57D2F}" type="slidenum">
              <a:t>3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361869-7C0C-4FE4-BFE1-A151CC5DFE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"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Real life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"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parser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i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GCC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Opis i source na adresi: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http://www.gnu.org/software/gcc/gcc.htm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99"/>
                </a:solidFill>
                <a:latin typeface="Comic Sans MS"/>
              </a:rPr>
              <a:t>Provjeriti </a:t>
            </a: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makefile!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99"/>
                </a:solidFill>
                <a:latin typeface="Comic Sans MS"/>
              </a:rPr>
              <a:t>Vjerovatno nećete pisati čitav kompajler, ali jedan njegov dio vjerovatno hoćete</a:t>
            </a: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4AFA-FE1E-4867-86D6-DA2EEED03A7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A94E33-EC1B-4F0A-BABE-0DFBC55EF4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odsjećanje na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(1)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odjela skup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item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(st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j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)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a osnovu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ookahead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-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ajgori slučaj broja stanja: partitivni skup skupa item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Z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n item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može biti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3600" spc="-1" strike="noStrike" baseline="30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- 1 sta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nja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Vjerovatniji je broj stanja koji je za red veličine veći nego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LR(1)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okušaj čuvanj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ookahead info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rmacija uz smanjivanje broja stanj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3C50-8E2D-432C-BF58-A1FBFC05BE5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5D1C29-6D34-4AEC-B1D8-B5F405DE3C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ALR(1)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stup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Obično se govori samo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LALR (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uvijek j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1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u praks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Za dati skup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R(1) st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ja gramatik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G,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okušaćemo sa spajanjem sličnih stanj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andidati za spajanje (merging)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Isto jezgro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(LR(0) item)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Jedine razlike u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ookahead-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ovima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X -&gt; u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v , a/b/c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X -&gt; u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v , d/e/f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78D4-DB37-4902-9DBA-D08E24617D6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165C05-6FF5-49D3-BDBD-DDF824FF92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r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1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28600" y="762120"/>
          <a:ext cx="7543800" cy="5249880"/>
        </p:xfrm>
        <a:graphic>
          <a:graphicData uri="http://schemas.openxmlformats.org/drawingml/2006/table">
            <a:tbl>
              <a:tblPr/>
              <a:tblGrid>
                <a:gridCol w="3772080"/>
                <a:gridCol w="3771720"/>
              </a:tblGrid>
              <a:tr h="527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0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'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S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XX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aX, a/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b, a/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1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' -&gt; S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2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 -&gt; X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X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aX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b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fc4122"/>
                          </a:solidFill>
                          <a:uFillTx/>
                          <a:latin typeface="Comic Sans MS"/>
                        </a:rPr>
                        <a:t>I3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a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X, a/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aX, a/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b, a/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27f731"/>
                          </a:solidFill>
                          <a:uFillTx/>
                          <a:latin typeface="Comic Sans MS"/>
                        </a:rPr>
                        <a:t>I4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b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a/b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5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 -&gt; XX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fc4122"/>
                          </a:solidFill>
                          <a:uFillTx/>
                          <a:latin typeface="Comic Sans MS"/>
                        </a:rPr>
                        <a:t>I6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a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X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aX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b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27f731"/>
                          </a:solidFill>
                          <a:uFillTx/>
                          <a:latin typeface="Comic Sans MS"/>
                        </a:rPr>
                        <a:t>I7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b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c800c8"/>
                          </a:solidFill>
                          <a:uFillTx/>
                          <a:latin typeface="Comic Sans MS"/>
                        </a:rPr>
                        <a:t>I8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aX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a/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c800c8"/>
                          </a:solidFill>
                          <a:uFillTx/>
                          <a:latin typeface="Comic Sans MS"/>
                        </a:rPr>
                        <a:t>I9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aX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7315200" y="228600"/>
            <a:ext cx="1600200" cy="155700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' –&gt;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 –&gt; 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 –&gt; 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  –&gt;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5181480"/>
            <a:ext cx="5410080" cy="119124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Obratiti pažnju na kandidate za spajanj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isto jezgr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npr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R(0) item)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, različit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okahead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-ov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38BB-825A-43AE-9EAC-9C19C61F678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FEFCB3-38C9-4DC9-B41A-7C1FE7DE170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r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1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28600" y="685800"/>
          <a:ext cx="7543800" cy="5249880"/>
        </p:xfrm>
        <a:graphic>
          <a:graphicData uri="http://schemas.openxmlformats.org/drawingml/2006/table">
            <a:tbl>
              <a:tblPr/>
              <a:tblGrid>
                <a:gridCol w="3772080"/>
                <a:gridCol w="3771720"/>
              </a:tblGrid>
              <a:tr h="527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0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'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S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XX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aX, a/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b, a/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1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' -&gt; S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2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 -&gt; X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X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aX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b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fc4122"/>
                          </a:solidFill>
                          <a:uFillTx/>
                          <a:latin typeface="Comic Sans MS"/>
                        </a:rPr>
                        <a:t>I3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a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X, a/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aX, a/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b, a/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27f731"/>
                          </a:solidFill>
                          <a:uFillTx/>
                          <a:latin typeface="Comic Sans MS"/>
                        </a:rPr>
                        <a:t>I4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b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a/b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5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 -&gt; XX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fc4122"/>
                          </a:solidFill>
                          <a:uFillTx/>
                          <a:latin typeface="Comic Sans MS"/>
                        </a:rPr>
                        <a:t>I6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a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X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aX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b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27f731"/>
                          </a:solidFill>
                          <a:uFillTx/>
                          <a:latin typeface="Comic Sans MS"/>
                        </a:rPr>
                        <a:t>I7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b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c800c8"/>
                          </a:solidFill>
                          <a:uFillTx/>
                          <a:latin typeface="Comic Sans MS"/>
                        </a:rPr>
                        <a:t>I8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aX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a/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c800c8"/>
                          </a:solidFill>
                          <a:uFillTx/>
                          <a:latin typeface="Comic Sans MS"/>
                        </a:rPr>
                        <a:t>I9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aX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7315200" y="228600"/>
            <a:ext cx="1600200" cy="155700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' –&gt;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 –&gt; 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 –&gt; 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  –&gt;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4559400"/>
            <a:ext cx="3962520" cy="22885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pojeni parov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7f731"/>
                </a:solidFill>
                <a:uFillTx/>
                <a:latin typeface="Comic Sans MS"/>
              </a:rPr>
              <a:t>I47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X -&gt; b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, a/b/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800c8"/>
                </a:solidFill>
                <a:uFillTx/>
                <a:latin typeface="Comic Sans MS"/>
              </a:rPr>
              <a:t>I89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X -&gt; aX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, a/b/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c4122"/>
                </a:solidFill>
                <a:uFillTx/>
                <a:latin typeface="Comic Sans MS"/>
              </a:rPr>
              <a:t>I36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X -&gt; a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X, a/b/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X -&gt;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aX, a/b/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X -&gt;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b, a/b/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554A-BFB7-40CE-B6C1-F26B86E5DB7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5AC342-6863-4A92-ADDF-057B70A6B88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r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1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 - nastavak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Šta se desil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prilikom spajanj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Tri stanja manje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ookahead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item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m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koji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u spojen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U ovom slučaju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, lookahead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-ovi u spojenim skupovima čine čitav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Follow s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up, pa smo spajanjem dobili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LR(1). 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Rezult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t spajanja obično nij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LR(1)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EC08-9228-41A7-A64F-BD62DDB4414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EC397F-A727-4373-9EA9-DA0204D7999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r 2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685800"/>
            <a:ext cx="3886200" cy="119124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' -&gt;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-&gt; Bbb | aab | b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 -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1981080"/>
          <a:ext cx="7924680" cy="2743200"/>
        </p:xfrm>
        <a:graphic>
          <a:graphicData uri="http://schemas.openxmlformats.org/drawingml/2006/table">
            <a:tbl>
              <a:tblPr/>
              <a:tblGrid>
                <a:gridCol w="3962160"/>
                <a:gridCol w="3962520"/>
              </a:tblGrid>
              <a:tr h="27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I0: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' –&gt; •S,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 –&gt; •Bbb,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 –&gt; •aab,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 –&gt; •bBa,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B –&gt; •a,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I1: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' –&gt; S•,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I2: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 –&gt; B•bb,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I3: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 –&gt; a•ab,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B –&gt; a•,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....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533520" y="480060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Posmatrajte stanje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3. 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Z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LR(1), shift-reduce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nfli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. 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Z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LALR, shift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n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a, reduce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n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b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, tj.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ALR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spajanje ne vodi ka SLR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ACC3-4F00-4EAD-BB54-41E58774C31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C65EB4-A582-48E8-AF2C-91CD7F2580A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5T08:15:37Z</dcterms:created>
  <dc:creator>Godmar Back</dc:creator>
  <dc:description/>
  <dc:language>en-US</dc:language>
  <cp:lastModifiedBy>CPQ</cp:lastModifiedBy>
  <dcterms:modified xsi:type="dcterms:W3CDTF">2006-10-10T19:12:49Z</dcterms:modified>
  <cp:revision>2125</cp:revision>
  <dc:subject/>
  <dc:title>Welcome to CS143</dc:title>
</cp:coreProperties>
</file>