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A7870-5E91-4904-BF21-8D0AF3380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A832F-4F87-498B-8015-EBC93097A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08C41-6A90-47F6-8AD0-B1B4C8196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A7020-FD0B-4016-83C5-21DB1AF19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24F6D-DD52-4999-A8D5-C973EF2D4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C07CC-2FCE-41E0-8004-955B570AC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8819C-30A1-4F6C-A463-B8C3C030A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2A0A7-D570-44BD-BFF9-618F1E322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EE87F-06E7-4971-8F61-BDCEAE568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28F1E-5EDA-49F1-903C-2E278905E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E33A6-1F70-42E7-AB3D-057D789F6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713AF-6AC1-42CB-9B28-9E30173A9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A0C6A-C682-498F-9E6B-2843288E4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D8843-2AAA-4053-B202-C6B1462CF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541D3-BFAC-4859-95AE-8B80757AE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4AF0C-AC02-42E1-A370-A43149F72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A044C-2E4E-43BD-8CD6-C131FEC3A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7396C-5806-4615-B281-5FF60FDBE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75FF0-D0A1-4FDE-9542-364BCFB2F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D4D66-23FA-4EC8-82A1-2DB8AD947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5E2D1-1EEF-408E-83AD-B92FFAFCE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C5DE7-DC51-440C-9591-32A5A60AC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C41C0-26B5-40EF-8B40-8DF5B2F7E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B193-57B3-4861-8874-B4C125634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FC3DE-A0F1-4A43-9330-EE76E34D6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D4EA9-3786-4BD3-B72F-2097BBD04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A4DB0-B79D-4DB5-8787-4078A8552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D09DD-7D39-41A7-A192-2882654F7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D643A-5AA7-441F-8968-6EDBCDB21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6DB0C-5806-4F74-8248-35A23273F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AE5-D009-432C-9C3F-7AC8D5D3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87A-D112-478C-9FA1-A5D9306F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C6F-4B63-4C7C-A861-A1395311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AC2-EA09-479F-A40A-09AB4E3E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1CD-FB46-46C0-B86C-AF27F426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CCA-CB3A-44C6-8BE4-384663BC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9E2-A2F8-4F34-800B-630A73F7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53C-5177-4CDB-B95F-E9417E58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10C-5232-4B2E-B2EA-45C3CC3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A95-E257-45AF-BCE3-1A7CA2D5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B41-4233-4889-BBF5-D0B2335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874-5D9B-4FD2-95A5-33E09891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EB45-47E0-4AD5-9CE5-E12302ECF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achyonsoft.com/elf.html" TargetMode="External"/><Relationship Id="rId2" Type="http://schemas.openxmlformats.org/officeDocument/2006/relationships/hyperlink" Target="http://www.ibm.com/developerworks/power/library/pa-spec12/" TargetMode="External"/><Relationship Id="rId3" Type="http://schemas.openxmlformats.org/officeDocument/2006/relationships/hyperlink" Target="http://www.linuxjournal.com/node/1060/prin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d koda do </a:t>
            </a: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izvršavanj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D08-BCC1-4F35-BFFB-2C18E887A1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Assembly Languag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Object Code, information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ita i koristi direktive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irectives</a:t>
            </a:r>
            <a:r>
              <a:rPr b="0" lang="sr-Latn-CS" sz="32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mjenjuje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do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 mašinski j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Object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ble and Linking Format (ELF) – format objektnog faj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553-6BD0-4513-9C15-D1F295FDAE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479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le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5048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ju uputst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embler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i ne prave mašinske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inski k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in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reprezentacija podataka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ci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kojoj se može pristupati iz drugih faj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asciiz 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ješ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word w1…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ješ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-bi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h vrijednosti u uzastopne memorijske lo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2BE-8289-472E-B83F-8BA07C2342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Zamjena 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udoinstru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000080"/>
            <a:ext cx="84582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Pseudo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al</a:t>
            </a:r>
            <a:r>
              <a:rPr b="0" lang="sr-Latn-CS" sz="36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u $sp,$sp,3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iu $sp,$sp,-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 $a0, 32($sp)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 $a0, 32($sp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 $a1, 36($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 $t7,$t6,$t5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 $t6,$t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flo $t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u $t0,$t6,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iu $t0,$t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le $t0,100,loop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ti $at,$t0,10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ne $at,$0,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 $a0, st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ui $at,left(st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i $a0,$at,right(s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044-F83C-4CD1-B1A3-8649A877EB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stavni slučaj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og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k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ov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 neophodna informacija je unutar instruk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grananjem (branch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u odnosu na Program Counter (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 kada se zamije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-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stvarnim instrukcijama, znamo koliko instrukcija da ide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699-2D00-421C-9A3D-93CB10621D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6960" indent="-28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Reference”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 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cije mogu referencira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 koje su naprijed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forward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o se rješava s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olaza kroz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6120" indent="-18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vi prol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mti pozicije lab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6120" indent="-18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rugi prol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risti pozicije labela za generisanje 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95280" y="2514600"/>
            <a:ext cx="784872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r   $v0, $0,  $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1: slt  $t0, $0,  $a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beq  $t0, $0,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L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addi $a1, $a1, -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j    L1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add  $t1, $a0, $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1B5-9F79-4140-B148-D08169AC26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784872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skokovi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zahtijeva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nu adres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pa bez obzira da li je forward ili ne, ne može se generisati kod bez pozicije instrukcije u memori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ma na podat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razbija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e zahtijevaju pu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-bi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podat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vo se ne može odrediti unaprijed, pa se kreiraju dvije tabe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134-8779-4137-830A-514594A39B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abela simbola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vih eleme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items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u fajlu koji mogu biti korišćeni u drugom fajl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su to elemen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poziv funkcij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e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Courier New"/>
                <a:ea typeface="Courier New"/>
              </a:rPr>
              <a:t>.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c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e kojim se može pristupati kroz različite faj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F6A-7C22-4C08-BC58-6051F1B148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41204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leme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items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koje ovaj fajl treba da dresira kasn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su to elemen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labela iz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nutrašnj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poljašnj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cluding lib 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dio poda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o što j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r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Tabela relokacije 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ocation Table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4A4-AB97-485D-BF87-338830900B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object file head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eličina i pozicija drugih dijelova objektnog faj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text segm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m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šinski k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data segm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binar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pr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t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cija podataka iz source-faj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relocation inform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identifi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uj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kode koje treba kasnije obradi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symbol tab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lis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el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 i podataka iz tekućeg fajla koji će možda referencir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debugging in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Fil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A3C-0BA8-4EC8-8083-4A37E251E0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achyonsoft.com/elf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bm.com/developerworks/power/library/pa-spec12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linuxjournal.com/node/1060/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5BA-8601-4FAA-9A58-C1D62D4703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iranje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evo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ko pokrećemo program napisan u jeziku višeg nivo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r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o izvršavamo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Prevodilac (kompajl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ver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laznog (source) jezika 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al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drugom jez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gram u jezik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0E9-CDC5-4A91-9ABB-0DF653634D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Format objektnog faj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802800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8A2-3AFE-4AAC-99BD-D183E33005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Format objektnog faj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22756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9FC-0CF4-44F9-B5B0-07FEA4B089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gramski kod može se nalaziti u više modula, a često se koriste neki utility-programi koji su dio operativ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Linker – program koji povezuje više objektnih programa, rutina operativnog sistema i drugih utility-programa u jednu cjeli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"load modu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Loader - 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ad module" se smješta u operativnu memoriju; loader je često dio OS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Linker i lo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48B-A600-4A64-9484-6C8B796780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732960"/>
            <a:ext cx="8077320" cy="58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Object Code, information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Executable C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b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viš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.o)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lova u jed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lin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mogućava odvojeno prevođenje fajl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a jednog fajla ne zahtijeva rekompilaciju cijelog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Edito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ime zbog promj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z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links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mp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k 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8F4-71C2-4C9C-975A-6C4082D220D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0960" y="76212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.o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1600" y="1219320"/>
            <a:ext cx="117432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2680" y="1828800"/>
            <a:ext cx="130860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data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2320" y="2438280"/>
            <a:ext cx="11728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f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0960" y="342900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o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11600" y="3886200"/>
            <a:ext cx="117432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ex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12680" y="4495680"/>
            <a:ext cx="130860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12320" y="5105520"/>
            <a:ext cx="117288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f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3600" y="289548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Lin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666880"/>
            <a:ext cx="2133720" cy="114300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3480" y="1617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981080"/>
            <a:ext cx="457200" cy="7621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14600" y="3809520"/>
            <a:ext cx="533520" cy="83844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200400"/>
            <a:ext cx="8380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2920" y="2133720"/>
            <a:ext cx="311580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Relocated tex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12920" y="2743200"/>
            <a:ext cx="311580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ocated tex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14000" y="3352680"/>
            <a:ext cx="32500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Relocated data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14000" y="3962520"/>
            <a:ext cx="325008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ocated d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5F9-BB71-48DE-A190-63B948E164A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62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zi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svak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o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i sastavlja i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zima 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svak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o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astavl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i nadovezuje ih na kraj tekst-segme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zrješava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lazi kro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ocation Tabl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obrađuje svaku poziciju tj. popunjava ih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ni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dres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C4B-54FB-4996-BBBD-81B0047E7E9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-Relativ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resiran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ikada se ne premješta (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 relocate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 adres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o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Reference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ič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lo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ference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lo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ipa ad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4DF-B326-4C2D-98A2-2C2DA57E8ED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drese u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0400" indent="-2671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e instrukcije zahtijevaju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ocation editin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format: jump, jump and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ore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im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kci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lati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o u odnosu 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aziv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40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ta sa uslovnim grananj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relativno adres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nje 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očuvano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ako se kod pom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533520" y="2133720"/>
            <a:ext cx="8153280" cy="591120"/>
            <a:chOff x="533520" y="2133720"/>
            <a:chExt cx="8153280" cy="591120"/>
          </a:xfrm>
        </p:grpSpPr>
        <p:sp>
          <p:nvSpPr>
            <p:cNvPr id="124" name="Text Box 5"/>
            <p:cNvSpPr/>
            <p:nvPr/>
          </p:nvSpPr>
          <p:spPr>
            <a:xfrm>
              <a:off x="717840" y="2133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j/j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4703760" y="2133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xxx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2057400" y="213372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33520" y="2133720"/>
              <a:ext cx="8153280" cy="5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609480" y="3657600"/>
            <a:ext cx="8153640" cy="615240"/>
            <a:chOff x="609480" y="3657600"/>
            <a:chExt cx="8153640" cy="615240"/>
          </a:xfrm>
        </p:grpSpPr>
        <p:grpSp>
          <p:nvGrpSpPr>
            <p:cNvPr id="129" name="Group 12"/>
            <p:cNvGrpSpPr/>
            <p:nvPr/>
          </p:nvGrpSpPr>
          <p:grpSpPr>
            <a:xfrm>
              <a:off x="824040" y="3657600"/>
              <a:ext cx="7269120" cy="615240"/>
              <a:chOff x="824040" y="3657600"/>
              <a:chExt cx="7269120" cy="615240"/>
            </a:xfrm>
          </p:grpSpPr>
          <p:sp>
            <p:nvSpPr>
              <p:cNvPr id="130" name="Text Box 13"/>
              <p:cNvSpPr/>
              <p:nvPr/>
            </p:nvSpPr>
            <p:spPr>
              <a:xfrm>
                <a:off x="824040" y="365760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lw/sw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14"/>
              <p:cNvSpPr/>
              <p:nvPr/>
            </p:nvSpPr>
            <p:spPr>
              <a:xfrm>
                <a:off x="2409480" y="36576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g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15"/>
              <p:cNvSpPr/>
              <p:nvPr/>
            </p:nvSpPr>
            <p:spPr>
              <a:xfrm>
                <a:off x="3786480" y="36576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16"/>
              <p:cNvSpPr/>
              <p:nvPr/>
            </p:nvSpPr>
            <p:spPr>
              <a:xfrm>
                <a:off x="5265720" y="3759840"/>
                <a:ext cx="183960" cy="51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17"/>
              <p:cNvSpPr/>
              <p:nvPr/>
            </p:nvSpPr>
            <p:spPr>
              <a:xfrm>
                <a:off x="7908840" y="3759840"/>
                <a:ext cx="184320" cy="51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18"/>
              <p:cNvSpPr/>
              <p:nvPr/>
            </p:nvSpPr>
            <p:spPr>
              <a:xfrm>
                <a:off x="5789880" y="365760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add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Rectangle 19"/>
            <p:cNvSpPr/>
            <p:nvPr/>
          </p:nvSpPr>
          <p:spPr>
            <a:xfrm>
              <a:off x="609480" y="3657600"/>
              <a:ext cx="8153640" cy="5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>
              <a:off x="213372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342900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464832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5"/>
          <p:cNvGrpSpPr/>
          <p:nvPr/>
        </p:nvGrpSpPr>
        <p:grpSpPr>
          <a:xfrm>
            <a:off x="610560" y="4876920"/>
            <a:ext cx="8154000" cy="591480"/>
            <a:chOff x="610560" y="4876920"/>
            <a:chExt cx="8154000" cy="591480"/>
          </a:xfrm>
        </p:grpSpPr>
        <p:grpSp>
          <p:nvGrpSpPr>
            <p:cNvPr id="141" name="Group 26"/>
            <p:cNvGrpSpPr/>
            <p:nvPr/>
          </p:nvGrpSpPr>
          <p:grpSpPr>
            <a:xfrm>
              <a:off x="610560" y="4876920"/>
              <a:ext cx="7481880" cy="520560"/>
              <a:chOff x="610560" y="4876920"/>
              <a:chExt cx="7481880" cy="520560"/>
            </a:xfrm>
          </p:grpSpPr>
          <p:sp>
            <p:nvSpPr>
              <p:cNvPr id="142" name="Text Box 27"/>
              <p:cNvSpPr/>
              <p:nvPr/>
            </p:nvSpPr>
            <p:spPr>
              <a:xfrm>
                <a:off x="610560" y="487692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beq/b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28"/>
              <p:cNvSpPr/>
              <p:nvPr/>
            </p:nvSpPr>
            <p:spPr>
              <a:xfrm>
                <a:off x="2408400" y="48769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r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29"/>
              <p:cNvSpPr/>
              <p:nvPr/>
            </p:nvSpPr>
            <p:spPr>
              <a:xfrm>
                <a:off x="3676680" y="48769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r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Text Box 30"/>
              <p:cNvSpPr/>
              <p:nvPr/>
            </p:nvSpPr>
            <p:spPr>
              <a:xfrm>
                <a:off x="5265360" y="4979160"/>
                <a:ext cx="18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31"/>
              <p:cNvSpPr/>
              <p:nvPr/>
            </p:nvSpPr>
            <p:spPr>
              <a:xfrm>
                <a:off x="7908480" y="4979160"/>
                <a:ext cx="18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32"/>
              <p:cNvSpPr/>
              <p:nvPr/>
            </p:nvSpPr>
            <p:spPr>
              <a:xfrm>
                <a:off x="5788440" y="487692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add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33"/>
            <p:cNvSpPr/>
            <p:nvPr/>
          </p:nvSpPr>
          <p:spPr>
            <a:xfrm>
              <a:off x="611280" y="4876920"/>
              <a:ext cx="8153280" cy="591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>
              <a:off x="221112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343044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464976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9CC-9634-453D-8AD0-77E62788A66C}" type="slidenum">
              <a:t>2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zrješavanje 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renc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cc99"/>
                </a:solidFill>
                <a:latin typeface="Times New Roman"/>
              </a:rPr>
              <a:t>pretpostavlja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je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a riječ prv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na adresi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000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sjetite 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virtu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o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uži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j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račun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e labele na koju se vrši sko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r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 il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svakog podatka koji se referenc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7B2-FB48-48F4-B652-9EE0A7024F7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zrješavanje 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renc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 bi razrješil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ž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 (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podataka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sv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user” ta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h n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đ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, traž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 u library 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l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pr, kada imamo poziv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odre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punjavamo mašinski kod na odgovarajući nač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la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nke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ni fajl koji sadrži kod i podat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us hea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8E9-9B0D-4C72-AAAB-98049404E83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s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čita program napisan u jeziku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izvršava funkcije tog progr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5"/>
          <p:cNvCxnSpPr/>
          <p:nvPr/>
        </p:nvCxnSpPr>
        <p:spPr>
          <a:xfrm flipH="1">
            <a:off x="4571640" y="2057400"/>
            <a:ext cx="21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" name="Diagram 1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08840" cy="25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5FD-8CA6-4A2B-BC2B-FC33D18D07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čk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d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čko poveziva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isali smo tradicionalni nač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atically-lin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blioteka je sada dio izvršnog ko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 ako se ona izmijeni, moramo prekompajlirati naš source da bi uračunali izmjene bibliote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jučena j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it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blioteka čak i ako se ne koristi u potpunos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vršni kod je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contained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ernativ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ynamically linked librar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LL)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običajene 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&amp; UNIX platfor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738a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8ac8"/>
                </a:solidFill>
                <a:latin typeface="Times New Roman"/>
              </a:rPr>
              <a:t>en.wikipedia.org/wiki/Dynamic_l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6FE-7AF0-4FA3-AEE5-9F323B42D13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ally linked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/tim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od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uvan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zahtijeva manje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lan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htijeva manje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vršavan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htijeva manje memor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oni dijele bibliote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Pri izvršavanju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troši se vrijeme da bi se od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dilo povezivanje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 overhead to do link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gra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bibliote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mjena jedog faj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XYZ.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upg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-uje sva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ji koris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XYZ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Nije dovoljno imati samo izvršni ko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5715000"/>
            <a:ext cx="9144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092240" y="-7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9A4-740E-4A1C-B1C3-31E52E2B135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ally linked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inamičko povezivanje usložnjava kompajler, linker i OS, ali ima više prednosti negio ma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istup koji preovladava je da se korist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i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ka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manji zajedničk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est common)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držal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e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koris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u kako 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 biblioteka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ra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j. koji je kompajler ili jezi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o se može opisati ka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linking at the machine code level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što nije jedini nači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C63-5E67-4817-B06D-DC1DBC2ADA4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PS arhitek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1049400"/>
            <a:ext cx="8001000" cy="580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AAE-5521-4B20-A6FB-C09EC29AD5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upravljanje memorij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71720"/>
            <a:ext cx="8229600" cy="54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ma 3 izvora memor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Stati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č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ka 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memor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enlj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glavnom stal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 program 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St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me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rat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onog zapi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stack frame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namičko alociranje memor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 su “živi” dok ih programer ne oslobo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htijeva znanje gdje se nalaze objekti u memoriji, inače programi ne rade kako je očekiv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kriva lokaciju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421-A24C-4047-B791-6790F683A5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791320" y="1295280"/>
            <a:ext cx="243828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i izgle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Memo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dres</a:t>
            </a: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ni pros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regio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namički mu se mijenja ve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jive deklarisane v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r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čitava se kada se program pokrene, ne mijenja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762120"/>
            <a:ext cx="243828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495680"/>
            <a:ext cx="24382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809880"/>
            <a:ext cx="2438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1240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12952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7680" y="45086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6600" y="382284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9240" y="3137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87120" y="76212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858000" y="27432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1295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30520" y="685800"/>
            <a:ext cx="1430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FFFF FFFF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91200" y="5105520"/>
            <a:ext cx="61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0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325-0E83-4DE7-9D2C-77BBA24E7D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91320" y="5029200"/>
            <a:ext cx="243828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762120"/>
            <a:ext cx="24382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 80x86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zgled memorij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x86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dress 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762120"/>
            <a:ext cx="243828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3962520"/>
            <a:ext cx="243828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276720"/>
            <a:ext cx="2438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25909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50292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680" y="39751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6600" y="328932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0160" y="26035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68040" y="449568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58000" y="22093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50292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45720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28720" y="4419720"/>
            <a:ext cx="130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08000000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536-A65B-44B6-8955-8B61D08234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Executabl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(program is r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ni fajlovi čuvaju se na dis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se pokreće program, uloga loader-a je da ga učita u OM i pokrene g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prak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ad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stem (O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in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an od zadata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ACE-6634-4FA5-86BB-9FD43094CFC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927000"/>
            <a:ext cx="8077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radi lo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i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eader izvršnog fajla da odredi veliči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egme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vi adresni prostor dovoljno veliki da sadrž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egmen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i stek-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p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i podatke iz izvršnog fajla u novi adresni prost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može biti bilo gdje u memor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90B-78AF-418C-982B-F1FE203515D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p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predate program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regist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ćina registara se samo očis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i se stek-pokazivač postavlja na prvu slobodnu lokaciju na st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ok 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-up rut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koja kopira argumente programa sa steka u registre i postavlja Program Co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BC1-A2BA-40D1-A6FE-31EE35890FE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revođenje (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sl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cij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vodi program napisan u jezik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inski j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eso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rsk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 mašinski jezi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iagram 15" descr=""/>
          <p:cNvPicPr/>
          <p:nvPr/>
        </p:nvPicPr>
        <p:blipFill>
          <a:blip r:embed="rId1"/>
          <a:stretch/>
        </p:blipFill>
        <p:spPr>
          <a:xfrm>
            <a:off x="2084400" y="3121200"/>
            <a:ext cx="4968720" cy="34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0B8-04A0-4F19-9BD9-0D3BB2917B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240" y="1785600"/>
            <a:ext cx="8915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int main (int argc, char *argv[]) {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int i, sum = 0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for (i = 0; i&lt;= 100; i++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 sum = sum + i * i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printf ("The sum of sq from 0 .. 100 is %d\n",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um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47200" y="121932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C Program Source Code: 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72120" y="5715000"/>
            <a:ext cx="37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“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printf</a:t>
            </a: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” lives in “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libc</a:t>
            </a: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m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5BB-27BE-4D02-90AA-F3DDBE5C32C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38862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b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0, 32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6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ul$t7, $t6,$t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8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9,$t8,$t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9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00240" y="762120"/>
            <a:ext cx="38480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0, $t6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le $t0,10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0, 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1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al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ove $v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i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r $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sciiz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"The sum of sq from 0 .. 100 is %d\n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4572000" y="1066680"/>
            <a:ext cx="0" cy="5334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031880" y="419112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dje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 pseudo-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rukcij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ation: 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1F6-9C37-4393-95F6-34F6CCAE84F2}" type="slidenum">
              <a:t>41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38862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sub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sd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$a0, 32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6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mul$t7, $t6,$t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8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9,$t8,$t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9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00240" y="762120"/>
            <a:ext cx="38480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addu $t0, $t6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ble $t0,10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la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$a0, 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1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al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move $v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i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r $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sciiz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"The sum of sq from 0 .. 100 is %d\n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4572000" y="1066680"/>
            <a:ext cx="0" cy="5334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032960" y="4191120"/>
            <a:ext cx="18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 pseudo-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rukcija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dvu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ation: 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744-F4A5-4E61-BDB7-A37D7727FD13}" type="slidenum">
              <a:t>4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51920" y="1560240"/>
            <a:ext cx="449604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0 addiu 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8 sw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c sw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    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    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   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 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20 mflo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 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   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 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   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23920" y="1563480"/>
            <a:ext cx="441972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8 slt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c bne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1,$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0 lu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 l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4 or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$4,r.st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50 add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    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80240" y="77616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klanjanj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pseudoinstru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c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odjela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adr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648320" y="1447920"/>
            <a:ext cx="0" cy="51051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2BB-3B9E-4659-8F0E-38E41F6D99E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5530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3240" y="1255680"/>
            <a:ext cx="748512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imbo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649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ress (in module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0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loba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18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6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o relok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649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.  typ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Depend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.st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4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.st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95240" y="685800"/>
            <a:ext cx="75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re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ranje 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ta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elokacije i tabele sim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05E-57DD-4013-AB85-DB49D8D6FB6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934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483920"/>
            <a:ext cx="4496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 addiu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8 sw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c sw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0 mflo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23920" y="1487520"/>
            <a:ext cx="4419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8 slti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c bne$1,$0, 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0 lui$4,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l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4 ori$4,$4,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r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0 add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94080" y="762120"/>
            <a:ext cx="65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zrješiti 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a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PC-relativ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e labe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4648320" y="1523880"/>
            <a:ext cx="0" cy="5029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6E7-66A0-4039-8F90-CA722472548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nje objektnog fajl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n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u 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 segment (instr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egment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bela simbola i tabela reloakci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e se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placeholders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nerazrješ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solutne i eksterne re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FFB-E978-48DE-8F13-E8ECE806C06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67960" y="151920"/>
            <a:ext cx="75898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om faj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784872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11101111011111111111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11111000000000001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1000000000000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101000000000010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000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00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0111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11000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1110011100000000000011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011100100000000000000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10010000000100000000011001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100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0000000000111100000010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110000111111001000001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101000010000011111111111101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11001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1110000000100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00101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110000010000000000001110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11111000000000001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11101111010000000000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1111100000000000000000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00000000000010000001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5A2-4C30-4CAF-A2A1-FE6C694469F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210600"/>
            <a:ext cx="8991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1: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bin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g.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libc.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Spaj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ext/data segmen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 memor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ske adr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if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ikuje i spaja tabele simbola i relokac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a simbol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0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100004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printf: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3b0  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cija o relokacij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. 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enden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uil.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rir.st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lprintf  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5CE-24E9-49D7-8462-537773EAF90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865160"/>
            <a:ext cx="4496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 addiu 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8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c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    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    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   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 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0 mflo 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   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 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   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23920" y="1868400"/>
            <a:ext cx="4419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8 slt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c bne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,$0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0 lu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 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09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4 or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$4,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107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8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0 ad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  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3520" y="685800"/>
            <a:ext cx="815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eni adrese u tabeli relo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18 VAG Rounded Bold   0739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(</a:t>
            </a:r>
            <a:r>
              <a:rPr b="1" i="1" lang="sr-Latn-CS" sz="2400" spc="-1" strike="noStrike">
                <a:solidFill>
                  <a:srgbClr val="808080"/>
                </a:solidFill>
                <a:latin typeface="Arial"/>
              </a:rPr>
              <a:t>prikazano HEX</a:t>
            </a:r>
            <a:r>
              <a:rPr b="1" i="1" lang="en-US" sz="2400" spc="-1" strike="noStrike">
                <a:solidFill>
                  <a:srgbClr val="808080"/>
                </a:solidFill>
                <a:latin typeface="18 VAG Rounded Bold   07390"/>
              </a:rPr>
              <a:t>, </a:t>
            </a:r>
            <a:r>
              <a:rPr b="1" i="1" lang="sr-Latn-CS" sz="2400" spc="-1" strike="noStrike">
                <a:solidFill>
                  <a:srgbClr val="808080"/>
                </a:solidFill>
                <a:latin typeface="Arial"/>
              </a:rPr>
              <a:t>ali se radi u bunarnim</a:t>
            </a: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4648320" y="1676520"/>
            <a:ext cx="0" cy="4876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8C2-00A4-41C7-A43E-007BA606892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vs. Trans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akše je nap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bliži PJ, pa daje bolji opis greš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spor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0x?)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i je kod manj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X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je mogućnost nezavisnosti skupa instruk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ava se na svakoj maš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F2C-3C14-4786-8ED8-505F04548C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142640"/>
            <a:ext cx="784872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Daj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izvršnu verziju spojenih modul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Jed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instruct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Jed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at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daje detalje o veličini segmen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85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sr-Latn-CS" sz="3400" spc="-1" strike="noStrike">
                <a:solidFill>
                  <a:srgbClr val="00cc99"/>
                </a:solidFill>
                <a:latin typeface="Times New Roman"/>
              </a:rPr>
              <a:t>apomena</a:t>
            </a:r>
            <a:r>
              <a:rPr b="0" lang="en-US" sz="34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Prethodni primjer je pojednostavljena verzija kako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F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 drugi standardni formati rade. Primjer ilustruje samo osnovne elemen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BA5-B5D2-4F42-8E6F-955B031DF33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vs. Trans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lated/compiled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kod je skoro uvijek efikasniji i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ima bolje preformans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ažno za mnoge aplikacije, posebno O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lation/compilation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pomaže sakrivanju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“source”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od korisnik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el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za zarađivanj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Microsoft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čuva svoj source  ko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ternati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ni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del, “open source”,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ra vrijednost objavljivanjem source kod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38C-DD5A-4CB8-BAB0-8483CC21D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okretanje prevedenog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iagram 33" descr=""/>
          <p:cNvPicPr/>
          <p:nvPr/>
        </p:nvPicPr>
        <p:blipFill>
          <a:blip r:embed="rId1"/>
          <a:stretch/>
        </p:blipFill>
        <p:spPr>
          <a:xfrm>
            <a:off x="2309760" y="225360"/>
            <a:ext cx="4518000" cy="656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A9B-F0FE-4401-8607-58810E8316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73915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3059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High-Level Language C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sc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Jav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Assembly Languag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pom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la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ož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drža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seudo-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(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doinstruction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seudo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cije ko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embl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umije ali ih mašina ne razum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 $s1,$s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55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r $s1,$s2,$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C4D-A769-49D5-A01D-4E4D1455CF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Proces prevođe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03200" y="1143000"/>
          <a:ext cx="56073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143000"/>
                    <a:ext cx="5607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ECC-1494-4255-9A46-0A2F8B4289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4:38:27Z</dcterms:created>
  <dc:creator>Nikola Radovanovic</dc:creator>
  <dc:description/>
  <dc:language>en-US</dc:language>
  <cp:lastModifiedBy>gorans</cp:lastModifiedBy>
  <dcterms:modified xsi:type="dcterms:W3CDTF">2011-02-10T08:15:11Z</dcterms:modified>
  <cp:revision>226</cp:revision>
  <dc:subject/>
  <dc:title>Implementacija jezika</dc:title>
</cp:coreProperties>
</file>