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BAC-60E6-4A90-80DA-2C0997A5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tate iff has  dot at end: I1, I2, I4, I7, I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 state has dot at end of start prod: I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if state has one reduce item, som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A0D-9F11-4A00-BBC9-4A10A49F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2F0-059C-42E5-9DF6-DDE3F1DA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F70-A9CE-424F-932D-89C524B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69A-6496-408D-A597-9E1ABE11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8BF-BC28-436D-9F04-D2239F1D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145-A6CA-4552-B66A-F2AE13B7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6C7-6772-461B-8FD0-A57A64B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BEF-6C23-4D76-B5AD-6B0A7A7B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F9C-1C95-4900-B8E5-B003C731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496-9B63-45B5-84BD-460465D2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C4D-132D-4E2D-9B37-9257009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1CF-6C89-43AD-AB29-D856CE6F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4CA-10AE-41AD-8BE2-857DC79E2C6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4DC-F6EF-4060-9521-AA06A402BD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A3D4F-A5E1-4FBE-9018-4350373019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imjerim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stek se stavljaju tokeni i neterminalni simbo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u, čitavo stanje se stavlja na ste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tanja čuva informaciju o “lijevom kontekstu”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šta je do određenog trenutka obrađe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šta je stavljeno na stek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e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 i reducira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na osnovu kojeg pravil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tabela akcija da odluči između shift i redu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 prel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a za određivanje novog sta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A15-0514-44AB-8047-3F5BF730E6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750A6-2BF7-4D0B-B20C-129EB99BDB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Glav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tlja program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0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e stavlja na vrh stek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dato stan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a vrhu steka i sledeći ulazni toke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tion[St, a] == shift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tion[St, 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zovi leksički analizator za sledeći tok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1…Xn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n st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ja da bi odredili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v = Goto[Su,Y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accept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spješan kra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error),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može nastaviti parsiran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B1E-F84E-4EF6-8A84-AD5E8F29BC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1F9F5-7135-46C3-9E11-2F949C756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143000"/>
          <a:ext cx="8686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062000"/>
                <a:gridCol w="1101600"/>
                <a:gridCol w="1101960"/>
                <a:gridCol w="1103400"/>
                <a:gridCol w="1117440"/>
                <a:gridCol w="955800"/>
                <a:gridCol w="1101600"/>
              </a:tblGrid>
              <a:tr h="444240">
                <a:tc row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anje na vrh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tek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Go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0"/>
            <a:ext cx="221004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7B6-0D94-4E80-9197-E129854C69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85B46-70F7-4B83-AD4A-2528481FA7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762120"/>
          <a:ext cx="8686800" cy="57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4572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te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obrađeni ul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cija Par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 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a ste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čitaj sledeći ulazni si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pop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a steka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 goto S2,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laz nepromijenjen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(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ledeći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goto 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3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E), goto 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1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E + T, goto S1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c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1911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Ne treba reduce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; nije u S2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CB5-8EAE-4198-9233-88B46F6628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B710B-C164-4551-8EFF-EDF7032C03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ednosti LR parser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d LL tabela, pravilo se bira na osnovu jednog ulaznog smbola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U LR tabelama, postoji čitav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edistori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smo da ne treba reducira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grešno vrij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FE9-32E0-401C-9214-FC1B4FFA04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0C05-1B28-4C0D-94FF-AA65F9D2B5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Tipovi L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(k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(k)  -- Simple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(k) – Lookahead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 = # symbols lookahead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1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ovom kurs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mo sa najprostijim slučaje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LR(0) pars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A36-B5DA-4857-80AA-4DBD6010AC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D8A0F-62C3-4535-A263-BBB89273EB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jednostavnij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dosta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 su prev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prosti za real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ju dobar primjer kako se grad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bel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ć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cije u drugi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k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0E4-8E31-499C-B8D9-9B65F34E68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43D7-977F-4532-90F8-7506D8158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juč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nje je 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z simbola kodiranih u stanje na vrhu steka i predstavlja desnu stranu pravila koje primjenjujemo kod red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(D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sna sentencijalna for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- Right sentential form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 b C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mam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 Y A b 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treba da “uhvate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čin p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znavanj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4AD-4BE5-43B2-8610-730B78B027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EB9F7-856F-4893-9CD5-919F5A03B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identif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kuju moguća stanja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obuhvata šta smo vidjeli i sve shiftove i reduce do određenog trenut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anje stanja korišć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konfigura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 (itema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hvatanje prelazaka između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4B4-77F1-473B-9391-7AC7198CC2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4050F-E782-4C52-AE23-15D34BD266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a je pravilo gramatike G sa tačkom na desnoj strani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e su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čka predstavlja mjesto do kog je parser stigao u prepoznavanju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stek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  Reduce!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if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an   Za nastavak parsiranja očekujemo string koji se može izvesti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13C-426E-4176-905B-E105D6C2EB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93E9B-8822-4929-B5E8-A2895D0B0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rtujemo od niza terminalnih simbo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blo gradimo od listova ka korijen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imjena produkcija ”unazad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mo dostigli startni simbol i kraj ulaznog niza, uspjeh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je uobič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ottom-up 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hn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D95-08B9-443E-AF6D-C625CD0CD6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90EC5-EF07-44FB-BECD-D2755EC5C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(itemi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Z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tavljen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nastavak parsiranja očekujemo string koji se može izvest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ekujemo da vidimo token iz skup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rst(Y)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kupa Follow(Y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n nam je tok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av 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=&gt;* 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neko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 v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tpostavimo da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|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ođe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.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da sledeće konfiguracije odgovaraju istom stanju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3A2-5F63-44C3-9F69-0CA24CE6B4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FB93D-0EFD-4E9D-A6F6-D0D0178552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reiranje skupa 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v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konfiguracije u jedan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viti sve konfiguracije u jedan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 sve druge ekvivalentne konfiguracije da bi postigli zatvore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itam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a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sn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vaj skup predstavlja jedno stanje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e u kome parser može biti prilikom obrade nekog stringa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A7F-B356-4949-A45C-20565A4C76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F8F76-EA9F-4A34-AB21-308F955E17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lasci između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zi iz jednog u drugo stanje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rađenog simbol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deliranje parsiranja kao konačnog automa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tanj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skup konfiguracija) ima 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u na k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ju, tada je ono zav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n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grad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na osnovu ovog konačnog automa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743200"/>
            <a:ext cx="12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057400"/>
            <a:ext cx="6477120" cy="1191240"/>
            <a:chOff x="914400" y="2057400"/>
            <a:chExt cx="6477120" cy="1191240"/>
          </a:xfrm>
        </p:grpSpPr>
        <p:sp>
          <p:nvSpPr>
            <p:cNvPr id="100" name=""/>
            <p:cNvSpPr/>
            <p:nvPr/>
          </p:nvSpPr>
          <p:spPr>
            <a:xfrm>
              <a:off x="9968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64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Y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3414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4C3-C75F-4E33-B863-C7BD7F65D3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0D775-8214-4BBD-9EF6-1D2C72A810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skup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tvore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etna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unimo g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tiku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c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azni skup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radi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 elemen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drediti zatvorenje (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sure) 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’ -&gt;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ime kompletiramo startno stanje parse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va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 fu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da 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redili sledeće st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206-920F-4A75-B5A2-13D8BDB07D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4F5C4-AEF0-44C2-8494-4415612631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čunavanje zatvorenja(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konfigurac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skup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terminalnim simbolom, kra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nače, 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im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za sve produkcije  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onoviti zatvorenje na svim dodatim konfiguracijama. Postupak se nastavlja sve dok ima novih elemenata u skupu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FF2-C159-4CFD-BF25-47428F58F5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AAFC5-2414-4B24-9CD4-B89BCE599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: closure(S’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496880"/>
            <a:ext cx="2522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0" y="1676520"/>
          <a:ext cx="3429000" cy="1552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85800" y="2133720"/>
            <a:ext cx="252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43200"/>
            <a:ext cx="3276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352680"/>
            <a:ext cx="2522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962520"/>
            <a:ext cx="396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 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55D-8ADE-4C73-B8D8-8D340DBC57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72DA9-877B-4925-A39D-FC3204245C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tabele prelaza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mora da zna u koje stanje prelazimo poslije shift-a ili reduc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bol X, 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’ =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C,X) 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d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svaku konfiguracij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bl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a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to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raditi zatvoren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5105520"/>
            <a:ext cx="2286000" cy="459720"/>
            <a:chOff x="2971800" y="5105520"/>
            <a:chExt cx="2286000" cy="459720"/>
          </a:xfrm>
        </p:grpSpPr>
        <p:sp>
          <p:nvSpPr>
            <p:cNvPr id="118" name=""/>
            <p:cNvSpPr/>
            <p:nvPr/>
          </p:nvSpPr>
          <p:spPr>
            <a:xfrm>
              <a:off x="2971800" y="5105520"/>
              <a:ext cx="45720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3080" y="5105520"/>
              <a:ext cx="50472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3429000" y="5486400"/>
              <a:ext cx="1286640" cy="10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7339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365-1B0E-4B05-B2F5-F50CA11223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160C9-F9A1-418A-BD21-ABEA8BD86F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(C,X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1496880"/>
            <a:ext cx="7932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“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anje za simbol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”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 jednog skupa u dru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iti tačku des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 X u svim konfiguracijama gdje je tačka bila pr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kloniti sve ostale konfigur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čka je prije nekog drugog simbola koji nije X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viable prefixes on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j zatvorenje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osur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0C8-7438-4DE4-836A-65782DFDF3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359BB-A68C-4545-AD07-A392F8277B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0"/>
            <a:ext cx="791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 = {S’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 *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 T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Successor(C, “(“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}  [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mo jedno pravil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i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ose: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odajem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{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*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dodajemo rekurzivn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onov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u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,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pa dodajem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d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Fiks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tačka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,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, 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,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d, 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562720" y="990720"/>
          <a:ext cx="3047760" cy="13716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170-BBD9-43C6-88C8-810460E79B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6F469-C54D-4344-8B2C-59AD2A34D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od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enerisanje familije svih st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= closure{ S’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}.  F = {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vaki 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v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vo da s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račun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dod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navljati korak 2, dok god ima promjena u skupu F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0FC-C3AD-4C68-A35D-CA27A20B97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641DC-3F48-4C1A-AC96-13E5DE0D81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op-down vs Bottom-u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izražajn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je teže napisati ručno, ali posto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yac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iso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generisa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pe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fik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maksimalnu upotrebljivost YACC-a moraju se znati teorijske osno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tu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bottom-up pars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i odlažu odluku koju produkciju primjeniti dok nam više podataka ne bude dostupno nego kod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44B-AA7D-4DBA-91AC-373595FA65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4F276-CFFC-4384-910D-5CEC53CC88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2286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konfiguracij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220968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670572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Skup konfiguracij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ucc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0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•E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E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’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rav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2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•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id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4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(E•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E)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3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1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FEA-44CA-458B-AD2C-DC29F449F3C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D7B9F-5310-46F2-A3FA-10935EABE2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tanja i prelasci kao graf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083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6440" y="1035000"/>
            <a:ext cx="186984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7149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602080"/>
            <a:ext cx="13716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1052640"/>
            <a:ext cx="184932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2266920"/>
            <a:ext cx="18032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35200"/>
            <a:ext cx="14940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6971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3"/>
            <a:endCxn id="137" idx="1"/>
          </p:cNvCxnSpPr>
          <p:nvPr/>
        </p:nvCxnSpPr>
        <p:spPr>
          <a:xfrm>
            <a:off x="2133720" y="3285720"/>
            <a:ext cx="838800" cy="2407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0"/>
            <a:endCxn id="136" idx="1"/>
          </p:cNvCxnSpPr>
          <p:nvPr/>
        </p:nvCxnSpPr>
        <p:spPr>
          <a:xfrm flipH="1" flipV="1" rot="5400000">
            <a:off x="1087920" y="1549800"/>
            <a:ext cx="85176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46" idx="1"/>
          </p:cNvCxnSpPr>
          <p:nvPr/>
        </p:nvCxnSpPr>
        <p:spPr>
          <a:xfrm flipV="1">
            <a:off x="4876920" y="4986000"/>
            <a:ext cx="776880" cy="707040"/>
          </a:xfrm>
          <a:prstGeom prst="curvedConnector5">
            <a:avLst>
              <a:gd name="adj1" fmla="val 49884"/>
              <a:gd name="adj2" fmla="val 49974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6000" y="435132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2876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132876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28480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6891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20" y="4711680"/>
            <a:ext cx="3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680" y="1920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9960" y="6094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0080" y="43275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2109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76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1600" y="776160"/>
            <a:ext cx="579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1240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36" idx="3"/>
            <a:endCxn id="158" idx="2"/>
          </p:cNvCxnSpPr>
          <p:nvPr/>
        </p:nvCxnSpPr>
        <p:spPr>
          <a:xfrm flipV="1">
            <a:off x="3716280" y="1179000"/>
            <a:ext cx="14565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5" idx="3"/>
            <a:endCxn id="138" idx="1"/>
          </p:cNvCxnSpPr>
          <p:nvPr/>
        </p:nvCxnSpPr>
        <p:spPr>
          <a:xfrm flipV="1">
            <a:off x="2133360" y="2839320"/>
            <a:ext cx="114372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653080" y="4564080"/>
            <a:ext cx="17971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880" y="5257800"/>
            <a:ext cx="12668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–&gt;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35" idx="2"/>
            <a:endCxn id="162" idx="0"/>
          </p:cNvCxnSpPr>
          <p:nvPr/>
        </p:nvCxnSpPr>
        <p:spPr>
          <a:xfrm flipH="1">
            <a:off x="1041120" y="4262040"/>
            <a:ext cx="14040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800600" y="3276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114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176040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37" idx="3"/>
            <a:endCxn id="137" idx="2"/>
          </p:cNvCxnSpPr>
          <p:nvPr/>
        </p:nvCxnSpPr>
        <p:spPr>
          <a:xfrm flipH="1">
            <a:off x="3924000" y="5692680"/>
            <a:ext cx="953280" cy="977040"/>
          </a:xfrm>
          <a:prstGeom prst="curvedConnector5">
            <a:avLst>
              <a:gd name="adj1" fmla="val -23989"/>
              <a:gd name="adj2" fmla="val 61702"/>
              <a:gd name="adj3" fmla="val -2398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5181480" y="6221520"/>
            <a:ext cx="3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endCxn id="137" idx="0"/>
          </p:cNvCxnSpPr>
          <p:nvPr/>
        </p:nvCxnSpPr>
        <p:spPr>
          <a:xfrm flipH="1">
            <a:off x="3924000" y="2246040"/>
            <a:ext cx="1650240" cy="246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39" idx="1"/>
            <a:endCxn id="138" idx="0"/>
          </p:cNvCxnSpPr>
          <p:nvPr/>
        </p:nvCxnSpPr>
        <p:spPr>
          <a:xfrm flipH="1">
            <a:off x="3962160" y="1661760"/>
            <a:ext cx="125784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905120" y="60199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8" idx="2"/>
            <a:endCxn id="137" idx="0"/>
          </p:cNvCxnSpPr>
          <p:nvPr/>
        </p:nvCxnSpPr>
        <p:spPr>
          <a:xfrm flipH="1">
            <a:off x="3924000" y="3076200"/>
            <a:ext cx="388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581280" y="363204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9" idx="2"/>
            <a:endCxn id="146" idx="0"/>
          </p:cNvCxnSpPr>
          <p:nvPr/>
        </p:nvCxnSpPr>
        <p:spPr>
          <a:xfrm>
            <a:off x="6144840" y="2208240"/>
            <a:ext cx="407160" cy="23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24360" y="990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2986200"/>
            <a:ext cx="5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456876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37" idx="2"/>
            <a:endCxn id="162" idx="3"/>
          </p:cNvCxnSpPr>
          <p:nvPr/>
        </p:nvCxnSpPr>
        <p:spPr>
          <a:xfrm flipV="1" rot="16200000">
            <a:off x="2212200" y="4956840"/>
            <a:ext cx="1173960" cy="2250360"/>
          </a:xfrm>
          <a:prstGeom prst="curvedConnector5">
            <a:avLst>
              <a:gd name="adj1" fmla="val -19478"/>
              <a:gd name="adj2" fmla="val 35552"/>
              <a:gd name="adj3" fmla="val -19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9" idx="3"/>
            <a:endCxn id="140" idx="0"/>
          </p:cNvCxnSpPr>
          <p:nvPr/>
        </p:nvCxnSpPr>
        <p:spPr>
          <a:xfrm>
            <a:off x="7068960" y="1633320"/>
            <a:ext cx="920160" cy="63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6" idx="3"/>
            <a:endCxn id="141" idx="2"/>
          </p:cNvCxnSpPr>
          <p:nvPr/>
        </p:nvCxnSpPr>
        <p:spPr>
          <a:xfrm flipV="1">
            <a:off x="7449840" y="3983760"/>
            <a:ext cx="76572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985-6143-437E-A40B-4EA6F80268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84D9A-C9EE-4204-9EB4-E6106D755D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skupov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onstruisa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...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}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l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u skupova konfiguracija z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'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nj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odre</a:t>
            </a:r>
            <a:r>
              <a:rPr b="0" lang="sl-SI" sz="2400" spc="-1" strike="noStrike">
                <a:solidFill>
                  <a:srgbClr val="000099"/>
                </a:solidFill>
                <a:latin typeface="Comic Sans MS"/>
              </a:rPr>
              <a:t>đ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n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i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cija za stanje i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redukci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  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i ulazni n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 –&gt; S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$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ccep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 –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a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ccessor(Ii, a) = Ij,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shift j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bela prelazaka 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 za sve neterminalne simbole 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uccessor(Ii, A) = Ij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d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[i, A] = j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D6D-ED16-4ADE-8BCA-0496C72819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E752B-0809-4AA4-B3CC-FE8E3989A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načenje opera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ing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u nov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ndl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klanjamo ga s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e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Pop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stek stavljamo odgovarajući neterminalni simbol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ccepting: 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po pravil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praznim ulazo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rror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zno mjesto u tabeli ( nema načina da se izvede shift ili reduce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58-E269-45AF-8684-2453919E5D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FDE50-259E-405A-9F20-C5EFE6179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pogrešnog ulaz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Ulaz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ing: id 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371600"/>
          <a:ext cx="8610480" cy="4952880"/>
        </p:xfrm>
        <a:graphic>
          <a:graphicData uri="http://schemas.openxmlformats.org/drawingml/2006/table">
            <a:tbl>
              <a:tblPr/>
              <a:tblGrid>
                <a:gridCol w="1448280"/>
                <a:gridCol w="2333880"/>
                <a:gridCol w="4828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Stek st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Neobrađeni ul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kcija p</a:t>
                      </a:r>
                      <a:r>
                        <a:rPr b="0" lang="en-U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rser</a:t>
                      </a: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 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4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 stek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br>
                        <a:rPr sz="2400"/>
                      </a:b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čitanje sledećeg tok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4) 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id, pop S4, Goto 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2)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T, pop S2, Goto 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ema Action [S5, +]  Error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29400" y="152280"/>
            <a:ext cx="236232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69F-DF84-4386-B7DF-86A79BFECE8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0CECB-CD2D-41C1-930A-2B67CA16F4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ma man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a 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7880" y="1496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1447920"/>
          <a:ext cx="3276720" cy="25272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= T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343400" y="1447920"/>
            <a:ext cx="4343400" cy="1752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: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= T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352680"/>
            <a:ext cx="434340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: 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ma sve informacije potrebne da se odlučimo između shift i reduc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E5E-C4BA-450A-8139-B513C9CAC85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C404-2B23-4983-B70E-D1345E548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meha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ottom-up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e (konfiguracije)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stavljamo tačku na sve moguće pozicij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skupove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, koje predstavljaju stanja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kupovi zatvoreni u odnosu na ekvivalencij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ske iz funkcije      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ccessor (state, symbol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radimo tabel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cija i prelaza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implementir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 parse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[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a i prelas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ao konačni autom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588-4E03-4DE2-84F0-A98923BE62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262FC-2132-45D6-B02B-63AA1A617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figuracija reprezentuje koliko daleko je 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ser dospio u prepoznavanju desne strane nekog pravila gramta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 kombinuje različite putanje koje je parser  mogao imati do tog trenut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ačni automat je mašina čije računanje predstavlja željeni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su najlakše za shvatanje, ali nemaju realnih prim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565-2196-4152-91F2-81B9C550270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7B67-7174-46AB-A301-2CFB8B88DD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7880" y="1496880"/>
            <a:ext cx="7780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Želimo moćne gramatike, čije tabele neće biti ogromnih razm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352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š cilj: izabrati dovoljno moćnu gramatiku za koju tabela neće biti veli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za čiju konstrukciju nećemo potrošiti previše vrem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E8E-D260-4324-824B-2E960F7ECAAE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1DC1E-E0C8-4CAA-B434-04DE8DDBEE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imple 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  SLR(1)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d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e ne smije sadrž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tovremen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dv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i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mplet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ite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čka na kr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ra biti u posebn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;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e uvijek primjeniti redukciju u t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viri unaprijed u ulazni niz da se provjeri da li je redukcija pogod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je redukcije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vjeriti da li je sledeći token u skup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A).  Redu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ti samo ako to jeste slučaj, inače u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01F-5BE6-404B-B548-CB37C18F0D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947E8-2695-4D7A-8079-03A0ECF724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riste se kontekstno-slobodne gramatik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risti se stek za čuvanje obrađenih tokena i pravila koja su već primjenjen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oku parsir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vi dio u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jelimično 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esni dio ulaza je potpuno ne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foo (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) { return (int) n+1 ;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ed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jelimično obrađe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obrađe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omjer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) sledeći ulazni to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 na stek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ada vrh steka sadrži desnu stranu neke produkcije, zamijeniti je sa odgovarajućom lijevom stranom (redukcija)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D88-95C3-46B7-9573-8D3707551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00D5-81A2-4888-803F-D6BD8FE2D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onstruisat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...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}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kupove LR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0) item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. 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i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cija za dato stanje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a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a] reduce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za svako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iz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Follow(A)  (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nije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S'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b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S' –&gt; S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cept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c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 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Action[i,a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=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hift j (a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mora biti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terminal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3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elazi za stan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e konstruišu za sve neterminale primjenom pravila: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B2A-13E3-43A7-8148-FFC04AA297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D9EC5-DFC7-4B04-B2BC-D2F4FD4601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vojstv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dina razlika u odnosu na LR(0) je različit način definisanja tabel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SLR(1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nema nejasnoća, ali obrnuto ne važ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e može imati istovreme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ovi disjunkt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1A5-C13E-4203-85E1-C219A45829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6344-1042-4F7B-AAE3-D662DC38A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 (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id)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i 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sultu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T) = {  +  )  ]  $  }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+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$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[E]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ostalim slučajev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j.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[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304920"/>
            <a:ext cx="220968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219320"/>
            <a:ext cx="2133360" cy="24966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6600"/>
              <a:gd name="textAreaBottom" fmla="*/ 2392560 h 2496600"/>
            </a:gdLst>
            <a:ahLst/>
            <a:rect l="textAreaLeft" t="textAreaTop" r="textAreaRight" b="textAreaBottom"/>
            <a:pathLst>
              <a:path w="21600" h="25277">
                <a:moveTo>
                  <a:pt x="3600" y="0"/>
                </a:moveTo>
                <a:arcTo wR="3600" hR="3600" stAng="16200000" swAng="-5400000"/>
                <a:lnTo>
                  <a:pt x="0" y="21677"/>
                </a:lnTo>
                <a:arcTo wR="3600" hR="3600" stAng="10800000" swAng="-5400000"/>
                <a:lnTo>
                  <a:pt x="18000" y="25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057400"/>
            <a:ext cx="216540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666520" y="2438280"/>
            <a:ext cx="1143720" cy="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819520" y="25146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D2B-3924-4CE9-B3F8-E64D30C9C2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15C2F-A30C-405A-B2C0-70FD11CE17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05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va komplet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LR(0)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stoji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T) = { + ) $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V) = { =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va 2 skupa su disj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nktn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 nema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vojena polja u tabeli akci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457200"/>
            <a:ext cx="4800600" cy="2862360"/>
            <a:chOff x="228600" y="457200"/>
            <a:chExt cx="4800600" cy="2862360"/>
          </a:xfrm>
        </p:grpSpPr>
        <p:sp>
          <p:nvSpPr>
            <p:cNvPr id="219" name=""/>
            <p:cNvSpPr/>
            <p:nvPr/>
          </p:nvSpPr>
          <p:spPr>
            <a:xfrm>
              <a:off x="228600" y="457200"/>
              <a:ext cx="2133720" cy="286236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2862360"/>
                <a:gd name="textAreaBottom" fmla="*/ 2758320 h 2862360"/>
              </a:gdLst>
              <a:ahLst/>
              <a:rect l="textAreaLeft" t="textAreaTop" r="textAreaRight" b="textAreaBottom"/>
              <a:pathLst>
                <a:path w="21600" h="28975">
                  <a:moveTo>
                    <a:pt x="3600" y="0"/>
                  </a:moveTo>
                  <a:arcTo wR="3600" hR="3600" stAng="16200000" swAng="-5400000"/>
                  <a:lnTo>
                    <a:pt x="0" y="25375"/>
                  </a:lnTo>
                  <a:arcTo wR="3600" hR="3600" stAng="10800000" swAng="-5400000"/>
                  <a:lnTo>
                    <a:pt x="18000" y="28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'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+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V =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(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1295280"/>
              <a:ext cx="1523880" cy="914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9" idx="3"/>
              <a:endCxn id="220" idx="1"/>
            </p:cNvCxnSpPr>
            <p:nvPr/>
          </p:nvCxnSpPr>
          <p:spPr>
            <a:xfrm flipV="1">
              <a:off x="2361960" y="1750320"/>
              <a:ext cx="1143720" cy="136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590920" y="1447560"/>
              <a:ext cx="533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248520" y="685800"/>
            <a:ext cx="2209680" cy="2075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V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3CE-038B-4528-8C02-82500629A5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0E42-6196-4CB8-B3CA-5C8D8F4516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v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 ter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a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postoji kompleta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 B -&gt; w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tom skupu tako da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ab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m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a funkcija 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uccessor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z datog skupa ili prelazi u novo stanje ili reducira (ne oboje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a dva kompletn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 Follow s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upovi moraju biti disjunktn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Follow(A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azan skup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)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će postojati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. ako postoji više od jednog neterminala u ovom skupu koji možemo reducirati, na jedinstven način možemo odrediti koji reducuramo na osnovu samo jednog tokena "unaprijed" (lookahaed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LR(1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9F9-FFDE-4D39-8839-A497563F561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5017B-028F-415F-8D3B-DC7F5381D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koji 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0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5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id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 =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6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=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1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S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7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R•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2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=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8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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9: S –&gt; L =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3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4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152280"/>
            <a:ext cx="1447920" cy="21049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L 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–&gt;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114800"/>
            <a:ext cx="6019560" cy="2526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sa ulaz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id = i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obija 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ji nije razriješ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upovi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našanje 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razliku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smo vidjel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olik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o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a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Ign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san je dio k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ta parsiran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65D-6E33-47DA-B6B6-0B04F66DAFB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C28C3-2745-4D48-AFE8-40404624EA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Nedostaci S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više informac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ne i kompletnu informaci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dalje može prepoznati pogrešan handle ili prevremeno uraditi redukci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ak 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vlj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ecifičnije informacije o prelasku između stanja, pa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napređiv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eiranjem specifičnije istorije stanja na vrhu ste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84F-2F25-4E39-87B5-DEBC736B14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4EDF6-3309-47D1-A957-FE07D4E2B6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i nose v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e informacija nego kod LR(0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&gt; X1...Xi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i+1...Xj  , to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ni simbol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ookahead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Znač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X1…X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 su već na stek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Očekujemo da naiđu 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i+1...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a treba staviti na stek i onda reducirati, a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samo ak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oken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i slijedi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k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može bi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AA0-2BD8-4223-A738-B5948DF31B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FCAD8-09A1-4921-9666-E467EA6BEE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zdijeli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(A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jedinačne slučajev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mo grupisati item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o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/b/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sledeći token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”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{ a, b, c }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ollow(A)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7FE-07E0-4802-AB95-12F74DFE7F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6359F-D924-4BD6-BBAC-AD29598534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item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š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še skupova neg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tvorenje (c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osur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]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o pravil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-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svak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rminal b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kav 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e pripad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t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ju se samo itemi sa ispravni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m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lje se koris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uccessor fu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a za izračunav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prelaska i sledećih ite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F5F-5D02-44E4-A613-B98D526E68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041E8-C569-4E90-926B-90F8F06DC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066680"/>
          <a:ext cx="8305920" cy="5295960"/>
        </p:xfrm>
        <a:graphic>
          <a:graphicData uri="http://schemas.openxmlformats.org/drawingml/2006/table">
            <a:tbl>
              <a:tblPr/>
              <a:tblGrid>
                <a:gridCol w="1139760"/>
                <a:gridCol w="1709640"/>
                <a:gridCol w="545652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c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i dio ul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z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id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pop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snu stranu pravil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ijevu stranu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laz nepromijenjen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(E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S –&gt; 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spješan kraj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572000" y="0"/>
            <a:ext cx="213372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m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atik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–&gt; T |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id |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04920"/>
            <a:ext cx="1905120" cy="76428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Ulazni 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(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43C-91AF-4BB5-A496-4144C0F4B0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C655A-0A6A-4218-9E28-19631D3983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successor fun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],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od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 skup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(I,X)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zatvorenje skup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lično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 fu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i propagiram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 token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rtn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0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nađemo njegovo zatvor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ve skupove koji su neprazni sljedbeni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succesorrs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sr-Latn-C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B09-37B1-4055-8462-1C6042B56F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1546-39CD-4B05-B2F4-64162163EF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ak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pravil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'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S' -&gt;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$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cept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hift j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prelazak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ot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o st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B70-2075-4967-B629-4C6565E5E8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818CA-FE29-4C4F-A1F1-601C87A67C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liko stanja 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?  LR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523880"/>
            <a:ext cx="243864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0: S'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1: S' -&gt; 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2: S -&gt; 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3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4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5: S -&gt; X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1523880"/>
            <a:ext cx="26668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6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7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8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9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82880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)  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 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 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 X  –&gt;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0384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1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4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b je kompleti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2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6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7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 završn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9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 pravi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5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-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3D6-3165-4522-AC07-ED80A9DC765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8B6D9-3C3D-44EC-96FB-B4481C9F3A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brzo rast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one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lno sa veličinom pravi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 li se zadržati moć koju dobijamo pr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-&gt; LR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bez rasta tabel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LR</a:t>
            </a:r>
            <a:r>
              <a:rPr b="0" lang="sr-Latn-CS" sz="3200" spc="-1" strike="noStrike">
                <a:solidFill>
                  <a:srgbClr val="3333cc"/>
                </a:solidFill>
                <a:latin typeface="Comic Sans MS"/>
              </a:rPr>
              <a:t> (LookAhead LR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preagresivno razdvojena da bi se dobil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ti spajanje skupova koji su 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skor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dentič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i tr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ko izvesti spajanje da ne dođe 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t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817-00BC-4359-B1C4-9647762A17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F4F2C-7AA5-4383-A755-0F59DDDBEB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‘else’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 potpun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u konstrukciju programskih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je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v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if E then if E then 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ada čit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-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može se ukloniti nejasnoća “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u tabeli podesiti tako da se prisilno odradi 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ogramski jezik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- uvije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 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za poslednje 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vođenje delimiter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(à la Ad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ili VB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CCE-B7EE-4DBD-AF2C-FF1E018B9B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ADBBA-1196-4F0D-B19C-FFD055EC0B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800" spc="-1" strike="noStrike">
                <a:solidFill>
                  <a:srgbClr val="000099"/>
                </a:solidFill>
                <a:latin typeface="Comic Sans MS"/>
              </a:rPr>
              <a:t>angling-else</a:t>
            </a:r>
            <a:endParaRPr b="0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goo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ba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_done() /* oop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429000"/>
            <a:ext cx="3733560" cy="30916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limiters can disambigu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clean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error_pending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ravouče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 kreirajte konstrukcije u PJ koje morate prisilno rješavati u tab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rist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R 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ike ako je moguć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5A6-9878-4436-8774-25975419BA4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02442-948A-4317-B6BA-6B2C054C7F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osobine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parsera napravljenih od tih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ne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CF la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nek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(G)=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(L=L(G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)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znači da jezik L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 može biti generisan preko više gramatika, od kojih su neke regularne, neke LR a neke CF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9D4-E66B-4134-85D1-8B4E2AFD767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F400B-4F31-41D3-B6A8-153674FB34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nfl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je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su disjunktni pa gramatika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19B-9A35-488D-B439-CC8B86A9F6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F4027-68EE-488A-9E15-E14515E8E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u disjunktn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Gramatik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jezi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reg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= {ab, ba}   Reg Expr = ( ab | ba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952880"/>
            <a:ext cx="2057400" cy="1418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906-CBC1-4A83-87C1-ABAD880243C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D937-BA6D-44A4-A75B-7E729F957D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nd-of-input oznaka $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nje I1 u grafu na slajdu 29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o ne dolazi d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 kompletan ite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 Reduce E -&gt; E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le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: 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u stvar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$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mpletan (završni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 E -&gt; E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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uvije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ecijalni sluč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e E -&gt; E’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DB1-884B-42E6-93F7-DA391EDBD8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CF718-A0EC-4E62-A010-3837BF4313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– glavni program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ija (Reduce)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adržaj stek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za neko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(q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biti praz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nda reduciraj stek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A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e naziva “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l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d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va je ključ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ccept: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je A startno stanje i i ulaz 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hif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e možemo odraditi redukciju i postoje neobrađeni tokeni, prebaciti jedan token iz ulaznog niza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rror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ne može uraditi ni shift ni reduce, došlo je do greš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408-38A5-42F7-B133-20699BEDA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1D60A-DC89-4252-AE28-57D5D4F736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305920" cy="5942160"/>
        </p:xfrm>
        <a:graphic>
          <a:graphicData uri="http://schemas.openxmlformats.org/drawingml/2006/table">
            <a:tbl>
              <a:tblPr/>
              <a:tblGrid>
                <a:gridCol w="1254240"/>
                <a:gridCol w="2036520"/>
                <a:gridCol w="50151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rse Stac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brađeni dio ulaz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k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+T;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(Ignore: E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)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S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400800" y="304920"/>
          <a:ext cx="2743200" cy="22082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–&gt; T  |  E +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–&gt; id |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laz: (id + i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354-2AE4-4F74-916F-3E2BCBC647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3CD98-35D1-41C2-91F3-F2611618C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880" y="762120"/>
            <a:ext cx="7780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ft-to-right input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ghtmost derivati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(učitav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laza slijeva udes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desna deriva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rsiranje zasnovano na tab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obraditi gramatike koje nisu 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(1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(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primjer, sa rekurzij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gu se obraditi skoro sve strukture programskih jezika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FG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CBE-94C9-48C3-8712-9208A7B9F0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68171-1BF0-4F19-A169-3A45DD8EDE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rukture potrebne za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 stan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{s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akcij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tion[s,a];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vako polje tabele sadrž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i jednu redukc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i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j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u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ili prelazak u stanje ili grešku ili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“accept”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prelaz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oto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[s,X]; X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vako polje sadrži ili oznaku stanja ili grešku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51F-AD6C-4255-ABF2-04AB4D66A1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F2B92-4BBF-44B2-A335-97EE687FF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 Šuković</cp:lastModifiedBy>
  <dcterms:modified xsi:type="dcterms:W3CDTF">2007-10-02T16:40:15Z</dcterms:modified>
  <cp:revision>1595</cp:revision>
  <dc:subject/>
  <dc:title>Welcome to CS143</dc:title>
</cp:coreProperties>
</file>