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5F1-C8E5-4406-8A10-E3947101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9DB-6BE8-438E-A562-FA9A36F4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5BC-2819-4A5E-91C2-914630B5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727-0EE2-485D-9CD4-D8636CC0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150-B423-40F1-9043-D13CBC1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7D8-4371-48DE-868E-4A7EE89B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8D3-11B9-415C-B96B-9AD05D5A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D73-C4B5-490C-B019-4B120EC5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E02-5B2C-44C9-B47E-B4521639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5C-0C46-405B-8965-03A856F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50D-8F37-475F-A535-866E81E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C08-3830-4BCE-8DED-25D1F47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999-E6FB-4FDB-9153-B4E9F6FAF16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v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đenje vođeno sintaks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769-65E6-427C-8A40-288C87BFD3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E366A-33EF-49C3-846E-0823F3A6E0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vo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205740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x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y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:= ...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 := ...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440" y="2665800"/>
            <a:ext cx="7159680" cy="4048560"/>
            <a:chOff x="307440" y="2665800"/>
            <a:chExt cx="7159680" cy="4048560"/>
          </a:xfrm>
        </p:grpSpPr>
        <p:sp>
          <p:nvSpPr>
            <p:cNvPr id="62" name=""/>
            <p:cNvSpPr/>
            <p:nvPr/>
          </p:nvSpPr>
          <p:spPr>
            <a:xfrm>
              <a:off x="2762640" y="2665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7000" y="35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5640" y="3519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59280" y="6239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8360" y="631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36640" y="6239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5760" y="62089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2024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8240" y="4405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040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0200" y="4405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6452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7560" y="43768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4160" y="437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3960" y="4375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7440" y="4375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9240" y="5323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000" y="532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" y="532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41560" y="52945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8040" y="529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8160" y="5293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288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8372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8600" y="529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720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9480" y="532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62" idx="2"/>
              <a:endCxn id="63" idx="0"/>
            </p:cNvCxnSpPr>
            <p:nvPr/>
          </p:nvCxnSpPr>
          <p:spPr>
            <a:xfrm flipH="1">
              <a:off x="1648800" y="3063600"/>
              <a:ext cx="128988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0" name=""/>
            <p:cNvCxnSpPr>
              <a:stCxn id="62" idx="2"/>
              <a:endCxn id="64" idx="0"/>
            </p:cNvCxnSpPr>
            <p:nvPr/>
          </p:nvCxnSpPr>
          <p:spPr>
            <a:xfrm>
              <a:off x="2938320" y="3063600"/>
              <a:ext cx="114372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1" name=""/>
            <p:cNvCxnSpPr>
              <a:stCxn id="63" idx="2"/>
              <a:endCxn id="77" idx="0"/>
            </p:cNvCxnSpPr>
            <p:nvPr/>
          </p:nvCxnSpPr>
          <p:spPr>
            <a:xfrm flipH="1">
              <a:off x="626760" y="3917160"/>
              <a:ext cx="102312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2" name=""/>
            <p:cNvCxnSpPr>
              <a:stCxn id="63" idx="2"/>
              <a:endCxn id="72" idx="0"/>
            </p:cNvCxnSpPr>
            <p:nvPr/>
          </p:nvCxnSpPr>
          <p:spPr>
            <a:xfrm flipH="1">
              <a:off x="1415880" y="3917160"/>
              <a:ext cx="23400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3" name=""/>
            <p:cNvCxnSpPr>
              <a:stCxn id="63" idx="2"/>
              <a:endCxn id="76" idx="0"/>
            </p:cNvCxnSpPr>
            <p:nvPr/>
          </p:nvCxnSpPr>
          <p:spPr>
            <a:xfrm>
              <a:off x="1649520" y="3917160"/>
              <a:ext cx="38664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4" name=""/>
            <p:cNvCxnSpPr>
              <a:stCxn id="63" idx="2"/>
              <a:endCxn id="70" idx="0"/>
            </p:cNvCxnSpPr>
            <p:nvPr/>
          </p:nvCxnSpPr>
          <p:spPr>
            <a:xfrm>
              <a:off x="1649160" y="3917160"/>
              <a:ext cx="101196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5" name=""/>
            <p:cNvCxnSpPr>
              <a:stCxn id="64" idx="2"/>
              <a:endCxn id="73" idx="0"/>
            </p:cNvCxnSpPr>
            <p:nvPr/>
          </p:nvCxnSpPr>
          <p:spPr>
            <a:xfrm flipH="1">
              <a:off x="3939480" y="3917160"/>
              <a:ext cx="14220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6" name=""/>
            <p:cNvCxnSpPr>
              <a:stCxn id="64" idx="2"/>
              <a:endCxn id="74" idx="0"/>
            </p:cNvCxnSpPr>
            <p:nvPr/>
          </p:nvCxnSpPr>
          <p:spPr>
            <a:xfrm>
              <a:off x="4081680" y="3917160"/>
              <a:ext cx="56736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7" name=""/>
            <p:cNvCxnSpPr>
              <a:stCxn id="64" idx="2"/>
              <a:endCxn id="71" idx="0"/>
            </p:cNvCxnSpPr>
            <p:nvPr/>
          </p:nvCxnSpPr>
          <p:spPr>
            <a:xfrm>
              <a:off x="4081320" y="3917160"/>
              <a:ext cx="127548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8" name=""/>
            <p:cNvCxnSpPr>
              <a:stCxn id="64" idx="2"/>
              <a:endCxn id="75" idx="0"/>
            </p:cNvCxnSpPr>
            <p:nvPr/>
          </p:nvCxnSpPr>
          <p:spPr>
            <a:xfrm>
              <a:off x="4081320" y="3917160"/>
              <a:ext cx="189468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9" name=""/>
            <p:cNvCxnSpPr>
              <a:stCxn id="64" idx="2"/>
              <a:endCxn id="69" idx="0"/>
            </p:cNvCxnSpPr>
            <p:nvPr/>
          </p:nvCxnSpPr>
          <p:spPr>
            <a:xfrm>
              <a:off x="4081320" y="3917160"/>
              <a:ext cx="251532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0" name=""/>
            <p:cNvCxnSpPr>
              <a:stCxn id="72" idx="2"/>
              <a:endCxn id="80" idx="0"/>
            </p:cNvCxnSpPr>
            <p:nvPr/>
          </p:nvCxnSpPr>
          <p:spPr>
            <a:xfrm flipH="1">
              <a:off x="860040" y="4803480"/>
              <a:ext cx="55620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1" name=""/>
            <p:cNvCxnSpPr>
              <a:stCxn id="70" idx="2"/>
              <a:endCxn id="83" idx="0"/>
            </p:cNvCxnSpPr>
            <p:nvPr/>
          </p:nvCxnSpPr>
          <p:spPr>
            <a:xfrm flipH="1">
              <a:off x="1617120" y="4803120"/>
              <a:ext cx="104364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2" name=""/>
            <p:cNvCxnSpPr>
              <a:stCxn id="70" idx="2"/>
              <a:endCxn id="78" idx="0"/>
            </p:cNvCxnSpPr>
            <p:nvPr/>
          </p:nvCxnSpPr>
          <p:spPr>
            <a:xfrm flipH="1">
              <a:off x="2374560" y="4803480"/>
              <a:ext cx="28656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3" name=""/>
            <p:cNvCxnSpPr>
              <a:stCxn id="70" idx="2"/>
              <a:endCxn id="88" idx="0"/>
            </p:cNvCxnSpPr>
            <p:nvPr/>
          </p:nvCxnSpPr>
          <p:spPr>
            <a:xfrm>
              <a:off x="2660760" y="4803480"/>
              <a:ext cx="74232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4" name=""/>
            <p:cNvCxnSpPr>
              <a:stCxn id="78" idx="2"/>
              <a:endCxn id="65" idx="0"/>
            </p:cNvCxnSpPr>
            <p:nvPr/>
          </p:nvCxnSpPr>
          <p:spPr>
            <a:xfrm>
              <a:off x="2374560" y="5721120"/>
              <a:ext cx="1080" cy="5198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5" name=""/>
            <p:cNvCxnSpPr>
              <a:stCxn id="88" idx="2"/>
              <a:endCxn id="68" idx="0"/>
            </p:cNvCxnSpPr>
            <p:nvPr/>
          </p:nvCxnSpPr>
          <p:spPr>
            <a:xfrm>
              <a:off x="3402000" y="5721120"/>
              <a:ext cx="108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6" name=""/>
            <p:cNvCxnSpPr>
              <a:stCxn id="73" idx="2"/>
              <a:endCxn id="79" idx="0"/>
            </p:cNvCxnSpPr>
            <p:nvPr/>
          </p:nvCxnSpPr>
          <p:spPr>
            <a:xfrm>
              <a:off x="3940200" y="4805280"/>
              <a:ext cx="5788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7" name=""/>
            <p:cNvCxnSpPr>
              <a:stCxn id="69" idx="2"/>
              <a:endCxn id="84" idx="0"/>
            </p:cNvCxnSpPr>
            <p:nvPr/>
          </p:nvCxnSpPr>
          <p:spPr>
            <a:xfrm flipH="1">
              <a:off x="5308560" y="4805280"/>
              <a:ext cx="12880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8" name=""/>
            <p:cNvCxnSpPr>
              <a:stCxn id="69" idx="2"/>
              <a:endCxn id="85" idx="0"/>
            </p:cNvCxnSpPr>
            <p:nvPr/>
          </p:nvCxnSpPr>
          <p:spPr>
            <a:xfrm flipH="1">
              <a:off x="6359040" y="4805280"/>
              <a:ext cx="23724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9" name=""/>
            <p:cNvCxnSpPr>
              <a:stCxn id="69" idx="2"/>
              <a:endCxn id="81" idx="0"/>
            </p:cNvCxnSpPr>
            <p:nvPr/>
          </p:nvCxnSpPr>
          <p:spPr>
            <a:xfrm flipH="1">
              <a:off x="5871600" y="4805280"/>
              <a:ext cx="72468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0" name=""/>
            <p:cNvCxnSpPr>
              <a:stCxn id="69" idx="2"/>
              <a:endCxn id="87" idx="0"/>
            </p:cNvCxnSpPr>
            <p:nvPr/>
          </p:nvCxnSpPr>
          <p:spPr>
            <a:xfrm>
              <a:off x="6596280" y="4805280"/>
              <a:ext cx="6976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1" name=""/>
            <p:cNvCxnSpPr>
              <a:stCxn id="69" idx="2"/>
              <a:endCxn id="86" idx="0"/>
            </p:cNvCxnSpPr>
            <p:nvPr/>
          </p:nvCxnSpPr>
          <p:spPr>
            <a:xfrm>
              <a:off x="6595920" y="4805280"/>
              <a:ext cx="25452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2" name=""/>
            <p:cNvCxnSpPr>
              <a:stCxn id="84" idx="2"/>
              <a:endCxn id="66" idx="0"/>
            </p:cNvCxnSpPr>
            <p:nvPr/>
          </p:nvCxnSpPr>
          <p:spPr>
            <a:xfrm>
              <a:off x="5308920" y="5722560"/>
              <a:ext cx="2160" cy="594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3" name=""/>
            <p:cNvCxnSpPr>
              <a:stCxn id="87" idx="2"/>
              <a:endCxn id="67" idx="0"/>
            </p:cNvCxnSpPr>
            <p:nvPr/>
          </p:nvCxnSpPr>
          <p:spPr>
            <a:xfrm>
              <a:off x="7292880" y="5722560"/>
              <a:ext cx="1080" cy="518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037560" y="5722560"/>
              <a:ext cx="609480" cy="381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6840" y="4732200"/>
              <a:ext cx="533520" cy="380880"/>
            </a:xfrm>
            <a:prstGeom prst="triangle">
              <a:avLst>
                <a:gd name="adj" fmla="val 46727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038480" y="0"/>
            <a:ext cx="510552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-&gt; 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2.list = $1.list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-&gt; var V; D   { $$.list = ad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2.name, $4.list 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list = NULL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-&gt; V := E; S  {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he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1.name, $$.list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5.list = $$.lis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-&gt;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x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y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z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904-525A-4DC5-9963-FEF22F85F6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D6EDB-8C01-4F26-B5D1-E00D14169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kod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ije potreban yacc za upotrebu atributivnih gramatika. Rekurzivni parser za LL(1) gramatike za jednostavnog FTP klijent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ssion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mndList T_QUI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Lis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nd ComndList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Login | Get | 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User Pa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er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USER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PASS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GET T_IDENT MoreFil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reFile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IDENT MoreFiles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ou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jprostiji atributi: jedna vrijednost (pointeri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C68-6C6A-4BEF-950F-9D9B445D48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DDCA6-5261-4BB7-ADD5-779CB37B50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intetisa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Identifier() {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sintetisanje ID 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NULL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GetLookahead() == T_IDENT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 = strdup(yytext)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vanje name uz drv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IDENT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 // returns NULL on erro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User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return atribut user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USER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Password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PASS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D76-7CE5-46C3-97C3-D74300B52D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A8358-AA64-4AC1-8D87-2F17E72BC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Naslijeđe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a rutina kreira konekciju i predaje je naviš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onnection* ParseLogin() { // Vraća atribut otvorene konekcij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user = ParseUser();           // Dobija atribute iz nižih nivoa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pass = ParsePassword();  //  otvara konekcije iz njih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Login(user, pass); }          //  i predaje connection atribut naviš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e rutine nasleđuju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inheri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connectio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Ge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GE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 *filename = 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(conn, filename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Logou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LOGOU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out(conn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388-1A65-448F-8B61-89E8B8D9FE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57C7F-C5BB-479D-A86F-B7A797A1E9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u yacc parserim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je gramatika za infiksni kalkulator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 -&gt; T { E.val = T.val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E A T { switch(A.op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ADD: E.val = E.val + T.val; break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SUB: E.val = E.val - T.val; break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o pravilo date gramatike za kalkulator sintetiše atribut koji predaje naviš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izvodi akciju u čvoru prije nego u roditeljskom čvo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syntaksa $$, $1, $2 je prirodna za sintez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$$ nedefinisano dok se ne dodijeli u akci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naslijeđeni atribut uvijek spreman za upotrebu u semantičkoj akciji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2-prolazni kompajleri – uvijek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-prolazni, potrebno je pažljivo računati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673-CE54-4289-AC04-0A9C393419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8AF7-8833-4860-9965-2F7A68051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DT je jedna od tehnika za implementir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e anal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vođenja (Translat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B95-D543-480C-92A0-E7F2A5B1D1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E9914-BB68-4208-B55A-BC44790060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drveta primjenom SD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5640" cy="250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4508640"/>
            <a:ext cx="79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 progr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:=5+3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b:= (print(a,a-1),10*a); print(b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C08-38EA-4F0A-A57C-37483FCD88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49CD2-3E6C-42FB-BB3C-0F72053577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rvo za progra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870120"/>
            <a:ext cx="7991280" cy="52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03F-1467-4272-A94B-7D212D3DF9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C8EEC-7124-4EBB-8AB8-2547CEB36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851040"/>
            <a:ext cx="84978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char *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stm_ *A_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_ *A_ex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List_ *A_expL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enum {A_plus,A_minus,A_times,A_div} A_bin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stm_ { enum {A_compoundStm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assignStm, A_printStm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stm stm1, stm2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ou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string id; A_exp exp;} assig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List exps;} pr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stm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B6C-9C74-4E6C-9A67-E17C20986D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7AA5C-E58D-4265-A91F-B0AB12D66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981000"/>
            <a:ext cx="84978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AssignStm(string id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PrintStm(A_expList exp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_ {enum {A_idExp, A_numExp,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opExp, A_eseqExp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ing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 left; A_bino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er; A_exp right;}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stm stm; A_exp exp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se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49B-DDFE-4ED3-86C6-D1CC04A044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D53E6-F25A-4809-A686-900E9C02A6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ntaksno vo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đeno prevođenje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syntax-directed transla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lije izgradnje sintaksno stabla, šta je sledeć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startuje prepoznavanem stringova za na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da parser počinje sa analizom i prevođenjem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toje parseri koji mogu u posebnoj fazi obilaziti sintaksno stablo i odraditi semantičku analizu i prevođenje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ešće se semantička analiza izvodi primjenom 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aksno v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đenog prevođenj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yntax-directed translatio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407-85D7-463E-AD12-F3EF4BD154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54376-236F-478A-9BD3-6FC05ED09C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981000"/>
            <a:ext cx="84978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IdExp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NumExp(int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OpExp(A_exp left, A_binop oper, A_exp 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EseqExp(A_stm stm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List_ {enum {A_pairExpLis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lastExpList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exp head; A_expLi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il;} pai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la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Li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6D0-E9FA-4D14-B4DC-F3F79EE5D3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0C69-2F69-4686-8D0C-A78858DBE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052640"/>
            <a:ext cx="842472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u produkciju gramatike p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emo odgovarajuću funkciju. Npr. za prvu produkciju (označenu sa CompoundStm)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s = checked_malloc(sizeof(*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kind = A_compound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1=stm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2=st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E25-0A6D-48E0-8FED-B99E9820B6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6BBF7-B9CD-4A9D-846F-2EC9BAD421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zlaza - PrettyPri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836640"/>
            <a:ext cx="842472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a := 5; a+1)   prevodi se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eqExp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A_AssignExp(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impleVar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, A_IntExp(7,5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(A_OpExp(11,A_plus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VarExp(A_SimpleVar(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),A_IntExp(12,1)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LL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7C3-E47C-4532-A331-5C538DE000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A0473-F592-4CDF-8684-8CFDD0D1B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AST pomoc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714760" cy="333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847880" cy="17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d+id*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19700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T*F |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21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vo parsiranja                     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AD5-BCF3-4AA4-877F-A160839FA1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9CF89-5E7D-47F0-AD37-AC6FBF91F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h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907920"/>
            <a:ext cx="849780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truct EXP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 {idK,intconstK,timesK,divK,plusK,minusK} ki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id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F98-0713-450D-811A-60587CA4E2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0BFC-BDAF-4C41-9400-1AC6BF84B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c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836640"/>
            <a:ext cx="84978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id(char *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id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idE = i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minus(EXP *left, EXP *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minus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left =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right = righ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C9C-6553-484C-8381-352496A228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48840-255D-4367-8EA1-99FB968AA3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907920"/>
            <a:ext cx="849780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"tree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char *yytex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EXP *theexpress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yyerro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syntax error before %s\n",yytext)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string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EXP *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intconst&gt; tINT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stringconst&gt; tIDENTIF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ype &lt;exp&gt; program ex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195-4196-4C3A-8B03-E9F48751C9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A5F7B-F6F6-4AA6-8AB4-D08059C0B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907920"/>
            <a:ext cx="849780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tart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+' '-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*' '/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: exp { theexpression = $1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: tIDENTIFIER {$$ = makeEXPid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tINTCONST {$$ = makeEXPintconst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*' exp {$$ = makeEXPmult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/' exp {$$ = makeEXPdiv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+' exp {$$ = makeEXPpl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-' exp {$$ = makeEXPmin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'(' exp ')' {$$ = $2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987-3C44-4BBC-BD71-476798C673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7D5CC-5464-4FBE-A6EB-E58BF0B4DD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ST pomoć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lex/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reirati strukturu čvora AST-a – tipovi čvorova, odgovarajuće se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tičke vrijednosti - fajl ”tree.h”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f-ije za kreiranje čvorova drveta – fajl ”tree.c”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“%union” deklaraciju tipova semantičkih vrijednosti u bison faj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dati tipove terminalima i neterminalim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oken &lt;type&gt; id nu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ype &lt;type&gt; exp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družiti akcije svakom pravilu gramatik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pr: exp: exp '*' ex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{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$$ = makeEXPmult($1, $3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98100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F6E-0838-4B1D-9891-32A7265D1E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9BA39-50DA-4B2E-A05A-56466EB9CB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ka == značenje (meanin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ično rečenicama u prirodnom jezi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aganje ličnih zamjenic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Ja sam" ,  ”Ti si" ”Oni su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načenje zavisi od svojstava riječi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"I drink tea" ,  "He rains them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erifikacija da li program ima smisl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znamo značenje, ne možemo generisati ko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8DD-CAED-40B3-92FD-BC19DEC972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8DF8C-3908-4756-82AB-2F3F5F5A78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vode proces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ati koji koriste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: B c D { action code } 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gramatiku, Yacc kod parsira ulaz i primjenjuje redukciju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semantičke akcije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emantic actio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koj govore šta da radimo pri primjeni red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dnja čvorova u drvet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žemo započeti sa prevođenje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žemo izračunavati vrijednost 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tribu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druženih gramatičkim simbol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zultat je tzv. atributivna gramatika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attribute gramma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Tehnika za implementaciju semantičke analize i prevođe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FE6-668D-48E6-9D60-501A76279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21921-DD38-4E6E-A921-197113A9FB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eklaracije imena (name declarat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ma poklapanja imena u datom prostoru im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 = 2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() { return 1; }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p = &amp;f;  // koje f?  Greška!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aglasnost upotreba imena sa deklaracij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i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“abc”;  // Greška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‘abc’;  // OK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464-CBA1-4968-84FB-3739025A34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714D5-89B8-4A66-A264-231DC8AE7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zivi funkcija (function call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ovi argumenata su odgovarajuć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argumenata jednak broju formalnih argumenata ili podrazumijevane vrijednosti za argumente koji nedostaj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izrazi dobro formiran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7 + 3.14159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i dobro definisano u C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Decaf-u (int i double u istom izrazu)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6 + "abc"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u Snobol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C-u ili Decaf-u ili . . . .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E51-C811-4118-80F2-64C4F7F601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A4822-B6A1-40BA-AEB9-DC6A66FBFF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u odnosu na št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pecifikacija jezika mora da naglas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deklarišu ime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imena mogu koristit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mpatibilnost, opseg (scop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se izrazi mogu formirati od operanada različitog tip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i su tipovi međusobno kompatibil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načenje naredbi u kontekst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break" samo unutar petl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return" samo unutar funkc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ako bi dodali "break" naredbu gramatičkom pravilu za petlju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FCF-74D8-489F-A0D2-4B24E9BC53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0B5D8-B422-4997-BA8F-B55CFA57DF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pecifikacija jez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specifikacija ispušta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lementacije mogu prepoznavati različite jezike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fikacije bi trebalo da daju koji su tipovi ekvivalentni a koji su kompatibil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B9-1085-43F6-BE9E-B255AB3E79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1A7F3-4C0E-41E7-9466-DFD68B12AE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 tipa (type declaration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numerics, string, pointer, boolean, 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 (aggregate): arrays, structs, union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heap, list, ostali apstraktni tipovi podata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 ne podržava ove tipo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O jezici su fleksibilnij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isanje imena obično uključu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 (vrsta vrijednosti koju može imat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(scope) (gdje je vidljivo / ima značenj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rijeme života (kada je vrijednost očuvana ili izgubljen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BF3-16FD-4767-9351-8046B83B3C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87E89-70E8-4042-9195-8D42371CD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tipovi i opse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calculate(int a, double b); // function prototyp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x = 0; // globalna promjenljiva dostupna cijelom program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y;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ai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[3]; // lokalna promjenljiva za mai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har *n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loat f;  // novo kreiranje pri svakom poziv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c g; // čuva vrijednost između poz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može koristiti x, y, poziv f-ije calcula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{ int i; for (i = 0; i&lt;10; i++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lculate (i, 0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nije više vidlj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E97-8C29-4E18-80B3-3082F7C355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B48B5-987F-44BB-8906-E9571299AD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ova (type checking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a li su operandi u operacijama (npr. izrazi ili pozivi f-ija) ispravnog tipa i bro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ype error -- upotreba tipa koja nije implementira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a provjera --za vrijeme kompajlir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a -- u vrijeme izvršavanja(runtim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o više statičkih provjera vršimo, manja je šansa greške u toku izvršavan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448-9AD5-4EF6-B97D-3DDA9C8C95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A364F-46AA-4404-A7E2-F6C748D11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ype checking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 je niz a i integer i (Decaf, ne C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i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= 3.14;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type error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 može se dodijeliti double integer-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provjera tipa ć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K za naredbu dodjeljivanja ,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kod za konverziju 3.14 u integer primjenom odrezivanja (truncating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739-1FA0-4B80-BE0C-022610D3B4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339DA-B7E0-465B-A979-06B7042BC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a i 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čka provjera tip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a[100]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2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1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 = 20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j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e otkriti grešku statički sa pažljivo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emantičkom analizo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inamička provjer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r* s; gets(s); // čitamo podatak, nadamo se da je broj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atoi(s)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konvertovanje u integ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i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da je type error, možda n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bro kreirana  dinamička provjera generisa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će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kod koji će provjeriti da li je vrijednost promjenljive i u intervalu [0..99]  prije pristupa elementu niz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9C5-C3E2-4953-9DEE-AEF5F07F0B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AF35-7E32-46AE-B954-3687FF6A1D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e i implicitne konverz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a vrijednosti sa jednog tipa na drug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version - eks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ercion - im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je prilično “labav” (nije stro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i, d, i f imaju različite tipove, C će promjeniti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coercions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se kod z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računanje vrijednosti f kao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abiranje sa double d, rezultat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oercion (truncate) u integer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Dodjeljivanje odrezane vrijednosti i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C55-85A2-4ACA-867C-FCC115E249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01334-F8AE-4F59-A3E9-F2BD5848C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S gramatika, unaprijeđena sa izračunavanjem i prostiranjem vrijednosti atribut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tribut je par &lt;name, value&gt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lue može biti proizvoljnog tipa. Na primjer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konstanta ima atribut &lt;IntValue, 143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ing konstanta ima &lt;StrValue, “hello world”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ble ima &lt;VarType, Int32&gt;, &lt;Register, none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ction ima &lt;RetType, Void&gt;, &lt;ArgList, [int I, j]&gt;, &lt;CodeStart, 0x00400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simbol može imati više atribu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d skenera: lokacija, vrsta tokena, vrijednos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može izračunati neke atribute odmah, dok neki atributi čekaju više informacij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C7C-4A9E-4644-B2D5-68076AB389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0FC37-B44A-4D25-9B65-58F5AB0C5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515-99CA-4C6F-B819-74AAF63123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9468B-82F4-4DC1-8238-4535D5026C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BF6-5124-4960-8629-353794980D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6263-02DD-4E23-BC04-7E3BD5613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717-0DD5-4E75-A863-B15C427C83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78DA4-E774-44C3-83AB-FD28771901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F05-EB64-4FD2-AEEA-B54252ECD9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B1831-5375-488D-B5E5-EE7626391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.20000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6F3-88A8-4BEA-A601-B7371F994F9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7FE4F-1462-4523-B793-5B43FCFBDC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a konverz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nije strog kao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gu se sabirati float i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že dodijeliti double vrijednost integer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ak su realni jezici kao Ada95 strožiji od C-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ahtijevaju eksplicitnu konverziju - explicit convers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sting: eksplicitna konverzi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3.6 + (int)4.6 // Programer eksplicitno odrezuj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(3.6 + 4.6)     // operand ili samo rezula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sting pointera reinterpretira bitove na koje pokazuje, izbjegavaju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ći u potpunosti provjeru tipov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har* p = (char*)(&amp;i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6B5-BAA7-4708-9795-B718156616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18C51-B680-4594-B81C-3F02B647D5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modula za provjeru tipova (data checker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checker za programski jezi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su tipovi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e jezičke konstrukcije koriste tipove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a su semantička pravila jezik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AE5-B183-4D35-BE6A-A6806001FC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384F6-7480-4760-A4BD-B6DA710ED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i tipovi podatka postoj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int, double, bool,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:  nizovi (arrays), klase (classes), interfejsi (interfac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zovi nizova su O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ADT (Abstract Data Types) implementacija ADT-ova preko klas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589-4E2A-41E7-A7E4-317B13D97C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D7AF5-B14F-4DFD-8EA2-DE249F69BE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ezičke konstruk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nstan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(variabl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un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(express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koje korist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, while, Print, dodjeljivanje (assignment), ..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5F4-11FB-415A-8207-2BABA0F620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DA4D1-AAB4-47DD-A654-2A0D86B8C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a su pravil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sve detal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što nije deklarisano je greš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ombinacija tipova za koju nije naznačeno da je kompatibilna je greš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cija i kompatibilnost (Equivalence vs Compatibility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EE7-B827-4EDB-A168-D1E4C1AF00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1412D-6F62-476B-88D7-B831DEC857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retpostavimo da skener vraća samo jedan karakter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git : '0' {digit.value = 0}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1' {digit.value = 1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2' {digit.value = 2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9' {digit.value = 9}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9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tributi se mogu predavati uz drvo parsiranja da bi ih koristile druge produ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1 : digit {int1 .value =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int2 digit {int1.value = int2.value*10 +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z Exp : Exp Exp ‘+’: { $$ = $1 + $2 } u YACC programu:  $$ je vrijednost atributa lijeve strane pravila, koja se dobija iz vrijednosti sa desne strane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6BD-7436-4ED9-972C-4DBA58B7D1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1AD2F-5401-4E2A-B60F-35190108E1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vivalencija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dva objekta istog tip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alna ekvivalencija:isti osnovni tip ili (rekurzivno), ista kombinacija istih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tnost imena (Name equivalence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to ime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 samo ako su deklarisani zajed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, deklarisani na različitim mjestim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isu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065-34A4-4A88-B8D3-26726C91B0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3955A-1FC5-4F0D-9C76-0C9CF4B319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rukturalna ekvivalencija - jezik C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060640"/>
            <a:ext cx="3527280" cy="2228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s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arr[1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DE2-BD67-44B0-BD0C-1B29FA4B865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90101-BDAD-41CF-8A23-7422977827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scal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ttle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mall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g = array[1..10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, b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, e: little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, g: small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, i: big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koje promjenljive važi ekvivalencija imena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e promjenljive imaju strukturalno ekvivalentne tipo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D29-D377-4175-AFD0-167B4AE371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63AAF-2D55-443C-83A5-4978C32589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ekvivalencija i kompatibi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 Decaf tipa su ekvivalnet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zni tipovi akko isti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ray tipovi akko imaju isti tip elemenata (šta sa granicama?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enovani tipovi akko imaju isto 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kvivalencija imena, ne strukturalna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kše je implementirati ovakav check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CBE-B5A6-4CF5-8EC4-C88E3E2567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D8153-899E-41A1-A869-00F254827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kvivalentnost tipova je refleksiv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ekvivalentno sa B akk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ekvivalentno sa 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mpatibilnost je jednosmjerna relacij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je kompatibilno sa B ako se A može koristiti tamo gdje se očekuje B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 opštem slučaju, ako vrijednost ne gubi ništa, kompatibiln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-u, integer može biti iskorišćen tamo gdje se očekuje  float ili double.  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oid func(double d);  func(i) je OK za i int.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++, podklase su kompatibilne sa nadklasam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Decaf-u, sve kompatibilnosti u specifikacj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nije kompatibilan sa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140-D3DE-4A0E-B4C1-179168BB5B3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15541-031F-47CD-B024-BFE00C683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čk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analiza-rekapitul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acija imena (promjenljive, konstante, funkcije, tipov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alidacija upotrebe imena za njihove tipove i konteks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(expr) -- expr mora biti tipa 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i tipovi argumenata f-i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čunavanje tipa rezulata izraza na osnovu tipa operana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je član podklase kompatibilan sa članovima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na pravilnom mjestu (npr. break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6DB-C608-4322-BDEF-8124EEA3AA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41580-9C93-4AD7-8576-37F1A8B605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uraditi semantičku analizu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 prolaza: izgradnja kompletnog drveta, pa obilazak drveta zbog analize i prevođe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 prolaz: izgradnja drveta u preorder redosledu, istovremeno sa analizom i prevođenjem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naslijeđene atribute, mora se nasleđivati od čvorova koji su već kreira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vorovi koji su lijevo i iznad su dostup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tiviše da se u jeziku deklaracija pojavi prije upotreb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531-A26D-4654-98E0-57BDF53AED9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1C41B-D399-4FB5-9D01-DBAF82441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je front-end prolaz odrađe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rtovati svaki prolaz odvojen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obar pristup za nedovoljno memorije; upisuje izlaz na dis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24k minicomputer Fortran compiler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plitanje prolaz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ože biti brži, ako ima dovoljno memori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su već provjereni tipovi x i y i računamo tip za (x+y), generišimo kod za 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Decaf, gradi se cijelo drvo koje se obilaz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vo provjera, pa generisanje ko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C53-2CC0-492E-AB44-050C2F64BB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26D53-79F1-43C2-B335-83193C7829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drveta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 samom drvetu je kodiran dio semantike, npr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(a + b) + c) vs (a + (b + c)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a + (b * c)) vs ((a + b) * c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d drveta parsiranja (konkretna sintaksa) ka apstraktnim sintaksnim drvetima. Za prepoznavanje opsega i struktur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trebni su container i element čvorov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su potrebni čvorovi tipa 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da neće  trebati rekurzivni čvorovi ka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ecl ; DL 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// n rekurzivnih poziv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a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potomaka je jednostavn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siranje je završeno; nije nam potrebna kompletna istorija koji su izbori napravlje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D13-547A-4720-B861-8D8122C4CB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77CFF-D4E5-479A-AA42-38A1C202F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tip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ype sistem: skup pravila koja određuju tip elementa program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ovi mogu biti ekvivalentni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i bazni tipov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đeni od baznih tipova na isti način (strukturalno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I imaju isti imenovani tip (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 A je kompatibilan sa tipom B ako se A može koristiti svuda gdje se koristi 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feksibilno u C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strogo u Decaf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 otkrivanju greške u tipu, postavljanje  imena na type_error može spriječiti kaskadne poru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ype_error je kompatibilan sa bilo čim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364-2C5A-4D6D-9354-106025E0D9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82438-3F4C-4D06-8BE3-CF761E73A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181160"/>
            <a:ext cx="6983280" cy="40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21E-C830-4DBA-8DA6-56F693428D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2882D-20B4-46FC-A42E-B9A614AA0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a i kompatibil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odrediti kompatibilnost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matrajmo 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r oblika (x + 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ispravan operand za + 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ste, da li je to i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gu li x i y biti u + čvoru zajedno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y različit od x, da li je kompatibilan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kompatibilno sa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C-u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doubl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O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in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nt kompatibilan sa flo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caf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x int tada y mora biti in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2BD-F344-48C4-93F9-9A40B4FEE7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7C0FE-E980-49DA-8735-BFDECE056A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ička – compile 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risti informaciju dostupnu iz source k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koji nisu OO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cije tipa koje zavise od vrijednosti ne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jerujemo da će cast sačuvati integritet tipov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ahoma"/>
              </a:rPr>
              <a:t>(char*) p = (char*) i ;   // OK, vjerujemo da je sve u redu</a:t>
            </a:r>
            <a:endParaRPr b="0" lang="en-US" sz="2000" spc="-1" strike="noStrike">
              <a:solidFill>
                <a:srgbClr val="cc00cc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namička - run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dređivanje tačne podklase objek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a informacija za dinamički izbor met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jera granica (Bounds-checking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podranga (Subrange type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lementi niz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overflow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AFB-6359-4329-ACA9-5A408572111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44DB2-1176-4DCE-B673-302DBDCF5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 (scope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oping pomaže u implementacionoj apstrakciji i sakrivanju podata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opseg važenja (scope) otvara novu grupu imena dostupnih unutar  opseg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zlaskom iz opsega, ta imena postaju nedostupna, kao i podaci o tim imen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me u unutrašnjem opsegu “pokriva” isto ime u spoljašnjem opseg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659-6768-4F87-9FE2-1DC2559798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89EB4-5272-4BCF-9A28-33DA8F17CA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2296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float pi(void) { return 3.1415926 ; }  //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main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int pi = 3;  //lokalna z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{ // ugnježdeni ops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char* pi = "circumference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pi = 0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E6D-BC33-4C52-8D08-E15C7FCD8CB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23FBB-1B86-44C3-A1D5-06F73D63D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od jednoprolaznih kompajlera, redosled deklaracija može imati značaj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U C-u, deklaracija mora biti prije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// upotre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, sva imena u opsegu su dostupna kroz opseg. Redosled deklaracija nije bitan 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// sve u opsegu je sada vidljiv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// Myint je već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0F1-03F5-4C1B-8077-CFC3AAB281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5B326-858A-440E-B2C3-FE07783492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- type check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ributivne gramatike mogu podržavati račun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E  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više deklaracija, pa 1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D | id : T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identifikator :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char | integer | ^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| array [num] of T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nizovi počinju od 1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literal | num | id | E mod E | E [E] | E 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r program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: integer;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k je baznog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 : array [143] of char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složeni tip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 mod 1999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jedini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92E-9217-4413-8C27-3EB297F9BA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9A87A-1D90-4FF2-A29C-98C4810F4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e akcije za 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semantičke akcije izvodi desna strana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d: T { addType(id.entry, T.type)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synth attrs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vrijednosti može imati atribut type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nteger { T.type = intege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char { T.type = cha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array NUM of char { T.type = &lt;pointer to descriptor for array(1..NUM.value, char) &gt;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^T1 { T.type = pointer(T1.type)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slije deklaracije, svi izrazi tipova (type expressions) su  izračunati (tabela simbola je popunjena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D ; E { // Posle poziva addType za deklaracije u D, tabela simbola je popunjena. Provjeravamo u tabeli tipove imena iz izraza E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64F-0DAF-4785-A5C9-71BC9A83023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2A39B-4ACE-494E-8CF0-AB9BD18316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liter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cha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mod E2 { E .type = ((E1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2.type == integer)) ? intege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[E2] { E .type = ((E2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1.type == array(s, t))) ?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^ { E .type = (E1.type == pointer(t) ? 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AB8-A22F-4406-8850-224F23D2C6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38E84-91A1-4CB8-9E7A-F42683AA6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tipa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 .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real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op E2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integer   else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 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type_error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F27-D578-4341-9B82-79A7C08417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5A910-DA96-4CB6-850D-A97313903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naredb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odjeljivanj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oid’- 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redbama u ovom primje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 = E { S.type = (id.type == E.type) ? void 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f E then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while E do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1 ; S2 { S.type = ((S1.type == void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S2.type == void)) ?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void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17C-DC8B-4E70-82BC-E2FED1AA01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A5761-81CA-4972-B78B-7623BADA88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Sintetisani (synthesize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) atributi se predaju naviše u drvetu; vrijednost lijeve strane izračunava se na osnovu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.a = f(Y1.a,  Y2.a, ... Yn.a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Naslijeđeni (inherited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atributi se predaju naniže u drvetu; atributi desne strane pravila gramatike izračunavaju se na osnovi lijeve strane i ostalih atributa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Yk.a = f(X.a, Y1.a, Y2.a, ..., Yk-1.a, Yk+1.a, ..., Yn.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- - -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 - - -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5F5-A461-4E3E-BAD7-926AEBA24F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0681B-B009-438C-896D-22CAC84E2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funk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odavanje izraza tipa za fun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unc of T1 returns T2 {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1.type=ftype(T1.type,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args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2.type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return type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E1 ( E2 ) { E.type = ((E2.type == s) &amp;&amp;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(E1.type == ftype(s, t))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? t else type_error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ati primjer rada za f-ije sa jednim argumen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azmatramo listu od N tipova kao tip oblik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1 x T2 x T3 x . . . X T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n-argumentna f-ija ima tip T.type = T1 x … x T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ređenje (T2.type == T1.type) testira </a:t>
            </a: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kvivalenciju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st može biti rekurzivan (struktura) ili prosti test imen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C87-AC1C-4A0E-8972-A63E0651DC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E216-8329-4C30-8B6C-CCC88B4F7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ko čuvati informaciju o opseg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tek čiji su elementi hash tabele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tabela po opsegu (table per scope)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velika tabela sa informacijom o opsegu u svakoj deklaraciji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552-6FBA-41D8-B6C5-DDB761D69F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B1E17-29AE-4041-9A26-1A562426DB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četak izgradnje tabela!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 ulasku u opseg deklaracije,  “otvaramo taj opseg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Globalni opseg ulazi prvi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ove deklaracije idu prve u tabelu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Ulazak u lokalni opseg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nova tabela simbola na stek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int x ; // global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void foo() {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double d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float x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x = x + 1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li, ulazak u lokalni opseg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dodavanje u jednu veliku tabelu simbola, otkriti kako čuvati informacije o opseg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52680" y="3200400"/>
            <a:ext cx="5408280" cy="1904760"/>
            <a:chOff x="3352680" y="3200400"/>
            <a:chExt cx="5408280" cy="1904760"/>
          </a:xfrm>
        </p:grpSpPr>
        <p:sp>
          <p:nvSpPr>
            <p:cNvPr id="251" name=""/>
            <p:cNvSpPr/>
            <p:nvPr/>
          </p:nvSpPr>
          <p:spPr>
            <a:xfrm>
              <a:off x="3352680" y="320040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 float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dou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419076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oo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void fu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      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77F-5023-4A9B-9AC9-8A9A04445E7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6BBE3-2EC7-4278-8F9E-90E6E0671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var deklar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acc gramatika za Pascal-like jezik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-&gt; DS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deklaracija pa nared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-&gt; var V; D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deklaraci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 -&gt; V := E; S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naredbi dodjeljivan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V -&gt; x | y | z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mena promjenljivih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-&gt; </a:t>
            </a:r>
            <a:r>
              <a:rPr b="0" i="1" lang="en-US" sz="2600" spc="-1" strike="noStrike">
                <a:solidFill>
                  <a:srgbClr val="3333cc"/>
                </a:solidFill>
                <a:latin typeface="Tahoma"/>
              </a:rPr>
              <a:t>whatever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z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dati gramatici atribute tako da se za svaku promjenljivu vodi evidencija 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menu promjenljive, i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isti u deklaraciju gdje se pojavlju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D85-EC62-448E-9FEF-86148122FE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B209-32CC-4E0F-B652-16B1EBD71B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 za vars i decl lis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   -&gt; DS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S.dl = D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4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D1 -&gt; var V; D2  { D1.dl = addlist(V.name, D2.dl)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2), (3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D1.dl = NULL } 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S1 -&gt; V := E; S2 { check(V.name, S1.dl); S2.dl = S1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5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V -&gt; x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x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y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y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z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z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1)  Sintetisanje name atribut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2)  Sintetisanje liste deklaracij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3)  Dodaj  var decl listi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4)  Statement blok nasleđuje (inherits) decl listu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5)  Provjera (check) upotrebe promjenljive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AD0-2E79-4499-89E7-DE9C97B462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FDA1E-50C3-418F-AFA8-EA0C3D359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3-08T21:48:10Z</dcterms:modified>
  <cp:revision>3378</cp:revision>
  <dc:subject/>
  <dc:title>Welcome to CS143</dc:title>
</cp:coreProperties>
</file>