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</p:sldIdLst>
  <p:sldSz cx="9144000" cy="6858000"/>
  <p:notesSz cx="6872288" cy="9158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A3D23-5057-430C-B0DD-33BA539ED7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45034-8C74-4484-B70F-8EB84DEE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88F34-FC58-4AF9-98CB-954E4445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63F43-CD81-4735-9F94-A8B9B621D1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7A6CA-3AFF-4E0E-8BBF-608A985AF4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93CB2-A322-475C-87C4-60A41411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4B51D-817C-4E56-8596-4705397E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4E1B7-C0A9-4924-86F0-9492F98F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507F0-3A02-4F7E-BBAA-3CF4AF42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1EDB3-F55F-4490-A6D1-5248727B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BA7F4-9B82-435D-B183-67725FDD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C7929-7B7E-4550-B78A-45E097A1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995EA-05BA-4E3A-974A-E369C4AD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D5EEB-6D92-43A6-88AC-846D90FB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24726-C936-4C4B-830F-AF6C5DC4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AFB62-C25F-4E08-B715-BA97EA22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592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428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EA944-4AD0-4749-950E-C7EDDAF368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849BE-C3E5-487F-88D5-FD75C9EE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F7234-3EB7-481F-8D7F-24FBCBB2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59330-4A81-4172-8562-F027B698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00227-B913-4CE6-ACB4-14EA398E0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72265-1B28-4038-8E62-7E8157F5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B39A4-47F7-4C88-A01C-73DBB968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B09E0-069F-43A0-AE1F-42F1E951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3244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2782-C02D-4744-81BE-7C9B931B0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1371600"/>
            <a:ext cx="80773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D8A8-6F10-4F83-89F1-89A3B5F62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Generating Code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B0419-D5D5-451B-9100-FC3F440227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k mašin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mulator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om - primj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zračunat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7 + 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trebom a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mulat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446256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200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43959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657600" y="3154320"/>
            <a:ext cx="2362320" cy="2463120"/>
            <a:chOff x="3657600" y="3154320"/>
            <a:chExt cx="2362320" cy="2463120"/>
          </a:xfrm>
        </p:grpSpPr>
        <p:sp>
          <p:nvSpPr>
            <p:cNvPr id="122" name=""/>
            <p:cNvSpPr/>
            <p:nvPr/>
          </p:nvSpPr>
          <p:spPr>
            <a:xfrm>
              <a:off x="4800600" y="315432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00600" y="401004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00600" y="447192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57600" y="5157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c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3154320"/>
            <a:ext cx="3962520" cy="2723760"/>
            <a:chOff x="5181480" y="3154320"/>
            <a:chExt cx="3962520" cy="2723760"/>
          </a:xfrm>
        </p:grpSpPr>
        <p:sp>
          <p:nvSpPr>
            <p:cNvPr id="127" name=""/>
            <p:cNvSpPr/>
            <p:nvPr/>
          </p:nvSpPr>
          <p:spPr>
            <a:xfrm>
              <a:off x="7315200" y="315432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446256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00800" y="3306600"/>
              <a:ext cx="6094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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0" name=""/>
            <p:cNvCxnSpPr>
              <a:stCxn id="129" idx="6"/>
              <a:endCxn id="127" idx="1"/>
            </p:cNvCxnSpPr>
            <p:nvPr/>
          </p:nvCxnSpPr>
          <p:spPr>
            <a:xfrm flipV="1">
              <a:off x="7009920" y="3387240"/>
              <a:ext cx="305640" cy="148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3" idx="3"/>
              <a:endCxn id="129" idx="3"/>
            </p:cNvCxnSpPr>
            <p:nvPr/>
          </p:nvCxnSpPr>
          <p:spPr>
            <a:xfrm flipV="1">
              <a:off x="6019560" y="3696840"/>
              <a:ext cx="470520" cy="546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2" idx="3"/>
              <a:endCxn id="129" idx="1"/>
            </p:cNvCxnSpPr>
            <p:nvPr/>
          </p:nvCxnSpPr>
          <p:spPr>
            <a:xfrm flipV="1">
              <a:off x="6019560" y="3372840"/>
              <a:ext cx="470520" cy="14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3" name=""/>
            <p:cNvSpPr/>
            <p:nvPr/>
          </p:nvSpPr>
          <p:spPr>
            <a:xfrm>
              <a:off x="5181480" y="5081760"/>
              <a:ext cx="3962520" cy="79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c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acc + top_of_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p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905120" y="3154320"/>
            <a:ext cx="2209680" cy="2799720"/>
            <a:chOff x="1905120" y="3154320"/>
            <a:chExt cx="2209680" cy="2799720"/>
          </a:xfrm>
        </p:grpSpPr>
        <p:sp>
          <p:nvSpPr>
            <p:cNvPr id="135" name=""/>
            <p:cNvSpPr/>
            <p:nvPr/>
          </p:nvSpPr>
          <p:spPr>
            <a:xfrm>
              <a:off x="2895480" y="447984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95480" y="315432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05120" y="5157720"/>
              <a:ext cx="1600200" cy="79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c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push 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95480" y="401472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8897D-4C82-4CAC-A015-D0AF0C96FF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Veći primj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 3 + (7 + 5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Acc        Sta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133720"/>
            <a:ext cx="739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3                                  3              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acc                                 3               3,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7                                  7              3,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acc                                 7              7, 3,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5                                  5              7, 3,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cc + top_of_stack     12             7, 3,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p                                        12              3,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cc + top_of_stack     15             3,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p                                        15             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54421-FBA5-401C-BB60-9A168DA70C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pome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Veoma je važno da se stek očuva između izračunavanja podizraz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k prije izračunavanj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7 + 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3, &lt;init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k poslije izračunavanj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7 + 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j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3, &lt;init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v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perand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je na vrhu stek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69B25-F5CA-4920-9397-779B679A15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O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stek mašin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 do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IPS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-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mp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jler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še kod z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k mašinu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a a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mulat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Želimo da startujemo rezultujući kod n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PS proces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mulat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plemen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ram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nstrukci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k maši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 korišćenjem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PS 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a 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gis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9FC6C-08C0-43AE-B5D6-301F06C897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mul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cij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ek mašin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mulato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e čuva u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PS regist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$a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e čuva u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m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j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k raste ka nižim adres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ndard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ven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cija 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PS arhit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dresa sledeće lokacije na steku čuva se u registr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$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Vrh steka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p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je na adres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sp +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1D9F2-8429-453E-AF90-95577F882E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IP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PS arhit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psk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uced Instruction Set Computer (RISC) arhit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itmeti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čke 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a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cije koriste 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gis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za operande i rezult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oramo koristit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ad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ore instru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cije za operande 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l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te 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mo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j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2 regist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 opšte namje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32 bi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 svak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Koristićem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$s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$a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$t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temporary regist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D1D05-EF48-4074-A778-334081BB3B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Di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IPS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stru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j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w 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ffset(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ad 32-bit word from address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offse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 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w 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ffset(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ore 32-bit word in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t address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offs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iu 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m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i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” means overflow is not check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i reg im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g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i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C5BFD-13F8-4034-88EB-ED40260CE4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IPS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primj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d 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k mašine 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7 + 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IPS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-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2133720"/>
            <a:ext cx="40388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cc + top_of_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62720" y="2133720"/>
            <a:ext cx="2743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i $a0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w $a0 0($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iu $sp $sp 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i $a0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w $t1 4($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 $a0 $a0 $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iu $sp $sp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5486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aliz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o na prosti jezi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3BF84-0FB9-493B-9D81-DADCFEA8D8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eki korisni makroi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fi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saćemo sledeće skraćen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sh $t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w $a0 0($s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iu $sp $sp -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p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iu $sp $sp   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p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w $t 4($s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47F76-2D11-418E-BFB9-92C4E596D7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osti jezi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zik sa cijelim brojevima i cjelobrojnim operatori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D; P | 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def id(ARGS) = 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RGS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d, ARGS | 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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nt | id | if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=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then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else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|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+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|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–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| id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…,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2DE9E-7139-402E-9031-B5C15AE483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gled lekcij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k m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PS as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bl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rski jez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ost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zvorn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z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mplementacija pomoću 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-m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prostog jezik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47DF3-99EB-4F9F-B1BD-5D702AB210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osti jezi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va definicija funkci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main” ruti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zvršavan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gram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 za ulaz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nači izračunavan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(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gram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bon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ijeve broje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f fib(x) = if x = 1 then 0 els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f x = 2 then 1 else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ib(x - 1) + fib(x – 2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1510A-52D8-4402-8D79-950FA5804C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rateg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ija generisanja kod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svaki izraz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ene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šem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PS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d koj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zračunava vrijednos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a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Čuv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s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 sadržaj stek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fi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šimo funkciju za generisanje kod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)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iji 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l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t kod generisan 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487BC-A4C6-4EF4-95EC-4861AD73E3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stant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d za izračunavanje 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stan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 samo je kopira u akumulat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i) = li $a0 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imjetite da se čuva sadržaj steka, kao što je i zahtijeva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ED1B6-3152-4187-A8A8-9DD11BED0A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d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+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ush $a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$t1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t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 $a0 $t1 $a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oguć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timiz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ij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tavit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l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t izra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ir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tno u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gis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$t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DFEFD-B86A-4A7F-91EB-B3DE71C680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dd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– pogrešan pristup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timiza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cij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rezulta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r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tno u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t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+ 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ve $t1 $a0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 $a0 $t1 $a0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obajte da generišete kod z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3 + (7 + 5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2A109-D08A-44D0-AC00-AE1235F7AE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- napome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d za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mplat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sa prostorom za kod za izračunavan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tek mašine 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iv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d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+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astaje spajanjem koda 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ože biti implementirano kao rekurzivni spust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ursive-descen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 na AST-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akar za izra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20883-CAAD-49F6-8319-3AE66CA6C62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Sub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stant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No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stru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ij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ub reg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eg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emen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r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- re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-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ush $a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$t1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t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b $a0 $t1 $a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3C889-CB9E-496C-AF1E-251794B9B73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 uslovne naredb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trebne su nam instrukcije kontrole toka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flow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tructions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ova instrukcij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eq re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lab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kok (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ch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 n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el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ko 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ova instrukcij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 lab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Bezuslovni skok na labelu (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conditional jump to label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B7B80-5AC7-448C-BC87-3A1EF5E239D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f 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if 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hen 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3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se 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$a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t1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eq $a0 $t1 true_bran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2286000"/>
            <a:ext cx="2743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_bran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 end_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_bran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nd_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4D9EF-A0CB-4175-A1AC-A148D57E9D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ktivaciono drvo – primjer 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ass Main {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 g() { return 1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 f() {return g()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oid main() { g(); f()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3352680" y="4038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885840" y="4495320"/>
            <a:ext cx="1524240" cy="765000"/>
            <a:chOff x="3885840" y="4495320"/>
            <a:chExt cx="1524240" cy="765000"/>
          </a:xfrm>
        </p:grpSpPr>
        <p:sp>
          <p:nvSpPr>
            <p:cNvPr id="184" name=""/>
            <p:cNvSpPr/>
            <p:nvPr/>
          </p:nvSpPr>
          <p:spPr>
            <a:xfrm>
              <a:off x="4800600" y="4800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5" name=""/>
            <p:cNvCxnSpPr>
              <a:stCxn id="182" idx="2"/>
              <a:endCxn id="184" idx="0"/>
            </p:cNvCxnSpPr>
            <p:nvPr/>
          </p:nvCxnSpPr>
          <p:spPr>
            <a:xfrm>
              <a:off x="3885840" y="4495320"/>
              <a:ext cx="1220040" cy="3056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86" name=""/>
          <p:cNvGrpSpPr/>
          <p:nvPr/>
        </p:nvGrpSpPr>
        <p:grpSpPr>
          <a:xfrm>
            <a:off x="2590920" y="4495320"/>
            <a:ext cx="1295280" cy="688680"/>
            <a:chOff x="2590920" y="4495320"/>
            <a:chExt cx="1295280" cy="688680"/>
          </a:xfrm>
        </p:grpSpPr>
        <p:sp>
          <p:nvSpPr>
            <p:cNvPr id="187" name=""/>
            <p:cNvSpPr/>
            <p:nvPr/>
          </p:nvSpPr>
          <p:spPr>
            <a:xfrm>
              <a:off x="259092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8" name=""/>
            <p:cNvCxnSpPr>
              <a:endCxn id="187" idx="0"/>
            </p:cNvCxnSpPr>
            <p:nvPr/>
          </p:nvCxnSpPr>
          <p:spPr>
            <a:xfrm flipH="1">
              <a:off x="2895120" y="4495320"/>
              <a:ext cx="991440" cy="2293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89" name=""/>
          <p:cNvGrpSpPr/>
          <p:nvPr/>
        </p:nvGrpSpPr>
        <p:grpSpPr>
          <a:xfrm>
            <a:off x="4800600" y="5257800"/>
            <a:ext cx="609480" cy="840600"/>
            <a:chOff x="4800600" y="5257800"/>
            <a:chExt cx="609480" cy="840600"/>
          </a:xfrm>
        </p:grpSpPr>
        <p:sp>
          <p:nvSpPr>
            <p:cNvPr id="190" name=""/>
            <p:cNvSpPr/>
            <p:nvPr/>
          </p:nvSpPr>
          <p:spPr>
            <a:xfrm>
              <a:off x="480060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1" name=""/>
            <p:cNvCxnSpPr>
              <a:stCxn id="184" idx="2"/>
              <a:endCxn id="190" idx="0"/>
            </p:cNvCxnSpPr>
            <p:nvPr/>
          </p:nvCxnSpPr>
          <p:spPr>
            <a:xfrm>
              <a:off x="5105160" y="5257800"/>
              <a:ext cx="1080" cy="3816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2BE6B-892B-4D02-A6FA-29794E7E98F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k 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š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dnostavan model izračunavanj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ma promjenljivih ili regista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k vrijednosti za međurezula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intermediate result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6C440-6B18-447A-A892-F2E64FCE0B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ktivaciono drvo – primjer 2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lass Main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 g() { return 1;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 f(int x) {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(x == 0) { return g();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se { return f(x - 1); }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oid main() { f(3);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crtati aktivaciono drvo za ovaj primj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878CB-607C-4F26-91EC-D9D83015ECD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pome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v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 drvo zavisi od ponašanja u vrijeme izvršavanja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n-time behavi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v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 drvo može biti različito za različite ulazne podatk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ko su aktivacije pravilno ugnježdene, stek se može koristiti za tekuću aktivnu procedur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FC7F2-7EB1-4B09-B2C3-A3B2EA17772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 sa stekom (1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ass Main {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 g() { return 1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 f() { return g()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void main() {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g(); f()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4038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4038480"/>
            <a:ext cx="198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E77BA-E802-4D9D-B161-521BCA7E84B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 sa stekom (2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4038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590920" y="4495320"/>
            <a:ext cx="1295280" cy="688680"/>
            <a:chOff x="2590920" y="4495320"/>
            <a:chExt cx="1295280" cy="688680"/>
          </a:xfrm>
        </p:grpSpPr>
        <p:sp>
          <p:nvSpPr>
            <p:cNvPr id="203" name=""/>
            <p:cNvSpPr/>
            <p:nvPr/>
          </p:nvSpPr>
          <p:spPr>
            <a:xfrm>
              <a:off x="259092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4" name=""/>
            <p:cNvCxnSpPr>
              <a:stCxn id="201" idx="2"/>
              <a:endCxn id="203" idx="0"/>
            </p:cNvCxnSpPr>
            <p:nvPr/>
          </p:nvCxnSpPr>
          <p:spPr>
            <a:xfrm flipH="1">
              <a:off x="2895120" y="4495320"/>
              <a:ext cx="991440" cy="2293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205" name=""/>
          <p:cNvSpPr/>
          <p:nvPr/>
        </p:nvSpPr>
        <p:spPr>
          <a:xfrm>
            <a:off x="6095880" y="4038480"/>
            <a:ext cx="198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ass Main {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int g() {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return 1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 f() { return g()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void main() { g();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f()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C859F-FBDA-49AB-B2C1-5E0DA833755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 sa stekom (3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4038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590920" y="4495320"/>
            <a:ext cx="1295280" cy="688680"/>
            <a:chOff x="2590920" y="4495320"/>
            <a:chExt cx="1295280" cy="688680"/>
          </a:xfrm>
        </p:grpSpPr>
        <p:sp>
          <p:nvSpPr>
            <p:cNvPr id="210" name=""/>
            <p:cNvSpPr/>
            <p:nvPr/>
          </p:nvSpPr>
          <p:spPr>
            <a:xfrm>
              <a:off x="259092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1" name=""/>
            <p:cNvCxnSpPr>
              <a:stCxn id="208" idx="2"/>
              <a:endCxn id="210" idx="0"/>
            </p:cNvCxnSpPr>
            <p:nvPr/>
          </p:nvCxnSpPr>
          <p:spPr>
            <a:xfrm flipH="1">
              <a:off x="2895120" y="4495320"/>
              <a:ext cx="991440" cy="2293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12" name=""/>
          <p:cNvGrpSpPr/>
          <p:nvPr/>
        </p:nvGrpSpPr>
        <p:grpSpPr>
          <a:xfrm>
            <a:off x="3885840" y="4495320"/>
            <a:ext cx="1524240" cy="765000"/>
            <a:chOff x="3885840" y="4495320"/>
            <a:chExt cx="1524240" cy="765000"/>
          </a:xfrm>
        </p:grpSpPr>
        <p:sp>
          <p:nvSpPr>
            <p:cNvPr id="213" name=""/>
            <p:cNvSpPr/>
            <p:nvPr/>
          </p:nvSpPr>
          <p:spPr>
            <a:xfrm>
              <a:off x="4800600" y="4800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4" name=""/>
            <p:cNvCxnSpPr>
              <a:stCxn id="208" idx="2"/>
              <a:endCxn id="213" idx="0"/>
            </p:cNvCxnSpPr>
            <p:nvPr/>
          </p:nvCxnSpPr>
          <p:spPr>
            <a:xfrm>
              <a:off x="3885840" y="4495320"/>
              <a:ext cx="1220040" cy="3056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215" name=""/>
          <p:cNvSpPr/>
          <p:nvPr/>
        </p:nvSpPr>
        <p:spPr>
          <a:xfrm>
            <a:off x="6095880" y="4038480"/>
            <a:ext cx="198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ass Main {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 g() { return 1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int f() {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return g()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void main() { g(); f();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FC8B9-FEAD-4DB1-9187-520B80D5E21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 sa stekom (4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3352680" y="4038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885840" y="4495320"/>
            <a:ext cx="1524240" cy="765000"/>
            <a:chOff x="3885840" y="4495320"/>
            <a:chExt cx="1524240" cy="765000"/>
          </a:xfrm>
        </p:grpSpPr>
        <p:sp>
          <p:nvSpPr>
            <p:cNvPr id="220" name=""/>
            <p:cNvSpPr/>
            <p:nvPr/>
          </p:nvSpPr>
          <p:spPr>
            <a:xfrm>
              <a:off x="4800600" y="4800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1" name=""/>
            <p:cNvCxnSpPr>
              <a:stCxn id="218" idx="2"/>
              <a:endCxn id="220" idx="0"/>
            </p:cNvCxnSpPr>
            <p:nvPr/>
          </p:nvCxnSpPr>
          <p:spPr>
            <a:xfrm>
              <a:off x="3885840" y="4495320"/>
              <a:ext cx="1220040" cy="3056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22" name=""/>
          <p:cNvGrpSpPr/>
          <p:nvPr/>
        </p:nvGrpSpPr>
        <p:grpSpPr>
          <a:xfrm>
            <a:off x="2590920" y="4495320"/>
            <a:ext cx="1295280" cy="688680"/>
            <a:chOff x="2590920" y="4495320"/>
            <a:chExt cx="1295280" cy="688680"/>
          </a:xfrm>
        </p:grpSpPr>
        <p:sp>
          <p:nvSpPr>
            <p:cNvPr id="223" name=""/>
            <p:cNvSpPr/>
            <p:nvPr/>
          </p:nvSpPr>
          <p:spPr>
            <a:xfrm>
              <a:off x="259092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endCxn id="223" idx="0"/>
            </p:cNvCxnSpPr>
            <p:nvPr/>
          </p:nvCxnSpPr>
          <p:spPr>
            <a:xfrm flipH="1">
              <a:off x="2895120" y="4495320"/>
              <a:ext cx="991440" cy="2293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25" name=""/>
          <p:cNvGrpSpPr/>
          <p:nvPr/>
        </p:nvGrpSpPr>
        <p:grpSpPr>
          <a:xfrm>
            <a:off x="4800600" y="5257800"/>
            <a:ext cx="609480" cy="840600"/>
            <a:chOff x="4800600" y="5257800"/>
            <a:chExt cx="609480" cy="840600"/>
          </a:xfrm>
        </p:grpSpPr>
        <p:sp>
          <p:nvSpPr>
            <p:cNvPr id="226" name=""/>
            <p:cNvSpPr/>
            <p:nvPr/>
          </p:nvSpPr>
          <p:spPr>
            <a:xfrm>
              <a:off x="480060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7" name=""/>
            <p:cNvCxnSpPr>
              <a:stCxn id="220" idx="2"/>
              <a:endCxn id="226" idx="0"/>
            </p:cNvCxnSpPr>
            <p:nvPr/>
          </p:nvCxnSpPr>
          <p:spPr>
            <a:xfrm>
              <a:off x="5105160" y="5257800"/>
              <a:ext cx="1080" cy="3816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228" name=""/>
          <p:cNvSpPr/>
          <p:nvPr/>
        </p:nvSpPr>
        <p:spPr>
          <a:xfrm>
            <a:off x="6095880" y="4038480"/>
            <a:ext cx="1981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ass Main {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int g() { return 1;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int f() { return g();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void main() { g(); f();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A0726-0292-4F37-8420-1F119B87715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icksort – aktivaciono drvo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 a[10]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 partition(int m, int n) { //Choose a pivot value "v", 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 reorder sub-array a[m..n] such that a[m..p-1] are all &lt; v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 a[p] = v, and a[p+1...n] are all &gt;= v; return 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..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id quicksort(int m, int n) {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(n &gt; m) {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= partition(m, n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icksort(m, i-1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icksort(i+1, n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22B3F-AE35-445C-AF01-3A93513CA68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icksort – aktivaciono drvo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73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EE5D4-2D30-4561-A864-2625109EDAC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ktivacioni zapi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U jezicima koji imaju rekurziju, moramo razlikovati defini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ciju i poziv funkcij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Poziv f-ije kreira 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"instanc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" 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ili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"a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tiva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ciju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; može postojati više aktivacija istovreme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Svaka aktivacija ima memorijske zahtjeve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Palatino-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Palatino-Roman"/>
              </a:rPr>
              <a:t>arametr</a:t>
            </a:r>
            <a:r>
              <a:rPr b="0" lang="sr-Latn-CS" sz="2000" spc="-1" strike="noStrike">
                <a:solidFill>
                  <a:srgbClr val="000000"/>
                </a:solidFill>
                <a:latin typeface="Palatino-Roman"/>
              </a:rPr>
              <a:t>i f-ije</a:t>
            </a:r>
            <a:r>
              <a:rPr b="0" lang="en-US" sz="2000" spc="-1" strike="noStrike">
                <a:solidFill>
                  <a:srgbClr val="000000"/>
                </a:solidFill>
                <a:latin typeface="Palatino-Roman"/>
              </a:rPr>
              <a:t>, lo</a:t>
            </a:r>
            <a:r>
              <a:rPr b="0" lang="sr-Latn-CS" sz="2000" spc="-1" strike="noStrike">
                <a:solidFill>
                  <a:srgbClr val="000000"/>
                </a:solidFill>
                <a:latin typeface="Palatino-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Palatino-Roman"/>
              </a:rPr>
              <a:t>al</a:t>
            </a:r>
            <a:r>
              <a:rPr b="0" lang="sr-Latn-CS" sz="2000" spc="-1" strike="noStrike">
                <a:solidFill>
                  <a:srgbClr val="000000"/>
                </a:solidFill>
                <a:latin typeface="Palatino-Roman"/>
              </a:rPr>
              <a:t>ne promjenljive i</a:t>
            </a:r>
            <a:r>
              <a:rPr b="0" lang="en-US" sz="2000" spc="-1" strike="noStrike">
                <a:solidFill>
                  <a:srgbClr val="000000"/>
                </a:solidFill>
                <a:latin typeface="Palatino-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Palatino-Roman"/>
              </a:rPr>
              <a:t>dodatni prostor koji kompajler odredi da bi implementirao tijelo f-ije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Palatino-Roman"/>
              </a:rPr>
              <a:t>Povratnu (</a:t>
            </a:r>
            <a:r>
              <a:rPr b="0" lang="en-US" sz="2000" spc="-1" strike="noStrike">
                <a:solidFill>
                  <a:srgbClr val="000000"/>
                </a:solidFill>
                <a:latin typeface="Palatino-Roman"/>
              </a:rPr>
              <a:t>return</a:t>
            </a:r>
            <a:r>
              <a:rPr b="0" lang="sr-Latn-CS" sz="2000" spc="-1" strike="noStrike">
                <a:solidFill>
                  <a:srgbClr val="000000"/>
                </a:solidFill>
                <a:latin typeface="Palatino-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Palatino-Roman"/>
              </a:rPr>
              <a:t> informa</a:t>
            </a:r>
            <a:r>
              <a:rPr b="0" lang="sr-Latn-CS" sz="2000" spc="-1" strike="noStrike">
                <a:solidFill>
                  <a:srgbClr val="000000"/>
                </a:solidFill>
                <a:latin typeface="Palatino-Roman"/>
              </a:rPr>
              <a:t>ciju: gdje i kako će se nastaviti izvršavanje kada se poziv f-ije završi</a:t>
            </a:r>
            <a:r>
              <a:rPr b="0" lang="en-US" sz="2000" spc="-1" strike="noStrike">
                <a:solidFill>
                  <a:srgbClr val="000000"/>
                </a:solidFill>
                <a:latin typeface="Palatino-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Palatino-Bold"/>
              </a:rPr>
              <a:t>Aktivacioni zapis (a</a:t>
            </a:r>
            <a:r>
              <a:rPr b="1" lang="en-US" sz="2400" spc="-1" strike="noStrike">
                <a:solidFill>
                  <a:srgbClr val="000000"/>
                </a:solidFill>
                <a:latin typeface="Palatino-Bold"/>
              </a:rPr>
              <a:t>ctivation record</a:t>
            </a:r>
            <a:r>
              <a:rPr b="1" lang="sr-Latn-CS" sz="2400" spc="-1" strike="noStrike">
                <a:solidFill>
                  <a:srgbClr val="000000"/>
                </a:solidFill>
                <a:latin typeface="Palatino-Bold"/>
              </a:rPr>
              <a:t>, AR)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 – blok memorije rezervisan za aktivaciju f-ije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emor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ija u AR je validna samo dok se f-ija izvršava; po završetku f-ije ona se oslobađ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5D2A5-DB82-4410-9A45-C13FFFD8811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AR se može alocirati statički (na primjer, Fortran), na steku (C, C++, Java) ili heapu (Lisp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, Scheme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Oblik AR može se zaključiti u vrijeme prevođenja iz d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klaraci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void Simple(int a, int b) // two value pa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int temp1, temp2; // temporary local variab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U primjeru, poteban nam je prostor za 4 int-a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ourier-Bold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-Bold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-Bold"/>
              </a:rPr>
              <a:t>temp1 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-Bold"/>
              </a:rPr>
              <a:t>temp2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Ako je sizeof(int)=</a:t>
            </a:r>
            <a:r>
              <a:rPr b="1" lang="en-US" sz="2400" spc="-1" strike="noStrike">
                <a:solidFill>
                  <a:srgbClr val="000000"/>
                </a:solidFill>
                <a:latin typeface="Courier-Bold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AR će imati bar 16 bajto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02EF0-758A-4D2B-A0AF-BF9CE39CDF0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 programa za stek mašinu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ate su dvi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-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stavit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cio broj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 vr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-  pop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emen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abiramo ih i postavljamo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   rezultat na ste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gram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izračunavanje izraz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 + 5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ush 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ush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BBA69-A8E5-4CCB-872B-B18530CDF3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ktivacioni protoko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Na stek se smještaju aktivacioni zapisi f-i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Aktivacioni protokol – način na koji se vrši predaja kontrole i funkcija iz pozivačke funkcije u pozvanu funkciju i obrat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Različiti jezici ili implementacije istog jezika imaju različite protoko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Protokol treba da zada i opšti raspored memorijskog prostora unutar samog 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aktivacionog 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zapisa. Na primjer, parametri f-ije se dodaju right-to-left, pa povratna adresa, pa lokalne promjenljive top-to-bott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7E1FE-FD18-4A9D-93C2-337C5BE1CD0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ktivacioni protokol – jezik C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aller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 (pozivačka f-ija)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na stek stavlja </a:t>
            </a:r>
            <a:r>
              <a:rPr b="1" lang="en-US" sz="2400" spc="-1" strike="noStrike">
                <a:solidFill>
                  <a:srgbClr val="000000"/>
                </a:solidFill>
                <a:latin typeface="Palatino-Bold"/>
              </a:rPr>
              <a:t>paramet</a:t>
            </a:r>
            <a:r>
              <a:rPr b="1" lang="sr-Latn-CS" sz="2400" spc="-1" strike="noStrike">
                <a:solidFill>
                  <a:srgbClr val="000000"/>
                </a:solidFill>
                <a:latin typeface="Palatino-Bold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aller ini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cijalizuje 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parametr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e u novom AR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opi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ra vrijednosti)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aller 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sačuva stanje i povratnu informaciju (dodaju se 4 bajta iznad parametara)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aller suspend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uje svoj rad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a pozvana f-ija (callee) na stek postavlja prostor za lokalne promjenljive i počinje izvršavanje od početka f-ij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Pozvana f-ija se izvršava pristupajući promjenljivim i parametrima iz AR-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Kada pozvana f-ija završi rad, dio AR se izbaci sa ste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ontrol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a se predaje 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sa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čuvanoj povratnoj adresi u 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caller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-u, koji uklanja 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parametre sa stek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7B9DF-01CD-4626-A08E-C413606AA35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te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Postoje specijalizovane instrukcije za rad sa stekom, da bi se radnje pri pozivu f-ije </a:t>
            </a: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bile efikasni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Neki kompajleri čuvaju pojedine parametre f-ije u specijalnim registrima (pogledati MIP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Postoje i registri koji čuvaju pokazivač na vrh steka (registar SP), programskog brojača (registar PC) i povratne vrijednosti (registar RV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Ostali registri su opšte namje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A2AE5-D7E5-4085-964C-B046553A913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 f-ije Simpl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40520" cy="3032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48769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Palatino-Roman"/>
              </a:rPr>
              <a:t>AR možemo posmatrati kao dvije strukture u C-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4152F-3B44-4E99-8D25-2D0DEB9FD1F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R kao C struktur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SimpleActivationLocal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temp2; // offset 0 (from S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temp1; // offset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SimpleActivationParameters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a; // offset 12 (from S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b; // offset 1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047E8-DE72-4E3F-B4E5-48D12D766F4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pome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roto</a:t>
            </a: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ol </a:t>
            </a: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dozvoljava generisanje koda bez stvarno poznate adrese aktivacionog zapi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Kod radi isto za aktivaciju svake funkci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U kodu nema traga o stvarnim identifikatorima koji su bili u source kodu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5732C-FCB6-4415-89E5-1144AD68F21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ame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) prikaz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295280" y="1523880"/>
            <a:ext cx="2727360" cy="4648320"/>
          </a:xfrm>
          <a:custGeom>
            <a:avLst/>
            <a:gdLst/>
            <a:ahLst/>
            <a:rect l="l" t="t" r="r" b="b"/>
            <a:pathLst>
              <a:path w="720" h="384">
                <a:moveTo>
                  <a:pt x="0" y="384"/>
                </a:moveTo>
                <a:lnTo>
                  <a:pt x="0" y="0"/>
                </a:lnTo>
                <a:lnTo>
                  <a:pt x="720" y="0"/>
                </a:lnTo>
                <a:lnTo>
                  <a:pt x="720" y="384"/>
                </a:lnTo>
              </a:path>
            </a:pathLst>
          </a:custGeom>
          <a:solidFill>
            <a:srgbClr val="cc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0040" y="3124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77960" y="3352680"/>
            <a:ext cx="5331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5880" y="5334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960" y="5638680"/>
            <a:ext cx="5331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11120" y="2209680"/>
            <a:ext cx="272736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11120" y="3352680"/>
            <a:ext cx="272736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11120" y="4495680"/>
            <a:ext cx="272736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e promjenl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eđurezulat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91120" y="4495680"/>
            <a:ext cx="304560" cy="1143000"/>
          </a:xfrm>
          <a:custGeom>
            <a:avLst/>
            <a:gdLst>
              <a:gd name="textAreaLeft" fmla="*/ 0 w 304560"/>
              <a:gd name="textAreaRight" fmla="*/ 10980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7339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705320" y="3276720"/>
            <a:ext cx="210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k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k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vrat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re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4114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00600" y="4800600"/>
            <a:ext cx="4191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i poda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ast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sk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jaj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e u toku izvršavan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91120" y="3352680"/>
            <a:ext cx="304560" cy="1143000"/>
          </a:xfrm>
          <a:custGeom>
            <a:avLst/>
            <a:gdLst>
              <a:gd name="textAreaLeft" fmla="*/ 0 w 304560"/>
              <a:gd name="textAreaRight" fmla="*/ 10980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08440" y="3352680"/>
            <a:ext cx="4054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nk ka AR-u pozivačke f-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07720" y="259092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ument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37200" y="2209680"/>
            <a:ext cx="304560" cy="1143000"/>
          </a:xfrm>
          <a:custGeom>
            <a:avLst/>
            <a:gdLst>
              <a:gd name="textAreaLeft" fmla="*/ 0 w 304560"/>
              <a:gd name="textAreaRight" fmla="*/ 10980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13120" y="2438280"/>
            <a:ext cx="4050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ument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 tekuć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avljeni od pozivač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4038120" y="3428640"/>
            <a:ext cx="685800" cy="1522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4038120" y="3962520"/>
            <a:ext cx="762120" cy="3045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00600" y="3886200"/>
            <a:ext cx="4191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Link ka nelokalnim podacima (access l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5A63B-1E59-48C2-8E7A-93CD0251E20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ack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ame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x86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305920" cy="44197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973160" y="1581120"/>
            <a:ext cx="5200920" cy="469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448A1-AD64-440F-9A33-8D43F8ACD42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ccess (static) lin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5867280" cy="33163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57200" y="18288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jezicima kao PASCAL ili SML, definicije funkcija (procedura) mogu biti ugnj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n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48DC0-5788-40DD-A643-9FB6D212DB9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ccess lin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648320" y="3048120"/>
            <a:ext cx="3209760" cy="35989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57200" y="1523880"/>
            <a:ext cx="8077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tatička veza funkcije f pokazuje na posljednji AR funkcije koja statički sadrži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ko f ne pripada statički nijednoj funkciji, tada je njegov statička veza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8BF09-07DC-478C-8D3C-545BC8667C4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k mašin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- primj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73392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ak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zima svoje operande sa vrha stek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klanja operande sa stek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imjenjuje operaciju nad operandi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Vraća (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h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l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t n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258120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590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800600" y="1600200"/>
            <a:ext cx="1219320" cy="1396440"/>
            <a:chOff x="4800600" y="1600200"/>
            <a:chExt cx="1219320" cy="1396440"/>
          </a:xfrm>
        </p:grpSpPr>
        <p:sp>
          <p:nvSpPr>
            <p:cNvPr id="94" name=""/>
            <p:cNvSpPr/>
            <p:nvPr/>
          </p:nvSpPr>
          <p:spPr>
            <a:xfrm>
              <a:off x="4800600" y="160020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00600" y="207504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00600" y="253692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657600" y="3222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205740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15200" y="251460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182880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100" idx="5"/>
            <a:endCxn id="98" idx="1"/>
          </p:cNvCxnSpPr>
          <p:nvPr/>
        </p:nvCxnSpPr>
        <p:spPr>
          <a:xfrm>
            <a:off x="6997680" y="2219400"/>
            <a:ext cx="317880" cy="7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3"/>
            <a:endCxn id="100" idx="3"/>
          </p:cNvCxnSpPr>
          <p:nvPr/>
        </p:nvCxnSpPr>
        <p:spPr>
          <a:xfrm flipV="1">
            <a:off x="6019560" y="2218680"/>
            <a:ext cx="546480" cy="89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4" idx="3"/>
            <a:endCxn id="100" idx="2"/>
          </p:cNvCxnSpPr>
          <p:nvPr/>
        </p:nvCxnSpPr>
        <p:spPr>
          <a:xfrm>
            <a:off x="6019920" y="1833480"/>
            <a:ext cx="457920" cy="224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2895480" y="257508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3252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210996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28396-A967-4D95-9BBE-32252F9ECB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ccess lin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k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ziv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 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d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ka veza 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Q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kazuje na posljednji AR za P na ste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apome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ože postojati više AR za funkciju P na steku; Q će pokazivati na posljednji od nji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ko nema AR za P na steku, nije moguće pozvati Q, jer je Q sakriven izvan P u program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EFA70-46AA-41EB-8616-09136EC91DA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Izgled steka za f-ije P i Q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852480"/>
            <a:ext cx="9069480" cy="60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5F134-38EF-461C-980F-611536A7D99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laženje statičke vez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zivač postavlj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ic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ije poziva f-ij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Pozivač zna i sebe i pozvanu f-ij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Pozvana f-ija ne zna pozivač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eka s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1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2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dubine ugnježdavanja pozivačke i pozvane f-ij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Kada je pozvana f-ija leksički unutar tij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a pozivača tj. kada j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L2=L1+1,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važi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ic_link = $f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Inače, slijedim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ic link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pozivač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L1-L2+1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pu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ko j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1=L2,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mamo da 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ic_link =Mem[$fp-8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pr. z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1=L2+2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mam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ic_link =Mem[Mem[Mem[$fp-8]-8]-8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3ED7F-173B-4EFB-A0D9-520DFA81162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laženje statičke vez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082080" cy="479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A5BBD-B587-49E0-AC2B-F19A4DDAD45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 sa AR za Java progra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lass Main {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 g() { return 1;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 f(int x) {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f (x == 0) { return g();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lse { return f(x - 1);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(**)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void main() { f(3);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(*)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572000" y="4273560"/>
          <a:ext cx="2590560" cy="18223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su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gu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rol l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turn 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98D0C-A939-45E9-9F8B-E4E0BC079C4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k poslije 2 poziva f-ije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4382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33526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42670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8098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99" idx="2"/>
            <a:endCxn id="300" idx="3"/>
          </p:cNvCxnSpPr>
          <p:nvPr/>
        </p:nvCxnSpPr>
        <p:spPr>
          <a:xfrm flipH="1" flipV="1" rot="5400000">
            <a:off x="3294720" y="2685240"/>
            <a:ext cx="1600920" cy="648360"/>
          </a:xfrm>
          <a:prstGeom prst="curvedConnector5">
            <a:avLst>
              <a:gd name="adj1" fmla="val -14282"/>
              <a:gd name="adj2" fmla="val 67611"/>
              <a:gd name="adj3" fmla="val -14282"/>
            </a:avLst>
          </a:prstGeom>
          <a:ln w="0">
            <a:noFill/>
          </a:ln>
        </p:spPr>
      </p:cxnSp>
      <p:sp>
        <p:nvSpPr>
          <p:cNvPr id="301" name=""/>
          <p:cNvSpPr/>
          <p:nvPr/>
        </p:nvSpPr>
        <p:spPr>
          <a:xfrm>
            <a:off x="3124080" y="42670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24080" y="51814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0958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4267080"/>
            <a:ext cx="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19720" y="4267080"/>
            <a:ext cx="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56386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209680" y="1981080"/>
            <a:ext cx="2210040" cy="459720"/>
            <a:chOff x="2209680" y="1981080"/>
            <a:chExt cx="2210040" cy="459720"/>
          </a:xfrm>
        </p:grpSpPr>
        <p:sp>
          <p:nvSpPr>
            <p:cNvPr id="300" name=""/>
            <p:cNvSpPr/>
            <p:nvPr/>
          </p:nvSpPr>
          <p:spPr>
            <a:xfrm>
              <a:off x="3124080" y="19810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124080" y="1981080"/>
              <a:ext cx="129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24080" y="2438280"/>
              <a:ext cx="129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24080" y="198108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19720" y="198108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09680" y="1981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Comic Sans MS"/>
                </a:rPr>
                <a:t>M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2590920" y="2198520"/>
            <a:ext cx="3123000" cy="3897360"/>
            <a:chOff x="2590920" y="2198520"/>
            <a:chExt cx="3123000" cy="3897360"/>
          </a:xfrm>
        </p:grpSpPr>
        <p:sp>
          <p:nvSpPr>
            <p:cNvPr id="314" name=""/>
            <p:cNvSpPr/>
            <p:nvPr/>
          </p:nvSpPr>
          <p:spPr>
            <a:xfrm>
              <a:off x="3124080" y="56386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**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51814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24080" y="47242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24080" y="42670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resul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24080" y="4724280"/>
              <a:ext cx="129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9" name=""/>
            <p:cNvCxnSpPr>
              <a:stCxn id="315" idx="3"/>
              <a:endCxn id="311" idx="0"/>
            </p:cNvCxnSpPr>
            <p:nvPr/>
          </p:nvCxnSpPr>
          <p:spPr>
            <a:xfrm flipV="1">
              <a:off x="4419720" y="2457000"/>
              <a:ext cx="2160" cy="2953440"/>
            </a:xfrm>
            <a:prstGeom prst="curvedConnector5">
              <a:avLst>
                <a:gd name="adj1" fmla="val 71900000"/>
                <a:gd name="adj2" fmla="val 54370"/>
                <a:gd name="adj3" fmla="val 719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0" name=""/>
            <p:cNvSpPr/>
            <p:nvPr/>
          </p:nvSpPr>
          <p:spPr>
            <a:xfrm>
              <a:off x="259092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666880" y="1730160"/>
            <a:ext cx="2753640" cy="2536920"/>
            <a:chOff x="2666880" y="1730160"/>
            <a:chExt cx="2753640" cy="2536920"/>
          </a:xfrm>
        </p:grpSpPr>
        <p:sp>
          <p:nvSpPr>
            <p:cNvPr id="322" name=""/>
            <p:cNvSpPr/>
            <p:nvPr/>
          </p:nvSpPr>
          <p:spPr>
            <a:xfrm>
              <a:off x="3124080" y="38098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24080" y="33526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4080" y="28954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124080" y="24382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resul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24080" y="2895480"/>
              <a:ext cx="129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24080" y="2438280"/>
              <a:ext cx="0" cy="18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19720" y="2438280"/>
              <a:ext cx="0" cy="18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8" name=""/>
            <p:cNvCxnSpPr/>
            <p:nvPr/>
          </p:nvCxnSpPr>
          <p:spPr>
            <a:xfrm flipV="1">
              <a:off x="4419720" y="1980720"/>
              <a:ext cx="2160" cy="1620000"/>
            </a:xfrm>
            <a:prstGeom prst="curvedConnector5">
              <a:avLst>
                <a:gd name="adj1" fmla="val 55600000"/>
                <a:gd name="adj2" fmla="val 57723"/>
                <a:gd name="adj3" fmla="val 556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9" name=""/>
            <p:cNvSpPr/>
            <p:nvPr/>
          </p:nvSpPr>
          <p:spPr>
            <a:xfrm>
              <a:off x="2666880" y="2438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4056B-DB7C-493B-9FBA-0343CCB9D5E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v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cioni zapi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z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š prosti jezi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za poziv funkcija i definiciju funkcija zavisi od aktivacionog zapi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Veoma jednostava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dovol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 za ovaj jezi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Rezultat je uvijek u a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mulato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ema potrebe za čuvanjem rezultata u 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čuva stvar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ramet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(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…,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sh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…,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na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e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Ovo su jedine promjenljive u jez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87713-A750-41BD-ACAE-FABDA46B028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v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cioni zapi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nastavak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iplinovan pristup steku garantuje da po 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 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unkcij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sp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isti kao i pri ulasku u funkcij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ma potrebe za čuvanjem sadržaj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$s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trebna nam je povratna adres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 address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godno je da imamo pokazivač na početak trenutne aktivacije funkci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Ovaj pokazivač čuvamo 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ist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$fp (frame point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zlog uvođenja fp biće jasan usko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BCAC4-DB21-484C-8FF3-A51606A44AB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v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cioni zapi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m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rn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ovaj prosti jezik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a pozivačkim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me pointe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tvarnim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met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ma i povratno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dres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m je dovolj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lik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ziv f-i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(x,y)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će bit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3200400" y="432108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00400" y="4781520"/>
            <a:ext cx="121932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00400" y="384480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00400" y="5257800"/>
            <a:ext cx="1219320" cy="652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13680" y="358128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, 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286000" y="3886200"/>
            <a:ext cx="457200" cy="1371600"/>
          </a:xfrm>
          <a:custGeom>
            <a:avLst/>
            <a:gdLst>
              <a:gd name="textAreaLeft" fmla="*/ 0 w 457200"/>
              <a:gd name="textAreaRight" fmla="*/ 16488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98800" y="4343400"/>
            <a:ext cx="11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467480" y="388584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777000" y="5105520"/>
            <a:ext cx="139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67080" y="5029200"/>
            <a:ext cx="555840" cy="888840"/>
          </a:xfrm>
          <a:custGeom>
            <a:avLst/>
            <a:gdLst/>
            <a:ahLst/>
            <a:rect l="l" t="t" r="r" b="b"/>
            <a:pathLst>
              <a:path w="350" h="560">
                <a:moveTo>
                  <a:pt x="0" y="0"/>
                </a:moveTo>
                <a:cubicBezTo>
                  <a:pt x="49" y="14"/>
                  <a:pt x="242" y="24"/>
                  <a:pt x="295" y="87"/>
                </a:cubicBezTo>
                <a:cubicBezTo>
                  <a:pt x="348" y="150"/>
                  <a:pt x="350" y="300"/>
                  <a:pt x="318" y="379"/>
                </a:cubicBezTo>
                <a:cubicBezTo>
                  <a:pt x="286" y="458"/>
                  <a:pt x="149" y="522"/>
                  <a:pt x="105" y="5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55480" y="477036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ld 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337B4-E3D0-4D62-ADCB-E526940F157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 poziv f-ije (f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ction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ing sequence”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niz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d pozivačake i pozvane f-i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trebnih za poziv funkci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ov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jal lab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kok na labelu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čuva se adresa sledeće instrukcije 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stoj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hit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r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u kojim se povratna adresa čuva na steku posebnom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call” instru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2481B-4C3D-4B7B-BF88-3A8C3B014BA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što koristit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stek mašin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ak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ija uzima operande sa istog mjesta i vraća rezul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na isto mjes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To znači da imamo unofromnu šemu kompajliranj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tuda, imamo i prostiji kompajl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92F7C-6D23-47F5-88A0-5731741D76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 poziv f-ij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0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f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…,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)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$f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$a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$a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jal f_ent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4038480" y="1676520"/>
            <a:ext cx="4191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zivačka f-ija sačuva vrijedno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ame pointe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Zatim sačuva stvarne paramet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 obrnutom redosl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zivačka f-ija sačuva povratnu adresu 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ist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ma dužinu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4*n+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jt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4202C-5F75-44D8-B0BF-0C8281AD1B8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 definisanje funkcij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ov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jr re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kok na adresu 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ist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re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2666880"/>
            <a:ext cx="4038840" cy="32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def f(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…,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= e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ve $fp $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$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ra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iu $sp $sp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w $fp 0($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jr $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19720" y="2666880"/>
            <a:ext cx="4419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me pointer po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azuje n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p,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 ne na dno frame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zvana f-ij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e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 skida povratnu adresu (pop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tvarne argumente i sačuvanu vrijednost frame point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z = 4*n + 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10B27-FA51-46E0-A1AD-20430285259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lling Sequence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– primjer z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(x,y)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ije poziv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 ulaz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  U tijel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 Poslije pozi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4800600"/>
            <a:ext cx="1219320" cy="1109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39040" y="441972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0760" y="556272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2120" y="39625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48120" y="3876840"/>
            <a:ext cx="1218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8120" y="3406680"/>
            <a:ext cx="1218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48120" y="4343400"/>
            <a:ext cx="1218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ld 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14800" y="4648320"/>
            <a:ext cx="411120" cy="1238040"/>
          </a:xfrm>
          <a:custGeom>
            <a:avLst/>
            <a:gdLst/>
            <a:ahLst/>
            <a:rect l="l" t="t" r="r" b="b"/>
            <a:pathLst>
              <a:path w="259" h="780">
                <a:moveTo>
                  <a:pt x="0" y="0"/>
                </a:moveTo>
                <a:cubicBezTo>
                  <a:pt x="36" y="18"/>
                  <a:pt x="177" y="2"/>
                  <a:pt x="217" y="110"/>
                </a:cubicBezTo>
                <a:cubicBezTo>
                  <a:pt x="257" y="218"/>
                  <a:pt x="259" y="534"/>
                  <a:pt x="241" y="646"/>
                </a:cubicBezTo>
                <a:cubicBezTo>
                  <a:pt x="223" y="758"/>
                  <a:pt x="135" y="752"/>
                  <a:pt x="107" y="7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8120" y="4800600"/>
            <a:ext cx="1218960" cy="1109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72760" y="312408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364480" y="563868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467480" y="4800600"/>
            <a:ext cx="1219320" cy="1109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923880" y="441972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915960" y="556272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03880" y="387684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03880" y="340668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303880" y="434340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ld 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370560" y="4648320"/>
            <a:ext cx="411120" cy="1238040"/>
          </a:xfrm>
          <a:custGeom>
            <a:avLst/>
            <a:gdLst/>
            <a:ahLst/>
            <a:rect l="l" t="t" r="r" b="b"/>
            <a:pathLst>
              <a:path w="259" h="780">
                <a:moveTo>
                  <a:pt x="0" y="0"/>
                </a:moveTo>
                <a:cubicBezTo>
                  <a:pt x="36" y="18"/>
                  <a:pt x="177" y="2"/>
                  <a:pt x="217" y="110"/>
                </a:cubicBezTo>
                <a:cubicBezTo>
                  <a:pt x="257" y="218"/>
                  <a:pt x="259" y="534"/>
                  <a:pt x="241" y="646"/>
                </a:cubicBezTo>
                <a:cubicBezTo>
                  <a:pt x="223" y="758"/>
                  <a:pt x="135" y="752"/>
                  <a:pt x="107" y="7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03880" y="4800600"/>
            <a:ext cx="1219320" cy="1109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28520" y="213372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620240" y="309888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16480" y="292104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16480" y="246384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957EB-0CDC-4F61-B6A5-969150A20DA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 promjenljiv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Referenciranje promjenljivih je poslednja konstrukcij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omjenljive f-ije su samo njeni paramet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One su sve 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Guraju se na stek od pozivačke f-ij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tek raste kada se čuvaju međurezultati, pa promjenljive nisu na fiksnom rastojanju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fse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-u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$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F0C9F-6CAC-49F2-B5FD-E95C4B2B1B5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 promjenljiv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Rješen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ristim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me poin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vijek pokazuje na povratnu adresu na stek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ako se ne pomjera, može se koristiti za pronalaženje promjenljivi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eka 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-t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i = 1,…,n) formal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arame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funkcije za koju generišemo k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0BCEA-99AC-454D-B5EC-4015A74FAC9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 promjenljiv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imj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funkcij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f f(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= 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v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me pointe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u sledeć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3048120"/>
            <a:ext cx="5029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n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p +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n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p +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tud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= lw $a0 z($f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z = 4*i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43000" y="4613400"/>
            <a:ext cx="12193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43000" y="4143240"/>
            <a:ext cx="12193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43000" y="507996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ld 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09680" y="5384880"/>
            <a:ext cx="411120" cy="1238040"/>
          </a:xfrm>
          <a:custGeom>
            <a:avLst/>
            <a:gdLst/>
            <a:ahLst/>
            <a:rect l="l" t="t" r="r" b="b"/>
            <a:pathLst>
              <a:path w="259" h="780">
                <a:moveTo>
                  <a:pt x="0" y="0"/>
                </a:moveTo>
                <a:cubicBezTo>
                  <a:pt x="36" y="18"/>
                  <a:pt x="177" y="2"/>
                  <a:pt x="217" y="110"/>
                </a:cubicBezTo>
                <a:cubicBezTo>
                  <a:pt x="257" y="218"/>
                  <a:pt x="259" y="534"/>
                  <a:pt x="241" y="646"/>
                </a:cubicBezTo>
                <a:cubicBezTo>
                  <a:pt x="223" y="758"/>
                  <a:pt x="135" y="752"/>
                  <a:pt x="107" y="7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43000" y="5537160"/>
            <a:ext cx="1219320" cy="1109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7640" y="289548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9360" y="380988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155600" y="365760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55600" y="320040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72373-D2AE-4A42-B256-E534B0E938E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egle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ktivacioni zapis mora biti dizajniran zajedno sa generatorom ko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ože se odraditi kao rekurzivni obilazak AST-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ije obavezno koristiti stek mašinu, ali je jednostavni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Realni 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mp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jle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glasak na čuvanju vrijednost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sebno tekućeg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tek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am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 registri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eđurezultati se čuvaju A R, a ne na stek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8EC10-58BC-425C-9567-839CCECE088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oc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iranje privremenih promjenljivih u AR-u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2763D-F141-49C2-B517-C2F5CD2DF15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egle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k mašina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m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v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 zapis i međurezultate (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termediates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sprepletene na ste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3505320" y="3124080"/>
            <a:ext cx="2513880" cy="1829520"/>
            <a:chOff x="3505320" y="3124080"/>
            <a:chExt cx="2513880" cy="1829520"/>
          </a:xfrm>
        </p:grpSpPr>
        <p:sp>
          <p:nvSpPr>
            <p:cNvPr id="404" name=""/>
            <p:cNvSpPr/>
            <p:nvPr/>
          </p:nvSpPr>
          <p:spPr>
            <a:xfrm>
              <a:off x="3505320" y="3124080"/>
              <a:ext cx="251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05320" y="3576960"/>
              <a:ext cx="251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termedi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505320" y="4036320"/>
              <a:ext cx="251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4493880"/>
              <a:ext cx="251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termedi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709C4-F13A-42A0-8BA7-5908B677C1D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egl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edno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Veoma jednostavno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isanje ko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an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V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ma spor k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ing/loading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ivremenih promjenjivih zahtijev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e/load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 podešavan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s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DBA03-F1BF-4EB3-AA9F-FA86DC4879C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što koristit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stek mašin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cija operanada 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ici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vijek na vrhu stek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ma potrebe za eksplicitnim zadavanjem operana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ma potrebe za zadavanjem 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cije rezult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mjest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 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raće kodiranj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ru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ci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ompaktnij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ogram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vo je jedan razlog zašt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va Bytecod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koristi model steka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ck evaluation model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1B700-151A-4D86-92C5-D7FCE7A619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Bolji nači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uvamo privremene promjenljive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mporaries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 u aktivacionom zapis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Generator koda mora dodijeliti lokaciju u AR-u za svaku privremenu promjenljiv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8B56B-DCAD-481D-81E2-179FCBA990C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f fib(x) = if x = 1 then 0 els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f x = 2 then 1 else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ib(x - 1) + fib(x – 2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je međurezulate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mediate values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 treba postaviti na ste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liko prostora u AR-u je potrebno za čuvanje tih vrijednost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2D2F5-48C4-4AB2-9051-348D0F3385C2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oliko privremenih promjenljivih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T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broj privremenih promj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nljivi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otrebnih za izr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avanje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zra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T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+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trebno najman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T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ivremenih promjenljivi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trebno najman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T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+ 1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ivremenih promj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ostor upotre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n za privremene promjenljive 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ože se ponovo iskoristiti 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2B24E-F3C2-4474-894C-69AE541B89E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Jednači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 = max(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, 1 + 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-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 = max(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, 1 + 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T(if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=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then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else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 = max(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,1 + 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, 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, 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T(id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…,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 = max(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,…,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T(int) =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T(id) =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a li je ov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ottom-up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p-dow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Šta 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T(…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d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z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fib…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0C7C4-8E7B-42B4-B2B2-179DD261893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onov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definiciju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(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…,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= 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m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2 + n + NT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eme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vratna adresa (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urn address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ame poin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gumen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T(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o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ja za međurezultate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mediate results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734A2-564C-4E06-9330-5A4ED40977F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lik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"/>
          <p:cNvSpPr/>
          <p:nvPr/>
        </p:nvSpPr>
        <p:spPr>
          <a:xfrm>
            <a:off x="3429000" y="289404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m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29000" y="335124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429000" y="3809880"/>
            <a:ext cx="21337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26708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29000" y="4724280"/>
            <a:ext cx="21337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29000" y="518148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ld 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29000" y="197172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mp NT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29000" y="243828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753640" y="160020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50400" y="342900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422E7-3632-40E3-8646-FE5747CAFF9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ov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isanje kod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isanje koda m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ra znati koliko je privremenih promjenljivih u upotrebi u svakom trenut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odajemo novi argument za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isanje koda: po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icija sledeće dostupne privremene promjenljive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xt available temporary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7928D-68A6-44A9-915C-6A04DA944549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 (original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+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w $a0 0($s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iu $sp $sp -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w $t1 4($s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 $a0 $t1 $a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iu $sp $sp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CAA8F-FF24-401E-87E1-B40C144ED5F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oboljšan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+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nt) =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nt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w $a0 -nt($f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nt + 4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w $t1 -nt($f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 $a0 $t1 $a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AFB91-AFD8-40DE-8F37-C080FC15AD7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pome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dručje za privremene promjenljive se koristi kao mali stek fiksne veličine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all, fixed-size stack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Vježban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apisati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ostale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3AB53-F455-4EB8-93BC-F88F866E576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timiz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cij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ek mašin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cija obavlj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mem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jske 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i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Dv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čitanja i jedno upisivanje na ste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Vrhu steka se često pristu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uvati vrh steka u posebnom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gist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tzv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mulat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istup registrima je brž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 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ja posta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cc + top_of_sta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amo jedna memorijsk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ra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cij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B2333-4289-4757-B184-F31036B66E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je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i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t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isane jezik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0D3F1-F421-4515-A508-474B7B599B2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kaz objekata (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ject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yout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O implement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ij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ešto što smo već učil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ešto no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O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gan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ko 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dklasa kl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, 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da s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l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ože koristiti uvijek gdje se očekuje objekat klase 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vo znači da kod za klasu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radi bez modifikacija za objekte kl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73E22-78CF-4610-9F39-00F89671A6B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Dvije tem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ko se objekti predstavljaju u memorij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ko je implementir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k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ispatch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DB10C-99C0-42B4-8C06-41A8B91AFE6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edstavljanje objekata - primj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838080" y="2209680"/>
            <a:ext cx="4077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as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a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d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f() { return a = a + d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ass  B extend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b 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f() { return a }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overr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g() { return a = a - b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15080" y="4191120"/>
            <a:ext cx="4076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ass  C extend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c =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h() { return a = a * c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19BE7-0BD5-4693-87C2-B7EF63B2DC7A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edstavljanje objekat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ribu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u naslijeđeni u klasam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i metodi u svim klasama referenciraj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bi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etod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 radili ispravno 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bj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m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tribu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ra biti na istom “mjestu” za svaki objek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1366F-D118-4009-82BE-8273DAC85DA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edstavljanje objekat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j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t je ka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-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istupanje polj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o.fie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indeks 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ri n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fse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-u koji odgovara polj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ie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 se čuvaju u uzastopnim memorijskim lokacija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vaki atribut se čuva na fiksnom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fse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u 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ada se poziva metod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l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(ili this) i polja su atributi objek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7CC2C-9D34-44C9-AD19-3728A7175AC7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edstavljanje objekat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riječi objekta sadrže zaglavl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ader informatio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"/>
          <p:cNvSpPr/>
          <p:nvPr/>
        </p:nvSpPr>
        <p:spPr>
          <a:xfrm>
            <a:off x="3429000" y="402732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patch P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429000" y="448452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ribut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29000" y="494352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ribut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29000" y="540072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310500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429000" y="357192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c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15000" y="2529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19920" y="3657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992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19920" y="4572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19920" y="5029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22423-879F-439A-AEFD-972E822B3D80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edstavljanje objekat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 tag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cio broj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i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uje klasu objek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ct size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cio broj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Veličina objekta u riječi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patch pt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pokazivač na tabelu meto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alo kasnije biće više detal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ribu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 su u susjednim lokacij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e je u uzastopnim memorijskim lokacij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0928B-81B8-4DCB-95A4-2524C768EDDF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odklas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apomen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ko je dat prikaz kl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ikaz podklas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ože biti definisan proširivanjem prikaza klas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odatnim lokacijama za dodatne atribute iz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stavljamo prikaz 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eizmjenjeni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proširen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A5C61-05D7-45D0-83A1-C90247031662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lika prikaz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838080" y="1752480"/>
          <a:ext cx="6553440" cy="4380120"/>
        </p:xfrm>
        <a:graphic>
          <a:graphicData uri="http://schemas.openxmlformats.org/drawingml/2006/table">
            <a:tbl>
              <a:tblPr/>
              <a:tblGrid>
                <a:gridCol w="13287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"/>
          <p:cNvSpPr/>
          <p:nvPr/>
        </p:nvSpPr>
        <p:spPr>
          <a:xfrm>
            <a:off x="914400" y="1828800"/>
            <a:ext cx="121932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138BB-69E2-4861-BB14-89F234489BBA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k mašin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a 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mulator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o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var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l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t izračunavanja izraza je uvijek u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mulat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per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ij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…,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ush 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mulatora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a stek poslije izračunavanja svakog o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…,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n-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Rezulta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je u a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mulato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ij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slij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ra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cije, uradit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p n-1 v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rijednos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slije izračunavanja izraza, stek je kao i pri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9C608-F8FE-4134-BFDD-EA665EA58E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odklas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fset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ribu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je isti u klasi i svim njenim podklas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vaki metod iz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ože se koristiti u podklas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smatrajmo prikaz 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1219320" y="4865760"/>
            <a:ext cx="213336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tt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219320" y="5334120"/>
            <a:ext cx="213336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tt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19320" y="5791320"/>
            <a:ext cx="2133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219320" y="3943440"/>
            <a:ext cx="2133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19320" y="4410000"/>
            <a:ext cx="213336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tt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1120" y="3962520"/>
            <a:ext cx="152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i="1" lang="en-US" sz="1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 obje</a:t>
            </a:r>
            <a:r>
              <a:rPr b="0" i="1" lang="sr-Latn-CS" sz="1800" spc="-1" strike="noStrike">
                <a:solidFill>
                  <a:srgbClr val="3333cc"/>
                </a:solidFill>
                <a:latin typeface="Comic Sans MS"/>
              </a:rPr>
              <a:t>ka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33920" y="3962520"/>
            <a:ext cx="0" cy="9144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3962520"/>
            <a:ext cx="0" cy="13716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038480" y="3962520"/>
            <a:ext cx="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91120" y="4495680"/>
            <a:ext cx="152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cc"/>
                </a:solidFill>
                <a:latin typeface="Comic Sans MS"/>
              </a:rPr>
              <a:t>A</a:t>
            </a:r>
            <a:r>
              <a:rPr b="0" i="1" lang="en-US" sz="1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i="1" lang="en-US" sz="1800" spc="-1" strike="noStrike">
                <a:solidFill>
                  <a:srgbClr val="9900cc"/>
                </a:solidFill>
                <a:latin typeface="Comic Sans MS"/>
              </a:rPr>
              <a:t> obje</a:t>
            </a:r>
            <a:r>
              <a:rPr b="0" i="1" lang="sr-Latn-CS" sz="1800" spc="-1" strike="noStrike">
                <a:solidFill>
                  <a:srgbClr val="9900cc"/>
                </a:solidFill>
                <a:latin typeface="Comic Sans MS"/>
              </a:rPr>
              <a:t>ka</a:t>
            </a:r>
            <a:r>
              <a:rPr b="0" i="1" lang="en-US" sz="1800" spc="-1" strike="noStrike">
                <a:solidFill>
                  <a:srgbClr val="9900cc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91120" y="5043600"/>
            <a:ext cx="152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 obje</a:t>
            </a:r>
            <a:r>
              <a:rPr b="0" i="1" lang="sr-Latn-CS" sz="1800" spc="-1" strike="noStrike">
                <a:solidFill>
                  <a:srgbClr val="ff0000"/>
                </a:solidFill>
                <a:latin typeface="Comic Sans MS"/>
              </a:rPr>
              <a:t>ka</a:t>
            </a: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172200" y="396252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omic Sans MS"/>
              </a:rPr>
              <a:t>Šta ako imamo višestruko nasleđivanj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ultiple inheritance</a:t>
            </a:r>
            <a:r>
              <a:rPr b="0" i="1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AAD9D-560F-4F01-AE8E-5CAF14724706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i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čk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patch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Razmotrimo opet naš primj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"/>
          <p:cNvSpPr/>
          <p:nvPr/>
        </p:nvSpPr>
        <p:spPr>
          <a:xfrm>
            <a:off x="838080" y="2209680"/>
            <a:ext cx="4077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as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a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d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f() { return a = a + d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ass  B extend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b 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f() { return a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g() { return a = a - b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15080" y="4191120"/>
            <a:ext cx="4076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ass  C extend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c =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h() { return a = a * c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C582C-2721-4AE4-83D9-9F5FCEB80D0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i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čk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patch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- primj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.g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e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ncira metod i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ko 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objekat kl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.f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fe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ncira metod i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ko j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objekat i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l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(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slijeđen u slučaju klas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fe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ncira metod i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za objekte iz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plement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ija metoda 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kog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patch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-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dsjeća na implementaciju atribu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5077E-64B8-44EF-AFB4-589A3D08DA2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patch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aka klasa ima fiksiran skup metod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ključujući i naslijeđene metod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spatch tab</a:t>
            </a:r>
            <a:r>
              <a:rPr b="0" i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i="1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sira ove meto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iz ulaznih tačaka metoda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ry points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eto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je n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siranom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fset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patch tab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za klasu i 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sve njene podkl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0FCAD-BF89-45EE-9D75-FC457F3C89E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patch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- primj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686480" y="1599840"/>
            <a:ext cx="4076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patch tab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 za klas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ma samo jedan met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Tabele z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oširuju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tend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tabelu z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ako se može dati nova definicja metoda u podklasi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ridden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metod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ije isti u svakoj klasi ali je uvijek na istom offset-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838080" y="1752480"/>
          <a:ext cx="3070440" cy="4380120"/>
        </p:xfrm>
        <a:graphic>
          <a:graphicData uri="http://schemas.openxmlformats.org/drawingml/2006/table">
            <a:tbl>
              <a:tblPr/>
              <a:tblGrid>
                <a:gridCol w="1328760"/>
                <a:gridCol w="870120"/>
                <a:gridCol w="8715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e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85C24-6786-4DBF-B2BE-90D49C135F9E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otreba 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patch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patch pointe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 objektu klas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o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zuje n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patch tab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 za klas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akom metod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l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dodijelje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fset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patch tab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 u trenutku prevođenja (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mpile tim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C4240-EE9F-4090-B9D7-B87DF43944C5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otreba 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patch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 (nastavak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aki metod mora znati šta 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self”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ili “thi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f”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e predaje kao prvi argument u svim metodi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emen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cij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kog 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patch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.f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zračunati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da bi dobili objeka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ć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dispatch-tabelu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čitanjem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patch-table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lja objekt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zvat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[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](x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patch tab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a za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Pri pozivu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lf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se vezuje za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BD2B2-5804-42F5-AA52-A3A7C51BB19C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7:54:11Z</dcterms:created>
  <dc:creator>Goran Sukovic &amp; Alex Aiken &amp; George Necula</dc:creator>
  <dc:description/>
  <dc:language>en-US</dc:language>
  <cp:lastModifiedBy>gorans</cp:lastModifiedBy>
  <dcterms:modified xsi:type="dcterms:W3CDTF">2009-04-30T10:19:36Z</dcterms:modified>
  <cp:revision>290</cp:revision>
  <dc:subject/>
  <dc:title>Introduction to Programming Languages and Compilers</dc:title>
</cp:coreProperties>
</file>