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8F0-AF52-41E8-96CF-E275C753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1F1-42EE-4904-9D43-7780725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864-CD19-4327-A48A-0994B69F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51A-905B-4459-9253-995882C6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A16-2372-4C74-84C2-212C0520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E9D-4FDD-4CC1-A006-80660FB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8A0-5BB6-46CD-B564-ACA75DA6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F17-9723-435D-82FE-53D322C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528-C045-4CE1-91C2-4990C757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6BE-265E-4B09-9F49-ED024EB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32F-6D8E-42A6-AB7C-565DD2D9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E15-8DC2-4D72-95F7-0664DC5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3465-00AA-4695-BED0-D28597F4F1A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eđuprogramska reprezentacij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đuprogramska reprezentacija (intermediate representation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da se kreira apstraktno sintaksno stablo (AST), posjedujemo dovoljno informacija za otpočinjanje generisanja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evođenje AST u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timizacija međuprogramskog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isanje koda od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2F4-76D1-4080-8CEC-88726D25F2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F393A-A3D5-4EA1-9416-FF8609005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(Abstract Syntax Tree) je oblik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straktniji od drveta pasrir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3376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6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FAD-C01C-458A-9038-5E6D50C601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C9910-277D-4832-AACF-AB10A16D1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imjer AST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: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FunctionNode($2, $4, $6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: function_list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$1; $1-&gt;AppendNode($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tant : int_consta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IntConstantNode($1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826-3494-4778-A50D-CE96D42996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AB282-50C2-456C-9C56-72E3FBED8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vo parsiranja za aritmetičke izraz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914400"/>
            <a:ext cx="9753480" cy="404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ki čvorovi su nebitni za izračunavanje(npr. expr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variabl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C08-AB0A-4FCB-9FF9-863937B6EC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C76F6-7428-447B-A57C-9476D2726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za isti aritmetičk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raz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o generisati kod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ovo drvo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 se AST ka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, i odrađujem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anslaciju u rutinam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je obilaze drvo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tine obilaska drveta i generisanja koda (Tree-walk code-gen routines 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869080" y="1759680"/>
            <a:ext cx="2283120" cy="2082600"/>
            <a:chOff x="5869080" y="1759680"/>
            <a:chExt cx="2283120" cy="2082600"/>
          </a:xfrm>
        </p:grpSpPr>
        <p:sp>
          <p:nvSpPr>
            <p:cNvPr id="107" name=""/>
            <p:cNvSpPr/>
            <p:nvPr/>
          </p:nvSpPr>
          <p:spPr>
            <a:xfrm>
              <a:off x="6474960" y="175968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869080" y="2453400"/>
              <a:ext cx="1568160" cy="596880"/>
              <a:chOff x="5869080" y="2453400"/>
              <a:chExt cx="1568160" cy="5968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69080" y="2529720"/>
                <a:ext cx="3787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17920" y="2453400"/>
                <a:ext cx="3193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480360" y="33217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93280" y="332172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7" idx="2"/>
              <a:endCxn id="109" idx="0"/>
            </p:cNvCxnSpPr>
            <p:nvPr/>
          </p:nvCxnSpPr>
          <p:spPr>
            <a:xfrm flipH="1">
              <a:off x="6058440" y="2295000"/>
              <a:ext cx="610200" cy="219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>
              <a:stCxn id="107" idx="2"/>
              <a:endCxn id="110" idx="0"/>
            </p:cNvCxnSpPr>
            <p:nvPr/>
          </p:nvCxnSpPr>
          <p:spPr>
            <a:xfrm>
              <a:off x="6668640" y="2295000"/>
              <a:ext cx="610560" cy="143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0" idx="2"/>
              <a:endCxn id="112" idx="0"/>
            </p:cNvCxnSpPr>
            <p:nvPr/>
          </p:nvCxnSpPr>
          <p:spPr>
            <a:xfrm>
              <a:off x="7278120" y="2989080"/>
              <a:ext cx="69552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10" idx="2"/>
              <a:endCxn id="111" idx="0"/>
            </p:cNvCxnSpPr>
            <p:nvPr/>
          </p:nvCxnSpPr>
          <p:spPr>
            <a:xfrm flipH="1">
              <a:off x="6669720" y="298908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B03-A4DB-4488-9461-D5C4883D05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6BB9B-789E-49CB-8CB8-773B70683C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void GenerateCode(tree t, int resultRegNum)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{ if (IsArithmeticOp(t-&gt;label)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left, resultRegNum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right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ArithmeticOp(t-&gt;label,   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sultRegNum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} else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Load(t-&gt;label, resultRegNum);  }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bool IsArithmeticOp(char ch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turn ((ch == '+') || (ch == '-') ||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(ch == '*') || (ch == '/'));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ADB-58E8-4E2C-9DB6-17FEBD1FD2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235D4-A689-4D40-8A47-3A53529F23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ArithmeticOp(char op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reg1, int reg2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r *opCode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(op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+': opCode = "ADD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-': opCode = "SUB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*': opCode = "MUL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/': opCode = "DIV"; break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%s R%d, R%d\n", opCode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g1, reg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Load(char c, int reg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LOAD %c, R%d\n",c , reg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015-F1F9-44D4-A0A5-53FBAF75A7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D4112-7C65-44AF-9F8D-E2256BCF83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Napomene vezane za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LOAD, MUL, DIV, itd. su kodovi operacija na ciljnoj mašini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ateCode kao argument ima registar za čuvanje rezultata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Nije nam poznato koliko registara ima ciljna mašina (target machine)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rateCode inkrementira broj registra kada mu zatreba novi registar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Za složene izraze, ovaj pristup može zauzeti sve registre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išemo asemblerski kod kao tekst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176-C415-4F98-AC90-2374C764E7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13E27-0686-4CB7-9CF2-DEC725569B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oš jedan primjer izraz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+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a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“LOAD a, R0”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*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-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b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b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c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c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SUB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d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d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MUL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ADD R0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0560" y="235440"/>
            <a:ext cx="2294280" cy="2989080"/>
            <a:chOff x="6640560" y="235440"/>
            <a:chExt cx="2294280" cy="2989080"/>
          </a:xfrm>
        </p:grpSpPr>
        <p:sp>
          <p:nvSpPr>
            <p:cNvPr id="126" name=""/>
            <p:cNvSpPr/>
            <p:nvPr/>
          </p:nvSpPr>
          <p:spPr>
            <a:xfrm>
              <a:off x="7246440" y="23544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40560" y="10051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89760" y="928800"/>
              <a:ext cx="3193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56120" y="179748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6" idx="2"/>
              <a:endCxn id="127" idx="0"/>
            </p:cNvCxnSpPr>
            <p:nvPr/>
          </p:nvCxnSpPr>
          <p:spPr>
            <a:xfrm flipH="1">
              <a:off x="6830280" y="771120"/>
              <a:ext cx="610200" cy="219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8" idx="0"/>
            </p:cNvCxnSpPr>
            <p:nvPr/>
          </p:nvCxnSpPr>
          <p:spPr>
            <a:xfrm>
              <a:off x="7440480" y="771120"/>
              <a:ext cx="610560" cy="143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8" idx="2"/>
              <a:endCxn id="129" idx="0"/>
            </p:cNvCxnSpPr>
            <p:nvPr/>
          </p:nvCxnSpPr>
          <p:spPr>
            <a:xfrm>
              <a:off x="8049960" y="1465200"/>
              <a:ext cx="695520" cy="3175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8" idx="2"/>
              <a:endCxn id="134" idx="0"/>
            </p:cNvCxnSpPr>
            <p:nvPr/>
          </p:nvCxnSpPr>
          <p:spPr>
            <a:xfrm flipH="1">
              <a:off x="7443000" y="1465200"/>
              <a:ext cx="607320" cy="35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7293240" y="1835280"/>
              <a:ext cx="2995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45600" y="270396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58880" y="270396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4" idx="2"/>
              <a:endCxn id="136" idx="0"/>
            </p:cNvCxnSpPr>
            <p:nvPr/>
          </p:nvCxnSpPr>
          <p:spPr>
            <a:xfrm>
              <a:off x="7443720" y="2370960"/>
              <a:ext cx="69624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4" idx="2"/>
              <a:endCxn id="135" idx="0"/>
            </p:cNvCxnSpPr>
            <p:nvPr/>
          </p:nvCxnSpPr>
          <p:spPr>
            <a:xfrm flipH="1">
              <a:off x="6834960" y="237096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791320" y="3352680"/>
            <a:ext cx="3047760" cy="3080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67B-2D8F-4BFF-A2DC-10133F92BB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0354F-5B71-45C0-9EFA-AE7A9C486B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li smo registre al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ma konflikta (prepisujem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ijednost kada na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oš treba.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čitali smo vrijednos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 R0 i ne koristimo je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samog kraj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čunanja.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poboljšanje koda, prvo se primjenjuje tehnika alokacije registar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752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685800"/>
            <a:ext cx="2438280" cy="3933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(b-c)*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B16-6E86-4C29-8EFE-CD5562564B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DED38-ABBE-493F-B695-AFB8BE1519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CC MPR: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Register Transfer Languag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Nizak nivo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nspirisan Lisp-om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Kompajleri na Solaris-u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2.95.3/gcc_15.html#SEC149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Poslednja verzija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3.2.2/gccint/RTL.html#RT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58F-433D-4CC0-8357-664F2F947E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13B77-0840-4830-A45F-F4FAEBCE14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Zašto je potrebna MPR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PR – reprezentacija program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straktnije od staba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jezika nego stab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mašine nego krajnji ko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Zašto direktno ne generisati ko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 je moguće, čak i uobičajen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zavisnost je vrli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 -- ranije GNU C kompajl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da Gnu Compiler Colle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više jezika (source) u jednu MP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jedne MPR u više arhitektur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FAA-DD4D-4D29-AEDF-2F8DC19A7A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3AD29-BBE4-4AD3-9DD1-0C1E773DE6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u GNU 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;; Function main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3 2 4 "" NOTE_INSN_FUNCTION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6 4 7 0 NOTE_INSN_BLOCK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7 6 8 (set (reg:SI 106)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labele, jump na nj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high:SI 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// .LLC0 je asemblerska labela za string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8 7 10 (set (reg:SI 8 %o0) (lo_sum:SI (reg:SI 106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//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“high” &amp; “lo_sum” izgrađuju  niz od 2 instrukcije za dostup globalnoj memoriji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BE9-0B4F-4D33-9639-17C55C8C54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07A3A-8116-4953-BA7D-6D217EA9B3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- nastava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_insn 10 8 12 (parallel[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nekoliko bočnih efeka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set (reg:SI 8 %o0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paralelno odrađen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 (mem:SI (symbol_ref:SI ("printf"))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_int 0 [0x0]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lobber (reg:SI 15 %o7))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] ) -1 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expr_list (use (reg:SI 8 %o0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2 10 13 0 NOTE_INSN_BLOCK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3 12 15 "" NOTE_INSN_FUNCTION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clobber: moguće čuvanje neočekivane, neopisane vrijedsnoti u 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C9C-581F-44DD-9E77-967065DF37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9D994-B4C5-43E7-85FC-27856F8A36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 postaje primarno način distribu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iljna mašina je Java Virtual Machine (JVM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asnovana na registrima+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strukturalnu verifik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rovjera sigurnosti tipova!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direktnu interpret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lo visoki niv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zvoljava laku dekompilaciju (iz objektnog koda nazad u neki izvorni ko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CFB-2ABA-4079-B801-C49FB6D46A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27C1-1B93-4985-A1C8-3FBC591746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-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50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gcd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tic int gcd(int x, int y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d = x -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f (d &g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d, y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 if (d &l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9720" y="2209320"/>
            <a:ext cx="441936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blic static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main(String []av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ystem.out.println(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cd(33, 42)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8FC-7504-4064-A6AC-C88E6FAA4442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39F33-4082-45EF-9395-E7CE62BE20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81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thod int gcd(int x, int 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0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 (x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 iload_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1] (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isub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x - 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 istore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[2] (d) := po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 iload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2] (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 ifle 1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branch if &lt;= 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6 ireturn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eturn i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Lokalni registri r[0], r[1] sadr</a:t>
            </a:r>
            <a:r>
              <a:rPr b="0" lang="hr-HR" sz="2600" spc="-1" strike="noStrike">
                <a:solidFill>
                  <a:srgbClr val="000099"/>
                </a:solidFill>
                <a:latin typeface="Times New Roman"/>
              </a:rPr>
              <a:t>ž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e aktuelne argumente po ulasku  u procedur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Poređenje sa  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caf-V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Može biti ponovo korišće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ve operacije se rade na stek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A93-523A-48B0-AD74-5075808D89EB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CE54E-6956-4F62-AFF7-A3DB57984D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ethod void main(java.lang.String[]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0 getstatic #3 &lt;Field java.io.PrintStream out&gt;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System.ou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3 bipush 33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33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5 bipush 42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42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7 invokestatic #2 &lt;Method int gcd(int, 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static method gcd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0 invokevirtual #4 &lt;Method void println(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instance method printl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3 return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return from mai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447-7BEC-4C7C-9EE7-095CE4BADD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F5F5D-DC5B-4929-BF89-E3BD7B9E44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MPR model za Decaf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2" idx="1"/>
          </p:cNvCxnSpPr>
          <p:nvPr/>
        </p:nvCxnSpPr>
        <p:spPr>
          <a:xfrm>
            <a:off x="4123800" y="369540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5" idx="1"/>
            <a:endCxn id="165" idx="3"/>
          </p:cNvCxnSpPr>
          <p:nvPr/>
        </p:nvCxnSpPr>
        <p:spPr>
          <a:xfrm>
            <a:off x="151920" y="3695400"/>
            <a:ext cx="1753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7" idx="1"/>
            <a:endCxn id="167" idx="3"/>
          </p:cNvCxnSpPr>
          <p:nvPr/>
        </p:nvCxnSpPr>
        <p:spPr>
          <a:xfrm>
            <a:off x="7314840" y="36190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52280" y="3048120"/>
            <a:ext cx="1752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6576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124080"/>
            <a:ext cx="167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embler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06676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666880" y="4343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057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4333320"/>
            <a:ext cx="123840" cy="99036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9810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zavisno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 i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198108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d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98108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i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44956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arc, 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0292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e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rei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0292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0292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51814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0"/>
            <a:endCxn id="168" idx="2"/>
          </p:cNvCxnSpPr>
          <p:nvPr/>
        </p:nvCxnSpPr>
        <p:spPr>
          <a:xfrm flipV="1">
            <a:off x="4495680" y="4190760"/>
            <a:ext cx="766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8" idx="0"/>
          </p:cNvCxnSpPr>
          <p:nvPr/>
        </p:nvCxnSpPr>
        <p:spPr>
          <a:xfrm flipV="1">
            <a:off x="2781000" y="4419000"/>
            <a:ext cx="2689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7" idx="0"/>
            <a:endCxn id="165" idx="2"/>
          </p:cNvCxnSpPr>
          <p:nvPr/>
        </p:nvCxnSpPr>
        <p:spPr>
          <a:xfrm flipV="1">
            <a:off x="952560" y="4342680"/>
            <a:ext cx="766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0"/>
            <a:endCxn id="162" idx="2"/>
          </p:cNvCxnSpPr>
          <p:nvPr/>
        </p:nvCxnSpPr>
        <p:spPr>
          <a:xfrm flipH="1" flipV="1">
            <a:off x="6209640" y="4352400"/>
            <a:ext cx="114840" cy="82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401-FC2D-4995-89F8-BB2DC5E8002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BAC60-FEE2-4B11-8DEA-610F52D58F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roadres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alni koncept sa više realizacija; osnovna ideja 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vo-, tro- i četvoro-adresni ko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prezentacija kao trojke (triple), četvorke (quadruples), petorke (quintuples)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euniformna terminologija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caf TAC je izuzetno prost, ali dovoljan za kreiranje kompajler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0DF-11F3-41E2-BE71-CEDD099286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033EB-6F0C-4266-9273-D2FA1A3E6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je TAC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ilazak AST-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C se čuva kao rastuća list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&lt;Instruction*&gt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laz na kraju obilask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obliku pogodnom za štamp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MIPS asemblerskom kod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otrebno je obezbijediti emiter zavisan od mašine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B23-BDC4-4E36-A961-0F3AE8280E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F6E59-0D0F-4FC7-A2C8-9E34CE7C80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je Decaf-TAC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trukcije koje operišu sa imenovanim lokacijama i labela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ički kod nivoa asembler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ka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vaka lokacija je mjesto za čuvanje 4 baj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Smatraćemo da broj lokacija nije ograničen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na stek frejmu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Zadajemo offset (plus ostalu dostupnu informaciju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globalna promjenljiv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referisan preko globalnog imen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bele (generišu se po potrebi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tanja vezana za okolinu izvršav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D4B-24DB-4AB4-B4AC-7E082B0758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0876A-42D8-4E47-95D9-9348CBDAD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otivacija za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4356000"/>
            <a:ext cx="84582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r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 za više front i back-endov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jela zadataka i odlaganje zadatak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zvoljava optimizaciju nezavisnu od mašin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066680"/>
            <a:ext cx="8609760" cy="3199680"/>
            <a:chOff x="228600" y="1066680"/>
            <a:chExt cx="8609760" cy="3199680"/>
          </a:xfrm>
        </p:grpSpPr>
        <p:grpSp>
          <p:nvGrpSpPr>
            <p:cNvPr id="48" name=""/>
            <p:cNvGrpSpPr/>
            <p:nvPr/>
          </p:nvGrpSpPr>
          <p:grpSpPr>
            <a:xfrm>
              <a:off x="228600" y="1066680"/>
              <a:ext cx="1542960" cy="3199680"/>
              <a:chOff x="228600" y="1066680"/>
              <a:chExt cx="1542960" cy="3199680"/>
            </a:xfrm>
          </p:grpSpPr>
          <p:sp>
            <p:nvSpPr>
              <p:cNvPr id="49" name=""/>
              <p:cNvSpPr/>
              <p:nvPr/>
            </p:nvSpPr>
            <p:spPr>
              <a:xfrm>
                <a:off x="39060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060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860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158160" y="2251800"/>
              <a:ext cx="974520" cy="82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M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584080" y="1066680"/>
              <a:ext cx="1299240" cy="3199680"/>
              <a:chOff x="2584080" y="1066680"/>
              <a:chExt cx="1299240" cy="3199680"/>
            </a:xfrm>
          </p:grpSpPr>
          <p:sp>
            <p:nvSpPr>
              <p:cNvPr id="54" name=""/>
              <p:cNvSpPr/>
              <p:nvPr/>
            </p:nvSpPr>
            <p:spPr>
              <a:xfrm>
                <a:off x="258408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8408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8408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289760" y="1066680"/>
              <a:ext cx="1542960" cy="3199680"/>
              <a:chOff x="4289760" y="1066680"/>
              <a:chExt cx="1542960" cy="3199680"/>
            </a:xfrm>
          </p:grpSpPr>
          <p:sp>
            <p:nvSpPr>
              <p:cNvPr id="58" name=""/>
              <p:cNvSpPr/>
              <p:nvPr/>
            </p:nvSpPr>
            <p:spPr>
              <a:xfrm>
                <a:off x="437076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7076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28976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539120" y="1066680"/>
              <a:ext cx="1299240" cy="3199680"/>
              <a:chOff x="7539120" y="1066680"/>
              <a:chExt cx="1299240" cy="3199680"/>
            </a:xfrm>
          </p:grpSpPr>
          <p:sp>
            <p:nvSpPr>
              <p:cNvPr id="62" name=""/>
              <p:cNvSpPr/>
              <p:nvPr/>
            </p:nvSpPr>
            <p:spPr>
              <a:xfrm>
                <a:off x="753912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3912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3912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" name=""/>
            <p:cNvCxnSpPr>
              <a:stCxn id="49" idx="3"/>
              <a:endCxn id="54" idx="1"/>
            </p:cNvCxnSpPr>
            <p:nvPr/>
          </p:nvCxnSpPr>
          <p:spPr>
            <a:xfrm>
              <a:off x="1700640" y="148104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49" idx="3"/>
              <a:endCxn id="55" idx="1"/>
            </p:cNvCxnSpPr>
            <p:nvPr/>
          </p:nvCxnSpPr>
          <p:spPr>
            <a:xfrm>
              <a:off x="1700640" y="148140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49" idx="3"/>
              <a:endCxn id="56" idx="1"/>
            </p:cNvCxnSpPr>
            <p:nvPr/>
          </p:nvCxnSpPr>
          <p:spPr>
            <a:xfrm>
              <a:off x="1700640" y="1481040"/>
              <a:ext cx="87408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0" idx="3"/>
            </p:cNvCxnSpPr>
            <p:nvPr/>
          </p:nvCxnSpPr>
          <p:spPr>
            <a:xfrm flipV="1">
              <a:off x="1700280" y="1540440"/>
              <a:ext cx="803160" cy="112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0" idx="3"/>
              <a:endCxn id="55" idx="1"/>
            </p:cNvCxnSpPr>
            <p:nvPr/>
          </p:nvCxnSpPr>
          <p:spPr>
            <a:xfrm>
              <a:off x="1700640" y="266652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3"/>
              <a:endCxn id="56" idx="1"/>
            </p:cNvCxnSpPr>
            <p:nvPr/>
          </p:nvCxnSpPr>
          <p:spPr>
            <a:xfrm>
              <a:off x="1700640" y="266688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1" idx="3"/>
              <a:endCxn id="54" idx="1"/>
            </p:cNvCxnSpPr>
            <p:nvPr/>
          </p:nvCxnSpPr>
          <p:spPr>
            <a:xfrm flipV="1">
              <a:off x="1782000" y="1480680"/>
              <a:ext cx="79272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1" idx="3"/>
              <a:endCxn id="55" idx="1"/>
            </p:cNvCxnSpPr>
            <p:nvPr/>
          </p:nvCxnSpPr>
          <p:spPr>
            <a:xfrm flipV="1">
              <a:off x="1782000" y="2666520"/>
              <a:ext cx="79272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51" idx="3"/>
              <a:endCxn id="56" idx="1"/>
            </p:cNvCxnSpPr>
            <p:nvPr/>
          </p:nvCxnSpPr>
          <p:spPr>
            <a:xfrm>
              <a:off x="1782000" y="3852000"/>
              <a:ext cx="792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58" idx="3"/>
              <a:endCxn id="52" idx="1"/>
            </p:cNvCxnSpPr>
            <p:nvPr/>
          </p:nvCxnSpPr>
          <p:spPr>
            <a:xfrm>
              <a:off x="5680440" y="1481400"/>
              <a:ext cx="467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59" idx="3"/>
              <a:endCxn id="52" idx="1"/>
            </p:cNvCxnSpPr>
            <p:nvPr/>
          </p:nvCxnSpPr>
          <p:spPr>
            <a:xfrm>
              <a:off x="5680440" y="2666520"/>
              <a:ext cx="467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0" idx="3"/>
              <a:endCxn id="52" idx="1"/>
            </p:cNvCxnSpPr>
            <p:nvPr/>
          </p:nvCxnSpPr>
          <p:spPr>
            <a:xfrm flipV="1">
              <a:off x="5843160" y="2666520"/>
              <a:ext cx="3052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52" idx="3"/>
              <a:endCxn id="62" idx="1"/>
            </p:cNvCxnSpPr>
            <p:nvPr/>
          </p:nvCxnSpPr>
          <p:spPr>
            <a:xfrm flipV="1">
              <a:off x="7143120" y="148104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52" idx="3"/>
              <a:endCxn id="63" idx="1"/>
            </p:cNvCxnSpPr>
            <p:nvPr/>
          </p:nvCxnSpPr>
          <p:spPr>
            <a:xfrm>
              <a:off x="7143120" y="2666520"/>
              <a:ext cx="386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52" idx="3"/>
              <a:endCxn id="64" idx="1"/>
            </p:cNvCxnSpPr>
            <p:nvPr/>
          </p:nvCxnSpPr>
          <p:spPr>
            <a:xfrm>
              <a:off x="7143120" y="266688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D00-3418-4828-A74B-C2B0844541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DA987-6F0F-497E-99E1-29A91F9DDC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46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djeljivanj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na strana može biti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kacij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ing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ger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be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mjer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2 = t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3 = “Hello”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5 = 42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7 = _L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2670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-&gt;Append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ew LoadStringConstant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/*t3=*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empVar()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“Hello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E80-7A53-4C89-85ED-7F24C2DF788C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670AF-2BFC-4F79-8A63-22F5CF893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4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ritmetičk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narno add, sub, multiply, divide, modul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ednakost (==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lacioni (&lt;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gički (&amp;&amp;, ||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112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e i grananj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metanje labele u TAC niz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_L4: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z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Goto _L4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fZ t1 Goto _L3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FBC-43BE-4607-84F8-4ED341DE8F9D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CEB63-498F-40A2-8BEF-CCC18C5CFD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prema poziva f-ij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ushParam t1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eval left to righ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push right to lef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opParams 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(no effect on Sparc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zivanje meto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vs. Adre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LCall, ACall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vs. nonvoi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1 = LCall _L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ACall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949-5625-4AC2-A88C-06B53F6B4C4A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4D5DA-2033-432B-A5DD-09F256C355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V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sanje funkcij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eginFunc &lt;n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Ulazak u f-iju, specifkacija veličine  stek frejm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ndFunc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ads i Sto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Opcionalni integer offset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imjeri: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t2 = *(t4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*(t5+4) = t6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cifikacija podatak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VTable name = &lt;list of labels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E53-62D0-46DE-82A5-B0DB6E977B5D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44FF0-0C11-4A72-9A17-CC94A25408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TAC nema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arni minus, log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ko no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deksacija niza (provjera granica!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ray.length(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cioni &lt;=, &gt;=, &gt;,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ugi uslovni skokov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stup polji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base+offset load/sto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thod dispatc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load iz vtable i Acal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434-5B8A-4514-98BB-E5A0B41BF1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F5E41-7DBC-4C10-B122-38FA092902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uilt-in funkcije: libdecaf.c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lled using LCa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143000"/>
          <a:ext cx="9144000" cy="5334120"/>
        </p:xfrm>
        <a:graphic>
          <a:graphicData uri="http://schemas.openxmlformats.org/drawingml/2006/table">
            <a:tbl>
              <a:tblPr/>
              <a:tblGrid>
                <a:gridCol w="2286000"/>
                <a:gridCol w="2021040"/>
                <a:gridCol w="1368360"/>
                <a:gridCol w="346860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amter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vrač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Allo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s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id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ocate memor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 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Integ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n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StringEq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a, *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mpare two string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Ha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op (runtime error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CE6-7B98-4B74-BF6F-8FC3022503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E49D9-4596-4F33-8A37-E008E98336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mitovanje TAC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gcd(x, y), "\n"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81280" y="6858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9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_tmp9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0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_tmp1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x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1 = LCall _gcd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_tmp11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Call _PrintInt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4 ;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/* ostatka nema */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…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E78-DA82-4A9A-8D37-F72E6F1C0F4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A25ED-D003-43E0-B7CC-77656EE9E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 primjer: IfZ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051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gcd(int x, int y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d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 = x - y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 (d &gt; 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turn gcd(d, y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 if (d &lt;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gcd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4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0 = x - y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 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1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2 = _tmp1 &lt; 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Z _tmp2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d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3 = LCall _gc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3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to _L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1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9B1-65C9-4D56-9115-23BF45ADB9EC}" type="slidenum">
              <a:t>3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C6C41-C4BC-4851-9972-2579C02F52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sintetisanje &lt;=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factorial(int n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f (n &lt;=1 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return 1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eturn n*factorial(n-1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 main(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factorial(6)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62160" y="60948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factorial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36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0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1 = n &lt;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2 = n =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3 = _tmp1 || _tmp2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Z _tmp3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5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6 = n - _tmp5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_tmp6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7 = LCall _factorial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8 = n * _tmp7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0AB-2668-44BD-9370-161D9428C12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8E343-D610-47AD-9051-D0B61E3951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52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oid set(int x, int y) {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is.x = x; this.y = y;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 getX() { return x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abs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*x + y*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43040" y="60948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set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4) = x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8) = y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getX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0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31D-46FB-4A14-A384-01510186FB28}" type="slidenum">
              <a:t>3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EDED1-3C2C-49B4-BE98-6670DD9C740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stoji mnogo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ao RISC instruk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stri, literali, prost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ference na nizove, izdvajanje polja, itd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Čuvaju određenu semantiku, jer će možda kasnije iskoristiti tu informaciju za popravljanje koda ili za specifične brze mašinsk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DD0-CF69-49A9-953C-325A65EA03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0F394-CBBB-4143-8A7D-D5E2E22246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set(int x, int y) {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s.x = x; this.y = y;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X() { return x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t abs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turn x*x + y*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9520" y="60912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2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2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3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4 = _tmp2 * _tmp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5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6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7 = _tmp5 * _tmp6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8 = _tmp4 + _tmp7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D67-CE70-476C-AA4E-EBD8869F50C2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22DC8-3704-4B09-84D7-F4EEF203C25E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virtuelni metodi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computeAbs(P2 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.abs(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C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-&gt;vtable-&gt;abs(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86200" y="68580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compute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1 = *(p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2 = *(_tmp21 + 12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shParam p #0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3 = ACall _tmp2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_tmp2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E04-2A2F-4CD2-98BC-7E27A6C1A685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6A324-2166-4A6E-A2CB-4B75747B1125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2 makeNewPoint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ew(P2)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340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VTable P2 =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set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X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Y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abs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makeNewPoint: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4 =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ushParam _tmp24 #0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5 = LCall _Allo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6 = P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*(_tmp25) = _tmp26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Return _tmp25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671-13B4-464D-9722-746B41EE573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6B472-3E2F-4A04-B865-24C01449F6AC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for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etlj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void main() {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t i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for (i = 0; i &lt; 10; i = i + 1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rint(i)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91120" y="7621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0 = 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0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1 = 1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2 = i &lt; _tmp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fZ _tmp2 Goto _L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ushParam i #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LCall _PrintInt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3 = 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4 = i + _tmp3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Goto _L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1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595-8967-46E5-B406-87B9537C3177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B7D7-5439-40A5-A221-6961428713B5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riginalni C sour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at a[10][20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[i][j+2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MP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1 = a[i, j+2]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// kao C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914400"/>
            <a:ext cx="4114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4648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d-level MP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1 = j + 2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2 = i * 20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3 = t1 + t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4 = 4 * t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5 = add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6 = t5 + t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7 = *t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ao asemb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oriste  privremene // promjenl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EAB-4A5F-413A-A68F-E05CA66031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4C75F-9535-45E7-850B-E7392C95BF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I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// Kao RISC asembl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1 = [fp - 4]    // Proste operacije n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2 = [r1 + 2]    // registrima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3 = [fp - 8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4 = r3 * 20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5 = r4 + r2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6 = 4 * r5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7 = fp – 216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1 = [r7 + r6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532-B736-46F7-939D-9E809B04AA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EF37E-1196-4A7F-A5E1-8D34AB3F6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lici MPR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še oblika je moguć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zličiti nivo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mjer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T (Abstract syntax tree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rlo 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-ov RTL (Register Transfer Languag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iza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oadresni kod (Three Address Cod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5E1-1820-445B-B968-66B3A62B0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94BB4-8B7A-4A15-822B-9A939750B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gram –&gt; function_li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 –&gt; function_list function |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 –&gt;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ams –&gt;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59D-F426-41E4-AD03-069D02C8C1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26D5C-27A8-4C3A-A706-E18EE08DC0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main(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ment..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factorial(n:INTEGER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tement..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849-E79A-4D7F-89F8-79EB12637A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C41F2-571E-43A6-B936-F0F0E12A3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4-01T20:33:03Z</dcterms:modified>
  <cp:revision>4877</cp:revision>
  <dc:subject/>
  <dc:title>Welcome to CS143</dc:title>
</cp:coreProperties>
</file>