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9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3.png" ContentType="image/png"/>
  <Override PartName="/ppt/media/image13.wmf" ContentType="image/x-wmf"/>
  <Override PartName="/ppt/media/image50.png" ContentType="image/png"/>
  <Override PartName="/ppt/media/image11.wmf" ContentType="image/x-wmf"/>
  <Override PartName="/ppt/media/image4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B2E1DA-05CC-4767-8D9C-55CAE9364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E266BD-CBEC-407F-BB1A-D31EF657A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F293A8-235E-4A64-AC27-D4F2226AC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E19103-C4EE-45BE-A7E0-366FEAF6E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12CA16-E06D-4538-9804-B3FDA8A79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F8B813-6CE6-4920-B0CE-A6A9A3693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1F8F04-2601-4C59-8789-083FD3C0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1E1CD9-4F24-416F-9D47-04C5317F7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063E6A-C8BC-4137-B61A-EA5878534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261291-E4B6-4A1C-9721-4FFA7B4F5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301078-D816-4143-AE0E-0CD7CA5CB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E8CF32-AEE0-45FB-985C-73AADB81D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D5CFEB-84B1-4D3A-82A5-AC64C633A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3EAE2E-0EFB-4A82-9DB8-34F988BDA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5436AC-9214-4BF2-B201-0C9880D6C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46F98A-AC73-4232-946B-20C0738B0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E54475-4DD1-4C07-B5FB-80583BCB2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D7D0FD-79C5-464C-9A7F-E46DB67D7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B21958-C6E1-45E3-ACE5-A493E877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561F33-A7F7-4F83-95B5-3AE9556AA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1138FF-1312-4BD9-AC37-9CD020AAA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116DB4-93AA-467B-AA92-F6D7FABC3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8C6446-5EF9-4099-BB5C-A6F0DF7FD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CD0004-8F82-42D6-B201-0A1389CEC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700303-EB2D-44C7-84EA-17C79831D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4DF31F-9010-461B-872C-42FC0BBE3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BC324B-2305-4608-AABB-77CE6F08F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B17EAC-6DC9-41C7-96A1-FE865FA31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82B9EE-467C-4C25-90EC-2F3725E5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CAD5D2-EDE4-48D7-A538-92BD07A79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90459B-AF88-4ADC-9C89-73F6C3339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71DCC8-915D-432D-A657-28FA2AB6E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F6FBA9-3DB4-4036-87E5-32E39A0B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F20ADF-3026-4B71-BB25-2E738A72C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394EC8-3114-434D-ABD2-E29483CCB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44D3C7-EBA4-4D58-A74E-99A45C34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C293E4-E7EF-4512-9499-0868490BC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A42EED-DFBD-4765-B3DA-BBB85CF1B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FAD2EC-3AF3-469F-A3A2-2B244D55B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3AF877-0B1B-4B10-9BBB-15E39BA58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08B4FC-D3F0-45B4-A905-FCD60A51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45A16A-EDEB-4E8A-975E-700A4D3A3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CBC48F-19EB-478D-ADED-513661AA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27C27D-05CE-4721-8DE1-B9282624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3C256A-5612-485F-B961-11DA1655A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4A30E7-CD6C-498A-95CC-1CC81CE2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197C64-379E-40EB-9B83-9AD48E3D8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F24E3D-BC27-402D-8F0B-EBE91739F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4BA179-E739-4B0F-AF8B-9539E83B3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D444DD-038E-4D0D-9419-FA2B3965E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4C73E6-730E-4E31-AEEF-3770CCABD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57C59A-FC98-425F-8E03-696EB5A1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2D8BDC-840D-4FF2-B39A-85D6FE62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C4C680-C4F2-4A0E-8A14-6CD2BB7FE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6DBAF1-E23E-43F8-BA17-10D5638E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C699B6-1591-4586-8E6B-E25DAAD2B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B3B917-5260-4373-BDCE-96049117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167FA9-C77E-4805-A95E-597808695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A1C45C-A1F5-450F-B085-3BC07122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1055A5-5EE4-4170-B724-56FFBE964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169C71-15A4-42C2-BD2A-394EDB9C7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6ED2BC-4753-4EBB-A9F8-F692F4AAF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F2A709-D817-4CDC-A6A3-D46159F98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3022E0-3828-40F8-B33D-CBEBC1866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115D84-1B08-408B-8F51-93C0637DB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A5E2E2-BCEA-48F3-9DAE-A6983DA59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3EAD71-1B44-43AB-9DF6-1F06575D4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3F4C0D-28F3-4815-B38A-B83E2E7E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731975-93B6-48AC-9287-BE9A9E47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B3BC3C-8EA2-4FF1-B320-4D2413CDE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92171E-25B4-4A2C-8164-955C806EF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FEF62E-3659-4D89-BB2C-9B21319EB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6C9AA3-B130-45A0-BA5B-B97E2022A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3D82B0-C970-4419-BBEE-498FA9F93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504239-2218-4C59-A617-DDA090BA3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A5F8A7-8B89-49FB-A003-E28CBAA7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7A55C2-312F-420E-B4A1-3CB66DB34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701872-F40C-44C9-967A-BA685B0D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7A2D93-1D24-4D61-AEA2-27216E42E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A698EC-1681-4EA3-A768-B1895D43D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431014-F094-4EF3-973D-695A11BB2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8E4E03-4F19-4C46-A328-7BF494923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368CB0-F06A-47CD-A3FA-24DB566DB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500438-D26E-41EC-B41C-BDC60117A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CB3DB4-EF67-4B93-B285-173A0325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5D0A39-570A-4953-9780-84643AEBA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7AB5FB-CE73-41B3-9F53-29B798DD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970C60-F77E-46E3-884C-953B40B7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17120C-36A7-4556-8F6A-C82DDE34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5ECD2C-70EA-4540-9831-A668282B6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D4FA0-A2EB-4C62-8C33-61E1B244B3A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0A133-E675-49AD-A1A7-C8D25534CFA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62185-366B-47A8-A7BF-84AA99F4441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4ED64-B8B1-4DDA-B67C-661390C7A0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8AC1F-20B3-4496-96A7-1E49B771001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AB83B-7390-43E5-8231-33B1A3417B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2DC86-457D-4F33-8A48-C2F493B8562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A4FFD-5336-45D9-B8BE-273BC6F26FD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D5F1F-2323-4C3B-BC9A-444B99A3C3D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EE131-7288-4B2B-A4C4-B8A67AEA7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59EAB-DC57-4212-A078-C6F0D62E5B0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8C6A-F7C0-4A5B-A44F-97719441B39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1941-EE41-42BA-877F-FCAC61117A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16B8-A483-47F2-B5B1-F42BF14F07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151FF-C312-488F-A41B-CAF522872D7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43772-C40B-4360-AA49-A6D218EF4EF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AF8A-AFCB-4452-A53B-CDDA8114EBF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3B1B-6428-4B76-8849-3C17DCF3B57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A9979-6135-47DC-AD47-3B5E0A404A5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444C-313B-4E19-AA75-CBA1F8F2B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3E798-235A-4194-95EE-0D55063F4FD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725D1-63C2-48D2-AE32-4AEAD2BC28E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0994B5-A69B-4C43-B65C-F14D7E406D5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E3F37-1B88-4769-8586-731537F5C8B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FC037C-9291-407F-8610-DB609F7C9C0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B2170-3D11-47A6-B08B-25CF3ACE84D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05114-1D73-4229-85E4-ADA40C6F10D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37167-4C49-4EA4-BC37-9112A0C2CA4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10CDF9-4F51-410B-A735-872C1B71438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CFDAA-1C50-4AD4-9247-68DE5C51B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DE1A-5EF3-489F-98F3-08CA4556F80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C86979-20F6-4CBA-B613-AC8F621D187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F1E45-7A97-41A3-BFD0-1BE55C9B12B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52670-1ACE-43B2-93E0-E6FB46866A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F2FB-A519-4079-B158-5DEF16B5CC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1705-DEF1-4668-A0EC-20DD08B6B2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90DB-6B8E-4391-9661-530FE83494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FDBC-663A-4225-A06A-9447B8D21E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7E20-28F1-460D-A24B-0FC1795F0D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75DC-0466-4578-B58F-686124B86B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8DEF-2BBC-4B2C-991E-1507B6F93E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7ECB-6A5C-43A2-8BA3-AE2A5B57D6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391A-687F-45D5-B1EC-BC4E862106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334A-B935-4E4E-A5FC-447F153711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0E36-90FE-43BA-8639-3D533D574C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BF84-4FC8-4613-A9C0-289E0BF58E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C8C5-F490-4F2F-B67D-AEA3A90741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758FA-99BB-447A-9233-0FE2B13B59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1624-8FAC-4E42-A6BD-D5F0539196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E60FE-AEE8-460A-82FB-50C39CBB4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28B8-28F0-41D7-BEA3-31C0D0E95F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D860C-0B4E-486D-8D4C-ACB38EAE19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A1DC-1E0C-4729-84BF-EBAC2C055D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2C5F-20D3-44EC-B26C-92CF2F439B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3224C-E764-450F-AB8B-F0BABD5349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099B-7A74-452A-B6FE-798C52690C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186D-60C0-4E08-A8B8-A9DBDD71AC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2B8-E958-42EC-85A5-1DC823EF07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111-1066-4A10-A6D1-C64929568A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99F-9016-4433-8B46-66EF9E829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D5E-6A08-4ECE-851E-C491AA00C5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0A6-79ED-458C-925F-B9BF6CB33D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F46-02DB-4667-B6A3-71795AEC01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F1E-77FE-4C81-A793-0110429DEA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9D0-81D3-46AE-8553-ACA7496E5A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3A4-D643-4F4F-8177-63F9010623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7C5-CD65-480C-A9C7-91433AAACA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B17-ECD7-440D-9702-DC263C213A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DDF-CBE1-4939-BBA8-0CF4BC6DEB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2BD70-9CCC-481E-9457-6576124AA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28B1B-E8D9-4815-B298-F28DA84973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22403-1A45-4ACC-B515-0627C89103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1BAAE-1C00-4884-B6CD-5DDC85EF2BC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E4404-3F99-4402-B85D-C0FA308A213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33D95-80FF-44F2-9566-ADA9EC9257B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B914B-527E-46AA-9C07-91415861179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B6B2A-E1B0-465B-869C-82EEC6FCCAF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C1F25-F7FB-4856-88CB-8CDEA72E74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9BA4D-5739-48B3-A71F-48D6C997E22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BF079-FF0E-40E2-B5C4-33BEDE301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98E18-AEA7-4B3D-B4B7-7A5E7E50EA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ED4A5-6794-4EDD-93AB-7DA1A88A4F2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E5091-151B-4C6A-9990-34A63629B4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AE326-ADDC-4BDA-8D85-1EF5BBF24FD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08994-7F37-4094-9E75-8791643063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F33AC-2883-4244-9232-6E6D245652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3ACB4-3094-4CA8-A607-FCB39392D26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AB287-FFBB-4C95-A73C-29B0DA8C27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1C407-7BBB-4D82-8D23-780D92F6714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A6A1D-4564-449E-B623-BB8A53357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51344-3FE8-4B42-A0F3-79A51798988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08683-07F1-420B-953C-68C7EE9FCC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0F4CE-F28E-4082-8A22-1B7F2399213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CBD2-0DC8-48DF-AB11-189C4B5934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3F9F-CE55-4969-8080-E146FF64D5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C034-8864-4BD4-8B75-7E892D90A7A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269C-88E1-480C-AD25-DEDE5E03943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B8FB-0FE3-42F1-9BF2-22B5F4013AD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A08D-767B-4BA8-BE21-4AAB05EB021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BF63-3DFC-4885-B274-52AF8B19A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7329-E7AA-4C5F-8D4E-3EF5E93B9A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20D2-89FC-4B17-91C6-036943489E7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0556-98AC-4EE9-88A9-1475E3AC8B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1EE6-BACF-461C-B626-EF89B835AD9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F5EB-6B1F-443B-B070-24B8E8D9CB2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14C7B1-04B8-491B-8FDA-83DBB93085E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1B42C-EFB1-4EA9-BD37-F7E0A0722C2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D95D2-D907-424C-92D4-1A21E4422E7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A0502-452E-4695-BE60-5354ED31711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7684FE-84E6-4368-8AD2-96165B185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B100E3-0811-4FCE-B7B5-56447B81E06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A03F1-8012-490E-9CF1-43574B1CD0D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D7797-37CC-488F-A0E8-A9CE85888A3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D18D1-43AD-4DCF-B2BF-92AECA4EFA6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A3445A-0EE2-4EAF-855D-6A50B49C611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8C2537-A86A-4395-8504-C4E844A4CD3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1DD9F-4D22-402C-A325-DCD781D8D35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5C981-C138-4952-BBA8-9DA51925873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1051B-75A5-4AF2-BA4E-4F372FB31B6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C739B-FC0A-46DE-9324-9E7547B2E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Num" idx="9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4102-AA2C-42D2-8725-2B9A83479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body"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indent="0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1" marL="114480" indent="-108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2" marL="459000"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3" marL="67572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4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5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6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10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E479-772D-4D98-BAFE-7D444D26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5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9"/>
          <p:cNvSpPr/>
          <p:nvPr/>
        </p:nvSpPr>
        <p:spPr>
          <a:xfrm flipV="1">
            <a:off x="0" y="-720"/>
            <a:ext cx="9144000" cy="1600200"/>
          </a:xfrm>
          <a:prstGeom prst="rect">
            <a:avLst/>
          </a:prstGeom>
          <a:solidFill>
            <a:srgbClr val="f9f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7" name="Rectangle 10"/>
          <p:cNvSpPr/>
          <p:nvPr/>
        </p:nvSpPr>
        <p:spPr>
          <a:xfrm>
            <a:off x="0" y="1600200"/>
            <a:ext cx="457200" cy="5257800"/>
          </a:xfrm>
          <a:prstGeom prst="rect">
            <a:avLst/>
          </a:prstGeom>
          <a:solidFill>
            <a:srgbClr val="a0c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8" name="Line 11"/>
          <p:cNvSpPr/>
          <p:nvPr/>
        </p:nvSpPr>
        <p:spPr>
          <a:xfrm flipH="1">
            <a:off x="0" y="1600200"/>
            <a:ext cx="914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6999480" y="194040"/>
            <a:ext cx="17162280" cy="2779560"/>
          </a:xfrm>
          <a:prstGeom prst="rect">
            <a:avLst/>
          </a:prstGeom>
          <a:solidFill>
            <a:srgbClr val="fdc382"/>
          </a:solidFill>
          <a:ln w="0">
            <a:noFill/>
          </a:ln>
          <a:effectLst>
            <a:outerShdw dist="63504" dir="2216091" blurRad="0" rotWithShape="0">
              <a:srgbClr val="5f5f5f"/>
            </a:outerShdw>
          </a:effectLst>
        </p:spPr>
        <p:txBody>
          <a:bodyPr lIns="182880" rIns="18288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-2732400"/>
            <a:ext cx="7315200" cy="142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Click to edit the outline text format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1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econd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2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Third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3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Four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4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Fif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5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ix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  <a:p>
            <a:pPr lvl="6" marL="343080" indent="-343080" algn="ctr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7c6"/>
                </a:solidFill>
                <a:latin typeface="Arial"/>
              </a:rPr>
              <a:t>Seventh Outline Level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D831-F70B-491B-A769-6A3872B2A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c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 flipV="1">
            <a:off x="0" y="0"/>
            <a:ext cx="9144000" cy="457200"/>
          </a:xfrm>
          <a:prstGeom prst="rect">
            <a:avLst/>
          </a:prstGeom>
          <a:solidFill>
            <a:srgbClr val="f9f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457200"/>
            <a:ext cx="914400" cy="6400800"/>
          </a:xfrm>
          <a:prstGeom prst="rect">
            <a:avLst/>
          </a:prstGeom>
          <a:solidFill>
            <a:srgbClr val="f0f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H="1">
            <a:off x="0" y="457200"/>
            <a:ext cx="914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219320" y="761760"/>
            <a:ext cx="777240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030480" indent="-11736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37356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71628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395E-6D75-419A-A225-DE8087AA6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vantGar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5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 flipH="1">
            <a:off x="151920" y="457200"/>
            <a:ext cx="8991720" cy="0"/>
          </a:xfrm>
          <a:prstGeom prst="line">
            <a:avLst/>
          </a:prstGeom>
          <a:ln w="38160">
            <a:solidFill>
              <a:srgbClr val="67b4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90720" y="1255320"/>
            <a:ext cx="723888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5000"/>
              </a:lnSpc>
              <a:spcAft>
                <a:spcPts val="700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30168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1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3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612A-EA4F-4DEE-96BB-B7C20A4BD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title"/>
          </p:nvPr>
        </p:nvSpPr>
        <p:spPr>
          <a:xfrm>
            <a:off x="762120" y="5331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685800" y="76320"/>
            <a:ext cx="0" cy="6781680"/>
          </a:xfrm>
          <a:prstGeom prst="line">
            <a:avLst/>
          </a:prstGeom>
          <a:ln w="38160">
            <a:solidFill>
              <a:srgbClr val="67b4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09120" y="460080"/>
            <a:ext cx="7543800" cy="2876760"/>
          </a:xfrm>
          <a:prstGeom prst="rect">
            <a:avLst/>
          </a:prstGeom>
          <a:solidFill>
            <a:srgbClr val="fff7eb"/>
          </a:solidFill>
          <a:ln w="12600">
            <a:solidFill>
              <a:srgbClr val="f9a75e"/>
            </a:solidFill>
            <a:miter/>
          </a:ln>
        </p:spPr>
        <p:txBody>
          <a:bodyPr lIns="182880" rIns="182880" tIns="91440" bIns="91440" anchor="t">
            <a:normAutofit fontScale="99000"/>
          </a:bodyPr>
          <a:p>
            <a:pPr marL="790200" indent="0">
              <a:lnSpc>
                <a:spcPct val="9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90200" indent="-79020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Num" idx="4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1FDE-3F08-4BF7-AAF9-E8F3D7562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Num" idx="5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3505-A5AD-4BC0-85F7-6C667974F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914400" y="1600200"/>
            <a:ext cx="8229600" cy="0"/>
          </a:xfrm>
          <a:prstGeom prst="line">
            <a:avLst/>
          </a:prstGeom>
          <a:ln w="25560">
            <a:solidFill>
              <a:srgbClr val="5ad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0" y="5867280"/>
            <a:ext cx="8229600" cy="0"/>
          </a:xfrm>
          <a:prstGeom prst="line">
            <a:avLst/>
          </a:prstGeom>
          <a:ln w="25560">
            <a:solidFill>
              <a:srgbClr val="5ad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body"/>
          </p:nvPr>
        </p:nvSpPr>
        <p:spPr>
          <a:xfrm>
            <a:off x="1371600" y="1631520"/>
            <a:ext cx="7238880" cy="34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64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8080" indent="-64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Num" idx="6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F098-119C-45C9-9B3D-4ED929C79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0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Click to edit the outline text format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1" marL="678600" indent="0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Second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2" marL="1131480" indent="-226080">
              <a:spcAft>
                <a:spcPts val="938"/>
              </a:spcAft>
              <a:buClr>
                <a:srgbClr val="000000"/>
              </a:buClr>
              <a:buFont typeface="A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Third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3" marL="1584000" indent="-226080">
              <a:spcAft>
                <a:spcPts val="938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Fourth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4" marL="2036520" indent="-226080">
              <a:spcAft>
                <a:spcPts val="938"/>
              </a:spcAft>
              <a:buClr>
                <a:srgbClr val="000000"/>
              </a:buClr>
              <a:buFont typeface="A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Fifth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5" marL="2036520" indent="-226080">
              <a:spcBef>
                <a:spcPts val="751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Sixth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  <a:p>
            <a:pPr lvl="6" marL="2036520" indent="-226080">
              <a:spcBef>
                <a:spcPts val="751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AGaramond"/>
              </a:rPr>
              <a:t>Seventh Outline Level</a:t>
            </a:r>
            <a:endParaRPr b="1" i="1" lang="en-US" sz="3000" spc="-1" strike="noStrike">
              <a:solidFill>
                <a:srgbClr val="4e87c6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7162560" y="1166400"/>
            <a:ext cx="1981080" cy="5361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indent="0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1" marL="114480" indent="-108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2" marL="459000"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3" marL="675720">
              <a:spcAft>
                <a:spcPts val="15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4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5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lvl="6" marL="855000">
              <a:spcAft>
                <a:spcPts val="15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7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0A3B-4A6B-4F75-BB3D-9935C6D42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Num" idx="8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6069-624D-4239-9207-988139BCA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body"/>
          </p:nvPr>
        </p:nvSpPr>
        <p:spPr>
          <a:xfrm>
            <a:off x="914400" y="1455840"/>
            <a:ext cx="73152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Click to edit the outline text format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1" marL="463680" indent="-6480">
              <a:spcAft>
                <a:spcPts val="938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econd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2" marL="914400"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Third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3" marL="1378080" indent="-6480">
              <a:spcAft>
                <a:spcPts val="938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Four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4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Fif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5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ix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  <a:p>
            <a:pPr lvl="6" marL="1828800">
              <a:spcAft>
                <a:spcPts val="9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e87c6"/>
                </a:solidFill>
                <a:latin typeface="Times New Roman"/>
              </a:rPr>
              <a:t>Seventh Outline Level</a:t>
            </a:r>
            <a:endParaRPr b="1" i="1" lang="en-US" sz="3000" spc="-1" strike="noStrike">
              <a:solidFill>
                <a:srgbClr val="4e87c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9798-8081-4B41-9D1E-E46A76587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3440" y="888480"/>
            <a:ext cx="1042920" cy="1390680"/>
          </a:xfrm>
          <a:prstGeom prst="rect">
            <a:avLst/>
          </a:prstGeom>
          <a:solidFill>
            <a:srgbClr val="fdc382"/>
          </a:solidFill>
          <a:ln w="0">
            <a:noFill/>
          </a:ln>
          <a:effectLst>
            <a:outerShdw dist="63504" dir="2216091" blurRad="0" rotWithShape="0">
              <a:srgbClr val="5f5f5f"/>
            </a:outerShdw>
          </a:effectLst>
        </p:spPr>
        <p:txBody>
          <a:bodyPr lIns="182880" rIns="18288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3050640"/>
            <a:ext cx="7543800" cy="269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f87c6"/>
                </a:solidFill>
                <a:latin typeface="Arial"/>
              </a:rPr>
              <a:t>Obj</a:t>
            </a:r>
            <a:r>
              <a:rPr b="0" lang="sr-Latn-CS" sz="6000" spc="-1" strike="noStrike">
                <a:solidFill>
                  <a:srgbClr val="4f87c6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4f87c6"/>
                </a:solidFill>
                <a:latin typeface="Arial"/>
              </a:rPr>
              <a:t>ktno-orijentisano programiranje: naslje</a:t>
            </a:r>
            <a:r>
              <a:rPr b="0" lang="sr-Latn-CS" sz="6000" spc="-1" strike="noStrike">
                <a:solidFill>
                  <a:srgbClr val="4f87c6"/>
                </a:solidFill>
                <a:latin typeface="Arial"/>
              </a:rPr>
              <a:t>đ</a:t>
            </a:r>
            <a:r>
              <a:rPr b="0" lang="en-US" sz="6000" spc="-1" strike="noStrike">
                <a:solidFill>
                  <a:srgbClr val="4f87c6"/>
                </a:solidFill>
                <a:latin typeface="Arial"/>
              </a:rPr>
              <a:t>ivanje</a:t>
            </a:r>
            <a:endParaRPr b="1" lang="en-US" sz="6000" spc="-1" strike="noStrike">
              <a:solidFill>
                <a:srgbClr val="4f87c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2FD1-B06F-4D55-91A9-A4FF484E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2 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Nadklase i podklase 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(nastavak)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ijerahija nasljeđivanja (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heritance hierarch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Realacija naljeđivanj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drvolika struktur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Svaka klasa je ILI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d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bezbejeđuje članove drugim klasam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L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d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sljeđuje članove od drugih 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1D96-A93C-4E64-9966-6C2169AEB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jerahija nasljeđivanja za članove univerzitet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CommunityMember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AAEMYRT0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1819-18D3-47CC-BB47-294AA307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240" y="5483160"/>
            <a:ext cx="7924680" cy="68904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jerahija nasljeđivanja za geometrijska tijela i figure (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Shape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AAEMYRU0"/>
          <p:cNvPicPr/>
          <p:nvPr/>
        </p:nvPicPr>
        <p:blipFill>
          <a:blip r:embed="rId1"/>
          <a:stretch/>
        </p:blipFill>
        <p:spPr>
          <a:xfrm>
            <a:off x="762120" y="1878120"/>
            <a:ext cx="754380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A8C7-BBBF-4292-8ABC-2FEAA9A6C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3 </a:t>
            </a:r>
            <a:r>
              <a:rPr b="1" lang="en-US" sz="3600" spc="-1" strike="noStrike">
                <a:solidFill>
                  <a:srgbClr val="f9a75e"/>
                </a:solidFill>
                <a:latin typeface="Lucida Console"/>
              </a:rPr>
              <a:t>protected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članovi klase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istu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Međunivo zaštite između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M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članovi klase dostupni s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roz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lanove na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lanove po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lanove klasa iz istog pake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ristup iz podklase članovima nadkl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ljučna riječ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 simbol tačk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57D9-1B72-4F85-9050-CA9A6C2F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1560" y="2204640"/>
            <a:ext cx="78343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dklase ne mogu direktno pristupati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ovima nadklasa. Podklasa može mijenjati stanj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a nadklase samo preko metoda koji nij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je deklarisan u nadklasi pa ga podklasa nasljeđuj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752C-3069-4CD9-BE3D-3B432D7E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2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1560" y="2139480"/>
            <a:ext cx="7834320" cy="280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r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anj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članova klase pomaže programerima da testiraju , dibaguju i modifikuju sistem na ispravna način. Ako bi podklasa imala pristup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članovima nadklase, tada bi njene podklase mogle pristupati privatnin članovima nadklase. Na taj način bi se izgubile prednosti sakrivanja informacij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FA5A-38BB-472E-9D95-6863658F2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4 Ve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z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a nadklase i podkalse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Veza nadklase i podkl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Hijerahija nasljeđivanja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mmissionEmployee/BasePlusCommissionEmploy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nam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im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last nam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prezim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SS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social security number, ekvivalent našeg JMBG-a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commission rate, gross sale amou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BasePlusCommissionEmploy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name, last name, SSN, commission rate, gross sale amou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 salary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osnovna plat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804E-460F-4BD4-B5EB-162993CE5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9.4.1 </a:t>
            </a:r>
            <a:r>
              <a:rPr b="1" lang="sr-Latn-CS" sz="3200" spc="-1" strike="noStrike">
                <a:solidFill>
                  <a:srgbClr val="f9a75e"/>
                </a:solidFill>
                <a:latin typeface="Arial"/>
              </a:rPr>
              <a:t>Kreiranje i upotreba klase</a:t>
            </a: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9a75e"/>
                </a:solidFill>
                <a:latin typeface="Lucida Console"/>
              </a:rPr>
              <a:t>CommissionEmployee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Izvedena iz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Object</a:t>
            </a:r>
            <a:r>
              <a:rPr b="1" lang="sr-Latn-C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tends class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Object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ljučna rije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exten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vaka klasa 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zvedena je iz postojeće 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zuzetak je klas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vaka klasa nasljeđuje metode klase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ova klas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mplicit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o je izvedena iz kl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sim ako nije izvedena iz neke druge 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009B-E090-4DA0-AD4D-15DECFBF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3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41560" y="1981080"/>
            <a:ext cx="78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r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avlja da je klasa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Obje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klasa klase koju deklarišete ako nije ekplicitno navedena nadklas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12E7-45A8-4A2C-A561-C98254DED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4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6-1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6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7-21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20-21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499" name="Object 6"/>
          <p:cNvGraphicFramePr/>
          <p:nvPr/>
        </p:nvGraphicFramePr>
        <p:xfrm>
          <a:off x="1440" y="1440"/>
          <a:ext cx="705960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705960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1" name="Group 11"/>
          <p:cNvGrpSpPr/>
          <p:nvPr/>
        </p:nvGrpSpPr>
        <p:grpSpPr>
          <a:xfrm>
            <a:off x="3657600" y="762120"/>
            <a:ext cx="3962520" cy="580680"/>
            <a:chOff x="3657600" y="762120"/>
            <a:chExt cx="3962520" cy="580680"/>
          </a:xfrm>
        </p:grpSpPr>
        <p:sp>
          <p:nvSpPr>
            <p:cNvPr id="502" name="Text Box 9"/>
            <p:cNvSpPr/>
            <p:nvPr/>
          </p:nvSpPr>
          <p:spPr>
            <a:xfrm>
              <a:off x="4572000" y="762120"/>
              <a:ext cx="30481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extend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Object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03" name="Line 10"/>
            <p:cNvSpPr/>
            <p:nvPr/>
          </p:nvSpPr>
          <p:spPr>
            <a:xfrm flipH="1" flipV="1">
              <a:off x="3657600" y="8377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504" name="Text Box 13"/>
          <p:cNvSpPr/>
          <p:nvPr/>
        </p:nvSpPr>
        <p:spPr>
          <a:xfrm>
            <a:off x="4876920" y="1828800"/>
            <a:ext cx="2133360" cy="58068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oziv konstruktora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 flipH="1">
            <a:off x="3580920" y="220968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06" name="Text Box 16"/>
          <p:cNvSpPr/>
          <p:nvPr/>
        </p:nvSpPr>
        <p:spPr>
          <a:xfrm>
            <a:off x="4038480" y="2666880"/>
            <a:ext cx="2517840" cy="33732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cija članova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07" name="Line 17"/>
          <p:cNvSpPr/>
          <p:nvPr/>
        </p:nvSpPr>
        <p:spPr>
          <a:xfrm flipH="1">
            <a:off x="2514600" y="304812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08" name="Text Box 19"/>
          <p:cNvSpPr/>
          <p:nvPr/>
        </p:nvSpPr>
        <p:spPr>
          <a:xfrm>
            <a:off x="5029200" y="152280"/>
            <a:ext cx="1974960" cy="58068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članova klase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 flipH="1">
            <a:off x="3733920" y="533520"/>
            <a:ext cx="12952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510" name="Group 21"/>
          <p:cNvGrpSpPr/>
          <p:nvPr/>
        </p:nvGrpSpPr>
        <p:grpSpPr>
          <a:xfrm>
            <a:off x="2743200" y="3200400"/>
            <a:ext cx="5714640" cy="838080"/>
            <a:chOff x="2743200" y="3200400"/>
            <a:chExt cx="5714640" cy="838080"/>
          </a:xfrm>
        </p:grpSpPr>
        <p:sp>
          <p:nvSpPr>
            <p:cNvPr id="511" name="Text Box 22"/>
            <p:cNvSpPr/>
            <p:nvPr/>
          </p:nvSpPr>
          <p:spPr>
            <a:xfrm>
              <a:off x="4755960" y="3200400"/>
              <a:ext cx="37018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ozivi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etGross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etCommissionR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validaciju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12" name="Line 23"/>
            <p:cNvSpPr/>
            <p:nvPr/>
          </p:nvSpPr>
          <p:spPr>
            <a:xfrm flipH="1">
              <a:off x="2743200" y="3352680"/>
              <a:ext cx="2010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E5B8-201E-4EFD-A4F1-4A3616B45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vantGarde"/>
              </a:rPr>
              <a:t>     </a:t>
            </a:r>
            <a:endParaRPr b="1" lang="en-US" sz="1400" spc="-1" strike="noStrike">
              <a:solidFill>
                <a:srgbClr val="ffffff"/>
              </a:solidFill>
              <a:latin typeface="AvantGar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8001000" cy="588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ay not you know another entirely, till you have divided an inheritance with him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ann Kasper Lava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s method is to define as the number of a class the class of all classes similar to the given clas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rtrand Russe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od as it is to inherit a library, it is better to collect one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gustine Birre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ave base authority from others' books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5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iam Shakespea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4BD1-23FC-47C7-9482-6FD71FCB7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16" name="Object 4"/>
          <p:cNvGraphicFramePr/>
          <p:nvPr/>
        </p:nvGraphicFramePr>
        <p:xfrm>
          <a:off x="0" y="0"/>
          <a:ext cx="709920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9920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94B1-2872-43E1-A88A-9021AB777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62560" y="1066320"/>
            <a:ext cx="1981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85-88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21" name="Object 4"/>
          <p:cNvGraphicFramePr/>
          <p:nvPr/>
        </p:nvGraphicFramePr>
        <p:xfrm>
          <a:off x="0" y="6480"/>
          <a:ext cx="709308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9308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6"/>
          <p:cNvGrpSpPr/>
          <p:nvPr/>
        </p:nvGrpSpPr>
        <p:grpSpPr>
          <a:xfrm>
            <a:off x="2666520" y="4114800"/>
            <a:ext cx="3886200" cy="838080"/>
            <a:chOff x="2666520" y="4114800"/>
            <a:chExt cx="3886200" cy="838080"/>
          </a:xfrm>
        </p:grpSpPr>
        <p:sp>
          <p:nvSpPr>
            <p:cNvPr id="524" name="Text Box 7"/>
            <p:cNvSpPr/>
            <p:nvPr/>
          </p:nvSpPr>
          <p:spPr>
            <a:xfrm>
              <a:off x="4035600" y="4114800"/>
              <a:ext cx="251712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zračunava zarad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25" name="Line 8"/>
            <p:cNvSpPr/>
            <p:nvPr/>
          </p:nvSpPr>
          <p:spPr>
            <a:xfrm flipH="1">
              <a:off x="2666520" y="4267080"/>
              <a:ext cx="1366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DD7A-E59C-4E20-B19B-E6E6A4CF4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91-98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29" name="Object 4"/>
          <p:cNvGraphicFramePr/>
          <p:nvPr/>
        </p:nvGraphicFramePr>
        <p:xfrm>
          <a:off x="0" y="3240"/>
          <a:ext cx="7039080" cy="24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0390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1" name="Group 9"/>
          <p:cNvGrpSpPr/>
          <p:nvPr/>
        </p:nvGrpSpPr>
        <p:grpSpPr>
          <a:xfrm>
            <a:off x="2666520" y="304920"/>
            <a:ext cx="4725000" cy="885240"/>
            <a:chOff x="2666520" y="304920"/>
            <a:chExt cx="4725000" cy="885240"/>
          </a:xfrm>
        </p:grpSpPr>
        <p:sp>
          <p:nvSpPr>
            <p:cNvPr id="532" name="Text Box 7"/>
            <p:cNvSpPr/>
            <p:nvPr/>
          </p:nvSpPr>
          <p:spPr>
            <a:xfrm>
              <a:off x="4724280" y="609480"/>
              <a:ext cx="266724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redefinisanje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o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Object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33" name="Line 8"/>
            <p:cNvSpPr/>
            <p:nvPr/>
          </p:nvSpPr>
          <p:spPr>
            <a:xfrm flipH="1" flipV="1">
              <a:off x="2666520" y="30492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080A-D68A-4DC0-8262-74A38D228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Uobičajena programerska gre</a:t>
            </a:r>
            <a:r>
              <a:rPr b="1" lang="sr-Latn-CS" sz="3200" spc="-1" strike="noStrike">
                <a:solidFill>
                  <a:srgbClr val="5ad9b3"/>
                </a:solidFill>
                <a:latin typeface="Arial"/>
                <a:ea typeface="Arial"/>
              </a:rPr>
              <a:t>š</a:t>
            </a: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ka 9.1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41560" y="1905120"/>
            <a:ext cx="731664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intaksna je greška predefinisati metod koji ima restriktivniji pristupni modifikator. Npr.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ubli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nadklase ne može postati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odkl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dklase ne može postati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podklasi. Ako to uradite, narušav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is-a”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relaciju u kojoj se zahtijeva da svaki objekat podklase može odgovoriti na poziv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etoda deklarisanog u nadklasi.(nastavak na sljedećem slajd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58D4-5DB2-43D3-BA4F-8F60A1FE1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823104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Uobičajena programerska gre</a:t>
            </a:r>
            <a:r>
              <a:rPr b="1" lang="sr-Latn-CS" sz="3600" spc="-1" strike="noStrike">
                <a:solidFill>
                  <a:srgbClr val="5ad9b3"/>
                </a:solidFill>
                <a:latin typeface="Arial"/>
                <a:ea typeface="Arial"/>
              </a:rPr>
              <a:t>š</a:t>
            </a: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ka 9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8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ko bi npr.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ogao biti predefinisan (engl. overriden) kao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u podklas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bjekti podklase ne bi mogli da odgovore na taj poziv metoda kao objekti nadklase. Ako je metod definisan kao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nadklas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n ostaj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svim podklasama te klas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5464-5CAD-4AB7-9C0C-7FD38E3FD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Test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9-1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5-25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6-27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43" name="Object 6"/>
          <p:cNvGraphicFramePr/>
          <p:nvPr/>
        </p:nvGraphicFramePr>
        <p:xfrm>
          <a:off x="0" y="4680"/>
          <a:ext cx="703728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3728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5" name="Group 11"/>
          <p:cNvGrpSpPr/>
          <p:nvPr/>
        </p:nvGrpSpPr>
        <p:grpSpPr>
          <a:xfrm>
            <a:off x="3276720" y="762120"/>
            <a:ext cx="3886200" cy="838080"/>
            <a:chOff x="3276720" y="762120"/>
            <a:chExt cx="3886200" cy="838080"/>
          </a:xfrm>
        </p:grpSpPr>
        <p:sp>
          <p:nvSpPr>
            <p:cNvPr id="546" name="Text Box 9"/>
            <p:cNvSpPr/>
            <p:nvPr/>
          </p:nvSpPr>
          <p:spPr>
            <a:xfrm>
              <a:off x="3276720" y="762120"/>
              <a:ext cx="388620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ek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47" name="Line 10"/>
            <p:cNvSpPr/>
            <p:nvPr/>
          </p:nvSpPr>
          <p:spPr>
            <a:xfrm flipH="1">
              <a:off x="4267080" y="1143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48" name="Group 15"/>
          <p:cNvGrpSpPr/>
          <p:nvPr/>
        </p:nvGrpSpPr>
        <p:grpSpPr>
          <a:xfrm>
            <a:off x="3429000" y="2819520"/>
            <a:ext cx="4647960" cy="1066680"/>
            <a:chOff x="3429000" y="2819520"/>
            <a:chExt cx="4647960" cy="1066680"/>
          </a:xfrm>
        </p:grpSpPr>
        <p:sp>
          <p:nvSpPr>
            <p:cNvPr id="549" name="Text Box 13"/>
            <p:cNvSpPr/>
            <p:nvPr/>
          </p:nvSpPr>
          <p:spPr>
            <a:xfrm>
              <a:off x="3429000" y="2819520"/>
              <a:ext cx="464796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Upotreba metoda </a:t>
              </a:r>
              <a:r>
                <a:rPr b="0" i="1" lang="sr-Latn-CS" sz="1600" spc="-1" strike="noStrike">
                  <a:solidFill>
                    <a:srgbClr val="000000"/>
                  </a:solidFill>
                  <a:latin typeface="Times New Roman"/>
                </a:rPr>
                <a:t>get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 flipH="1">
              <a:off x="4461480" y="3429000"/>
              <a:ext cx="1032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51" name="Group 16"/>
          <p:cNvGrpSpPr/>
          <p:nvPr/>
        </p:nvGrpSpPr>
        <p:grpSpPr>
          <a:xfrm>
            <a:off x="4114800" y="4114800"/>
            <a:ext cx="4038480" cy="1066680"/>
            <a:chOff x="4114800" y="4114800"/>
            <a:chExt cx="4038480" cy="1066680"/>
          </a:xfrm>
        </p:grpSpPr>
        <p:sp>
          <p:nvSpPr>
            <p:cNvPr id="552" name="Text Box 17"/>
            <p:cNvSpPr/>
            <p:nvPr/>
          </p:nvSpPr>
          <p:spPr>
            <a:xfrm>
              <a:off x="4114800" y="4114800"/>
              <a:ext cx="40384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Upotreba metod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ssionEmploye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53" name="Line 18"/>
            <p:cNvSpPr/>
            <p:nvPr/>
          </p:nvSpPr>
          <p:spPr>
            <a:xfrm flipH="1">
              <a:off x="5011920" y="4724280"/>
              <a:ext cx="897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D195-9BEF-4E55-A69C-07A3833D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65440" y="1068480"/>
            <a:ext cx="1978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Test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57" name="Object 4"/>
          <p:cNvGraphicFramePr/>
          <p:nvPr/>
        </p:nvGraphicFramePr>
        <p:xfrm>
          <a:off x="0" y="0"/>
          <a:ext cx="706608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660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Group 9"/>
          <p:cNvGrpSpPr/>
          <p:nvPr/>
        </p:nvGrpSpPr>
        <p:grpSpPr>
          <a:xfrm>
            <a:off x="5790960" y="456840"/>
            <a:ext cx="2210040" cy="885960"/>
            <a:chOff x="5790960" y="456840"/>
            <a:chExt cx="2210040" cy="885960"/>
          </a:xfrm>
        </p:grpSpPr>
        <p:sp>
          <p:nvSpPr>
            <p:cNvPr id="560" name="Text Box 7"/>
            <p:cNvSpPr/>
            <p:nvPr/>
          </p:nvSpPr>
          <p:spPr>
            <a:xfrm>
              <a:off x="5899320" y="762120"/>
              <a:ext cx="21016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licit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ni poziv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oString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61" name="Line 8"/>
            <p:cNvSpPr/>
            <p:nvPr/>
          </p:nvSpPr>
          <p:spPr>
            <a:xfrm flipH="1" flipV="1">
              <a:off x="5790960" y="45684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" dur="1" fill="hold"/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4482-D47C-482A-933F-7ACDA4B26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9a75e"/>
                </a:solidFill>
                <a:latin typeface="Arial"/>
              </a:rPr>
              <a:t>9.4.2 </a:t>
            </a:r>
            <a:r>
              <a:rPr b="1" lang="sr-Latn-CS" sz="3200" spc="-1" strike="noStrike">
                <a:solidFill>
                  <a:srgbClr val="f9a75e"/>
                </a:solidFill>
                <a:latin typeface="Arial"/>
              </a:rPr>
              <a:t>Kreiranje klase</a:t>
            </a:r>
            <a:r>
              <a:rPr b="1" lang="sr-Latn-CS" sz="26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9a75e"/>
                </a:solidFill>
                <a:latin typeface="Lucida Console"/>
              </a:rPr>
              <a:t>BasePlusCommissionEmployee</a:t>
            </a:r>
            <a:r>
              <a:rPr b="1" lang="en-US" sz="26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9a75e"/>
                </a:solidFill>
                <a:latin typeface="Arial"/>
              </a:rPr>
              <a:t>bez upotrebe nasljeđivanja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BasePlusCommissionEmploye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o nasljeđuje klas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Večina koda slična je klas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lanovi 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o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stru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Dodaci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lan kl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baseSal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o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tBaseSal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getBaseSal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4B79-FEFC-4FEF-97BB-CDDAC5733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2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4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68" name="Object 6"/>
          <p:cNvGraphicFramePr/>
          <p:nvPr/>
        </p:nvGraphicFramePr>
        <p:xfrm>
          <a:off x="0" y="9360"/>
          <a:ext cx="702936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702936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0" name="Group 8"/>
          <p:cNvGrpSpPr/>
          <p:nvPr/>
        </p:nvGrpSpPr>
        <p:grpSpPr>
          <a:xfrm>
            <a:off x="2742840" y="1676520"/>
            <a:ext cx="5181480" cy="761400"/>
            <a:chOff x="2742840" y="1676520"/>
            <a:chExt cx="5181480" cy="761400"/>
          </a:xfrm>
        </p:grpSpPr>
        <p:sp>
          <p:nvSpPr>
            <p:cNvPr id="571" name="Text Box 9"/>
            <p:cNvSpPr/>
            <p:nvPr/>
          </p:nvSpPr>
          <p:spPr>
            <a:xfrm>
              <a:off x="4568040" y="1676520"/>
              <a:ext cx="335628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odajemo član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Salary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72" name="Line 10"/>
            <p:cNvSpPr/>
            <p:nvPr/>
          </p:nvSpPr>
          <p:spPr>
            <a:xfrm flipH="1">
              <a:off x="2742840" y="1814760"/>
              <a:ext cx="182268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73" name="Group 14"/>
          <p:cNvGrpSpPr/>
          <p:nvPr/>
        </p:nvGrpSpPr>
        <p:grpSpPr>
          <a:xfrm>
            <a:off x="2819520" y="4191120"/>
            <a:ext cx="4651200" cy="914400"/>
            <a:chOff x="2819520" y="4191120"/>
            <a:chExt cx="4651200" cy="914400"/>
          </a:xfrm>
        </p:grpSpPr>
        <p:sp>
          <p:nvSpPr>
            <p:cNvPr id="574" name="Text Box 12"/>
            <p:cNvSpPr/>
            <p:nvPr/>
          </p:nvSpPr>
          <p:spPr>
            <a:xfrm>
              <a:off x="4648320" y="4191120"/>
              <a:ext cx="282240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Met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etBase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validaciju podatak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H="1">
              <a:off x="2819520" y="4481640"/>
              <a:ext cx="182232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615A-CCEE-4BD2-88D1-98B4CAA2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79" name="Object 6"/>
          <p:cNvGraphicFramePr/>
          <p:nvPr/>
        </p:nvGraphicFramePr>
        <p:xfrm>
          <a:off x="0" y="0"/>
          <a:ext cx="706896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6896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7D46-51FF-460A-ABCC-EA6A5249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9a75e"/>
                </a:solidFill>
                <a:latin typeface="Arial"/>
              </a:rPr>
              <a:t>Ciljevi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46748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9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ovoj lekciji naučić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nasljeđivanje promoviše ponovnu upotrebu softv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jmove nadklase i podkl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potrebu ključne riječi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xte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kreiranje klase koja nasljeđuje atribute i ponašanje od druge kla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koristite pristupni modifikator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podkalsi date mogućnost pristupa članvima nadkl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pristupate članovima nadklase pomoću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se konstruktori koriste u hijerahiji nasljeđivanj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5000"/>
              </a:lnSpc>
              <a:spcAft>
                <a:spcPts val="601"/>
              </a:spcAft>
              <a:buClr>
                <a:srgbClr val="4e87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e kla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a 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tno i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 nadklasa svih klasa u Jav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DF1B-17F4-4302-BD58-CB63889AD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84" name="Object 4"/>
          <p:cNvGraphicFramePr/>
          <p:nvPr/>
        </p:nvGraphicFramePr>
        <p:xfrm>
          <a:off x="0" y="0"/>
          <a:ext cx="7095960" cy="65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959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3C24-06AF-4617-AA85-8749D3A3D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275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88-91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94-97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02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08-11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589" name="Object 4"/>
          <p:cNvGraphicFramePr/>
          <p:nvPr/>
        </p:nvGraphicFramePr>
        <p:xfrm>
          <a:off x="0" y="6480"/>
          <a:ext cx="7045200" cy="62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45200" cy="62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9"/>
          <p:cNvGrpSpPr/>
          <p:nvPr/>
        </p:nvGrpSpPr>
        <p:grpSpPr>
          <a:xfrm>
            <a:off x="2971800" y="304920"/>
            <a:ext cx="3809880" cy="1418760"/>
            <a:chOff x="2971800" y="304920"/>
            <a:chExt cx="3809880" cy="1418760"/>
          </a:xfrm>
        </p:grpSpPr>
        <p:sp>
          <p:nvSpPr>
            <p:cNvPr id="592" name="Text Box 7"/>
            <p:cNvSpPr/>
            <p:nvPr/>
          </p:nvSpPr>
          <p:spPr>
            <a:xfrm>
              <a:off x="2971800" y="1143000"/>
              <a:ext cx="38098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t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etBase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id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ra i postavlj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v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ed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t član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Salary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3" name="Line 8"/>
            <p:cNvSpPr/>
            <p:nvPr/>
          </p:nvSpPr>
          <p:spPr>
            <a:xfrm flipH="1" flipV="1">
              <a:off x="4190400" y="304920"/>
              <a:ext cx="60300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94" name="Group 10"/>
          <p:cNvGrpSpPr/>
          <p:nvPr/>
        </p:nvGrpSpPr>
        <p:grpSpPr>
          <a:xfrm>
            <a:off x="1828800" y="1599840"/>
            <a:ext cx="3809880" cy="1419480"/>
            <a:chOff x="1828800" y="1599840"/>
            <a:chExt cx="3809880" cy="1419480"/>
          </a:xfrm>
        </p:grpSpPr>
        <p:sp>
          <p:nvSpPr>
            <p:cNvPr id="595" name="Text Box 11"/>
            <p:cNvSpPr/>
            <p:nvPr/>
          </p:nvSpPr>
          <p:spPr>
            <a:xfrm>
              <a:off x="1828800" y="2438640"/>
              <a:ext cx="38098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tod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getBase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vraća vrijedn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t član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Salary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6" name="Line 12"/>
            <p:cNvSpPr/>
            <p:nvPr/>
          </p:nvSpPr>
          <p:spPr>
            <a:xfrm flipH="1" flipV="1">
              <a:off x="3047400" y="1599840"/>
              <a:ext cx="60300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597" name="Group 13"/>
          <p:cNvGrpSpPr/>
          <p:nvPr/>
        </p:nvGrpSpPr>
        <p:grpSpPr>
          <a:xfrm>
            <a:off x="4038480" y="3200400"/>
            <a:ext cx="4267080" cy="1380600"/>
            <a:chOff x="4038480" y="3200400"/>
            <a:chExt cx="4267080" cy="1380600"/>
          </a:xfrm>
        </p:grpSpPr>
        <p:sp>
          <p:nvSpPr>
            <p:cNvPr id="598" name="Text Box 14"/>
            <p:cNvSpPr/>
            <p:nvPr/>
          </p:nvSpPr>
          <p:spPr>
            <a:xfrm>
              <a:off x="4038480" y="4000320"/>
              <a:ext cx="42670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romjena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tod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a izračunava zaradu na osnovu osnovne plat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599" name="Line 15"/>
            <p:cNvSpPr/>
            <p:nvPr/>
          </p:nvSpPr>
          <p:spPr>
            <a:xfrm flipH="1" flipV="1">
              <a:off x="5403600" y="3200400"/>
              <a:ext cx="675720" cy="78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00" name="Group 19"/>
          <p:cNvGrpSpPr/>
          <p:nvPr/>
        </p:nvGrpSpPr>
        <p:grpSpPr>
          <a:xfrm>
            <a:off x="3352680" y="5181480"/>
            <a:ext cx="4647600" cy="580680"/>
            <a:chOff x="3352680" y="5181480"/>
            <a:chExt cx="4647600" cy="580680"/>
          </a:xfrm>
        </p:grpSpPr>
        <p:sp>
          <p:nvSpPr>
            <p:cNvPr id="601" name="Text Box 17"/>
            <p:cNvSpPr/>
            <p:nvPr/>
          </p:nvSpPr>
          <p:spPr>
            <a:xfrm>
              <a:off x="5106600" y="5181480"/>
              <a:ext cx="28936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romjen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tod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o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prikaz osnovne plat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02" name="Line 18"/>
            <p:cNvSpPr/>
            <p:nvPr/>
          </p:nvSpPr>
          <p:spPr>
            <a:xfrm flipH="1">
              <a:off x="3352680" y="5486400"/>
              <a:ext cx="175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6FE5-0C2F-47AA-A7E1-DFE369D22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162560" y="1066320"/>
            <a:ext cx="1981080" cy="186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9-11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6-27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06" name="Object 6"/>
          <p:cNvGraphicFramePr/>
          <p:nvPr/>
        </p:nvGraphicFramePr>
        <p:xfrm>
          <a:off x="0" y="4680"/>
          <a:ext cx="7101000" cy="609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10100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8" name="Group 8"/>
          <p:cNvGrpSpPr/>
          <p:nvPr/>
        </p:nvGrpSpPr>
        <p:grpSpPr>
          <a:xfrm>
            <a:off x="2514600" y="1143000"/>
            <a:ext cx="4876560" cy="838080"/>
            <a:chOff x="2514600" y="1143000"/>
            <a:chExt cx="4876560" cy="838080"/>
          </a:xfrm>
        </p:grpSpPr>
        <p:sp>
          <p:nvSpPr>
            <p:cNvPr id="609" name="Text Box 9"/>
            <p:cNvSpPr/>
            <p:nvPr/>
          </p:nvSpPr>
          <p:spPr>
            <a:xfrm>
              <a:off x="2514600" y="1143000"/>
              <a:ext cx="487656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bjekat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sCommissionEmploye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3756960" y="1523880"/>
              <a:ext cx="1147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11" name="Group 11"/>
          <p:cNvGrpSpPr/>
          <p:nvPr/>
        </p:nvGrpSpPr>
        <p:grpSpPr>
          <a:xfrm>
            <a:off x="3352680" y="3200400"/>
            <a:ext cx="4800240" cy="1066680"/>
            <a:chOff x="3352680" y="3200400"/>
            <a:chExt cx="4800240" cy="1066680"/>
          </a:xfrm>
        </p:grpSpPr>
        <p:sp>
          <p:nvSpPr>
            <p:cNvPr id="612" name="Text Box 12"/>
            <p:cNvSpPr/>
            <p:nvPr/>
          </p:nvSpPr>
          <p:spPr>
            <a:xfrm>
              <a:off x="3352680" y="3200400"/>
              <a:ext cx="480024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otreba metod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CommissionEmploye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13" name="Line 13"/>
            <p:cNvSpPr/>
            <p:nvPr/>
          </p:nvSpPr>
          <p:spPr>
            <a:xfrm flipH="1">
              <a:off x="4419000" y="380988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2" dur="1" fill="hold"/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608D-907E-4085-AC36-9553841BC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9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17" name="Object 4"/>
          <p:cNvGraphicFramePr/>
          <p:nvPr/>
        </p:nvGraphicFramePr>
        <p:xfrm>
          <a:off x="0" y="0"/>
          <a:ext cx="7075440" cy="43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754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9" name="Group 9"/>
          <p:cNvGrpSpPr/>
          <p:nvPr/>
        </p:nvGrpSpPr>
        <p:grpSpPr>
          <a:xfrm>
            <a:off x="3429000" y="228240"/>
            <a:ext cx="4419720" cy="809640"/>
            <a:chOff x="3429000" y="228240"/>
            <a:chExt cx="4419720" cy="809640"/>
          </a:xfrm>
        </p:grpSpPr>
        <p:sp>
          <p:nvSpPr>
            <p:cNvPr id="620" name="Text Box 7"/>
            <p:cNvSpPr/>
            <p:nvPr/>
          </p:nvSpPr>
          <p:spPr>
            <a:xfrm>
              <a:off x="3886200" y="457200"/>
              <a:ext cx="39625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otreba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tBaseSalary</a:t>
              </a:r>
              <a:r>
                <a:rPr b="0" lang="en-US" sz="1600" spc="-1" strike="noStrike">
                  <a:solidFill>
                    <a:srgbClr val="275aff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lase</a:t>
              </a:r>
              <a:r>
                <a:rPr b="0" lang="en-US" sz="1600" spc="-1" strike="noStrike">
                  <a:solidFill>
                    <a:srgbClr val="275a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s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21" name="Line 8"/>
            <p:cNvSpPr/>
            <p:nvPr/>
          </p:nvSpPr>
          <p:spPr>
            <a:xfrm flipH="1" flipV="1">
              <a:off x="3429000" y="228240"/>
              <a:ext cx="228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22" name="Group 10"/>
          <p:cNvGrpSpPr/>
          <p:nvPr/>
        </p:nvGrpSpPr>
        <p:grpSpPr>
          <a:xfrm>
            <a:off x="3047760" y="1066320"/>
            <a:ext cx="4114800" cy="566280"/>
            <a:chOff x="3047760" y="1066320"/>
            <a:chExt cx="4114800" cy="566280"/>
          </a:xfrm>
        </p:grpSpPr>
        <p:sp>
          <p:nvSpPr>
            <p:cNvPr id="623" name="Text Box 11"/>
            <p:cNvSpPr/>
            <p:nvPr/>
          </p:nvSpPr>
          <p:spPr>
            <a:xfrm>
              <a:off x="3473640" y="1295280"/>
              <a:ext cx="368892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ksplicitan po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v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oString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24" name="Line 12"/>
            <p:cNvSpPr/>
            <p:nvPr/>
          </p:nvSpPr>
          <p:spPr>
            <a:xfrm flipH="1" flipV="1">
              <a:off x="3047760" y="1066320"/>
              <a:ext cx="2127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A352-E8E9-403A-B511-FCF041346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4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8343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a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and pa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” gdje se kod iz jedne klase kopira i premješta u drugu klasu može dovesti do grešaka raspršenih na više fajlova. Da bi izbjegli dupliciranje koda i moguće greške, koristite nasljeđivanje kada je to moguće a ne kopiranj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4B9A-BB33-45CE-AC70-CFBF40F9D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5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43000" y="2368080"/>
            <a:ext cx="7834320" cy="280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koristite nasljeđivanje, svi zajednički članovi i metodi klasa u hijerarhiji deklarisani su u nadklasi. Promjena ovih zajedničkih svojstava obavalja se na jednom mjestu – u nadklasi. Podklase samo nasljeđuju promje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 nasljeđivanja, morao bi se mijenjati kod u svim fajlovima koji sadrže kopiju promijenjenog kod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F1AA-9005-4B8D-A77C-A03D8056D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9.4.3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Hijerarhija nasljeđivanja </a:t>
            </a:r>
            <a:r>
              <a:rPr b="1" lang="en-US" sz="2400" spc="-1" strike="noStrike">
                <a:solidFill>
                  <a:srgbClr val="f9a75e"/>
                </a:solidFill>
                <a:latin typeface="Lucida Console"/>
              </a:rPr>
              <a:t>CommissionEmployee-BasePlusCommiionEmployee</a:t>
            </a:r>
            <a:endParaRPr b="1" lang="en-US" sz="24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BasePlusCommissionEmployee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Izvedena iz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Ima člana klas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baseSalar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asljeđuj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članov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nstru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r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ije naslijeđe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7A22-6AFA-49BB-8FCD-2CC7E03D7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65440" y="1068480"/>
            <a:ext cx="1978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4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37" name="Object 6"/>
          <p:cNvGraphicFramePr/>
          <p:nvPr/>
        </p:nvGraphicFramePr>
        <p:xfrm>
          <a:off x="0" y="9360"/>
          <a:ext cx="708516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708516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9" name="Group 11"/>
          <p:cNvGrpSpPr/>
          <p:nvPr/>
        </p:nvGrpSpPr>
        <p:grpSpPr>
          <a:xfrm>
            <a:off x="3886200" y="838080"/>
            <a:ext cx="3962520" cy="1114200"/>
            <a:chOff x="3886200" y="838080"/>
            <a:chExt cx="3962520" cy="1114200"/>
          </a:xfrm>
        </p:grpSpPr>
        <p:sp>
          <p:nvSpPr>
            <p:cNvPr id="640" name="Text Box 9"/>
            <p:cNvSpPr/>
            <p:nvPr/>
          </p:nvSpPr>
          <p:spPr>
            <a:xfrm>
              <a:off x="3886200" y="1371600"/>
              <a:ext cx="39625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las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CommissionEmploye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je podklasa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41" name="Line 10"/>
            <p:cNvSpPr/>
            <p:nvPr/>
          </p:nvSpPr>
          <p:spPr>
            <a:xfrm flipH="1" flipV="1">
              <a:off x="4419360" y="83808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642" name="Group 12"/>
          <p:cNvGrpSpPr/>
          <p:nvPr/>
        </p:nvGrpSpPr>
        <p:grpSpPr>
          <a:xfrm>
            <a:off x="3733920" y="2895480"/>
            <a:ext cx="3504960" cy="906120"/>
            <a:chOff x="3733920" y="2895480"/>
            <a:chExt cx="3504960" cy="906120"/>
          </a:xfrm>
        </p:grpSpPr>
        <p:sp>
          <p:nvSpPr>
            <p:cNvPr id="643" name="Text Box 13"/>
            <p:cNvSpPr/>
            <p:nvPr/>
          </p:nvSpPr>
          <p:spPr>
            <a:xfrm>
              <a:off x="3733920" y="3464280"/>
              <a:ext cx="3504960" cy="33732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oziv konstruktora nad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44" name="Line 14"/>
            <p:cNvSpPr/>
            <p:nvPr/>
          </p:nvSpPr>
          <p:spPr>
            <a:xfrm flipH="1" flipV="1">
              <a:off x="4205520" y="2895480"/>
              <a:ext cx="1347840" cy="56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72BC-A4DE-40F7-9AA4-5C2F8C70B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4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41-46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48" name="Object 4"/>
          <p:cNvGraphicFramePr/>
          <p:nvPr/>
        </p:nvGraphicFramePr>
        <p:xfrm>
          <a:off x="0" y="0"/>
          <a:ext cx="7048440" cy="56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48440" cy="56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Text Box 7"/>
          <p:cNvSpPr/>
          <p:nvPr/>
        </p:nvSpPr>
        <p:spPr>
          <a:xfrm>
            <a:off x="3200400" y="1295280"/>
            <a:ext cx="5562720" cy="58068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Kompajler prijavljuje grešku jer su članovi nadklase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ommissionR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rossSal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51" name="Line 8"/>
          <p:cNvSpPr/>
          <p:nvPr/>
        </p:nvSpPr>
        <p:spPr>
          <a:xfrm flipH="1">
            <a:off x="3796920" y="1905120"/>
            <a:ext cx="1536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652" name="Group 12"/>
          <p:cNvGrpSpPr/>
          <p:nvPr/>
        </p:nvGrpSpPr>
        <p:grpSpPr>
          <a:xfrm>
            <a:off x="3200400" y="2895480"/>
            <a:ext cx="5562720" cy="1295640"/>
            <a:chOff x="3200400" y="2895480"/>
            <a:chExt cx="5562720" cy="1295640"/>
          </a:xfrm>
        </p:grpSpPr>
        <p:sp>
          <p:nvSpPr>
            <p:cNvPr id="653" name="Text Box 10"/>
            <p:cNvSpPr/>
            <p:nvPr/>
          </p:nvSpPr>
          <p:spPr>
            <a:xfrm>
              <a:off x="3200400" y="2895480"/>
              <a:ext cx="556272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ompajler prijavljuje grešku jer su članovi nad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fir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las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socialSecurity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gross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R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ivat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 flipH="1">
              <a:off x="5409720" y="37339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9" dur="1" fill="hold"/>
                                  <p:tgtEl>
                                    <p:spTgt spid="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C8E3-3416-4236-B2E6-B30B6C99A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 generated errorss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58" name="Object 4"/>
          <p:cNvGraphicFramePr/>
          <p:nvPr/>
        </p:nvGraphicFramePr>
        <p:xfrm>
          <a:off x="0" y="0"/>
          <a:ext cx="7040520" cy="453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4052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CB32-FAB5-4C7F-8E5A-A885092B9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609120" y="460080"/>
            <a:ext cx="8534520" cy="5559480"/>
          </a:xfrm>
          <a:prstGeom prst="rect">
            <a:avLst/>
          </a:prstGeom>
          <a:solidFill>
            <a:srgbClr val="fff7eb"/>
          </a:solidFill>
          <a:ln w="12600">
            <a:solidFill>
              <a:srgbClr val="f9a75e"/>
            </a:solidFill>
            <a:miter/>
          </a:ln>
        </p:spPr>
        <p:txBody>
          <a:bodyPr lIns="182880" rIns="182880" tIns="91440" bIns="91440" anchor="t">
            <a:normAutofit/>
          </a:bodyPr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1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  <a:ea typeface="Goudy Sans Medium"/>
              </a:rPr>
              <a:t>9.2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  <a:ea typeface="Goudy Sans Medium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  <a:ea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 Sans Medium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dklase i podkals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classes and Subclasses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3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lanovi kl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dnos između nadklase i podkl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	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.1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ranje i upotreba klas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	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.2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ranje klas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asePlusCommissionEmploy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la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ez upotrebe nasljeđivanj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7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	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.3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eiranje hijerahije nasljeđivanja za klas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asePlusCommissionEmploy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7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	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.4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jerahija nasljeđivanj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7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asePlusCommissionEmployee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imjenom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lanova kl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7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	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4.5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jerahija klas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7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sePlusCommissionEmploy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mjenom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lanova kl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44A9-C0F0-49C1-85BC-F9CCD589E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823104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Uobičajena programerska gre</a:t>
            </a:r>
            <a:r>
              <a:rPr b="1" lang="en-US" sz="3600" spc="-1" strike="noStrike">
                <a:solidFill>
                  <a:srgbClr val="5ad9b3"/>
                </a:solidFill>
                <a:latin typeface="Times New Roman"/>
                <a:ea typeface="Arial"/>
              </a:rPr>
              <a:t>š</a:t>
            </a: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ka 9.2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41560" y="1980720"/>
            <a:ext cx="78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ajler prijavljuje grešku ako konstruktor podklase pozove jednog od konstruktora nadklase a argumenti poziva ne odgovaraju broju i tipu parametara konstruktora nadklase u njegovoj deklaraciji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AA69-89A6-428B-9EAB-F0D6E41A6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9.4.4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Hijerahija klasa </a:t>
            </a:r>
            <a:r>
              <a:rPr b="1" lang="en-US" sz="2400" spc="-1" strike="noStrike">
                <a:solidFill>
                  <a:srgbClr val="f9a75e"/>
                </a:solidFill>
                <a:latin typeface="Lucida Console"/>
              </a:rPr>
              <a:t>CommissionEmployee-BasePlusCommissionEmployee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primjenom 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protected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članova klase</a:t>
            </a:r>
            <a:endParaRPr b="1" lang="en-US" sz="24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otreba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članova kl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Omogućava klasi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BasePlusCommissionEmploye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to dire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tan pristup članovima nadkl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članovi nadklase naslijeđeni su u svim podklasamaa te kl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689C-0503-45FC-BB87-8006568CD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7165440" y="1068480"/>
            <a:ext cx="1978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6-1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0" y="4680"/>
          <a:ext cx="704844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484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1" name="Group 6"/>
          <p:cNvGrpSpPr/>
          <p:nvPr/>
        </p:nvGrpSpPr>
        <p:grpSpPr>
          <a:xfrm>
            <a:off x="3809880" y="762120"/>
            <a:ext cx="3276720" cy="838080"/>
            <a:chOff x="3809880" y="762120"/>
            <a:chExt cx="3276720" cy="838080"/>
          </a:xfrm>
        </p:grpSpPr>
        <p:sp>
          <p:nvSpPr>
            <p:cNvPr id="672" name="Text Box 7"/>
            <p:cNvSpPr/>
            <p:nvPr/>
          </p:nvSpPr>
          <p:spPr>
            <a:xfrm>
              <a:off x="4964040" y="762120"/>
              <a:ext cx="212256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eklar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aova 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73" name="Line 8"/>
            <p:cNvSpPr/>
            <p:nvPr/>
          </p:nvSpPr>
          <p:spPr>
            <a:xfrm flipH="1">
              <a:off x="3809880" y="914400"/>
              <a:ext cx="1152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8" dur="1" fill="hold"/>
                                  <p:tgtEl>
                                    <p:spTgt spid="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36CB-118C-4B27-9653-99AF81A43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77" name="Object 4"/>
          <p:cNvGraphicFramePr/>
          <p:nvPr/>
        </p:nvGraphicFramePr>
        <p:xfrm>
          <a:off x="0" y="0"/>
          <a:ext cx="7056360" cy="64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56360" cy="64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44D7-04FF-45CD-9FD7-109338DC7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82" name="Object 4"/>
          <p:cNvGraphicFramePr/>
          <p:nvPr/>
        </p:nvGraphicFramePr>
        <p:xfrm>
          <a:off x="0" y="0"/>
          <a:ext cx="703908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3908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A83F-4C1A-4DA0-A34D-504909DB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2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87" name="Object 4"/>
          <p:cNvGraphicFramePr/>
          <p:nvPr/>
        </p:nvGraphicFramePr>
        <p:xfrm>
          <a:off x="0" y="1440"/>
          <a:ext cx="7040520" cy="254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4052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A380-C0D5-49B6-9873-2E03E041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692" name="Object 6"/>
          <p:cNvGraphicFramePr/>
          <p:nvPr/>
        </p:nvGraphicFramePr>
        <p:xfrm>
          <a:off x="0" y="9360"/>
          <a:ext cx="709308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709308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4" name="Group 8"/>
          <p:cNvGrpSpPr/>
          <p:nvPr/>
        </p:nvGrpSpPr>
        <p:grpSpPr>
          <a:xfrm>
            <a:off x="4038480" y="1752480"/>
            <a:ext cx="3276720" cy="838080"/>
            <a:chOff x="4038480" y="1752480"/>
            <a:chExt cx="3276720" cy="838080"/>
          </a:xfrm>
        </p:grpSpPr>
        <p:sp>
          <p:nvSpPr>
            <p:cNvPr id="695" name="Text Box 9"/>
            <p:cNvSpPr/>
            <p:nvPr/>
          </p:nvSpPr>
          <p:spPr>
            <a:xfrm>
              <a:off x="5192640" y="1752480"/>
              <a:ext cx="212256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ra se pozvati konstruktor nad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696" name="Line 10"/>
            <p:cNvSpPr/>
            <p:nvPr/>
          </p:nvSpPr>
          <p:spPr>
            <a:xfrm flipH="1">
              <a:off x="4038480" y="1904760"/>
              <a:ext cx="1152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7" dur="1" fill="hold"/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A1FF-FA85-4DF1-B1BF-D9E6538DD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165440" y="1068480"/>
            <a:ext cx="19782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2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38-4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00" name="Object 4"/>
          <p:cNvGraphicFramePr/>
          <p:nvPr/>
        </p:nvGraphicFramePr>
        <p:xfrm>
          <a:off x="0" y="4680"/>
          <a:ext cx="7039080" cy="404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3908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2" name="Group 10"/>
          <p:cNvGrpSpPr/>
          <p:nvPr/>
        </p:nvGrpSpPr>
        <p:grpSpPr>
          <a:xfrm>
            <a:off x="4800240" y="914400"/>
            <a:ext cx="3505680" cy="1600200"/>
            <a:chOff x="4800240" y="914400"/>
            <a:chExt cx="3505680" cy="1600200"/>
          </a:xfrm>
        </p:grpSpPr>
        <p:sp>
          <p:nvSpPr>
            <p:cNvPr id="703" name="Text Box 7"/>
            <p:cNvSpPr/>
            <p:nvPr/>
          </p:nvSpPr>
          <p:spPr>
            <a:xfrm>
              <a:off x="5943600" y="1447920"/>
              <a:ext cx="236232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tan pristup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ovima nad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04" name="Line 8"/>
            <p:cNvSpPr/>
            <p:nvPr/>
          </p:nvSpPr>
          <p:spPr>
            <a:xfrm flipH="1">
              <a:off x="4800240" y="1828800"/>
              <a:ext cx="1152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05" name="Line 9"/>
            <p:cNvSpPr/>
            <p:nvPr/>
          </p:nvSpPr>
          <p:spPr>
            <a:xfrm flipH="1" flipV="1">
              <a:off x="4876560" y="9144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A774-7A3B-4F80-8A99-631D7F9FE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09" name="Object 6"/>
          <p:cNvGraphicFramePr/>
          <p:nvPr/>
        </p:nvGraphicFramePr>
        <p:xfrm>
          <a:off x="0" y="6480"/>
          <a:ext cx="703908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3908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BA87-229F-48EB-871C-EE8F37759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14" name="Object 4"/>
          <p:cNvGraphicFramePr/>
          <p:nvPr/>
        </p:nvGraphicFramePr>
        <p:xfrm>
          <a:off x="0" y="6480"/>
          <a:ext cx="7066080" cy="42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660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7D89-6A3E-40AB-B0C3-06036B410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09120" y="460440"/>
            <a:ext cx="7543800" cy="1528560"/>
          </a:xfrm>
          <a:prstGeom prst="rect">
            <a:avLst/>
          </a:prstGeom>
          <a:solidFill>
            <a:srgbClr val="fff7eb"/>
          </a:solidFill>
          <a:ln w="12600">
            <a:solidFill>
              <a:srgbClr val="f9a75e"/>
            </a:solidFill>
            <a:miter/>
          </a:ln>
        </p:spPr>
        <p:txBody>
          <a:bodyPr lIns="182880" rIns="182880" tIns="91440" bIns="91440" anchor="t">
            <a:normAutofit/>
          </a:bodyPr>
          <a:p>
            <a:pPr marL="798480" indent="0">
              <a:lnSpc>
                <a:spcPct val="9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5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stru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 u podklasa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6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ovanje softvera i nasljeđivan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7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la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8480" indent="0">
              <a:lnSpc>
                <a:spcPct val="95000"/>
              </a:lnSpc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9.8</a:t>
            </a:r>
            <a:r>
              <a:rPr b="1" lang="en-US" sz="1800" spc="-1" strike="noStrike">
                <a:solidFill>
                  <a:srgbClr val="b3b366"/>
                </a:solidFill>
                <a:latin typeface="Times New Roman"/>
              </a:rPr>
              <a:t>  </a:t>
            </a:r>
            <a:r>
              <a:rPr b="1" lang="en-US" sz="1800" spc="-1" strike="noStrike">
                <a:solidFill>
                  <a:srgbClr val="b3b366"/>
                </a:solidFill>
                <a:latin typeface="Goudy San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pcionalno) GU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kaz teksta i slika pomoću labe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C2C3-4D22-420B-9910-D4AF3A577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9.4.4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Hijerahija klasa </a:t>
            </a:r>
            <a:r>
              <a:rPr b="1" lang="en-US" sz="2400" spc="-1" strike="noStrike">
                <a:solidFill>
                  <a:srgbClr val="f9a75e"/>
                </a:solidFill>
                <a:latin typeface="Lucida Console"/>
              </a:rPr>
              <a:t>CommissionEmployee-BasePlusCommissionEmployee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primjenom 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protected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članova klase 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(nastavak)</a:t>
            </a:r>
            <a:endParaRPr b="1" lang="en-US" sz="24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potreb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člano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rednosti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dklase mogu mijenjati vrijednosti direktn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eznatno poboljšanje performans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Jer se izbjegavaju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/get metod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Man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ema provjere validnost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dklasa može dodijeliti pogrešnu vrijednos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Zavisna od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cij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Metodi podklase su zavisniji od implementacije nadkl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omjene u implementaciji nadklase mogu dovesti do modifikacije podklas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Tzv. “lomljivi softver” (engl. 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gile (brittle) softwar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5E39-9220-459D-B5A8-DE6E5BFA3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6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141200" y="2034720"/>
            <a:ext cx="7545240" cy="16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oristit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prot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tor pristupa kada nadklasa treba da obezbijedi metod samo podklasama i drugim klasama u paketu, ali ne i drugim klijentim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96CD-E72B-42E9-B56D-897959BC0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Times New Roman"/>
              </a:rPr>
              <a:t>Projektovanje softvera 9.7 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8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je da je član nadklas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razliku od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gućava nam da prilikom implementacije nadklase mijenjamo tog člana klase bez uticaja na implementacije podklas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7601-8480-4ED7-9F00-13A8A4802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Times New Roman"/>
              </a:rPr>
              <a:t>Izbjegnite gre</a:t>
            </a:r>
            <a:r>
              <a:rPr b="1" lang="en-US" sz="3600" spc="-1" strike="noStrike">
                <a:solidFill>
                  <a:srgbClr val="5ad9b3"/>
                </a:solidFill>
                <a:latin typeface="Times New Roman"/>
                <a:ea typeface="Times New Roman"/>
              </a:rPr>
              <a:t>š</a:t>
            </a: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Times New Roman"/>
              </a:rPr>
              <a:t>ku 9.1  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8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ada je to moguće, ne uključujt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prot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ove u nadklas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jesto toga, napiši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koji nisu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oji manipulišu sa tim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om klase. Na taj način osiguravate da će klasa ostati u konzistentnom stanju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8999-6F01-48F9-A011-B499543D7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9.4.5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Hijerarhija </a:t>
            </a:r>
            <a:r>
              <a:rPr b="1" lang="en-US" sz="2400" spc="-1" strike="noStrike">
                <a:solidFill>
                  <a:srgbClr val="f9a75e"/>
                </a:solidFill>
                <a:latin typeface="Lucida Console"/>
              </a:rPr>
              <a:t>CommissionEmployee-BasePlusCommissionEmployee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sa </a:t>
            </a:r>
            <a:r>
              <a:rPr b="1" lang="en-US" sz="2400" spc="-1" strike="noStrike">
                <a:solidFill>
                  <a:srgbClr val="f9a75e"/>
                </a:solidFill>
                <a:latin typeface="Arial"/>
              </a:rPr>
              <a:t>private </a:t>
            </a:r>
            <a:r>
              <a:rPr b="1" lang="sr-Latn-CS" sz="2400" spc="-1" strike="noStrike">
                <a:solidFill>
                  <a:srgbClr val="f9a75e"/>
                </a:solidFill>
                <a:latin typeface="Arial"/>
              </a:rPr>
              <a:t>članovima</a:t>
            </a:r>
            <a:endParaRPr b="1" lang="en-US" sz="24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onovo pogledajmo hijerarhij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Sada koristimo najbolji pristup iz prakse projektovanja softver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o članove klase kao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pišem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o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Vrijednost člana klase dobijamo pozivom odgovarajućeg metod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F8EC-C8C4-4C10-AD9C-454C79A82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6-1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34" name="Object 12"/>
          <p:cNvGraphicFramePr/>
          <p:nvPr/>
        </p:nvGraphicFramePr>
        <p:xfrm>
          <a:off x="0" y="7920"/>
          <a:ext cx="704844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70484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6" name="Group 14"/>
          <p:cNvGrpSpPr/>
          <p:nvPr/>
        </p:nvGrpSpPr>
        <p:grpSpPr>
          <a:xfrm>
            <a:off x="3581280" y="762120"/>
            <a:ext cx="3276720" cy="838080"/>
            <a:chOff x="3581280" y="762120"/>
            <a:chExt cx="3276720" cy="838080"/>
          </a:xfrm>
        </p:grpSpPr>
        <p:sp>
          <p:nvSpPr>
            <p:cNvPr id="737" name="Text Box 15"/>
            <p:cNvSpPr/>
            <p:nvPr/>
          </p:nvSpPr>
          <p:spPr>
            <a:xfrm>
              <a:off x="4735440" y="762120"/>
              <a:ext cx="212256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r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acija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ova 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38" name="Line 16"/>
            <p:cNvSpPr/>
            <p:nvPr/>
          </p:nvSpPr>
          <p:spPr>
            <a:xfrm flipH="1">
              <a:off x="3581280" y="914400"/>
              <a:ext cx="1152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5" dur="1" fill="hold"/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1B64-E6A5-4F70-ADC3-46B26215A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42" name="Object 4"/>
          <p:cNvGraphicFramePr/>
          <p:nvPr/>
        </p:nvGraphicFramePr>
        <p:xfrm>
          <a:off x="0" y="0"/>
          <a:ext cx="7048440" cy="64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48440" cy="64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BE8A-01D5-4AB3-9EEA-9BF0ACA6F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47" name="Object 4"/>
          <p:cNvGraphicFramePr/>
          <p:nvPr/>
        </p:nvGraphicFramePr>
        <p:xfrm>
          <a:off x="0" y="0"/>
          <a:ext cx="7048440" cy="54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484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5B3C-406A-41AF-9BD9-B920924AB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mployee3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87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94-97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52" name="Object 4"/>
          <p:cNvGraphicFramePr/>
          <p:nvPr/>
        </p:nvGraphicFramePr>
        <p:xfrm>
          <a:off x="0" y="6480"/>
          <a:ext cx="7020000" cy="35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7020000" cy="35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4" name="Group 10"/>
          <p:cNvGrpSpPr/>
          <p:nvPr/>
        </p:nvGrpSpPr>
        <p:grpSpPr>
          <a:xfrm>
            <a:off x="3504960" y="837720"/>
            <a:ext cx="4104000" cy="1296000"/>
            <a:chOff x="3504960" y="837720"/>
            <a:chExt cx="4104000" cy="1296000"/>
          </a:xfrm>
        </p:grpSpPr>
        <p:sp>
          <p:nvSpPr>
            <p:cNvPr id="755" name="Text Box 7"/>
            <p:cNvSpPr/>
            <p:nvPr/>
          </p:nvSpPr>
          <p:spPr>
            <a:xfrm>
              <a:off x="4952880" y="914400"/>
              <a:ext cx="26560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Upotreba metod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a bi dobili vrijednost članov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56" name="Line 8"/>
            <p:cNvSpPr/>
            <p:nvPr/>
          </p:nvSpPr>
          <p:spPr>
            <a:xfrm flipH="1" flipV="1">
              <a:off x="3504960" y="83772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57" name="Line 9"/>
            <p:cNvSpPr/>
            <p:nvPr/>
          </p:nvSpPr>
          <p:spPr>
            <a:xfrm flipH="1">
              <a:off x="4038480" y="121932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4" dur="1" fill="hold"/>
                                  <p:tgtEl>
                                    <p:spTgt spid="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F3DB-2410-4394-930E-F68B3227A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61" name="Object 6"/>
          <p:cNvGraphicFramePr/>
          <p:nvPr/>
        </p:nvGraphicFramePr>
        <p:xfrm>
          <a:off x="0" y="9360"/>
          <a:ext cx="702000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702000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3" name="Group 11"/>
          <p:cNvGrpSpPr/>
          <p:nvPr/>
        </p:nvGrpSpPr>
        <p:grpSpPr>
          <a:xfrm>
            <a:off x="4191120" y="1218960"/>
            <a:ext cx="3504960" cy="809640"/>
            <a:chOff x="4191120" y="1218960"/>
            <a:chExt cx="3504960" cy="809640"/>
          </a:xfrm>
        </p:grpSpPr>
        <p:sp>
          <p:nvSpPr>
            <p:cNvPr id="764" name="Text Box 9"/>
            <p:cNvSpPr/>
            <p:nvPr/>
          </p:nvSpPr>
          <p:spPr>
            <a:xfrm>
              <a:off x="5040360" y="1447920"/>
              <a:ext cx="26557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zvedena iz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3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65" name="Line 10"/>
            <p:cNvSpPr/>
            <p:nvPr/>
          </p:nvSpPr>
          <p:spPr>
            <a:xfrm flipH="1" flipV="1">
              <a:off x="4191120" y="1218960"/>
              <a:ext cx="8380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3" dur="1" fill="hold"/>
                                  <p:tgtEl>
                                    <p:spTgt spid="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EBB8-1046-43B5-825A-1F51E396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1 Uvod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sleđivanje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Omogućava ponovnu upotrebu softvera (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ftware reusability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reiranje novih klasa iz postojećih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sorbuje podatke i ponašanje postojećih 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Unapređuje ih novim sposobnostim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odklasa proširuje nadklas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(subclas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tends superclass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d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Više specijalizovana grupa objeka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našanje nasljeđuje od na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li ga može promijeni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lagodit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ože imati i dodatno ponašanje (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itional behavior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617F-4A49-4A57-AF0D-912FBA62E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3 &amp; 4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3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40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69" name="Object 4"/>
          <p:cNvGraphicFramePr/>
          <p:nvPr/>
        </p:nvGraphicFramePr>
        <p:xfrm>
          <a:off x="0" y="4680"/>
          <a:ext cx="7085160" cy="41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851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1" name="Group 10"/>
          <p:cNvGrpSpPr/>
          <p:nvPr/>
        </p:nvGrpSpPr>
        <p:grpSpPr>
          <a:xfrm>
            <a:off x="2666520" y="2057400"/>
            <a:ext cx="5628240" cy="1371600"/>
            <a:chOff x="2666520" y="2057400"/>
            <a:chExt cx="5628240" cy="1371600"/>
          </a:xfrm>
        </p:grpSpPr>
        <p:sp>
          <p:nvSpPr>
            <p:cNvPr id="772" name="Text Box 7"/>
            <p:cNvSpPr/>
            <p:nvPr/>
          </p:nvSpPr>
          <p:spPr>
            <a:xfrm>
              <a:off x="5638680" y="2209680"/>
              <a:ext cx="26560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Upotreba metoda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pristup članovima klase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3" name="Line 8"/>
            <p:cNvSpPr/>
            <p:nvPr/>
          </p:nvSpPr>
          <p:spPr>
            <a:xfrm flipH="1" flipV="1">
              <a:off x="2666520" y="2057400"/>
              <a:ext cx="297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4" name="Line 9"/>
            <p:cNvSpPr/>
            <p:nvPr/>
          </p:nvSpPr>
          <p:spPr>
            <a:xfrm flipH="1">
              <a:off x="5105160" y="2514600"/>
              <a:ext cx="5331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75" name="Group 11"/>
          <p:cNvGrpSpPr/>
          <p:nvPr/>
        </p:nvGrpSpPr>
        <p:grpSpPr>
          <a:xfrm>
            <a:off x="4343040" y="1066680"/>
            <a:ext cx="4495680" cy="838080"/>
            <a:chOff x="4343040" y="1066680"/>
            <a:chExt cx="4495680" cy="838080"/>
          </a:xfrm>
        </p:grpSpPr>
        <p:sp>
          <p:nvSpPr>
            <p:cNvPr id="776" name="Text Box 12"/>
            <p:cNvSpPr/>
            <p:nvPr/>
          </p:nvSpPr>
          <p:spPr>
            <a:xfrm>
              <a:off x="5926680" y="1066680"/>
              <a:ext cx="291204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oziv metoda iz nadklase, jer je redefinisan u podklasi 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H="1">
              <a:off x="4343040" y="1218960"/>
              <a:ext cx="1581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778" name="Text Box 15"/>
          <p:cNvSpPr/>
          <p:nvPr/>
        </p:nvSpPr>
        <p:spPr>
          <a:xfrm>
            <a:off x="4495680" y="3733920"/>
            <a:ext cx="2911680" cy="58068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oziv metoda iz nadklase, jer je predefinisan u podklasi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79" name="Line 16"/>
          <p:cNvSpPr/>
          <p:nvPr/>
        </p:nvSpPr>
        <p:spPr>
          <a:xfrm flipH="1" flipV="1">
            <a:off x="2437920" y="3429000"/>
            <a:ext cx="2057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7" dur="1" fill="hold"/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3B9F-8581-4438-878E-C56D704D4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Times New Roman"/>
              </a:rPr>
              <a:t>Uobičajena programerska gre</a:t>
            </a:r>
            <a:r>
              <a:rPr b="1" lang="en-US" sz="3600" spc="-1" strike="noStrike">
                <a:solidFill>
                  <a:srgbClr val="5ad9b3"/>
                </a:solidFill>
                <a:latin typeface="Times New Roman"/>
                <a:ea typeface="Times New Roman"/>
              </a:rPr>
              <a:t>š</a:t>
            </a: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Times New Roman"/>
              </a:rPr>
              <a:t>ka 9.3 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83432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ada je metod iz nadklase redefinisan u podkalsi, često verzija iz podklase poziva verziju iz nadklase da obavi dio posla. Ako zaboravite da napišete ključnu riječ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sup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imbol tačk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pred imena metoda, doći će do greške koja se zove beskonačna rekurzija. Pravilna upotreba rekurzije biće prikazana u lekciji 15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DA66-BD98-4650-9A03-BDB89211F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162560" y="1066320"/>
            <a:ext cx="1981080" cy="186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9-11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6-25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786" name="Object 6"/>
          <p:cNvGraphicFramePr/>
          <p:nvPr/>
        </p:nvGraphicFramePr>
        <p:xfrm>
          <a:off x="0" y="4680"/>
          <a:ext cx="7037280" cy="60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372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8" name="Group 19"/>
          <p:cNvGrpSpPr/>
          <p:nvPr/>
        </p:nvGrpSpPr>
        <p:grpSpPr>
          <a:xfrm>
            <a:off x="3809520" y="1143000"/>
            <a:ext cx="4800960" cy="838080"/>
            <a:chOff x="3809520" y="1143000"/>
            <a:chExt cx="4800960" cy="838080"/>
          </a:xfrm>
        </p:grpSpPr>
        <p:sp>
          <p:nvSpPr>
            <p:cNvPr id="789" name="Text Box 9"/>
            <p:cNvSpPr/>
            <p:nvPr/>
          </p:nvSpPr>
          <p:spPr>
            <a:xfrm>
              <a:off x="5499000" y="1143000"/>
              <a:ext cx="3111480" cy="5504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reiranje objekta kl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BasePlusCommissionEmployee4</a:t>
              </a:r>
              <a:endParaRPr b="0" lang="en-US" sz="14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0" name="Line 10"/>
            <p:cNvSpPr/>
            <p:nvPr/>
          </p:nvSpPr>
          <p:spPr>
            <a:xfrm flipH="1">
              <a:off x="3809520" y="1600200"/>
              <a:ext cx="1676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91" name="Group 18"/>
          <p:cNvGrpSpPr/>
          <p:nvPr/>
        </p:nvGrpSpPr>
        <p:grpSpPr>
          <a:xfrm>
            <a:off x="3276720" y="3429000"/>
            <a:ext cx="5257800" cy="1752480"/>
            <a:chOff x="3276720" y="3429000"/>
            <a:chExt cx="5257800" cy="1752480"/>
          </a:xfrm>
        </p:grpSpPr>
        <p:sp>
          <p:nvSpPr>
            <p:cNvPr id="792" name="Text Box 12"/>
            <p:cNvSpPr/>
            <p:nvPr/>
          </p:nvSpPr>
          <p:spPr>
            <a:xfrm>
              <a:off x="5867280" y="3809880"/>
              <a:ext cx="266724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orist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naslijeđene metod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pristup naslijeđenim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ovima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3" name="Line 13"/>
            <p:cNvSpPr/>
            <p:nvPr/>
          </p:nvSpPr>
          <p:spPr>
            <a:xfrm flipH="1">
              <a:off x="4266720" y="426708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4" name="Line 14"/>
            <p:cNvSpPr/>
            <p:nvPr/>
          </p:nvSpPr>
          <p:spPr>
            <a:xfrm flipH="1" flipV="1">
              <a:off x="3352320" y="3429000"/>
              <a:ext cx="2514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 flipH="1" flipV="1">
              <a:off x="3276720" y="3886200"/>
              <a:ext cx="2590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6" name="Line 16"/>
            <p:cNvSpPr/>
            <p:nvPr/>
          </p:nvSpPr>
          <p:spPr>
            <a:xfrm flipH="1">
              <a:off x="3428640" y="4267080"/>
              <a:ext cx="2438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797" name="Line 17"/>
            <p:cNvSpPr/>
            <p:nvPr/>
          </p:nvSpPr>
          <p:spPr>
            <a:xfrm flipH="1">
              <a:off x="3733920" y="4267080"/>
              <a:ext cx="2133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798" name="Group 23"/>
          <p:cNvGrpSpPr/>
          <p:nvPr/>
        </p:nvGrpSpPr>
        <p:grpSpPr>
          <a:xfrm>
            <a:off x="3352320" y="5257800"/>
            <a:ext cx="5258160" cy="824040"/>
            <a:chOff x="3352320" y="5257800"/>
            <a:chExt cx="5258160" cy="824040"/>
          </a:xfrm>
        </p:grpSpPr>
        <p:sp>
          <p:nvSpPr>
            <p:cNvPr id="799" name="Text Box 21"/>
            <p:cNvSpPr/>
            <p:nvPr/>
          </p:nvSpPr>
          <p:spPr>
            <a:xfrm>
              <a:off x="4572000" y="5257800"/>
              <a:ext cx="403848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oristi metod </a:t>
              </a:r>
              <a:r>
                <a:rPr b="0" i="1" lang="sr-Latn-CS" sz="16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iz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BasePlusCommissionEmploye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pristup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ovima kl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00" name="Line 22"/>
            <p:cNvSpPr/>
            <p:nvPr/>
          </p:nvSpPr>
          <p:spPr>
            <a:xfrm flipH="1">
              <a:off x="3352320" y="5562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6" dur="1" fill="hold"/>
                                  <p:tgtEl>
                                    <p:spTgt spid="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2174-2BE5-4C1C-ADA7-E00F1343B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Test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04" name="Object 4"/>
          <p:cNvGraphicFramePr/>
          <p:nvPr/>
        </p:nvGraphicFramePr>
        <p:xfrm>
          <a:off x="0" y="4680"/>
          <a:ext cx="7037280" cy="422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3728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6" name="Group 9"/>
          <p:cNvGrpSpPr/>
          <p:nvPr/>
        </p:nvGrpSpPr>
        <p:grpSpPr>
          <a:xfrm>
            <a:off x="2895120" y="228240"/>
            <a:ext cx="6020280" cy="1087920"/>
            <a:chOff x="2895120" y="228240"/>
            <a:chExt cx="6020280" cy="1087920"/>
          </a:xfrm>
        </p:grpSpPr>
        <p:sp>
          <p:nvSpPr>
            <p:cNvPr id="807" name="Text Box 7"/>
            <p:cNvSpPr/>
            <p:nvPr/>
          </p:nvSpPr>
          <p:spPr>
            <a:xfrm>
              <a:off x="4191120" y="492120"/>
              <a:ext cx="472428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oristi metod </a:t>
              </a:r>
              <a:r>
                <a:rPr b="0" i="1" lang="sr-Latn-C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iz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sCommissionEmploye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 izmjene</a:t>
              </a:r>
              <a:r>
                <a:rPr b="0" i="1" lang="sr-Latn-C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člana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Sal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08" name="Line 8"/>
            <p:cNvSpPr/>
            <p:nvPr/>
          </p:nvSpPr>
          <p:spPr>
            <a:xfrm flipH="1" flipV="1">
              <a:off x="2895120" y="228240"/>
              <a:ext cx="1295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5" dur="1" fill="hold"/>
                                  <p:tgtEl>
                                    <p:spTgt spid="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637-07E1-4D6D-91CC-8C5AD8378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5 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onstru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tor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i u podklasama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eiranje objekata podk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iz poziva konstruktorim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onstruktor podklase poziva konstruktora nadkl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o i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icit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Osnova hijerahije nasljeđivanj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sljednji konstruktor u lancu poziva je onaj iz klas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Tijelo konstruktora originalne podklase izvršava se posljednj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hijerarhija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3-BasePlusCommissionEmployee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Lucida Conso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stru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r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je pozvan pretposljednj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sljednji je konstruktor klas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Font typeface="Lucida Conso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missionEmployee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tijelo konstruktota završava izvršavanje kao drug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vo je tijelo konstrukora kl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A5BE-B253-47E4-8063-F7E35D88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Times New Roman"/>
              </a:rPr>
              <a:t>Projektovanje softvera 9.8 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834320" cy="32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ada program kreira objekat podklase, konstruktor podklase automataki poziva konstruktor nadklase (eksplicitno pomoću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sup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Lucida Console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plicit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jelo konstruktora nadklase incijalizuje članove koji si dijelovi objekta podklase. Zatim tijelo konstruktora podklase inicijalizuje samo svoje članove. (nastavak na sljedećem slajd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88FE-5E45-4E3E-AC46-6A1DB4C3D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Times New Roman"/>
              </a:rPr>
              <a:t>Projektovanje softvera 9.8 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41560" y="1828440"/>
            <a:ext cx="78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gurava da čak i kada konstruktor ne dodijeli vrijednost članu klase, on se inicijalizuje na podrazumijevanu vrijedn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LucidaSansTypewriter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0EB0-E6B8-4267-8C5A-DA53AB513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23-24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21" name="Object 6"/>
          <p:cNvGraphicFramePr/>
          <p:nvPr/>
        </p:nvGraphicFramePr>
        <p:xfrm>
          <a:off x="0" y="11160"/>
          <a:ext cx="705636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60"/>
                    <a:ext cx="705636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3" name="Group 8"/>
          <p:cNvGrpSpPr/>
          <p:nvPr/>
        </p:nvGrpSpPr>
        <p:grpSpPr>
          <a:xfrm>
            <a:off x="2437920" y="3886200"/>
            <a:ext cx="4648320" cy="838080"/>
            <a:chOff x="2437920" y="3886200"/>
            <a:chExt cx="4648320" cy="838080"/>
          </a:xfrm>
        </p:grpSpPr>
        <p:sp>
          <p:nvSpPr>
            <p:cNvPr id="824" name="Text Box 9"/>
            <p:cNvSpPr/>
            <p:nvPr/>
          </p:nvSpPr>
          <p:spPr>
            <a:xfrm>
              <a:off x="4073760" y="3886200"/>
              <a:ext cx="301248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stru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prikazuje poruku da bi demonstrirao redosljed poziv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25" name="Line 10"/>
            <p:cNvSpPr/>
            <p:nvPr/>
          </p:nvSpPr>
          <p:spPr>
            <a:xfrm flipH="1">
              <a:off x="2437920" y="4343400"/>
              <a:ext cx="1623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4" dur="1" fill="hold"/>
                                  <p:tgtEl>
                                    <p:spTgt spid="8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D0CB-3DFF-49DA-85F5-531C4857E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29" name="Object 4"/>
          <p:cNvGraphicFramePr/>
          <p:nvPr/>
        </p:nvGraphicFramePr>
        <p:xfrm>
          <a:off x="0" y="0"/>
          <a:ext cx="702936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2936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3EF5-12C4-42BB-925B-542E2FB30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34" name="Object 4"/>
          <p:cNvGraphicFramePr/>
          <p:nvPr/>
        </p:nvGraphicFramePr>
        <p:xfrm>
          <a:off x="0" y="0"/>
          <a:ext cx="7039080" cy="52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3908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7A44-6521-4FA1-B5A5-F2977ACBD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1 Uvod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(nastavak)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ijerahija klasa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 hierarch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ire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a nadklas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sljeđivanje je eksplicitn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jedan nivo iznad u hijerahij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dire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a nadklas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upercla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va ili više nivoa u hijerahij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Jednostruko nasljeđivanje (engl. 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gle inheritance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sljeđuje se direktno od samo jedne na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Višestruko nasljeđivanje (engl. 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ltiple inheritance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sljeđuje se direktno od više nad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e podržava višestruko nasljeđivanj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87D2-B28A-40B3-B09C-A92A0B89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missionEmployee4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39" name="Object 4"/>
          <p:cNvGraphicFramePr/>
          <p:nvPr/>
        </p:nvGraphicFramePr>
        <p:xfrm>
          <a:off x="0" y="0"/>
          <a:ext cx="7085160" cy="48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8516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7498-CA7E-4DA9-801E-C52CBE2D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165800" y="1068480"/>
            <a:ext cx="198144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5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5-16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44" name="Object 6"/>
          <p:cNvGraphicFramePr/>
          <p:nvPr/>
        </p:nvGraphicFramePr>
        <p:xfrm>
          <a:off x="0" y="4680"/>
          <a:ext cx="7085160" cy="52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70851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6" name="Group 8"/>
          <p:cNvGrpSpPr/>
          <p:nvPr/>
        </p:nvGrpSpPr>
        <p:grpSpPr>
          <a:xfrm>
            <a:off x="2514240" y="2209680"/>
            <a:ext cx="4572000" cy="838080"/>
            <a:chOff x="2514240" y="2209680"/>
            <a:chExt cx="4572000" cy="838080"/>
          </a:xfrm>
        </p:grpSpPr>
        <p:sp>
          <p:nvSpPr>
            <p:cNvPr id="847" name="Text Box 9"/>
            <p:cNvSpPr/>
            <p:nvPr/>
          </p:nvSpPr>
          <p:spPr>
            <a:xfrm>
              <a:off x="4123080" y="2209680"/>
              <a:ext cx="296316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stru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prikazuje poruku da bi demonstrirao redosljed poziv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48" name="Line 10"/>
            <p:cNvSpPr/>
            <p:nvPr/>
          </p:nvSpPr>
          <p:spPr>
            <a:xfrm flipH="1">
              <a:off x="2514240" y="2666880"/>
              <a:ext cx="1596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3" dur="1" fill="hold"/>
                                  <p:tgtEl>
                                    <p:spTgt spid="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A3C7-1E8F-432A-8A5A-6BE597B40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165800" y="1068120"/>
            <a:ext cx="19814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ePlusCommissionEmployee5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52" name="Object 4"/>
          <p:cNvGraphicFramePr/>
          <p:nvPr/>
        </p:nvGraphicFramePr>
        <p:xfrm>
          <a:off x="0" y="0"/>
          <a:ext cx="7075440" cy="41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7544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4009-7AB4-4D16-82A2-24A4AA46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7165440" y="1068480"/>
            <a:ext cx="1978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structorTes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8-9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12-19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57" name="Object 6"/>
          <p:cNvGraphicFramePr/>
          <p:nvPr/>
        </p:nvGraphicFramePr>
        <p:xfrm>
          <a:off x="0" y="1440"/>
          <a:ext cx="7093080" cy="46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709308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9" name="Group 15"/>
          <p:cNvGrpSpPr/>
          <p:nvPr/>
        </p:nvGrpSpPr>
        <p:grpSpPr>
          <a:xfrm>
            <a:off x="4267080" y="2362320"/>
            <a:ext cx="4577040" cy="1067400"/>
            <a:chOff x="4267080" y="2362320"/>
            <a:chExt cx="4577040" cy="1067400"/>
          </a:xfrm>
        </p:grpSpPr>
        <p:sp>
          <p:nvSpPr>
            <p:cNvPr id="860" name="Text Box 9"/>
            <p:cNvSpPr/>
            <p:nvPr/>
          </p:nvSpPr>
          <p:spPr>
            <a:xfrm>
              <a:off x="5334120" y="2362320"/>
              <a:ext cx="3510000" cy="106740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va objekta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sCommissionEmploye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da bi pokazali redosljed poziva konstruktora podklase i nadkl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1" name="Line 10"/>
            <p:cNvSpPr/>
            <p:nvPr/>
          </p:nvSpPr>
          <p:spPr>
            <a:xfrm flipH="1" flipV="1">
              <a:off x="4267080" y="2438280"/>
              <a:ext cx="106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2" name="Line 11"/>
            <p:cNvSpPr/>
            <p:nvPr/>
          </p:nvSpPr>
          <p:spPr>
            <a:xfrm flipH="1">
              <a:off x="4267080" y="28954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863" name="Group 12"/>
          <p:cNvGrpSpPr/>
          <p:nvPr/>
        </p:nvGrpSpPr>
        <p:grpSpPr>
          <a:xfrm>
            <a:off x="3200400" y="685800"/>
            <a:ext cx="4800240" cy="838080"/>
            <a:chOff x="3200400" y="685800"/>
            <a:chExt cx="4800240" cy="838080"/>
          </a:xfrm>
        </p:grpSpPr>
        <p:sp>
          <p:nvSpPr>
            <p:cNvPr id="864" name="Text Box 13"/>
            <p:cNvSpPr/>
            <p:nvPr/>
          </p:nvSpPr>
          <p:spPr>
            <a:xfrm>
              <a:off x="4889520" y="685800"/>
              <a:ext cx="31111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bjekta 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4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65" name="Line 14"/>
            <p:cNvSpPr/>
            <p:nvPr/>
          </p:nvSpPr>
          <p:spPr>
            <a:xfrm flipH="1">
              <a:off x="3200400" y="838080"/>
              <a:ext cx="1689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7F29-A065-446C-81FC-6E1FC6FE6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7165440" y="1068120"/>
            <a:ext cx="1978200" cy="158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structorTes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869" name="Object 4"/>
          <p:cNvGraphicFramePr/>
          <p:nvPr/>
        </p:nvGraphicFramePr>
        <p:xfrm>
          <a:off x="0" y="0"/>
          <a:ext cx="7039080" cy="52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3908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1" name="Group 10"/>
          <p:cNvGrpSpPr/>
          <p:nvPr/>
        </p:nvGrpSpPr>
        <p:grpSpPr>
          <a:xfrm>
            <a:off x="3504960" y="2057040"/>
            <a:ext cx="4800960" cy="2057760"/>
            <a:chOff x="3504960" y="2057040"/>
            <a:chExt cx="4800960" cy="2057760"/>
          </a:xfrm>
        </p:grpSpPr>
        <p:sp>
          <p:nvSpPr>
            <p:cNvPr id="872" name="Text Box 7"/>
            <p:cNvSpPr/>
            <p:nvPr/>
          </p:nvSpPr>
          <p:spPr>
            <a:xfrm>
              <a:off x="4648320" y="2514600"/>
              <a:ext cx="3657600" cy="106740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onstruktor pod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BasePlusCommissionEmploye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zvršava se poslije konstruktora nadkl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CommissionEmploye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73" name="Line 8"/>
            <p:cNvSpPr/>
            <p:nvPr/>
          </p:nvSpPr>
          <p:spPr>
            <a:xfrm flipH="1" flipV="1">
              <a:off x="3581280" y="2057040"/>
              <a:ext cx="10670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874" name="Line 9"/>
            <p:cNvSpPr/>
            <p:nvPr/>
          </p:nvSpPr>
          <p:spPr>
            <a:xfrm flipH="1">
              <a:off x="3504960" y="312408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6" dur="1" fill="hold"/>
                                  <p:tgtEl>
                                    <p:spTgt spid="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A545-37AF-4B9F-8F6C-8FC1883E2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75e"/>
                </a:solidFill>
                <a:latin typeface="Arial"/>
              </a:rPr>
              <a:t>9.6 </a:t>
            </a:r>
            <a:r>
              <a:rPr b="1" lang="sr-Latn-CS" sz="3200" spc="-1" strike="noStrike">
                <a:solidFill>
                  <a:srgbClr val="f9a75e"/>
                </a:solidFill>
                <a:latin typeface="Arial"/>
              </a:rPr>
              <a:t>Projektovanje softvera i nasljeđivanje</a:t>
            </a:r>
            <a:endParaRPr b="1" lang="en-US" sz="32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lagođavanje postojećeg softver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asljeđivanje iz postojećih klas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Uključivanje dodatnih članov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efi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sanje članova iz na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ma direktnog pristupa izvornom kodu nad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Veza sa objektnim kod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ezavisni proizvođači softver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azvijaju kod za prodaju ili licenc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ostupan je format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bjektanog kod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orisni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zvodie nove 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Bez pristupa izvornom kodu proizvođač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8E21-8981-4F11-8226-81DD9AC27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9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141560" y="1828440"/>
            <a:ext cx="78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kos činjenici da nasljeđivanje klase ne zahtijeva i pristup izvornom kodu klase, programeri često insistiraju da vide i izvorni kod klase, da bi razumjeli kako je implementirana. Na taj se način osiguravaju da nasljeđuju iz klase koja je dobra – npr. da je implementirana sigurno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A9C0-7206-49F5-AED2-FA918ABCC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10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141200" y="1828800"/>
            <a:ext cx="754524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 fazi dizajna objektno-orijentisanog sistema, često se vidi da su određene klase tijesno povezane (veoma slične). Tada se može uraditi faktorisanje  (engl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factor out”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tj. izvlačenje zajedničkih članova i metoda tih klasa u zajedničku nadklasu. Kada se to uradi, koristimo nasljeđivanje da razvijemo podklase koje se specijalizuju za neka nova svojstva osim onih koja su naslijedila od nadklas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CF81-E43F-484B-9CEE-BFA4674D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11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34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je podklase ne utiče na izvorni kod nadkl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ljeđivanje čuva integritet nadkals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8465-5B0B-4A33-A198-2DDAD25B2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d9b3"/>
                </a:solidFill>
                <a:latin typeface="Arial"/>
                <a:ea typeface="Arial"/>
              </a:rPr>
              <a:t>Projektovanje softvera 9.12</a:t>
            </a:r>
            <a:endParaRPr b="1" lang="en-US" sz="32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141560" y="1802880"/>
            <a:ext cx="783432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ao što dizajner neobjektnih sistema treba da izbjegavaju prekomjerni rast broja modula, i OO dizajneri treba da izbjegavaju prekomjerni rast broja klasa. Veliki broj klasa može stvoriti probleme u upravljanju i nanose štetu ponovnoj upotrebi softvera. U velikim bibliotekama korisniku je teško pronaći željenu klasu. Alternativa je da kreirate manje klasa koje imaju više funkcionalnosti, ali takve klase mogu biti zamorn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D23E-2FB8-4501-8CE6-D6970BCB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2 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Nadklase i podklase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dklase i podk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bj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ekat jedne klase “je” (“is a”) i objekat druge kl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avougaonik (rectangle) j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četvorougao (quadrilateral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las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ctang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asljeđuje klasu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Quadrilater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Quadrilater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adklas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ctang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dklas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8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adklasa tipično predstavlja veći skup objekata nego što ga predstavlja podklas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nadklas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Automobili (cars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kamioni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uck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brodovi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at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bicikl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cycle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2120" indent="-29052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dklas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ar</a:t>
            </a:r>
            <a:r>
              <a:rPr b="1" lang="sr-Latn-CS" sz="1800" spc="-1" strike="noStrike">
                <a:solidFill>
                  <a:srgbClr val="000000"/>
                </a:solidFill>
                <a:latin typeface="Lucida Console"/>
              </a:rPr>
              <a:t> - automobil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Manji i specifičniji skup vozi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869C-8A5D-4267-95EB-A96E12FB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296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d9b3"/>
                </a:solidFill>
                <a:latin typeface="Arial"/>
                <a:ea typeface="Arial"/>
              </a:rPr>
              <a:t>Performance Tip 9.1</a:t>
            </a:r>
            <a:endParaRPr b="1" lang="en-US" sz="3600" spc="-1" strike="noStrike">
              <a:solidFill>
                <a:srgbClr val="5ad9b3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8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ko je podklasa veća nego što bi trebala da bude (tj. ima previše fukcionalnosti), može doći do utroška memorije i procesorskog vremena. Kada izvodite klasu napravite ja tako da ima tačno onoliko funkcionalnosti koliko vam treba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5B00-CAE1-4D29-BE47-4D735E65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9.7 </a:t>
            </a:r>
            <a:r>
              <a:rPr b="1" lang="sr-Latn-CS" sz="3600" spc="-1" strike="noStrike">
                <a:solidFill>
                  <a:srgbClr val="f9a75e"/>
                </a:solidFill>
                <a:latin typeface="Arial"/>
              </a:rPr>
              <a:t>Klasa</a:t>
            </a:r>
            <a:r>
              <a:rPr b="1" lang="en-US" sz="3600" spc="-1" strike="noStrike">
                <a:solidFill>
                  <a:srgbClr val="f9a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9a75e"/>
                </a:solidFill>
                <a:latin typeface="Lucida Console"/>
              </a:rPr>
              <a:t>Object</a:t>
            </a:r>
            <a:endParaRPr b="1" lang="en-US" sz="36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etodi kl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clon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equal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finaliz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getCla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hashCod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notif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notifyA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wa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toStrin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FB5B-1C23-4659-A239-B624F0537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18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ji se nasljeđuju u svim klasama (dio 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Object 5"/>
          <p:cNvGraphicFramePr/>
          <p:nvPr/>
        </p:nvGraphicFramePr>
        <p:xfrm>
          <a:off x="463680" y="1521000"/>
          <a:ext cx="8029440" cy="361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521000"/>
                    <a:ext cx="802944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001-70D2-4C76-9EFB-659485374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18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ji se nasljeđuju u svim klasama (dio 2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Object 10"/>
          <p:cNvGraphicFramePr/>
          <p:nvPr/>
        </p:nvGraphicFramePr>
        <p:xfrm>
          <a:off x="1550880" y="241200"/>
          <a:ext cx="5040360" cy="52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241200"/>
                    <a:ext cx="504036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BEA5-2F03-4B42-81A3-F5FCA8025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18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ji se nasljeđuju u svim klasama (dio 3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Object 4"/>
          <p:cNvGraphicFramePr/>
          <p:nvPr/>
        </p:nvGraphicFramePr>
        <p:xfrm>
          <a:off x="1074600" y="536400"/>
          <a:ext cx="6651720" cy="47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536400"/>
                    <a:ext cx="66517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4327-AC1A-436E-ACFF-C8D17D6C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18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todi klase </a:t>
            </a:r>
            <a:r>
              <a:rPr b="1" lang="en-US" sz="1600" spc="-1" strike="noStrike">
                <a:solidFill>
                  <a:srgbClr val="000000"/>
                </a:solidFill>
                <a:latin typeface="LucidaSansTypewriter"/>
                <a:ea typeface="LucidaSansTypewriter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ji se nasljeđuju u svim klasama (dio 4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Object 4"/>
          <p:cNvGraphicFramePr/>
          <p:nvPr/>
        </p:nvGraphicFramePr>
        <p:xfrm>
          <a:off x="1073160" y="457200"/>
          <a:ext cx="6300720" cy="48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457200"/>
                    <a:ext cx="630072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0E9C-CA49-4782-83DF-0138533E5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a75e"/>
                </a:solidFill>
                <a:latin typeface="Arial"/>
              </a:rPr>
              <a:t>9.8 (Opcionalno) GUI: </a:t>
            </a:r>
            <a:r>
              <a:rPr b="1" lang="sr-Latn-CS" sz="2800" spc="-1" strike="noStrike">
                <a:solidFill>
                  <a:srgbClr val="f9a75e"/>
                </a:solidFill>
                <a:latin typeface="Arial"/>
              </a:rPr>
              <a:t>prikaz teksta i slika primjenom labela</a:t>
            </a:r>
            <a:endParaRPr b="1" lang="en-US" sz="2800" spc="-1" strike="noStrike">
              <a:solidFill>
                <a:srgbClr val="f9a75e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rikazuj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informa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cije i instrukcij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7720" indent="-290520">
              <a:lnSpc>
                <a:spcPct val="100000"/>
              </a:lnSpc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JLab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kaz jedne linije teks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kaz slik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kaz slike i teks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0CE6-81A2-46F2-9400-AD293221B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165800" y="1066320"/>
            <a:ext cx="1673280" cy="25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abelDemo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3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6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19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25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0" y="0"/>
          <a:ext cx="710244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10244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0" name="Group 11"/>
          <p:cNvGrpSpPr/>
          <p:nvPr/>
        </p:nvGrpSpPr>
        <p:grpSpPr>
          <a:xfrm>
            <a:off x="3428640" y="4343400"/>
            <a:ext cx="3048120" cy="762120"/>
            <a:chOff x="3428640" y="4343400"/>
            <a:chExt cx="3048120" cy="762120"/>
          </a:xfrm>
        </p:grpSpPr>
        <p:sp>
          <p:nvSpPr>
            <p:cNvPr id="921" name="Text Box 9"/>
            <p:cNvSpPr/>
            <p:nvPr/>
          </p:nvSpPr>
          <p:spPr>
            <a:xfrm>
              <a:off x="4241520" y="4343400"/>
              <a:ext cx="223524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Promjena teksta 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outhLabel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22" name="Line 10"/>
            <p:cNvSpPr/>
            <p:nvPr/>
          </p:nvSpPr>
          <p:spPr>
            <a:xfrm flipH="1">
              <a:off x="3428640" y="4648320"/>
              <a:ext cx="812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grpSp>
        <p:nvGrpSpPr>
          <p:cNvPr id="923" name="Group 16"/>
          <p:cNvGrpSpPr/>
          <p:nvPr/>
        </p:nvGrpSpPr>
        <p:grpSpPr>
          <a:xfrm>
            <a:off x="5181480" y="2514600"/>
            <a:ext cx="3429000" cy="824040"/>
            <a:chOff x="5181480" y="2514600"/>
            <a:chExt cx="3429000" cy="824040"/>
          </a:xfrm>
        </p:grpSpPr>
        <p:sp>
          <p:nvSpPr>
            <p:cNvPr id="924" name="Text Box 14"/>
            <p:cNvSpPr/>
            <p:nvPr/>
          </p:nvSpPr>
          <p:spPr>
            <a:xfrm>
              <a:off x="6095880" y="2514600"/>
              <a:ext cx="2514600" cy="82404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Argumenti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mageIc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stru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r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a daju putanju do slike.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25" name="Line 15"/>
            <p:cNvSpPr/>
            <p:nvPr/>
          </p:nvSpPr>
          <p:spPr>
            <a:xfrm flipH="1">
              <a:off x="5181480" y="297180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  <p:sp>
        <p:nvSpPr>
          <p:cNvPr id="926" name="Text Box 18"/>
          <p:cNvSpPr/>
          <p:nvPr/>
        </p:nvSpPr>
        <p:spPr>
          <a:xfrm>
            <a:off x="5867280" y="3429000"/>
            <a:ext cx="3276720" cy="824040"/>
          </a:xfrm>
          <a:prstGeom prst="rect">
            <a:avLst/>
          </a:prstGeom>
          <a:solidFill>
            <a:srgbClr val="f0f5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ja i inicijalizacij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enter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tom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prikazuje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labelIcon</a:t>
            </a:r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27" name="Line 19"/>
          <p:cNvSpPr/>
          <p:nvPr/>
        </p:nvSpPr>
        <p:spPr>
          <a:xfrm flipH="1">
            <a:off x="4647960" y="37339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275aff"/>
              </a:solidFill>
              <a:latin typeface="Arial"/>
            </a:endParaRPr>
          </a:p>
        </p:txBody>
      </p:sp>
      <p:grpSp>
        <p:nvGrpSpPr>
          <p:cNvPr id="928" name="Group 20"/>
          <p:cNvGrpSpPr/>
          <p:nvPr/>
        </p:nvGrpSpPr>
        <p:grpSpPr>
          <a:xfrm>
            <a:off x="4419720" y="1828800"/>
            <a:ext cx="3429000" cy="762120"/>
            <a:chOff x="4419720" y="1828800"/>
            <a:chExt cx="3429000" cy="762120"/>
          </a:xfrm>
        </p:grpSpPr>
        <p:sp>
          <p:nvSpPr>
            <p:cNvPr id="929" name="Text Box 21"/>
            <p:cNvSpPr/>
            <p:nvPr/>
          </p:nvSpPr>
          <p:spPr>
            <a:xfrm>
              <a:off x="5334120" y="1828800"/>
              <a:ext cx="251460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reiranj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abe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bjekta za prikaz stringa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“North”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30" name="Line 22"/>
            <p:cNvSpPr/>
            <p:nvPr/>
          </p:nvSpPr>
          <p:spPr>
            <a:xfrm flipH="1">
              <a:off x="4419720" y="21337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5" dur="1" fill="hold"/>
                                  <p:tgtEl>
                                    <p:spTgt spid="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51FC-A5B4-4275-851F-D66250671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086240" y="151920"/>
            <a:ext cx="20574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egled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165800" y="1066680"/>
            <a:ext cx="167328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abelDemo.java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  <a:p>
            <a:pPr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s 34-36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934" name="Object 7"/>
          <p:cNvGraphicFramePr/>
          <p:nvPr/>
        </p:nvGraphicFramePr>
        <p:xfrm>
          <a:off x="0" y="0"/>
          <a:ext cx="7048440" cy="66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4844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6" name="Picture 10" descr="ch09_LabelDemo"/>
          <p:cNvPicPr/>
          <p:nvPr/>
        </p:nvPicPr>
        <p:blipFill>
          <a:blip r:embed="rId3"/>
          <a:stretch/>
        </p:blipFill>
        <p:spPr>
          <a:xfrm>
            <a:off x="2133720" y="3657600"/>
            <a:ext cx="2562120" cy="256212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11"/>
          <p:cNvGrpSpPr/>
          <p:nvPr/>
        </p:nvGrpSpPr>
        <p:grpSpPr>
          <a:xfrm>
            <a:off x="4952520" y="914400"/>
            <a:ext cx="4038840" cy="762120"/>
            <a:chOff x="4952520" y="914400"/>
            <a:chExt cx="4038840" cy="762120"/>
          </a:xfrm>
        </p:grpSpPr>
        <p:sp>
          <p:nvSpPr>
            <p:cNvPr id="938" name="Text Box 12"/>
            <p:cNvSpPr/>
            <p:nvPr/>
          </p:nvSpPr>
          <p:spPr>
            <a:xfrm>
              <a:off x="6029640" y="914400"/>
              <a:ext cx="2961720" cy="580680"/>
            </a:xfrm>
            <a:prstGeom prst="rect">
              <a:avLst/>
            </a:prstGeom>
            <a:solidFill>
              <a:srgbClr val="f0f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Zakačimo” labele z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na sjeveru, centru i jugu</a:t>
              </a:r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  <p:sp>
          <p:nvSpPr>
            <p:cNvPr id="939" name="Line 13"/>
            <p:cNvSpPr/>
            <p:nvPr/>
          </p:nvSpPr>
          <p:spPr>
            <a:xfrm flipH="1">
              <a:off x="4952520" y="1219320"/>
              <a:ext cx="1076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75a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4" dur="1" fill="hold"/>
                                  <p:tgtEl>
                                    <p:spTgt spid="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4914-1C22-4838-9FAA-FF56C0B4B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28240" y="5483160"/>
            <a:ext cx="8001000" cy="68904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JLab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ji prikazuje statistiku o figura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LucidaSansTypewrite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4" descr="ch09_DrawPanel"/>
          <p:cNvPicPr/>
          <p:nvPr/>
        </p:nvPicPr>
        <p:blipFill>
          <a:blip r:embed="rId1"/>
          <a:stretch/>
        </p:blipFill>
        <p:spPr>
          <a:xfrm>
            <a:off x="1981080" y="6858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6703-19BA-4273-BCC1-5370BC760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5a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99ff"/>
                </a:solidFill>
                <a:latin typeface="Arial"/>
              </a:rPr>
              <a:t>Slika  9.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i nasljeđivanj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7"/>
          <p:cNvGraphicFramePr/>
          <p:nvPr/>
        </p:nvGraphicFramePr>
        <p:xfrm>
          <a:off x="1068480" y="2365200"/>
          <a:ext cx="6629400" cy="24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2365200"/>
                    <a:ext cx="6629400" cy="24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8:26:58Z</dcterms:created>
  <dc:creator>PT</dc:creator>
  <dc:description/>
  <dc:language>en-US</dc:language>
  <cp:lastModifiedBy>Goran Sukovic</cp:lastModifiedBy>
  <dcterms:modified xsi:type="dcterms:W3CDTF">2018-12-25T12:31:02Z</dcterms:modified>
  <cp:revision>1027</cp:revision>
  <dc:subject/>
  <dc:title>1</dc:title>
</cp:coreProperties>
</file>