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8.wmf" ContentType="image/x-wmf"/>
  <Override PartName="/ppt/media/image40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6.png" ContentType="image/png"/>
  <Override PartName="/ppt/media/image48.png" ContentType="image/png"/>
  <Override PartName="/ppt/media/image51.wmf" ContentType="image/x-wmf"/>
  <Override PartName="/ppt/media/image50.wmf" ContentType="image/x-wmf"/>
  <Override PartName="/ppt/media/image30.png" ContentType="image/png"/>
  <Override PartName="/ppt/media/image13.wmf" ContentType="image/x-wmf"/>
  <Override PartName="/ppt/media/image52.wmf" ContentType="image/x-wmf"/>
  <Override PartName="/ppt/media/image53.png" ContentType="image/png"/>
  <Override PartName="/ppt/media/image28.png" ContentType="image/png"/>
  <Override PartName="/ppt/media/image31.wmf" ContentType="image/x-wmf"/>
  <Override PartName="/ppt/media/image39.wmf" ContentType="image/x-wmf"/>
  <Override PartName="/ppt/media/image9.wmf" ContentType="image/x-wmf"/>
  <Override PartName="/ppt/media/image14.png" ContentType="image/png"/>
  <Override PartName="/ppt/media/image49.wmf" ContentType="image/x-wmf"/>
  <Override PartName="/ppt/media/image12.wmf" ContentType="image/x-wmf"/>
  <Override PartName="/ppt/media/image27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1E46C6-2B5F-421D-8179-233880DB0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622EA1-96FB-4A2B-9109-E490A18D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C63CA8-4FA2-45E3-8269-0DA850347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B73FD6-B4FD-4B55-9D2B-8F9DD2770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D24235-1BF9-480D-B4BD-EB1F9C73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B861D0-34E6-4348-9896-6866DAE0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8A4403-BFE3-4D00-9237-43486A3A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1FBD55-D8CE-41F8-8B1B-2746300B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4B9BCC-DCA8-4B4A-B892-75049F2A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113A15-8034-4D3A-A345-EAE9119A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433FCE-6729-4219-8610-D9EEA57D0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A18B89-3335-4FB9-A2CB-F8D2818B5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81E9A4-D82A-4077-A4C1-5E3312BE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AF22ED-CBCC-488D-A0BE-8F39CAA5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0AA615-B9A0-4D62-8752-552C1054F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E88589-623D-48F6-B8D3-BE1A6D162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AD0088-769F-4D05-A7B2-6295E9C5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36FC0C-8F76-4B73-9A33-81CE8F4F0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A5ED29-CE98-4A24-8300-6DFAC75A2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CFEEDF-07E6-45E8-96CA-EA630AF63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56AEF4-6E9A-40C5-9154-A2469426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C5DBA7-C5C0-4B4A-8585-B7DC8B5C7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0E8F92-0174-44A7-9355-7D666365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B66AA1-044D-47A2-BF9D-CA03CA73A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73AA0F-16FB-4158-A0B1-156B8F097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6533BE-20B0-4CAF-940F-C6B23B85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FCDFA1-BE98-4391-A0E0-7F0E16B5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C657CA-BBDD-4D60-9886-880ADA44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923F89-68E3-4C4E-8D14-BCD24D3E9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D187D2-71F0-479B-93F4-D510E2CB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785A2D-2E52-434E-9E0D-9BF677BD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695F6C-D300-4E62-84B5-029F55944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8B0562-741A-49C5-B70C-B6619F0A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EB13F1-BEF0-4D5C-9A94-9024C918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D9F59F-ABE3-4589-A71C-AED2FD13C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C3C3D0-073D-44F9-A144-67E4A01B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1FF900-00B5-46C3-BCEF-7E422DC30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90A21E-538D-4A16-BD19-9919EE82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D13972-F5EA-4762-BF04-41B3DB18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41F93B-6714-4AA7-9EB5-A79519E0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182071-FD11-458A-B13D-97355E2D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C2FA55-74BA-4CE6-82CD-D481777E9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E85B95-82FA-4745-842E-F842548A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1C67C8-3783-446C-A622-80D53CBA1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0854F9-D4B4-4883-8999-A548C82F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B3ABCC-627D-4463-A17A-E68F4C51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CF0675-F271-4665-84E4-C622FBAF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DFB0C0-2A70-485C-851E-A69CCC1E9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DFD337-74B9-44EC-B9B3-D124EC550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10A80B-4567-497B-8C3C-D2C0817D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8E2B11-E599-4282-B30D-4C93735E6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44BD06-2A68-45D0-80B4-CEBF9924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084F75-C9F2-4B49-BC5B-DCD65834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7A487C-2932-4FB0-9C51-DA4F55ED3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5827F6-CEE0-468A-9A35-0441EFA8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9EB3AB-69E6-4C43-93E8-867949E1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3A727F-92CC-4AF8-B84A-F64954A0F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62EE79-13E3-4F8C-A277-E23274ADF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48BAF4-47D4-4212-9143-4CE912AF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9A1307-0114-4022-98A1-2CEC2D0CD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D63B25-FAB7-4BC7-93E0-40899C2B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89D28C-0D7A-4684-99C9-25AD62C4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9F37D0-E1E1-4C4E-864D-0D57312C4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DEAA78-EADB-4485-B603-B413305F4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DF3905-0000-4EF0-B03F-5C9B8C1A4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682F38-00C0-439C-8BC4-368BAFABB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714C5F-AD75-4138-A9C3-3987AE0F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955190-5143-4529-B6C0-0811A4F96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7E72B7-8B91-4F26-9210-F1A4926F2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C27FE-1260-4296-8720-BEA4B8FDA8C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04DBD-BF30-450D-8329-FC9E11111D7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DFCCB-A907-44B7-BEF7-CFA88A3DA4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72E5F-4FA2-4DE0-8201-2688536F548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9A761-172C-459B-8264-3A03AD6319A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E2454-90DB-44C8-8B96-39FDC331DF0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801A9-F67A-4FC6-BFAA-18DB9C414C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60188-E049-4FFE-87DB-561217DF426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41E60-E340-4EF7-B810-D0E53811069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838B-FDCE-44E8-AC18-4DB417086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8E49-4BA9-42D3-A857-B2618FC62C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8AB0-7ECF-42E2-B9C5-F097416860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1760-7A56-46A5-A4D5-00587213D2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491F-461D-43F9-B547-50DB9B8BFD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A58C-261F-40AF-BDD3-560EF218E8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69AA-6513-4F67-A83C-DB42D96249C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CA49-7AC4-4DE6-88A7-2E179C81F9B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58DA-92AA-47E8-9196-98B7233A3B0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B2E0-285E-4FF7-ACC3-B5A88E24CEB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C9949-360A-4790-BC34-F90059036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F9D5-69B0-4349-9151-6880769D82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5DFF8-EEDE-4120-8052-26B2B86B571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E0DF7-65CE-476F-B066-7DF1CAF23A9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BADE1-4563-4917-BCA9-9CD8708E213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26BD5-A188-45D1-9F4E-9712118FB1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4066B-2E87-4ED5-AEDE-F05AD3DF6A6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38088-7494-4BFB-8743-929F8042A00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17BDC-8ABB-4EF0-B111-F16142CEE0D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C1047-F366-474F-82FD-255341DB5DA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26149-6C5B-42E4-B20A-E36E150D4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0BB3-BAB5-4383-A636-647030A946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3C3EA-1CFF-473F-8E02-974571C69E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9CF25-51B5-4AC2-9685-0A46C245918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ACEB2-30BA-4425-A06C-6D25D96708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FEC4-11EE-4711-8D89-E8BE6BA921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93F0-148C-4519-BF17-925DFC0677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0824-D5C8-4B3C-B19E-0495716ABF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BA24-0480-4B4F-B56A-FE0B742114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FB67-3520-4E42-AD0A-2958D513DE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34D3-F31A-42B4-9D54-B42673CD99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F827-AD90-4130-9CA7-A96AEB2E3C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83A8-316C-41EC-BDEB-916A308214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16FF-93F8-4899-BAB2-B9F79903CB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C465-39D6-4822-9195-460D3B88CA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C2B6-3D53-46DC-B293-656A499129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6998-2813-4C36-A90F-68E8C522B1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3275-68C0-4446-AF47-A82D3C1C60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5FDD-B78F-487D-8326-4A0CBE58E1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9CC4-071E-4EC4-9678-45BB5BE9C4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CE7D-C260-4559-811A-69766F8151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F38E-45F8-4F76-A221-13E804B8AE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C2ECB-DE43-4A32-A67D-4015329C0C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FFAC1-DE18-47BE-82D9-0EB7F307B9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345B-5D6F-4328-86C6-A329FE80C8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8F59-273D-426B-B42F-B23F29E018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390E-E68D-4E0E-A88F-AAC9B0BF40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EAA4-CC85-4C12-9DD2-0E7BD7AE8A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114-7ACF-4271-99DC-D84E8E91D6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E36-CD85-49D4-AAB9-1CD890413E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40D-CBB4-46BE-B7E9-E7C0E1590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097-81D7-45DF-88E7-4689E96FCD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210-659D-4202-B2F2-07ABA24466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090-BD23-429D-A3E7-15AC3A399A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842-5112-4C8C-84E1-4AF9CAE935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DA0-E157-4C01-9D83-4E2117FA53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BC7-B117-426F-B78A-29EFCCE8AB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7B9-1E0C-4C66-B991-A858E0798A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F4D-354B-4811-93FA-E1126C5D28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C92-BE15-4D90-83C4-4E152D0B3A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7E2FB-A29D-4480-BFD6-6246EF910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D5A2C-5A23-430F-92E4-FBB9C90AFA4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0ADF7-1DCF-4A49-BCDC-E53503B1A93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0FF1C-48A0-480B-BD11-CB5BE24122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2C7FD-9EB7-432A-A299-2FDD29AACD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B355D-E1E0-4F43-B9DB-49A356C564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1913C-705D-47F0-9FD9-D3A0514CEAF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37FAE-E77B-4DCE-9F51-3ADFBA689C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C5267-E347-4E86-AD07-5D70381218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A80F0-E5B0-4D29-AE6A-D87A4059B1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9707E-E83F-4FCD-807B-6E9FEBDCC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37FB0-8CE9-4A49-A229-DC94142354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50998-B283-4DFB-8FA7-C7B66D6567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47D71-EDD2-4995-A497-2A63376033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F7B55-C713-4795-A233-B24BA462C0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AB198-3C23-44A0-B551-66C94BEC84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CC0EB-E12E-4C6D-A32A-74B0896746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92987-1BE8-4D2A-9096-A0BC8E842F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38B20-E274-41EA-A3A2-A1ED27C2C6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5D325-566C-42FB-A363-8E981B62CB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30906-60C5-4B4C-BD99-23D92A273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9C2BA-F42F-4444-B148-9379CB988A4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35031-43B6-4B2F-A10F-C7605490210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00FC1-823A-4D5B-810F-B50519C51B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358A-55EE-44AE-8C87-842E4390CA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DDDE-8649-433C-9B3F-FDE9AE6D63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6BD8-CAA7-4288-9972-EAE3567DDDC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7634-93EA-4C5E-8F74-58BB745636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2774-6A29-4752-9AB9-69F4A624CF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0E65-1D87-45F9-B94A-836979849E9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991E-B791-4101-BB79-FF1E53E89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A98A-3620-4C7C-8820-B20E6079D3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A7CD-0FDD-43E1-AC61-05A2F96337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80F2-AE05-4A6F-9310-513FE706AB5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6233-5420-4EA7-900E-BF1664C68F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E444-81BA-40F7-BAB3-401F03552E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F29CED-5616-42D9-A3E7-F9052D53428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C95B7-9FA2-4B9F-921B-FAB6A1559F9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54ACF-F4E0-4E86-AB82-9E9290816C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CB723-63D8-4719-AECA-51A3B8BEA8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12589-EC7A-4F8D-882B-CE83D9A64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7086240" y="151920"/>
            <a:ext cx="205740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8E27D-6C6C-4FFA-A90F-70BBF74E5D8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4969A-919D-4DCE-A3F8-82B966A427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0D7D3-F1A6-47DB-820C-576FF00B2F1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1A2855-9DD0-42F0-9A02-5288572F11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62560" y="3966840"/>
            <a:ext cx="198108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A5B1F-45DF-4484-BA27-6C7B84B3E1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177760" y="116640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1625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8177760" y="3966840"/>
            <a:ext cx="9666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416F8-8CB0-43D5-9922-1EF0B19C87D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8325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502120" y="116640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716256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78325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502120" y="3966840"/>
            <a:ext cx="63756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7A25C-3656-4DE2-98ED-498676C6B86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74729-7B62-434B-8674-5EB2A113556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1A397-286C-441C-A130-1A9EA8C6CBC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BEA51-DBDA-4FE8-9D2F-531696D6E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Num" idx="9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99FA-5FB4-4DDF-9F93-09471D14D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indent="0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1" marL="114480" indent="-108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2" marL="459000"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3" marL="67572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4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5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6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0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C82-AC0A-4A35-BB84-76AF62BCD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9"/>
          <p:cNvSpPr/>
          <p:nvPr/>
        </p:nvSpPr>
        <p:spPr>
          <a:xfrm flipV="1">
            <a:off x="0" y="-720"/>
            <a:ext cx="9144000" cy="1600200"/>
          </a:xfrm>
          <a:prstGeom prst="rect">
            <a:avLst/>
          </a:prstGeom>
          <a:solidFill>
            <a:srgbClr val="f9f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7" name="Rectangle 10"/>
          <p:cNvSpPr/>
          <p:nvPr/>
        </p:nvSpPr>
        <p:spPr>
          <a:xfrm>
            <a:off x="0" y="1600200"/>
            <a:ext cx="457200" cy="5257800"/>
          </a:xfrm>
          <a:prstGeom prst="rect">
            <a:avLst/>
          </a:prstGeom>
          <a:solidFill>
            <a:srgbClr val="a0c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8" name="Line 11"/>
          <p:cNvSpPr/>
          <p:nvPr/>
        </p:nvSpPr>
        <p:spPr>
          <a:xfrm flipH="1">
            <a:off x="0" y="1600200"/>
            <a:ext cx="914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6999480" y="194040"/>
            <a:ext cx="17162280" cy="2779560"/>
          </a:xfrm>
          <a:prstGeom prst="rect">
            <a:avLst/>
          </a:prstGeom>
          <a:solidFill>
            <a:srgbClr val="fdc382"/>
          </a:solidFill>
          <a:ln w="0">
            <a:noFill/>
          </a:ln>
          <a:effectLst>
            <a:outerShdw dist="63504" dir="2216091" blurRad="0" rotWithShape="0">
              <a:srgbClr val="5f5f5f"/>
            </a:outerShdw>
          </a:effectLst>
        </p:spPr>
        <p:txBody>
          <a:bodyPr lIns="182880" rIns="18288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-2732400"/>
            <a:ext cx="7315200" cy="142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Click to edit the outline text format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1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econd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2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Third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3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Four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4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Fif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5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ix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6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even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A59A-C60A-47BD-BB94-A8E3BE3F9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c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 flipV="1">
            <a:off x="0" y="0"/>
            <a:ext cx="9144000" cy="457200"/>
          </a:xfrm>
          <a:prstGeom prst="rect">
            <a:avLst/>
          </a:prstGeom>
          <a:solidFill>
            <a:srgbClr val="f9f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457200"/>
            <a:ext cx="914400" cy="6400800"/>
          </a:xfrm>
          <a:prstGeom prst="rect">
            <a:avLst/>
          </a:prstGeom>
          <a:solidFill>
            <a:srgbClr val="f0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H="1">
            <a:off x="0" y="457200"/>
            <a:ext cx="914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219320" y="761760"/>
            <a:ext cx="777240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030480" indent="-11736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37356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8AB3-AB3D-451D-AC78-9FE62B843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vantGar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 flipH="1">
            <a:off x="151920" y="457200"/>
            <a:ext cx="8991720" cy="0"/>
          </a:xfrm>
          <a:prstGeom prst="line">
            <a:avLst/>
          </a:prstGeom>
          <a:ln w="38160">
            <a:solidFill>
              <a:srgbClr val="67b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90720" y="1255320"/>
            <a:ext cx="723888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5000"/>
              </a:lnSpc>
              <a:spcAft>
                <a:spcPts val="700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30168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1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3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FE2D-C18A-4D09-AB4E-07C40D47D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title"/>
          </p:nvPr>
        </p:nvSpPr>
        <p:spPr>
          <a:xfrm>
            <a:off x="762120" y="5331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685800" y="76320"/>
            <a:ext cx="0" cy="6781680"/>
          </a:xfrm>
          <a:prstGeom prst="line">
            <a:avLst/>
          </a:prstGeom>
          <a:ln w="38160">
            <a:solidFill>
              <a:srgbClr val="67b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09120" y="460080"/>
            <a:ext cx="7543800" cy="287676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 fontScale="99000"/>
          </a:bodyPr>
          <a:p>
            <a:pPr marL="790200" indent="0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4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46C5-77AD-4B41-9EA9-093B17CF1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5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59A3-F8F6-43FE-AB38-9268C059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914400" y="1600200"/>
            <a:ext cx="8229600" cy="0"/>
          </a:xfrm>
          <a:prstGeom prst="line">
            <a:avLst/>
          </a:prstGeom>
          <a:ln w="25560">
            <a:solidFill>
              <a:srgbClr val="5ad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0" y="5867280"/>
            <a:ext cx="8229600" cy="0"/>
          </a:xfrm>
          <a:prstGeom prst="line">
            <a:avLst/>
          </a:prstGeom>
          <a:ln w="25560">
            <a:solidFill>
              <a:srgbClr val="5ad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body"/>
          </p:nvPr>
        </p:nvSpPr>
        <p:spPr>
          <a:xfrm>
            <a:off x="1371600" y="1631520"/>
            <a:ext cx="7238880" cy="34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64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8080" indent="-64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Num" idx="6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D1E4-C0CB-43BD-802C-795B13D89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indent="0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1" marL="114480" indent="-108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2" marL="459000"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3" marL="67572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4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5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6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0708-F22E-4B01-B0CC-90562D141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Num" idx="8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14BE-0261-41D5-BF38-251CCE83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body"/>
          </p:nvPr>
        </p:nvSpPr>
        <p:spPr>
          <a:xfrm>
            <a:off x="914400" y="1455840"/>
            <a:ext cx="73152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Click to edit the outline text format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1" marL="463680" indent="-64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econd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2" marL="914400"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Third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3" marL="1378080" indent="-64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Four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4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Fif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5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ix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6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even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71B7-ECAF-4F06-AD32-4FEF22A30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25400" y="194040"/>
            <a:ext cx="1720800" cy="2779560"/>
          </a:xfrm>
          <a:prstGeom prst="rect">
            <a:avLst/>
          </a:prstGeom>
          <a:solidFill>
            <a:srgbClr val="fdc382"/>
          </a:solidFill>
          <a:ln w="0">
            <a:noFill/>
          </a:ln>
          <a:effectLst>
            <a:outerShdw dist="63504" dir="2216091" blurRad="0" rotWithShape="0">
              <a:srgbClr val="5f5f5f"/>
            </a:outerShdw>
          </a:effectLst>
        </p:spPr>
        <p:txBody>
          <a:bodyPr lIns="182880" rIns="18288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3919320"/>
            <a:ext cx="73152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d99ff"/>
                </a:solidFill>
                <a:latin typeface="Arial"/>
              </a:rPr>
              <a:t>Grafika i Java 2D</a:t>
            </a:r>
            <a:r>
              <a:rPr b="0" lang="en-US" sz="6000" spc="-1" strike="noStrike">
                <a:solidFill>
                  <a:srgbClr val="4d99ff"/>
                </a:solidFill>
                <a:latin typeface="Arial"/>
                <a:ea typeface="Arial"/>
              </a:rPr>
              <a:t>™</a:t>
            </a: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CEB8-6298-48B6-81BF-D0D7843BB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12.2  Graphics Contexts and Graphics Objects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fički kontekst u Javi omogućava crtanje na ekran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Upravlja grafičkim kontekstom i crta pikse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pstraktna klas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doprinosi poratbilnosti Ja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risti se za crtanj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 klas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JCompon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ja je podklas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mpon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at podrazumijevano se predaje metodu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od strane sistema kada lak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ing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ponen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 treba da se ponovo iscr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ko programer ima potrebu da izvrši 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intCompon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oziva se 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pai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FC0E-E1CF-4D7C-A198-7CF0C0D33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3  </a:t>
            </a:r>
            <a:r>
              <a:rPr b="1" lang="hr-HR" sz="3600" spc="-1" strike="noStrike">
                <a:solidFill>
                  <a:srgbClr val="f9a75e"/>
                </a:solidFill>
                <a:latin typeface="Arial"/>
              </a:rPr>
              <a:t>Kontrola boja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lor de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met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e i konstante za manipulisanje boja 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 program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vaka boja kreira se kao kombinacija crvene, zelene i plave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d, green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ue component – RGB value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4079-0230-4D80-804F-E011245E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or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stant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e i njihov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GB v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rijednost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Object 3"/>
          <p:cNvGraphicFramePr/>
          <p:nvPr/>
        </p:nvGraphicFramePr>
        <p:xfrm>
          <a:off x="973080" y="1981080"/>
          <a:ext cx="6980400" cy="31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1981080"/>
                    <a:ext cx="69804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8EEF-DB6E-4ED3-8BAF-DD91DF7FC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Color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i 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ovezani sa bojama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5"/>
          <p:cNvGraphicFramePr/>
          <p:nvPr/>
        </p:nvGraphicFramePr>
        <p:xfrm>
          <a:off x="1084320" y="880920"/>
          <a:ext cx="703260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880920"/>
                    <a:ext cx="703260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978D-83AA-41B2-A114-0A2484F5E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0" y="3240"/>
          <a:ext cx="703728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03728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5" name="Group 8"/>
          <p:cNvGrpSpPr/>
          <p:nvPr/>
        </p:nvGrpSpPr>
        <p:grpSpPr>
          <a:xfrm>
            <a:off x="3962520" y="1371600"/>
            <a:ext cx="3581280" cy="580680"/>
            <a:chOff x="3962520" y="1371600"/>
            <a:chExt cx="3581280" cy="580680"/>
          </a:xfrm>
        </p:grpSpPr>
        <p:sp>
          <p:nvSpPr>
            <p:cNvPr id="486" name="Text Box 9"/>
            <p:cNvSpPr/>
            <p:nvPr/>
          </p:nvSpPr>
          <p:spPr>
            <a:xfrm>
              <a:off x="4419720" y="1371600"/>
              <a:ext cx="312408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aintCompon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JPanel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87" name="Line 10"/>
            <p:cNvSpPr/>
            <p:nvPr/>
          </p:nvSpPr>
          <p:spPr>
            <a:xfrm flipH="1">
              <a:off x="3962520" y="1752480"/>
              <a:ext cx="4572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488" name="Group 14"/>
          <p:cNvGrpSpPr/>
          <p:nvPr/>
        </p:nvGrpSpPr>
        <p:grpSpPr>
          <a:xfrm>
            <a:off x="4038480" y="2438280"/>
            <a:ext cx="4572000" cy="838440"/>
            <a:chOff x="4038480" y="2438280"/>
            <a:chExt cx="4572000" cy="838440"/>
          </a:xfrm>
        </p:grpSpPr>
        <p:sp>
          <p:nvSpPr>
            <p:cNvPr id="489" name="Text Box 12"/>
            <p:cNvSpPr/>
            <p:nvPr/>
          </p:nvSpPr>
          <p:spPr>
            <a:xfrm>
              <a:off x="5486400" y="2438280"/>
              <a:ext cx="312408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davanje podrazumijevane boje primjenom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Color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90" name="Line 13"/>
            <p:cNvSpPr/>
            <p:nvPr/>
          </p:nvSpPr>
          <p:spPr>
            <a:xfrm flipH="1">
              <a:off x="4038480" y="281952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491" name="Text Box 16"/>
          <p:cNvSpPr/>
          <p:nvPr/>
        </p:nvSpPr>
        <p:spPr>
          <a:xfrm>
            <a:off x="5562720" y="3048120"/>
            <a:ext cx="312408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Obojeni pravougaonik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92" name="Line 17"/>
          <p:cNvSpPr/>
          <p:nvPr/>
        </p:nvSpPr>
        <p:spPr>
          <a:xfrm flipH="1">
            <a:off x="3428640" y="32767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493" name="Group 28"/>
          <p:cNvGrpSpPr/>
          <p:nvPr/>
        </p:nvGrpSpPr>
        <p:grpSpPr>
          <a:xfrm>
            <a:off x="1523880" y="3809520"/>
            <a:ext cx="7239240" cy="337680"/>
            <a:chOff x="1523880" y="3809520"/>
            <a:chExt cx="7239240" cy="337680"/>
          </a:xfrm>
        </p:grpSpPr>
        <p:sp>
          <p:nvSpPr>
            <p:cNvPr id="494" name="Text Box 23"/>
            <p:cNvSpPr/>
            <p:nvPr/>
          </p:nvSpPr>
          <p:spPr>
            <a:xfrm>
              <a:off x="5638680" y="3809880"/>
              <a:ext cx="312444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Tekst u tekućoj boji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95" name="Line 24"/>
            <p:cNvSpPr/>
            <p:nvPr/>
          </p:nvSpPr>
          <p:spPr>
            <a:xfrm flipH="1" flipV="1">
              <a:off x="4114440" y="3809520"/>
              <a:ext cx="1523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 flipH="1" flipV="1">
              <a:off x="1523880" y="3809520"/>
              <a:ext cx="4114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497" name="Group 32"/>
          <p:cNvGrpSpPr/>
          <p:nvPr/>
        </p:nvGrpSpPr>
        <p:grpSpPr>
          <a:xfrm>
            <a:off x="4724280" y="4343040"/>
            <a:ext cx="4038840" cy="581040"/>
            <a:chOff x="4724280" y="4343040"/>
            <a:chExt cx="4038840" cy="581040"/>
          </a:xfrm>
        </p:grpSpPr>
        <p:sp>
          <p:nvSpPr>
            <p:cNvPr id="498" name="Text Box 30"/>
            <p:cNvSpPr/>
            <p:nvPr/>
          </p:nvSpPr>
          <p:spPr>
            <a:xfrm>
              <a:off x="5638680" y="4343400"/>
              <a:ext cx="312444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davanje tekuće boje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gumen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 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stru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 flipV="1">
              <a:off x="4724280" y="43430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00" name="Group 36"/>
          <p:cNvGrpSpPr/>
          <p:nvPr/>
        </p:nvGrpSpPr>
        <p:grpSpPr>
          <a:xfrm>
            <a:off x="2971800" y="4876920"/>
            <a:ext cx="5791320" cy="580680"/>
            <a:chOff x="2971800" y="4876920"/>
            <a:chExt cx="5791320" cy="580680"/>
          </a:xfrm>
        </p:grpSpPr>
        <p:sp>
          <p:nvSpPr>
            <p:cNvPr id="501" name="Text Box 34"/>
            <p:cNvSpPr/>
            <p:nvPr/>
          </p:nvSpPr>
          <p:spPr>
            <a:xfrm>
              <a:off x="5638680" y="4876920"/>
              <a:ext cx="312444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davanje tekuće boje primjenom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l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stan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02" name="Line 35"/>
            <p:cNvSpPr/>
            <p:nvPr/>
          </p:nvSpPr>
          <p:spPr>
            <a:xfrm flipH="1">
              <a:off x="2971800" y="53341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0AF6-F944-4A2F-886B-A97D5300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06" name="Object 4"/>
          <p:cNvGraphicFramePr/>
          <p:nvPr/>
        </p:nvGraphicFramePr>
        <p:xfrm>
          <a:off x="0" y="1440"/>
          <a:ext cx="7056360" cy="214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5636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Group 14"/>
          <p:cNvGrpSpPr/>
          <p:nvPr/>
        </p:nvGrpSpPr>
        <p:grpSpPr>
          <a:xfrm>
            <a:off x="1981080" y="1143000"/>
            <a:ext cx="3276720" cy="2652840"/>
            <a:chOff x="1981080" y="1143000"/>
            <a:chExt cx="3276720" cy="2652840"/>
          </a:xfrm>
        </p:grpSpPr>
        <p:sp>
          <p:nvSpPr>
            <p:cNvPr id="509" name="Text Box 10"/>
            <p:cNvSpPr/>
            <p:nvPr/>
          </p:nvSpPr>
          <p:spPr>
            <a:xfrm>
              <a:off x="2133720" y="2971800"/>
              <a:ext cx="3124080" cy="82404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dređivanj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GB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vrijednosti primjenom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etR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etGre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etBlu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10" name="Line 11"/>
            <p:cNvSpPr/>
            <p:nvPr/>
          </p:nvSpPr>
          <p:spPr>
            <a:xfrm flipH="1" flipV="1">
              <a:off x="1981080" y="1447560"/>
              <a:ext cx="15242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11" name="Line 12"/>
            <p:cNvSpPr/>
            <p:nvPr/>
          </p:nvSpPr>
          <p:spPr>
            <a:xfrm flipV="1">
              <a:off x="3505320" y="1143000"/>
              <a:ext cx="6094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12" name="Line 13"/>
            <p:cNvSpPr/>
            <p:nvPr/>
          </p:nvSpPr>
          <p:spPr>
            <a:xfrm flipV="1">
              <a:off x="3505320" y="1447560"/>
              <a:ext cx="30456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" dur="1" fill="hold"/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8FA1-AED0-472A-B533-3C132C52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16" name="Object 4"/>
          <p:cNvGraphicFramePr/>
          <p:nvPr/>
        </p:nvGraphicFramePr>
        <p:xfrm>
          <a:off x="0" y="0"/>
          <a:ext cx="7056360" cy="62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8" name="Picture 6" descr="ShowColors"/>
          <p:cNvPicPr/>
          <p:nvPr/>
        </p:nvPicPr>
        <p:blipFill>
          <a:blip r:embed="rId3"/>
          <a:stretch/>
        </p:blipFill>
        <p:spPr>
          <a:xfrm>
            <a:off x="1752480" y="3984480"/>
            <a:ext cx="3505320" cy="15782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908A-486E-42EF-B6D8-AB967B164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Look-and-Feel napomena 12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41560" y="1875960"/>
            <a:ext cx="739296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snici na različite način poimaju boje. Budite pažljivi pri izboru boja da bi vaša aplikacija bila čitljiva. Izbjegavajte upotrebu boja istog tonalitet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2215-E0F9-476D-BE92-4C5A4552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141560" y="175212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 promijenili boju, morate kreirati novi objekat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 koristite jednu od predefinisanih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tant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i objekti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i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 mogu modifikovati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utable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91296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Projektovanje softvera 12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A82F-9C34-4DBA-B87E-A7F8DF05D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4  </a:t>
            </a:r>
            <a:r>
              <a:rPr b="1" lang="hr-HR" sz="3600" spc="-1" strike="noStrike">
                <a:solidFill>
                  <a:srgbClr val="f9a75e"/>
                </a:solidFill>
                <a:latin typeface="Arial"/>
              </a:rPr>
              <a:t>Upotreba fontova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Fo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nstru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r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ma tr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me fonta, stil i veličin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(engl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nt name, font style and font size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nt name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bilo koji font koji se može naći u sistemu na kojem se program izvršav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nt style –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PL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ITA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BOL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ogu se kombinovat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nt sizes – m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rna jedinica j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, koja iznso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72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inč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to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N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Sty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vraćaju informacije o objektu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o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to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Fo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setFon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vraćaju i zadaju tekući fo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B063-76D8-4EDB-A486-0B12545F8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vantGarde"/>
              </a:rPr>
              <a:t>     </a:t>
            </a:r>
            <a:endParaRPr b="1" lang="en-US" sz="14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18960" y="762120"/>
            <a:ext cx="7391160" cy="52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icture is worth ten thousand words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inese prover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reat nature in terms of the cylinder, the sphere, the cone, all in perspective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ul 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zann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lors, like features, follow the changes of the emotions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blo Picasso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hing ever becomes real till it is experienced—even a proverb is no proverb to you till your life has illustrated it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Kea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2AFB-7BD6-49DF-97FA-A3CC7567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i i konstante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F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rv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Object 5"/>
          <p:cNvGraphicFramePr/>
          <p:nvPr/>
        </p:nvGraphicFramePr>
        <p:xfrm>
          <a:off x="712800" y="1467000"/>
          <a:ext cx="7694640" cy="346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1467000"/>
                    <a:ext cx="7694640" cy="34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0A2B-23B2-415D-9CC3-E703EA01A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i i konstante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F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Drug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863640" y="1219320"/>
          <a:ext cx="7461360" cy="39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219320"/>
                    <a:ext cx="74613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D11-B90D-4521-A86B-ACC194742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Napomena o portabilnosti 12.2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1200" y="2028960"/>
            <a:ext cx="7164360" cy="33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j fo</a:t>
            </a:r>
            <a:r>
              <a:rPr b="1" lang="sr-Latn-M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va koji su vam na raspologanju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isi 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ivnog sistem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va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je pet logičkih imena fontova -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er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Monospac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ansSer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Dialo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DialogInput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–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i se mogu koristiti na svim Java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JRE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svim platformama preslikava ova logička imena u stvarne fontov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BBBA-3D51-49E2-A529-8058183D5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42" name="Object 6"/>
          <p:cNvGraphicFramePr/>
          <p:nvPr/>
        </p:nvGraphicFramePr>
        <p:xfrm>
          <a:off x="0" y="4680"/>
          <a:ext cx="7056360" cy="56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4" name="Group 13"/>
          <p:cNvGrpSpPr/>
          <p:nvPr/>
        </p:nvGrpSpPr>
        <p:grpSpPr>
          <a:xfrm>
            <a:off x="4876920" y="3276720"/>
            <a:ext cx="4038480" cy="1600200"/>
            <a:chOff x="4876920" y="3276720"/>
            <a:chExt cx="4038480" cy="1600200"/>
          </a:xfrm>
        </p:grpSpPr>
        <p:sp>
          <p:nvSpPr>
            <p:cNvPr id="545" name="Text Box 9"/>
            <p:cNvSpPr/>
            <p:nvPr/>
          </p:nvSpPr>
          <p:spPr>
            <a:xfrm>
              <a:off x="5791320" y="3886200"/>
              <a:ext cx="312408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 i podešavanje osobin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F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46" name="Line 10"/>
            <p:cNvSpPr/>
            <p:nvPr/>
          </p:nvSpPr>
          <p:spPr>
            <a:xfrm flipH="1" flipV="1">
              <a:off x="4876920" y="3276720"/>
              <a:ext cx="9144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47" name="Line 11"/>
            <p:cNvSpPr/>
            <p:nvPr/>
          </p:nvSpPr>
          <p:spPr>
            <a:xfrm flipH="1">
              <a:off x="5486040" y="4038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 flipH="1">
              <a:off x="53341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49" name="Text Box 16"/>
          <p:cNvSpPr/>
          <p:nvPr/>
        </p:nvSpPr>
        <p:spPr>
          <a:xfrm>
            <a:off x="2971800" y="2286000"/>
            <a:ext cx="114300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nt nam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50" name="Line 17"/>
          <p:cNvSpPr/>
          <p:nvPr/>
        </p:nvSpPr>
        <p:spPr>
          <a:xfrm flipH="1">
            <a:off x="2895120" y="2666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114800" y="2286000"/>
            <a:ext cx="114300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nt styl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52" name="Line 21"/>
          <p:cNvSpPr/>
          <p:nvPr/>
        </p:nvSpPr>
        <p:spPr>
          <a:xfrm flipH="1">
            <a:off x="365724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553" name="Group 22"/>
          <p:cNvGrpSpPr/>
          <p:nvPr/>
        </p:nvGrpSpPr>
        <p:grpSpPr>
          <a:xfrm>
            <a:off x="4343400" y="2666880"/>
            <a:ext cx="1600200" cy="533520"/>
            <a:chOff x="4343400" y="2666880"/>
            <a:chExt cx="1600200" cy="533520"/>
          </a:xfrm>
        </p:grpSpPr>
        <p:sp>
          <p:nvSpPr>
            <p:cNvPr id="554" name="Text Box 23"/>
            <p:cNvSpPr/>
            <p:nvPr/>
          </p:nvSpPr>
          <p:spPr>
            <a:xfrm>
              <a:off x="4800600" y="2666880"/>
              <a:ext cx="1143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nt siz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55" name="Line 24"/>
            <p:cNvSpPr/>
            <p:nvPr/>
          </p:nvSpPr>
          <p:spPr>
            <a:xfrm flipH="1">
              <a:off x="4343400" y="289548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Fontovi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70CA-938A-47E5-87D1-5AF08AB4C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59" name="Object 4"/>
          <p:cNvGraphicFramePr/>
          <p:nvPr/>
        </p:nvGraphicFramePr>
        <p:xfrm>
          <a:off x="0" y="1440"/>
          <a:ext cx="7056360" cy="18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5636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1" name="Group 9"/>
          <p:cNvGrpSpPr/>
          <p:nvPr/>
        </p:nvGrpSpPr>
        <p:grpSpPr>
          <a:xfrm>
            <a:off x="4266720" y="76320"/>
            <a:ext cx="3429360" cy="457200"/>
            <a:chOff x="4266720" y="76320"/>
            <a:chExt cx="3429360" cy="457200"/>
          </a:xfrm>
        </p:grpSpPr>
        <p:sp>
          <p:nvSpPr>
            <p:cNvPr id="562" name="Text Box 7"/>
            <p:cNvSpPr/>
            <p:nvPr/>
          </p:nvSpPr>
          <p:spPr>
            <a:xfrm>
              <a:off x="5410080" y="76320"/>
              <a:ext cx="2286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bining styles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63" name="Line 8"/>
            <p:cNvSpPr/>
            <p:nvPr/>
          </p:nvSpPr>
          <p:spPr>
            <a:xfrm flipH="1">
              <a:off x="4266720" y="2286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64" name="Group 14"/>
          <p:cNvGrpSpPr/>
          <p:nvPr/>
        </p:nvGrpSpPr>
        <p:grpSpPr>
          <a:xfrm>
            <a:off x="2209680" y="914400"/>
            <a:ext cx="3353040" cy="1875960"/>
            <a:chOff x="2209680" y="914400"/>
            <a:chExt cx="3353040" cy="1875960"/>
          </a:xfrm>
        </p:grpSpPr>
        <p:sp>
          <p:nvSpPr>
            <p:cNvPr id="565" name="Text Box 11"/>
            <p:cNvSpPr/>
            <p:nvPr/>
          </p:nvSpPr>
          <p:spPr>
            <a:xfrm>
              <a:off x="2209680" y="2209680"/>
              <a:ext cx="335304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dređivanje imena i veličine tekućeg fonta u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raph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tu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H="1" flipV="1">
              <a:off x="3200040" y="914400"/>
              <a:ext cx="6094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3809880" y="990720"/>
              <a:ext cx="9144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6B41-5815-40AC-88CC-3ADE63311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71" name="Object 6"/>
          <p:cNvGraphicFramePr/>
          <p:nvPr/>
        </p:nvGraphicFramePr>
        <p:xfrm>
          <a:off x="0" y="0"/>
          <a:ext cx="7075440" cy="69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75440" cy="69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3" name="Picture 8" descr="Fonts"/>
          <p:cNvPicPr/>
          <p:nvPr/>
        </p:nvPicPr>
        <p:blipFill>
          <a:blip r:embed="rId3"/>
          <a:stretch/>
        </p:blipFill>
        <p:spPr>
          <a:xfrm>
            <a:off x="1219320" y="4367160"/>
            <a:ext cx="4647960" cy="188136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3DE0-98C9-45DE-A22F-AFF26FB9F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Projektovanje softvera 12.2 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41560" y="1959120"/>
            <a:ext cx="7773840" cy="16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 promijenili font, morate kreirati novi objekat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i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nepromjenljivi . Ova klasa nema </a:t>
            </a:r>
            <a:r>
              <a:rPr b="1" i="1" lang="en-US" sz="2800" spc="-1" strike="noStrike">
                <a:solidFill>
                  <a:srgbClr val="4f87c6"/>
                </a:solidFill>
                <a:latin typeface="Times New Roman"/>
                <a:ea typeface="Times New Roman"/>
              </a:rPr>
              <a:t>s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za promjenu svojstava tekućeg font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CEF9-2583-4328-93F7-A2639736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9a75e"/>
                </a:solidFill>
                <a:latin typeface="Arial"/>
              </a:rPr>
              <a:t>Font Metri</a:t>
            </a:r>
            <a:r>
              <a:rPr b="1" i="1" lang="hr-HR" sz="3600" spc="-1" strike="noStrike">
                <a:solidFill>
                  <a:srgbClr val="f9a75e"/>
                </a:solidFill>
                <a:latin typeface="Arial"/>
              </a:rPr>
              <a:t>ke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Metodi 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etFamil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vraća ime familije fonta kojoj tekući font pripa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sPl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sBol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sIta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određuje stil fon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t metri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preci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zn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cija o fon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(visin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ent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liki dio karaktera pada ispod osnovne linije (baselin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cent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liki dio karaktera se izdiže iznad osnovne linij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ding –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razmak unutra re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Metri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adrži metoda za određivanje metrike fon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0E10-EB18-468A-AE42-8EB5F6BF1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rika 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nt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3" descr="AAEMYSL0"/>
          <p:cNvPicPr/>
          <p:nvPr/>
        </p:nvPicPr>
        <p:blipFill>
          <a:blip r:embed="rId1"/>
          <a:stretch/>
        </p:blipFill>
        <p:spPr>
          <a:xfrm>
            <a:off x="914400" y="2317680"/>
            <a:ext cx="75438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DE07-5145-404F-ABFD-33068F5E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za metriku font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Object 3"/>
          <p:cNvGraphicFramePr/>
          <p:nvPr/>
        </p:nvGraphicFramePr>
        <p:xfrm>
          <a:off x="812880" y="1015920"/>
          <a:ext cx="7597800" cy="38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015920"/>
                    <a:ext cx="75978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BF58-7371-4094-BD74-69E382F17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Ciljevi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3059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ovoj lekciji na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či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razumije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čke kontekste i objek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upravljate boja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koristite fonto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koristite metode klas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 crtanje linija pravougaonika, elipsi, lukova i mnogouglov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koristite metode kl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aphics2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2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P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 crtanje linija, pravougaonika, elipsi, lukova i proizvoljnih krivi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postavite svojstv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a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tro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koje crtate pomoću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Graphics2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C3E-7FB5-4355-B47D-10AF2F44A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590" name="Object 6"/>
          <p:cNvGraphicFramePr/>
          <p:nvPr/>
        </p:nvGraphicFramePr>
        <p:xfrm>
          <a:off x="0" y="1440"/>
          <a:ext cx="7056360" cy="47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5636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2" name="Group 11"/>
          <p:cNvGrpSpPr/>
          <p:nvPr/>
        </p:nvGrpSpPr>
        <p:grpSpPr>
          <a:xfrm>
            <a:off x="4267080" y="2666880"/>
            <a:ext cx="3886200" cy="533520"/>
            <a:chOff x="4267080" y="2666880"/>
            <a:chExt cx="3886200" cy="533520"/>
          </a:xfrm>
        </p:grpSpPr>
        <p:sp>
          <p:nvSpPr>
            <p:cNvPr id="593" name="Text Box 9"/>
            <p:cNvSpPr/>
            <p:nvPr/>
          </p:nvSpPr>
          <p:spPr>
            <a:xfrm>
              <a:off x="4724280" y="2666880"/>
              <a:ext cx="3429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ontMetric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at za tekući fon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4" name="Line 10"/>
            <p:cNvSpPr/>
            <p:nvPr/>
          </p:nvSpPr>
          <p:spPr>
            <a:xfrm flipH="1">
              <a:off x="4267080" y="289548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95" name="Group 18"/>
          <p:cNvGrpSpPr/>
          <p:nvPr/>
        </p:nvGrpSpPr>
        <p:grpSpPr>
          <a:xfrm>
            <a:off x="4647960" y="3657600"/>
            <a:ext cx="4115160" cy="609480"/>
            <a:chOff x="4647960" y="3657600"/>
            <a:chExt cx="4115160" cy="609480"/>
          </a:xfrm>
        </p:grpSpPr>
        <p:sp>
          <p:nvSpPr>
            <p:cNvPr id="596" name="Text Box 13"/>
            <p:cNvSpPr/>
            <p:nvPr/>
          </p:nvSpPr>
          <p:spPr>
            <a:xfrm>
              <a:off x="6172200" y="3692520"/>
              <a:ext cx="259092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Metrika font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7" name="Line 14"/>
            <p:cNvSpPr/>
            <p:nvPr/>
          </p:nvSpPr>
          <p:spPr>
            <a:xfrm flipH="1" flipV="1">
              <a:off x="4647960" y="3657600"/>
              <a:ext cx="152388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8" name="Line 15"/>
            <p:cNvSpPr/>
            <p:nvPr/>
          </p:nvSpPr>
          <p:spPr>
            <a:xfrm flipH="1">
              <a:off x="4876920" y="38448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9" name="Line 16"/>
            <p:cNvSpPr/>
            <p:nvPr/>
          </p:nvSpPr>
          <p:spPr>
            <a:xfrm flipH="1">
              <a:off x="4647960" y="3886200"/>
              <a:ext cx="1523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00" name="Line 17"/>
            <p:cNvSpPr/>
            <p:nvPr/>
          </p:nvSpPr>
          <p:spPr>
            <a:xfrm flipH="1">
              <a:off x="4876920" y="38862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" dur="1" fill="hold"/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3E75-261D-4B0B-A7BE-FD9E04E7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04" name="Object 4"/>
          <p:cNvGraphicFramePr/>
          <p:nvPr/>
        </p:nvGraphicFramePr>
        <p:xfrm>
          <a:off x="0" y="4680"/>
          <a:ext cx="7056360" cy="23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1B89-0E46-4EBF-8DDF-39AA28D2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09" name="Object 6"/>
          <p:cNvGraphicFramePr/>
          <p:nvPr/>
        </p:nvGraphicFramePr>
        <p:xfrm>
          <a:off x="0" y="0"/>
          <a:ext cx="7056360" cy="68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8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1" name="Picture 9" descr="Metrics"/>
          <p:cNvPicPr/>
          <p:nvPr/>
        </p:nvPicPr>
        <p:blipFill>
          <a:blip r:embed="rId3"/>
          <a:stretch/>
        </p:blipFill>
        <p:spPr>
          <a:xfrm>
            <a:off x="1352520" y="4191120"/>
            <a:ext cx="4514760" cy="22129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C67B-43CF-4C9E-8988-3E8EF01B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12.5  </a:t>
            </a:r>
            <a:r>
              <a:rPr b="1" lang="hr-HR" sz="3200" spc="-1" strike="noStrike">
                <a:solidFill>
                  <a:srgbClr val="f9a75e"/>
                </a:solidFill>
                <a:latin typeface="Arial"/>
              </a:rPr>
              <a:t>Crtanje linija, pravouganika i elipsi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 klase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za crtanje linija, pravougaonika i elips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llRoundRec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RoundRec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crta pravougaonik sa zaobljenim ivicam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ounding rectangle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 – pravougaona oblast u kojoj će se nacrtati elipsa ili pravougaonik sa zaobljenim ivicam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3DRec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ll3DRec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crt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D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pravougaonik koji je ili izdignut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ise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) ili potisnut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were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Ov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llOv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crta elipsu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Aft>
                <a:spcPts val="6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436D-10E0-4486-A820-794CE5819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crtanje linija, pravougaonika i elipsi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P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rv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Object 5"/>
          <p:cNvGraphicFramePr/>
          <p:nvPr/>
        </p:nvGraphicFramePr>
        <p:xfrm>
          <a:off x="1079640" y="225360"/>
          <a:ext cx="6511680" cy="51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25360"/>
                    <a:ext cx="651168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0E86-C767-4AE9-A6EC-2CB1CE8A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crtanje linija, pravougaonika i elipsi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Drug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Object 5"/>
          <p:cNvGraphicFramePr/>
          <p:nvPr/>
        </p:nvGraphicFramePr>
        <p:xfrm>
          <a:off x="1436760" y="304920"/>
          <a:ext cx="585144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304920"/>
                    <a:ext cx="585144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A39-F153-4B6E-8A4E-8454B2B45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26" name="Object 6"/>
          <p:cNvGraphicFramePr/>
          <p:nvPr/>
        </p:nvGraphicFramePr>
        <p:xfrm>
          <a:off x="0" y="4680"/>
          <a:ext cx="705636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8" name="Group 11"/>
          <p:cNvGrpSpPr/>
          <p:nvPr/>
        </p:nvGrpSpPr>
        <p:grpSpPr>
          <a:xfrm>
            <a:off x="3276720" y="3048120"/>
            <a:ext cx="2666880" cy="533160"/>
            <a:chOff x="3276720" y="3048120"/>
            <a:chExt cx="2666880" cy="533160"/>
          </a:xfrm>
        </p:grpSpPr>
        <p:sp>
          <p:nvSpPr>
            <p:cNvPr id="629" name="Text Box 9"/>
            <p:cNvSpPr/>
            <p:nvPr/>
          </p:nvSpPr>
          <p:spPr>
            <a:xfrm>
              <a:off x="3733920" y="3048120"/>
              <a:ext cx="220968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rava linij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30" name="Line 10"/>
            <p:cNvSpPr/>
            <p:nvPr/>
          </p:nvSpPr>
          <p:spPr>
            <a:xfrm flipH="1">
              <a:off x="3276720" y="3276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31" name="Group 15"/>
          <p:cNvGrpSpPr/>
          <p:nvPr/>
        </p:nvGrpSpPr>
        <p:grpSpPr>
          <a:xfrm>
            <a:off x="3200400" y="3733920"/>
            <a:ext cx="2971800" cy="533160"/>
            <a:chOff x="3200400" y="3733920"/>
            <a:chExt cx="2971800" cy="533160"/>
          </a:xfrm>
        </p:grpSpPr>
        <p:sp>
          <p:nvSpPr>
            <p:cNvPr id="632" name="Text Box 13"/>
            <p:cNvSpPr/>
            <p:nvPr/>
          </p:nvSpPr>
          <p:spPr>
            <a:xfrm>
              <a:off x="3657600" y="3733920"/>
              <a:ext cx="25146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ravougao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33" name="Line 14"/>
            <p:cNvSpPr/>
            <p:nvPr/>
          </p:nvSpPr>
          <p:spPr>
            <a:xfrm flipH="1">
              <a:off x="3200400" y="39625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34" name="Group 19"/>
          <p:cNvGrpSpPr/>
          <p:nvPr/>
        </p:nvGrpSpPr>
        <p:grpSpPr>
          <a:xfrm>
            <a:off x="3200400" y="4571640"/>
            <a:ext cx="3048120" cy="581040"/>
            <a:chOff x="3200400" y="4571640"/>
            <a:chExt cx="3048120" cy="581040"/>
          </a:xfrm>
        </p:grpSpPr>
        <p:sp>
          <p:nvSpPr>
            <p:cNvPr id="635" name="Text Box 17"/>
            <p:cNvSpPr/>
            <p:nvPr/>
          </p:nvSpPr>
          <p:spPr>
            <a:xfrm>
              <a:off x="3733920" y="4572000"/>
              <a:ext cx="251460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ravougaonik popunjen bojom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36" name="Line 18"/>
            <p:cNvSpPr/>
            <p:nvPr/>
          </p:nvSpPr>
          <p:spPr>
            <a:xfrm flipH="1" flipV="1">
              <a:off x="3200400" y="4571640"/>
              <a:ext cx="533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585-F7CB-4107-9F80-19F0AD8A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40" name="Object 4"/>
          <p:cNvGraphicFramePr/>
          <p:nvPr/>
        </p:nvGraphicFramePr>
        <p:xfrm>
          <a:off x="0" y="4680"/>
          <a:ext cx="7056360" cy="302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2" name="Group 9"/>
          <p:cNvGrpSpPr/>
          <p:nvPr/>
        </p:nvGrpSpPr>
        <p:grpSpPr>
          <a:xfrm>
            <a:off x="4495680" y="76320"/>
            <a:ext cx="4343400" cy="337320"/>
            <a:chOff x="4495680" y="76320"/>
            <a:chExt cx="4343400" cy="337320"/>
          </a:xfrm>
        </p:grpSpPr>
        <p:sp>
          <p:nvSpPr>
            <p:cNvPr id="643" name="Text Box 7"/>
            <p:cNvSpPr/>
            <p:nvPr/>
          </p:nvSpPr>
          <p:spPr>
            <a:xfrm>
              <a:off x="4952880" y="76320"/>
              <a:ext cx="38862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bojeni zaobljeni pravougao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44" name="Line 8"/>
            <p:cNvSpPr/>
            <p:nvPr/>
          </p:nvSpPr>
          <p:spPr>
            <a:xfrm flipH="1">
              <a:off x="4495680" y="304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45" name="Group 13"/>
          <p:cNvGrpSpPr/>
          <p:nvPr/>
        </p:nvGrpSpPr>
        <p:grpSpPr>
          <a:xfrm>
            <a:off x="4419720" y="533520"/>
            <a:ext cx="4419360" cy="337320"/>
            <a:chOff x="4419720" y="533520"/>
            <a:chExt cx="4419360" cy="337320"/>
          </a:xfrm>
        </p:grpSpPr>
        <p:sp>
          <p:nvSpPr>
            <p:cNvPr id="646" name="Text Box 11"/>
            <p:cNvSpPr/>
            <p:nvPr/>
          </p:nvSpPr>
          <p:spPr>
            <a:xfrm>
              <a:off x="4800600" y="533520"/>
              <a:ext cx="403848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Zaobljeni pravougao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47" name="Line 12"/>
            <p:cNvSpPr/>
            <p:nvPr/>
          </p:nvSpPr>
          <p:spPr>
            <a:xfrm flipH="1" flipV="1">
              <a:off x="4419720" y="6094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48" name="Group 17"/>
          <p:cNvGrpSpPr/>
          <p:nvPr/>
        </p:nvGrpSpPr>
        <p:grpSpPr>
          <a:xfrm>
            <a:off x="3962520" y="838080"/>
            <a:ext cx="4190760" cy="381240"/>
            <a:chOff x="3962520" y="838080"/>
            <a:chExt cx="4190760" cy="381240"/>
          </a:xfrm>
        </p:grpSpPr>
        <p:sp>
          <p:nvSpPr>
            <p:cNvPr id="649" name="Text Box 15"/>
            <p:cNvSpPr/>
            <p:nvPr/>
          </p:nvSpPr>
          <p:spPr>
            <a:xfrm>
              <a:off x="4724280" y="838080"/>
              <a:ext cx="3429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3D pravouga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0" name="Line 16"/>
            <p:cNvSpPr/>
            <p:nvPr/>
          </p:nvSpPr>
          <p:spPr>
            <a:xfrm flipH="1">
              <a:off x="3962520" y="1066680"/>
              <a:ext cx="7617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51" name="Group 21"/>
          <p:cNvGrpSpPr/>
          <p:nvPr/>
        </p:nvGrpSpPr>
        <p:grpSpPr>
          <a:xfrm>
            <a:off x="4190760" y="1219320"/>
            <a:ext cx="3962520" cy="337320"/>
            <a:chOff x="4190760" y="1219320"/>
            <a:chExt cx="3962520" cy="337320"/>
          </a:xfrm>
        </p:grpSpPr>
        <p:sp>
          <p:nvSpPr>
            <p:cNvPr id="652" name="Text Box 19"/>
            <p:cNvSpPr/>
            <p:nvPr/>
          </p:nvSpPr>
          <p:spPr>
            <a:xfrm>
              <a:off x="4724280" y="1219320"/>
              <a:ext cx="3429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bojeni 3D pravougaonik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3" name="Line 20"/>
            <p:cNvSpPr/>
            <p:nvPr/>
          </p:nvSpPr>
          <p:spPr>
            <a:xfrm flipH="1">
              <a:off x="4190760" y="1447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54" name="Group 25"/>
          <p:cNvGrpSpPr/>
          <p:nvPr/>
        </p:nvGrpSpPr>
        <p:grpSpPr>
          <a:xfrm>
            <a:off x="3428640" y="1676520"/>
            <a:ext cx="2819880" cy="380880"/>
            <a:chOff x="3428640" y="1676520"/>
            <a:chExt cx="2819880" cy="380880"/>
          </a:xfrm>
        </p:grpSpPr>
        <p:sp>
          <p:nvSpPr>
            <p:cNvPr id="655" name="Text Box 23"/>
            <p:cNvSpPr/>
            <p:nvPr/>
          </p:nvSpPr>
          <p:spPr>
            <a:xfrm>
              <a:off x="4191120" y="1676520"/>
              <a:ext cx="20574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Elips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6" name="Line 24"/>
            <p:cNvSpPr/>
            <p:nvPr/>
          </p:nvSpPr>
          <p:spPr>
            <a:xfrm flipH="1">
              <a:off x="3428640" y="1905120"/>
              <a:ext cx="762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57" name="Group 29"/>
          <p:cNvGrpSpPr/>
          <p:nvPr/>
        </p:nvGrpSpPr>
        <p:grpSpPr>
          <a:xfrm>
            <a:off x="3428640" y="2285640"/>
            <a:ext cx="2819880" cy="337680"/>
            <a:chOff x="3428640" y="2285640"/>
            <a:chExt cx="2819880" cy="337680"/>
          </a:xfrm>
        </p:grpSpPr>
        <p:sp>
          <p:nvSpPr>
            <p:cNvPr id="658" name="Text Box 27"/>
            <p:cNvSpPr/>
            <p:nvPr/>
          </p:nvSpPr>
          <p:spPr>
            <a:xfrm>
              <a:off x="4191120" y="2286000"/>
              <a:ext cx="20574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Obojena elips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9" name="Line 28"/>
            <p:cNvSpPr/>
            <p:nvPr/>
          </p:nvSpPr>
          <p:spPr>
            <a:xfrm flipH="1" flipV="1">
              <a:off x="3428640" y="2285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7540-6180-4907-BED4-E05424A03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63" name="Object 6"/>
          <p:cNvGraphicFramePr/>
          <p:nvPr/>
        </p:nvGraphicFramePr>
        <p:xfrm>
          <a:off x="0" y="0"/>
          <a:ext cx="7056360" cy="346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91D4-1AF9-48FF-AEA5-5D60BF8E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668" name="Object 4"/>
          <p:cNvGraphicFramePr/>
          <p:nvPr/>
        </p:nvGraphicFramePr>
        <p:xfrm>
          <a:off x="0" y="0"/>
          <a:ext cx="705636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0" name="Picture 81" descr="LinesRectsOvals"/>
          <p:cNvPicPr/>
          <p:nvPr/>
        </p:nvPicPr>
        <p:blipFill>
          <a:blip r:embed="rId3"/>
          <a:stretch/>
        </p:blipFill>
        <p:spPr>
          <a:xfrm>
            <a:off x="1523880" y="2563920"/>
            <a:ext cx="4114800" cy="2160360"/>
          </a:xfrm>
          <a:prstGeom prst="rect">
            <a:avLst/>
          </a:prstGeom>
          <a:ln w="0">
            <a:noFill/>
          </a:ln>
        </p:spPr>
      </p:pic>
      <p:sp>
        <p:nvSpPr>
          <p:cNvPr id="671" name="Line 84"/>
          <p:cNvSpPr/>
          <p:nvPr/>
        </p:nvSpPr>
        <p:spPr>
          <a:xfrm flipH="1">
            <a:off x="4343400" y="243828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2" name="Text Box 85"/>
          <p:cNvSpPr/>
          <p:nvPr/>
        </p:nvSpPr>
        <p:spPr>
          <a:xfrm>
            <a:off x="5715000" y="22096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illRound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3" name="Line 87"/>
          <p:cNvSpPr/>
          <p:nvPr/>
        </p:nvSpPr>
        <p:spPr>
          <a:xfrm flipH="1">
            <a:off x="5410080" y="2819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4" name="Text Box 88"/>
          <p:cNvSpPr/>
          <p:nvPr/>
        </p:nvSpPr>
        <p:spPr>
          <a:xfrm>
            <a:off x="5791320" y="2590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Round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5" name="Line 89"/>
          <p:cNvSpPr/>
          <p:nvPr/>
        </p:nvSpPr>
        <p:spPr>
          <a:xfrm flipH="1">
            <a:off x="4343040" y="34290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6" name="Text Box 90"/>
          <p:cNvSpPr/>
          <p:nvPr/>
        </p:nvSpPr>
        <p:spPr>
          <a:xfrm>
            <a:off x="5791320" y="3200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Oval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7" name="Line 91"/>
          <p:cNvSpPr/>
          <p:nvPr/>
        </p:nvSpPr>
        <p:spPr>
          <a:xfrm flipH="1">
            <a:off x="5409720" y="38862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8" name="Text Box 92"/>
          <p:cNvSpPr/>
          <p:nvPr/>
        </p:nvSpPr>
        <p:spPr>
          <a:xfrm>
            <a:off x="5791320" y="36576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illOval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9" name="Line 93"/>
          <p:cNvSpPr/>
          <p:nvPr/>
        </p:nvSpPr>
        <p:spPr>
          <a:xfrm>
            <a:off x="1219320" y="2819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0" name="Text Box 94"/>
          <p:cNvSpPr/>
          <p:nvPr/>
        </p:nvSpPr>
        <p:spPr>
          <a:xfrm>
            <a:off x="488880" y="2620800"/>
            <a:ext cx="95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Line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1" name="Line 95"/>
          <p:cNvSpPr/>
          <p:nvPr/>
        </p:nvSpPr>
        <p:spPr>
          <a:xfrm>
            <a:off x="1219320" y="3276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2" name="Text Box 96"/>
          <p:cNvSpPr/>
          <p:nvPr/>
        </p:nvSpPr>
        <p:spPr>
          <a:xfrm>
            <a:off x="457200" y="30780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3" name="Line 97"/>
          <p:cNvSpPr/>
          <p:nvPr/>
        </p:nvSpPr>
        <p:spPr>
          <a:xfrm>
            <a:off x="12952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4" name="Text Box 98"/>
          <p:cNvSpPr/>
          <p:nvPr/>
        </p:nvSpPr>
        <p:spPr>
          <a:xfrm>
            <a:off x="380880" y="35053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ill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5" name="Line 99"/>
          <p:cNvSpPr/>
          <p:nvPr/>
        </p:nvSpPr>
        <p:spPr>
          <a:xfrm>
            <a:off x="11430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6" name="Text Box 100"/>
          <p:cNvSpPr/>
          <p:nvPr/>
        </p:nvSpPr>
        <p:spPr>
          <a:xfrm>
            <a:off x="-147240" y="38908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draw3D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7" name="Line 101"/>
          <p:cNvSpPr/>
          <p:nvPr/>
        </p:nvSpPr>
        <p:spPr>
          <a:xfrm>
            <a:off x="114300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8" name="Text Box 102"/>
          <p:cNvSpPr/>
          <p:nvPr/>
        </p:nvSpPr>
        <p:spPr>
          <a:xfrm>
            <a:off x="76320" y="41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fill3DRect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A691-3885-474C-A8A6-9EF753868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09120" y="466560"/>
            <a:ext cx="6629400" cy="356688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 fontScale="99000"/>
          </a:bodyPr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1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v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  <a:ea typeface="Goudy Sans Medium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2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čki konteksti i objek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3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pravljanje bojama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4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potreba fontova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5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tanje linija, pravougaonika i elipsi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6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tanje lukov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7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tanje mnogouglova i izlomljenih linij</a:t>
            </a: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66"/>
                </a:solidFill>
                <a:latin typeface="Arial"/>
              </a:rPr>
              <a:t>12.8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va 2D AP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6A2-3455-4775-A4AD-E0C9246E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Širina i visina luka (arc width and arc height) za zaobljene pravougaonik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AAEMYSN0"/>
          <p:cNvPicPr/>
          <p:nvPr/>
        </p:nvPicPr>
        <p:blipFill>
          <a:blip r:embed="rId1"/>
          <a:stretch/>
        </p:blipFill>
        <p:spPr>
          <a:xfrm>
            <a:off x="762120" y="1895400"/>
            <a:ext cx="7467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B4DF-13AB-4457-A4A6-2849C6F02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ipsa ograničena pravougaonikom (bounded rectangl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3" descr="AAEMYSO0"/>
          <p:cNvPicPr/>
          <p:nvPr/>
        </p:nvPicPr>
        <p:blipFill>
          <a:blip r:embed="rId1"/>
          <a:stretch/>
        </p:blipFill>
        <p:spPr>
          <a:xfrm>
            <a:off x="609480" y="2212920"/>
            <a:ext cx="79250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1D92-49AC-44A1-863E-AF0681777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6  </a:t>
            </a:r>
            <a:r>
              <a:rPr b="1" lang="hr-HR" sz="3600" spc="-1" strike="noStrike">
                <a:solidFill>
                  <a:srgbClr val="f9a75e"/>
                </a:solidFill>
                <a:latin typeface="Arial"/>
              </a:rPr>
              <a:t>Crtanje lukova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Luk se crta kao dio elip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Luk počinje od početnog ugla (engl. start angle) za onoliko stepeni koliki je luk ugla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c angle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Pozitivni stepeni suprotno kretanju kazaljke sata (engl.  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unterclockwise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Negativan stepen u smjeru kretanja kazalje sat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od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drawAr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fillArc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luže za crtanje luk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E3FE-6D26-4315-A795-A4F84B17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iv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i i negativni ugl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3" descr="AAEMYSP0"/>
          <p:cNvPicPr/>
          <p:nvPr/>
        </p:nvPicPr>
        <p:blipFill>
          <a:blip r:embed="rId1"/>
          <a:stretch/>
        </p:blipFill>
        <p:spPr>
          <a:xfrm>
            <a:off x="838080" y="2286000"/>
            <a:ext cx="73915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282-3FF2-4365-B71D-A3087BB4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crtanje luk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Object 5"/>
          <p:cNvGraphicFramePr/>
          <p:nvPr/>
        </p:nvGraphicFramePr>
        <p:xfrm>
          <a:off x="698400" y="2438280"/>
          <a:ext cx="7767720" cy="26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438280"/>
                    <a:ext cx="77677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6C58-45A2-48A5-A91A-C62BD4301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08" name="Object 6"/>
          <p:cNvGraphicFramePr/>
          <p:nvPr/>
        </p:nvGraphicFramePr>
        <p:xfrm>
          <a:off x="0" y="0"/>
          <a:ext cx="705636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Line 15"/>
          <p:cNvSpPr/>
          <p:nvPr/>
        </p:nvSpPr>
        <p:spPr>
          <a:xfrm flipH="1">
            <a:off x="1828800" y="213372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1752480" y="1523880"/>
            <a:ext cx="3886200" cy="58068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rdinat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jevog gornjeg tjemena pravougaonika koji okružuje luk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2" name="Line 16"/>
          <p:cNvSpPr/>
          <p:nvPr/>
        </p:nvSpPr>
        <p:spPr>
          <a:xfrm flipH="1">
            <a:off x="2209680" y="259092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3" name="Line 19"/>
          <p:cNvSpPr/>
          <p:nvPr/>
        </p:nvSpPr>
        <p:spPr>
          <a:xfrm flipH="1">
            <a:off x="2514600" y="27432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4" name="Line 21"/>
          <p:cNvSpPr/>
          <p:nvPr/>
        </p:nvSpPr>
        <p:spPr>
          <a:xfrm flipH="1">
            <a:off x="2819160" y="274320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2666880" y="2228760"/>
            <a:ext cx="335304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Širina i visna pravougaonika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6" name="Line 25"/>
          <p:cNvSpPr/>
          <p:nvPr/>
        </p:nvSpPr>
        <p:spPr>
          <a:xfrm flipH="1">
            <a:off x="3124080" y="3352680"/>
            <a:ext cx="106704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4038480" y="2971800"/>
            <a:ext cx="152424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očetni ugao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8" name="Line 30"/>
          <p:cNvSpPr/>
          <p:nvPr/>
        </p:nvSpPr>
        <p:spPr>
          <a:xfrm flipH="1">
            <a:off x="3505320" y="32767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9" name="Text Box 31"/>
          <p:cNvSpPr/>
          <p:nvPr/>
        </p:nvSpPr>
        <p:spPr>
          <a:xfrm>
            <a:off x="5715000" y="3048120"/>
            <a:ext cx="1523880" cy="33732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Ugao luka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720" name="Group 36"/>
          <p:cNvGrpSpPr/>
          <p:nvPr/>
        </p:nvGrpSpPr>
        <p:grpSpPr>
          <a:xfrm>
            <a:off x="3886200" y="3809880"/>
            <a:ext cx="3352680" cy="1295640"/>
            <a:chOff x="3886200" y="3809880"/>
            <a:chExt cx="3352680" cy="1295640"/>
          </a:xfrm>
        </p:grpSpPr>
        <p:sp>
          <p:nvSpPr>
            <p:cNvPr id="721" name="Text Box 11"/>
            <p:cNvSpPr/>
            <p:nvPr/>
          </p:nvSpPr>
          <p:spPr>
            <a:xfrm>
              <a:off x="5181480" y="4191120"/>
              <a:ext cx="20574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lukov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22" name="Line 12"/>
            <p:cNvSpPr/>
            <p:nvPr/>
          </p:nvSpPr>
          <p:spPr>
            <a:xfrm flipH="1">
              <a:off x="3962520" y="4419720"/>
              <a:ext cx="1218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23" name="Line 35"/>
            <p:cNvSpPr/>
            <p:nvPr/>
          </p:nvSpPr>
          <p:spPr>
            <a:xfrm flipH="1" flipV="1">
              <a:off x="3886200" y="3809880"/>
              <a:ext cx="1295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2" dur="1" fill="hold"/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0F0D-1216-4098-B66F-B894F7B9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27" name="Object 4"/>
          <p:cNvGraphicFramePr/>
          <p:nvPr/>
        </p:nvGraphicFramePr>
        <p:xfrm>
          <a:off x="0" y="4680"/>
          <a:ext cx="7056360" cy="36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9" name="Group 14"/>
          <p:cNvGrpSpPr/>
          <p:nvPr/>
        </p:nvGrpSpPr>
        <p:grpSpPr>
          <a:xfrm>
            <a:off x="3962160" y="1599840"/>
            <a:ext cx="3657960" cy="1371960"/>
            <a:chOff x="3962160" y="1599840"/>
            <a:chExt cx="3657960" cy="1371960"/>
          </a:xfrm>
        </p:grpSpPr>
        <p:sp>
          <p:nvSpPr>
            <p:cNvPr id="730" name="Text Box 7"/>
            <p:cNvSpPr/>
            <p:nvPr/>
          </p:nvSpPr>
          <p:spPr>
            <a:xfrm>
              <a:off x="5562720" y="2092320"/>
              <a:ext cx="20574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isječak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1" name="Line 8"/>
            <p:cNvSpPr/>
            <p:nvPr/>
          </p:nvSpPr>
          <p:spPr>
            <a:xfrm flipH="1">
              <a:off x="411480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 flipH="1" flipV="1">
              <a:off x="3962160" y="159984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3" name="Line 13"/>
            <p:cNvSpPr/>
            <p:nvPr/>
          </p:nvSpPr>
          <p:spPr>
            <a:xfrm flipH="1">
              <a:off x="4191120" y="2286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34" name="Group 20"/>
          <p:cNvGrpSpPr/>
          <p:nvPr/>
        </p:nvGrpSpPr>
        <p:grpSpPr>
          <a:xfrm>
            <a:off x="3657240" y="1066320"/>
            <a:ext cx="4953240" cy="3567600"/>
            <a:chOff x="3657240" y="1066320"/>
            <a:chExt cx="4953240" cy="3567600"/>
          </a:xfrm>
        </p:grpSpPr>
        <p:sp>
          <p:nvSpPr>
            <p:cNvPr id="735" name="Text Box 16"/>
            <p:cNvSpPr/>
            <p:nvPr/>
          </p:nvSpPr>
          <p:spPr>
            <a:xfrm>
              <a:off x="5715000" y="3809880"/>
              <a:ext cx="2895480" cy="82404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gativ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rijednosti znače kretanje u smjeru kazaljke sat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6" name="Line 17"/>
            <p:cNvSpPr/>
            <p:nvPr/>
          </p:nvSpPr>
          <p:spPr>
            <a:xfrm flipH="1" flipV="1">
              <a:off x="3733560" y="2971440"/>
              <a:ext cx="19810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7" name="Line 18"/>
            <p:cNvSpPr/>
            <p:nvPr/>
          </p:nvSpPr>
          <p:spPr>
            <a:xfrm flipH="1" flipV="1">
              <a:off x="3657240" y="1066320"/>
              <a:ext cx="205740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8" name="Line 19"/>
            <p:cNvSpPr/>
            <p:nvPr/>
          </p:nvSpPr>
          <p:spPr>
            <a:xfrm flipH="1" flipV="1">
              <a:off x="3886200" y="2361600"/>
              <a:ext cx="182880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6" dur="1" fill="hold"/>
                                  <p:tgtEl>
                                    <p:spTgt spid="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1E23-43A0-4509-814C-77E68BD89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42" name="Object 6"/>
          <p:cNvGraphicFramePr/>
          <p:nvPr/>
        </p:nvGraphicFramePr>
        <p:xfrm>
          <a:off x="0" y="0"/>
          <a:ext cx="7039080" cy="30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3908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82CA-8CDB-46B7-A31A-29514DFBC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47" name="Object 4"/>
          <p:cNvGraphicFramePr/>
          <p:nvPr/>
        </p:nvGraphicFramePr>
        <p:xfrm>
          <a:off x="0" y="0"/>
          <a:ext cx="708516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8516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9" name="Picture 5" descr="DrawArcs"/>
          <p:cNvPicPr/>
          <p:nvPr/>
        </p:nvPicPr>
        <p:blipFill>
          <a:blip r:embed="rId3"/>
          <a:stretch/>
        </p:blipFill>
        <p:spPr>
          <a:xfrm>
            <a:off x="990720" y="1515960"/>
            <a:ext cx="4800600" cy="336096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80EC-BDB5-4D6B-8DE5-BEE3A87E5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12.7  </a:t>
            </a:r>
            <a:r>
              <a:rPr b="1" lang="hr-HR" sz="3200" spc="-1" strike="noStrike">
                <a:solidFill>
                  <a:srgbClr val="f9a75e"/>
                </a:solidFill>
                <a:latin typeface="Arial"/>
              </a:rPr>
              <a:t>Crtanje mnogouglova i izlomljenih linija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Mnogouglovi (poligoni, engl. 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ygon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tod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k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Polyg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llPolygon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Mnogouglovi mogu biti predstavljeni primjenom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olyg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lasa sadrži metod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addPo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oja dodaje tjeme mnogoug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lomljene linije (engl. 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yline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Niz tačaka povezanih dužim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ra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fičk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drawPolyli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za crtanje izlomljene linij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92EB-A299-4EE9-A565-E8FA21539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1  Introduction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ma podršku za grafiku – omogućava vizuelno poboljšanje aplikacij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ma mnogo sofisticiranih svosjtava za crtanje . Kao di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2D API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ontMetric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olyg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BasicStrok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radientPa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TexturePa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ava 2D shape class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0">
              <a:lnSpc>
                <a:spcPct val="8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885A-98CB-42DA-97A3-706F3C8B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520" y="54100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mnogouglove i izlomljene linij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rv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Object 5"/>
          <p:cNvGraphicFramePr/>
          <p:nvPr/>
        </p:nvGraphicFramePr>
        <p:xfrm>
          <a:off x="1146240" y="801720"/>
          <a:ext cx="6681600" cy="410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801720"/>
                    <a:ext cx="66816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D5E9-7624-4582-A549-A19D25232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od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Graphic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Lucida Console"/>
              </a:rPr>
              <a:t>za mnogouglove i izlomljene linij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rvi 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Object 5"/>
          <p:cNvGraphicFramePr/>
          <p:nvPr/>
        </p:nvGraphicFramePr>
        <p:xfrm>
          <a:off x="936720" y="1919160"/>
          <a:ext cx="6592680" cy="27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1919160"/>
                    <a:ext cx="6592680" cy="27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C86A-8B86-4546-A7BF-ECBCDC24E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64" name="Object 6"/>
          <p:cNvGraphicFramePr/>
          <p:nvPr/>
        </p:nvGraphicFramePr>
        <p:xfrm>
          <a:off x="0" y="6480"/>
          <a:ext cx="705636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5636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6" name="Group 13"/>
          <p:cNvGrpSpPr/>
          <p:nvPr/>
        </p:nvGrpSpPr>
        <p:grpSpPr>
          <a:xfrm>
            <a:off x="4495320" y="3048120"/>
            <a:ext cx="4420080" cy="580680"/>
            <a:chOff x="4495320" y="3048120"/>
            <a:chExt cx="4420080" cy="580680"/>
          </a:xfrm>
        </p:grpSpPr>
        <p:sp>
          <p:nvSpPr>
            <p:cNvPr id="767" name="Text Box 9"/>
            <p:cNvSpPr/>
            <p:nvPr/>
          </p:nvSpPr>
          <p:spPr>
            <a:xfrm>
              <a:off x="6095880" y="3048120"/>
              <a:ext cx="281952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Polyg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 iz skup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ordina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68" name="Line 10"/>
            <p:cNvSpPr/>
            <p:nvPr/>
          </p:nvSpPr>
          <p:spPr>
            <a:xfrm flipH="1">
              <a:off x="5409720" y="335268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69" name="Line 11"/>
            <p:cNvSpPr/>
            <p:nvPr/>
          </p:nvSpPr>
          <p:spPr>
            <a:xfrm flipH="1" flipV="1">
              <a:off x="4495320" y="3200040"/>
              <a:ext cx="1600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0" name="Line 12"/>
            <p:cNvSpPr/>
            <p:nvPr/>
          </p:nvSpPr>
          <p:spPr>
            <a:xfrm flipH="1">
              <a:off x="4495320" y="3352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71" name="Group 17"/>
          <p:cNvGrpSpPr/>
          <p:nvPr/>
        </p:nvGrpSpPr>
        <p:grpSpPr>
          <a:xfrm>
            <a:off x="3047760" y="3657600"/>
            <a:ext cx="3048120" cy="337320"/>
            <a:chOff x="3047760" y="3657600"/>
            <a:chExt cx="3048120" cy="337320"/>
          </a:xfrm>
        </p:grpSpPr>
        <p:sp>
          <p:nvSpPr>
            <p:cNvPr id="772" name="Text Box 15"/>
            <p:cNvSpPr/>
            <p:nvPr/>
          </p:nvSpPr>
          <p:spPr>
            <a:xfrm>
              <a:off x="3733920" y="3657600"/>
              <a:ext cx="23619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mnogougl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3" name="Line 16"/>
            <p:cNvSpPr/>
            <p:nvPr/>
          </p:nvSpPr>
          <p:spPr>
            <a:xfrm flipH="1">
              <a:off x="3047760" y="38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74" name="Group 26"/>
          <p:cNvGrpSpPr/>
          <p:nvPr/>
        </p:nvGrpSpPr>
        <p:grpSpPr>
          <a:xfrm>
            <a:off x="4190760" y="4648320"/>
            <a:ext cx="3733920" cy="580680"/>
            <a:chOff x="4190760" y="4648320"/>
            <a:chExt cx="3733920" cy="580680"/>
          </a:xfrm>
        </p:grpSpPr>
        <p:sp>
          <p:nvSpPr>
            <p:cNvPr id="775" name="Text Box 24"/>
            <p:cNvSpPr/>
            <p:nvPr/>
          </p:nvSpPr>
          <p:spPr>
            <a:xfrm>
              <a:off x="4876920" y="4648320"/>
              <a:ext cx="304776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izlomljene linije iz skup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ordina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6" name="Line 25"/>
            <p:cNvSpPr/>
            <p:nvPr/>
          </p:nvSpPr>
          <p:spPr>
            <a:xfrm flipH="1">
              <a:off x="4190760" y="495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5" dur="1" fill="hold"/>
                                  <p:tgtEl>
                                    <p:spTgt spid="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65A5-D42F-465B-96C4-A28A5D23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80" name="Object 6"/>
          <p:cNvGraphicFramePr/>
          <p:nvPr/>
        </p:nvGraphicFramePr>
        <p:xfrm>
          <a:off x="0" y="4680"/>
          <a:ext cx="7056360" cy="35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2" name="Group 12"/>
          <p:cNvGrpSpPr/>
          <p:nvPr/>
        </p:nvGrpSpPr>
        <p:grpSpPr>
          <a:xfrm>
            <a:off x="4190760" y="476280"/>
            <a:ext cx="4800960" cy="580680"/>
            <a:chOff x="4190760" y="476280"/>
            <a:chExt cx="4800960" cy="580680"/>
          </a:xfrm>
        </p:grpSpPr>
        <p:sp>
          <p:nvSpPr>
            <p:cNvPr id="783" name="Text Box 10"/>
            <p:cNvSpPr/>
            <p:nvPr/>
          </p:nvSpPr>
          <p:spPr>
            <a:xfrm>
              <a:off x="4724280" y="476280"/>
              <a:ext cx="426744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mnogougla iz skup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ordinat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 bez kreiranja objekt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olygon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H="1">
              <a:off x="4190760" y="762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85" name="Group 26"/>
          <p:cNvGrpSpPr/>
          <p:nvPr/>
        </p:nvGrpSpPr>
        <p:grpSpPr>
          <a:xfrm>
            <a:off x="3429000" y="1676520"/>
            <a:ext cx="4876560" cy="838080"/>
            <a:chOff x="3429000" y="1676520"/>
            <a:chExt cx="4876560" cy="838080"/>
          </a:xfrm>
        </p:grpSpPr>
        <p:sp>
          <p:nvSpPr>
            <p:cNvPr id="786" name="Text Box 17"/>
            <p:cNvSpPr/>
            <p:nvPr/>
          </p:nvSpPr>
          <p:spPr>
            <a:xfrm>
              <a:off x="5194440" y="1771560"/>
              <a:ext cx="311112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Dodavanje tjemena mnogouglu primjenom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ddPoin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H="1">
              <a:off x="3429000" y="205740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 flipV="1">
              <a:off x="3429000" y="1676520"/>
              <a:ext cx="1765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89" name="Line 20"/>
            <p:cNvSpPr/>
            <p:nvPr/>
          </p:nvSpPr>
          <p:spPr>
            <a:xfrm flipH="1" flipV="1">
              <a:off x="3429000" y="1904760"/>
              <a:ext cx="1765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429000" y="2057400"/>
              <a:ext cx="1765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H="1">
              <a:off x="3429000" y="2057400"/>
              <a:ext cx="1765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A3A1-9BB4-41D4-AB86-05BD6B4DD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795" name="Object 6"/>
          <p:cNvGraphicFramePr/>
          <p:nvPr/>
        </p:nvGraphicFramePr>
        <p:xfrm>
          <a:off x="0" y="0"/>
          <a:ext cx="7056360" cy="30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8F5A-728C-4C94-BDD1-50038580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00" name="Object 4"/>
          <p:cNvGraphicFramePr/>
          <p:nvPr/>
        </p:nvGraphicFramePr>
        <p:xfrm>
          <a:off x="0" y="0"/>
          <a:ext cx="70563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2" name="Picture 5" descr="DrawPolygons"/>
          <p:cNvPicPr/>
          <p:nvPr/>
        </p:nvPicPr>
        <p:blipFill>
          <a:blip r:embed="rId3"/>
          <a:stretch/>
        </p:blipFill>
        <p:spPr>
          <a:xfrm>
            <a:off x="1828800" y="152388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803" name="Line 7"/>
          <p:cNvSpPr/>
          <p:nvPr/>
        </p:nvSpPr>
        <p:spPr>
          <a:xfrm flipH="1">
            <a:off x="3962520" y="1905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4" name="Text Box 28"/>
          <p:cNvSpPr/>
          <p:nvPr/>
        </p:nvSpPr>
        <p:spPr>
          <a:xfrm>
            <a:off x="5181480" y="1706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of line 28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5" name="Line 30"/>
          <p:cNvSpPr/>
          <p:nvPr/>
        </p:nvSpPr>
        <p:spPr>
          <a:xfrm flipH="1">
            <a:off x="4571640" y="35812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5257800" y="3382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of line 37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7" name="Line 32"/>
          <p:cNvSpPr/>
          <p:nvPr/>
        </p:nvSpPr>
        <p:spPr>
          <a:xfrm>
            <a:off x="1371600" y="24382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8" name="Line 33"/>
          <p:cNvSpPr/>
          <p:nvPr/>
        </p:nvSpPr>
        <p:spPr>
          <a:xfrm flipV="1">
            <a:off x="1676520" y="32000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9" name="Text Box 34"/>
          <p:cNvSpPr/>
          <p:nvPr/>
        </p:nvSpPr>
        <p:spPr>
          <a:xfrm>
            <a:off x="533520" y="34592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of line 23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457200" y="2209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of line 18</a:t>
            </a:r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F7B8-3ADD-4E9F-B72C-81179CEF2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1141200" y="1828440"/>
            <a:ext cx="70880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je broj tačaka zadatih kao treći argument metoda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drawPolyg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illPolygon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ći od broja elemenata niza koji zadaje mnogougao, biće pokrenut (engl. thrown) izuzetak (engl. exception)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rrayIndexOutOfBoundsExcep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title"/>
          </p:nvPr>
        </p:nvSpPr>
        <p:spPr>
          <a:xfrm>
            <a:off x="912960" y="684360"/>
            <a:ext cx="783432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</a:rPr>
              <a:t>Uobičajena programerska gre</a:t>
            </a:r>
            <a:r>
              <a:rPr b="1" lang="en-US" sz="3200" spc="-1" strike="noStrike">
                <a:solidFill>
                  <a:srgbClr val="5ad9b3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5ad9b3"/>
                </a:solidFill>
                <a:latin typeface="Arial"/>
              </a:rPr>
              <a:t>ka 12.1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7034-1F7F-46FB-ACBB-A3FCFC8EE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8  Java 2D API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Daje mogućnost dvodimenzionalne grafike za detaljnije i složenije manipulacije grafik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Upotreba za linije, tekst i slik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Realizovane kroz klasu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C385-2FB3-47C4-9FB8-131429652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9a75e"/>
                </a:solidFill>
                <a:latin typeface="Arial"/>
              </a:rPr>
              <a:t>Lin</a:t>
            </a:r>
            <a:r>
              <a:rPr b="1" i="1" lang="hr-HR" sz="3200" spc="-1" strike="noStrike">
                <a:solidFill>
                  <a:srgbClr val="f9a75e"/>
                </a:solidFill>
                <a:latin typeface="Arial"/>
              </a:rPr>
              <a:t>ije, pravougaonici</a:t>
            </a:r>
            <a:r>
              <a:rPr b="1" i="1" lang="en-US" sz="3200" spc="-1" strike="noStrike">
                <a:solidFill>
                  <a:srgbClr val="f9a75e"/>
                </a:solidFill>
                <a:latin typeface="Arial"/>
              </a:rPr>
              <a:t>, </a:t>
            </a:r>
            <a:r>
              <a:rPr b="1" i="1" lang="hr-HR" sz="3200" spc="-1" strike="noStrike">
                <a:solidFill>
                  <a:srgbClr val="f9a75e"/>
                </a:solidFill>
                <a:latin typeface="Arial"/>
              </a:rPr>
              <a:t>zaobljeni pravougaonici, lukovi i elipse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2D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figure zadaju se sa pomoću sljedećih realnih vrijednos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uble-precision floating-point values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ne2D.Dou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ctangle2D.Dou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oundRectangle2D.Dou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rc2D.Dou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Ellipse2D.Dou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Crtanje pomoću objekata kla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t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postavlja boju za objekat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ada se figura crta kao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int obj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može biti predeklarisani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,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li instanca klasa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radient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ystem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exturePai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radient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oristi se za crtanje sa gradijentom, koji može biti cikličan ili acikličan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exture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e koristi za crtanje pomoću reapliciranja sačuvane sli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17E8-C871-4D54-8E07-F860889A8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9a75e"/>
                </a:solidFill>
                <a:latin typeface="Arial"/>
              </a:rPr>
              <a:t>Lin</a:t>
            </a:r>
            <a:r>
              <a:rPr b="1" i="1" lang="hr-HR" sz="3200" spc="-1" strike="noStrike">
                <a:solidFill>
                  <a:srgbClr val="f9a75e"/>
                </a:solidFill>
                <a:latin typeface="Arial"/>
              </a:rPr>
              <a:t>ije, pravougaonici</a:t>
            </a:r>
            <a:r>
              <a:rPr b="1" i="1" lang="en-US" sz="3200" spc="-1" strike="noStrike">
                <a:solidFill>
                  <a:srgbClr val="f9a75e"/>
                </a:solidFill>
                <a:latin typeface="Arial"/>
              </a:rPr>
              <a:t>, </a:t>
            </a:r>
            <a:r>
              <a:rPr b="1" i="1" lang="hr-HR" sz="3200" spc="-1" strike="noStrike">
                <a:solidFill>
                  <a:srgbClr val="f9a75e"/>
                </a:solidFill>
                <a:latin typeface="Arial"/>
              </a:rPr>
              <a:t>zaobljeni pravougaonici, lukovi i elipse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ill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e koristi za crtanje obojenog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obje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j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terf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ejs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hap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dra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e koristi za crtanj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odešavanje oblika linije ili granice (engl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roke of a line or border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etod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tStrok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argument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mora implementirati interfejs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rok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icStrok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zadaje širinu linije, krajeve, način povezivanj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2D.Double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nsta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2D.PIE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luk se zatvara sa dvije linije koje spajaju centar sa krajnjim tačkama lu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2D.CHORD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crta se linija od početne do krajnje tač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2D.OPEN –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luk nije zatvore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B990-7181-402F-B154-CB8BCDC73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57909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lase i interfejsi koji se koriste u ovoj lekcij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AAEMYSJ0"/>
          <p:cNvPicPr/>
          <p:nvPr/>
        </p:nvPicPr>
        <p:blipFill>
          <a:blip r:embed="rId1"/>
          <a:stretch/>
        </p:blipFill>
        <p:spPr>
          <a:xfrm>
            <a:off x="2286000" y="228600"/>
            <a:ext cx="3984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72BA-2E42-4E5F-88E8-A849D05FE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26" name="Object 6"/>
          <p:cNvGraphicFramePr/>
          <p:nvPr/>
        </p:nvGraphicFramePr>
        <p:xfrm>
          <a:off x="0" y="4680"/>
          <a:ext cx="7056360" cy="56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8" name="Group 16"/>
          <p:cNvGrpSpPr/>
          <p:nvPr/>
        </p:nvGrpSpPr>
        <p:grpSpPr>
          <a:xfrm>
            <a:off x="2666880" y="1752480"/>
            <a:ext cx="5181840" cy="1067040"/>
            <a:chOff x="2666880" y="1752480"/>
            <a:chExt cx="5181840" cy="1067040"/>
          </a:xfrm>
        </p:grpSpPr>
        <p:sp>
          <p:nvSpPr>
            <p:cNvPr id="829" name="Text Box 9"/>
            <p:cNvSpPr/>
            <p:nvPr/>
          </p:nvSpPr>
          <p:spPr>
            <a:xfrm>
              <a:off x="5029200" y="2168640"/>
              <a:ext cx="281952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va 2D API shape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0" name="Line 10"/>
            <p:cNvSpPr/>
            <p:nvPr/>
          </p:nvSpPr>
          <p:spPr>
            <a:xfrm flipH="1" flipV="1">
              <a:off x="3200400" y="2209680"/>
              <a:ext cx="1828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1" name="Line 11"/>
            <p:cNvSpPr/>
            <p:nvPr/>
          </p:nvSpPr>
          <p:spPr>
            <a:xfrm flipH="1" flipV="1">
              <a:off x="2743200" y="17524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2" name="Line 12"/>
            <p:cNvSpPr/>
            <p:nvPr/>
          </p:nvSpPr>
          <p:spPr>
            <a:xfrm flipH="1" flipV="1">
              <a:off x="2971440" y="1980720"/>
              <a:ext cx="2057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3" name="Line 13"/>
            <p:cNvSpPr/>
            <p:nvPr/>
          </p:nvSpPr>
          <p:spPr>
            <a:xfrm flipH="1">
              <a:off x="3581280" y="2362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4" name="Line 14"/>
            <p:cNvSpPr/>
            <p:nvPr/>
          </p:nvSpPr>
          <p:spPr>
            <a:xfrm flipH="1">
              <a:off x="2666880" y="2362320"/>
              <a:ext cx="2362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5" name="Line 15"/>
            <p:cNvSpPr/>
            <p:nvPr/>
          </p:nvSpPr>
          <p:spPr>
            <a:xfrm flipH="1">
              <a:off x="2743200" y="236232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36" name="Group 19"/>
          <p:cNvGrpSpPr/>
          <p:nvPr/>
        </p:nvGrpSpPr>
        <p:grpSpPr>
          <a:xfrm>
            <a:off x="3429000" y="4114800"/>
            <a:ext cx="5333760" cy="914400"/>
            <a:chOff x="3429000" y="4114800"/>
            <a:chExt cx="5333760" cy="914400"/>
          </a:xfrm>
        </p:grpSpPr>
        <p:sp>
          <p:nvSpPr>
            <p:cNvPr id="837" name="Text Box 17"/>
            <p:cNvSpPr/>
            <p:nvPr/>
          </p:nvSpPr>
          <p:spPr>
            <a:xfrm>
              <a:off x="4875480" y="4114800"/>
              <a:ext cx="388728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 reference na G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raphics2D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38" name="Line 18"/>
            <p:cNvSpPr/>
            <p:nvPr/>
          </p:nvSpPr>
          <p:spPr>
            <a:xfrm flipH="1">
              <a:off x="3429000" y="4343400"/>
              <a:ext cx="1446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8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EF06-B6C6-4FC5-A834-810BD5CB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0" y="1440"/>
          <a:ext cx="7056360" cy="565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56360" cy="56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9"/>
          <p:cNvGrpSpPr/>
          <p:nvPr/>
        </p:nvGrpSpPr>
        <p:grpSpPr>
          <a:xfrm>
            <a:off x="3733920" y="456840"/>
            <a:ext cx="4190760" cy="1266840"/>
            <a:chOff x="3733920" y="456840"/>
            <a:chExt cx="4190760" cy="1266840"/>
          </a:xfrm>
        </p:grpSpPr>
        <p:sp>
          <p:nvSpPr>
            <p:cNvPr id="845" name="Line 7"/>
            <p:cNvSpPr/>
            <p:nvPr/>
          </p:nvSpPr>
          <p:spPr>
            <a:xfrm flipH="1" flipV="1">
              <a:off x="3733920" y="45684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46" name="Text Box 8"/>
            <p:cNvSpPr/>
            <p:nvPr/>
          </p:nvSpPr>
          <p:spPr>
            <a:xfrm>
              <a:off x="4419720" y="1143000"/>
              <a:ext cx="350496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sa gradijentom od plavog do žutog. Pomoću klase Graphics2D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47" name="Group 13"/>
          <p:cNvGrpSpPr/>
          <p:nvPr/>
        </p:nvGrpSpPr>
        <p:grpSpPr>
          <a:xfrm>
            <a:off x="5181120" y="568440"/>
            <a:ext cx="3734280" cy="580680"/>
            <a:chOff x="5181120" y="568440"/>
            <a:chExt cx="3734280" cy="580680"/>
          </a:xfrm>
        </p:grpSpPr>
        <p:sp>
          <p:nvSpPr>
            <p:cNvPr id="848" name="Text Box 11"/>
            <p:cNvSpPr/>
            <p:nvPr/>
          </p:nvSpPr>
          <p:spPr>
            <a:xfrm>
              <a:off x="5867280" y="568440"/>
              <a:ext cx="304812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elipse primjenom gradijent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49" name="Line 12"/>
            <p:cNvSpPr/>
            <p:nvPr/>
          </p:nvSpPr>
          <p:spPr>
            <a:xfrm flipH="1">
              <a:off x="5181120" y="762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50" name="Group 17"/>
          <p:cNvGrpSpPr/>
          <p:nvPr/>
        </p:nvGrpSpPr>
        <p:grpSpPr>
          <a:xfrm>
            <a:off x="4343040" y="1447920"/>
            <a:ext cx="3733920" cy="337320"/>
            <a:chOff x="4343040" y="1447920"/>
            <a:chExt cx="3733920" cy="337320"/>
          </a:xfrm>
        </p:grpSpPr>
        <p:sp>
          <p:nvSpPr>
            <p:cNvPr id="851" name="Text Box 15"/>
            <p:cNvSpPr/>
            <p:nvPr/>
          </p:nvSpPr>
          <p:spPr>
            <a:xfrm>
              <a:off x="5029200" y="1447920"/>
              <a:ext cx="30477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Granica širin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pi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sel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52" name="Line 16"/>
            <p:cNvSpPr/>
            <p:nvPr/>
          </p:nvSpPr>
          <p:spPr>
            <a:xfrm flipH="1">
              <a:off x="4343040" y="1641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53" name="Group 21"/>
          <p:cNvGrpSpPr/>
          <p:nvPr/>
        </p:nvGrpSpPr>
        <p:grpSpPr>
          <a:xfrm>
            <a:off x="4191120" y="2590560"/>
            <a:ext cx="4190760" cy="1266840"/>
            <a:chOff x="4191120" y="2590560"/>
            <a:chExt cx="4190760" cy="1266840"/>
          </a:xfrm>
        </p:grpSpPr>
        <p:sp>
          <p:nvSpPr>
            <p:cNvPr id="854" name="Line 22"/>
            <p:cNvSpPr/>
            <p:nvPr/>
          </p:nvSpPr>
          <p:spPr>
            <a:xfrm flipH="1" flipV="1">
              <a:off x="4191120" y="259056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55" name="Text Box 23"/>
            <p:cNvSpPr/>
            <p:nvPr/>
          </p:nvSpPr>
          <p:spPr>
            <a:xfrm>
              <a:off x="4876920" y="3276720"/>
              <a:ext cx="350496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slike za objekat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exturePa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7" dur="1" fill="hold"/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2611-0BC4-4371-BC95-897F8E2E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0" y="4680"/>
          <a:ext cx="7056360" cy="54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56360" cy="54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0" name="Line 7"/>
          <p:cNvSpPr/>
          <p:nvPr/>
        </p:nvSpPr>
        <p:spPr>
          <a:xfrm flipH="1" flipV="1">
            <a:off x="3733920" y="45684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4572000" y="685800"/>
            <a:ext cx="3505320" cy="58068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Kreiranj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exturePa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kt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iz slik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62" name="Line 10"/>
          <p:cNvSpPr/>
          <p:nvPr/>
        </p:nvSpPr>
        <p:spPr>
          <a:xfrm flipH="1" flipV="1">
            <a:off x="2895120" y="1066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63" name="Text Box 11"/>
          <p:cNvSpPr/>
          <p:nvPr/>
        </p:nvSpPr>
        <p:spPr>
          <a:xfrm>
            <a:off x="3657600" y="1219320"/>
            <a:ext cx="3505320" cy="580680"/>
          </a:xfrm>
          <a:prstGeom prst="rect">
            <a:avLst/>
          </a:prstGeom>
          <a:solidFill>
            <a:srgbClr val="f0f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Crtanje zaobljenog pravougaonika, popunjenog slikom koja se ponavlja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864" name="Group 17"/>
          <p:cNvGrpSpPr/>
          <p:nvPr/>
        </p:nvGrpSpPr>
        <p:grpSpPr>
          <a:xfrm>
            <a:off x="3276360" y="1676520"/>
            <a:ext cx="5715360" cy="900000"/>
            <a:chOff x="3276360" y="1676520"/>
            <a:chExt cx="5715360" cy="900000"/>
          </a:xfrm>
        </p:grpSpPr>
        <p:sp>
          <p:nvSpPr>
            <p:cNvPr id="865" name="Text Box 12"/>
            <p:cNvSpPr/>
            <p:nvPr/>
          </p:nvSpPr>
          <p:spPr>
            <a:xfrm>
              <a:off x="6629400" y="1752480"/>
              <a:ext cx="2362320" cy="82404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luka sa bijelom granicom debljine 6 piksel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6" name="Line 13"/>
            <p:cNvSpPr/>
            <p:nvPr/>
          </p:nvSpPr>
          <p:spPr>
            <a:xfrm flipH="1">
              <a:off x="6019560" y="20574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7" name="Line 14"/>
            <p:cNvSpPr/>
            <p:nvPr/>
          </p:nvSpPr>
          <p:spPr>
            <a:xfrm flipH="1" flipV="1">
              <a:off x="3276360" y="1676520"/>
              <a:ext cx="3352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8" name="Line 16"/>
            <p:cNvSpPr/>
            <p:nvPr/>
          </p:nvSpPr>
          <p:spPr>
            <a:xfrm flipH="1" flipV="1">
              <a:off x="4343400" y="1904760"/>
              <a:ext cx="2286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69" name="Group 21"/>
          <p:cNvGrpSpPr/>
          <p:nvPr/>
        </p:nvGrpSpPr>
        <p:grpSpPr>
          <a:xfrm>
            <a:off x="5181120" y="3006720"/>
            <a:ext cx="2819880" cy="337320"/>
            <a:chOff x="5181120" y="3006720"/>
            <a:chExt cx="2819880" cy="337320"/>
          </a:xfrm>
        </p:grpSpPr>
        <p:sp>
          <p:nvSpPr>
            <p:cNvPr id="870" name="Text Box 19"/>
            <p:cNvSpPr/>
            <p:nvPr/>
          </p:nvSpPr>
          <p:spPr>
            <a:xfrm>
              <a:off x="5867280" y="3006720"/>
              <a:ext cx="213372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una zelena linij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1" name="Line 20"/>
            <p:cNvSpPr/>
            <p:nvPr/>
          </p:nvSpPr>
          <p:spPr>
            <a:xfrm flipH="1">
              <a:off x="518112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72" name="Group 22"/>
          <p:cNvGrpSpPr/>
          <p:nvPr/>
        </p:nvGrpSpPr>
        <p:grpSpPr>
          <a:xfrm>
            <a:off x="4648320" y="4302000"/>
            <a:ext cx="2818800" cy="337320"/>
            <a:chOff x="4648320" y="4302000"/>
            <a:chExt cx="2818800" cy="337320"/>
          </a:xfrm>
        </p:grpSpPr>
        <p:sp>
          <p:nvSpPr>
            <p:cNvPr id="873" name="Text Box 23"/>
            <p:cNvSpPr/>
            <p:nvPr/>
          </p:nvSpPr>
          <p:spPr>
            <a:xfrm>
              <a:off x="5333760" y="4302000"/>
              <a:ext cx="21333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Isprekidana linij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4" name="Line 24"/>
            <p:cNvSpPr/>
            <p:nvPr/>
          </p:nvSpPr>
          <p:spPr>
            <a:xfrm flipH="1">
              <a:off x="4648320" y="44956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75" name="Group 25"/>
          <p:cNvGrpSpPr/>
          <p:nvPr/>
        </p:nvGrpSpPr>
        <p:grpSpPr>
          <a:xfrm>
            <a:off x="3505320" y="4800240"/>
            <a:ext cx="4190760" cy="1023480"/>
            <a:chOff x="3505320" y="4800240"/>
            <a:chExt cx="4190760" cy="1023480"/>
          </a:xfrm>
        </p:grpSpPr>
        <p:sp>
          <p:nvSpPr>
            <p:cNvPr id="876" name="Line 26"/>
            <p:cNvSpPr/>
            <p:nvPr/>
          </p:nvSpPr>
          <p:spPr>
            <a:xfrm flipH="1" flipV="1">
              <a:off x="3505320" y="480024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7" name="Text Box 27"/>
            <p:cNvSpPr/>
            <p:nvPr/>
          </p:nvSpPr>
          <p:spPr>
            <a:xfrm>
              <a:off x="4191120" y="5486400"/>
              <a:ext cx="35049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isprekidane žute linij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1" dur="1" fill="hold"/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616A-79AB-4022-BCBD-09B24CF20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0" y="0"/>
          <a:ext cx="7075440" cy="72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75440" cy="72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3" name="Picture 5" descr="Shapes"/>
          <p:cNvPicPr/>
          <p:nvPr/>
        </p:nvPicPr>
        <p:blipFill>
          <a:blip r:embed="rId3"/>
          <a:stretch/>
        </p:blipFill>
        <p:spPr>
          <a:xfrm>
            <a:off x="1371600" y="4648320"/>
            <a:ext cx="441972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C01-5D5C-45FD-87E7-4B7E0EE0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9a75e"/>
                </a:solidFill>
                <a:latin typeface="Arial"/>
              </a:rPr>
              <a:t>General Paths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al path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– figura kreirana od pravih linija i složenih krivi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GeneralPa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ove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zadaje prvu tačk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ine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crta liniju do sljedeće tačke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ws a line to the next point in the path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losePa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mpletiraošti obli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od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transl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oristi se za pomjeranje koordinatnog početka za crtanj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od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rotate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Graphics2D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oristi se za rotiranje sljedećeg oblika koji se prikazuj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9EA6-1A4A-4067-A1B0-319B5DBC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88" name="Object 6"/>
          <p:cNvGraphicFramePr/>
          <p:nvPr/>
        </p:nvGraphicFramePr>
        <p:xfrm>
          <a:off x="0" y="6480"/>
          <a:ext cx="7056360" cy="56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5636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0" name="Group 8"/>
          <p:cNvGrpSpPr/>
          <p:nvPr/>
        </p:nvGrpSpPr>
        <p:grpSpPr>
          <a:xfrm>
            <a:off x="4343040" y="4819680"/>
            <a:ext cx="3733920" cy="337320"/>
            <a:chOff x="4343040" y="4819680"/>
            <a:chExt cx="3733920" cy="337320"/>
          </a:xfrm>
        </p:grpSpPr>
        <p:sp>
          <p:nvSpPr>
            <p:cNvPr id="891" name="Text Box 9"/>
            <p:cNvSpPr/>
            <p:nvPr/>
          </p:nvSpPr>
          <p:spPr>
            <a:xfrm>
              <a:off x="5029200" y="4819680"/>
              <a:ext cx="304776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Postavljanje početne tačk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92" name="Line 10"/>
            <p:cNvSpPr/>
            <p:nvPr/>
          </p:nvSpPr>
          <p:spPr>
            <a:xfrm flipH="1">
              <a:off x="4343040" y="5124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93" name="Group 13"/>
          <p:cNvGrpSpPr/>
          <p:nvPr/>
        </p:nvGrpSpPr>
        <p:grpSpPr>
          <a:xfrm>
            <a:off x="3733560" y="3505320"/>
            <a:ext cx="5181120" cy="914400"/>
            <a:chOff x="3733560" y="3505320"/>
            <a:chExt cx="5181120" cy="914400"/>
          </a:xfrm>
        </p:grpSpPr>
        <p:sp>
          <p:nvSpPr>
            <p:cNvPr id="894" name="Text Box 11"/>
            <p:cNvSpPr/>
            <p:nvPr/>
          </p:nvSpPr>
          <p:spPr>
            <a:xfrm>
              <a:off x="5327640" y="3505320"/>
              <a:ext cx="358704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Kreiranje objekt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GeneralPath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95" name="Line 12"/>
            <p:cNvSpPr/>
            <p:nvPr/>
          </p:nvSpPr>
          <p:spPr>
            <a:xfrm flipH="1">
              <a:off x="3733560" y="3733920"/>
              <a:ext cx="159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7162920" y="1166400"/>
            <a:ext cx="914400" cy="21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5" dur="1" fill="hold"/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2F49-9B11-49D1-AD8B-FE0EDF992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899" name="Object 4"/>
          <p:cNvGraphicFramePr/>
          <p:nvPr/>
        </p:nvGraphicFramePr>
        <p:xfrm>
          <a:off x="0" y="3240"/>
          <a:ext cx="7056360" cy="47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056360" cy="47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1" name="Group 9"/>
          <p:cNvGrpSpPr/>
          <p:nvPr/>
        </p:nvGrpSpPr>
        <p:grpSpPr>
          <a:xfrm>
            <a:off x="3657240" y="628200"/>
            <a:ext cx="4191480" cy="1023480"/>
            <a:chOff x="3657240" y="628200"/>
            <a:chExt cx="4191480" cy="1023480"/>
          </a:xfrm>
        </p:grpSpPr>
        <p:sp>
          <p:nvSpPr>
            <p:cNvPr id="902" name="Line 7"/>
            <p:cNvSpPr/>
            <p:nvPr/>
          </p:nvSpPr>
          <p:spPr>
            <a:xfrm flipH="1" flipV="1">
              <a:off x="3657240" y="62820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03" name="Text Box 8"/>
            <p:cNvSpPr/>
            <p:nvPr/>
          </p:nvSpPr>
          <p:spPr>
            <a:xfrm>
              <a:off x="4952880" y="1314360"/>
              <a:ext cx="289584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Dodaje liniju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904" name="Group 13"/>
          <p:cNvGrpSpPr/>
          <p:nvPr/>
        </p:nvGrpSpPr>
        <p:grpSpPr>
          <a:xfrm>
            <a:off x="1905120" y="1066320"/>
            <a:ext cx="4724280" cy="1023480"/>
            <a:chOff x="1905120" y="1066320"/>
            <a:chExt cx="4724280" cy="1023480"/>
          </a:xfrm>
        </p:grpSpPr>
        <p:sp>
          <p:nvSpPr>
            <p:cNvPr id="905" name="Line 11"/>
            <p:cNvSpPr/>
            <p:nvPr/>
          </p:nvSpPr>
          <p:spPr>
            <a:xfrm flipH="1" flipV="1">
              <a:off x="1905120" y="106632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06" name="Text Box 12"/>
            <p:cNvSpPr/>
            <p:nvPr/>
          </p:nvSpPr>
          <p:spPr>
            <a:xfrm>
              <a:off x="3200400" y="1752480"/>
              <a:ext cx="342900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Linija od posljednje do prv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907" name="Group 14"/>
          <p:cNvGrpSpPr/>
          <p:nvPr/>
        </p:nvGrpSpPr>
        <p:grpSpPr>
          <a:xfrm>
            <a:off x="3048120" y="2590920"/>
            <a:ext cx="4190400" cy="1022760"/>
            <a:chOff x="3048120" y="2590920"/>
            <a:chExt cx="4190400" cy="1022760"/>
          </a:xfrm>
        </p:grpSpPr>
        <p:sp>
          <p:nvSpPr>
            <p:cNvPr id="908" name="Line 15"/>
            <p:cNvSpPr/>
            <p:nvPr/>
          </p:nvSpPr>
          <p:spPr>
            <a:xfrm flipH="1" flipV="1">
              <a:off x="3048120" y="2590920"/>
              <a:ext cx="21333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09" name="Text Box 16"/>
            <p:cNvSpPr/>
            <p:nvPr/>
          </p:nvSpPr>
          <p:spPr>
            <a:xfrm>
              <a:off x="4343040" y="3276360"/>
              <a:ext cx="2895480" cy="33732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ta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ija za približno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 </a:t>
              </a: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epeni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910" name="Group 17"/>
          <p:cNvGrpSpPr/>
          <p:nvPr/>
        </p:nvGrpSpPr>
        <p:grpSpPr>
          <a:xfrm>
            <a:off x="2514600" y="3962520"/>
            <a:ext cx="4952160" cy="1266120"/>
            <a:chOff x="2514600" y="3962520"/>
            <a:chExt cx="4952160" cy="1266120"/>
          </a:xfrm>
        </p:grpSpPr>
        <p:sp>
          <p:nvSpPr>
            <p:cNvPr id="911" name="Line 18"/>
            <p:cNvSpPr/>
            <p:nvPr/>
          </p:nvSpPr>
          <p:spPr>
            <a:xfrm flipH="1" flipV="1">
              <a:off x="2514600" y="3962520"/>
              <a:ext cx="25214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12" name="Text Box 19"/>
            <p:cNvSpPr/>
            <p:nvPr/>
          </p:nvSpPr>
          <p:spPr>
            <a:xfrm>
              <a:off x="4044960" y="4647960"/>
              <a:ext cx="3421800" cy="580680"/>
            </a:xfrm>
            <a:prstGeom prst="rect">
              <a:avLst/>
            </a:prstGeom>
            <a:solidFill>
              <a:srgbClr val="f0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Times New Roman"/>
                </a:rPr>
                <a:t>Crtanje zvijezda, sa datim uglom, oko koordinatnog početka (vidi sliku)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9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6358-3DAD-408D-85D6-F146F238F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914" name="Object 6"/>
          <p:cNvGraphicFramePr/>
          <p:nvPr/>
        </p:nvGraphicFramePr>
        <p:xfrm>
          <a:off x="0" y="0"/>
          <a:ext cx="7056360" cy="32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B2E8-5E2F-4E67-A0AE-B5520BAC5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graphicFrame>
        <p:nvGraphicFramePr>
          <p:cNvPr id="917" name="Object 4"/>
          <p:cNvGraphicFramePr/>
          <p:nvPr/>
        </p:nvGraphicFramePr>
        <p:xfrm>
          <a:off x="0" y="0"/>
          <a:ext cx="705636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9" name="Picture 5" descr="Shapes2"/>
          <p:cNvPicPr/>
          <p:nvPr/>
        </p:nvPicPr>
        <p:blipFill>
          <a:blip r:embed="rId3"/>
          <a:stretch/>
        </p:blipFill>
        <p:spPr>
          <a:xfrm>
            <a:off x="1905120" y="17524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E0B3-3760-4659-B4A2-B3B9469E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12.1  </a:t>
            </a:r>
            <a:r>
              <a:rPr b="1" lang="hr-HR" sz="3600" spc="-1" strike="noStrike">
                <a:solidFill>
                  <a:srgbClr val="f9a75e"/>
                </a:solidFill>
                <a:latin typeface="Arial"/>
              </a:rPr>
              <a:t>Uvod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i sistem u Jav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Gornji lijevi ugao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UI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mponen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e ima koordinat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horizontal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y 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verti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ordinat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Jedinica mjere je piksel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xel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163E-B4B5-4EDA-98D8-45158B7AA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680" y="54828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12.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ordinat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i sistem u Javi. Jedinica mjere je piksel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AAEMYSK0"/>
          <p:cNvPicPr/>
          <p:nvPr/>
        </p:nvPicPr>
        <p:blipFill>
          <a:blip r:embed="rId1"/>
          <a:stretch/>
        </p:blipFill>
        <p:spPr>
          <a:xfrm>
            <a:off x="914400" y="2286000"/>
            <a:ext cx="69343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2E4-5AA3-401C-9046-A2998F2E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Napomena o portabilnosti 12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1200" y="1873080"/>
            <a:ext cx="7468920" cy="20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i monitori imaju različite rezolucije. Grafički elementi će izgledati različito (različite veličine) zavisno od rezolucij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8:26:58Z</dcterms:created>
  <dc:creator>PT</dc:creator>
  <dc:description/>
  <dc:language>en-US</dc:language>
  <cp:lastModifiedBy>Goran Sukovic</cp:lastModifiedBy>
  <dcterms:modified xsi:type="dcterms:W3CDTF">2018-12-25T12:39:20Z</dcterms:modified>
  <cp:revision>1064</cp:revision>
  <dc:subject/>
  <dc:title>1</dc:title>
</cp:coreProperties>
</file>