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09E8-C062-4932-8959-B4CB3F1A667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05E1-0FBE-45C8-B281-6D5004552B4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AB28-BE93-407C-8173-A41F7EB5745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3138-2ECB-4CCF-9C47-D401105B2E5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7F5A-62B4-414E-A259-9DAFB71BB53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8A11-A2DB-4988-8BA5-3C6B012ECF3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4F59-8E8C-44A8-8399-01581DA3F04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0DB9-88B8-4047-A7E8-4A557310202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3A4D-F200-4B82-9F99-3C43F5127E1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C69B-7237-495B-B921-4B551A05B89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FAB8-D214-421C-84E4-4413038BBF5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771C-4FE2-490B-B235-C2CB6A32AA3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16D4-6DE5-48BA-9EFD-E47743811E6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D751-DE41-4EBC-9F24-35F6BC03897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A06F-5C60-47B1-ACCB-598C6BC4568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F61B-9BA9-4A9F-B25D-CE0A756398A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F3DD-1FDE-4425-9D1B-DBB8899C1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F2B0-3E87-442F-B2E1-DA0A0F72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A9CC3-8F44-401E-AB1A-D17147C4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47F8E-896B-41D2-A3AC-5E82351B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93827-CB33-4819-8148-531D1818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2D234-1BA1-45BF-B966-2558DAB9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21BAAA-67D8-44BB-A711-ECF3BE27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12B48-D00A-41D2-8F5C-B8DD022B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62238-330C-4E52-935A-53FDD3FB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0B594-FB65-43CA-B5FD-4317EEB26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79FB1-DB68-4E1C-8A68-FC157400A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3B73D-E858-44C6-96EE-310B974AB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DCCA-545A-401C-983D-6D3D7F7C3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B77CD5-6C3F-445A-B13A-8DD1E43B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8215C-E102-4BEA-A207-8CEAB915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72BA51-EB93-4A40-9F0D-9AD64BA8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1DDB7E-BB57-47DE-8FC5-1EAA9CC0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0FFB59-3BA5-4D80-BFEA-C6961C4D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F366B6-DE86-4D55-9E47-76670409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B6EE6-44DE-4DF6-A90B-17E80E84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D9D2C-2A45-46CB-9088-FA3BC2B5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36A116-2BA2-4FF7-AF10-2FD20FB8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FF8D89-230F-430F-9F20-D26903F91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1A4E-1E8F-4655-9376-B34E6939E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81A896-90A0-4AAF-BBE3-5CA2CAE90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F2A94-616D-478B-8144-598AA262C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E150C-C92E-4877-9771-A1106EB2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7EAEB-5141-47B9-908E-41F32C11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C59A13-73FD-46D4-B22B-B8C0A284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83280-829C-45FA-91BA-117707AB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A460B-1C57-44ED-8CB2-2F719FA9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A7AF3-82CF-41A1-B4EF-78B15D5D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097DF-9A2C-4017-9C99-C57D19DA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93BEC-7119-41C5-AD41-30D0CC6C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D4DF-EA0F-4A0C-877E-455744956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AD0FA-0707-433E-933D-374F0865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561C2-6AFE-4882-BE30-6FD93A4E3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51164-0CDD-478D-977A-32560F1B4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42FEC1-0B11-48B5-8CE1-7B9EA002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233700-39E2-472E-B1F4-EFE00E58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8C82F9-BB72-458E-82C7-317DD003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7981B-47A8-45FE-BB9E-FAA16616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6981E1-316A-4559-B3F8-D162B279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80D262-EAFA-420A-AA4F-5DB825AA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F9B0D-8A72-443A-847E-878ECBCD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25D8-6307-403B-B5FC-6A3980EF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B4E583-EA3D-4C43-83B1-47FC8924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D07A2D-B7FD-4534-92D1-FCF45D38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58B678-5907-4CA2-AE64-8ABBC732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B0DC4D-31BC-4912-8517-1A87AC1B6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8A40B-6148-4427-960B-CD3599FCA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A5EB-E535-441F-A95E-AB1DD90A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22F5-97B1-4E3A-9B5A-BC72CEB6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AEF5-1766-47BA-BB88-48CD5B61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0689-D7EB-48D2-A265-510FA1FA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B5E7-2131-4801-843D-F97A04B9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39F9-21E2-44E1-8A8C-F91AE078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87C7-AFC2-4104-B3D8-77F03207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0F16-F30D-4360-8F66-C7E350DB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E640-4255-46A9-BFDF-D5471060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2B1A-B22E-45D5-ACFC-560ED6717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8F4C-08D7-4BBA-A798-687F6D14A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B0CE6-33B1-43C7-BF69-BD927DADF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6AAA1-CA73-4C01-AB92-10750204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31A6F-CA2D-4D23-A9E3-2CD3A0B1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A4F47-FF2F-4846-9A79-60224B73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0937A-67B0-496E-8CD9-CECA312A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D4C7-AF95-448B-8E7F-07EA31DB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07802-8079-4E15-B9AC-6DD4CABA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292A3-8FCD-4350-AC8F-D4C7940C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9D07A-9164-4C36-BC00-FA405309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1D9F3-4664-4997-B4D3-0D1015E6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A2847-CDA1-4658-B917-23B5E265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858E1-D0B4-4D08-868E-14E0FC8A4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4F151-7D32-41F5-886F-CBB7DAFB9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96CAF-8F3F-47F7-9521-F7D264DD8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128D3-BD86-4995-AF75-45DAA78C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3266D-8E45-416C-A741-D334F7E5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BC39-251F-41F2-9839-2F658F20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2BD53-6BDC-44AE-869E-F7AF0E49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90988-DD38-4147-87A3-0973EE41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C45C1-33A8-43FE-AE5A-2DC30DEA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C1E6A-0A4A-4E18-8CD1-B2A72F8A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F2FB0-D3BA-4080-AE69-E8C08C1A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14979-668C-4781-9BBF-CF5753D3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85E99-D31D-4B24-9207-DB9F4016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53082-28AF-463A-A330-8BD30FBF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0B8DB-CFFB-4BF4-9A55-98A95662D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17E0A-C1B8-4663-9057-B34D8A301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BAA0-9688-4E6F-AD00-A250A121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43A15-6AB7-48FB-8723-30B19177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E1CB9-878B-48C8-B680-CD69CCAE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8A585-5621-4CBF-8F09-58B0D759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399B8-46F3-4947-A12B-CDE5C073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99E52-EC59-4344-A6C2-C63D0BB9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5174C-2F54-4AD8-A297-4ED1503C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2BC10-5431-453F-B341-CCBB6806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0A465-EF7C-4CEF-8691-FB0F264F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76FFE-B7E6-4DF4-88E8-E1143997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CE899-2122-4868-87A7-114818E29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A2CE-2066-4CEA-8D02-845DF3DE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BE0A3-A359-46E1-8E4C-299CDE4D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A022A-636E-437C-AB3F-E68508BDE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7EFC3-4ACB-41B5-917A-9363521C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E75A2-13F9-4679-B835-0ACBFA67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2EC7E-46A7-4CD9-A187-FFC229C4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8AE9F-5977-4E96-B3BD-7B6D1CFA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B4C32-1614-4320-9037-B6C5789B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8EAC6-1785-46C1-877A-9DB1A217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F9AA0-9050-4B6A-B6A2-0281FFDF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DD113-791C-420A-BF6C-F9C96336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1C64-71F6-4DE0-8315-1FCA17E3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CC35E-79D5-43E9-B412-A9ED91F9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D1E40-70D9-4439-A96E-E086AC667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F2EF5-3D7F-4ECA-A4BF-5DAFF8EE0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2C99C-22B8-49A3-A9F8-C65DFCED7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B5ABC-3418-4C9E-95AF-919290A0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7A41C-E542-4581-AC30-85336FED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06D0C-8826-4C67-B8C3-44043D47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F39D5-BF06-4627-978D-146FF76A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B0B62-9569-4D30-85D5-76B05434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6B37D-1DCC-4795-B06B-B15AA8A9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AC5F-E614-45A2-A47E-0CFC2B58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D50A2-DB3F-4DD1-8230-9C10FD6A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2CF70-3B50-4E8F-9475-505C0595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76A63-A57D-42E5-A703-C77A15B4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B37F5-7EED-46E0-A5EA-CC037E200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D5703-9769-4ED6-A390-876E38F01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2A6DC-578D-4551-89F1-38C6FDC27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4AFFC-29BF-4E42-8370-CDD78871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B2FCA-BF1D-4E74-B507-13CBF5B0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34B43-5A98-4A84-855E-89C8E07C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0F2ED-1197-40BE-AAC8-69ADF913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D4DE-0253-4530-8FCB-07712A97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98EBE-587A-4C4F-B249-CB1E730D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0AC3D-40EF-48D9-9BC3-29852FE6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C53F8-F67E-4E34-A829-947F58CA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D2DC7-75F1-4397-B717-66584E27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07EE9-6F5E-4EAF-B216-4FEF0B94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C6CD1-B723-4615-8264-8A484CC91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6FF84-03DF-4CD7-AE84-592D8DF5C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3C6A0-0D62-43E6-AF00-693698A10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5EEA3-03D5-4E2A-AF94-B48B1E14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0C6AA-ECAF-4E18-A3C5-767F0F52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8EE1-CBD4-463A-A7C8-8017D9B7F6ED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59CA-72A0-4C24-8476-6B99FFBE4CDB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AA40-67A4-47C6-99F9-964E6C772632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D3F2-A41F-4943-AB7B-D09AE201D344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6EBC-6611-4DE8-B42C-4E4CF80DFFE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8B49-F12F-41CE-A227-7188941083E7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1381-1D63-4042-991D-AB3F2CA993A5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035B-55DA-4791-8CE6-F3891484F372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20A1-A3CF-46FC-AF07-D90DCCB12190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FDE9-41A6-44A2-926A-305638E2510E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0A57-E532-49C8-84B4-E19C8F9AC815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FBAD-FE14-4CED-9AEB-59275652B5B4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inansijski menad</a:t>
            </a:r>
            <a:r>
              <a:rPr b="0" lang="sr-Latn-CS" sz="3200" spc="-1" strike="noStrike">
                <a:solidFill>
                  <a:srgbClr val="000000"/>
                </a:solidFill>
                <a:latin typeface="Bookman Old Style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me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Finansijsko planiran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inimalno potrebna akumulacij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457200" y="1600200"/>
          <a:ext cx="8229600" cy="4043520"/>
        </p:xfrm>
        <a:graphic>
          <a:graphicData uri="http://schemas.openxmlformats.org/drawingml/2006/table">
            <a:tbl>
              <a:tblPr/>
              <a:tblGrid>
                <a:gridCol w="1143000"/>
                <a:gridCol w="7086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v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opstveni kapital i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obaveze na kraju prethodne god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vezana sredstva na kraju prethodne god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dostatak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ih izvora finansiranja krajem prethodne godine (2-1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 i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obaveze po drugoj varijanti planskog bilansa st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vezana sredstva po drugoj varijanti bilansa stan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nedostatak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ih izvora finansiranja krajem planske godine (4-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ebna minimalna akumulacija za odrzavanje nepromijenjene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finansijske ravnoteze (6-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aksimalno potrebna akumulacij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228600" y="1676520"/>
          <a:ext cx="8534520" cy="3031920"/>
        </p:xfrm>
        <a:graphic>
          <a:graphicData uri="http://schemas.openxmlformats.org/drawingml/2006/table">
            <a:tbl>
              <a:tblPr/>
              <a:tblGrid>
                <a:gridCol w="1185840"/>
                <a:gridCol w="7348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v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 i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obaveze po drugoj varijanti planskog bilansa st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vezana sredstva po drugoj varijanti plankog bilansa st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nedostatak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ih izvora finansiranja (2-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 za ulaganja u nove investicione programe u narednim godin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ebna maksimalna akumulacija (3+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Mogu</a:t>
            </a:r>
            <a:r>
              <a:rPr b="0" lang="sr-Latn-CS" sz="2900" spc="-1" strike="noStrike">
                <a:solidFill>
                  <a:srgbClr val="464653"/>
                </a:solidFill>
                <a:latin typeface="Bookman Old Style"/>
              </a:rPr>
              <a:t>ć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nost ostvarenja minimalno i maksimalno potrebne akumulacije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va varijanta bilansa upjeha i st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P</a:t>
            </a:r>
            <a:r>
              <a:rPr b="0" i="1" lang="sr-Latn-CS" sz="2300" spc="-1" strike="noStrike">
                <a:solidFill>
                  <a:srgbClr val="ff0000"/>
                </a:solidFill>
                <a:latin typeface="Gill Sans MT"/>
              </a:rPr>
              <a:t>romjena </a:t>
            </a: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prodajnih cijena (pariteta prodajnih i nabavnih cijena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P</a:t>
            </a:r>
            <a:r>
              <a:rPr b="0" i="1" lang="sr-Latn-CS" sz="2300" spc="-1" strike="noStrike">
                <a:solidFill>
                  <a:srgbClr val="ff0000"/>
                </a:solidFill>
                <a:latin typeface="Gill Sans MT"/>
              </a:rPr>
              <a:t>romjena</a:t>
            </a: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 obima proizvodnje i prodaj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Kona</a:t>
            </a:r>
            <a:r>
              <a:rPr b="0" lang="sr-Latn-CS" sz="2600" spc="-1" strike="noStrike">
                <a:solidFill>
                  <a:srgbClr val="000000"/>
                </a:solidFill>
                <a:latin typeface="Gill Sans MT"/>
              </a:rPr>
              <a:t>č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a varijanta planskog bilansa uspjeha i st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oslovni leverid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8"/>
          <p:cNvSpPr/>
          <p:nvPr/>
        </p:nvSpPr>
        <p:spPr>
          <a:xfrm>
            <a:off x="0" y="828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3" name="Object 10"/>
          <p:cNvGraphicFramePr/>
          <p:nvPr/>
        </p:nvGraphicFramePr>
        <p:xfrm>
          <a:off x="304920" y="2438280"/>
          <a:ext cx="8001000" cy="9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438280"/>
                    <a:ext cx="80010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5" name="Object 11"/>
          <p:cNvGraphicFramePr/>
          <p:nvPr/>
        </p:nvGraphicFramePr>
        <p:xfrm>
          <a:off x="762120" y="4343400"/>
          <a:ext cx="7391160" cy="85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6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343400"/>
                    <a:ext cx="73911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nsijski leverid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68" name="Object 8"/>
          <p:cNvGraphicFramePr/>
          <p:nvPr/>
        </p:nvGraphicFramePr>
        <p:xfrm>
          <a:off x="0" y="2209680"/>
          <a:ext cx="84121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84121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Object 9"/>
          <p:cNvGraphicFramePr/>
          <p:nvPr/>
        </p:nvGraphicFramePr>
        <p:xfrm>
          <a:off x="533520" y="4038480"/>
          <a:ext cx="786744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038480"/>
                    <a:ext cx="7867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lo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ni leverid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73" name="Object 5"/>
          <p:cNvGraphicFramePr/>
          <p:nvPr/>
        </p:nvGraphicFramePr>
        <p:xfrm>
          <a:off x="0" y="1828800"/>
          <a:ext cx="8534520" cy="92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853452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5" name="Object 6"/>
          <p:cNvGraphicFramePr/>
          <p:nvPr/>
        </p:nvGraphicFramePr>
        <p:xfrm>
          <a:off x="304920" y="3429000"/>
          <a:ext cx="8458200" cy="91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429000"/>
                    <a:ext cx="84582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0"/>
          <p:cNvSpPr/>
          <p:nvPr/>
        </p:nvSpPr>
        <p:spPr>
          <a:xfrm>
            <a:off x="-990720" y="1009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Object 11"/>
          <p:cNvGraphicFramePr/>
          <p:nvPr/>
        </p:nvGraphicFramePr>
        <p:xfrm>
          <a:off x="380880" y="4952880"/>
          <a:ext cx="844884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952880"/>
                    <a:ext cx="84488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nsijsko planiranj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ski bilans uspjeh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ski bilans st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 novcanih toko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 dugorocnih ulag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nsijsko planiranj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proda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nabavk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proizvodn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ulaganja u stalna sredst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kadro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lanski bilans uspjeha – prva varijant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42" name="Content Placeholder 3" descr=""/>
          <p:cNvPicPr/>
          <p:nvPr/>
        </p:nvPicPr>
        <p:blipFill>
          <a:blip r:embed="rId1"/>
          <a:stretch/>
        </p:blipFill>
        <p:spPr>
          <a:xfrm>
            <a:off x="1603440" y="1225440"/>
            <a:ext cx="618804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laniranje obrtnih sredstav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457200" y="1219320"/>
          <a:ext cx="8305920" cy="5213160"/>
        </p:xfrm>
        <a:graphic>
          <a:graphicData uri="http://schemas.openxmlformats.org/drawingml/2006/table">
            <a:tbl>
              <a:tblPr/>
              <a:tblGrid>
                <a:gridCol w="692280"/>
                <a:gridCol w="2922480"/>
                <a:gridCol w="922320"/>
                <a:gridCol w="923760"/>
                <a:gridCol w="1460520"/>
                <a:gridCol w="138456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 obtnih sredsta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Ucinak u planskom peri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dana veziva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kalendarskih dana u planskom peri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lanirana obrtna sredstva (3*4)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u blagaj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na depozitnim racuni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artije od vrijednos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azivanja od kupa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azivanja za avan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a potraziva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rovine i repromaterij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tan inventar na zalih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zavrsena proizvod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luproizvod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 proizvod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govacka ro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tan inventar u upotreb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tivna vremenska razgranice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Kratkorocni plasma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obrtna sredstva (1 do 1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Planiranje spontanih izvora i kratkorocnih kredit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457200" y="1219320"/>
          <a:ext cx="8458200" cy="5578200"/>
        </p:xfrm>
        <a:graphic>
          <a:graphicData uri="http://schemas.openxmlformats.org/drawingml/2006/table">
            <a:tbl>
              <a:tblPr/>
              <a:tblGrid>
                <a:gridCol w="627120"/>
                <a:gridCol w="2504880"/>
                <a:gridCol w="1409760"/>
                <a:gridCol w="1254240"/>
                <a:gridCol w="1487520"/>
                <a:gridCol w="117468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 izv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U</a:t>
                      </a:r>
                      <a:r>
                        <a:rPr b="1" lang="sr-Latn-C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č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ak u toku planskog perio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dana raspolo</a:t>
                      </a:r>
                      <a:r>
                        <a:rPr b="1" lang="sr-Latn-C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ž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v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kalendarskih dana u planskom peri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lanirani izvori (3*4)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rema dobavljaci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7,3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o datim hartijama od vrijedn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,6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porez na prom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kamate, dividende i naknade za ulo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poreze i doprinose na finansijski rezul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ostale dazb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neto licne dohot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poreze i doprinose iz licnih dohod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o avansima kupa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o obustavama licnih dohod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asivna vremenska razgranice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Kratkorocni kredi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pontani izvori i kratkorocni kredi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2,0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Planiranje osnovnih sredstava i dugorocnih plasman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533520" y="1676520"/>
          <a:ext cx="8229600" cy="2428920"/>
        </p:xfrm>
        <a:graphic>
          <a:graphicData uri="http://schemas.openxmlformats.org/drawingml/2006/table">
            <a:tbl>
              <a:tblPr/>
              <a:tblGrid>
                <a:gridCol w="685800"/>
                <a:gridCol w="2590560"/>
                <a:gridCol w="990720"/>
                <a:gridCol w="1219320"/>
                <a:gridCol w="1295280"/>
                <a:gridCol w="1447920"/>
              </a:tblGrid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pocetku planske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ovecanje u toku planske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manjenje u toku planske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kraju planske godine (3+4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</a:tr>
              <a:tr h="31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31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novna sredst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9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31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cni plasma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vega stalna sredstva (1 + 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3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Planiranje sopstvenog kapitala i dugorocnih obavez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457200" y="1219320"/>
          <a:ext cx="8229600" cy="3012840"/>
        </p:xfrm>
        <a:graphic>
          <a:graphicData uri="http://schemas.openxmlformats.org/drawingml/2006/table">
            <a:tbl>
              <a:tblPr/>
              <a:tblGrid>
                <a:gridCol w="609480"/>
                <a:gridCol w="2667240"/>
                <a:gridCol w="1447560"/>
                <a:gridCol w="1143000"/>
                <a:gridCol w="1143000"/>
                <a:gridCol w="12193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pocetku planske go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ovecanje u toku planske go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manjenje u toku planske go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kraju planske godine (3+4-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pisani k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nominirani k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cna rezervisanja za rizi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cne obave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vega sopstveni kapital i dugorocne obaveze ( 1 do 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7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94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Dugorocna finansijska ravnotez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457200" y="1600200"/>
          <a:ext cx="8229600" cy="2865600"/>
        </p:xfrm>
        <a:graphic>
          <a:graphicData uri="http://schemas.openxmlformats.org/drawingml/2006/table">
            <a:tbl>
              <a:tblPr/>
              <a:tblGrid>
                <a:gridCol w="1066680"/>
                <a:gridCol w="716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v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postveni kapital i dugorocn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neto dobitak/gubitak po prvoj varijanti planskog bilansa uspje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, dugorocne obaveze i neto dobitak/gubitak (1+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stalna sredst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e stalne zali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dugorocno vezana sredstva (4+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9:16:36Z</dcterms:created>
  <dc:creator>Miki</dc:creator>
  <dc:description/>
  <dc:language>en-US</dc:language>
  <cp:lastModifiedBy>boris</cp:lastModifiedBy>
  <dcterms:modified xsi:type="dcterms:W3CDTF">2012-11-28T18:30:49Z</dcterms:modified>
  <cp:revision>32</cp:revision>
  <dc:subject/>
  <dc:title>Finansijski menadzment</dc:title>
</cp:coreProperties>
</file>