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F98A-9B28-41DF-830A-00349012E8A6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F30B-DBB6-47BB-80BD-0A665D8DCEC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0A31-EE54-41D9-AFEB-99DD6135ECF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70F5-5EBB-4F38-BEBE-9150F6D94EA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9372-B3C6-40C7-80BA-01BF3D9159E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5A91-E9C6-4178-B0E6-D010B92DD9F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F719-017A-4A28-8702-4A0F2FBAE25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A7AC-782A-449D-ABFC-1B1863C907C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08C0-24CB-4FB1-9833-995E9623838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93E1-08C5-4066-8161-EBE5E124649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5B21-13CB-4E0A-9F64-7828F89BD03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133D-5B15-46D1-BDC7-C758A2E585F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75CE-5EFF-40C0-B310-4E2BA300D17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BD91-EE9E-4B9B-8B6D-C9B4BC2A1C3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687C-DF0B-42A0-886A-3CAE494BD37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E63E-5E6A-4BC0-8537-9665331D90D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CADB-32DA-4F8D-ABA6-39AE8CEAB30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DD3F-598B-43E8-A909-7713643B5F3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BB1A-6147-43C5-A18F-E5A66790002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C86-BBCD-44D7-A636-173DCD75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5FE-4499-4192-A940-75B8B39D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B9C-8354-4D17-8827-94996B39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57C-9FB1-44E5-851C-E0E8634B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FD85-6B5F-492C-A4CC-8BE8B58E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FC76-60D4-4953-A301-DB726FEC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870F-264A-48B9-9878-68672106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D945-2957-4761-A576-D09B9A0A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CDCF-0043-44BC-9FBA-1C4F89DF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60FF-2991-4B3B-A2E0-A960C8AB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CB94-B541-4A24-A9F5-99073A19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C1A-4F2C-4AA4-A66C-7EBF3628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FC40-1D94-4FAA-A174-C57BDEDC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B566-68A7-41C6-A778-23B45407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2925-4605-40FE-B4B8-FD3143EF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9FCA-4D03-4CED-9242-814DA04B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8610-7B4C-4306-8E85-745DCE79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FFF71-C450-47B9-AB1E-022B91DC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CA8E0-212D-407A-AA8E-DD34B95A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B6F8B-3EE3-4670-97F3-EAAC0A26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29A11-5CC8-44AF-8EC3-FAC6CB7C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C109E-0F1F-4FCB-A54E-ADC26E25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01F-6498-439C-8F6A-82D09B4D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7B6BE-B903-4165-978C-90F6029B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CE3C6-FDFA-4D33-B0C9-228693FF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99ECE-0F2F-47EC-B9A8-24E53F51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8F5D-D43E-4B31-ADEC-870E2B79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23C65-3008-4BB5-A5FD-F5674F59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5BE98-838A-4B04-92B3-5F2DFCAC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14AF8-2897-4378-AB87-54B527A1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51E9F-8277-47C6-9B20-982DDC78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2860C-BD95-4A08-9BBC-AEB26850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6C528-D913-428E-AE31-62A321FA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7BDC-269E-4E72-92B0-E9FC32D6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4FD9D-8E95-4BBD-813E-32828429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1EEC9-D1DF-4456-835C-12FA5D1F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7AE66-4B50-4992-814E-70715108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CDC40-B41C-4E41-958D-35C8887F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85179-6A3E-4EA6-886C-4476B31F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B804F-C3B4-42C1-BCE9-CAC5160D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081B7-4B75-411A-9EA7-A005929E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8F80A-4F3D-4ECC-BA62-FA954BE6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0746D-73CF-4699-AFAF-A21D96FB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DFBE2-A9EE-431A-B3D3-FE9D684D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BB4-C234-4923-A581-B4C46FF3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C2797-0936-4ABB-8962-CBE8032D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D09A6-AD37-4A37-9095-01A89D4B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EEDFD-0E78-4AC0-BC6C-BBE71FED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24AA2-6FC1-4CDD-92ED-481CA5B7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8A50A-51B4-4CFA-9BBB-4A090605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AB0D9-CD3E-495C-951A-7559A407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F74CE-A9AD-4801-8CCB-86765143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73748-C2BF-4F1E-9243-ABD9C010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789E0-2604-4D8F-8BB2-36B18855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A0FB3-AA69-4C7B-8A4B-A400B85A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A03-97CD-4747-B589-AB85BCB7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C9F49-0547-4F12-B849-2005D458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71961-6D83-405F-A344-6C4B608A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C511E-3BBF-4459-947E-C0326635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A8B09-E73E-4F84-A053-EB9A5C4E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8FED6-53F5-4745-BB40-B1963D0D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D0C5B-CD00-4052-8B5F-DCD84CB0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199A8-482D-4113-8DAE-CE222844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45913-82C4-4727-A216-53773953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74ED4-B2F1-4FC3-8E80-B1494BEA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575CB-FC43-4B8F-B68A-7E53B353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B0C-84E5-4E30-A8F2-CBC4421F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054CB-14C3-449F-9CE0-3D0AEFC0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EE27E-16F0-4A32-8C70-7CE3BB01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45503-F605-4DF1-9CD8-0ABEC9AB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95490-9F3C-4751-A375-1F4B71AA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6B620-F9CB-4F13-937C-95EDF163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CC27F-3C3A-4460-93F1-96AAF794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E2EE9-8DC5-446B-9C02-A8A92771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817C5-6E7F-4962-AC34-7B5C1131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78884-CD73-4524-AB3D-906E902A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79BF3-B54B-45B6-A861-F0887465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2B7-B7F8-4725-9617-113DE025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7F311-1351-49A9-B64B-A489E892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E9A00-5BB3-4B71-9014-60461DF0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01673-4E9E-4F63-AF8D-4B155752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415D9-52EB-46CE-B67F-25AF2C9B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08D6E-4280-48A3-9D9D-E2D3EFEE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16E-36A3-4B14-AE9F-B3F1F783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2258-202E-4725-9EC6-7D40A6D73E3F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0BE9-F78B-4722-B427-90378ABB6D53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74CC-DEF5-4CA3-9FFA-DBD0A6828A1A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BACF-7793-4E25-8E47-6FA89147767F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C091-1341-4D66-80BE-048CE899C5F6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30C1-C1F2-4F0F-A52F-2937CAD14612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54E3-00A4-49DD-B455-A868C590AA99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4400" spc="-1" strike="noStrike">
                <a:solidFill>
                  <a:srgbClr val="572314"/>
                </a:solidFill>
                <a:latin typeface="Arial"/>
                <a:ea typeface="Arial"/>
              </a:rPr>
              <a:t>Finansijski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4400" spc="-1" strike="noStrike">
                <a:solidFill>
                  <a:srgbClr val="572314"/>
                </a:solidFill>
                <a:latin typeface="Arial"/>
                <a:ea typeface="Arial"/>
              </a:rPr>
              <a:t>menadžmen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8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8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genta – agency problem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lasnik vs menadž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ažnost finansijskog menadžmen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boris</cp:lastModifiedBy>
  <dcterms:modified xsi:type="dcterms:W3CDTF">2012-09-21T12:41:16Z</dcterms:modified>
  <cp:revision>91</cp:revision>
  <dc:subject/>
  <dc:title>Finansijski menadžment</dc:title>
</cp:coreProperties>
</file>