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C907-ED77-4ED4-8386-52C4C81410C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9681-5BF7-46E4-9A0E-CC705F0DDEC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8168-DF88-474E-84AE-0633474C51B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135C-3F9E-4EFB-B634-62155E8F444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6F00-579F-4C29-AE51-B51A4BDCEEF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77A6-F1D7-48BC-B656-1F3D53F8277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667B-A545-4EAB-98E2-6487721CA37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EE73-E1B6-4B21-A3AC-7E162D5D65A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C5A8-77C2-47DD-93E4-A5F31BA8E74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C3FB-8BA6-4352-86A7-9DB5275DFAB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8618-2B43-4C43-B822-686335F723C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6C28-D186-4EF7-A16E-E95E2552D57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0062-92FE-4D66-B6CA-9F6A518379E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B091-4132-47B2-94F6-6C5AEF586AC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C1B4-36AE-4879-9566-32FB74771D3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B514-BE57-460D-9666-B8920420724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CF9A-A352-4399-9DC0-CD2B12257FB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DA4D-E437-4D02-B091-B4297883B55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48DC-386F-4D34-8F45-E087FC8701E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D336-FF4C-4BC6-AB60-7839348F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AED-851B-4067-A7BE-E02DFF26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F32-E61F-404A-836A-35C7BF48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168-AA0A-490A-B078-B43B8B5C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9DF5-9884-45AF-95B7-EF3AB3B4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CE57-4F46-40AD-ABE0-F582C891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A39F-C2FD-4C55-A72C-217ED4C0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88C6-82C4-48C7-AFE9-4D72F0FC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2E47-D2B6-45D8-9D1D-BC03D6E9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B9A1-2346-4769-B4C9-6147E854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CB78-231B-4119-B9E8-C8C47E44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2D3-BA42-469B-A772-319B145D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D87A-4FFF-45C4-8A90-36BD4AF3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818D-1DE3-41DC-A984-BD38E886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9FFC-085E-4ACF-9526-A9471F08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13A5-6B6E-4FC0-A5CF-DA844621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4DD3-77F4-4079-B958-3BC1CB5D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A7B67-F897-47A0-B93D-8905AEB6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4877B-814A-4420-BD31-E27897B8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73FED-86D5-4677-B8CA-18D1D479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D0720-DA1F-4E2C-9CD0-E81D8471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318BB-8733-42E5-AC25-9C756A82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FAF-C70B-48B9-9117-966E56DD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A1BF8-A138-40B2-BE2F-D8F7D154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B1583-7C13-47FE-B7B3-04D647C3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AAC03-4E54-4F25-AA83-8BFF9E03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65C5-0791-4847-AF32-CEF4E36A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DD444-7ADA-4FCE-B0DB-2AEDD5C3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B3DBD-4958-4B54-A80B-64607FB3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A594A-F42B-4E9D-A53D-DC71E4EE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ADE9C-8F20-4CC5-9A74-6DCCDC5C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DD464-DE65-46BB-9F71-A30AA194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21450-71B3-4238-862D-7EAB65E5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B74-25E1-4219-8D37-336F395A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5B063-901D-46D6-BF12-E0FD35D1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DA114-ADC9-455F-A9F8-F41E42C8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68480-223E-47CF-9E48-17094D01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8E9FE-23FC-43A9-BE46-B507E261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56CFF-5FB7-4B35-9A4E-26AD635D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965A7-078C-4041-80F5-A82997B6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2993B-1696-4C4E-A405-1520CB66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52968-C5C2-4690-B34E-D52D3894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B2841-0508-44AF-96C7-01548959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07203-7780-4806-87FD-D4FF28EB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794-695C-4EFB-A1A8-322717DE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97725-AFF3-42A2-BB0B-E0B9DF4E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AB388-5C1E-41FD-B1CC-65827215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09364-D864-4FA3-8377-E01943E7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53457-DF85-42E2-B95A-EAF20612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3E5A6-F3F5-46E5-8F21-40F25926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ABB69-8896-4ABB-8F69-B405056D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B896E-9562-4DEC-8901-D4624EE0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F5B04-A160-4F0A-BAB1-7B5B108E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E87E1-123F-43D2-8F80-1EEE2CF6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D8481-7B3A-4156-BCD7-791FE432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198-892F-4217-B1C9-4A115492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AE5C2-55F6-4F19-ADCC-65649CCD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D4200-EAA9-4C60-9FD4-8676B3C0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7DF0D-8FFB-4512-B396-9D858985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1ACEE-A80A-44B7-B41F-756D5C53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A3052-B662-4B8B-AABB-A58F7E99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EB7E5-48FF-4A66-A69C-1B534A36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6856E-6EF7-40CE-A2B4-DE255DC1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31E03-8E14-4E98-B431-CE0ED0E2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AA814-4804-49DC-A992-61FF8B9A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B1AC5-AB3C-42BF-8090-E4EE8195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AD1-AC70-49C1-9396-2039B0D2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6B26E-37D5-4205-8760-A90CEC2E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C47B8-75D6-4633-A53C-761AC8B6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A5AEF-0D15-4464-8FBA-16126149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DBEDF-AFF0-4536-9658-5410FB24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B3293-2BCD-4A87-BE32-8360FC85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A844A-5A00-4F6E-AB94-4268703F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64827-E44D-4839-A563-4175E3AC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66859-C06A-41A0-A98E-C65737EF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1AB01-579F-46AE-B331-F168C70E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0771C-7F31-47C9-940D-64E16B35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2DE-C74B-4D15-8F90-23AFF0C6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156A0-682D-4BD2-BD6D-E4637735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407AC-B2DA-4AD1-8BCD-84AF8ACC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96220-AECD-4EAB-BAB5-43453911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51140-830C-4049-B8D0-1C0CA90C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77502-177D-4224-83BB-D7F0FCD9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C813-5746-47E4-8EDD-1CAFB211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74B9-52C4-42D5-AE7A-E9CA53555DB0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249A-EBEC-45C5-A420-90855E8FD86B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16AE-13CB-4830-B43D-3A8991D342DE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23BE-46FE-4AC6-B91D-8558EB5CA0C5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0721-E619-43AC-A7FD-EB516CE48D2F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668C-9E1E-428B-97A0-6DE6D3D077B6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81A5-E2FF-4265-9E92-C90CBC42292A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Finansijski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400" spc="-1" strike="noStrike">
                <a:solidFill>
                  <a:srgbClr val="572314"/>
                </a:solidFill>
                <a:latin typeface="Arial"/>
                <a:ea typeface="Arial"/>
              </a:rPr>
              <a:t>menadžmen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genta – agency problem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lasnik vs menadž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ažnost finansijskog menadžmen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boris</cp:lastModifiedBy>
  <dcterms:modified xsi:type="dcterms:W3CDTF">2012-09-21T12:41:16Z</dcterms:modified>
  <cp:revision>91</cp:revision>
  <dc:subject/>
  <dc:title>Finansijski menadžment</dc:title>
</cp:coreProperties>
</file>