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143-3B43-45A5-84DE-C40EC576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737-8637-45F8-B0FB-6ACA12E9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F0F-B562-43A6-AF98-C631D21F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B19-3A55-4B7C-8419-A1EBB112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5A0-079B-4FB2-B4D4-49DAFCA5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C5E-2E39-4404-8A94-08BC4D7D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ACC-3B5A-48BC-BF90-C43F9201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654-3853-4974-844F-40E91924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A42-A24A-419D-B0D9-0B9A8933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481-517D-4228-8BE4-33A2A729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7C4-30CB-4572-BBB3-063C934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A67-F447-495F-A727-7E1AE0BA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2F99-0732-4824-9329-3A6524C4E1A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bjektno-orijentisani jezic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163-2CCB-4156-A99E-3C61F2B46B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72D51-A745-4E08-9BE1-303C2B99D4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itanje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lanovi klase dostupni samo u metodama klase ili metodima izvedenih klas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nutar metoda klase, kako pronaći deklaraciju promjenljiv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ajugnježdeniji opseg (najbliži blok, ako postoj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jelo funkcije pa formalni parametri (2 opseg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Nema ugnježdenih f-ija kao u Pascal-u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klase (class scop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roditeljske klase , “djedovske” klase, itd. do najdaljeg pretk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datoteke (file scop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lobalni opse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3A8-6896-4949-90E4-D6532283FA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98A0F-93BA-4B99-B46C-04D17F5144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xec::getRaise() 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ats = boats + 1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alary = salary * execBoost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}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boat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, pa je upotreba promjenljive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boat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riješena na nivou klas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E85-9FD9-41BB-A485-7625DAA660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516FA-0D6F-4182-A47D-AFAAB13A73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xec::getRaise() 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ats = boats + 1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alary = salary * execBoost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}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salary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Mgr?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mpl? D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101-B4E1-48E6-8CD9-F25124258F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4CAB5-A317-4DFA-BC4A-DD77C2CC1B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execBoos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Mgr?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mpl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na nivou datoteke? 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a promjenljiva variable?  Da  (loše projektovanje, ali validan opse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47A-590C-4B70-93DD-2A2676CF25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1A152-15D9-4F91-A706-7AF679B6DE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pseg kod f-ija koje nisu članovi klas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ol  Exploitable (Empl e)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ol  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e.salary() &lt;= minWage) return tru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turn false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pronalaženje promjenljive salary, “e.” prefiks nam govori da tražimo u klasi za e i eventualno njoj nadređenim klasama. Mora se tražiti u opsegu klase, jer se koristi OO notacija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pronalaženje minWage, po standardnoj C-putanj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ajbliži blok, lokalna f-ija, datoteka, globalna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424-244A-4524-8772-E4536CEF2F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168E6-5292-4B44-A6D9-F3B37E124C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traživanje u klasnom opsegu objek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” prefiks nam govori da pretražujemo u opsegu klase objekta e i da se krećemo kroz hijerarhiju klas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Šta je klasni opseg za 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ima statički tip iz svoje deklara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e klase potomci klase Empl su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kompatibiln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a Empl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wally) predaje Emp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dilbert) predaje Dro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pointy) predaje Mg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pronalazi salary u Empl za svakog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7AC-3C3B-4139-9850-9EAC0B5ABC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FD75E-897A-422E-822D-CB085651A6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ivanje metoda (member function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ogbert.getRaise()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oji getRaise metod je pozvan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++ </a:t>
            </a:r>
            <a:r>
              <a:rPr b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Deca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++,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bj</a:t>
            </a:r>
            <a:r>
              <a:rPr b="1" lang="en-US" sz="3200" spc="-1" strike="noStrike">
                <a:solidFill>
                  <a:srgbClr val="fc4122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emFunc() određuje memFunc u skladu s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statičkim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tipom objekta obj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bjp</a:t>
            </a:r>
            <a:r>
              <a:rPr b="1" lang="en-US" sz="3200" spc="-1" strike="noStrike">
                <a:solidFill>
                  <a:srgbClr val="fc4122"/>
                </a:solidFill>
                <a:latin typeface="Tahoma"/>
              </a:rPr>
              <a:t>-&gt;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emFunc() određuje memFunc u skladu s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dinamičkim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tipom obj (ako je  memfunc declarisana kao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virtual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1E2-B576-49F4-81A6-510A496D71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56A21-7987-4573-9EAF-7938FFA472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- metod dispatch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dilbert = Drone()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gr* dogbert = new Exec()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gr   pointy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*dogbert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lbert.greet()  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work in a box.”         // statički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ogbert-&gt;greet()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have options.”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// dinamičk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inty.greet()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have pointy hair.”     // statičk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77C-0C2E-43C1-AFBC-3A59B1A1D1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A474B-9FC4-4C92-8199-DAFCA3D306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Method dispatching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 Decaf-u je uvijek dinamički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azira se na </a:t>
            </a: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runtim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klasi objekt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rone dilbert = new Drone()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dogbert = new Exec()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pointy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= new Mgr();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ilbert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work in a box.”         // Drone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ogbert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have options.”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   // Exec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inty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have pointy hair.”     // Mgr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525-A67E-4205-862B-60EC5FDE3B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5CC87-D11D-46FF-AF19-4917C2C63A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limorfizam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limorfne f-ije (polymorphic) –  isto ime i signatura, ali različite implementacije u različitim podklasam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npr.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init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etRaise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reet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ali ne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layoff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Verzija podklase ima prednost u odnosu na nadređenu klasu ako se ime i formalni parametri potpuno poklapaju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ecaf  f-ije su istinski polimorfne = virtuelne, dinamički dispatched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eneričke, preopterećene (generics, overloaded) ista f-ija ili operator ima više implementacija za argumente različitih tipov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789-B189-43B8-BCB0-475523DA0F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240CA-A0F0-4AEF-9489-85E9A7BAAA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cepti O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sjetiti se OO programskih jezi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čuvanje podataka zajedno sa funkcijama koje manpiulišu njim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modularnost i enkapsulacij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isanje opšteg koda kada je moguć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ecijalizacija kada je neophodno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leđivan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90E-D256-4312-B904-13DF10A3EA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443FF-1B67-4DF6-B0C3-752CA8E720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atička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zi koji uključuju objekat moraju biti kompatibilni sa statičkim tipom objek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mpl wally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dilbert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lbert.layoff();   // Drone meto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ally.layoff();      // </a:t>
            </a:r>
            <a:r>
              <a:rPr b="0" lang="en-US" sz="3200" spc="-1" strike="noStrike">
                <a:solidFill>
                  <a:srgbClr val="fc4122"/>
                </a:solidFill>
                <a:latin typeface="Tahoma"/>
              </a:rPr>
              <a:t>Greška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wally je Drone u vrijeme izvršavanja ali je samo Empl u vrijeme kompajliranja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mantička provjera za wally.layoff() daje grešku jer layoff nije član statičkog tipa za wally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ED2-ABCC-4C38-A277-853542B444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1DFB7-7B5D-4E08-8A6F-70709C7A61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semantička provj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pointy = new Exec();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inty.greet(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Statička provjer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Da li je metod greet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definisan u Mgr ili Empl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inamički dispatch: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untime tip za pointy je Exec, pa pointy.greet() je Exec::greet() i štampa  “I have options.”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trebno je generisati kod koji poziva ispravnu metodu greet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830560" y="311760"/>
            <a:ext cx="3133080" cy="2943360"/>
            <a:chOff x="5830560" y="311760"/>
            <a:chExt cx="3133080" cy="2943360"/>
          </a:xfrm>
        </p:grpSpPr>
        <p:sp>
          <p:nvSpPr>
            <p:cNvPr id="95" name=""/>
            <p:cNvSpPr/>
            <p:nvPr/>
          </p:nvSpPr>
          <p:spPr>
            <a:xfrm>
              <a:off x="6698160" y="311760"/>
              <a:ext cx="114228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mp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89520" y="1530720"/>
              <a:ext cx="13741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Dr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30560" y="2673720"/>
              <a:ext cx="10465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x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1530720"/>
              <a:ext cx="96696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Mg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stCxn id="98" idx="2"/>
              <a:endCxn id="97" idx="0"/>
            </p:cNvCxnSpPr>
            <p:nvPr/>
          </p:nvCxnSpPr>
          <p:spPr>
            <a:xfrm>
              <a:off x="6353280" y="2127240"/>
              <a:ext cx="2160" cy="531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5" idx="2"/>
              <a:endCxn id="98" idx="0"/>
            </p:cNvCxnSpPr>
            <p:nvPr/>
          </p:nvCxnSpPr>
          <p:spPr>
            <a:xfrm flipH="1">
              <a:off x="6352920" y="907920"/>
              <a:ext cx="91656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>
              <a:off x="7268760" y="907920"/>
              <a:ext cx="100872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21E-0E9E-4400-90F0-52D97BC84A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F429E-D814-4829-B6E1-AD12DBF74A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atibilnost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lase potomci klase P su uvijek kompatibilne sa klasom P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ool  Exploitable (Empl e) {}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mpl wally = new Exec;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// OK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ploitable(wally);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// OK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lasa nije kompatibilna sa svojim podklasam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mpl wally.layoff()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ec dogbert = new Mgr() 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ođačke” klase nisu kompatibilne u oba smjer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rone dilbert = new Mgr();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ec dogbert = new Drone();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CD1-4E1F-4F6F-8C4B-E8120EE456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61C32-DF8A-4FB8-9D74-A2031D6D00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nterfej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ako klasa treba da ima svojstva više nepovezanih klas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U C++, višestruko nasleđivanje (multiple inheritance). Teško  za upotrebu, još teže za  implementaciju.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Java koristi interfejse (</a:t>
            </a:r>
            <a:r>
              <a:rPr b="0" i="1" lang="en-US" sz="3000" spc="-1" strike="noStrike">
                <a:solidFill>
                  <a:srgbClr val="3333cc"/>
                </a:solidFill>
                <a:latin typeface="Tahoma"/>
              </a:rPr>
              <a:t>interfaces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), kao i Decaf.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ejs (interface) je skup f-ija sa određenim tipovima signatur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mplementacija interfejsa je obećanje da obezbijedimo tijela za te f-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70B-C555-44BA-A0B5-2B7B944ABD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C3269-D1B5-43EC-8859-4E6277D2C9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 interfejs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ace Saveabl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riteOut(fil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adIn(file)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a klasa koja implementira ove dvije f-ije  može sačuvati objekte na disk i ponovo ih učitati sa diska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jčešće se koristi u Javi za grafičke ruti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C19-383A-4F0D-A99B-9634DE04B0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9685D-BCDD-472D-A0F9-C6C5F49DFF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Empl  implements Saveabl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 badge = id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 salary = salary * 1.05; )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 { Print ”I have a job”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void WriteOut(file)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“[ Empl [Badge ”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badge, “] [Salary “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salary, “] ]”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void ReadIn. . . 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D23-D22D-4AC1-8961-95D9B5E1F75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F18E3-C0C8-4686-A6D2-EC110D60A3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Drone  {  // don’t have to repeat it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 badge = id; salary = 1; cube = 5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 salary = salary * 1.01; 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work in a box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void WriteOut(file)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“[ Drone [Badge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badge, “] [Salary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salary, “] [Cube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cube, “ ] ] ”)  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void ReadIn. . . 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double salary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cube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B89-D99E-424A-9E76-AB0CBF961A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F0E2B-C00D-433A-85E3-D533EB9622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ka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ejs je implementiran u klas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me interfejsa je ime ti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lasa koja implementira interfejs je kompatibilna sa interfejsom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 primjer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oid computeStorage (Saveable d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Empl implements Saveable { …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Drone extends Empl { …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mpl wally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puteStorage (wally); // OK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FBD-0E9A-4E60-B88B-CE9EBC3AF9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C3D5F-309B-4C19-8A45-229A791B87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ass Base { public: virtual int vf (void); 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ase *bp = /* pointer to a subclass */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-&gt;vf 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ass Derived : public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ublic: virtual int vf (void); 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ed d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 = &amp;d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-&gt;vf (); // invokes Derived::vf(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64E-355D-411F-B845-E90776D9E4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2092C-336F-4341-9873-FF4F7D47BE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2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void) f cout &lt;&lt; "hello\n"; 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f1 (void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1 : public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void) { cout &lt;&lt; "world\n"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A90-0235-4093-BA28-4E1E0EE737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EFC8C-FCCC-45AE-830D-69DC8DB6BE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ava, C++ i Decaf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lasa ima podatke i f-ije kao člano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proširuje (extend) roditeljsku klas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(subclass) nasleđuje sve podatke i f-ije od nadklas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mož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cijalizovati se za svoj  tip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dati još podataka i funkc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verride f-ije sa istim imenom i signaturo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Class (type) su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objekt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487-85C0-49BE-96E2-B1CD1E9978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AD8C3-1F06-482E-A4F2-FFCCBA9FF1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3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2 : public Derived1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Still a virtual: : 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vf1 (void) { cout &lt;&lt; "hello world\n"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f1 (void); // not virtua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3 : public Derived2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2 (int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diferent from vf1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int); // Be careful!!!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FBF-D25F-42C2-9BA8-8595FF7FD8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C4036-22EE-4549-A20E-88D3F0E2F5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4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foo (Base *bp)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virtual fun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 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 *bp = &amp;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prints "hello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rived1 d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 = &amp;d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prints "world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o (&amp;b); // prints "hello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o (&amp;d); // prints "world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309-46E4-4C10-BB55-214828FFEB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2E855-0C7E-4CA9-8494-5E81256060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k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vač thi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Class Date 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public : int year, month, day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this je adresa samog objekt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// Primjer this pokaziva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a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Date::setMonth( int mn ) 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month = mn; // 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3 ekvivalentne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naredb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this-&gt;month = mn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(*this).month = mn; }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60C-4471-4582-8868-5EA1DFB8E4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54D82-4173-404C-90E8-8DE89736DB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hijerarh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Empl 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have a job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Mgr extends Emp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have pointy hair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options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640920" y="891000"/>
            <a:ext cx="1142280" cy="581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m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27680" y="2140560"/>
            <a:ext cx="966960" cy="581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9" idx="2"/>
            <a:endCxn id="50" idx="0"/>
          </p:cNvCxnSpPr>
          <p:nvPr/>
        </p:nvCxnSpPr>
        <p:spPr>
          <a:xfrm>
            <a:off x="7211520" y="1487160"/>
            <a:ext cx="1080" cy="639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E5C-5160-48AE-9C6E-0957E9F378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A60B9-CF1E-4A76-8897-44D98C3A0E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hijerarh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Exec extends Mgr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 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Print ”I have options.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oats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Drone extends Emp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work in a box.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layoff()  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cube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30560" y="921240"/>
            <a:ext cx="3133080" cy="2943360"/>
            <a:chOff x="5830560" y="921240"/>
            <a:chExt cx="3133080" cy="2943360"/>
          </a:xfrm>
        </p:grpSpPr>
        <p:sp>
          <p:nvSpPr>
            <p:cNvPr id="55" name=""/>
            <p:cNvSpPr/>
            <p:nvPr/>
          </p:nvSpPr>
          <p:spPr>
            <a:xfrm>
              <a:off x="6698160" y="921240"/>
              <a:ext cx="114228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mp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89520" y="2140200"/>
              <a:ext cx="13741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Dr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30560" y="3283200"/>
              <a:ext cx="10465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x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69080" y="2140200"/>
              <a:ext cx="96696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Mg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8" idx="2"/>
              <a:endCxn id="57" idx="0"/>
            </p:cNvCxnSpPr>
            <p:nvPr/>
          </p:nvCxnSpPr>
          <p:spPr>
            <a:xfrm>
              <a:off x="6353280" y="2736720"/>
              <a:ext cx="2160" cy="531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5" idx="2"/>
              <a:endCxn id="58" idx="0"/>
            </p:cNvCxnSpPr>
            <p:nvPr/>
          </p:nvCxnSpPr>
          <p:spPr>
            <a:xfrm flipH="1">
              <a:off x="6352920" y="1517400"/>
              <a:ext cx="91656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5" idx="2"/>
              <a:endCxn id="56" idx="0"/>
            </p:cNvCxnSpPr>
            <p:nvPr/>
          </p:nvCxnSpPr>
          <p:spPr>
            <a:xfrm>
              <a:off x="7268760" y="1517400"/>
              <a:ext cx="100872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C76-99E1-4DA0-AB95-09D34077A3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C59C8-8848-4FEE-9D2C-31E4215C29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slijeđeni i novi član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im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}  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void layoff() {} 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Definisan u Dro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iz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Naslijeđen iz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cub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Definisan u Dro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883-FF93-43E1-B5B6-1EA34E04A3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BC227-7386-40D2-88C3-3208B75559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slijeđeni i novi član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xec im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}  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Naslijeđ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options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od Mg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oats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Definisan u Exe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B60-7185-45E0-B71F-0DD1D89E87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AC598-0797-4673-A335-69690A10B3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- pojednostavlje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ava, C++: public, protected, privat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- svi podaci su protect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im se pristupiti samo iz klase i njenih podklas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e Decaf funkcije su publi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ih svako pozvat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ma konstruktor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leđivanje (inheritance) je publi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++ : class Drone:  public Empl { }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658-C7E1-4BAF-9089-A969AAB883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FEF68-8107-4A74-B1B8-D8992C8A3D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rone dilbert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// tip je Dro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gr point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// tip je Mg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mpl wall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// tip je Emp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ec dogbert;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// tip je Exec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ilbert.Init (143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inty.Init (17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lly.Init (0);     // Šta radi ovaj radnik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stup članovima klas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ilbert.salary = 5;  </a:t>
            </a:r>
            <a:r>
              <a:rPr b="0" lang="en-US" sz="2600" spc="-1" strike="noStrike">
                <a:solidFill>
                  <a:srgbClr val="fc4122"/>
                </a:solidFill>
                <a:latin typeface="Tahoma"/>
              </a:rPr>
              <a:t>// Pogrešno u Decaf-u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raju postojati accessor funkcij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lass Empl { void setpay(int pay) { salary = pay; }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nt getpay(void)       { return salary; }  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6E0-B82F-4AE6-8F18-2C00DC7477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4C4EE-D708-4724-A9C7-3218AD7B18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</cp:lastModifiedBy>
  <dcterms:modified xsi:type="dcterms:W3CDTF">2009-11-07T11:49:22Z</dcterms:modified>
  <cp:revision>4678</cp:revision>
  <dc:subject/>
  <dc:title>Welcome to CS143</dc:title>
</cp:coreProperties>
</file>