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15F5-BB4C-448D-83A8-A50C946AF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tate iff has  dot at end: I1, I2, I4, I7, I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 state has dot at end of start prod: I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if state has one reduce item, som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AD2-38ED-44E5-B044-4E5F3913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A2F-3383-4CA0-84DF-D56A1967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7C5-D114-4B44-BEDF-F4E69BC7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BF5-EE5D-440F-8057-B9C157F2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7CC-F6D5-4362-A765-769CE141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C45-EDAD-464A-8049-60DA65A5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200-2725-4B91-83DD-42AEBE60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F3F-356C-4487-AEC2-7957C90D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D8E8-C993-4D37-82AE-1092832D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221F-6654-4611-BB8C-D646BB4E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940-485B-408D-9CD4-435780ED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4C4-23AB-4B8F-B208-3576C0FF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7EB5-773E-4E43-BEE8-A76C53157C0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Bottom-up parsi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B4CF-A26D-41D7-86F2-5621FD3FF10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83969-4316-427A-B7E4-94AE09492F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 nastav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primjerim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 stek se stavljaju tokeni i neterminalni simbol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 pars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anju, čitavo stanje se stavlja na stek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tanja čuva informaciju o “lijevom kontekstu”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šta je do određenog trenutka obrađen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šta je stavljeno na stek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hifted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 i reduciran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 na osnovu kojeg pravil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risti s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tabela akcija da odluči između shift i reduc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risti 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b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 prel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z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a za određivanje novog stanj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DE1-4583-448C-896E-6CA3B1DB3A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C6F2B-8B94-4F1D-8BD0-1FB1EA5C34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Glavn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tlja program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parser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tartno stan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S0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e stavlja na vrh stek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dato stanje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t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na vrhu steka i sledeći ulazni toke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f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tion[St, a] == shift)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ovo st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tion[St, a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Pozovi leksički analizator za sledeći toke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f (Action[St, a] == 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X1…Xn)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 n sta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ja da bi odredili 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 vrhu steka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ovo st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v = Goto[Su,Y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e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f (Action[St, a] == accept)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spješan kraj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f (Action[St, a] == error),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ne može nastaviti parsiran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CB3-AC3D-455B-A995-1090C027F0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A8A8D-5651-4193-B024-31CA27537D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1143000"/>
          <a:ext cx="8686800" cy="5114880"/>
        </p:xfrm>
        <a:graphic>
          <a:graphicData uri="http://schemas.openxmlformats.org/drawingml/2006/table">
            <a:tbl>
              <a:tblPr/>
              <a:tblGrid>
                <a:gridCol w="1143000"/>
                <a:gridCol w="1062000"/>
                <a:gridCol w="1101600"/>
                <a:gridCol w="1101960"/>
                <a:gridCol w="1103400"/>
                <a:gridCol w="1117440"/>
                <a:gridCol w="955800"/>
                <a:gridCol w="1101600"/>
              </a:tblGrid>
              <a:tr h="444240">
                <a:tc rowSpan="2"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tanje na vrh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</a:t>
                      </a: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tek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Times New Roman"/>
                        </a:rPr>
                        <a:t>Ac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Times New Roman"/>
                        </a:rPr>
                        <a:t>Go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accep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4952880" y="0"/>
            <a:ext cx="2210040" cy="1434600"/>
          </a:xfrm>
          <a:prstGeom prst="rect">
            <a:avLst/>
          </a:prstGeom>
          <a:solidFill>
            <a:srgbClr val="ffff99"/>
          </a:solidFill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1) 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2) 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3) T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4) T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536-5EE0-4E22-AA2D-6E570593AD9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31239-8932-4717-81B1-53638CCD9C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280" y="762120"/>
          <a:ext cx="8686800" cy="5748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45720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te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t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eobrađeni ul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kcija Pars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d + 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4 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a stek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čitaj sledeći ulazni sim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+ 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4) T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id, pop 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a steka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,  goto S2, 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laz nepromijenjen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+ 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2) E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T, goto 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+ 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4 (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ledeći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4) T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id, goto 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2) E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T, goto S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S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S6S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3) T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(E), goto S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1) E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E + T, goto S1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Acce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191120" y="152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Ne treba reduce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; nije u S2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4D2-17C5-4A9C-AF7A-AA206C76A6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257B2-19A0-4177-A003-01E2F8D991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rednosti LR parser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od LL tabela, pravilo se bira na osnovu jednog ulaznog smbola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U LR tabelama, postoji čitav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redistorij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arsir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li smo da ne treba reducirat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pogrešno vrijem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A3B-D0B0-4584-90FC-5C18BCA55A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7D899-B135-4084-8C76-52303CBC61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Tipovi L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R parser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 (k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 (k)  -- Simple L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ALR (k) – Lookahead L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 = # symbols lookahead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1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 ovom kurs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činjemo sa najprostijim slučajem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LR(0) parse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334-8ED8-4D1D-A122-0A49F1787F8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997FE-CF8E-4017-8C17-FCC8DEDA86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(0) pars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jjednostavnij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jmanje tabel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dostac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m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okahead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a su prev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š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prosti za realne jezik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ju dobar primjer kako se grad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bel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ristić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cije u drugi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k) 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m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D32-2AFE-4DD9-85A4-B8665A08217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80DFF-5C5F-461A-B2C4-3A17A53B6C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(0) pars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i nastav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ljuč z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pars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ranje je prepoznavan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andl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”-ov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andle: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z simbola kodiranih u stanje na vrhu steka i predstavlja desnu stranu pravila koje primjenjujemo kod redukc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  (D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sna sentencijalna for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- Right sentential form)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 b C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 vrhu stek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mam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 Y A b C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tab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treba da “uhvate”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čin p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znavanj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andl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-ov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E3A-9221-45BA-B1D4-598CB1ADAB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39AA7-38D1-4251-9D73-40993E9CD9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u gramatik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, identif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kuju moguća stanja parse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St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j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obuhvata šta smo vidjeli i sve shiftove i reduce do određenog trenutk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sanje stanja korišćenje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konfigura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ja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 (itema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hvatanje prelazaka između stanj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14F-E8C8-47AF-85F5-1A7B5B648A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AB821-7E7D-4A56-BB45-6CFD19C60A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Defin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i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figuracija je pravilo gramatike G sa tačkom na desnoj strani pravil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 pravil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XYZ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gramatik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figuracije su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YZ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Y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Z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YZ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YZ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čka predstavlja mjesto do kog je parser stigao u prepoznavanju pravil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YZ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YZ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 stek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  Reduce!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YZ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hift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-ovan   Za nastavak parsiranja očekujemo string koji se može izvesti iz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747-2D0A-49E4-80F7-C1C806A970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2EE42-6DE2-4B88-9A03-12BFD0C632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Bottom-up parsi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rtujemo od niza terminalnih simbol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blo gradimo od listova ka korijen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rimjena produkcija ”unazad”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ko smo dostigli startni simbol i kraj ulaznog niza, uspjeh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-reduce je uobič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je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bottom-up t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hnik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026-A8A8-4A9F-9746-A28A5627F1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B0C1D-1D36-4C06-AE6A-91B740D193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figura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(itemi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X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YZ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nač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X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tavljen na ste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 nastavak parsiranja očekujemo string koji se može izvesti iz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Y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, tj.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čekujemo da vidimo token iz skup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irst(Y)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iz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kupa Follow(Y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rmal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treban nam je tok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kav da 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 =&gt;* t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a neko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 v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tpostavimo da 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|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kođe 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.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da sledeće konfiguracije odgovaraju istom stanju parser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YZ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458-EAD8-4A44-BA4A-489E167404B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CCD8E-6C50-4F7F-9A22-EC93DC51D5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reiranje skupa 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figura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i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v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konfiguracije u jedan skup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YZ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aviti sve konfiguracije u jedan s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odati sve druge ekvivalentne konfiguracije da bi postigli zatvorenost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closure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.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alg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ritam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a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sni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vaj skup predstavlja jedno stanje parse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anje u kome parser može biti prilikom obrade nekog stringa.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D4A-A517-413A-8346-16BA12BF364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49971-6197-46C5-858E-958BB96275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elasci između stan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lazi iz jednog u drugo stanje na osnov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brađenog simbol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odeliranje parsiranja kao konačnog automat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ko stanj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skup konfiguracija) ima 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č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u na k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ju, tada je ono zav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no stanj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0) 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grad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m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na osnovu ovog konačnog automat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2743200"/>
            <a:ext cx="12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2057400"/>
            <a:ext cx="6477120" cy="1191240"/>
            <a:chOff x="914400" y="2057400"/>
            <a:chExt cx="6477120" cy="1191240"/>
          </a:xfrm>
        </p:grpSpPr>
        <p:sp>
          <p:nvSpPr>
            <p:cNvPr id="100" name=""/>
            <p:cNvSpPr/>
            <p:nvPr/>
          </p:nvSpPr>
          <p:spPr>
            <a:xfrm>
              <a:off x="996840" y="2057400"/>
              <a:ext cx="2408400" cy="1191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X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Y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Y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Y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6440" y="2057400"/>
              <a:ext cx="2408400" cy="1191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XY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Y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u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Y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w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4400" y="234144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D7F-B26A-4734-B552-C48B6F07704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24C4E-FCB8-4368-B11D-BC24985EF9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ja skupa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zatvoren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četna konfiguraci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unimo g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atiku simbolo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odaj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rod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j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a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tic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lazni skup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gradim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od element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drediti zatvorenje (c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sure) z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’ -&gt;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ime kompletiramo startno stanje parser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zračunava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uccessor fu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ju da b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odredili sledeće sta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kup konfiguraci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6CC-B2D7-4A50-95F1-A5BBAF033E8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1604F-7930-4EF6-AE67-3C0EE7C7C5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čunavanje zatvorenja(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osur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u konfiguracij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skup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činje terminalnim simbolom, kraj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nače, ako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čin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erminal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im simbolo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, tada za sve produkcije      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odat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B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;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onoviti zatvorenje na svim dodatim konfiguracijama. Postupak se nastavlja sve dok ima novih elemenata u skupu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DA0-70DD-4A42-ACD6-34D1D8B5AF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A0BB2-FC5D-4DB7-B1F8-3A17D0EEB7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r: closure(S’ </a:t>
            </a:r>
            <a:r>
              <a:rPr b="0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7520" y="1496880"/>
            <a:ext cx="2522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 </a:t>
            </a:r>
            <a:r>
              <a:rPr b="0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0" y="1676520"/>
          <a:ext cx="3429000" cy="15523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’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 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 | T * F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| ( T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685800" y="2133720"/>
            <a:ext cx="25225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43200"/>
            <a:ext cx="32767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*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352680"/>
            <a:ext cx="25225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962520"/>
            <a:ext cx="39625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 T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EE0-C4E8-4743-BDC6-67432024C98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E78D0-B15F-421D-8EA1-FD25C2A6A8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zgradnja tabele prelaza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 tab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mora da zna u koje stanje prelazimo poslije shift-a ili reducir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i s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C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mbol X, defi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mo s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C’ =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Successor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C,X) 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d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svaku konfiguracij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bli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X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dat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to C’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raditi zatvorenje n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’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cc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5105520"/>
            <a:ext cx="2286000" cy="459720"/>
            <a:chOff x="2971800" y="5105520"/>
            <a:chExt cx="2286000" cy="459720"/>
          </a:xfrm>
        </p:grpSpPr>
        <p:sp>
          <p:nvSpPr>
            <p:cNvPr id="118" name=""/>
            <p:cNvSpPr/>
            <p:nvPr/>
          </p:nvSpPr>
          <p:spPr>
            <a:xfrm>
              <a:off x="2971800" y="5105520"/>
              <a:ext cx="457200" cy="45972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53080" y="5105520"/>
              <a:ext cx="504720" cy="45972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C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/>
            <p:nvPr/>
          </p:nvCxnSpPr>
          <p:spPr>
            <a:xfrm>
              <a:off x="3429000" y="5486400"/>
              <a:ext cx="1286640" cy="108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121" name=""/>
            <p:cNvSpPr/>
            <p:nvPr/>
          </p:nvSpPr>
          <p:spPr>
            <a:xfrm>
              <a:off x="37339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586-4171-4C3D-8E75-0AD75DDEA9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C9744-73C0-4698-B563-92AF8DF37A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uccessor(C,X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6778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7880" y="1496880"/>
            <a:ext cx="7932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rmal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“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mjeranje za simbol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”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z jednog skupa u dru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mjeriti tačku desn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 X u svim konfiguracijama gdje je tačka bila pri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kloniti sve ostale konfiguraci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(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čka je prije nekog drugog simbola koji nije X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viable prefixes only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zračunaj zatvorenje (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osur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B16-B33A-4C53-B079-CC574D450F8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5BB36-7BE6-42B3-9668-BADC9D2B81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uccessor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0"/>
            <a:ext cx="791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533520"/>
            <a:ext cx="83818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 = {S’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 * 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 T 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’ = Successor(C, “(“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{ F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) }  [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amo jedno pravilo s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ri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lose: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dodajemo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{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, 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*F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Ne dodajemo rekurzivno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*F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onovo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e u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’,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 pa dodajemo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{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d, 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T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d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erminal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a završavamo s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sr-Latn-C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erminal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a završavamo s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Fiksn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 tačka 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’ = { F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) ,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,  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*F,  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d,   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T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562720" y="990720"/>
          <a:ext cx="3047760" cy="137160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’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 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 | T * F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| ( T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8B3-5478-458F-BBF4-010F1E4B335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46EEE-16C5-4169-8375-2A6720F63C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zgradnj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od stan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Generisanje familije svih stan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F 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činjemo s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= closure{ S’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}.  F = {C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 svaki skup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k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F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svak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X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kvo da s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ccessor(Ck, X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je praza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računa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uccessor(Ck, X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doda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 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F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navljati korak 2, dok god ima promjena u skupu F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45F-8997-4606-99F9-DD4D69CECBD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9FF3B-811F-42CB-8B4B-73232716C5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op-down vs Bottom-up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ottom-up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izražajnija neg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op-dow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ottom-up 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je teže napisati ručno, ali posto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yacc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ison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generisan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 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pec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fikaci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maksimalnu upotrebljivost YACC-a moraju se znati teorijske osnov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LR pars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a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ntu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ci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bottom-up pars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i odlažu odluku koju produkciju primjeniti dok nam više podataka ne bude dostupno nego kod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op-dow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arse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082-5D1B-4134-A296-08D2A30186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1A23C-F02C-4255-987E-F8E68B1E76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86400" y="22860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kupovi konfiguracij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im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r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2666880"/>
            <a:ext cx="2209680" cy="17697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0) E’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1) E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2) E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3) T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4) T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0"/>
            <a:ext cx="670572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Skup konfiguracija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Success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0: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' –&gt; •E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•E+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•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•(E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•id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1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' –&gt; E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pt 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’ 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prav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E•+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2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T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2 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3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(•E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•E+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•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•(E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•id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4: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id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4 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5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E+•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•(E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•id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6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(E•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E•+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7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(E)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3 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8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E+T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1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B16-42B7-4DA3-8DE6-845D5E9FE30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852E2-060D-48E7-BDAE-306DD85982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tanja i prelasci kao graf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308320"/>
            <a:ext cx="1905120" cy="195552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1955520"/>
              <a:gd name="textAreaBottom" fmla="*/ 1862640 h 1955520"/>
            </a:gdLst>
            <a:ahLst/>
            <a:rect l="textAreaLeft" t="textAreaTop" r="textAreaRight" b="textAreaBottom"/>
            <a:pathLst>
              <a:path w="21600" h="22171">
                <a:moveTo>
                  <a:pt x="3600" y="0"/>
                </a:moveTo>
                <a:arcTo wR="3600" hR="3600" stAng="16200000" swAng="-5400000"/>
                <a:lnTo>
                  <a:pt x="0" y="18571"/>
                </a:lnTo>
                <a:arcTo wR="3600" hR="3600" stAng="10800000" swAng="-5400000"/>
                <a:lnTo>
                  <a:pt x="18000" y="22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'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46440" y="1035000"/>
            <a:ext cx="1869840" cy="84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' -&gt; 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4714920"/>
            <a:ext cx="1905120" cy="195552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1955520"/>
              <a:gd name="textAreaBottom" fmla="*/ 1862640 h 1955520"/>
            </a:gdLst>
            <a:ahLst/>
            <a:rect l="textAreaLeft" t="textAreaTop" r="textAreaRight" b="textAreaBottom"/>
            <a:pathLst>
              <a:path w="21600" h="22171">
                <a:moveTo>
                  <a:pt x="3600" y="0"/>
                </a:moveTo>
                <a:arcTo wR="3600" hR="3600" stAng="16200000" swAng="-5400000"/>
                <a:lnTo>
                  <a:pt x="0" y="18571"/>
                </a:lnTo>
                <a:arcTo wR="3600" hR="3600" stAng="10800000" swAng="-5400000"/>
                <a:lnTo>
                  <a:pt x="18000" y="22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602080"/>
            <a:ext cx="1371600" cy="475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i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19640" y="1052640"/>
            <a:ext cx="1849320" cy="1218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E 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2266920"/>
            <a:ext cx="1803240" cy="475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E + 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3535200"/>
            <a:ext cx="1494000" cy="475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(E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2697120"/>
            <a:ext cx="58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5" idx="3"/>
            <a:endCxn id="137" idx="1"/>
          </p:cNvCxnSpPr>
          <p:nvPr/>
        </p:nvCxnSpPr>
        <p:spPr>
          <a:xfrm>
            <a:off x="2133720" y="3285720"/>
            <a:ext cx="838800" cy="2407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5" idx="0"/>
            <a:endCxn id="136" idx="1"/>
          </p:cNvCxnSpPr>
          <p:nvPr/>
        </p:nvCxnSpPr>
        <p:spPr>
          <a:xfrm flipH="1" flipV="1" rot="5400000">
            <a:off x="1087920" y="1549800"/>
            <a:ext cx="851760" cy="66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7" idx="3"/>
            <a:endCxn id="146" idx="1"/>
          </p:cNvCxnSpPr>
          <p:nvPr/>
        </p:nvCxnSpPr>
        <p:spPr>
          <a:xfrm flipV="1">
            <a:off x="4876920" y="4986000"/>
            <a:ext cx="776880" cy="707040"/>
          </a:xfrm>
          <a:prstGeom prst="curvedConnector5">
            <a:avLst>
              <a:gd name="adj1" fmla="val 49884"/>
              <a:gd name="adj2" fmla="val 49974"/>
              <a:gd name="adj3" fmla="val 498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2286000" y="4351320"/>
            <a:ext cx="5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328760"/>
            <a:ext cx="59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1328760"/>
            <a:ext cx="5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5284800"/>
            <a:ext cx="5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1689120"/>
            <a:ext cx="5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2320" y="4711680"/>
            <a:ext cx="33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6680" y="1920960"/>
            <a:ext cx="581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39960" y="609480"/>
            <a:ext cx="582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70080" y="4327560"/>
            <a:ext cx="581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24160" y="2109960"/>
            <a:ext cx="581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176800"/>
            <a:ext cx="579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81600" y="776160"/>
            <a:ext cx="5792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3124080"/>
            <a:ext cx="582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36" idx="3"/>
            <a:endCxn id="158" idx="2"/>
          </p:cNvCxnSpPr>
          <p:nvPr/>
        </p:nvCxnSpPr>
        <p:spPr>
          <a:xfrm flipV="1">
            <a:off x="3716280" y="1179000"/>
            <a:ext cx="145656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35" idx="3"/>
            <a:endCxn id="138" idx="1"/>
          </p:cNvCxnSpPr>
          <p:nvPr/>
        </p:nvCxnSpPr>
        <p:spPr>
          <a:xfrm flipV="1">
            <a:off x="2133360" y="2839320"/>
            <a:ext cx="1143720" cy="44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5653080" y="4564080"/>
            <a:ext cx="1797120" cy="84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(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7880" y="5257800"/>
            <a:ext cx="1266840" cy="475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–&gt; 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35" idx="2"/>
            <a:endCxn id="162" idx="0"/>
          </p:cNvCxnSpPr>
          <p:nvPr/>
        </p:nvCxnSpPr>
        <p:spPr>
          <a:xfrm flipH="1">
            <a:off x="1041120" y="4262040"/>
            <a:ext cx="140400" cy="9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4800600" y="3276720"/>
            <a:ext cx="5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114800"/>
            <a:ext cx="579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1760400"/>
            <a:ext cx="582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37" idx="3"/>
            <a:endCxn id="137" idx="2"/>
          </p:cNvCxnSpPr>
          <p:nvPr/>
        </p:nvCxnSpPr>
        <p:spPr>
          <a:xfrm flipH="1">
            <a:off x="3924000" y="5692680"/>
            <a:ext cx="953280" cy="977040"/>
          </a:xfrm>
          <a:prstGeom prst="curvedConnector5">
            <a:avLst>
              <a:gd name="adj1" fmla="val -23989"/>
              <a:gd name="adj2" fmla="val 61702"/>
              <a:gd name="adj3" fmla="val -23989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5181480" y="6221520"/>
            <a:ext cx="32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endCxn id="137" idx="0"/>
          </p:cNvCxnSpPr>
          <p:nvPr/>
        </p:nvCxnSpPr>
        <p:spPr>
          <a:xfrm flipH="1">
            <a:off x="3924000" y="2246040"/>
            <a:ext cx="1650240" cy="246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39" idx="1"/>
            <a:endCxn id="138" idx="0"/>
          </p:cNvCxnSpPr>
          <p:nvPr/>
        </p:nvCxnSpPr>
        <p:spPr>
          <a:xfrm flipH="1">
            <a:off x="3962160" y="1661760"/>
            <a:ext cx="1257840" cy="94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905120" y="6019920"/>
            <a:ext cx="58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8" idx="2"/>
            <a:endCxn id="137" idx="0"/>
          </p:cNvCxnSpPr>
          <p:nvPr/>
        </p:nvCxnSpPr>
        <p:spPr>
          <a:xfrm flipH="1">
            <a:off x="3924000" y="3076200"/>
            <a:ext cx="388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3581280" y="3632040"/>
            <a:ext cx="5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39" idx="2"/>
            <a:endCxn id="146" idx="0"/>
          </p:cNvCxnSpPr>
          <p:nvPr/>
        </p:nvCxnSpPr>
        <p:spPr>
          <a:xfrm>
            <a:off x="6144840" y="2208240"/>
            <a:ext cx="407160" cy="235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924360" y="990720"/>
            <a:ext cx="5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2986200"/>
            <a:ext cx="5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4568760"/>
            <a:ext cx="58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37" idx="2"/>
            <a:endCxn id="162" idx="3"/>
          </p:cNvCxnSpPr>
          <p:nvPr/>
        </p:nvCxnSpPr>
        <p:spPr>
          <a:xfrm flipV="1" rot="16200000">
            <a:off x="2212200" y="4956840"/>
            <a:ext cx="1173960" cy="2250360"/>
          </a:xfrm>
          <a:prstGeom prst="curvedConnector5">
            <a:avLst>
              <a:gd name="adj1" fmla="val -19478"/>
              <a:gd name="adj2" fmla="val 35552"/>
              <a:gd name="adj3" fmla="val -194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39" idx="3"/>
            <a:endCxn id="140" idx="0"/>
          </p:cNvCxnSpPr>
          <p:nvPr/>
        </p:nvCxnSpPr>
        <p:spPr>
          <a:xfrm>
            <a:off x="7068960" y="1633320"/>
            <a:ext cx="920160" cy="63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46" idx="3"/>
            <a:endCxn id="141" idx="2"/>
          </p:cNvCxnSpPr>
          <p:nvPr/>
        </p:nvCxnSpPr>
        <p:spPr>
          <a:xfrm flipV="1">
            <a:off x="7449840" y="3983760"/>
            <a:ext cx="765720" cy="978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D174-FD65-4BCD-B3EA-261F22D5C11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58658-1379-4409-9D2C-F5FF5F898D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zgradnj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od skupov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onstruisat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F = {I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I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... I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}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ole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i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u skupova konfiguracija z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'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tanje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e odre</a:t>
            </a:r>
            <a:r>
              <a:rPr b="0" lang="sl-SI" sz="2400" spc="-1" strike="noStrike">
                <a:solidFill>
                  <a:srgbClr val="000099"/>
                </a:solidFill>
                <a:latin typeface="Comic Sans MS"/>
              </a:rPr>
              <a:t>đ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eno s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i.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Akcija za stanje i 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-533520">
              <a:spcBef>
                <a:spcPts val="150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k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I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, tada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ti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i,a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 redukcij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    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a svaki ulazni niz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(A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i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')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-533520">
              <a:spcBef>
                <a:spcPts val="150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ko 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' –&gt; S•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I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, tad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ti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i,$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ccept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-533520">
              <a:spcBef>
                <a:spcPts val="150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ko 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 –&gt;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•a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Ii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ccessor(Ii, a) = Ij,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tada 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ti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i,a] shift j (a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al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i simbo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Tabela prelazaka (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oto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stan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 za sve neterminalne simbole 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ako je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successor(Ii, A) = Ij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tad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oto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[i, A] = j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va polja koja nisu dobijena primjenom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2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3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u grešk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tartno stanje je zatvorenje skupa koji sadrži pravilo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' –&gt; •S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32F-67A2-4B0C-970A-2D02AA76554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E61A5-BD26-4C61-9212-E4BF779CD9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Značenje operaci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ing: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elaz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k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u novo stanj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andl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klanjamo ga s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ek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Pop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 stek stavljamo odgovarajući neterminalni simbol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ccepting: Red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a po pravil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a praznim ulazom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rror: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azno mjesto u tabeli ( nema načina da se izvede shift ili reduce)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8BF-12BD-48AC-A6B0-22093211B0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0A63E-452D-4EFB-A84D-0EF138D7BE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 pogrešnog ulaz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762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Ulazn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tring: id +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2280" y="1371600"/>
          <a:ext cx="8610480" cy="4952880"/>
        </p:xfrm>
        <a:graphic>
          <a:graphicData uri="http://schemas.openxmlformats.org/drawingml/2006/table">
            <a:tbl>
              <a:tblPr/>
              <a:tblGrid>
                <a:gridCol w="1448280"/>
                <a:gridCol w="2333880"/>
                <a:gridCol w="4828320"/>
              </a:tblGrid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Stek st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Neobrađeni ula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Akcija p</a:t>
                      </a:r>
                      <a:r>
                        <a:rPr b="0" lang="en-U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arser</a:t>
                      </a:r>
                      <a:r>
                        <a:rPr b="0" lang="sr-Latn-C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d + 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ush S4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 stek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, </a:t>
                      </a:r>
                      <a:br>
                        <a:rPr sz="2400"/>
                      </a:b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čitanje sledećeg tok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S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 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educe 4) T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id, pop S4, Goto 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 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educe 2)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T, pop S2, Goto S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S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 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ush S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S1S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Nema Action [S5, +]  Error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629400" y="152280"/>
            <a:ext cx="2362320" cy="17697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0) E’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1) E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2) E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3) T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4) T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D60-48AE-4F21-809C-EE2D0ED58EF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CCAC5-659F-41EF-ACD5-181FEC0B1D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ma man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na 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677880" y="4269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7880" y="1496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38080" y="1447920"/>
          <a:ext cx="3276720" cy="252720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’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 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 | T * F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| ( T )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= T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343400" y="1447920"/>
            <a:ext cx="4343400" cy="1752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5: F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F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= T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hift/reduc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3352680"/>
            <a:ext cx="4343400" cy="1295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2:  F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T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…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Reduce/Reduc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0292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ema sve informacije potrebne da se odlučimo između shift i reduc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89F-D33B-4DF6-A7BB-A1372DF1970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25420-1F39-4D54-BFB6-76DB59017D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0) mehan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- pregled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činjemo s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ottom-up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om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šemo 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e (konfiguracije)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rodu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Postavljamo tačku na sve moguće pozicij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šemo skupove 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nfigur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a, koje predstavljaju stanja parser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Skupovi zatvoreni u odnosu na ekvivalenciju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še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laske iz funkcije       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uccessor (state, symbol)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Gradimo tabel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cija i prelaza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ab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 implementir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-reduce parser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smatra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[st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ja i prelask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]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ao konačni automa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FE9-2DFC-4847-9E5C-794727B4D1D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1328F-070F-4397-9C09-A601DE70D1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egled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nfiguracija reprezentuje koliko daleko je 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ser dospio u prepoznavanju desne strane nekog pravila gramtaik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kup konfiguracija kombinuje različite putanje koje je parser  mogao imati do tog trenutk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načni automat je mašina čije računanje predstavlja željeni parse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0) gra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tike su najlakše za shvatanje, ali nemaju realnih primje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E1A-A4F8-46F1-AA21-86057A76751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15E08-D52C-4FCE-9DC2-FC2930CA02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778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7880" y="1496880"/>
            <a:ext cx="778032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Želimo moćne gramatike, čije tabele neće biti ogromnih razm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33526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š cilj: izabrati dovoljno moćnu gramatiku za koju tabela neće biti veli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 za čiju konstrukciju nećemo potrošiti previše vreme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34E-9978-47E9-82CC-CA66F96A4C3C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D9EB0-1BC4-4F22-A802-D113DD1607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imple LR(1)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   SLR(1)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dn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0) st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je ne smije sadrža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stovremen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duce ite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dv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ite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vaki 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mplet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item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(t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čka na kraj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mora biti u posebnom stanj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; 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će uvijek primjeniti redukciju u tom stanj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viri unaprijed u ulazni niz da se provjeri da li je redukcija pogod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ije redukcije pravil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XYZ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ovjeriti da li je sledeći token u skup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llow(A).  Reduc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rati samo ako to jeste slučaj, inače uradi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939-0F7E-42D8-AA4B-123F05A97B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6A37A-ABA2-44A5-BB52-FF14A909F4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hift-reduce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riste se kontekstno-slobodne gramatik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risti se stek za čuvanje obrađenih tokena i pravila koja su već primjenjen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 toku parsiran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vi dio ul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z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 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jelimično obrađe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esni dio ulaza je potpuno neobrađe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foo (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) { return (int) n+1 ; }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hifted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djelimično obrađen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neobrađe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Pomjeri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(Shift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) sledeći ulazni to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 na stek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ada vrh steka sadrži desnu stranu neke produkcije, zamijeniti je sa odgovarajućom lijevom stranom (redukcija)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95B-C0F7-49B5-A165-3349886B98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9E1FF-DEF3-4999-885A-02705423CD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j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1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onstruisat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F = {I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, 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... 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}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kupove LR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(0) item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2. Sta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i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cija za dato stanje 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: 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)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 –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• 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u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Ii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, tada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ction[i,a] reduce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 –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ff0000"/>
                </a:solidFill>
                <a:latin typeface="Comic Sans MS"/>
              </a:rPr>
              <a:t>za svako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a </a:t>
            </a:r>
            <a:r>
              <a:rPr b="0" lang="sr-Latn-CS" sz="2600" spc="-1" strike="noStrike">
                <a:solidFill>
                  <a:srgbClr val="ff0000"/>
                </a:solidFill>
                <a:latin typeface="Comic Sans MS"/>
              </a:rPr>
              <a:t>iz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Follow(A)  (A </a:t>
            </a:r>
            <a:r>
              <a:rPr b="0" lang="sr-Latn-CS" sz="2600" spc="-1" strike="noStrike">
                <a:solidFill>
                  <a:srgbClr val="ff0000"/>
                </a:solidFill>
                <a:latin typeface="Comic Sans MS"/>
              </a:rPr>
              <a:t>nije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S').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b)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S' –&gt; S• 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u 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i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, tad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ction[i,$]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ccept.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c)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 –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•a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Ii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uccessor(Ii , a) = Ij, t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da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Action[i,a]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 =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hift j (a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mora biti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terminal).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3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Prelazi za stan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e konstruišu za sve neterminale primjenom pravila: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: 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ko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uccessor(Ii, A) = Ij, t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da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Goto [i, A] = j.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va polja koja nisu dobijena primjenom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2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3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u grešk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5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tartno stanje je zatvorenje skupa koji sadrži pravilo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' –&gt; •S.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368-F6D7-42B8-85F1-F93DA22AA1D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85434-3D24-49DE-9F75-311886FA45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vojstv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gramat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dina razlika u odnosu na LR(0) je različit način definisanja tabele akcij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 SLR(1)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, tada nema nejasnoća, ali obrnuto ne važ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e može imati istovremen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reduce 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s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llow s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upovi disjunktn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125-4593-408D-B445-20776AA346C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8A779-D862-421D-8C42-850D61B725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kup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uccessor (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id)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vidi 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duce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sultu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llow 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up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llow(T) = {  +  )  ]  $  }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a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nač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+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]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$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[E] 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nač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 ostalim slučajevi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j. z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[ 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304920"/>
            <a:ext cx="2209680" cy="16714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' –&gt;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 –&gt; E + T |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–&gt; (E) | 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| id[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219320"/>
            <a:ext cx="2133360" cy="249660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2496600"/>
              <a:gd name="textAreaBottom" fmla="*/ 2392560 h 2496600"/>
            </a:gdLst>
            <a:ahLst/>
            <a:rect l="textAreaLeft" t="textAreaTop" r="textAreaRight" b="textAreaBottom"/>
            <a:pathLst>
              <a:path w="21600" h="25277">
                <a:moveTo>
                  <a:pt x="3600" y="0"/>
                </a:moveTo>
                <a:arcTo wR="3600" hR="3600" stAng="16200000" swAng="-5400000"/>
                <a:lnTo>
                  <a:pt x="0" y="21677"/>
                </a:lnTo>
                <a:arcTo wR="3600" hR="3600" stAng="10800000" swAng="-5400000"/>
                <a:lnTo>
                  <a:pt x="18000" y="252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'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+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[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057400"/>
            <a:ext cx="2165400" cy="91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i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i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666520" y="2438280"/>
            <a:ext cx="1143720" cy="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819520" y="25146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985-83C2-4786-BB98-7D070F9D5AA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7ABC1-51CC-425A-B40B-CEB0F9F74A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2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0560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Dva komplet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LR(0) ite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ostoji reduce-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LR(0) gra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tic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llow(T) = { + ) $ }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llow(V) = { = }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va 2 skupa su disj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nktn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a nema 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dvojena polja u tabeli akcij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28600" y="457200"/>
            <a:ext cx="4800600" cy="2862360"/>
            <a:chOff x="228600" y="457200"/>
            <a:chExt cx="4800600" cy="2862360"/>
          </a:xfrm>
        </p:grpSpPr>
        <p:sp>
          <p:nvSpPr>
            <p:cNvPr id="219" name=""/>
            <p:cNvSpPr/>
            <p:nvPr/>
          </p:nvSpPr>
          <p:spPr>
            <a:xfrm>
              <a:off x="228600" y="457200"/>
              <a:ext cx="2133720" cy="2862360"/>
            </a:xfrm>
            <a:custGeom>
              <a:avLst/>
              <a:gdLst>
                <a:gd name="textAreaLeft" fmla="*/ 104040 w 2133720"/>
                <a:gd name="textAreaRight" fmla="*/ 2029680 w 2133720"/>
                <a:gd name="textAreaTop" fmla="*/ 104040 h 2862360"/>
                <a:gd name="textAreaBottom" fmla="*/ 2758320 h 2862360"/>
              </a:gdLst>
              <a:ahLst/>
              <a:rect l="textAreaLeft" t="textAreaTop" r="textAreaRight" b="textAreaBottom"/>
              <a:pathLst>
                <a:path w="21600" h="28975">
                  <a:moveTo>
                    <a:pt x="3600" y="0"/>
                  </a:moveTo>
                  <a:arcTo wR="3600" hR="3600" stAng="16200000" swAng="-5400000"/>
                  <a:lnTo>
                    <a:pt x="0" y="25375"/>
                  </a:lnTo>
                  <a:arcTo wR="3600" hR="3600" stAng="10800000" swAng="-5400000"/>
                  <a:lnTo>
                    <a:pt x="18000" y="28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'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 +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V =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(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V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05320" y="1295280"/>
              <a:ext cx="1523880" cy="914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 -&gt; i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V -&gt; i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9" idx="3"/>
              <a:endCxn id="220" idx="1"/>
            </p:cNvCxnSpPr>
            <p:nvPr/>
          </p:nvCxnSpPr>
          <p:spPr>
            <a:xfrm flipV="1">
              <a:off x="2361960" y="1750320"/>
              <a:ext cx="1143720" cy="1368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2590920" y="1447560"/>
              <a:ext cx="5331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248520" y="685800"/>
            <a:ext cx="2209680" cy="20754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' –&gt;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 –&gt; E + T |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| V 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–&gt; (E) | 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V -&gt;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EFB-8256-4377-9DA0-4083F26DD3A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D4922-46D7-47EC-A2A7-A8C8CD153E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efin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.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svaki item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-&gt; u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v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skup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a term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nal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om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ne postoji kompleta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tem B -&gt; w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tom skupu tako da je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ollow(B).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ab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to znači da nem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bilo kom stanju, tj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da funkcija s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uccessor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z datog skupa ili prelazi u novo stanje ili reducira (ne oboje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2.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svaka dva kompletn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-&gt; u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B -&gt; u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skup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 Follow s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upovi moraju biti disjunktn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Follow(A) 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ollow(B)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razan skup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)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To znači da neće postojati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reduce-reduce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bilo kom stanju, tj. ako postoji više od jednog neterminala u ovom skupu koji možemo reducirati, na jedinstven način možemo odrediti koji reducuramo na osnovu samo jednog tokena "unaprijed" (lookahaed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SLR(1)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FF0-1043-444E-A6BF-2BC46EC6DD6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79581-3A0D-47A5-AC32-DDC45FA2CB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koji ni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0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'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S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5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id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 = 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6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L =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*R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d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*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d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1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' –&gt; S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7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*R•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2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L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= R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8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L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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9: S –&gt; L = R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L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3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R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4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*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*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d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152280"/>
            <a:ext cx="1447920" cy="210492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L = 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 –&gt; 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 –&gt;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–&gt; 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114800"/>
            <a:ext cx="6019560" cy="25264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obajte sa ulaz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id = i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obija 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ift-reduce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fl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oji nije razriješ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upovim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našanje 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e razliku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smo vidjel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ekolik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bo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ani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Igno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san je dio ko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sta parsiran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229-C667-4926-B9AB-FB7E74C2368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E5D3A-07FE-4AD4-86A4-971C9FDE67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Nedostaci SLR(1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risti više informacija neg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(0)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li ne i kompletnu informacij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 dalje može prepoznati pogrešan handle ili prevremeno uraditi redukcij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elazak s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(0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avljenje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pecifičnije informacije o prelasku između stanja, pa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napređiva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reiranjem specifičnije istorije stanja na vrhu stek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1DD-28AE-47B2-813A-09EBAA9F3AE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0CBA3-7D9A-4A1A-83FA-108E7AF9D8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temi nose v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e informacija nego kod LR(0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&gt; X1...Xi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Xi+1...Xj  , tok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rminal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ni simbol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ookahead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Znače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Stanja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X1…Xi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 su već na stek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Očekujemo da naiđu stanja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Xi+1...Xj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koja treba staviti na stek i onda reducirati, al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samo ak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token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koji slijedi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Xj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k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k 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može bit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$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B82-EF30-4F4A-9D3D-1B2697EB2BF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C3234-5B23-4F7D-B599-0C65A84680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ite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azdijelit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llow(A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pojedinačne slučajev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ožemo grupisati item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no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cijom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 -&gt;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a/b/c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nač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c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ce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je sledeći token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”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{ a, b, c }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Follow(A)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D21-B47E-4166-A496-1997DD4518C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D3252-8D40-4362-942B-9DC73FDE1B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kupovi item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Viš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više skupova neg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tvorenje (c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losure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svaki item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[A -&gt;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B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v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a]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a svako pravil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 -&gt;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z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,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 svaki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erminal b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z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irs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)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takav d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B -&gt;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e pripad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,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odat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B -&gt;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odaju se samo itemi sa ispravnim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okahead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-om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lje se koris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successor fu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ja za izračunav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 prelaska i sledećih ite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F846-F962-4E65-9928-74884C4D67D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E6FB7-1603-4B3E-B4E3-8E54390249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1066680"/>
          <a:ext cx="8305920" cy="5295960"/>
        </p:xfrm>
        <a:graphic>
          <a:graphicData uri="http://schemas.openxmlformats.org/drawingml/2006/table">
            <a:tbl>
              <a:tblPr/>
              <a:tblGrid>
                <a:gridCol w="1139760"/>
                <a:gridCol w="1709640"/>
                <a:gridCol w="5456520"/>
              </a:tblGrid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c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li dio ula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cij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id)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tavi zagradu na st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d)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tavi id na st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T –&gt; 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pop 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desnu stranu pravil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ush 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ijevu stranu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, 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ulaz nepromijenjen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E –&gt; 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$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tavi 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gradu na st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T –&gt; (E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E –&gt; 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S –&gt; 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Uspješan kraj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4572000" y="0"/>
            <a:ext cx="2133720" cy="1434600"/>
          </a:xfrm>
          <a:prstGeom prst="rect">
            <a:avLst/>
          </a:prstGeom>
          <a:solidFill>
            <a:srgbClr val="ffff99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m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atik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–&gt; T |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id | 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04920"/>
            <a:ext cx="1905120" cy="764280"/>
          </a:xfrm>
          <a:prstGeom prst="rect">
            <a:avLst/>
          </a:prstGeom>
          <a:solidFill>
            <a:srgbClr val="ffff99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Ulazni n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(i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722-6DC2-459F-9B1C-5A89AF0842F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0EA7F-BA3E-4E21-8677-7B69D326DC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successor fun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[A -&gt;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a],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Dodaj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[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a]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 skup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ccessor(I,X)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 zatvorenje skup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lično ka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ccessor fun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LR(0)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i propagiram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okahead token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 svak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tem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m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artni skup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0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 nađemo njegovo zatvore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m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ve skupove koji su neprazni sljedbenic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(succesorrs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kup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sr-Latn-C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odaj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ce 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F66-F3A5-4D29-8851-E942BF3341F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D75D3-B661-4B78-B92F-893414CA3D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lja tabele akci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[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a]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i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ada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ion[i,a]  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 pravil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(A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ij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')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[S' -&gt; 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$]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, tad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ion[i,$]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=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ccept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[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b]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i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ucc(Ii, a) = Ij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ada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ion[i,a]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hift j (a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ora bit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rminal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i simbol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lja tabele prelazaka (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ot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 svako stan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 svak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rminal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i simbol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ucc(Ii, A) = Ij, 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d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Goto [i, A] = j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4E3-316B-44C7-8FE1-08658C5668D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4ECD6-869A-4BA2-94AC-00EE94E685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liko stanja z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LR?  LR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523880"/>
            <a:ext cx="243864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0: S'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X, a/b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a/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1: S' -&gt; S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$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2: S -&gt; 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$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3: X -&gt; a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, a/b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X, a/b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a/b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4: X -&gt; b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/b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5: S -&gt; X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$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1523880"/>
            <a:ext cx="266688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6: X -&gt; a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$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7: X -&gt; b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$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8: X -&gt; a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/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9: X -&gt; a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$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1752480"/>
            <a:ext cx="1828800" cy="16714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)  S' –&g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)  S –&gt;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)  X –&gt; 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  X  –&gt;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40384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1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4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-&gt; b je kompleti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2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l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6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a obrađujem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-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7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a obrađujemo završn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9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mplet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ranje pravil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-&gt; 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5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mplet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ran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-&gt;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A17-2564-47C5-948F-CF480B6C249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7DA47-EE71-44DC-A1C6-A253FD3A7C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nastav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tab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brzo rast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– 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s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one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cijalno sa veličinom pravil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ože li se zadržati moć koju dobijamo prl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ko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 -&gt; LR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bez rasta tabel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ALR</a:t>
            </a:r>
            <a:r>
              <a:rPr b="0" lang="sr-Latn-CS" sz="3200" spc="-1" strike="noStrike">
                <a:solidFill>
                  <a:srgbClr val="3333cc"/>
                </a:solidFill>
                <a:latin typeface="Comic Sans MS"/>
              </a:rPr>
              <a:t> (LookAhead LR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u preagresivno razdvojena da bi se dobil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kušati spajanje skupova koji su 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skor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dentičn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stoji tri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ako izvesti spajanje da ne dođe 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hift-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duce-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at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104-95E6-4BC0-A179-75286AF8489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F2902-75C4-41DB-B665-398D86637A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Dangling ‘else’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ni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677880" y="4269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685800"/>
            <a:ext cx="83822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Čak i potpun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k)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e ne generiš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vaku konstrukciju programskih jez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1) S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f E the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2) S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f E then S els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Vidjet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“v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able prefix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“if E then if E then 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ada čit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el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- pravil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2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a pravilom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1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e može se ukloniti nejasnoća “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</a:rPr>
              <a:t>dangling else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a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Može se u tabeli podesiti tako da se prisilno odradi il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l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redu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Programski jezik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C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- uvije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shift (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 za poslednje 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l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Uvođenje delimiter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(à la Ada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 ili VB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F40-8938-41C2-A623-30286D1C6D5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98359-A052-49A6-B9FA-122A297603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0" lang="en-US" sz="3800" spc="-1" strike="noStrike">
                <a:solidFill>
                  <a:srgbClr val="000099"/>
                </a:solidFill>
                <a:latin typeface="Comic Sans MS"/>
              </a:rPr>
              <a:t>angling-else</a:t>
            </a:r>
            <a:endParaRPr b="0" lang="en-US" sz="3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838080"/>
            <a:ext cx="3809880" cy="24184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Good code, good ind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done = 1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 = finishu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error_pending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ort_er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_error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838080"/>
            <a:ext cx="3809880" cy="24184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Good code, bad ind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done = 1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 = finishu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error_pending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ort_er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_done() /* oop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3429000"/>
            <a:ext cx="3733560" cy="30916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limiters can disambigu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done = 1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 = cleanu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error_pending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ort_er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_error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if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365760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ravoučeni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e kreirajte konstrukcije u PJ koje morate prisilno rješavati u tabe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oristi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R gram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tike ako je moguć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71C-210B-4F81-B4D7-8FFEAF3231DC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DBDA5-47C3-44E6-A03A-8C8584CFB3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vs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z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u osobine gramat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parsera napravljenih od tih gramat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 ne jez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 langs 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 langs 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CF lang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zi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g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lara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postoji nek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lar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) g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ramat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(G)=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(L=L(G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) 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e znači da jezik L ni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.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zik može biti generisan preko više gramatika, od kojih su neke regularne, neke LR a neke CF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889-1BB7-4AFF-B4B8-DC59D93425B5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A8244-CEF1-4725-AB81-813067BB56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vs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zic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G LR(0)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= {S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aAb, 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bBa,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B 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}  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duce / 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onfl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!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R(0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li 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LR(1)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đe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Follow 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upov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vidimo da je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Follow(A) = Follow(B) = { a, b }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su disjunktni pa gramatika ni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LR(1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0" y="228600"/>
            <a:ext cx="2057400" cy="2316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Aa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b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104-838B-4825-96A7-1C282718F6C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3D726-4DB2-4415-B2A3-ED2BB85252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vs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zic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 LR(0)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= {S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aAb, 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bBa,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B 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}  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duce / 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flik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!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R(0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li 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SLR(1)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đe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Follow 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upov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vidimo d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Follow(A) = Follow(B) = { a, b } 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su disjunktni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Gramatik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ni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LR(1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jezik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 regulara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= {ab, ba}   Reg Expr = ( ab | ba 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228600"/>
            <a:ext cx="2057400" cy="2316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Aa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b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4952880"/>
            <a:ext cx="2057400" cy="14184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EAC-C05D-4BC6-87FF-4594E6E84BD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B19D7-A39B-4227-9D3E-310395FB65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End-of-input oznaka $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nje I1 u grafu na slajdu 29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to ne dolazi d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dan kompletan item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  Reduce E -&gt; E’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da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mple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tem:  Shift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 -&gt; E’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u stvar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 -&gt; E’ $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ompletan (završni)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tem E -&gt; E’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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 uvijek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pecijalni slučaj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uce E -&gt; E’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na ulaz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na ulaz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60C-974D-40AC-B844-0ACA028EC70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2A3E4-0C14-44A7-9DDC-8367B4A9EA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– glavni program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du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ija (Reduce)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postoji pravil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 –&gt;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sadržaj steka 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q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w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za neko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(q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može biti prazn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)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nda reduciraj stek n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qA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e naziva “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h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dle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”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poznavan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h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dl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va je ključ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!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Accept: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je A startno stanje i i ulaz je praza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hif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ne možemo odraditi redukciju i postoje neobrađeni tokeni, prebaciti jedan token iz ulaznog niza na ste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rror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se ne može uraditi ni shift ni reduce, došlo je do grešk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9D4-E506-4650-A8B4-55915B8E67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E4F73-3F3B-4F5D-848B-B86CE80AAF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685800"/>
          <a:ext cx="8305920" cy="5942160"/>
        </p:xfrm>
        <a:graphic>
          <a:graphicData uri="http://schemas.openxmlformats.org/drawingml/2006/table">
            <a:tbl>
              <a:tblPr/>
              <a:tblGrid>
                <a:gridCol w="1254240"/>
                <a:gridCol w="2036520"/>
                <a:gridCol w="501516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arse Stack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obrađeni dio ulaz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k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j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+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+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+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id + 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+ 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+ id) 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+ 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 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(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T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E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 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+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T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E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+T;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(Ignore: E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)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T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E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S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ccep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400800" y="304920"/>
          <a:ext cx="2743200" cy="220824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E –&gt; T  |  E + 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T –&gt; id | (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laz: (id + i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614-8B6F-4EDA-9B7E-CE956C445E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8B78C-796E-42B3-900A-948FC55EEC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677880" y="4269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880" y="762120"/>
            <a:ext cx="7780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ft-to-right input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ghtmost derivation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(učitavanj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ulaza slijeva udes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, desna derivac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arsiranje zasnovano na tabe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ar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ranj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na osnov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-re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ože obraditi gramatike koje nisu L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(1)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(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primjer, sa rekurzij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gu se obraditi skoro sve strukture programskih jezika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L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R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FG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607-DC08-4943-ADDF-ED4487D29F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B36AE-4303-4B8F-8A00-FCC3300DAB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rukture potrebne za parse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k stanj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{s}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abela akcija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ion tabl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ction[s,a];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svako polje tabele sadrž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i jednu redukc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i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j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u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 ili prelazak u stanje ili grešku ili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“accept”</a:t>
            </a:r>
            <a:endParaRPr b="0" lang="en-US" sz="2400" spc="-1" strike="noStrike">
              <a:solidFill>
                <a:srgbClr val="cc00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abela prelaza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oto tabl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Goto[s,X]; X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s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vako polje sadrži ili oznaku stanja ili grešku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c00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3EE-855B-4581-8464-A33BD9AA22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5EBF2-371D-456D-AA06-72EC7B7BEF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Goran Šuković</cp:lastModifiedBy>
  <dcterms:modified xsi:type="dcterms:W3CDTF">2007-10-02T16:40:15Z</dcterms:modified>
  <cp:revision>1595</cp:revision>
  <dc:subject/>
  <dc:title>Welcome to CS143</dc:title>
</cp:coreProperties>
</file>