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835-207A-4E08-80B2-98A3546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6AF-915D-4620-8A13-937DBAE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74B-AC4C-4611-9364-E2CCD09F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211-F6C1-46B1-B02C-DFE120F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D0D-9243-4A18-941E-DF83EE1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BD0-C84A-4472-836D-5635716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996-8F1D-479D-A55A-25625DE4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713-5CF9-4846-A9ED-904096E2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EBF-DBC5-4A26-B488-FCB9ABE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267-DD5D-4503-B228-53B8464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F99-256E-4949-AF20-3A3BF66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3EA-F8F0-478E-B0DD-D51C85A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BDA-DD6B-4CE3-8FD6-D028DDF40F4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eđuprogramska reprezentacij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đuprogramska reprezentacija (intermediate representation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da se kreira apstraktno sintaksno stablo (AST), posjedujemo dovoljno informacija za otpočinjanje generisanja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vođenje AST u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timizacija međuprogramskog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isanje koda od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5D0-6E57-4422-BAF9-24844A9F8C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E5B8A-DAB6-4473-A3A9-E9DC57063C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(Abstract Syntax Tree) je oblik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straktniji od drveta pasrir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337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6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004-1D32-44F4-969F-4FF1B05AB4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02DB4-F1A1-46A4-A6F8-F5D238198F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imjer AST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: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FunctionNode($2, $4, $6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: function_list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$1; $1-&gt;AppendNode($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tant : int_consta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IntConstantNode($1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F0F-C3BC-4CEB-9DC1-59F23C6BA6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9217B-40DD-4619-9A80-7CA084486F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vo parsiranja za aritmetičke izraz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9753480" cy="404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ki čvorovi su nebitni za izračunavanje(npr. expr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variabl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43D-453C-4CEB-816F-8F6CDDCFC1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BDF8D-FB30-4F36-9085-730A9D3184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za isti aritmetičk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raz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o generisati ko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ovo drvo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 se AST ka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, i odrađujem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laciju u rutinam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je obilaze drvo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tine obilaska drveta i generisanja koda (Tree-walk code-gen routines 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869080" y="1759680"/>
            <a:ext cx="2283120" cy="2082600"/>
            <a:chOff x="5869080" y="1759680"/>
            <a:chExt cx="2283120" cy="2082600"/>
          </a:xfrm>
        </p:grpSpPr>
        <p:sp>
          <p:nvSpPr>
            <p:cNvPr id="107" name=""/>
            <p:cNvSpPr/>
            <p:nvPr/>
          </p:nvSpPr>
          <p:spPr>
            <a:xfrm>
              <a:off x="6474960" y="175968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869080" y="2453400"/>
              <a:ext cx="1568160" cy="596880"/>
              <a:chOff x="5869080" y="2453400"/>
              <a:chExt cx="1568160" cy="59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9080" y="2529720"/>
                <a:ext cx="3787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17920" y="2453400"/>
                <a:ext cx="3193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480360" y="33217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93280" y="332172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  <a:endCxn id="109" idx="0"/>
            </p:cNvCxnSpPr>
            <p:nvPr/>
          </p:nvCxnSpPr>
          <p:spPr>
            <a:xfrm flipH="1">
              <a:off x="6058440" y="2295000"/>
              <a:ext cx="610200" cy="219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07" idx="2"/>
              <a:endCxn id="110" idx="0"/>
            </p:cNvCxnSpPr>
            <p:nvPr/>
          </p:nvCxnSpPr>
          <p:spPr>
            <a:xfrm>
              <a:off x="6668640" y="2295000"/>
              <a:ext cx="610560" cy="143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0" idx="2"/>
              <a:endCxn id="112" idx="0"/>
            </p:cNvCxnSpPr>
            <p:nvPr/>
          </p:nvCxnSpPr>
          <p:spPr>
            <a:xfrm>
              <a:off x="7278120" y="2989080"/>
              <a:ext cx="69552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10" idx="2"/>
              <a:endCxn id="111" idx="0"/>
            </p:cNvCxnSpPr>
            <p:nvPr/>
          </p:nvCxnSpPr>
          <p:spPr>
            <a:xfrm flipH="1">
              <a:off x="6669720" y="298908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53C-63FC-4649-9DE8-F51134D3E9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73699-591E-472C-81F4-18EB6C434E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void GenerateCode(tree t, int resultRegNum)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{ if (IsArithmeticOp(t-&gt;label)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left, resultRegNum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right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ArithmeticOp(t-&gt;label,   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sultRegNum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} else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Load(t-&gt;label, resultRegNum);  }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bool IsArithmeticOp(char ch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turn ((ch == '+') || (ch == '-') ||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(ch == '*') || (ch == '/'));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284-9BB2-427C-A82F-CBE37C2282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70449-E196-4384-93B6-6826929CD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ArithmeticOp(char op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reg1, int reg2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r *opCode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(op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+': opCode = "ADD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-': opCode = "SUB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*': opCode = "MUL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/': opCode = "DIV"; break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%s R%d, R%d\n", opCode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g1, reg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Load(char c, int reg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LOAD %c, R%d\n",c , reg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294-30F6-4704-BE3A-E9F9833F89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A486C-E169-4DBB-851C-4E0E7365CC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Napomene vezane za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LOAD, MUL, DIV, itd. su kodovi operacija na ciljnoj mašini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ateCode kao argument ima registar za čuvanje rezultata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Nije nam poznato koliko registara ima ciljna mašina (target machine)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rateCode inkrementira broj registra kada mu zatreba novi registar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Za složene izraze, ovaj pristup može zauzeti sve registre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išemo asemblerski kod kao tekst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74F-A74F-4CF6-BAD7-112F82A503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E9A70-161C-4832-83CC-AFF6FBA45A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oš jedan primjer izraz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+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a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“LOAD a, R0”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*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-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b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b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c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c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SUB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d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d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MUL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ADD R0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0560" y="235440"/>
            <a:ext cx="2294280" cy="2989080"/>
            <a:chOff x="6640560" y="235440"/>
            <a:chExt cx="2294280" cy="2989080"/>
          </a:xfrm>
        </p:grpSpPr>
        <p:sp>
          <p:nvSpPr>
            <p:cNvPr id="126" name=""/>
            <p:cNvSpPr/>
            <p:nvPr/>
          </p:nvSpPr>
          <p:spPr>
            <a:xfrm>
              <a:off x="7246440" y="23544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40560" y="10051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9760" y="928800"/>
              <a:ext cx="3193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56120" y="179748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6" idx="2"/>
              <a:endCxn id="127" idx="0"/>
            </p:cNvCxnSpPr>
            <p:nvPr/>
          </p:nvCxnSpPr>
          <p:spPr>
            <a:xfrm flipH="1">
              <a:off x="6830280" y="771120"/>
              <a:ext cx="610200" cy="219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8" idx="0"/>
            </p:cNvCxnSpPr>
            <p:nvPr/>
          </p:nvCxnSpPr>
          <p:spPr>
            <a:xfrm>
              <a:off x="7440480" y="771120"/>
              <a:ext cx="610560" cy="143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8" idx="2"/>
              <a:endCxn id="129" idx="0"/>
            </p:cNvCxnSpPr>
            <p:nvPr/>
          </p:nvCxnSpPr>
          <p:spPr>
            <a:xfrm>
              <a:off x="8049960" y="1465200"/>
              <a:ext cx="695520" cy="3175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8" idx="2"/>
              <a:endCxn id="134" idx="0"/>
            </p:cNvCxnSpPr>
            <p:nvPr/>
          </p:nvCxnSpPr>
          <p:spPr>
            <a:xfrm flipH="1">
              <a:off x="7443000" y="1465200"/>
              <a:ext cx="607320" cy="35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293240" y="1835280"/>
              <a:ext cx="2995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45600" y="270396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8880" y="270396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4" idx="2"/>
              <a:endCxn id="136" idx="0"/>
            </p:cNvCxnSpPr>
            <p:nvPr/>
          </p:nvCxnSpPr>
          <p:spPr>
            <a:xfrm>
              <a:off x="7443720" y="2370960"/>
              <a:ext cx="69624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2"/>
              <a:endCxn id="135" idx="0"/>
            </p:cNvCxnSpPr>
            <p:nvPr/>
          </p:nvCxnSpPr>
          <p:spPr>
            <a:xfrm flipH="1">
              <a:off x="6834960" y="237096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791320" y="3352680"/>
            <a:ext cx="3047760" cy="3080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B45-388B-43E0-92D3-DA295A49EC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F1A9C-EC81-464F-B949-9326B59DDC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li smo registre al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ma konflikta (prepisujem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ijednost kada n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š treba.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čitali smo vrijednos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 R0 i ne koristimo je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samog kraj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čunanja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poboljšanje koda, prvo se primjenjuje tehnika alokacije registar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752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685800"/>
            <a:ext cx="2438280" cy="3933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(b-c)*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24B-26E6-4D77-9E59-9A86850E61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A380B-34C3-413C-8D5E-0C609F189F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CC MPR: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gister Transfer Languag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Nizak niv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spirisan Lisp-om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Kompajleri na Solaris-u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2.95.3/gcc_15.html#SEC149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Poslednja verzija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3.2.2/gccint/RTL.html#RT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88B-974B-4351-98A8-96DC9ADB37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95C81-9C30-4288-9429-9D20D83434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Zašto je potrebna MPR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PR – reprezentacija program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straktnije od staba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jezika nego stab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mašine nego krajnji ko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Zašto direktno ne generisati ko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je moguće, čak i uobičajen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zavisnost je vrl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 -- ranije GNU C kompajl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da Gnu Compiler Colle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više jezika (source) u jednu MP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jedne MPR u više arhitektur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4BB-D9A5-4F90-8E7F-2C38F0DD3A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6367E-1558-42E0-A9A4-FE5F1F1D86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u GNU 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;; Function main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3 2 4 "" NOTE_INSN_FUNCTION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6 4 7 0 NOTE_INSN_BLOCK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7 6 8 (set (reg:SI 106)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labele, jump na nj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high:SI 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// .LLC0 je asemblerska labela za string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8 7 10 (set (reg:SI 8 %o0) (lo_sum:SI (reg:SI 106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/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“high” &amp; “lo_sum” izgrađuju  niz od 2 instrukcije za dostup globalnoj memoriji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CB7-9FB2-47E0-BF88-38F17F70DD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427FC-821D-4BDF-82CB-404A6F94FF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- nastava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_insn 10 8 12 (parallel[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nekoliko bočnih efek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t (reg:SI 8 %o0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paralelno odrađen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 (mem:SI (symbol_ref:SI ("printf"))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_int 0 [0x0]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lobber (reg:SI 15 %o7))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] ) -1 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expr_list (use (reg:SI 8 %o0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2 10 13 0 NOTE_INSN_BLOCK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3 12 15 "" NOTE_INSN_FUNCTION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clobber: moguće čuvanje neočekivane, neopisane vrijedsnoti u 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63F-8AA2-441E-83A5-19E494A7B9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4371A-076F-43AB-A051-DB09779C6D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 postaje primarno način distribu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iljna mašina je Java Virtual Machine (JVM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asnovana na registrima+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strukturalnu verifik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rovjera sigurnosti tipova!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direktnu interpret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lo visoki niv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zvoljava laku dekompilaciju (iz objektnog koda nazad u neki izvorni ko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C19-56E7-4B15-AB03-F4B2D28AFF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1ED05-9016-4A9A-9A77-FAE1B4D701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-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50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gcd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c int gcd(int x, int y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d = x -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(d &g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d, y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 if (d &l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720" y="2209320"/>
            <a:ext cx="441936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blic static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main(String []av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ystem.out.println(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cd(33, 42)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E26-0C83-405A-843D-242B426A5A27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AAD79-F308-4061-886B-64EBECE306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81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thod int gcd(int x, int 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0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 (x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 iload_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1] (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isub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x - 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 istore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[2] (d) := po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 iload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2] (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 ifle 1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branch if &lt;= 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6 iretur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eturn i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Lokalni registri r[0], r[1] sadr</a:t>
            </a:r>
            <a:r>
              <a:rPr b="0" lang="hr-HR" sz="2600" spc="-1" strike="noStrike">
                <a:solidFill>
                  <a:srgbClr val="000099"/>
                </a:solidFill>
                <a:latin typeface="Times New Roman"/>
              </a:rPr>
              <a:t>ž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e aktuelne argumente po ulasku  u procedur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Poređenje sa  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caf-V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Može biti ponovo korišće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ve operacije se rade na stek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0DA-557A-4A9E-9A0F-9D89706178F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1588D-EC1C-441B-8E28-6AD6452A88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ethod void main(java.lang.String[]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0 getstatic #3 &lt;Field java.io.PrintStream out&gt;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System.ou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3 bipush 33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33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5 bipush 42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42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7 invokestatic #2 &lt;Method int gcd(int, 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static method gcd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0 invokevirtual #4 &lt;Method void println(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instance method printl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3 return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return from mai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9A9-0CB8-4B7D-8F53-F787F38C85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90DD0-FA53-45F4-AFBC-0B9EAB5F3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MPR model za Decaf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1"/>
          </p:cNvCxnSpPr>
          <p:nvPr/>
        </p:nvCxnSpPr>
        <p:spPr>
          <a:xfrm>
            <a:off x="4123800" y="369540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1"/>
            <a:endCxn id="165" idx="3"/>
          </p:cNvCxnSpPr>
          <p:nvPr/>
        </p:nvCxnSpPr>
        <p:spPr>
          <a:xfrm>
            <a:off x="151920" y="3695400"/>
            <a:ext cx="1753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7" idx="1"/>
            <a:endCxn id="167" idx="3"/>
          </p:cNvCxnSpPr>
          <p:nvPr/>
        </p:nvCxnSpPr>
        <p:spPr>
          <a:xfrm>
            <a:off x="7314840" y="36190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52280" y="3048120"/>
            <a:ext cx="1752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6576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12408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embler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06676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66880" y="4343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057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4333320"/>
            <a:ext cx="123840" cy="99036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810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zavisno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 i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19810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d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98108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i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44956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c, 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0292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e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rei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0292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0292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51814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0"/>
            <a:endCxn id="168" idx="2"/>
          </p:cNvCxnSpPr>
          <p:nvPr/>
        </p:nvCxnSpPr>
        <p:spPr>
          <a:xfrm flipV="1">
            <a:off x="4495680" y="4190760"/>
            <a:ext cx="766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8" idx="0"/>
          </p:cNvCxnSpPr>
          <p:nvPr/>
        </p:nvCxnSpPr>
        <p:spPr>
          <a:xfrm flipV="1">
            <a:off x="2781000" y="4419000"/>
            <a:ext cx="268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7" idx="0"/>
            <a:endCxn id="165" idx="2"/>
          </p:cNvCxnSpPr>
          <p:nvPr/>
        </p:nvCxnSpPr>
        <p:spPr>
          <a:xfrm flipV="1">
            <a:off x="952560" y="4342680"/>
            <a:ext cx="766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0"/>
            <a:endCxn id="162" idx="2"/>
          </p:cNvCxnSpPr>
          <p:nvPr/>
        </p:nvCxnSpPr>
        <p:spPr>
          <a:xfrm flipH="1" flipV="1">
            <a:off x="6209640" y="4352400"/>
            <a:ext cx="114840" cy="82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A87-1244-45E7-93EF-D3380D6A249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9A95D-BDB1-4BE7-848B-28ACBB3AF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roadres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alni koncept sa više realizacija; osnovna ideja 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vo-, tro- i četvoro-adresni ko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rezentacija kao trojke (triple), četvorke (quadruples), petorke (quintuples)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uniformna terminologija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caf TAC je izuzetno prost, ali dovoljan za kreiranje kompajler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D5C-3A60-4FAA-9206-0995A646CF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A21F2-935B-4880-B07B-6BFAEF14AA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je TAC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ilazak AST-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C se čuva kao rastuća lis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&lt;Instruction*&gt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laz na kraju obilask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obliku pogodnom za štamp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MIPS asemblerskom kod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trebno je obezbijediti emiter zavisan od mašine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DC4-726C-4E88-93AC-F17A3B2724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AFEA1-0001-4F2D-9233-E355C1F47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je Decaf-TAC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rukcije koje operišu sa imenovanim lokacijama i labela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ički kod nivoa asembler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ka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aka lokacija je mjesto za čuvanje 4 baj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Smatraćemo da broj lokacija nije ograničen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na stek frejmu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Zadajemo offset (plus ostalu dostupnu informaciju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globalna promjenljiv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referisan preko globalnog imen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bele (generišu se po potrebi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tanja vezana za okolinu izvršav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140-A14A-461F-9B9A-9C66CAB11D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D9496-D0C1-4251-BB25-395060C6EF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otivacija za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4356000"/>
            <a:ext cx="84582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r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 za više front i back-endov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jela zadataka i odlaganje zadatak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zvoljava optimizaciju nezavisnu od mašin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066680"/>
            <a:ext cx="8609760" cy="3199680"/>
            <a:chOff x="228600" y="1066680"/>
            <a:chExt cx="8609760" cy="3199680"/>
          </a:xfrm>
        </p:grpSpPr>
        <p:grpSp>
          <p:nvGrpSpPr>
            <p:cNvPr id="48" name=""/>
            <p:cNvGrpSpPr/>
            <p:nvPr/>
          </p:nvGrpSpPr>
          <p:grpSpPr>
            <a:xfrm>
              <a:off x="228600" y="1066680"/>
              <a:ext cx="1542960" cy="3199680"/>
              <a:chOff x="228600" y="1066680"/>
              <a:chExt cx="1542960" cy="3199680"/>
            </a:xfrm>
          </p:grpSpPr>
          <p:sp>
            <p:nvSpPr>
              <p:cNvPr id="49" name=""/>
              <p:cNvSpPr/>
              <p:nvPr/>
            </p:nvSpPr>
            <p:spPr>
              <a:xfrm>
                <a:off x="39060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060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860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8160" y="2251800"/>
              <a:ext cx="974520" cy="82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M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584080" y="1066680"/>
              <a:ext cx="1299240" cy="3199680"/>
              <a:chOff x="2584080" y="1066680"/>
              <a:chExt cx="1299240" cy="3199680"/>
            </a:xfrm>
          </p:grpSpPr>
          <p:sp>
            <p:nvSpPr>
              <p:cNvPr id="54" name=""/>
              <p:cNvSpPr/>
              <p:nvPr/>
            </p:nvSpPr>
            <p:spPr>
              <a:xfrm>
                <a:off x="258408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8408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8408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289760" y="1066680"/>
              <a:ext cx="1542960" cy="3199680"/>
              <a:chOff x="4289760" y="1066680"/>
              <a:chExt cx="1542960" cy="3199680"/>
            </a:xfrm>
          </p:grpSpPr>
          <p:sp>
            <p:nvSpPr>
              <p:cNvPr id="58" name=""/>
              <p:cNvSpPr/>
              <p:nvPr/>
            </p:nvSpPr>
            <p:spPr>
              <a:xfrm>
                <a:off x="437076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7076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8976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539120" y="1066680"/>
              <a:ext cx="1299240" cy="3199680"/>
              <a:chOff x="7539120" y="1066680"/>
              <a:chExt cx="1299240" cy="3199680"/>
            </a:xfrm>
          </p:grpSpPr>
          <p:sp>
            <p:nvSpPr>
              <p:cNvPr id="62" name=""/>
              <p:cNvSpPr/>
              <p:nvPr/>
            </p:nvSpPr>
            <p:spPr>
              <a:xfrm>
                <a:off x="753912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3912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3912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49" idx="3"/>
              <a:endCxn id="54" idx="1"/>
            </p:cNvCxnSpPr>
            <p:nvPr/>
          </p:nvCxnSpPr>
          <p:spPr>
            <a:xfrm>
              <a:off x="1700640" y="148104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49" idx="3"/>
              <a:endCxn id="55" idx="1"/>
            </p:cNvCxnSpPr>
            <p:nvPr/>
          </p:nvCxnSpPr>
          <p:spPr>
            <a:xfrm>
              <a:off x="1700640" y="148140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49" idx="3"/>
              <a:endCxn id="56" idx="1"/>
            </p:cNvCxnSpPr>
            <p:nvPr/>
          </p:nvCxnSpPr>
          <p:spPr>
            <a:xfrm>
              <a:off x="1700640" y="1481040"/>
              <a:ext cx="87408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0" idx="3"/>
            </p:cNvCxnSpPr>
            <p:nvPr/>
          </p:nvCxnSpPr>
          <p:spPr>
            <a:xfrm flipV="1">
              <a:off x="1700280" y="1540440"/>
              <a:ext cx="803160" cy="112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0" idx="3"/>
              <a:endCxn id="55" idx="1"/>
            </p:cNvCxnSpPr>
            <p:nvPr/>
          </p:nvCxnSpPr>
          <p:spPr>
            <a:xfrm>
              <a:off x="1700640" y="266652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3"/>
              <a:endCxn id="56" idx="1"/>
            </p:cNvCxnSpPr>
            <p:nvPr/>
          </p:nvCxnSpPr>
          <p:spPr>
            <a:xfrm>
              <a:off x="1700640" y="266688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1" idx="3"/>
              <a:endCxn id="54" idx="1"/>
            </p:cNvCxnSpPr>
            <p:nvPr/>
          </p:nvCxnSpPr>
          <p:spPr>
            <a:xfrm flipV="1">
              <a:off x="1782000" y="1480680"/>
              <a:ext cx="79272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1" idx="3"/>
              <a:endCxn id="55" idx="1"/>
            </p:cNvCxnSpPr>
            <p:nvPr/>
          </p:nvCxnSpPr>
          <p:spPr>
            <a:xfrm flipV="1">
              <a:off x="1782000" y="2666520"/>
              <a:ext cx="79272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51" idx="3"/>
              <a:endCxn id="56" idx="1"/>
            </p:cNvCxnSpPr>
            <p:nvPr/>
          </p:nvCxnSpPr>
          <p:spPr>
            <a:xfrm>
              <a:off x="1782000" y="3852000"/>
              <a:ext cx="79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58" idx="3"/>
              <a:endCxn id="52" idx="1"/>
            </p:cNvCxnSpPr>
            <p:nvPr/>
          </p:nvCxnSpPr>
          <p:spPr>
            <a:xfrm>
              <a:off x="5680440" y="1481400"/>
              <a:ext cx="467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59" idx="3"/>
              <a:endCxn id="52" idx="1"/>
            </p:cNvCxnSpPr>
            <p:nvPr/>
          </p:nvCxnSpPr>
          <p:spPr>
            <a:xfrm>
              <a:off x="5680440" y="2666520"/>
              <a:ext cx="467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0" idx="3"/>
              <a:endCxn id="52" idx="1"/>
            </p:cNvCxnSpPr>
            <p:nvPr/>
          </p:nvCxnSpPr>
          <p:spPr>
            <a:xfrm flipV="1">
              <a:off x="5843160" y="2666520"/>
              <a:ext cx="3052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52" idx="3"/>
              <a:endCxn id="62" idx="1"/>
            </p:cNvCxnSpPr>
            <p:nvPr/>
          </p:nvCxnSpPr>
          <p:spPr>
            <a:xfrm flipV="1">
              <a:off x="7143120" y="148104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52" idx="3"/>
              <a:endCxn id="63" idx="1"/>
            </p:cNvCxnSpPr>
            <p:nvPr/>
          </p:nvCxnSpPr>
          <p:spPr>
            <a:xfrm>
              <a:off x="7143120" y="2666520"/>
              <a:ext cx="386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52" idx="3"/>
              <a:endCxn id="64" idx="1"/>
            </p:cNvCxnSpPr>
            <p:nvPr/>
          </p:nvCxnSpPr>
          <p:spPr>
            <a:xfrm>
              <a:off x="7143120" y="266688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B41-BF7A-4F15-9BE5-F9514227DB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BC282-4700-4098-A930-BA47F503A8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46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djeljivanj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na strana može biti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kacij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ing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ger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be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mjer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2 = t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3 = “Hello”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5 = 42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7 = _L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267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-&gt;Append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ew LoadStringConstant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/*t3=*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empVar()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Hello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C88-8549-4D47-B6D7-066C3FDF469F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B8BAA-0BC2-4DC0-8ED5-63B27B593E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4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ritmetičk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narno add, sub, multiply, divide, modul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ednakost (==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lacioni (&lt;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gički (&amp;&amp;, ||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e i grananj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etanje labele u TAC niz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_L4: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z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Goto _L4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fZ t1 Goto _L3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889-268D-4932-B939-D9403DF1AC7D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A3A62-AC72-4758-B119-F1F668D0E5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prema poziva f-i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ushParam t1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eval left to righ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push right to lef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opParams 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(no effect on Sparc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zivanje meto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vs. Adr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LCall, ACall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vs. nonvoi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1 = LCall _L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ACall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C67-F8F7-4AED-8DDE-076102944C3D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8C843-8D84-4311-A231-D1A9E7ABE0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V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sanje funkcij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eginFunc &lt;n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Ulazak u f-iju, specifkacija veličine  stek frejm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ndFunc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ads i Sto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Opcionalni integer offset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imjeri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t2 = *(t4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*(t5+4) = t6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cifikacija podatak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VTable name = &lt;list of labels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EEE-86E0-4E28-B2B7-C4B817BB08CE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4F218-CB0B-4C54-AAA0-FF373862B2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TAC nema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arni minus, log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ko no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eksacija niza (provjera granica!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ray.length(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cioni &lt;=, &gt;=, &gt;,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ugi uslovni skokov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stup polji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base+offset load/sto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thod dispatc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load iz vtable i Ac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6B4-AEBE-458C-ADD3-1D72321C34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252D0-29B6-4ECE-9A37-25693908F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uilt-in funkcije: libdecaf.c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lled using LC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143000"/>
          <a:ext cx="9144000" cy="5334120"/>
        </p:xfrm>
        <a:graphic>
          <a:graphicData uri="http://schemas.openxmlformats.org/drawingml/2006/table">
            <a:tbl>
              <a:tblPr/>
              <a:tblGrid>
                <a:gridCol w="2286000"/>
                <a:gridCol w="2021040"/>
                <a:gridCol w="1368360"/>
                <a:gridCol w="346860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amter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vrač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Allo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s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id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ocate memor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 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Integ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n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StringEq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a, *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mpare two string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Ha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op (runtime error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EA5-D3B8-47D3-993D-83FB3C6FC3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8313E-6F8F-48C6-A619-0E2D51DAD1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mitovanje TAC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gcd(x, y), "\n"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8128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9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_tmp9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0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_tmp1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x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1 = LCall _gcd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_tmp11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Call _PrintInt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4 ;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/* ostatka nema */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341-58AE-4C82-86BE-AF5EEAFC050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76270-EAC1-43FA-B241-3DAAEAC7B0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 primjer: IfZ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051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gcd(int x, int y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d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 = x - y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 (d &gt; 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turn gcd(d, y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 if (d &lt;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gc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4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0 = x - y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 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1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2 = _tmp1 &lt; 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Z _tmp2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d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3 = LCall _gc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3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to _L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287-138B-46FA-A598-C6E47CA0F381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E6C47-2652-4E2B-B4A8-2D1CB9130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sintetisanje &lt;=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factorial(int n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f (n &lt;=1 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return 1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eturn n*factorial(n-1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 main(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factorial(6)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62160" y="60948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factorial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36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0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1 = n &lt;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2 = n =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3 = _tmp1 || _tmp2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Z _tmp3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5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6 = n - _tmp5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_tmp6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7 = LCall _factorial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8 = n * _tmp7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365-2C8B-4169-A8EC-4049505B46B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7291C-812D-4DED-A6EF-FE58D2919A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52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oid set(int x, int y) {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.x = x; this.y = y;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 getX() { return x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abs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*x + y*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3040" y="60948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set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4) = x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8) = y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getX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0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931-C7B0-4AAD-8DE7-E38A3080BFBF}" type="slidenum">
              <a:t>3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DC470-6E78-406C-8365-A28B6616716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oji mnogo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ao RISC instruk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stri, literali, prost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ference na nizove, izdvajanje polja, itd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Čuvaju određenu semantiku, jer će možda kasnije iskoristiti tu informaciju za popravljanje koda ili za specifične brze mašinsk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0DF-4BA0-4C23-AADC-B6BE3F6136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15300-29E6-4894-B2BF-897AE0EDA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set(int x, int y) {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s.x = x; this.y = y;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X() { return x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t abs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turn x*x + y*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9520" y="60912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2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2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3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4 = _tmp2 * _tmp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5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6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7 = _tmp5 * _tmp6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8 = _tmp4 + _tmp7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363-E18A-4B7C-A962-42BCE9C497C6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E6B82-C3D5-40D8-859F-53396B606F04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virtuelni metodi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computeAbs(P2 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.abs(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C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-&gt;vtable-&gt;abs(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86200" y="68580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compute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1 = *(p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2 = *(_tmp21 + 12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shParam p #0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3 = ACall _tmp2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_tmp2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331-728A-41D8-BB28-3B4255C8612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32BF4-67A4-4B07-996B-ABAFC2FA7901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2 makeNewPoint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w(P2)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340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VTable P2 =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set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X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Y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abs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makeNewPoint: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4 =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ushParam _tmp24 #0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5 = LCall _Allo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6 = P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*(_tmp25) = _tmp26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Return _tmp25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142-0BD2-4D6A-9B55-8C6E33F520C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326C7-E504-49E8-AB16-71FDC81DE961}" type="datetime1">
              <a:rPr lang="en-US"/>
              <a:t>07/31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etlj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void main() {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t i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for (i = 0; i &lt; 10; i = i + 1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rint(i)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91120" y="7621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0 = 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0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1 = 1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2 = i &lt; _tmp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fZ _tmp2 Goto _L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ushParam i #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LCall _PrintInt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3 = 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4 = i + _tmp3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Goto _L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1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A6B-910F-47D7-95B5-6748B5B38665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91FBA-33F2-4FF6-92CF-0E74A7034E5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riginalni C sour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at a[10][20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[i][j+2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MP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1 = a[i, j+2]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// kao C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914400"/>
            <a:ext cx="4114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4648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d-level MP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1 = j + 2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2 = i * 20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3 = t1 + t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4 = 4 * t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5 = add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6 = t5 + t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7 = *t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ao asemb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oriste  privremene // promjenl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322-8A0E-4375-AFA9-624903DBDC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B9DA3-4072-4C8D-B603-D70A46BD49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I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// Kao RISC asembl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1 = [fp - 4]    // Proste operacije n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2 = [r1 + 2]    // registrima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3 = [fp - 8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4 = r3 * 20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5 = r4 + r2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6 = 4 * r5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7 = fp – 216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1 = [r7 + r6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449-A2AE-4A51-A6DD-EDEB198107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4061B-B04F-46CF-AA43-166F8564CF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lici MPR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še oblika je moguć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ličiti nivo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mje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T (Abstract syntax tree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rlo 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-ov RTL (Register Transfer Languag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iza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oadresni kod (Three Address Cod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F20-8DD3-4FED-835A-C15FA85510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0F510-0A3E-4BD4-AFC1-742560E23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gram –&gt; function_li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 –&gt; function_list function |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 –&gt;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ams –&gt;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3D6-F13E-4E0B-ACEA-86D99FA9EE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84E48-7C3F-4694-96A0-7CCB0E73BD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main(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ment..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factorial(n:INTEG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ement..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D43-A061-4E8D-97B9-218DF57F4E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0A3D-BC5B-4D59-8D79-00811C5C7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4-01T20:33:03Z</dcterms:modified>
  <cp:revision>4877</cp:revision>
  <dc:subject/>
  <dc:title>Welcome to CS143</dc:title>
</cp:coreProperties>
</file>