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25856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67CC64-D956-496F-ADB7-B580DD17DFC5}" type="slidenum">
              <a:rPr b="0" lang="en-US" sz="13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eftmost derivation going down Top dow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ightmost derivation coming up, bottom up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oday, look at top-down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0458-18A5-47CD-9809-330013400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77880" y="106668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77880" y="35348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3748-B1CF-48CF-82F7-5E10BD1A1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77880" y="10666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0560" y="10666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77880" y="35348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0560" y="35348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B266-78A6-49FD-A193-B7F33D686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77880" y="10666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5880" y="10666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3520" y="10666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77880" y="35348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5880" y="35348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3520" y="35348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0892-6BA7-4578-8351-B6066A8A7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77880" y="10666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8386-221D-406A-83A3-DF8E81355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77880" y="10666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235E-F872-4A17-B8FD-EF9853539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77880" y="10666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0560" y="10666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ECE6-C868-4C55-B9F4-4B1BCC370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AC82-5B0F-4DD1-8E3C-47798D633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9AF7-13FB-487D-80A9-CC5D3697E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77880" y="10666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0560" y="10666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77880" y="35348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0A7F-B8C6-44A4-9FB0-321FBD46D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77880" y="10666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0560" y="10666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0560" y="35348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2CE0-CED3-4628-98FF-59F07DF6E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77880" y="10666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0560" y="10666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77880" y="35348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D1C4-A104-48DF-BF65-ADD48BCF9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77880" y="10666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c00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3337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6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D3EEB-6D0A-4511-A3B4-4C9E7958F3B9}" type="datetime">
              <a:rPr b="0" i="1" lang="en-US" sz="16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371240" y="624852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6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CF020-9C33-4A9C-B94C-B5DCA173D861}" type="slidenum">
              <a:rPr b="0" lang="en-US" sz="16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167520"/>
            <a:ext cx="7030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Top-down parsiranje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DF8C-EED0-4688-8187-F0554CB7D19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Re</a:t>
            </a:r>
            <a:r>
              <a:rPr b="0" lang="sr-Latn-CS" sz="4000" spc="-1" strike="noStrike">
                <a:solidFill>
                  <a:srgbClr val="000099"/>
                </a:solidFill>
                <a:latin typeface="Tahoma"/>
              </a:rPr>
              <a:t>k</a:t>
            </a: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ur</a:t>
            </a:r>
            <a:r>
              <a:rPr b="0" lang="sr-Latn-CS" sz="4000" spc="-1" strike="noStrike">
                <a:solidFill>
                  <a:srgbClr val="000099"/>
                </a:solidFill>
                <a:latin typeface="Tahoma"/>
              </a:rPr>
              <a:t>zija u pravilima gramatike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9140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Transformacija G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(</a:t>
            </a: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sa lijevom r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e</a:t>
            </a: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ur</a:t>
            </a: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z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i</a:t>
            </a: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j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o</a:t>
            </a: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m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) </a:t>
            </a: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u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G’ (</a:t>
            </a: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sa desnom r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e</a:t>
            </a: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ur</a:t>
            </a: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z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i</a:t>
            </a: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j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o</a:t>
            </a: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m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):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G: X –&gt; Xa | Xb | AB | C | DEF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Dodati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n</a:t>
            </a: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e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term</a:t>
            </a: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inal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X’ </a:t>
            </a: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na kraj svakog nerekurzivnog pravila za X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: 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X –&gt; ABX' | CX' | DEFX'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X' –&gt; aX' | bX' |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Isti jezik, ali je rekurzija sada na desnoj strani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(</a:t>
            </a: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Ovo je vezano za pojedine algoritme za kreiranje parsera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.)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FB7F-715B-433A-9C6F-5DA196941E1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Tahoma"/>
              </a:rPr>
              <a:t>Indirektna rekurzija ili prefiksi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77880" y="10666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Tahoma"/>
              </a:rPr>
              <a:t>Rekurzija ili zajednički prefiksi ne moraju biti odmah vidljivi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cc"/>
                </a:solidFill>
                <a:uFillTx/>
                <a:latin typeface="Tahoma"/>
              </a:rPr>
              <a:t>Re</a:t>
            </a:r>
            <a:r>
              <a:rPr b="0" lang="sr-Latn-CS" sz="2800" spc="-1" strike="noStrike" u="sng">
                <a:solidFill>
                  <a:srgbClr val="3333cc"/>
                </a:solidFill>
                <a:uFillTx/>
                <a:latin typeface="Tahoma"/>
              </a:rPr>
              <a:t>k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Tahoma"/>
              </a:rPr>
              <a:t>ur</a:t>
            </a:r>
            <a:r>
              <a:rPr b="0" lang="sr-Latn-CS" sz="2800" spc="-1" strike="noStrike" u="sng">
                <a:solidFill>
                  <a:srgbClr val="3333cc"/>
                </a:solidFill>
                <a:uFillTx/>
                <a:latin typeface="Tahoma"/>
              </a:rPr>
              <a:t>zija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sr-Latn-CS" sz="2800" spc="-1" strike="noStrike" u="sng">
                <a:solidFill>
                  <a:srgbClr val="3333cc"/>
                </a:solidFill>
                <a:uFillTx/>
                <a:latin typeface="Tahoma"/>
              </a:rPr>
              <a:t>Zajednički prefi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X -&gt; </a:t>
            </a:r>
            <a:r>
              <a:rPr b="0" lang="sr-Latn-CS" sz="2800" spc="-1" strike="noStrike">
                <a:solidFill>
                  <a:srgbClr val="3333cc"/>
                </a:solidFill>
                <a:latin typeface="Tahoma"/>
              </a:rPr>
              <a:t>Y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X -&gt; aW | VZ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3333cc"/>
                </a:solidFill>
                <a:latin typeface="Tahoma"/>
              </a:rPr>
              <a:t>Y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-&gt; X</a:t>
            </a:r>
            <a:r>
              <a:rPr b="0" lang="sr-Latn-CS" sz="2800" spc="-1" strike="noStrike">
                <a:solidFill>
                  <a:srgbClr val="3333cc"/>
                </a:solidFill>
                <a:latin typeface="Tahoma"/>
              </a:rPr>
              <a:t>Z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sr-Latn-CS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sr-Latn-CS" sz="2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V -&gt; aY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Tahoma"/>
              </a:rPr>
              <a:t>Poslije primjene 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dva</a:t>
            </a:r>
            <a:r>
              <a:rPr b="0" lang="sr-Latn-CS" sz="3200" spc="-1" strike="noStrike">
                <a:solidFill>
                  <a:srgbClr val="000099"/>
                </a:solidFill>
                <a:latin typeface="Tahoma"/>
              </a:rPr>
              <a:t> ili tri pravila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X -&gt; YW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X -&gt; aW | VZ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Y -&gt; XZ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V -&gt; aY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X </a:t>
            </a:r>
            <a:r>
              <a:rPr b="1" lang="en-US" sz="2600" spc="-1" strike="noStrike">
                <a:solidFill>
                  <a:srgbClr val="3333cc"/>
                </a:solidFill>
                <a:latin typeface="Symbol"/>
                <a:ea typeface="Symbol"/>
              </a:rPr>
              <a:t></a:t>
            </a: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+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XZW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X </a:t>
            </a:r>
            <a:r>
              <a:rPr b="1" lang="en-US" sz="2600" spc="-1" strike="noStrike">
                <a:solidFill>
                  <a:srgbClr val="3333cc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aW,  X </a:t>
            </a:r>
            <a:r>
              <a:rPr b="1" lang="en-US" sz="2600" spc="-1" strike="noStrike">
                <a:solidFill>
                  <a:srgbClr val="3333cc"/>
                </a:solidFill>
                <a:latin typeface="Symbol"/>
                <a:ea typeface="Symbol"/>
              </a:rPr>
              <a:t></a:t>
            </a: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+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aYZ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A0C8-6C85-4390-B0A7-F7CEE1DF7E5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Lijeva rekurzija - primjer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77880" y="10666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  <a:ea typeface="Times New Roman"/>
              </a:rPr>
              <a:t>S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  <a:ea typeface="Times New Roman"/>
              </a:rPr>
              <a:t>Aa|b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  <a:ea typeface="Times New Roman"/>
              </a:rPr>
              <a:t>A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  <a:ea typeface="Times New Roman"/>
              </a:rPr>
              <a:t>Ac|Sd|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  <a:ea typeface="Times New Roman"/>
              </a:rPr>
              <a:t>Eliminisanje indirektne rekurzije S</a:t>
            </a:r>
            <a:r>
              <a:rPr b="0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  <a:ea typeface="Times New Roman"/>
              </a:rPr>
              <a:t>Aa|b  A</a:t>
            </a:r>
            <a:r>
              <a:rPr b="0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  <a:ea typeface="Times New Roman"/>
              </a:rPr>
              <a:t>Ac|Aad|bd|</a:t>
            </a:r>
            <a:r>
              <a:rPr b="0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  <a:ea typeface="Times New Roman"/>
              </a:rPr>
              <a:t>Eliminacijom direktne lijeve rekurzije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  <a:ea typeface="Times New Roman"/>
              </a:rPr>
              <a:t>    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  <a:ea typeface="Times New Roman"/>
              </a:rPr>
              <a:t>bdA’|A’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  <a:ea typeface="Times New Roman"/>
              </a:rPr>
              <a:t>   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  <a:ea typeface="Times New Roman"/>
              </a:rPr>
              <a:t>A’</a:t>
            </a:r>
            <a:r>
              <a:rPr b="0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  <a:ea typeface="Times New Roman"/>
              </a:rPr>
              <a:t>cA’|adA’|</a:t>
            </a:r>
            <a:r>
              <a:rPr b="0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40A1-0D1B-42BC-A881-8A5B8903CEF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Načini parsiranja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77880" y="1066320"/>
            <a:ext cx="78566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Top down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kreće se od početnog neterminalnog simbola gramatik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rimjenjuju se pravila (produkcije) dok se ne dobije tražena sentenca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zgradnja drveta parsiranja od korijena ka listovima, </a:t>
            </a:r>
            <a:r>
              <a:rPr b="0" lang="sr-Latn-CS" sz="2800" spc="-1" strike="noStrike">
                <a:solidFill>
                  <a:srgbClr val="3333cc"/>
                </a:solidFill>
                <a:latin typeface="Tahoma"/>
              </a:rPr>
              <a:t>(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reorder)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Bottom up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očinjemo od  sente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dukcija na startni simbo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(proces obrnut desnoj derivaciji)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1C39-E8A3-48D2-859B-05534F71B91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Top down parsiranje - ideja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41" name=""/>
          <p:cNvSpPr/>
          <p:nvPr/>
        </p:nvSpPr>
        <p:spPr>
          <a:xfrm>
            <a:off x="3319560" y="5105520"/>
            <a:ext cx="53316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Courier New"/>
              </a:rPr>
              <a:t>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"/>
          <p:cNvSpPr/>
          <p:nvPr/>
        </p:nvSpPr>
        <p:spPr>
          <a:xfrm>
            <a:off x="1295280" y="4019400"/>
            <a:ext cx="53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Comic Sans MS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3484440" y="4253040"/>
            <a:ext cx="16844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3505320" y="1371600"/>
            <a:ext cx="16761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nt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5889600" y="2759040"/>
            <a:ext cx="1273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" y="2743200"/>
            <a:ext cx="1752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u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"/>
          <p:cNvSpPr/>
          <p:nvPr/>
        </p:nvSpPr>
        <p:spPr>
          <a:xfrm>
            <a:off x="2590920" y="2819520"/>
            <a:ext cx="198900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erb-phr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"/>
          <p:cNvSpPr/>
          <p:nvPr/>
        </p:nvSpPr>
        <p:spPr>
          <a:xfrm>
            <a:off x="6553080" y="5105520"/>
            <a:ext cx="210204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Courier New"/>
              </a:rPr>
              <a:t>chee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5029200" y="4059360"/>
            <a:ext cx="99072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Courier New"/>
              </a:rPr>
              <a:t>t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50" name=""/>
          <p:cNvCxnSpPr>
            <a:stCxn id="144" idx="2"/>
            <a:endCxn id="146" idx="0"/>
          </p:cNvCxnSpPr>
          <p:nvPr/>
        </p:nvCxnSpPr>
        <p:spPr>
          <a:xfrm flipH="1">
            <a:off x="1561680" y="1861920"/>
            <a:ext cx="2782080" cy="881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51" name=""/>
          <p:cNvCxnSpPr>
            <a:stCxn id="147" idx="0"/>
            <a:endCxn id="144" idx="2"/>
          </p:cNvCxnSpPr>
          <p:nvPr/>
        </p:nvCxnSpPr>
        <p:spPr>
          <a:xfrm flipV="1">
            <a:off x="3585960" y="1861560"/>
            <a:ext cx="757800" cy="957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52" name=""/>
          <p:cNvCxnSpPr>
            <a:stCxn id="145" idx="0"/>
            <a:endCxn id="144" idx="2"/>
          </p:cNvCxnSpPr>
          <p:nvPr/>
        </p:nvCxnSpPr>
        <p:spPr>
          <a:xfrm flipH="1" flipV="1">
            <a:off x="4342680" y="1861560"/>
            <a:ext cx="2183400" cy="8974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53" name=""/>
          <p:cNvCxnSpPr>
            <a:stCxn id="154" idx="2"/>
            <a:endCxn id="148" idx="0"/>
          </p:cNvCxnSpPr>
          <p:nvPr/>
        </p:nvCxnSpPr>
        <p:spPr>
          <a:xfrm>
            <a:off x="7603920" y="4510080"/>
            <a:ext cx="1080" cy="5961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46" idx="2"/>
            <a:endCxn id="142" idx="0"/>
          </p:cNvCxnSpPr>
          <p:nvPr/>
        </p:nvCxnSpPr>
        <p:spPr>
          <a:xfrm flipH="1">
            <a:off x="1560240" y="3269880"/>
            <a:ext cx="2160" cy="749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56" name=""/>
          <p:cNvCxnSpPr>
            <a:stCxn id="157" idx="2"/>
            <a:endCxn id="141" idx="0"/>
          </p:cNvCxnSpPr>
          <p:nvPr/>
        </p:nvCxnSpPr>
        <p:spPr>
          <a:xfrm>
            <a:off x="3585960" y="4527360"/>
            <a:ext cx="1080" cy="578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58" name=""/>
          <p:cNvCxnSpPr>
            <a:stCxn id="145" idx="2"/>
            <a:endCxn id="149" idx="0"/>
          </p:cNvCxnSpPr>
          <p:nvPr/>
        </p:nvCxnSpPr>
        <p:spPr>
          <a:xfrm flipH="1">
            <a:off x="5524200" y="3252960"/>
            <a:ext cx="1002240" cy="8071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59" name=""/>
          <p:cNvCxnSpPr>
            <a:stCxn id="145" idx="2"/>
            <a:endCxn id="154" idx="0"/>
          </p:cNvCxnSpPr>
          <p:nvPr/>
        </p:nvCxnSpPr>
        <p:spPr>
          <a:xfrm>
            <a:off x="6525720" y="3252600"/>
            <a:ext cx="1078560" cy="7642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57" name=""/>
          <p:cNvSpPr/>
          <p:nvPr/>
        </p:nvSpPr>
        <p:spPr>
          <a:xfrm>
            <a:off x="3090960" y="4000680"/>
            <a:ext cx="99036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er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60" name=""/>
          <p:cNvCxnSpPr/>
          <p:nvPr/>
        </p:nvCxnSpPr>
        <p:spPr>
          <a:xfrm>
            <a:off x="4258800" y="5790960"/>
            <a:ext cx="108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61" name=""/>
          <p:cNvCxnSpPr>
            <a:stCxn id="147" idx="2"/>
            <a:endCxn id="157" idx="0"/>
          </p:cNvCxnSpPr>
          <p:nvPr/>
        </p:nvCxnSpPr>
        <p:spPr>
          <a:xfrm>
            <a:off x="3585960" y="3241800"/>
            <a:ext cx="1080" cy="759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62" name=""/>
          <p:cNvCxnSpPr/>
          <p:nvPr/>
        </p:nvCxnSpPr>
        <p:spPr>
          <a:xfrm>
            <a:off x="8145000" y="3428640"/>
            <a:ext cx="108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54" name=""/>
          <p:cNvSpPr/>
          <p:nvPr/>
        </p:nvSpPr>
        <p:spPr>
          <a:xfrm>
            <a:off x="7147080" y="4016520"/>
            <a:ext cx="9144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AE6F-4E32-48C8-8FAD-C0C7A66CD60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"/>
          <p:cNvGrpSpPr/>
          <p:nvPr/>
        </p:nvGrpSpPr>
        <p:grpSpPr>
          <a:xfrm>
            <a:off x="2133720" y="1066680"/>
            <a:ext cx="4383000" cy="5105520"/>
            <a:chOff x="2133720" y="1066680"/>
            <a:chExt cx="4383000" cy="5105520"/>
          </a:xfrm>
        </p:grpSpPr>
        <p:pic>
          <p:nvPicPr>
            <p:cNvPr id="164" name="" descr=""/>
            <p:cNvPicPr/>
            <p:nvPr/>
          </p:nvPicPr>
          <p:blipFill>
            <a:blip r:embed="rId1"/>
            <a:stretch/>
          </p:blipFill>
          <p:spPr>
            <a:xfrm>
              <a:off x="2133720" y="1066680"/>
              <a:ext cx="4383000" cy="510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 txBox="1"/>
            <p:nvPr/>
          </p:nvSpPr>
          <p:spPr>
            <a:xfrm>
              <a:off x="2133720" y="1066680"/>
              <a:ext cx="4383000" cy="5105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Top down parsiranje - ideja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3D93-4F21-4CB8-8C10-4CCDEEBEDBC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Bottom up p</a:t>
            </a:r>
            <a:r>
              <a:rPr b="0" lang="sr-Latn-CS" sz="4000" spc="-1" strike="noStrike">
                <a:solidFill>
                  <a:srgbClr val="000099"/>
                </a:solidFill>
                <a:latin typeface="Tahoma"/>
              </a:rPr>
              <a:t>arsiranje</a:t>
            </a: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 - ideja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219320" y="2133720"/>
            <a:ext cx="6500520" cy="3160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AF9E-73A5-40AF-BDB1-257CA795490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Bottom up p</a:t>
            </a:r>
            <a:r>
              <a:rPr b="0" lang="sr-Latn-CS" sz="4000" spc="-1" strike="noStrike">
                <a:solidFill>
                  <a:srgbClr val="000099"/>
                </a:solidFill>
                <a:latin typeface="Tahoma"/>
              </a:rPr>
              <a:t>arsiranje</a:t>
            </a: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 - ideja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70" name=""/>
          <p:cNvSpPr/>
          <p:nvPr/>
        </p:nvSpPr>
        <p:spPr>
          <a:xfrm>
            <a:off x="1066680" y="175248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if  x == y then z = 1; else z = 2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371600" y="2895480"/>
            <a:ext cx="6934320" cy="2487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2049-A8E6-4628-9D46-982ED464522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2514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Primjer: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057040" y="1828440"/>
            <a:ext cx="5257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99"/>
                </a:solidFill>
                <a:uFillTx/>
                <a:latin typeface="Tahoma"/>
              </a:rPr>
              <a:t>Top-down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Tahoma"/>
              </a:rPr>
              <a:t>Bottom up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E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2 * 3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T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Int * 3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F * T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F * 3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Int * T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F * Int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2 * T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F * F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2 * F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F * T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2 * Int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T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2 * 3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E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2666880" y="228600"/>
            <a:ext cx="2819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 + E | 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 * T | 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5410080" y="457200"/>
            <a:ext cx="320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lazni niz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 *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7655-CDCE-45B4-B424-D685A18CDCD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Top-down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77880" y="10666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Lako se koriste sa malim gramatikama i za ad hoc parsere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Parser posmatra 1 token unaprijed, ne čitav string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Kako izabrati produkciju na osnovu 1 tokena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a primjer: B -&gt; b  |  bB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roblem</a:t>
            </a:r>
            <a:r>
              <a:rPr b="0" lang="sr-Latn-CS" sz="2800" spc="-1" strike="noStrike">
                <a:solidFill>
                  <a:srgbClr val="3333cc"/>
                </a:solidFill>
                <a:latin typeface="Tahoma"/>
              </a:rPr>
              <a:t>: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sr-Latn-CS" sz="2800" spc="-1" strike="noStrike">
                <a:solidFill>
                  <a:srgbClr val="3333cc"/>
                </a:solidFill>
                <a:latin typeface="Tahoma"/>
              </a:rPr>
              <a:t>z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jednički prefiks!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294E-B375-483F-8CD0-B86E951BEFE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Gramatike - podsje</a:t>
            </a:r>
            <a:r>
              <a:rPr b="0" lang="hr-HR" sz="4000" spc="-1" strike="noStrike">
                <a:solidFill>
                  <a:srgbClr val="000099"/>
                </a:solidFill>
                <a:latin typeface="Tahoma"/>
              </a:rPr>
              <a:t>ćanje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77880" y="10666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KSG kao vodič za izgradnju parsera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Potrebno je modifikovati gramatike da bi se moga</a:t>
            </a: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o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primijeniti odgovarajući algoritam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Pretpostavimo da imamo gramatiku G za dati jezik L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Ka</a:t>
            </a: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o konstruišemo parser za dati jezik na osnovu gramatike?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AED8-AC8C-46C6-957A-D6F92209190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Mogući pristup: backtracking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77880" y="10666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Primjena pravila, provjeriti da li </a:t>
            </a:r>
            <a:r>
              <a:rPr b="0" lang="sr-Latn-CS" sz="3200" spc="-1" strike="noStrike">
                <a:solidFill>
                  <a:srgbClr val="000099"/>
                </a:solidFill>
                <a:latin typeface="Tahoma"/>
              </a:rPr>
              <a:t>pravilo 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prolazi, ako se zaglavimo, vraćam</a:t>
            </a:r>
            <a:r>
              <a:rPr b="0" lang="sr-Latn-CS" sz="3200" spc="-1" strike="noStrike">
                <a:solidFill>
                  <a:srgbClr val="000099"/>
                </a:solidFill>
                <a:latin typeface="Tahoma"/>
              </a:rPr>
              <a:t>o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se nazad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Može se primijeniti više pravila do zaglavljivanja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Moguć je veliki  broj povrataka i višestruko primjenjivanje pravila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F8EE-4B07-4A1D-B837-640F14C6FF7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Backtracking primjer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7788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99"/>
                </a:solidFill>
                <a:uFillTx/>
                <a:latin typeface="Tahoma"/>
              </a:rPr>
              <a:t>Sent. form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600" spc="-1" strike="noStrike" u="sng">
                <a:solidFill>
                  <a:srgbClr val="000099"/>
                </a:solidFill>
                <a:uFillTx/>
                <a:latin typeface="Tahoma"/>
              </a:rPr>
              <a:t>Ulaz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sr-Latn-CS" sz="2600" spc="-1" strike="noStrike">
                <a:solidFill>
                  <a:srgbClr val="000099"/>
                </a:solidFill>
                <a:latin typeface="Tahoma"/>
              </a:rPr>
              <a:t>   </a:t>
            </a:r>
            <a:r>
              <a:rPr b="0" lang="en-US" sz="2600" spc="-1" strike="noStrike" u="sng">
                <a:solidFill>
                  <a:srgbClr val="000099"/>
                </a:solidFill>
                <a:uFillTx/>
                <a:latin typeface="Tahoma"/>
              </a:rPr>
              <a:t>Derivacija</a:t>
            </a:r>
            <a:endParaRPr b="0" lang="en-US" sz="26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S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p * 5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sr-Latn-CS" sz="2600" spc="-1" strike="noStrike">
                <a:solidFill>
                  <a:srgbClr val="000099"/>
                </a:solidFill>
                <a:latin typeface="Tahoma"/>
              </a:rPr>
              <a:t>   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pokušaj p + Int</a:t>
            </a:r>
            <a:endParaRPr b="0" lang="en-US" sz="26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p + Int 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p * 5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sr-Latn-CS" sz="2600" spc="-1" strike="noStrike">
                <a:solidFill>
                  <a:srgbClr val="000099"/>
                </a:solidFill>
                <a:latin typeface="Tahoma"/>
              </a:rPr>
              <a:t>   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poklapanje p</a:t>
            </a:r>
            <a:endParaRPr b="0" lang="en-US" sz="26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+ Int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* 5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sr-Latn-CS" sz="2600" spc="-1" strike="noStrike">
                <a:solidFill>
                  <a:srgbClr val="000099"/>
                </a:solidFill>
                <a:latin typeface="Tahoma"/>
              </a:rPr>
              <a:t>   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oops, “+”  </a:t>
            </a:r>
            <a:r>
              <a:rPr b="1" lang="en-US" sz="2600" spc="-1" strike="noStrike">
                <a:solidFill>
                  <a:srgbClr val="000099"/>
                </a:solidFill>
                <a:latin typeface="Symbol"/>
                <a:ea typeface="Symbol"/>
              </a:rPr>
              <a:t></a:t>
            </a:r>
            <a:r>
              <a:rPr b="1" lang="en-US" sz="26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“*”, povratak, 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sr-Latn-CS" sz="2600" spc="-1" strike="noStrike">
                <a:solidFill>
                  <a:srgbClr val="000099"/>
                </a:solidFill>
                <a:latin typeface="Tahoma"/>
              </a:rPr>
              <a:t>   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pokušaj sledeće pravilo</a:t>
            </a:r>
            <a:endParaRPr b="0" lang="en-US" sz="26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S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p * 5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sr-Latn-CS" sz="2600" spc="-1" strike="noStrike">
                <a:solidFill>
                  <a:srgbClr val="000099"/>
                </a:solidFill>
                <a:latin typeface="Tahoma"/>
              </a:rPr>
              <a:t>   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pokušaj p * Int</a:t>
            </a:r>
            <a:endParaRPr b="0" lang="en-US" sz="26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p * Int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p * 5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sr-Latn-CS" sz="2600" spc="-1" strike="noStrike">
                <a:solidFill>
                  <a:srgbClr val="000099"/>
                </a:solidFill>
                <a:latin typeface="Tahoma"/>
              </a:rPr>
              <a:t>   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poklapanje p</a:t>
            </a:r>
            <a:endParaRPr b="0" lang="en-US" sz="26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* Int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* 5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sr-Latn-CS" sz="2600" spc="-1" strike="noStrike">
                <a:solidFill>
                  <a:srgbClr val="000099"/>
                </a:solidFill>
                <a:latin typeface="Tahoma"/>
              </a:rPr>
              <a:t>   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poklapanje *</a:t>
            </a:r>
            <a:endParaRPr b="0" lang="en-US" sz="26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Int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5 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sr-Latn-CS" sz="2600" spc="-1" strike="noStrike">
                <a:solidFill>
                  <a:srgbClr val="000099"/>
                </a:solidFill>
                <a:latin typeface="Tahoma"/>
              </a:rPr>
              <a:t>   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pokušaj Int -&gt; 5</a:t>
            </a:r>
            <a:endParaRPr b="0" lang="en-US" sz="26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5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5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sr-Latn-CS" sz="2600" spc="-1" strike="noStrike">
                <a:solidFill>
                  <a:srgbClr val="000099"/>
                </a:solidFill>
                <a:latin typeface="Tahoma"/>
              </a:rPr>
              <a:t>   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uspjeh!</a:t>
            </a:r>
            <a:endParaRPr b="0" lang="en-US" sz="2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6629400" y="152280"/>
            <a:ext cx="2362320" cy="1752840"/>
          </a:xfrm>
          <a:prstGeom prst="rect">
            <a:avLst/>
          </a:prstGeom>
          <a:noFill/>
          <a:ln w="158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matik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 -&gt; p + I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 -&gt; p * 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 -&gt; 5 | 6 |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044C-2E95-4074-9677-5AB5A7A840D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Osobine backtracking-a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7696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Prednosti: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ože se primijeniti na svaku KSG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ventualno daje poklapanj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Nedostaci: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Kombinatorna eksplozija (Combinatorial explosion)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očni efekti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cc00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cc"/>
                </a:solidFill>
                <a:latin typeface="Tahoma"/>
              </a:rPr>
              <a:t>dodati simboli u tabelu simbola</a:t>
            </a:r>
            <a:endParaRPr b="0" lang="en-US" sz="2400" spc="-1" strike="noStrike">
              <a:solidFill>
                <a:srgbClr val="cc00c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cc00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cc"/>
                </a:solidFill>
                <a:latin typeface="Tahoma"/>
              </a:rPr>
              <a:t>mora se uraditi </a:t>
            </a:r>
            <a:r>
              <a:rPr b="1" lang="en-US" sz="2400" spc="-1" strike="noStrike">
                <a:solidFill>
                  <a:srgbClr val="cc00cc"/>
                </a:solidFill>
                <a:latin typeface="Tahoma"/>
              </a:rPr>
              <a:t>undo</a:t>
            </a:r>
            <a:r>
              <a:rPr b="0" lang="en-US" sz="2400" spc="-1" strike="noStrike">
                <a:solidFill>
                  <a:srgbClr val="cc00cc"/>
                </a:solidFill>
                <a:latin typeface="Tahoma"/>
              </a:rPr>
              <a:t> bočnih efekata</a:t>
            </a:r>
            <a:endParaRPr b="0" lang="en-US" sz="2400" spc="-1" strike="noStrike">
              <a:solidFill>
                <a:srgbClr val="cc00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0BE7-8029-45F2-B425-C44780BAFA4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Top-down bez backtracking-a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560" y="1143000"/>
            <a:ext cx="83055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Kretanje naprijed, bez backtracking-a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Gramatika mora poštovati određena pravila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Pravilo se bira na osnovu sledećeg tokena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Nije potreban backtracking ak</a:t>
            </a:r>
            <a:r>
              <a:rPr b="0" lang="sr-Latn-CS" sz="3200" spc="-1" strike="noStrike">
                <a:solidFill>
                  <a:srgbClr val="000099"/>
                </a:solidFill>
                <a:latin typeface="Tahoma"/>
              </a:rPr>
              <a:t>o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je G LL(1)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L: skeniranje ulaza slijeva udesno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L: lijeva derivacija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1: posmatra se 1 ulazni token (lookahead)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7629-D80D-43A0-B30C-DBB60C5E090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Osobine LL(1) gramatika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77880" y="10666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Problem zajedničkog prefiksa: lijevo faktorisanje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LL(1) parser bira pravilo na osnovu sledećeg tokena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Problem lijeve rekurzije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sna rekurzija je OK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Prevesti G u LL(1)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Eliminisati nejasnoće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Ovo  nije dovoljno; G </a:t>
            </a: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dalje ne mora biti LL(1). Formalna definici</a:t>
            </a: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j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a biće data kasnije, ovo koristite kao intuiciju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9CC4-7B5F-4F83-BFDC-F1A4442036D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915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Implementacija top-down parsera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778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Data je LL(1) gramatika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Rekurzivni spust (Recursive descent)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Table-driven prediktivni parser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(Kao rekurzivni spust, ali može se implementirati u nerekurzivnim jezicima)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FBF8-DF99-4E01-BFD6-72092EA76AC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Parsiranje rekurzivnim spustom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Parsiranje  sentence primjenom pravila na startni simbol.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Za svaki neterminalni simbol W, piše se f</a:t>
            </a:r>
            <a:r>
              <a:rPr b="0" lang="sr-Latn-CS" sz="3200" spc="-1" strike="noStrike">
                <a:solidFill>
                  <a:srgbClr val="000099"/>
                </a:solidFill>
                <a:latin typeface="Tahoma"/>
              </a:rPr>
              <a:t>unkc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ija za W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ko pravilo odgovara, vr</a:t>
            </a:r>
            <a:r>
              <a:rPr b="0" lang="sr-Latn-CS" sz="2800" spc="-1" strike="noStrike">
                <a:solidFill>
                  <a:srgbClr val="3333cc"/>
                </a:solidFill>
                <a:latin typeface="Tahoma"/>
              </a:rPr>
              <a:t>a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i true i pređi na sledeći ulazni simbo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ko ne odgovara, vr</a:t>
            </a:r>
            <a:r>
              <a:rPr b="0" lang="sr-Latn-CS" sz="2800" spc="-1" strike="noStrike">
                <a:solidFill>
                  <a:srgbClr val="3333cc"/>
                </a:solidFill>
                <a:latin typeface="Tahoma"/>
              </a:rPr>
              <a:t>a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i false i vrati ulazni pokazivač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Ako je G rekurzivna, f</a:t>
            </a:r>
            <a:r>
              <a:rPr b="0" lang="sr-Latn-CS" sz="3200" spc="-1" strike="noStrike">
                <a:solidFill>
                  <a:srgbClr val="000099"/>
                </a:solidFill>
                <a:latin typeface="Tahoma"/>
              </a:rPr>
              <a:t>unkcij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e mogu biti rekurzivne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D2B5-5902-4F59-9C64-48B6CEA6AFA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Primjer 1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4560" y="837720"/>
            <a:ext cx="829764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–&gt; FUNC identifier ( parameter_list ) statements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void ParseFunction() {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Assert(lookahead == T_FUNC)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lookahead = GetSym(); // saw “</a:t>
            </a: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FUNC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”; get next token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ParseIdentifier();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Assert(lookahead == T_LPAREN)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lookahead = GetSym();  // saw “(“, get next token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ParseParameterList();  // go parse list of parms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Assert(lookahead == T_RPAREN) ;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lookahead = GetSym(); // saw “)“, get next token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ParseStatements(); // go parse body of function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         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Primjedba: Call stack evidentira trenutnu poziciju.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FB8C-D9E9-4D99-B22E-01C47335032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Izbor pravila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Tahoma"/>
              </a:rPr>
              <a:t>Primjer:</a:t>
            </a: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mt -&gt; if_stmt | null_stmt | return_stmt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| assg_stmt | while_stm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| block_of_stm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Može se vidjeti samo sledeći token</a:t>
            </a: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Koja desna strana može izvesti odgovarajuću sentencu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Ne želimo backtracking!</a:t>
            </a: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Rješenje problema: </a:t>
            </a:r>
            <a:r>
              <a:rPr b="0" i="1" lang="en-US" sz="3000" spc="-1" strike="noStrike">
                <a:solidFill>
                  <a:srgbClr val="000099"/>
                </a:solidFill>
                <a:latin typeface="Tahoma"/>
              </a:rPr>
              <a:t>First</a:t>
            </a: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 skupovi</a:t>
            </a: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55E7-E13D-4C01-BF1E-A5452772682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Primjer First skupa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7788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Slično z</a:t>
            </a: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a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jedničkim prefiksima, samo uz tranzitivno zatvorenje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Primjer: 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X -&gt; YZW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 |     VQR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First (YZW) sadrži sve tokene kojim mogu počinjati sentence izvedene iz YZW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Ako token t</a:t>
            </a:r>
            <a:r>
              <a:rPr b="0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First(YZW) tada ako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želimo da reduciramo X po nekom pravilu </a:t>
            </a:r>
            <a:r>
              <a:rPr b="0" lang="sr-Latn-CS" sz="2600" spc="-1" strike="noStrike">
                <a:solidFill>
                  <a:srgbClr val="3333cc"/>
                </a:solidFill>
                <a:latin typeface="Tahoma"/>
              </a:rPr>
              <a:t>i</a:t>
            </a: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 t je tekući ulazni simbol, tada je X -&gt; YZW moguće pravilo koje možemo primjeniti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Ako token t ne pripada First(VQR)</a:t>
            </a: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, tada je    </a:t>
            </a: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X -&gt; YZW jedino pravilo koje možemo primjeniti</a:t>
            </a: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18CF-23DF-4EF5-80B8-B071024BC54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Transformacija gramatika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77880" y="15238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Uklanjanje nejasno</a:t>
            </a:r>
            <a:r>
              <a:rPr b="0" lang="sr-Latn-CS" sz="3200" spc="-1" strike="noStrike">
                <a:solidFill>
                  <a:srgbClr val="000099"/>
                </a:solidFill>
                <a:latin typeface="Tahoma"/>
              </a:rPr>
              <a:t>ća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Tahoma"/>
              </a:rPr>
              <a:t>Uklanjanje zajedničkih prefiksa (lijevo faktorisanje)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Tahoma"/>
              </a:rPr>
              <a:t>Eleminisanje lijeve rekurzije 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6B41-9902-4DAD-B2BB-607B1C89F2D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First skup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1453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First skup niza simbola 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Tahoma"/>
              </a:rPr>
              <a:t>u</a:t>
            </a: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, u oznaci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First(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Tahoma"/>
              </a:rPr>
              <a:t>u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)</a:t>
            </a: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,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je skup terminalnih simbola kojim može početi niz sentenci koje se mogu izvesti iz 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Tahoma"/>
              </a:rPr>
              <a:t>u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Formalno, razmatramo sve stringove koje možemo izvesti iz 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Tahoma"/>
              </a:rPr>
              <a:t>u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ko 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Tahoma"/>
              </a:rPr>
              <a:t>u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=&gt;* 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Tahoma"/>
              </a:rPr>
              <a:t>v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, gdje 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Tahoma"/>
              </a:rPr>
              <a:t>v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očinje terminalnim simbolom t, tada t pripada skupu First(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Tahoma"/>
              </a:rPr>
              <a:t>u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). 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ko 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Tahoma"/>
              </a:rPr>
              <a:t>u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=&gt;*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, tada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ipada skupu First(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Tahoma"/>
              </a:rPr>
              <a:t>u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).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A2AA-E78B-4B3F-BA81-2F504853F2E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Upotreba First skupova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81536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G ima produkcije X -&gt; </a:t>
            </a:r>
            <a:r>
              <a:rPr b="0" lang="en-US" sz="2600" spc="-1" strike="noStrike" u="sng">
                <a:solidFill>
                  <a:srgbClr val="3333cc"/>
                </a:solidFill>
                <a:uFillTx/>
                <a:latin typeface="Tahoma"/>
              </a:rPr>
              <a:t>u</a:t>
            </a:r>
            <a:r>
              <a:rPr b="0" lang="en-US" sz="2600" spc="-1" strike="noStrike" baseline="-25000">
                <a:solidFill>
                  <a:srgbClr val="3333cc"/>
                </a:solidFill>
                <a:latin typeface="Tahoma"/>
              </a:rPr>
              <a:t>1</a:t>
            </a: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 | </a:t>
            </a:r>
            <a:r>
              <a:rPr b="0" lang="en-US" sz="2600" spc="-1" strike="noStrike" u="sng">
                <a:solidFill>
                  <a:srgbClr val="3333cc"/>
                </a:solidFill>
                <a:uFillTx/>
                <a:latin typeface="Tahoma"/>
              </a:rPr>
              <a:t>u</a:t>
            </a:r>
            <a:r>
              <a:rPr b="0" lang="en-US" sz="2600" spc="-1" strike="noStrike" baseline="-25000">
                <a:solidFill>
                  <a:srgbClr val="3333cc"/>
                </a:solidFill>
                <a:latin typeface="Tahoma"/>
              </a:rPr>
              <a:t>2</a:t>
            </a: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 | </a:t>
            </a:r>
            <a:r>
              <a:rPr b="0" lang="en-US" sz="2600" spc="-1" strike="noStrike" u="sng">
                <a:solidFill>
                  <a:srgbClr val="3333cc"/>
                </a:solidFill>
                <a:uFillTx/>
                <a:latin typeface="Tahoma"/>
              </a:rPr>
              <a:t>u</a:t>
            </a:r>
            <a:r>
              <a:rPr b="0" lang="en-US" sz="2600" spc="-1" strike="noStrike" baseline="-25000">
                <a:solidFill>
                  <a:srgbClr val="3333cc"/>
                </a:solidFill>
                <a:latin typeface="Tahoma"/>
              </a:rPr>
              <a:t>3</a:t>
            </a: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 | ... | </a:t>
            </a:r>
            <a:r>
              <a:rPr b="0" lang="en-US" sz="2600" spc="-1" strike="noStrike" u="sng">
                <a:solidFill>
                  <a:srgbClr val="3333cc"/>
                </a:solidFill>
                <a:uFillTx/>
                <a:latin typeface="Tahoma"/>
              </a:rPr>
              <a:t>u</a:t>
            </a:r>
            <a:r>
              <a:rPr b="0" lang="en-US" sz="2600" spc="-1" strike="noStrike" baseline="-25000">
                <a:solidFill>
                  <a:srgbClr val="3333cc"/>
                </a:solidFill>
                <a:latin typeface="Tahoma"/>
              </a:rPr>
              <a:t>n</a:t>
            </a: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Tekući ulazni  token je t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K</a:t>
            </a:r>
            <a:r>
              <a:rPr b="0" lang="sr-Latn-CS" sz="2600" spc="-1" strike="noStrike">
                <a:solidFill>
                  <a:srgbClr val="3333cc"/>
                </a:solidFill>
                <a:latin typeface="Tahoma"/>
              </a:rPr>
              <a:t>o</a:t>
            </a: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je od pravila X -&gt; </a:t>
            </a:r>
            <a:r>
              <a:rPr b="0" lang="en-US" sz="2600" spc="-1" strike="noStrike" u="sng">
                <a:solidFill>
                  <a:srgbClr val="3333cc"/>
                </a:solidFill>
                <a:uFillTx/>
                <a:latin typeface="Tahoma"/>
              </a:rPr>
              <a:t>u</a:t>
            </a:r>
            <a:r>
              <a:rPr b="0" lang="en-US" sz="2600" spc="-1" strike="noStrike" baseline="-25000">
                <a:solidFill>
                  <a:srgbClr val="3333cc"/>
                </a:solidFill>
                <a:latin typeface="Tahoma"/>
              </a:rPr>
              <a:t>i</a:t>
            </a: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 izabarati?</a:t>
            </a: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	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Ako je t u tačno jednom od skupova</a:t>
            </a:r>
            <a:r>
              <a:rPr b="0" lang="sr-Latn-CS" sz="26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First (</a:t>
            </a:r>
            <a:r>
              <a:rPr b="0" lang="en-US" sz="2600" spc="-1" strike="noStrike" u="sng">
                <a:solidFill>
                  <a:srgbClr val="3333cc"/>
                </a:solidFill>
                <a:uFillTx/>
                <a:latin typeface="Tahoma"/>
              </a:rPr>
              <a:t>u</a:t>
            </a:r>
            <a:r>
              <a:rPr b="0" lang="en-US" sz="2600" spc="-1" strike="noStrike" baseline="-25000">
                <a:solidFill>
                  <a:srgbClr val="3333cc"/>
                </a:solidFill>
                <a:latin typeface="Tahoma"/>
              </a:rPr>
              <a:t>i</a:t>
            </a: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), možemo predvidjeti (predict).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Ako je t u First(</a:t>
            </a:r>
            <a:r>
              <a:rPr b="0" lang="en-US" sz="2600" spc="-1" strike="noStrike" u="sng">
                <a:solidFill>
                  <a:srgbClr val="3333cc"/>
                </a:solidFill>
                <a:uFillTx/>
                <a:latin typeface="Tahoma"/>
              </a:rPr>
              <a:t>u</a:t>
            </a:r>
            <a:r>
              <a:rPr b="0" lang="en-US" sz="2600" spc="-1" strike="noStrike" baseline="-25000">
                <a:solidFill>
                  <a:srgbClr val="3333cc"/>
                </a:solidFill>
                <a:latin typeface="Tahoma"/>
              </a:rPr>
              <a:t>j</a:t>
            </a: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) i First(</a:t>
            </a:r>
            <a:r>
              <a:rPr b="0" lang="en-US" sz="2600" spc="-1" strike="noStrike" u="sng">
                <a:solidFill>
                  <a:srgbClr val="3333cc"/>
                </a:solidFill>
                <a:uFillTx/>
                <a:latin typeface="Tahoma"/>
              </a:rPr>
              <a:t>u</a:t>
            </a:r>
            <a:r>
              <a:rPr b="0" lang="en-US" sz="2600" spc="-1" strike="noStrike" baseline="-25000">
                <a:solidFill>
                  <a:srgbClr val="3333cc"/>
                </a:solidFill>
                <a:latin typeface="Tahoma"/>
              </a:rPr>
              <a:t>k</a:t>
            </a: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), nije moguće predvidjeti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Za izgradnju prediktivnog parsera nad G: </a:t>
            </a:r>
            <a:endParaRPr b="0" lang="en-US" sz="2600" spc="-1" strike="noStrike">
              <a:solidFill>
                <a:srgbClr val="000099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Za svaki neterminalni simbol </a:t>
            </a:r>
            <a:r>
              <a:rPr b="0" lang="en-US" sz="2600" spc="-1" strike="noStrike" u="sng">
                <a:solidFill>
                  <a:srgbClr val="3333cc"/>
                </a:solidFill>
                <a:uFillTx/>
                <a:latin typeface="Tahoma"/>
              </a:rPr>
              <a:t>v</a:t>
            </a: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 i sva pravila </a:t>
            </a:r>
            <a:r>
              <a:rPr b="0" lang="en-US" sz="2600" spc="-1" strike="noStrike" u="sng">
                <a:solidFill>
                  <a:srgbClr val="3333cc"/>
                </a:solidFill>
                <a:uFillTx/>
                <a:latin typeface="Tahoma"/>
              </a:rPr>
              <a:t>v</a:t>
            </a: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 -&gt; </a:t>
            </a:r>
            <a:r>
              <a:rPr b="0" lang="en-US" sz="2600" spc="-1" strike="noStrike" u="sng">
                <a:solidFill>
                  <a:srgbClr val="3333cc"/>
                </a:solidFill>
                <a:uFillTx/>
                <a:latin typeface="Tahoma"/>
              </a:rPr>
              <a:t>u</a:t>
            </a:r>
            <a:r>
              <a:rPr b="0" lang="en-US" sz="2600" spc="-1" strike="noStrike" baseline="-25000">
                <a:solidFill>
                  <a:srgbClr val="3333cc"/>
                </a:solidFill>
                <a:latin typeface="Tahoma"/>
              </a:rPr>
              <a:t>1</a:t>
            </a: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 | </a:t>
            </a:r>
            <a:r>
              <a:rPr b="0" lang="en-US" sz="2600" spc="-1" strike="noStrike" u="sng">
                <a:solidFill>
                  <a:srgbClr val="3333cc"/>
                </a:solidFill>
                <a:uFillTx/>
                <a:latin typeface="Tahoma"/>
              </a:rPr>
              <a:t>u</a:t>
            </a:r>
            <a:r>
              <a:rPr b="0" lang="en-US" sz="2600" spc="-1" strike="noStrike" baseline="-25000">
                <a:solidFill>
                  <a:srgbClr val="3333cc"/>
                </a:solidFill>
                <a:latin typeface="Tahoma"/>
              </a:rPr>
              <a:t>2</a:t>
            </a: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 | ... </a:t>
            </a:r>
            <a:r>
              <a:rPr b="0" lang="sr-Latn-CS" sz="2600" spc="-1" strike="noStrike" u="sng">
                <a:solidFill>
                  <a:srgbClr val="3333cc"/>
                </a:solidFill>
                <a:uFillTx/>
                <a:latin typeface="Tahoma"/>
              </a:rPr>
              <a:t>u</a:t>
            </a:r>
            <a:r>
              <a:rPr b="0" lang="en-US" sz="2600" spc="-1" strike="noStrike" baseline="-25000">
                <a:solidFill>
                  <a:srgbClr val="3333cc"/>
                </a:solidFill>
                <a:latin typeface="Tahoma"/>
              </a:rPr>
              <a:t>n</a:t>
            </a: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, skupovi First(</a:t>
            </a:r>
            <a:r>
              <a:rPr b="0" lang="en-US" sz="2600" spc="-1" strike="noStrike" u="sng">
                <a:solidFill>
                  <a:srgbClr val="3333cc"/>
                </a:solidFill>
                <a:uFillTx/>
                <a:latin typeface="Tahoma"/>
              </a:rPr>
              <a:t>u</a:t>
            </a:r>
            <a:r>
              <a:rPr b="0" lang="en-US" sz="2600" spc="-1" strike="noStrike" baseline="-25000">
                <a:solidFill>
                  <a:srgbClr val="3333cc"/>
                </a:solidFill>
                <a:latin typeface="Tahoma"/>
              </a:rPr>
              <a:t>i</a:t>
            </a: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) moraju biti disjunktni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B8BA-81E4-4D8D-A197-366816244E0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First skupovi - nastavak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Nulabilni (nullable) neterminalni simboli. </a:t>
            </a:r>
            <a:endParaRPr b="0" lang="en-US" sz="26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X -&gt; ABC | DEF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-&gt; </a:t>
            </a:r>
            <a:r>
              <a:rPr b="1" lang="en-US" sz="30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endParaRPr b="0" lang="en-US" sz="3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Tekući simbol t </a:t>
            </a:r>
            <a:endParaRPr b="0" lang="en-US" sz="26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Nije dovoljno </a:t>
            </a:r>
            <a:r>
              <a:rPr b="0" lang="sr-Latn-CS" sz="2600" spc="-1" strike="noStrike">
                <a:solidFill>
                  <a:srgbClr val="000099"/>
                </a:solidFill>
                <a:latin typeface="Tahoma"/>
              </a:rPr>
              <a:t>n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aći  First(A) and First(D)</a:t>
            </a:r>
            <a:endParaRPr b="0" lang="en-US" sz="26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ko A zamijenimo sa </a:t>
            </a:r>
            <a:r>
              <a:rPr b="1" lang="en-US" sz="30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, šta ako B može izvesti string koji počinje sa t?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Rješenje: Follow skupovi</a:t>
            </a:r>
            <a:endParaRPr b="0" lang="en-US" sz="26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Follow(A) uključuje sve tokene koji se mogu pojaviti neposredno iza A u nekoj sentencijalnoj formi.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Izračunavanje</a:t>
            </a:r>
            <a:r>
              <a:rPr b="0" lang="sr-Latn-CS" sz="2600" spc="-1" strike="noStrike">
                <a:solidFill>
                  <a:srgbClr val="000099"/>
                </a:solidFill>
                <a:latin typeface="Tahoma"/>
              </a:rPr>
              <a:t>m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 First i Follow skupova, može </a:t>
            </a:r>
            <a:r>
              <a:rPr b="0" lang="sr-Latn-CS" sz="2600" spc="-1" strike="noStrike">
                <a:solidFill>
                  <a:srgbClr val="000099"/>
                </a:solidFill>
                <a:latin typeface="Tahoma"/>
              </a:rPr>
              <a:t>s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e izgraditi parser sa rekurzivnim spustom</a:t>
            </a:r>
            <a:endParaRPr b="0" lang="en-US" sz="2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9CB4-50FB-4E13-A10F-66ED4D935CC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Izračunavanje First skupa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28240" y="837720"/>
            <a:ext cx="8534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Eliminacija nejasnoća, lijeve rekurzije, zajedničkih prefiksa.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Tahoma"/>
              </a:rPr>
              <a:t>First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 skup za svaki neterminalni simbol 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Tahoma"/>
              </a:rPr>
              <a:t>u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 sa lijeve strane pravila 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Tahoma"/>
              </a:rPr>
              <a:t>u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 X</a:t>
            </a:r>
            <a:r>
              <a:rPr b="0" lang="sr-Latn-CS" sz="2400" spc="-1" strike="noStrike">
                <a:solidFill>
                  <a:srgbClr val="000099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 X2 ... Xn, je: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1.  Ako je X1 terminalni simbol, dodaj X1 skupu First(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Tahoma"/>
              </a:rPr>
              <a:t>u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). Kraj!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2. Ako je  X1 neterminalni simbol, dodaj (First(X1) - </a:t>
            </a:r>
            <a:r>
              <a:rPr b="1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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  skupu First(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Tahoma"/>
              </a:rPr>
              <a:t>u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).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lvl="1" marL="9144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.  Ako je X1 nulabilan</a:t>
            </a:r>
            <a:r>
              <a:rPr b="0" lang="sr-Latn-CS" sz="2400" spc="-1" strike="noStrike">
                <a:solidFill>
                  <a:srgbClr val="3333cc"/>
                </a:solidFill>
                <a:latin typeface="Tahoma"/>
              </a:rPr>
              <a:t> (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X1 =&gt;* </a:t>
            </a:r>
            <a:r>
              <a:rPr b="1" lang="en-US" sz="30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1" lang="sr-Latn-CS" sz="3000" spc="-1" strike="noStrike">
                <a:solidFill>
                  <a:srgbClr val="3333cc"/>
                </a:solidFill>
                <a:latin typeface="Symbol"/>
                <a:ea typeface="Symbol"/>
              </a:rPr>
              <a:t>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, dodaj (First(X2) – 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) skupu First(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ahoma"/>
              </a:rPr>
              <a:t>u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).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9144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ko X2 =&gt;* </a:t>
            </a:r>
            <a:r>
              <a:rPr b="1" lang="en-US" sz="30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dodaj (First(X3)–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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, itd.</a:t>
            </a:r>
            <a:r>
              <a:rPr b="0" lang="sr-Latn-CS" sz="2400" spc="-1" strike="noStrike">
                <a:solidFill>
                  <a:srgbClr val="3333cc"/>
                </a:solidFill>
                <a:latin typeface="Tahoma"/>
              </a:rPr>
              <a:t> do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Xn</a:t>
            </a:r>
            <a:r>
              <a:rPr b="0" lang="sr-Latn-CS" sz="2400" spc="-1" strike="noStrike">
                <a:solidFill>
                  <a:srgbClr val="3333cc"/>
                </a:solidFill>
                <a:latin typeface="Tahoma"/>
              </a:rPr>
              <a:t>,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dok ne n</a:t>
            </a:r>
            <a:r>
              <a:rPr b="0" lang="sr-Latn-CS" sz="2400" spc="-1" strike="noStrike">
                <a:solidFill>
                  <a:srgbClr val="3333cc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đemo na prvi nenulabilni net</a:t>
            </a:r>
            <a:r>
              <a:rPr b="0" lang="sr-Latn-CS" sz="2400" spc="-1" strike="noStrike">
                <a:solidFill>
                  <a:srgbClr val="3333cc"/>
                </a:solidFill>
                <a:latin typeface="Tahoma"/>
              </a:rPr>
              <a:t>e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rmin</a:t>
            </a:r>
            <a:r>
              <a:rPr b="0" lang="sr-Latn-CS" sz="2400" spc="-1" strike="noStrike">
                <a:solidFill>
                  <a:srgbClr val="3333cc"/>
                </a:solidFill>
                <a:latin typeface="Tahoma"/>
              </a:rPr>
              <a:t>al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 simbol.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9144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b. Ako X1 X2... Xn =&gt;* </a:t>
            </a:r>
            <a:r>
              <a:rPr b="1" lang="en-US" sz="30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, dodaj </a:t>
            </a:r>
            <a:r>
              <a:rPr b="1" lang="en-US" sz="30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skupu First.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1078-BD3E-4BBD-9A40-F88965106E5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Izračunavanje Follow skupa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Za svaki  neterminal A gramatike: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609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1.  Dodati EOF u Follow(S), </a:t>
            </a: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gdje je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S startni simbol</a:t>
            </a: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 gramatike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, EOF</a:t>
            </a: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 je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$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2. Za svako pravilo A –&gt; 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Tahoma"/>
              </a:rPr>
              <a:t>u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B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Tahoma"/>
              </a:rPr>
              <a:t>v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, gdje su 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Tahoma"/>
              </a:rPr>
              <a:t>u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i 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Tahoma"/>
              </a:rPr>
              <a:t>v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stringovi simbola gramatike i B je neterminalni simbol, dodaj sve elemente skupa First(</a:t>
            </a: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Tahoma"/>
              </a:rPr>
              <a:t>v</a:t>
            </a: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) (osim 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) skupu Follow(B)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3. Za svako pravilo A –&gt; 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Tahoma"/>
              </a:rPr>
              <a:t>u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B, ili pravilo A –&gt; 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Tahoma"/>
              </a:rPr>
              <a:t>u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B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Tahoma"/>
              </a:rPr>
              <a:t>v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gdje First(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Tahoma"/>
              </a:rPr>
              <a:t>v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) sadrži 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(t.j. 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Tahoma"/>
              </a:rPr>
              <a:t>v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je nulabilan), dodati sve elemente skupa Follow(A) skupu Follow(B)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B624-E4A9-4B17-B511-EB0457114782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Recursive-descent parser: kod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void ParseA() {</a:t>
            </a:r>
            <a:endParaRPr b="0" lang="en-US" sz="22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switch (lookahead) {</a:t>
            </a:r>
            <a:endParaRPr b="0" lang="en-US" sz="22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  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case First(u1):         /* code to recognize u1 */</a:t>
            </a:r>
            <a:endParaRPr b="0" lang="en-US" sz="22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  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return;</a:t>
            </a:r>
            <a:endParaRPr b="0" lang="en-US" sz="22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  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case First(u2):        /* code to recognize u2 */</a:t>
            </a:r>
            <a:endParaRPr b="0" lang="en-US" sz="22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  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return;</a:t>
            </a:r>
            <a:endParaRPr b="0" lang="en-US" sz="22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  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  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case Follow(A):  // predict production A-&gt;</a:t>
            </a:r>
            <a:r>
              <a:rPr b="0" lang="en-US" sz="30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 if A nullable</a:t>
            </a:r>
            <a:endParaRPr b="0" lang="en-US" sz="22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       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/* usually do nothing here */</a:t>
            </a:r>
            <a:endParaRPr b="0" lang="en-US" sz="22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  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default:</a:t>
            </a:r>
            <a:endParaRPr b="0" lang="en-US" sz="22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       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printf("syntax error \n");   /* no rule matches */</a:t>
            </a:r>
            <a:endParaRPr b="0" lang="en-US" sz="22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  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exit(0);</a:t>
            </a:r>
            <a:endParaRPr b="0" lang="en-US" sz="22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}}</a:t>
            </a:r>
            <a:endParaRPr b="0" lang="en-US" sz="2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C0C7-F97A-4DDA-94FE-2CC772974F4B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Recursive-descent primjer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Gramatika za IF naredbu u nekom PJ</a:t>
            </a: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    </a:t>
            </a: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if_stmt –&gt; IF expr THEN stmt ENDIF</a:t>
            </a: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| IF expr THEN stmt ELSE stmt ENDIF</a:t>
            </a: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Lijeva faktorizacija:</a:t>
            </a: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    </a:t>
            </a: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if_stmt –&gt; IF expr THEN stmt close_if</a:t>
            </a: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    </a:t>
            </a: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close_if –&gt; ENDIF | ELSE stmt ENDIF</a:t>
            </a: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CG Times"/>
              </a:rPr>
              <a:t>Parsirati “IF true THEN temp++ ENDIF”</a:t>
            </a: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4921-B4A8-46BF-8E83-58456FBDD80D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Recursive-descent primjer koda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G Times"/>
              </a:rPr>
              <a:t>void ParseIfStmt() {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G Times"/>
              </a:rPr>
              <a:t>MatchToken(T_IF);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G Times"/>
              </a:rPr>
              <a:t>ParseExpr ();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G Times"/>
              </a:rPr>
              <a:t>MatchToken(T_THEN);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G Times"/>
              </a:rPr>
              <a:t>ParseStmt();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G Times"/>
              </a:rPr>
              <a:t>ParseCloseIf(); }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A3D7-D9B2-4C2A-A96E-A57404EECBD9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457200" y="533520"/>
            <a:ext cx="807732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G Times"/>
              </a:rPr>
              <a:t>void ParseCloseIf() {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G Times"/>
              </a:rPr>
              <a:t>if (lookahead == T_ENDIF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3333cc"/>
                </a:solidFill>
                <a:latin typeface="CG Times"/>
              </a:rPr>
              <a:t>	</a:t>
            </a:r>
            <a:r>
              <a:rPr b="0" lang="sr-Latn-CS" sz="3200" spc="-1" strike="noStrike">
                <a:solidFill>
                  <a:srgbClr val="3333cc"/>
                </a:solidFill>
                <a:latin typeface="CG Times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CG Times"/>
              </a:rPr>
              <a:t>lookahead = GetSym();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G Times"/>
              </a:rPr>
              <a:t>else {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3333cc"/>
                </a:solidFill>
                <a:latin typeface="CG Times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CG Times"/>
              </a:rPr>
              <a:t>   </a:t>
            </a:r>
            <a:r>
              <a:rPr b="0" lang="sr-Latn-CS" sz="3200" spc="-1" strike="noStrike">
                <a:solidFill>
                  <a:srgbClr val="3333cc"/>
                </a:solidFill>
                <a:latin typeface="CG Times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CG Times"/>
              </a:rPr>
              <a:t>MatchToken(T_ELSE)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3333cc"/>
                </a:solidFill>
                <a:latin typeface="CG Times"/>
              </a:rPr>
              <a:t>	</a:t>
            </a:r>
            <a:r>
              <a:rPr b="0" lang="sr-Latn-CS" sz="3200" spc="-1" strike="noStrike">
                <a:solidFill>
                  <a:srgbClr val="3333cc"/>
                </a:solidFill>
                <a:latin typeface="CG Times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CG Times"/>
              </a:rPr>
              <a:t>ParseStmt();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3333cc"/>
                </a:solidFill>
                <a:latin typeface="CG Times"/>
              </a:rPr>
              <a:t>   </a:t>
            </a:r>
            <a:r>
              <a:rPr b="0" lang="sr-Latn-CS" sz="3200" spc="-1" strike="noStrike">
                <a:solidFill>
                  <a:srgbClr val="3333cc"/>
                </a:solidFill>
                <a:latin typeface="CG Times"/>
              </a:rPr>
              <a:t>	</a:t>
            </a:r>
            <a:r>
              <a:rPr b="0" lang="sr-Latn-CS" sz="3200" spc="-1" strike="noStrike">
                <a:solidFill>
                  <a:srgbClr val="3333cc"/>
                </a:solidFill>
                <a:latin typeface="CG Times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CG Times"/>
              </a:rPr>
              <a:t>MatchToken(T_ENDIF);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3333cc"/>
                </a:solidFill>
                <a:latin typeface="CG Times"/>
              </a:rPr>
              <a:t>	</a:t>
            </a:r>
            <a:r>
              <a:rPr b="0" lang="sr-Latn-CS" sz="3200" spc="-1" strike="noStrike">
                <a:solidFill>
                  <a:srgbClr val="3333cc"/>
                </a:solidFill>
                <a:latin typeface="CG Times"/>
              </a:rPr>
              <a:t>   </a:t>
            </a:r>
            <a:r>
              <a:rPr b="0" lang="en-US" sz="3200" spc="-1" strike="noStrike">
                <a:solidFill>
                  <a:srgbClr val="3333cc"/>
                </a:solidFill>
                <a:latin typeface="CG Times"/>
              </a:rPr>
              <a:t>}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G Times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B868-3C33-41BC-9D40-0849F3D57C32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Tahoma"/>
              </a:rPr>
              <a:t>Primjer rekurzivnog spusta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99"/>
              </a:buClr>
              <a:buFont typeface="CG 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G Times"/>
              </a:rPr>
              <a:t>Ulazni niz: </a:t>
            </a:r>
            <a:r>
              <a:rPr b="0" lang="en-US" sz="3200" spc="-1" strike="noStrike">
                <a:solidFill>
                  <a:srgbClr val="000099"/>
                </a:solidFill>
                <a:latin typeface="CG Times"/>
              </a:rPr>
              <a:t>IF true THEN temp++ ENDIF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99"/>
              </a:buClr>
              <a:buFont typeface="CG 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G Times"/>
              </a:rPr>
              <a:t>Pr</a:t>
            </a:r>
            <a:r>
              <a:rPr b="0" lang="hr-HR" sz="3200" spc="-1" strike="noStrike">
                <a:solidFill>
                  <a:srgbClr val="000099"/>
                </a:solidFill>
                <a:latin typeface="CG Times"/>
              </a:rPr>
              <a:t>oć</a:t>
            </a:r>
            <a:r>
              <a:rPr b="0" lang="sr-Latn-CS" sz="3200" spc="-1" strike="noStrike">
                <a:solidFill>
                  <a:srgbClr val="000099"/>
                </a:solidFill>
                <a:latin typeface="CG Times"/>
              </a:rPr>
              <a:t>i kroz kod primjera sa prethodnog slajda (dodati prikaz call-steka)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94C5-B479-4E6F-97E4-2CC188CD65BB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Tahoma"/>
              </a:rPr>
              <a:t>Nejasne gramatike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99"/>
                </a:solidFill>
                <a:latin typeface="Tahoma"/>
              </a:rPr>
              <a:t>Dvosmislenost - nejasnoća (</a:t>
            </a:r>
            <a:r>
              <a:rPr b="0" i="1" lang="en-US" sz="2800" spc="-1" strike="noStrike">
                <a:solidFill>
                  <a:srgbClr val="000099"/>
                </a:solidFill>
                <a:latin typeface="Tahoma"/>
              </a:rPr>
              <a:t>Ambiguity</a:t>
            </a:r>
            <a:r>
              <a:rPr b="0" i="1" lang="sr-Latn-CS" sz="2800" spc="-1" strike="noStrike">
                <a:solidFill>
                  <a:srgbClr val="000099"/>
                </a:solidFill>
                <a:latin typeface="Tahoma"/>
              </a:rPr>
              <a:t>)</a:t>
            </a:r>
            <a:r>
              <a:rPr b="0" i="1" lang="en-US" sz="2800" spc="-1" strike="noStrike">
                <a:solidFill>
                  <a:srgbClr val="000099"/>
                </a:solidFill>
                <a:latin typeface="Tahoma"/>
              </a:rPr>
              <a:t>: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 </a:t>
            </a: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za jednu rečenicu više od jednog stabla parsiranja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Vidi primjer na sljedećem slajdu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0C4C-BEF2-4DA7-9DB2-35B6D1EA9FE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Primjer 2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19" name=""/>
          <p:cNvSpPr/>
          <p:nvPr/>
        </p:nvSpPr>
        <p:spPr>
          <a:xfrm>
            <a:off x="533520" y="1066680"/>
            <a:ext cx="78483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Gramatika G (sa BNF pro</a:t>
            </a:r>
            <a:r>
              <a:rPr b="0" lang="hr-HR" sz="3200" spc="-1" strike="noStrike">
                <a:solidFill>
                  <a:srgbClr val="000099"/>
                </a:solidFill>
                <a:latin typeface="Tahoma"/>
              </a:rPr>
              <a:t>š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irenom notacijom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G = { N , T , S , P }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Neterminalni simboli</a:t>
            </a:r>
            <a:r>
              <a:rPr b="0" lang="sr-Latn-CS" sz="3200" spc="-1" strike="noStrike">
                <a:solidFill>
                  <a:srgbClr val="000099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N = { A , B , C , D }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Tahoma"/>
              </a:rPr>
              <a:t>Terminalni simboli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T = { "(" , ")" , "+" , "a" , "[" , "]" , "." }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Startni simbol</a:t>
            </a:r>
            <a:r>
              <a:rPr b="0" lang="sr-Latn-CS" sz="3200" spc="-1" strike="noStrike">
                <a:solidFill>
                  <a:srgbClr val="000099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S = A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6D88-F34A-4C31-81A1-B5368483C92A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Primjer 2</a:t>
            </a:r>
            <a:r>
              <a:rPr b="0" lang="sr-Latn-CS" sz="4000" spc="-1" strike="noStrike">
                <a:solidFill>
                  <a:srgbClr val="000099"/>
                </a:solidFill>
                <a:latin typeface="Tahoma"/>
              </a:rPr>
              <a:t> (nastavak)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77880" y="10666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Tahoma"/>
              </a:rPr>
              <a:t>Pravila (produkcije) gramatike: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–&gt;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B "." 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B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–&gt;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[ "a" | "(" C ")" | "[" B "]" ] 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C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–&gt;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B D 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D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–&gt; 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{ "+" B }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A2C7-64D0-4454-995D-75D57D319AC7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Primjer 2 - nastavak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23" name=""/>
          <p:cNvSpPr/>
          <p:nvPr/>
        </p:nvSpPr>
        <p:spPr>
          <a:xfrm>
            <a:off x="1143000" y="1371600"/>
            <a:ext cx="73915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–&gt;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B "."  (1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B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–&gt;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"a" (2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B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–&gt; 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"(" C ")" (3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B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–&gt; 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"[" B "]" (4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B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–&gt;</a:t>
            </a:r>
            <a:r>
              <a:rPr b="0" lang="en-US" sz="2600" spc="-1" strike="noStrike">
                <a:solidFill>
                  <a:srgbClr val="000099"/>
                </a:solidFill>
                <a:latin typeface="Symbol"/>
                <a:ea typeface="Symbol"/>
              </a:rPr>
              <a:t></a:t>
            </a:r>
            <a:r>
              <a:rPr b="1" lang="en-US" sz="2600" spc="-1" strike="noStrike">
                <a:solidFill>
                  <a:srgbClr val="000099"/>
                </a:solidFill>
                <a:latin typeface="Symbol"/>
                <a:ea typeface="Symbol"/>
              </a:rPr>
              <a:t></a:t>
            </a:r>
            <a:r>
              <a:rPr b="0" lang="en-US" sz="2600" spc="-1" strike="noStrike">
                <a:solidFill>
                  <a:srgbClr val="000099"/>
                </a:solidFill>
                <a:latin typeface="Symbol"/>
                <a:ea typeface="Symbol"/>
              </a:rPr>
              <a:t>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(5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C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–&gt;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B D (6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D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–&gt;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"+" B D (7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D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–&gt; </a:t>
            </a:r>
            <a:r>
              <a:rPr b="0" lang="en-US" sz="2600" spc="-1" strike="noStrike">
                <a:solidFill>
                  <a:srgbClr val="000099"/>
                </a:solidFill>
                <a:latin typeface="Symbol"/>
                <a:ea typeface="Symbol"/>
              </a:rPr>
              <a:t>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(8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CC67-7197-4A31-8E9D-FB9B1EDB5B62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Primjer 2 - nastavak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1447920"/>
            <a:ext cx="78483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FIRST(A) = { "a" , "(" , "["</a:t>
            </a:r>
            <a:r>
              <a:rPr b="0" lang="sr-Latn-CS" sz="3200" spc="-1" strike="noStrike">
                <a:solidFill>
                  <a:srgbClr val="000099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"."</a:t>
            </a:r>
            <a:r>
              <a:rPr b="1" lang="en-US" sz="2600" spc="-1" strike="noStrike">
                <a:solidFill>
                  <a:srgbClr val="000099"/>
                </a:solidFill>
                <a:latin typeface="Symbol"/>
                <a:ea typeface="Symbol"/>
              </a:rPr>
              <a:t>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}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FIRST(B) = { "a" , "(" , "["</a:t>
            </a:r>
            <a:r>
              <a:rPr b="0" lang="sr-Latn-CS" sz="3200" spc="-1" strike="noStrike">
                <a:solidFill>
                  <a:srgbClr val="000099"/>
                </a:solidFill>
                <a:latin typeface="Tahoma"/>
              </a:rPr>
              <a:t>, </a:t>
            </a:r>
            <a:r>
              <a:rPr b="1" lang="en-US" sz="2600" spc="-1" strike="noStrike">
                <a:solidFill>
                  <a:srgbClr val="000099"/>
                </a:solidFill>
                <a:latin typeface="Symbol"/>
                <a:ea typeface="Symbol"/>
              </a:rPr>
              <a:t>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}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FIRST(D) = { "+" , </a:t>
            </a:r>
            <a:r>
              <a:rPr b="1" lang="en-US" sz="2600" spc="-1" strike="noStrike">
                <a:solidFill>
                  <a:srgbClr val="000099"/>
                </a:solidFill>
                <a:latin typeface="Symbol"/>
                <a:ea typeface="Symbol"/>
              </a:rPr>
              <a:t>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}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FIRST(C) = FIRST(B) U FIRST(</a:t>
            </a:r>
            <a:r>
              <a:rPr b="0" lang="sr-Latn-CS" sz="3200" spc="-1" strike="noStrike">
                <a:solidFill>
                  <a:srgbClr val="000099"/>
                </a:solidFill>
                <a:latin typeface="Tahoma"/>
              </a:rPr>
              <a:t>D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FOLLOW(D) = FOLLOW(C) = { ")" }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FOLLOW(B) = { "." , "]" , "+" } U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                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{ ")" } = { "." , "]" , "+" , ")" }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FOLLOW(A) = {$}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EDAA-E5C9-46CB-AEFB-069F7E94BB13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Primjer 2 - nastavak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1752480"/>
            <a:ext cx="8153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#include &lt;stdio.h&gt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#include &lt;stdlib.h&gt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r sym; // Source token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oid getsym(void) {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m = getchar()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}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25EA-E2BB-4195-A3F2-EE4C42C78287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Primjer 2 - nastavak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29" name=""/>
          <p:cNvSpPr/>
          <p:nvPr/>
        </p:nvSpPr>
        <p:spPr>
          <a:xfrm>
            <a:off x="685800" y="1447920"/>
            <a:ext cx="77724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oid accept(char expectedterminal, char *errormessage) {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(sym != expectedterminal) {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s(errormessage)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it(1)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}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tsym()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}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EFDB-047F-46E4-A709-75168B240F7E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Primjer 2 - nastavak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31" name=""/>
          <p:cNvSpPr/>
          <p:nvPr/>
        </p:nvSpPr>
        <p:spPr>
          <a:xfrm>
            <a:off x="685800" y="1371600"/>
            <a:ext cx="7924680" cy="42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oid A(void) {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()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cept('.', " Error ­ '.' expected")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}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oid C(void) {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()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()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}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466A-F036-49F0-A74F-55C85CEE8C90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Primjer 2 - nastavak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33" name=""/>
          <p:cNvSpPr/>
          <p:nvPr/>
        </p:nvSpPr>
        <p:spPr>
          <a:xfrm>
            <a:off x="228600" y="990720"/>
            <a:ext cx="85345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oid B(void){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witch (sym) {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se 'a'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tsym()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reak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se '('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tsym()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()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cept(')', " Error ­ ')' expected");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reak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8AE0-315B-4119-90A7-2929819A5D7F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Primjer 2 - nastavak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35" name=""/>
          <p:cNvSpPr/>
          <p:nvPr/>
        </p:nvSpPr>
        <p:spPr>
          <a:xfrm>
            <a:off x="304920" y="1219320"/>
            <a:ext cx="86868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se '['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tsym()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()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cept(']', " Error ­ ']' expected");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reak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se ')'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se ']'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se '+'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se '.'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reak; //no action for followers of B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4463-6718-47BB-B089-98CD206B2D66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Primjer 2 - nastavak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533520" y="1295280"/>
            <a:ext cx="80769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ault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intf("Unknown symbol\n");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it(1)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}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}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8558-4F67-4713-8DA9-A00D582E7A66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Tahoma"/>
              </a:rPr>
              <a:t>Nejasne gramatike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814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Times New Roman"/>
              </a:rPr>
              <a:t>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Times New Roman"/>
              </a:rPr>
              <a:t>–&gt;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Times New Roman"/>
              </a:rPr>
              <a:t>E op E | ( E ) | i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Times New Roman"/>
              </a:rPr>
              <a:t>op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Times New Roman"/>
              </a:rPr>
              <a:t>–&gt;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Times New Roman"/>
              </a:rPr>
              <a:t>+ | - | * | /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Input: 10 –2 * 5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762120" y="2666880"/>
            <a:ext cx="3352320" cy="2971440"/>
            <a:chOff x="762120" y="2666880"/>
            <a:chExt cx="3352320" cy="2971440"/>
          </a:xfrm>
        </p:grpSpPr>
        <p:sp>
          <p:nvSpPr>
            <p:cNvPr id="60" name=""/>
            <p:cNvSpPr/>
            <p:nvPr/>
          </p:nvSpPr>
          <p:spPr>
            <a:xfrm>
              <a:off x="1563840" y="4636800"/>
              <a:ext cx="43704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ff"/>
                  </a:solidFill>
                  <a:latin typeface="Courier New"/>
                </a:rPr>
                <a:t>-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62120" y="3886920"/>
              <a:ext cx="347760" cy="33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371680" y="3886920"/>
              <a:ext cx="350280" cy="33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584080" y="2666880"/>
              <a:ext cx="348840" cy="33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373120" y="4609800"/>
              <a:ext cx="350640" cy="33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int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06320" y="3886920"/>
              <a:ext cx="350640" cy="33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P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21320" y="3323520"/>
              <a:ext cx="348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608120" y="3323520"/>
              <a:ext cx="348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919960" y="3389040"/>
              <a:ext cx="3502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P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7400" y="3914640"/>
              <a:ext cx="437040" cy="27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28840" y="5293800"/>
              <a:ext cx="437040" cy="27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ff"/>
                  </a:solidFill>
                  <a:latin typeface="Courier New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cxnSp>
          <p:nvCxnSpPr>
            <p:cNvPr id="71" name=""/>
            <p:cNvCxnSpPr>
              <a:stCxn id="63" idx="2"/>
              <a:endCxn id="67" idx="0"/>
            </p:cNvCxnSpPr>
            <p:nvPr/>
          </p:nvCxnSpPr>
          <p:spPr>
            <a:xfrm flipH="1">
              <a:off x="1781640" y="3000240"/>
              <a:ext cx="976680" cy="3236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2" name=""/>
            <p:cNvCxnSpPr>
              <a:stCxn id="68" idx="0"/>
              <a:endCxn id="63" idx="2"/>
            </p:cNvCxnSpPr>
            <p:nvPr/>
          </p:nvCxnSpPr>
          <p:spPr>
            <a:xfrm flipH="1" flipV="1">
              <a:off x="2758320" y="2999880"/>
              <a:ext cx="337680" cy="389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3" name=""/>
            <p:cNvCxnSpPr>
              <a:stCxn id="66" idx="0"/>
              <a:endCxn id="63" idx="2"/>
            </p:cNvCxnSpPr>
            <p:nvPr/>
          </p:nvCxnSpPr>
          <p:spPr>
            <a:xfrm flipH="1" flipV="1">
              <a:off x="2758320" y="2999880"/>
              <a:ext cx="1137600" cy="3236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4" name=""/>
            <p:cNvCxnSpPr>
              <a:stCxn id="67" idx="2"/>
              <a:endCxn id="62" idx="0"/>
            </p:cNvCxnSpPr>
            <p:nvPr/>
          </p:nvCxnSpPr>
          <p:spPr>
            <a:xfrm>
              <a:off x="1782000" y="3659760"/>
              <a:ext cx="765720" cy="2275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5" name=""/>
            <p:cNvCxnSpPr>
              <a:stCxn id="67" idx="2"/>
              <a:endCxn id="65" idx="0"/>
            </p:cNvCxnSpPr>
            <p:nvPr/>
          </p:nvCxnSpPr>
          <p:spPr>
            <a:xfrm>
              <a:off x="1782000" y="3659760"/>
              <a:ext cx="1080" cy="2275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6" name=""/>
            <p:cNvCxnSpPr>
              <a:stCxn id="67" idx="2"/>
              <a:endCxn id="61" idx="0"/>
            </p:cNvCxnSpPr>
            <p:nvPr/>
          </p:nvCxnSpPr>
          <p:spPr>
            <a:xfrm flipH="1">
              <a:off x="936000" y="3659760"/>
              <a:ext cx="846720" cy="2275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7" name=""/>
            <p:cNvCxnSpPr>
              <a:stCxn id="65" idx="2"/>
              <a:endCxn id="60" idx="0"/>
            </p:cNvCxnSpPr>
            <p:nvPr/>
          </p:nvCxnSpPr>
          <p:spPr>
            <a:xfrm>
              <a:off x="1782000" y="4220640"/>
              <a:ext cx="1080" cy="4165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8" name=""/>
            <p:cNvCxnSpPr>
              <a:stCxn id="64" idx="2"/>
              <a:endCxn id="70" idx="0"/>
            </p:cNvCxnSpPr>
            <p:nvPr/>
          </p:nvCxnSpPr>
          <p:spPr>
            <a:xfrm flipH="1">
              <a:off x="2547360" y="4943160"/>
              <a:ext cx="2160" cy="3510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9" name=""/>
            <p:cNvCxnSpPr>
              <a:stCxn id="66" idx="2"/>
              <a:endCxn id="69" idx="0"/>
            </p:cNvCxnSpPr>
            <p:nvPr/>
          </p:nvCxnSpPr>
          <p:spPr>
            <a:xfrm>
              <a:off x="3895560" y="3659400"/>
              <a:ext cx="1080" cy="255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80" name=""/>
            <p:cNvSpPr/>
            <p:nvPr/>
          </p:nvSpPr>
          <p:spPr>
            <a:xfrm>
              <a:off x="3677400" y="4636800"/>
              <a:ext cx="43704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ff"/>
                  </a:solidFill>
                  <a:latin typeface="Courier New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cxnSp>
          <p:nvCxnSpPr>
            <p:cNvPr id="81" name=""/>
            <p:cNvCxnSpPr>
              <a:stCxn id="69" idx="2"/>
              <a:endCxn id="80" idx="0"/>
            </p:cNvCxnSpPr>
            <p:nvPr/>
          </p:nvCxnSpPr>
          <p:spPr>
            <a:xfrm>
              <a:off x="3895560" y="4193280"/>
              <a:ext cx="1080" cy="4438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82" name=""/>
            <p:cNvSpPr/>
            <p:nvPr/>
          </p:nvSpPr>
          <p:spPr>
            <a:xfrm>
              <a:off x="2875680" y="3914640"/>
              <a:ext cx="437040" cy="27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ff"/>
                  </a:solidFill>
                  <a:latin typeface="Courier New"/>
                </a:rPr>
                <a:t>*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cxnSp>
          <p:nvCxnSpPr>
            <p:cNvPr id="83" name=""/>
            <p:cNvCxnSpPr>
              <a:stCxn id="68" idx="2"/>
              <a:endCxn id="82" idx="0"/>
            </p:cNvCxnSpPr>
            <p:nvPr/>
          </p:nvCxnSpPr>
          <p:spPr>
            <a:xfrm flipH="1">
              <a:off x="3093840" y="3725640"/>
              <a:ext cx="1800" cy="1893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4" name=""/>
            <p:cNvCxnSpPr>
              <a:stCxn id="62" idx="2"/>
              <a:endCxn id="64" idx="0"/>
            </p:cNvCxnSpPr>
            <p:nvPr/>
          </p:nvCxnSpPr>
          <p:spPr>
            <a:xfrm>
              <a:off x="2547720" y="4220640"/>
              <a:ext cx="2160" cy="389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85" name=""/>
            <p:cNvSpPr/>
            <p:nvPr/>
          </p:nvSpPr>
          <p:spPr>
            <a:xfrm>
              <a:off x="762120" y="4609800"/>
              <a:ext cx="350640" cy="33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int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99160" y="5359320"/>
              <a:ext cx="43704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ff"/>
                  </a:solidFill>
                  <a:latin typeface="Courier New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cxnSp>
          <p:nvCxnSpPr>
            <p:cNvPr id="87" name=""/>
            <p:cNvCxnSpPr>
              <a:stCxn id="85" idx="2"/>
              <a:endCxn id="86" idx="0"/>
            </p:cNvCxnSpPr>
            <p:nvPr/>
          </p:nvCxnSpPr>
          <p:spPr>
            <a:xfrm>
              <a:off x="938160" y="4943520"/>
              <a:ext cx="480240" cy="416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8" name=""/>
            <p:cNvCxnSpPr>
              <a:stCxn id="61" idx="2"/>
              <a:endCxn id="85" idx="0"/>
            </p:cNvCxnSpPr>
            <p:nvPr/>
          </p:nvCxnSpPr>
          <p:spPr>
            <a:xfrm>
              <a:off x="936360" y="4220640"/>
              <a:ext cx="2160" cy="389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</p:grpSp>
      <p:grpSp>
        <p:nvGrpSpPr>
          <p:cNvPr id="89" name=""/>
          <p:cNvGrpSpPr/>
          <p:nvPr/>
        </p:nvGrpSpPr>
        <p:grpSpPr>
          <a:xfrm>
            <a:off x="5105520" y="2666880"/>
            <a:ext cx="3352320" cy="3048120"/>
            <a:chOff x="5105520" y="2666880"/>
            <a:chExt cx="3352320" cy="3048120"/>
          </a:xfrm>
        </p:grpSpPr>
        <p:sp>
          <p:nvSpPr>
            <p:cNvPr id="90" name=""/>
            <p:cNvSpPr/>
            <p:nvPr/>
          </p:nvSpPr>
          <p:spPr>
            <a:xfrm>
              <a:off x="6734520" y="2666880"/>
              <a:ext cx="300240" cy="32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32360" y="3488040"/>
              <a:ext cx="301680" cy="32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P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cxnSp>
          <p:nvCxnSpPr>
            <p:cNvPr id="92" name=""/>
            <p:cNvCxnSpPr>
              <a:stCxn id="90" idx="2"/>
              <a:endCxn id="93" idx="0"/>
            </p:cNvCxnSpPr>
            <p:nvPr/>
          </p:nvCxnSpPr>
          <p:spPr>
            <a:xfrm flipH="1">
              <a:off x="5293080" y="2987640"/>
              <a:ext cx="1591920" cy="500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4" name=""/>
            <p:cNvCxnSpPr>
              <a:stCxn id="91" idx="0"/>
              <a:endCxn id="90" idx="2"/>
            </p:cNvCxnSpPr>
            <p:nvPr/>
          </p:nvCxnSpPr>
          <p:spPr>
            <a:xfrm flipV="1">
              <a:off x="5983560" y="2987280"/>
              <a:ext cx="901080" cy="500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5" name=""/>
            <p:cNvCxnSpPr>
              <a:endCxn id="90" idx="2"/>
            </p:cNvCxnSpPr>
            <p:nvPr/>
          </p:nvCxnSpPr>
          <p:spPr>
            <a:xfrm flipH="1" flipV="1">
              <a:off x="6883920" y="2987280"/>
              <a:ext cx="627480" cy="3740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96" name=""/>
            <p:cNvSpPr/>
            <p:nvPr/>
          </p:nvSpPr>
          <p:spPr>
            <a:xfrm>
              <a:off x="5794560" y="4056480"/>
              <a:ext cx="37584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ff"/>
                  </a:solidFill>
                  <a:latin typeface="Courier New"/>
                </a:rPr>
                <a:t>-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cxnSp>
          <p:nvCxnSpPr>
            <p:cNvPr id="97" name=""/>
            <p:cNvCxnSpPr>
              <a:stCxn id="91" idx="2"/>
              <a:endCxn id="96" idx="0"/>
            </p:cNvCxnSpPr>
            <p:nvPr/>
          </p:nvCxnSpPr>
          <p:spPr>
            <a:xfrm flipH="1">
              <a:off x="5982120" y="3811680"/>
              <a:ext cx="2160" cy="2455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98" name=""/>
            <p:cNvSpPr/>
            <p:nvPr/>
          </p:nvSpPr>
          <p:spPr>
            <a:xfrm>
              <a:off x="5105520" y="4751280"/>
              <a:ext cx="375840" cy="26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ff"/>
                  </a:solidFill>
                  <a:latin typeface="Courier New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cxnSp>
          <p:nvCxnSpPr>
            <p:cNvPr id="99" name=""/>
            <p:cNvCxnSpPr>
              <a:stCxn id="98" idx="0"/>
              <a:endCxn id="100" idx="2"/>
            </p:cNvCxnSpPr>
            <p:nvPr/>
          </p:nvCxnSpPr>
          <p:spPr>
            <a:xfrm flipV="1">
              <a:off x="5293080" y="4324680"/>
              <a:ext cx="1080" cy="426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93" name=""/>
            <p:cNvSpPr/>
            <p:nvPr/>
          </p:nvSpPr>
          <p:spPr>
            <a:xfrm>
              <a:off x="5143320" y="3488040"/>
              <a:ext cx="299880" cy="32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105520" y="4056480"/>
              <a:ext cx="37584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cxnSp>
          <p:nvCxnSpPr>
            <p:cNvPr id="101" name=""/>
            <p:cNvCxnSpPr>
              <a:stCxn id="93" idx="2"/>
              <a:endCxn id="100" idx="0"/>
            </p:cNvCxnSpPr>
            <p:nvPr/>
          </p:nvCxnSpPr>
          <p:spPr>
            <a:xfrm>
              <a:off x="5293080" y="3811680"/>
              <a:ext cx="1080" cy="2455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02" name=""/>
            <p:cNvSpPr/>
            <p:nvPr/>
          </p:nvSpPr>
          <p:spPr>
            <a:xfrm>
              <a:off x="7361280" y="4751280"/>
              <a:ext cx="375840" cy="26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ff"/>
                  </a:solidFill>
                  <a:latin typeface="Courier New"/>
                </a:rPr>
                <a:t>*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647400" y="4030200"/>
              <a:ext cx="298800" cy="32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118720" y="4030200"/>
              <a:ext cx="301320" cy="32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18720" y="4725360"/>
              <a:ext cx="301320" cy="32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int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398000" y="4030200"/>
              <a:ext cx="301680" cy="32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P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424280" y="3488040"/>
              <a:ext cx="299880" cy="32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082000" y="5446440"/>
              <a:ext cx="375840" cy="26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ff"/>
                  </a:solidFill>
                  <a:latin typeface="Courier New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cxnSp>
          <p:nvCxnSpPr>
            <p:cNvPr id="109" name=""/>
            <p:cNvCxnSpPr>
              <a:stCxn id="107" idx="2"/>
              <a:endCxn id="104" idx="0"/>
            </p:cNvCxnSpPr>
            <p:nvPr/>
          </p:nvCxnSpPr>
          <p:spPr>
            <a:xfrm>
              <a:off x="7574400" y="3811680"/>
              <a:ext cx="696240" cy="2188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0" name=""/>
            <p:cNvCxnSpPr>
              <a:stCxn id="107" idx="2"/>
              <a:endCxn id="106" idx="0"/>
            </p:cNvCxnSpPr>
            <p:nvPr/>
          </p:nvCxnSpPr>
          <p:spPr>
            <a:xfrm flipH="1">
              <a:off x="7548840" y="3811680"/>
              <a:ext cx="25560" cy="2188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1" name=""/>
            <p:cNvCxnSpPr>
              <a:stCxn id="107" idx="2"/>
              <a:endCxn id="103" idx="0"/>
            </p:cNvCxnSpPr>
            <p:nvPr/>
          </p:nvCxnSpPr>
          <p:spPr>
            <a:xfrm flipH="1">
              <a:off x="6797160" y="3811680"/>
              <a:ext cx="777600" cy="2188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2" name=""/>
            <p:cNvCxnSpPr>
              <a:stCxn id="105" idx="2"/>
              <a:endCxn id="108" idx="0"/>
            </p:cNvCxnSpPr>
            <p:nvPr/>
          </p:nvCxnSpPr>
          <p:spPr>
            <a:xfrm>
              <a:off x="8269560" y="5046480"/>
              <a:ext cx="1080" cy="4003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3" name=""/>
            <p:cNvCxnSpPr>
              <a:stCxn id="104" idx="2"/>
              <a:endCxn id="105" idx="0"/>
            </p:cNvCxnSpPr>
            <p:nvPr/>
          </p:nvCxnSpPr>
          <p:spPr>
            <a:xfrm>
              <a:off x="8269560" y="4351320"/>
              <a:ext cx="1080" cy="374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14" name=""/>
            <p:cNvSpPr/>
            <p:nvPr/>
          </p:nvSpPr>
          <p:spPr>
            <a:xfrm>
              <a:off x="6645960" y="4725360"/>
              <a:ext cx="301680" cy="32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int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cxnSp>
          <p:nvCxnSpPr>
            <p:cNvPr id="115" name=""/>
            <p:cNvCxnSpPr>
              <a:stCxn id="103" idx="2"/>
              <a:endCxn id="114" idx="0"/>
            </p:cNvCxnSpPr>
            <p:nvPr/>
          </p:nvCxnSpPr>
          <p:spPr>
            <a:xfrm>
              <a:off x="6797160" y="4351320"/>
              <a:ext cx="1080" cy="374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16" name=""/>
            <p:cNvSpPr/>
            <p:nvPr/>
          </p:nvSpPr>
          <p:spPr>
            <a:xfrm>
              <a:off x="6609240" y="5320080"/>
              <a:ext cx="375840" cy="26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ff"/>
                  </a:solidFill>
                  <a:latin typeface="Courier New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cxnSp>
          <p:nvCxnSpPr>
            <p:cNvPr id="117" name=""/>
            <p:cNvCxnSpPr>
              <a:stCxn id="114" idx="2"/>
              <a:endCxn id="116" idx="0"/>
            </p:cNvCxnSpPr>
            <p:nvPr/>
          </p:nvCxnSpPr>
          <p:spPr>
            <a:xfrm>
              <a:off x="6797160" y="5046480"/>
              <a:ext cx="1080" cy="2743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8" name=""/>
            <p:cNvCxnSpPr>
              <a:stCxn id="106" idx="2"/>
              <a:endCxn id="102" idx="0"/>
            </p:cNvCxnSpPr>
            <p:nvPr/>
          </p:nvCxnSpPr>
          <p:spPr>
            <a:xfrm>
              <a:off x="7549200" y="4350960"/>
              <a:ext cx="1080" cy="400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</p:grpSp>
      <p:sp>
        <p:nvSpPr>
          <p:cNvPr id="119" name=""/>
          <p:cNvSpPr/>
          <p:nvPr/>
        </p:nvSpPr>
        <p:spPr>
          <a:xfrm>
            <a:off x="1219320" y="5562720"/>
            <a:ext cx="7331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1600200" y="5562720"/>
            <a:ext cx="632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Koje je stablo ispravno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F90B-DA45-420C-B8FA-7570B893305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Primjer 2 - nastavak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609480" y="1371600"/>
            <a:ext cx="79250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oid D(void) {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ile (sym == '+') {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tsym()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()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}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}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10AF-F564-4F3A-BD47-EDC8531AE8BE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Primjer 2 - nastavak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" y="1371600"/>
            <a:ext cx="777240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oid main() {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m = getchar()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()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intf("Successful\n")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}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B89E-EFBE-4D6A-B5A0-CA154BE9A386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Tahoma"/>
              </a:rPr>
              <a:t>Domaći zadatak</a:t>
            </a: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! 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Napisati rekurzivni prediktivni parser za aritmetičke izraze, sa 4 osnovne računske operacije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.</a:t>
            </a: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 Promjenljive mogu biti samo slova engleske abecede, brojne konstante kao u C-u,</a:t>
            </a:r>
            <a:r>
              <a:rPr b="0" lang="sr-Latn-CS" sz="30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3333cc"/>
                </a:solidFill>
                <a:latin typeface="Tahoma"/>
              </a:rPr>
              <a:t>Odrediti</a:t>
            </a: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 First </a:t>
            </a:r>
            <a:r>
              <a:rPr b="0" lang="sr-Latn-CS" sz="2600" spc="-1" strike="noStrike">
                <a:solidFill>
                  <a:srgbClr val="3333cc"/>
                </a:solidFill>
                <a:latin typeface="Tahoma"/>
              </a:rPr>
              <a:t>i</a:t>
            </a: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 Follow</a:t>
            </a:r>
            <a:r>
              <a:rPr b="0" lang="sr-Latn-CS" sz="2600" spc="-1" strike="noStrike">
                <a:solidFill>
                  <a:srgbClr val="3333cc"/>
                </a:solidFill>
                <a:latin typeface="Tahoma"/>
              </a:rPr>
              <a:t> skupove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3333cc"/>
                </a:solidFill>
                <a:latin typeface="Tahoma"/>
              </a:rPr>
              <a:t>Dodati </a:t>
            </a: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 printf</a:t>
            </a:r>
            <a:r>
              <a:rPr b="0" lang="sr-Latn-CS" sz="2600" spc="-1" strike="noStrike">
                <a:solidFill>
                  <a:srgbClr val="3333cc"/>
                </a:solidFill>
                <a:latin typeface="Tahoma"/>
              </a:rPr>
              <a:t> u kod tako da se štampa koje je pravilo primjenjeno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3333cc"/>
                </a:solidFill>
                <a:latin typeface="Tahoma"/>
              </a:rPr>
              <a:t>Razmislite kako da obradite eventualne greške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7BCD-09E7-43CE-9045-3A6A0044E875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Tahoma"/>
              </a:rPr>
              <a:t>Nerekurzivni</a:t>
            </a: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 LL(1) pars</a:t>
            </a:r>
            <a:r>
              <a:rPr b="0" lang="sr-Latn-CS" sz="4000" spc="-1" strike="noStrike">
                <a:solidFill>
                  <a:srgbClr val="000099"/>
                </a:solidFill>
                <a:latin typeface="Tahoma"/>
              </a:rPr>
              <a:t>er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Top-down, </a:t>
            </a: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kao i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re</a:t>
            </a: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ur</a:t>
            </a: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z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iv</a:t>
            </a: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ni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Kod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re</a:t>
            </a: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ur</a:t>
            </a: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z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iv</a:t>
            </a: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nog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spusta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Fun</a:t>
            </a:r>
            <a:r>
              <a:rPr b="0" lang="sr-Latn-CS" sz="2400" spc="-1" strike="noStrike">
                <a:solidFill>
                  <a:srgbClr val="3333cc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ci</a:t>
            </a:r>
            <a:r>
              <a:rPr b="0" lang="sr-Latn-CS" sz="2400" spc="-1" strike="noStrike">
                <a:solidFill>
                  <a:srgbClr val="3333cc"/>
                </a:solidFill>
                <a:latin typeface="Tahoma"/>
              </a:rPr>
              <a:t>je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3333cc"/>
                </a:solidFill>
                <a:latin typeface="Tahoma"/>
              </a:rPr>
              <a:t>obrađuju akciju za neterminal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Call stack </a:t>
            </a:r>
            <a:r>
              <a:rPr b="0" lang="sr-Latn-CS" sz="2400" spc="-1" strike="noStrike">
                <a:solidFill>
                  <a:srgbClr val="3333cc"/>
                </a:solidFill>
                <a:latin typeface="Tahoma"/>
              </a:rPr>
              <a:t>evidentira napredak u parsiranj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cc"/>
                </a:solidFill>
                <a:latin typeface="Tahoma"/>
              </a:rPr>
              <a:t>Može doći do rekurzivnih poziva, npr.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exp -&gt; term -&gt; factor -&gt; ( exp 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Nerekurzivni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(</a:t>
            </a:r>
            <a:r>
              <a:rPr b="0" i="1" lang="en-US" sz="2800" spc="-1" strike="noStrike">
                <a:solidFill>
                  <a:srgbClr val="000099"/>
                </a:solidFill>
                <a:latin typeface="Tahoma"/>
              </a:rPr>
              <a:t>predi</a:t>
            </a:r>
            <a:r>
              <a:rPr b="0" i="1" lang="sr-Latn-CS" sz="2800" spc="-1" strike="noStrike">
                <a:solidFill>
                  <a:srgbClr val="000099"/>
                </a:solidFill>
                <a:latin typeface="Tahoma"/>
              </a:rPr>
              <a:t>k</a:t>
            </a:r>
            <a:r>
              <a:rPr b="0" i="1" lang="en-US" sz="2800" spc="-1" strike="noStrike">
                <a:solidFill>
                  <a:srgbClr val="000099"/>
                </a:solidFill>
                <a:latin typeface="Tahoma"/>
              </a:rPr>
              <a:t>tiv</a:t>
            </a:r>
            <a:r>
              <a:rPr b="0" i="1" lang="sr-Latn-CS" sz="2800" spc="-1" strike="noStrike">
                <a:solidFill>
                  <a:srgbClr val="000099"/>
                </a:solidFill>
                <a:latin typeface="Tahoma"/>
              </a:rPr>
              <a:t>ni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) parser </a:t>
            </a: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sam čuva informacije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E</a:t>
            </a:r>
            <a:r>
              <a:rPr b="0" lang="sr-Latn-CS" sz="2400" spc="-1" strike="noStrike">
                <a:solidFill>
                  <a:srgbClr val="3333cc"/>
                </a:solidFill>
                <a:latin typeface="Tahoma"/>
              </a:rPr>
              <a:t>ks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plicit</a:t>
            </a:r>
            <a:r>
              <a:rPr b="0" lang="sr-Latn-CS" sz="2400" spc="-1" strike="noStrike">
                <a:solidFill>
                  <a:srgbClr val="3333cc"/>
                </a:solidFill>
                <a:latin typeface="Tahoma"/>
              </a:rPr>
              <a:t>ni zapis na steku za svako pravilo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E</a:t>
            </a:r>
            <a:r>
              <a:rPr b="0" lang="sr-Latn-CS" sz="2400" spc="-1" strike="noStrike">
                <a:solidFill>
                  <a:srgbClr val="3333cc"/>
                </a:solidFill>
                <a:latin typeface="Tahoma"/>
              </a:rPr>
              <a:t>ks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plicit</a:t>
            </a:r>
            <a:r>
              <a:rPr b="0" lang="sr-Latn-CS" sz="2400" spc="-1" strike="noStrike">
                <a:solidFill>
                  <a:srgbClr val="3333cc"/>
                </a:solidFill>
                <a:latin typeface="Tahoma"/>
              </a:rPr>
              <a:t>na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tab</a:t>
            </a:r>
            <a:r>
              <a:rPr b="0" lang="sr-Latn-CS" sz="2400" spc="-1" strike="noStrike">
                <a:solidFill>
                  <a:srgbClr val="3333cc"/>
                </a:solidFill>
                <a:latin typeface="Tahoma"/>
              </a:rPr>
              <a:t>e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l</a:t>
            </a:r>
            <a:r>
              <a:rPr b="0" lang="sr-Latn-CS" sz="2400" spc="-1" strike="noStrike">
                <a:solidFill>
                  <a:srgbClr val="3333cc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3333cc"/>
                </a:solidFill>
                <a:latin typeface="Tahoma"/>
              </a:rPr>
              <a:t>čuva informaciju o akcijama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AB37-FCCE-4E93-9BCF-2EB5180B2525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Tahoma"/>
              </a:rPr>
              <a:t>Izgradnja tabele parsera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1532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Tahoma"/>
              </a:rPr>
              <a:t>Izgradnja tabele - ogroman rad ali jasno definisan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Tahoma"/>
              </a:rPr>
              <a:t>Za datu gramatiku 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G, tab</a:t>
            </a:r>
            <a:r>
              <a:rPr b="0" lang="sr-Latn-CS" sz="3200" spc="-1" strike="noStrike">
                <a:solidFill>
                  <a:srgbClr val="000099"/>
                </a:solidFill>
                <a:latin typeface="Tahoma"/>
              </a:rPr>
              <a:t>e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l</a:t>
            </a:r>
            <a:r>
              <a:rPr b="0" lang="sr-Latn-CS" sz="3200" spc="-1" strike="noStrike">
                <a:solidFill>
                  <a:srgbClr val="000099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sr-Latn-CS" sz="3200" spc="-1" strike="noStrike">
                <a:solidFill>
                  <a:srgbClr val="000099"/>
                </a:solidFill>
                <a:latin typeface="Tahoma"/>
              </a:rPr>
              <a:t>treba da implementira preslikavanje koje par   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&lt;</a:t>
            </a:r>
            <a:r>
              <a:rPr b="0" lang="sr-Latn-CS" sz="3200" spc="-1" strike="noStrike">
                <a:solidFill>
                  <a:srgbClr val="000099"/>
                </a:solidFill>
                <a:latin typeface="Tahoma"/>
              </a:rPr>
              <a:t>neterminal na steku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, </a:t>
            </a:r>
            <a:r>
              <a:rPr b="0" lang="sr-Latn-CS" sz="3200" spc="-1" strike="noStrike">
                <a:solidFill>
                  <a:srgbClr val="000099"/>
                </a:solidFill>
                <a:latin typeface="Tahoma"/>
              </a:rPr>
              <a:t>ulazni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s</a:t>
            </a:r>
            <a:r>
              <a:rPr b="0" lang="sr-Latn-CS" sz="3200" spc="-1" strike="noStrike">
                <a:solidFill>
                  <a:srgbClr val="000099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mbol&gt;</a:t>
            </a:r>
            <a:r>
              <a:rPr b="0" lang="sr-Latn-CS" sz="3200" spc="-1" strike="noStrike">
                <a:solidFill>
                  <a:srgbClr val="000099"/>
                </a:solidFill>
                <a:latin typeface="Tahoma"/>
              </a:rPr>
              <a:t> preslikava u 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&lt;</a:t>
            </a:r>
            <a:r>
              <a:rPr b="0" lang="sr-Latn-CS" sz="3200" spc="-1" strike="noStrike">
                <a:solidFill>
                  <a:srgbClr val="000099"/>
                </a:solidFill>
                <a:latin typeface="Tahoma"/>
              </a:rPr>
              <a:t>pravilo gramatike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&gt;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Tahoma"/>
              </a:rPr>
              <a:t>Preslikavanje mora biti f-ija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(</a:t>
            </a:r>
            <a:r>
              <a:rPr b="0" lang="sr-Latn-CS" sz="3200" spc="-1" strike="noStrike">
                <a:solidFill>
                  <a:srgbClr val="000099"/>
                </a:solidFill>
                <a:latin typeface="Tahoma"/>
              </a:rPr>
              <a:t>t.j. moramo naći 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First </a:t>
            </a:r>
            <a:r>
              <a:rPr b="0" lang="sr-Latn-CS" sz="3200" spc="-1" strike="noStrike">
                <a:solidFill>
                  <a:srgbClr val="000099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Follow s</a:t>
            </a:r>
            <a:r>
              <a:rPr b="0" lang="sr-Latn-CS" sz="3200" spc="-1" strike="noStrike">
                <a:solidFill>
                  <a:srgbClr val="000099"/>
                </a:solidFill>
                <a:latin typeface="Tahoma"/>
              </a:rPr>
              <a:t>kupove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).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3333cc"/>
                </a:solidFill>
                <a:latin typeface="Tahoma"/>
              </a:rPr>
              <a:t>Preslikavanje je f-ija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&lt;==&gt; G </a:t>
            </a:r>
            <a:r>
              <a:rPr b="0" lang="sr-Latn-CS" sz="2800" spc="-1" strike="noStrike">
                <a:solidFill>
                  <a:srgbClr val="3333cc"/>
                </a:solidFill>
                <a:latin typeface="Tahoma"/>
              </a:rPr>
              <a:t>j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LL(1)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B00D-6B46-4320-A846-53CA7AC15908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Formalna definicija LL(1)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81536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99"/>
                </a:solidFill>
                <a:latin typeface="Tahoma"/>
              </a:rPr>
              <a:t>Bez nejasnoća</a:t>
            </a: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, </a:t>
            </a:r>
            <a:r>
              <a:rPr b="0" lang="sr-Latn-CS" sz="3000" spc="-1" strike="noStrike">
                <a:solidFill>
                  <a:srgbClr val="000099"/>
                </a:solidFill>
                <a:latin typeface="Tahoma"/>
              </a:rPr>
              <a:t>bez</a:t>
            </a: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 l</a:t>
            </a:r>
            <a:r>
              <a:rPr b="0" lang="sr-Latn-CS" sz="3000" spc="-1" strike="noStrike">
                <a:solidFill>
                  <a:srgbClr val="000099"/>
                </a:solidFill>
                <a:latin typeface="Tahoma"/>
              </a:rPr>
              <a:t>ijeve</a:t>
            </a: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 re</a:t>
            </a:r>
            <a:r>
              <a:rPr b="0" lang="sr-Latn-CS" sz="3000" spc="-1" strike="noStrike">
                <a:solidFill>
                  <a:srgbClr val="000099"/>
                </a:solidFill>
                <a:latin typeface="Tahoma"/>
              </a:rPr>
              <a:t>k</a:t>
            </a: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ur</a:t>
            </a:r>
            <a:r>
              <a:rPr b="0" lang="sr-Latn-CS" sz="3000" spc="-1" strike="noStrike">
                <a:solidFill>
                  <a:srgbClr val="000099"/>
                </a:solidFill>
                <a:latin typeface="Tahoma"/>
              </a:rPr>
              <a:t>z</a:t>
            </a: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i</a:t>
            </a:r>
            <a:r>
              <a:rPr b="0" lang="sr-Latn-CS" sz="3000" spc="-1" strike="noStrike">
                <a:solidFill>
                  <a:srgbClr val="000099"/>
                </a:solidFill>
                <a:latin typeface="Tahoma"/>
              </a:rPr>
              <a:t>je</a:t>
            </a: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G </a:t>
            </a:r>
            <a:r>
              <a:rPr b="0" lang="sr-Latn-CS" sz="3000" spc="-1" strike="noStrike">
                <a:solidFill>
                  <a:srgbClr val="000099"/>
                </a:solidFill>
                <a:latin typeface="Tahoma"/>
              </a:rPr>
              <a:t>je</a:t>
            </a: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 LL(1) </a:t>
            </a:r>
            <a:r>
              <a:rPr b="0" lang="sr-Latn-CS" sz="3000" spc="-1" strike="noStrike">
                <a:solidFill>
                  <a:srgbClr val="000099"/>
                </a:solidFill>
                <a:latin typeface="Tahoma"/>
              </a:rPr>
              <a:t>ako za svake dvije produkcije      </a:t>
            </a: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A –&gt; </a:t>
            </a:r>
            <a:r>
              <a:rPr b="0" lang="en-US" sz="3000" spc="-1" strike="noStrike" u="sng">
                <a:solidFill>
                  <a:srgbClr val="000099"/>
                </a:solidFill>
                <a:uFillTx/>
                <a:latin typeface="Tahoma"/>
              </a:rPr>
              <a:t>u</a:t>
            </a: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 | </a:t>
            </a:r>
            <a:r>
              <a:rPr b="0" lang="en-US" sz="3000" spc="-1" strike="noStrike" u="sng">
                <a:solidFill>
                  <a:srgbClr val="000099"/>
                </a:solidFill>
                <a:uFillTx/>
                <a:latin typeface="Tahoma"/>
              </a:rPr>
              <a:t>v</a:t>
            </a: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sr-Latn-CS" sz="3000" spc="-1" strike="noStrike">
                <a:solidFill>
                  <a:srgbClr val="000099"/>
                </a:solidFill>
                <a:latin typeface="Tahoma"/>
              </a:rPr>
              <a:t>važi</a:t>
            </a: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:</a:t>
            </a: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irst(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Tahoma"/>
              </a:rPr>
              <a:t>u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)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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irst(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Tahoma"/>
              </a:rPr>
              <a:t>v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) =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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3333cc"/>
                </a:solidFill>
                <a:latin typeface="Tahoma"/>
              </a:rPr>
              <a:t>Najviše iz jednog od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Tahoma"/>
              </a:rPr>
              <a:t>u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sr-Latn-CS" sz="2800" spc="-1" strike="noStrike">
                <a:solidFill>
                  <a:srgbClr val="3333cc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Tahoma"/>
              </a:rPr>
              <a:t>v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sr-Latn-CS" sz="2800" spc="-1" strike="noStrike">
                <a:solidFill>
                  <a:srgbClr val="3333cc"/>
                </a:solidFill>
                <a:latin typeface="Tahoma"/>
              </a:rPr>
              <a:t>može se izvesti prazan string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3333cc"/>
                </a:solidFill>
                <a:latin typeface="Tahoma"/>
              </a:rPr>
              <a:t>ako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Tahoma"/>
              </a:rPr>
              <a:t>v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=&gt;*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sr-Latn-CS" sz="2800" spc="-1" strike="noStrike">
                <a:solidFill>
                  <a:srgbClr val="3333cc"/>
                </a:solidFill>
                <a:latin typeface="Tahoma"/>
              </a:rPr>
              <a:t>tada se iz 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Tahoma"/>
              </a:rPr>
              <a:t>u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sr-Latn-CS" sz="2800" spc="-1" strike="noStrike">
                <a:solidFill>
                  <a:srgbClr val="3333cc"/>
                </a:solidFill>
                <a:latin typeface="Tahoma"/>
              </a:rPr>
              <a:t>ne može izvesti string koji počinje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erminal</a:t>
            </a:r>
            <a:r>
              <a:rPr b="0" lang="sr-Latn-CS" sz="2800" spc="-1" strike="noStrike">
                <a:solidFill>
                  <a:srgbClr val="3333cc"/>
                </a:solidFill>
                <a:latin typeface="Tahoma"/>
              </a:rPr>
              <a:t>om iz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Follow(A)</a:t>
            </a:r>
            <a:r>
              <a:rPr b="0" lang="sr-Latn-CS" sz="2800" spc="-1" strike="noStrike">
                <a:solidFill>
                  <a:srgbClr val="3333cc"/>
                </a:solidFill>
                <a:latin typeface="Tahoma"/>
              </a:rPr>
              <a:t> (t.j.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irst </a:t>
            </a:r>
            <a:r>
              <a:rPr b="0" lang="sr-Latn-CS" sz="2800" spc="-1" strike="noStrike">
                <a:solidFill>
                  <a:srgbClr val="3333cc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Follow </a:t>
            </a:r>
            <a:r>
              <a:rPr b="0" lang="sr-Latn-CS" sz="2800" spc="-1" strike="noStrike">
                <a:solidFill>
                  <a:srgbClr val="3333cc"/>
                </a:solidFill>
                <a:latin typeface="Tahoma"/>
              </a:rPr>
              <a:t>moraju biti disjunktni ako je A nulabilan)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90D5-3FA4-4E1D-AEA7-4928B041F2F6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Primjer 1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76212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jeLLRap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99"/>
                </a:solidFill>
                <a:uFillTx/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ava </a:t>
            </a:r>
            <a:r>
              <a:rPr b="0" lang="en-US" sz="3200" spc="-1" strike="noStrike" u="sng">
                <a:solidFill>
                  <a:srgbClr val="000099"/>
                </a:solidFill>
                <a:uFillTx/>
                <a:latin typeface="Tahoma"/>
              </a:rPr>
              <a:t>E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nhanced </a:t>
            </a:r>
            <a:r>
              <a:rPr b="0" lang="en-US" sz="3200" spc="-1" strike="noStrike" u="sng">
                <a:solidFill>
                  <a:srgbClr val="000099"/>
                </a:solidFill>
                <a:uFillTx/>
                <a:latin typeface="Tahoma"/>
              </a:rPr>
              <a:t>L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L </a:t>
            </a:r>
            <a:r>
              <a:rPr b="0" lang="en-US" sz="3200" spc="-1" strike="noStrike" u="sng">
                <a:solidFill>
                  <a:srgbClr val="000099"/>
                </a:solidFill>
                <a:uFillTx/>
                <a:latin typeface="Tahoma"/>
              </a:rPr>
              <a:t>LR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en-US" sz="3200" spc="-1" strike="noStrike" u="sng">
                <a:solidFill>
                  <a:srgbClr val="000099"/>
                </a:solidFill>
                <a:uFillTx/>
                <a:latin typeface="Tahoma"/>
              </a:rPr>
              <a:t>A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nimated </a:t>
            </a:r>
            <a:r>
              <a:rPr b="0" lang="en-US" sz="3200" spc="-1" strike="noStrike" u="sng">
                <a:solidFill>
                  <a:srgbClr val="000099"/>
                </a:solidFill>
                <a:uFillTx/>
                <a:latin typeface="Tahoma"/>
              </a:rPr>
              <a:t>P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arser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.cs.duke.edu/~rodger/tools/jellrap/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Napomena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Koristite ! (znak uvika) umjesto epsil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3855-CD5E-4382-85BD-B0B2F72E256F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Primjer 2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77880" y="10666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Gramtika za aritmeti</a:t>
            </a:r>
            <a:r>
              <a:rPr b="0" lang="sr-Latn-CS" sz="3200" spc="-1" strike="noStrike">
                <a:solidFill>
                  <a:srgbClr val="000099"/>
                </a:solidFill>
                <a:latin typeface="Tahoma"/>
              </a:rPr>
              <a:t>čke izraze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E -&gt; </a:t>
            </a:r>
            <a:r>
              <a:rPr b="0" lang="sr-Latn-CS" sz="3200" spc="-1" strike="noStrike">
                <a:solidFill>
                  <a:srgbClr val="000099"/>
                </a:solidFill>
                <a:latin typeface="Tahoma"/>
              </a:rPr>
              <a:t>E+T 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|</a:t>
            </a:r>
            <a:r>
              <a:rPr b="0" lang="sr-Latn-CS" sz="3200" spc="-1" strike="noStrike">
                <a:solidFill>
                  <a:srgbClr val="000099"/>
                </a:solidFill>
                <a:latin typeface="Tahoma"/>
              </a:rPr>
              <a:t> T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Tahoma"/>
              </a:rPr>
              <a:t>T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-&gt; </a:t>
            </a:r>
            <a:r>
              <a:rPr b="0" lang="sr-Latn-CS" sz="3200" spc="-1" strike="noStrike">
                <a:solidFill>
                  <a:srgbClr val="000099"/>
                </a:solidFill>
                <a:latin typeface="Tahoma"/>
              </a:rPr>
              <a:t>T*F 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| </a:t>
            </a:r>
            <a:r>
              <a:rPr b="0" lang="sr-Latn-CS" sz="3200" spc="-1" strike="noStrike">
                <a:solidFill>
                  <a:srgbClr val="000099"/>
                </a:solidFill>
                <a:latin typeface="Tahoma"/>
              </a:rPr>
              <a:t>F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F -&gt; (E) | </a:t>
            </a:r>
            <a:r>
              <a:rPr b="0" lang="en-US" sz="3200" spc="-1" strike="noStrike" u="sng">
                <a:solidFill>
                  <a:srgbClr val="000099"/>
                </a:solidFill>
                <a:uFillTx/>
                <a:latin typeface="Tahoma"/>
              </a:rPr>
              <a:t>id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Tahoma"/>
              </a:rPr>
              <a:t>Eliminišemo lijevu rekurziju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A575-1EB6-484F-A41A-F16CD24AE4E3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Primjer 2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55" name=""/>
          <p:cNvSpPr/>
          <p:nvPr/>
        </p:nvSpPr>
        <p:spPr>
          <a:xfrm>
            <a:off x="609480" y="1523880"/>
            <a:ext cx="792504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Gramatika za aritmeti</a:t>
            </a:r>
            <a:r>
              <a:rPr b="0" lang="hr-HR" sz="3200" spc="-1" strike="noStrike">
                <a:solidFill>
                  <a:srgbClr val="000099"/>
                </a:solidFill>
                <a:latin typeface="Tahoma"/>
              </a:rPr>
              <a:t>č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ke izraz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E -&gt; 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A -&gt; +TA | </a:t>
            </a:r>
            <a:r>
              <a:rPr b="0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T -&gt; F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B -&gt; *FB | </a:t>
            </a:r>
            <a:r>
              <a:rPr b="0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F -&gt; (E) | </a:t>
            </a:r>
            <a:r>
              <a:rPr b="0" lang="en-US" sz="3200" spc="-1" strike="noStrike" u="sng">
                <a:solidFill>
                  <a:srgbClr val="000099"/>
                </a:solidFill>
                <a:uFillTx/>
                <a:latin typeface="Tahoma"/>
              </a:rPr>
              <a:t>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EDC0-2856-4668-94CD-F6B1DAE59C29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Primjer 2 - nastavak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57" name=""/>
          <p:cNvSpPr/>
          <p:nvPr/>
        </p:nvSpPr>
        <p:spPr>
          <a:xfrm>
            <a:off x="533520" y="1066680"/>
            <a:ext cx="7772400" cy="47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FIRST(E) = {</a:t>
            </a:r>
            <a:r>
              <a:rPr b="0" lang="en-US" sz="3000" spc="-1" strike="noStrike" u="sng">
                <a:solidFill>
                  <a:srgbClr val="000099"/>
                </a:solidFill>
                <a:uFillTx/>
                <a:latin typeface="Tahoma"/>
              </a:rPr>
              <a:t>id</a:t>
            </a: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, ( }, FOLLOW(E) = {$,  )}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FIRST(T) = {</a:t>
            </a:r>
            <a:r>
              <a:rPr b="0" lang="en-US" sz="3000" spc="-1" strike="noStrike" u="sng">
                <a:solidFill>
                  <a:srgbClr val="000099"/>
                </a:solidFill>
                <a:uFillTx/>
                <a:latin typeface="Tahoma"/>
              </a:rPr>
              <a:t>id</a:t>
            </a: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, ( }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FOLLOW(T) = {+,  $,  )}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FIRST(F) = {</a:t>
            </a:r>
            <a:r>
              <a:rPr b="0" lang="en-US" sz="3000" spc="-1" strike="noStrike" u="sng">
                <a:solidFill>
                  <a:srgbClr val="000099"/>
                </a:solidFill>
                <a:uFillTx/>
                <a:latin typeface="Tahoma"/>
              </a:rPr>
              <a:t>id</a:t>
            </a: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, ( }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FOLLOW(F) = { *,  $,  ),+}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FIRST(A) = {+, </a:t>
            </a:r>
            <a:r>
              <a:rPr b="0" lang="en-US" sz="3000" spc="-1" strike="noStrike">
                <a:solidFill>
                  <a:srgbClr val="000099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} , FOLLOW(A) = {$, )}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FIRST(B) = {*, </a:t>
            </a:r>
            <a:r>
              <a:rPr b="0" lang="en-US" sz="3000" spc="-1" strike="noStrike">
                <a:solidFill>
                  <a:srgbClr val="000099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}, FOLLOW(B) = {+, $ , )}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4C80-4F34-40E6-85E0-2EBEF2D94BE9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990360" y="1066680"/>
            <a:ext cx="78483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Ponekad nije neophodno eliminisati nejasnoće (zavisi od tipa parsera)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Prilikom pisanja gramatike treba voditi računa da se eleminišu nejasnoće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Times New Roman"/>
              </a:rPr>
              <a:t>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Times New Roman"/>
              </a:rPr>
              <a:t>–&gt;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Times New Roman"/>
              </a:rPr>
              <a:t>E  Add_op  T   |   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Times New Roman"/>
              </a:rPr>
              <a:t>Add_op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Times New Roman"/>
              </a:rPr>
              <a:t>–&gt;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Times New Roman"/>
              </a:rPr>
              <a:t>+  |  -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Times New Roman"/>
              </a:rPr>
              <a:t>T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Times New Roman"/>
              </a:rPr>
              <a:t>–&gt;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Times New Roman"/>
              </a:rPr>
              <a:t>T  Mult_op  F   |   F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Times New Roman"/>
              </a:rPr>
              <a:t>Mult_op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Times New Roman"/>
              </a:rPr>
              <a:t>–&gt;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Times New Roman"/>
              </a:rPr>
              <a:t>*  |  /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Times New Roman"/>
              </a:rPr>
              <a:t>–&gt;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Times New Roman"/>
              </a:rPr>
              <a:t>(E)   |   int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Tahoma"/>
              </a:rPr>
              <a:t>Otklanjanje nejasnoća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576360" y="657360"/>
            <a:ext cx="6372000" cy="1839600"/>
            <a:chOff x="576360" y="657360"/>
            <a:chExt cx="6372000" cy="1839600"/>
          </a:xfrm>
        </p:grpSpPr>
        <p:sp>
          <p:nvSpPr>
            <p:cNvPr id="124" name=""/>
            <p:cNvSpPr/>
            <p:nvPr/>
          </p:nvSpPr>
          <p:spPr>
            <a:xfrm>
              <a:off x="576360" y="657360"/>
              <a:ext cx="3094920" cy="182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586680" y="666720"/>
              <a:ext cx="3361680" cy="183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80EC-F540-4893-B87F-B6E5099FE36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Tahoma"/>
              </a:rPr>
              <a:t>Kreiranje tabele parsera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77520" y="1066680"/>
            <a:ext cx="80089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Tahoma"/>
              </a:rPr>
              <a:t>Za svaki neterminalni simbol N i  terminalni simbol x iz skupa First(N), u polju table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[x,</a:t>
            </a:r>
            <a:r>
              <a:rPr b="0" lang="sr-Latn-CS" sz="3200" spc="-1" strike="noStrike">
                <a:solidFill>
                  <a:srgbClr val="000099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] upisujemo odgovar</a:t>
            </a:r>
            <a:r>
              <a:rPr b="0" lang="sr-Latn-CS" sz="3200" spc="-1" strike="noStrike">
                <a:solidFill>
                  <a:srgbClr val="000099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ju</a:t>
            </a:r>
            <a:r>
              <a:rPr b="0" lang="sr-Latn-CS" sz="3200" spc="-1" strike="noStrike">
                <a:solidFill>
                  <a:srgbClr val="000099"/>
                </a:solidFill>
                <a:latin typeface="Tahoma"/>
              </a:rPr>
              <a:t>ću 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produkciju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Tahoma"/>
              </a:rPr>
              <a:t>Ako </a:t>
            </a:r>
            <a:r>
              <a:rPr b="0" lang="sr-Latn-CS" sz="3200" spc="-1" strike="noStrike">
                <a:solidFill>
                  <a:srgbClr val="000099"/>
                </a:solidFill>
                <a:latin typeface="Symbol"/>
                <a:ea typeface="Symbol"/>
              </a:rPr>
              <a:t></a:t>
            </a:r>
            <a:r>
              <a:rPr b="0" lang="sr-Latn-CS" sz="3200" spc="-1" strike="noStrike">
                <a:solidFill>
                  <a:srgbClr val="000099"/>
                </a:solidFill>
                <a:latin typeface="Tahoma"/>
              </a:rPr>
              <a:t> pripada skupu First(N), tada za svaki element y iz skupa Follow(N) u polje table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[y,N] upisujemo odgovaraju</a:t>
            </a:r>
            <a:r>
              <a:rPr b="0" lang="sr-Latn-CS" sz="3200" spc="-1" strike="noStrike">
                <a:solidFill>
                  <a:srgbClr val="000099"/>
                </a:solidFill>
                <a:latin typeface="Tahoma"/>
              </a:rPr>
              <a:t>ć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u produkciju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914A-C954-40BA-9B9B-9B67479AFC21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Primjer 2 - nastavak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61" name=""/>
          <p:cNvSpPr/>
          <p:nvPr/>
        </p:nvSpPr>
        <p:spPr>
          <a:xfrm>
            <a:off x="0" y="1523880"/>
            <a:ext cx="9144000" cy="50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Tahoma"/>
              </a:rPr>
              <a:t>id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       +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 </a:t>
            </a: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*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   (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        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)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    $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        </a:t>
            </a: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E  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E-&gt;TA</a:t>
            </a: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               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            E-&gt;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A </a:t>
            </a: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          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A-&gt;+TA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    A-&gt; </a:t>
            </a:r>
            <a:r>
              <a:rPr b="0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   A-&gt; </a:t>
            </a:r>
            <a:r>
              <a:rPr b="0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T   T-&gt;</a:t>
            </a: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F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B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         T-&gt;</a:t>
            </a: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F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B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B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        B-&gt; </a:t>
            </a:r>
            <a:r>
              <a:rPr b="0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    B-&gt;*FB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             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B-&gt; </a:t>
            </a:r>
            <a:r>
              <a:rPr b="0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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B-&gt; </a:t>
            </a:r>
            <a:r>
              <a:rPr b="0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F   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F-&gt;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Tahoma"/>
              </a:rPr>
              <a:t>id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          F-&gt;(E)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       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Tabela nerekurzivnog prediktivnog parser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"/>
          <p:cNvSpPr/>
          <p:nvPr/>
        </p:nvSpPr>
        <p:spPr>
          <a:xfrm>
            <a:off x="457200" y="1523880"/>
            <a:ext cx="0" cy="27432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"/>
          <p:cNvSpPr/>
          <p:nvPr/>
        </p:nvSpPr>
        <p:spPr>
          <a:xfrm>
            <a:off x="1676520" y="1523880"/>
            <a:ext cx="0" cy="27432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3276720" y="1523880"/>
            <a:ext cx="0" cy="27432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"/>
          <p:cNvSpPr/>
          <p:nvPr/>
        </p:nvSpPr>
        <p:spPr>
          <a:xfrm>
            <a:off x="4724280" y="1523880"/>
            <a:ext cx="0" cy="27432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"/>
          <p:cNvSpPr/>
          <p:nvPr/>
        </p:nvSpPr>
        <p:spPr>
          <a:xfrm>
            <a:off x="6095880" y="1523880"/>
            <a:ext cx="0" cy="27432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"/>
          <p:cNvSpPr/>
          <p:nvPr/>
        </p:nvSpPr>
        <p:spPr>
          <a:xfrm>
            <a:off x="7238880" y="1600200"/>
            <a:ext cx="0" cy="27432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"/>
          <p:cNvSpPr/>
          <p:nvPr/>
        </p:nvSpPr>
        <p:spPr>
          <a:xfrm>
            <a:off x="0" y="2057400"/>
            <a:ext cx="883908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"/>
          <p:cNvSpPr/>
          <p:nvPr/>
        </p:nvSpPr>
        <p:spPr>
          <a:xfrm>
            <a:off x="0" y="2438280"/>
            <a:ext cx="883908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"/>
          <p:cNvSpPr/>
          <p:nvPr/>
        </p:nvSpPr>
        <p:spPr>
          <a:xfrm>
            <a:off x="0" y="2895480"/>
            <a:ext cx="883908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"/>
          <p:cNvSpPr/>
          <p:nvPr/>
        </p:nvSpPr>
        <p:spPr>
          <a:xfrm>
            <a:off x="0" y="3276720"/>
            <a:ext cx="883908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3733920"/>
            <a:ext cx="883908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91A9-8C16-4061-AE89-042EC427A7BE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Primjer 2 - nastavak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74" name=""/>
          <p:cNvSpPr/>
          <p:nvPr/>
        </p:nvSpPr>
        <p:spPr>
          <a:xfrm>
            <a:off x="609480" y="1219320"/>
            <a:ext cx="807732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Stek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ulazni niz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akcij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E$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id+id*id$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E-&gt;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TA$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id+id*id$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T-&gt;F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FBA$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id+id*id$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F-&gt;</a:t>
            </a:r>
            <a:r>
              <a:rPr b="0" lang="en-US" sz="3200" spc="-1" strike="noStrike" u="sng">
                <a:solidFill>
                  <a:srgbClr val="000099"/>
                </a:solidFill>
                <a:uFillTx/>
                <a:latin typeface="Tahoma"/>
              </a:rPr>
              <a:t>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99"/>
                </a:solidFill>
                <a:uFillTx/>
                <a:latin typeface="Tahoma"/>
              </a:rPr>
              <a:t>id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BA$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id+id*id$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m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BA$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 +id*id$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B-&gt; </a:t>
            </a:r>
            <a:r>
              <a:rPr b="0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5985-8D8F-4B7F-948B-2A2C5CB45ADA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Primjer 2 - nastavak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76" name=""/>
          <p:cNvSpPr/>
          <p:nvPr/>
        </p:nvSpPr>
        <p:spPr>
          <a:xfrm>
            <a:off x="380880" y="1447920"/>
            <a:ext cx="853452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A$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    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  +id*id$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A-&gt;+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+TA$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  +id*id$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m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TA$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   id*id$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T-&gt;F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FBA$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   id*id$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F-&gt;</a:t>
            </a:r>
            <a:r>
              <a:rPr b="0" lang="en-US" sz="3200" spc="-1" strike="noStrike" u="sng">
                <a:solidFill>
                  <a:srgbClr val="000099"/>
                </a:solidFill>
                <a:uFillTx/>
                <a:latin typeface="Tahoma"/>
              </a:rPr>
              <a:t>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99"/>
                </a:solidFill>
                <a:uFillTx/>
                <a:latin typeface="Tahoma"/>
              </a:rPr>
              <a:t>id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BA$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   id*id$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m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BA$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      *id$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B-&gt;*F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C2DA-F59B-4B3F-BDBC-4AE3497D0462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Primjer 2 - nastavak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78" name=""/>
          <p:cNvSpPr/>
          <p:nvPr/>
        </p:nvSpPr>
        <p:spPr>
          <a:xfrm>
            <a:off x="152280" y="1219320"/>
            <a:ext cx="876312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Stek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ulazni niz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akcij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*FBA$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      *id$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m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FBA$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        id$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F-&gt;</a:t>
            </a:r>
            <a:r>
              <a:rPr b="0" lang="en-US" sz="3200" spc="-1" strike="noStrike" u="sng">
                <a:solidFill>
                  <a:srgbClr val="000099"/>
                </a:solidFill>
                <a:uFillTx/>
                <a:latin typeface="Tahoma"/>
              </a:rPr>
              <a:t>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idBA$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 id$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m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BA$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                  $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B-&gt; </a:t>
            </a:r>
            <a:r>
              <a:rPr b="0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A$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                  $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A-&gt; </a:t>
            </a:r>
            <a:r>
              <a:rPr b="0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$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           $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acce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18C3-027D-466D-8753-8266559B87BC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Obrada grešaka pri parsiranju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Parsiranje zasnovano na gramatikama je odlično za prepoznavanje ispravnih ulaznih nizova.  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Ako je ulazni niz  neispravan, korisnik želi da vidi: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Greške po redosljedu pojavljivanja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Lokaciju greške u izvornom kodu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Poruke izražene terminima source jezika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pr. “simbol T na steku a token je x” je primjer besmislene poruk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Prijavljivanje svih grešaka, ali ne i svih koje proisitiču zbog jedne nepravilnosti (na primjer, ako promjenljiva </a:t>
            </a: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x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nije deklarisana, ne prijavljivati grešku za svaku upotrebu </a:t>
            </a: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x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408D-5E94-48C0-9E95-1F885ABCD8EF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Tahoma"/>
              </a:rPr>
              <a:t>Zajednički prefiksi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1453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Neki parseri koriste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sledeći terminal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(token)</a:t>
            </a: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 za izbor pravila gramatike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Ako dva pravila imaju isti prefiks, nemoguće je odrediti koje od njih treba primjeniti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X -&gt; aBcD | aB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Lijevo faktorisanje eliminiše zajedničke prefikse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X -&gt; aB End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End -&gt; </a:t>
            </a:r>
            <a:r>
              <a:rPr b="1" lang="en-US" sz="3600" spc="-1" strike="noStrike">
                <a:solidFill>
                  <a:srgbClr val="000099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| cD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Pojednostavljuje generisanje parsera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13B8-0FC6-49F9-B5E6-4D62D79AEEB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Lijevo faktorisanje</a:t>
            </a:r>
            <a:r>
              <a:rPr b="0" lang="sr-Latn-CS" sz="4000" spc="-1" strike="noStrike">
                <a:solidFill>
                  <a:srgbClr val="000099"/>
                </a:solidFill>
                <a:latin typeface="Tahoma"/>
              </a:rPr>
              <a:t> - primjer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77880" y="10666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99"/>
                </a:solidFill>
                <a:latin typeface="Tahoma"/>
                <a:ea typeface="Times New Roman"/>
              </a:rPr>
              <a:t>S</a:t>
            </a:r>
            <a:r>
              <a:rPr b="0" i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0" i="1" lang="en-US" sz="3200" spc="-1" strike="noStrike">
                <a:solidFill>
                  <a:srgbClr val="000099"/>
                </a:solidFill>
                <a:latin typeface="Tahoma"/>
                <a:ea typeface="Times New Roman"/>
              </a:rPr>
              <a:t>iEtS|iEtSeS|a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3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99"/>
                </a:solidFill>
                <a:latin typeface="Tahoma"/>
                <a:ea typeface="Times New Roman"/>
              </a:rPr>
              <a:t>E</a:t>
            </a:r>
            <a:r>
              <a:rPr b="0" i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0" i="1" lang="en-US" sz="3200" spc="-1" strike="noStrike">
                <a:solidFill>
                  <a:srgbClr val="000099"/>
                </a:solidFill>
                <a:latin typeface="Tahoma"/>
                <a:ea typeface="Times New Roman"/>
              </a:rPr>
              <a:t>b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3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3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  <a:ea typeface="Times New Roman"/>
              </a:rPr>
              <a:t>Ovdje je </a:t>
            </a:r>
            <a:r>
              <a:rPr b="0" i="1" lang="en-US" sz="3200" spc="-1" strike="noStrike">
                <a:solidFill>
                  <a:srgbClr val="000099"/>
                </a:solidFill>
                <a:latin typeface="Tahoma"/>
                <a:ea typeface="Times New Roman"/>
              </a:rPr>
              <a:t>i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  <a:ea typeface="Times New Roman"/>
              </a:rPr>
              <a:t> if, </a:t>
            </a:r>
            <a:r>
              <a:rPr b="0" i="1" lang="en-US" sz="3200" spc="-1" strike="noStrike">
                <a:solidFill>
                  <a:srgbClr val="000099"/>
                </a:solidFill>
                <a:latin typeface="Tahoma"/>
                <a:ea typeface="Times New Roman"/>
              </a:rPr>
              <a:t>t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  <a:ea typeface="Times New Roman"/>
              </a:rPr>
              <a:t> then, </a:t>
            </a:r>
            <a:r>
              <a:rPr b="0" i="1" lang="en-US" sz="3200" spc="-1" strike="noStrike">
                <a:solidFill>
                  <a:srgbClr val="000099"/>
                </a:solidFill>
                <a:latin typeface="Tahoma"/>
                <a:ea typeface="Times New Roman"/>
              </a:rPr>
              <a:t>e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  <a:ea typeface="Times New Roman"/>
              </a:rPr>
              <a:t> else, </a:t>
            </a:r>
            <a:r>
              <a:rPr b="0" i="1" lang="en-US" sz="3200" spc="-1" strike="noStrike">
                <a:solidFill>
                  <a:srgbClr val="000099"/>
                </a:solidFill>
                <a:latin typeface="Tahoma"/>
                <a:ea typeface="Times New Roman"/>
              </a:rPr>
              <a:t>E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  <a:ea typeface="Times New Roman"/>
              </a:rPr>
              <a:t> i </a:t>
            </a:r>
            <a:r>
              <a:rPr b="0" i="1" lang="en-US" sz="3200" spc="-1" strike="noStrike">
                <a:solidFill>
                  <a:srgbClr val="000099"/>
                </a:solidFill>
                <a:latin typeface="Tahoma"/>
                <a:ea typeface="Times New Roman"/>
              </a:rPr>
              <a:t>S 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  <a:ea typeface="Times New Roman"/>
              </a:rPr>
              <a:t>o</a:t>
            </a:r>
            <a:r>
              <a:rPr b="0" lang="sr-Latn-CS" sz="3200" spc="-1" strike="noStrike">
                <a:solidFill>
                  <a:srgbClr val="000099"/>
                </a:solidFill>
                <a:latin typeface="Tahoma"/>
              </a:rPr>
              <a:t>značavaju izraz i naredbu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3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3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  <a:ea typeface="Times New Roman"/>
              </a:rPr>
              <a:t>iEtSS’ |a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3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  <a:ea typeface="Times New Roman"/>
              </a:rPr>
              <a:t>S’</a:t>
            </a:r>
            <a:r>
              <a:rPr b="0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  <a:ea typeface="Times New Roman"/>
              </a:rPr>
              <a:t>eS|</a:t>
            </a:r>
            <a:r>
              <a:rPr b="0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3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  <a:ea typeface="Times New Roman"/>
              </a:rPr>
              <a:t>E</a:t>
            </a:r>
            <a:r>
              <a:rPr b="0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  <a:ea typeface="Times New Roman"/>
              </a:rPr>
              <a:t>b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C5CD-C7B4-4B80-B1EC-34BB0E874AF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Re</a:t>
            </a:r>
            <a:r>
              <a:rPr b="0" lang="sr-Latn-CS" sz="4000" spc="-1" strike="noStrike">
                <a:solidFill>
                  <a:srgbClr val="000099"/>
                </a:solidFill>
                <a:latin typeface="Tahoma"/>
              </a:rPr>
              <a:t>k</a:t>
            </a: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ur</a:t>
            </a:r>
            <a:r>
              <a:rPr b="0" lang="sr-Latn-CS" sz="4000" spc="-1" strike="noStrike">
                <a:solidFill>
                  <a:srgbClr val="000099"/>
                </a:solidFill>
                <a:latin typeface="Tahoma"/>
              </a:rPr>
              <a:t>zija u pravilima gramatike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9140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U teoriji uobičajen način predstavljanja, problem nastaje kod implementacije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(Re</a:t>
            </a:r>
            <a:r>
              <a:rPr b="0" lang="sr-Latn-CS" sz="2400" spc="-1" strike="noStrike">
                <a:solidFill>
                  <a:srgbClr val="3333cc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ur</a:t>
            </a:r>
            <a:r>
              <a:rPr b="0" lang="sr-Latn-CS" sz="2400" spc="-1" strike="noStrike">
                <a:solidFill>
                  <a:srgbClr val="3333cc"/>
                </a:solidFill>
                <a:latin typeface="Tahoma"/>
              </a:rPr>
              <a:t>z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v</a:t>
            </a:r>
            <a:r>
              <a:rPr b="0" lang="sr-Latn-CS" sz="2400" spc="-1" strike="noStrike">
                <a:solidFill>
                  <a:srgbClr val="3333cc"/>
                </a:solidFill>
                <a:latin typeface="Tahoma"/>
              </a:rPr>
              <a:t>na pravila mogu dovesti do bekonačne petlje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A -&gt; Aw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lijeva rekurzija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A -&gt; wA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desna rekurzija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975"/>
              </a:spcBef>
              <a:spcAft>
                <a:spcPts val="3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99"/>
                </a:solidFill>
                <a:latin typeface="Tahoma"/>
              </a:rPr>
              <a:t>Primjer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: &lt;var_list&gt; -&gt; &lt;var_list&gt; &lt;variable&gt; | &lt;variable&gt;</a:t>
            </a:r>
            <a:endParaRPr b="0" lang="en-US" sz="26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Gramatika se može transformisati tako da se deterministički eliminiše lijeva ili desna rekurzija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23D2-B493-4A85-A47B-D7EC23A7238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5T08:15:37Z</dcterms:created>
  <dc:creator>Godmar Back</dc:creator>
  <dc:description/>
  <dc:language>en-US</dc:language>
  <cp:lastModifiedBy>Goran</cp:lastModifiedBy>
  <dcterms:modified xsi:type="dcterms:W3CDTF">2010-04-01T14:11:42Z</dcterms:modified>
  <cp:revision>1045</cp:revision>
  <dc:subject/>
  <dc:title>Welcome to CS143</dc:title>
</cp:coreProperties>
</file>