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E25A6-5DEF-440E-BEF3-7331C3461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5514A-C1E2-41CD-9BC7-8C900DF3A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C2A0C-50B1-415D-A5DE-DAF7E1F7F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76200" y="614520"/>
            <a:ext cx="4786560" cy="35892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085E9-407F-4DAC-8EC8-AA1FCD7C14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76200" y="614520"/>
            <a:ext cx="4786560" cy="3589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C2BB7-8BAE-4FA3-86C3-E3BCF4B79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76200" y="614520"/>
            <a:ext cx="4786560" cy="3589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604A2-045D-4A2D-BFD7-878C30CA9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54AA3-FF36-4055-B39D-A07500224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9BA55-E3D9-42EF-A572-5937B9926B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B9D9B-DB0B-4CC8-8E34-7CA9CD7AB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50930-E37A-4A6D-B06C-1A61FD1759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23A95-5461-41C9-ABBC-81942CF6E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3E2E2-413A-45DB-B070-3F40354DC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4E143-C761-4ECA-BD65-C05DBBD77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D7E19-D63C-42AC-B418-E0E0ED770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C4757-0789-49E1-8670-E0822D47F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30619-8BB0-445D-8A7B-DB278ECD4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78000" y="615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F24C2-B57A-4CEA-B3D0-509421B4E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78000" y="615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F6E6F-FBF1-4CF4-813E-EE7DA5A0D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78000" y="615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1F0EC-E97D-4659-BE90-426C23FAC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687D6-7FF1-4496-B1F3-031A93776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C9289-19AB-4924-88B2-8585632CE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3173A-677B-45AD-B25E-73E0E044A0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F3744-C991-42DB-B679-20105981CC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3BD3D-28CC-4B18-9A37-12EB9CC19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E9E4E-8A60-41BC-B892-C436396DB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B05F5-3040-4EE5-A7EC-D2DEFE410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E2610-350D-41F8-9559-232C76246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509A2-28BA-4663-9FDE-9EFF7AC90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46D7E-C64D-4260-A8BB-408FB08CE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07D9B-9791-4576-9F2C-BF8F08505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E1B-710E-4CCC-8C7A-5A6DBC32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E400-ECAC-4145-A98E-D39E3EB2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60F-2EE8-4310-85E2-43AD5DD6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881-8D13-4D13-A19C-81B28179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F59-75BB-4FA5-A1A7-70B7D6B6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BA1-F31F-4BB5-ACCA-4C39D290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A1B-1A2D-422E-B9FA-9833F613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B09-EBE6-424C-8428-CE6DD26A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430-F571-45E6-8A1E-34F3C14C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662-D253-4DF9-BE55-7956A085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672-A7E3-42EF-B051-5EB31DBF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B5C-E101-48F4-9F1A-D1DEFCAC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C808-1F40-4D44-A452-0161E49FB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achyonsoft.com/elf.html" TargetMode="External"/><Relationship Id="rId2" Type="http://schemas.openxmlformats.org/officeDocument/2006/relationships/hyperlink" Target="http://www.ibm.com/developerworks/power/library/pa-spec12/" TargetMode="External"/><Relationship Id="rId3" Type="http://schemas.openxmlformats.org/officeDocument/2006/relationships/hyperlink" Target="http://www.linuxjournal.com/node/1060/prin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d koda do </a:t>
            </a:r>
            <a:r>
              <a:rPr b="0" lang="sr-Latn-CS" sz="5400" spc="-1" strike="noStrike">
                <a:solidFill>
                  <a:srgbClr val="000000"/>
                </a:solidFill>
                <a:latin typeface="Times New Roman"/>
              </a:rPr>
              <a:t>izvršavanj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2541-A88A-4F6E-89D1-2DADC7AA72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5345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Assembly Language C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Object Code, information tab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ita i koristi direktive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Directives</a:t>
            </a:r>
            <a:r>
              <a:rPr b="0" lang="sr-Latn-CS" sz="32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mjenjuje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udo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eira mašinski je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e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Object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able and Linking Format (ELF) – format objektnog faj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828-D762-431F-9EEB-2FC262AD55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7479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le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s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5048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aju uputst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embler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i ne prave mašinske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inski k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aci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g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in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 reprezentacija podataka i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j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glob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cij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kojoj se može pristupati iz drugih faj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asciiz 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ješ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word w1…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ješ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2-bi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h vrijednosti u uzastopne memorijske lo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601-DFE9-4BC7-91A5-61CAA84B97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5345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Zamjena 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udoinstru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000080"/>
            <a:ext cx="84582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Pseudo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al</a:t>
            </a:r>
            <a:r>
              <a:rPr b="0" lang="sr-Latn-CS" sz="36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u $sp,$sp,3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iu $sp,$sp,-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 $a0, 32($sp)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 $a0, 32($sp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 $a1, 36($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ul $t7,$t6,$t5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ul $t6,$t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flo $t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u $t0,$t6,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iu $t0,$t6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le $t0,100,loop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lti $at,$t0,10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ne $at,$0,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a $a0, st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ui $at,left(st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i $a0,$at,right(s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146-AE50-456D-947F-3721A9EA8E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reiranje mašinskog kod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stavni slučaj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met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og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ke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ovi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 neophodna informacija je unutar instrukc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sa grananjem (branche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u odnosu na Program Counter (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 kada se zamije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-ins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stvarnim instrukcijama, znamo koliko instrukcija da ide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FB3-3304-48FD-8BA2-A946C21A5C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reiranje mašinskog kod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36960" indent="-28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Reference”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 ins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cije mogu referencirat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 koje su naprijed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forward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o se rješava s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olaza kroz p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16120" indent="-18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vi prola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mti pozicije lab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6120" indent="-18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rugi prola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risti pozicije labela za generisanje 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95280" y="2514600"/>
            <a:ext cx="784872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r   $v0, $0,  $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1: slt  $t0, $0,  $a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beq  $t0, $0,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L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addi $a1, $a1, -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j    L1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add  $t1, $a0, $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3A3-BA98-42F7-8211-E0B9028CE2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784872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sa skokovi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zahtijeva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00cc99"/>
                </a:solidFill>
                <a:latin typeface="Times New Roman"/>
              </a:rPr>
              <a:t>nu adres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pa bez obzira da li je forward ili ne, ne može se generisati kod bez pozicije instrukcije u memorij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s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ma na podat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 razbija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u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ne zahtijevaju pu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2-bi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podat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vo se ne može odrediti unaprijed, pa se kreiraju dvije tabe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reiranje mašinskog kod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111-0DC6-423D-AAF1-DE192D4D6A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Tabela simbola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vih elemen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items”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u fajlu koji mogu biti korišćeni u drugom fajl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su to elemen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poziv funkcij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callin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e i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99"/>
                </a:solidFill>
                <a:latin typeface="Courier New"/>
                <a:ea typeface="Courier New"/>
              </a:rPr>
              <a:t>.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c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e kojim se može pristupati kroz različite faj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66C-726F-4F3D-A4C2-BB91989E9D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41204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lemen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items”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koje ovaj fajl treba da dresira kasn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su to elemen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a labela iz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nutrašnj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poljašnj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cluding lib fi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dio podat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o što j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r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Tabela relokacije 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ocation Table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0B3-0CB3-46D4-869F-F3EDDFFCC8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object file head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veličina i pozicija drugih dijelova objektnog faj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text segm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ma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šinski k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data segm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binar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pr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ta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cija podataka iz source-faj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relocation inform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identifi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uj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kode koje treba kasnije obradi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symbol tab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list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bel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a i podataka iz tekućeg fajla koji će možda referencira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debugging in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Fil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280-E727-421E-A0AA-636692458C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tachyonsoft.com/elf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bm.com/developerworks/power/library/pa-spec12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linuxjournal.com/node/1060/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E68-C679-411B-9E5B-1740401BBE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iranje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evo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ko pokrećemo program napisan u jeziku višeg nivo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ir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o izvršavamo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Prevodilac (kompajle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ver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laznog (source) jezika 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al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gra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drugom jezi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gram u jezik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s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DA8-F797-4D36-B69A-545A065286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Format objektnog faj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8028000" cy="45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81E-635C-4F90-8049-D7335CD111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Format objektnog faj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22756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E6A-8DCB-4596-B9F3-231E0F42C4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gramski kod može se nalaziti u više modula, a često se koriste neki utility-programi koji su dio operativ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Linker – program koji povezuje više objektnih programa, rutina operativnog sistema i drugih utility-programa u jednu cjeli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"load modu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Loader - 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ad module" se smješta u operativnu memoriju; loader je često dio OS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Linker i lo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BC0-58A2-4633-92A7-D52DEBFAF6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5345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Editor/Lin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732960"/>
            <a:ext cx="8077320" cy="58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Object Code, information tab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Executable Co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.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b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viš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.o)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lova u jed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lin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mogućava odvojeno prevođenje fajl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a jednog fajla ne zahtijeva rekompilaciju cijelog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Edito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ime zbog promj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in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z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links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ump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nk ins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DBD-F06B-45DC-8A0D-5A102D6CA77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Editor/Lin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0960" y="762120"/>
            <a:ext cx="14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.o fi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11600" y="1219320"/>
            <a:ext cx="117432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tex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2680" y="1828800"/>
            <a:ext cx="130860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data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2320" y="2438280"/>
            <a:ext cx="117288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f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0960" y="3429000"/>
            <a:ext cx="14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o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11600" y="3886200"/>
            <a:ext cx="117432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ex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12680" y="4495680"/>
            <a:ext cx="130860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at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12320" y="5105520"/>
            <a:ext cx="117288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f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3600" y="289548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Lin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666880"/>
            <a:ext cx="2133720" cy="114300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3480" y="1617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1981080"/>
            <a:ext cx="457200" cy="7621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14600" y="3809520"/>
            <a:ext cx="533520" cy="83844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3200400"/>
            <a:ext cx="838080" cy="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12920" y="2133720"/>
            <a:ext cx="311580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Relocated tex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12920" y="2743200"/>
            <a:ext cx="311580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located tex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14000" y="3352680"/>
            <a:ext cx="325008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Relocated data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14000" y="3962520"/>
            <a:ext cx="325008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located dat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F82-A5BC-4E84-9A27-F8B2071EDCF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762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Editor/Link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zi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svako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o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i sastavlja i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zima 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svako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o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sastavl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i nadovezuje ih na kraj tekst-segmen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zrješava 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lazi kro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ocation Tabl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obrađuje svaku poziciju tj. popunjava ih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ni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dres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A75-91B6-4188-8E2C-3252D127149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-Relativ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resiran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e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ikada se ne premješta (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ver relocate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 adres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lway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o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Reference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bič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lo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Reference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u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loc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tipa ad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B0F-D40E-4DB4-A7A7-9DFC6509B9D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drese u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20400" indent="-26712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e instrukcije zahtijevaju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ocation editin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format: jump, jump and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s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ores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im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kcij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lati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o u odnosu n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aziv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40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ta sa uslovnim grananj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relativno adres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anje </a:t>
            </a:r>
            <a:r>
              <a:rPr b="0" lang="sr-Latn-CS" sz="2800" spc="-1" strike="noStrike">
                <a:solidFill>
                  <a:srgbClr val="00cc99"/>
                </a:solidFill>
                <a:latin typeface="Times New Roman"/>
              </a:rPr>
              <a:t>očuvano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ako se kod pom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533520" y="2133720"/>
            <a:ext cx="8153280" cy="591120"/>
            <a:chOff x="533520" y="2133720"/>
            <a:chExt cx="8153280" cy="591120"/>
          </a:xfrm>
        </p:grpSpPr>
        <p:sp>
          <p:nvSpPr>
            <p:cNvPr id="124" name="Text Box 5"/>
            <p:cNvSpPr/>
            <p:nvPr/>
          </p:nvSpPr>
          <p:spPr>
            <a:xfrm>
              <a:off x="717840" y="2133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j/j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"/>
            <p:cNvSpPr/>
            <p:nvPr/>
          </p:nvSpPr>
          <p:spPr>
            <a:xfrm>
              <a:off x="4703760" y="2133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xxx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2057400" y="213372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533520" y="2133720"/>
              <a:ext cx="8153280" cy="5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609480" y="3657600"/>
            <a:ext cx="8153640" cy="615240"/>
            <a:chOff x="609480" y="3657600"/>
            <a:chExt cx="8153640" cy="615240"/>
          </a:xfrm>
        </p:grpSpPr>
        <p:grpSp>
          <p:nvGrpSpPr>
            <p:cNvPr id="129" name="Group 12"/>
            <p:cNvGrpSpPr/>
            <p:nvPr/>
          </p:nvGrpSpPr>
          <p:grpSpPr>
            <a:xfrm>
              <a:off x="824040" y="3657600"/>
              <a:ext cx="7269120" cy="615240"/>
              <a:chOff x="824040" y="3657600"/>
              <a:chExt cx="7269120" cy="615240"/>
            </a:xfrm>
          </p:grpSpPr>
          <p:sp>
            <p:nvSpPr>
              <p:cNvPr id="130" name="Text Box 13"/>
              <p:cNvSpPr/>
              <p:nvPr/>
            </p:nvSpPr>
            <p:spPr>
              <a:xfrm>
                <a:off x="824040" y="365760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lw/sw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14"/>
              <p:cNvSpPr/>
              <p:nvPr/>
            </p:nvSpPr>
            <p:spPr>
              <a:xfrm>
                <a:off x="2409480" y="36576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g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15"/>
              <p:cNvSpPr/>
              <p:nvPr/>
            </p:nvSpPr>
            <p:spPr>
              <a:xfrm>
                <a:off x="3786480" y="36576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16"/>
              <p:cNvSpPr/>
              <p:nvPr/>
            </p:nvSpPr>
            <p:spPr>
              <a:xfrm>
                <a:off x="5265720" y="3759840"/>
                <a:ext cx="183960" cy="51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17"/>
              <p:cNvSpPr/>
              <p:nvPr/>
            </p:nvSpPr>
            <p:spPr>
              <a:xfrm>
                <a:off x="7908840" y="3759840"/>
                <a:ext cx="184320" cy="51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18"/>
              <p:cNvSpPr/>
              <p:nvPr/>
            </p:nvSpPr>
            <p:spPr>
              <a:xfrm>
                <a:off x="5789880" y="365760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add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Rectangle 19"/>
            <p:cNvSpPr/>
            <p:nvPr/>
          </p:nvSpPr>
          <p:spPr>
            <a:xfrm>
              <a:off x="609480" y="3657600"/>
              <a:ext cx="8153640" cy="5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0"/>
            <p:cNvSpPr/>
            <p:nvPr/>
          </p:nvSpPr>
          <p:spPr>
            <a:xfrm>
              <a:off x="2133720" y="365760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1"/>
            <p:cNvSpPr/>
            <p:nvPr/>
          </p:nvSpPr>
          <p:spPr>
            <a:xfrm>
              <a:off x="3429000" y="365760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4648320" y="365760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25"/>
          <p:cNvGrpSpPr/>
          <p:nvPr/>
        </p:nvGrpSpPr>
        <p:grpSpPr>
          <a:xfrm>
            <a:off x="610560" y="4876920"/>
            <a:ext cx="8154000" cy="591480"/>
            <a:chOff x="610560" y="4876920"/>
            <a:chExt cx="8154000" cy="591480"/>
          </a:xfrm>
        </p:grpSpPr>
        <p:grpSp>
          <p:nvGrpSpPr>
            <p:cNvPr id="141" name="Group 26"/>
            <p:cNvGrpSpPr/>
            <p:nvPr/>
          </p:nvGrpSpPr>
          <p:grpSpPr>
            <a:xfrm>
              <a:off x="610560" y="4876920"/>
              <a:ext cx="7481880" cy="520560"/>
              <a:chOff x="610560" y="4876920"/>
              <a:chExt cx="7481880" cy="520560"/>
            </a:xfrm>
          </p:grpSpPr>
          <p:sp>
            <p:nvSpPr>
              <p:cNvPr id="142" name="Text Box 27"/>
              <p:cNvSpPr/>
              <p:nvPr/>
            </p:nvSpPr>
            <p:spPr>
              <a:xfrm>
                <a:off x="610560" y="487692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beq/bn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Text Box 28"/>
              <p:cNvSpPr/>
              <p:nvPr/>
            </p:nvSpPr>
            <p:spPr>
              <a:xfrm>
                <a:off x="2408400" y="48769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r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Text Box 29"/>
              <p:cNvSpPr/>
              <p:nvPr/>
            </p:nvSpPr>
            <p:spPr>
              <a:xfrm>
                <a:off x="3676680" y="48769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r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Text Box 30"/>
              <p:cNvSpPr/>
              <p:nvPr/>
            </p:nvSpPr>
            <p:spPr>
              <a:xfrm>
                <a:off x="5265360" y="4979160"/>
                <a:ext cx="18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Text Box 31"/>
              <p:cNvSpPr/>
              <p:nvPr/>
            </p:nvSpPr>
            <p:spPr>
              <a:xfrm>
                <a:off x="7908480" y="4979160"/>
                <a:ext cx="18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Text Box 32"/>
              <p:cNvSpPr/>
              <p:nvPr/>
            </p:nvSpPr>
            <p:spPr>
              <a:xfrm>
                <a:off x="5788440" y="487692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add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Rectangle 33"/>
            <p:cNvSpPr/>
            <p:nvPr/>
          </p:nvSpPr>
          <p:spPr>
            <a:xfrm>
              <a:off x="611280" y="4876920"/>
              <a:ext cx="8153280" cy="591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>
              <a:off x="2211120" y="487692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3430440" y="487692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6"/>
            <p:cNvSpPr/>
            <p:nvPr/>
          </p:nvSpPr>
          <p:spPr>
            <a:xfrm>
              <a:off x="4649760" y="487692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8F0-1705-4684-AAC2-FB276E9C0B27}" type="slidenum">
              <a:t>2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zrješavanje 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renc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r </a:t>
            </a:r>
            <a:r>
              <a:rPr b="0" lang="sr-Latn-CS" sz="3200" spc="-1" strike="noStrike">
                <a:solidFill>
                  <a:srgbClr val="00cc99"/>
                </a:solidFill>
                <a:latin typeface="Times New Roman"/>
              </a:rPr>
              <a:t>pretpostavlja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je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a riječ prvo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na adresi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000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sjetite 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virtu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o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uži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g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j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gme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račun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e labele na koju se vrši sko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ter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 il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svakog podatka koji se referenc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168-3CC6-40E1-8ADF-4071632E2D6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zrješavanje 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renc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a bi razrješil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až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 (lab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podataka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svi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user” ta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h n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đ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, traž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 u library 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jlo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pr, kada imamo poziv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odre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punjavamo mašinski kod na odgovarajući nač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la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nke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vršni fajl koji sadrži kod i podat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us hea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F4F-FEED-461D-ABE3-FA13194EBD0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s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čita program napisan u jeziku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izvršava funkcije tog progr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AutoShape 5"/>
          <p:cNvCxnSpPr/>
          <p:nvPr/>
        </p:nvCxnSpPr>
        <p:spPr>
          <a:xfrm flipH="1">
            <a:off x="4571640" y="2057400"/>
            <a:ext cx="216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" name="Diagram 1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108840" cy="25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1D2-2B66-415A-A794-609D947BD8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čk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 d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čko povezivan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isali smo tradicionalni nač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atically-link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iblioteka je sada dio izvršnog ko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 ako se ona izmijeni, moramo prekompajlirati naš source da bi uračunali izmjene bibliote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jučena je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it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iblioteka čak i ako se ne koristi u potpunos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vršni kod je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contained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ernativ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s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ynamically linked librar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LL)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običajene 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&amp; UNIX platfor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28680">
              <a:spcBef>
                <a:spcPts val="799"/>
              </a:spcBef>
              <a:buClr>
                <a:srgbClr val="738a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8ac8"/>
                </a:solidFill>
                <a:latin typeface="Times New Roman"/>
              </a:rPr>
              <a:t>en.wikipedia.org/wiki/Dynamic_l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D17-C781-47E5-A732-ED7461474BC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ally linked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/tim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od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uvan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zahtijeva manje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lan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gram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htijeva manje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vršavan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htijeva manje memori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oni dijele bibliote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Pri izvršavanju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troši se vrijeme da bi se od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dilo povezivanje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ime overhead to do link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gra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bibliote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mjena jedog faj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XYZ.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upg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-uje sva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ji korist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XYZ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Nije dovoljno imati samo izvršni ko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5715000"/>
            <a:ext cx="9144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092240" y="-7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A98-980F-4AE5-A4FC-92EA70757E3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ally linked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inamičko povezivanje usložnjava kompajler, linker i OS, ali ima više prednosti negio ma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istup koji preovladava je da se koristi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i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ka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jmanji zajedničk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west common)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držal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e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korist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ju kako 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li biblioteka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ran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j. koji je kompajler ili jezi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o se može opisati ka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linking at the machine code level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što nije jedini nači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862-59DC-42AF-8A08-B12D7CE3735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PS arhitek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1049400"/>
            <a:ext cx="8001000" cy="580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558-6721-4473-8B17-DBA71C0DC9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upravljanje memorij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071720"/>
            <a:ext cx="8229600" cy="54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ma 3 izvora memor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Stati</a:t>
            </a:r>
            <a:r>
              <a:rPr b="0" lang="sr-Latn-CS" sz="2800" spc="-1" strike="noStrike" u="sng">
                <a:solidFill>
                  <a:srgbClr val="00cc99"/>
                </a:solidFill>
                <a:uFillTx/>
                <a:latin typeface="Times New Roman"/>
              </a:rPr>
              <a:t>č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ka </a:t>
            </a:r>
            <a:r>
              <a:rPr b="0" lang="sr-Latn-CS" sz="2800" spc="-1" strike="noStrike" u="sng">
                <a:solidFill>
                  <a:srgbClr val="00cc99"/>
                </a:solidFill>
                <a:uFillTx/>
                <a:latin typeface="Times New Roman"/>
              </a:rPr>
              <a:t>memor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lob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enlj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glavnom stal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k program 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St</a:t>
            </a:r>
            <a:r>
              <a:rPr b="0" lang="sr-Latn-CS" sz="2800" spc="-1" strike="noStrike" u="sng">
                <a:solidFill>
                  <a:srgbClr val="00cc99"/>
                </a:solidFill>
                <a:uFillTx/>
                <a:latin typeface="Times New Roman"/>
              </a:rPr>
              <a:t>e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promjenlj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aramet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vrat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j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onog zapi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a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stack frame”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inamičko alociranje memor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aci su “živi” dok ih programer ne oslobo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htijeva znanje gdje se nalaze objekti u memoriji, inače programi ne rade kako je očekiv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kriva lokaciju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0CA-3052-4815-A217-D945B8B776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791320" y="1295280"/>
            <a:ext cx="243828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i izgled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Memo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33412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dres</a:t>
            </a:r>
            <a:r>
              <a:rPr b="0" i="1" lang="sr-Latn-CS" sz="3200" spc="-1" strike="noStrike">
                <a:solidFill>
                  <a:srgbClr val="3333cc"/>
                </a:solidFill>
                <a:latin typeface="Times New Roman"/>
              </a:rPr>
              <a:t>ni pros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regio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promjenlj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inamički mu se mijenja ve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jive deklarisane v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r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čitava se kada se program pokrene, ne mijenja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762120"/>
            <a:ext cx="243828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4495680"/>
            <a:ext cx="243828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809880"/>
            <a:ext cx="24382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1240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12952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7680" y="450864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6600" y="382284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59240" y="3137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87120" y="76212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858000" y="27432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129528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30520" y="685800"/>
            <a:ext cx="1430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Arial"/>
              </a:rPr>
              <a:t>~ FFFF FFFF</a:t>
            </a:r>
            <a:r>
              <a:rPr b="1" i="1" lang="en-US" sz="1400" spc="-1" strike="noStrike" baseline="-25000">
                <a:solidFill>
                  <a:srgbClr val="00cc99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91200" y="5105520"/>
            <a:ext cx="61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Arial"/>
              </a:rPr>
              <a:t>~ 0</a:t>
            </a:r>
            <a:r>
              <a:rPr b="1" i="1" lang="en-US" sz="1400" spc="-1" strike="noStrike" baseline="-25000">
                <a:solidFill>
                  <a:srgbClr val="00cc99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E78-2F95-403A-AD64-153E98709D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791320" y="5029200"/>
            <a:ext cx="243828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762120"/>
            <a:ext cx="24382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l 80x86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zgled memorij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33412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x86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dress sp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762120"/>
            <a:ext cx="2438280" cy="320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3962520"/>
            <a:ext cx="243828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3276720"/>
            <a:ext cx="24382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25909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50292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7680" y="39751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6600" y="328932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0160" y="26035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68040" y="449568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58000" y="22093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50292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45720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28720" y="4419720"/>
            <a:ext cx="130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Arial"/>
              </a:rPr>
              <a:t>~ 08000000</a:t>
            </a:r>
            <a:r>
              <a:rPr b="1" i="1" lang="en-US" sz="1400" spc="-1" strike="noStrike" baseline="-25000">
                <a:solidFill>
                  <a:srgbClr val="00cc99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6ED-8E35-4039-A47C-785A600DDC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10600"/>
            <a:ext cx="9144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Executable C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.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(program is r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vršni fajlovi čuvaju se na dis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se pokreće program, uloga loader-a je da ga učita u OM i pokrene g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prak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oad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stem (O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in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an od zadata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85B-AB19-4DA4-B650-B21734AF8BC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0600"/>
            <a:ext cx="9144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927000"/>
            <a:ext cx="80773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radi lo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i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eader izvršnog fajla da odredi veliči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segme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e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vi adresni prostor dovoljno veliki da sadrž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segmen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i stek-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p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i podatke iz izvršnog fajla u novi adresni prost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može biti bilo gdje u memor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86B-3A74-451B-968F-49FE70FF781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10600"/>
            <a:ext cx="9144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p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predate program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regist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ćina registara se samo očis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li se stek-pokazivač postavlja na prvu slobodnu lokaciju na st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ok 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t-up rut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koja kopira argumente programa sa steka u registre i postavlja Program Cou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E80-28B5-4678-AA8C-EA1AD8BE743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Prevođenje (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sla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cij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vodi program napisan u jezik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inski je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eso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rsk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 mašinski jezi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iagram 15" descr=""/>
          <p:cNvPicPr/>
          <p:nvPr/>
        </p:nvPicPr>
        <p:blipFill>
          <a:blip r:embed="rId1"/>
          <a:stretch/>
        </p:blipFill>
        <p:spPr>
          <a:xfrm>
            <a:off x="2084400" y="3121200"/>
            <a:ext cx="4968720" cy="348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F33-832E-4382-A82D-117B0D4685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240" y="1785600"/>
            <a:ext cx="8915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int main (int argc, char *argv[]) {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int i, sum = 0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for (i = 0; i&lt;= 100; i++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 sum = sum + i * i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printf ("The sum of sq from 0 .. 100 is %d\n",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um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47200" y="1219320"/>
            <a:ext cx="48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C Program Source Code: </a:t>
            </a:r>
            <a:r>
              <a:rPr b="1" i="1" lang="en-US" sz="2400" spc="-1" strike="noStrike">
                <a:solidFill>
                  <a:srgbClr val="00cc99"/>
                </a:solidFill>
                <a:latin typeface="Courier New"/>
                <a:ea typeface="Courier New"/>
              </a:rPr>
              <a:t>prog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72120" y="5715000"/>
            <a:ext cx="37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“</a:t>
            </a:r>
            <a:r>
              <a:rPr b="1" i="1" lang="en-US" sz="2400" spc="-1" strike="noStrike">
                <a:solidFill>
                  <a:srgbClr val="00cc99"/>
                </a:solidFill>
                <a:latin typeface="Courier New"/>
                <a:ea typeface="Courier New"/>
              </a:rPr>
              <a:t>printf</a:t>
            </a: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” lives in “</a:t>
            </a:r>
            <a:r>
              <a:rPr b="1" i="1" lang="en-US" sz="2400" spc="-1" strike="noStrike">
                <a:solidFill>
                  <a:srgbClr val="00cc99"/>
                </a:solidFill>
                <a:latin typeface="Courier New"/>
                <a:ea typeface="Courier New"/>
              </a:rPr>
              <a:t>libc</a:t>
            </a: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m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C4A-E594-44C8-ACD3-BE6A7FDD87B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3886200" cy="56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globl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b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d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0, 32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6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ul$t7, $t6,$t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8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u $t9,$t8,$t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9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00240" y="762120"/>
            <a:ext cx="38480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u $t0, $t6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le $t0,100, 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0, 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1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al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ove $v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i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r $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t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sciiz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"The sum of sq from 0 .. 100 is %d\n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4572000" y="1066680"/>
            <a:ext cx="0" cy="5334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031880" y="419112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dje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 pseudo-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strukcij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ation: 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1B0-36D8-4440-9542-A55F9DD4A35B}" type="slidenum">
              <a:t>41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3886200" cy="56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globl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sub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sd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$a0, 32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6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mul$t7, $t6,$t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8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u $t9,$t8,$t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9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00240" y="762120"/>
            <a:ext cx="38480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addu $t0, $t6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ble $t0,100, 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la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$a0, 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1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al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move $v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i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r $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t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sciiz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"The sum of sq from 0 .. 100 is %d\n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4572000" y="1066680"/>
            <a:ext cx="0" cy="5334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7032960" y="4191120"/>
            <a:ext cx="180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 pseudo-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strukcija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dvu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ation: 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FA1-1782-41BE-9797-670E96D63569}" type="slidenum">
              <a:t>42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51920" y="1560240"/>
            <a:ext cx="449604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00 addiu $29,$29,-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31,20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08 sw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4, 32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0c sw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5, 36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 sw    $0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4 sw    $0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8 lw   $14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c multu $14, $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20 mflo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 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4 lw   $24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8 addu $25,$24,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c sw   $25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23920" y="1563480"/>
            <a:ext cx="441972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30 addiu $8,$14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8,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38 slti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1,$8, 10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3c bne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1,$0, 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40 lui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4, l.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44 ori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4,$4,r.st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8 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,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c jal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50 add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2, $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4 lw    $31,20($29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8 addiu $29,$29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c jr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$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80240" y="77616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klanjanj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pseudoinstru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c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odjela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adre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4648320" y="1447920"/>
            <a:ext cx="0" cy="51051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011-63AD-4606-8277-5114AAC284C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5530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03240" y="1255680"/>
            <a:ext cx="748512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simbo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spcBef>
                <a:spcPts val="649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ress (in module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0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lobal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18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6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o relok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spcBef>
                <a:spcPts val="649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.  typ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Depend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4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u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.st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44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.st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4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95240" y="685800"/>
            <a:ext cx="75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re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ranje 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tab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elokacije i tabele sim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AEC4-1B92-40FC-9323-CB6F5E001B9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9343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483920"/>
            <a:ext cx="4496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0 addiu$29,$29,-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4 sw$31,20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8 sw$4, 32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c sw$5, 36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 sw$0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4 sw$0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8 lw$14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c multu$14, $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0 mflo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4 lw$24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8 addu$25,$24,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c sw$25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23920" y="1487520"/>
            <a:ext cx="44197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0 addiu $8,$14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4 sw$8,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8 slti$1,$8, 10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c bne$1,$0, 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-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0 lui$4,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l.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4 ori$4,$4,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r.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8 lw$5,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c jal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0 add$2, $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4 lw$31,20($29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8 addiu $29,$29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c jr$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94080" y="762120"/>
            <a:ext cx="65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R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zrješiti 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a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PC-relativ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e labe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4648320" y="1523880"/>
            <a:ext cx="0" cy="5029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321-3286-49F6-9861-E7B7FF65E20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nje objektnog fajl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n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ju 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 segment (instr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egment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abela simbola i tabela reloakci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e se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placeholders”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nerazrješ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psolutne i eksterne re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9D4-6141-4887-94DB-2CB5C811322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67960" y="151920"/>
            <a:ext cx="75898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om faj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7848720" cy="56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111011110111111111111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111110000000000010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10000000000001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1010000000000100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000000000000001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000000000000001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01110000000000001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11000000000000001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01110011100000000000011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0111001000000000000000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10010000000100000000011001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1000000000000001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00000000000111100000010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1100001111110010000010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101000010000011111111111101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11001000000000001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1110000000100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0000000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00101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0000000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110000010000000000001110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00000000000000000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111110000000000010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111011110100000000001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1111100000000000000000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0000000000000100000010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517-80FF-41E6-AB93-545667BF4F9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210600"/>
            <a:ext cx="8991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1: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bin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og.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libc.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Spaj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ext/data segment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Kreir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 memor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ske adr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dif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ikuje i spaja tabele simbola i relokacij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a simbol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: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000000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: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100004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printf: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000003b0  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cija o relokacij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r. 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endenc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4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uil.s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4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rir.st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4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lprintf  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CF2-E260-4109-886C-CD1ADA5A8D9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865160"/>
            <a:ext cx="44960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0 addiu $29,$29,-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31,20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8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, 32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c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, 36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 sw    $0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4 sw    $0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8 lw   $14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c multu $14, $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0 mflo 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4 lw   $24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8 addu $25,$24,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c sw   $25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23920" y="1868400"/>
            <a:ext cx="44197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0 addiu $8,$14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8,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8 slt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,$8, 10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c bne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,$0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-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0 lu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, 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409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4 or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,$4,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107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8 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,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c jal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8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0 add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2, $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4 lw  $31,20($29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8 addiu  $29,$29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c jr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33520" y="685800"/>
            <a:ext cx="8153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jeni adrese u tabeli relo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18 VAG Rounded Bold   0739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18 VAG Rounded Bold   07390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18 VAG Rounded Bold   07390"/>
              </a:rPr>
              <a:t>(</a:t>
            </a:r>
            <a:r>
              <a:rPr b="1" i="1" lang="sr-Latn-CS" sz="2400" spc="-1" strike="noStrike">
                <a:solidFill>
                  <a:srgbClr val="808080"/>
                </a:solidFill>
                <a:latin typeface="Arial"/>
              </a:rPr>
              <a:t>prikazano HEX</a:t>
            </a:r>
            <a:r>
              <a:rPr b="1" i="1" lang="en-US" sz="2400" spc="-1" strike="noStrike">
                <a:solidFill>
                  <a:srgbClr val="808080"/>
                </a:solidFill>
                <a:latin typeface="18 VAG Rounded Bold   07390"/>
              </a:rPr>
              <a:t>, </a:t>
            </a:r>
            <a:r>
              <a:rPr b="1" i="1" lang="sr-Latn-CS" sz="2400" spc="-1" strike="noStrike">
                <a:solidFill>
                  <a:srgbClr val="808080"/>
                </a:solidFill>
                <a:latin typeface="Arial"/>
              </a:rPr>
              <a:t>ali se radi u bunarnim</a:t>
            </a:r>
            <a:r>
              <a:rPr b="1" lang="en-US" sz="2400" spc="-1" strike="noStrike">
                <a:solidFill>
                  <a:srgbClr val="808080"/>
                </a:solidFill>
                <a:latin typeface="18 VAG Rounded Bold   07390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4648320" y="1676520"/>
            <a:ext cx="0" cy="4876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B99-6F11-4E0B-AA21-68A0E0803B5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vs. Trans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akše je nap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pr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bliži PJ, pa daje bolji opis greš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spor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0x?)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i je kod manj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X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aje mogućnost nezavisnosti skupa instruk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vršava se na svakoj maš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CD2-BAE8-400A-B93F-9C4BFCBABB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142640"/>
            <a:ext cx="784872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Daj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izvršnu verziju spojenih modula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Jed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instructio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Jed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ata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daje detalje o veličini segmen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85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sr-Latn-CS" sz="3400" spc="-1" strike="noStrike">
                <a:solidFill>
                  <a:srgbClr val="00cc99"/>
                </a:solidFill>
                <a:latin typeface="Times New Roman"/>
              </a:rPr>
              <a:t>apomena</a:t>
            </a:r>
            <a:r>
              <a:rPr b="0" lang="en-US" sz="34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Prethodni primjer je pojednostavljena verzija kako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F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i drugi standardni formati rade. Primjer ilustruje samo osnovne elemen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B85-35BF-424A-BDF6-1A1A38F7822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vs. Trans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nslated/compiled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kod je skoro uvijek efikasniji i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ima bolje preformans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Važno za mnoge aplikacije, posebno O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nslation/compilation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pomaže sakrivanju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“source”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od korisnika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el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za zarađivanj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Microsoft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čuva svoj source  ko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ternati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vni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del, “open source”,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ira vrijednost objavljivanjem source kod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EE5-AB0E-41C6-B837-6E865CA8C0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Pokretanje prevedenog progra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Diagram 33" descr=""/>
          <p:cNvPicPr/>
          <p:nvPr/>
        </p:nvPicPr>
        <p:blipFill>
          <a:blip r:embed="rId1"/>
          <a:stretch/>
        </p:blipFill>
        <p:spPr>
          <a:xfrm>
            <a:off x="2309760" y="225360"/>
            <a:ext cx="4518000" cy="656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8B8-16CF-477A-A69D-066440E27C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10600"/>
            <a:ext cx="73915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30592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High-Level Language Co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sc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Jav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Assembly Language C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pom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la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sr-Latn-CS" sz="3200" spc="-1" strike="noStrike">
                <a:solidFill>
                  <a:srgbClr val="3333cc"/>
                </a:solidFill>
                <a:latin typeface="Times New Roman"/>
              </a:rPr>
              <a:t>ož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drža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seudo-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(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udoinstruction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seudo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cije ko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embl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umije ali ih mašina ne razum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ov $s1,$s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55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r $s1,$s2,$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B20-C0AB-4FBC-AAD8-FC70B55F6C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Proces prevođe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303200" y="1143000"/>
          <a:ext cx="56073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1143000"/>
                    <a:ext cx="5607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ADD-A05A-4FA5-ABC3-6F687FCA59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4:38:27Z</dcterms:created>
  <dc:creator>Nikola Radovanovic</dc:creator>
  <dc:description/>
  <dc:language>en-US</dc:language>
  <cp:lastModifiedBy>gorans</cp:lastModifiedBy>
  <dcterms:modified xsi:type="dcterms:W3CDTF">2011-02-10T08:15:11Z</dcterms:modified>
  <cp:revision>226</cp:revision>
  <dc:subject/>
  <dc:title>Implementacija jezika</dc:title>
</cp:coreProperties>
</file>