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057400" y="380880"/>
            <a:ext cx="50292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MIT 6.035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6e02"/>
                </a:solidFill>
                <a:latin typeface="Times New Roman"/>
              </a:rPr>
              <a:t>Fall 2002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133720"/>
            <a:ext cx="8001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vod u analizu programa i optimizaciju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52480" y="7621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75" idx="2"/>
            <a:endCxn id="176" idx="0"/>
          </p:cNvCxnSpPr>
          <p:nvPr/>
        </p:nvCxnSpPr>
        <p:spPr>
          <a:xfrm>
            <a:off x="2209320" y="12189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6" idx="2"/>
            <a:endCxn id="177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7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8" idx="3"/>
            <a:endCxn id="179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8" idx="1"/>
            <a:endCxn id="180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0" idx="2"/>
            <a:endCxn id="181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9" idx="2"/>
            <a:endCxn id="181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2" idx="2"/>
            <a:endCxn id="183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1" idx="3"/>
            <a:endCxn id="184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1" idx="1"/>
            <a:endCxn id="182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3" idx="2"/>
            <a:endCxn id="181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6" idx="2"/>
            <a:endCxn id="197" idx="0"/>
          </p:cNvCxnSpPr>
          <p:nvPr/>
        </p:nvCxnSpPr>
        <p:spPr>
          <a:xfrm flipH="1">
            <a:off x="6095160" y="2514240"/>
            <a:ext cx="724680" cy="76284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rimjer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rvo dominator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38280" y="1523880"/>
            <a:ext cx="457200" cy="3812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905120" y="2209680"/>
            <a:ext cx="457200" cy="3812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438280" y="2819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60" name=""/>
          <p:cNvCxnSpPr>
            <a:stCxn id="957" idx="2"/>
            <a:endCxn id="958" idx="0"/>
          </p:cNvCxnSpPr>
          <p:nvPr/>
        </p:nvCxnSpPr>
        <p:spPr>
          <a:xfrm flipH="1">
            <a:off x="2133000" y="1919160"/>
            <a:ext cx="533880" cy="277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7" idx="2"/>
            <a:endCxn id="959" idx="0"/>
          </p:cNvCxnSpPr>
          <p:nvPr/>
        </p:nvCxnSpPr>
        <p:spPr>
          <a:xfrm>
            <a:off x="2666520" y="1918800"/>
            <a:ext cx="1080" cy="886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8" idx="2"/>
            <a:endCxn id="959" idx="1"/>
          </p:cNvCxnSpPr>
          <p:nvPr/>
        </p:nvCxnSpPr>
        <p:spPr>
          <a:xfrm>
            <a:off x="2133360" y="2604600"/>
            <a:ext cx="291240" cy="405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2438280" y="36576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600200" y="43434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00400" y="43434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2320" y="5105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67" name=""/>
          <p:cNvCxnSpPr>
            <a:stCxn id="964" idx="2"/>
            <a:endCxn id="966" idx="0"/>
          </p:cNvCxnSpPr>
          <p:nvPr/>
        </p:nvCxnSpPr>
        <p:spPr>
          <a:xfrm>
            <a:off x="1828440" y="4738320"/>
            <a:ext cx="762840" cy="353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5" idx="2"/>
            <a:endCxn id="966" idx="0"/>
          </p:cNvCxnSpPr>
          <p:nvPr/>
        </p:nvCxnSpPr>
        <p:spPr>
          <a:xfrm flipH="1">
            <a:off x="2590560" y="4738320"/>
            <a:ext cx="838800" cy="353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3" idx="2"/>
            <a:endCxn id="965" idx="0"/>
          </p:cNvCxnSpPr>
          <p:nvPr/>
        </p:nvCxnSpPr>
        <p:spPr>
          <a:xfrm>
            <a:off x="2666520" y="4052520"/>
            <a:ext cx="762840" cy="276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70" name=""/>
          <p:cNvCxnSpPr>
            <a:stCxn id="963" idx="2"/>
            <a:endCxn id="964" idx="0"/>
          </p:cNvCxnSpPr>
          <p:nvPr/>
        </p:nvCxnSpPr>
        <p:spPr>
          <a:xfrm flipH="1">
            <a:off x="1828440" y="4052520"/>
            <a:ext cx="838800" cy="276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71" name=""/>
          <p:cNvSpPr/>
          <p:nvPr/>
        </p:nvSpPr>
        <p:spPr>
          <a:xfrm>
            <a:off x="2514600" y="3200400"/>
            <a:ext cx="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2819520" y="3200400"/>
            <a:ext cx="0" cy="4572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819520" y="3809880"/>
            <a:ext cx="1612800" cy="1447920"/>
          </a:xfrm>
          <a:custGeom>
            <a:avLst/>
            <a:gdLst/>
            <a:ahLst/>
            <a:rect l="l" t="t" r="r" b="b"/>
            <a:pathLst>
              <a:path w="1016" h="912">
                <a:moveTo>
                  <a:pt x="0" y="912"/>
                </a:moveTo>
                <a:cubicBezTo>
                  <a:pt x="500" y="820"/>
                  <a:pt x="1000" y="728"/>
                  <a:pt x="1008" y="576"/>
                </a:cubicBezTo>
                <a:cubicBezTo>
                  <a:pt x="1016" y="424"/>
                  <a:pt x="532" y="212"/>
                  <a:pt x="48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15000" y="18907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952880" y="2819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77120" y="2819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77" name=""/>
          <p:cNvCxnSpPr>
            <a:stCxn id="974" idx="2"/>
            <a:endCxn id="975" idx="0"/>
          </p:cNvCxnSpPr>
          <p:nvPr/>
        </p:nvCxnSpPr>
        <p:spPr>
          <a:xfrm flipH="1">
            <a:off x="5180760" y="2286000"/>
            <a:ext cx="762840" cy="519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78" name=""/>
          <p:cNvCxnSpPr>
            <a:stCxn id="974" idx="2"/>
            <a:endCxn id="976" idx="0"/>
          </p:cNvCxnSpPr>
          <p:nvPr/>
        </p:nvCxnSpPr>
        <p:spPr>
          <a:xfrm>
            <a:off x="5943240" y="2286000"/>
            <a:ext cx="762840" cy="519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79" name=""/>
          <p:cNvSpPr/>
          <p:nvPr/>
        </p:nvSpPr>
        <p:spPr>
          <a:xfrm>
            <a:off x="6477120" y="37339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62720" y="45720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77120" y="45720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543800" y="45720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83" name=""/>
          <p:cNvCxnSpPr>
            <a:stCxn id="979" idx="2"/>
            <a:endCxn id="982" idx="0"/>
          </p:cNvCxnSpPr>
          <p:nvPr/>
        </p:nvCxnSpPr>
        <p:spPr>
          <a:xfrm>
            <a:off x="6705360" y="4129200"/>
            <a:ext cx="1067400" cy="4291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84" name=""/>
          <p:cNvCxnSpPr>
            <a:stCxn id="976" idx="2"/>
            <a:endCxn id="979" idx="0"/>
          </p:cNvCxnSpPr>
          <p:nvPr/>
        </p:nvCxnSpPr>
        <p:spPr>
          <a:xfrm>
            <a:off x="6705360" y="3214800"/>
            <a:ext cx="108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85" name=""/>
          <p:cNvCxnSpPr>
            <a:stCxn id="979" idx="2"/>
            <a:endCxn id="981" idx="0"/>
          </p:cNvCxnSpPr>
          <p:nvPr/>
        </p:nvCxnSpPr>
        <p:spPr>
          <a:xfrm>
            <a:off x="6705360" y="4129200"/>
            <a:ext cx="1080" cy="4291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86" name=""/>
          <p:cNvCxnSpPr>
            <a:stCxn id="979" idx="2"/>
            <a:endCxn id="980" idx="0"/>
          </p:cNvCxnSpPr>
          <p:nvPr/>
        </p:nvCxnSpPr>
        <p:spPr>
          <a:xfrm flipH="1">
            <a:off x="5790960" y="4129200"/>
            <a:ext cx="915120" cy="4291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sanje petlji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edinstvena ulazna tačk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–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aglavlje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eader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ajmanje jedna putanja unazad do zaglavl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aći grane čije glave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ead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domi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raju nad repovima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ail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e grane su povratne grane petlj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Za datu povratnu gran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etlja se sastoji od čvor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n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 svih čvorova koji mogu dostići (r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ach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n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bez prolaska kroz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i čvorov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međ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” d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 zaglavlje petlje 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oop heade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Dvije petlje u primjer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438280" y="1523880"/>
            <a:ext cx="457200" cy="3812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05120" y="2209680"/>
            <a:ext cx="457200" cy="3812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438280" y="2819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93" name=""/>
          <p:cNvCxnSpPr>
            <a:stCxn id="990" idx="2"/>
            <a:endCxn id="991" idx="0"/>
          </p:cNvCxnSpPr>
          <p:nvPr/>
        </p:nvCxnSpPr>
        <p:spPr>
          <a:xfrm flipH="1">
            <a:off x="2133000" y="1919160"/>
            <a:ext cx="533880" cy="277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94" name=""/>
          <p:cNvCxnSpPr>
            <a:stCxn id="990" idx="2"/>
            <a:endCxn id="992" idx="0"/>
          </p:cNvCxnSpPr>
          <p:nvPr/>
        </p:nvCxnSpPr>
        <p:spPr>
          <a:xfrm>
            <a:off x="2666520" y="1918800"/>
            <a:ext cx="1080" cy="886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95" name=""/>
          <p:cNvCxnSpPr>
            <a:stCxn id="991" idx="2"/>
            <a:endCxn id="992" idx="1"/>
          </p:cNvCxnSpPr>
          <p:nvPr/>
        </p:nvCxnSpPr>
        <p:spPr>
          <a:xfrm>
            <a:off x="2133360" y="2604600"/>
            <a:ext cx="291240" cy="405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96" name=""/>
          <p:cNvSpPr/>
          <p:nvPr/>
        </p:nvSpPr>
        <p:spPr>
          <a:xfrm>
            <a:off x="2438280" y="36576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00200" y="43434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200400" y="43434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362320" y="5105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00" name=""/>
          <p:cNvCxnSpPr>
            <a:stCxn id="997" idx="2"/>
            <a:endCxn id="999" idx="0"/>
          </p:cNvCxnSpPr>
          <p:nvPr/>
        </p:nvCxnSpPr>
        <p:spPr>
          <a:xfrm>
            <a:off x="1828440" y="4738320"/>
            <a:ext cx="762840" cy="353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98" idx="2"/>
            <a:endCxn id="999" idx="0"/>
          </p:cNvCxnSpPr>
          <p:nvPr/>
        </p:nvCxnSpPr>
        <p:spPr>
          <a:xfrm flipH="1">
            <a:off x="2590560" y="4738320"/>
            <a:ext cx="838800" cy="353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02" name=""/>
          <p:cNvCxnSpPr>
            <a:stCxn id="996" idx="2"/>
            <a:endCxn id="998" idx="0"/>
          </p:cNvCxnSpPr>
          <p:nvPr/>
        </p:nvCxnSpPr>
        <p:spPr>
          <a:xfrm>
            <a:off x="2666520" y="4052520"/>
            <a:ext cx="762840" cy="276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03" name=""/>
          <p:cNvCxnSpPr>
            <a:stCxn id="996" idx="2"/>
            <a:endCxn id="997" idx="0"/>
          </p:cNvCxnSpPr>
          <p:nvPr/>
        </p:nvCxnSpPr>
        <p:spPr>
          <a:xfrm flipH="1">
            <a:off x="1828440" y="4052520"/>
            <a:ext cx="838800" cy="276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04" name=""/>
          <p:cNvSpPr/>
          <p:nvPr/>
        </p:nvSpPr>
        <p:spPr>
          <a:xfrm>
            <a:off x="2514600" y="3200400"/>
            <a:ext cx="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2819520" y="3200400"/>
            <a:ext cx="0" cy="4572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19520" y="3809880"/>
            <a:ext cx="1612800" cy="1447920"/>
          </a:xfrm>
          <a:custGeom>
            <a:avLst/>
            <a:gdLst/>
            <a:ahLst/>
            <a:rect l="l" t="t" r="r" b="b"/>
            <a:pathLst>
              <a:path w="1016" h="912">
                <a:moveTo>
                  <a:pt x="0" y="912"/>
                </a:moveTo>
                <a:cubicBezTo>
                  <a:pt x="500" y="820"/>
                  <a:pt x="1000" y="728"/>
                  <a:pt x="1008" y="576"/>
                </a:cubicBezTo>
                <a:cubicBezTo>
                  <a:pt x="1016" y="424"/>
                  <a:pt x="532" y="212"/>
                  <a:pt x="48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715000" y="18907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952880" y="2819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77120" y="2819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10" name=""/>
          <p:cNvCxnSpPr>
            <a:stCxn id="1007" idx="2"/>
            <a:endCxn id="1008" idx="0"/>
          </p:cNvCxnSpPr>
          <p:nvPr/>
        </p:nvCxnSpPr>
        <p:spPr>
          <a:xfrm flipH="1">
            <a:off x="5180760" y="2286000"/>
            <a:ext cx="762840" cy="519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11" name=""/>
          <p:cNvCxnSpPr>
            <a:stCxn id="1007" idx="2"/>
            <a:endCxn id="1009" idx="0"/>
          </p:cNvCxnSpPr>
          <p:nvPr/>
        </p:nvCxnSpPr>
        <p:spPr>
          <a:xfrm>
            <a:off x="5943240" y="2286000"/>
            <a:ext cx="762840" cy="519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12" name=""/>
          <p:cNvSpPr/>
          <p:nvPr/>
        </p:nvSpPr>
        <p:spPr>
          <a:xfrm>
            <a:off x="6477120" y="37339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562720" y="45720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77120" y="45720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45720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16" name=""/>
          <p:cNvCxnSpPr>
            <a:stCxn id="1012" idx="2"/>
            <a:endCxn id="1015" idx="0"/>
          </p:cNvCxnSpPr>
          <p:nvPr/>
        </p:nvCxnSpPr>
        <p:spPr>
          <a:xfrm>
            <a:off x="6705360" y="4129200"/>
            <a:ext cx="1067400" cy="4291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17" name=""/>
          <p:cNvCxnSpPr>
            <a:stCxn id="1009" idx="2"/>
            <a:endCxn id="1012" idx="0"/>
          </p:cNvCxnSpPr>
          <p:nvPr/>
        </p:nvCxnSpPr>
        <p:spPr>
          <a:xfrm>
            <a:off x="6705360" y="3214800"/>
            <a:ext cx="108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18" name=""/>
          <p:cNvCxnSpPr>
            <a:stCxn id="1012" idx="2"/>
            <a:endCxn id="1014" idx="0"/>
          </p:cNvCxnSpPr>
          <p:nvPr/>
        </p:nvCxnSpPr>
        <p:spPr>
          <a:xfrm>
            <a:off x="6705360" y="4129200"/>
            <a:ext cx="1080" cy="4291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12" idx="2"/>
            <a:endCxn id="1013" idx="0"/>
          </p:cNvCxnSpPr>
          <p:nvPr/>
        </p:nvCxnSpPr>
        <p:spPr>
          <a:xfrm flipH="1">
            <a:off x="5790960" y="4129200"/>
            <a:ext cx="915120" cy="4291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20" name=""/>
          <p:cNvSpPr/>
          <p:nvPr/>
        </p:nvSpPr>
        <p:spPr>
          <a:xfrm>
            <a:off x="609480" y="2590920"/>
            <a:ext cx="4343400" cy="388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3429000"/>
            <a:ext cx="3581280" cy="2514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gori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nstru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je petlji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ert(m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f m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loop then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op = loop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{M}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ush m onto stac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op(d,n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op =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; stack =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; insert(n);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ile stack not empty do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 = pop stack;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r all p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ed(m) do insert(p)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Ugnježdene petlj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 dvije petlje nemaju isto zaglavl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li je jedna petlj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inner loop)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adržana u drugoj petlj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outer loop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li se te dvije petlje disjunktn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 dvije petlje imaju isto zaglavlj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ajčešće se uniraju i tretiraju kao jedna petl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286000" y="45720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54864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819520" y="54864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29" name=""/>
          <p:cNvCxnSpPr>
            <a:stCxn id="1026" idx="2"/>
            <a:endCxn id="1027" idx="0"/>
          </p:cNvCxnSpPr>
          <p:nvPr/>
        </p:nvCxnSpPr>
        <p:spPr>
          <a:xfrm flipH="1">
            <a:off x="1980720" y="4967280"/>
            <a:ext cx="5342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30" name=""/>
          <p:cNvCxnSpPr>
            <a:stCxn id="1026" idx="2"/>
            <a:endCxn id="1028" idx="0"/>
          </p:cNvCxnSpPr>
          <p:nvPr/>
        </p:nvCxnSpPr>
        <p:spPr>
          <a:xfrm>
            <a:off x="2514600" y="4967280"/>
            <a:ext cx="5342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31" name=""/>
          <p:cNvSpPr/>
          <p:nvPr/>
        </p:nvSpPr>
        <p:spPr>
          <a:xfrm>
            <a:off x="1054080" y="464832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2743200" y="464832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726440" y="4749840"/>
            <a:ext cx="25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vije petl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1,2}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{1, 3}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niran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: {1,2,3}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reheader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 petlj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og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ptimiz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e “prikače” kod prije petl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ostavi s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pec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i čvor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header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spred petlje, koji sadrži taj kod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5720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752480" y="54864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819520" y="54864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39" name=""/>
          <p:cNvCxnSpPr>
            <a:stCxn id="1036" idx="2"/>
            <a:endCxn id="1037" idx="0"/>
          </p:cNvCxnSpPr>
          <p:nvPr/>
        </p:nvCxnSpPr>
        <p:spPr>
          <a:xfrm flipH="1">
            <a:off x="1980720" y="4967280"/>
            <a:ext cx="5342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40" name=""/>
          <p:cNvCxnSpPr>
            <a:stCxn id="1036" idx="2"/>
            <a:endCxn id="1038" idx="0"/>
          </p:cNvCxnSpPr>
          <p:nvPr/>
        </p:nvCxnSpPr>
        <p:spPr>
          <a:xfrm>
            <a:off x="2514600" y="4967280"/>
            <a:ext cx="5342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41" name=""/>
          <p:cNvSpPr/>
          <p:nvPr/>
        </p:nvSpPr>
        <p:spPr>
          <a:xfrm>
            <a:off x="1054080" y="464832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743200" y="464832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057400" y="3886200"/>
            <a:ext cx="380880" cy="6858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590920" y="3886200"/>
            <a:ext cx="380880" cy="6858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828800" y="35053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743200" y="35053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943600" y="44197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10080" y="53341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477120" y="53341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50" name=""/>
          <p:cNvCxnSpPr>
            <a:stCxn id="1047" idx="2"/>
            <a:endCxn id="1048" idx="0"/>
          </p:cNvCxnSpPr>
          <p:nvPr/>
        </p:nvCxnSpPr>
        <p:spPr>
          <a:xfrm flipH="1">
            <a:off x="5638320" y="4815000"/>
            <a:ext cx="5342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51" name=""/>
          <p:cNvCxnSpPr>
            <a:stCxn id="1047" idx="2"/>
            <a:endCxn id="1049" idx="0"/>
          </p:cNvCxnSpPr>
          <p:nvPr/>
        </p:nvCxnSpPr>
        <p:spPr>
          <a:xfrm>
            <a:off x="6172200" y="4815000"/>
            <a:ext cx="5342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4711680" y="449568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6400800" y="449568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943600" y="3352680"/>
            <a:ext cx="152280" cy="304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6248160" y="3352680"/>
            <a:ext cx="228600" cy="304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38680" y="29718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248520" y="297180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943600" y="365760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59" name=""/>
          <p:cNvCxnSpPr>
            <a:stCxn id="1058" idx="2"/>
            <a:endCxn id="1047" idx="0"/>
          </p:cNvCxnSpPr>
          <p:nvPr/>
        </p:nvCxnSpPr>
        <p:spPr>
          <a:xfrm>
            <a:off x="6171840" y="4052520"/>
            <a:ext cx="1080" cy="353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ptimizacije petlji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ada kad imamo petlje, možemo ih optimizovat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omjeranje koda invarijantnog za petlju (l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op invariant code moti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kačimo invarijantni kod u zaglavl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Otkrivanje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oop Invarian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d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aredba j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var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n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 su operandi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nstan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maju sve RD 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aching definition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 van petlje il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maju tačno jednu RD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 ta definicija dolazi iz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var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n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e naredb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cept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laznog čvora petlje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it node of loop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vor čiji je naslednik (sledeći čvor) van petl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gori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m otkrivanja “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oop Invarian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kod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all statements in loo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f operands are constant or have all reaching definitions outside loop, mark statement as invaria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o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all statements in loop not already marked invaria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f operands are constant, have all reaching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finitions outside loop, or have exactly on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aching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finition from invariant statement then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rk statement as invaria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until find no more invariant statement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omjeranje invarijantnog kod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slovi za pomjeranje naredb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:x:=y+z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 zaglavlj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etlj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 domi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r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 svim izlaznim čvorovima petl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Ako ne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neka upotreba poslije petlje može dobiti pogrešnu vrijednos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Alternat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ivni uslov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: defini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cija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iz s dostiže 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no use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van petlje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malo pomjeranje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 m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ože uticati na vrijeme izvršavanja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jedna druga naredba u petlji ne dodjeljuje vrijednost x-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Ako neka to radi, dodjeljivanja se moraju preurediti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jedna upotreb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 petlji nije dostignuta definicijom različitom od 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Ako jeste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pomjeranje može promijeniti vrijednost koju je pročitala ta upotreb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52480" y="7621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0" idx="2"/>
            <a:endCxn id="201" idx="0"/>
          </p:cNvCxnSpPr>
          <p:nvPr/>
        </p:nvCxnSpPr>
        <p:spPr>
          <a:xfrm>
            <a:off x="2209320" y="12189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1" idx="2"/>
            <a:endCxn id="202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2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3" idx="3"/>
            <a:endCxn id="204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3" idx="1"/>
            <a:endCxn id="205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4" idx="2"/>
            <a:endCxn id="206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7" idx="2"/>
            <a:endCxn id="208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6" idx="3"/>
            <a:endCxn id="209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6" idx="1"/>
            <a:endCxn id="207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8" idx="2"/>
            <a:endCxn id="206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419112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1" idx="2"/>
            <a:endCxn id="222" idx="0"/>
          </p:cNvCxnSpPr>
          <p:nvPr/>
        </p:nvCxnSpPr>
        <p:spPr>
          <a:xfrm>
            <a:off x="6095520" y="3733920"/>
            <a:ext cx="762840" cy="45792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0" idx="2"/>
            <a:endCxn id="221" idx="0"/>
          </p:cNvCxnSpPr>
          <p:nvPr/>
        </p:nvCxnSpPr>
        <p:spPr>
          <a:xfrm flipH="1">
            <a:off x="6095160" y="2514240"/>
            <a:ext cx="72468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05" idx="2"/>
            <a:endCxn id="206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Redosl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j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ed naredbi u p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eheader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-u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Čuvaju se zavisnosti između podataka iz orginalnog progra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057400" y="2438280"/>
            <a:ext cx="1066680" cy="8524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65760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8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600200" y="4572000"/>
            <a:ext cx="1143000" cy="10666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 *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+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c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24080" y="4586400"/>
            <a:ext cx="533520" cy="3664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74" name=""/>
          <p:cNvCxnSpPr>
            <a:stCxn id="1070" idx="2"/>
            <a:endCxn id="1071" idx="0"/>
          </p:cNvCxnSpPr>
          <p:nvPr/>
        </p:nvCxnSpPr>
        <p:spPr>
          <a:xfrm>
            <a:off x="2590560" y="3304800"/>
            <a:ext cx="1080" cy="3387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1071" idx="2"/>
            <a:endCxn id="1072" idx="0"/>
          </p:cNvCxnSpPr>
          <p:nvPr/>
        </p:nvCxnSpPr>
        <p:spPr>
          <a:xfrm flipH="1">
            <a:off x="2171520" y="4067280"/>
            <a:ext cx="419760" cy="4910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71" idx="2"/>
            <a:endCxn id="1073" idx="0"/>
          </p:cNvCxnSpPr>
          <p:nvPr/>
        </p:nvCxnSpPr>
        <p:spPr>
          <a:xfrm>
            <a:off x="2590920" y="4067280"/>
            <a:ext cx="8006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77" name=""/>
          <p:cNvSpPr/>
          <p:nvPr/>
        </p:nvSpPr>
        <p:spPr>
          <a:xfrm>
            <a:off x="914400" y="3581280"/>
            <a:ext cx="1219320" cy="28195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267080" y="320040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019920" y="2286000"/>
            <a:ext cx="1066680" cy="8524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095880" y="457200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8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562720" y="5410080"/>
            <a:ext cx="1066680" cy="45720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c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086600" y="5500800"/>
            <a:ext cx="533520" cy="3664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3" name=""/>
          <p:cNvCxnSpPr>
            <a:stCxn id="1079" idx="2"/>
            <a:endCxn id="1084" idx="0"/>
          </p:cNvCxnSpPr>
          <p:nvPr/>
        </p:nvCxnSpPr>
        <p:spPr>
          <a:xfrm>
            <a:off x="6552720" y="3152520"/>
            <a:ext cx="1080" cy="2620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5" name=""/>
          <p:cNvCxnSpPr>
            <a:stCxn id="1080" idx="2"/>
            <a:endCxn id="1081" idx="0"/>
          </p:cNvCxnSpPr>
          <p:nvPr/>
        </p:nvCxnSpPr>
        <p:spPr>
          <a:xfrm flipH="1">
            <a:off x="6095520" y="4981320"/>
            <a:ext cx="457920" cy="4150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6" name=""/>
          <p:cNvCxnSpPr>
            <a:stCxn id="1080" idx="2"/>
            <a:endCxn id="1082" idx="0"/>
          </p:cNvCxnSpPr>
          <p:nvPr/>
        </p:nvCxnSpPr>
        <p:spPr>
          <a:xfrm>
            <a:off x="6552720" y="4981680"/>
            <a:ext cx="80100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87" name=""/>
          <p:cNvSpPr/>
          <p:nvPr/>
        </p:nvSpPr>
        <p:spPr>
          <a:xfrm>
            <a:off x="4876920" y="4648320"/>
            <a:ext cx="1218960" cy="167616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867280" y="3429000"/>
            <a:ext cx="1371600" cy="776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 *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+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8" name=""/>
          <p:cNvCxnSpPr>
            <a:stCxn id="1084" idx="2"/>
            <a:endCxn id="1080" idx="0"/>
          </p:cNvCxnSpPr>
          <p:nvPr/>
        </p:nvCxnSpPr>
        <p:spPr>
          <a:xfrm>
            <a:off x="6552720" y="4219200"/>
            <a:ext cx="1080" cy="3387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iminacija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 indukcio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ih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romjenljivi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2300400"/>
            <a:ext cx="9144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676520" y="297180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1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143000" y="3886200"/>
            <a:ext cx="1143000" cy="8524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4*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666880" y="3900600"/>
            <a:ext cx="1143000" cy="8236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 of 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94" name=""/>
          <p:cNvCxnSpPr>
            <a:stCxn id="1090" idx="2"/>
            <a:endCxn id="1091" idx="0"/>
          </p:cNvCxnSpPr>
          <p:nvPr/>
        </p:nvCxnSpPr>
        <p:spPr>
          <a:xfrm>
            <a:off x="2133360" y="2695320"/>
            <a:ext cx="1080" cy="2620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95" name=""/>
          <p:cNvCxnSpPr>
            <a:stCxn id="1091" idx="2"/>
            <a:endCxn id="1092" idx="0"/>
          </p:cNvCxnSpPr>
          <p:nvPr/>
        </p:nvCxnSpPr>
        <p:spPr>
          <a:xfrm flipH="1">
            <a:off x="1714320" y="3381480"/>
            <a:ext cx="419760" cy="4910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96" name=""/>
          <p:cNvCxnSpPr>
            <a:stCxn id="1091" idx="2"/>
            <a:endCxn id="1093" idx="0"/>
          </p:cNvCxnSpPr>
          <p:nvPr/>
        </p:nvCxnSpPr>
        <p:spPr>
          <a:xfrm>
            <a:off x="2133360" y="3381480"/>
            <a:ext cx="110556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>
            <a:off x="457200" y="3048120"/>
            <a:ext cx="1219320" cy="230004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248520" y="2286000"/>
            <a:ext cx="9144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248520" y="295740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&lt; 4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715000" y="3871800"/>
            <a:ext cx="1295280" cy="8384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p + 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01" name=""/>
          <p:cNvCxnSpPr>
            <a:stCxn id="1098" idx="2"/>
            <a:endCxn id="1099" idx="0"/>
          </p:cNvCxnSpPr>
          <p:nvPr/>
        </p:nvCxnSpPr>
        <p:spPr>
          <a:xfrm>
            <a:off x="6705360" y="2681280"/>
            <a:ext cx="1080" cy="262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2" name=""/>
          <p:cNvCxnSpPr>
            <a:stCxn id="1099" idx="2"/>
            <a:endCxn id="1100" idx="0"/>
          </p:cNvCxnSpPr>
          <p:nvPr/>
        </p:nvCxnSpPr>
        <p:spPr>
          <a:xfrm flipH="1">
            <a:off x="6361920" y="3366720"/>
            <a:ext cx="343800" cy="4914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3" name=""/>
          <p:cNvCxnSpPr>
            <a:stCxn id="1099" idx="2"/>
            <a:endCxn id="1104" idx="0"/>
          </p:cNvCxnSpPr>
          <p:nvPr/>
        </p:nvCxnSpPr>
        <p:spPr>
          <a:xfrm>
            <a:off x="6705720" y="3366720"/>
            <a:ext cx="1334160" cy="4914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05" name=""/>
          <p:cNvSpPr/>
          <p:nvPr/>
        </p:nvSpPr>
        <p:spPr>
          <a:xfrm>
            <a:off x="5029200" y="3033720"/>
            <a:ext cx="1219320" cy="230040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67480" y="3871800"/>
            <a:ext cx="1143000" cy="8240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 of 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09880" y="251460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Šta je indukcio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a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 promjenljiv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snovn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(bazna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indukciona promjenljiv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dino dodjeljivanje u petlji je oblik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 = i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veden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indukcione 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ijed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st 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inea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fu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a osnovn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ndukcione 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nutar petlje,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j = c*i + d,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gdje 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snovn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ndukciona promjenlji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lo česta situacija u izrazima indeksiranja niz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stup element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a[i]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aje kod oblik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 = a + 4*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Smanjenje snage za izvedene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indukcione promjenljiv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676520" y="2300400"/>
            <a:ext cx="9144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676520" y="297180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1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143000" y="3886200"/>
            <a:ext cx="1143000" cy="8524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4*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666880" y="3900600"/>
            <a:ext cx="1143000" cy="8236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 of 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14" name=""/>
          <p:cNvCxnSpPr>
            <a:stCxn id="1110" idx="2"/>
            <a:endCxn id="1111" idx="0"/>
          </p:cNvCxnSpPr>
          <p:nvPr/>
        </p:nvCxnSpPr>
        <p:spPr>
          <a:xfrm>
            <a:off x="2133360" y="2695320"/>
            <a:ext cx="1080" cy="2620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11" idx="2"/>
            <a:endCxn id="1112" idx="0"/>
          </p:cNvCxnSpPr>
          <p:nvPr/>
        </p:nvCxnSpPr>
        <p:spPr>
          <a:xfrm flipH="1">
            <a:off x="1714320" y="3381480"/>
            <a:ext cx="419760" cy="4910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16" name=""/>
          <p:cNvCxnSpPr>
            <a:stCxn id="1111" idx="2"/>
            <a:endCxn id="1113" idx="0"/>
          </p:cNvCxnSpPr>
          <p:nvPr/>
        </p:nvCxnSpPr>
        <p:spPr>
          <a:xfrm>
            <a:off x="2133360" y="3381480"/>
            <a:ext cx="110556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7" name=""/>
          <p:cNvSpPr/>
          <p:nvPr/>
        </p:nvSpPr>
        <p:spPr>
          <a:xfrm>
            <a:off x="457200" y="3048120"/>
            <a:ext cx="1219320" cy="230004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48520" y="1752480"/>
            <a:ext cx="914400" cy="91440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248520" y="295740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1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3871800"/>
            <a:ext cx="1295280" cy="8384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p + 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21" name=""/>
          <p:cNvCxnSpPr>
            <a:stCxn id="1118" idx="2"/>
            <a:endCxn id="1119" idx="0"/>
          </p:cNvCxnSpPr>
          <p:nvPr/>
        </p:nvCxnSpPr>
        <p:spPr>
          <a:xfrm>
            <a:off x="6705360" y="2681280"/>
            <a:ext cx="1080" cy="262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2" name=""/>
          <p:cNvCxnSpPr>
            <a:stCxn id="1119" idx="2"/>
            <a:endCxn id="1120" idx="0"/>
          </p:cNvCxnSpPr>
          <p:nvPr/>
        </p:nvCxnSpPr>
        <p:spPr>
          <a:xfrm flipH="1">
            <a:off x="6361920" y="3366720"/>
            <a:ext cx="343800" cy="4914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3" name=""/>
          <p:cNvCxnSpPr>
            <a:stCxn id="1119" idx="2"/>
            <a:endCxn id="1124" idx="0"/>
          </p:cNvCxnSpPr>
          <p:nvPr/>
        </p:nvCxnSpPr>
        <p:spPr>
          <a:xfrm>
            <a:off x="6705720" y="3366720"/>
            <a:ext cx="1334160" cy="4914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25" name=""/>
          <p:cNvSpPr/>
          <p:nvPr/>
        </p:nvSpPr>
        <p:spPr>
          <a:xfrm>
            <a:off x="5029200" y="3033720"/>
            <a:ext cx="1219320" cy="230040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67480" y="3871800"/>
            <a:ext cx="1143000" cy="8240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 of 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09880" y="251460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1430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Strength reductio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iminacija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suvišnih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indukcionih promjenljiv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248520" y="2286000"/>
            <a:ext cx="9144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48520" y="295740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&lt; 4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15000" y="3871800"/>
            <a:ext cx="1295280" cy="8384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p + 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32" name=""/>
          <p:cNvCxnSpPr>
            <a:stCxn id="1129" idx="2"/>
            <a:endCxn id="1130" idx="0"/>
          </p:cNvCxnSpPr>
          <p:nvPr/>
        </p:nvCxnSpPr>
        <p:spPr>
          <a:xfrm>
            <a:off x="6705360" y="2681280"/>
            <a:ext cx="1080" cy="262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33" name=""/>
          <p:cNvCxnSpPr>
            <a:stCxn id="1130" idx="2"/>
            <a:endCxn id="1131" idx="0"/>
          </p:cNvCxnSpPr>
          <p:nvPr/>
        </p:nvCxnSpPr>
        <p:spPr>
          <a:xfrm flipH="1">
            <a:off x="6361920" y="3366720"/>
            <a:ext cx="343800" cy="4914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34" name=""/>
          <p:cNvCxnSpPr>
            <a:stCxn id="1130" idx="2"/>
            <a:endCxn id="1135" idx="0"/>
          </p:cNvCxnSpPr>
          <p:nvPr/>
        </p:nvCxnSpPr>
        <p:spPr>
          <a:xfrm>
            <a:off x="6705720" y="3366720"/>
            <a:ext cx="1334160" cy="4914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6" name=""/>
          <p:cNvSpPr/>
          <p:nvPr/>
        </p:nvSpPr>
        <p:spPr>
          <a:xfrm>
            <a:off x="5029200" y="3033720"/>
            <a:ext cx="1219320" cy="230040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467480" y="3871800"/>
            <a:ext cx="1143000" cy="8240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 of 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809880" y="251460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23880" y="2057400"/>
            <a:ext cx="914400" cy="91440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523880" y="326232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1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990720" y="4176720"/>
            <a:ext cx="1295280" cy="8380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p + 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41" name=""/>
          <p:cNvCxnSpPr>
            <a:stCxn id="1138" idx="2"/>
            <a:endCxn id="1139" idx="0"/>
          </p:cNvCxnSpPr>
          <p:nvPr/>
        </p:nvCxnSpPr>
        <p:spPr>
          <a:xfrm>
            <a:off x="1980720" y="2985840"/>
            <a:ext cx="1080" cy="2620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9" idx="2"/>
            <a:endCxn id="1140" idx="0"/>
          </p:cNvCxnSpPr>
          <p:nvPr/>
        </p:nvCxnSpPr>
        <p:spPr>
          <a:xfrm flipH="1">
            <a:off x="1638000" y="3672000"/>
            <a:ext cx="343440" cy="4910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9" idx="2"/>
            <a:endCxn id="1144" idx="0"/>
          </p:cNvCxnSpPr>
          <p:nvPr/>
        </p:nvCxnSpPr>
        <p:spPr>
          <a:xfrm>
            <a:off x="1980720" y="3672000"/>
            <a:ext cx="1334520" cy="4910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45" name=""/>
          <p:cNvSpPr/>
          <p:nvPr/>
        </p:nvSpPr>
        <p:spPr>
          <a:xfrm>
            <a:off x="304920" y="3338640"/>
            <a:ext cx="1218960" cy="230004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743200" y="4176720"/>
            <a:ext cx="1143000" cy="8240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 of 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Tri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goritm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tkrivanj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indukcionih 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ać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snovn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ndukcione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ak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snovn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dukciona promjenljiva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m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ami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ju izvedenih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ndukcionih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d kojih je svaka izvedena promjenljiv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inea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fu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cija osnovn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ndukcione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manjenje snage (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ength reducti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a izveden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dukcione 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iminacija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uvišnih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indukcionih 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zlaz algoritma za otkrivanje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indukcionih promjenljiv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indukci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h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snovn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ndukcio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 (osnovne IP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veden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ndukcio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 (izvedene IP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a svaku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dukci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j,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trojk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&lt;i,c,d&gt;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 osnovn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dukciona promjenlji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vrijednost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j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-t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*c+d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j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pad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ami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ji promjenljiv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lgoritam otkrivanja 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indukcion</a:t>
            </a:r>
            <a:r>
              <a:rPr b="0" lang="sr-Latn-CS" sz="4000" spc="-1" strike="noStrike">
                <a:solidFill>
                  <a:srgbClr val="ccffff"/>
                </a:solidFill>
                <a:latin typeface="Times New Roman"/>
              </a:rPr>
              <a:t>ih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promjenljiv</a:t>
            </a:r>
            <a:r>
              <a:rPr b="0" lang="sr-Latn-CS" sz="4000" spc="-1" strike="noStrike">
                <a:solidFill>
                  <a:srgbClr val="ccffff"/>
                </a:solidFill>
                <a:latin typeface="Times New Roman"/>
              </a:rPr>
              <a:t>ih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eniramo petlju da bi našli sve osnovn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keniramo petlju da bi našli sve promjenljiv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sa jednom dodjelom oblik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 j*b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gdje j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j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P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sa trojkom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i,c,d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apravmo da j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P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sa trojkom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i,c*b,d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keniramo petlju da bi našli sve promjenljiv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sa jednom dodjelom oblik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 j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gdje 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j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P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sa trojkom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i,c,d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apravimo da j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P sa trojkom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i,c,b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until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 možemo više pronaći novi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dukcio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trength Reduction Algori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r all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veden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P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j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a trojkom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&lt;i,c,d&gt;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reirati novu promjenljivu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amijeniti dodjelu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j = i*c+d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j = 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eposredno iza svake naredbe dodjljivanj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 = i + e,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metnuti naredbu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 = s + c*e (c*e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e 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stan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ostaviti s u familiju promjenljiv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a trojk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lt;i,c,d&gt;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metnut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 = c*i+d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eheade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Smanjenje snage za izvedene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indukcion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promjenljiv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676520" y="2300400"/>
            <a:ext cx="9144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676520" y="297180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1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143000" y="3886200"/>
            <a:ext cx="1143000" cy="8524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4*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666880" y="3900600"/>
            <a:ext cx="1143000" cy="8236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 of 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59" name=""/>
          <p:cNvCxnSpPr>
            <a:stCxn id="1155" idx="2"/>
            <a:endCxn id="1156" idx="0"/>
          </p:cNvCxnSpPr>
          <p:nvPr/>
        </p:nvCxnSpPr>
        <p:spPr>
          <a:xfrm>
            <a:off x="2133360" y="2695320"/>
            <a:ext cx="1080" cy="2620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0" name=""/>
          <p:cNvCxnSpPr>
            <a:stCxn id="1156" idx="2"/>
            <a:endCxn id="1157" idx="0"/>
          </p:cNvCxnSpPr>
          <p:nvPr/>
        </p:nvCxnSpPr>
        <p:spPr>
          <a:xfrm flipH="1">
            <a:off x="1714320" y="3381480"/>
            <a:ext cx="419760" cy="4910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1" name=""/>
          <p:cNvCxnSpPr>
            <a:stCxn id="1156" idx="2"/>
            <a:endCxn id="1158" idx="0"/>
          </p:cNvCxnSpPr>
          <p:nvPr/>
        </p:nvCxnSpPr>
        <p:spPr>
          <a:xfrm>
            <a:off x="2133360" y="3381480"/>
            <a:ext cx="110556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62" name=""/>
          <p:cNvSpPr/>
          <p:nvPr/>
        </p:nvSpPr>
        <p:spPr>
          <a:xfrm>
            <a:off x="457200" y="3048120"/>
            <a:ext cx="1219320" cy="230004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248520" y="1752480"/>
            <a:ext cx="914400" cy="91440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248520" y="2957400"/>
            <a:ext cx="914400" cy="395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1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715000" y="3871800"/>
            <a:ext cx="1295280" cy="8384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 = p + 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6" name=""/>
          <p:cNvCxnSpPr>
            <a:stCxn id="1163" idx="2"/>
            <a:endCxn id="1164" idx="0"/>
          </p:cNvCxnSpPr>
          <p:nvPr/>
        </p:nvCxnSpPr>
        <p:spPr>
          <a:xfrm>
            <a:off x="6705360" y="2681280"/>
            <a:ext cx="1080" cy="262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7" name=""/>
          <p:cNvCxnSpPr>
            <a:stCxn id="1164" idx="2"/>
            <a:endCxn id="1165" idx="0"/>
          </p:cNvCxnSpPr>
          <p:nvPr/>
        </p:nvCxnSpPr>
        <p:spPr>
          <a:xfrm flipH="1">
            <a:off x="6361920" y="3366720"/>
            <a:ext cx="343800" cy="4914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8" name=""/>
          <p:cNvCxnSpPr>
            <a:stCxn id="1164" idx="2"/>
            <a:endCxn id="1169" idx="0"/>
          </p:cNvCxnSpPr>
          <p:nvPr/>
        </p:nvCxnSpPr>
        <p:spPr>
          <a:xfrm>
            <a:off x="6705720" y="3366720"/>
            <a:ext cx="1334160" cy="4914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0" name=""/>
          <p:cNvSpPr/>
          <p:nvPr/>
        </p:nvSpPr>
        <p:spPr>
          <a:xfrm>
            <a:off x="5029200" y="3033720"/>
            <a:ext cx="1219320" cy="230040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467480" y="3871800"/>
            <a:ext cx="1143000" cy="8240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 of 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09880" y="251460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52480" y="7621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27" idx="2"/>
            <a:endCxn id="228" idx="0"/>
          </p:cNvCxnSpPr>
          <p:nvPr/>
        </p:nvCxnSpPr>
        <p:spPr>
          <a:xfrm>
            <a:off x="2209320" y="12189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8" idx="2"/>
            <a:endCxn id="229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0" idx="3"/>
            <a:endCxn id="231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0" idx="1"/>
            <a:endCxn id="232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2" idx="2"/>
            <a:endCxn id="233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1" idx="2"/>
            <a:endCxn id="233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4" idx="2"/>
            <a:endCxn id="235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3"/>
            <a:endCxn id="236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1"/>
            <a:endCxn id="234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5" idx="2"/>
            <a:endCxn id="233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24480" y="419112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4876920"/>
            <a:ext cx="1828800" cy="533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2"/>
            <a:endCxn id="250" idx="0"/>
          </p:cNvCxnSpPr>
          <p:nvPr/>
        </p:nvCxnSpPr>
        <p:spPr>
          <a:xfrm>
            <a:off x="6095520" y="373392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1"/>
            <a:endCxn id="251" idx="0"/>
          </p:cNvCxnSpPr>
          <p:nvPr/>
        </p:nvCxnSpPr>
        <p:spPr>
          <a:xfrm flipV="1" rot="10800000">
            <a:off x="6095160" y="4419360"/>
            <a:ext cx="229320" cy="457920"/>
          </a:xfrm>
          <a:prstGeom prst="curvedConnector2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8" idx="2"/>
            <a:endCxn id="249" idx="0"/>
          </p:cNvCxnSpPr>
          <p:nvPr/>
        </p:nvCxnSpPr>
        <p:spPr>
          <a:xfrm flipH="1">
            <a:off x="6095160" y="2514240"/>
            <a:ext cx="72468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iminacija indukcion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promjenljiv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abrati osnovnu IP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takvu da je jedina upotreba </a:t>
            </a:r>
            <a:r>
              <a:rPr b="0" lang="sr-Latn-CS" sz="3200" spc="-1" strike="noStrike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 uslovu završetka oblika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 &lt; 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odjeljivanju oblika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 = i + m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abrati izvedenu IP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a trojk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lt;i,c,d&gt;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amijeniti uslov završetka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ermination conditi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 sa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 &lt; c*n+d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Još o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indukcion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m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promjenljiv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ostoji još mnogo prič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 indukci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m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pšti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las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ndukcio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pšti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t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e koje uključuj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dukcio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Rezim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Širok opseg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n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a i optimizaci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ataflow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e i odgovarajuće optimizaci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aching definitions, constant propaga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ive variable analysis, dead code elimin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dukci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n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e 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ptimiz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rength reduc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duc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ive variable elimina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Važne su jer se dosta vremena provodi u petljam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752480" y="7621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87692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579132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6" idx="2"/>
            <a:endCxn id="257" idx="0"/>
          </p:cNvCxnSpPr>
          <p:nvPr/>
        </p:nvCxnSpPr>
        <p:spPr>
          <a:xfrm>
            <a:off x="2209320" y="12189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2"/>
            <a:endCxn id="258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8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9" idx="3"/>
            <a:endCxn id="260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59" idx="1"/>
            <a:endCxn id="261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1" idx="2"/>
            <a:endCxn id="262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0" idx="2"/>
            <a:endCxn id="262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3" idx="2"/>
            <a:endCxn id="264" idx="0"/>
          </p:cNvCxnSpPr>
          <p:nvPr/>
        </p:nvCxnSpPr>
        <p:spPr>
          <a:xfrm>
            <a:off x="1409400" y="5334120"/>
            <a:ext cx="1080" cy="45792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2" idx="3"/>
            <a:endCxn id="265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2" idx="1"/>
            <a:endCxn id="263" idx="0"/>
          </p:cNvCxnSpPr>
          <p:nvPr/>
        </p:nvCxnSpPr>
        <p:spPr>
          <a:xfrm flipV="1" rot="10800000">
            <a:off x="1409040" y="4494600"/>
            <a:ext cx="267120" cy="38196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4" idx="2"/>
            <a:endCxn id="262" idx="0"/>
          </p:cNvCxnSpPr>
          <p:nvPr/>
        </p:nvCxnSpPr>
        <p:spPr>
          <a:xfrm flipH="1" flipV="1" rot="5400000">
            <a:off x="818640" y="4857480"/>
            <a:ext cx="1982160" cy="800640"/>
          </a:xfrm>
          <a:prstGeom prst="curvedConnector5">
            <a:avLst>
              <a:gd name="adj1" fmla="val -21071"/>
              <a:gd name="adj2" fmla="val -72289"/>
              <a:gd name="adj3" fmla="val -21071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419112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876920"/>
            <a:ext cx="182880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2"/>
            <a:endCxn id="279" idx="0"/>
          </p:cNvCxnSpPr>
          <p:nvPr/>
        </p:nvCxnSpPr>
        <p:spPr>
          <a:xfrm>
            <a:off x="6095520" y="373392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9" idx="1"/>
            <a:endCxn id="280" idx="0"/>
          </p:cNvCxnSpPr>
          <p:nvPr/>
        </p:nvCxnSpPr>
        <p:spPr>
          <a:xfrm flipV="1" rot="10800000">
            <a:off x="6095160" y="4419360"/>
            <a:ext cx="2293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2"/>
            <a:endCxn id="278" idx="0"/>
          </p:cNvCxnSpPr>
          <p:nvPr/>
        </p:nvCxnSpPr>
        <p:spPr>
          <a:xfrm flipH="1">
            <a:off x="6095160" y="2514240"/>
            <a:ext cx="72468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752480" y="7621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5" idx="2"/>
            <a:endCxn id="286" idx="0"/>
          </p:cNvCxnSpPr>
          <p:nvPr/>
        </p:nvCxnSpPr>
        <p:spPr>
          <a:xfrm>
            <a:off x="2209320" y="12189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6" idx="2"/>
            <a:endCxn id="287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7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8" idx="3"/>
            <a:endCxn id="289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8" idx="1"/>
            <a:endCxn id="290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0" idx="2"/>
            <a:endCxn id="291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89" idx="2"/>
            <a:endCxn id="291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2" idx="2"/>
            <a:endCxn id="293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1" idx="3"/>
            <a:endCxn id="294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1" idx="1"/>
            <a:endCxn id="292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3" idx="2"/>
            <a:endCxn id="291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419112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4876920"/>
            <a:ext cx="182880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7" idx="2"/>
            <a:endCxn id="308" idx="0"/>
          </p:cNvCxnSpPr>
          <p:nvPr/>
        </p:nvCxnSpPr>
        <p:spPr>
          <a:xfrm>
            <a:off x="6095520" y="373392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8" idx="1"/>
            <a:endCxn id="309" idx="0"/>
          </p:cNvCxnSpPr>
          <p:nvPr/>
        </p:nvCxnSpPr>
        <p:spPr>
          <a:xfrm flipV="1" rot="10800000">
            <a:off x="6095160" y="4419360"/>
            <a:ext cx="2293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12" name=""/>
          <p:cNvCxnSpPr/>
          <p:nvPr/>
        </p:nvCxnSpPr>
        <p:spPr>
          <a:xfrm flipH="1" flipV="1" rot="5400000">
            <a:off x="5526720" y="468360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6" idx="2"/>
            <a:endCxn id="307" idx="0"/>
          </p:cNvCxnSpPr>
          <p:nvPr/>
        </p:nvCxnSpPr>
        <p:spPr>
          <a:xfrm flipH="1">
            <a:off x="6095160" y="2514240"/>
            <a:ext cx="72468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752480" y="7621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15" idx="2"/>
            <a:endCxn id="316" idx="0"/>
          </p:cNvCxnSpPr>
          <p:nvPr/>
        </p:nvCxnSpPr>
        <p:spPr>
          <a:xfrm>
            <a:off x="2209320" y="12189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16" idx="2"/>
            <a:endCxn id="317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17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8" idx="3"/>
            <a:endCxn id="319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18" idx="1"/>
            <a:endCxn id="320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0" idx="2"/>
            <a:endCxn id="321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9" idx="2"/>
            <a:endCxn id="321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22" idx="2"/>
            <a:endCxn id="323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21" idx="3"/>
            <a:endCxn id="324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21" idx="1"/>
            <a:endCxn id="322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23" idx="2"/>
            <a:endCxn id="321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419112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1480" y="4876920"/>
            <a:ext cx="182880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62920" y="510552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7" idx="2"/>
            <a:endCxn id="338" idx="0"/>
          </p:cNvCxnSpPr>
          <p:nvPr/>
        </p:nvCxnSpPr>
        <p:spPr>
          <a:xfrm>
            <a:off x="6095520" y="373392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8" idx="3"/>
            <a:endCxn id="340" idx="0"/>
          </p:cNvCxnSpPr>
          <p:nvPr/>
        </p:nvCxnSpPr>
        <p:spPr>
          <a:xfrm>
            <a:off x="7391160" y="4419360"/>
            <a:ext cx="648360" cy="686520"/>
          </a:xfrm>
          <a:prstGeom prst="curvedConnector2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8" idx="1"/>
            <a:endCxn id="339" idx="0"/>
          </p:cNvCxnSpPr>
          <p:nvPr/>
        </p:nvCxnSpPr>
        <p:spPr>
          <a:xfrm flipV="1" rot="10800000">
            <a:off x="6095160" y="4419360"/>
            <a:ext cx="2293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44" name=""/>
          <p:cNvCxnSpPr/>
          <p:nvPr/>
        </p:nvCxnSpPr>
        <p:spPr>
          <a:xfrm flipH="1" flipV="1" rot="5400000">
            <a:off x="5526720" y="468360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2"/>
            <a:endCxn id="337" idx="0"/>
          </p:cNvCxnSpPr>
          <p:nvPr/>
        </p:nvCxnSpPr>
        <p:spPr>
          <a:xfrm flipH="1">
            <a:off x="6095160" y="2514240"/>
            <a:ext cx="72468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752480" y="7621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7" idx="2"/>
            <a:endCxn id="348" idx="0"/>
          </p:cNvCxnSpPr>
          <p:nvPr/>
        </p:nvCxnSpPr>
        <p:spPr>
          <a:xfrm>
            <a:off x="2209320" y="12189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8" idx="2"/>
            <a:endCxn id="349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9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0" idx="3"/>
            <a:endCxn id="351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0" idx="1"/>
            <a:endCxn id="352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52" idx="2"/>
            <a:endCxn id="353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1" idx="2"/>
            <a:endCxn id="353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54" idx="2"/>
            <a:endCxn id="355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53" idx="3"/>
            <a:endCxn id="356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53" idx="1"/>
            <a:endCxn id="354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55" idx="2"/>
            <a:endCxn id="353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272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24480" y="419112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876920"/>
            <a:ext cx="182880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510552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70" idx="2"/>
            <a:endCxn id="371" idx="0"/>
          </p:cNvCxnSpPr>
          <p:nvPr/>
        </p:nvCxnSpPr>
        <p:spPr>
          <a:xfrm>
            <a:off x="6095520" y="373392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71" idx="3"/>
            <a:endCxn id="373" idx="0"/>
          </p:cNvCxnSpPr>
          <p:nvPr/>
        </p:nvCxnSpPr>
        <p:spPr>
          <a:xfrm>
            <a:off x="7391160" y="441936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1" idx="1"/>
            <a:endCxn id="372" idx="0"/>
          </p:cNvCxnSpPr>
          <p:nvPr/>
        </p:nvCxnSpPr>
        <p:spPr>
          <a:xfrm flipV="1" rot="10800000">
            <a:off x="6095160" y="4419360"/>
            <a:ext cx="2293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77" name=""/>
          <p:cNvCxnSpPr/>
          <p:nvPr/>
        </p:nvCxnSpPr>
        <p:spPr>
          <a:xfrm flipH="1" flipV="1" rot="5400000">
            <a:off x="5526720" y="468360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68" idx="2"/>
            <a:endCxn id="369" idx="0"/>
          </p:cNvCxnSpPr>
          <p:nvPr/>
        </p:nvCxnSpPr>
        <p:spPr>
          <a:xfrm>
            <a:off x="6819480" y="2514240"/>
            <a:ext cx="801000" cy="76284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8" idx="2"/>
            <a:endCxn id="370" idx="0"/>
          </p:cNvCxnSpPr>
          <p:nvPr/>
        </p:nvCxnSpPr>
        <p:spPr>
          <a:xfrm flipH="1">
            <a:off x="6095160" y="2514240"/>
            <a:ext cx="72468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52480" y="7621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81" idx="2"/>
            <a:endCxn id="382" idx="0"/>
          </p:cNvCxnSpPr>
          <p:nvPr/>
        </p:nvCxnSpPr>
        <p:spPr>
          <a:xfrm>
            <a:off x="2209320" y="12189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92" name=""/>
          <p:cNvCxnSpPr>
            <a:stCxn id="382" idx="2"/>
            <a:endCxn id="383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83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84" idx="3"/>
            <a:endCxn id="385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84" idx="1"/>
            <a:endCxn id="386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86" idx="2"/>
            <a:endCxn id="387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85" idx="2"/>
            <a:endCxn id="387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88" idx="2"/>
            <a:endCxn id="389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87" idx="3"/>
            <a:endCxn id="390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87" idx="1"/>
            <a:endCxn id="388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89" idx="2"/>
            <a:endCxn id="387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8660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419112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4876920"/>
            <a:ext cx="182880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62920" y="510552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4" idx="2"/>
            <a:endCxn id="405" idx="0"/>
          </p:cNvCxnSpPr>
          <p:nvPr/>
        </p:nvCxnSpPr>
        <p:spPr>
          <a:xfrm>
            <a:off x="6095520" y="373392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3" idx="2"/>
            <a:endCxn id="405" idx="0"/>
          </p:cNvCxnSpPr>
          <p:nvPr/>
        </p:nvCxnSpPr>
        <p:spPr>
          <a:xfrm flipH="1">
            <a:off x="6857280" y="3733920"/>
            <a:ext cx="762840" cy="45792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5" idx="3"/>
            <a:endCxn id="407" idx="0"/>
          </p:cNvCxnSpPr>
          <p:nvPr/>
        </p:nvCxnSpPr>
        <p:spPr>
          <a:xfrm>
            <a:off x="7391160" y="441936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5" idx="1"/>
            <a:endCxn id="406" idx="0"/>
          </p:cNvCxnSpPr>
          <p:nvPr/>
        </p:nvCxnSpPr>
        <p:spPr>
          <a:xfrm flipV="1" rot="10800000">
            <a:off x="6095160" y="4419360"/>
            <a:ext cx="2293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 flipH="1" flipV="1" rot="5400000">
            <a:off x="5526720" y="468360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2" idx="2"/>
            <a:endCxn id="403" idx="0"/>
          </p:cNvCxnSpPr>
          <p:nvPr/>
        </p:nvCxnSpPr>
        <p:spPr>
          <a:xfrm>
            <a:off x="6819480" y="2514240"/>
            <a:ext cx="80100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02" idx="2"/>
            <a:endCxn id="404" idx="0"/>
          </p:cNvCxnSpPr>
          <p:nvPr/>
        </p:nvCxnSpPr>
        <p:spPr>
          <a:xfrm flipH="1">
            <a:off x="6095160" y="2514240"/>
            <a:ext cx="72468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752480" y="7621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16" idx="2"/>
            <a:endCxn id="417" idx="0"/>
          </p:cNvCxnSpPr>
          <p:nvPr/>
        </p:nvCxnSpPr>
        <p:spPr>
          <a:xfrm>
            <a:off x="2209320" y="12189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17" idx="2"/>
            <a:endCxn id="418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8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19" idx="3"/>
            <a:endCxn id="420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9" idx="1"/>
            <a:endCxn id="421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1" idx="2"/>
            <a:endCxn id="422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0" idx="2"/>
            <a:endCxn id="422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3" idx="2"/>
            <a:endCxn id="424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3"/>
            <a:endCxn id="425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22" idx="1"/>
            <a:endCxn id="423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24" idx="2"/>
            <a:endCxn id="422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8660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62720" y="32767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24480" y="419112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4876920"/>
            <a:ext cx="182880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62920" y="510552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9" idx="2"/>
            <a:endCxn id="440" idx="0"/>
          </p:cNvCxnSpPr>
          <p:nvPr/>
        </p:nvCxnSpPr>
        <p:spPr>
          <a:xfrm>
            <a:off x="6095520" y="373392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38" idx="2"/>
            <a:endCxn id="440" idx="0"/>
          </p:cNvCxnSpPr>
          <p:nvPr/>
        </p:nvCxnSpPr>
        <p:spPr>
          <a:xfrm flipH="1">
            <a:off x="6857280" y="373392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40" idx="3"/>
            <a:endCxn id="442" idx="0"/>
          </p:cNvCxnSpPr>
          <p:nvPr/>
        </p:nvCxnSpPr>
        <p:spPr>
          <a:xfrm>
            <a:off x="7391160" y="441936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0" idx="1"/>
            <a:endCxn id="441" idx="0"/>
          </p:cNvCxnSpPr>
          <p:nvPr/>
        </p:nvCxnSpPr>
        <p:spPr>
          <a:xfrm flipV="1" rot="10800000">
            <a:off x="6095160" y="4419360"/>
            <a:ext cx="2293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47" name=""/>
          <p:cNvCxnSpPr/>
          <p:nvPr/>
        </p:nvCxnSpPr>
        <p:spPr>
          <a:xfrm flipH="1" flipV="1" rot="5400000">
            <a:off x="5526720" y="468360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37" idx="2"/>
            <a:endCxn id="438" idx="0"/>
          </p:cNvCxnSpPr>
          <p:nvPr/>
        </p:nvCxnSpPr>
        <p:spPr>
          <a:xfrm>
            <a:off x="6819480" y="2514240"/>
            <a:ext cx="80100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7" idx="2"/>
            <a:endCxn id="439" idx="0"/>
          </p:cNvCxnSpPr>
          <p:nvPr/>
        </p:nvCxnSpPr>
        <p:spPr>
          <a:xfrm flipH="1">
            <a:off x="6095160" y="2514240"/>
            <a:ext cx="724680" cy="762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Tačke p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ogram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, razdvajanja i spajanj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dna tačka program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gram poin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je i poslije svake naredbe u program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ačka razdvajanja (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lit poin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ma više nasl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dnik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–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aredbe uslovnog skok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ačka spajanja (m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rge poin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 ima više prethodnik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ak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azni blok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li počinje tačkom spajanja ili se njegov prethodnik završava tačkom razdvajan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li završava tačkom razdvajanja ili njegov nasl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dnik počinje tačkom spajan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aliza program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onovanje u vrijeme prevođenja kako će se program ponašati u vrijeme izvršavanja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un-time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behaviour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Mogu se otkriti činjenice koje s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vijek tačn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je uvijek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1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u naredbi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y = x + z”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kazivač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p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uvijek pokazuje na niz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aredb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return 5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ikad se ne izvršav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Može zaključit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tvari koje 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 vjerovatno tačn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ferenca r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obično pokazuje na objekat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”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zgleda da se naredb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 = b + c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zvršava češće od naredb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x = y + z”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azlika izmeđ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data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ontrol-flow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ojsta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va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 tipa promjenljivi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ivremen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oje je uveo kompajle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nsfer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vrijedn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i sam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 unuta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z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g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vode se zbog linearizacije instrukci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vode se pr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ptimiz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t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pično dobijaju vrijedn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 samo jedno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ogram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ke promjenljiv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a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sane u 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igina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om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gram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gu dobijati vrijednost više put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že se vršiti prenos vrijednosti iz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đ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z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o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ptimiza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cij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bazn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blok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ov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liminacija zajedničkih podizraza (CSE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(x+y)+z; b = x+y;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 = x+y; a = t+z; b = 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enošenje konstant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x = 5; b = x+y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5+y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lgebarski identitet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 *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 b = a; c = b+z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 b = a; c = a+z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liminacija mrtvog ko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 b = a; c = a+z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 c = a+z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manjenje snag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 = i *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 = i &lt;&lt;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ristup analizi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bazn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blok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ov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etpostavićemo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ormaliz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van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z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v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–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e naredbe su oblik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r = var op var (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gdje 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p bina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perator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r = op var (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gdje je 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 una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perator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r = va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imu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ramo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bol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ko izvršavan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z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g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zonujemo o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ijednostima promjenljivi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li drugim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p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ma izračunavanj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vodimo svojstva koja nas zanimaj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Value Number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zonujemo o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ijednostima promjenljivih i izraza u program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imul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ramo izvršavanj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z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og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Dodjeljujemo prividnu vrijednost svakoj promjenljivoj i izrazu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Otkriveno svojstvo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: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ko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romjenljive i izrazi imaju istu vrijednos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tandard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a upotreb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liminacija zajedničkih podizraz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ajčešće se k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mbi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uju sa t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ansform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cijama koje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uvaju izračunate vrijednosti u privremenim promjenljivi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amjenjuju izraze privremenim promjenljivim kada je vrijednost prethodno izračunat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239480" y="5095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400" y="5099040"/>
            <a:ext cx="10371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e175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 v6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440" y="12952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440" y="162576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82160" y="195588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b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22860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440" y="10810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440" y="141768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10440" y="17524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800" y="208764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11160" y="242244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b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10800" y="27576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3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39480" y="37306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39480" y="407196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47040" y="4413240"/>
            <a:ext cx="10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47040" y="4754520"/>
            <a:ext cx="10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47040" y="5437080"/>
            <a:ext cx="10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45480" y="45720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Original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ni B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9600" y="4572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ovi B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6800" y="320040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Var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Val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85680" y="4565520"/>
            <a:ext cx="16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1+v2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85680" y="4906800"/>
            <a:ext cx="16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3+v4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99280" y="399888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Exp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Val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07360" y="45655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1+v2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507360" y="490680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3+v4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42840" y="399888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Exp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Tm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10440" y="312408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t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85680" y="5327640"/>
            <a:ext cx="16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5+v2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6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04480" y="52513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5+v2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Value Numbering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 - rezim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ward 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bol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ko izvršavan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az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g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aka nova vrijednost se dodjeljuje pr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vremenoj prom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sta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 = x+y; t = a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rivremene promjenljive čuvaju vrijednosti za kasnije upotreb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u programu, čak i kada je originalna promjenljiva promijenila vrijednos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 a = a+z; b = x+y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sta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 t = a; a = a+z; b = 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eslikavan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ar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al –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simbolička vrijednost svake promjenljiv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xp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Val –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ada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vrijednost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svakog izračunatog izraz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xp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mp –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ada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mp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a čuvanje vr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jednosti svakog izračunatog izraz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Upotreba preslikavanj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r to Val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oristi se za izračunavan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bol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ke vrijednosti z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y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z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ada se obrađuje naredba oblik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x = y + z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xp to Tm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oristi se da odr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i koj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mp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a koristimo ako 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lue(y) + value(z) pr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hodno određena kada obrađujemo naredbu oblik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x = y + z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xp to Val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oristi se za izmj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u 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updat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Var to Val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ad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brađujem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aredb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blik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x = y + z,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lue(y) + value(z)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 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hodno izračunat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Zanimljiva svojstv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ronalazi zajedničke podizraze čak i kada koriste različite promjenljive u izrazim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 = a+b; x = b; z = a+x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sta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 = a+b; t = y; x = b; z = 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ašto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?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Jer koristimo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boli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ke vrijednost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ronalazi zajedničke podizraze čak i kada je promjenljiva koja je originalno čuvala vrijednost dobila novu vrijednos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 = a+b; x = b; y = 1; z = a+x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sta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 = a+b; t = y; x = b; y = 1; z = 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ašto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?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Jer čuvamo vrijednosti u privremenim promjenljivi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Još jedno svojstv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ombinujemo poravnav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je (flattening) 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a bi uhvatili djelimične i proizvoljno složene zajedničke podizraz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 = (a+b)+c; x = b; y = (a+x)+c; z = a+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slije poravnavanj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+b; w = t1+c; x = b; t2 = a+x; y = t2 + c; z = a+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SE algorit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uočava d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t1+c 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t2+c 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izračunavaju istu vrijednos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U naredbi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z = a+b, a+b 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je već izračunato pa generisani kod može iskoristi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i rezul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sr-Latn-CS" sz="2000" spc="-1" strike="noStrike">
                <a:solidFill>
                  <a:srgbClr val="00ffff"/>
                </a:solidFill>
                <a:latin typeface="Times New Roman"/>
              </a:rPr>
              <a:t>a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=a+b; w = t1+c; t3 = w; x = b; t2=a+x; y = t3; z = t1;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roblem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lgori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ma privremenu promjenljivu za svaku novu vrijednos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 t1 = a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vod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Mnogo privremenih promjenljivih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Mnogo naredbi kopiranja u privremene promjenljiv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 većini slučajev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vremene promjenljive i kopiranje nisu potrebn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liminišemo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h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omoću “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py propagatio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iminacij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rtvog ko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ransforma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cij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ezulatate 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a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e d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nsform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šem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gra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Globalni cilj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oboljšati nek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p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gram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d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ona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i ciljev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manjiti broj izvršeni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stru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manjiti ukupnu veličinu ko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rugi cilj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vi se mogu pojaviti sa porastom složenosti prostor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manjiti broj ciklus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(number of cycles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oristit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or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DSP instru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ovećav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struc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on or data cache hit rat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manjiti potrošnju energ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manjiti upotrebu memor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py Propag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onov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, simu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ramo izvršavan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gram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ko je moguć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oristimo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rigina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 umjesto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ivreme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 b = x+y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sli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SE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sta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 = x+y; t = a; b = 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sli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P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osta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 = x+y; b = a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učna idej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odredimo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kad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riginal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promjenlji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JE dobila novu vrijednost (NOT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verwritte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zmeđu njene naredbe dodjeljivanja i upotrebe izračunate vrijednost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ko nij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verwritten,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kori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mo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riginal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u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promjenljivu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py Propagation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reslikavanj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va preslikavan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mp to var: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aže nam koj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 da koristimo umjesto dat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ivreme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r to set: inve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zno preslikavanj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tmp to va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 – kaže nam koje privremene promjenljive su preslikane u dat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 pomoću presli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vanj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mp to va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py Propagation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rigina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osli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t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osli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SE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opy Propaga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py Propagation p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71960" y="2438280"/>
            <a:ext cx="11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26720" y="1390680"/>
            <a:ext cx="18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poslije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C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34200" y="2419200"/>
            <a:ext cx="11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97200" y="1371600"/>
            <a:ext cx="285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poslije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67760" y="46483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tmp to va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58880" y="464832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var to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98960" y="517536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37080" y="51753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1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py Propagation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1960" y="243828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26720" y="139068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oslije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34200" y="241920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41120" y="13716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C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67760" y="46483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tmp to va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58880" y="464832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var to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99320" y="517536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37440" y="5175360"/>
            <a:ext cx="11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1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2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py Propagation 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71960" y="2438280"/>
            <a:ext cx="111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t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26720" y="139068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oslije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34200" y="241920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41120" y="13716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i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67760" y="46483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tmp to va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58880" y="464832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var to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99320" y="517536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37440" y="5175360"/>
            <a:ext cx="11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1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2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py Propagation 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71960" y="2438280"/>
            <a:ext cx="111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= t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26720" y="139068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oslije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34200" y="2419200"/>
            <a:ext cx="111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41120" y="13716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67760" y="46483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tmp to va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8880" y="464832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var to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99320" y="517536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37440" y="5175360"/>
            <a:ext cx="11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1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2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py Propagation 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71960" y="243828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t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26720" y="139068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oslije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34200" y="241920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41120" y="13716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67760" y="46483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tmp to va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58880" y="464832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var to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99320" y="517536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37440" y="5175360"/>
            <a:ext cx="11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1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2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py Propagation 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960" y="243828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t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26720" y="139068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oslije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34200" y="241920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41120" y="13716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67760" y="46483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tmp to va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58880" y="464832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var to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98600" y="5175360"/>
            <a:ext cx="10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1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37440" y="5175360"/>
            <a:ext cx="11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t2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iminacija mrtvog kod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py propagation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čuva sve privremene promj.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gu postojati temps koje se nikada ne čitaj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liminacija mrtvog koda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h uklan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37000" y="403848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15360" y="457200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83520" y="304812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Copy Pro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52400" y="3124080"/>
            <a:ext cx="365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 i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eliminacije mrtvog ko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Graf toka kontro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Čvorovi predstavljaju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računavan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aki čvor je osnovni ili bazni blok (bazni blok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zni blok je niz instrukcija takav 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ema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zlaznih skokova iz sredine blok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em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ulaznih skokova u sredinu blok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ni blok treba da bud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k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al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vršavanje baznog bloka počinje prvom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stru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o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ključene sve instrukcije u baznom blok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Grane predstavljaju tok kontrole u program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trol Flow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Graph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(CFG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iminacija mrtvog kod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snovna ide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brađujemo kod u obrnuton redosl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du od izvršavan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uva se skup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 koje će biti potrebne kasnije za izračunavanja (“needed set”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ko naiđemo na dodjeljivan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ivreme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j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j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oja nije potrebna, uklanjamo to dodjeljivan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4023000" y="144792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69520" y="4572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35053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77400" y="4038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eeded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b}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023000" y="144792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9520" y="4572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31240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677400" y="4038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eeded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, b}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023000" y="144792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2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69520" y="4572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352680" y="27432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77400" y="4038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eeded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, b}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4023000" y="144792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69520" y="4572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27432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77400" y="4038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eeded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, b}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023000" y="144792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69520" y="4572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23623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77400" y="4038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eeded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, b, z}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4023000" y="144792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1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69520" y="4572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19810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77400" y="4038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eeded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, b, z}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023000" y="144792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69520" y="457200"/>
            <a:ext cx="27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 C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29000" y="19810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677400" y="4038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eeded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, b, z}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4023000" y="144792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36400" y="457200"/>
            <a:ext cx="644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, CSE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opy Propagation,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liminacij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mrtvog ko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429000" y="16765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77400" y="4038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eeded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, b, z}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4023000" y="144792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a+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80680" y="457200"/>
            <a:ext cx="63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azni blok poslije CSE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Copy Propagation,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liminacij</a:t>
            </a:r>
            <a:r>
              <a:rPr b="0" lang="sr-Latn-CS" sz="2800" spc="-1" strike="noStrike">
                <a:solidFill>
                  <a:srgbClr val="ffe175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mrtvog ko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77400" y="4038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Needed S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, b, z}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ontrol Flow Grap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47920"/>
            <a:ext cx="2743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t add(n, k) {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 a = 4; 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f (k == 0) 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lse 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ile (i &lt; n) {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3124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3124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40384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4724280"/>
            <a:ext cx="1828800" cy="10670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7" idx="2"/>
            <a:endCxn id="88" idx="0"/>
          </p:cNvCxnSpPr>
          <p:nvPr/>
        </p:nvCxnSpPr>
        <p:spPr>
          <a:xfrm>
            <a:off x="6095520" y="35812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2"/>
            <a:endCxn id="88" idx="0"/>
          </p:cNvCxnSpPr>
          <p:nvPr/>
        </p:nvCxnSpPr>
        <p:spPr>
          <a:xfrm flipH="1">
            <a:off x="6857280" y="35812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3"/>
            <a:endCxn id="90" idx="0"/>
          </p:cNvCxnSpPr>
          <p:nvPr/>
        </p:nvCxnSpPr>
        <p:spPr>
          <a:xfrm>
            <a:off x="7391160" y="42667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1"/>
            <a:endCxn id="89" idx="0"/>
          </p:cNvCxnSpPr>
          <p:nvPr/>
        </p:nvCxnSpPr>
        <p:spPr>
          <a:xfrm flipV="1" rot="10800000">
            <a:off x="6095160" y="4266720"/>
            <a:ext cx="2293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H="1" flipV="1" rot="5400000">
            <a:off x="5526720" y="45309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5" idx="2"/>
            <a:endCxn id="86" idx="0"/>
          </p:cNvCxnSpPr>
          <p:nvPr/>
        </p:nvCxnSpPr>
        <p:spPr>
          <a:xfrm>
            <a:off x="6819480" y="2362320"/>
            <a:ext cx="801000" cy="762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5" idx="2"/>
            <a:endCxn id="87" idx="0"/>
          </p:cNvCxnSpPr>
          <p:nvPr/>
        </p:nvCxnSpPr>
        <p:spPr>
          <a:xfrm flipH="1">
            <a:off x="6095160" y="2362320"/>
            <a:ext cx="724680" cy="762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Zanimljiva svojstv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lgoritmi 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e i t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ansform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e s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bol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čki simuliraju izvršavanje p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ogram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SE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opy Propagation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ad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“forward”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liminacija mrtvog koda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ad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“backward”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ansform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e su grupisan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Grup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snovnih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t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 rade zajedn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esto neka o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 kreira neefikasan kod koji poboljšava naredn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e mogu biti korisne čak i kada originalni kod nema koristi o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stale transformacij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enošenje konstant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(Constant propagation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manjenje snage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(Strength reduction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 &lt;&lt; 2 = a * 4; a + a + a = 3 * a;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lgebarska pojednostavljenja (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gebraic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lificati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 = a * 1; b = b + 0;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ve ovo uraditi u jedinstvenom okviru za transformacije (transformation framework), a ne u ranijim ili kasnijim faza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Rezim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naliza i transformacij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z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bol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ko simuliranje izvršavanja program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ward (CSE, copy prop, constant prop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ckward (eliminacija mrtvog koda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Grupa analiza i transformacija u vidu steka koja radi zajedn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SE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uvodi suvišne privremene promj. i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py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aredb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py propagation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esto el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miniše potrebu za čuvanjem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ivreme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h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h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liminacija mrtvog koda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uklanj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beskorisan kod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 sličnom duhu su i mnoge analize 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e koje rade nad više baznih bloko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28600" y="205740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Uvod u analizu toka podataka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flow Analysis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ataflow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naliz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oristi se da odredi svojstva programa koja uključuju više baznih blokov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pično se koristi da bi omogućil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ansform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liminacija zajedničkih podizraza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nstant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liminacija mrtvog ko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n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a i transformacije često idu zajedn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Dostižne definicij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aching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finition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(RD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cept defin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definition)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 upotrebe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se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 = x+y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je definicij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j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upotreb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x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fin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a dostiž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otrebu ak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ijednost je upisana definicijo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Može biti pročitana upotrebo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eaching Defin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397160" y="1371600"/>
            <a:ext cx="5613120" cy="5194440"/>
            <a:chOff x="1397160" y="1371600"/>
            <a:chExt cx="5613120" cy="5194440"/>
          </a:xfrm>
        </p:grpSpPr>
        <p:sp>
          <p:nvSpPr>
            <p:cNvPr id="618" name=""/>
            <p:cNvSpPr/>
            <p:nvPr/>
          </p:nvSpPr>
          <p:spPr>
            <a:xfrm>
              <a:off x="3809880" y="1371600"/>
              <a:ext cx="1600200" cy="1752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 = 0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 = 4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0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k == 0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1143000" cy="533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b = 1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76920" y="3429000"/>
              <a:ext cx="1143000" cy="533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b = 2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38480" y="4267080"/>
              <a:ext cx="1143000" cy="533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&lt; n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209680" y="5105520"/>
              <a:ext cx="2438640" cy="761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 = s + a*b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i + 1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29200" y="5257800"/>
              <a:ext cx="1981080" cy="533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return 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809520" y="3124080"/>
              <a:ext cx="304920" cy="3049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05520" y="3124080"/>
              <a:ext cx="304560" cy="3049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86200" y="3962520"/>
              <a:ext cx="30492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105520" y="3962520"/>
              <a:ext cx="30456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038120" y="4800600"/>
              <a:ext cx="304920" cy="3049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52880" y="4800600"/>
              <a:ext cx="457200" cy="457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97160" y="4114800"/>
              <a:ext cx="2641320" cy="2451240"/>
            </a:xfrm>
            <a:custGeom>
              <a:avLst/>
              <a:gdLst/>
              <a:ahLst/>
              <a:rect l="l" t="t" r="r" b="b"/>
              <a:pathLst>
                <a:path w="1664" h="1544">
                  <a:moveTo>
                    <a:pt x="1088" y="1104"/>
                  </a:moveTo>
                  <a:cubicBezTo>
                    <a:pt x="776" y="1324"/>
                    <a:pt x="464" y="1544"/>
                    <a:pt x="320" y="1392"/>
                  </a:cubicBezTo>
                  <a:cubicBezTo>
                    <a:pt x="176" y="1240"/>
                    <a:pt x="0" y="384"/>
                    <a:pt x="224" y="192"/>
                  </a:cubicBezTo>
                  <a:cubicBezTo>
                    <a:pt x="448" y="0"/>
                    <a:pt x="1424" y="232"/>
                    <a:pt x="1664" y="24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214720" y="1716120"/>
            <a:ext cx="2052360" cy="3541680"/>
          </a:xfrm>
          <a:custGeom>
            <a:avLst/>
            <a:gdLst/>
            <a:ahLst/>
            <a:rect l="l" t="t" r="r" b="b"/>
            <a:pathLst>
              <a:path w="1293" h="2231">
                <a:moveTo>
                  <a:pt x="1293" y="0"/>
                </a:moveTo>
                <a:cubicBezTo>
                  <a:pt x="1107" y="40"/>
                  <a:pt x="350" y="8"/>
                  <a:pt x="175" y="238"/>
                </a:cubicBezTo>
                <a:cubicBezTo>
                  <a:pt x="0" y="468"/>
                  <a:pt x="167" y="1047"/>
                  <a:pt x="243" y="1379"/>
                </a:cubicBezTo>
                <a:cubicBezTo>
                  <a:pt x="319" y="1711"/>
                  <a:pt x="550" y="2054"/>
                  <a:pt x="630" y="2231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24120" y="2063880"/>
            <a:ext cx="1467000" cy="3178080"/>
          </a:xfrm>
          <a:custGeom>
            <a:avLst/>
            <a:gdLst/>
            <a:ahLst/>
            <a:rect l="l" t="t" r="r" b="b"/>
            <a:pathLst>
              <a:path w="924" h="2002">
                <a:moveTo>
                  <a:pt x="924" y="44"/>
                </a:moveTo>
                <a:cubicBezTo>
                  <a:pt x="793" y="66"/>
                  <a:pt x="278" y="0"/>
                  <a:pt x="139" y="177"/>
                </a:cubicBezTo>
                <a:cubicBezTo>
                  <a:pt x="0" y="354"/>
                  <a:pt x="16" y="805"/>
                  <a:pt x="88" y="1109"/>
                </a:cubicBezTo>
                <a:cubicBezTo>
                  <a:pt x="160" y="1413"/>
                  <a:pt x="469" y="1816"/>
                  <a:pt x="569" y="2002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30920" y="2452680"/>
            <a:ext cx="1323720" cy="2143080"/>
          </a:xfrm>
          <a:custGeom>
            <a:avLst/>
            <a:gdLst/>
            <a:ahLst/>
            <a:rect l="l" t="t" r="r" b="b"/>
            <a:pathLst>
              <a:path w="834" h="1350">
                <a:moveTo>
                  <a:pt x="0" y="0"/>
                </a:moveTo>
                <a:cubicBezTo>
                  <a:pt x="112" y="69"/>
                  <a:pt x="552" y="214"/>
                  <a:pt x="673" y="413"/>
                </a:cubicBezTo>
                <a:cubicBezTo>
                  <a:pt x="794" y="612"/>
                  <a:pt x="834" y="1042"/>
                  <a:pt x="724" y="1196"/>
                </a:cubicBezTo>
                <a:cubicBezTo>
                  <a:pt x="614" y="1350"/>
                  <a:pt x="162" y="1306"/>
                  <a:pt x="14" y="1335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17760" y="2432160"/>
            <a:ext cx="4184640" cy="4017960"/>
          </a:xfrm>
          <a:custGeom>
            <a:avLst/>
            <a:gdLst/>
            <a:ahLst/>
            <a:rect l="l" t="t" r="r" b="b"/>
            <a:pathLst>
              <a:path w="2636" h="2531">
                <a:moveTo>
                  <a:pt x="1020" y="0"/>
                </a:moveTo>
                <a:cubicBezTo>
                  <a:pt x="1194" y="79"/>
                  <a:pt x="1840" y="108"/>
                  <a:pt x="2063" y="477"/>
                </a:cubicBezTo>
                <a:cubicBezTo>
                  <a:pt x="2286" y="846"/>
                  <a:pt x="2636" y="1895"/>
                  <a:pt x="2357" y="2213"/>
                </a:cubicBezTo>
                <a:cubicBezTo>
                  <a:pt x="2078" y="2531"/>
                  <a:pt x="782" y="2397"/>
                  <a:pt x="391" y="2387"/>
                </a:cubicBezTo>
                <a:cubicBezTo>
                  <a:pt x="0" y="2377"/>
                  <a:pt x="88" y="2202"/>
                  <a:pt x="8" y="2153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29000" y="3886200"/>
            <a:ext cx="457200" cy="1295280"/>
          </a:xfrm>
          <a:prstGeom prst="line">
            <a:avLst/>
          </a:prstGeom>
          <a:ln w="19080">
            <a:solidFill>
              <a:srgbClr val="ffe1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00400" y="3809880"/>
            <a:ext cx="2109960" cy="1506600"/>
          </a:xfrm>
          <a:custGeom>
            <a:avLst/>
            <a:gdLst/>
            <a:ahLst/>
            <a:rect l="l" t="t" r="r" b="b"/>
            <a:pathLst>
              <a:path w="1329" h="949">
                <a:moveTo>
                  <a:pt x="719" y="0"/>
                </a:moveTo>
                <a:cubicBezTo>
                  <a:pt x="800" y="96"/>
                  <a:pt x="1329" y="418"/>
                  <a:pt x="1209" y="576"/>
                </a:cubicBezTo>
                <a:cubicBezTo>
                  <a:pt x="1089" y="734"/>
                  <a:pt x="252" y="871"/>
                  <a:pt x="0" y="949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668680" y="4853160"/>
            <a:ext cx="492120" cy="403200"/>
          </a:xfrm>
          <a:custGeom>
            <a:avLst/>
            <a:gdLst/>
            <a:ahLst/>
            <a:rect l="l" t="t" r="r" b="b"/>
            <a:pathLst>
              <a:path w="310" h="254">
                <a:moveTo>
                  <a:pt x="55" y="237"/>
                </a:moveTo>
                <a:cubicBezTo>
                  <a:pt x="53" y="197"/>
                  <a:pt x="0" y="0"/>
                  <a:pt x="42" y="3"/>
                </a:cubicBezTo>
                <a:cubicBezTo>
                  <a:pt x="84" y="6"/>
                  <a:pt x="254" y="202"/>
                  <a:pt x="310" y="254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95480" y="5791320"/>
            <a:ext cx="387360" cy="463320"/>
          </a:xfrm>
          <a:custGeom>
            <a:avLst/>
            <a:gdLst/>
            <a:ahLst/>
            <a:rect l="l" t="t" r="r" b="b"/>
            <a:pathLst>
              <a:path w="244" h="292">
                <a:moveTo>
                  <a:pt x="0" y="0"/>
                </a:moveTo>
                <a:cubicBezTo>
                  <a:pt x="28" y="140"/>
                  <a:pt x="55" y="284"/>
                  <a:pt x="96" y="288"/>
                </a:cubicBezTo>
                <a:cubicBezTo>
                  <a:pt x="137" y="292"/>
                  <a:pt x="213" y="79"/>
                  <a:pt x="244" y="24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19280" y="5486400"/>
            <a:ext cx="4192560" cy="1011240"/>
          </a:xfrm>
          <a:custGeom>
            <a:avLst/>
            <a:gdLst/>
            <a:ahLst/>
            <a:rect l="l" t="t" r="r" b="b"/>
            <a:pathLst>
              <a:path w="2641" h="637">
                <a:moveTo>
                  <a:pt x="141" y="0"/>
                </a:moveTo>
                <a:cubicBezTo>
                  <a:pt x="177" y="91"/>
                  <a:pt x="0" y="451"/>
                  <a:pt x="358" y="544"/>
                </a:cubicBezTo>
                <a:cubicBezTo>
                  <a:pt x="716" y="637"/>
                  <a:pt x="1937" y="626"/>
                  <a:pt x="2289" y="557"/>
                </a:cubicBezTo>
                <a:cubicBezTo>
                  <a:pt x="2641" y="488"/>
                  <a:pt x="2431" y="217"/>
                  <a:pt x="2468" y="127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44960" y="1695600"/>
            <a:ext cx="1603440" cy="3728880"/>
          </a:xfrm>
          <a:custGeom>
            <a:avLst/>
            <a:gdLst/>
            <a:ahLst/>
            <a:rect l="l" t="t" r="r" b="b"/>
            <a:pathLst>
              <a:path w="1010" h="2349">
                <a:moveTo>
                  <a:pt x="0" y="0"/>
                </a:moveTo>
                <a:cubicBezTo>
                  <a:pt x="142" y="101"/>
                  <a:pt x="700" y="218"/>
                  <a:pt x="855" y="609"/>
                </a:cubicBezTo>
                <a:cubicBezTo>
                  <a:pt x="1010" y="1000"/>
                  <a:pt x="916" y="1987"/>
                  <a:pt x="932" y="2349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943360" y="4724280"/>
            <a:ext cx="1790640" cy="870120"/>
          </a:xfrm>
          <a:custGeom>
            <a:avLst/>
            <a:gdLst/>
            <a:ahLst/>
            <a:rect l="l" t="t" r="r" b="b"/>
            <a:pathLst>
              <a:path w="1128" h="548">
                <a:moveTo>
                  <a:pt x="1" y="548"/>
                </a:moveTo>
                <a:cubicBezTo>
                  <a:pt x="28" y="539"/>
                  <a:pt x="0" y="502"/>
                  <a:pt x="167" y="488"/>
                </a:cubicBezTo>
                <a:cubicBezTo>
                  <a:pt x="334" y="474"/>
                  <a:pt x="874" y="543"/>
                  <a:pt x="1001" y="462"/>
                </a:cubicBezTo>
                <a:cubicBezTo>
                  <a:pt x="1128" y="381"/>
                  <a:pt x="945" y="96"/>
                  <a:pt x="930" y="0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D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enošenje konstanti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a li je upotreb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stan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ovjerimo sve RD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ko sve one dodjeljuju promjenljivoj istu konstant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ad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 stvari koristimo konstant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Možemo zamijenit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 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stan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Da li je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nstan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 u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 = s+a*b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80880" y="1447920"/>
            <a:ext cx="5613120" cy="5193720"/>
            <a:chOff x="380880" y="1447920"/>
            <a:chExt cx="5613120" cy="5193720"/>
          </a:xfrm>
        </p:grpSpPr>
        <p:sp>
          <p:nvSpPr>
            <p:cNvPr id="646" name=""/>
            <p:cNvSpPr/>
            <p:nvPr/>
          </p:nvSpPr>
          <p:spPr>
            <a:xfrm>
              <a:off x="2793600" y="1447920"/>
              <a:ext cx="1600200" cy="1752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 = 0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 = 4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0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k == 0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07800" y="350496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b = 1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60640" y="350496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b = 2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22200" y="434304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&lt; n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93400" y="5181480"/>
              <a:ext cx="2438640" cy="761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 = s + a*b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i + 1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12920" y="5333760"/>
              <a:ext cx="198108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return 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793240" y="3200040"/>
              <a:ext cx="30492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89240" y="3200040"/>
              <a:ext cx="30456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69920" y="4038480"/>
              <a:ext cx="304920" cy="304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089240" y="4038480"/>
              <a:ext cx="304560" cy="304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021840" y="4876560"/>
              <a:ext cx="30492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36600" y="4876560"/>
              <a:ext cx="457200" cy="4568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190760"/>
              <a:ext cx="2641320" cy="2450880"/>
            </a:xfrm>
            <a:custGeom>
              <a:avLst/>
              <a:gdLst/>
              <a:ahLst/>
              <a:rect l="l" t="t" r="r" b="b"/>
              <a:pathLst>
                <a:path w="1664" h="1544">
                  <a:moveTo>
                    <a:pt x="1088" y="1104"/>
                  </a:moveTo>
                  <a:cubicBezTo>
                    <a:pt x="776" y="1324"/>
                    <a:pt x="464" y="1544"/>
                    <a:pt x="320" y="1392"/>
                  </a:cubicBezTo>
                  <a:cubicBezTo>
                    <a:pt x="176" y="1240"/>
                    <a:pt x="0" y="384"/>
                    <a:pt x="224" y="192"/>
                  </a:cubicBezTo>
                  <a:cubicBezTo>
                    <a:pt x="448" y="0"/>
                    <a:pt x="1424" y="232"/>
                    <a:pt x="1664" y="24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1708200" y="2139840"/>
            <a:ext cx="1466640" cy="3178440"/>
          </a:xfrm>
          <a:custGeom>
            <a:avLst/>
            <a:gdLst/>
            <a:ahLst/>
            <a:rect l="l" t="t" r="r" b="b"/>
            <a:pathLst>
              <a:path w="924" h="2002">
                <a:moveTo>
                  <a:pt x="924" y="44"/>
                </a:moveTo>
                <a:cubicBezTo>
                  <a:pt x="793" y="66"/>
                  <a:pt x="278" y="0"/>
                  <a:pt x="139" y="177"/>
                </a:cubicBezTo>
                <a:cubicBezTo>
                  <a:pt x="0" y="354"/>
                  <a:pt x="16" y="805"/>
                  <a:pt x="88" y="1109"/>
                </a:cubicBezTo>
                <a:cubicBezTo>
                  <a:pt x="160" y="1413"/>
                  <a:pt x="469" y="1816"/>
                  <a:pt x="569" y="2002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01680" y="1328760"/>
            <a:ext cx="2614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e175"/>
                </a:solidFill>
                <a:latin typeface="Times New Roman"/>
              </a:rPr>
              <a:t>DA</a:t>
            </a:r>
            <a:r>
              <a:rPr b="0" lang="en-US" sz="4400" spc="-1" strike="noStrike">
                <a:solidFill>
                  <a:srgbClr val="ffe175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 svim RD 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 = 4</a:t>
            </a:r>
            <a:r>
              <a:rPr b="0" lang="en-US" sz="32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renošenje konstan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80880" y="1447920"/>
            <a:ext cx="5613120" cy="5193720"/>
            <a:chOff x="380880" y="1447920"/>
            <a:chExt cx="5613120" cy="5193720"/>
          </a:xfrm>
        </p:grpSpPr>
        <p:sp>
          <p:nvSpPr>
            <p:cNvPr id="663" name=""/>
            <p:cNvSpPr/>
            <p:nvPr/>
          </p:nvSpPr>
          <p:spPr>
            <a:xfrm>
              <a:off x="2793600" y="1447920"/>
              <a:ext cx="1600200" cy="1752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 = 0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 = 4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0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k == 0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07800" y="350496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b = 1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60640" y="350496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b = 2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22200" y="434304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&lt; n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93400" y="5181480"/>
              <a:ext cx="2438640" cy="761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 = s + </a:t>
              </a:r>
              <a:r>
                <a:rPr b="0" lang="en-US" sz="2400" spc="-1" strike="noStrike">
                  <a:solidFill>
                    <a:srgbClr val="ffe175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*b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i + 1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12920" y="5333760"/>
              <a:ext cx="198108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return 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793240" y="3200040"/>
              <a:ext cx="30492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089240" y="3200040"/>
              <a:ext cx="30456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69920" y="4038480"/>
              <a:ext cx="304920" cy="304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089240" y="4038480"/>
              <a:ext cx="304560" cy="304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021840" y="4876560"/>
              <a:ext cx="30492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36600" y="4876560"/>
              <a:ext cx="457200" cy="4568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0880" y="4190760"/>
              <a:ext cx="2641320" cy="2450880"/>
            </a:xfrm>
            <a:custGeom>
              <a:avLst/>
              <a:gdLst/>
              <a:ahLst/>
              <a:rect l="l" t="t" r="r" b="b"/>
              <a:pathLst>
                <a:path w="1664" h="1544">
                  <a:moveTo>
                    <a:pt x="1088" y="1104"/>
                  </a:moveTo>
                  <a:cubicBezTo>
                    <a:pt x="776" y="1324"/>
                    <a:pt x="464" y="1544"/>
                    <a:pt x="320" y="1392"/>
                  </a:cubicBezTo>
                  <a:cubicBezTo>
                    <a:pt x="176" y="1240"/>
                    <a:pt x="0" y="384"/>
                    <a:pt x="224" y="192"/>
                  </a:cubicBezTo>
                  <a:cubicBezTo>
                    <a:pt x="448" y="0"/>
                    <a:pt x="1424" y="232"/>
                    <a:pt x="1664" y="24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1708200" y="2139840"/>
            <a:ext cx="1466640" cy="3178440"/>
          </a:xfrm>
          <a:custGeom>
            <a:avLst/>
            <a:gdLst/>
            <a:ahLst/>
            <a:rect l="l" t="t" r="r" b="b"/>
            <a:pathLst>
              <a:path w="924" h="2002">
                <a:moveTo>
                  <a:pt x="924" y="44"/>
                </a:moveTo>
                <a:cubicBezTo>
                  <a:pt x="793" y="66"/>
                  <a:pt x="278" y="0"/>
                  <a:pt x="139" y="177"/>
                </a:cubicBezTo>
                <a:cubicBezTo>
                  <a:pt x="0" y="354"/>
                  <a:pt x="16" y="805"/>
                  <a:pt x="88" y="1109"/>
                </a:cubicBezTo>
                <a:cubicBezTo>
                  <a:pt x="160" y="1413"/>
                  <a:pt x="469" y="1816"/>
                  <a:pt x="569" y="2002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696640" y="1328760"/>
            <a:ext cx="2614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e175"/>
                </a:solidFill>
                <a:latin typeface="Times New Roman"/>
              </a:rPr>
              <a:t>DA</a:t>
            </a:r>
            <a:r>
              <a:rPr b="0" lang="en-US" sz="4400" spc="-1" strike="noStrike">
                <a:solidFill>
                  <a:srgbClr val="ffe175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 svim RD 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 = 4</a:t>
            </a:r>
            <a:r>
              <a:rPr b="0" lang="en-US" sz="32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Konstruisanje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bazn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blok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ov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33720" y="4876920"/>
            <a:ext cx="914400" cy="1098360"/>
            <a:chOff x="2133720" y="4876920"/>
            <a:chExt cx="914400" cy="1098360"/>
          </a:xfrm>
        </p:grpSpPr>
        <p:sp>
          <p:nvSpPr>
            <p:cNvPr id="100" name=""/>
            <p:cNvSpPr/>
            <p:nvPr/>
          </p:nvSpPr>
          <p:spPr>
            <a:xfrm>
              <a:off x="2133720" y="4876920"/>
              <a:ext cx="914400" cy="45720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 = 0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5518080"/>
              <a:ext cx="914400" cy="45720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 = 4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stCxn id="100" idx="2"/>
              <a:endCxn id="101" idx="0"/>
            </p:cNvCxnSpPr>
            <p:nvPr/>
          </p:nvCxnSpPr>
          <p:spPr>
            <a:xfrm>
              <a:off x="2590560" y="5333760"/>
              <a:ext cx="1080" cy="184680"/>
            </a:xfrm>
            <a:prstGeom prst="straightConnector1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</p:cxnSp>
      </p:grp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očinjemo sa grafom kontrole instrukcija programa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osjetimo sve grane graf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Spajamo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susjedne čvorove ako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amo jedna gran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zlazi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 prvog čvor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amo jedna grana ulazi u drugi čvo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4952880"/>
            <a:ext cx="990720" cy="9464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51973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Da li je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nstan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 u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 = s+a*b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380880" y="1447920"/>
            <a:ext cx="5613120" cy="5193720"/>
            <a:chOff x="380880" y="1447920"/>
            <a:chExt cx="5613120" cy="5193720"/>
          </a:xfrm>
        </p:grpSpPr>
        <p:sp>
          <p:nvSpPr>
            <p:cNvPr id="680" name=""/>
            <p:cNvSpPr/>
            <p:nvPr/>
          </p:nvSpPr>
          <p:spPr>
            <a:xfrm>
              <a:off x="2793600" y="1447920"/>
              <a:ext cx="1600200" cy="1752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 = 0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 = 4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0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k == 0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07800" y="350496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b = 1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60640" y="350496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b = 2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22200" y="434304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&lt; n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193400" y="5181480"/>
              <a:ext cx="2438640" cy="761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 = s + a*b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i + 1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12920" y="5333760"/>
              <a:ext cx="198108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return 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793240" y="3200040"/>
              <a:ext cx="30492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89240" y="3200040"/>
              <a:ext cx="30456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69920" y="4038480"/>
              <a:ext cx="304920" cy="304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089240" y="4038480"/>
              <a:ext cx="304560" cy="304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3021840" y="4876560"/>
              <a:ext cx="30492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36600" y="4876560"/>
              <a:ext cx="457200" cy="4568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0880" y="4190760"/>
              <a:ext cx="2641320" cy="2450880"/>
            </a:xfrm>
            <a:custGeom>
              <a:avLst/>
              <a:gdLst/>
              <a:ahLst/>
              <a:rect l="l" t="t" r="r" b="b"/>
              <a:pathLst>
                <a:path w="1664" h="1544">
                  <a:moveTo>
                    <a:pt x="1088" y="1104"/>
                  </a:moveTo>
                  <a:cubicBezTo>
                    <a:pt x="776" y="1324"/>
                    <a:pt x="464" y="1544"/>
                    <a:pt x="320" y="1392"/>
                  </a:cubicBezTo>
                  <a:cubicBezTo>
                    <a:pt x="176" y="1240"/>
                    <a:pt x="0" y="384"/>
                    <a:pt x="224" y="192"/>
                  </a:cubicBezTo>
                  <a:cubicBezTo>
                    <a:pt x="448" y="0"/>
                    <a:pt x="1424" y="232"/>
                    <a:pt x="1664" y="24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5850720" y="1328760"/>
            <a:ext cx="230976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175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e175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e175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dna RD 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 = 1</a:t>
            </a:r>
            <a:r>
              <a:rPr b="0" lang="en-US" sz="32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ruga RD 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 = 2</a:t>
            </a:r>
            <a:r>
              <a:rPr b="0" lang="en-US" sz="3200" spc="-1" strike="noStrike">
                <a:solidFill>
                  <a:srgbClr val="ffe17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52680" y="3962520"/>
            <a:ext cx="457200" cy="1295280"/>
          </a:xfrm>
          <a:prstGeom prst="line">
            <a:avLst/>
          </a:prstGeom>
          <a:ln w="19080">
            <a:solidFill>
              <a:srgbClr val="ffe1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3886200"/>
            <a:ext cx="2109960" cy="1506600"/>
          </a:xfrm>
          <a:custGeom>
            <a:avLst/>
            <a:gdLst/>
            <a:ahLst/>
            <a:rect l="l" t="t" r="r" b="b"/>
            <a:pathLst>
              <a:path w="1329" h="949">
                <a:moveTo>
                  <a:pt x="719" y="0"/>
                </a:moveTo>
                <a:cubicBezTo>
                  <a:pt x="800" y="96"/>
                  <a:pt x="1329" y="418"/>
                  <a:pt x="1209" y="576"/>
                </a:cubicBezTo>
                <a:cubicBezTo>
                  <a:pt x="1089" y="734"/>
                  <a:pt x="252" y="871"/>
                  <a:pt x="0" y="949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352680" y="38088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ffff"/>
                </a:solidFill>
                <a:latin typeface="Times New Roman"/>
              </a:rPr>
              <a:t>Podjela (s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plitting</a:t>
            </a:r>
            <a:r>
              <a:rPr b="0" lang="sr-Latn-CS" sz="3600" spc="-1" strike="noStrike">
                <a:solidFill>
                  <a:srgbClr val="ccffff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sr-Latn-CS" sz="2600" spc="-1" strike="noStrike">
                <a:solidFill>
                  <a:srgbClr val="ccffff"/>
                </a:solidFill>
                <a:latin typeface="Times New Roman"/>
              </a:rPr>
              <a:t>Čuva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nforma</a:t>
            </a:r>
            <a:r>
              <a:rPr b="0" lang="sr-Latn-CS" sz="2600" spc="-1" strike="noStrike">
                <a:solidFill>
                  <a:srgbClr val="ccffff"/>
                </a:solidFill>
                <a:latin typeface="Times New Roman"/>
              </a:rPr>
              <a:t>cije izgubljene pri spajanj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457200"/>
            <a:ext cx="3885840" cy="3595680"/>
            <a:chOff x="0" y="457200"/>
            <a:chExt cx="3885840" cy="3595680"/>
          </a:xfrm>
        </p:grpSpPr>
        <p:sp>
          <p:nvSpPr>
            <p:cNvPr id="698" name=""/>
            <p:cNvSpPr/>
            <p:nvPr/>
          </p:nvSpPr>
          <p:spPr>
            <a:xfrm>
              <a:off x="1670400" y="457200"/>
              <a:ext cx="1107720" cy="12132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s = 0; 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a = 4; 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i = 0;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k == 0 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95560" y="1881360"/>
              <a:ext cx="791280" cy="369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b = 1;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08760" y="1881360"/>
              <a:ext cx="791280" cy="369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b = 2;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28800" y="2461680"/>
              <a:ext cx="791280" cy="369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i &lt; n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2680" y="3041640"/>
              <a:ext cx="1688040" cy="527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s = s + a*b;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i = i + 1; 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14600" y="3147480"/>
              <a:ext cx="1371240" cy="369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return 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1670400" y="1670400"/>
              <a:ext cx="210960" cy="2109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67160" y="1670400"/>
              <a:ext cx="210960" cy="2109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23320" y="2250360"/>
              <a:ext cx="210600" cy="2109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567160" y="2250360"/>
              <a:ext cx="210960" cy="2109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828800" y="2831040"/>
              <a:ext cx="210960" cy="2106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61680" y="2831040"/>
              <a:ext cx="316440" cy="3164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2356200"/>
              <a:ext cx="1828800" cy="1696680"/>
            </a:xfrm>
            <a:custGeom>
              <a:avLst/>
              <a:gdLst/>
              <a:ahLst/>
              <a:rect l="l" t="t" r="r" b="b"/>
              <a:pathLst>
                <a:path w="1664" h="1544">
                  <a:moveTo>
                    <a:pt x="1088" y="1104"/>
                  </a:moveTo>
                  <a:cubicBezTo>
                    <a:pt x="776" y="1324"/>
                    <a:pt x="464" y="1544"/>
                    <a:pt x="320" y="1392"/>
                  </a:cubicBezTo>
                  <a:cubicBezTo>
                    <a:pt x="176" y="1240"/>
                    <a:pt x="0" y="384"/>
                    <a:pt x="224" y="192"/>
                  </a:cubicBezTo>
                  <a:cubicBezTo>
                    <a:pt x="448" y="0"/>
                    <a:pt x="1424" y="232"/>
                    <a:pt x="1664" y="24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1433520" y="2198520"/>
            <a:ext cx="317520" cy="895680"/>
          </a:xfrm>
          <a:prstGeom prst="line">
            <a:avLst/>
          </a:prstGeom>
          <a:ln w="19080">
            <a:solidFill>
              <a:srgbClr val="ffe1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98640" y="2144880"/>
            <a:ext cx="1460520" cy="1042920"/>
          </a:xfrm>
          <a:custGeom>
            <a:avLst/>
            <a:gdLst/>
            <a:ahLst/>
            <a:rect l="l" t="t" r="r" b="b"/>
            <a:pathLst>
              <a:path w="1329" h="949">
                <a:moveTo>
                  <a:pt x="719" y="0"/>
                </a:moveTo>
                <a:cubicBezTo>
                  <a:pt x="800" y="96"/>
                  <a:pt x="1329" y="418"/>
                  <a:pt x="1209" y="576"/>
                </a:cubicBezTo>
                <a:cubicBezTo>
                  <a:pt x="1089" y="734"/>
                  <a:pt x="252" y="871"/>
                  <a:pt x="0" y="949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5520" y="2971800"/>
            <a:ext cx="1108080" cy="1212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 = 0;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a = 4;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k == 0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91040" y="4395960"/>
            <a:ext cx="792000" cy="36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05320" y="4395960"/>
            <a:ext cx="790560" cy="36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95480" y="5105520"/>
            <a:ext cx="79056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28640" y="5684760"/>
            <a:ext cx="1689120" cy="527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= i + 1;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81280" y="5791320"/>
            <a:ext cx="137160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return s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565160" y="4184640"/>
            <a:ext cx="211320" cy="2113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462640" y="4184640"/>
            <a:ext cx="210960" cy="2113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733920" y="4765680"/>
            <a:ext cx="885600" cy="4921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73600" y="4765680"/>
            <a:ext cx="1108080" cy="4921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895120" y="5473800"/>
            <a:ext cx="211320" cy="21096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29080" y="5473800"/>
            <a:ext cx="315720" cy="317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66680" y="4998960"/>
            <a:ext cx="1828800" cy="1697040"/>
          </a:xfrm>
          <a:custGeom>
            <a:avLst/>
            <a:gdLst/>
            <a:ahLst/>
            <a:rect l="l" t="t" r="r" b="b"/>
            <a:pathLst>
              <a:path w="1664" h="1544">
                <a:moveTo>
                  <a:pt x="1088" y="1104"/>
                </a:moveTo>
                <a:cubicBezTo>
                  <a:pt x="776" y="1324"/>
                  <a:pt x="464" y="1544"/>
                  <a:pt x="320" y="1392"/>
                </a:cubicBezTo>
                <a:cubicBezTo>
                  <a:pt x="176" y="1240"/>
                  <a:pt x="0" y="384"/>
                  <a:pt x="224" y="192"/>
                </a:cubicBezTo>
                <a:cubicBezTo>
                  <a:pt x="448" y="0"/>
                  <a:pt x="1424" y="232"/>
                  <a:pt x="1664" y="24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84480" y="4713120"/>
            <a:ext cx="1285920" cy="1114560"/>
          </a:xfrm>
          <a:custGeom>
            <a:avLst/>
            <a:gdLst/>
            <a:ahLst/>
            <a:rect l="l" t="t" r="r" b="b"/>
            <a:pathLst>
              <a:path w="810" h="702">
                <a:moveTo>
                  <a:pt x="785" y="0"/>
                </a:moveTo>
                <a:cubicBezTo>
                  <a:pt x="767" y="75"/>
                  <a:pt x="810" y="336"/>
                  <a:pt x="679" y="453"/>
                </a:cubicBezTo>
                <a:cubicBezTo>
                  <a:pt x="515" y="668"/>
                  <a:pt x="141" y="650"/>
                  <a:pt x="0" y="702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81680" y="5105520"/>
            <a:ext cx="79056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14840" y="5684760"/>
            <a:ext cx="1689120" cy="527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= i + 1;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467480" y="5791320"/>
            <a:ext cx="137160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return s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781320" y="5473800"/>
            <a:ext cx="211320" cy="21096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415280" y="5473800"/>
            <a:ext cx="315720" cy="317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4998960"/>
            <a:ext cx="1828800" cy="1697040"/>
          </a:xfrm>
          <a:custGeom>
            <a:avLst/>
            <a:gdLst/>
            <a:ahLst/>
            <a:rect l="l" t="t" r="r" b="b"/>
            <a:pathLst>
              <a:path w="1664" h="1544">
                <a:moveTo>
                  <a:pt x="1088" y="1104"/>
                </a:moveTo>
                <a:cubicBezTo>
                  <a:pt x="776" y="1324"/>
                  <a:pt x="464" y="1544"/>
                  <a:pt x="320" y="1392"/>
                </a:cubicBezTo>
                <a:cubicBezTo>
                  <a:pt x="176" y="1240"/>
                  <a:pt x="0" y="384"/>
                  <a:pt x="224" y="192"/>
                </a:cubicBezTo>
                <a:cubicBezTo>
                  <a:pt x="448" y="0"/>
                  <a:pt x="1424" y="232"/>
                  <a:pt x="1664" y="24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86400" y="4724280"/>
            <a:ext cx="1295280" cy="990720"/>
          </a:xfrm>
          <a:prstGeom prst="line">
            <a:avLst/>
          </a:prstGeom>
          <a:ln w="19080">
            <a:solidFill>
              <a:srgbClr val="ffe1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352680" y="1905120"/>
            <a:ext cx="1981440" cy="114300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71599"/>
                <a:lnTo>
                  <a:pt x="10889" y="0"/>
                </a:lnTo>
                <a:arcTo wR="10800" hR="10800" stAng="-5371599" swAng="537159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572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352680" y="38088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ffff"/>
                </a:solidFill>
                <a:latin typeface="Times New Roman"/>
              </a:rPr>
              <a:t>Podjela (s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plitting</a:t>
            </a:r>
            <a:r>
              <a:rPr b="0" lang="sr-Latn-CS" sz="3600" spc="-1" strike="noStrike">
                <a:solidFill>
                  <a:srgbClr val="ccffff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sr-Latn-CS" sz="2600" spc="-1" strike="noStrike">
                <a:solidFill>
                  <a:srgbClr val="ccffff"/>
                </a:solidFill>
                <a:latin typeface="Times New Roman"/>
              </a:rPr>
              <a:t>Čuva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nforma</a:t>
            </a:r>
            <a:r>
              <a:rPr b="0" lang="sr-Latn-CS" sz="2600" spc="-1" strike="noStrike">
                <a:solidFill>
                  <a:srgbClr val="ccffff"/>
                </a:solidFill>
                <a:latin typeface="Times New Roman"/>
              </a:rPr>
              <a:t>cije izgubljene pri spajanj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0" y="457200"/>
            <a:ext cx="3885840" cy="3595680"/>
            <a:chOff x="0" y="457200"/>
            <a:chExt cx="3885840" cy="3595680"/>
          </a:xfrm>
        </p:grpSpPr>
        <p:sp>
          <p:nvSpPr>
            <p:cNvPr id="737" name=""/>
            <p:cNvSpPr/>
            <p:nvPr/>
          </p:nvSpPr>
          <p:spPr>
            <a:xfrm>
              <a:off x="1670400" y="457200"/>
              <a:ext cx="1107720" cy="12132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s = 0; 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a = 4; 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i = 0;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k == 0 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195560" y="1881360"/>
              <a:ext cx="791280" cy="369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b = 1;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08760" y="1881360"/>
              <a:ext cx="791280" cy="369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b = 2;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28800" y="2461680"/>
              <a:ext cx="791280" cy="369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i &lt; n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2680" y="3041640"/>
              <a:ext cx="1688040" cy="527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s = s + a*b;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i = i + 1; 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14600" y="3147480"/>
              <a:ext cx="1371240" cy="369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Times New Roman"/>
                </a:rPr>
                <a:t>return 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1670400" y="1670400"/>
              <a:ext cx="210960" cy="2109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67160" y="1670400"/>
              <a:ext cx="210960" cy="2109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23320" y="2250360"/>
              <a:ext cx="210600" cy="2109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2567160" y="2250360"/>
              <a:ext cx="210960" cy="2109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1828800" y="2831040"/>
              <a:ext cx="210960" cy="2106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61680" y="2831040"/>
              <a:ext cx="316440" cy="3164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0" y="2356200"/>
              <a:ext cx="1828800" cy="1696680"/>
            </a:xfrm>
            <a:custGeom>
              <a:avLst/>
              <a:gdLst/>
              <a:ahLst/>
              <a:rect l="l" t="t" r="r" b="b"/>
              <a:pathLst>
                <a:path w="1664" h="1544">
                  <a:moveTo>
                    <a:pt x="1088" y="1104"/>
                  </a:moveTo>
                  <a:cubicBezTo>
                    <a:pt x="776" y="1324"/>
                    <a:pt x="464" y="1544"/>
                    <a:pt x="320" y="1392"/>
                  </a:cubicBezTo>
                  <a:cubicBezTo>
                    <a:pt x="176" y="1240"/>
                    <a:pt x="0" y="384"/>
                    <a:pt x="224" y="192"/>
                  </a:cubicBezTo>
                  <a:cubicBezTo>
                    <a:pt x="448" y="0"/>
                    <a:pt x="1424" y="232"/>
                    <a:pt x="1664" y="24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433520" y="2198520"/>
            <a:ext cx="317520" cy="895680"/>
          </a:xfrm>
          <a:prstGeom prst="line">
            <a:avLst/>
          </a:prstGeom>
          <a:ln w="19080">
            <a:solidFill>
              <a:srgbClr val="ffe1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98640" y="2144880"/>
            <a:ext cx="1460520" cy="1042920"/>
          </a:xfrm>
          <a:custGeom>
            <a:avLst/>
            <a:gdLst/>
            <a:ahLst/>
            <a:rect l="l" t="t" r="r" b="b"/>
            <a:pathLst>
              <a:path w="1329" h="949">
                <a:moveTo>
                  <a:pt x="719" y="0"/>
                </a:moveTo>
                <a:cubicBezTo>
                  <a:pt x="800" y="96"/>
                  <a:pt x="1329" y="418"/>
                  <a:pt x="1209" y="576"/>
                </a:cubicBezTo>
                <a:cubicBezTo>
                  <a:pt x="1089" y="734"/>
                  <a:pt x="252" y="871"/>
                  <a:pt x="0" y="949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65520" y="2971800"/>
            <a:ext cx="1108080" cy="1212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 = 0;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a = 4;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k == 0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091040" y="4395960"/>
            <a:ext cx="792000" cy="36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05320" y="4395960"/>
            <a:ext cx="790560" cy="36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895480" y="5105520"/>
            <a:ext cx="79056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28640" y="5684760"/>
            <a:ext cx="1724040" cy="71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 = s + a*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= i + 1;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581280" y="5791320"/>
            <a:ext cx="137160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return s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4565160" y="4184640"/>
            <a:ext cx="211320" cy="2113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62640" y="4184640"/>
            <a:ext cx="210960" cy="2113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733920" y="4765680"/>
            <a:ext cx="885600" cy="4921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673600" y="4765680"/>
            <a:ext cx="1108080" cy="4921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2895120" y="5473800"/>
            <a:ext cx="211320" cy="21096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29080" y="5473800"/>
            <a:ext cx="315720" cy="317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66680" y="4952880"/>
            <a:ext cx="1828800" cy="1741680"/>
          </a:xfrm>
          <a:custGeom>
            <a:avLst/>
            <a:gdLst/>
            <a:ahLst/>
            <a:rect l="l" t="t" r="r" b="b"/>
            <a:pathLst>
              <a:path w="1152" h="1097">
                <a:moveTo>
                  <a:pt x="652" y="929"/>
                </a:moveTo>
                <a:cubicBezTo>
                  <a:pt x="580" y="933"/>
                  <a:pt x="305" y="1097"/>
                  <a:pt x="222" y="964"/>
                </a:cubicBezTo>
                <a:cubicBezTo>
                  <a:pt x="139" y="831"/>
                  <a:pt x="0" y="266"/>
                  <a:pt x="155" y="133"/>
                </a:cubicBezTo>
                <a:cubicBezTo>
                  <a:pt x="310" y="0"/>
                  <a:pt x="986" y="161"/>
                  <a:pt x="1152" y="166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84480" y="4713120"/>
            <a:ext cx="1285920" cy="1114560"/>
          </a:xfrm>
          <a:custGeom>
            <a:avLst/>
            <a:gdLst/>
            <a:ahLst/>
            <a:rect l="l" t="t" r="r" b="b"/>
            <a:pathLst>
              <a:path w="810" h="702">
                <a:moveTo>
                  <a:pt x="785" y="0"/>
                </a:moveTo>
                <a:cubicBezTo>
                  <a:pt x="767" y="75"/>
                  <a:pt x="810" y="336"/>
                  <a:pt x="679" y="453"/>
                </a:cubicBezTo>
                <a:cubicBezTo>
                  <a:pt x="515" y="668"/>
                  <a:pt x="141" y="650"/>
                  <a:pt x="0" y="702"/>
                </a:cubicBezTo>
              </a:path>
            </a:pathLst>
          </a:custGeom>
          <a:noFill/>
          <a:ln w="19080">
            <a:solidFill>
              <a:srgbClr val="ffe1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81680" y="5105520"/>
            <a:ext cx="79056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4840" y="5684760"/>
            <a:ext cx="1724040" cy="71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 = s + a*</a:t>
            </a:r>
            <a:r>
              <a:rPr b="0" lang="en-US" sz="2800" spc="-1" strike="noStrike">
                <a:solidFill>
                  <a:srgbClr val="ffe175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 = i + 1;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67480" y="5791320"/>
            <a:ext cx="137160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return s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6781320" y="5473800"/>
            <a:ext cx="211320" cy="21096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415280" y="5473800"/>
            <a:ext cx="315720" cy="317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52880" y="4998960"/>
            <a:ext cx="1828800" cy="1733760"/>
          </a:xfrm>
          <a:custGeom>
            <a:avLst/>
            <a:gdLst/>
            <a:ahLst/>
            <a:rect l="l" t="t" r="r" b="b"/>
            <a:pathLst>
              <a:path w="1152" h="1092">
                <a:moveTo>
                  <a:pt x="645" y="900"/>
                </a:moveTo>
                <a:cubicBezTo>
                  <a:pt x="573" y="911"/>
                  <a:pt x="304" y="1092"/>
                  <a:pt x="222" y="964"/>
                </a:cubicBezTo>
                <a:cubicBezTo>
                  <a:pt x="140" y="836"/>
                  <a:pt x="0" y="266"/>
                  <a:pt x="155" y="133"/>
                </a:cubicBezTo>
                <a:cubicBezTo>
                  <a:pt x="310" y="0"/>
                  <a:pt x="986" y="161"/>
                  <a:pt x="1152" y="166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86400" y="4724280"/>
            <a:ext cx="1295280" cy="990720"/>
          </a:xfrm>
          <a:prstGeom prst="line">
            <a:avLst/>
          </a:prstGeom>
          <a:ln w="19080">
            <a:solidFill>
              <a:srgbClr val="ffe1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352680" y="1905120"/>
            <a:ext cx="1981440" cy="114300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71599"/>
                <a:lnTo>
                  <a:pt x="10889" y="0"/>
                </a:lnTo>
                <a:arcTo wR="10800" hR="10800" stAng="-5371599" swAng="537159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572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zračunavanje R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računavamo uz pomoć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upov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efin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edstavljamo skupove preko vektora bito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aka definicija ima poziciju u vektor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 svak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lok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računajm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f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 koje dostižu početa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f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 koje dostižu kraj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računamo RD simulacijom izvršavanja programa, dok ne dobijemo fiksnu tačk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09880" y="838080"/>
            <a:ext cx="1600200" cy="1752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: s = 0;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: a = 4;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: 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7360" y="2895480"/>
            <a:ext cx="1269720" cy="533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: 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876920" y="2895480"/>
            <a:ext cx="1320840" cy="533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: 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38480" y="3733920"/>
            <a:ext cx="1143000" cy="533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4572000"/>
            <a:ext cx="2438640" cy="762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: 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7: i = i + 1;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4724280"/>
            <a:ext cx="1981080" cy="533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809520" y="2590920"/>
            <a:ext cx="304920" cy="30456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105520" y="2590920"/>
            <a:ext cx="304560" cy="30456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3429000"/>
            <a:ext cx="30492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5105520" y="3429000"/>
            <a:ext cx="30456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4038120" y="4267080"/>
            <a:ext cx="30492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52880" y="4267080"/>
            <a:ext cx="457200" cy="4572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97160" y="3581280"/>
            <a:ext cx="2641320" cy="2451240"/>
          </a:xfrm>
          <a:custGeom>
            <a:avLst/>
            <a:gdLst/>
            <a:ahLst/>
            <a:rect l="l" t="t" r="r" b="b"/>
            <a:pathLst>
              <a:path w="1664" h="1544">
                <a:moveTo>
                  <a:pt x="1088" y="1104"/>
                </a:moveTo>
                <a:cubicBezTo>
                  <a:pt x="776" y="1324"/>
                  <a:pt x="464" y="1544"/>
                  <a:pt x="320" y="1392"/>
                </a:cubicBezTo>
                <a:cubicBezTo>
                  <a:pt x="176" y="1240"/>
                  <a:pt x="0" y="384"/>
                  <a:pt x="224" y="192"/>
                </a:cubicBezTo>
                <a:cubicBezTo>
                  <a:pt x="448" y="0"/>
                  <a:pt x="1424" y="232"/>
                  <a:pt x="1664" y="24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40280" y="38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0000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16800" y="2362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0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87800" y="2362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0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259600" y="3733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11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11480" y="4038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11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9080" y="4267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11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9600" y="3733920"/>
            <a:ext cx="12474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111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11480" y="4038480"/>
            <a:ext cx="12474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111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869080" y="4267080"/>
            <a:ext cx="12474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111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Formaliz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cija 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al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z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vak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i blok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def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 koje dostižu početak blok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T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def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 koje dostižu kraj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GEN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def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gene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sanih u blok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KILL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def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 uništenih u blok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EN[s = s + a*b; i = i + 1;] = 000001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KILL[s = s + a*b; i = i + 1;] = 101000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mp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er 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enira svak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i blok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a odredi skupov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GEN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KILL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Jednačine toka podatak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[b] = OUT[b1] U ... U OUT[bn]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Gdje s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1, ..., bn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 prethodnic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FG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T[b] = (IN[b] - KILL[b]) U GEN[b]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[entry] = 000000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ultat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: 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tem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ednačin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Rješavanje jednačin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oristi se algoritam fiksne tačk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liz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jemo s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T[b] = 000000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onavljamo jednačin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[b] = OUT[b1] U ... U OUT[bn]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T[b] = (IN[b] - KILL[b]) U GEN[b]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ok ne dostignemo fiksnu tačku, tj. dok primjena jednačina ne dodaje ništa novo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orist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radna lista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orklis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 za evidentiranje koje jednačine mogu imati dodatnih efekat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D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 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gori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 all nodes n in N OUT[n] = emptyset; // OUT[n] = GEN[n]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anged = N; // N = all nodes in graph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ile (Changed != emptyset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oose a node n in Changed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anged = Changed - { n }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[n] = emptyse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 all nodes p in predecessors(n) IN[n] = IN[n] U OUT[p]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UT[n] = GEN[n] U (IN[n] - KILL[n])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f (OUT[n] changed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 all nodes s in successors(n) Changed = Changed U { s }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itanj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a li se algoritam zaustavlj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r je funkcij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nsfe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 monoton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ko uvećav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IN,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većav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OU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a gran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, svi bitovi s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 je b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1,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a li postoji izvršavanje u kome odgovarajuća definicija dostiž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i blok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 je b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0, d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i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dgovarajuća definicija bilo kada dostiž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i blok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cept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vat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 an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5335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4032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6" idx="2"/>
            <a:endCxn id="107" idx="0"/>
          </p:cNvCxnSpPr>
          <p:nvPr/>
        </p:nvCxnSpPr>
        <p:spPr>
          <a:xfrm>
            <a:off x="2209320" y="990720"/>
            <a:ext cx="1080" cy="41328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8" idx="0"/>
          </p:cNvCxnSpPr>
          <p:nvPr/>
        </p:nvCxnSpPr>
        <p:spPr>
          <a:xfrm>
            <a:off x="2209320" y="18604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8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9" idx="3"/>
            <a:endCxn id="110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1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1" idx="2"/>
            <a:endCxn id="112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0" idx="2"/>
            <a:endCxn id="112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3" idx="2"/>
            <a:endCxn id="114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2" idx="3"/>
            <a:endCxn id="115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2" idx="1"/>
            <a:endCxn id="113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4" idx="2"/>
            <a:endCxn id="112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095880" y="609480"/>
            <a:ext cx="1447920" cy="9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Dostupni izrazi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raz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x+y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e dostupan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vailable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 u tačk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ak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tanja od početnog čvora do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računav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x+y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je dostizanj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,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ema dodjeljivanja vrijednost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x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l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y poslije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 izračunavanja ali pri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form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a o dostupnim izrazima može se iskoristiti z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lob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(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ad viš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v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eliminaciju zajedničkih podizraz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 je izraz dostupan pri upotrebi, nema potrebe da ga ponovo izračunavam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Određivanje dostupnih izraz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edstavljamo skupove izraza pomoću vektora bitov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vakom izrazu odgovara po jedan bi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rtujem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dataflow algori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 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ličan onom za RD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snovna razlik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f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 dostiž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zni blok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ko dolazi iz bilo kog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ethodnika 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FG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raz je dostupan 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z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m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 ako je dostupan iz svih prethodnika 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FG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"/>
          <p:cNvGrpSpPr/>
          <p:nvPr/>
        </p:nvGrpSpPr>
        <p:grpSpPr>
          <a:xfrm>
            <a:off x="3059280" y="762120"/>
            <a:ext cx="5094000" cy="5592600"/>
            <a:chOff x="3059280" y="762120"/>
            <a:chExt cx="5094000" cy="5592600"/>
          </a:xfrm>
        </p:grpSpPr>
        <p:sp>
          <p:nvSpPr>
            <p:cNvPr id="813" name=""/>
            <p:cNvSpPr/>
            <p:nvPr/>
          </p:nvSpPr>
          <p:spPr>
            <a:xfrm>
              <a:off x="4800600" y="762120"/>
              <a:ext cx="1600200" cy="914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 = x+y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x == 0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29000" y="1981080"/>
              <a:ext cx="1600200" cy="914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x = z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b = x+y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81480" y="4191120"/>
              <a:ext cx="1143000" cy="533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&lt; n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52680" y="5029200"/>
              <a:ext cx="2438640" cy="8380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c = x+y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i+c;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72200" y="5029200"/>
              <a:ext cx="1981080" cy="533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d = x+y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920" y="2895480"/>
              <a:ext cx="304560" cy="3049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4876920" y="1676520"/>
              <a:ext cx="304560" cy="304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5181120" y="4724280"/>
              <a:ext cx="304920" cy="3049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95880" y="4724280"/>
              <a:ext cx="304920" cy="3049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3200400"/>
              <a:ext cx="1600200" cy="533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i = x+y;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15000" y="1676520"/>
              <a:ext cx="0" cy="1523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91320" y="3733920"/>
              <a:ext cx="0" cy="457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59280" y="4335480"/>
              <a:ext cx="2097000" cy="2019240"/>
            </a:xfrm>
            <a:custGeom>
              <a:avLst/>
              <a:gdLst/>
              <a:ahLst/>
              <a:rect l="l" t="t" r="r" b="b"/>
              <a:pathLst>
                <a:path w="1321" h="1272">
                  <a:moveTo>
                    <a:pt x="827" y="973"/>
                  </a:moveTo>
                  <a:cubicBezTo>
                    <a:pt x="713" y="1001"/>
                    <a:pt x="243" y="1272"/>
                    <a:pt x="138" y="1139"/>
                  </a:cubicBezTo>
                  <a:cubicBezTo>
                    <a:pt x="33" y="1006"/>
                    <a:pt x="0" y="346"/>
                    <a:pt x="197" y="173"/>
                  </a:cubicBezTo>
                  <a:cubicBezTo>
                    <a:pt x="394" y="0"/>
                    <a:pt x="1087" y="116"/>
                    <a:pt x="1321" y="101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381240" y="1219320"/>
            <a:ext cx="11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zra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: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: i&lt;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: i+c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: x==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853240" y="193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0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049920" y="1447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00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9768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34520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07120" y="457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469280" y="4495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800600" y="533520"/>
            <a:ext cx="160020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t = a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x == 0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429000" y="1905120"/>
            <a:ext cx="1600200" cy="1066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x = z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x+y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t = 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181480" y="4191120"/>
            <a:ext cx="1143000" cy="533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5029200"/>
            <a:ext cx="2438640" cy="838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</a:t>
            </a: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+c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72200" y="5029200"/>
            <a:ext cx="1981080" cy="533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00600" y="2971800"/>
            <a:ext cx="380880" cy="2286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4724280" y="1676520"/>
            <a:ext cx="457200" cy="2286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5181120" y="4724280"/>
            <a:ext cx="30492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95880" y="4724280"/>
            <a:ext cx="30492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200400"/>
            <a:ext cx="1600200" cy="533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</a:t>
            </a: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15000" y="1676520"/>
            <a:ext cx="0" cy="15238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91320" y="3733920"/>
            <a:ext cx="0" cy="4572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59280" y="4335480"/>
            <a:ext cx="2097000" cy="2019240"/>
          </a:xfrm>
          <a:custGeom>
            <a:avLst/>
            <a:gdLst/>
            <a:ahLst/>
            <a:rect l="l" t="t" r="r" b="b"/>
            <a:pathLst>
              <a:path w="1321" h="1272">
                <a:moveTo>
                  <a:pt x="827" y="973"/>
                </a:moveTo>
                <a:cubicBezTo>
                  <a:pt x="713" y="1001"/>
                  <a:pt x="243" y="1272"/>
                  <a:pt x="138" y="1139"/>
                </a:cubicBezTo>
                <a:cubicBezTo>
                  <a:pt x="33" y="1006"/>
                  <a:pt x="0" y="346"/>
                  <a:pt x="197" y="173"/>
                </a:cubicBezTo>
                <a:cubicBezTo>
                  <a:pt x="394" y="0"/>
                  <a:pt x="1087" y="116"/>
                  <a:pt x="1321" y="101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1240" y="1219320"/>
            <a:ext cx="11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zraz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: x+y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: i&lt;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: i+c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: x==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54880" y="838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0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049920" y="1447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00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09768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34520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07120" y="457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9280" y="4495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1120" y="304920"/>
            <a:ext cx="27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lobal</a:t>
            </a: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ni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CS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54680" y="3581280"/>
            <a:ext cx="25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Moraju se koristiti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ste privremene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romjenljive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SE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u svim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lok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ovim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Formaliz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cija an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z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80880" y="1219320"/>
            <a:ext cx="83822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vak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azni blok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raza dostupnih na početku blok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T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raza dostupnih na kraj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GEN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raza izračunatih u blok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KILL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raza uništenih 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killed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EN[x = z; b = x+y] = 100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KILL[x = z; b = x+y] = 100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mp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er 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enira svak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i blok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a odredi skupov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GEN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KIL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Jednač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[b] = OUT[b1]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...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OUT[bn]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Gdje s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1, ..., bn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ethodnic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FG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T[b] = (IN[b] - KILL[b]) U GEN[b]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[entry] = 000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l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t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: 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tem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ednačin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Rješavanje jednač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1143000"/>
            <a:ext cx="8382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oristi se algoritam fiksne tačk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[entry] = 000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liz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j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m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OUT[b] = 111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onavljamo jednačin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[b] = OUT[b1]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T[bn]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T[b] = (IN[b] - KILL[b]) U GEN[b]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oristimo radnu listu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orklis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algoritm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a bi dostigli fiksnu tačk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gori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 dostupnih izraz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1219320"/>
            <a:ext cx="83822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 all nodes n in N OUT[n] = E;  // OUT[n] = E - KILL[n]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[Entry] = emptyset; OUT[Entry] = GEN[Entry];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anged = N - { Entry }; // N = all nodes in graph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ile (Changed != emptyset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oose a node n in Changed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anged = Changed - { n }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[n] = E; // E is set of all expression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 all nodes p in predecessors(n)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[n] = IN[n] intersect OUT[p]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UT[n] = GEN[n] U (IN[n] - KILL[n])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f (OUT[n] changed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 all nodes s in successors(n) Changed = Changed U { s }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Pitanj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a li se algoritam uvijek zaustavlj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 je izraz dostupan u nekom izvršavanju, da li je uvijek označen kao dostupan u algoritm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 izraz nije dostupan u nekom izvršavanju, može li biti označen kao dostupan u algoritm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 kom je smislu algoritam 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rvativ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n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Opšta korektnos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oncept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i u stvarnom izvršavanju programa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Reaching definition: defini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cija D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izvršavanje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E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u tački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program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P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Dostupni izraz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: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izraz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X,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izvršavanje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E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u tački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program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P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Anal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iziramo razloge svih mogućih izvršavanja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a sva izvršavanja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E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u tački programa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P, 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ako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defini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cija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D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dostiže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P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E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tada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D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je u skupu “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reaching definitions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”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u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P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iz analize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Ili, posmatrano sa druge strane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ako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D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nije u skupu “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reaching definitions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” u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P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iz analize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tada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D n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ikada ne dostiže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P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u bilo kojem izvršavanju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Za sva izvršavanja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E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u tački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program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P,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ako je izraz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X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u skupu dostupnih izraza u P iz analize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ada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je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dostupan u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E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u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P 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oncept 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on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ervativ</a:t>
            </a:r>
            <a:r>
              <a:rPr b="0" lang="sr-Latn-CS" sz="2200" spc="-1" strike="noStrike">
                <a:solidFill>
                  <a:srgbClr val="00ffff"/>
                </a:solidFill>
                <a:latin typeface="Times New Roman"/>
              </a:rPr>
              <a:t>nosti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52480" y="45720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10987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5680" y="20462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0" idx="0"/>
          </p:cNvCxnSpPr>
          <p:nvPr/>
        </p:nvCxnSpPr>
        <p:spPr>
          <a:xfrm>
            <a:off x="2209320" y="914400"/>
            <a:ext cx="1080" cy="1850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0" idx="2"/>
            <a:endCxn id="131" idx="0"/>
          </p:cNvCxnSpPr>
          <p:nvPr/>
        </p:nvCxnSpPr>
        <p:spPr>
          <a:xfrm>
            <a:off x="2209320" y="1555920"/>
            <a:ext cx="1080" cy="49104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1" idx="2"/>
          </p:cNvCxnSpPr>
          <p:nvPr/>
        </p:nvCxnSpPr>
        <p:spPr>
          <a:xfrm>
            <a:off x="2209320" y="2512800"/>
            <a:ext cx="2520" cy="154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2" idx="3"/>
            <a:endCxn id="133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2" idx="1"/>
            <a:endCxn id="134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4" idx="2"/>
            <a:endCxn id="135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3" idx="2"/>
            <a:endCxn id="135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6" idx="2"/>
            <a:endCxn id="137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5" idx="3"/>
            <a:endCxn id="138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5" idx="1"/>
            <a:endCxn id="136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2"/>
            <a:endCxn id="135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609480"/>
            <a:ext cx="1447920" cy="1447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ual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nost u algoritmim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aching definitio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perator spajanja je uni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T[b] 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van na prazan sku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ostupni izrazi (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vailable expression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perator spajanja je presjek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T[b] 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van na skup dostupnih izraz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pšti okvir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ramework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 z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ataflow algori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m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apravim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parametriz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vani d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aflow an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ator jednom, i koristimo ga za sv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ataflow problem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iveness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naliz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omjenljiv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v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e živa u tačk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e koristi na nekoj putanji koja počinje u p, 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em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fin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už putanje prije njene upotreb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ada j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omjenljiv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v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mrtva (d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ad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u tačk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ma upotreb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a bilo kojoj putanji 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ny path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 o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laznog čvora, ili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ko sve putanje o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 redefi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š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je upotreb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Kakva korist od ove informacije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lokacija registara (r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gister allocatio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ko j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omjenlji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mrtv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 reassign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jen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gist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liminacija mrtvog koda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limin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cija dodjeljivanj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oj koja se ne čita kasnije u programu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li se ne smije eliminisati poslednje dodjeljivanj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oj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kao što j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stance promjenljiv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koje je vidljivo izvan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FG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Mogu se eliminisati ostala “mrtva” dodjeljivanj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apravimo da su sve promjenljive koje treba da su vidljive spolja (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xternally visible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“žive”na izlasku iz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FG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nceptual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n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naliz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mu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 izvršavan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li krećemo od izlaza i idemo unazad (b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ckward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 kroz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računavamo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iveness inform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u od kraja ka početku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iveness primjer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477120" y="1600200"/>
            <a:ext cx="1600200" cy="1752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 = a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a+x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x == 0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05520" y="3886200"/>
            <a:ext cx="1600200" cy="762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t+z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477120" y="4648320"/>
            <a:ext cx="380880" cy="2286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6324480" y="3352680"/>
            <a:ext cx="5335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629400" y="4876920"/>
            <a:ext cx="1600200" cy="533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y+1;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391520" y="3352680"/>
            <a:ext cx="0" cy="15242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07320" y="4724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001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83480" y="5486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0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088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eka s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a,b,c v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ljive na izlazu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etod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a su “žive” na izlaz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etpostavimo d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x,y,z,t 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su vidljiv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edstavljam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Liveness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omoć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vektora b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edosled 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abcxyz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69280" y="3429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0011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iminacija mrtvog ko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77120" y="1600200"/>
            <a:ext cx="1600200" cy="1752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x+y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 = a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x == 0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05520" y="3886200"/>
            <a:ext cx="1600200" cy="762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t+z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77120" y="4648320"/>
            <a:ext cx="380880" cy="2286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324480" y="3352680"/>
            <a:ext cx="5335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629400" y="4876920"/>
            <a:ext cx="1600200" cy="533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 = y+1;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391520" y="3352680"/>
            <a:ext cx="0" cy="15242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07320" y="4724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001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83480" y="5486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1000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9280" y="3429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110011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eka s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a,b,c v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ljive na izlazu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etod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a su “žive” na izlaz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etpostavimo d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x,y,z,t 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su vidljiv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edstavljam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Liveness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omoć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vektora b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edosled j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abcxyz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Formaliz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cija 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al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z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0880" y="1219320"/>
            <a:ext cx="83822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Svak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i blok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 –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 živi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 na početk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T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 živi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 na kraj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USE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 korišćenih u blok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F -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ku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h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sanih 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SE[x = z; x = x+1;] = { z } (x not in USE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EF[x = z; x = x+1;y = 1;] = {x, y}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ompajler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enira svak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zni blok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a odredi skupov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SE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DEF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gorit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ut[Exit] = emptyset; in[Exit] = use[Exit]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 all nodes n in N - { Exit } in[n] = emptyse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anged = N - { Exit }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ile (Changed != emptyset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oose a node n in Changed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anged = Changed - { n }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ut[n] = emptyse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 all nodes s in successors(n) out[n] = out[n] U in[p]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[n] = use[n] U (out[n] - def[n])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f (in[n] changed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or all nodes p in predecessors(n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hanged = Changed U { p }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ličnost sa ostalim 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lgoritm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m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naliza unazad (b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kwards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 dalje postoj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u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ansfer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 dalje imamo operatore spajan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neraliz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vati okvir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ramework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 da radi i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rwards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ackwards anal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iz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al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za i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forma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cija unutar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blok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etalj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ata j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ataflow in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 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T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vor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akođe je potrebno izračunati informaciju u svakoj naredbi unuta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z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g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osti algoritam propagacije najčešće je sasvim doba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Može se posmatrati kao ograničena verzij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ataflow ana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53352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1174680"/>
            <a:ext cx="91440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5680" y="1817640"/>
            <a:ext cx="82836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9892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352680"/>
            <a:ext cx="106704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33526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 = 2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4267080"/>
            <a:ext cx="10666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9528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s + a*b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59584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i + 1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5181480"/>
            <a:ext cx="1752480" cy="457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2" idx="2"/>
            <a:endCxn id="153" idx="0"/>
          </p:cNvCxnSpPr>
          <p:nvPr/>
        </p:nvCxnSpPr>
        <p:spPr>
          <a:xfrm>
            <a:off x="2209320" y="990360"/>
            <a:ext cx="1080" cy="184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3" idx="2"/>
            <a:endCxn id="154" idx="0"/>
          </p:cNvCxnSpPr>
          <p:nvPr/>
        </p:nvCxnSpPr>
        <p:spPr>
          <a:xfrm>
            <a:off x="2209320" y="16318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4" idx="2"/>
            <a:endCxn id="155" idx="0"/>
          </p:cNvCxnSpPr>
          <p:nvPr/>
        </p:nvCxnSpPr>
        <p:spPr>
          <a:xfrm>
            <a:off x="2209320" y="2284200"/>
            <a:ext cx="1080" cy="415080"/>
          </a:xfrm>
          <a:prstGeom prst="straightConnector1">
            <a:avLst/>
          </a:prstGeom>
          <a:ln w="57240">
            <a:solidFill>
              <a:srgbClr val="ffe175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5" idx="3"/>
            <a:endCxn id="156" idx="0"/>
          </p:cNvCxnSpPr>
          <p:nvPr/>
        </p:nvCxnSpPr>
        <p:spPr>
          <a:xfrm>
            <a:off x="2742840" y="292716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5" idx="1"/>
            <a:endCxn id="157" idx="0"/>
          </p:cNvCxnSpPr>
          <p:nvPr/>
        </p:nvCxnSpPr>
        <p:spPr>
          <a:xfrm flipV="1" rot="10800000">
            <a:off x="1447200" y="2926440"/>
            <a:ext cx="229320" cy="42588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7" idx="2"/>
            <a:endCxn id="158" idx="0"/>
          </p:cNvCxnSpPr>
          <p:nvPr/>
        </p:nvCxnSpPr>
        <p:spPr>
          <a:xfrm>
            <a:off x="1447920" y="3809880"/>
            <a:ext cx="76248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6" idx="2"/>
            <a:endCxn id="158" idx="0"/>
          </p:cNvCxnSpPr>
          <p:nvPr/>
        </p:nvCxnSpPr>
        <p:spPr>
          <a:xfrm flipH="1">
            <a:off x="2208960" y="3809880"/>
            <a:ext cx="762840" cy="457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9" idx="2"/>
            <a:endCxn id="160" idx="0"/>
          </p:cNvCxnSpPr>
          <p:nvPr/>
        </p:nvCxnSpPr>
        <p:spPr>
          <a:xfrm>
            <a:off x="1409400" y="5410080"/>
            <a:ext cx="1080" cy="186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8" idx="3"/>
            <a:endCxn id="161" idx="0"/>
          </p:cNvCxnSpPr>
          <p:nvPr/>
        </p:nvCxnSpPr>
        <p:spPr>
          <a:xfrm>
            <a:off x="2742840" y="4495320"/>
            <a:ext cx="648360" cy="6865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9" idx="0"/>
          </p:cNvCxnSpPr>
          <p:nvPr/>
        </p:nvCxnSpPr>
        <p:spPr>
          <a:xfrm flipV="1" rot="10800000">
            <a:off x="1409040" y="4495320"/>
            <a:ext cx="267120" cy="457920"/>
          </a:xfrm>
          <a:prstGeom prst="curvedConnector2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0" idx="2"/>
            <a:endCxn id="158" idx="0"/>
          </p:cNvCxnSpPr>
          <p:nvPr/>
        </p:nvCxnSpPr>
        <p:spPr>
          <a:xfrm flipH="1" flipV="1" rot="5400000">
            <a:off x="916560" y="4759560"/>
            <a:ext cx="1786680" cy="800640"/>
          </a:xfrm>
          <a:prstGeom prst="curvedConnector5">
            <a:avLst>
              <a:gd name="adj1" fmla="val -23538"/>
              <a:gd name="adj2" fmla="val -70310"/>
              <a:gd name="adj3" fmla="val -23538"/>
            </a:avLst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6095880" y="609480"/>
            <a:ext cx="1447920" cy="1905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 = 4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 = 0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 == 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1981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28440">
            <a:solidFill>
              <a:srgbClr val="ffe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es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ist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čka i o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timist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čka 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al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z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0880" y="1295280"/>
            <a:ext cx="83822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Dostupni izrazi s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ptimist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k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                                      (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za 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iminacij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zajedničkih podizraza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etpostavimo da su izrazi dostupni na početku analiz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na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a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limi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še sve koji nisu dostupn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e možemo zaustaviti analiz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anije i iskoristiti tekući rezulta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es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ist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čka i o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timist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čka 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al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z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Žive”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 s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esimisti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čk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za 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iminaciju mrtvog koda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etpostavimo da su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 žive na početku analiz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na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a nalaz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omjenljiv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 koje su “mrtve”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Možemo zaustaviti analizu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ranije i iskoristiti tekući rezulta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ptimi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ičk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pesimis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tička analiza zavisi od namjeravane upotreb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Rezim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zni blok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ovi i njihov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ptimizacij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py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propagation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konstant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liminacija zajedničkih podizraz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liminacija mrtvog kod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ataflow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naliz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Graf toka kontrole (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ntrol flow graph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[b], OUT[b], fu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j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ransfer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tačke spajanj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naliza 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e se obavljaju u par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eaching definitions/Prenošenje konstant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Dostupni izrazi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/Eliminacija zajedničkih podizraz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iveness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naliz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/Eliminacija mrtvog kod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al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za u vidu steka i t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ansform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e rade zajedn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0" y="198108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timizacije petlji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Loop optimiza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32040" y="3429000"/>
            <a:ext cx="7216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ptimizacije petlji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V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žne su jer se u petljama obavlja veliki dio izračunavanj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aćemo primj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vij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ptimiza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ci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retanje “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oop-invarian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d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imina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cij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ndukci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ih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omjenljivih (inductive variable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Šta je petlj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781680" y="14479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81680" y="23623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248520" y="32767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315200" y="32767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20" name=""/>
          <p:cNvCxnSpPr>
            <a:stCxn id="916" idx="2"/>
            <a:endCxn id="917" idx="0"/>
          </p:cNvCxnSpPr>
          <p:nvPr/>
        </p:nvCxnSpPr>
        <p:spPr>
          <a:xfrm>
            <a:off x="7009920" y="1843200"/>
            <a:ext cx="108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21" name=""/>
          <p:cNvCxnSpPr>
            <a:stCxn id="917" idx="2"/>
            <a:endCxn id="918" idx="0"/>
          </p:cNvCxnSpPr>
          <p:nvPr/>
        </p:nvCxnSpPr>
        <p:spPr>
          <a:xfrm flipH="1">
            <a:off x="6476400" y="2757600"/>
            <a:ext cx="53388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22" name=""/>
          <p:cNvCxnSpPr>
            <a:stCxn id="917" idx="2"/>
            <a:endCxn id="919" idx="0"/>
          </p:cNvCxnSpPr>
          <p:nvPr/>
        </p:nvCxnSpPr>
        <p:spPr>
          <a:xfrm>
            <a:off x="7010280" y="2757600"/>
            <a:ext cx="5342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23" name=""/>
          <p:cNvSpPr/>
          <p:nvPr/>
        </p:nvSpPr>
        <p:spPr>
          <a:xfrm>
            <a:off x="5549760" y="243828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Šta je petlja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up čvorov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Zaglavlje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eader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) petl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Jedan čvo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Sve iteracije petlje prolaze kroz zaglavlj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vratna grana (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k edg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38680" y="1752480"/>
            <a:ext cx="457200" cy="3812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105520" y="3581280"/>
            <a:ext cx="45720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172200" y="3581280"/>
            <a:ext cx="457200" cy="3812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30" name=""/>
          <p:cNvCxnSpPr>
            <a:stCxn id="926" idx="2"/>
            <a:endCxn id="927" idx="0"/>
          </p:cNvCxnSpPr>
          <p:nvPr/>
        </p:nvCxnSpPr>
        <p:spPr>
          <a:xfrm>
            <a:off x="5866920" y="2147400"/>
            <a:ext cx="1080" cy="505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7" idx="2"/>
            <a:endCxn id="928" idx="0"/>
          </p:cNvCxnSpPr>
          <p:nvPr/>
        </p:nvCxnSpPr>
        <p:spPr>
          <a:xfrm flipH="1">
            <a:off x="5333400" y="3061800"/>
            <a:ext cx="533880" cy="505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32" name=""/>
          <p:cNvCxnSpPr>
            <a:stCxn id="927" idx="2"/>
            <a:endCxn id="929" idx="0"/>
          </p:cNvCxnSpPr>
          <p:nvPr/>
        </p:nvCxnSpPr>
        <p:spPr>
          <a:xfrm>
            <a:off x="5867280" y="3061800"/>
            <a:ext cx="534240" cy="505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33" name=""/>
          <p:cNvSpPr/>
          <p:nvPr/>
        </p:nvSpPr>
        <p:spPr>
          <a:xfrm>
            <a:off x="4406760" y="274320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Neobične s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itua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j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353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vije povratne gran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2 petlj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jedno zaglavl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evodilac spaja petl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ema zaglavlja pa nema ni petlj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638680" y="21337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05520" y="30481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72200" y="30481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40" name=""/>
          <p:cNvCxnSpPr>
            <a:stCxn id="936" idx="2"/>
            <a:endCxn id="937" idx="0"/>
          </p:cNvCxnSpPr>
          <p:nvPr/>
        </p:nvCxnSpPr>
        <p:spPr>
          <a:xfrm>
            <a:off x="5866920" y="1614600"/>
            <a:ext cx="108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41" name=""/>
          <p:cNvCxnSpPr>
            <a:stCxn id="937" idx="2"/>
            <a:endCxn id="938" idx="0"/>
          </p:cNvCxnSpPr>
          <p:nvPr/>
        </p:nvCxnSpPr>
        <p:spPr>
          <a:xfrm flipH="1">
            <a:off x="5333400" y="2529000"/>
            <a:ext cx="53388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42" name=""/>
          <p:cNvCxnSpPr>
            <a:stCxn id="937" idx="2"/>
            <a:endCxn id="939" idx="0"/>
          </p:cNvCxnSpPr>
          <p:nvPr/>
        </p:nvCxnSpPr>
        <p:spPr>
          <a:xfrm>
            <a:off x="5867280" y="2529000"/>
            <a:ext cx="5342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43" name=""/>
          <p:cNvSpPr/>
          <p:nvPr/>
        </p:nvSpPr>
        <p:spPr>
          <a:xfrm>
            <a:off x="4406760" y="220968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6095880" y="2209680"/>
            <a:ext cx="1231920" cy="1689120"/>
          </a:xfrm>
          <a:custGeom>
            <a:avLst/>
            <a:gdLst/>
            <a:ahLst/>
            <a:rect l="l" t="t" r="r" b="b"/>
            <a:pathLst>
              <a:path w="776" h="1064">
                <a:moveTo>
                  <a:pt x="584" y="768"/>
                </a:moveTo>
                <a:cubicBezTo>
                  <a:pt x="408" y="916"/>
                  <a:pt x="232" y="1064"/>
                  <a:pt x="152" y="960"/>
                </a:cubicBezTo>
                <a:cubicBezTo>
                  <a:pt x="72" y="856"/>
                  <a:pt x="0" y="288"/>
                  <a:pt x="104" y="144"/>
                </a:cubicBezTo>
                <a:cubicBezTo>
                  <a:pt x="208" y="0"/>
                  <a:pt x="492" y="48"/>
                  <a:pt x="77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38680" y="41911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05520" y="5105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172200" y="5105520"/>
            <a:ext cx="457200" cy="3808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5" idx="2"/>
            <a:endCxn id="946" idx="0"/>
          </p:cNvCxnSpPr>
          <p:nvPr/>
        </p:nvCxnSpPr>
        <p:spPr>
          <a:xfrm flipH="1">
            <a:off x="5333400" y="4586400"/>
            <a:ext cx="53388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49" name=""/>
          <p:cNvCxnSpPr>
            <a:stCxn id="945" idx="2"/>
            <a:endCxn id="947" idx="0"/>
          </p:cNvCxnSpPr>
          <p:nvPr/>
        </p:nvCxnSpPr>
        <p:spPr>
          <a:xfrm>
            <a:off x="5867280" y="4586400"/>
            <a:ext cx="534240" cy="5054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50" name=""/>
          <p:cNvSpPr/>
          <p:nvPr/>
        </p:nvSpPr>
        <p:spPr>
          <a:xfrm flipH="1">
            <a:off x="5562360" y="5410080"/>
            <a:ext cx="6094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62720" y="5181480"/>
            <a:ext cx="6094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cija petlji sa d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minator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im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ncept dominator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n domi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nad čvorom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ko sve putanje iz st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tnog čvora do m prolaze kroz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e road to the Super Bowl goes through New England”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aključak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? New England domi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nad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uper Bowl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-om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k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d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domin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iraju na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, t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ada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li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domi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nad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l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domin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nad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ali ne može i jedno i drugo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eposredni dominator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n –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osl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ednji dominator na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 </a:t>
            </a: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nad bilo kojom putanjom od početnog čvor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Drvo d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minator</a:t>
            </a:r>
            <a:r>
              <a:rPr b="0" lang="sr-Latn-C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Čvorovi drveta su čvorovi grafa kontrole toka (CFG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Grana o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 n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ako j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eposredn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dominator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nad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Ova struktura je drv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Korijen drveta je u početnom čvoru CFG-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1T22:35:07Z</dcterms:created>
  <dc:creator>rinard</dc:creator>
  <dc:description/>
  <dc:language>en-US</dc:language>
  <cp:lastModifiedBy>Owner</cp:lastModifiedBy>
  <cp:lastPrinted>1999-11-08T19:19:55Z</cp:lastPrinted>
  <dcterms:modified xsi:type="dcterms:W3CDTF">2009-05-06T19:43:37Z</dcterms:modified>
  <cp:revision>635</cp:revision>
  <dc:subject/>
  <dc:title>Lecture ?: ??</dc:title>
</cp:coreProperties>
</file>