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95C-EEC9-4B55-9DFF-D64D2891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8F9-80BA-4FDF-B1D8-DFF66B7D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970-2920-4439-9E0E-6BAE1820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E37-3E5C-4050-8826-CB8A29A5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231-2530-4CB5-9B3E-0B89D91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16A-0637-4B02-B467-75F9875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1C-C0D1-4A10-9381-07B59595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740-2E70-4BE9-B9C1-B238BD6A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C52-35D1-4838-87EC-AE63FD5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A9B-4A55-41D1-8F60-D14DB65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543-2C7C-4CA2-859A-6E4151DD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A5C-5BD9-4B4A-A5AB-78F9883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3AC7-8AAA-42B9-9D4B-78648D50383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atike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atike koje gener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u LR jez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 gramatikam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zličite gramatike su pogodne za različite tehnike parsir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Regula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izrazi su "dobri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kener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3FD-4809-4ACF-BB5E-27EF7261A1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E0284-7713-4B74-B7DD-704579DAAD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spajanje bezbjedno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postoji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e n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definiciji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lgori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konstrukciju tabel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tabela dobijena primjenom algoritma konstrukicje ne sadfrži konflikte, tada je gramati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(1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E16-D510-47DB-823A-7F05361477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C1924-F169-48F6-9714-E0C0AF0F09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mislit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v , look1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look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su ova dva itema došla u is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ajamo stanja sa istim jezgrom, 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već u istom skup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3CD-46E3-4F45-8058-01EED93030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E1CC9-57A7-453E-94D5-B560586677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duce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jmo sledeće s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 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m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u u različitim stanj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e je 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m dobij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m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 dovodi do konflikta, 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itanj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raditi spajanja osim u ovakvom sluč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r to ne bi napravilo algoritam primjenljiviji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AA0-89C1-42F9-8EEC-0779322493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F2EDB-9936-469D-ADE5-786BE2FAA5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nstrukc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primjenom algoritma spajanja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  In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rute force”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nstru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ja tabe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e bolji način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ci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odgovar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#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ka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o će biti viš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(Inm) = un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s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 za tabelu akcija i prelaza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FAB-C474-47C1-89FE-15FF4C9F0C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0C66E-AC6F-43C5-A114-6FE540AC03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rute for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762120"/>
          <a:ext cx="6835680" cy="568620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5105520"/>
            <a:ext cx="3733920" cy="1364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Kandidati za spajanj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&amp;6, 4&amp;7, 8&amp;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C37-497B-452C-A656-5FF6F465F7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9F00B-D1D6-43B7-9840-3B641384FF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brute force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762120"/>
          <a:ext cx="6835680" cy="426564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43400"/>
            <a:ext cx="3276360" cy="1281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3 spojena stanja, ne postoje konflikt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586-3CA4-4395-977D-E4449B35E8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4F490-FA44-4F34-BFF7-675A282F0F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korak po kora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prvo grad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p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a se cijena konstrukcije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šteda je u izvršavanju, jer je tabela m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olji nači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 i spajanje istovremeno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snov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renutku dodavanja novog sku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porediti njegovo jezgro sa postojećim jezgrim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se poklap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a postojećim jezgrom, item dodajemo u taj skup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027-6596-40F5-838B-8AD4BE4ECE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7B10F-26E6-487F-9580-0A28061D4F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rak po kor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5181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ledeć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I11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{ 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 ) / +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sto jezgro kao 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a ih kombinujemo u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11: { E -&gt; 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$ / + / )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610480" cy="4597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;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=E  ; 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| E+F  ;  F -&gt; V | int | (E)  ;  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523880"/>
          <a:ext cx="9143640" cy="3429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776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S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S' -&gt; S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S' 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V -&gt; 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S -&gt; V =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S -&gt; V =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F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7: F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F-&gt; in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F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)/+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0: F-&gt; (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318-9F4E-405E-A15E-8DF82636E1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BBA91-1301-4D61-BE82-AEE0A4D13E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9BB-6BEB-4A02-915F-A1FF5DDF29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C0846-E8B1-44C7-AAC1-47A055567A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treba upoređivati sa cijelom listom jezgara kada naiđe novo jezgro, već treba koristiti heš tabel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F12-8CD1-4201-B54D-5BCC1E1E29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4A879-9420-4123-AA1F-219F7C62F3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me size tables as SLR, more langs, efficient to bu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B99-1720-489F-B2C6-0A12DD2BAE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9F436-C83B-44D8-A873-828EA6FA12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najbolji" meto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re discriminating than SLR(1), but matches more PL language construct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eličina tabele razumn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snov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at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kao št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yac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is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stojanje 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ta  ne utiče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Razrješavanje konflikta direktno u tabeli poslije konstrukcije ("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angling else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"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a 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ko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” LAL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A97-A599-4C81-BC68-4219AC7D78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C2D1D-9B81-4200-86D1-34DFF6D2F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boljšanj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?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šava ako "naslijepo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spajamo i ond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što ne odbijemo spajanje u tak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Dobićemo više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sta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nja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ali će to biti i dalje manje nego za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LR(1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žljivo proučite algoritam i zaključite zašto to ne možemo uradi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EF6-25F2-4278-AA84-618D46E718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839B3-B2E2-4E49-8C8D-89DD495CC5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teorije ka praks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, p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mi možemo koristiti LALR alate čak i ako gramatika ima nejasnoć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ac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Bis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zasnovani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ne robuju tome, tj. ne zahtijevaju da njihov ulaz bude list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želimo posebno obraditi specijalne slučajeve i razriješiti konflikte ručno, možemo koristiti LALR ala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 nejasnih gramatik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8BB-C4B3-4A2D-8553-AA396EED64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9DED1-7A93-4D55-966F-BC72401BB4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potreba nejasnih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jasnoća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: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izvodi viš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esnih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eriv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G = { 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E + E  |  E * E  |  (E)  |  id 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dali sm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bi otkonili nejasnoće za ispravan poredak operacija i asocijativnos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ta kao pustimo algoritam za konstrukciju LR tabele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=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više akcija u poljima tabel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Biramo koju akciju želimo, eliminišemo ostale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399-001C-46C1-B125-55F1EF1570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5567C-CFE1-4D16-ACC1-359914B1EF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838080"/>
          <a:ext cx="8610480" cy="4472280"/>
        </p:xfrm>
        <a:graphic>
          <a:graphicData uri="http://schemas.openxmlformats.org/drawingml/2006/table">
            <a:tbl>
              <a:tblPr/>
              <a:tblGrid>
                <a:gridCol w="2590920"/>
                <a:gridCol w="2819160"/>
                <a:gridCol w="320040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E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 E'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E 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E -&gt;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E -&gt; E+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E -&gt; E*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(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I7:</a:t>
                      </a:r>
                      <a:r>
                        <a:rPr b="1" lang="en-US" sz="8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+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E -&gt; E *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E -&gt; (E)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4864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 I7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- 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hift-reduce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Da li možemo izabrati samo jednu akciju od ponuđenih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CEE-672B-4BA2-A802-5CA0B34D88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4F6F2-3CDC-4E8A-8E5A-C9A80A6952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 proces parsiranja da bi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bili naznaku kako da popravimo tabelu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d + id * i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0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“+” (S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*”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stanj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+E?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“*”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bi sledeća operacija bil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+”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iramo po prioritetu i asocijativno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351-8182-425C-91F7-EC564F0E77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695EF-8176-480D-A3E8-852DC5F581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678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*”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r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*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ma veći prioritet od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+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0"/>
            <a:ext cx="2286000" cy="144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8288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e pomjeramo od operatora višeg ka operator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ižeg priorite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reduce</a:t>
            </a:r>
            <a:r>
              <a:rPr b="0" i="1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+”, reduce E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bog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asoc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ati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ost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mo parsira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 op 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desno asocijativne operatoir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op”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e nejasne gramatike će imati ovakve konflikte, čak i neke j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izaberemo akcije za svaki konflikt, generator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 nam mogu pomoći, bez obzira što gramatika ni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R(0) / SLR(1) / LALR(1) /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lo š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C92-2D9A-4D33-9471-324C530CB7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25E0C-23F5-40DA-8A8D-ECC25A3466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ejasnoć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382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čis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 sbe programske konstr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aiđe 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v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f E then if E then S”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pa zati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(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U LR gramatikama ne može se otkloniti problem "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promijeniti tabela, tako da se izbjegne konflik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Ja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ra s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, što znači veziva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else”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najbliž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if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lijevo od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else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6DB-3E00-49DD-A301-D3DB0DE629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5382D-9896-4922-92E7-836FB3FDD7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što koristiti nejasne gram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i kod komunicira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t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itljivije su ljud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ju se dokumentovati izmjene u tabelam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Lakše se implementira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vrijeme potrebno za prelaske ti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F8B-ABC6-4D83-9E36-721A3C829A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694BE-7151-4E36-AABA-8F4429774A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E56-34D4-4062-B195-10D38ED21CF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0CF6C-D0AC-44C0-AE64-9DDA76D39A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eličina tabele kao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 SLR, 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iše jezika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, ef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kasnij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Defin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sanje empirijski a ne matematič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88E-1BD8-4424-A79B-5641EC185F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3363F-0CF3-4656-BFE5-7EDCEBE067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solidFill>
            <a:srgbClr val="bebaf8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solidFill>
            <a:srgbClr val="febfb4">
              <a:alpha val="50000"/>
            </a:srgbClr>
          </a:solidFill>
          <a:ln w="28440">
            <a:solidFill>
              <a:srgbClr val="fc4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b2b2b2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04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i radimo 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2000" y="914400"/>
            <a:ext cx="31240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00800" y="914400"/>
            <a:ext cx="12952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876560" y="914400"/>
            <a:ext cx="28191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4BF-48E3-4898-B0B2-744D8687659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A118C-6D6B-4DFF-B395-4818430A8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L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uobičajeni izbor u praksi i najčešće je k=1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iterijumi za izb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mplemen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ednostav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št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lovi za transformaciju gramat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oravak od greša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eličina tabe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ikasn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3EA-5F13-4D22-91A5-4F85F119C1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AD3C2-8105-40F6-BCBF-DF6CDEBAEE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slov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381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no je mnogo transformacija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ste gramatike postaju složenij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19720" y="914040"/>
            <a:ext cx="441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m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gu obraditi mnoge gramatik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-LALR!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895480"/>
            <a:ext cx="8534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poređivanje implementacionih zahtje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liko dodatnog vremen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Vrijeme za transformaciju i pokuša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me se vjeru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gu li čitati svoju transformisanu gramatik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že li se nadgradi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747-A2C6-41ED-81D5-3035AB5A936D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63222-4668-45C8-B264-96070E842F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implement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152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spust može se ručno kodirat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g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le-driven LL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Lgen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6120" y="914040"/>
            <a:ext cx="415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izgled se uvijek generišu mašinsk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ator (yacc / bison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pronaći problem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nejasnoće u gram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471-7A8B-4344-A20B-04EF33C5CD89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E04D2-7D27-4C2F-9681-DB92FD2DD0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eal lif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C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pis i source na adresi: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http://www.gnu.org/software/gcc/gcc.htm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Provjeriti 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makefile!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Vjerovatno nećete pisati čitav kompajler, ali jedan njegov dio vjerovatno hoćete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0E8-9FAF-4207-99BC-1655771472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F5E9D-6C77-4392-BA4A-5ED9799D8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dsjećanje 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djela sku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osnov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gori slučaj broja stanja: partitivni skup skupa ite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1 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iji je broj stanja koji je za red veličine veći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j čuva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inf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macija uz smanjivanje broja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DEA-F6D3-4753-9E66-13451D0902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3E8D7-F79F-40ED-BE95-E68B794E77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stup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bično se govori sa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 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vijek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aks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gramatik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ćemo sa spajanjem sličnih 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ndidati za spajanje (merging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sto jezg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LR(0) item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ine razlike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-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vim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a/b/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d/e/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992-9AC1-451B-B2EE-1E763A5978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C12EE-5FDE-4B4D-B313-0E0A453090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5181480"/>
            <a:ext cx="541008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ratiti pažnju na kandidate za spajan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isto jezg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npr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R(0) item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različ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o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00B-B4AE-44F7-83E5-2DD893CA36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7E3D9-2F02-4658-9C94-BD149D7CAC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68580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4559400"/>
            <a:ext cx="3962520" cy="2288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ojeni paro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f731"/>
                </a:solidFill>
                <a:uFillTx/>
                <a:latin typeface="Comic Sans MS"/>
              </a:rPr>
              <a:t>I47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b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800c8"/>
                </a:solidFill>
                <a:uFillTx/>
                <a:latin typeface="Comic Sans MS"/>
              </a:rPr>
              <a:t>I89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4122"/>
                </a:solidFill>
                <a:uFillTx/>
                <a:latin typeface="Comic Sans MS"/>
              </a:rPr>
              <a:t>I36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2BF-48CC-4BD6-81E2-D8746419C4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42F32-6017-46B8-A59C-E607BC594F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1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si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ilikom spaj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ri stanja manj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j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spoje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o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 u spojenim skupovima čine čitav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, pa smo spajanjem dobil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zul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 spajanja obično n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1D9-9FDE-4F6E-8B6E-7DD7476CBD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B7289-0434-44ED-82CD-D88B93247C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85800"/>
            <a:ext cx="388620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 -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-&gt; Bbb | aab | 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81080"/>
          <a:ext cx="7924680" cy="27432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0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•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a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a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•a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1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S•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2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B•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3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a•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a•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....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3352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matrajte stan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3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LR(1), 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LR,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,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ajanje ne vodi ka SL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6E8-7161-45C9-9712-3A64BE4C60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B84C0-19F1-4319-AC5B-440E72F746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CPQ</cp:lastModifiedBy>
  <dcterms:modified xsi:type="dcterms:W3CDTF">2006-10-10T19:12:49Z</dcterms:modified>
  <cp:revision>2125</cp:revision>
  <dc:subject/>
  <dc:title>Welcome to CS143</dc:title>
</cp:coreProperties>
</file>