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B8F-CA60-4D04-AB0C-32A1F38C791F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l vs. Pa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ise, prec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regular expressions to compose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utomata for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aning of program (specifies what result should be for each inpu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languages lack state required to model n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onical Primjer: nest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regular expression for language of parenthesiz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ity in generating “utteran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 tree shows all rules applied in derivation, not the order in which they were 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EB59016-1161-4FAF-8C7F-9450E23F4C7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6002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574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fld id="{F02D49CD-7BC8-4F12-8B92-EA2A12A7AE38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Jezici, regularni izrazi, automati i gramatik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egular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fabet (azbuka)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= 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“slova”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gularni izrazi nad alfabetom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regularan izraz koji označava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ko je a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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ada je a regularan izraz koji 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ava skup 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{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su r i s regularni izrazi koji označavaju skupove R i S, tada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|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*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*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oces keriranja string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990720"/>
            <a:ext cx="3962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        </a:t>
            </a: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1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0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 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svih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ing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gene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h regular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že bi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brojiv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beskonača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nad alfabetom {0,1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00, 10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(0|1)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100, 101, 110, 111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0*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, 0, 00, 000, 0000…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*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vi binarni brojev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h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0, 1, .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)*.(0|1)* - bina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 realni brojev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0)* -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zovi nula parne dužin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*(01*01*)* - 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 sa parnim brojem nul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a,b,c, 0, 1, 2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a|b|c)(a|b|c|0|1|2)* - 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anumer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čk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dentif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ator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|2)* - 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rnarni brojevi (osnova 3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1*((010)*0*)*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l-GR" sz="2400" spc="-1" strike="noStrike">
                <a:solidFill>
                  <a:srgbClr val="ccffff"/>
                </a:solidFill>
                <a:latin typeface="Tahoma"/>
                <a:ea typeface="Tahoma"/>
              </a:rPr>
              <a:t>ε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|1)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ačni automat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bet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a, uključujući početno i završna st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lazak između stanja, označen slovima alfab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25520" y="3341520"/>
            <a:ext cx="6998040" cy="2326680"/>
            <a:chOff x="1325520" y="3341520"/>
            <a:chExt cx="6998040" cy="2326680"/>
          </a:xfrm>
        </p:grpSpPr>
        <p:sp>
          <p:nvSpPr>
            <p:cNvPr id="293" name=""/>
            <p:cNvSpPr/>
            <p:nvPr/>
          </p:nvSpPr>
          <p:spPr>
            <a:xfrm>
              <a:off x="1819440" y="4724280"/>
              <a:ext cx="30456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72428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3" idx="2"/>
              <a:endCxn id="293" idx="0"/>
            </p:cNvCxnSpPr>
            <p:nvPr/>
          </p:nvCxnSpPr>
          <p:spPr>
            <a:xfrm flipH="1" rot="10800000">
              <a:off x="1809360" y="4714200"/>
              <a:ext cx="162720" cy="162720"/>
            </a:xfrm>
            <a:prstGeom prst="curvedConnector5">
              <a:avLst>
                <a:gd name="adj1" fmla="val -135254"/>
                <a:gd name="adj2" fmla="val 117516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13255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70720" y="52927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70720" y="42260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5840" y="4141800"/>
              <a:ext cx="209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Ze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eno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ta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0800" y="520848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Plavo sta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293" idx="2"/>
              <a:endCxn id="293" idx="4"/>
            </p:cNvCxnSpPr>
            <p:nvPr/>
          </p:nvCxnSpPr>
          <p:spPr>
            <a:xfrm flipH="1" flipV="1" rot="10800000">
              <a:off x="1809360" y="4875840"/>
              <a:ext cx="162720" cy="162360"/>
            </a:xfrm>
            <a:prstGeom prst="curvedConnector5">
              <a:avLst>
                <a:gd name="adj1" fmla="val -135254"/>
                <a:gd name="adj2" fmla="val 117555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13255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3" name=""/>
            <p:cNvCxnSpPr>
              <a:stCxn id="293" idx="6"/>
              <a:endCxn id="294" idx="2"/>
            </p:cNvCxnSpPr>
            <p:nvPr/>
          </p:nvCxnSpPr>
          <p:spPr>
            <a:xfrm>
              <a:off x="2133720" y="4876560"/>
              <a:ext cx="121032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4" name=""/>
            <p:cNvCxnSpPr>
              <a:stCxn id="294" idx="6"/>
              <a:endCxn id="294" idx="4"/>
            </p:cNvCxnSpPr>
            <p:nvPr/>
          </p:nvCxnSpPr>
          <p:spPr>
            <a:xfrm flipH="1">
              <a:off x="3504600" y="4876560"/>
              <a:ext cx="162360" cy="162360"/>
            </a:xfrm>
            <a:prstGeom prst="curvedConnector5">
              <a:avLst>
                <a:gd name="adj1" fmla="val -135111"/>
                <a:gd name="adj2" fmla="val 117555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5" name=""/>
            <p:cNvCxnSpPr>
              <a:stCxn id="294" idx="6"/>
              <a:endCxn id="294" idx="0"/>
            </p:cNvCxnSpPr>
            <p:nvPr/>
          </p:nvCxnSpPr>
          <p:spPr>
            <a:xfrm flipH="1" flipV="1">
              <a:off x="3504600" y="4714560"/>
              <a:ext cx="162360" cy="162720"/>
            </a:xfrm>
            <a:prstGeom prst="curvedConnector5">
              <a:avLst>
                <a:gd name="adj1" fmla="val -135111"/>
                <a:gd name="adj2" fmla="val 117516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38401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01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920" y="426888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6640" y="3341520"/>
              <a:ext cx="260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(0|1)*.(0|1)*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finicij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ačunar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gram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či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obri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ako definisat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definicija jezi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 li jezik definisati samog seb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univerzaln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repoznavanje stringov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te sa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m stanjem i prvim slovom string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svakom koraku, tražite poklapanje tekućeg slova sa oznakom grane prelas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navljati do kraja stringa ili nepoklap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ste u završnom stanju i došli ste do kraja stringa, automat prihvata datu riječ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automata je skup svih stringova koje prihvata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12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5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2" idx="2"/>
            <a:endCxn id="312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7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2" idx="6"/>
            <a:endCxn id="313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9" name=""/>
          <p:cNvCxnSpPr>
            <a:stCxn id="313" idx="6"/>
            <a:endCxn id="313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3" idx="6"/>
            <a:endCxn id="313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1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36232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080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5" idx="2"/>
            <a:endCxn id="335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8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5" idx="2"/>
            <a:endCxn id="335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0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5" idx="6"/>
            <a:endCxn id="336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"/>
          <p:cNvCxnSpPr>
            <a:stCxn id="336" idx="6"/>
            <a:endCxn id="336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"/>
          <p:cNvCxnSpPr>
            <a:stCxn id="336" idx="6"/>
            <a:endCxn id="336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6668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357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7" idx="2"/>
            <a:endCxn id="357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0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57" idx="2"/>
            <a:endCxn id="357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2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7" idx="6"/>
            <a:endCxn id="358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4" name=""/>
          <p:cNvCxnSpPr>
            <a:stCxn id="358" idx="6"/>
            <a:endCxn id="358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5" name=""/>
          <p:cNvCxnSpPr>
            <a:stCxn id="358" idx="6"/>
            <a:endCxn id="358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6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430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119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9" idx="2"/>
            <a:endCxn id="379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2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9" idx="2"/>
            <a:endCxn id="379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4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6"/>
            <a:endCxn id="380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6" name=""/>
          <p:cNvCxnSpPr>
            <a:stCxn id="380" idx="6"/>
            <a:endCxn id="380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7" name=""/>
          <p:cNvCxnSpPr>
            <a:stCxn id="380" idx="6"/>
            <a:endCxn id="380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8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2716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405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1" idx="2"/>
            <a:endCxn id="401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4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1" idx="2"/>
            <a:endCxn id="401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6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1" idx="6"/>
            <a:endCxn id="402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8" name=""/>
          <p:cNvCxnSpPr>
            <a:stCxn id="402" idx="6"/>
            <a:endCxn id="402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9" name=""/>
          <p:cNvCxnSpPr>
            <a:stCxn id="402" idx="6"/>
            <a:endCxn id="402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10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5812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01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47720" y="476712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e prihvać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 vs. 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sno posmtrano, jezik je sk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zraz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i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utoma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mplemen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ređuju da li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ing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jeziku ili n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oret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su ekvivalent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ja primjenom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ind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at je proizvoljan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izraz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onvertujemo ga u automat s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 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čet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vrš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3800520" y="2819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4120" y="2819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4114800" y="2971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1" name=""/>
          <p:cNvSpPr/>
          <p:nvPr/>
        </p:nvSpPr>
        <p:spPr>
          <a:xfrm>
            <a:off x="2059560" y="26668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0520" y="3962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3962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6"/>
            <a:endCxn id="434" idx="2"/>
          </p:cNvCxnSpPr>
          <p:nvPr/>
        </p:nvCxnSpPr>
        <p:spPr>
          <a:xfrm>
            <a:off x="4114800" y="4114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6" name=""/>
          <p:cNvSpPr/>
          <p:nvPr/>
        </p:nvSpPr>
        <p:spPr>
          <a:xfrm>
            <a:off x="2052000" y="38098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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89560" y="3425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Le</a:t>
            </a:r>
            <a:r>
              <a:rPr b="1" lang="sr-Latn-CS" sz="3200" spc="-1" strike="noStrike">
                <a:solidFill>
                  <a:srgbClr val="ffff99"/>
                </a:solidFill>
                <a:latin typeface="Tahoma"/>
              </a:rPr>
              <a:t>ksičk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Regular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ni izrazi (Regular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Expression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Konačni automat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inite State Automata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deterministički (DKA, engl. D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nedeterministički (NKA, engl. N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D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N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 konverzija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intaksn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Beskontekstni jezic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text Free Language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Parsi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sljedeće lekci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0968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140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1295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1828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08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820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6"/>
            <a:endCxn id="480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905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826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29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190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6"/>
            <a:endCxn id="502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3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5" idx="6"/>
            <a:endCxn id="512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3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33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5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57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618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3" idx="6"/>
            <a:endCxn id="526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27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29" idx="6"/>
            <a:endCxn id="536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7" name=""/>
          <p:cNvCxnSpPr>
            <a:stCxn id="532" idx="6"/>
            <a:endCxn id="524" idx="2"/>
          </p:cNvCxnSpPr>
          <p:nvPr/>
        </p:nvCxnSpPr>
        <p:spPr>
          <a:xfrm>
            <a:off x="7086240" y="3733560"/>
            <a:ext cx="677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38" name=""/>
          <p:cNvSpPr/>
          <p:nvPr/>
        </p:nvSpPr>
        <p:spPr>
          <a:xfrm>
            <a:off x="731736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619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540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43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904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3" idx="6"/>
            <a:endCxn id="586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7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83" idx="6"/>
            <a:endCxn id="591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6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7" idx="6"/>
            <a:endCxn id="610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1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0960" y="43434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07" idx="6"/>
            <a:endCxn id="616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1" name=""/>
          <p:cNvCxnSpPr>
            <a:stCxn id="613" idx="6"/>
            <a:endCxn id="608" idx="2"/>
          </p:cNvCxnSpPr>
          <p:nvPr/>
        </p:nvCxnSpPr>
        <p:spPr>
          <a:xfrm>
            <a:off x="5562720" y="3352680"/>
            <a:ext cx="829440" cy="610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2" name=""/>
          <p:cNvCxnSpPr>
            <a:stCxn id="617" idx="6"/>
            <a:endCxn id="608" idx="3"/>
          </p:cNvCxnSpPr>
          <p:nvPr/>
        </p:nvCxnSpPr>
        <p:spPr>
          <a:xfrm flipV="1">
            <a:off x="5562360" y="4079520"/>
            <a:ext cx="883080" cy="568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23" name=""/>
          <p:cNvSpPr/>
          <p:nvPr/>
        </p:nvSpPr>
        <p:spPr>
          <a:xfrm>
            <a:off x="608868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Zatvorenje (Kleene *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Opisivanje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lojevita struktura definicije jezik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bet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(azbuka)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osnovni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mbo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leksička struktur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iječ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inta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ečen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emanti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značenj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u ovoj lekcij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: le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ička</a:t>
            </a:r>
            <a:r>
              <a:rPr b="0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2" name=""/>
          <p:cNvCxnSpPr/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3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5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86" idx="6"/>
            <a:endCxn id="689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0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91" idx="6"/>
            <a:endCxn id="687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4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1" idx="0"/>
            <a:endCxn id="689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7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0" name=""/>
          <p:cNvCxnSpPr>
            <a:stCxn id="708" idx="6"/>
            <a:endCxn id="711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713" idx="6"/>
            <a:endCxn id="709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6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3" idx="0"/>
            <a:endCxn id="711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9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08" idx="4"/>
            <a:endCxn id="709" idx="4"/>
          </p:cNvCxnSpPr>
          <p:nvPr/>
        </p:nvCxnSpPr>
        <p:spPr>
          <a:xfrm flipH="1" rot="16200000">
            <a:off x="4571280" y="2143440"/>
            <a:ext cx="2160" cy="3810960"/>
          </a:xfrm>
          <a:prstGeom prst="curvedConnector5">
            <a:avLst>
              <a:gd name="adj1" fmla="val 65780000"/>
              <a:gd name="adj2" fmla="val 49995"/>
              <a:gd name="adj3" fmla="val 657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1" name=""/>
          <p:cNvSpPr/>
          <p:nvPr/>
        </p:nvSpPr>
        <p:spPr>
          <a:xfrm>
            <a:off x="4421880" y="5257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FA vs. DF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F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laza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više jedna prelaz iz svakog stanja za svako slov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FA –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može oboj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800520" y="3191040"/>
            <a:ext cx="1609560" cy="1724400"/>
            <a:chOff x="3800520" y="3191040"/>
            <a:chExt cx="1609560" cy="1724400"/>
          </a:xfrm>
        </p:grpSpPr>
        <p:sp>
          <p:nvSpPr>
            <p:cNvPr id="733" name=""/>
            <p:cNvSpPr/>
            <p:nvPr/>
          </p:nvSpPr>
          <p:spPr>
            <a:xfrm>
              <a:off x="38005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4" name=""/>
            <p:cNvCxnSpPr>
              <a:stCxn id="733" idx="6"/>
              <a:endCxn id="735" idx="3"/>
            </p:cNvCxnSpPr>
            <p:nvPr/>
          </p:nvCxnSpPr>
          <p:spPr>
            <a:xfrm flipV="1">
              <a:off x="41144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5" name=""/>
            <p:cNvSpPr/>
            <p:nvPr/>
          </p:nvSpPr>
          <p:spPr>
            <a:xfrm>
              <a:off x="51055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292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7" name=""/>
            <p:cNvCxnSpPr>
              <a:stCxn id="733" idx="6"/>
              <a:endCxn id="736" idx="2"/>
            </p:cNvCxnSpPr>
            <p:nvPr/>
          </p:nvCxnSpPr>
          <p:spPr>
            <a:xfrm>
              <a:off x="41148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8" name=""/>
            <p:cNvSpPr/>
            <p:nvPr/>
          </p:nvSpPr>
          <p:spPr>
            <a:xfrm>
              <a:off x="41752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7280" y="433404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952360" y="372276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772320" y="3191040"/>
            <a:ext cx="1609560" cy="1724400"/>
            <a:chOff x="6772320" y="3191040"/>
            <a:chExt cx="1609560" cy="1724400"/>
          </a:xfrm>
        </p:grpSpPr>
        <p:sp>
          <p:nvSpPr>
            <p:cNvPr id="742" name=""/>
            <p:cNvSpPr/>
            <p:nvPr/>
          </p:nvSpPr>
          <p:spPr>
            <a:xfrm>
              <a:off x="67723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3" name=""/>
            <p:cNvCxnSpPr>
              <a:stCxn id="742" idx="6"/>
              <a:endCxn id="744" idx="3"/>
            </p:cNvCxnSpPr>
            <p:nvPr/>
          </p:nvCxnSpPr>
          <p:spPr>
            <a:xfrm flipV="1">
              <a:off x="70862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4" name=""/>
            <p:cNvSpPr/>
            <p:nvPr/>
          </p:nvSpPr>
          <p:spPr>
            <a:xfrm>
              <a:off x="80773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10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2" idx="6"/>
              <a:endCxn id="745" idx="2"/>
            </p:cNvCxnSpPr>
            <p:nvPr/>
          </p:nvCxnSpPr>
          <p:spPr>
            <a:xfrm>
              <a:off x="70866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7" name=""/>
            <p:cNvSpPr/>
            <p:nvPr/>
          </p:nvSpPr>
          <p:spPr>
            <a:xfrm>
              <a:off x="71470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23400" y="4334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55160" y="3494160"/>
            <a:ext cx="103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553080" y="3048120"/>
            <a:ext cx="1904760" cy="1904400"/>
            <a:chOff x="6553080" y="3048120"/>
            <a:chExt cx="1904760" cy="1904400"/>
          </a:xfrm>
        </p:grpSpPr>
        <p:sp>
          <p:nvSpPr>
            <p:cNvPr id="751" name=""/>
            <p:cNvSpPr/>
            <p:nvPr/>
          </p:nvSpPr>
          <p:spPr>
            <a:xfrm>
              <a:off x="6553080" y="3048120"/>
              <a:ext cx="1904760" cy="190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52" name=""/>
            <p:cNvCxnSpPr>
              <a:stCxn id="751" idx="3"/>
              <a:endCxn id="751" idx="7"/>
            </p:cNvCxnSpPr>
            <p:nvPr/>
          </p:nvCxnSpPr>
          <p:spPr>
            <a:xfrm flipV="1">
              <a:off x="6832800" y="3289680"/>
              <a:ext cx="1345680" cy="1420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onv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vođenje RE u automat kreira N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Želimo da imamo DKA jer je algoritam prepoznavanja jednostavnij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ver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l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može biti ekponencijalno veći od odgovarajućeg D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goritam prevođenja posto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gladjete knjigu i posebnu prezentaciju za još primjer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Stanje DKA je podskup skupa stanja NK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očetno stanje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KA odgovara skupu stanja u koja možemo preći iz 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četn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anj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 NKA prateći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elask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e DKA je završno ako se bar jedno završno stan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FA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lazi u skupu stanja koje predstavalja stanje DK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relasci iz stanja D DKA na slovo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ka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azan skup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ći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koja su u D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524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Za svako stanje 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iz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 N</a:t>
            </a:r>
            <a:endParaRPr b="0" lang="en-US" sz="21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Naći skup stanja 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N’ </a:t>
            </a: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u koje se može preći na slovo a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1900" spc="-1" strike="noStrike">
                <a:solidFill>
                  <a:srgbClr val="ccffff"/>
                </a:solidFill>
                <a:latin typeface="Symbol"/>
                <a:ea typeface="Symbol"/>
              </a:rPr>
              <a:t>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 S union N’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eprazan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a postoji prelazak iz stanja D u ono stanje DKA koje ima S kao skup st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suprotnom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ma prelaska iz D na slovo 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148824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" y="1743120"/>
            <a:ext cx="381240" cy="3808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811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9" idx="6"/>
            <a:endCxn id="760" idx="2"/>
          </p:cNvCxnSpPr>
          <p:nvPr/>
        </p:nvCxnSpPr>
        <p:spPr>
          <a:xfrm>
            <a:off x="80928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2" name=""/>
          <p:cNvSpPr/>
          <p:nvPr/>
        </p:nvSpPr>
        <p:spPr>
          <a:xfrm>
            <a:off x="18669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669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0" idx="7"/>
            <a:endCxn id="762" idx="3"/>
          </p:cNvCxnSpPr>
          <p:nvPr/>
        </p:nvCxnSpPr>
        <p:spPr>
          <a:xfrm flipV="1">
            <a:off x="1506240" y="16203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5" name=""/>
          <p:cNvCxnSpPr>
            <a:stCxn id="760" idx="5"/>
            <a:endCxn id="763" idx="1"/>
          </p:cNvCxnSpPr>
          <p:nvPr/>
        </p:nvCxnSpPr>
        <p:spPr>
          <a:xfrm>
            <a:off x="1506240" y="20779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6" name=""/>
          <p:cNvSpPr/>
          <p:nvPr/>
        </p:nvSpPr>
        <p:spPr>
          <a:xfrm>
            <a:off x="262908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8824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784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62" idx="6"/>
            <a:endCxn id="766" idx="2"/>
          </p:cNvCxnSpPr>
          <p:nvPr/>
        </p:nvCxnSpPr>
        <p:spPr>
          <a:xfrm>
            <a:off x="225720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0" name=""/>
          <p:cNvSpPr/>
          <p:nvPr/>
        </p:nvSpPr>
        <p:spPr>
          <a:xfrm>
            <a:off x="262908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63" idx="6"/>
            <a:endCxn id="770" idx="2"/>
          </p:cNvCxnSpPr>
          <p:nvPr/>
        </p:nvCxnSpPr>
        <p:spPr>
          <a:xfrm>
            <a:off x="225720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24460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100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148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5"/>
            <a:endCxn id="774" idx="1"/>
          </p:cNvCxnSpPr>
          <p:nvPr/>
        </p:nvCxnSpPr>
        <p:spPr>
          <a:xfrm>
            <a:off x="2954160" y="16207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6" name=""/>
          <p:cNvCxnSpPr>
            <a:stCxn id="770" idx="7"/>
            <a:endCxn id="774" idx="3"/>
          </p:cNvCxnSpPr>
          <p:nvPr/>
        </p:nvCxnSpPr>
        <p:spPr>
          <a:xfrm flipV="1">
            <a:off x="2954160" y="20775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7" name=""/>
          <p:cNvSpPr/>
          <p:nvPr/>
        </p:nvSpPr>
        <p:spPr>
          <a:xfrm>
            <a:off x="303120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056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006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74" idx="6"/>
            <a:endCxn id="779" idx="2"/>
          </p:cNvCxnSpPr>
          <p:nvPr/>
        </p:nvCxnSpPr>
        <p:spPr>
          <a:xfrm>
            <a:off x="3705120" y="1933200"/>
            <a:ext cx="2865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1" name=""/>
          <p:cNvSpPr/>
          <p:nvPr/>
        </p:nvSpPr>
        <p:spPr>
          <a:xfrm>
            <a:off x="369792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0" idx="4"/>
            <a:endCxn id="779" idx="4"/>
          </p:cNvCxnSpPr>
          <p:nvPr/>
        </p:nvCxnSpPr>
        <p:spPr>
          <a:xfrm flipH="1" rot="16200000">
            <a:off x="278064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3" name=""/>
          <p:cNvCxnSpPr>
            <a:stCxn id="774" idx="0"/>
            <a:endCxn id="760" idx="0"/>
          </p:cNvCxnSpPr>
          <p:nvPr/>
        </p:nvCxnSpPr>
        <p:spPr>
          <a:xfrm rot="5400000">
            <a:off x="243684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4" name=""/>
          <p:cNvSpPr/>
          <p:nvPr/>
        </p:nvSpPr>
        <p:spPr>
          <a:xfrm>
            <a:off x="339300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564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8392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150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76840" y="17431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7" idx="6"/>
            <a:endCxn id="788" idx="2"/>
          </p:cNvCxnSpPr>
          <p:nvPr/>
        </p:nvCxnSpPr>
        <p:spPr>
          <a:xfrm>
            <a:off x="530532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0" name=""/>
          <p:cNvSpPr/>
          <p:nvPr/>
        </p:nvSpPr>
        <p:spPr>
          <a:xfrm>
            <a:off x="6362640" y="12859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62640" y="22003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8" idx="7"/>
            <a:endCxn id="790" idx="3"/>
          </p:cNvCxnSpPr>
          <p:nvPr/>
        </p:nvCxnSpPr>
        <p:spPr>
          <a:xfrm flipV="1">
            <a:off x="6002280" y="16203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3" name=""/>
          <p:cNvCxnSpPr>
            <a:stCxn id="788" idx="5"/>
            <a:endCxn id="791" idx="1"/>
          </p:cNvCxnSpPr>
          <p:nvPr/>
        </p:nvCxnSpPr>
        <p:spPr>
          <a:xfrm>
            <a:off x="6002280" y="20779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4" name=""/>
          <p:cNvSpPr/>
          <p:nvPr/>
        </p:nvSpPr>
        <p:spPr>
          <a:xfrm>
            <a:off x="71247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8392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444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7" name=""/>
          <p:cNvCxnSpPr>
            <a:stCxn id="790" idx="6"/>
            <a:endCxn id="794" idx="2"/>
          </p:cNvCxnSpPr>
          <p:nvPr/>
        </p:nvCxnSpPr>
        <p:spPr>
          <a:xfrm>
            <a:off x="675288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8" name=""/>
          <p:cNvSpPr/>
          <p:nvPr/>
        </p:nvSpPr>
        <p:spPr>
          <a:xfrm>
            <a:off x="71247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91" idx="6"/>
            <a:endCxn id="798" idx="2"/>
          </p:cNvCxnSpPr>
          <p:nvPr/>
        </p:nvCxnSpPr>
        <p:spPr>
          <a:xfrm>
            <a:off x="675288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0" name=""/>
          <p:cNvSpPr/>
          <p:nvPr/>
        </p:nvSpPr>
        <p:spPr>
          <a:xfrm>
            <a:off x="674064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3704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8105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4" idx="5"/>
            <a:endCxn id="802" idx="1"/>
          </p:cNvCxnSpPr>
          <p:nvPr/>
        </p:nvCxnSpPr>
        <p:spPr>
          <a:xfrm>
            <a:off x="7449840" y="16207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4" name=""/>
          <p:cNvCxnSpPr>
            <a:stCxn id="798" idx="7"/>
            <a:endCxn id="802" idx="3"/>
          </p:cNvCxnSpPr>
          <p:nvPr/>
        </p:nvCxnSpPr>
        <p:spPr>
          <a:xfrm flipV="1">
            <a:off x="7449840" y="20775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5" name=""/>
          <p:cNvSpPr/>
          <p:nvPr/>
        </p:nvSpPr>
        <p:spPr>
          <a:xfrm>
            <a:off x="752688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3660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96360" y="1743120"/>
            <a:ext cx="380880" cy="38088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8" name=""/>
          <p:cNvCxnSpPr>
            <a:stCxn id="802" idx="6"/>
            <a:endCxn id="807" idx="2"/>
          </p:cNvCxnSpPr>
          <p:nvPr/>
        </p:nvCxnSpPr>
        <p:spPr>
          <a:xfrm>
            <a:off x="8200800" y="1933200"/>
            <a:ext cx="28620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9" name=""/>
          <p:cNvSpPr/>
          <p:nvPr/>
        </p:nvSpPr>
        <p:spPr>
          <a:xfrm>
            <a:off x="81936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88" idx="4"/>
            <a:endCxn id="807" idx="4"/>
          </p:cNvCxnSpPr>
          <p:nvPr/>
        </p:nvCxnSpPr>
        <p:spPr>
          <a:xfrm flipH="1" rot="16200000">
            <a:off x="727632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1" name=""/>
          <p:cNvCxnSpPr>
            <a:stCxn id="802" idx="0"/>
            <a:endCxn id="788" idx="0"/>
          </p:cNvCxnSpPr>
          <p:nvPr/>
        </p:nvCxnSpPr>
        <p:spPr>
          <a:xfrm rot="5400000">
            <a:off x="693252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2" name=""/>
          <p:cNvSpPr/>
          <p:nvPr/>
        </p:nvSpPr>
        <p:spPr>
          <a:xfrm>
            <a:off x="788904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4132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779" idx="6"/>
            <a:endCxn id="787" idx="2"/>
          </p:cNvCxnSpPr>
          <p:nvPr/>
        </p:nvCxnSpPr>
        <p:spPr>
          <a:xfrm>
            <a:off x="4390560" y="1933200"/>
            <a:ext cx="515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5" name=""/>
          <p:cNvSpPr/>
          <p:nvPr/>
        </p:nvSpPr>
        <p:spPr>
          <a:xfrm>
            <a:off x="4430520" y="12733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19000" y="4876920"/>
            <a:ext cx="1447920" cy="38088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52800" y="4114800"/>
            <a:ext cx="1523880" cy="38088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52800" y="5638680"/>
            <a:ext cx="1523880" cy="3812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62200" y="4876920"/>
            <a:ext cx="190512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114800"/>
            <a:ext cx="243828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5638680"/>
            <a:ext cx="2438280" cy="38124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6" idx="0"/>
            <a:endCxn id="817" idx="1"/>
          </p:cNvCxnSpPr>
          <p:nvPr/>
        </p:nvCxnSpPr>
        <p:spPr>
          <a:xfrm flipV="1">
            <a:off x="1542600" y="4304520"/>
            <a:ext cx="600840" cy="562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3" name=""/>
          <p:cNvSpPr/>
          <p:nvPr/>
        </p:nvSpPr>
        <p:spPr>
          <a:xfrm>
            <a:off x="1901880" y="4460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16" idx="2"/>
            <a:endCxn id="818" idx="1"/>
          </p:cNvCxnSpPr>
          <p:nvPr/>
        </p:nvCxnSpPr>
        <p:spPr>
          <a:xfrm>
            <a:off x="1542600" y="5267160"/>
            <a:ext cx="600840" cy="563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5" name=""/>
          <p:cNvSpPr/>
          <p:nvPr/>
        </p:nvSpPr>
        <p:spPr>
          <a:xfrm>
            <a:off x="1441080" y="552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97000" y="41115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17" idx="3"/>
            <a:endCxn id="819" idx="0"/>
          </p:cNvCxnSpPr>
          <p:nvPr/>
        </p:nvCxnSpPr>
        <p:spPr>
          <a:xfrm>
            <a:off x="3686040" y="4304880"/>
            <a:ext cx="829440" cy="56268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28" name=""/>
          <p:cNvCxnSpPr>
            <a:stCxn id="818" idx="3"/>
            <a:endCxn id="819" idx="2"/>
          </p:cNvCxnSpPr>
          <p:nvPr/>
        </p:nvCxnSpPr>
        <p:spPr>
          <a:xfrm flipV="1">
            <a:off x="3686040" y="5266800"/>
            <a:ext cx="829440" cy="56304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9" name=""/>
          <p:cNvSpPr/>
          <p:nvPr/>
        </p:nvSpPr>
        <p:spPr>
          <a:xfrm>
            <a:off x="4030200" y="5330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19" idx="3"/>
            <a:endCxn id="820" idx="1"/>
          </p:cNvCxnSpPr>
          <p:nvPr/>
        </p:nvCxnSpPr>
        <p:spPr>
          <a:xfrm flipV="1">
            <a:off x="5476680" y="430452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1" name=""/>
          <p:cNvSpPr/>
          <p:nvPr/>
        </p:nvSpPr>
        <p:spPr>
          <a:xfrm>
            <a:off x="5387760" y="43084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19" idx="3"/>
            <a:endCxn id="821" idx="1"/>
          </p:cNvCxnSpPr>
          <p:nvPr/>
        </p:nvCxnSpPr>
        <p:spPr>
          <a:xfrm>
            <a:off x="5476680" y="506700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3" name=""/>
          <p:cNvSpPr/>
          <p:nvPr/>
        </p:nvSpPr>
        <p:spPr>
          <a:xfrm>
            <a:off x="5422320" y="5327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290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0800000">
            <a:off x="26474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780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364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724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69908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214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798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38440" y="3759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91200" y="373392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657520" y="6045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010280" y="601920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812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126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16240" y="3699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559640" y="3679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16" idx="0"/>
            <a:endCxn id="819" idx="0"/>
          </p:cNvCxnSpPr>
          <p:nvPr/>
        </p:nvCxnSpPr>
        <p:spPr>
          <a:xfrm flipH="1" rot="16200000">
            <a:off x="3027600" y="3381120"/>
            <a:ext cx="2520" cy="2972520"/>
          </a:xfrm>
          <a:prstGeom prst="curvedConnector5">
            <a:avLst>
              <a:gd name="adj1" fmla="val -93200000"/>
              <a:gd name="adj2" fmla="val 50000"/>
              <a:gd name="adj3" fmla="val -932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1" name=""/>
          <p:cNvSpPr/>
          <p:nvPr/>
        </p:nvSpPr>
        <p:spPr>
          <a:xfrm>
            <a:off x="1534680" y="34257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1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1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A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– po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o stanje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DK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rans(A,a)=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, jer imamo prelazak iz stanja 3 u stanje 5 na slovo 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5,7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U DKA imamo Trans(A,a) = 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č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u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i programski jezik ima više kategorija rječ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ipične kategorije 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ljučne rije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if, while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+, -, *, /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li brojev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, 2, 45, 6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Realni brojev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1.0, .2, 3.33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denti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to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abc, i, j, ab345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običajeno je da imamo leksičku kategoriju za svaku ključnu riječ i/ili svaku kategoriju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a leksička kategorija definiše se regulra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ičke kategorije -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fKeyword = if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WhileKeyword = whil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Operator = +|-|*|/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nteger = [0-9]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loat = [0-9]*.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dentifier = [a-z]([a-z]|[0-9])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Note that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[0-9] = (0|1|2|3|4|5|6|7|8|9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19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Tahoma"/>
              </a:rPr>
              <a:t>[a-z] = (a|b|c|…|y|z)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ljedeća faza kompajlera koristi leksičke kategorij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Formal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je skup stringova (nizova karaktera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prist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Gene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sanje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t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poznavanje riječi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parser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rm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veza i mehanička koverzi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išemo 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e izraz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Svi stringovi nad alfabetom</a:t>
            </a: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 { &lt;, &gt; }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(&lt;|&gt;)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gdje iza otvorenih zagrada slijede zatvorene zagrade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*&gt;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sa odgovarajućim brojem otvorenih i zatvorenih zagrada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99"/>
                </a:solidFill>
                <a:latin typeface="Tahoma"/>
              </a:rPr>
              <a:t>e može se napisati regularni izraz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!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Ugnježede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 li regularnim izrazima opisati sintak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bajte sljedeće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a+(b-c))*(d-(x-(y-z)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f (x &lt; y) if (y &lt; z) a = 5 else a = 6 else a = 7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Beskontekstne gramatike (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text-Free Gramma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nih simbol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Op, Int, Open, Close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vaki terminal je definisan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egular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m izrazom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</a:t>
            </a:r>
            <a:r>
              <a:rPr b="0" i="1" lang="en-US" sz="2600" spc="-1" strike="noStrike">
                <a:solidFill>
                  <a:srgbClr val="ccffff"/>
                </a:solidFill>
                <a:latin typeface="Tahoma"/>
              </a:rPr>
              <a:t>Start, Ex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pravila (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produ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ja)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jedan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lijev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z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l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desne strane pravil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1447920"/>
            <a:ext cx="3505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činjemo sa neterminalom </a:t>
            </a:r>
            <a:r>
              <a:rPr b="0" i="1" lang="en-US" sz="32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i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ili onom koji je označen kao početni neterminal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oop until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ma neterminala u stringu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rminal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produ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ju sa tim netrminalom sa lijeve stran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mijeni neterminal sa desnom stranom produ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o je proces izvođenja (derivacije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152388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62520" y="213372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2666880"/>
            <a:ext cx="83808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320040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76920" y="380988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53280" y="434340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4360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+|-|*|/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|-|*|/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38480" y="1371600"/>
            <a:ext cx="8384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43400" y="182880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48320" y="259092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76920" y="342900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5520" y="4191120"/>
            <a:ext cx="9903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10080" y="4648320"/>
            <a:ext cx="6098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91320" y="5410080"/>
            <a:ext cx="6858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nutrašnji čvor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list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gra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indivi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izvođen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 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&lt;2-1&gt;+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4876200" y="10573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78000" y="1819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39360" y="2428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21000" y="2657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8760" y="273384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45640" y="3114720"/>
            <a:ext cx="10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67760" y="3191040"/>
            <a:ext cx="10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41160" y="3267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33680" y="34956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2"/>
            <a:endCxn id="891" idx="0"/>
          </p:cNvCxnSpPr>
          <p:nvPr/>
        </p:nvCxnSpPr>
        <p:spPr>
          <a:xfrm flipH="1">
            <a:off x="5319000" y="1577520"/>
            <a:ext cx="26280" cy="2422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2"/>
            <a:endCxn id="894" idx="0"/>
          </p:cNvCxnSpPr>
          <p:nvPr/>
        </p:nvCxnSpPr>
        <p:spPr>
          <a:xfrm flipH="1">
            <a:off x="5312880" y="2340000"/>
            <a:ext cx="7200" cy="394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1" name=""/>
          <p:cNvCxnSpPr>
            <a:stCxn id="891" idx="1"/>
            <a:endCxn id="892" idx="0"/>
          </p:cNvCxnSpPr>
          <p:nvPr/>
        </p:nvCxnSpPr>
        <p:spPr>
          <a:xfrm flipH="1">
            <a:off x="2880720" y="2079720"/>
            <a:ext cx="1996200" cy="349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2" name=""/>
          <p:cNvCxnSpPr>
            <a:stCxn id="891" idx="3"/>
            <a:endCxn id="893" idx="0"/>
          </p:cNvCxnSpPr>
          <p:nvPr/>
        </p:nvCxnSpPr>
        <p:spPr>
          <a:xfrm>
            <a:off x="5762160" y="2079360"/>
            <a:ext cx="700920" cy="5785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3" name=""/>
          <p:cNvCxnSpPr>
            <a:stCxn id="893" idx="2"/>
            <a:endCxn id="898" idx="0"/>
          </p:cNvCxnSpPr>
          <p:nvPr/>
        </p:nvCxnSpPr>
        <p:spPr>
          <a:xfrm flipH="1">
            <a:off x="6457320" y="3178080"/>
            <a:ext cx="540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4" name=""/>
          <p:cNvCxnSpPr>
            <a:stCxn id="892" idx="2"/>
            <a:endCxn id="897" idx="0"/>
          </p:cNvCxnSpPr>
          <p:nvPr/>
        </p:nvCxnSpPr>
        <p:spPr>
          <a:xfrm>
            <a:off x="2881440" y="2949480"/>
            <a:ext cx="21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5" name=""/>
          <p:cNvCxnSpPr>
            <a:stCxn id="892" idx="3"/>
            <a:endCxn id="896" idx="0"/>
          </p:cNvCxnSpPr>
          <p:nvPr/>
        </p:nvCxnSpPr>
        <p:spPr>
          <a:xfrm>
            <a:off x="3324240" y="2689200"/>
            <a:ext cx="984960" cy="502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892" idx="1"/>
            <a:endCxn id="895" idx="0"/>
          </p:cNvCxnSpPr>
          <p:nvPr/>
        </p:nvCxnSpPr>
        <p:spPr>
          <a:xfrm flipH="1">
            <a:off x="1393200" y="2689200"/>
            <a:ext cx="1045080" cy="4262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7" name=""/>
          <p:cNvCxnSpPr>
            <a:stCxn id="897" idx="2"/>
            <a:endCxn id="908" idx="0"/>
          </p:cNvCxnSpPr>
          <p:nvPr/>
        </p:nvCxnSpPr>
        <p:spPr>
          <a:xfrm flipH="1">
            <a:off x="2876040" y="3787920"/>
            <a:ext cx="7200" cy="62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2492280" y="441000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796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11000" y="501984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09" idx="2"/>
            <a:endCxn id="910" idx="0"/>
          </p:cNvCxnSpPr>
          <p:nvPr/>
        </p:nvCxnSpPr>
        <p:spPr>
          <a:xfrm flipH="1">
            <a:off x="1934640" y="4702320"/>
            <a:ext cx="57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350784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20520" y="50958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12" idx="2"/>
            <a:endCxn id="913" idx="0"/>
          </p:cNvCxnSpPr>
          <p:nvPr/>
        </p:nvCxnSpPr>
        <p:spPr>
          <a:xfrm flipH="1">
            <a:off x="3944160" y="4701960"/>
            <a:ext cx="5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897" idx="2"/>
            <a:endCxn id="912" idx="0"/>
          </p:cNvCxnSpPr>
          <p:nvPr/>
        </p:nvCxnSpPr>
        <p:spPr>
          <a:xfrm>
            <a:off x="2882520" y="3787560"/>
            <a:ext cx="1067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897" idx="2"/>
            <a:endCxn id="909" idx="0"/>
          </p:cNvCxnSpPr>
          <p:nvPr/>
        </p:nvCxnSpPr>
        <p:spPr>
          <a:xfrm flipH="1">
            <a:off x="1939320" y="3787560"/>
            <a:ext cx="94356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Int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76920" y="152388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266688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38480" y="3200400"/>
            <a:ext cx="25146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57800" y="37339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34340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9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10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čka analiz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(LA)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8382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Operato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=    +    -    &gt;    (    {   :=    ==    &lt;&g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ljučne riječ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if    while   for    int    doub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Numeri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43    6.035    -3.6e10    0x13F3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ara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te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‘a’    ‘~’    ‘\’’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tring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“6.891”   “Fall 98”   “\”\” = empty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 šta nisu token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Bjeline (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White space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pace(‘ ‘)  tab(‘\t’)  end-of-line(‘\n’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omentar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/*this is not a token*/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67652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gradFill rotWithShape="0">
            <a:gsLst>
              <a:gs pos="0">
                <a:srgbClr val="cc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47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ource program text                 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00" y="95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(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Drvo parsiranja z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(a, (a, a)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95280" y="762120"/>
            <a:ext cx="3960360" cy="5945400"/>
            <a:chOff x="4895280" y="762120"/>
            <a:chExt cx="3960360" cy="5945400"/>
          </a:xfrm>
        </p:grpSpPr>
        <p:sp>
          <p:nvSpPr>
            <p:cNvPr id="933" name=""/>
            <p:cNvSpPr/>
            <p:nvPr/>
          </p:nvSpPr>
          <p:spPr>
            <a:xfrm>
              <a:off x="48952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7999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66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388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15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1400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956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52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7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4712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23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427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521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58600" y="353520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66160" y="2600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01400" y="171936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08960" y="7621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2" idx="2"/>
              <a:endCxn id="934" idx="0"/>
            </p:cNvCxnSpPr>
            <p:nvPr/>
          </p:nvCxnSpPr>
          <p:spPr>
            <a:xfrm flipH="1">
              <a:off x="5538600" y="5823000"/>
              <a:ext cx="216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2" name=""/>
            <p:cNvCxnSpPr>
              <a:stCxn id="943" idx="2"/>
              <a:endCxn id="937" idx="0"/>
            </p:cNvCxnSpPr>
            <p:nvPr/>
          </p:nvCxnSpPr>
          <p:spPr>
            <a:xfrm flipH="1">
              <a:off x="6947640" y="5823000"/>
              <a:ext cx="252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3" name=""/>
            <p:cNvCxnSpPr>
              <a:stCxn id="944" idx="2"/>
              <a:endCxn id="939" idx="0"/>
            </p:cNvCxnSpPr>
            <p:nvPr/>
          </p:nvCxnSpPr>
          <p:spPr>
            <a:xfrm flipH="1">
              <a:off x="7818120" y="5823000"/>
              <a:ext cx="864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4" name=""/>
            <p:cNvCxnSpPr>
              <a:stCxn id="945" idx="2"/>
              <a:endCxn id="942" idx="0"/>
            </p:cNvCxnSpPr>
            <p:nvPr/>
          </p:nvCxnSpPr>
          <p:spPr>
            <a:xfrm>
              <a:off x="554004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5" name=""/>
            <p:cNvCxnSpPr>
              <a:stCxn id="946" idx="2"/>
              <a:endCxn id="943" idx="0"/>
            </p:cNvCxnSpPr>
            <p:nvPr/>
          </p:nvCxnSpPr>
          <p:spPr>
            <a:xfrm>
              <a:off x="694980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6" name=""/>
            <p:cNvCxnSpPr>
              <a:stCxn id="947" idx="2"/>
              <a:endCxn id="938" idx="0"/>
            </p:cNvCxnSpPr>
            <p:nvPr/>
          </p:nvCxnSpPr>
          <p:spPr>
            <a:xfrm flipH="1">
              <a:off x="7315920" y="4114440"/>
              <a:ext cx="40680" cy="2012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7" name=""/>
            <p:cNvCxnSpPr>
              <a:stCxn id="947" idx="2"/>
              <a:endCxn id="946" idx="0"/>
            </p:cNvCxnSpPr>
            <p:nvPr/>
          </p:nvCxnSpPr>
          <p:spPr>
            <a:xfrm flipH="1">
              <a:off x="6949440" y="4114800"/>
              <a:ext cx="407160" cy="248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8" name=""/>
            <p:cNvCxnSpPr>
              <a:stCxn id="947" idx="2"/>
              <a:endCxn id="944" idx="0"/>
            </p:cNvCxnSpPr>
            <p:nvPr/>
          </p:nvCxnSpPr>
          <p:spPr>
            <a:xfrm>
              <a:off x="7356240" y="4114440"/>
              <a:ext cx="470520" cy="11293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9" name=""/>
            <p:cNvCxnSpPr>
              <a:endCxn id="936" idx="0"/>
            </p:cNvCxnSpPr>
            <p:nvPr/>
          </p:nvCxnSpPr>
          <p:spPr>
            <a:xfrm>
              <a:off x="64004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0" name=""/>
            <p:cNvCxnSpPr>
              <a:endCxn id="940" idx="0"/>
            </p:cNvCxnSpPr>
            <p:nvPr/>
          </p:nvCxnSpPr>
          <p:spPr>
            <a:xfrm>
              <a:off x="8229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1" name=""/>
            <p:cNvCxnSpPr>
              <a:stCxn id="948" idx="2"/>
            </p:cNvCxnSpPr>
            <p:nvPr/>
          </p:nvCxnSpPr>
          <p:spPr>
            <a:xfrm flipH="1">
              <a:off x="6400440" y="3179520"/>
              <a:ext cx="969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2" name=""/>
            <p:cNvCxnSpPr>
              <a:stCxn id="948" idx="2"/>
            </p:cNvCxnSpPr>
            <p:nvPr/>
          </p:nvCxnSpPr>
          <p:spPr>
            <a:xfrm>
              <a:off x="7369200" y="3179520"/>
              <a:ext cx="861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3" name=""/>
            <p:cNvCxnSpPr>
              <a:stCxn id="948" idx="2"/>
              <a:endCxn id="947" idx="0"/>
            </p:cNvCxnSpPr>
            <p:nvPr/>
          </p:nvCxnSpPr>
          <p:spPr>
            <a:xfrm flipH="1">
              <a:off x="7355880" y="3179520"/>
              <a:ext cx="13320" cy="356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4" name=""/>
            <p:cNvCxnSpPr/>
            <p:nvPr/>
          </p:nvCxnSpPr>
          <p:spPr>
            <a:xfrm>
              <a:off x="5943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5" name=""/>
            <p:cNvCxnSpPr>
              <a:stCxn id="949" idx="2"/>
            </p:cNvCxnSpPr>
            <p:nvPr/>
          </p:nvCxnSpPr>
          <p:spPr>
            <a:xfrm flipH="1">
              <a:off x="5942880" y="2298240"/>
              <a:ext cx="956520" cy="2274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6" name=""/>
            <p:cNvCxnSpPr>
              <a:stCxn id="949" idx="2"/>
              <a:endCxn id="945" idx="0"/>
            </p:cNvCxnSpPr>
            <p:nvPr/>
          </p:nvCxnSpPr>
          <p:spPr>
            <a:xfrm flipH="1">
              <a:off x="5539680" y="2298240"/>
              <a:ext cx="1359720" cy="20646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7" name=""/>
            <p:cNvCxnSpPr>
              <a:stCxn id="949" idx="2"/>
              <a:endCxn id="948" idx="0"/>
            </p:cNvCxnSpPr>
            <p:nvPr/>
          </p:nvCxnSpPr>
          <p:spPr>
            <a:xfrm>
              <a:off x="6899040" y="2298600"/>
              <a:ext cx="47052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8" name=""/>
            <p:cNvCxnSpPr/>
            <p:nvPr/>
          </p:nvCxnSpPr>
          <p:spPr>
            <a:xfrm>
              <a:off x="5028840" y="3352680"/>
              <a:ext cx="18360" cy="28202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9" name=""/>
            <p:cNvCxnSpPr>
              <a:stCxn id="950" idx="2"/>
            </p:cNvCxnSpPr>
            <p:nvPr/>
          </p:nvCxnSpPr>
          <p:spPr>
            <a:xfrm flipH="1">
              <a:off x="5028840" y="1341360"/>
              <a:ext cx="1883520" cy="19994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0" name=""/>
            <p:cNvCxnSpPr/>
            <p:nvPr/>
          </p:nvCxnSpPr>
          <p:spPr>
            <a:xfrm>
              <a:off x="8645040" y="3276360"/>
              <a:ext cx="18360" cy="281988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71" name=""/>
            <p:cNvCxnSpPr>
              <a:stCxn id="950" idx="2"/>
            </p:cNvCxnSpPr>
            <p:nvPr/>
          </p:nvCxnSpPr>
          <p:spPr>
            <a:xfrm>
              <a:off x="6911640" y="1341360"/>
              <a:ext cx="1734120" cy="1923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2" name=""/>
            <p:cNvCxnSpPr>
              <a:stCxn id="950" idx="2"/>
              <a:endCxn id="949" idx="0"/>
            </p:cNvCxnSpPr>
            <p:nvPr/>
          </p:nvCxnSpPr>
          <p:spPr>
            <a:xfrm flipH="1">
              <a:off x="6898680" y="1341360"/>
              <a:ext cx="13320" cy="3787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finisanje KSG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KSG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ruktur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{S,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, N, T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}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o stanj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produ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c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avil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n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V = N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 oblik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-&gt;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…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i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V</a:t>
            </a:r>
            <a:r>
              <a:rPr b="1" lang="sr-Latn-CS" sz="2800" spc="-1" strike="noStrike">
                <a:solidFill>
                  <a:srgbClr val="ccff99"/>
                </a:solidFill>
                <a:latin typeface="Tahoma"/>
              </a:rPr>
              <a:t>, i=1,...,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Palindromi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e.g. “dennis sinned”, “abba”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 N = { E  }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99"/>
                </a:solidFill>
                <a:uFillTx/>
                <a:latin typeface="Tahoma"/>
              </a:rPr>
              <a:t>Deriva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cija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Pravilo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1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E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aE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2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E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bEb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3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-&gt;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4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ba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6172200" y="2362320"/>
            <a:ext cx="266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a  E  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b  E  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N = {  E  } 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arse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ablo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rontier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re-order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bilazak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ikaz rečenic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4952880" y="2209680"/>
            <a:ext cx="403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2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N = { S }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S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{ S -&gt;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| aSbS | bSaS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a jednakim broje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lov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a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b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914400" y="3276720"/>
            <a:ext cx="3581280" cy="2590560"/>
            <a:chOff x="914400" y="3276720"/>
            <a:chExt cx="3581280" cy="2590560"/>
          </a:xfrm>
        </p:grpSpPr>
        <p:sp>
          <p:nvSpPr>
            <p:cNvPr id="984" name=""/>
            <p:cNvSpPr/>
            <p:nvPr/>
          </p:nvSpPr>
          <p:spPr>
            <a:xfrm>
              <a:off x="16765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14400" y="4832280"/>
              <a:ext cx="363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3828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33720" y="3276720"/>
              <a:ext cx="365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4832280"/>
              <a:ext cx="3664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2080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29000" y="3987720"/>
              <a:ext cx="365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52480" y="3987720"/>
              <a:ext cx="365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89120" y="3987720"/>
              <a:ext cx="3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14400" y="3987720"/>
              <a:ext cx="3636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38480" y="4765680"/>
              <a:ext cx="457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767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96" name=""/>
            <p:cNvCxnSpPr>
              <a:stCxn id="987" idx="2"/>
              <a:endCxn id="993" idx="0"/>
            </p:cNvCxnSpPr>
            <p:nvPr/>
          </p:nvCxnSpPr>
          <p:spPr>
            <a:xfrm flipH="1">
              <a:off x="1096200" y="3663720"/>
              <a:ext cx="122004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7" name=""/>
            <p:cNvCxnSpPr>
              <a:stCxn id="987" idx="2"/>
              <a:endCxn id="991" idx="0"/>
            </p:cNvCxnSpPr>
            <p:nvPr/>
          </p:nvCxnSpPr>
          <p:spPr>
            <a:xfrm flipH="1">
              <a:off x="1936440" y="3663720"/>
              <a:ext cx="38016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8" name=""/>
            <p:cNvCxnSpPr>
              <a:stCxn id="992" idx="0"/>
              <a:endCxn id="987" idx="2"/>
            </p:cNvCxnSpPr>
            <p:nvPr/>
          </p:nvCxnSpPr>
          <p:spPr>
            <a:xfrm flipH="1" flipV="1">
              <a:off x="2315880" y="3663360"/>
              <a:ext cx="45792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9" name=""/>
            <p:cNvCxnSpPr>
              <a:stCxn id="990" idx="0"/>
              <a:endCxn id="987" idx="2"/>
            </p:cNvCxnSpPr>
            <p:nvPr/>
          </p:nvCxnSpPr>
          <p:spPr>
            <a:xfrm flipH="1" flipV="1">
              <a:off x="2315880" y="3663360"/>
              <a:ext cx="129600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0" name=""/>
            <p:cNvCxnSpPr>
              <a:stCxn id="988" idx="0"/>
              <a:endCxn id="991" idx="2"/>
            </p:cNvCxnSpPr>
            <p:nvPr/>
          </p:nvCxnSpPr>
          <p:spPr>
            <a:xfrm flipH="1" flipV="1">
              <a:off x="1936080" y="4377600"/>
              <a:ext cx="156924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1" name=""/>
            <p:cNvCxnSpPr>
              <a:stCxn id="991" idx="2"/>
              <a:endCxn id="986" idx="0"/>
            </p:cNvCxnSpPr>
            <p:nvPr/>
          </p:nvCxnSpPr>
          <p:spPr>
            <a:xfrm>
              <a:off x="1936800" y="4377960"/>
              <a:ext cx="68472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2" name=""/>
            <p:cNvCxnSpPr>
              <a:stCxn id="991" idx="2"/>
              <a:endCxn id="989" idx="0"/>
            </p:cNvCxnSpPr>
            <p:nvPr/>
          </p:nvCxnSpPr>
          <p:spPr>
            <a:xfrm flipH="1">
              <a:off x="1904760" y="4377960"/>
              <a:ext cx="324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3" name=""/>
            <p:cNvCxnSpPr>
              <a:stCxn id="991" idx="2"/>
              <a:endCxn id="985" idx="0"/>
            </p:cNvCxnSpPr>
            <p:nvPr/>
          </p:nvCxnSpPr>
          <p:spPr>
            <a:xfrm flipH="1">
              <a:off x="1096200" y="4377960"/>
              <a:ext cx="8406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4" name=""/>
            <p:cNvCxnSpPr>
              <a:stCxn id="989" idx="2"/>
              <a:endCxn id="984" idx="0"/>
            </p:cNvCxnSpPr>
            <p:nvPr/>
          </p:nvCxnSpPr>
          <p:spPr>
            <a:xfrm>
              <a:off x="19047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5" name=""/>
            <p:cNvCxnSpPr>
              <a:stCxn id="988" idx="2"/>
              <a:endCxn id="995" idx="0"/>
            </p:cNvCxnSpPr>
            <p:nvPr/>
          </p:nvCxnSpPr>
          <p:spPr>
            <a:xfrm>
              <a:off x="35049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6" name=""/>
            <p:cNvCxnSpPr>
              <a:stCxn id="990" idx="2"/>
              <a:endCxn id="994" idx="0"/>
            </p:cNvCxnSpPr>
            <p:nvPr/>
          </p:nvCxnSpPr>
          <p:spPr>
            <a:xfrm>
              <a:off x="3611160" y="4378320"/>
              <a:ext cx="656280" cy="3880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</p:grpSp>
      <p:sp>
        <p:nvSpPr>
          <p:cNvPr id="1007" name=""/>
          <p:cNvSpPr/>
          <p:nvPr/>
        </p:nvSpPr>
        <p:spPr>
          <a:xfrm>
            <a:off x="6913440" y="56134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54760" y="3124080"/>
            <a:ext cx="299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18200" y="395604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192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329520" y="395604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5288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51920" y="5613480"/>
            <a:ext cx="374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08" idx="2"/>
            <a:endCxn id="1012" idx="0"/>
          </p:cNvCxnSpPr>
          <p:nvPr/>
        </p:nvCxnSpPr>
        <p:spPr>
          <a:xfrm flipH="1">
            <a:off x="5103360" y="3578040"/>
            <a:ext cx="10008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5" name=""/>
          <p:cNvCxnSpPr>
            <a:stCxn id="1008" idx="2"/>
            <a:endCxn id="1010" idx="0"/>
          </p:cNvCxnSpPr>
          <p:nvPr/>
        </p:nvCxnSpPr>
        <p:spPr>
          <a:xfrm flipH="1">
            <a:off x="5790960" y="3578040"/>
            <a:ext cx="3132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6" name=""/>
          <p:cNvCxnSpPr>
            <a:stCxn id="1011" idx="0"/>
            <a:endCxn id="1008" idx="2"/>
          </p:cNvCxnSpPr>
          <p:nvPr/>
        </p:nvCxnSpPr>
        <p:spPr>
          <a:xfrm flipH="1" flipV="1">
            <a:off x="6103080" y="3577680"/>
            <a:ext cx="37692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7" name=""/>
          <p:cNvCxnSpPr>
            <a:stCxn id="1009" idx="0"/>
            <a:endCxn id="1008" idx="2"/>
          </p:cNvCxnSpPr>
          <p:nvPr/>
        </p:nvCxnSpPr>
        <p:spPr>
          <a:xfrm flipH="1" flipV="1">
            <a:off x="6103080" y="3577680"/>
            <a:ext cx="106596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6289560" y="493236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236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267760" y="4932360"/>
            <a:ext cx="301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5340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20" idx="0"/>
            <a:endCxn id="1009" idx="2"/>
          </p:cNvCxnSpPr>
          <p:nvPr/>
        </p:nvCxnSpPr>
        <p:spPr>
          <a:xfrm flipH="1" flipV="1">
            <a:off x="7168320" y="4409280"/>
            <a:ext cx="12502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3" name=""/>
          <p:cNvCxnSpPr>
            <a:stCxn id="1009" idx="2"/>
            <a:endCxn id="1019" idx="0"/>
          </p:cNvCxnSpPr>
          <p:nvPr/>
        </p:nvCxnSpPr>
        <p:spPr>
          <a:xfrm>
            <a:off x="7169040" y="4409640"/>
            <a:ext cx="5248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4" name=""/>
          <p:cNvCxnSpPr>
            <a:stCxn id="1009" idx="2"/>
            <a:endCxn id="1021" idx="0"/>
          </p:cNvCxnSpPr>
          <p:nvPr/>
        </p:nvCxnSpPr>
        <p:spPr>
          <a:xfrm flipH="1">
            <a:off x="7103880" y="4409640"/>
            <a:ext cx="6552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5" name=""/>
          <p:cNvCxnSpPr>
            <a:stCxn id="1009" idx="2"/>
            <a:endCxn id="1018" idx="0"/>
          </p:cNvCxnSpPr>
          <p:nvPr/>
        </p:nvCxnSpPr>
        <p:spPr>
          <a:xfrm flipH="1">
            <a:off x="6440040" y="4409640"/>
            <a:ext cx="72936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6" name=""/>
          <p:cNvCxnSpPr>
            <a:stCxn id="1021" idx="2"/>
            <a:endCxn id="1007" idx="0"/>
          </p:cNvCxnSpPr>
          <p:nvPr/>
        </p:nvCxnSpPr>
        <p:spPr>
          <a:xfrm flipH="1">
            <a:off x="7101720" y="5385960"/>
            <a:ext cx="252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7" name=""/>
          <p:cNvCxnSpPr>
            <a:stCxn id="1020" idx="2"/>
            <a:endCxn id="1013" idx="0"/>
          </p:cNvCxnSpPr>
          <p:nvPr/>
        </p:nvCxnSpPr>
        <p:spPr>
          <a:xfrm>
            <a:off x="8418240" y="5385960"/>
            <a:ext cx="2088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28" name=""/>
          <p:cNvSpPr/>
          <p:nvPr/>
        </p:nvSpPr>
        <p:spPr>
          <a:xfrm>
            <a:off x="5130720" y="48736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9" name=""/>
          <p:cNvCxnSpPr>
            <a:stCxn id="1010" idx="2"/>
            <a:endCxn id="1028" idx="0"/>
          </p:cNvCxnSpPr>
          <p:nvPr/>
        </p:nvCxnSpPr>
        <p:spPr>
          <a:xfrm flipH="1">
            <a:off x="5317920" y="4410000"/>
            <a:ext cx="475200" cy="46440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SG primjer 3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920" y="1447920"/>
            <a:ext cx="3733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0" y="1676520"/>
            <a:ext cx="4572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kup tokena je  { +, -, *, /, Int }, gdje Int = [0-9][0-9]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vaki Int n token predstavljamo samo sa 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676520" y="1692360"/>
            <a:ext cx="106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503760" y="356868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09680" y="2209320"/>
            <a:ext cx="0" cy="31244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56560" y="5149800"/>
            <a:ext cx="197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29680" y="356868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76520" y="251460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endCxn id="1050" idx="0"/>
          </p:cNvCxnSpPr>
          <p:nvPr/>
        </p:nvCxnSpPr>
        <p:spPr>
          <a:xfrm>
            <a:off x="2092320" y="219564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2209680" y="3048120"/>
            <a:ext cx="0" cy="228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72720" y="515160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8480" y="3568680"/>
            <a:ext cx="186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4" name=""/>
          <p:cNvCxnSpPr>
            <a:endCxn id="106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endCxn id="106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endCxn id="106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endCxn id="106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7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71600" y="441972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47920" y="5029200"/>
            <a:ext cx="2971800" cy="38088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35320" y="5151600"/>
            <a:ext cx="20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69520" y="3568680"/>
            <a:ext cx="195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3" name=""/>
          <p:cNvCxnSpPr>
            <a:endCxn id="108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8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7" name=""/>
          <p:cNvCxnSpPr>
            <a:endCxn id="108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endCxn id="108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endCxn id="108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808200" y="4206960"/>
            <a:ext cx="109692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90" idx="0"/>
          </p:cNvCxnSpPr>
          <p:nvPr/>
        </p:nvCxnSpPr>
        <p:spPr>
          <a:xfrm>
            <a:off x="135684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09680" y="449568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+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-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5638680"/>
            <a:ext cx="2997360" cy="38124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44434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4584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endCxn id="110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8" name=""/>
          <p:cNvCxnSpPr>
            <a:endCxn id="110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9" name=""/>
          <p:cNvCxnSpPr>
            <a:endCxn id="110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endCxn id="111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2" name=""/>
          <p:cNvSpPr/>
          <p:nvPr/>
        </p:nvSpPr>
        <p:spPr>
          <a:xfrm>
            <a:off x="840960" y="4968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endCxn id="1112" idx="0"/>
          </p:cNvCxnSpPr>
          <p:nvPr/>
        </p:nvCxnSpPr>
        <p:spPr>
          <a:xfrm>
            <a:off x="114912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4" name=""/>
          <p:cNvSpPr/>
          <p:nvPr/>
        </p:nvSpPr>
        <p:spPr>
          <a:xfrm>
            <a:off x="6128640" y="3568680"/>
            <a:ext cx="164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endCxn id="112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2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7" name=""/>
          <p:cNvCxnSpPr>
            <a:endCxn id="112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8" name=""/>
          <p:cNvCxnSpPr>
            <a:endCxn id="112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9" name=""/>
          <p:cNvCxnSpPr>
            <a:endCxn id="112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1" name=""/>
          <p:cNvCxnSpPr>
            <a:endCxn id="113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522840" y="2044800"/>
            <a:ext cx="84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3" name=""/>
          <p:cNvCxnSpPr>
            <a:endCxn id="114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91160" y="3429000"/>
            <a:ext cx="2844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7" name=""/>
          <p:cNvCxnSpPr>
            <a:endCxn id="1146" idx="0"/>
          </p:cNvCxnSpPr>
          <p:nvPr/>
        </p:nvCxnSpPr>
        <p:spPr>
          <a:xfrm flipH="1">
            <a:off x="2133360" y="3033720"/>
            <a:ext cx="216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endCxn id="114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endCxn id="114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1" name=""/>
          <p:cNvCxnSpPr>
            <a:endCxn id="115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endCxn id="115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3" name=""/>
          <p:cNvCxnSpPr>
            <a:endCxn id="116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6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7" name=""/>
          <p:cNvCxnSpPr>
            <a:endCxn id="116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8" name=""/>
          <p:cNvCxnSpPr>
            <a:endCxn id="116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9" name=""/>
          <p:cNvCxnSpPr>
            <a:endCxn id="116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1" name=""/>
          <p:cNvCxnSpPr>
            <a:endCxn id="117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4" name=""/>
          <p:cNvCxnSpPr>
            <a:endCxn id="117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96480" y="5151600"/>
            <a:ext cx="291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944320" y="3568680"/>
            <a:ext cx="201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5" name=""/>
          <p:cNvCxnSpPr>
            <a:endCxn id="1184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86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9" name=""/>
          <p:cNvCxnSpPr>
            <a:endCxn id="1188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0" name=""/>
          <p:cNvCxnSpPr>
            <a:endCxn id="1186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1" name=""/>
          <p:cNvCxnSpPr>
            <a:endCxn id="1187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2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3" name=""/>
          <p:cNvCxnSpPr>
            <a:endCxn id="1192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4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7" name=""/>
          <p:cNvCxnSpPr>
            <a:endCxn id="1196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endCxn id="1195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endCxn id="1194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0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04728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17040" y="3568680"/>
            <a:ext cx="186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2" name=""/>
          <p:cNvCxnSpPr>
            <a:endCxn id="1211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3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6" name=""/>
          <p:cNvCxnSpPr>
            <a:endCxn id="1215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endCxn id="1213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endCxn id="1214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0" name=""/>
          <p:cNvCxnSpPr>
            <a:endCxn id="1219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1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4" name=""/>
          <p:cNvCxnSpPr>
            <a:endCxn id="1223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endCxn id="1222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endCxn id="1221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7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8" name=""/>
          <p:cNvCxnSpPr>
            <a:endCxn id="1227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9" name=""/>
          <p:cNvSpPr/>
          <p:nvPr/>
        </p:nvSpPr>
        <p:spPr>
          <a:xfrm>
            <a:off x="1855440" y="5211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30" name=""/>
          <p:cNvCxnSpPr>
            <a:endCxn id="1229" idx="0"/>
          </p:cNvCxnSpPr>
          <p:nvPr/>
        </p:nvCxnSpPr>
        <p:spPr>
          <a:xfrm>
            <a:off x="216324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3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endCxn id="1239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1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4" name=""/>
          <p:cNvCxnSpPr>
            <a:endCxn id="1243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endCxn id="1241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endCxn id="1242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7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8" name=""/>
          <p:cNvCxnSpPr>
            <a:endCxn id="1247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9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endCxn id="1251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endCxn id="1250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endCxn id="1249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5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endCxn id="1255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7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8" name=""/>
          <p:cNvCxnSpPr>
            <a:endCxn id="1257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70440" y="2044800"/>
            <a:ext cx="5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68" name=""/>
          <p:cNvCxnSpPr>
            <a:endCxn id="1267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69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2" name=""/>
          <p:cNvCxnSpPr>
            <a:endCxn id="1271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endCxn id="1269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endCxn id="1270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6" name=""/>
          <p:cNvCxnSpPr>
            <a:endCxn id="1275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7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0" name=""/>
          <p:cNvCxnSpPr>
            <a:endCxn id="1279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endCxn id="1278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2" name=""/>
          <p:cNvCxnSpPr>
            <a:endCxn id="1277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4" name=""/>
          <p:cNvCxnSpPr>
            <a:endCxn id="128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6" name=""/>
          <p:cNvCxnSpPr>
            <a:endCxn id="1285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endCxn id="1295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97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0" name=""/>
          <p:cNvCxnSpPr>
            <a:endCxn id="1299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1" name=""/>
          <p:cNvCxnSpPr>
            <a:endCxn id="1297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2" name=""/>
          <p:cNvCxnSpPr>
            <a:endCxn id="1298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3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4" name=""/>
          <p:cNvCxnSpPr>
            <a:endCxn id="1303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5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8" name=""/>
          <p:cNvCxnSpPr>
            <a:endCxn id="1307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endCxn id="1306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endCxn id="1305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2" name=""/>
          <p:cNvCxnSpPr>
            <a:endCxn id="1311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3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endCxn id="1313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4" name=""/>
          <p:cNvCxnSpPr>
            <a:endCxn id="132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2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8" name=""/>
          <p:cNvCxnSpPr>
            <a:endCxn id="132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29" name=""/>
          <p:cNvCxnSpPr>
            <a:endCxn id="132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0" name=""/>
          <p:cNvCxnSpPr>
            <a:endCxn id="132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endCxn id="1331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endCxn id="1335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endCxn id="1334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endCxn id="1333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endCxn id="1339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1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2" name=""/>
          <p:cNvCxnSpPr>
            <a:endCxn id="1341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3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42440" y="2971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75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4120" y="2971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676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0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96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800" y="2971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657600"/>
            <a:ext cx="8534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Grupiše nizove karaktera u toke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Doda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tribute toke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limi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še bjeline i komentar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1" name=""/>
          <p:cNvCxnSpPr>
            <a:endCxn id="1350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2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endCxn id="1354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endCxn id="1352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endCxn id="1353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endCxn id="1358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3" name=""/>
          <p:cNvCxnSpPr>
            <a:endCxn id="1362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endCxn id="1361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endCxn id="1360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6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endCxn id="1366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8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endCxn id="1368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treba da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….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Identif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kuje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token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6036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Num(6035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X6035      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ID(“X6035”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 različitim jezicim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DO I=1,10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(int i=1; i&lt;= 10; i++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R/S-plus     for (i in 1:10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gu li se ovi jezici opisati jednim jeziko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 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00:43:56Z</dcterms:created>
  <dc:creator>Martin Rinard</dc:creator>
  <dc:description/>
  <dc:language>en-US</dc:language>
  <cp:lastModifiedBy>gorans</cp:lastModifiedBy>
  <cp:lastPrinted>2007-08-30T19:57:49Z</cp:lastPrinted>
  <dcterms:modified xsi:type="dcterms:W3CDTF">2009-01-30T11:09:15Z</dcterms:modified>
  <cp:revision>1006</cp:revision>
  <dc:subject/>
  <dc:title>Design-Driven Compilation</dc:title>
</cp:coreProperties>
</file>