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3E398-6160-4658-9AD4-8F3A4B5E4C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A7085-DEEC-4EA0-BDE9-8161C8AA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93C6-6A08-4020-8F00-3468510B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D323-90D9-414E-ADD8-9E84B27E80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BC273-A3C0-479B-B9CF-C2EF56414D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75CD1-2D25-481F-9C7D-5E230074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4389F-6F58-476B-8BDE-DC3E0B0D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55582-0165-499C-9AA1-91818C33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59D17-8DDA-4B44-933E-BE05D33E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41B93-992E-4805-BA9E-21C3E261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FE29F-A1A8-4ED9-BC16-15E9707E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0A16-1F12-48D7-AFDA-2C893CFF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B27C1-C0BC-4CB6-B467-7F778775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EFF50-97DE-4F22-A5B3-7F6EF3F7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59D07-9D32-4FE3-B4E6-09927184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9BA57-669E-4767-9123-438D3630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C682A-C90B-4268-B427-9B41F619DA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8D69-43FE-47F6-9EC9-9933A9AE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450DE-D7A5-4AF8-937C-E67D4B7C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B969-3110-44A4-BF83-F6F26700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5353A-5AF2-47C1-8A78-FFBE2F0B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8DF5-AADB-4B6D-BECF-8A1808FA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389DE-D3CA-42CB-A66D-E890136D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377A-785B-4639-B6EB-9184F58A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2F90-E623-4B23-B13E-ED9A66C5E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D69A-6C56-48E5-B9CC-AA1B1D977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Generating Code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CC4F3-592D-4E3C-93DE-C7EA6F8084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k mašin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m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zračuna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7 + 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om 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446256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43959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657600" y="3154320"/>
            <a:ext cx="2362320" cy="2463120"/>
            <a:chOff x="3657600" y="3154320"/>
            <a:chExt cx="2362320" cy="2463120"/>
          </a:xfrm>
        </p:grpSpPr>
        <p:sp>
          <p:nvSpPr>
            <p:cNvPr id="122" name=""/>
            <p:cNvSpPr/>
            <p:nvPr/>
          </p:nvSpPr>
          <p:spPr>
            <a:xfrm>
              <a:off x="4800600" y="31543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401004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0600" y="44719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57600" y="5157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c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3154320"/>
            <a:ext cx="3962520" cy="2723760"/>
            <a:chOff x="5181480" y="3154320"/>
            <a:chExt cx="3962520" cy="2723760"/>
          </a:xfrm>
        </p:grpSpPr>
        <p:sp>
          <p:nvSpPr>
            <p:cNvPr id="127" name=""/>
            <p:cNvSpPr/>
            <p:nvPr/>
          </p:nvSpPr>
          <p:spPr>
            <a:xfrm>
              <a:off x="7315200" y="31543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446256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00800" y="3306600"/>
              <a:ext cx="6094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" name=""/>
            <p:cNvCxnSpPr>
              <a:stCxn id="129" idx="6"/>
              <a:endCxn id="127" idx="1"/>
            </p:cNvCxnSpPr>
            <p:nvPr/>
          </p:nvCxnSpPr>
          <p:spPr>
            <a:xfrm flipV="1">
              <a:off x="7009920" y="3387240"/>
              <a:ext cx="305640" cy="148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3" idx="3"/>
              <a:endCxn id="129" idx="3"/>
            </p:cNvCxnSpPr>
            <p:nvPr/>
          </p:nvCxnSpPr>
          <p:spPr>
            <a:xfrm flipV="1">
              <a:off x="6019560" y="3696840"/>
              <a:ext cx="470520" cy="546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2" idx="3"/>
              <a:endCxn id="129" idx="1"/>
            </p:cNvCxnSpPr>
            <p:nvPr/>
          </p:nvCxnSpPr>
          <p:spPr>
            <a:xfrm flipV="1">
              <a:off x="6019560" y="3372840"/>
              <a:ext cx="470520" cy="14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3" name=""/>
            <p:cNvSpPr/>
            <p:nvPr/>
          </p:nvSpPr>
          <p:spPr>
            <a:xfrm>
              <a:off x="5181480" y="5081760"/>
              <a:ext cx="396252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c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acc + top_of_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905120" y="3154320"/>
            <a:ext cx="2209680" cy="2799720"/>
            <a:chOff x="1905120" y="3154320"/>
            <a:chExt cx="2209680" cy="2799720"/>
          </a:xfrm>
        </p:grpSpPr>
        <p:sp>
          <p:nvSpPr>
            <p:cNvPr id="135" name=""/>
            <p:cNvSpPr/>
            <p:nvPr/>
          </p:nvSpPr>
          <p:spPr>
            <a:xfrm>
              <a:off x="2895480" y="447984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95480" y="31543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05120" y="5157720"/>
              <a:ext cx="160020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c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ush 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95480" y="40147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ECA9-DB4D-4C4A-A138-2564BD7839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Veći primj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3 + (7 + 5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Acc        Sta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133720"/>
            <a:ext cx="739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3                                  3              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acc                                 3              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7                                  7             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acc                                 7              7,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5                                  5              7,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 + top_of_stack     12             7,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                                        12             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 + top_of_stack     15            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                                        15             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BEB1-7A9E-4E6B-9045-DA5EF2574E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eoma je važno da se stek očuva između izračunavanja podizraz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k prije izračunavanj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7 +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, &lt;init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k poslije izračunavanj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7 +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, &lt;init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v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perand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na vrhu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E3CD-ABA3-4AA2-BEB9-A574906E86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 d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PS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-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jl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še kod 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k mašinu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a 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Želimo da startujemo rezultujući kod n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proces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pleme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ram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nstrukci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k maši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 korišćenje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 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s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D7FB-E241-495A-AA44-850E8FF339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mul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ij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e čuva 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regist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e čuva 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m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j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k raste ka nižim adres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dard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ve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a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PS arhit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dresa sledeće lokacije na steku čuva se u registr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rh steka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na adres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sp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CE875-85CA-4CF4-9551-1CC4C786E5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P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arhit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psk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uced Instruction Set Computer (RISC) arhit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itmet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ke 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e koriste 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i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za operande i rezul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ramo koristit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ad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ore instru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cije za operande 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te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j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2 regis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 opšte namje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32 bi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 svak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Koristićem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$s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$a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$t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temporary regist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FD72-593B-4A2E-BE93-609AA2052E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Di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IPS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stru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j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w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ffset(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 32-bit word from address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offs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w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ffset(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 32-bit word i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t address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off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u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m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i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” means overflow is not check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 reg im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i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CCDF-A8A6-478F-B525-AE1789DC96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PS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k mašine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7 + 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IP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133720"/>
            <a:ext cx="4038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 + top_of_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2133720"/>
            <a:ext cx="274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 $a0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w $a0 0($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u $sp $sp 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 $a0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w $t1 4($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 $a0 $a0 $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u $sp $sp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486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aliz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 na prosti jezi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F593-CB7C-45AF-AE54-CD0A6B47E2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eki korisni makroi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fi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saćemo sledeće skraćen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sh $t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w $a0 0($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u $sp $sp -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p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u $sp $sp   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p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w $t 4($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9E64-DFBF-43A4-B4C0-4AA9A4AC97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osti jezi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zik sa cijelim brojevima i cjelobrojnim operatori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D; P | 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def id(ARGS) = 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RG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d, ARGS | 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nt | id | if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=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then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else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|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|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–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| id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FC438-31AB-4453-8898-CD4DDCD753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gled lekcij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k m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a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b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rski jez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os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zvorn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z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plementacija pomoću 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-m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prostog jezik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36F9C-2163-4D78-A091-6D7528E47E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osti jezi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va definicija funkci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main” ruti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zvršavan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 za ulaz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nači izračunavan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(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bon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ijeve broje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f fib(x) = if x = 1 then 0 el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f x = 2 then 1 else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ib(x - 1) + fib(x – 2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5983-3796-41AF-8ADE-AFC83EEF74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rateg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ja generisanja kod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svaki izraz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ene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šem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koj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zračunava vrijednos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a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uv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s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 sadržaj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fi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šimo funkciju za generisanje kod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)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iji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t kod generisan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380C-26CE-4BA4-8A4C-AED6467C42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stan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za izračunavanje 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sta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 samo je kopira u akumula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i) = li $a0 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mjetite da se čuva sadržaj steka, kao što je i zahtijeva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E3F06-8B63-4664-8B49-DF05B2AF83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d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t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t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$a0 $t1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guć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imiz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avit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t izra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r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tno 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s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t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5C3DD-5CCB-457C-8227-EFD1E520D8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dd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– pogrešan pristu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miz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ezult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r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tno 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t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ve $t1 $a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 $a0 $t1 $a0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obajte da generišete kod z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 + (7 + 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3E8C8-1C2F-463C-A320-03DFDDB0BB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- n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za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lat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sa prostorom za kod za izračunavan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ek mašine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iv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staje spajanjem koda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biti implementirano kao rekurzivni spust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ursive-desce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 na AST-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akar za izra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3F6C-E41D-44A7-8740-D526428617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ub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stan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o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stru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ij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ub reg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r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-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-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t1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t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b $a0 $t1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712F-B83E-49B5-8FD3-35C1C5370F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uslovne naredb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ne su nam instrukcije kontrole toka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flow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ction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va instrukci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q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lab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ok (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ch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 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va instrukci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 lab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Bezuslovni skok na labelu (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conditional jump to labe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0CB5-B172-4624-8F66-6A4CFB0BE6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f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if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hen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se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t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q $a0 $t1 true_bran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2286000"/>
            <a:ext cx="274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_bran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 end_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_bran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d_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F15D-5D7F-4437-AB1F-3364C49E10B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o drvo – primjer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f() {return g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oid main() { g(); f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885840" y="4495320"/>
            <a:ext cx="1524240" cy="765000"/>
            <a:chOff x="3885840" y="4495320"/>
            <a:chExt cx="1524240" cy="765000"/>
          </a:xfrm>
        </p:grpSpPr>
        <p:sp>
          <p:nvSpPr>
            <p:cNvPr id="184" name=""/>
            <p:cNvSpPr/>
            <p:nvPr/>
          </p:nvSpPr>
          <p:spPr>
            <a:xfrm>
              <a:off x="480060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5" name=""/>
            <p:cNvCxnSpPr>
              <a:stCxn id="182" idx="2"/>
              <a:endCxn id="184" idx="0"/>
            </p:cNvCxnSpPr>
            <p:nvPr/>
          </p:nvCxnSpPr>
          <p:spPr>
            <a:xfrm>
              <a:off x="3885840" y="4495320"/>
              <a:ext cx="1220040" cy="305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86" name=""/>
          <p:cNvGrpSpPr/>
          <p:nvPr/>
        </p:nvGrpSpPr>
        <p:grpSpPr>
          <a:xfrm>
            <a:off x="2590920" y="4495320"/>
            <a:ext cx="1295280" cy="688680"/>
            <a:chOff x="2590920" y="4495320"/>
            <a:chExt cx="1295280" cy="688680"/>
          </a:xfrm>
        </p:grpSpPr>
        <p:sp>
          <p:nvSpPr>
            <p:cNvPr id="187" name=""/>
            <p:cNvSpPr/>
            <p:nvPr/>
          </p:nvSpPr>
          <p:spPr>
            <a:xfrm>
              <a:off x="25909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>
              <a:endCxn id="187" idx="0"/>
            </p:cNvCxnSpPr>
            <p:nvPr/>
          </p:nvCxnSpPr>
          <p:spPr>
            <a:xfrm flipH="1">
              <a:off x="2895120" y="4495320"/>
              <a:ext cx="991440" cy="2293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89" name=""/>
          <p:cNvGrpSpPr/>
          <p:nvPr/>
        </p:nvGrpSpPr>
        <p:grpSpPr>
          <a:xfrm>
            <a:off x="4800600" y="5257800"/>
            <a:ext cx="609480" cy="840600"/>
            <a:chOff x="4800600" y="5257800"/>
            <a:chExt cx="609480" cy="840600"/>
          </a:xfrm>
        </p:grpSpPr>
        <p:sp>
          <p:nvSpPr>
            <p:cNvPr id="190" name=""/>
            <p:cNvSpPr/>
            <p:nvPr/>
          </p:nvSpPr>
          <p:spPr>
            <a:xfrm>
              <a:off x="480060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84" idx="2"/>
              <a:endCxn id="190" idx="0"/>
            </p:cNvCxnSpPr>
            <p:nvPr/>
          </p:nvCxnSpPr>
          <p:spPr>
            <a:xfrm>
              <a:off x="5105160" y="5257800"/>
              <a:ext cx="1080" cy="381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67113-1DB7-4FA7-B909-05501F5BD2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k 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š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dnostavan model izračunavan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ma promjenljivih ili regista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k vrijednosti za međurezul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intermediate resul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B9E07-F344-409F-A0F0-95E215807F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o drvo – primjer 2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 f(int x) {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(x == 0) { return g(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se { return f(x - 1); }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id main() { f(3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crtati aktivaciono drvo za ovaj primj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FF36-64EB-4AE1-A4FD-3FE823D55FB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 drvo zavisi od ponašanja u vrijeme izvršavanja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-time behavi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 drvo može biti različito za različite ulazne podatk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ko su aktivacije pravilno ugnježdene, stek se može koristiti za tekuću aktivnu procedur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0C190-D5AA-40B4-8222-23FEC9CB56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stekom (1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f() { return g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void main() {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g(); f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4038480"/>
            <a:ext cx="19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83D6D-CD82-43DD-B07E-311C7F7C87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stekom (2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590920" y="4495320"/>
            <a:ext cx="1295280" cy="688680"/>
            <a:chOff x="2590920" y="4495320"/>
            <a:chExt cx="1295280" cy="688680"/>
          </a:xfrm>
        </p:grpSpPr>
        <p:sp>
          <p:nvSpPr>
            <p:cNvPr id="203" name=""/>
            <p:cNvSpPr/>
            <p:nvPr/>
          </p:nvSpPr>
          <p:spPr>
            <a:xfrm>
              <a:off x="25909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" name=""/>
            <p:cNvCxnSpPr>
              <a:stCxn id="201" idx="2"/>
              <a:endCxn id="203" idx="0"/>
            </p:cNvCxnSpPr>
            <p:nvPr/>
          </p:nvCxnSpPr>
          <p:spPr>
            <a:xfrm flipH="1">
              <a:off x="2895120" y="4495320"/>
              <a:ext cx="991440" cy="2293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05" name=""/>
          <p:cNvSpPr/>
          <p:nvPr/>
        </p:nvSpPr>
        <p:spPr>
          <a:xfrm>
            <a:off x="6095880" y="4038480"/>
            <a:ext cx="198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nt g() {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turn 1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f() { return g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void main() { g()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f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CD27-9269-4EE9-9FE9-0D5C7288C5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stekom (3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590920" y="4495320"/>
            <a:ext cx="1295280" cy="688680"/>
            <a:chOff x="2590920" y="4495320"/>
            <a:chExt cx="1295280" cy="688680"/>
          </a:xfrm>
        </p:grpSpPr>
        <p:sp>
          <p:nvSpPr>
            <p:cNvPr id="210" name=""/>
            <p:cNvSpPr/>
            <p:nvPr/>
          </p:nvSpPr>
          <p:spPr>
            <a:xfrm>
              <a:off x="25909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208" idx="2"/>
              <a:endCxn id="210" idx="0"/>
            </p:cNvCxnSpPr>
            <p:nvPr/>
          </p:nvCxnSpPr>
          <p:spPr>
            <a:xfrm flipH="1">
              <a:off x="2895120" y="4495320"/>
              <a:ext cx="991440" cy="2293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2" name=""/>
          <p:cNvGrpSpPr/>
          <p:nvPr/>
        </p:nvGrpSpPr>
        <p:grpSpPr>
          <a:xfrm>
            <a:off x="3885840" y="4495320"/>
            <a:ext cx="1524240" cy="765000"/>
            <a:chOff x="3885840" y="4495320"/>
            <a:chExt cx="1524240" cy="765000"/>
          </a:xfrm>
        </p:grpSpPr>
        <p:sp>
          <p:nvSpPr>
            <p:cNvPr id="213" name=""/>
            <p:cNvSpPr/>
            <p:nvPr/>
          </p:nvSpPr>
          <p:spPr>
            <a:xfrm>
              <a:off x="480060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08" idx="2"/>
              <a:endCxn id="213" idx="0"/>
            </p:cNvCxnSpPr>
            <p:nvPr/>
          </p:nvCxnSpPr>
          <p:spPr>
            <a:xfrm>
              <a:off x="3885840" y="4495320"/>
              <a:ext cx="1220040" cy="305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15" name=""/>
          <p:cNvSpPr/>
          <p:nvPr/>
        </p:nvSpPr>
        <p:spPr>
          <a:xfrm>
            <a:off x="6095880" y="4038480"/>
            <a:ext cx="198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nt f() {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turn g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void main() { g(); f()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41956-531F-4937-B25A-9976E49DD55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stekom (4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885840" y="4495320"/>
            <a:ext cx="1524240" cy="765000"/>
            <a:chOff x="3885840" y="4495320"/>
            <a:chExt cx="1524240" cy="765000"/>
          </a:xfrm>
        </p:grpSpPr>
        <p:sp>
          <p:nvSpPr>
            <p:cNvPr id="220" name=""/>
            <p:cNvSpPr/>
            <p:nvPr/>
          </p:nvSpPr>
          <p:spPr>
            <a:xfrm>
              <a:off x="480060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8" idx="2"/>
              <a:endCxn id="220" idx="0"/>
            </p:cNvCxnSpPr>
            <p:nvPr/>
          </p:nvCxnSpPr>
          <p:spPr>
            <a:xfrm>
              <a:off x="3885840" y="4495320"/>
              <a:ext cx="1220040" cy="305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2" name=""/>
          <p:cNvGrpSpPr/>
          <p:nvPr/>
        </p:nvGrpSpPr>
        <p:grpSpPr>
          <a:xfrm>
            <a:off x="2590920" y="4495320"/>
            <a:ext cx="1295280" cy="688680"/>
            <a:chOff x="2590920" y="4495320"/>
            <a:chExt cx="1295280" cy="688680"/>
          </a:xfrm>
        </p:grpSpPr>
        <p:sp>
          <p:nvSpPr>
            <p:cNvPr id="223" name=""/>
            <p:cNvSpPr/>
            <p:nvPr/>
          </p:nvSpPr>
          <p:spPr>
            <a:xfrm>
              <a:off x="25909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endCxn id="223" idx="0"/>
            </p:cNvCxnSpPr>
            <p:nvPr/>
          </p:nvCxnSpPr>
          <p:spPr>
            <a:xfrm flipH="1">
              <a:off x="2895120" y="4495320"/>
              <a:ext cx="991440" cy="2293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5" name=""/>
          <p:cNvGrpSpPr/>
          <p:nvPr/>
        </p:nvGrpSpPr>
        <p:grpSpPr>
          <a:xfrm>
            <a:off x="4800600" y="5257800"/>
            <a:ext cx="609480" cy="840600"/>
            <a:chOff x="4800600" y="5257800"/>
            <a:chExt cx="609480" cy="840600"/>
          </a:xfrm>
        </p:grpSpPr>
        <p:sp>
          <p:nvSpPr>
            <p:cNvPr id="226" name=""/>
            <p:cNvSpPr/>
            <p:nvPr/>
          </p:nvSpPr>
          <p:spPr>
            <a:xfrm>
              <a:off x="480060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" name=""/>
            <p:cNvCxnSpPr>
              <a:stCxn id="220" idx="2"/>
              <a:endCxn id="226" idx="0"/>
            </p:cNvCxnSpPr>
            <p:nvPr/>
          </p:nvCxnSpPr>
          <p:spPr>
            <a:xfrm>
              <a:off x="5105160" y="5257800"/>
              <a:ext cx="1080" cy="381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28" name=""/>
          <p:cNvSpPr/>
          <p:nvPr/>
        </p:nvSpPr>
        <p:spPr>
          <a:xfrm>
            <a:off x="6095880" y="4038480"/>
            <a:ext cx="198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nt g() { return 1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nt f() { return g()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void main() { g(); f()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93AFF-766A-4643-BDFC-22096FB7D0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icksort – aktivaciono drv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a[10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partition(int m, int n) { //Choose a pivot value "v",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reorder sub-array a[m..n] such that a[m..p-1] are all &lt; v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a[p] = v, and a[p+1...n] are all &gt;= v; return 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id quicksort(int m, int n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n &gt; m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= partition(m, n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cksort(m, i-1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cksort(i+1, n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412A-5221-4353-A6A1-6B37CF63710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icksort – aktivaciono drv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73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632C3-CA45-4C32-B8C9-EC5F7EF2E2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i zap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U jezicima koji imaju rekurziju, moramo razlikovati defini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iju i poziv funkc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Poziv f-ije kreira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"instanc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"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ili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"a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tiva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iju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; može postojati više aktivacija istovreme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Svaka aktivacija ima memorijske zahtjeve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arametr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i f-ije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, lo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al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ne promjenljive i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dodatni prostor koji kompajler odredi da bi implementirao tijelo f-ij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Povratnu (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return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 informa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ciju: gdje i kako će se nastaviti izvršavanje kada se poziv f-ije završi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Palatino-Bold"/>
              </a:rPr>
              <a:t>Aktivacioni zapis (a</a:t>
            </a:r>
            <a:r>
              <a:rPr b="1" lang="en-US" sz="2400" spc="-1" strike="noStrike">
                <a:solidFill>
                  <a:srgbClr val="000000"/>
                </a:solidFill>
                <a:latin typeface="Palatino-Bold"/>
              </a:rPr>
              <a:t>ctivation record</a:t>
            </a:r>
            <a:r>
              <a:rPr b="1" lang="sr-Latn-CS" sz="2400" spc="-1" strike="noStrike">
                <a:solidFill>
                  <a:srgbClr val="000000"/>
                </a:solidFill>
                <a:latin typeface="Palatino-Bold"/>
              </a:rPr>
              <a:t>, AR)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 – blok memorije rezervisan za aktivaciju f-ije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emor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ija u AR je validna samo dok se f-ija izvršava; po završetku f-ije ona se oslobađ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EC57-AB03-4D23-A82A-04FD614303F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R se može alocirati statički (na primjer, Fortran), na steku (C, C++, Java) ili heapu (Lisp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, Scheme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Oblik AR može se zaključiti u vrijeme prevođenja iz d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laraci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void Simple(int a, int b) // two value pa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int temp1, temp2; // temporary local vari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U primjeru, poteban nam je prostor za 4 int-a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temp1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temp2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ko je sizeof(int)=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R će imati bar 16 bajto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BC8D1-424E-4060-B07F-52451E6C1A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programa za stek mašinu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te su dvi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-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stavi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o broj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 vr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-  pop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emen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abiramo ih i postavljamo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rezultat na ste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gram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izračunavanje izra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 + 5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C8F78-E592-4010-9536-5EB314E647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i protoko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Na stek se smještaju aktivacioni zapisi f-i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ktivacioni protokol – način na koji se vrši predaja kontrole i funkcija iz pozivačke funkcije u pozvanu funkciju i obrat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Različiti jezici ili implementacije istog jezika imaju različite protoko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Protokol treba da zada i opšti raspored memorijskog prostora unutar samog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ktivacionog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zapisa. Na primjer, parametri f-ije se dodaju right-to-left, pa povratna adresa, pa lokalne promjenljive top-to-bott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1C4A-7557-4E4B-B639-314475A4AF6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i protokol – jezik C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er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 (pozivačka f-ija)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na stek stavlja </a:t>
            </a:r>
            <a:r>
              <a:rPr b="1" lang="en-US" sz="2400" spc="-1" strike="noStrike">
                <a:solidFill>
                  <a:srgbClr val="000000"/>
                </a:solidFill>
                <a:latin typeface="Palatino-Bold"/>
              </a:rPr>
              <a:t>paramet</a:t>
            </a:r>
            <a:r>
              <a:rPr b="1" lang="sr-Latn-CS" sz="2400" spc="-1" strike="noStrike">
                <a:solidFill>
                  <a:srgbClr val="000000"/>
                </a:solidFill>
                <a:latin typeface="Palatino-Bold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er ini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ijalizuje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parametr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e u novom AR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opi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ra vrijednosti)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er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sačuva stanje i povratnu informaciju (dodaju se 4 bajta iznad parametara)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er suspend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uje svoj rad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 pozvana f-ija (callee) na stek postavlja prostor za lokalne promjenljive i počinje izvršavanje od početka f-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Pozvana f-ija se izvršava pristupajući promjenljivim i parametrima iz AR-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ada pozvana f-ija završi rad, dio AR se izbaci sa ste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ontrol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 se predaje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sa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čuvanoj povratnoj adresi u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caller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-u, koji uklanja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parametre sa stek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1009-A01B-4F7F-BF4F-FED4E157BB5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t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Postoje specijalizovane instrukcije za rad sa stekom, da bi se radnje pri pozivu f-ije 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bile efikasn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Neki kompajleri čuvaju pojedine parametre f-ije u specijalnim registrima (pogledati MI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Postoje i registri koji čuvaju pokazivač na vrh steka (registar SP), programskog brojača (registar PC) i povratne vrijednosti (registar RV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Ostali registri su opšte namje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10D0-822F-4EE7-86A8-0E8A80FF786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f-ije Simp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40520" cy="3032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48769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-Roman"/>
              </a:rPr>
              <a:t>AR možemo posmatrati kao dvije strukture u C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E2644-4124-4A5C-B475-58A44B2F632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R kao C struktur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SimpleActivationLocal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emp2; // offset 0 (from S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emp1; // offset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SimpleActivationParameters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; // offset 12 (from S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b; // offset 1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716C1-D142-4DF8-9671-85F9A05FD48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roto</a:t>
            </a: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ol </a:t>
            </a: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dozvoljava generisanje koda bez stvarno poznate adrese aktivacionog zapi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Kod radi isto za aktivaciju svake funkc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U kodu nema traga o stvarnim identifikatorima koji su bili u source kodu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5E99-CB60-46AD-AC2C-194EC182176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ame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) prikaz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1523880"/>
            <a:ext cx="2727360" cy="4648320"/>
          </a:xfrm>
          <a:custGeom>
            <a:avLst/>
            <a:gdLst/>
            <a:ahLst/>
            <a:rect l="l" t="t" r="r" b="b"/>
            <a:pathLst>
              <a:path w="720" h="384">
                <a:moveTo>
                  <a:pt x="0" y="384"/>
                </a:moveTo>
                <a:lnTo>
                  <a:pt x="0" y="0"/>
                </a:lnTo>
                <a:lnTo>
                  <a:pt x="720" y="0"/>
                </a:lnTo>
                <a:lnTo>
                  <a:pt x="720" y="384"/>
                </a:lnTo>
              </a:path>
            </a:pathLst>
          </a:custGeom>
          <a:solidFill>
            <a:srgbClr val="cc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0040" y="312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77960" y="3352680"/>
            <a:ext cx="5331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5880" y="533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960" y="5638680"/>
            <a:ext cx="5331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11120" y="2209680"/>
            <a:ext cx="272736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11120" y="3352680"/>
            <a:ext cx="272736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11120" y="4495680"/>
            <a:ext cx="272736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 promjenl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eđurezulat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44956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7339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05320" y="3276720"/>
            <a:ext cx="210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k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k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vrat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re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4114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4800600"/>
            <a:ext cx="4191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i poda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st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sk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aj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 u toku izvršavan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1120" y="33526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08440" y="3352680"/>
            <a:ext cx="4054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nk ka AR-u pozivačke f-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07720" y="25909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7200" y="22096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13120" y="2438280"/>
            <a:ext cx="4050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 tekuć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eni od pozivač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038120" y="3428640"/>
            <a:ext cx="685800" cy="152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038120" y="3962520"/>
            <a:ext cx="762120" cy="304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3886200"/>
            <a:ext cx="4191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Link ka nelokalnim podacima (access 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A16E-F21B-4B35-A68D-C9CC0D6537D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ck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ame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86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305920" cy="4419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973160" y="1581120"/>
            <a:ext cx="5200920" cy="46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223F0-D7CC-4719-81C5-2672BCD79E5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cess (static) lin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5867280" cy="33163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5720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jezicima kao PASCAL ili SML, definicije funkcija (procedura) mogu biti ugnj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90231-0B89-40CD-B575-236A4F689BF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ccess lin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3209760" cy="3598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57200" y="15238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tatička veza funkcije f pokazuje na posljednji AR funkcije koja statički sadrži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f ne pripada statički nijednoj funkciji, tada je njegov statička veza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E868E-C365-4ECC-9B02-D6F42D935B9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k mašin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zima svoje operande sa vrha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klanja operande sa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mjenjuje operaciju nad operand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raća (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h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t 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5812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90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00600" y="1600200"/>
            <a:ext cx="1219320" cy="1396440"/>
            <a:chOff x="4800600" y="1600200"/>
            <a:chExt cx="1219320" cy="1396440"/>
          </a:xfrm>
        </p:grpSpPr>
        <p:sp>
          <p:nvSpPr>
            <p:cNvPr id="94" name=""/>
            <p:cNvSpPr/>
            <p:nvPr/>
          </p:nvSpPr>
          <p:spPr>
            <a:xfrm>
              <a:off x="4800600" y="160020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00600" y="207504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25369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657600" y="322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20574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25146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82880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5"/>
            <a:endCxn id="98" idx="1"/>
          </p:cNvCxnSpPr>
          <p:nvPr/>
        </p:nvCxnSpPr>
        <p:spPr>
          <a:xfrm>
            <a:off x="6997680" y="2219400"/>
            <a:ext cx="317880" cy="7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3"/>
            <a:endCxn id="100" idx="3"/>
          </p:cNvCxnSpPr>
          <p:nvPr/>
        </p:nvCxnSpPr>
        <p:spPr>
          <a:xfrm flipV="1">
            <a:off x="6019560" y="2218680"/>
            <a:ext cx="546480" cy="8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4" idx="3"/>
            <a:endCxn id="100" idx="2"/>
          </p:cNvCxnSpPr>
          <p:nvPr/>
        </p:nvCxnSpPr>
        <p:spPr>
          <a:xfrm>
            <a:off x="6019920" y="1833480"/>
            <a:ext cx="457920" cy="224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895480" y="257508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252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210996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F632-B8C9-4322-8F32-145FB58EE9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ccess lin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ziv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 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d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ka veza 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kazuje na posljednji AR za P na ste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pome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ože postojati više AR za funkciju P na steku; Q će pokazivati na posljednji od nji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nema AR za P na steku, nije moguće pozvati Q, jer je Q sakriven izvan P u program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A0780-0B6F-4E12-8E66-001D81188FF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zgled steka za f-ije P i Q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852480"/>
            <a:ext cx="9069480" cy="60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457E-6073-4A82-8721-DDB8B0ECEB2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laženje statičke vez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ivač postavlj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je poziva f-ij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ozivač zna i sebe i pozvanu f-ij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ozvana f-ija ne zna pozivač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eka s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1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2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ubine ugnježdavanja pozivačke i pozvane f-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Kada je pozvana f-ija leksički unutar tij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a pozivača tj. kada j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2=L1+1,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važi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ic_link = $f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Inače, slijedim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ic link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ozivač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1-L2+1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u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1=L2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mo da 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_link =Mem[$fp-8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pr. z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1=L2+2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m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_link =Mem[Mem[Mem[$fp-8]-8]-8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CFAA-B4CF-4CD9-9879-BFE3193097D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laženje statičke vez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082080" cy="479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DBFF6-723D-4B66-8912-E5FDEE34424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AR za Java progra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 f(int x) {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f (x == 0) { return g();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lse { return f(x - 1);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(**)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oid main() { f(3);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(*)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0" y="4273560"/>
          <a:ext cx="2590560" cy="18223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gu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rol l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 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D933A-F59B-41E3-AB7A-511779C551E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k poslije 2 poziva f-ije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4382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33526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2670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8098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99" idx="2"/>
            <a:endCxn id="300" idx="3"/>
          </p:cNvCxnSpPr>
          <p:nvPr/>
        </p:nvCxnSpPr>
        <p:spPr>
          <a:xfrm flipH="1" flipV="1" rot="5400000">
            <a:off x="3294720" y="2685240"/>
            <a:ext cx="1600920" cy="648360"/>
          </a:xfrm>
          <a:prstGeom prst="curvedConnector5">
            <a:avLst>
              <a:gd name="adj1" fmla="val -14282"/>
              <a:gd name="adj2" fmla="val 67611"/>
              <a:gd name="adj3" fmla="val -14282"/>
            </a:avLst>
          </a:prstGeom>
          <a:ln w="0">
            <a:noFill/>
          </a:ln>
        </p:spPr>
      </p:cxnSp>
      <p:sp>
        <p:nvSpPr>
          <p:cNvPr id="301" name=""/>
          <p:cNvSpPr/>
          <p:nvPr/>
        </p:nvSpPr>
        <p:spPr>
          <a:xfrm>
            <a:off x="3124080" y="42670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51814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0958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426708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426708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56386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209680" y="1981080"/>
            <a:ext cx="2210040" cy="459720"/>
            <a:chOff x="2209680" y="1981080"/>
            <a:chExt cx="2210040" cy="459720"/>
          </a:xfrm>
        </p:grpSpPr>
        <p:sp>
          <p:nvSpPr>
            <p:cNvPr id="300" name=""/>
            <p:cNvSpPr/>
            <p:nvPr/>
          </p:nvSpPr>
          <p:spPr>
            <a:xfrm>
              <a:off x="3124080" y="19810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24080" y="1981080"/>
              <a:ext cx="12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24080" y="2438280"/>
              <a:ext cx="12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1972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09680" y="1981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Comic Sans MS"/>
                </a:rPr>
                <a:t>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2590920" y="2198520"/>
            <a:ext cx="3123000" cy="3897360"/>
            <a:chOff x="2590920" y="2198520"/>
            <a:chExt cx="3123000" cy="3897360"/>
          </a:xfrm>
        </p:grpSpPr>
        <p:sp>
          <p:nvSpPr>
            <p:cNvPr id="314" name=""/>
            <p:cNvSpPr/>
            <p:nvPr/>
          </p:nvSpPr>
          <p:spPr>
            <a:xfrm>
              <a:off x="3124080" y="56386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**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51814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24080" y="47242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24080" y="42670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resul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24080" y="4724280"/>
              <a:ext cx="12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15" idx="3"/>
              <a:endCxn id="311" idx="0"/>
            </p:cNvCxnSpPr>
            <p:nvPr/>
          </p:nvCxnSpPr>
          <p:spPr>
            <a:xfrm flipV="1">
              <a:off x="4419720" y="2457000"/>
              <a:ext cx="2160" cy="2953440"/>
            </a:xfrm>
            <a:prstGeom prst="curvedConnector5">
              <a:avLst>
                <a:gd name="adj1" fmla="val 71900000"/>
                <a:gd name="adj2" fmla="val 54370"/>
                <a:gd name="adj3" fmla="val 719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0" name=""/>
            <p:cNvSpPr/>
            <p:nvPr/>
          </p:nvSpPr>
          <p:spPr>
            <a:xfrm>
              <a:off x="259092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666880" y="1730160"/>
            <a:ext cx="2753640" cy="2536920"/>
            <a:chOff x="2666880" y="1730160"/>
            <a:chExt cx="2753640" cy="2536920"/>
          </a:xfrm>
        </p:grpSpPr>
        <p:sp>
          <p:nvSpPr>
            <p:cNvPr id="322" name=""/>
            <p:cNvSpPr/>
            <p:nvPr/>
          </p:nvSpPr>
          <p:spPr>
            <a:xfrm>
              <a:off x="3124080" y="38098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24080" y="33526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4080" y="28954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24080" y="24382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resul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4080" y="2895480"/>
              <a:ext cx="12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24080" y="2438280"/>
              <a:ext cx="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2438280"/>
              <a:ext cx="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8" name=""/>
            <p:cNvCxnSpPr/>
            <p:nvPr/>
          </p:nvCxnSpPr>
          <p:spPr>
            <a:xfrm flipV="1">
              <a:off x="4419720" y="1980720"/>
              <a:ext cx="2160" cy="1620000"/>
            </a:xfrm>
            <a:prstGeom prst="curvedConnector5">
              <a:avLst>
                <a:gd name="adj1" fmla="val 55600000"/>
                <a:gd name="adj2" fmla="val 57723"/>
                <a:gd name="adj3" fmla="val 556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9" name=""/>
            <p:cNvSpPr/>
            <p:nvPr/>
          </p:nvSpPr>
          <p:spPr>
            <a:xfrm>
              <a:off x="2666880" y="243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4FCA-04C4-4465-9448-6D94D0CE18E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ioni zapi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š prosti jezi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za poziv funkcija i definiciju funkcija zavisi od aktivacionog zapi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eoma jednostav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dovol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 za ovaj jezi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ezultat je uvijek u a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ma potrebe za čuvanjem rezultata u 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uva stvar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rame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(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sh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na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Ovo su jedine promjenljive u jez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66A32-AFB2-45DC-A7E1-8AB999ECB26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ioni zap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nastavak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iplinovan pristup steku garantuje da po 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 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unkcij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sp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isti kao i pri ulasku u funkcij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ma potrebe za čuvanjem sadrža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$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na nam je povratna adres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addres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godno je da imamo pokazivač na početak trenutne aktivacije funkc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vaj pokazivač čuvamo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$fp (frame point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zlog uvođenja fp biće jasan usko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0BF40-BF88-49DB-A3E5-509F3174198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ioni zap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rn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ovaj prosti jezik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a pozivački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me pointe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varni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 i povratn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dre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m je dovolj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lik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ziv f-i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(x,y)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će bi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3200400" y="432108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00400" y="4781520"/>
            <a:ext cx="121932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00400" y="38448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5257800"/>
            <a:ext cx="1219320" cy="65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13680" y="3581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,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286000" y="38862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98800" y="434340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467480" y="38858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77000" y="510552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5029200"/>
            <a:ext cx="555840" cy="888840"/>
          </a:xfrm>
          <a:custGeom>
            <a:avLst/>
            <a:gdLst/>
            <a:ahLst/>
            <a:rect l="l" t="t" r="r" b="b"/>
            <a:pathLst>
              <a:path w="350" h="560">
                <a:moveTo>
                  <a:pt x="0" y="0"/>
                </a:moveTo>
                <a:cubicBezTo>
                  <a:pt x="49" y="14"/>
                  <a:pt x="242" y="24"/>
                  <a:pt x="295" y="87"/>
                </a:cubicBezTo>
                <a:cubicBezTo>
                  <a:pt x="348" y="150"/>
                  <a:pt x="350" y="300"/>
                  <a:pt x="318" y="379"/>
                </a:cubicBezTo>
                <a:cubicBezTo>
                  <a:pt x="286" y="458"/>
                  <a:pt x="149" y="522"/>
                  <a:pt x="105" y="5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55480" y="477036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4F05-D7DE-4029-BDF1-C6E5BE9911D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oziv f-ije (f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ction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ing sequence”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niz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pozivačake i pozvane f-i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nih za poziv funkc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v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al lab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ok na labelu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uva se adresa sledeće instrukcije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sto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hit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r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u kojim se povratna adresa čuva na steku posebno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call” instru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486AF-936B-41E2-8233-A41D989652B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što koristit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a uzima operande sa istog mjesta i vraća rezul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na isto mjes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To znači da imamo unofromnu šemu kompajliran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tuda, imamo i prostiji kompaj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8C63C-93F4-432B-89FB-5D6262ADE4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oziv f-ij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0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f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f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jal f_en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4038480" y="1676520"/>
            <a:ext cx="4191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ivačka f-ija sačuva vrijedn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ame pointe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atim sačuva stvarne paramet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obrnutom redosl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ivačka f-ija sačuva povratnu adresu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 dužin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4*n+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jt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3A6E8-F845-4D71-ABA4-4DD6103E1EC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definisanje funkcij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v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r re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ok na adresu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2666880"/>
            <a:ext cx="403884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def f(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= e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ve $fp $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ra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u $sp $sp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w $fp 0($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jr $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2666880"/>
            <a:ext cx="4419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me pointer p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zuje 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 ne na dno frame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vana f-i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 skida povratnu adresu (po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tvarne argumente i sačuvanu vrijednost frame poin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z = 4*n + 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EA69-3DED-465B-BA4C-87AEA48CE25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lling Sequence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– primjer z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(x,y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je pozi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 ulaz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U tijel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Poslije poz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4800600"/>
            <a:ext cx="1219320" cy="110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9040" y="441972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0760" y="5562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2120" y="39625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876840"/>
            <a:ext cx="1218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8120" y="3406680"/>
            <a:ext cx="1218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8120" y="4343400"/>
            <a:ext cx="1218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4648320"/>
            <a:ext cx="411120" cy="1238040"/>
          </a:xfrm>
          <a:custGeom>
            <a:avLst/>
            <a:gdLst/>
            <a:ahLst/>
            <a:rect l="l" t="t" r="r" b="b"/>
            <a:pathLst>
              <a:path w="259" h="780">
                <a:moveTo>
                  <a:pt x="0" y="0"/>
                </a:moveTo>
                <a:cubicBezTo>
                  <a:pt x="36" y="18"/>
                  <a:pt x="177" y="2"/>
                  <a:pt x="217" y="110"/>
                </a:cubicBezTo>
                <a:cubicBezTo>
                  <a:pt x="257" y="218"/>
                  <a:pt x="259" y="534"/>
                  <a:pt x="241" y="646"/>
                </a:cubicBezTo>
                <a:cubicBezTo>
                  <a:pt x="223" y="758"/>
                  <a:pt x="135" y="752"/>
                  <a:pt x="107" y="7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8120" y="4800600"/>
            <a:ext cx="1218960" cy="110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72760" y="312408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64480" y="56386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467480" y="4800600"/>
            <a:ext cx="1219320" cy="110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23880" y="441972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15960" y="5562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03880" y="387684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03880" y="340668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03880" y="43434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70560" y="4648320"/>
            <a:ext cx="411120" cy="1238040"/>
          </a:xfrm>
          <a:custGeom>
            <a:avLst/>
            <a:gdLst/>
            <a:ahLst/>
            <a:rect l="l" t="t" r="r" b="b"/>
            <a:pathLst>
              <a:path w="259" h="780">
                <a:moveTo>
                  <a:pt x="0" y="0"/>
                </a:moveTo>
                <a:cubicBezTo>
                  <a:pt x="36" y="18"/>
                  <a:pt x="177" y="2"/>
                  <a:pt x="217" y="110"/>
                </a:cubicBezTo>
                <a:cubicBezTo>
                  <a:pt x="257" y="218"/>
                  <a:pt x="259" y="534"/>
                  <a:pt x="241" y="646"/>
                </a:cubicBezTo>
                <a:cubicBezTo>
                  <a:pt x="223" y="758"/>
                  <a:pt x="135" y="752"/>
                  <a:pt x="107" y="7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03880" y="4800600"/>
            <a:ext cx="1219320" cy="110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28520" y="213372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20240" y="30988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16480" y="292104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16480" y="246384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82D6-02D8-443E-B768-7298A07A905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romjenljiv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eferenciranje promjenljivih je poslednja konstrukci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omjenljive f-ije su samo njeni paramet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ne su sve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Guraju se na stek od pozivačke f-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ek raste kada se čuvaju međurezultati, pa promjenljive nisu na fiksnom rastojanju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se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u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D9C0-42C3-4481-8BCF-36108CD43F6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romjenlji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ješen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ristim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me po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vijek pokazuje na povratnu adresu na stek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ko se ne pomjera, može se koristiti za pronalaženje promjenljivi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ka 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i = 1,…,n) forma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ame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funkcije za koju generišemo k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E73F-211E-485B-95DE-E7F58D74782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romjenlji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mj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funkcij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f f(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me pointe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u sledeć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3048120"/>
            <a:ext cx="5029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n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p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n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p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tud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= lw $a0 z($f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z = 4*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43000" y="4613400"/>
            <a:ext cx="12193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4143240"/>
            <a:ext cx="12193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507996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09680" y="5384880"/>
            <a:ext cx="411120" cy="1238040"/>
          </a:xfrm>
          <a:custGeom>
            <a:avLst/>
            <a:gdLst/>
            <a:ahLst/>
            <a:rect l="l" t="t" r="r" b="b"/>
            <a:pathLst>
              <a:path w="259" h="780">
                <a:moveTo>
                  <a:pt x="0" y="0"/>
                </a:moveTo>
                <a:cubicBezTo>
                  <a:pt x="36" y="18"/>
                  <a:pt x="177" y="2"/>
                  <a:pt x="217" y="110"/>
                </a:cubicBezTo>
                <a:cubicBezTo>
                  <a:pt x="257" y="218"/>
                  <a:pt x="259" y="534"/>
                  <a:pt x="241" y="646"/>
                </a:cubicBezTo>
                <a:cubicBezTo>
                  <a:pt x="223" y="758"/>
                  <a:pt x="135" y="752"/>
                  <a:pt x="107" y="7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43000" y="5537160"/>
            <a:ext cx="1219320" cy="110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7640" y="289548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9360" y="38098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55600" y="36576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55600" y="32004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7872C-C37D-45E9-91EB-82B3151F06A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gl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tivacioni zapis mora biti dizajniran zajedno sa generatorom ko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se odraditi kao rekurzivni obilazak AST-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ije obavezno koristiti stek mašinu, ali je jednostavn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ealni 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jle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glasak na čuvanju vrijednos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sebno tekuće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tek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m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registr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eđurezultati se čuvaju A R, a ne na stek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BC93-8D43-4AAF-8C62-DD14CE18995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oc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ranje privremenih promjenljivih u AR-u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3DF73-2E09-4D3F-9BE3-E8283103A09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gl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k mašin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zapis i međurezultate (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termediate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sprepletene na ste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505320" y="3124080"/>
            <a:ext cx="2513880" cy="1829520"/>
            <a:chOff x="3505320" y="3124080"/>
            <a:chExt cx="2513880" cy="1829520"/>
          </a:xfrm>
        </p:grpSpPr>
        <p:sp>
          <p:nvSpPr>
            <p:cNvPr id="404" name=""/>
            <p:cNvSpPr/>
            <p:nvPr/>
          </p:nvSpPr>
          <p:spPr>
            <a:xfrm>
              <a:off x="3505320" y="3124080"/>
              <a:ext cx="25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05320" y="3576960"/>
              <a:ext cx="25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ermedi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05320" y="4036320"/>
              <a:ext cx="25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4493880"/>
              <a:ext cx="25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ermedi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2E18-2CE4-45E0-B260-6C0F45351AA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gl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edno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eoma jednostavno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isanje ko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a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V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ma spor k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ing/loading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vremenih promjenjivih zahtijev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/load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 podešav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244EF-CE0D-49EF-BF79-72D9A7B3789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što koristit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cija operanada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ci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vijek na vrhu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ma potrebe za eksplicitnim zadavanjem operan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ma potrebe za zadavanjem 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cije rezult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mjes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raće kodiran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ru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ci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ompaktnij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gram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vo je jedan razlog zaš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Bytecod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koristi model steka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ck evaluation mode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FE77B-1B1C-4A5A-931E-8CA13FDF10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Bolji nači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uvamo privremene promjenljive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orarie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 u aktivacionom zapis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Generator koda mora dodijeliti lokaciju u AR-u za svaku privremenu promjenljiv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17F9D-1615-4F8E-AA93-91611E34783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f fib(x) = if x = 1 then 0 el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f x = 2 then 1 else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ib(x - 1) + fib(x – 2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je međurezulate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mediate value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 treba postaviti na ste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liko prostora u AR-u je potrebno za čuvanje tih vrijednos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7CBA-7A2F-473F-A30A-B67E29A9A2B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oliko privremenih promjenljivih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T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broj privremenih promj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nljivi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trebnih za izr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avanje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zra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trebno najm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vremenih promjenljivi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trebno najm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+ 1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vremenih promj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ostor upotre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n za privremene promjenljive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se ponovo iskoristiti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2135-2F83-43FE-AE5E-272711E4171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Jednači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= max(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 1 +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-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= max(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 1 +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if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=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then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else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= max(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1 +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id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= max(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…,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int) =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id) =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 li je ov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ttom-up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p-dow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Šta 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T(…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d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z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fib…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F389-78B0-476B-B6B4-D731E33FB19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nov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definicij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(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 + n + NT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me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vratna adresa (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urn addres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me po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gume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T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a za međurezultate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mediate result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A23E-C188-40A7-9DB7-CA3312D8633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lik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3429000" y="289404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335124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29000" y="3809880"/>
            <a:ext cx="2133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2670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4724280"/>
            <a:ext cx="2133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29000" y="51814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29000" y="19717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 NT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24382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53640" y="160020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50400" y="342900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3967-5B8F-4229-9C43-5A260EF59B4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ov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isanje kod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sanje koda m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ra znati koliko je privremenih promjenljivih u upotrebi u svakom trenu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odajemo novi argument za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isanje koda: po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icija sledeće dostupne privremene promjenljive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 available temporary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2200-35A0-4D71-997B-619A3657619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 (original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w $a0 0($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u $sp $sp -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w $t1 4($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$a0 $t1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u $sp $s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70152-0061-4865-A90F-03A382F9D67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boljšan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nt) 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nt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w $a0 -nt($f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nt + 4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w $t1 -nt($f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$a0 $t1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1FD6-0A4E-4E71-B6D4-F53C6092360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dručje za privremene promjenljive se koristi kao mali stek fiksne veličine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, fixed-size stack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ježban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pisat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ostal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680D9-A077-48B5-AAA6-EF2A7A8FD5C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timiz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cij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cija obavlj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mem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jske 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itanja i jedno upisivanje na ste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rhu steka se često pristu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uvati vrh steka u posebno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st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tzv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stup registrima je brž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ja post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 + top_of_st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amo jedna memorijsk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0948-5539-4361-8EC7-CC6D2EC6FB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je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sane jezik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C2211-1C37-4FC0-9750-51C4DA44E95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kaz objekata (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ject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you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O implement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što što smo već učil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što no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O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an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o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dklasa 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, 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da s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koristiti uvijek gdje se očekuje objekat klase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vo znači da kod za klas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adi bez modifikacija za objekte 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B5941-521B-4158-A1A1-7A18B5671E2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Dvije tem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ko se objekti predstavljaju u memorij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ko je implementir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k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spatc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B2501-D09A-4300-AA74-3B32F4D9562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838080" y="2209680"/>
            <a:ext cx="4077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a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d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f() { return a = a + d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 B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b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f() { return a }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overr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g() { return a = a - b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15080" y="4191120"/>
            <a:ext cx="4076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 C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c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h() { return a = a * c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32AB-D276-438B-B2B4-081264BDAF9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ribu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u naslijeđeni u klasam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i metodi u svim klasama referenciraj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b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eto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radili ispravno 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tribu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ra biti na istom “mjestu” za svaki objek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2F648-760B-48A2-98C4-09508BAF538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j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t je ka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stupanje polj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o.fie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indeks 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ri n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se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u koji odgovara polj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ie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 se čuvaju u uzastopnim memorijskim lokacija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vaki atribut se čuva na fiksno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se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u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da se poziva metod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l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ili this) i polja su atributi objek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3AD6A-96FD-4A97-B797-D5490886570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iječi objekta sadrže zaglavl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ader informat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40273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atch P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29000" y="44845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ibut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49435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ibu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54007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310500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29000" y="35719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15000" y="2529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19920" y="3657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99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1992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1992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3AC3-CE5C-4E66-BEA6-C93578DC268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 tag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cio bro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uje klasu objek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 size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cio bro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eličina objekta u riječ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tch pt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pokazivač na tabelu meto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alo kasnije biće više detal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ribu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su u susjednim lokacij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e je u uzastopnim memorijskim lokacij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76385-5DEB-4526-BF1C-F42C32198BE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dklas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pome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o je dat prikaz 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kaz podkla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biti definisan proširivanjem prikaza kla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odatnim lokacijama za dodatne atribute iz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stavljamo prikaz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izmjenjeni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proširen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AFD1B-847E-4271-9439-7549B71407B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lika prikaz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838080" y="1752480"/>
          <a:ext cx="6553440" cy="4380120"/>
        </p:xfrm>
        <a:graphic>
          <a:graphicData uri="http://schemas.openxmlformats.org/drawingml/2006/table">
            <a:tbl>
              <a:tblPr/>
              <a:tblGrid>
                <a:gridCol w="13287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914400" y="1828800"/>
            <a:ext cx="121932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78387-A74B-432E-BAA6-58B6517AF1E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k mašin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a 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ar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t izračunavanja izraza je uvijek 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er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ush 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 stek poslije izračunavanja svakog o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ezult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u a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sli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e, uradit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 n-1 v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ijednos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slije izračunavanja izraza, stek je kao i pr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AC93D-6927-4220-8971-4AB4FD827D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dkl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fset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ribu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je isti u klasi i svim njenim podklas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vaki metod iz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ože se koristiti u podklas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smatrajmo prikaz 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4865760"/>
            <a:ext cx="21333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t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19320" y="5334120"/>
            <a:ext cx="21333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t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19320" y="5791320"/>
            <a:ext cx="213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19320" y="3943440"/>
            <a:ext cx="213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19320" y="4410000"/>
            <a:ext cx="21333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t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396252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 obje</a:t>
            </a:r>
            <a:r>
              <a:rPr b="0" i="1" lang="sr-Latn-CS" sz="1800" spc="-1" strike="noStrike">
                <a:solidFill>
                  <a:srgbClr val="3333cc"/>
                </a:solidFill>
                <a:latin typeface="Comic Sans MS"/>
              </a:rPr>
              <a:t>ka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33920" y="39625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3962520"/>
            <a:ext cx="0" cy="1371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38480" y="396252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91120" y="449568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cc"/>
                </a:solidFill>
                <a:latin typeface="Comic Sans MS"/>
              </a:rPr>
              <a:t>A</a:t>
            </a:r>
            <a:r>
              <a:rPr b="0" i="1" lang="en-US" sz="1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i="1" lang="en-US" sz="1800" spc="-1" strike="noStrike">
                <a:solidFill>
                  <a:srgbClr val="9900cc"/>
                </a:solidFill>
                <a:latin typeface="Comic Sans MS"/>
              </a:rPr>
              <a:t> obje</a:t>
            </a:r>
            <a:r>
              <a:rPr b="0" i="1" lang="sr-Latn-CS" sz="1800" spc="-1" strike="noStrike">
                <a:solidFill>
                  <a:srgbClr val="9900cc"/>
                </a:solidFill>
                <a:latin typeface="Comic Sans MS"/>
              </a:rPr>
              <a:t>ka</a:t>
            </a:r>
            <a:r>
              <a:rPr b="0" i="1" lang="en-US" sz="1800" spc="-1" strike="noStrike">
                <a:solidFill>
                  <a:srgbClr val="9900cc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504360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 obje</a:t>
            </a:r>
            <a:r>
              <a:rPr b="0" i="1" lang="sr-Latn-CS" sz="1800" spc="-1" strike="noStrike">
                <a:solidFill>
                  <a:srgbClr val="ff0000"/>
                </a:solidFill>
                <a:latin typeface="Comic Sans MS"/>
              </a:rPr>
              <a:t>ka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72200" y="396252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Šta ako imamo višestruko nasleđivanj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ultiple inheritance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249B8-D6E2-4C1D-8B03-B9B649076BF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čk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patch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azmotrimo opet naš primj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838080" y="2209680"/>
            <a:ext cx="4077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a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d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f() { return a = a + d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 B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b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f() { return a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g() { return a = a - b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15080" y="4191120"/>
            <a:ext cx="4076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 C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c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h() { return a = a * c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81B18-9A88-4E8C-AD8D-D272E4F4185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čk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patch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.g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ncira metod i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bjekat kl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.f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fe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ncira metod i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bjekat i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(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slijeđen u slučaju klas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fe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ncira metod i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a objekte iz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plement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a metoda 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ko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tch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dsjeća na implementaciju atribu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9DAB-5601-4E9B-813E-4A38EE38381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patch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a klasa ima fiksiran skup metod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ključujući i naslijeđene meto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spatch tab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sira ove met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iz ulaznih tačaka metoda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ry point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et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sirano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set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atch tab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a klasu i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sve njene podkl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B42BF-A279-44A5-B973-F2F56A79844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patch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6480" y="1599840"/>
            <a:ext cx="4076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patch tab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 za klas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 samo jedan met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Tabele z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oširuju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tend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tabelu z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ko se može dati nova definicja metoda u podklasi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ridde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meto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ije isti u svakoj klasi ali je uvijek na istom offset-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838080" y="1752480"/>
          <a:ext cx="3070440" cy="4380120"/>
        </p:xfrm>
        <a:graphic>
          <a:graphicData uri="http://schemas.openxmlformats.org/drawingml/2006/table">
            <a:tbl>
              <a:tblPr/>
              <a:tblGrid>
                <a:gridCol w="1328760"/>
                <a:gridCol w="870120"/>
                <a:gridCol w="8715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e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85ABE-54C2-4B68-9092-0F728E80A89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treba 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patch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patch pointe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 objektu kla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zuje n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tch tab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 za klas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om metod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dodijelje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set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tch tab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u trenutku prevođenja (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ile tim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9D1BB-6664-4F61-BF9C-BCFD371B45C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treba 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patch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 (nastavak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i metod mora znati šta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self”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ili “thi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f”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e predaje kao prvi argument u svim metod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cij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kog 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patch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.f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zračunati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a bi dobili objek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ć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ispatch-tabel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itanje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atch-table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lja objekt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va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[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](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patch tab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a za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ri poziv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l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se vezuje za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8138-04A6-4E76-A34D-1C9F27DB0FE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7:54:11Z</dcterms:created>
  <dc:creator>Goran Sukovic &amp; Alex Aiken &amp; George Necula</dc:creator>
  <dc:description/>
  <dc:language>en-US</dc:language>
  <cp:lastModifiedBy>gorans</cp:lastModifiedBy>
  <dcterms:modified xsi:type="dcterms:W3CDTF">2009-04-30T10:19:36Z</dcterms:modified>
  <cp:revision>290</cp:revision>
  <dc:subject/>
  <dc:title>Introduction to Programming Languages and Compilers</dc:title>
</cp:coreProperties>
</file>