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F3F-A51D-4E5D-8838-E3683273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749-1317-4DA8-8A38-9039011E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F21-F535-4D5C-82F4-CB893F9A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331-EA03-42D6-AF16-3C353773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A16-29CC-4D5D-BB9B-6646F36E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1A4-1EC3-4BC2-A535-ED3EBACC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15F-1BA9-41C7-BDEA-269257E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877-6E1D-4FA9-825E-62EE7C3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D43-3AD4-4A9F-9321-1E63E17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D11-DEDC-48CD-9F66-7136800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74A-D8DC-4D16-877F-F257338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0A0-F28C-41B1-BF65-847F91B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A7B9-A481-44CA-9CD8-B6CEEEFABAA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v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đenje vođeno sintaks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678-184E-4BF7-B196-42D08F6DF0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4DB39-6D9F-44E9-803E-2A47040E14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vo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205740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x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y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:= ...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 := ...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440" y="2665800"/>
            <a:ext cx="7159680" cy="4048560"/>
            <a:chOff x="307440" y="2665800"/>
            <a:chExt cx="7159680" cy="4048560"/>
          </a:xfrm>
        </p:grpSpPr>
        <p:sp>
          <p:nvSpPr>
            <p:cNvPr id="62" name=""/>
            <p:cNvSpPr/>
            <p:nvPr/>
          </p:nvSpPr>
          <p:spPr>
            <a:xfrm>
              <a:off x="2762640" y="2665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7000" y="35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5640" y="3519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59280" y="6239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8360" y="631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36640" y="6239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5760" y="62089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2024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8240" y="4405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040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0200" y="4405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6452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7560" y="43768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4160" y="437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3960" y="4375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7440" y="4375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9240" y="5323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000" y="532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" y="532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41560" y="52945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8040" y="529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8160" y="5293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288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8372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8600" y="529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720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9480" y="532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62" idx="2"/>
              <a:endCxn id="63" idx="0"/>
            </p:cNvCxnSpPr>
            <p:nvPr/>
          </p:nvCxnSpPr>
          <p:spPr>
            <a:xfrm flipH="1">
              <a:off x="1648800" y="3063600"/>
              <a:ext cx="128988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0" name=""/>
            <p:cNvCxnSpPr>
              <a:stCxn id="62" idx="2"/>
              <a:endCxn id="64" idx="0"/>
            </p:cNvCxnSpPr>
            <p:nvPr/>
          </p:nvCxnSpPr>
          <p:spPr>
            <a:xfrm>
              <a:off x="2938320" y="3063600"/>
              <a:ext cx="114372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1" name=""/>
            <p:cNvCxnSpPr>
              <a:stCxn id="63" idx="2"/>
              <a:endCxn id="77" idx="0"/>
            </p:cNvCxnSpPr>
            <p:nvPr/>
          </p:nvCxnSpPr>
          <p:spPr>
            <a:xfrm flipH="1">
              <a:off x="626760" y="3917160"/>
              <a:ext cx="102312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2" name=""/>
            <p:cNvCxnSpPr>
              <a:stCxn id="63" idx="2"/>
              <a:endCxn id="72" idx="0"/>
            </p:cNvCxnSpPr>
            <p:nvPr/>
          </p:nvCxnSpPr>
          <p:spPr>
            <a:xfrm flipH="1">
              <a:off x="1415880" y="3917160"/>
              <a:ext cx="23400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3" name=""/>
            <p:cNvCxnSpPr>
              <a:stCxn id="63" idx="2"/>
              <a:endCxn id="76" idx="0"/>
            </p:cNvCxnSpPr>
            <p:nvPr/>
          </p:nvCxnSpPr>
          <p:spPr>
            <a:xfrm>
              <a:off x="1649520" y="3917160"/>
              <a:ext cx="38664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4" name=""/>
            <p:cNvCxnSpPr>
              <a:stCxn id="63" idx="2"/>
              <a:endCxn id="70" idx="0"/>
            </p:cNvCxnSpPr>
            <p:nvPr/>
          </p:nvCxnSpPr>
          <p:spPr>
            <a:xfrm>
              <a:off x="1649160" y="3917160"/>
              <a:ext cx="101196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5" name=""/>
            <p:cNvCxnSpPr>
              <a:stCxn id="64" idx="2"/>
              <a:endCxn id="73" idx="0"/>
            </p:cNvCxnSpPr>
            <p:nvPr/>
          </p:nvCxnSpPr>
          <p:spPr>
            <a:xfrm flipH="1">
              <a:off x="3939480" y="3917160"/>
              <a:ext cx="14220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6" name=""/>
            <p:cNvCxnSpPr>
              <a:stCxn id="64" idx="2"/>
              <a:endCxn id="74" idx="0"/>
            </p:cNvCxnSpPr>
            <p:nvPr/>
          </p:nvCxnSpPr>
          <p:spPr>
            <a:xfrm>
              <a:off x="4081680" y="3917160"/>
              <a:ext cx="56736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7" name=""/>
            <p:cNvCxnSpPr>
              <a:stCxn id="64" idx="2"/>
              <a:endCxn id="71" idx="0"/>
            </p:cNvCxnSpPr>
            <p:nvPr/>
          </p:nvCxnSpPr>
          <p:spPr>
            <a:xfrm>
              <a:off x="4081320" y="3917160"/>
              <a:ext cx="127548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8" name=""/>
            <p:cNvCxnSpPr>
              <a:stCxn id="64" idx="2"/>
              <a:endCxn id="75" idx="0"/>
            </p:cNvCxnSpPr>
            <p:nvPr/>
          </p:nvCxnSpPr>
          <p:spPr>
            <a:xfrm>
              <a:off x="4081320" y="3917160"/>
              <a:ext cx="189468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9" name=""/>
            <p:cNvCxnSpPr>
              <a:stCxn id="64" idx="2"/>
              <a:endCxn id="69" idx="0"/>
            </p:cNvCxnSpPr>
            <p:nvPr/>
          </p:nvCxnSpPr>
          <p:spPr>
            <a:xfrm>
              <a:off x="4081320" y="3917160"/>
              <a:ext cx="251532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0" name=""/>
            <p:cNvCxnSpPr>
              <a:stCxn id="72" idx="2"/>
              <a:endCxn id="80" idx="0"/>
            </p:cNvCxnSpPr>
            <p:nvPr/>
          </p:nvCxnSpPr>
          <p:spPr>
            <a:xfrm flipH="1">
              <a:off x="860040" y="4803480"/>
              <a:ext cx="55620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1" name=""/>
            <p:cNvCxnSpPr>
              <a:stCxn id="70" idx="2"/>
              <a:endCxn id="83" idx="0"/>
            </p:cNvCxnSpPr>
            <p:nvPr/>
          </p:nvCxnSpPr>
          <p:spPr>
            <a:xfrm flipH="1">
              <a:off x="1617120" y="4803120"/>
              <a:ext cx="104364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2" name=""/>
            <p:cNvCxnSpPr>
              <a:stCxn id="70" idx="2"/>
              <a:endCxn id="78" idx="0"/>
            </p:cNvCxnSpPr>
            <p:nvPr/>
          </p:nvCxnSpPr>
          <p:spPr>
            <a:xfrm flipH="1">
              <a:off x="2374560" y="4803480"/>
              <a:ext cx="28656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3" name=""/>
            <p:cNvCxnSpPr>
              <a:stCxn id="70" idx="2"/>
              <a:endCxn id="88" idx="0"/>
            </p:cNvCxnSpPr>
            <p:nvPr/>
          </p:nvCxnSpPr>
          <p:spPr>
            <a:xfrm>
              <a:off x="2660760" y="4803480"/>
              <a:ext cx="74232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4" name=""/>
            <p:cNvCxnSpPr>
              <a:stCxn id="78" idx="2"/>
              <a:endCxn id="65" idx="0"/>
            </p:cNvCxnSpPr>
            <p:nvPr/>
          </p:nvCxnSpPr>
          <p:spPr>
            <a:xfrm>
              <a:off x="2374560" y="5721120"/>
              <a:ext cx="1080" cy="5198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5" name=""/>
            <p:cNvCxnSpPr>
              <a:stCxn id="88" idx="2"/>
              <a:endCxn id="68" idx="0"/>
            </p:cNvCxnSpPr>
            <p:nvPr/>
          </p:nvCxnSpPr>
          <p:spPr>
            <a:xfrm>
              <a:off x="3402000" y="5721120"/>
              <a:ext cx="108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6" name=""/>
            <p:cNvCxnSpPr>
              <a:stCxn id="73" idx="2"/>
              <a:endCxn id="79" idx="0"/>
            </p:cNvCxnSpPr>
            <p:nvPr/>
          </p:nvCxnSpPr>
          <p:spPr>
            <a:xfrm>
              <a:off x="3940200" y="4805280"/>
              <a:ext cx="5788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7" name=""/>
            <p:cNvCxnSpPr>
              <a:stCxn id="69" idx="2"/>
              <a:endCxn id="84" idx="0"/>
            </p:cNvCxnSpPr>
            <p:nvPr/>
          </p:nvCxnSpPr>
          <p:spPr>
            <a:xfrm flipH="1">
              <a:off x="5308560" y="4805280"/>
              <a:ext cx="12880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8" name=""/>
            <p:cNvCxnSpPr>
              <a:stCxn id="69" idx="2"/>
              <a:endCxn id="85" idx="0"/>
            </p:cNvCxnSpPr>
            <p:nvPr/>
          </p:nvCxnSpPr>
          <p:spPr>
            <a:xfrm flipH="1">
              <a:off x="6359040" y="4805280"/>
              <a:ext cx="23724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9" name=""/>
            <p:cNvCxnSpPr>
              <a:stCxn id="69" idx="2"/>
              <a:endCxn id="81" idx="0"/>
            </p:cNvCxnSpPr>
            <p:nvPr/>
          </p:nvCxnSpPr>
          <p:spPr>
            <a:xfrm flipH="1">
              <a:off x="5871600" y="4805280"/>
              <a:ext cx="72468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0" name=""/>
            <p:cNvCxnSpPr>
              <a:stCxn id="69" idx="2"/>
              <a:endCxn id="87" idx="0"/>
            </p:cNvCxnSpPr>
            <p:nvPr/>
          </p:nvCxnSpPr>
          <p:spPr>
            <a:xfrm>
              <a:off x="6596280" y="4805280"/>
              <a:ext cx="6976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1" name=""/>
            <p:cNvCxnSpPr>
              <a:stCxn id="69" idx="2"/>
              <a:endCxn id="86" idx="0"/>
            </p:cNvCxnSpPr>
            <p:nvPr/>
          </p:nvCxnSpPr>
          <p:spPr>
            <a:xfrm>
              <a:off x="6595920" y="4805280"/>
              <a:ext cx="25452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2" name=""/>
            <p:cNvCxnSpPr>
              <a:stCxn id="84" idx="2"/>
              <a:endCxn id="66" idx="0"/>
            </p:cNvCxnSpPr>
            <p:nvPr/>
          </p:nvCxnSpPr>
          <p:spPr>
            <a:xfrm>
              <a:off x="5308920" y="5722560"/>
              <a:ext cx="2160" cy="594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3" name=""/>
            <p:cNvCxnSpPr>
              <a:stCxn id="87" idx="2"/>
              <a:endCxn id="67" idx="0"/>
            </p:cNvCxnSpPr>
            <p:nvPr/>
          </p:nvCxnSpPr>
          <p:spPr>
            <a:xfrm>
              <a:off x="7292880" y="5722560"/>
              <a:ext cx="1080" cy="518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037560" y="5722560"/>
              <a:ext cx="609480" cy="381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6840" y="4732200"/>
              <a:ext cx="533520" cy="380880"/>
            </a:xfrm>
            <a:prstGeom prst="triangle">
              <a:avLst>
                <a:gd name="adj" fmla="val 46727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038480" y="0"/>
            <a:ext cx="510552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-&gt; 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2.list = $1.list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-&gt; var V; D   { $$.list = ad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2.name, $4.list 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list = NULL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-&gt; V := E; S  {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he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1.name, $$.list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5.list = $$.lis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-&gt;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x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y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z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1EE-5021-481A-96AB-B5FFF58A11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CEBF3-A49F-4050-A245-19A019E9FF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kod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ije potreban yacc za upotrebu atributivnih gramatika. Rekurzivni parser za LL(1) gramatike za jednostavnog FTP klijent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ssion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mndList T_QUI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Lis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nd ComndList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Login | Get | 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User Pa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er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USER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PASS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GET T_IDENT MoreFil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reFile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IDENT MoreFiles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ou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jprostiji atributi: jedna vrijednost (pointeri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9C2-5D02-47AC-B43B-53826D239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4925-9884-4452-ACBB-AF51CECC59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intetisa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Identifier() {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sintetisanje ID 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NULL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GetLookahead() == T_IDENT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 = strdup(yytext)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vanje name uz drv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IDENT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 // returns NULL on erro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User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return atribut user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USER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Password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PASS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FA0-6999-4784-BDD6-416CC2D343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BB204-9D8B-466D-ACAF-3351AC35F6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Naslijeđe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a rutina kreira konekciju i predaje je naviš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onnection* ParseLogin() { // Vraća atribut otvorene konekcij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user = ParseUser();           // Dobija atribute iz nižih nivoa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pass = ParsePassword();  //  otvara konekcije iz njih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Login(user, pass); }          //  i predaje connection atribut naviš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e rutine nasleđuju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inheri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connectio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Ge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GE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 *filename = 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(conn, filename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Logou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LOGOU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out(conn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B2F-5C57-427B-8AB7-21D6711F3D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30E1B-0461-4836-8C81-61C5F848D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u yacc parserim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je gramatika za infiksni kalkulator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 -&gt; T { E.val = T.val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E A T { switch(A.op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ADD: E.val = E.val + T.val; break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SUB: E.val = E.val - T.val; break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o pravilo date gramatike za kalkulator sintetiše atribut koji predaje naviš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izvodi akciju u čvoru prije nego u roditeljskom čvo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syntaksa $$, $1, $2 je prirodna za sintez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$$ nedefinisano dok se ne dodijeli u akci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naslijeđeni atribut uvijek spreman za upotrebu u semantičkoj akciji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2-prolazni kompajleri – uvijek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-prolazni, potrebno je pažljivo računati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E3B-FD17-4555-B15F-055BF030A1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B6D39-B57A-4EE7-B3C2-E5A4838546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DT je jedna od tehnika za implementir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e anal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vođenja (Translat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8F4-B83D-4097-B24E-B00F97B295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3A995-E560-43AB-8AE9-0A17EFDBAB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drveta primjenom SD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5640" cy="250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4508640"/>
            <a:ext cx="79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 progr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:=5+3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b:= (print(a,a-1),10*a); print(b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B34-8C5C-41E5-9C8E-6993E44D33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DB66C-3B7E-46A3-BFF0-2D7805444D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rvo za progra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870120"/>
            <a:ext cx="7991280" cy="52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EA1-5EC9-4875-AAFB-A53A3183B4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D786C-BB18-45FF-B0BF-E73E73CA3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851040"/>
            <a:ext cx="84978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char *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stm_ *A_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_ *A_ex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List_ *A_expL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enum {A_plus,A_minus,A_times,A_div} A_bin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stm_ { enum {A_compoundStm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assignStm, A_printStm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stm stm1, stm2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ou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string id; A_exp exp;} assig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List exps;} pr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stm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B51-5CBF-4683-A440-FEFF0A7468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29650-59EF-4EE4-ACFA-F2D3371C6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981000"/>
            <a:ext cx="84978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AssignStm(string id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PrintStm(A_expList exp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_ {enum {A_idExp, A_numExp,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opExp, A_eseqExp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ing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 left; A_bino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er; A_exp right;}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stm stm; A_exp exp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se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5DD-1258-45ED-8D25-0B7E048F96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D49C-33EE-499D-933D-8638559E69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ntaksno vo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đeno prevođenje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syntax-directed transla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lije izgradnje sintaksno stabla, šta je sledeć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startuje prepoznavanem stringova za na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da parser počinje sa analizom i prevođenjem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toje parseri koji mogu u posebnoj fazi obilaziti sintaksno stablo i odraditi semantičku analizu i prevođenje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ešće se semantička analiza izvodi primjenom 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aksno v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đenog prevođenj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yntax-directed translatio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D1D-06D8-4154-AAD3-3F36952FBE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C337B-C462-43F6-9C71-29083A864D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981000"/>
            <a:ext cx="84978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IdExp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NumExp(int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OpExp(A_exp left, A_binop oper, A_exp 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EseqExp(A_stm stm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List_ {enum {A_pairExpLis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lastExpList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exp head; A_expLi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il;} pai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la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Li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66A-02B2-4040-A2F1-725850CBA3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6AE68-6C89-41EE-993B-FB75B04E0A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052640"/>
            <a:ext cx="842472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u produkciju gramatike p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emo odgovarajuću funkciju. Npr. za prvu produkciju (označenu sa CompoundStm)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s = checked_malloc(sizeof(*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kind = A_compound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1=stm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2=st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2C3-8F22-42D9-82F5-EA5B497D56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FFC5B-3A29-4C75-B7C5-62FB809668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zlaza - PrettyPri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836640"/>
            <a:ext cx="842472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a := 5; a+1)   prevodi se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eqExp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A_AssignExp(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impleVar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, A_IntExp(7,5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(A_OpExp(11,A_plus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VarExp(A_SimpleVar(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),A_IntExp(12,1)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LL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EA2-5F30-4253-8538-A406C016EAB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B7CA-6116-4F14-B626-C2CC821010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AST pomoc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714760" cy="333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847880" cy="17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d+id*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19700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T*F |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21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vo parsiranja                     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122-E8B4-4A7E-B128-69513DCAF3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A4AB-69A2-44EB-BD86-A43224C1A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h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907920"/>
            <a:ext cx="849780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truct EXP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 {idK,intconstK,timesK,divK,plusK,minusK} ki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id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2EF-F0AD-416B-B8E8-60B6D1E111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0514E-5234-4C3B-89CD-7B06B66D92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c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836640"/>
            <a:ext cx="84978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id(char *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id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idE = i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minus(EXP *left, EXP *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minus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left =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right = righ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AB0-710B-4744-8581-7E5A43D68A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4FDC1-A0E6-447C-B02E-B188010209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907920"/>
            <a:ext cx="849780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"tree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char *yytex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EXP *theexpress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yyerro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syntax error before %s\n",yytext)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string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EXP *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intconst&gt; tINT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stringconst&gt; tIDENTIF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ype &lt;exp&gt; program ex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573-5205-4AA8-9AE2-5429888BDE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ED7DF-27C4-46DE-B361-F5A9261922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907920"/>
            <a:ext cx="849780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tart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+' '-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*' '/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: exp { theexpression = $1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: tIDENTIFIER {$$ = makeEXPid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tINTCONST {$$ = makeEXPintconst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*' exp {$$ = makeEXPmult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/' exp {$$ = makeEXPdiv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+' exp {$$ = makeEXPpl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-' exp {$$ = makeEXPmin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'(' exp ')' {$$ = $2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B99-8092-437E-9175-D389746DAD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E1C1D-0031-49CA-91C3-0B02B5187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ST pomoć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lex/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reirati strukturu čvora AST-a – tipovi čvorova, odgovarajuće se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tičke vrijednosti - fajl ”tree.h”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f-ije za kreiranje čvorova drveta – fajl ”tree.c”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“%union” deklaraciju tipova semantičkih vrijednosti u bison faj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dati tipove terminalima i neterminalim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oken &lt;type&gt; id nu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ype &lt;type&gt; exp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družiti akcije svakom pravilu gramatik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pr: exp: exp '*' ex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{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$$ = makeEXPmult($1, $3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98100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CD4-408C-4E54-89DC-5418170C6C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45AA8-69BB-4CD3-B6DD-619933C66D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ka == značenje (meanin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ično rečenicama u prirodnom jezi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aganje ličnih zamjenic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Ja sam" ,  ”Ti si" ”Oni su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načenje zavisi od svojstava riječi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"I drink tea" ,  "He rains them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erifikacija da li program ima smisl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znamo značenje, ne možemo generisati ko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9FE-FF41-4A7E-90AE-2C8DAD74DA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37E7E-0D10-463F-8AD3-921251CCD8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vode proces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ati koji koriste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: B c D { action code } 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gramatiku, Yacc kod parsira ulaz i primjenjuje redukciju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semantičke akcije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emantic actio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koj govore šta da radimo pri primjeni red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dnja čvorova u drvet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žemo započeti sa prevođenje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žemo izračunavati vrijednost 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tribu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druženih gramatičkim simbol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zultat je tzv. atributivna gramatika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attribute gramma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Tehnika za implementaciju semantičke analize i prevođe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E96-CB0C-4AD6-A560-B77B2A558C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1729F-6C67-4456-BA67-081D0266CF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eklaracije imena (name declarat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ma poklapanja imena u datom prostoru im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 = 2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() { return 1; }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p = &amp;f;  // koje f?  Greška!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aglasnost upotreba imena sa deklaracij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i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“abc”;  // Greška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‘abc’;  // OK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36F-FFDB-4FB3-AE67-8CED662808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D2BBD-4C50-4B28-839E-E5F05D2FA7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zivi funkcija (function call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ovi argumenata su odgovarajuć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argumenata jednak broju formalnih argumenata ili podrazumijevane vrijednosti za argumente koji nedostaj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izrazi dobro formiran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7 + 3.14159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i dobro definisano u C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Decaf-u (int i double u istom izrazu)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6 + "abc"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u Snobol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C-u ili Decaf-u ili . . . .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AAA-6C1A-4C62-9A25-08B872A392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2D24-B0DC-416B-9AFA-6375FBA337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u odnosu na št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pecifikacija jezika mora da naglas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deklarišu ime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imena mogu koristit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mpatibilnost, opseg (scop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se izrazi mogu formirati od operanada različitog tip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i su tipovi međusobno kompatibil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načenje naredbi u kontekst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break" samo unutar petl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return" samo unutar funkc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ako bi dodali "break" naredbu gramatičkom pravilu za petlju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A39-BBCA-4418-9B5F-061706BCB2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C2DBB-2FD6-4CA5-8463-A452BBBA5E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pecifikacija jez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specifikacija ispušta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lementacije mogu prepoznavati različite jezike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fikacije bi trebalo da daju koji su tipovi ekvivalentni a koji su kompatibil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612-CC2A-412E-8CEF-12C4639D18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F55E5-AA4E-4821-AEDE-CD9A81C6A2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 tipa (type declaration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numerics, string, pointer, boolean, 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 (aggregate): arrays, structs, union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heap, list, ostali apstraktni tipovi podata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 ne podržava ove tipo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O jezici su fleksibilnij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isanje imena obično uključu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 (vrsta vrijednosti koju može imat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(scope) (gdje je vidljivo / ima značenj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rijeme života (kada je vrijednost očuvana ili izgubljen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C0F-810B-41C2-8CEB-706E95CDE0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24616-9426-486A-A139-F168B50BE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tipovi i opse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calculate(int a, double b); // function prototyp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x = 0; // globalna promjenljiva dostupna cijelom program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y;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ai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[3]; // lokalna promjenljiva za mai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har *n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loat f;  // novo kreiranje pri svakom poziv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c g; // čuva vrijednost između poz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može koristiti x, y, poziv f-ije calcula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{ int i; for (i = 0; i&lt;10; i++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lculate (i, 0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nije više vidlj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6AB-4F34-4EB0-A248-372E9857C8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F7E4D-D6C0-45CA-8138-8DC341DBE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ova (type checking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a li su operandi u operacijama (npr. izrazi ili pozivi f-ija) ispravnog tipa i bro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ype error -- upotreba tipa koja nije implementira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a provjera --za vrijeme kompajlir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a -- u vrijeme izvršavanja(runtim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o više statičkih provjera vršimo, manja je šansa greške u toku izvršavan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0B5-BBEF-427F-BF8C-F7E711CAD5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97F23-CFCB-4A05-B071-775B7B0DBA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ype checking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 je niz a i integer i (Decaf, ne C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i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= 3.14;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type error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 može se dodijeliti double integer-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provjera tipa ć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K za naredbu dodjeljivanja ,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kod za konverziju 3.14 u integer primjenom odrezivanja (truncating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134-BC52-4A40-A7F7-C3599F082D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72865-4D75-4B23-AFEC-A336029272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a i 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čka provjera tip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a[100]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2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1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 = 20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j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e otkriti grešku statički sa pažljivo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emantičkom analizo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inamička provjer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r* s; gets(s); // čitamo podatak, nadamo se da je broj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atoi(s)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konvertovanje u integ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i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da je type error, možda n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bro kreirana  dinamička provjera generisa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će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kod koji će provjeriti da li je vrijednost promjenljive i u intervalu [0..99]  prije pristupa elementu niz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CB0-1A3C-4F26-9EB8-B1A3C15F8F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38448-3081-4CCF-BA6C-697FF7C84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e i implicitne konverz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a vrijednosti sa jednog tipa na drug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version - eks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ercion - im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je prilično “labav” (nije stro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i, d, i f imaju različite tipove, C će promjeniti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coercions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se kod z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računanje vrijednosti f kao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abiranje sa double d, rezultat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oercion (truncate) u integer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Dodjeljivanje odrezane vrijednosti i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514-4F51-4CE7-B137-96822CD830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F6D57-851E-48F9-AB9A-23F037E2EB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S gramatika, unaprijeđena sa izračunavanjem i prostiranjem vrijednosti atribut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tribut je par &lt;name, value&gt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lue može biti proizvoljnog tipa. Na primjer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konstanta ima atribut &lt;IntValue, 143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ing konstanta ima &lt;StrValue, “hello world”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ble ima &lt;VarType, Int32&gt;, &lt;Register, none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ction ima &lt;RetType, Void&gt;, &lt;ArgList, [int I, j]&gt;, &lt;CodeStart, 0x00400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simbol može imati više atribu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d skenera: lokacija, vrsta tokena, vrijednos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može izračunati neke atribute odmah, dok neki atributi čekaju više informacij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A83-7EF0-4214-9E70-6EDD2E0E9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F8A8-C819-453A-A6D5-76E18F283A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7AE-FEE4-4ECB-9381-A7390B6351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BCCB9-45E3-4FE3-BA3A-B89974F959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749-B00D-478A-921B-87AB1C17B6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06F0B-5207-488E-8535-D8EDA9B03A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A25-6CBD-4261-ABD7-88CF392848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33B1F-46E2-47FD-A6DB-BF5559034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7D1-A9E1-41DA-B892-7F26EF8DC8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490BA-7A40-4AF1-8078-2024176191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.20000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23F-5D41-47CD-BE7E-FF5A3A0683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3059-A516-4399-89DB-575EC72F60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a konverz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nije strog kao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gu se sabirati float i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že dodijeliti double vrijednost integer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ak su realni jezici kao Ada95 strožiji od C-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ahtijevaju eksplicitnu konverziju - explicit convers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sting: eksplicitna konverzi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3.6 + (int)4.6 // Programer eksplicitno odrezuj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(3.6 + 4.6)     // operand ili samo rezula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sting pointera reinterpretira bitove na koje pokazuje, izbjegavaju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ći u potpunosti provjeru tipov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har* p = (char*)(&amp;i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180-5640-4817-B81E-150F97BD9B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F963B-C8B1-4CA4-A433-50CE4B186E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modula za provjeru tipova (data checker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checker za programski jezi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su tipovi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e jezičke konstrukcije koriste tipove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a su semantička pravila jezik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772-39DB-44E3-A6E1-0DB2273F74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66D9-7470-42F0-B2EB-54F48B841E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i tipovi podatka postoj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int, double, bool,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:  nizovi (arrays), klase (classes), interfejsi (interfac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zovi nizova su O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ADT (Abstract Data Types) implementacija ADT-ova preko klas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CA3-AAD8-4271-AEA4-748A2FDED8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B2462-45C3-466A-BA8C-2DAFE374C6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ezičke konstruk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nstan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(variabl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un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(express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koje korist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, while, Print, dodjeljivanje (assignment), ..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4E9-8700-4C4B-8D2B-55B0A64350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ADB31-A9A2-4894-934F-64A2FAA3E5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a su pravil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sve detal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što nije deklarisano je greš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ombinacija tipova za koju nije naznačeno da je kompatibilna je greš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cija i kompatibilnost (Equivalence vs Compatibility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C5F-78BA-4F7D-9441-BFFB8BFB4F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4B358-0E09-4A20-870E-CA3456413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retpostavimo da skener vraća samo jedan karakter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git : '0' {digit.value = 0}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1' {digit.value = 1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2' {digit.value = 2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9' {digit.value = 9}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9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tributi se mogu predavati uz drvo parsiranja da bi ih koristile druge produ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1 : digit {int1 .value =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int2 digit {int1.value = int2.value*10 +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z Exp : Exp Exp ‘+’: { $$ = $1 + $2 } u YACC programu:  $$ je vrijednost atributa lijeve strane pravila, koja se dobija iz vrijednosti sa desne strane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B12-21E9-467D-80F9-5BDB5A0F59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0E369-B4B8-4EA5-A345-64EF8607A3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vivalencija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dva objekta istog tip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alna ekvivalencija:isti osnovni tip ili (rekurzivno), ista kombinacija istih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tnost imena (Name equivalence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to ime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 samo ako su deklarisani zajed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, deklarisani na različitim mjestim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isu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6D8-A49E-479B-814E-1FC4DF019F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BAB6-8748-456F-8000-FD44BA968D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rukturalna ekvivalencija - jezik C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060640"/>
            <a:ext cx="3527280" cy="2228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s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arr[1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05D-AEB7-498E-A405-784744288F58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ABA34-7A0B-43EB-AAFA-70109D050E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scal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ttle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mall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g = array[1..10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, b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, e: little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, g: small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, i: big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koje promjenljive važi ekvivalencija imena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e promjenljive imaju strukturalno ekvivalentne tipo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156-09B6-447F-8CF9-6BD988D8A6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A396C-2BCC-4332-B9C6-3E3E56603D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ekvivalencija i kompatibi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 Decaf tipa su ekvivalnet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zni tipovi akko isti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ray tipovi akko imaju isti tip elemenata (šta sa granicama?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enovani tipovi akko imaju isto 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kvivalencija imena, ne strukturalna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kše je implementirati ovakav check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483-EF61-4AE9-96A5-B4D846DEE1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E226D-B196-418A-A310-19E038DD6F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kvivalentnost tipova je refleksiv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ekvivalentno sa B akk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ekvivalentno sa 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mpatibilnost je jednosmjerna relacij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je kompatibilno sa B ako se A može koristiti tamo gdje se očekuje B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 opštem slučaju, ako vrijednost ne gubi ništa, kompatibiln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-u, integer može biti iskorišćen tamo gdje se očekuje  float ili double.  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oid func(double d);  func(i) je OK za i int.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++, podklase su kompatibilne sa nadklasam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Decaf-u, sve kompatibilnosti u specifikacj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nije kompatibilan sa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BA8-26EF-4078-A59E-DC48C61130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D8918-BEDD-4A5B-9C5B-95E2E65E36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čk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analiza-rekapitul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acija imena (promjenljive, konstante, funkcije, tipov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alidacija upotrebe imena za njihove tipove i konteks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(expr) -- expr mora biti tipa 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i tipovi argumenata f-i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čunavanje tipa rezulata izraza na osnovu tipa operana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je član podklase kompatibilan sa članovima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na pravilnom mjestu (npr. break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706-CE00-4FE5-8372-AB3CC3625C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09AE0-F524-4E87-B2A7-634E044607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uraditi semantičku analizu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 prolaza: izgradnja kompletnog drveta, pa obilazak drveta zbog analize i prevođe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 prolaz: izgradnja drveta u preorder redosledu, istovremeno sa analizom i prevođenjem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naslijeđene atribute, mora se nasleđivati od čvorova koji su već kreira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vorovi koji su lijevo i iznad su dostup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tiviše da se u jeziku deklaracija pojavi prije upotreb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B67-4124-486A-B737-A2752854472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E693-174E-47BB-A5E2-06C0EBAC1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je front-end prolaz odrađe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rtovati svaki prolaz odvojen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obar pristup za nedovoljno memorije; upisuje izlaz na dis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24k minicomputer Fortran compiler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plitanje prolaz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ože biti brži, ako ima dovoljno memori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su već provjereni tipovi x i y i računamo tip za (x+y), generišimo kod za 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Decaf, gradi se cijelo drvo koje se obilaz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vo provjera, pa generisanje ko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DB9-77B0-4313-B8A5-ACC6534E53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53F84-0527-4AED-A4CC-81955FD8C6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drveta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 samom drvetu je kodiran dio semantike, npr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(a + b) + c) vs (a + (b + c)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a + (b * c)) vs ((a + b) * c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d drveta parsiranja (konkretna sintaksa) ka apstraktnim sintaksnim drvetima. Za prepoznavanje opsega i struktur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trebni su container i element čvorov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su potrebni čvorovi tipa 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da neće  trebati rekurzivni čvorovi ka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ecl ; DL 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// n rekurzivnih poziv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a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potomaka je jednostavn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siranje je završeno; nije nam potrebna kompletna istorija koji su izbori napravlje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DFC-6733-4B10-B393-6B8690937B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2856-718C-4686-A0DD-F3238285F8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tip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ype sistem: skup pravila koja određuju tip elementa program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ovi mogu biti ekvivalentni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i bazni tipov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đeni od baznih tipova na isti način (strukturalno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I imaju isti imenovani tip (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 A je kompatibilan sa tipom B ako se A može koristiti svuda gdje se koristi 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feksibilno u C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strogo u Decaf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 otkrivanju greške u tipu, postavljanje  imena na type_error može spriječiti kaskadne poru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ype_error je kompatibilan sa bilo čim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E8A-559B-4715-A619-ED8A8706890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F7301-170B-4EB3-A201-CADE83359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181160"/>
            <a:ext cx="6983280" cy="40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00A-FFC2-464E-88CB-BA76A3D2E8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F748A-1543-40E6-B881-B8D6D89DEA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a i kompatibil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odrediti kompatibilnost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matrajmo 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r oblika (x + 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ispravan operand za + 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ste, da li je to i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gu li x i y biti u + čvoru zajedno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y različit od x, da li je kompatibilan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kompatibilno sa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C-u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doubl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O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in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nt kompatibilan sa flo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caf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x int tada y mora biti in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603-1112-47A4-BA01-8A580FDC2FE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B9BFA-CC3B-4AC9-9267-250161A708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ička – compile 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risti informaciju dostupnu iz source k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koji nisu OO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cije tipa koje zavise od vrijednosti ne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jerujemo da će cast sačuvati integritet tipov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ahoma"/>
              </a:rPr>
              <a:t>(char*) p = (char*) i ;   // OK, vjerujemo da je sve u redu</a:t>
            </a:r>
            <a:endParaRPr b="0" lang="en-US" sz="2000" spc="-1" strike="noStrike">
              <a:solidFill>
                <a:srgbClr val="cc00cc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namička - run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dređivanje tačne podklase objek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a informacija za dinamički izbor met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jera granica (Bounds-checking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podranga (Subrange type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lementi niz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overflow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374-397D-4C00-818E-9E7F4CA331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74260-E259-42EF-8173-047A4A007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 (scope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oping pomaže u implementacionoj apstrakciji i sakrivanju podata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opseg važenja (scope) otvara novu grupu imena dostupnih unutar  opseg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zlaskom iz opsega, ta imena postaju nedostupna, kao i podaci o tim imen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me u unutrašnjem opsegu “pokriva” isto ime u spoljašnjem opseg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457-4784-4F5F-99E8-8BFCC1914B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BEA86-9CA5-4D65-B2CA-58014A17BE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2296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float pi(void) { return 3.1415926 ; }  //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main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int pi = 3;  //lokalna z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{ // ugnježdeni ops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char* pi = "circumference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pi = 0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047-3FB3-4413-9E3E-85BA9FAFDA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D2874-9052-4760-8EDD-D88814D0A3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od jednoprolaznih kompajlera, redosled deklaracija može imati značaj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U C-u, deklaracija mora biti prije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// upotre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, sva imena u opsegu su dostupna kroz opseg. Redosled deklaracija nije bitan 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// sve u opsegu je sada vidljiv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// Myint je već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7EF-DD6C-4835-8E94-A045A53693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ED021-1953-4AC9-8DBA-1F88EC23CE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- type check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ributivne gramatike mogu podržavati račun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E  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više deklaracija, pa 1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D | id : T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identifikator :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char | integer | ^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| array [num] of T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nizovi počinju od 1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literal | num | id | E mod E | E [E] | E 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r program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: integer;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k je baznog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 : array [143] of char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složeni tip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 mod 1999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jedini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482-A98D-4414-8E02-5965605861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87F81-0D20-4147-ACC7-1148AA7061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e akcije za 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semantičke akcije izvodi desna strana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d: T { addType(id.entry, T.type)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synth attrs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vrijednosti može imati atribut type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nteger { T.type = intege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char { T.type = cha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array NUM of char { T.type = &lt;pointer to descriptor for array(1..NUM.value, char) &gt;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^T1 { T.type = pointer(T1.type)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slije deklaracije, svi izrazi tipova (type expressions) su  izračunati (tabela simbola je popunjena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D ; E { // Posle poziva addType za deklaracije u D, tabela simbola je popunjena. Provjeravamo u tabeli tipove imena iz izraza E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D51-91FB-4A65-9C09-BCE27BCDAB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285D2-F96C-4E87-8A4C-0F64DB39E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liter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cha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mod E2 { E .type = ((E1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2.type == integer)) ? intege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[E2] { E .type = ((E2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1.type == array(s, t))) ?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^ { E .type = (E1.type == pointer(t) ? 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5EB-4DBD-44C1-9324-1E49C28727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240F1-49A9-4483-98A8-A728DD8363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tipa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 .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real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op E2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integer   else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 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type_error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EDC-0189-4E73-89A2-720BB82540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B7DA9-3662-4BBE-B93E-27E94309D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naredb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odjeljivanj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oid’- 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redbama u ovom primje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 = E { S.type = (id.type == E.type) ? void 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f E then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while E do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1 ; S2 { S.type = ((S1.type == void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S2.type == void)) ?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void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6E5-6459-4220-827F-31ABC15215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36F27-6F6E-4FA1-881A-2E0F016945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Sintetisani (synthesize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) atributi se predaju naviše u drvetu; vrijednost lijeve strane izračunava se na osnovu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.a = f(Y1.a,  Y2.a, ... Yn.a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Naslijeđeni (inherited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atributi se predaju naniže u drvetu; atributi desne strane pravila gramatike izračunavaju se na osnovi lijeve strane i ostalih atributa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Yk.a = f(X.a, Y1.a, Y2.a, ..., Yk-1.a, Yk+1.a, ..., Yn.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- - -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 - - -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6C0-8A31-4842-BC47-DD4DDC52E9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A4DC7-D5F3-472E-A5AC-E6DAC57CD1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funk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odavanje izraza tipa za fun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unc of T1 returns T2 {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1.type=ftype(T1.type,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args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2.type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return type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E1 ( E2 ) { E.type = ((E2.type == s) &amp;&amp;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(E1.type == ftype(s, t))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? t else type_error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ati primjer rada za f-ije sa jednim argumen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azmatramo listu od N tipova kao tip oblik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1 x T2 x T3 x . . . X T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n-argumentna f-ija ima tip T.type = T1 x … x T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ređenje (T2.type == T1.type) testira </a:t>
            </a: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kvivalenciju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st može biti rekurzivan (struktura) ili prosti test imen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881-2B55-423E-A953-008C89E966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C3E7C-A99E-458B-9236-E2F6BF3D1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ko čuvati informaciju o opseg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tek čiji su elementi hash tabele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tabela po opsegu (table per scope)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velika tabela sa informacijom o opsegu u svakoj deklaraciji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920-962C-48EF-93BD-919856582B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59A23-8E1B-4758-ACE0-D1C33F3B0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četak izgradnje tabela!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 ulasku u opseg deklaracije,  “otvaramo taj opseg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Globalni opseg ulazi prvi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ove deklaracije idu prve u tabelu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Ulazak u lokalni opseg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nova tabela simbola na stek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int x ; // global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void foo() {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double d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float x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x = x + 1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li, ulazak u lokalni opseg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dodavanje u jednu veliku tabelu simbola, otkriti kako čuvati informacije o opseg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52680" y="3200400"/>
            <a:ext cx="5408280" cy="1904760"/>
            <a:chOff x="3352680" y="3200400"/>
            <a:chExt cx="5408280" cy="1904760"/>
          </a:xfrm>
        </p:grpSpPr>
        <p:sp>
          <p:nvSpPr>
            <p:cNvPr id="251" name=""/>
            <p:cNvSpPr/>
            <p:nvPr/>
          </p:nvSpPr>
          <p:spPr>
            <a:xfrm>
              <a:off x="3352680" y="320040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 float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dou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419076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oo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void fu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      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490-ED7E-4486-852D-D95FD2D76C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8C00E-67F7-4695-BD28-232F72963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var deklar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acc gramatika za Pascal-like jezik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-&gt; DS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deklaracija pa nared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-&gt; var V; D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deklaraci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 -&gt; V := E; S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naredbi dodjeljivan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V -&gt; x | y | z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mena promjenljivih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-&gt; </a:t>
            </a:r>
            <a:r>
              <a:rPr b="0" i="1" lang="en-US" sz="2600" spc="-1" strike="noStrike">
                <a:solidFill>
                  <a:srgbClr val="3333cc"/>
                </a:solidFill>
                <a:latin typeface="Tahoma"/>
              </a:rPr>
              <a:t>whatever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z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dati gramatici atribute tako da se za svaku promjenljivu vodi evidencija 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menu promjenljive, i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isti u deklaraciju gdje se pojavlju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FE6-BECB-457F-A5E5-14A46C5620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29926-2B5F-499F-8CE3-BB60D1759C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 za vars i decl lis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   -&gt; DS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S.dl = D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4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D1 -&gt; var V; D2  { D1.dl = addlist(V.name, D2.dl)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2), (3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D1.dl = NULL } 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S1 -&gt; V := E; S2 { check(V.name, S1.dl); S2.dl = S1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5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V -&gt; x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x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y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y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z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z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1)  Sintetisanje name atribut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2)  Sintetisanje liste deklaracij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3)  Dodaj  var decl listi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4)  Statement blok nasleđuje (inherits) decl listu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5)  Provjera (check) upotrebe promjenljive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A7D-EA85-4464-930A-F30E9D5E0C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F1668-F355-4783-8A99-AF43CF9F96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3-08T21:48:10Z</dcterms:modified>
  <cp:revision>3378</cp:revision>
  <dc:subject/>
  <dc:title>Welcome to CS143</dc:title>
</cp:coreProperties>
</file>