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4F0F-7021-490C-9BEA-1873732B1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E01A1-E933-4F38-BF46-1224141DEC1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CB5E7-DA68-410D-913B-704CF30077A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94F41-4FC5-4FC8-9C2C-62FACF9CE64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B4164-7595-4AD4-8F36-E6421293A49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E7A9A-F4B5-4171-B88E-2C575D17AC4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7A61A-D41C-4664-AEEF-6BA662E4789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980A3-3E9C-4D47-9228-18229F4CEC0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6E4E6-8B2C-4332-B3D3-95CDA1E5D28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A327C-56AE-43A9-9435-89408C6500B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272A0-5196-4E01-8434-040CC44916D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E17C9-1557-4FF8-B105-77027443DB1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93358-6ADF-4028-A167-F6C831AB9F4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52CC9-B393-49A5-8F3B-783570C886E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EC0F6-A0F9-452A-B9AB-6E68A4E4537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9C2CD-2A53-4654-A88F-DDE680D8A20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60EEC-3B43-4211-971D-F1DD2B07E2C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97FDD-C214-4FAE-91AA-B18E87519BA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72571-45D6-40E0-916D-2C440CF53B6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3E5C0-8892-47C6-B824-4D285E3166F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88A9A-2394-4A21-AB9D-FEAA3F77D4A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E38F-4067-4D7C-BC6E-A38CA64062D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378D6-0E1A-423A-8986-317D376FF1D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30135-EEC8-4A8B-8165-5A6F971FD72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E5EE-20CB-4685-929C-BAADDCD54E3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AD32-9297-4B1C-9307-9EC2F7EAE06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7C945-2AF5-4C16-A3F8-1E3AC9B23F2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E841B-FC58-4785-9226-C9AF9F0B6EA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17BA8-B884-4B03-9B68-02642127857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883D5-713B-4D27-883C-ACBB8E20F72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AA791-7CF3-4D82-965C-05BD98CE8EB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AB6D-F7A9-47D0-8E7F-243A7A14346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8A37-CFF1-4F28-925A-C40AF893AA0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E04DF-BB38-45C0-BEDB-215859E0F0A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235C7-4E59-4B2F-AAF7-570DE7B6A2B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D90B-2598-44FD-B087-6558D5B9B4F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013C-BB71-4A19-AC71-FAFFCB6F404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6BAD-04EB-4BF9-B751-E075E65BF33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0710C-9D8F-4850-B481-7DA7B6C2A4D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0A46C-71F7-49BA-A2D9-84C7575C111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D75C-DBE7-4389-AA50-D25536D0E71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16F10-2D99-4C87-9838-6E12E234893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3D511-68A0-4F29-9D5A-981BD447F24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DB82-A5C0-45C8-9224-DDD6C9386EA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04E1-F12D-415F-9340-D5509F59C94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3F1BF-BC44-4903-90EF-7CA85872A15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B5E4-8BE3-44B9-BFAF-ED96B81D249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39E4A-3AFE-4C1C-A1B5-EDA391F31D0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55D7-432B-49D0-936A-0A1B0DC70C3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E1A1-C194-4F07-9B91-B5F5C15561A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2CC79-F534-4F27-8489-35B4181FD4F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324F-0FB6-49B6-971C-4B8C517C80B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8D9C8-003D-4C84-BDB2-B3C99F33D81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FACAA-74F4-42AD-8557-9B2F8E6A557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F9B5-A4B8-4239-94A9-0802E9375D1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E16EF-42C9-4C5B-AB45-52A216A38AE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3E8E-97E1-4C10-897B-43546EDDC43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55272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1516686-D24B-4245-A53B-6841817D725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v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okretanje prevedenog programa 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7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2F7F2C2-34CC-4F7E-A50E-9C3F76FD18A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ogramski jezik viso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mb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rske instrukcije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mpajler vrši prevođenj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(translaciju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ita i razumije progra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o određuje koje su tražen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hvata kako da doslovno izvrši t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aje instrukcije računaru za izvođenje akci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320A595-A18B-4C28-B711-A6D773520E5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d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mperativ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 jezic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Java, C, C++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Promjenljiv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e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Nizov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zračunav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z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(aritmet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log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td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.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ssignment statement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Control flow (conditionals, loops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5F42398-8433-4AED-9D09-E97211E8591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emo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a sa “ravni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resnim prostoro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d – load/store arhit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ad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ore instru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 i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g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ope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cije nad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m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nstrukcije grananja (b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anch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6E2371B-BB10-43E7-83A0-780FCCB4401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ource cod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8432CA6-7204-4DD7-844B-CAE1B8A7E53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–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semb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rski k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d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sumcalc: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9528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ize   sumcalc, .-sumcal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ection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rame1: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-.LSCI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S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tring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""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-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7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9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FDE1-.LASFD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ASFDE1-.Lfram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E2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0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e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1-.LCFI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d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Mapping Time Continuum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pilation to Interpret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ompile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C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ink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Binary layout optimiz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oad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IT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ava Interpreter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A59103A-A4F6-49CA-B5CC-A22AFDF9276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st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ji čita program napisan u jeziku 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 izvršava funkcije tog progra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169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pic>
        <p:nvPicPr>
          <p:cNvPr id="170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evođenje (t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ansl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vodi program napisan u jeziku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inski jezi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oceso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h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rsk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 mašinski jezi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Program u originalnom obliku – izvorni progra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("source program", "source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revedena verzija – objektni kod ("object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Kompajler (engl. compiler) – termin koji je uvela Grace Hop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erminologi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fld id="{8BA5A6F3-2896-432E-B643-2284EF84AB32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757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575"/>
                </a:solidFill>
                <a:latin typeface="Tahoma"/>
              </a:rPr>
              <a:t>Administrativne informa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vod u programske prevodioc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su kompajleri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ašto ih izučavamo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Anatom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ija k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j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ler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Lakše je napisat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nterpret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bliži PJ, pa daje bolji opis greša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spori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0x?),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i je kod manj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2X?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e mogućnost nezavisnosti skupa instrukcij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vršava se na svakoj maši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ed/compiled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od je skoro uvijek efikasniji i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ima bolje preformans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ažno za mnoge aplikacije, posebno OS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ion/compilation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omaže sakrivanju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“source”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od korisnika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ode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za zarađivanje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 Microsoft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čuva svoj source  kod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Alternati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ni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model, “open source”,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re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ra vrijednost objavljivanjem source kod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705E651-6135-47D7-81B8-CCC201338CF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762120" y="3809880"/>
            <a:ext cx="7619760" cy="2286000"/>
            <a:chOff x="762120" y="3809880"/>
            <a:chExt cx="7619760" cy="2286000"/>
          </a:xfrm>
        </p:grpSpPr>
        <p:sp>
          <p:nvSpPr>
            <p:cNvPr id="183" name="Oval 4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</a:t>
              </a: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erski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jezik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200400" y="4191120"/>
              <a:ext cx="2819520" cy="1403280"/>
            </a:xfrm>
            <a:prstGeom prst="rightArrow">
              <a:avLst>
                <a:gd name="adj1" fmla="val 50000"/>
                <a:gd name="adj2" fmla="val 502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150090"/>
                  </a:solidFill>
                  <a:latin typeface="Times New Roman"/>
                </a:rPr>
                <a:t>omp</a:t>
              </a: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ajler</a:t>
              </a:r>
              <a:endParaRPr b="0" lang="en-US" sz="4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186" name="WordArt 7"/>
          <p:cNvSpPr txBox="1"/>
          <p:nvPr/>
        </p:nvSpPr>
        <p:spPr>
          <a:xfrm>
            <a:off x="3276720" y="2666880"/>
            <a:ext cx="220968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??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C8C070F-AB22-466C-AD2C-86EB9303D87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09880" y="10666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ksičk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nal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iz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195" name="AutoShape 10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oken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1066680"/>
            <a:ext cx="5143680" cy="569880"/>
            <a:chOff x="2895480" y="1066680"/>
            <a:chExt cx="5143680" cy="569880"/>
          </a:xfrm>
        </p:grpSpPr>
        <p:sp>
          <p:nvSpPr>
            <p:cNvPr id="198" name="AutoShape 13"/>
            <p:cNvSpPr/>
            <p:nvPr/>
          </p:nvSpPr>
          <p:spPr>
            <a:xfrm>
              <a:off x="2895480" y="1066680"/>
              <a:ext cx="762120" cy="4989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3848040" y="11768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ogram (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karaketera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CCBDD95-FD2B-4A25-AD3C-84D5F3769FC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7149504-F038-468C-85B9-9A4FC62E107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8..23 + val#u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63" name="Group 33"/>
          <p:cNvGrpSpPr/>
          <p:nvPr/>
        </p:nvGrpSpPr>
        <p:grpSpPr>
          <a:xfrm>
            <a:off x="990720" y="4724280"/>
            <a:ext cx="2833200" cy="1110600"/>
            <a:chOff x="990720" y="4724280"/>
            <a:chExt cx="2833200" cy="1110600"/>
          </a:xfrm>
        </p:grpSpPr>
        <p:sp>
          <p:nvSpPr>
            <p:cNvPr id="264" name="Line 34"/>
            <p:cNvSpPr/>
            <p:nvPr/>
          </p:nvSpPr>
          <p:spPr>
            <a:xfrm>
              <a:off x="990720" y="4724280"/>
              <a:ext cx="9140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5" name="Text Box 35"/>
            <p:cNvSpPr/>
            <p:nvPr/>
          </p:nvSpPr>
          <p:spPr>
            <a:xfrm>
              <a:off x="1888920" y="537516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number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66" name="Group 36"/>
          <p:cNvGrpSpPr/>
          <p:nvPr/>
        </p:nvGrpSpPr>
        <p:grpSpPr>
          <a:xfrm>
            <a:off x="2514600" y="4724280"/>
            <a:ext cx="6435720" cy="707400"/>
            <a:chOff x="2514600" y="4724280"/>
            <a:chExt cx="6435720" cy="707400"/>
          </a:xfrm>
        </p:grpSpPr>
        <p:sp>
          <p:nvSpPr>
            <p:cNvPr id="267" name="Line 37"/>
            <p:cNvSpPr/>
            <p:nvPr/>
          </p:nvSpPr>
          <p:spPr>
            <a:xfrm>
              <a:off x="2514600" y="4724280"/>
              <a:ext cx="1204920" cy="37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3690000" y="4971960"/>
              <a:ext cx="52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riable names cannot have ‘#’ charact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 leksičke analiz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1981080" cy="2057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if (i == j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els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514600" y="1980720"/>
            <a:ext cx="6400800" cy="685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\tif (i == j)\n\t\tz = 0;\n\telse\n\t\t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895480"/>
            <a:ext cx="2895480" cy="379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Whitespace, “\t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Keyword, “if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OpenPar, “(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i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Relation, “==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j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…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5720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t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ta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novi re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0E21B5C-822F-441C-B08B-205026923F9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284" name="AutoShape 13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ken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2895480" y="2743200"/>
            <a:ext cx="2857680" cy="880920"/>
            <a:chOff x="2895480" y="2743200"/>
            <a:chExt cx="2857680" cy="880920"/>
          </a:xfrm>
        </p:grpSpPr>
        <p:sp>
          <p:nvSpPr>
            <p:cNvPr id="287" name="AutoShape 16"/>
            <p:cNvSpPr/>
            <p:nvPr/>
          </p:nvSpPr>
          <p:spPr>
            <a:xfrm>
              <a:off x="2895480" y="274320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848040" y="279864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6F9CE46-D227-48D4-8C3F-4DA29BFD1B8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292" name="AutoShape 4"/>
          <p:cNvCxnSpPr/>
          <p:nvPr/>
        </p:nvCxnSpPr>
        <p:spPr>
          <a:xfrm flipH="1">
            <a:off x="1752120" y="2514600"/>
            <a:ext cx="113904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3" name="AutoShape 5"/>
          <p:cNvCxnSpPr/>
          <p:nvPr/>
        </p:nvCxnSpPr>
        <p:spPr>
          <a:xfrm>
            <a:off x="3052440" y="2514600"/>
            <a:ext cx="220572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4" name="AutoShape 6"/>
          <p:cNvCxnSpPr/>
          <p:nvPr/>
        </p:nvCxnSpPr>
        <p:spPr>
          <a:xfrm flipH="1">
            <a:off x="3657240" y="3352320"/>
            <a:ext cx="151992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5" name="AutoShape 7"/>
          <p:cNvCxnSpPr/>
          <p:nvPr/>
        </p:nvCxnSpPr>
        <p:spPr>
          <a:xfrm>
            <a:off x="5338440" y="3352320"/>
            <a:ext cx="136764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6" name="AutoShape 8"/>
          <p:cNvCxnSpPr/>
          <p:nvPr/>
        </p:nvCxnSpPr>
        <p:spPr>
          <a:xfrm>
            <a:off x="5257800" y="3385800"/>
            <a:ext cx="38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7" name="AutoShape 9"/>
          <p:cNvCxnSpPr/>
          <p:nvPr/>
        </p:nvCxnSpPr>
        <p:spPr>
          <a:xfrm flipH="1">
            <a:off x="434268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298" name="Text Box 10"/>
          <p:cNvSpPr/>
          <p:nvPr/>
        </p:nvSpPr>
        <p:spPr>
          <a:xfrm>
            <a:off x="396180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99" name="AutoShape 11"/>
          <p:cNvCxnSpPr/>
          <p:nvPr/>
        </p:nvCxnSpPr>
        <p:spPr>
          <a:xfrm>
            <a:off x="533844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0" name="Text Box 12"/>
          <p:cNvSpPr/>
          <p:nvPr/>
        </p:nvSpPr>
        <p:spPr>
          <a:xfrm>
            <a:off x="583056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1" name="AutoShape 13"/>
          <p:cNvCxnSpPr/>
          <p:nvPr/>
        </p:nvCxnSpPr>
        <p:spPr>
          <a:xfrm>
            <a:off x="5257440" y="4147920"/>
            <a:ext cx="108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2" name="Text Box 14"/>
          <p:cNvSpPr/>
          <p:nvPr/>
        </p:nvSpPr>
        <p:spPr>
          <a:xfrm>
            <a:off x="5069160" y="574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3" name="AutoShape 15"/>
          <p:cNvCxnSpPr/>
          <p:nvPr/>
        </p:nvCxnSpPr>
        <p:spPr>
          <a:xfrm>
            <a:off x="2971440" y="2547720"/>
            <a:ext cx="10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4" name="AutoShape 16"/>
          <p:cNvCxnSpPr>
            <a:endCxn id="300" idx="0"/>
          </p:cNvCxnSpPr>
          <p:nvPr/>
        </p:nvCxnSpPr>
        <p:spPr>
          <a:xfrm>
            <a:off x="6171840" y="5062320"/>
            <a:ext cx="20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5" name="AutoShape 17"/>
          <p:cNvCxnSpPr>
            <a:endCxn id="302" idx="0"/>
          </p:cNvCxnSpPr>
          <p:nvPr/>
        </p:nvCxnSpPr>
        <p:spPr>
          <a:xfrm>
            <a:off x="5257800" y="5062320"/>
            <a:ext cx="216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6" name="AutoShape 18"/>
          <p:cNvCxnSpPr>
            <a:endCxn id="298" idx="0"/>
          </p:cNvCxnSpPr>
          <p:nvPr/>
        </p:nvCxnSpPr>
        <p:spPr>
          <a:xfrm flipH="1">
            <a:off x="4323600" y="5062320"/>
            <a:ext cx="1980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7" name="Text Box 19"/>
          <p:cNvSpPr/>
          <p:nvPr/>
        </p:nvSpPr>
        <p:spPr>
          <a:xfrm>
            <a:off x="346896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59304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782800" y="391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0" name="AutoShape 22"/>
          <p:cNvCxnSpPr>
            <a:endCxn id="309" idx="0"/>
          </p:cNvCxnSpPr>
          <p:nvPr/>
        </p:nvCxnSpPr>
        <p:spPr>
          <a:xfrm flipH="1">
            <a:off x="2962080" y="3386160"/>
            <a:ext cx="1008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1" name="Text Box 23"/>
          <p:cNvSpPr/>
          <p:nvPr/>
        </p:nvSpPr>
        <p:spPr>
          <a:xfrm>
            <a:off x="1334520" y="391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2" name="AutoShape 24"/>
          <p:cNvCxnSpPr>
            <a:endCxn id="311" idx="0"/>
          </p:cNvCxnSpPr>
          <p:nvPr/>
        </p:nvCxnSpPr>
        <p:spPr>
          <a:xfrm flipH="1">
            <a:off x="1696680" y="3386160"/>
            <a:ext cx="5616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3" name="Text Box 25"/>
          <p:cNvSpPr/>
          <p:nvPr/>
        </p:nvSpPr>
        <p:spPr>
          <a:xfrm>
            <a:off x="2514600" y="21337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83840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33344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392400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832280" y="3827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74668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2629080" y="30052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915080" y="468144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905400" y="152388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m ‘*’ ‘(‘ num ‘+’ num ‘)’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C148BF8-1CDD-4CD2-8A37-0BD617D73D9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or(i=0; i j) 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i(i&gt;j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343400" y="2286000"/>
            <a:ext cx="3316680" cy="1110600"/>
            <a:chOff x="4343400" y="2286000"/>
            <a:chExt cx="3316680" cy="1110600"/>
          </a:xfrm>
        </p:grpSpPr>
        <p:sp>
          <p:nvSpPr>
            <p:cNvPr id="326" name="Line 5"/>
            <p:cNvSpPr/>
            <p:nvPr/>
          </p:nvSpPr>
          <p:spPr>
            <a:xfrm>
              <a:off x="434340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5240520" y="29368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xtra parentheses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28" name="Group 7"/>
          <p:cNvGrpSpPr/>
          <p:nvPr/>
        </p:nvGrpSpPr>
        <p:grpSpPr>
          <a:xfrm>
            <a:off x="3657600" y="4191120"/>
            <a:ext cx="4767840" cy="554400"/>
            <a:chOff x="3657600" y="4191120"/>
            <a:chExt cx="4767840" cy="554400"/>
          </a:xfrm>
        </p:grpSpPr>
        <p:sp>
          <p:nvSpPr>
            <p:cNvPr id="329" name="Text Box 8"/>
            <p:cNvSpPr/>
            <p:nvPr/>
          </p:nvSpPr>
          <p:spPr>
            <a:xfrm>
              <a:off x="5961600" y="42858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sing increme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3657600" y="4191120"/>
              <a:ext cx="23684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3352680" y="4191120"/>
            <a:ext cx="3282840" cy="1110600"/>
            <a:chOff x="3352680" y="4191120"/>
            <a:chExt cx="3282840" cy="1110600"/>
          </a:xfrm>
        </p:grpSpPr>
        <p:sp>
          <p:nvSpPr>
            <p:cNvPr id="332" name="Line 11"/>
            <p:cNvSpPr/>
            <p:nvPr/>
          </p:nvSpPr>
          <p:spPr>
            <a:xfrm>
              <a:off x="3352680" y="419112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4251240" y="4842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n expressio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1295280" y="4724280"/>
            <a:ext cx="2892600" cy="1110600"/>
            <a:chOff x="1295280" y="4724280"/>
            <a:chExt cx="2892600" cy="1110600"/>
          </a:xfrm>
        </p:grpSpPr>
        <p:sp>
          <p:nvSpPr>
            <p:cNvPr id="335" name="Line 14"/>
            <p:cNvSpPr/>
            <p:nvPr/>
          </p:nvSpPr>
          <p:spPr>
            <a:xfrm>
              <a:off x="1295280" y="472428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2195280" y="537516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keywor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50BDF0E-76A5-4E74-A059-CC54844F65A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Zašto izučav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mo kompajler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u nam mogućnost programiranja primjenom programskih jezika visokog nivoa a ne primjenom mašinskog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alleability, Portability, Modularity, Simplicity, Programmer Productivity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lso Efficiency and Performanc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B00A542-7DEF-4000-AE6F-A87CDEFEDE2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48" name="Group 14"/>
          <p:cNvGrpSpPr/>
          <p:nvPr/>
        </p:nvGrpSpPr>
        <p:grpSpPr>
          <a:xfrm>
            <a:off x="2895480" y="3581280"/>
            <a:ext cx="6058080" cy="881280"/>
            <a:chOff x="2895480" y="3581280"/>
            <a:chExt cx="6058080" cy="881280"/>
          </a:xfrm>
        </p:grpSpPr>
        <p:sp>
          <p:nvSpPr>
            <p:cNvPr id="349" name="AutoShape 15"/>
            <p:cNvSpPr/>
            <p:nvPr/>
          </p:nvSpPr>
          <p:spPr>
            <a:xfrm>
              <a:off x="2895480" y="3581280"/>
              <a:ext cx="76212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48040" y="363708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Međuprogramska reprezentacija (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PR, engl..Intermediate Representation, IR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351" name="Rectangle 17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2819520" y="2743200"/>
            <a:ext cx="3657240" cy="515160"/>
            <a:chOff x="2819520" y="2743200"/>
            <a:chExt cx="3657240" cy="515160"/>
          </a:xfrm>
        </p:grpSpPr>
        <p:sp>
          <p:nvSpPr>
            <p:cNvPr id="353" name="AutoShape 19"/>
            <p:cNvSpPr/>
            <p:nvPr/>
          </p:nvSpPr>
          <p:spPr>
            <a:xfrm>
              <a:off x="2819520" y="2743200"/>
              <a:ext cx="97524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4038480" y="2798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2C973F9-9ECC-4A9B-8E81-1D0052107B8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emant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 analaz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x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x = x + j + N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038480" y="2286000"/>
            <a:ext cx="3357720" cy="1110600"/>
            <a:chOff x="4038480" y="2286000"/>
            <a:chExt cx="3357720" cy="1110600"/>
          </a:xfrm>
        </p:grpSpPr>
        <p:sp>
          <p:nvSpPr>
            <p:cNvPr id="359" name="Line 5"/>
            <p:cNvSpPr/>
            <p:nvPr/>
          </p:nvSpPr>
          <p:spPr>
            <a:xfrm>
              <a:off x="403848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4935600" y="2936880"/>
              <a:ext cx="24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Type not declared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447920" y="2438280"/>
            <a:ext cx="6819840" cy="2666880"/>
            <a:chOff x="1447920" y="2438280"/>
            <a:chExt cx="6819840" cy="2666880"/>
          </a:xfrm>
        </p:grpSpPr>
        <p:sp>
          <p:nvSpPr>
            <p:cNvPr id="362" name="Line 8"/>
            <p:cNvSpPr/>
            <p:nvPr/>
          </p:nvSpPr>
          <p:spPr>
            <a:xfrm>
              <a:off x="1447920" y="2438280"/>
              <a:ext cx="364356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985840" y="4267080"/>
              <a:ext cx="21052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4" name="Text Box 10"/>
            <p:cNvSpPr/>
            <p:nvPr/>
          </p:nvSpPr>
          <p:spPr>
            <a:xfrm>
              <a:off x="5168520" y="4038480"/>
              <a:ext cx="30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matched return typ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5" name="Group 11"/>
          <p:cNvGrpSpPr/>
          <p:nvPr/>
        </p:nvGrpSpPr>
        <p:grpSpPr>
          <a:xfrm>
            <a:off x="2209680" y="4648320"/>
            <a:ext cx="6287040" cy="535680"/>
            <a:chOff x="2209680" y="4648320"/>
            <a:chExt cx="6287040" cy="535680"/>
          </a:xfrm>
        </p:grpSpPr>
        <p:sp>
          <p:nvSpPr>
            <p:cNvPr id="366" name="Text Box 12"/>
            <p:cNvSpPr/>
            <p:nvPr/>
          </p:nvSpPr>
          <p:spPr>
            <a:xfrm>
              <a:off x="5024160" y="472428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initialized variable use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2209680" y="4648320"/>
              <a:ext cx="28958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8" name="Group 14"/>
          <p:cNvGrpSpPr/>
          <p:nvPr/>
        </p:nvGrpSpPr>
        <p:grpSpPr>
          <a:xfrm>
            <a:off x="3886200" y="4495680"/>
            <a:ext cx="3620520" cy="1265400"/>
            <a:chOff x="3886200" y="4495680"/>
            <a:chExt cx="3620520" cy="1265400"/>
          </a:xfrm>
        </p:grpSpPr>
        <p:sp>
          <p:nvSpPr>
            <p:cNvPr id="369" name="Line 15"/>
            <p:cNvSpPr/>
            <p:nvPr/>
          </p:nvSpPr>
          <p:spPr>
            <a:xfrm>
              <a:off x="3886200" y="4495680"/>
              <a:ext cx="914400" cy="122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4782600" y="530136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declared variable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DF0649B-0F59-46FE-9417-B9F3AEDED40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886200" y="2798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n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86" name="Group 18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387" name="AutoShape 19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88" name="Text Box 20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ptimiz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vana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CC54896-3CDC-43CA-BA9C-C8BEC71C5B2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2133720"/>
            <a:ext cx="45720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+4*a/b*i+(i+1)*(i+1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b*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0384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1002BD5-B60A-4024-9F04-5EE0D9EE059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2933640" y="524196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886200" y="529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886200" y="363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M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AutoShape 1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886200" y="2798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3" name="Group 21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414" name="AutoShape 22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ptimizovani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2895480" y="5257800"/>
            <a:ext cx="5333760" cy="515160"/>
            <a:chOff x="2895480" y="5257800"/>
            <a:chExt cx="5333760" cy="515160"/>
          </a:xfrm>
        </p:grpSpPr>
        <p:sp>
          <p:nvSpPr>
            <p:cNvPr id="417" name="AutoShape 25"/>
            <p:cNvSpPr/>
            <p:nvPr/>
          </p:nvSpPr>
          <p:spPr>
            <a:xfrm>
              <a:off x="2895480" y="5257800"/>
              <a:ext cx="79020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3882960" y="5313240"/>
              <a:ext cx="43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emblerski ko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DC2BCEA-EE8D-48B3-8A24-26105461E7C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Generisanje kod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4120" y="21333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umcalc: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42670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52280" y="213372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E4627C2-760A-4CB8-90DD-C94F64D82D9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vođenje progra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ekt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cije koje se zahtijevaju u programu moraju biti doslovno izvršen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s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teligen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 i efiksana upotreba dostupnih resurs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iječ optimizacija koristi se u “široko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enju u kompajlerim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– Optimiz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ajući 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jleri nikada nisu optimaln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4DF306A-2EE1-46CF-9DC0-D1A2F9C20A6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3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33" name="Group 7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34" name="Freeform 8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7" name="Freeform 11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51" name="Group 25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52" name="Picture 26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7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456" name="Picture 30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1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459" name="Freeform 33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1" name="Freeform 45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2B1E249-42C7-49F7-A1A7-4729E03C8D6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4267080" y="2438280"/>
            <a:ext cx="4876920" cy="2438640"/>
          </a:xfrm>
          <a:prstGeom prst="cloudCallout">
            <a:avLst>
              <a:gd name="adj1" fmla="val -62143"/>
              <a:gd name="adj2" fmla="val 38412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77" name="Picture 5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7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80" name="Group 8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81" name="Freeform 9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98" name="Group 26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99" name="Picture 27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28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1" name="AutoShape 29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2" name="Text Box 30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03" name="Picture 31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2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05" name="Group 33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506" name="Freeform 34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1" name="Freeform 39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2" name="Freeform 40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3" name="Freeform 41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4" name="Freeform 42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5" name="Freeform 43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6" name="Freeform 44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7" name="Freeform 45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8" name="Freeform 46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9" name="Freeform 47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520" name="Text Box 48"/>
          <p:cNvSpPr/>
          <p:nvPr/>
        </p:nvSpPr>
        <p:spPr>
          <a:xfrm>
            <a:off x="4789440" y="2895480"/>
            <a:ext cx="416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here to cross the river? Use the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ridge upstream or  surprise the enemy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y crossing downstream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ow do I minimize the  casualties?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D0446F1-432A-44CE-B50E-7FC8A83915F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3886200" y="2438280"/>
            <a:ext cx="480060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3371760" y="1890720"/>
            <a:ext cx="769680" cy="1157400"/>
            <a:chOff x="3371760" y="1890720"/>
            <a:chExt cx="769680" cy="1157400"/>
          </a:xfrm>
        </p:grpSpPr>
        <p:sp>
          <p:nvSpPr>
            <p:cNvPr id="525" name="Freeform 5"/>
            <p:cNvSpPr/>
            <p:nvPr/>
          </p:nvSpPr>
          <p:spPr>
            <a:xfrm>
              <a:off x="3430440" y="1890720"/>
              <a:ext cx="711000" cy="11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3371760" y="2373480"/>
              <a:ext cx="504720" cy="6746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3885840" y="2606760"/>
              <a:ext cx="192240" cy="37620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3468600" y="2500200"/>
              <a:ext cx="96480" cy="1126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3463560" y="2459160"/>
              <a:ext cx="104760" cy="633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3430440" y="2116080"/>
              <a:ext cx="6807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722400" y="2558880"/>
              <a:ext cx="196920" cy="12564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713040" y="1979640"/>
              <a:ext cx="338040" cy="555480"/>
            </a:xfrm>
            <a:prstGeom prst="pie">
              <a:avLst/>
            </a:prstGeom>
            <a:solidFill>
              <a:srgbClr val="dda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865320" y="2305080"/>
              <a:ext cx="1206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3838320" y="2395440"/>
              <a:ext cx="1573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3873240" y="2444760"/>
              <a:ext cx="98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3460320" y="2173320"/>
              <a:ext cx="986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474720" y="2141640"/>
              <a:ext cx="586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38" name="Picture 18" descr="z-president"/>
          <p:cNvPicPr/>
          <p:nvPr/>
        </p:nvPicPr>
        <p:blipFill>
          <a:blip r:embed="rId1"/>
          <a:stretch/>
        </p:blipFill>
        <p:spPr>
          <a:xfrm>
            <a:off x="609480" y="1890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9"/>
          <p:cNvSpPr/>
          <p:nvPr/>
        </p:nvSpPr>
        <p:spPr>
          <a:xfrm>
            <a:off x="1765440" y="2271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343400" y="1433520"/>
            <a:ext cx="3581280" cy="838080"/>
          </a:xfrm>
          <a:prstGeom prst="wedgeRoundRectCallout">
            <a:avLst>
              <a:gd name="adj1" fmla="val -54254"/>
              <a:gd name="adj2" fmla="val 64013"/>
              <a:gd name="adj3" fmla="val 16667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322520" y="1398600"/>
            <a:ext cx="32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y poll ratings are low,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ets invade a small na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42" name="Group 22"/>
          <p:cNvGrpSpPr/>
          <p:nvPr/>
        </p:nvGrpSpPr>
        <p:grpSpPr>
          <a:xfrm>
            <a:off x="3429000" y="4149720"/>
            <a:ext cx="655200" cy="818640"/>
            <a:chOff x="3429000" y="4149720"/>
            <a:chExt cx="655200" cy="818640"/>
          </a:xfrm>
        </p:grpSpPr>
        <p:sp>
          <p:nvSpPr>
            <p:cNvPr id="543" name="Freeform 23"/>
            <p:cNvSpPr/>
            <p:nvPr/>
          </p:nvSpPr>
          <p:spPr>
            <a:xfrm flipH="1">
              <a:off x="3429000" y="4149720"/>
              <a:ext cx="655200" cy="81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 flipH="1">
              <a:off x="3972240" y="453924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 flipH="1">
              <a:off x="3880080" y="452592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 flipH="1">
              <a:off x="3760920" y="456588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 flipH="1">
              <a:off x="3732480" y="472824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flipH="1">
              <a:off x="3785400" y="481680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flipH="1">
              <a:off x="3666960" y="475272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flipH="1">
              <a:off x="3468600" y="429480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flipH="1">
              <a:off x="3693240" y="4614120"/>
              <a:ext cx="250200" cy="2307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flipH="1">
              <a:off x="3708360" y="443160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flipH="1">
              <a:off x="3756600" y="486900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 flipH="1">
              <a:off x="3670560" y="4395960"/>
              <a:ext cx="207000" cy="2088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 flipH="1">
              <a:off x="3529800" y="415404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 flipH="1">
              <a:off x="3556440" y="429732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 flipH="1">
              <a:off x="3678120" y="466452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 flipH="1">
              <a:off x="3710520" y="470448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9" name="Freeform 39"/>
            <p:cNvSpPr/>
            <p:nvPr/>
          </p:nvSpPr>
          <p:spPr>
            <a:xfrm flipH="1">
              <a:off x="3733200" y="461844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60" name="Picture 40" descr="z-general"/>
          <p:cNvPicPr/>
          <p:nvPr/>
        </p:nvPicPr>
        <p:blipFill>
          <a:blip r:embed="rId2"/>
          <a:stretch/>
        </p:blipFill>
        <p:spPr>
          <a:xfrm>
            <a:off x="457200" y="43783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1"/>
          <p:cNvSpPr/>
          <p:nvPr/>
        </p:nvSpPr>
        <p:spPr>
          <a:xfrm>
            <a:off x="1935360" y="4302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4645080" y="274320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ussia or Bermuda?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 just stall for his poll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bers to go up?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499BDED-5D0A-47D0-A989-EE4087E00D2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odir sa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stalim oblast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eo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onačni automati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gramatike i parsir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rotok podatak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lgorit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G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fovi, dinamičko programiranje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Strukture podatak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Tabele seimbol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a sintaksna drvet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e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kacija i imenov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višeprolazni istemi,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rhite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 računar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Hijerarhija memeor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selekcija instrukcij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interlok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vi i latens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par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zam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gurnso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Dete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ja i zaštita od prijetnji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oft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ersko inženjerstvo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Razvoj softver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debugging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ještačka inteligenc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Heuristi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ča tražen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BDBCE65-2F79-4FC3-8532-FBE330B48B6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slikavanje od visokog do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irektno preslikavan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ograma u asemblesrki jezik vodi ka neefikasnom izvršavanju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či nivo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ća neefikasn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nije efikasn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pstrakcija vi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og nivoa je beskorisn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ebno je d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bezbijedimo visok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erforma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ma koje imaju instrukcije niskog nivo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A918095-F385-482C-99A3-B57EFD0E3B8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 podiže nivo apstrak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jezic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OO-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zika sa “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garbage collectio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oš apstraktnije defini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icroproceso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 prosto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ISC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-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RIS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VLIW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5715000" y="1600200"/>
            <a:ext cx="1752480" cy="1676520"/>
            <a:chOff x="5715000" y="1600200"/>
            <a:chExt cx="1752480" cy="1676520"/>
          </a:xfrm>
        </p:grpSpPr>
        <p:sp>
          <p:nvSpPr>
            <p:cNvPr id="570" name="AutoShape 5"/>
            <p:cNvSpPr/>
            <p:nvPr/>
          </p:nvSpPr>
          <p:spPr>
            <a:xfrm>
              <a:off x="5715000" y="1600200"/>
              <a:ext cx="1752480" cy="762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>
              <a:off x="6172200" y="236232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5715000" y="4191480"/>
            <a:ext cx="1752480" cy="1675800"/>
            <a:chOff x="5715000" y="4191480"/>
            <a:chExt cx="1752480" cy="1675800"/>
          </a:xfrm>
        </p:grpSpPr>
        <p:sp>
          <p:nvSpPr>
            <p:cNvPr id="573" name="AutoShape 8"/>
            <p:cNvSpPr/>
            <p:nvPr/>
          </p:nvSpPr>
          <p:spPr>
            <a:xfrm flipV="1">
              <a:off x="5715000" y="5105520"/>
              <a:ext cx="1752480" cy="761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 flipV="1">
              <a:off x="6172200" y="41911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1AAC8F6-0CB1-4CAE-91A9-CBF227C5960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 - primjer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82F8C6E-269C-4DB3-9AEB-2A25E28AF38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688960" y="76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52280" y="152280"/>
            <a:ext cx="5257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B97551E6-3F0A-40B7-99B1-9C75B89CDDC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oraci optimiz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64DD1D33-D7C8-4892-8240-4F63AEE0797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4D5F5EE-81B2-4386-92B2-5D14B96D5F4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0871B1DE-D18E-4E57-B1CC-B15AB3F8E17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5CB4230-C161-44CD-9480-561768703D7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0E4239D-B891-4CC6-8F24-4E3FCFAA673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*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1C96280-782F-4953-895E-9E33B7C0C4D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ražajnost jezik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isti se za opisivanje bilo koje a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e vezan za kontek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iše načina da se opiše ista akci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Fle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sibil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DB1DDEA-FB59-491B-91F8-9468035DD396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64A1416-83B9-49BA-9E13-17042723DD3D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F742A3F-39E0-4756-A329-D7730450D25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DE8AFB4-A60B-4D0A-B150-7D1276F3E39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354BCE5-6F3E-4D6B-B04F-996494420F9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0144B35-6E56-469C-BB71-0E54C9F1C64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i+1)*(i+1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0BAC64C-2CDA-437E-954A-8657A55A3DA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*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97E95F0-423D-4DCC-B6F8-D93A1C89142D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EC3AD073-8A05-477F-BFA2-1C86597F92E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37D035C-1DA1-48B4-9B50-6EC5E950FE7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68CF1E0-B39B-4744-883C-85EFBA329A0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dati in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ngl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es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Open the pod bay doors, Hal.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I am sorry Dave, I am afraid I cannot do that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aleko smo od tog nivoa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žajni (moć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l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vosmisleni (nejas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eki izrazi opisuju više mogućih akci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7696080" y="1447920"/>
            <a:ext cx="1001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B63233CB-D506-4D75-9A81-9ABC17F5F3E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90B2B96-6B9D-48CA-86B9-02C329D72FA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4*a/b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EDAD581-22D6-41FA-AEA3-9BE0C8747B2A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344E9C3-6677-44BC-85F4-6D19A185A04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u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8794749-30EA-4970-AC69-002F7332852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4*a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u*i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3F06EFE-7A34-4B08-A8FC-2F77106E03C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a&lt;&lt;2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v +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BFAD443-262B-4729-B742-948E682B992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ff"/>
              </a:solidFill>
              <a:latin typeface="Courier New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1600200" y="1347840"/>
            <a:ext cx="5032800" cy="1607760"/>
            <a:chOff x="1600200" y="1347840"/>
            <a:chExt cx="5032800" cy="1607760"/>
          </a:xfrm>
        </p:grpSpPr>
        <p:sp>
          <p:nvSpPr>
            <p:cNvPr id="651" name="Line 5"/>
            <p:cNvSpPr/>
            <p:nvPr/>
          </p:nvSpPr>
          <p:spPr>
            <a:xfrm flipH="1">
              <a:off x="5437800" y="1912680"/>
              <a:ext cx="698400" cy="0"/>
            </a:xfrm>
            <a:prstGeom prst="line">
              <a:avLst/>
            </a:prstGeom>
            <a:ln w="93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2" name="Text Box 6"/>
            <p:cNvSpPr/>
            <p:nvPr/>
          </p:nvSpPr>
          <p:spPr>
            <a:xfrm>
              <a:off x="6112440" y="13478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imes New Roman"/>
                </a:rPr>
                <a:t>fp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1600200" y="190260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1600200" y="22521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Y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1600200" y="26013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AC77537-5849-467B-A47F-6F80258E8BB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8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X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9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10d = u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b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v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c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i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5438880" y="1913040"/>
            <a:ext cx="698400" cy="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112440" y="13478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f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600200" y="19033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600200" y="22525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600200" y="2602080"/>
            <a:ext cx="3843360" cy="353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1600200" y="1905120"/>
            <a:ext cx="388620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1523520" y="1905120"/>
            <a:ext cx="396252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A6722F9-C431-4DA3-82F8-6434D168A411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vani k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t, u, v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u = ((a&lt;&lt;2)/b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v + t*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v + u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F67454D-7FC1-447C-97D8-2A80C246C54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5638680" y="533160"/>
            <a:ext cx="3353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52280" y="533520"/>
            <a:ext cx="4419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297720" y="4952880"/>
            <a:ext cx="8380080" cy="1313640"/>
            <a:chOff x="297720" y="4952880"/>
            <a:chExt cx="8380080" cy="1313640"/>
          </a:xfrm>
        </p:grpSpPr>
        <p:sp>
          <p:nvSpPr>
            <p:cNvPr id="673" name="Text Box 5"/>
            <p:cNvSpPr/>
            <p:nvPr/>
          </p:nvSpPr>
          <p:spPr>
            <a:xfrm>
              <a:off x="297720" y="4952880"/>
              <a:ext cx="3183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Inner Loop: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10*mov + 5*lea + 5*add/inc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+ 4*div/mul + 5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29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5479560" y="4952880"/>
              <a:ext cx="319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4*mov + 2*lea + 1*add/inc+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3*div/mul + 2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12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75" name="Text Box 7"/>
          <p:cNvSpPr/>
          <p:nvPr/>
        </p:nvSpPr>
        <p:spPr>
          <a:xfrm>
            <a:off x="532800" y="763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5714280" y="763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7" name="Group 9"/>
          <p:cNvGrpSpPr/>
          <p:nvPr/>
        </p:nvGrpSpPr>
        <p:grpSpPr>
          <a:xfrm>
            <a:off x="453240" y="6172200"/>
            <a:ext cx="7597800" cy="398880"/>
            <a:chOff x="453240" y="6172200"/>
            <a:chExt cx="7597800" cy="398880"/>
          </a:xfrm>
        </p:grpSpPr>
        <p:sp>
          <p:nvSpPr>
            <p:cNvPr id="678" name="Text Box 10"/>
            <p:cNvSpPr/>
            <p:nvPr/>
          </p:nvSpPr>
          <p:spPr>
            <a:xfrm>
              <a:off x="540612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17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9" name="Text Box 11"/>
            <p:cNvSpPr/>
            <p:nvPr/>
          </p:nvSpPr>
          <p:spPr>
            <a:xfrm>
              <a:off x="45324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43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A8639D1-6FFC-45CA-B18E-E6289592F2C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gra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ki jezici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Željena svojstv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Kon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z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j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isoki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26F5BE3-6E4B-4EE3-B4E0-1CAACE2CF9E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mp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ajleri o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timiz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uju p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rogram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e zbo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forman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zine izvršav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li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 kod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ošnje elektricit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ž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fikasn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kompilac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gurno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i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uzdanos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bugging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3C0F868-E3C9-4430-95EA-ADA52D700E8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d visokog nivoa apstrakcije do niskog nivoa detalja implement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7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695160" y="1398600"/>
            <a:ext cx="7686720" cy="1649520"/>
            <a:chOff x="695160" y="1398600"/>
            <a:chExt cx="7686720" cy="1649520"/>
          </a:xfrm>
        </p:grpSpPr>
        <p:grpSp>
          <p:nvGrpSpPr>
            <p:cNvPr id="74" name="Group 8"/>
            <p:cNvGrpSpPr/>
            <p:nvPr/>
          </p:nvGrpSpPr>
          <p:grpSpPr>
            <a:xfrm>
              <a:off x="3957480" y="1890720"/>
              <a:ext cx="769680" cy="1157400"/>
              <a:chOff x="3957480" y="1890720"/>
              <a:chExt cx="769680" cy="1157400"/>
            </a:xfrm>
          </p:grpSpPr>
          <p:sp>
            <p:nvSpPr>
              <p:cNvPr id="75" name="Freeform 9"/>
              <p:cNvSpPr/>
              <p:nvPr/>
            </p:nvSpPr>
            <p:spPr>
              <a:xfrm>
                <a:off x="4016160" y="1890720"/>
                <a:ext cx="711000" cy="115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>
                <a:off x="3957480" y="2373480"/>
                <a:ext cx="504720" cy="67464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>
                <a:off x="4471560" y="2606760"/>
                <a:ext cx="192240" cy="37620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>
                <a:off x="4054320" y="2500200"/>
                <a:ext cx="96480" cy="1126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9" name="Freeform 13"/>
              <p:cNvSpPr/>
              <p:nvPr/>
            </p:nvSpPr>
            <p:spPr>
              <a:xfrm>
                <a:off x="4049280" y="2459160"/>
                <a:ext cx="104760" cy="6336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0" name="Freeform 14"/>
              <p:cNvSpPr/>
              <p:nvPr/>
            </p:nvSpPr>
            <p:spPr>
              <a:xfrm>
                <a:off x="4016160" y="2116080"/>
                <a:ext cx="68076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>
                <a:off x="4308120" y="2558880"/>
                <a:ext cx="196920" cy="12564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>
                <a:off x="4298760" y="1979640"/>
                <a:ext cx="338040" cy="555480"/>
              </a:xfrm>
              <a:prstGeom prst="pie">
                <a:avLst/>
              </a:prstGeom>
              <a:solidFill>
                <a:srgbClr val="dda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>
                <a:off x="4451040" y="2305080"/>
                <a:ext cx="120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4" name="Freeform 18"/>
              <p:cNvSpPr/>
              <p:nvPr/>
            </p:nvSpPr>
            <p:spPr>
              <a:xfrm>
                <a:off x="4424040" y="2395440"/>
                <a:ext cx="1573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4458960" y="2444760"/>
                <a:ext cx="982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6" name="Freeform 20"/>
              <p:cNvSpPr/>
              <p:nvPr/>
            </p:nvSpPr>
            <p:spPr>
              <a:xfrm>
                <a:off x="4046040" y="2173320"/>
                <a:ext cx="986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7" name="Freeform 21"/>
              <p:cNvSpPr/>
              <p:nvPr/>
            </p:nvSpPr>
            <p:spPr>
              <a:xfrm>
                <a:off x="4060440" y="2141640"/>
                <a:ext cx="586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95160" y="1398600"/>
              <a:ext cx="7686720" cy="1444680"/>
              <a:chOff x="695160" y="1398600"/>
              <a:chExt cx="7686720" cy="1444680"/>
            </a:xfrm>
          </p:grpSpPr>
          <p:pic>
            <p:nvPicPr>
              <p:cNvPr id="89" name="Picture 23" descr="z-president"/>
              <p:cNvPicPr/>
              <p:nvPr/>
            </p:nvPicPr>
            <p:blipFill>
              <a:blip r:embed="rId3"/>
              <a:stretch/>
            </p:blipFill>
            <p:spPr>
              <a:xfrm>
                <a:off x="695160" y="18907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1851120" y="227196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President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1" name="AutoShape 25"/>
              <p:cNvSpPr/>
              <p:nvPr/>
            </p:nvSpPr>
            <p:spPr>
              <a:xfrm>
                <a:off x="4800600" y="1433520"/>
                <a:ext cx="3581280" cy="838440"/>
              </a:xfrm>
              <a:prstGeom prst="wedgeRoundRectCallout">
                <a:avLst>
                  <a:gd name="adj1" fmla="val -54254"/>
                  <a:gd name="adj2" fmla="val 64013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2" name="Text Box 26"/>
              <p:cNvSpPr/>
              <p:nvPr/>
            </p:nvSpPr>
            <p:spPr>
              <a:xfrm>
                <a:off x="4779720" y="1398600"/>
                <a:ext cx="32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My poll ratings are low,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lets invade a small nation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27"/>
          <p:cNvGrpSpPr/>
          <p:nvPr/>
        </p:nvGrpSpPr>
        <p:grpSpPr>
          <a:xfrm>
            <a:off x="457200" y="2803680"/>
            <a:ext cx="7848720" cy="1310760"/>
            <a:chOff x="457200" y="2803680"/>
            <a:chExt cx="7848720" cy="1310760"/>
          </a:xfrm>
        </p:grpSpPr>
        <p:grpSp>
          <p:nvGrpSpPr>
            <p:cNvPr id="94" name="Group 28"/>
            <p:cNvGrpSpPr/>
            <p:nvPr/>
          </p:nvGrpSpPr>
          <p:grpSpPr>
            <a:xfrm>
              <a:off x="4014720" y="3295800"/>
              <a:ext cx="655200" cy="818640"/>
              <a:chOff x="4014720" y="3295800"/>
              <a:chExt cx="655200" cy="818640"/>
            </a:xfrm>
          </p:grpSpPr>
          <p:sp>
            <p:nvSpPr>
              <p:cNvPr id="95" name="Freeform 29"/>
              <p:cNvSpPr/>
              <p:nvPr/>
            </p:nvSpPr>
            <p:spPr>
              <a:xfrm flipH="1">
                <a:off x="4014720" y="3295800"/>
                <a:ext cx="655200" cy="81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 flipH="1">
                <a:off x="4557960" y="3685320"/>
                <a:ext cx="3960" cy="17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 flipH="1">
                <a:off x="4465800" y="3672000"/>
                <a:ext cx="85680" cy="35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 flipH="1">
                <a:off x="4346640" y="3711960"/>
                <a:ext cx="322920" cy="2728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 flipH="1">
                <a:off x="4318200" y="3874320"/>
                <a:ext cx="114120" cy="900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 flipH="1">
                <a:off x="4371120" y="3962880"/>
                <a:ext cx="127080" cy="7416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 flipH="1">
                <a:off x="4252680" y="3898800"/>
                <a:ext cx="129600" cy="702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 flipH="1">
                <a:off x="4054320" y="3440880"/>
                <a:ext cx="366840" cy="4006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 flipH="1">
                <a:off x="4278960" y="3760200"/>
                <a:ext cx="250200" cy="23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 flipH="1">
                <a:off x="4294080" y="3577680"/>
                <a:ext cx="308160" cy="1735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 flipH="1">
                <a:off x="4342320" y="4015080"/>
                <a:ext cx="198000" cy="662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 flipH="1">
                <a:off x="4256280" y="3542040"/>
                <a:ext cx="207000" cy="2088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 flipH="1">
                <a:off x="4115520" y="3300120"/>
                <a:ext cx="305640" cy="2070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 flipH="1">
                <a:off x="4142160" y="3443400"/>
                <a:ext cx="24120" cy="3492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 flipH="1">
                <a:off x="4263840" y="3810600"/>
                <a:ext cx="21600" cy="5256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 flipH="1">
                <a:off x="4296240" y="3850560"/>
                <a:ext cx="32760" cy="1728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 flipH="1">
                <a:off x="4318920" y="3764520"/>
                <a:ext cx="28080" cy="4824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46"/>
            <p:cNvGrpSpPr/>
            <p:nvPr/>
          </p:nvGrpSpPr>
          <p:grpSpPr>
            <a:xfrm>
              <a:off x="457200" y="2803680"/>
              <a:ext cx="7848720" cy="1104120"/>
              <a:chOff x="457200" y="2803680"/>
              <a:chExt cx="7848720" cy="1104120"/>
            </a:xfrm>
          </p:grpSpPr>
          <p:pic>
            <p:nvPicPr>
              <p:cNvPr id="113" name="Picture 47" descr="z-general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524400"/>
                <a:ext cx="142884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48"/>
              <p:cNvSpPr/>
              <p:nvPr/>
            </p:nvSpPr>
            <p:spPr>
              <a:xfrm>
                <a:off x="1935360" y="3448080"/>
                <a:ext cx="114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l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49"/>
              <p:cNvSpPr/>
              <p:nvPr/>
            </p:nvSpPr>
            <p:spPr>
              <a:xfrm>
                <a:off x="4724280" y="2838600"/>
                <a:ext cx="3581640" cy="838080"/>
              </a:xfrm>
              <a:prstGeom prst="wedgeRoundRectCallout">
                <a:avLst>
                  <a:gd name="adj1" fmla="val -52481"/>
                  <a:gd name="adj2" fmla="val 71592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6" name="Text Box 50"/>
              <p:cNvSpPr/>
              <p:nvPr/>
            </p:nvSpPr>
            <p:spPr>
              <a:xfrm>
                <a:off x="4706280" y="2803680"/>
                <a:ext cx="308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Cross the river and take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defensive positions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roup 51"/>
          <p:cNvGrpSpPr/>
          <p:nvPr/>
        </p:nvGrpSpPr>
        <p:grpSpPr>
          <a:xfrm>
            <a:off x="861840" y="4064040"/>
            <a:ext cx="7596360" cy="1193040"/>
            <a:chOff x="861840" y="4064040"/>
            <a:chExt cx="7596360" cy="1193040"/>
          </a:xfrm>
        </p:grpSpPr>
        <p:pic>
          <p:nvPicPr>
            <p:cNvPr id="118" name="Picture 52" descr="z-sergeant"/>
            <p:cNvPicPr/>
            <p:nvPr/>
          </p:nvPicPr>
          <p:blipFill>
            <a:blip r:embed="rId5"/>
            <a:stretch/>
          </p:blipFill>
          <p:spPr>
            <a:xfrm>
              <a:off x="861840" y="4327560"/>
              <a:ext cx="6192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3"/>
            <p:cNvSpPr/>
            <p:nvPr/>
          </p:nvSpPr>
          <p:spPr>
            <a:xfrm>
              <a:off x="1884240" y="45561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ergea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grpSp>
          <p:nvGrpSpPr>
            <p:cNvPr id="120" name="Group 54"/>
            <p:cNvGrpSpPr/>
            <p:nvPr/>
          </p:nvGrpSpPr>
          <p:grpSpPr>
            <a:xfrm>
              <a:off x="4007160" y="4556160"/>
              <a:ext cx="670680" cy="700920"/>
              <a:chOff x="4007160" y="4556160"/>
              <a:chExt cx="670680" cy="700920"/>
            </a:xfrm>
          </p:grpSpPr>
          <p:sp>
            <p:nvSpPr>
              <p:cNvPr id="121" name="Freeform 55"/>
              <p:cNvSpPr/>
              <p:nvPr/>
            </p:nvSpPr>
            <p:spPr>
              <a:xfrm flipH="1">
                <a:off x="4060800" y="4560840"/>
                <a:ext cx="609120" cy="398520"/>
              </a:xfrm>
              <a:prstGeom prst="pie">
                <a:avLst/>
              </a:pr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2" name="Freeform 56"/>
              <p:cNvSpPr/>
              <p:nvPr/>
            </p:nvSpPr>
            <p:spPr>
              <a:xfrm flipH="1">
                <a:off x="4339440" y="4560840"/>
                <a:ext cx="16740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3" name="Freeform 57"/>
              <p:cNvSpPr/>
              <p:nvPr/>
            </p:nvSpPr>
            <p:spPr>
              <a:xfrm flipH="1">
                <a:off x="4087800" y="4556160"/>
                <a:ext cx="25416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4" name="Freeform 58"/>
              <p:cNvSpPr/>
              <p:nvPr/>
            </p:nvSpPr>
            <p:spPr>
              <a:xfrm flipH="1">
                <a:off x="4053240" y="4718160"/>
                <a:ext cx="4824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5" name="Freeform 59"/>
              <p:cNvSpPr/>
              <p:nvPr/>
            </p:nvSpPr>
            <p:spPr>
              <a:xfrm flipH="1">
                <a:off x="4057920" y="4813200"/>
                <a:ext cx="604080" cy="15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6" name="Freeform 60"/>
              <p:cNvSpPr/>
              <p:nvPr/>
            </p:nvSpPr>
            <p:spPr>
              <a:xfrm flipH="1">
                <a:off x="4648320" y="4894560"/>
                <a:ext cx="291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7" name="Freeform 61"/>
              <p:cNvSpPr/>
              <p:nvPr/>
            </p:nvSpPr>
            <p:spPr>
              <a:xfrm flipH="1">
                <a:off x="4488480" y="4810320"/>
                <a:ext cx="18720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8" name="Freeform 62"/>
              <p:cNvSpPr/>
              <p:nvPr/>
            </p:nvSpPr>
            <p:spPr>
              <a:xfrm flipH="1">
                <a:off x="4011480" y="4821480"/>
                <a:ext cx="452520" cy="432720"/>
              </a:xfrm>
              <a:prstGeom prst="pie">
                <a:avLst/>
              </a:prstGeom>
              <a:solidFill>
                <a:srgbClr val="c67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9" name="Freeform 63"/>
              <p:cNvSpPr/>
              <p:nvPr/>
            </p:nvSpPr>
            <p:spPr>
              <a:xfrm flipH="1">
                <a:off x="4057920" y="4813200"/>
                <a:ext cx="20844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0" name="Freeform 64"/>
              <p:cNvSpPr/>
              <p:nvPr/>
            </p:nvSpPr>
            <p:spPr>
              <a:xfrm flipH="1">
                <a:off x="4011840" y="4818240"/>
                <a:ext cx="5688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1" name="Freeform 65"/>
              <p:cNvSpPr/>
              <p:nvPr/>
            </p:nvSpPr>
            <p:spPr>
              <a:xfrm flipH="1">
                <a:off x="4006800" y="5000040"/>
                <a:ext cx="9684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2" name="Freeform 66"/>
              <p:cNvSpPr/>
              <p:nvPr/>
            </p:nvSpPr>
            <p:spPr>
              <a:xfrm flipH="1">
                <a:off x="4255920" y="5088960"/>
                <a:ext cx="172800" cy="16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3" name="Freeform 67"/>
              <p:cNvSpPr/>
              <p:nvPr/>
            </p:nvSpPr>
            <p:spPr>
              <a:xfrm flipH="1">
                <a:off x="4415040" y="4907880"/>
                <a:ext cx="5436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4" name="Freeform 68"/>
              <p:cNvSpPr/>
              <p:nvPr/>
            </p:nvSpPr>
            <p:spPr>
              <a:xfrm flipH="1">
                <a:off x="4258440" y="4861800"/>
                <a:ext cx="20556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69"/>
            <p:cNvSpPr/>
            <p:nvPr/>
          </p:nvSpPr>
          <p:spPr>
            <a:xfrm>
              <a:off x="4876920" y="4098960"/>
              <a:ext cx="3581280" cy="838080"/>
            </a:xfrm>
            <a:prstGeom prst="wedgeRoundRectCallout">
              <a:avLst>
                <a:gd name="adj1" fmla="val -61791"/>
                <a:gd name="adj2" fmla="val 74810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36" name="Text Box 70"/>
            <p:cNvSpPr/>
            <p:nvPr/>
          </p:nvSpPr>
          <p:spPr>
            <a:xfrm>
              <a:off x="4858560" y="4064040"/>
              <a:ext cx="31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rward march, turn lef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top!, Shoo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B8C1AA6-E8C1-4497-AC45-3840FAB5B9F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00400" y="4191120"/>
            <a:ext cx="2819520" cy="1403280"/>
          </a:xfrm>
          <a:prstGeom prst="rightArrow">
            <a:avLst>
              <a:gd name="adj1" fmla="val 50000"/>
              <a:gd name="adj2" fmla="val 50231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0090"/>
                </a:solidFill>
                <a:latin typeface="Times New Roman"/>
              </a:rPr>
              <a:t>Compiler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2514600"/>
            <a:ext cx="8610840" cy="3581280"/>
            <a:chOff x="380880" y="2514600"/>
            <a:chExt cx="8610840" cy="3581280"/>
          </a:xfrm>
        </p:grpSpPr>
        <p:sp>
          <p:nvSpPr>
            <p:cNvPr id="141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lerski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jezik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80880" y="2514600"/>
              <a:ext cx="8610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Mikroprocesor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i “govore”</a:t>
              </a: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 asembl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erskim jezikom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cff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Tahoma"/>
                </a:rPr>
                <a:t>Low-level Implementation Detail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69000" y="1447920"/>
            <a:ext cx="8253360" cy="4647960"/>
            <a:chOff x="369000" y="1447920"/>
            <a:chExt cx="8253360" cy="4647960"/>
          </a:xfrm>
        </p:grpSpPr>
        <p:sp>
          <p:nvSpPr>
            <p:cNvPr id="144" name="Oval 8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369000" y="1447920"/>
              <a:ext cx="825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ffff"/>
                  </a:solidFill>
                  <a:latin typeface="Times New Roman"/>
                </a:rPr>
                <a:t>Napišite program u nekom programskom jeziku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High-level Abstract Description</a:t>
              </a:r>
              <a:br>
                <a:rPr sz="2800"/>
              </a:b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8T13:24:48Z</dcterms:created>
  <dc:creator>Saman Amarasinghe</dc:creator>
  <dc:description/>
  <dc:language>en-US</dc:language>
  <cp:lastModifiedBy>gorans</cp:lastModifiedBy>
  <cp:lastPrinted>1998-09-09T12:10:23Z</cp:lastPrinted>
  <dcterms:modified xsi:type="dcterms:W3CDTF">2011-02-10T08:21:08Z</dcterms:modified>
  <cp:revision>145</cp:revision>
  <dc:subject/>
  <dc:title>Lecture 1: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ompiler.lcs.mit.edu/~saman</vt:lpwstr>
  </property>
  <property fmtid="{D5CDD505-2E9C-101B-9397-08002B2CF9AE}" pid="9" name="LinkColor">
    <vt:r8>16711782</vt:r8>
  </property>
  <property fmtid="{D5CDD505-2E9C-101B-9397-08002B2CF9AE}" pid="10" name="MailAddress">
    <vt:lpwstr>saman@lcs.mi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I:\wwwroot\6035-99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