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72288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3EBB-5CAA-4818-B285-72F26F585E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41C56-0F1D-4591-A81F-3977BE44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D7597-D3CC-4CC3-97A2-8BD12D2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BACB-D624-45D0-BE56-6D1B825478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5DD5F-8C5E-41CB-8063-36BAA129E7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C3AA4-60E6-472B-B81A-BE8E6294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9597C-3640-4D57-9306-D1DA3B0F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08F47-6004-40BC-BC37-20DF9FB8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27236-6839-4101-B742-78DAF292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A3177-525F-43B7-A5B6-BD57F850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990B1-9795-414C-90D3-0426B80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E6C7-B4EF-4B84-9148-5C2E8535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EDD1B-7E4E-4F56-955D-BA697A3E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13A1E-AC75-4544-8FF3-C5F97D50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43C32-36EB-46BE-8D8D-B25EC438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3B303-A83B-416E-8EE6-82D345BE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9085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40128-0FEC-4893-AE74-F04923E817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8EA5-B5FC-4575-90A0-841CE84F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B207-1763-43B0-AE13-70A86761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81EE5-D800-4F85-B83E-29E5228F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16E1-8CCF-4F3C-B3D6-BE7497AD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03E61-D961-4B47-A6EA-5F85A0E2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085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94CBA-35E0-4769-9260-9DCBF894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02F90-28D1-422E-9AD2-B7B09AC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244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83B6-DAF8-4B68-9CDF-0D18DC80F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1371600"/>
            <a:ext cx="80773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A700-D7B7-4C03-A481-1CC934C9A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Generating Code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6A21E-E523-477C-92D3-AE1A8DF8B3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čuna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om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44625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395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657600" y="3154320"/>
            <a:ext cx="2362320" cy="2463120"/>
            <a:chOff x="3657600" y="3154320"/>
            <a:chExt cx="2362320" cy="2463120"/>
          </a:xfrm>
        </p:grpSpPr>
        <p:sp>
          <p:nvSpPr>
            <p:cNvPr id="122" name=""/>
            <p:cNvSpPr/>
            <p:nvPr/>
          </p:nvSpPr>
          <p:spPr>
            <a:xfrm>
              <a:off x="48006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010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00600" y="4471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51577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3154320"/>
            <a:ext cx="3962520" cy="2723760"/>
            <a:chOff x="5181480" y="3154320"/>
            <a:chExt cx="3962520" cy="2723760"/>
          </a:xfrm>
        </p:grpSpPr>
        <p:sp>
          <p:nvSpPr>
            <p:cNvPr id="127" name=""/>
            <p:cNvSpPr/>
            <p:nvPr/>
          </p:nvSpPr>
          <p:spPr>
            <a:xfrm>
              <a:off x="731520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15200" y="446256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00800" y="3306600"/>
              <a:ext cx="6094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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9" idx="6"/>
              <a:endCxn id="127" idx="1"/>
            </p:cNvCxnSpPr>
            <p:nvPr/>
          </p:nvCxnSpPr>
          <p:spPr>
            <a:xfrm flipV="1">
              <a:off x="7009920" y="3387240"/>
              <a:ext cx="305640" cy="148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3" idx="3"/>
              <a:endCxn id="129" idx="3"/>
            </p:cNvCxnSpPr>
            <p:nvPr/>
          </p:nvCxnSpPr>
          <p:spPr>
            <a:xfrm flipV="1">
              <a:off x="6019560" y="3696840"/>
              <a:ext cx="470520" cy="546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2" idx="3"/>
              <a:endCxn id="129" idx="1"/>
            </p:cNvCxnSpPr>
            <p:nvPr/>
          </p:nvCxnSpPr>
          <p:spPr>
            <a:xfrm flipV="1">
              <a:off x="6019560" y="3372840"/>
              <a:ext cx="470520" cy="14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3" name=""/>
            <p:cNvSpPr/>
            <p:nvPr/>
          </p:nvSpPr>
          <p:spPr>
            <a:xfrm>
              <a:off x="5181480" y="5081760"/>
              <a:ext cx="396252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acc + top_of_st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05120" y="3154320"/>
            <a:ext cx="2209680" cy="2799720"/>
            <a:chOff x="1905120" y="3154320"/>
            <a:chExt cx="2209680" cy="2799720"/>
          </a:xfrm>
        </p:grpSpPr>
        <p:sp>
          <p:nvSpPr>
            <p:cNvPr id="135" name=""/>
            <p:cNvSpPr/>
            <p:nvPr/>
          </p:nvSpPr>
          <p:spPr>
            <a:xfrm>
              <a:off x="2895480" y="44798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95480" y="31543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5120" y="5157720"/>
              <a:ext cx="1600200" cy="79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cc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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push 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95480" y="40147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C51B-22F0-46E1-8BEC-21E30C8239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Veći 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3 + (7 + 5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Acc        Sta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13372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3                                  3 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3 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                                  7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                                 7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                                  5 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2             7,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2 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     15             3,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                                       15              &lt;ini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86F97-28EA-4B7E-88DD-110EC31D4C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 važno da se stek očuva između izračunavanja podizraz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r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k poslije izračunavan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, &lt;init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ran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F6CA-178A-49A2-A3AF-CEBFAE9490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 do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 kod 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u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Želimo da startujemo rezultujući kod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proces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m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nstrukc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korišćenje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DFC4-5FC4-4672-97E2-00A395E063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mul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e čuva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raste ka nižim adre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ndar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v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resa sledeće lokacije na steku čuva se u registr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 stek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adres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 +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896C-1335-4C91-9C4F-0145CF037D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rhi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p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uced Instruction Set Computer (RISC) 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itmet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ke 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 koriste 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gi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za operande i rezul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ramo korist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ore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e za operande 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j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2 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opšte namje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32 bi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svak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oristićem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a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temporary regi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1C61-62F9-4D72-B6A5-000FDDB378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i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IPS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str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32-bit word from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offset(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32-bit word in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t address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offs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” means overflow is not check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reg im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eg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im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8748-8AB4-4037-A514-31021BD23A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IPS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mašin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7 + 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P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133720"/>
            <a:ext cx="4038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2133720"/>
            <a:ext cx="274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i $a0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a0 $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54864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aliz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 na prosti jezi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BB78-1FFF-44E5-A38F-226B2E055E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eki korisni makroi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aćemo sledeće skraćen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sh $t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p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  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9D35C-1F1D-43F7-89A6-6AF8A7DE31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 sa cijelim brojevima i cjelobrojnim operatori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; P | 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def id(ARGS) = E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RGS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d, ARGS |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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nt | id | if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| id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55F7-ED87-4D87-A149-8EB7A8982F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gled le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k 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a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b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rski 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or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z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plementacija pomoću 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-m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prostog jezik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F34E4-6FBA-4FC5-B46C-82F5540970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osti jezi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a definicija funkc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main” rut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vršavan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 za ul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nači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bon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eve broje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D9FC-9C9D-4A27-8632-CC0185C830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rateg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ja generisanja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svaki izra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en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e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PS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ko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va vrijednos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adržaj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fi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šimo funkciju za generisanje ko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iji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kod generisan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EA388-25DB-48A3-BEEE-AA3921F696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izračunavanje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 samo je kopira u akumula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i) = li $a0 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tite da se čuva sadržaj steka, kao što je i zahtijev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485EE-2B32-4DF4-9114-D5357D156D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guć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avit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6DC43-73D3-4539-A2F8-B10818FA1F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d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ogrešan pristu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miz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tno 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t1 $a0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 $a0 $t1 $a0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da generišete kod 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3 + (7 + 5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1C295-C5B4-4570-9C2C-5AFAC5F572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- 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za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lat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sa prostorom za kod za izračunav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mašine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v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staje spajanjem koda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implementirano kao rekurzivni spust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ursive-desc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na AST-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kar za izra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88962-977A-4705-82C7-22232D8EDD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ub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sta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ij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ub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b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039A-2D06-44E9-9450-DD42D313988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uslovne naredb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e su nam instrukcije kontrole to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low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ction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eq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g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(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c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reg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 instrukci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ezuslovni skok na labelu (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conditional jump to labe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AC03-01D3-4BE7-9A9E-5ED2703A77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if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if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t1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q $a0 $t1 true_bra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22860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als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end_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rue_bran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d_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CF9B9-E773-4C12-8782-B0E063F8CB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oid main() {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184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82" idx="2"/>
              <a:endCxn id="184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187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8" name=""/>
            <p:cNvCxnSpPr>
              <a:endCxn id="187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89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190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1" name=""/>
            <p:cNvCxnSpPr>
              <a:stCxn id="184" idx="2"/>
              <a:endCxn id="190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489F-34ED-4CA1-8497-3F07116B9F4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m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š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dnostavan model izračunav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romjenljivih ili regist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k vrijednosti za međurezula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ntermediate result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7CB8D-F942-45D2-B886-217403C640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o drvo – primjer 2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se { return f(x - 1); }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void main() { f(3); 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crtati aktivaciono drvo za ovaj primj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3369-5BDE-4161-AB76-FD0584BFF7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zavisi od ponašanja u vrijeme izvršavanj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-time behavi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 drvo može biti različito za različite ulazne podat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u aktivacije pravilno ugnježdene, stek se može koristiti za tekuću aktivnu procedur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C342-7582-4492-9416-29D6551503C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1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();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038480"/>
            <a:ext cx="198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EA54F-B949-46AE-AC01-8D57A68176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2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0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4" name=""/>
            <p:cNvCxnSpPr>
              <a:stCxn id="201" idx="2"/>
              <a:endCxn id="20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0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f() {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38673-EDC3-4AC3-B520-35D8C2AFCB0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3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10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1" name=""/>
            <p:cNvCxnSpPr>
              <a:stCxn id="208" idx="2"/>
              <a:endCxn id="210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12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13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4" name=""/>
            <p:cNvCxnSpPr>
              <a:stCxn id="208" idx="2"/>
              <a:endCxn id="213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5" name=""/>
          <p:cNvSpPr/>
          <p:nvPr/>
        </p:nvSpPr>
        <p:spPr>
          <a:xfrm>
            <a:off x="6095880" y="4038480"/>
            <a:ext cx="198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turn g();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7A67-D47F-4495-9CC1-37A4BF31A0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stekom (4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4038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85840" y="4495320"/>
            <a:ext cx="1524240" cy="765000"/>
            <a:chOff x="3885840" y="4495320"/>
            <a:chExt cx="1524240" cy="765000"/>
          </a:xfrm>
        </p:grpSpPr>
        <p:sp>
          <p:nvSpPr>
            <p:cNvPr id="220" name=""/>
            <p:cNvSpPr/>
            <p:nvPr/>
          </p:nvSpPr>
          <p:spPr>
            <a:xfrm>
              <a:off x="4800600" y="48006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8" idx="2"/>
              <a:endCxn id="220" idx="0"/>
            </p:cNvCxnSpPr>
            <p:nvPr/>
          </p:nvCxnSpPr>
          <p:spPr>
            <a:xfrm>
              <a:off x="3885840" y="4495320"/>
              <a:ext cx="1220040" cy="305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2" name=""/>
          <p:cNvGrpSpPr/>
          <p:nvPr/>
        </p:nvGrpSpPr>
        <p:grpSpPr>
          <a:xfrm>
            <a:off x="2590920" y="4495320"/>
            <a:ext cx="1295280" cy="688680"/>
            <a:chOff x="2590920" y="4495320"/>
            <a:chExt cx="1295280" cy="688680"/>
          </a:xfrm>
        </p:grpSpPr>
        <p:sp>
          <p:nvSpPr>
            <p:cNvPr id="223" name=""/>
            <p:cNvSpPr/>
            <p:nvPr/>
          </p:nvSpPr>
          <p:spPr>
            <a:xfrm>
              <a:off x="2590920" y="4724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4" name=""/>
            <p:cNvCxnSpPr>
              <a:endCxn id="223" idx="0"/>
            </p:cNvCxnSpPr>
            <p:nvPr/>
          </p:nvCxnSpPr>
          <p:spPr>
            <a:xfrm flipH="1">
              <a:off x="2895120" y="4495320"/>
              <a:ext cx="991440" cy="2293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225" name=""/>
          <p:cNvGrpSpPr/>
          <p:nvPr/>
        </p:nvGrpSpPr>
        <p:grpSpPr>
          <a:xfrm>
            <a:off x="4800600" y="5257800"/>
            <a:ext cx="609480" cy="840600"/>
            <a:chOff x="4800600" y="5257800"/>
            <a:chExt cx="609480" cy="840600"/>
          </a:xfrm>
        </p:grpSpPr>
        <p:sp>
          <p:nvSpPr>
            <p:cNvPr id="226" name=""/>
            <p:cNvSpPr/>
            <p:nvPr/>
          </p:nvSpPr>
          <p:spPr>
            <a:xfrm>
              <a:off x="4800600" y="5638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7" name=""/>
            <p:cNvCxnSpPr>
              <a:stCxn id="220" idx="2"/>
              <a:endCxn id="226" idx="0"/>
            </p:cNvCxnSpPr>
            <p:nvPr/>
          </p:nvCxnSpPr>
          <p:spPr>
            <a:xfrm>
              <a:off x="5105160" y="5257800"/>
              <a:ext cx="1080" cy="3816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28" name=""/>
          <p:cNvSpPr/>
          <p:nvPr/>
        </p:nvSpPr>
        <p:spPr>
          <a:xfrm>
            <a:off x="6095880" y="4038480"/>
            <a:ext cx="198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g() { return 1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int f() { return g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void main() { g(); f();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5798-4898-4FAD-B034-E89C358749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a[1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partition(int m, int n) { //Choose a pivot value "v",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reorder sub-array a[m..n] such that a[m..p-1] are all &lt; v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 a[p] = v, and a[p+1...n] are all &gt;= v; return 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..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id quicksort(int m, int n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n &gt; m) {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= partition(m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m, i-1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sort(i+1, n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4187-92CF-400D-89E3-475565EBA2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icksort – aktivaciono drv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73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06CCE-A61F-4B15-85CD-92F91F3A28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U jezicima koji imaju rekurziju, moramo razlikovati def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 i poziv funkc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iv f-ije kreir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instanc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"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"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tiv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u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; može postojati više aktivacija istovreme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vaka aktivacija ima memorijske zahtjev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rametr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i f-ije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, lo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al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ne promjenljive 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dodatni prostor koji kompajler odredi da bi implementirao tijelo f-ije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-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Povratnu (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 informa</a:t>
            </a:r>
            <a:r>
              <a:rPr b="0" lang="sr-Latn-CS" sz="2000" spc="-1" strike="noStrike">
                <a:solidFill>
                  <a:srgbClr val="000000"/>
                </a:solidFill>
                <a:latin typeface="Palatino-Roman"/>
              </a:rPr>
              <a:t>ciju: gdje i kako će se nastaviti izvršavanje kada se poziv f-ije završi</a:t>
            </a:r>
            <a:r>
              <a:rPr b="0" lang="en-US" sz="2000" spc="-1" strike="noStrike">
                <a:solidFill>
                  <a:srgbClr val="000000"/>
                </a:solidFill>
                <a:latin typeface="Palatino-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Aktivacioni zapis (a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ctivation record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, AR)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– blok memorije rezervisan za aktivaciju f-ije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mo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ja u AR je validna samo dok se f-ija izvršava; po završetku f-ije ona se oslobađ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F0E9-3DB1-457B-B1D4-D16DFB6703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se može alocirati statički (na primjer, Fortran), na steku (C, C++, Java) ili heapu (Lisp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Schem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Oblik AR može se zaključiti u vrijeme prevođenja iz 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lara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void Simple(int a, int b) // two value pa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int temp1, temp2; // temporary local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 primjeru, poteban nam je prostor za 4 int-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1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temp2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o je sizeof(int)=</a:t>
            </a:r>
            <a:r>
              <a:rPr b="1" lang="en-US" sz="2400" spc="-1" strike="noStrike">
                <a:solidFill>
                  <a:srgbClr val="000000"/>
                </a:solidFill>
                <a:latin typeface="Courier-Bold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R će imati bar 16 bajto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9CEFA-2790-43E1-AB9F-D64DE2098B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programa za stek mašin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te su dvi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-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avi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o broj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vr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-  pop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emen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biramo ih i postavljamo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rezultat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gram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izračunavanje izra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 + 5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FC184-8570-4F02-9E4B-F718C207C4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e smještaju aktivacioni zapisi f-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ktivacioni protokol – način na koji se vrši predaja kontrole i funkcija iz pozivačke funkcije u pozvanu funkciju i obrat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zličiti jezici ili implementacije istog jezika imaju različite protoko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rotokol treba da zada i opšti raspored memorijskog prostora unutar samog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ktivacionog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zapisa. Na primjer, parametri f-ije se dodaju right-to-left, pa povratna adresa, pa lokalne promjenljive top-to-bott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EB5AA-03A4-4755-A237-95035B7023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ktivacioni protokol – jezik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 (pozivačka f-ij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na stek stavlja </a:t>
            </a:r>
            <a:r>
              <a:rPr b="1" lang="en-US" sz="2400" spc="-1" strike="noStrike">
                <a:solidFill>
                  <a:srgbClr val="000000"/>
                </a:solidFill>
                <a:latin typeface="Palatino-Bold"/>
              </a:rPr>
              <a:t>paramet</a:t>
            </a:r>
            <a:r>
              <a:rPr b="1" lang="sr-Latn-CS" sz="2400" spc="-1" strike="noStrike">
                <a:solidFill>
                  <a:srgbClr val="000000"/>
                </a:solidFill>
                <a:latin typeface="Palatino-Bold"/>
              </a:rPr>
              <a:t>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in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ijalizu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paramet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e u novom AR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pi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ra vrijednosti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sačuva stanje i povratnu informaciju (dodaju se 4 bajta iznad parametara)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aller suspend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uje svoj rad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pozvana f-ija (callee) na stek postavlja prostor za lokalne promjenljive i počinje izvršavanje od početka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ozvana f-ija se izvršava pristupajući promjenljivim i parametrima iz AR-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ada pozvana f-ija završi rad, dio AR se izbaci sa ste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8528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-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ontrol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a se predaje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čuvanoj povratnoj adresi u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caller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-u, koji uklanja </a:t>
            </a:r>
            <a:r>
              <a:rPr b="0" lang="en-US" sz="2400" spc="-1" strike="noStrike">
                <a:solidFill>
                  <a:srgbClr val="000000"/>
                </a:solidFill>
                <a:latin typeface="Palatino-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Palatino-Roman"/>
              </a:rPr>
              <a:t>parametre sa stek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C009-EE82-4F9C-BB2D-630A719C8C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te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specijalizovane instrukcije za rad sa stekom, da bi se radnje pri pozivu f-ije 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bile efikas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Neki kompajleri čuvaju pojedine parametre f-ije u specijalnim registrima (pogledati MIP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ostoje i registri koji čuvaju pokazivač na vrh steka (registar SP), programskog brojača (registar PC) i povratne vrijednosti (registar RV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7320" indent="-517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Ostali registri su opšte namje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2A61-D4DC-42BA-9AB2-DD672AB877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f-ije Simp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40520" cy="3032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4876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Palatino-Roman"/>
              </a:rPr>
              <a:t>AR možemo posmatrati kao dvije strukture u C-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8C6A-3800-4BFF-A93E-5E25373DAA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R kao C struktur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Local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2; // offset 0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temp1; // offset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SimpleActivationParameters 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a; // offset 12 (from 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b; // offset 1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6167C-5494-4B92-874C-F9A9FFA68EB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roto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Palatino-Roman"/>
              </a:rPr>
              <a:t>ol </a:t>
            </a: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dozvoljava generisanje koda bez stvarno poznate adrese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Kod radi isto za aktivaciju svak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Palatino-Roman"/>
              </a:rPr>
              <a:t>U kodu nema traga o stvarnim identifikatorima koji su bili u source kodu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B4300-574E-4504-8383-7EEDE2B0FE1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 prikaz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1523880"/>
            <a:ext cx="2727360" cy="4648320"/>
          </a:xfrm>
          <a:custGeom>
            <a:avLst/>
            <a:gdLst/>
            <a:ahLst/>
            <a:rect l="l" t="t" r="r" b="b"/>
            <a:pathLst>
              <a:path w="720" h="384">
                <a:moveTo>
                  <a:pt x="0" y="384"/>
                </a:moveTo>
                <a:lnTo>
                  <a:pt x="0" y="0"/>
                </a:lnTo>
                <a:lnTo>
                  <a:pt x="720" y="0"/>
                </a:lnTo>
                <a:lnTo>
                  <a:pt x="720" y="384"/>
                </a:lnTo>
              </a:path>
            </a:pathLst>
          </a:custGeom>
          <a:solidFill>
            <a:srgbClr val="cc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0040" y="3124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77960" y="3352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5880" y="5334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960" y="5638680"/>
            <a:ext cx="5331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311120" y="2209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11120" y="3352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11120" y="4495680"/>
            <a:ext cx="272736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 promjenlj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đurezulat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4495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7339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05320" y="3276720"/>
            <a:ext cx="21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vrat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re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4114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00600" y="48006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i poda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ast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k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a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 u toku izvršav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91120" y="3352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08440" y="3352680"/>
            <a:ext cx="4054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k ka AR-u pozivačke f-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7720" y="25909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37200" y="2209680"/>
            <a:ext cx="304560" cy="1143000"/>
          </a:xfrm>
          <a:custGeom>
            <a:avLst/>
            <a:gdLst>
              <a:gd name="textAreaLeft" fmla="*/ 0 w 304560"/>
              <a:gd name="textAreaRight" fmla="*/ 10980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13120" y="2438280"/>
            <a:ext cx="405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 tekuć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eni od pozivač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4038120" y="3428640"/>
            <a:ext cx="685800" cy="152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4038120" y="3962520"/>
            <a:ext cx="762120" cy="3045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00600" y="3886200"/>
            <a:ext cx="4191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Link ka nelokalnim podacima (access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81FD-BEEE-46A4-86F5-E5102D6CAE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ack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ame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x86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305920" cy="4419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973160" y="1581120"/>
            <a:ext cx="5200920" cy="469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EE78-E27A-4F1F-A12B-490AC605C3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ess (static)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5867280" cy="33163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5720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jezicima kao PASCAL ili SML, definicije funkcija (procedura) mogu biti ugn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31FC-0E2E-4977-8290-CDEBA6F9B00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209760" cy="3598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57200" y="1523880"/>
            <a:ext cx="80773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atička veza funkcije f pokazuje na posljednji AR funkcije koja statički sadrž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f ne pripada statički nijednoj funkciji, tada je njegov statička veza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58BD-EAAD-4140-8A1E-0B7EB23E185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zima svoje operande sa vrh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klanja operande sa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mjenjuje operaciju nad operan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aća (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h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5812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00600" y="1600200"/>
            <a:ext cx="1219320" cy="1396440"/>
            <a:chOff x="4800600" y="1600200"/>
            <a:chExt cx="1219320" cy="1396440"/>
          </a:xfrm>
        </p:grpSpPr>
        <p:sp>
          <p:nvSpPr>
            <p:cNvPr id="94" name=""/>
            <p:cNvSpPr/>
            <p:nvPr/>
          </p:nvSpPr>
          <p:spPr>
            <a:xfrm>
              <a:off x="4800600" y="160020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00600" y="207504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0600" y="2536920"/>
              <a:ext cx="12193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657600" y="322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5200" y="2057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514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82880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100" idx="5"/>
            <a:endCxn id="98" idx="1"/>
          </p:cNvCxnSpPr>
          <p:nvPr/>
        </p:nvCxnSpPr>
        <p:spPr>
          <a:xfrm>
            <a:off x="6997680" y="2219400"/>
            <a:ext cx="317880" cy="7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3"/>
            <a:endCxn id="100" idx="3"/>
          </p:cNvCxnSpPr>
          <p:nvPr/>
        </p:nvCxnSpPr>
        <p:spPr>
          <a:xfrm flipV="1">
            <a:off x="6019560" y="2218680"/>
            <a:ext cx="546480" cy="8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3"/>
            <a:endCxn id="100" idx="2"/>
          </p:cNvCxnSpPr>
          <p:nvPr/>
        </p:nvCxnSpPr>
        <p:spPr>
          <a:xfrm>
            <a:off x="6019920" y="1833480"/>
            <a:ext cx="457920" cy="224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2895480" y="2575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3252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210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9E6B-BCC7-44C1-96C6-543E78C80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cess lin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a veza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Q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kazuje na posljednji AR za P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postojati više AR za funkciju P na steku; Q će pokazivati na posljednji od nj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nema AR za P na steku, nije moguće pozvati Q, jer je Q sakriven izvan P u program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27CB-7A48-48C5-9BA7-6CF76D68DFD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zgled steka za f-ije P i Q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852480"/>
            <a:ext cx="9069480" cy="600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215A-17B8-41AC-B8E2-71606ACCA56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 postavlj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 f-ij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 zna i sebe i pozvanu f-ij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vana f-ija ne zna 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a s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ubine ugnježdavanja pozivačke i pozvan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Kada je pozvana f-ija leksički unutar ti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pozivača tj. kada j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2=L1+1,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važi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_link = $f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Inače, slijedimo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ic link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ozivač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L1-L2+1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u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da 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$fp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pr. z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1=L2+2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m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tic_link =Mem[Mem[Mem[$fp-8]-8]-8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86333-F46E-4EBD-A879-2124A520D15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laženje statičke vez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2080" cy="479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68719-5D3D-4614-B5C8-8A12AF7F8CB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 sa AR za Java progra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lass Main {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g() { return 1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 f(int x) {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f (x == 0) { return g(); 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else { return f(x - 1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void main() { f(3);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(*)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0" y="4273560"/>
          <a:ext cx="2590560" cy="1822320"/>
        </p:xfrm>
        <a:graphic>
          <a:graphicData uri="http://schemas.openxmlformats.org/drawingml/2006/table">
            <a:tbl>
              <a:tblPr/>
              <a:tblGrid>
                <a:gridCol w="25905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gu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rol li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turn ad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0000"/>
                      </a:solidFill>
                    </a:lnL>
                    <a:lnR w="18720">
                      <a:solidFill>
                        <a:srgbClr val="ff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5F814-5120-44A8-B7FD-C91A5018564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k poslije 2 poziva f-ije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4382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3352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809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9" idx="2"/>
            <a:endCxn id="300" idx="3"/>
          </p:cNvCxnSpPr>
          <p:nvPr/>
        </p:nvCxnSpPr>
        <p:spPr>
          <a:xfrm flipH="1" flipV="1" rot="5400000">
            <a:off x="3294720" y="2685240"/>
            <a:ext cx="1600920" cy="648360"/>
          </a:xfrm>
          <a:prstGeom prst="curvedConnector5">
            <a:avLst>
              <a:gd name="adj1" fmla="val -14282"/>
              <a:gd name="adj2" fmla="val 67611"/>
              <a:gd name="adj3" fmla="val -14282"/>
            </a:avLst>
          </a:prstGeom>
          <a:ln w="0">
            <a:noFill/>
          </a:ln>
        </p:spPr>
      </p:cxnSp>
      <p:sp>
        <p:nvSpPr>
          <p:cNvPr id="301" name=""/>
          <p:cNvSpPr/>
          <p:nvPr/>
        </p:nvSpPr>
        <p:spPr>
          <a:xfrm>
            <a:off x="3124080" y="42670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51814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0958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42670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563868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209680" y="1981080"/>
            <a:ext cx="2210040" cy="459720"/>
            <a:chOff x="2209680" y="1981080"/>
            <a:chExt cx="2210040" cy="459720"/>
          </a:xfrm>
        </p:grpSpPr>
        <p:sp>
          <p:nvSpPr>
            <p:cNvPr id="300" name=""/>
            <p:cNvSpPr/>
            <p:nvPr/>
          </p:nvSpPr>
          <p:spPr>
            <a:xfrm>
              <a:off x="3124080" y="1981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24080" y="19810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124080" y="2438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12408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09680" y="1981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Ma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2590920" y="2198520"/>
            <a:ext cx="3123000" cy="3897360"/>
            <a:chOff x="2590920" y="2198520"/>
            <a:chExt cx="3123000" cy="3897360"/>
          </a:xfrm>
        </p:grpSpPr>
        <p:sp>
          <p:nvSpPr>
            <p:cNvPr id="314" name=""/>
            <p:cNvSpPr/>
            <p:nvPr/>
          </p:nvSpPr>
          <p:spPr>
            <a:xfrm>
              <a:off x="3124080" y="5638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24080" y="5181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724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24080" y="42670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124080" y="47242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15" idx="3"/>
              <a:endCxn id="311" idx="0"/>
            </p:cNvCxnSpPr>
            <p:nvPr/>
          </p:nvCxnSpPr>
          <p:spPr>
            <a:xfrm flipV="1">
              <a:off x="4419720" y="2457000"/>
              <a:ext cx="2160" cy="2953440"/>
            </a:xfrm>
            <a:prstGeom prst="curvedConnector5">
              <a:avLst>
                <a:gd name="adj1" fmla="val 71900000"/>
                <a:gd name="adj2" fmla="val 54370"/>
                <a:gd name="adj3" fmla="val 719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25909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666880" y="1730160"/>
            <a:ext cx="2753640" cy="2536920"/>
            <a:chOff x="2666880" y="1730160"/>
            <a:chExt cx="2753640" cy="2536920"/>
          </a:xfrm>
        </p:grpSpPr>
        <p:sp>
          <p:nvSpPr>
            <p:cNvPr id="322" name=""/>
            <p:cNvSpPr/>
            <p:nvPr/>
          </p:nvSpPr>
          <p:spPr>
            <a:xfrm>
              <a:off x="3124080" y="38098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24080" y="33526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28954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2438280"/>
              <a:ext cx="129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(resul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4080" y="2895480"/>
              <a:ext cx="12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2408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19720" y="2438280"/>
              <a:ext cx="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8" name=""/>
            <p:cNvCxnSpPr/>
            <p:nvPr/>
          </p:nvCxnSpPr>
          <p:spPr>
            <a:xfrm flipV="1">
              <a:off x="4419720" y="1980720"/>
              <a:ext cx="2160" cy="1620000"/>
            </a:xfrm>
            <a:prstGeom prst="curvedConnector5">
              <a:avLst>
                <a:gd name="adj1" fmla="val 55600000"/>
                <a:gd name="adj2" fmla="val 57723"/>
                <a:gd name="adj3" fmla="val 556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2666880" y="2438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Comic Sans MS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E189-61CF-469D-A345-8BBBB9766CC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š prosti jezik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za poziv funkcija i definiciju funkcija zavisi od aktivacionog zapis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vol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 za ovaj jezi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 je uvijek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ma potrebe za čuvanjem rezultata u A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tvar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rame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ush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na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Ovo su jedine promjenljive u jez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1514F-83CA-4374-A2C8-DF40E2AA055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iplinovan pristup steku garantuje da po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unkci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$s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sti kao i pri ulasku u funkci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ma potrebe za čuvanjem sadrža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a nam je povratna adres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turn addres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godno je da imamo pokazivač na početak trenutne aktivacije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vaj pokazivač čuvamo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$fp (frame poin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zlog uvođenja fp biće jasan usko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1893B-B71D-482B-A744-713640705F2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ioni zapi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r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vaj prosti jezik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a pozivačk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varni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ame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i povratn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dr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 je dovolj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ziv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,y)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će bi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4321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00400" y="4781520"/>
            <a:ext cx="1219320" cy="4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00400" y="38448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5257800"/>
            <a:ext cx="1219320" cy="652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13680" y="358128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,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86000" y="38862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98800" y="43434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467480" y="38858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77000" y="5105520"/>
            <a:ext cx="139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7080" y="5029200"/>
            <a:ext cx="555840" cy="888840"/>
          </a:xfrm>
          <a:custGeom>
            <a:avLst/>
            <a:gdLst/>
            <a:ahLst/>
            <a:rect l="l" t="t" r="r" b="b"/>
            <a:pathLst>
              <a:path w="350" h="560">
                <a:moveTo>
                  <a:pt x="0" y="0"/>
                </a:moveTo>
                <a:cubicBezTo>
                  <a:pt x="49" y="14"/>
                  <a:pt x="242" y="24"/>
                  <a:pt x="295" y="87"/>
                </a:cubicBezTo>
                <a:cubicBezTo>
                  <a:pt x="348" y="150"/>
                  <a:pt x="350" y="300"/>
                  <a:pt x="318" y="379"/>
                </a:cubicBezTo>
                <a:cubicBezTo>
                  <a:pt x="286" y="458"/>
                  <a:pt x="149" y="522"/>
                  <a:pt x="105" y="5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55480" y="47703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95E9-6882-4E8C-8065-5EA88141763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 (f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ction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ng sequence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iz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d pozivačake i pozvane f-i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trebnih za poziv funk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al lab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labelu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uva se adresa sledeće instrukcij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$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to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hit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r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u kojim se povratna adresa čuva na steku poseb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call” 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2B1B-3799-4E50-9BB7-94CFECB7E7F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uzima operande sa istog mjesta i vraća rezul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na isto mje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o znači da imamo unofromnu šemu kompajliran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tuda, imamo i prostiji kompajl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9CF0-F199-41F2-AE27-EBD9EC4CEA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oziv f-ij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f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) =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f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a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al f_en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1676520"/>
            <a:ext cx="41911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vrijedno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ame point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tim sačuva stvarne paramet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obrnutom redosl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ivačka f-ija sačuva povratnu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dužin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4*n+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jt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2166-4D53-4C50-9EE0-1DF87B210F4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definisanje funkcij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ov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r re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ok na adres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re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2666880"/>
            <a:ext cx="403884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def f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e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ve $fp $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ra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ddiu $sp $sp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w $fp 0($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jr $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19720" y="2666880"/>
            <a:ext cx="4419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me pointer p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p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ne na dno frame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na f-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 skida povratnu adresu (po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tvarne argumente i sačuvanu vrijednost frame poin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 = 4*n + 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42ED-D8BA-4C89-A53F-DE1D7E61352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lling Sequenc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– primjer z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(x,y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pozi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 ulaz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U tijel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Poslije poz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3904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07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2120" y="396252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048120" y="387684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40668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8120" y="4343400"/>
            <a:ext cx="121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4800600"/>
            <a:ext cx="121896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72760" y="31240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64480" y="56386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4674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3880" y="4419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15960" y="5562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03880" y="3876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03880" y="34066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03880" y="4343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370560" y="464832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03880" y="4800600"/>
            <a:ext cx="1219320" cy="1109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28520" y="213372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620240" y="3098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16480" y="29210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16480" y="246384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B1595-92BB-4F9E-B2A0-EA677785660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ferenciranje promjenljivih je poslednja konstrukcij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mjenljive f-ije su samo njeni parame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ne su sve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Guraju se na stek od pozivačke f-ij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tek raste kada se čuvaju međurezultati, pa promjenljive nisu na fiksnom rastojanju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234F-27EB-46B9-8213-EBD0FFE68D1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ješ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ristim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pokazuje na povratnu adresu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ne pomjera, može se koristiti za pronalaženje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k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i = 1,…,n) forma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am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funkcije za koju generišemo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8B74-3F6E-491A-8921-69C87071F7A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 promjenlji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funk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me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sledeć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3048120"/>
            <a:ext cx="5029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p +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tu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gen(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= lw $a0 z($f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 z = 4*i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43000" y="461340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3000" y="4143240"/>
            <a:ext cx="12193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507996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5384880"/>
            <a:ext cx="411120" cy="1238040"/>
          </a:xfrm>
          <a:custGeom>
            <a:avLst/>
            <a:gdLst/>
            <a:ahLst/>
            <a:rect l="l" t="t" r="r" b="b"/>
            <a:pathLst>
              <a:path w="259" h="780">
                <a:moveTo>
                  <a:pt x="0" y="0"/>
                </a:moveTo>
                <a:cubicBezTo>
                  <a:pt x="36" y="18"/>
                  <a:pt x="177" y="2"/>
                  <a:pt x="217" y="110"/>
                </a:cubicBezTo>
                <a:cubicBezTo>
                  <a:pt x="257" y="218"/>
                  <a:pt x="259" y="534"/>
                  <a:pt x="241" y="646"/>
                </a:cubicBezTo>
                <a:cubicBezTo>
                  <a:pt x="223" y="758"/>
                  <a:pt x="135" y="752"/>
                  <a:pt x="107" y="7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143000" y="5537160"/>
            <a:ext cx="1219320" cy="1109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7640" y="289548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9360" y="380988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55600" y="36576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155600" y="32004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05FBE-76EE-4DD9-9FA0-75C977EC65B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tivacioni zapis mora biti dizajniran zajedno sa generatorom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odraditi kao rekurzivni obilazak AST-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ije obavezno koristiti stek mašinu, ali je jednostavn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ealni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jl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glasak na čuvanju vrijednos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ebno tekuće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ek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registr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đurezultati se čuvaju A R, a ne na stek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DB31-0BCE-44EF-91BD-0E53CA4B395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oc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ranje privremenih promjenljivih u AR-u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83979-4BEA-4086-A438-BF67FD468B9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v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zapis i međurezultate (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termediat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sprepletene na ste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505320" y="3124080"/>
            <a:ext cx="2513880" cy="1829520"/>
            <a:chOff x="3505320" y="3124080"/>
            <a:chExt cx="2513880" cy="1829520"/>
          </a:xfrm>
        </p:grpSpPr>
        <p:sp>
          <p:nvSpPr>
            <p:cNvPr id="404" name=""/>
            <p:cNvSpPr/>
            <p:nvPr/>
          </p:nvSpPr>
          <p:spPr>
            <a:xfrm>
              <a:off x="3505320" y="31240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5320" y="357696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05320" y="403632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4493880"/>
              <a:ext cx="25138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ermedi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4D95-2C8E-435F-8D9E-28EF94E1CF4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gl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ednos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eoma jednostavno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a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V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ma spor ko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ing/loading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jivih zahtijev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e/load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podešav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$s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0D251-C488-4BB9-8F33-BED4F1F7562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što koristit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a operanad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ici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vijek na vrhu stek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eksplicitnim zadavanjem operana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ma potrebe za zadavanjem 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cije rezult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mjes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r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raće kodiran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ru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ci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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mpaktnij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je jedan razlog zaš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Byteco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koristi model steka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ck evaluation mode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497C-AF9A-4A55-B1DD-361647750B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Bolji nači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mo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mporari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u aktivacionom zapis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Generator koda mora dodijeliti lokaciju u AR-u za svaku privremenu promjenljiv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057F-8CC6-4BC7-8570-8E51A269BD7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f fib(x) = if x = 1 then 0 el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f x = 2 then 1 else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b(x - 1) + fib(x – 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je međurezulat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mediate values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 treba postaviti na ste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oliko prostora u AR-u je potrebno za čuvanje tih vrijednos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C2B7-2C4D-413B-B25F-CA978CA2294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oliko privremenih promjenljivih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broj privremenih promj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nljivi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trebnih za iz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avanj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zra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ljivi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trebno najm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 + 1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vremenih promj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ostor upotre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n za privremene promjenljive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se ponovo iskoristit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A7605-8414-4E4F-BC6E-83D550EF6D1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ednači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-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f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=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then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else 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1 +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 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 = max(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,…,NT(e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nt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NT(id) =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 li je ov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ottom-up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p-down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Šta 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T(…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fib…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4814-7BA7-48AD-A709-C1CD4830BDC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definicij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u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(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x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 + n + NT(e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eme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vratna adresa (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urn addres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me po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gum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T(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a za međurezultate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mediate resul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115D-A7C4-4884-96E9-AD377E0347B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"/>
          <p:cNvSpPr/>
          <p:nvPr/>
        </p:nvSpPr>
        <p:spPr>
          <a:xfrm>
            <a:off x="3429000" y="28940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35124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8098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2670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724280"/>
            <a:ext cx="21337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29000" y="51814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d 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29000" y="1971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 NT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243828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53640" y="1600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50400" y="342900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1ECD-B0FE-4EF3-BCC9-E31E3206A20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v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isanje kod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nerisanje koda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znati koliko je privremenih promjenljivih u upotrebi u svakom trenutk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jemo novi argument za 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erisanje koda: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icija sledeće dostupne privremene promjenljiv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available temporary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1C09-ABB8-4F80-A198-EC9DC7A027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origina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0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-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4($s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iu $sp $sp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78FC-44B7-4E66-BF0E-1B8C651E0B9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boljša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 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=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w $a0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nt + 4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w $t1 -nt($f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 $a0 $t1 $a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031DE-40A3-4E66-A4AD-0F5084D0E2C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pomen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ručje za privremene promjenljive se koristi kao mali stek fiksne veličine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ll, fixed-size stack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Vježba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isa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gen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osta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01FD-0B17-45CE-9FA4-4540F33EFDD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timiz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cij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ek mašin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cija obavl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mem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ske 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a i jedno upisivanje na ste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rhu steka se često pristup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uvati vrh steka u posebno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st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tzv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stup registrima je brž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d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” in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ja posta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c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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 + top_of_st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amo jedna memorijsk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A24A-B69A-462E-9183-A57D6BF9BE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isanje kod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sane jezik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811F2-278A-45DA-8E7D-754A31C05AC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ikaz objekata (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ject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yout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i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što smo već učil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što no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O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gan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klasa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, 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da 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koristiti uvijek gdje se očekuje objekat klase 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vo znači da kod za klas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di bez modifikacija za objekte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E95B6-28F3-4794-A445-47524803642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vije tem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se objekti predstavljaju u memorij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ko je implementir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spatch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2E68E-3CDC-4984-B55C-2E4555597EFE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//overr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E4E13-EDC1-4E47-B5B9-7B7C5B3D9A7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u naslijeđeni u klasam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i metodi u svim klasama referencira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b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eto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radili ispravno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m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ra biti na istom “mjestu” za svaki objek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BB32-36E3-4FB4-93D9-815BF9EE2E6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j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t je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stupanje polj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.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indeks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ru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ri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u koji odgovara pol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 se čuvaju u uzastopnim memorijskim lokacija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atribut se čuva na fiks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u 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da se poziva metod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ili this) i polja su atributi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BB9D4-86A0-4723-926F-9FE5E4A4F1B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v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iječi objekta sadrže zaglavl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ader informat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40273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P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29000" y="4484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49435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ribu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54007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310500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29000" y="3571920"/>
            <a:ext cx="2133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2529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19920" y="3657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9920" y="4114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1992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9920" y="5029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3F3C5-CCB6-4B8D-887C-7E43DDFD566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redstavljanje objekat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 tag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uje klasu objek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 size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cio broj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Veličina objekta u riječ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pt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okazivač na tabelu metod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alo kasnije biće više detalj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su u susjedn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e je u uzastopnim memorijskim lokacij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3D098-5F92-4513-9645-CC64B34D64E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pome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ko je dat prikaz 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rikaz pod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ože biti definisan proširivanjem prikaza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odatnim lokacijama za dodatne atribute iz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stavljamo prikaz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eizmjenjeni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proširenj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1518E-68E9-4C3D-9E91-ED325617ACE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lika prikaz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838080" y="1752480"/>
          <a:ext cx="6553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"/>
          <p:cNvSpPr/>
          <p:nvPr/>
        </p:nvSpPr>
        <p:spPr>
          <a:xfrm>
            <a:off x="914400" y="1828800"/>
            <a:ext cx="121932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A169-85A8-479C-BEFD-287D3AF581D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k mašina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a 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o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ar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l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t izračunavanja izraza je uvijek 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er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(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ush 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mulatora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na stek poslije izračunavanja svakog 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…,e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n-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zult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u a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mulat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slij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r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cije, urad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 n-1 v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ijednos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lije izračunavanja izraza, stek je kao i pri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D2B2-C5A8-44E8-8F9E-3CD1972F78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dklas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nastava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fset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ribu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je isti u klasi i svim njenim podklasa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vaki metod iz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ože se koristiti u podklas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smatrajmo prikaz 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msy10"/>
              </a:rPr>
              <a:t>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486576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19320" y="533412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579132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219320" y="3943440"/>
            <a:ext cx="2133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4410000"/>
            <a:ext cx="213336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396252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3333cc"/>
                </a:solidFill>
                <a:latin typeface="Comic Sans MS"/>
              </a:rPr>
              <a:t>1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733920" y="3962520"/>
            <a:ext cx="0" cy="9144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3962520"/>
            <a:ext cx="0" cy="1371600"/>
          </a:xfrm>
          <a:prstGeom prst="line">
            <a:avLst/>
          </a:prstGeom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038480" y="396252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91120" y="449568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9900cc"/>
                </a:solidFill>
                <a:latin typeface="Comic Sans MS"/>
              </a:rPr>
              <a:t>2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9900cc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9900cc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5043600"/>
            <a:ext cx="1523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 obje</a:t>
            </a:r>
            <a:r>
              <a:rPr b="0" i="1" lang="sr-Latn-CS" sz="1800" spc="-1" strike="noStrike">
                <a:solidFill>
                  <a:srgbClr val="ff0000"/>
                </a:solidFill>
                <a:latin typeface="Comic Sans MS"/>
              </a:rPr>
              <a:t>ka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396252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Šta ako imamo višestruko nasleđivanj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multiple inheritance</a:t>
            </a: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347E0-B796-43CD-AB5F-4F493DE5CF7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Razmotrimo opet naš primje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838080" y="2209680"/>
            <a:ext cx="4077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a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d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= a + d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B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b =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f() { return a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g() { return a = a - b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15080" y="4191120"/>
            <a:ext cx="4076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class  C extends A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c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int h() { return a = a * c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9628-FE7D-4DEF-8935-A3E23EAC81A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čk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g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kla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jekat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slijeđen u slučaju klas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fe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cira metod iz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objekte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lementa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cija metoda 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podsjeća na implementaciju atribu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86EA-BF77-4021-B98F-2C358E10558A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a klasa ima fiksiran skup metod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ključujući i naslijeđene meto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sira ove met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z ulaznih tačaka metoda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 point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et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je n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irano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za klasu i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sve njene podkl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BE72-38BB-4052-A7CB-5F60E779A62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- primj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6480" y="1599840"/>
            <a:ext cx="4076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patch tab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 za klas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ma samo jedan met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e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širuju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n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tabelu z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ako se može dati nova definicja metoda u podklasi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ridden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metod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ije isti u svakoj klasi ali je uvijek na istom offset-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838080" y="1752480"/>
          <a:ext cx="3070440" cy="4380120"/>
        </p:xfrm>
        <a:graphic>
          <a:graphicData uri="http://schemas.openxmlformats.org/drawingml/2006/table">
            <a:tbl>
              <a:tblPr/>
              <a:tblGrid>
                <a:gridCol w="1328760"/>
                <a:gridCol w="870120"/>
                <a:gridCol w="87156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ffse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f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4307-1F7E-48B7-BF46-69D7CEC28DB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 pointer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objektu kla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o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azuje n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za klas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om metod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kl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je dodijelj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fset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u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 u trenutku prevođenja (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ile time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242FA-4C1A-4F07-A44D-3CDAC0C5A18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otreba 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patch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a (nastavak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Svaki metod mora znati šta j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self”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ili “thi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predaje kao prvi argument u svim metodi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ciju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i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čkog 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patch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.f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zračunat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a bi dobili objekat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ć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ispatch-tabelu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čitanje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atch-tabl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lja objekt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zva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[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](x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patch tab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a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ri poziv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sel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e vezuje za 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9FF3-CAE4-47F3-93D0-E54CEFD39F1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5T07:54:11Z</dcterms:created>
  <dc:creator>Goran Sukovic &amp; Alex Aiken &amp; George Necula</dc:creator>
  <dc:description/>
  <dc:language>en-US</dc:language>
  <cp:lastModifiedBy>gorans</cp:lastModifiedBy>
  <dcterms:modified xsi:type="dcterms:W3CDTF">2009-04-30T10:19:36Z</dcterms:modified>
  <cp:revision>290</cp:revision>
  <dc:subject/>
  <dc:title>Introduction to Programming Languages and Compilers</dc:title>
</cp:coreProperties>
</file>