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5157-F293-41BB-A886-9F67E784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 state iff has  dot at end: I1, I2, I4, I7, I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 state has dot at end of start prod: I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if state has one reduce item, some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E67-5E2D-41E7-8C23-E58360CA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944-7F68-4D59-A7B9-AFB4605F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941-6EB0-4318-A96C-582A074B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914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3740400"/>
            <a:ext cx="2723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378A-C390-4CD3-A4B8-4D252FF0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DDEF-C587-4DA7-8804-524DE9A1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A01-DA37-467F-ABBE-F6C2FB84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3EB-3C07-448B-B995-599A1132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6DC-B1AA-437B-A1D8-96B47ED6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DFC-398F-40DC-A537-7F7FEAF7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C5C-C72F-4640-BC05-A9452444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3740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3E4F-EEAD-412F-A7C3-DB6D9955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14400"/>
            <a:ext cx="4127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0400"/>
            <a:ext cx="8458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7E83-E289-4BF9-AA8B-A02D0DF3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48320" y="6552720"/>
            <a:ext cx="2666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552720"/>
            <a:ext cx="4191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9BA3-67D9-4918-9C8D-C4A23C86BC12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ottom-up parsi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57B-7352-4C48-89A2-9A163E0CE0C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68DC7-12E6-4FAB-A143-FA5F9E8DA2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rimjerim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 stek se stavljaju tokeni i neterminalni simbol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 pars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nju, čitavo stanje se stavlja na ste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tanja čuva informaciju o “lijevom kontekstu”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šta je do određenog trenutka obrađen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šta je stavljeno na stek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e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 i reducirano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 na osnovu kojeg pravil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risti 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tabela akcija da odluči između shift i reduce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risti s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b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 prel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a za određivanje novog stanj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BEB-3671-41EC-A3F1-633AD5CE28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7B4AF-0578-40B3-94F8-6451AECBA9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Glavn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tlja program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rtno stan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0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e stavlja na vrh stek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dato stan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t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a vrhu steka i sledeći ulazni toke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tion[St, a] == shift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ovo st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ction[St, a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Pozovi leksički analizator za sledeći tok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1…Xn)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p n sta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ja da bi odredili 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vrhu steka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ush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ovo stan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v = Goto[Su,Y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e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accept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spješan kra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f (Action[St, a] == error),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e može nastaviti parsiran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228-4B5D-481A-B7A8-FDC7CAC815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4508C-457C-4DB9-9560-FCE96C7553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1143000"/>
          <a:ext cx="8686800" cy="5114880"/>
        </p:xfrm>
        <a:graphic>
          <a:graphicData uri="http://schemas.openxmlformats.org/drawingml/2006/table">
            <a:tbl>
              <a:tblPr/>
              <a:tblGrid>
                <a:gridCol w="1143000"/>
                <a:gridCol w="1062000"/>
                <a:gridCol w="1101600"/>
                <a:gridCol w="1101960"/>
                <a:gridCol w="1103400"/>
                <a:gridCol w="1117440"/>
                <a:gridCol w="955800"/>
                <a:gridCol w="1101600"/>
              </a:tblGrid>
              <a:tr h="444240">
                <a:tc rowSpan="2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anje na vrh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</a:t>
                      </a: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stek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Times New Roman"/>
                        </a:rPr>
                        <a:t>Action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  <a:ea typeface="Times New Roman"/>
                        </a:rPr>
                        <a:t>Go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acce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0"/>
            <a:ext cx="2210040" cy="1434600"/>
          </a:xfrm>
          <a:prstGeom prst="rect">
            <a:avLst/>
          </a:prstGeom>
          <a:solidFill>
            <a:srgbClr val="ffff99"/>
          </a:solidFill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0A16-5488-4558-93FB-D49F84170C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DD411-584E-490A-82CE-C62D7A2A3F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52280" y="762120"/>
          <a:ext cx="8686800" cy="5748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45720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te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t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eobrađeni ul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kcija Pars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 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4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a stek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očitaj sledeći ulazni simb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4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id, pop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a steka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,  goto S2, 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ulaz nepromijenjen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2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T, goto 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+ 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(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4 (</a:t>
                      </a:r>
                      <a:r>
                        <a:rPr b="0" lang="sr-Latn-CS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ledeći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i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4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id, goto 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2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T, goto S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)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hift S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3S6S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3) T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(E), goto S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S5S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Reduce 1) E 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 E + T, goto S1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S0S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Arial"/>
                          <a:ea typeface="Times New Roman"/>
                        </a:rPr>
                        <a:t>Acce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191120" y="152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Ne treba reduce 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; nije u S2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C08-4693-4E12-AC0D-6F74F16D6BE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77FD7-0E15-4987-8379-7F9701B3F8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rednosti LR parser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od LL tabela, pravilo se bira na osnovu jednog ulaznog smbola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U LR tabelama, postoji čitav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redistorij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arsir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li smo da ne treba reducirat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ogrešno vrijem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7CDE-C60A-462E-BA79-5AC6B508619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347AC-0D9F-48F7-A930-F50DB5C3BA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Tipovi L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 parser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 (k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 (k)  -- Simple L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ALR (k) – Lookahead L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 = # symbols lookahead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0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1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 ovom kurs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mo sa najprostijim slučaje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LR(0) parser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3D6-3B92-4662-BE1F-E854D66C69B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14D45-3BD8-4B55-A631-40F523EF23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(0) pars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jednostavnij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jmanje tabel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dostac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m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okahead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a su prev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š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prosti za realne jezik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ju dobar primjer kako se grad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bel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ć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cije u drugi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k)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m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A050-723A-4F73-8F45-85E7478E224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0973C-1A3C-4FE9-A07F-0B384EC39C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(0) pars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i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ljuč z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nje je prepoznavan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”-ov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: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z simbola kodiranih u stanje na vrhu steka i predstavlja desnu stranu pravila koje primjenjujemo kod redukc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(D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sna sentencijalna for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- Right sentential form)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 b C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vrhu stek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mam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W Y A b C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treba da “uhvate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čin p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znavanj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andl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-ov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FC9-3811-4804-A6EE-AD159AE8ED3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73700-5CDF-4F73-A4D9-AC34056E1C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u gramatik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, identif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kuju moguća stanja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St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obuhvata šta smo vidjeli i sve shiftove i reduce do određenog trenutk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sanje stanja korišćenje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konfigura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 (itema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hvatanje prelazaka između stan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D02-153F-4194-A054-212AB9DBA8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15FCD-55D2-4B45-B74D-06D5B26942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efi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i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iguracija je pravilo gramatike G sa tačkom na desnoj strani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YZ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gramati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iguracije su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XY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Z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čka predstavlja mjesto do kog je parser stigao u prepoznavanju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YZ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a stek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.  Reduce!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 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hift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van   Za nastavak parsiranja očekujemo string koji se može izvesti 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329-3C9D-4292-86C4-1BF1F3D04CD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E446E-2BC9-4107-BAD3-2D6B1954E5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Bottom-up parsi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rtujemo od niza terminalnih simbo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blo gradimo od listova ka korijen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imjena produkcija ”unazad”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o smo dostigli startni simbol i kraj ulaznog niza, uspjeh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je uobič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j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ottom-up t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hnik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498-C794-48A5-B05F-EB14BC1A085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E00F0-CB90-4738-ABF0-7BDA642A13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(itemi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Z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tavljen na ste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nastavak parsiranja očekujemo string koji se može izvesti 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tj.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ekujemo da vidimo token iz skup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rst(Y)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kupa Follow(Y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rma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treban nam je token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av d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=&gt;* t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neko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 v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tpostavimo da 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|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ođe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.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da sledeće konfiguracije odgovaraju istom stanju parser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YZ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DF48-2111-4B2E-8B2F-1A5C1FFDBA6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78E55-3672-4CAE-98FE-F49DF2E354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reiranje skupa 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v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konfiguracije u jedan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YZ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viti sve konfiguracije u jedan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ti sve druge ekvivalentne konfiguracije da bi postigli zatvorenost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closure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alg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ritam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da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asn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vaj skup predstavlja jedno stanje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nje u kome parser može biti prilikom obrade nekog stringa.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E99-B838-4D13-80E3-BC4F8E86CD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9D79A-0015-4050-B125-20D8D4668D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elasci između sta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lazi iz jednog u drugo stanje na osnov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brađenog simbol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deliranje parsiranja kao konačnog automat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o stanj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skup konfiguracija) ima 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ku na k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ju, tada je ono zav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no stan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grad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na osnovu ovog konačnog automat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2743200"/>
            <a:ext cx="12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14400" y="2057400"/>
            <a:ext cx="6477120" cy="1191240"/>
            <a:chOff x="914400" y="2057400"/>
            <a:chExt cx="6477120" cy="1191240"/>
          </a:xfrm>
        </p:grpSpPr>
        <p:sp>
          <p:nvSpPr>
            <p:cNvPr id="100" name=""/>
            <p:cNvSpPr/>
            <p:nvPr/>
          </p:nvSpPr>
          <p:spPr>
            <a:xfrm>
              <a:off x="996840" y="2057400"/>
              <a:ext cx="2408400" cy="1191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Y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16440" y="2057400"/>
              <a:ext cx="2408400" cy="11912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A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XY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u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Y </a:t>
              </a:r>
              <a:r>
                <a:rPr b="0" lang="en-US" sz="24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w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4400" y="2341440"/>
              <a:ext cx="647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1577-7E83-41A5-BBDF-AAAB1EEC35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B0819-DEDE-439B-9E18-207BB72F63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skup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tvore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etna konfigura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unimo g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atiku simbol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ro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j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c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azni skup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gradim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od element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Odrediti zatvorenje (c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osure) z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’ -&gt;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ime kompletiramo startno stanje parser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računava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uccessor fu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ju da b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odredili sledeće st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 konfigura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F2D-1DBC-4C4E-82B3-6610685384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36CFF-4BAB-4579-A134-F2DA7D714B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čunavanje zatvorenja(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losur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u konfiguracij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skup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 terminalnim simbolom, kraj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nače, ako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čin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ermin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im simbol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, tada za sve produkcije      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t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B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;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onoviti zatvorenje na svim dodatim konfiguracijama. Postupak se nastavlja sve dok ima novih elemenata u skupu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2FE1-C957-48E0-9FC9-C64F3016C6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DA8C4-CB0B-461F-AB50-B20F2C1794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: closure(S’ </a:t>
            </a:r>
            <a:r>
              <a:rPr b="0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7520" y="1496880"/>
            <a:ext cx="252252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0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0" y="1676520"/>
          <a:ext cx="3429000" cy="15523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685800" y="2133720"/>
            <a:ext cx="252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743200"/>
            <a:ext cx="32767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 *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352680"/>
            <a:ext cx="252252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962520"/>
            <a:ext cx="39625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 T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084-9F3F-46E7-AE2C-FA125042A2C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8F456B-D42A-48B0-9881-B31A313D9E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tabele prelaza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mora da zna u koje stanje prelazimo poslije shift-a ili reducir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i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mbol X, defi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 sku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C’ =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Successor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C,X) 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d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svaku konfiguracij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bli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d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at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Y </a:t>
            </a:r>
            <a:r>
              <a:rPr b="0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to C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raditi zatvorenje n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C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5105520"/>
            <a:ext cx="2286000" cy="459720"/>
            <a:chOff x="2971800" y="5105520"/>
            <a:chExt cx="2286000" cy="459720"/>
          </a:xfrm>
        </p:grpSpPr>
        <p:sp>
          <p:nvSpPr>
            <p:cNvPr id="118" name=""/>
            <p:cNvSpPr/>
            <p:nvPr/>
          </p:nvSpPr>
          <p:spPr>
            <a:xfrm>
              <a:off x="2971800" y="5105520"/>
              <a:ext cx="457200" cy="4597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3080" y="5105520"/>
              <a:ext cx="504720" cy="45972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C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/>
            <p:nvPr/>
          </p:nvCxnSpPr>
          <p:spPr>
            <a:xfrm>
              <a:off x="3429000" y="5486400"/>
              <a:ext cx="1286640" cy="108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121" name=""/>
            <p:cNvSpPr/>
            <p:nvPr/>
          </p:nvSpPr>
          <p:spPr>
            <a:xfrm>
              <a:off x="3733920" y="5105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Comic Sans MS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721-0AD1-4086-8294-AD01A6C7A8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8BF54-95DC-4396-AAEB-EB895050A9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uccessor(C,X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7880" y="1496880"/>
            <a:ext cx="793260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rmal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“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mjeranje za simbol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”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 jednog skupa u dru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mjeriti tačku des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 X u svim konfiguracijama gdje je tačka bila pri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kloniti sve ostale konfigurac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(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čka je prije nekog drugog simbola koji nije X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viable prefixes only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zračunaj zatvorenje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losure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84C-BBFF-427C-AF73-4F961F70CC4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13FED-09D8-477C-A923-DBC82786CD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uccessor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0"/>
            <a:ext cx="791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33520"/>
            <a:ext cx="838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 = {S’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 * F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 T 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 = Successor(C, “(“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{ F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) }  [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amo jedno pravilo s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ri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lose: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odajem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{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, 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*F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 dodajemo rekurzivn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*F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onov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 u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,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pa dodajemo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{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,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T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d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erminal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a završavamo s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sr-Latn-C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erminal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a završavamo s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Fiks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tačka 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’ = { F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) ,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,   T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*F, 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d,    F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T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562720" y="990720"/>
          <a:ext cx="3047760" cy="137160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872-C4C1-4F93-9653-F69D58E132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5EB27-42D0-403C-B6C9-7056561905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od stan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Generisanje familije svih sta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 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= closure{ S’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}.  F = {C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}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 svaki s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k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svak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akvo da s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ccessor(Ck, X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 praz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račun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uccessor(Ck, X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dod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F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navljati korak 2, dok god ima promjena u skupu F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5AD-C3E6-46A7-B50E-BD5352BC68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C593D-4ADA-40DA-8BDF-1C95157190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op-down vs Bottom-up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ottom-up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izražajnija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op-down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ottom-up 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 je teže napisati ručno, ali posto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yac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bison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generisan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s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z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pec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fikaci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maksimalnu upotrebljivost YACC-a moraju se znati teorijske osnov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(LR pars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ntu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 bottom-up pars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i odlažu odluku koju produkciju primjeniti dok nam više podataka ne bude dostupno nego kod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op-dow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parser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BB3-8F11-4B3E-A1EB-96F2F9AF24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D634F-8DD5-42C4-8276-9B6EBF750D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22860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kupovi konfiguracija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im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r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666880"/>
            <a:ext cx="2209680" cy="17697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0) E’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0"/>
            <a:ext cx="670572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Skup konfiguracija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Comic Sans MS"/>
              </a:rPr>
              <a:t>Success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0: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' –&gt; •E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E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1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' –&gt; E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cept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’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pravi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•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T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2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(•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E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: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id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4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+•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•(E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•id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6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 –&gt; (E•)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•+T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7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(E)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3 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8: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 –&gt; E+T•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duce 1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</a:rPr>
              <a:t>tačka na kraju</a:t>
            </a:r>
            <a:r>
              <a:rPr b="0" lang="en-US" sz="1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9A0-B181-4D22-9802-B1927B2839E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ECF8B-3BFA-43F7-9592-C7978AC723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tanja i prelasci kao graf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308320"/>
            <a:ext cx="1905120" cy="1955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55520"/>
              <a:gd name="textAreaBottom" fmla="*/ 1862640 h 195552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'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46440" y="1035000"/>
            <a:ext cx="186984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'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4714920"/>
            <a:ext cx="1905120" cy="195552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1955520"/>
              <a:gd name="textAreaBottom" fmla="*/ 1862640 h 1955520"/>
            </a:gdLst>
            <a:ahLst/>
            <a:rect l="textAreaLeft" t="textAreaTop" r="textAreaRight" b="textAreaBottom"/>
            <a:pathLst>
              <a:path w="21600" h="22171">
                <a:moveTo>
                  <a:pt x="3600" y="0"/>
                </a:moveTo>
                <a:arcTo wR="3600" hR="3600" stAng="16200000" swAng="-5400000"/>
                <a:lnTo>
                  <a:pt x="0" y="18571"/>
                </a:lnTo>
                <a:arcTo wR="3600" hR="3600" stAng="10800000" swAng="-5400000"/>
                <a:lnTo>
                  <a:pt x="18000" y="22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602080"/>
            <a:ext cx="137160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19640" y="1052640"/>
            <a:ext cx="1849320" cy="1218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+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600" y="2266920"/>
            <a:ext cx="180324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+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480" y="3535200"/>
            <a:ext cx="149400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E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69712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5" idx="3"/>
            <a:endCxn id="137" idx="1"/>
          </p:cNvCxnSpPr>
          <p:nvPr/>
        </p:nvCxnSpPr>
        <p:spPr>
          <a:xfrm>
            <a:off x="2133720" y="3285720"/>
            <a:ext cx="838800" cy="2407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5" idx="0"/>
            <a:endCxn id="136" idx="1"/>
          </p:cNvCxnSpPr>
          <p:nvPr/>
        </p:nvCxnSpPr>
        <p:spPr>
          <a:xfrm flipH="1" flipV="1" rot="5400000">
            <a:off x="1087920" y="1549800"/>
            <a:ext cx="851760" cy="66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46" idx="1"/>
          </p:cNvCxnSpPr>
          <p:nvPr/>
        </p:nvCxnSpPr>
        <p:spPr>
          <a:xfrm flipV="1">
            <a:off x="4876920" y="4986000"/>
            <a:ext cx="776880" cy="707040"/>
          </a:xfrm>
          <a:prstGeom prst="curvedConnector5">
            <a:avLst>
              <a:gd name="adj1" fmla="val 49884"/>
              <a:gd name="adj2" fmla="val 49974"/>
              <a:gd name="adj3" fmla="val 498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286000" y="435132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328760"/>
            <a:ext cx="59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132876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528480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16891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320" y="4711680"/>
            <a:ext cx="33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6680" y="19209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9960" y="60948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70080" y="43275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24160" y="2109960"/>
            <a:ext cx="5810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76800"/>
            <a:ext cx="579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81600" y="776160"/>
            <a:ext cx="5792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312408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36" idx="3"/>
            <a:endCxn id="158" idx="2"/>
          </p:cNvCxnSpPr>
          <p:nvPr/>
        </p:nvCxnSpPr>
        <p:spPr>
          <a:xfrm flipV="1">
            <a:off x="3716280" y="1179000"/>
            <a:ext cx="145656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35" idx="3"/>
            <a:endCxn id="138" idx="1"/>
          </p:cNvCxnSpPr>
          <p:nvPr/>
        </p:nvCxnSpPr>
        <p:spPr>
          <a:xfrm flipV="1">
            <a:off x="2133360" y="2839320"/>
            <a:ext cx="1143720" cy="44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653080" y="4564080"/>
            <a:ext cx="1797120" cy="84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 -&gt; (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-&gt; 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7880" y="5257800"/>
            <a:ext cx="1266840" cy="475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 –&gt; T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35" idx="2"/>
            <a:endCxn id="162" idx="0"/>
          </p:cNvCxnSpPr>
          <p:nvPr/>
        </p:nvCxnSpPr>
        <p:spPr>
          <a:xfrm flipH="1">
            <a:off x="1041120" y="4262040"/>
            <a:ext cx="140400" cy="996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4800600" y="32767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114800"/>
            <a:ext cx="579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1760400"/>
            <a:ext cx="582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37" idx="3"/>
            <a:endCxn id="137" idx="2"/>
          </p:cNvCxnSpPr>
          <p:nvPr/>
        </p:nvCxnSpPr>
        <p:spPr>
          <a:xfrm flipH="1">
            <a:off x="3924000" y="5692680"/>
            <a:ext cx="953280" cy="977040"/>
          </a:xfrm>
          <a:prstGeom prst="curvedConnector5">
            <a:avLst>
              <a:gd name="adj1" fmla="val -23989"/>
              <a:gd name="adj2" fmla="val 61702"/>
              <a:gd name="adj3" fmla="val -23989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5181480" y="6221520"/>
            <a:ext cx="327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(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endCxn id="137" idx="0"/>
          </p:cNvCxnSpPr>
          <p:nvPr/>
        </p:nvCxnSpPr>
        <p:spPr>
          <a:xfrm flipH="1">
            <a:off x="3924000" y="2246040"/>
            <a:ext cx="1650240" cy="246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39" idx="1"/>
            <a:endCxn id="138" idx="0"/>
          </p:cNvCxnSpPr>
          <p:nvPr/>
        </p:nvCxnSpPr>
        <p:spPr>
          <a:xfrm flipH="1">
            <a:off x="3962160" y="1661760"/>
            <a:ext cx="1257840" cy="94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905120" y="601992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8" idx="2"/>
            <a:endCxn id="137" idx="0"/>
          </p:cNvCxnSpPr>
          <p:nvPr/>
        </p:nvCxnSpPr>
        <p:spPr>
          <a:xfrm flipH="1">
            <a:off x="3924000" y="3076200"/>
            <a:ext cx="388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581280" y="3632040"/>
            <a:ext cx="57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39" idx="2"/>
            <a:endCxn id="146" idx="0"/>
          </p:cNvCxnSpPr>
          <p:nvPr/>
        </p:nvCxnSpPr>
        <p:spPr>
          <a:xfrm>
            <a:off x="6144840" y="2208240"/>
            <a:ext cx="407160" cy="235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3924360" y="990720"/>
            <a:ext cx="58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2986200"/>
            <a:ext cx="57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4568760"/>
            <a:ext cx="58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37" idx="2"/>
            <a:endCxn id="162" idx="3"/>
          </p:cNvCxnSpPr>
          <p:nvPr/>
        </p:nvCxnSpPr>
        <p:spPr>
          <a:xfrm flipV="1" rot="16200000">
            <a:off x="2212200" y="4956840"/>
            <a:ext cx="1173960" cy="2250360"/>
          </a:xfrm>
          <a:prstGeom prst="curvedConnector5">
            <a:avLst>
              <a:gd name="adj1" fmla="val -19478"/>
              <a:gd name="adj2" fmla="val 35552"/>
              <a:gd name="adj3" fmla="val -194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39" idx="3"/>
            <a:endCxn id="140" idx="0"/>
          </p:cNvCxnSpPr>
          <p:nvPr/>
        </p:nvCxnSpPr>
        <p:spPr>
          <a:xfrm>
            <a:off x="7068960" y="1633320"/>
            <a:ext cx="920160" cy="63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46" idx="3"/>
            <a:endCxn id="141" idx="2"/>
          </p:cNvCxnSpPr>
          <p:nvPr/>
        </p:nvCxnSpPr>
        <p:spPr>
          <a:xfrm flipV="1">
            <a:off x="7449840" y="3983760"/>
            <a:ext cx="765720" cy="978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DA97-C7ED-4E83-888F-490C522C2F3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57AF9-2D63-47D6-9E4B-C5017774BB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zgradn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od skupov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onstruisat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 = {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... 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}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le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u skupova konfiguracija z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'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nje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je odre</a:t>
            </a:r>
            <a:r>
              <a:rPr b="0" lang="sl-SI" sz="2400" spc="-1" strike="noStrike">
                <a:solidFill>
                  <a:srgbClr val="000099"/>
                </a:solidFill>
                <a:latin typeface="Comic Sans MS"/>
              </a:rPr>
              <a:t>đ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eno s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i.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kcija za stanje i 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•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, tad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a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redukcij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     A </a:t>
            </a:r>
            <a:r>
              <a:rPr b="0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svaki ulazni ni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(A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i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').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S' –&gt; S•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, tad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$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ccept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-533520">
              <a:spcBef>
                <a:spcPts val="150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A –&gt;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•a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Ii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uccessor(Ii, a) = Ij,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ti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i,a] shift j (a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rminal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abela prelazaka (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oto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tanj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 za sve neterminalne simbole 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uccessor(Ii, A) = Ij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ad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Goto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[i, A] = j.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va polja koja nisu dobijena primjenom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3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u grešk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spcBef>
                <a:spcPts val="1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tartno stanje je zatvorenje skupa koji sadrži pravilo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' –&gt; •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0C4-6BDE-40A5-A6B4-0EB96099662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48A7D-4360-4414-80D9-DBD701B4AE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načenje operac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ing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elaz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k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u novo stan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Handl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klanjamo ga s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ek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(Pop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 stek stavljamo odgovarajući neterminalni simbol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ush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ccepting: Redu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a po pravil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’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praznim ulazom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rror: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azno mjesto u tabeli ( nema načina da se izvede shift ili reduce)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47D-BA28-48DD-87FC-8C07F9569B8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EA099-B72E-4894-9250-3BDE489D6A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 pogrešnog ulaz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762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Ulazn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tring: id +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52280" y="1371600"/>
          <a:ext cx="8610480" cy="4952880"/>
        </p:xfrm>
        <a:graphic>
          <a:graphicData uri="http://schemas.openxmlformats.org/drawingml/2006/table">
            <a:tbl>
              <a:tblPr/>
              <a:tblGrid>
                <a:gridCol w="1448280"/>
                <a:gridCol w="2333880"/>
                <a:gridCol w="4828320"/>
              </a:tblGrid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Stek st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Neobrađeni ula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kcija p</a:t>
                      </a:r>
                      <a:r>
                        <a:rPr b="0" lang="en-U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rser</a:t>
                      </a:r>
                      <a:r>
                        <a:rPr b="0" lang="sr-Latn-CS" sz="24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 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S4 </a:t>
                      </a: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a stek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, </a:t>
                      </a:r>
                      <a:br>
                        <a:rPr sz="2400"/>
                      </a:br>
                      <a:r>
                        <a:rPr b="0" lang="sr-Latn-C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čitanje sledećeg tok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educe 4) T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id, pop S4, Goto 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Reduce 2) E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T, pop S2, Goto 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 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S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0S1S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+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Nema Action [S5, +]  Error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629400" y="152280"/>
            <a:ext cx="2362320" cy="17697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0) E’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1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2) E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3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(4) T </a:t>
            </a:r>
            <a:r>
              <a:rPr b="0" lang="en-US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</a:rPr>
              <a:t>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978A-3740-4B84-8EE5-07A21A277E6F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F1B9D-6C04-48F5-B273-66A805AB0E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ma man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a 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7880" y="1496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1447920"/>
          <a:ext cx="3276720" cy="25272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5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’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F | T * F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| ( T )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= T</a:t>
                      </a:r>
                      <a:br>
                        <a:rPr sz="3200"/>
                      </a:b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 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3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343400" y="1447920"/>
            <a:ext cx="4343400" cy="17524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5: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= T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/reduc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3352680"/>
            <a:ext cx="4343400" cy="1295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:  F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T </a:t>
            </a:r>
            <a:r>
              <a:rPr b="0" lang="en-US" sz="2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…</a:t>
            </a:r>
            <a:br>
              <a:rPr sz="2600"/>
            </a:b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Reduce/Reduce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t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0292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ma sve informacije potrebne da se odlučimo između shift i reduc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055-EAC3-431F-8CB9-50BFCCD460A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04E6B-AB9E-454D-8A66-0161552941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meha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- 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činjemo s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ottom-up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om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 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e (konfiguracije)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z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rodu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Postavljamo tačku na sve moguće pozicije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 skupove 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nfigur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, koje predstavljaju stanja parser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Skupovi zatvoreni u odnosu na ekvivalenciju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laske iz funkcije      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ccessor (state, symbol)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Gradimo tabel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cija i prelaza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ab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implementir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-reduce parser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osmatra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[st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ja i prelas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]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ao konačni automa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E05-3948-49AD-9BBD-87DF5C9714A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099A2-F8AA-4F5E-88BD-22A264BD68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egled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nfiguracija reprezentuje koliko daleko je p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ser dospio u prepoznavanju desne strane nekog pravila gramtaik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 konfiguracija kombinuje različite putanje koje je parser  mogao imati do tog trenut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načni automat je mašina čije računanje predstavlja željeni pars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0) gra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tike su najlakše za shvatanje, ali nemaju realnih primj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071-229A-40C9-8D81-452F23A755D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C5AE0-AF11-489A-AF5B-7ABA79A7CC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778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7880" y="1496880"/>
            <a:ext cx="77803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Želimo moćne gramatike, čije tabele neće biti ogromnih razmj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3526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š cilj: izabrati dovoljno moćnu gramatiku za koju tabela neće biti veli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za čiju konstrukciju nećemo potrošiti previše vreme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FE2-8E7D-45E6-999A-014672987D31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A197B-2C62-4C19-811B-BF97413971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imple LR(1)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:   SLR(1) 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d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0) st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je ne smije sadrža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stovremen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 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dv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aki 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mplet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item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(t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čka na kra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ra biti u posebnom stan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;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će uvijek primjeniti redukciju u tom stanj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aviri unaprijed u ulazni niz da se provjeri da li je redukcija pogod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ije redukcije pravil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XYZ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ovjeriti da li je sledeći token u skup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(A).  Redu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rati samo ako to jeste slučaj, inače uradi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CC1-9D4C-4862-BC52-10ED067DEDA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22C96-9548-4254-9937-90ACE32623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riste se kontekstno-slobodne gramatik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risti se stek za čuvanje obrađenih tokena i pravila koja su već primjenjena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toku parsiranj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jevi dio ul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z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a 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jelimično obrađ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esni dio ulaza je potpuno neobrađen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foo (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) { return (int) n+1 ;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hifted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jelimično obrađen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obrađe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omjer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Shift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) sledeći ulazni to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 na stek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ada vrh steka sadrži desnu stranu neke produkcije, zamijeniti je sa odgovarajućom lijevom stranom (redukcija)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B18-FF6A-4ECF-956F-1F7263DC7F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DBCAA-42D2-4673-A77A-14C7A02F85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Konstruisat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F = {I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,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1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, ...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},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kupove LR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(0) item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. St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n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Ii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Akcija za dato stanje j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•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Ii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, tada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tion[i,a] reduce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za svako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a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iz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Follow(A)  (A </a:t>
            </a:r>
            <a:r>
              <a:rPr b="0" lang="sr-Latn-CS" sz="2600" spc="-1" strike="noStrike">
                <a:solidFill>
                  <a:srgbClr val="ff0000"/>
                </a:solidFill>
                <a:latin typeface="Comic Sans MS"/>
              </a:rPr>
              <a:t>nije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 S')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b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S' –&gt; S•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 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Ii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, tad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tion[i,$]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ccept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c)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A –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•a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Ii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uccessor(Ii , a) = Ij, t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Action[i,a]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 =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hift j (a 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mora biti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terminal)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3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relazi za stanje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e konstruišu za sve neterminale primjenom pravila: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: 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ko 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successor(Ii, A) = Ij, t</a:t>
            </a:r>
            <a:r>
              <a:rPr b="0" lang="sr-Latn-CS" sz="26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600" spc="-1" strike="noStrike">
                <a:solidFill>
                  <a:srgbClr val="3333cc"/>
                </a:solidFill>
                <a:latin typeface="Comic Sans MS"/>
              </a:rPr>
              <a:t> Goto [i, A] = j.</a:t>
            </a:r>
            <a:endParaRPr b="0" lang="en-US" sz="26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4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va polja koja nisu dobijena primjenom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2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3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u grešk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5.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Startno stanje je zatvorenje skupa koji sadrži pravilo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' –&gt; •S.</a:t>
            </a:r>
            <a:endParaRPr b="0" lang="en-US" sz="26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D38-8A21-4004-ABEC-304AE6A2ED6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A4B64-3CF8-4E9F-9591-29E0415C36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vojstva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gramat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dina razlika u odnosu na LR(0) je različit način definisanja tabele akcij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 SLR(1)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, tada nema nejasnoća, ali obrnuto ne važ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e može imati istovremen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reduce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su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upovi disjunkt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B26-BC71-4D18-93B3-7EA119865F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9DF03-2AAD-4AC4-A8F7-FE005012DD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uccessor (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id)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di 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parse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sultu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llow(T) = {  +  )  ]  $  }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a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+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]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$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d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[E] 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znač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 ostalim slučajevi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tj. z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[ 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304920"/>
            <a:ext cx="2209680" cy="1671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' –&gt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 –&gt; E + T |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–&gt; (E) |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| id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219320"/>
            <a:ext cx="2133360" cy="249660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496600"/>
              <a:gd name="textAreaBottom" fmla="*/ 2392560 h 2496600"/>
            </a:gdLst>
            <a:ahLst/>
            <a:rect l="textAreaLeft" t="textAreaTop" r="textAreaRight" b="textAreaBottom"/>
            <a:pathLst>
              <a:path w="21600" h="25277">
                <a:moveTo>
                  <a:pt x="3600" y="0"/>
                </a:moveTo>
                <a:arcTo wR="3600" hR="3600" stAng="16200000" swAng="-5400000"/>
                <a:lnTo>
                  <a:pt x="0" y="21677"/>
                </a:lnTo>
                <a:arcTo wR="3600" hR="3600" stAng="10800000" swAng="-5400000"/>
                <a:lnTo>
                  <a:pt x="18000" y="252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'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+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2057400"/>
            <a:ext cx="2165400" cy="91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&gt; i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[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666520" y="2438280"/>
            <a:ext cx="1143720" cy="75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2819520" y="25146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3F3-BE6B-48F0-947F-0536F9D21AC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97365-8A45-424D-BDFA-D2D43FEED7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2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0560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Dva komplet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LR(0) ite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postoji reduce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R(0) gra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tic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llow(T) = { + ) $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llow(V) = { = 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va 2 skupa su disj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nktn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a nema 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 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dvojena polja u tabeli akci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28600" y="457200"/>
            <a:ext cx="4800600" cy="2862360"/>
            <a:chOff x="228600" y="457200"/>
            <a:chExt cx="4800600" cy="2862360"/>
          </a:xfrm>
        </p:grpSpPr>
        <p:sp>
          <p:nvSpPr>
            <p:cNvPr id="219" name=""/>
            <p:cNvSpPr/>
            <p:nvPr/>
          </p:nvSpPr>
          <p:spPr>
            <a:xfrm>
              <a:off x="228600" y="457200"/>
              <a:ext cx="2133720" cy="2862360"/>
            </a:xfrm>
            <a:custGeom>
              <a:avLst/>
              <a:gdLst>
                <a:gd name="textAreaLeft" fmla="*/ 104040 w 2133720"/>
                <a:gd name="textAreaRight" fmla="*/ 2029680 w 2133720"/>
                <a:gd name="textAreaTop" fmla="*/ 104040 h 2862360"/>
                <a:gd name="textAreaBottom" fmla="*/ 2758320 h 2862360"/>
              </a:gdLst>
              <a:ahLst/>
              <a:rect l="textAreaLeft" t="textAreaTop" r="textAreaRight" b="textAreaBottom"/>
              <a:pathLst>
                <a:path w="21600" h="28975">
                  <a:moveTo>
                    <a:pt x="3600" y="0"/>
                  </a:moveTo>
                  <a:arcTo wR="3600" hR="3600" stAng="16200000" swAng="-5400000"/>
                  <a:lnTo>
                    <a:pt x="0" y="25375"/>
                  </a:lnTo>
                  <a:arcTo wR="3600" hR="3600" stAng="10800000" swAng="-5400000"/>
                  <a:lnTo>
                    <a:pt x="18000" y="289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'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E +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V =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(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 -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05320" y="1295280"/>
              <a:ext cx="1523880" cy="9140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 -&gt; i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V -&gt; i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1" name=""/>
            <p:cNvCxnSpPr>
              <a:stCxn id="219" idx="3"/>
              <a:endCxn id="220" idx="1"/>
            </p:cNvCxnSpPr>
            <p:nvPr/>
          </p:nvCxnSpPr>
          <p:spPr>
            <a:xfrm flipV="1">
              <a:off x="2361960" y="1750320"/>
              <a:ext cx="1143720" cy="136800"/>
            </a:xfrm>
            <a:prstGeom prst="straightConnector1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2590920" y="1447560"/>
              <a:ext cx="53316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248520" y="685800"/>
            <a:ext cx="2209680" cy="2075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' –&gt;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E –&gt; E + T |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| V =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–&gt; (E) | 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V -&gt;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E10-CEE4-4AA7-B506-C5D2681C56C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C1E8CC-33EF-47A2-8CB0-41F22D5353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fin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i ite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-&gt; u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v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skup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sa ter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nal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o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ne postoji kompleta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tem B -&gt; w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tom skupu tako da je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ollow(B).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tab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o znači da nem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bilo kom stanju, tj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da funkcija s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uccessor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x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z datog skupa ili prelazi u novo stanje ili reducira (ne oboje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.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a dva kompletna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A -&gt; u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 -&gt; u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skup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 Follow s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upovi moraju biti disjunktni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(Follow(A)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Follow(B)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prazan skup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)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To znači da neće postojati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reduce-reduce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 bilo kom stanju, tj. ako postoji više od jednog neterminala u ovom skupu koji možemo reducirati, na jedinstven način možemo odrediti koji reducuramo na osnovu samo jednog tokena "unaprijed" (lookahaed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SLR(1)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011-DC4C-4468-A098-0383B640077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FF7EF-4D44-4668-82EB-8B9D627B78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 koji ni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0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'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5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id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 =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6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L =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1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' –&gt; S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7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*R•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2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L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= R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8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L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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9: S –&gt; L = R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L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3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 –&gt; R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I4: 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*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*R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–&gt; </a:t>
            </a: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id</a:t>
            </a:r>
            <a:endParaRPr b="0" lang="en-US" sz="2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152280"/>
            <a:ext cx="1447920" cy="210492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' –&gt; 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L =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–&gt; *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 –&gt; i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–&gt; 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114800"/>
            <a:ext cx="6019560" cy="2526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robajte sa ulaz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id = i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Dobija 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ift-reduce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fli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ji nije razriješ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low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kupovim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onašanje 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e razliku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ko smo vidjel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”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koliko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ol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an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Ignor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isan je dio ko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sta parsiranj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6EA4-04AC-437F-A773-B56E30CED7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3D242-36CA-4301-84D1-9CCEA529EE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Nedostaci SLR(1)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risti više informacija neg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0),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li ne i kompletnu informacij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dalje može prepoznati pogrešan handle ili prevremeno uraditi redukcij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elazak 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0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ravljenje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pecifičnije informacije o prelasku između stanja, pa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napređiva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reiranjem specifičnije istorije stanja na vrhu stek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AC7-2683-40A6-9BB1-8D21D482E1A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EAF36-7DB4-4677-ACF0-E38C8358F5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i nose v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e informacija nego kod LR(0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</a:t>
            </a:r>
            <a:r>
              <a:rPr b="0" i="1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–&gt; X1...Xi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Xi+1...Xj  , tok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rminal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ni simbol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ookahead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Znače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Stanj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X1…Xi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 su već na steku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Očekujemo da naiđu stanja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Xi+1...Xj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koja treba staviti na stek i onda reducirati, ali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99"/>
                </a:solidFill>
                <a:latin typeface="Times New Roman"/>
              </a:rPr>
              <a:t>samo ak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token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koji slijedi z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Xj 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</a:rPr>
              <a:t>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ok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k 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može bit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$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339-F2EC-4EA1-B074-E7D498E6C3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0B37F-C8DF-49A2-9539-6C2EB67A73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ite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Razdijelit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Follow(A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u pojedinačne slučajev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žemo grupisati item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o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om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-&gt;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a/b/c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nač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b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c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ko je sledeći token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”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{ a, b, c }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Follow(A) 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B97-A512-4673-8C1F-248740151B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71B6D-FC24-4DD7-9B0C-6CC953E4E2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skupovi item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š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še skupova neg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tvorenje (c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losure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: 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za svaki item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[A -&gt;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B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, a] </a:t>
            </a:r>
            <a:r>
              <a:rPr b="0" lang="sr-Latn-CS" sz="2400" spc="-1" strike="noStrike">
                <a:solidFill>
                  <a:srgbClr val="000099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a svako pravilo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 -&gt;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z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G,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 svaki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erminal b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z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Firs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)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takav d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B -&gt;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ne pripada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, 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odat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[B -&gt;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w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I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odaju se samo itemi sa ispravnim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ookahead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m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lje se korist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1) successor fu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ja za izračunav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 prelaska i sledećih ite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29CC-1404-4496-BFE5-36BFB8A8A9B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E2337-D66E-44EC-9760-F610C817C1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1066680"/>
          <a:ext cx="8305920" cy="5295960"/>
        </p:xfrm>
        <a:graphic>
          <a:graphicData uri="http://schemas.openxmlformats.org/drawingml/2006/table">
            <a:tbl>
              <a:tblPr/>
              <a:tblGrid>
                <a:gridCol w="1139760"/>
                <a:gridCol w="1709640"/>
                <a:gridCol w="5456520"/>
              </a:tblGrid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c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tali dio ula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cij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id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zagradu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id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id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T –&gt; i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pop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desnu stranu pravil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push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lijevu stranu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, 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ulaz nepromijenjen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E –&gt; 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)$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tavi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gradu na st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(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T –&gt; (E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E –&gt; 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Redukcija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: S –&gt; 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$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1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Uspješan kraj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4572000" y="0"/>
            <a:ext cx="2133720" cy="1434600"/>
          </a:xfrm>
          <a:prstGeom prst="rect">
            <a:avLst/>
          </a:prstGeom>
          <a:solidFill>
            <a:srgbClr val="ffff99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ram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atik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 –&gt; 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–&gt; T | E + 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 –&gt; id | (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04920"/>
            <a:ext cx="1905120" cy="764280"/>
          </a:xfrm>
          <a:prstGeom prst="rect">
            <a:avLst/>
          </a:prstGeom>
          <a:solidFill>
            <a:srgbClr val="ffff99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Ulazni n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(i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40F0-9F23-4775-8CD9-0F8BAB6A83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00164-5415-4F5F-9F82-88ABFE735A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successor fun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ij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Za dat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[A -&gt;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X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, a],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Doda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X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 skup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ccessor(I,X)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 zatvorenje skup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lično ka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ccessor fu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LR(0)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i propagiram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ookahead token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svak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rtni skup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tem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0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 nađemo njegovo zatvoren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ener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šem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ve skupove koji su neprazni sljedbenic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(succesorrs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up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sr-Latn-C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odajem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reduce 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3FA-F679-478F-B2B0-C44BA0C97F2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68611-36F5-4D97-B0AC-6547618154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ja tabele akci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a]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a]  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 pravil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(A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'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[S' -&gt; S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$]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, tad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$]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=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ccept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[A -&gt;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, b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i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ucc(Ii, a) = Ij,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da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[i,a]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hift j (a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ra biti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lja tabele prelazaka (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ot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Za svako stan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 svak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i simbo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succ(Ii, A) = Ij, 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d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oto [i, A] = j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B60-8205-4A8D-964E-8338300498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A3E9F-480A-4BAB-9D34-E25A5374D9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LR(1)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onstru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c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liko stanja z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?  LR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523880"/>
            <a:ext cx="243864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0: S'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a/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1: S' -&gt; S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2: S -&gt; 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3: X -&gt;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a/b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a/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4: X -&gt; 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/b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5: S -&gt; X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1523880"/>
            <a:ext cx="2666880" cy="21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6: X -&gt; a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X, $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 -&gt;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, $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7: X -&gt; b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8: X -&gt; a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/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9: X -&gt; aX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$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1752480"/>
            <a:ext cx="1828800" cy="16714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0)  S' –&gt;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)  S –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)  X –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)  X  –&gt;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71800" y="40384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1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4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-&gt; b je kompleti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2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6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a obrađujem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a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-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7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da obrađujemo završn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9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plet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ranje pravil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X -&gt; a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5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znači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ompleti</a:t>
            </a:r>
            <a:r>
              <a:rPr b="0" lang="sr-Latn-CS" sz="2400" spc="-1" strike="noStrike">
                <a:solidFill>
                  <a:srgbClr val="3333cc"/>
                </a:solidFill>
                <a:latin typeface="Comic Sans MS"/>
              </a:rPr>
              <a:t>ranje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S -&gt;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22B1-311B-4A87-B1F6-F97B3EE2D5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33041-EF59-4DC9-8104-5FF8392D14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 nastavak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tab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brzo rastu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– e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onen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cijalno sa veličinom pravila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Može li se zadržati moć koju dobijamo prl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kom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LR -&gt; LR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bez rasta tabel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ALR</a:t>
            </a:r>
            <a:r>
              <a:rPr b="0" lang="sr-Latn-CS" sz="3200" spc="-1" strike="noStrike">
                <a:solidFill>
                  <a:srgbClr val="3333cc"/>
                </a:solidFill>
                <a:latin typeface="Comic Sans MS"/>
              </a:rPr>
              <a:t> (LookAhead LR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a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u preagresivno razdvojena da bi se dobila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LR(1) st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nj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Pokušati spajanje skupova koji su </a:t>
            </a:r>
            <a:r>
              <a:rPr b="0" i="1" lang="sr-Latn-CS" sz="3200" spc="-1" strike="noStrike">
                <a:solidFill>
                  <a:srgbClr val="000099"/>
                </a:solidFill>
                <a:latin typeface="Comic Sans MS"/>
              </a:rPr>
              <a:t>skoro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 identični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Postoji tri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ko izvesti spajanje da ne dođe do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reduce-reduce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nfli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at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40F-FF98-458F-A8D4-0ED05E4744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98802-0AF1-4CE4-8DA7-4BAB346BA4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Dangling ‘else’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nij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685800"/>
            <a:ext cx="83822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Čak i potpun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(k)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e ne generišu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vaku konstrukciju programskih jez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S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if E then S else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Vidjet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“v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able prefix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“if E then if E then 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ada čit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“el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-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2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6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a pravilom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1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 može se ukloniti nejasnoća “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</a:rPr>
              <a:t>dangling els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gram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tikam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Može se u tabeli podesiti tako da se prisilno odradi i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shift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ili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redu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Programski jezik 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C 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- uvijek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shift (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za poslednje e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ls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62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Uvođenje delimitera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 (à la Ada</a:t>
            </a:r>
            <a:r>
              <a:rPr b="0" lang="sr-Latn-CS" sz="2600" spc="-1" strike="noStrike">
                <a:solidFill>
                  <a:srgbClr val="000099"/>
                </a:solidFill>
                <a:latin typeface="Comic Sans MS"/>
              </a:rPr>
              <a:t> ili VB</a:t>
            </a:r>
            <a:r>
              <a:rPr b="0" lang="en-US" sz="26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763E-B13E-4553-A37B-5B5E098E4E3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2A9BF-ABFA-456B-915B-470D49F808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99"/>
                </a:solidFill>
                <a:latin typeface="Comic Sans MS"/>
              </a:rPr>
              <a:t>D</a:t>
            </a:r>
            <a:r>
              <a:rPr b="0" lang="en-US" sz="3800" spc="-1" strike="noStrike">
                <a:solidFill>
                  <a:srgbClr val="000099"/>
                </a:solidFill>
                <a:latin typeface="Comic Sans MS"/>
              </a:rPr>
              <a:t>angling-else</a:t>
            </a:r>
            <a:endParaRPr b="0" lang="en-US" sz="3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838080"/>
            <a:ext cx="3809880" cy="2418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ood code, good ind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finish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error_pending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_error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48320" y="838080"/>
            <a:ext cx="3809880" cy="24184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Good code, bad ind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finish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error_pending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_done() /* oop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3429000"/>
            <a:ext cx="3733560" cy="309168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elimiters can disambigu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(done = 1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ult = cleanu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error_pending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ort_er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_errors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if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95680" y="36576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aravoučen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e kreirajte konstrukcije u PJ koje morate prisilno rješavati u tabel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Koristit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R gram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atike ako je moguć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5E9C-0BF4-4354-80F3-75971277DA11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FE58B-A60F-4809-8FA6-A649F96FAA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ka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(0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(1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u osobine g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parsera napravljenih od tih g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 ne jez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 langs 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langs 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 CF lang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zi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re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r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postoji nek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re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ularn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CF) g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ramatika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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(G)=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, (L=L(G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G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LR (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SLR) )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e znači da jezik L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LR .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zik može biti generisan preko više gramatika, od kojih su neke regularne, neke LR a neke CF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488-CCB9-42E0-968E-0811D215EAF7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509AE-5622-465B-98CC-32935E00B1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c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G LR(0)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= {S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aAb, 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bBa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B 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} 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ce /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onfl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!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LR(0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đ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dimo da je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Follow(A) = Follow(B) = { a, b }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su disjunktni pa gramatika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228600"/>
            <a:ext cx="2057400" cy="2316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a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b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B26-0B7C-4CCD-9879-914116F238F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2F41E-A6CC-4F44-8691-5BBFF7919C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Gram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atike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vs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jezici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Da li je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G LR(0)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= {S </a:t>
            </a:r>
            <a:r>
              <a:rPr b="0" lang="en-US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aAb, 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BbBa,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B 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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}  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ce / reduce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onflik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!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R(0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Da li j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SLR(1)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Nađem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Follow 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kupov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vidimo d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Follow(A) = Follow(B) = { a, b } n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su disjunktni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Gramatika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i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LR(1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LI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jezik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e regular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 = {ab, ba}   Reg Expr = ( ab | ba 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228600"/>
            <a:ext cx="2057400" cy="231624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a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b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4952880"/>
            <a:ext cx="2057400" cy="141840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G’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 a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BD8-7F1C-4592-A274-2673D6155C6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7C482-788A-4656-8C5A-28EAA3F953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End-of-input oznaka $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tanje I1 u grafu na slajdu 29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Za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što ne dolazi do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onfli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t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an kompletan item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:  Reduce E -&gt; E’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da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n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k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mple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:  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n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 -&gt; E’ </a:t>
            </a: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je u stvari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E -&gt; E’ $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Kompletan (završni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item E -&gt; E’ </a:t>
            </a: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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je uvijek</a:t>
            </a:r>
            <a:r>
              <a:rPr b="0" lang="sr-Latn-C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specijalni slučaj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uce E -&gt; E’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na ulaz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$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hift 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ako je na ulazu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+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388-F595-4619-85FF-586EE818B9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B00EE-AD28-44A0-82FB-BC65F452EE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– glavni program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du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k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ija (Reduce)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postoji pravilo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 sadržaj steka 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q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za neko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q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(q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može biti prazno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)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nda reduciraj stek na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qA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se naziva “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andle</a:t>
            </a:r>
            <a:r>
              <a:rPr b="0" i="1" lang="sr-Latn-CS" sz="2800" spc="-1" strike="noStrike">
                <a:solidFill>
                  <a:srgbClr val="000099"/>
                </a:solidFill>
                <a:latin typeface="Comic Sans MS"/>
              </a:rPr>
              <a:t>”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repoznavanje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h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dl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va je ključ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!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Accept: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je A startno stanje i i ulaz je praza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O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hift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 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ne možemo odraditi redukciju i postoje neobrađeni tokeni, prebaciti jedan token iz ulaznog niza na stek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rror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Ako se ne može uraditi ni shift ni reduce, došlo je do greške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406C-4903-4B62-BA9A-564EE6EDFA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05582-E040-421A-B404-45E8AEE5AF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Shift-Reduce 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primjer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685800"/>
          <a:ext cx="8305920" cy="5942160"/>
        </p:xfrm>
        <a:graphic>
          <a:graphicData uri="http://schemas.openxmlformats.org/drawingml/2006/table">
            <a:tbl>
              <a:tblPr/>
              <a:tblGrid>
                <a:gridCol w="1254240"/>
                <a:gridCol w="2036520"/>
                <a:gridCol w="5015160"/>
              </a:tblGrid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rse Stac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eobrađeni dio ulaz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k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</a:t>
                      </a:r>
                      <a:r>
                        <a:rPr b="0" lang="sr-Latn-C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j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+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id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+ id) 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+ 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id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 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$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(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 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+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id</a:t>
                      </a:r>
                      <a:br>
                        <a:rPr sz="2300"/>
                      </a:b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+T; 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(Ignore: E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T)</a:t>
                      </a:r>
                      <a:r>
                        <a:rPr b="0" lang="en-US" sz="23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hift 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T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(E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E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duce S 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ccep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400800" y="304920"/>
          <a:ext cx="2743200" cy="2208240"/>
        </p:xfrm>
        <a:graphic>
          <a:graphicData uri="http://schemas.openxmlformats.org/drawingml/2006/table">
            <a:tbl>
              <a:tblPr/>
              <a:tblGrid>
                <a:gridCol w="2743200"/>
              </a:tblGrid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S –&gt; 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E –&gt; T  |  E + 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  <a:ea typeface="Times New Roman"/>
                        </a:rPr>
                        <a:t>T –&gt; id | (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laz: (id + i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367-6E4C-4E66-AFD1-2B1ACBB85A2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AC751-D69E-4FB6-BBC1-A38ABED344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77880" y="42696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880" y="762120"/>
            <a:ext cx="7780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ft-to-right input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ghtmost derivation 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(učitavan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ulaza slijeva udesn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, desna derivac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Parsiranje zasnovano na tabe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Pars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iranj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Comic Sans MS"/>
              </a:rPr>
              <a:t> na osnovu </a:t>
            </a: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hift-re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Može obraditi gramatike koje nisu L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(1)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(n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 primjer, sa rekurzij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ogu se obraditi skoro sve strukture programskih jezika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L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L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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FG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545-65BA-4AF2-A867-143631767F9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73F69-5F72-42FF-9E05-0D972BC1DE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LR Parsi</a:t>
            </a:r>
            <a:r>
              <a:rPr b="0" lang="sr-Latn-CS" sz="4000" spc="-1" strike="noStrike">
                <a:solidFill>
                  <a:srgbClr val="000099"/>
                </a:solidFill>
                <a:latin typeface="Comic Sans MS"/>
              </a:rPr>
              <a:t>ranje</a:t>
            </a:r>
            <a:endParaRPr b="0" lang="en-US" sz="40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Strukture potrebne za parser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ek stanj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{s}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bela akcija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ction tab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ction[s,a]; 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T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svako polje tabele sadrž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i jednu redukc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i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j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u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 ili prelazak u stanje ili grešku ili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“accept”</a:t>
            </a: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Tabela prelaza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oto table</a:t>
            </a:r>
            <a:r>
              <a:rPr b="0" lang="sr-Latn-CS" sz="2800" spc="-1" strike="noStrike">
                <a:solidFill>
                  <a:srgbClr val="3333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Goto[s,X]; X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s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vako polje sadrži ili oznaku stanja ili grešku</a:t>
            </a:r>
            <a:r>
              <a:rPr b="1" lang="en-U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cc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cc00cc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143 Compilers Autumn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9AF-A1E7-4041-8CFC-7E99BA8F54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9366D-5E5B-47DA-AB3C-3332AB8D0A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 Šuković</cp:lastModifiedBy>
  <dcterms:modified xsi:type="dcterms:W3CDTF">2007-10-02T16:40:15Z</dcterms:modified>
  <cp:revision>1595</cp:revision>
  <dc:subject/>
  <dc:title>Welcome to CS143</dc:title>
</cp:coreProperties>
</file>