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211-BBDB-4FBB-A597-BB784DA7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7A4-D207-4AFD-A35F-5640739D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AD8-E476-4B2E-94DE-22E269C9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B65-26C6-4DCC-A97B-7CC4D780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3BA0-2547-43D1-A031-B80ACF2C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0DE5-4AF2-4CC3-A3DB-1A2F51C8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765-3777-465B-A0BF-D52C7940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5AE-731B-40C0-AAE6-F9230BC9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A6B-38FB-4407-BD0A-3D7B8EA8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76D0-92CE-4A30-A63D-461F9CC0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311-3AA1-4DD9-A0A4-79C79819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446-CF5A-4C89-A4BD-BC253A95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8AB7-5816-4DF0-876B-694972A75383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evo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đenje vođeno sintaksom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78F-4C11-4449-B0DC-B5EA8F8880F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77428-7D6E-4F93-ABCD-C56B77ADFD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rvo parsiran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2057400" cy="190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ar x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ar y;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x := ...;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y := ...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7440" y="2665800"/>
            <a:ext cx="7159680" cy="4048560"/>
            <a:chOff x="307440" y="2665800"/>
            <a:chExt cx="7159680" cy="4048560"/>
          </a:xfrm>
        </p:grpSpPr>
        <p:sp>
          <p:nvSpPr>
            <p:cNvPr id="62" name=""/>
            <p:cNvSpPr/>
            <p:nvPr/>
          </p:nvSpPr>
          <p:spPr>
            <a:xfrm>
              <a:off x="2762640" y="2665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67000" y="3519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05640" y="35197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59280" y="62391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e3e12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48360" y="6315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e3e12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36640" y="623916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5760" y="620892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Symbol"/>
                  <a:ea typeface="Symbol"/>
                </a:rPr>
                <a:t>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20240" y="4407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78240" y="4405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80400" y="4407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40200" y="4405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64520" y="44074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7560" y="437688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34160" y="4376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93960" y="43754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7440" y="43754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v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99240" y="53233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56000" y="53247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e3e12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400" y="5323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e3e12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41560" y="5294520"/>
              <a:ext cx="4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: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78040" y="5293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98160" y="52930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v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2880" y="5324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83720" y="5324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08600" y="5294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e3e12"/>
                  </a:solidFill>
                  <a:latin typeface="Arial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17200" y="5324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19480" y="5323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62" idx="2"/>
              <a:endCxn id="63" idx="0"/>
            </p:cNvCxnSpPr>
            <p:nvPr/>
          </p:nvCxnSpPr>
          <p:spPr>
            <a:xfrm flipH="1">
              <a:off x="1648800" y="3063600"/>
              <a:ext cx="1289880" cy="4579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0" name=""/>
            <p:cNvCxnSpPr>
              <a:stCxn id="62" idx="2"/>
              <a:endCxn id="64" idx="0"/>
            </p:cNvCxnSpPr>
            <p:nvPr/>
          </p:nvCxnSpPr>
          <p:spPr>
            <a:xfrm>
              <a:off x="2938320" y="3063600"/>
              <a:ext cx="1143720" cy="4579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1" name=""/>
            <p:cNvCxnSpPr>
              <a:stCxn id="63" idx="2"/>
              <a:endCxn id="77" idx="0"/>
            </p:cNvCxnSpPr>
            <p:nvPr/>
          </p:nvCxnSpPr>
          <p:spPr>
            <a:xfrm flipH="1">
              <a:off x="626760" y="3917160"/>
              <a:ext cx="1023120" cy="4597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2" name=""/>
            <p:cNvCxnSpPr>
              <a:stCxn id="63" idx="2"/>
              <a:endCxn id="72" idx="0"/>
            </p:cNvCxnSpPr>
            <p:nvPr/>
          </p:nvCxnSpPr>
          <p:spPr>
            <a:xfrm flipH="1">
              <a:off x="1415880" y="3917160"/>
              <a:ext cx="234000" cy="4896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3" name=""/>
            <p:cNvCxnSpPr>
              <a:stCxn id="63" idx="2"/>
              <a:endCxn id="76" idx="0"/>
            </p:cNvCxnSpPr>
            <p:nvPr/>
          </p:nvCxnSpPr>
          <p:spPr>
            <a:xfrm>
              <a:off x="1649520" y="3917160"/>
              <a:ext cx="386640" cy="4597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4" name=""/>
            <p:cNvCxnSpPr>
              <a:stCxn id="63" idx="2"/>
              <a:endCxn id="70" idx="0"/>
            </p:cNvCxnSpPr>
            <p:nvPr/>
          </p:nvCxnSpPr>
          <p:spPr>
            <a:xfrm>
              <a:off x="1649160" y="3917160"/>
              <a:ext cx="1011960" cy="4896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5" name=""/>
            <p:cNvCxnSpPr>
              <a:stCxn id="64" idx="2"/>
              <a:endCxn id="73" idx="0"/>
            </p:cNvCxnSpPr>
            <p:nvPr/>
          </p:nvCxnSpPr>
          <p:spPr>
            <a:xfrm flipH="1">
              <a:off x="3939480" y="3917160"/>
              <a:ext cx="142200" cy="491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6" name=""/>
            <p:cNvCxnSpPr>
              <a:stCxn id="64" idx="2"/>
              <a:endCxn id="74" idx="0"/>
            </p:cNvCxnSpPr>
            <p:nvPr/>
          </p:nvCxnSpPr>
          <p:spPr>
            <a:xfrm>
              <a:off x="4081680" y="3917160"/>
              <a:ext cx="567360" cy="46116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7" name=""/>
            <p:cNvCxnSpPr>
              <a:stCxn id="64" idx="2"/>
              <a:endCxn id="71" idx="0"/>
            </p:cNvCxnSpPr>
            <p:nvPr/>
          </p:nvCxnSpPr>
          <p:spPr>
            <a:xfrm>
              <a:off x="4081320" y="3917160"/>
              <a:ext cx="1275480" cy="491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8" name=""/>
            <p:cNvCxnSpPr>
              <a:stCxn id="64" idx="2"/>
              <a:endCxn id="75" idx="0"/>
            </p:cNvCxnSpPr>
            <p:nvPr/>
          </p:nvCxnSpPr>
          <p:spPr>
            <a:xfrm>
              <a:off x="4081320" y="3917160"/>
              <a:ext cx="1894680" cy="46116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99" name=""/>
            <p:cNvCxnSpPr>
              <a:stCxn id="64" idx="2"/>
              <a:endCxn id="69" idx="0"/>
            </p:cNvCxnSpPr>
            <p:nvPr/>
          </p:nvCxnSpPr>
          <p:spPr>
            <a:xfrm>
              <a:off x="4081320" y="3917160"/>
              <a:ext cx="2515320" cy="491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0" name=""/>
            <p:cNvCxnSpPr>
              <a:stCxn id="72" idx="2"/>
              <a:endCxn id="80" idx="0"/>
            </p:cNvCxnSpPr>
            <p:nvPr/>
          </p:nvCxnSpPr>
          <p:spPr>
            <a:xfrm flipH="1">
              <a:off x="860040" y="4803480"/>
              <a:ext cx="55620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1" name=""/>
            <p:cNvCxnSpPr>
              <a:stCxn id="70" idx="2"/>
              <a:endCxn id="83" idx="0"/>
            </p:cNvCxnSpPr>
            <p:nvPr/>
          </p:nvCxnSpPr>
          <p:spPr>
            <a:xfrm flipH="1">
              <a:off x="1617120" y="4803120"/>
              <a:ext cx="1043640" cy="491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2" name=""/>
            <p:cNvCxnSpPr>
              <a:stCxn id="70" idx="2"/>
              <a:endCxn id="78" idx="0"/>
            </p:cNvCxnSpPr>
            <p:nvPr/>
          </p:nvCxnSpPr>
          <p:spPr>
            <a:xfrm flipH="1">
              <a:off x="2374560" y="4803480"/>
              <a:ext cx="28656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3" name=""/>
            <p:cNvCxnSpPr>
              <a:stCxn id="70" idx="2"/>
              <a:endCxn id="88" idx="0"/>
            </p:cNvCxnSpPr>
            <p:nvPr/>
          </p:nvCxnSpPr>
          <p:spPr>
            <a:xfrm>
              <a:off x="2660760" y="4803480"/>
              <a:ext cx="74232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4" name=""/>
            <p:cNvCxnSpPr>
              <a:stCxn id="78" idx="2"/>
              <a:endCxn id="65" idx="0"/>
            </p:cNvCxnSpPr>
            <p:nvPr/>
          </p:nvCxnSpPr>
          <p:spPr>
            <a:xfrm>
              <a:off x="2374560" y="5721120"/>
              <a:ext cx="1080" cy="51984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5" name=""/>
            <p:cNvCxnSpPr>
              <a:stCxn id="88" idx="2"/>
              <a:endCxn id="68" idx="0"/>
            </p:cNvCxnSpPr>
            <p:nvPr/>
          </p:nvCxnSpPr>
          <p:spPr>
            <a:xfrm>
              <a:off x="3402000" y="5721120"/>
              <a:ext cx="1080" cy="4896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6" name=""/>
            <p:cNvCxnSpPr>
              <a:stCxn id="73" idx="2"/>
              <a:endCxn id="79" idx="0"/>
            </p:cNvCxnSpPr>
            <p:nvPr/>
          </p:nvCxnSpPr>
          <p:spPr>
            <a:xfrm>
              <a:off x="3940200" y="4805280"/>
              <a:ext cx="57888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7" name=""/>
            <p:cNvCxnSpPr>
              <a:stCxn id="69" idx="2"/>
              <a:endCxn id="84" idx="0"/>
            </p:cNvCxnSpPr>
            <p:nvPr/>
          </p:nvCxnSpPr>
          <p:spPr>
            <a:xfrm flipH="1">
              <a:off x="5308560" y="4805280"/>
              <a:ext cx="128808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8" name=""/>
            <p:cNvCxnSpPr>
              <a:stCxn id="69" idx="2"/>
              <a:endCxn id="85" idx="0"/>
            </p:cNvCxnSpPr>
            <p:nvPr/>
          </p:nvCxnSpPr>
          <p:spPr>
            <a:xfrm flipH="1">
              <a:off x="6359040" y="4805280"/>
              <a:ext cx="23724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09" name=""/>
            <p:cNvCxnSpPr>
              <a:stCxn id="69" idx="2"/>
              <a:endCxn id="81" idx="0"/>
            </p:cNvCxnSpPr>
            <p:nvPr/>
          </p:nvCxnSpPr>
          <p:spPr>
            <a:xfrm flipH="1">
              <a:off x="5871600" y="4805280"/>
              <a:ext cx="724680" cy="49104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10" name=""/>
            <p:cNvCxnSpPr>
              <a:stCxn id="69" idx="2"/>
              <a:endCxn id="87" idx="0"/>
            </p:cNvCxnSpPr>
            <p:nvPr/>
          </p:nvCxnSpPr>
          <p:spPr>
            <a:xfrm>
              <a:off x="6596280" y="4805280"/>
              <a:ext cx="697680" cy="5212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11" name=""/>
            <p:cNvCxnSpPr>
              <a:stCxn id="69" idx="2"/>
              <a:endCxn id="86" idx="0"/>
            </p:cNvCxnSpPr>
            <p:nvPr/>
          </p:nvCxnSpPr>
          <p:spPr>
            <a:xfrm>
              <a:off x="6595920" y="4805280"/>
              <a:ext cx="254520" cy="49104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12" name=""/>
            <p:cNvCxnSpPr>
              <a:stCxn id="84" idx="2"/>
              <a:endCxn id="66" idx="0"/>
            </p:cNvCxnSpPr>
            <p:nvPr/>
          </p:nvCxnSpPr>
          <p:spPr>
            <a:xfrm>
              <a:off x="5308920" y="5722560"/>
              <a:ext cx="2160" cy="59472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cxnSp>
          <p:nvCxnSpPr>
            <p:cNvPr id="113" name=""/>
            <p:cNvCxnSpPr>
              <a:stCxn id="87" idx="2"/>
              <a:endCxn id="67" idx="0"/>
            </p:cNvCxnSpPr>
            <p:nvPr/>
          </p:nvCxnSpPr>
          <p:spPr>
            <a:xfrm>
              <a:off x="7292880" y="5722560"/>
              <a:ext cx="1080" cy="51840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</a:ln>
          </p:spPr>
        </p:cxnSp>
        <p:sp>
          <p:nvSpPr>
            <p:cNvPr id="114" name=""/>
            <p:cNvSpPr/>
            <p:nvPr/>
          </p:nvSpPr>
          <p:spPr>
            <a:xfrm>
              <a:off x="6037560" y="5722560"/>
              <a:ext cx="609480" cy="381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46840" y="4732200"/>
              <a:ext cx="533520" cy="380880"/>
            </a:xfrm>
            <a:prstGeom prst="triangle">
              <a:avLst>
                <a:gd name="adj" fmla="val 46727"/>
              </a:avLst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038480" y="0"/>
            <a:ext cx="5105520" cy="3352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 -&gt; D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2.list = $1.list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 -&gt; var V; D   { $$.list = ad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$2.name, $4.list )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$.list = NULL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-&gt; V := E; S  { </a:t>
            </a: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hec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$1.name, $$.list)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$5.list = $$.list 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 -&gt; x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$.name = ‘x’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$.name = ‘y’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| z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{ $$.name = ‘z’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9C4-3EE9-4F1F-9339-80641857B5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5EA48-4BB6-4D8B-ACD8-DE652630DD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DT kod top-down pars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ije potreban yacc za upotrebu atributivnih gramatika. Rekurzivni parser za LL(1) gramatike za jednostavnog FTP klijent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ssion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omndList T_QUI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ndLis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Comnd ComndList |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nd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Login | Get | Logou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ogin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User Pas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ser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USER T_IDEN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PASS T_IDEN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e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GET T_IDENT MoreFil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reFiles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IDENT MoreFiles |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ogout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_LOGOU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ajprostiji atributi: jedna vrijednost (pointeri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A67D-7CE2-450E-B844-382E9F5F6C3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E3E8D-E44A-4550-8703-2D3C89DF01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Sintetisani atributi u top-down parserima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char* ParseIdentifier() {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sintetisanje ID nam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str = NULL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(GetLookahead() == T_IDENT) {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r = strdup(yytext)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predavanje name uz drvo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IDENT);   }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 str; } // returns NULL on error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char* ParseUser() {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return atribut usernam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USER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str = ParseIdentifier();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dobija name od identifikatora potomk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'\n'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 str; }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predaja imena naviš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char* ParsePassword() {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PASS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str = ParseIdentifier();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dobija name od identifikatora potomk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'\n'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 str; }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// predaja imena naviš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CB6A-13EC-49AC-BAEE-2E6E374054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34C36-E809-4AB0-B8A6-A784A9D19F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ahoma"/>
              </a:rPr>
              <a:t>Naslijeđeni atributi u top-down parserima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va rutina kreira konekciju i predaje je naviše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Connection* ParseLogin() { // Vraća atribut otvorene konekcije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user = ParseUser();           // Dobija atribute iz nižih nivoa…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* pass = ParsePassword();  //  otvara konekcije iz njih…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turn Login(user, pass); }          //  i predaje connection atribut naviše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ve rutine nasleđuju (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inherit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 connection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void ParseGet(Connection* conn) { // prima conn sa višeg nivo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GET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ar *filename = ParseIdentifier(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'\n'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ransfer(conn, filename); } // greška ako je conn NUL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ic void ParseLogout(Connection* conn) { // prima conn sa višeg nivo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T_LOGOUT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tchToken('\n'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out(conn); } // greška ako je conn NUL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9CDE-9F17-49C4-9CE3-0D4E363C1D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F5D8F1-1F98-42E9-AE2D-BFC1693264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DT u yacc parserim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ta je gramatika za infiksni kalkulator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 -&gt; T { E.val = T.val; 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E A T { switch(A.op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se ADD: E.val = E.val + T.val; break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se SUB: E.val = E.val - T.val; break; 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vako pravilo date gramatike za kalkulator sintetiše atribut koji predaje naviš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Yacc izvodi akciju u čvoru prije nego u roditeljskom čvoru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Yacc syntaksa $$, $1, $2 je prirodna za sintez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$$ nedefinisano dok se ne dodijeli u akcij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 naslijeđeni atribut uvijek spreman za upotrebu u semantičkoj akciji?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2-prolazni kompajleri – uvijek.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1-prolazni, potrebno je pažljivo računati.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D8E-FAAE-4A45-869F-41A0B3641FF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8904D-1381-45C5-B98C-00EFC811B6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DT je jedna od tehnika za implementiran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mantičke analiz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evođenja (Translation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B49-2BB3-47E4-BC63-0BAB7DCC17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6C656-5284-4C57-B338-878867AEE1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reiranje drveta primjenom SD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675640" cy="2508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4360" y="4508640"/>
            <a:ext cx="7921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mjer progra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:=5+3;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b:= (print(a,a-1),10*a); print(b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23E-8BDB-497F-A7B3-DB3B7172649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80FC8-3D05-4688-BAA8-5D29072D8C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rvo za program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870120"/>
            <a:ext cx="7991280" cy="526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D39-B888-4239-8F89-B2A0E098796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51D22-66CD-42B6-BAC4-915453805B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Typ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ef za drvo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851040"/>
            <a:ext cx="8497800" cy="59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char *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struct A_stm_ *A_st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struct A_exp_ *A_ex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struct A_expList_ *A_expLi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ypedef enum {A_plus,A_minus,A_times,A_div} A_bin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A_stm_ { enum {A_compoundStm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assignStm, A_printStm} ki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on {struct {A_stm stm1, stm2;}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ou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string id; A_exp exp;} assig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A_expList exps;} pr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 // end struct A_stm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8E0-E509-4FC2-9CC7-B439DB690B9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C74B6-8F8C-44ED-8A50-AEC110DA1C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981000"/>
            <a:ext cx="849780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A_CompoundStm(A_stm stm1, A_stm stm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A_AssignStm(string id, A_exp ex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A_PrintStm(A_expList exp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A_exp_ {enum {A_idExp, A_numExp,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opExp, A_eseqExp} ki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on {string 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u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A_exp left; A_binop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er; A_exp right;}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A_stm stm; A_exp exp;}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ese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 // end struct A_exp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Typ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ef za drvo (nastava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100C-71D0-4A62-9F8C-7912D8C9D0F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C89F4-4FB1-4F8E-9499-05DD5488F9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intaksno vo</a:t>
            </a:r>
            <a:r>
              <a:rPr b="0" lang="hr-HR" sz="4000" spc="-1" strike="noStrike">
                <a:solidFill>
                  <a:srgbClr val="000099"/>
                </a:solidFill>
                <a:latin typeface="Tahoma"/>
              </a:rPr>
              <a:t>đeno prevođenje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(syntax-directed translation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slije izgradnje sintaksno stabla, šta je sledeć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rser startuje prepoznavanem stringova za nas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ada parser počinje sa analizom i prevođenjem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stoje parseri koji mogu u posebnoj fazi obilaziti sintaksno stablo i odraditi semantičku analizu i prevođenje.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Češće se semantička analiza izvodi primjenom s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ntaksno vo</a:t>
            </a: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đenog prevođenja (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syntax-directed translation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3208-5952-4EA2-93F8-1B90381FE5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86FFA-19F1-4505-9011-664B8A1CA2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Typ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ef za drvo (nastavak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981000"/>
            <a:ext cx="849780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A_IdExp(string i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A_NumExp(int nu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A_OpExp(A_exp left, A_binop oper, A_exp r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A_EseqExp(A_stm stm, A_exp ex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A_expList_ {enum {A_pairExpList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lastExpList} ki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on {struct {A_exp head; A_expLi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il;} pai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exp las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u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 // end struct A_expList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05D-5490-4258-B0A8-3CC74D41C66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2B21B-1347-430E-B845-1B6A8408BB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Typ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ef za drvo (nastavak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1052640"/>
            <a:ext cx="8424720" cy="46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a svaku produkciju gramatike pi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šemo odgovarajuću funkciju. Npr. za prvu produkciju (označenu sa CompoundStm)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A_CompoundStm(A_stm stm1, A_stm stm2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_stm s = checked_malloc(sizeof(*s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-&gt;kind = A_compoundSt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-&gt;u.compound.stm1=stm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-&gt;u.compound.stm2=stm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83B-5A5A-462D-9C00-726C86A156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65696-35FF-45AD-8EC1-1BC36293B7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izlaza - PrettyPrin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836640"/>
            <a:ext cx="8424720" cy="52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a := 5; a+1)   prevodi se u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SeqExp(2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ExpList(A_AssignExp(4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SimpleVar(2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_Symbol(“a”)), A_IntExp(7,5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ExpList((A_OpExp(11,A_plusOp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_VarExp(A_SimpleVar(1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_Symbol(“a”))),A_IntExp(12,1)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ULL)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B6F4-8A2F-4107-BC07-0D237ED722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9447F-DB91-4E94-BF09-4A07D685D1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Kreiranje AST pomocu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ison-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714760" cy="333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80000" y="3573360"/>
            <a:ext cx="1847880" cy="1743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26920" y="148428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d+id*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1197000"/>
            <a:ext cx="2737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-&gt;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E+T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|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 -&gt; T*F |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-&gt; (E) | 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602136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rvo parsiranja                     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76A5-1F5A-4AC0-9CCA-D8EF3B0F009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0F854-A234-4900-AC58-C34905C28B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reiranje 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vorova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- tree.h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(1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907920"/>
            <a:ext cx="8497800" cy="56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def struct EXP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um {idK,intconstK,timesK,divK,plusK,minusK} ki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on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*id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tcons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{struct EXP *left; struct EXP *right;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s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{struct EXP *left; struct EXP *right;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v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{struct EXP *left; struct EXP *right;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us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{struct EXP *left; struct EXP *right;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us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va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X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623-E194-47D3-9233-7E76A26F8E4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C2B60-97EF-4E0F-A34C-8A7D88AFB8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reiranje 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vorova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- tree.c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(2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836640"/>
            <a:ext cx="8497800" cy="59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P *makeEXPid(char *i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EXP *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= NEW(EXP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kind = idK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val.idE = i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 .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P *makeEXPminus(EXP *left, EXP *righ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 EXP *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= NEW(EXP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kind = minusK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val.minusE.left = lef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-&gt;val.minusE.right = righ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48F-B812-4B53-A0CD-EE20C6916DD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09437-95C5-4364-ADEC-2F3FA4C445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ison fajl (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907920"/>
            <a:ext cx="8497800" cy="59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&lt;stdio.h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nclude "tree.h"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tern char *yytex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tern EXP *theexpressio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 yyerror(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("syntax error before %s\n",yytext);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union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tcon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*stringcon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uct EXP *ex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token &lt;intconst&gt; tINTCON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token &lt;stringconst&gt; tIDENTIF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type &lt;exp&gt; program ex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67A6-70F1-4160-B557-01AF1299552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35748-A3B1-48F2-BA3C-C1F4176046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ison fajl (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907920"/>
            <a:ext cx="8497800" cy="60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start progr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left '+' '-'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left '*' '/'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gram: exp { theexpression = $1;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p : tIDENTIFIER {$$ = makeEXPid($1);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  tINTCONST {$$ = makeEXPintconst($1);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exp '*' exp {$$ = makeEXPmult($1,$3)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exp '/' exp {$$ = makeEXPdiv($1,$3)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exp '+' exp {$$ = makeEXPplus($1,$3)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exp '-' exp {$$ = makeEXPminus($1,$3)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| '(' exp ')' {$$ = $2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%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455B-A355-4038-902A-E808B70DFEF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D366C-F0D7-45B4-822D-989E1A6BF4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AST pomoću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lex/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ison-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reirati strukturu čvora AST-a – tipovi čvorova, odgovarajuće se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tičke vrijednosti - fajl ”tree.h”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apisati f-ije za kreiranje čvorova drveta – fajl ”tree.c”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Dodati “%union” deklaraciju tipova semantičkih vrijednosti u bison faj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adati tipove terminalima i neterminalima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%token &lt;type&gt; id num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%type &lt;type&gt; exp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Pridružiti akcije svakom pravilu gramatik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Npr: exp: exp '*' exp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{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$$ = makeEXPmult($1, $3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98100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180-94DE-46FF-ABB8-A42F60712FD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3CFCD-B124-4FD8-A7E5-23262F2575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mantika == značenje (meaning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lično rečenicama u prirodnom jeziku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laganje ličnih zamjenica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”</a:t>
            </a: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Ja sam" ,  ”Ti si" ”Oni su"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Značenje zavisi od svojstava riječi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"I drink tea" ,  "He rains them"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erifikacija da li program ima smisl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ne znamo značenje, ne možemo generisati kod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123-E920-4C1F-93D2-2508677007A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D16C5-046E-4323-B2FE-9297855B71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Gramatike vode proces analiz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lati koji koriste gramatik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: B c D { action code } 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išemo gramatiku, Yacc kod parsira ulaz i primjenjuje redukciju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išemo semantičke akcije (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semantic actions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koj govore šta da radimo pri primjeni redukcij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zgradnja čvorova u drvet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žemo započeti sa prevođenjem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ožemo izračunavati vrijednost 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atribut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druženih gramatičkim simbolim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ezultat je tzv. atributivna gramatika (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attribute grammar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ahoma"/>
              </a:rPr>
              <a:t>Tehnika za implementaciju semantičke analize i prevođen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EB9-F3EE-452B-B3B5-A3A7F845F7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68A8A-CCD9-4ECD-981A-B845F04EFC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Zadaci semantičke analiz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vjera deklaracije imena (name declaration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ma poklapanja imena u datom prostoru imen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nt f = 2;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nt f() { return 1; };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p = &amp;f;  // koje f?  Greška!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vjera tipov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aglasnost upotreba imena sa deklaracijo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nt i;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 = “abc”;  // Greška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i = ‘abc’;  // OK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778-CA7C-4685-816B-07001207DAE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F4EB4-55D2-4741-8594-12CBC394C7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Zadaci semantičke analiz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ozivi funkcija (function call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povi argumenata su odgovarajuć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oj argumenata jednak broju formalnih argumenata ili podrazumijevane vrijednosti za argumente koji nedostaju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 li su izrazi dobro formiran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7 + 3.14159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Legalno i dobro definisano u C-u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Pogrešno u Decaf-u (int i double u istom izrazu)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6 + "abc"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Legalno u Snobol-u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2" marL="1051560" indent="-21024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Pogrešno u C-u ili Decaf-u ili . . . .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2AC-DAF6-49D6-A36F-AD2113E196D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608E3-2835-4BD5-9A7D-7D54341C00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ovjera u odnosu na šta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pecifikacija jezika mora da naglasi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da i gdje se deklarišu imen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da i gdje se imena mogu koristit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mpatibilnost, opseg (scop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ko se izrazi mogu formirati od operanada različitog tip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oji su tipovi međusobno kompatibiln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načenje naredbi u kontekst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"break" samo unutar petlj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"return" samo unutar funkcij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ako bi dodali "break" naredbu gramatičkom pravilu za petlju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E184-223C-4DDF-A4F3-AD3D80CE76E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2E097C-E7CD-4ABD-A93C-1DF246B839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pecifikacija jezik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 i Java specifikacije daju mnogo detal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specifikacija ispušta mnogo detal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mplementacije mogu prepoznavati različite jezike!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pecifikacije bi trebalo da daju koji su tipovi ekvivalentni a koji su kompatibilni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EB4-3283-4EF6-AECC-CA231DDED34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DE6E4-E407-4227-A9B6-D65E3CB9F7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klaracije tipa (type declarations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zni: numerics, string, pointer, boolean, …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loženi (aggregate): arrays, structs, unions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mpleksni: heap, list, ostali apstraktni tipovi podata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 ne podržava ove tipov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O jezici su fleksibilnij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klarisanje imena obično uključu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p (vrsta vrijednosti koju može imati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pseg(scope) (gdje je vidljivo / ima značenje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rijeme života (kada je vrijednost očuvana ili izgubljena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9689-86AC-41E2-B705-81E94EE1A2A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D6D72-0A6F-426A-BD78-444C2803B0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: tipovi i opseg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ouble calculate(int a, double b); // function prototype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nt x = 0; // globalna promjenljiva dostupna cijelom programu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ouble y;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nt main() {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nt m[3]; // lokalna promjenljiva za mai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har *n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float f;  // novo kreiranje pri svakom pozivu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tatic g; // čuva vrijednost između poziv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// može koristiti x, y, poziv f-ije calculate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{ int i; for (i = 0; i&lt;10; i++) 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calculate (i, 0);   }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//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nije više vidljiva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EF6-7351-4336-ABE8-48D4A3AD916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A4148-F05E-4BDB-A8A4-0A602982D1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ovjera tipova (type checking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vjera da li su operandi u operacijama (npr. izrazi ili pozivi f-ija) ispravnog tipa i broj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ype error -- upotreba tipa koja nije implementiran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atička provjera --za vrijeme kompajliran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inamička -- u vrijeme izvršavanja(runtime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o više statičkih provjera vršimo, manja je šansa greške u toku izvršavanj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A18-10F1-444E-99F9-11ADD27F816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ED6D6-912A-4375-A49E-9AF95867B2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ype checking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t je niz a i integer i (Decaf, ne C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[i]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 = 3.14;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Decaf-u, type error. 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 može se dodijeliti double integer-u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C-u, provjera tipa će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K za naredbu dodjeljivanja ,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enerisaće kod za konverziju 3.14 u integer primjenom odrezivanja (truncating)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AC68-F4B6-4113-A8F9-A1DC6CD41F5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12453-7D60-41AC-8519-FFDD06379C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inamička i statička provjera ti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Statička provjera tipa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 a[100]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[200]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statička  greška 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[100]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statička  grešk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j = 20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[j]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može otkriti grešku statički sa pažljivom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semantičkom analizom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inamička provjera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ar* s; gets(s); // čitamo podatak, nadamo se da je broj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 = atoi(s)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konvertovanje u integ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[i]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možda je type error, možda nij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Dobro kreirana  dinamička provjera generisa</a:t>
            </a:r>
            <a:r>
              <a:rPr b="0" lang="sr-Latn-CS" sz="2400" spc="-1" strike="noStrike">
                <a:solidFill>
                  <a:srgbClr val="000099"/>
                </a:solidFill>
                <a:latin typeface="Tahoma"/>
              </a:rPr>
              <a:t>će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kod koji će provjeriti da li je vrijednost promjenljive i u intervalu [0..99]  prije pristupa elementu niza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8CA-080A-4001-AB26-2B9F88ED2ED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54746-7C79-4947-8662-BCD7F96C65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ksplicitne i implicitne konverz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a vrijednosti sa jednog tipa na drugi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version - eksplicitna promjen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ercion - implicitna promjen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je prilično “labav” (nije strog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 = f + 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i, d, i f imaju različite tipove, C će promjeniti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coercions.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Generisaće se kod za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računanje vrijednosti f kao double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Sabiranje sa double d, rezultat double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Coercion (truncate) u integer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76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Tahoma"/>
              </a:rPr>
              <a:t>Dodjeljivanje odrezane vrijednosti i</a:t>
            </a:r>
            <a:endParaRPr b="0" lang="en-US" sz="28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CBA-E3B7-4F71-A631-686E26151C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1F583-6962-4947-955C-A4A959C4CA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vne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KS gramatika, unaprijeđena sa izračunavanjem i prostiranjem vrijednosti atributa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tribut je par &lt;name, value&gt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alue može biti proizvoljnog tipa. Na primjer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eger konstanta ima atribut &lt;IntValue, 143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ring konstanta ima &lt;StrValue, “hello world”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ariable ima &lt;VarType, Int32&gt;, &lt;Register, none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nction ima &lt;RetType, Void&gt;, &lt;ArgList, [int I, j]&gt;, &lt;CodeStart, 0x004000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vaki simbol može imati više atribu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d skenera: lokacija, vrsta tokena, vrijednost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rser može izračunati neke atribute odmah, dok neki atributi čekaju više informacij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041-3368-4958-9910-CA24BCC2B7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03EC79-166C-4B65-871C-A3874266D5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872-1339-4CE4-8F58-7171BDEAF5E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0CF0C-C1B1-4CDD-A1D9-31D916903F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1A4-59C4-48AA-B1E8-B126CF35712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0E410-855D-4748-9163-589ED7B2E3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7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2D7-BFE1-44F2-BE60-D173E71FC79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DD643-C78C-4EE0-8A43-0DD7B0286F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7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1075865190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118-2938-461A-8831-8D80D5981DC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B0289-6B2A-4356-81E7-B927404D85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nverzija - trik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6858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zik uvijek bira konverziju koju programer želi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drezivanje ili zaokruživanje (truncation ili rounding)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spcBef>
                <a:spcPts val="3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nverzija vrijednosti ili reinterpretacija bitova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oid main() {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loat f = 3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d = 4.6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ouble x = 0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= f+d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(f+d)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(int)f+(int)d);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7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d\n", f+d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1075865190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tf ("%f\n", x);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// 8.200000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41D6-487E-4FE4-8570-26248DCDE82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64D2B-7C27-438D-B3B5-3AE530F737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ksplicitna konverz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nije strog kao Deca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 = f + d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e mogu se sabirati float i doubl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e može dodijeliti double vrijednost integer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Čak su realni jezici kao Ada95 strožiji od C-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Zahtijevaju eksplicitnu konverziju - explicit convers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asting: eksplicitna konverzi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Tahoma"/>
              </a:rPr>
              <a:t>i = (int)3.6 + (int)4.6 // Programer eksplicitno odrezuje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Tahoma"/>
              </a:rPr>
              <a:t>i = (int)(3.6 + 4.6)     // operand ili samo rezulat</a:t>
            </a:r>
            <a:endParaRPr b="0" lang="en-US" sz="2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asting pointera reinterpretira bitove na koje pokazuje, izbjegavaju</a:t>
            </a:r>
            <a:r>
              <a:rPr b="0" lang="hr-HR" sz="2800" spc="-1" strike="noStrike">
                <a:solidFill>
                  <a:srgbClr val="000099"/>
                </a:solidFill>
                <a:latin typeface="Tahoma"/>
              </a:rPr>
              <a:t>ći u potpunosti provjeru tipov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char* p = (char*)(&amp;i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1BD-3F90-463D-8ADA-A63DC0C5E89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1C5AD-599D-41F0-A9FE-F3B9980B93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reiranje modula za provjeru tipova (data checker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ta checker za programski jezik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Šta su tipovi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je jezičke konstrukcije koriste tipove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ja su semantička pravila jezika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DB05-2D6C-4F36-8CF7-CE7C4B1DE7C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8980F-2047-40AF-96C2-DEAA3B7924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ji tipovi podatka postoje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zni: int, double, bool, string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loženi:  nizovi (arrays), klase (classes), interfejsi (interface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izovi nizova su OK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mpleksni: ADT (Abstract Data Types) implementacija ADT-ova preko klas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DEB-810E-4975-A02E-606F3C242D4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10079D-3D6D-4804-9EFE-5297D98683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Jezičke konstrukc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onstant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mjenljive (variable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unkci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zrazi (expressions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redbe koje koriste izraz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, while, Print, dodjeljivanje (assignment), ..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FFDC-EBA0-4034-9303-287082CA2EC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92E08-A0DA-4D26-AE9F-9241F64B7B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ja su pravila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caf i Java specifikacije daju sve detal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e što nije deklarisano je greš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vaka kombinacija tipova za koju nije naznačeno da je kompatibilna je greška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kvivalencija i kompatibilnost (Equivalence vs Compatibility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050-D8B6-4E08-BF08-3E8AC68DE90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9A261-C054-451E-B948-1248DB16AA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vne gramatike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retpostavimo da skener vraća samo jedan karakter: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git : '0' {digit.value = 0}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atribut je &lt;value, 0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'1' {digit.value = 1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'2' {digit.value = 2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'9' {digit.value = 9}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Tahoma"/>
              </a:rPr>
              <a:t>atribut je &lt;value, 9&gt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Atributi se mogu predavati uz drvo parsiranja da bi ih koristile druge produkcije: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1 : digit {int1 .value = digit.value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| int2 digit {int1.value = int2.value*10 + digit.value}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zraz Exp : Exp Exp ‘+’: { $$ = $1 + $2 } u YACC programu:  $$ je vrijednost atributa lijeve strane pravila, koja se dobija iz vrijednosti sa desne strane.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C2D-7F1D-4C21-961F-FEBDC097AD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541DE-2E7A-4399-8A90-0AA9115D5D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kvivalencija tipov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 li su dva objekta istog tipa?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rukturalna ekvivalencija:isti osnovni tip ili (rekurzivno), ista kombinacija istih tipov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kvivalentnost imena (Name equivalence)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sto ime tipa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ekvivalentn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ez imena tipa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ekvivalentni samo ako su deklarisani zajedn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ez imena tipa, deklarisani na različitim mjestima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nisu ekvivalentn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8CDF-1CF5-476F-8385-9F2B0EAD5CA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E3F9FB-3757-41AB-B358-FBD5CB72B9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trukturalna ekvivalencija - jezik C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2060640"/>
            <a:ext cx="3527280" cy="22280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 *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ums[5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 arr[1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4140360" y="1916280"/>
            <a:ext cx="4752720" cy="287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C74-D91A-4314-B22A-41B4D18A863B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D6040-101C-471A-A4D0-8418E2459D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ascal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yp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ittle = array[1..5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mall = array[1..5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ig = array[1..10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a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, b: array[1..5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: array[1..5] of integer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, e: little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, g: small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, i: big;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koje promjenljive važi ekvivalencija imena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oje promjenljive imaju strukturalno ekvivalentne tipov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9F8-F517-4374-B8E2-1874519CC4A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E9C7E-3755-4D3D-B4CC-2A7FD4AC5B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caf ekvivalencija i kompatibinos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va Decaf tipa su ekvivalnetn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azni tipovi akko isti tip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rray tipovi akko imaju isti tip elemenata (šta sa granicama?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menovani tipovi akko imaju isto im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kvivalencija imena, ne strukturalna.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akše je implementirati ovakav checker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791-078F-40F2-B4E7-C673B67B722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BFCF5-A1F6-413F-A554-3BDC0AB07E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ompatibilnost tipov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kvivalentnost tipova je refleksivn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ekvivalentno sa B akko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 ekvivalentno sa A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ompatibilnost je jednosmjerna relacija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je kompatibilno sa B ako se A može koristiti tamo gdje se očekuje B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 opštem slučaju, ako vrijednost ne gubi ništa, kompatibilni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U C-u, integer može biti iskorišćen tamo gdje se očekuje  float ili double.  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void func(double d);  func(i) je OK za i int.</a:t>
            </a:r>
            <a:endParaRPr b="0" lang="en-US" sz="2400" spc="-1" strike="noStrike">
              <a:solidFill>
                <a:srgbClr val="ff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U C++, podklase su kompatibilne sa nadklasama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 Decaf-u, sve kompatibilnosti u specifikacj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 nije kompatibilan sa doubl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BE4-D975-49BF-AA7E-0B36A33D376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0F9EC-D472-4C64-9CBB-E1D348F73F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</a:t>
            </a:r>
            <a:r>
              <a:rPr b="0" lang="hr-HR" sz="4000" spc="-1" strike="noStrike">
                <a:solidFill>
                  <a:srgbClr val="000099"/>
                </a:solidFill>
                <a:latin typeface="Tahoma"/>
              </a:rPr>
              <a:t>čka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analiza-rekapitulac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klaracija imena (promjenljive, konstante, funkcije, tipovi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Validacija upotrebe imena za njihove tipove i konteks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(expr) -- expr mora biti tipa boolea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oj i tipovi argumenata f-ij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zračunavanje tipa rezulata izraza na osnovu tipa operanad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 li je član podklase kompatibilan sa članovima nadklas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redbe na pravilnom mjestu (npr. break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122-9895-47DA-9C9C-872C3CDA25F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D4FBB-DC7F-423F-957A-E6C01D5632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ada uraditi semantičku analizu?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2 prolaza: izgradnja kompletnog drveta, pa obilazak drveta zbog analize i prevođen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1 prolaz: izgradnja drveta u preorder redosledu, istovremeno sa analizom i prevođenjem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a naslijeđene atribute, mora se nasleđivati od čvorova koji su već kreirani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Čvorovi koji su lijevo i iznad su dostupni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tiviše da se u jeziku deklaracija pojavi prije upotreb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5BF-C863-491E-9604-947AE894BF56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9C89C-FEEE-47E8-A578-EEA3B3387A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ada je front-end prolaz odrađe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artovati svaki prolaz odvojen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Dobar pristup za nedovoljno memorije; upisuje izlaz na disk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24k minicomputer Fortran compiler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eplitanje prolaz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Može biti brži, ako ima dovoljno memorij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Ako su već provjereni tipovi x i y i računamo tip za (x+y), generišimo kod za to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Decaf, gradi se cijelo drvo koje se obilaz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vo provjera, pa generisanje kod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C84-46BA-4A39-8F34-CE1BFCB781C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B8805-29B7-4E4B-9FB4-10BF0FB917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ka drveta parsiran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U samom drvetu je kodiran dio semantike, npr.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326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(a + b) + c) vs (a + (b + c)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26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(a + (b * c)) vs ((a + b) * c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Od drveta parsiranja (konkretna sintaksa) ka apstraktnim sintaksnim drvetima. Za prepoznavanje opsega i strukture: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otrebni su container i element čvorovi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isu potrebni čvorovi tipa E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T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žda neće  trebati rekurzivni čvorovi ka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L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Decl ; DL  </a:t>
            </a:r>
            <a:r>
              <a:rPr b="0" lang="en-US" sz="2800" spc="-1" strike="noStrike">
                <a:solidFill>
                  <a:srgbClr val="ff3399"/>
                </a:solidFill>
                <a:latin typeface="Tahoma"/>
              </a:rPr>
              <a:t>// n rekurzivnih poziva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ista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potomaka je jednostavnij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rsiranje je završeno; nije nam potrebna kompletna istorija koji su izbori napravljeni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6E0-6190-449E-B1AA-A63C6737A02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7CB8D-C529-4B59-9CDB-15DDE20870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tipov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ype sistem: skup pravila koja određuju tip elementa program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ipovi mogu biti ekvivalentni ak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ti bazni tipov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zgrađeni od baznih tipova na isti način (strukturalno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LI imaju isti imenovani tip (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ip A je kompatibilan sa tipom B ako se A može koristiti svuda gdje se koristi B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lično feksibilno u C-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lično strogo u Decaf-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 otkrivanju greške u tipu, postavljanje  imena na type_error može spriječiti kaskadne poruk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Type_error je kompatibilan sa bilo čim.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55A-213B-4789-B01D-740FD74A8D3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B52AB-0A32-4F4C-9AEF-5A8403C327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vne gramatike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4360" y="1181160"/>
            <a:ext cx="6983280" cy="403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D65-AE3C-4493-B054-5485F306F4A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A9298-47FD-4FD3-83F0-2A55D24342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ovjera tipa i kompatibilnos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ko odrediti kompatibilnost?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smatrajmo </a:t>
            </a:r>
            <a:r>
              <a:rPr b="0" lang="hr-HR" sz="28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vor oblika (x + y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 x ispravan operand za + 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jeste, da li je to i y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Mogu li x i y biti u + čvoru zajedno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je y različit od x, da li je kompatibilan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a li je x kompatibilno sa y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 C-u: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162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 float &amp; y double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OK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162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 float &amp; y int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int kompatibilan sa floa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caf: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162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ako je x int tada y mora biti in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966-59EC-4F12-A77F-6E1840DB0A5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1F2CC-DC23-44B9-8440-56B0BA07F3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provjera ti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tatička – compile tim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Koristi informaciju dostupnu iz source kod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ipovi koji nisu OO mogu se statički provjerit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icije tipa koje zavise od vrijednosti ne mogu se statički provjeriti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jerujemo da će cast sačuvati integritet tipov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2" marL="134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Tahoma"/>
              </a:rPr>
              <a:t>(char*) p = (char*) i ;   // OK, vjerujemo da je sve u redu</a:t>
            </a:r>
            <a:endParaRPr b="0" lang="en-US" sz="2000" spc="-1" strike="noStrike">
              <a:solidFill>
                <a:srgbClr val="cc00cc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inamička - runtim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dređivanje tačne podklase objekt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sta informacija za dinamički izbor metod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vjera granica (Bounds-checking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ipovi podranga (Subrange type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lementi niz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teger overflow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5E8-B5E6-40B5-89FA-1D0D54E84EC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0DAF4-0A4D-4550-A8F4-FBDD5FC3EA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opsezi (scopes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coping pomaže u implementacionoj apstrakciji i sakrivanju podatak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vaki opseg važenja (scope) otvara novu grupu imena dostupnih unutar  opseg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zlaskom iz opsega, ta imena postaju nedostupna, kao i podaci o tim imenim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me u unutrašnjem opsegu “pokriva” isto ime u spoljašnjem opseg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AC7E-FC30-41F0-B4EF-49042ED1613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83460-6630-4028-8F50-2533AFCA7E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opsez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295280"/>
            <a:ext cx="82296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float pi(void) { return 3.1415926 ; }  //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main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int pi = 3;  //lokalna za 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{ // ugnježdeni ops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char* pi = "circumference"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pi = 0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c8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8794-D4E3-4BB9-94A4-2B31BBF9742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371F2-48D9-42CE-929B-55C4E132EF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a analiza: opsez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Kod jednoprolaznih kompajlera, redosled deklaracija može imati značaj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{ int i;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ypedef Myint int;   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Myint n;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U C-u, deklaracija mora biti prije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  // upotreb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}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U Decaf-u, sva imena u opsegu su dostupna kroz opseg. Redosled deklaracija nije bitan 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{ // sve u opsegu je sada vidljivo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int i;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Myint n;  // Myint je već ime tip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ypedef Myint int;  }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5BD8-A352-43A6-B929-6563656FDE2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51A2B-4772-4F3C-AB8C-946D60D292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- type check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tributivne gramatike mogu podržavati račun tipov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P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D ; E     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više deklaracija, pa 1 izraz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D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D ; D | id : T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identifikator : ime tip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char | integer | ^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| array [num] of T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nizovi počinju od 1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E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literal | num | id | E mod E | E [E] | E ^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mjer program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k: integer;   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k je baznog tip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j : array [143] of char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složeni tip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k mod 1999  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  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jedini izraz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35E5-16E0-4C1A-9E49-9CDAE9428A9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E11823-DFAE-4040-8E6B-A8F71861DF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emantičke akcije za deklarac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Koje semantičke akcije izvodi desna strana?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D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id: T { addType(id.entry, T.type) } 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// synth attrs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Koje vrijednosti može imati atribut type?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integer { T.type = integer;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// base type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char { T.type = char;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// base type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array NUM of char { T.type = &lt;pointer to descriptor for array(1..NUM.value, char) &gt; }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T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^T1 { T.type = pointer(T1.type) }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slije deklaracije, svi izrazi tipova (type expressions) su  izračunati (tabela simbola je popunjena)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P </a:t>
            </a:r>
            <a:r>
              <a:rPr b="0" lang="en-US" sz="25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3333cc"/>
                </a:solidFill>
                <a:latin typeface="Tahoma"/>
              </a:rPr>
              <a:t> D ; E { // Posle poziva addType za deklaracije u D, tabela simbola je popunjena. Provjeravamo u tabeli tipove imena iz izraza E }</a:t>
            </a:r>
            <a:endParaRPr b="0" lang="en-US" sz="25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28D-469A-4A8E-900B-00EF03EE61C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414D5-56A0-4FB4-91D4-15FD0295DA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kcije za provjeru izra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literal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cha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nu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intege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lookup(id.entry)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E1 mod E2 { E .type = ((E1.type == integer) &amp;&amp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E2.type == integer)) ? intege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E1 [E2] { E .type = ((E2.type == integer) &amp;&amp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E1.type == array(s, t))) ? 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E1^ { E .type = (E1.type == pointer(t) ? t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D4A-6B02-401B-B9EA-1458E5624D1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0D2E6-4BDF-4C05-9FE0-640134B15C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računavanje tipa izraz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60948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nu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intege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num . nu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real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E .type = lookup(id.entry)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E1 op E2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{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(E1.type == integer)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&amp;&amp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E2.type == integer)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integer   else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(E1.type == integer)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&amp;&amp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E2.type == real)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real   els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(E1.type == real)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&amp;&amp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E2.type == integer)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real   els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f ((E1.type == real) 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&amp;&amp;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E2.type == real))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real   else 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.type = type_error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E94-A4DE-4D6B-A484-EA041C98A0E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3E7DF-2E18-4CBA-9F89-0039C2AE6E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kcije za provjeru naredb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odjeljivanje 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void’- 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aredbama u ovom primjeru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d = E { S.type = (id.type == E.type) ? void :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f E then S1 { S.type = (E.type == boolean) ?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           S1.type 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while E do S1 { S.type = (E.type == boolean) ?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    S1.type 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S1 ; S2 { S.type = ((S1.type == void) &amp;&amp;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S2.type == void)) ?          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void : type_error }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9787-29D0-458F-B42A-58682653B65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686B7-C96D-4FEF-9773-623BF6C8CE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vne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9"/>
                </a:solidFill>
                <a:latin typeface="Tahoma"/>
              </a:rPr>
              <a:t>Sintetisani (synthesized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) atributi se predaju naviše u drvetu; vrijednost lijeve strane izračunava se na osnovu desne strane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 -&gt; Y1  Y2  ...  Yn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Pravilo gramatik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.a = f(Y1.a,  Y2.a, ... Yn.a)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Izračunavanje atribut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9"/>
                </a:solidFill>
                <a:latin typeface="Tahoma"/>
              </a:rPr>
              <a:t>Naslijeđeni (inherited)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atributi se predaju naniže u drvetu; atributi desne strane pravila gramatike izračunavaju se na osnovi lijeve strane i ostalih atributa desne strane.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X -&gt; Y1  Y2  ...  Yn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Pravilo gramatik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Yk.a = f(X.a, Y1.a, Y2.a, ..., Yk-1.a, Yk+1.a, ..., Yn.a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ff3399"/>
                </a:solidFill>
                <a:latin typeface="Tahoma"/>
              </a:rPr>
              <a:t>^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ff3399"/>
                </a:solidFill>
                <a:latin typeface="Tahoma"/>
              </a:rPr>
              <a:t>- - -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Izračunavanje atributa - - - </a:t>
            </a:r>
            <a:r>
              <a:rPr b="1" lang="en-US" sz="2600" spc="-1" strike="noStrike">
                <a:solidFill>
                  <a:srgbClr val="ff3399"/>
                </a:solidFill>
                <a:latin typeface="Tahoma"/>
              </a:rPr>
              <a:t>^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B14-53C1-4AB8-8D1A-5CECA54043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8564C-02F0-48A9-A491-39E1289DAA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kcije za provjeru funkc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53352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Dodavanje izraza tipa za funkcije: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func of T1 returns T2 {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1.type=ftype(T1.type,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args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2.type) 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// return type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}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E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E1 ( E2 ) { E.type = ((E2.type == s) &amp;&amp;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   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(E1.type == ftype(s, t))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? t else type_error }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Dati primjer rada za f-ije sa jednim argumentom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Razmatramo listu od N tipova kao tip oblika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1 x T2 x T3 x . . . X Tn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 n-argumentna f-ija ima tip T.type = T1 x … x T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ređenje (T2.type == T1.type) testira </a:t>
            </a: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ekvivalenciju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326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est može biti rekurzivan (struktura) ili prosti test imena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85C3-0ECA-4A09-8042-6935202D56C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EEEF0E-E6E9-41A0-B123-3588687D3A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Kako čuvati informaciju o opseg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tek čiji su elementi hash tabele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Jedna tabela po opsegu (table per scope)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Jedna velika tabela sa informacijom o opsegu u svakoj deklaraciji?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C8E-306E-4904-8C5C-ACC7FF99C54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19942-F35A-4FC6-8A92-7EFFE8AA64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Deklaraci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9917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Početak izgradnje tabela!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Po ulasku u opseg deklaracije,  “otvaramo taj opseg.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Globalni opseg ulazi prvi </a:t>
            </a:r>
            <a:r>
              <a:rPr b="0" lang="en-US" sz="25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ove deklaracije idu prve u tabelu.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Ulazak u lokalni opseg </a:t>
            </a:r>
            <a:r>
              <a:rPr b="0" lang="en-US" sz="25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nova tabela simbola na stek.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int x ; // global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void foo() {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double d;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float x;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x = x + 1;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cc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cc00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Ili, ulazak u lokalni opseg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dodavanje u jednu veliku tabelu simbola, otkriti kako čuvati informacije o opsegu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352680" y="3200400"/>
            <a:ext cx="5408280" cy="1904760"/>
            <a:chOff x="3352680" y="3200400"/>
            <a:chExt cx="5408280" cy="1904760"/>
          </a:xfrm>
        </p:grpSpPr>
        <p:sp>
          <p:nvSpPr>
            <p:cNvPr id="251" name=""/>
            <p:cNvSpPr/>
            <p:nvPr/>
          </p:nvSpPr>
          <p:spPr>
            <a:xfrm>
              <a:off x="3352680" y="3200400"/>
              <a:ext cx="5408280" cy="914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loc, type =  float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loc, type = dou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52680" y="4190760"/>
              <a:ext cx="5408280" cy="914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foo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loc, type = void fu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loc, type =       i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58D-CAAA-49F3-A37B-212755C3440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12F44-50F4-46C7-9594-3937CD4E98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: var deklaraci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Yacc gramatika za Pascal-like jezik: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P -&gt; DS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deklaracija pa naredb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D -&gt; var V; D |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lista deklaracij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S -&gt; V := E; S |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lista naredbi dodjeljivanja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V -&gt; x | y | z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imena promjenljivih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E -&gt; </a:t>
            </a:r>
            <a:r>
              <a:rPr b="0" i="1" lang="en-US" sz="2600" spc="-1" strike="noStrike">
                <a:solidFill>
                  <a:srgbClr val="3333cc"/>
                </a:solidFill>
                <a:latin typeface="Tahoma"/>
              </a:rPr>
              <a:t>whatever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3399"/>
                </a:solidFill>
                <a:latin typeface="Tahoma"/>
              </a:rPr>
              <a:t>izrazi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Dodati gramatici atribute tako da se za svaku promjenljivu vodi evidencija o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488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Imenu promjenljive, i 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88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Listi u deklaraciju gdje se pojavljuj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595-EC4F-4130-9F8E-FA10FBFA50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BC3FB-B5D8-4B65-B010-8B0B89CF4D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Atributi za vars i decl list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P   -&gt; DS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S.dl = D.dl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4)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D1 -&gt; var V; D2  { D1.dl = addlist(V.name, D2.dl)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2), (3)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0" lang="en-US" sz="25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D1.dl = NULL } 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S1 -&gt; V := E; S2 { check(V.name, S1.dl); S2.dl = S1.dl }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5)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0" lang="en-US" sz="25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V -&gt; x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V.name = 'x‘ } 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1)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| y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V.name = 'y‘ } 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1)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| z 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      { V.name = 'z‘ }  </a:t>
            </a:r>
            <a:r>
              <a:rPr b="0" lang="en-US" sz="2500" spc="-1" strike="noStrike">
                <a:solidFill>
                  <a:srgbClr val="ff3399"/>
                </a:solidFill>
                <a:latin typeface="Tahoma"/>
              </a:rPr>
              <a:t>(1)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1)  Sintetisanje name atributa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2)  Sintetisanje liste deklaracija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3)  Dodaj  var decl listi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4)  Statement blok nasleđuje (inherits) decl listu 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99"/>
                </a:solidFill>
                <a:latin typeface="Tahoma"/>
              </a:rPr>
              <a:t>(5)  Provjera (check) upotrebe promjenljive.</a:t>
            </a:r>
            <a:endParaRPr b="0" lang="en-US" sz="25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198-4C1E-44F4-B627-D341124533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F072C-770D-4B8C-831F-9FAD5DF35B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Home</cp:lastModifiedBy>
  <dcterms:modified xsi:type="dcterms:W3CDTF">2009-03-08T21:48:10Z</dcterms:modified>
  <cp:revision>3378</cp:revision>
  <dc:subject/>
  <dc:title>Welcome to CS143</dc:title>
</cp:coreProperties>
</file>