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F0F6-BB71-445E-B121-4F93A11D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E98-6B00-43D9-8129-E096CEC4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DAE-F41A-410E-8F40-74E7399A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227-7F26-427D-89F1-6D3B4252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6038-12EA-4A8D-9231-F499B433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23E-F790-4675-B8F2-28287E58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200C-81DA-4DBA-9A72-919B4E30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F2E1-43F0-49D6-9619-E4EED4CB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534-25CD-40A5-B822-AAE64D9F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0DDE-7150-424B-AF3D-C3505DEF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BCA-2D4E-47CC-B22C-8E74A4C8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40A-5336-46BA-A1AB-65C74EFF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6B82-B189-4075-9C70-7A8F0A2085D6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bjektno-orijentisani jezic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0741-ECF1-447E-BA7E-3AB07AA36DC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0F26C-F64D-45AE-8A15-8D948E4FB9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itanje opseg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Članovi klase dostupni samo u metodama klase ili metodima izvedenih klas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nutar metoda klase, kako pronaći deklaraciju promjenljiv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ajugnježdeniji opseg (najbliži blok, ako postoji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jelo funkcije pa formalni parametri (2 opsega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Nema ugnježdenih f-ija kao u Pascal-u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pseg klase (class scope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pseg roditeljske klase , “djedovske” klase, itd. do najdaljeg pretk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pseg datoteke (file scope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lobalni opse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480-9069-48FC-B649-A6C988BC4D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97D20-C6DB-4CA0-BDDC-C66739C5D8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određivanja opseg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xec::getRaise() 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oats = boats + 1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alary = salary * execBoost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}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matrajmo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u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boats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okalna najbližem bloku ili f-iji getRaise? 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xec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, pa je upotreba promjenljive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boats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riješena na nivou klas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6B4-63A5-4187-801B-FD87869146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63CC5A-C107-4042-B412-51DDE614B4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određivanja opseg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xec::getRaise() 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oats = boats + 1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alary = salary * execBoost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}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matrajmo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u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salary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okalna najbližem bloku ili f-iji getRaise? 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xec? 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Mgr?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mpl? D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488-1F90-49FA-8C96-594BCE254F1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0043C-F5FF-43A3-99B3-56B7117433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određivanja opseg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matrajmo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u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 execBoost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okalna najbližem bloku ili f-iji getRaise? 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xec? 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Mgr?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kao član klase Empl? 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finisana na nivou datoteke?  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lobalna promjenljiva variable?  Da  (loše projektovanje, ali validan opseg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52F-77A6-4705-99AB-3352C6A31F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9A1E2-7EE4-4CA6-AEC1-BB02AAFE0A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pseg kod f-ija koje nisu članovi klas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ool  Exploitable (Empl e)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ool  b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e.salary() &lt;= minWage) return true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turn false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pronalaženje promjenljive salary, “e.” prefiks nam govori da tražimo u klasi za e i eventualno njoj nadređenim klasama. Mora se tražiti u opsegu klase, jer se koristi OO notacija.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pronalaženje minWage, po standardnoj C-putanji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ajbliži blok, lokalna f-ija, datoteka, globalna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D1EE-4BE7-475A-83BB-1336152E7B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D536D7-B607-43CB-949B-497C5AADD0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etraživanje u klasnom opsegu objek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” prefiks nam govori da pretražujemo u opsegu klase objekta e i da se krećemo kroz hijerarhiju klas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Šta je klasni opseg za 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ima statički tip iz svoje deklaracij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ve klase potomci klase Empl su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kompatibiln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sa Empl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ploitable (wally) predaje Emp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ploitable (dilbert) predaje Dron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ploitable (pointy) predaje Mg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ploitable pronalazi salary u Empl za svakog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5FD-E677-4322-8D76-46A641955D2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ACCBC-2FD7-42E8-AFF1-9B780946D6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zivanje metoda (member function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ogbert.getRaise()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Koji getRaise metod je pozvan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++ </a:t>
            </a:r>
            <a:r>
              <a:rPr b="1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Deca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C++,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bj</a:t>
            </a:r>
            <a:r>
              <a:rPr b="1" lang="en-US" sz="3200" spc="-1" strike="noStrike">
                <a:solidFill>
                  <a:srgbClr val="fc4122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emFunc() određuje memFunc u skladu sa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statičkim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tipom objekta obj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bjp</a:t>
            </a:r>
            <a:r>
              <a:rPr b="1" lang="en-US" sz="3200" spc="-1" strike="noStrike">
                <a:solidFill>
                  <a:srgbClr val="fc4122"/>
                </a:solidFill>
                <a:latin typeface="Tahoma"/>
              </a:rPr>
              <a:t>-&gt;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emFunc() određuje memFunc u skladu sa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dinamičkim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tipom obj (ako je  memfunc declarisana kao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virtual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531-3D49-4716-B29B-6307D4FCA88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A1D6F-5B3E-4C36-B2A7-43584B5BE4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- metod dispatch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rone dilbert = Drone()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gr* dogbert = new Exec()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gr   pointy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= *dogbert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ilbert.greet()   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 work in a box.”         // statički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ogbert-&gt;greet() 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 have options.”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// dinamičk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inty.greet() 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 have pointy hair.”     // statičk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71B-174B-4393-99A8-4BDDDB326A4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AEC9C-A2D8-4F32-BFCA-EE7690D08B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Method dispatching u Decaf-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U Decaf-u je uvijek dinamički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Bazira se na </a:t>
            </a:r>
            <a:r>
              <a:rPr b="0" i="1" lang="en-US" sz="3000" spc="-1" strike="noStrike">
                <a:solidFill>
                  <a:srgbClr val="000099"/>
                </a:solidFill>
                <a:latin typeface="Tahoma"/>
              </a:rPr>
              <a:t>runtime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klasi objekta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rone dilbert = new Drone();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Mgr dogbert = new Exec();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Mgr pointy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= new Mgr();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ilbert.greet()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 work in a box.”         // Drone method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ogbert.greet()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 have options.”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   // Exec method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inty.greet()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m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 have pointy hair.”     // Mgr method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1BB1-87F4-4307-9423-10178AC1957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D2507-601D-463F-B5AB-AAFC5D81AA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limorfizam u Decaf-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limorfne f-ije (polymorphic) –  isto ime i signatura, ali različite implementacije u različitim podklasama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npr. 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init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getRaise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greet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, ali ne </a:t>
            </a:r>
            <a:r>
              <a:rPr b="1" lang="en-US" sz="3000" spc="-1" strike="noStrike">
                <a:solidFill>
                  <a:srgbClr val="3333cc"/>
                </a:solidFill>
                <a:latin typeface="Tahoma"/>
              </a:rPr>
              <a:t>layoff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Verzija podklase ima prednost u odnosu na nadređenu klasu ako se ime i formalni parametri potpuno poklapaju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ecaf  f-ije su istinski polimorfne = virtuelne, dinamički dispatched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Generičke, preopterećene (generics, overloaded) ista f-ija ili operator ima više implementacija za argumente različitih tipova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3E6-F836-4511-864F-9500D176CF4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6D383-916D-494C-BA68-160398BB45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cepti OO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sjetiti se OO programskih jezi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čuvanje podataka zajedno sa funkcijama koje manpiulišu njim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(modularnost i enkapsulacija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isanje opšteg koda kada je moguć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pecijalizacija kada je neophodno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sleđivan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EF59-719E-4FE9-ABF4-6F80002006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C6DC0-F0C8-444C-9241-A97B2D040B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tatička provjera ti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zrazi koji uključuju objekat moraju biti kompatibilni sa statičkim tipom objekt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mpl wally = new Drone(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rone dilbert = new Drone(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ilbert.layoff();   // Drone meto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wally.layoff();      // </a:t>
            </a:r>
            <a:r>
              <a:rPr b="0" lang="en-US" sz="3200" spc="-1" strike="noStrike">
                <a:solidFill>
                  <a:srgbClr val="fc4122"/>
                </a:solidFill>
                <a:latin typeface="Tahoma"/>
              </a:rPr>
              <a:t>Greška!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wally je Drone u vrijeme izvršavanja ali je samo Empl u vrijeme kompajliranja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mantička provjera za wally.layoff() daje grešku jer layoff nije član statičkog tipa za wally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B5B-8CDE-4093-AE77-E6933ADF0DF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CCEEA-6ABF-4A70-9271-E4DE32E188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caf semantička provj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Mgr pointy = new Exec();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inty.greet()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Statička provjera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Da li je metod greet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definisan u Mgr ili Empl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inamički dispatch: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runtime tip za pointy je Exec, pa pointy.greet() je Exec::greet() i štampa  “I have options.”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Potrebno je generisati kod koji poziva ispravnu metodu greet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830560" y="311760"/>
            <a:ext cx="3133080" cy="2943360"/>
            <a:chOff x="5830560" y="311760"/>
            <a:chExt cx="3133080" cy="2943360"/>
          </a:xfrm>
        </p:grpSpPr>
        <p:sp>
          <p:nvSpPr>
            <p:cNvPr id="95" name=""/>
            <p:cNvSpPr/>
            <p:nvPr/>
          </p:nvSpPr>
          <p:spPr>
            <a:xfrm>
              <a:off x="6698160" y="311760"/>
              <a:ext cx="114228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Emp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89520" y="1530720"/>
              <a:ext cx="137412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Dr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30560" y="2673720"/>
              <a:ext cx="104652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Exe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1530720"/>
              <a:ext cx="96696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Mg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" name=""/>
            <p:cNvCxnSpPr>
              <a:stCxn id="98" idx="2"/>
              <a:endCxn id="97" idx="0"/>
            </p:cNvCxnSpPr>
            <p:nvPr/>
          </p:nvCxnSpPr>
          <p:spPr>
            <a:xfrm>
              <a:off x="6353280" y="2127240"/>
              <a:ext cx="2160" cy="531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0" name=""/>
            <p:cNvCxnSpPr>
              <a:stCxn id="95" idx="2"/>
              <a:endCxn id="98" idx="0"/>
            </p:cNvCxnSpPr>
            <p:nvPr/>
          </p:nvCxnSpPr>
          <p:spPr>
            <a:xfrm flipH="1">
              <a:off x="6352920" y="907920"/>
              <a:ext cx="916560" cy="608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" name=""/>
            <p:cNvCxnSpPr>
              <a:stCxn id="95" idx="2"/>
              <a:endCxn id="96" idx="0"/>
            </p:cNvCxnSpPr>
            <p:nvPr/>
          </p:nvCxnSpPr>
          <p:spPr>
            <a:xfrm>
              <a:off x="7268760" y="907920"/>
              <a:ext cx="1008720" cy="608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DDB4-2ACB-4F51-A66B-85DE8659B4D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CDD9F-2E5E-4FF2-A0D8-3693277EA8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mpatibilnost u Decaf-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Klase potomci klase P su uvijek kompatibilne sa klasom P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bool  Exploitable (Empl e) {}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mpl wally = new Exec;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// OK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xploitable(wally);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// OK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Klasa nije kompatibilna sa svojim podklasam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mpl wally.layoff()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en-US" sz="3000" spc="-1" strike="noStrike">
                <a:solidFill>
                  <a:srgbClr val="fc4122"/>
                </a:solidFill>
                <a:latin typeface="Tahoma"/>
              </a:rPr>
              <a:t>// Grešk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xec dogbert = new Mgr()     </a:t>
            </a:r>
            <a:r>
              <a:rPr b="0" lang="en-US" sz="3000" spc="-1" strike="noStrike">
                <a:solidFill>
                  <a:srgbClr val="fc4122"/>
                </a:solidFill>
                <a:latin typeface="Tahoma"/>
              </a:rPr>
              <a:t>// Grešk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Rođačke” klase nisu kompatibilne u oba smjera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rone dilbert = new Mgr();    </a:t>
            </a:r>
            <a:r>
              <a:rPr b="0" lang="en-US" sz="3000" spc="-1" strike="noStrike">
                <a:solidFill>
                  <a:srgbClr val="fc4122"/>
                </a:solidFill>
                <a:latin typeface="Tahoma"/>
              </a:rPr>
              <a:t>// Grešk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Exec dogbert = new Drone(); </a:t>
            </a:r>
            <a:r>
              <a:rPr b="0" lang="en-US" sz="3000" spc="-1" strike="noStrike">
                <a:solidFill>
                  <a:srgbClr val="fc4122"/>
                </a:solidFill>
                <a:latin typeface="Tahoma"/>
              </a:rPr>
              <a:t>// Greška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3A2-82DF-474E-B3E0-C5F365FAB7B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AF3F1-3F16-40C2-BEB9-436A19B89B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nterfejs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6091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 ako klasa treba da ima svojstva više nepovezanih klasa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U C++, višestruko nasleđivanje (multiple inheritance). Teško  za upotrebu, još teže za  implementaciju.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Java koristi interfejse (</a:t>
            </a:r>
            <a:r>
              <a:rPr b="0" i="1" lang="en-US" sz="3000" spc="-1" strike="noStrike">
                <a:solidFill>
                  <a:srgbClr val="3333cc"/>
                </a:solidFill>
                <a:latin typeface="Tahoma"/>
              </a:rPr>
              <a:t>interfaces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), kao i Decaf.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erfejs (interface) je skup f-ija sa određenim tipovima signatur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mplementacija interfejsa je obećanje da obezbijedimo tijela za te f-i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053-8438-4191-98D4-F6DEBC71CDF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E4F70-ECDF-4BE0-BDC7-72139969BD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interfejs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smatrajmo interfejs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erface Saveabl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WriteOut(file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eadIn(file)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aka klasa koja implementira ove dvije f-ije  može sačuvati objekte na disk i ponovo ih učitati sa diska.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jčešće se koristi u Javi za grafičke rutine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438F-2DEC-4885-89FE-77F9060A48F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4DCA5-6715-4A4D-AA55-DB828A3471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interfejs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ass Empl  implements Saveabl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init(int ID) { badge = id;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etRaise( salary = salary * 1.05; )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reet { Print ”I have a job”;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void WriteOut(file){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Print(file, “[ Empl [Badge ”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Print(file, badge, “] [Salary “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Print(file, salary, “] ]”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de3e12"/>
                </a:solidFill>
                <a:latin typeface="Tahoma"/>
              </a:rPr>
              <a:t>void ReadIn. . . 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badge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double salary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1E9-E94B-4622-A578-3A0869472DE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D637F-0960-409B-B91A-477A4A07AB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interfejs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609120"/>
            <a:ext cx="8915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Drone  {  // don’t have to repeat it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(int ID) { badge = id; salary = 1; cube = 5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 salary = salary * 1.01; 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Print ”I work in a box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void WriteOut(file){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Print(file, “[ Drone [Badge ”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Print(file, badge, “] [Salary ”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Print(file, salary, “] [Cube ”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Print(file, cube, “ ] ] ”)  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de3e12"/>
                </a:solidFill>
                <a:latin typeface="Tahoma"/>
              </a:rPr>
              <a:t>void ReadIn. . . 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badge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double salary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cube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B91-D92B-49B3-A289-2F6597EA1E4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5408B-8795-433A-A31B-96743C6D73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ka interfejs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erfejs je implementiran u klasi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me interfejsa je ime tip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lasa koja implementira interfejs je kompatibilna sa interfejsom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 primjer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oid computeStorage (Saveable d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ass Empl implements Saveable { …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ass Drone extends Empl { …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mpl wally = new Drone(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omputeStorage (wally); // OK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DA4E-02A2-4D03-8D39-BEA9FAA9F0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554AE-D287-4934-8DA3-91A128C5B3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ass Base { public: virtual int vf (void); 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ase *bp = /* pointer to a subclass */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p-&gt;vf (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ass Derived : public Bas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ublic: virtual int vf (void); 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rived d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p = &amp;d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bp-&gt;vf (); // invokes Derived::vf(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20D1-750F-4E81-8860-B36E077E778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3E1E3-A4ED-4EDD-91C1-9A562C905E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primje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(2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ruct Bas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al int vf1 (void) f cout &lt;&lt; "hello\n"; g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 f1 (void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ruct Derived1 : public Base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al int vf1 (void) { cout &lt;&lt; "world\n";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D719-78AC-43C0-8DB3-A0F004F774C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F63A6-86CF-44EB-A075-EC71297C83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Java, C++ i Decaf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lasa ima podatke i f-ije kao članov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klasa proširuje (extend) roditeljsku klas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klasa (subclass) nasleđuje sve podatke i f-ije od nadklas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dklasa mož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pecijalizovati se za svoj  tip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odati još podataka i funkcij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verride f-ije sa istim imenom i signaturo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e Class (type) su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</a:rPr>
              <a:t>objekt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B6F-21DD-4920-9AB9-6C5EF6ED37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4944D-E028-4481-B872-37884194F7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primje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(3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ruct Derived2 : public Derived1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/ Still a virtual: : 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 vf1 (void) { cout &lt;&lt; "hello world\n";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 f1 (void); // not virtua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ruct Derived3 : public Derived2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al int vf2 (int)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// diferent from vf1!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rtual int vf1 (int); // Be careful!!!!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431-F034-4598-8A77-C288A18C91A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8448E-CC86-43AC-AF67-BCDC491BA7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++ primje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(4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oid foo (Base *bp)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p-&gt;vf1 (); // virtual functio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 b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 *bp = &amp;b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p-&gt;vf1 (); // prints "hello"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rived1 d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p = &amp;d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p-&gt;vf1 (); // prints "world"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o (&amp;b); // prints "hello"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o (&amp;d); // prints "world"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B17-9133-4E30-97E8-E649A7133A1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00736-8197-4D4C-8505-76C37898AD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oka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zivač thi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Class Date {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public : int year, month, day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}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this je adresa samog objekt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// Primjer this pokaziva</a:t>
            </a: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č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a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Date::setMonth( int mn ) {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month = mn; // </a:t>
            </a: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3 ekvivalentne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naredb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this-&gt;month = mn;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 Unicode MS"/>
              </a:rPr>
              <a:t>(*this).month = mn; }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0E9D-7DFA-4700-9E08-51B3129FEBE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1F2C5-D422-4B1D-A2E5-A72B5F5CA1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Decaf hijerarh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Empl 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(int ID)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Print ”I have a job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badge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double salary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Mgr extends Empl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(int ID)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) 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Print ”I have pointy hair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options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6640920" y="891000"/>
            <a:ext cx="1142280" cy="581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Em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27680" y="2140560"/>
            <a:ext cx="966960" cy="581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M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9" idx="2"/>
            <a:endCxn id="50" idx="0"/>
          </p:cNvCxnSpPr>
          <p:nvPr/>
        </p:nvCxnSpPr>
        <p:spPr>
          <a:xfrm>
            <a:off x="7211520" y="1487160"/>
            <a:ext cx="1080" cy="63900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1B9-C416-4EA1-B519-07FD3F6E4E8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A0A4E-A931-4835-AD6B-D5F5A3526E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Decaf hijerarh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Exec extends Mgr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 (int ID)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)  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Print ”I have options.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boats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lass Drone extends Empl {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init(int ID)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etRaise() 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void greet { Print ”I work in a box.”;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66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oid layoff()    {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c800c8"/>
                </a:solidFill>
                <a:latin typeface="Tahoma"/>
              </a:rPr>
              <a:t>int cube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830560" y="921240"/>
            <a:ext cx="3133080" cy="2943360"/>
            <a:chOff x="5830560" y="921240"/>
            <a:chExt cx="3133080" cy="2943360"/>
          </a:xfrm>
        </p:grpSpPr>
        <p:sp>
          <p:nvSpPr>
            <p:cNvPr id="55" name=""/>
            <p:cNvSpPr/>
            <p:nvPr/>
          </p:nvSpPr>
          <p:spPr>
            <a:xfrm>
              <a:off x="6698160" y="921240"/>
              <a:ext cx="114228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Emp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89520" y="2140200"/>
              <a:ext cx="137412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Dr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830560" y="3283200"/>
              <a:ext cx="104652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Exe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69080" y="2140200"/>
              <a:ext cx="966960" cy="581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ahoma"/>
                </a:rPr>
                <a:t>Mg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58" idx="2"/>
              <a:endCxn id="57" idx="0"/>
            </p:cNvCxnSpPr>
            <p:nvPr/>
          </p:nvCxnSpPr>
          <p:spPr>
            <a:xfrm>
              <a:off x="6353280" y="2736720"/>
              <a:ext cx="2160" cy="53172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55" idx="2"/>
              <a:endCxn id="58" idx="0"/>
            </p:cNvCxnSpPr>
            <p:nvPr/>
          </p:nvCxnSpPr>
          <p:spPr>
            <a:xfrm flipH="1">
              <a:off x="6352920" y="1517400"/>
              <a:ext cx="916560" cy="608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55" idx="2"/>
              <a:endCxn id="56" idx="0"/>
            </p:cNvCxnSpPr>
            <p:nvPr/>
          </p:nvCxnSpPr>
          <p:spPr>
            <a:xfrm>
              <a:off x="7268760" y="1517400"/>
              <a:ext cx="1008720" cy="6084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69C-6746-40AC-B800-419187940A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42B9B-EBEA-4960-8803-A007E7BE22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aslijeđeni i novi član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rone im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init(int ID) {}  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etRaise() {}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reet() {}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void layoff() {}    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Definisan u Dro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badge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Naslijeđen iz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double salary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Naslijeđen iz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cube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Definisan u Dro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E4C-8E25-483E-A07A-FE2728E83FD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7A0AC-62D6-43C8-8522-8EC80270E3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aslijeđeni i novi član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xec ima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init(int ID) {}  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etRaise()  {}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void greet() {}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cc66"/>
                </a:solidFill>
                <a:latin typeface="Tahoma"/>
              </a:rPr>
              <a:t> Overridd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badge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Naslijeđ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double salary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Naslijeđen od Emp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options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Naslijeđen od Mgr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int boats;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ahoma"/>
              </a:rPr>
              <a:t> Definisan u Exec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2B6D-D6F3-4C1D-A46F-23FFF440E0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4DAEB-ED66-44A5-B838-CE1345C328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caf - pojednostavljen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Java, C++: public, protected, privat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 - svi podaci su protecte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že im se pristupiti samo iz klase i njenih podklas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e Decaf funkcije su public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že ih svako pozvat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ma konstruktor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sleđivanje (inheritance) je public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++ : class Drone:  public Empl { }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93C1-D64D-436D-B29B-844B8BBB153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090DA-EF88-447C-B6DE-A2B755223B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Decaf objeka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rone dilbert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// tip je Dron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gr pointy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// tip je Mg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mpl wally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// tip je Emp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xec dogbert;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// tip je Exec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ilbert.Init (143)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inty.Init (17)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wally.Init (0);     // Šta radi ovaj radnik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stup članovima klas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dilbert.salary = 5;  </a:t>
            </a:r>
            <a:r>
              <a:rPr b="0" lang="en-US" sz="2600" spc="-1" strike="noStrike">
                <a:solidFill>
                  <a:srgbClr val="fc4122"/>
                </a:solidFill>
                <a:latin typeface="Tahoma"/>
              </a:rPr>
              <a:t>// Pogrešno u Decaf-u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oraju postojati accessor funkcij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Class Empl { void setpay(int pay) { salary = pay; } 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int getpay(void)       { return salary; }  }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2D7-C346-458C-B143-48BA47F537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CA59E-A5B8-460F-BAF4-32F117559D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Goran</cp:lastModifiedBy>
  <dcterms:modified xsi:type="dcterms:W3CDTF">2009-11-07T11:49:22Z</dcterms:modified>
  <cp:revision>4678</cp:revision>
  <dc:subject/>
  <dc:title>Welcome to CS143</dc:title>
</cp:coreProperties>
</file>