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4F3B-DAAC-4C2F-85CE-588E04537E62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l vs. Pa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ise, prec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regular expressions to compose langu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utomata for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eaning of program (specifies what result should be for each inpu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languages lack state required to model ne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onical Primjer: nest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regular expression for language of parenthesized expre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guity in generating “utteranc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 tree shows all rules applied in derivation, not the order in which they were ap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1516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49440" y="144756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38088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1516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49440" y="4154040"/>
            <a:ext cx="269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040" y="41540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144756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4154040"/>
            <a:ext cx="83822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C84B996-7BA8-45A0-BCEF-8F4B0758ADE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3" marL="16002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4" marL="2057400" indent="-22860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5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6" marL="2057400" indent="-228600">
              <a:lnSpc>
                <a:spcPct val="130000"/>
              </a:lnSpc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2"/>
          </p:nvPr>
        </p:nvSpPr>
        <p:spPr>
          <a:xfrm>
            <a:off x="380880" y="662904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fld id="{85CD542F-98E9-4AD0-8473-A5CB7E5DB1D2}" type="slidenum"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763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Jezici, regularni izrazi, automati i gramatike</a:t>
            </a:r>
            <a:endParaRPr b="0" lang="en-US" sz="36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egular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fabet (azbuka)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= 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“slova”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gularni izrazi nad alfabetom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regularan izraz koji označava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ko je a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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ada je a regularan izraz koji 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ava skup 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{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ccffff"/>
                </a:solidFill>
                <a:latin typeface="CMSS10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su r i s regularni izrazi koji označavaju skupove R i S, tada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|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r)* je regularan izraz koji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značav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kup R*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oces keriranja string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4724280" y="990720"/>
            <a:ext cx="3962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(0|1)*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(0|1)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(0|1)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0.1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        </a:t>
            </a:r>
            <a:r>
              <a:rPr b="0" lang="sr-Latn-CS" sz="2600" spc="-1" strike="noStrike">
                <a:solidFill>
                  <a:srgbClr val="00ffff"/>
                </a:solidFill>
                <a:latin typeface="Tahoma"/>
              </a:rPr>
              <a:t>Primje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1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(0|1)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(0|1)*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(0|1)*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(0|1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1.0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 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up svih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ing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gene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s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h regular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že bi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brojiv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beskonača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nad alfabetom {0,1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00, 10}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1(0|1)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|1)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100, 101, 110, 111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0*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{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, 0, 00, 000, 0000…}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E: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(0|1)*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 Skup =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vi binarni brojev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h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0, 1, .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)*.(0|1)* - bina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 realni brojev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0)* -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izovi nula parne dužin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*(01*01*)* - 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 sa parnim brojem nul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99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= { a,b,c, 0, 1, 2 }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a|b|c)(a|b|c|0|1|2)* - 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anumer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čk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dentif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ator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0|1|2)* - 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rnarni brojevi (osnova 3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pojite stringove sa izraz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(0|1)*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((</a:t>
            </a:r>
            <a:r>
              <a:rPr b="0" lang="el-GR" sz="2800" spc="-1" strike="noStrike">
                <a:solidFill>
                  <a:srgbClr val="ccff99"/>
                </a:solidFill>
                <a:latin typeface="Tahoma"/>
                <a:ea typeface="Tahoma"/>
              </a:rPr>
              <a:t>ε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|0)1*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80000"/>
              </a:lnSpc>
              <a:spcBef>
                <a:spcPts val="700"/>
              </a:spcBef>
              <a:buClr>
                <a:srgbClr val="ccff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((0|1)0(0|1))*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Svi stringovi nula i jedinica koji NE sadr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  <a:ea typeface="Tahoma"/>
              </a:rPr>
              <a:t>ž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  <a:ea typeface="Tahoma"/>
              </a:rPr>
              <a:t>e podstring 01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1*((010)*0*)*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l-GR" sz="2400" spc="-1" strike="noStrike">
                <a:solidFill>
                  <a:srgbClr val="ccffff"/>
                </a:solidFill>
                <a:latin typeface="Tahoma"/>
                <a:ea typeface="Tahoma"/>
              </a:rPr>
              <a:t>ε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  <a:ea typeface="Tahoma"/>
              </a:rPr>
              <a:t>|1)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00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10101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10101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ccff99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001100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438280" y="175212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1981080"/>
            <a:ext cx="2210040" cy="2286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981080"/>
            <a:ext cx="2210040" cy="18288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743200" y="1752480"/>
            <a:ext cx="1905120" cy="10670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743200" y="2209680"/>
            <a:ext cx="1905120" cy="60984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2819520"/>
            <a:ext cx="190512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43200" y="2819520"/>
            <a:ext cx="1905120" cy="4572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2819520"/>
            <a:ext cx="1905120" cy="99036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809880"/>
            <a:ext cx="1295640" cy="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352680" y="1752120"/>
            <a:ext cx="1295640" cy="2057400"/>
          </a:xfrm>
          <a:prstGeom prst="line">
            <a:avLst/>
          </a:prstGeom>
          <a:ln cap="sq"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ačni automat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bet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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a, uključujući početno i završna st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lazak između stanja, označen slovima alfab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325520" y="3341520"/>
            <a:ext cx="6998040" cy="2326680"/>
            <a:chOff x="1325520" y="3341520"/>
            <a:chExt cx="6998040" cy="2326680"/>
          </a:xfrm>
        </p:grpSpPr>
        <p:sp>
          <p:nvSpPr>
            <p:cNvPr id="293" name=""/>
            <p:cNvSpPr/>
            <p:nvPr/>
          </p:nvSpPr>
          <p:spPr>
            <a:xfrm>
              <a:off x="1819440" y="4724280"/>
              <a:ext cx="30456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472428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3" idx="2"/>
              <a:endCxn id="293" idx="0"/>
            </p:cNvCxnSpPr>
            <p:nvPr/>
          </p:nvCxnSpPr>
          <p:spPr>
            <a:xfrm flipH="1" rot="10800000">
              <a:off x="1809360" y="4714200"/>
              <a:ext cx="162720" cy="162720"/>
            </a:xfrm>
            <a:prstGeom prst="curvedConnector5">
              <a:avLst>
                <a:gd name="adj1" fmla="val -135254"/>
                <a:gd name="adj2" fmla="val 117516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296" name=""/>
            <p:cNvSpPr/>
            <p:nvPr/>
          </p:nvSpPr>
          <p:spPr>
            <a:xfrm>
              <a:off x="13255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70720" y="52927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70720" y="42260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5840" y="4141800"/>
              <a:ext cx="209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Ze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eno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sta</a:t>
              </a: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0800" y="5208480"/>
              <a:ext cx="190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ff"/>
                  </a:solidFill>
                  <a:latin typeface="Tahoma"/>
                </a:rPr>
                <a:t>Plavo stanj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293" idx="2"/>
              <a:endCxn id="293" idx="4"/>
            </p:cNvCxnSpPr>
            <p:nvPr/>
          </p:nvCxnSpPr>
          <p:spPr>
            <a:xfrm flipH="1" flipV="1" rot="10800000">
              <a:off x="1809360" y="4875840"/>
              <a:ext cx="162720" cy="162360"/>
            </a:xfrm>
            <a:prstGeom prst="curvedConnector5">
              <a:avLst>
                <a:gd name="adj1" fmla="val -135254"/>
                <a:gd name="adj2" fmla="val 117555"/>
                <a:gd name="adj3" fmla="val -135254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13255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303" name=""/>
            <p:cNvCxnSpPr>
              <a:stCxn id="293" idx="6"/>
              <a:endCxn id="294" idx="2"/>
            </p:cNvCxnSpPr>
            <p:nvPr/>
          </p:nvCxnSpPr>
          <p:spPr>
            <a:xfrm>
              <a:off x="2133720" y="4876560"/>
              <a:ext cx="121032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4" name=""/>
            <p:cNvCxnSpPr>
              <a:stCxn id="294" idx="6"/>
              <a:endCxn id="294" idx="4"/>
            </p:cNvCxnSpPr>
            <p:nvPr/>
          </p:nvCxnSpPr>
          <p:spPr>
            <a:xfrm flipH="1">
              <a:off x="3504600" y="4876560"/>
              <a:ext cx="162360" cy="162360"/>
            </a:xfrm>
            <a:prstGeom prst="curvedConnector5">
              <a:avLst>
                <a:gd name="adj1" fmla="val -135111"/>
                <a:gd name="adj2" fmla="val 117555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305" name=""/>
            <p:cNvCxnSpPr>
              <a:stCxn id="294" idx="6"/>
              <a:endCxn id="294" idx="0"/>
            </p:cNvCxnSpPr>
            <p:nvPr/>
          </p:nvCxnSpPr>
          <p:spPr>
            <a:xfrm flipH="1" flipV="1">
              <a:off x="3504600" y="4714560"/>
              <a:ext cx="162360" cy="162720"/>
            </a:xfrm>
            <a:prstGeom prst="curvedConnector5">
              <a:avLst>
                <a:gd name="adj1" fmla="val -135111"/>
                <a:gd name="adj2" fmla="val 117516"/>
                <a:gd name="adj3" fmla="val -135111"/>
              </a:avLst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3840120" y="4218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40120" y="50562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920" y="426888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36640" y="3341520"/>
              <a:ext cx="260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ahoma"/>
                </a:rPr>
                <a:t>(0|1)*.(0|1)*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finicij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računar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gramsk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či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obri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ako definisat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definicija jezi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 li jezik definisati samog seb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stoji li univerzalni jezi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repoznavanje stringov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te sa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im stanjem i prvim slovom string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svakom koraku, tražite poklapanje tekućeg slova sa oznakom grane prelas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navljati do kraja stringa ili nepoklap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ste u završnom stanju i došli ste do kraja stringa, automat prihvata datu riječ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automata je skup svih stringova koje prihvata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12" idx="2"/>
            <a:endCxn id="312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5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12" idx="2"/>
            <a:endCxn id="312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17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2" idx="6"/>
            <a:endCxn id="313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19" name=""/>
          <p:cNvCxnSpPr>
            <a:stCxn id="313" idx="6"/>
            <a:endCxn id="313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20" name=""/>
          <p:cNvCxnSpPr>
            <a:stCxn id="313" idx="6"/>
            <a:endCxn id="313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21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36232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3080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stCxn id="335" idx="2"/>
            <a:endCxn id="335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8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5" idx="2"/>
            <a:endCxn id="335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0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5" idx="6"/>
            <a:endCxn id="336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"/>
          <p:cNvCxnSpPr>
            <a:stCxn id="336" idx="6"/>
            <a:endCxn id="336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"/>
          <p:cNvCxnSpPr>
            <a:stCxn id="336" idx="6"/>
            <a:endCxn id="336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4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6668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357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7" idx="2"/>
            <a:endCxn id="357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0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357" idx="2"/>
            <a:endCxn id="357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2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63" name=""/>
          <p:cNvCxnSpPr>
            <a:stCxn id="357" idx="6"/>
            <a:endCxn id="358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4" name=""/>
          <p:cNvCxnSpPr>
            <a:stCxn id="358" idx="6"/>
            <a:endCxn id="358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5" name=""/>
          <p:cNvCxnSpPr>
            <a:stCxn id="358" idx="6"/>
            <a:endCxn id="358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6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0430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119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19051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101600" y="121140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9" idx="2"/>
            <a:endCxn id="379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2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9" idx="2"/>
            <a:endCxn id="379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4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6"/>
            <a:endCxn id="380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6" name=""/>
          <p:cNvCxnSpPr>
            <a:stCxn id="380" idx="6"/>
            <a:endCxn id="380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87" name=""/>
          <p:cNvCxnSpPr>
            <a:stCxn id="380" idx="6"/>
            <a:endCxn id="380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8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2716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405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819440" y="297180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2680" y="2971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1" idx="2"/>
            <a:endCxn id="401" idx="0"/>
          </p:cNvCxnSpPr>
          <p:nvPr/>
        </p:nvCxnSpPr>
        <p:spPr>
          <a:xfrm flipH="1" rot="10800000">
            <a:off x="1809360" y="2961720"/>
            <a:ext cx="162720" cy="162360"/>
          </a:xfrm>
          <a:prstGeom prst="curvedConnector5">
            <a:avLst>
              <a:gd name="adj1" fmla="val -135254"/>
              <a:gd name="adj2" fmla="val 117555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4" name=""/>
          <p:cNvSpPr/>
          <p:nvPr/>
        </p:nvSpPr>
        <p:spPr>
          <a:xfrm>
            <a:off x="13255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1" idx="2"/>
            <a:endCxn id="401" idx="4"/>
          </p:cNvCxnSpPr>
          <p:nvPr/>
        </p:nvCxnSpPr>
        <p:spPr>
          <a:xfrm flipH="1" flipV="1" rot="10800000">
            <a:off x="1809360" y="3123720"/>
            <a:ext cx="162720" cy="162720"/>
          </a:xfrm>
          <a:prstGeom prst="curvedConnector5">
            <a:avLst>
              <a:gd name="adj1" fmla="val -135254"/>
              <a:gd name="adj2" fmla="val 117516"/>
              <a:gd name="adj3" fmla="val -135254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6" name=""/>
          <p:cNvSpPr/>
          <p:nvPr/>
        </p:nvSpPr>
        <p:spPr>
          <a:xfrm>
            <a:off x="13255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1" idx="6"/>
            <a:endCxn id="402" idx="2"/>
          </p:cNvCxnSpPr>
          <p:nvPr/>
        </p:nvCxnSpPr>
        <p:spPr>
          <a:xfrm>
            <a:off x="2133720" y="312372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8" name=""/>
          <p:cNvCxnSpPr>
            <a:stCxn id="402" idx="6"/>
            <a:endCxn id="402" idx="4"/>
          </p:cNvCxnSpPr>
          <p:nvPr/>
        </p:nvCxnSpPr>
        <p:spPr>
          <a:xfrm flipH="1">
            <a:off x="3504600" y="3124080"/>
            <a:ext cx="162360" cy="162720"/>
          </a:xfrm>
          <a:prstGeom prst="curvedConnector5">
            <a:avLst>
              <a:gd name="adj1" fmla="val -135111"/>
              <a:gd name="adj2" fmla="val 117516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9" name=""/>
          <p:cNvCxnSpPr>
            <a:stCxn id="402" idx="6"/>
            <a:endCxn id="402" idx="0"/>
          </p:cNvCxnSpPr>
          <p:nvPr/>
        </p:nvCxnSpPr>
        <p:spPr>
          <a:xfrm flipH="1" flipV="1">
            <a:off x="3504600" y="2961720"/>
            <a:ext cx="162360" cy="162360"/>
          </a:xfrm>
          <a:prstGeom prst="curvedConnector5">
            <a:avLst>
              <a:gd name="adj1" fmla="val -135111"/>
              <a:gd name="adj2" fmla="val 117555"/>
              <a:gd name="adj3" fmla="val -135111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10" name=""/>
          <p:cNvSpPr/>
          <p:nvPr/>
        </p:nvSpPr>
        <p:spPr>
          <a:xfrm>
            <a:off x="3840120" y="2465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40120" y="330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11200" y="4332240"/>
            <a:ext cx="13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1 . 0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31520" y="2030400"/>
            <a:ext cx="4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7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35053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67280" y="2438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11240" y="2354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95480" y="342108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526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581280" y="4800240"/>
            <a:ext cx="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850120" y="5554800"/>
            <a:ext cx="20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lov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25480" y="128736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kuće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47720" y="476712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ing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e prihvać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 vs. prepoznav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sno posmtrano, jezik je sk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zraz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o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i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utoma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fin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u jezik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mplemen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o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ređuju da li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ing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jeziku ili n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oret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su ekvivalent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ja primjenom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indu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Dat je proizvoljan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regular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izraz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onvertujemo ga u automat s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 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čet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dn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vrš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tanj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m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Automat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3800520" y="2819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4120" y="2819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8" idx="6"/>
            <a:endCxn id="429" idx="2"/>
          </p:cNvCxnSpPr>
          <p:nvPr/>
        </p:nvCxnSpPr>
        <p:spPr>
          <a:xfrm>
            <a:off x="4114800" y="2971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1" name=""/>
          <p:cNvSpPr/>
          <p:nvPr/>
        </p:nvSpPr>
        <p:spPr>
          <a:xfrm>
            <a:off x="2059560" y="26668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0520" y="39625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34120" y="39625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433" idx="6"/>
            <a:endCxn id="434" idx="2"/>
          </p:cNvCxnSpPr>
          <p:nvPr/>
        </p:nvCxnSpPr>
        <p:spPr>
          <a:xfrm>
            <a:off x="4114800" y="4114440"/>
            <a:ext cx="12103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36" name=""/>
          <p:cNvSpPr/>
          <p:nvPr/>
        </p:nvSpPr>
        <p:spPr>
          <a:xfrm>
            <a:off x="2052000" y="38098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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89560" y="342576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0000"/>
            </a:gs>
            <a:gs pos="100000">
              <a:srgbClr val="5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Le</a:t>
            </a:r>
            <a:r>
              <a:rPr b="1" lang="sr-Latn-CS" sz="3200" spc="-1" strike="noStrike">
                <a:solidFill>
                  <a:srgbClr val="ffff99"/>
                </a:solidFill>
                <a:latin typeface="Tahoma"/>
              </a:rPr>
              <a:t>ksičk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Regular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ni izrazi (Regular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Expression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Konačni automat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Finite State Automata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deterministički (DKA, engl. D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99"/>
                </a:solidFill>
                <a:latin typeface="Tahoma"/>
              </a:rPr>
              <a:t>nedeterministički (NKA, engl. NFA) 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D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NFSA </a:t>
            </a:r>
            <a:r>
              <a:rPr b="0" lang="en-US" sz="2800" spc="-1" strike="noStrike">
                <a:solidFill>
                  <a:srgbClr val="ffff99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RE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 konverzija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</a:rPr>
              <a:t>S</a:t>
            </a:r>
            <a:r>
              <a:rPr b="0" lang="sr-Latn-CS" sz="3200" spc="-1" strike="noStrike">
                <a:solidFill>
                  <a:srgbClr val="ffff99"/>
                </a:solidFill>
                <a:latin typeface="Tahoma"/>
              </a:rPr>
              <a:t>intaksna analiza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Beskontekstni jezici (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Context Free Languages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Parsi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ran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ffff99"/>
                </a:solidFill>
                <a:latin typeface="Tahoma"/>
              </a:rPr>
              <a:t>sljedeće lekcije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8640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80968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0140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1295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18288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08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43820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7" idx="6"/>
            <a:endCxn id="480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81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8672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905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826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6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16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9029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190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9" idx="6"/>
            <a:endCxn id="502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3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505" idx="6"/>
            <a:endCxn id="512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13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0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33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25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457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618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onkatenaci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3581280"/>
            <a:ext cx="30456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2400" y="35812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3" idx="6"/>
            <a:endCxn id="526" idx="2"/>
          </p:cNvCxnSpPr>
          <p:nvPr/>
        </p:nvCxnSpPr>
        <p:spPr>
          <a:xfrm>
            <a:off x="2219400" y="3733560"/>
            <a:ext cx="66744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27" name=""/>
          <p:cNvSpPr/>
          <p:nvPr/>
        </p:nvSpPr>
        <p:spPr>
          <a:xfrm>
            <a:off x="830160" y="3417840"/>
            <a:ext cx="78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26440" y="304812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577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5020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7232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16680" y="34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105520" y="3200400"/>
            <a:ext cx="213336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29" idx="6"/>
            <a:endCxn id="536" idx="2"/>
          </p:cNvCxnSpPr>
          <p:nvPr/>
        </p:nvCxnSpPr>
        <p:spPr>
          <a:xfrm>
            <a:off x="4572000" y="373356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7" name=""/>
          <p:cNvCxnSpPr>
            <a:stCxn id="532" idx="6"/>
            <a:endCxn id="524" idx="2"/>
          </p:cNvCxnSpPr>
          <p:nvPr/>
        </p:nvCxnSpPr>
        <p:spPr>
          <a:xfrm>
            <a:off x="7086240" y="3733560"/>
            <a:ext cx="677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38" name=""/>
          <p:cNvSpPr/>
          <p:nvPr/>
        </p:nvSpPr>
        <p:spPr>
          <a:xfrm>
            <a:off x="731736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288160" y="31240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34120" y="35812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95480" y="3581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619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540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430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430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67436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59048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3" idx="6"/>
            <a:endCxn id="586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87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595" name=""/>
          <p:cNvCxnSpPr>
            <a:stCxn id="583" idx="6"/>
            <a:endCxn id="591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6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ternaci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81200" y="384480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00800" y="380988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7" idx="6"/>
            <a:endCxn id="610" idx="3"/>
          </p:cNvCxnSpPr>
          <p:nvPr/>
        </p:nvCxnSpPr>
        <p:spPr>
          <a:xfrm flipV="1">
            <a:off x="2895120" y="3470040"/>
            <a:ext cx="1035720" cy="5277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1" name=""/>
          <p:cNvSpPr/>
          <p:nvPr/>
        </p:nvSpPr>
        <p:spPr>
          <a:xfrm>
            <a:off x="1396080" y="3605040"/>
            <a:ext cx="100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|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40960" y="43434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86200" y="32004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8440" y="320040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2440" y="303696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281952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48440" y="4495680"/>
            <a:ext cx="30456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492440" y="4332240"/>
            <a:ext cx="48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r>
              <a:rPr b="0" lang="en-US" sz="3200" spc="-1" strike="noStrike" baseline="-25000">
                <a:solidFill>
                  <a:srgbClr val="00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81280" y="4114800"/>
            <a:ext cx="2133720" cy="10666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07" idx="6"/>
            <a:endCxn id="616" idx="2"/>
          </p:cNvCxnSpPr>
          <p:nvPr/>
        </p:nvCxnSpPr>
        <p:spPr>
          <a:xfrm>
            <a:off x="2895480" y="3997440"/>
            <a:ext cx="905760" cy="6516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1" name=""/>
          <p:cNvCxnSpPr>
            <a:stCxn id="613" idx="6"/>
            <a:endCxn id="608" idx="2"/>
          </p:cNvCxnSpPr>
          <p:nvPr/>
        </p:nvCxnSpPr>
        <p:spPr>
          <a:xfrm>
            <a:off x="5562720" y="3352680"/>
            <a:ext cx="829440" cy="6105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22" name=""/>
          <p:cNvCxnSpPr>
            <a:stCxn id="617" idx="6"/>
            <a:endCxn id="608" idx="3"/>
          </p:cNvCxnSpPr>
          <p:nvPr/>
        </p:nvCxnSpPr>
        <p:spPr>
          <a:xfrm flipV="1">
            <a:off x="5562360" y="4079520"/>
            <a:ext cx="883080" cy="5688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23" name=""/>
          <p:cNvSpPr/>
          <p:nvPr/>
        </p:nvSpPr>
        <p:spPr>
          <a:xfrm>
            <a:off x="6088680" y="2971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64600" y="3159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40560" y="4302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ffff"/>
                </a:solidFill>
                <a:latin typeface="Tahoma"/>
              </a:rPr>
              <a:t>Zatvorenje (Kleene *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Opisivanje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lojevita struktura definicije jezik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f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abet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(azbuka)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osnovni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mbol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leksička struktur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iječi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inta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rečenic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s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emanti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a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-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značenj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u ovoj lekcij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: le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ička</a:t>
            </a:r>
            <a:r>
              <a:rPr b="0" lang="sr-Latn-CS" sz="4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 s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nta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sna 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4000" spc="-1" strike="noStrike" baseline="30000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4000" spc="-1" strike="noStrike" baseline="30000">
                <a:solidFill>
                  <a:srgbClr val="ccffff"/>
                </a:solidFill>
                <a:latin typeface="Tahoma"/>
              </a:rPr>
              <a:t>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2" name=""/>
          <p:cNvCxnSpPr/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3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74" name=""/>
          <p:cNvCxnSpPr/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75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88" name=""/>
          <p:cNvCxnSpPr>
            <a:stCxn id="686" idx="6"/>
            <a:endCxn id="689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0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91" idx="6"/>
            <a:endCxn id="687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4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1" idx="0"/>
            <a:endCxn id="689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97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581280" y="3352680"/>
            <a:ext cx="2133720" cy="106704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Zatvor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3733920"/>
            <a:ext cx="304920" cy="30456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324480" y="3733920"/>
            <a:ext cx="304920" cy="30456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0" name=""/>
          <p:cNvCxnSpPr>
            <a:stCxn id="708" idx="6"/>
            <a:endCxn id="711" idx="2"/>
          </p:cNvCxnSpPr>
          <p:nvPr/>
        </p:nvCxnSpPr>
        <p:spPr>
          <a:xfrm>
            <a:off x="2828520" y="3885840"/>
            <a:ext cx="9723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2" name=""/>
          <p:cNvSpPr/>
          <p:nvPr/>
        </p:nvSpPr>
        <p:spPr>
          <a:xfrm>
            <a:off x="1056960" y="3646440"/>
            <a:ext cx="5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*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9880" y="3733920"/>
            <a:ext cx="304920" cy="30456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248440" y="3733920"/>
            <a:ext cx="304560" cy="30456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86680" y="3570120"/>
            <a:ext cx="3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r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stCxn id="713" idx="6"/>
            <a:endCxn id="709" idx="2"/>
          </p:cNvCxnSpPr>
          <p:nvPr/>
        </p:nvCxnSpPr>
        <p:spPr>
          <a:xfrm>
            <a:off x="5562720" y="3885840"/>
            <a:ext cx="7531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6" name=""/>
          <p:cNvSpPr/>
          <p:nvPr/>
        </p:nvSpPr>
        <p:spPr>
          <a:xfrm>
            <a:off x="57934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050280" y="335268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3" idx="0"/>
            <a:endCxn id="711" idx="0"/>
          </p:cNvCxnSpPr>
          <p:nvPr/>
        </p:nvCxnSpPr>
        <p:spPr>
          <a:xfrm rot="5400000">
            <a:off x="4680000" y="3004920"/>
            <a:ext cx="2520" cy="1438920"/>
          </a:xfrm>
          <a:prstGeom prst="curvedConnector5">
            <a:avLst>
              <a:gd name="adj1" fmla="val -50900000"/>
              <a:gd name="adj2" fmla="val 50000"/>
              <a:gd name="adj3" fmla="val -50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19" name=""/>
          <p:cNvSpPr/>
          <p:nvPr/>
        </p:nvSpPr>
        <p:spPr>
          <a:xfrm>
            <a:off x="4497840" y="22860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20" name=""/>
          <p:cNvCxnSpPr>
            <a:stCxn id="708" idx="4"/>
            <a:endCxn id="709" idx="4"/>
          </p:cNvCxnSpPr>
          <p:nvPr/>
        </p:nvCxnSpPr>
        <p:spPr>
          <a:xfrm flipH="1" rot="16200000">
            <a:off x="4571280" y="2143440"/>
            <a:ext cx="2160" cy="3810960"/>
          </a:xfrm>
          <a:prstGeom prst="curvedConnector5">
            <a:avLst>
              <a:gd name="adj1" fmla="val 65780000"/>
              <a:gd name="adj2" fmla="val 49995"/>
              <a:gd name="adj3" fmla="val 657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21" name=""/>
          <p:cNvSpPr/>
          <p:nvPr/>
        </p:nvSpPr>
        <p:spPr>
          <a:xfrm>
            <a:off x="4421880" y="5257800"/>
            <a:ext cx="3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57400" y="129528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057400" y="1828800"/>
            <a:ext cx="304920" cy="304920"/>
          </a:xfrm>
          <a:prstGeom prst="ellipse">
            <a:avLst/>
          </a:prstGeom>
          <a:gradFill rotWithShape="0">
            <a:gsLst>
              <a:gs pos="0">
                <a:srgbClr val="0099cc"/>
              </a:gs>
              <a:gs pos="100000">
                <a:srgbClr val="00465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1040" y="175248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 z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657520" y="121932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ta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1828800"/>
            <a:ext cx="304920" cy="30492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1295280"/>
            <a:ext cx="304920" cy="30492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6360" y="174456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avrš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868440" y="121140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četno stanj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FA vs. DF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F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laza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više jedna prelaz iz svakog stanja za svako slovo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FA –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može oboj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800520" y="3191040"/>
            <a:ext cx="1609560" cy="1724400"/>
            <a:chOff x="3800520" y="3191040"/>
            <a:chExt cx="1609560" cy="1724400"/>
          </a:xfrm>
        </p:grpSpPr>
        <p:sp>
          <p:nvSpPr>
            <p:cNvPr id="733" name=""/>
            <p:cNvSpPr/>
            <p:nvPr/>
          </p:nvSpPr>
          <p:spPr>
            <a:xfrm>
              <a:off x="38005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4" name=""/>
            <p:cNvCxnSpPr>
              <a:stCxn id="733" idx="6"/>
              <a:endCxn id="735" idx="3"/>
            </p:cNvCxnSpPr>
            <p:nvPr/>
          </p:nvCxnSpPr>
          <p:spPr>
            <a:xfrm flipV="1">
              <a:off x="41144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5" name=""/>
            <p:cNvSpPr/>
            <p:nvPr/>
          </p:nvSpPr>
          <p:spPr>
            <a:xfrm>
              <a:off x="51055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0292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37" name=""/>
            <p:cNvCxnSpPr>
              <a:stCxn id="733" idx="6"/>
              <a:endCxn id="736" idx="2"/>
            </p:cNvCxnSpPr>
            <p:nvPr/>
          </p:nvCxnSpPr>
          <p:spPr>
            <a:xfrm>
              <a:off x="41148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38" name=""/>
            <p:cNvSpPr/>
            <p:nvPr/>
          </p:nvSpPr>
          <p:spPr>
            <a:xfrm>
              <a:off x="41752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47280" y="4334040"/>
              <a:ext cx="43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52360" y="3722760"/>
            <a:ext cx="7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6772320" y="3191040"/>
            <a:ext cx="1609560" cy="1724400"/>
            <a:chOff x="6772320" y="3191040"/>
            <a:chExt cx="1609560" cy="1724400"/>
          </a:xfrm>
        </p:grpSpPr>
        <p:sp>
          <p:nvSpPr>
            <p:cNvPr id="742" name=""/>
            <p:cNvSpPr/>
            <p:nvPr/>
          </p:nvSpPr>
          <p:spPr>
            <a:xfrm>
              <a:off x="6772320" y="387972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3" name=""/>
            <p:cNvCxnSpPr>
              <a:stCxn id="742" idx="6"/>
              <a:endCxn id="744" idx="3"/>
            </p:cNvCxnSpPr>
            <p:nvPr/>
          </p:nvCxnSpPr>
          <p:spPr>
            <a:xfrm flipV="1">
              <a:off x="7086240" y="3504960"/>
              <a:ext cx="1035720" cy="527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4" name=""/>
            <p:cNvSpPr/>
            <p:nvPr/>
          </p:nvSpPr>
          <p:spPr>
            <a:xfrm>
              <a:off x="8077320" y="3235320"/>
              <a:ext cx="30456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001000" y="4530600"/>
              <a:ext cx="304920" cy="304920"/>
            </a:xfrm>
            <a:prstGeom prst="ellipse">
              <a:avLst/>
            </a:prstGeom>
            <a:solidFill>
              <a:srgbClr val="0099cc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2" idx="6"/>
              <a:endCxn id="745" idx="2"/>
            </p:cNvCxnSpPr>
            <p:nvPr/>
          </p:nvCxnSpPr>
          <p:spPr>
            <a:xfrm>
              <a:off x="7086600" y="4032360"/>
              <a:ext cx="905760" cy="65160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47" name=""/>
            <p:cNvSpPr/>
            <p:nvPr/>
          </p:nvSpPr>
          <p:spPr>
            <a:xfrm>
              <a:off x="7147080" y="3191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23400" y="433404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5555160" y="3494160"/>
            <a:ext cx="103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NOT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O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6553080" y="3048120"/>
            <a:ext cx="1904760" cy="1904400"/>
            <a:chOff x="6553080" y="3048120"/>
            <a:chExt cx="1904760" cy="1904400"/>
          </a:xfrm>
        </p:grpSpPr>
        <p:sp>
          <p:nvSpPr>
            <p:cNvPr id="751" name=""/>
            <p:cNvSpPr/>
            <p:nvPr/>
          </p:nvSpPr>
          <p:spPr>
            <a:xfrm>
              <a:off x="6553080" y="3048120"/>
              <a:ext cx="1904760" cy="1904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752" name=""/>
            <p:cNvCxnSpPr>
              <a:stCxn id="751" idx="3"/>
              <a:endCxn id="751" idx="7"/>
            </p:cNvCxnSpPr>
            <p:nvPr/>
          </p:nvCxnSpPr>
          <p:spPr>
            <a:xfrm flipV="1">
              <a:off x="6832800" y="3289680"/>
              <a:ext cx="1345680" cy="142020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onv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i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evođenje RE u automat kreira NK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Želimo da imamo DKA jer je algoritam prepoznavanja jednostavnij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nver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at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 (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li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može biti ekponencijalno veći od odgovarajućeg DKA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goritam prevođenja posto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gladjete knjigu i posebnu prezentaciju za još primjer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Stanje DKA je podskup skupa stanja NK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očetno stanje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KA odgovara skupu stanja u koja možemo preći iz 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četn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anj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 NKA prateći </a:t>
            </a:r>
            <a:r>
              <a:rPr b="0" lang="en-US" sz="28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elask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e DKA je završno ako se bar jedno završno stan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FA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lazi u skupu stanja koje predstavalja stanje DK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relasci iz stanja D DKA na slovo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ka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azan skup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ći skup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tanj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koja su u D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524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Za svako stanje 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n </a:t>
            </a:r>
            <a:r>
              <a:rPr b="0" lang="sr-Latn-CS" sz="2100" spc="-1" strike="noStrike">
                <a:solidFill>
                  <a:srgbClr val="ccffff"/>
                </a:solidFill>
                <a:latin typeface="Tahoma"/>
              </a:rPr>
              <a:t>iz</a:t>
            </a:r>
            <a:r>
              <a:rPr b="0" lang="en-US" sz="2100" spc="-1" strike="noStrike">
                <a:solidFill>
                  <a:srgbClr val="ccffff"/>
                </a:solidFill>
                <a:latin typeface="Tahoma"/>
              </a:rPr>
              <a:t> N</a:t>
            </a:r>
            <a:endParaRPr b="0" lang="en-US" sz="21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Naći skup stanja 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N’ </a:t>
            </a: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u koje se može preći na slovo a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76"/>
              </a:spcBef>
              <a:buClr>
                <a:srgbClr val="cc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ccffff"/>
                </a:solidFill>
                <a:latin typeface="Tahoma"/>
              </a:rPr>
              <a:t>S </a:t>
            </a:r>
            <a:r>
              <a:rPr b="0" lang="sr-Latn-CS" sz="1900" spc="-1" strike="noStrike">
                <a:solidFill>
                  <a:srgbClr val="ccffff"/>
                </a:solidFill>
                <a:latin typeface="Symbol"/>
                <a:ea typeface="Symbol"/>
              </a:rPr>
              <a:t></a:t>
            </a:r>
            <a:r>
              <a:rPr b="0" lang="en-US" sz="1900" spc="-1" strike="noStrike">
                <a:solidFill>
                  <a:srgbClr val="ccffff"/>
                </a:solidFill>
                <a:latin typeface="Tahoma"/>
              </a:rPr>
              <a:t> S union N’</a:t>
            </a:r>
            <a:endParaRPr b="0" lang="en-US" sz="19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o je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 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eprazan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a postoji prelazak iz stanja D u ono stanje DKA koje ima S kao skup st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U suprotnom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ema prelaska iz D na slovo 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br>
              <a:rPr sz="2800"/>
            </a:b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148824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" y="1743120"/>
            <a:ext cx="381240" cy="38088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1811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9" idx="6"/>
            <a:endCxn id="760" idx="2"/>
          </p:cNvCxnSpPr>
          <p:nvPr/>
        </p:nvCxnSpPr>
        <p:spPr>
          <a:xfrm>
            <a:off x="80928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2" name=""/>
          <p:cNvSpPr/>
          <p:nvPr/>
        </p:nvSpPr>
        <p:spPr>
          <a:xfrm>
            <a:off x="18669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8669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60" idx="7"/>
            <a:endCxn id="762" idx="3"/>
          </p:cNvCxnSpPr>
          <p:nvPr/>
        </p:nvCxnSpPr>
        <p:spPr>
          <a:xfrm flipV="1">
            <a:off x="1506240" y="16203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65" name=""/>
          <p:cNvCxnSpPr>
            <a:stCxn id="760" idx="5"/>
            <a:endCxn id="763" idx="1"/>
          </p:cNvCxnSpPr>
          <p:nvPr/>
        </p:nvCxnSpPr>
        <p:spPr>
          <a:xfrm>
            <a:off x="1506240" y="20779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66" name=""/>
          <p:cNvSpPr/>
          <p:nvPr/>
        </p:nvSpPr>
        <p:spPr>
          <a:xfrm>
            <a:off x="262908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8824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784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62" idx="6"/>
            <a:endCxn id="766" idx="2"/>
          </p:cNvCxnSpPr>
          <p:nvPr/>
        </p:nvCxnSpPr>
        <p:spPr>
          <a:xfrm>
            <a:off x="225720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0" name=""/>
          <p:cNvSpPr/>
          <p:nvPr/>
        </p:nvSpPr>
        <p:spPr>
          <a:xfrm>
            <a:off x="262908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63" idx="6"/>
            <a:endCxn id="770" idx="2"/>
          </p:cNvCxnSpPr>
          <p:nvPr/>
        </p:nvCxnSpPr>
        <p:spPr>
          <a:xfrm>
            <a:off x="225720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2" name=""/>
          <p:cNvSpPr/>
          <p:nvPr/>
        </p:nvSpPr>
        <p:spPr>
          <a:xfrm>
            <a:off x="224460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100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148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75" name=""/>
          <p:cNvCxnSpPr>
            <a:stCxn id="766" idx="5"/>
            <a:endCxn id="774" idx="1"/>
          </p:cNvCxnSpPr>
          <p:nvPr/>
        </p:nvCxnSpPr>
        <p:spPr>
          <a:xfrm>
            <a:off x="2954160" y="16207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76" name=""/>
          <p:cNvCxnSpPr>
            <a:stCxn id="770" idx="7"/>
            <a:endCxn id="774" idx="3"/>
          </p:cNvCxnSpPr>
          <p:nvPr/>
        </p:nvCxnSpPr>
        <p:spPr>
          <a:xfrm flipV="1">
            <a:off x="2954160" y="20775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77" name=""/>
          <p:cNvSpPr/>
          <p:nvPr/>
        </p:nvSpPr>
        <p:spPr>
          <a:xfrm>
            <a:off x="303120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04056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0006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0" name=""/>
          <p:cNvCxnSpPr>
            <a:stCxn id="774" idx="6"/>
            <a:endCxn id="779" idx="2"/>
          </p:cNvCxnSpPr>
          <p:nvPr/>
        </p:nvCxnSpPr>
        <p:spPr>
          <a:xfrm>
            <a:off x="3705120" y="1933200"/>
            <a:ext cx="2865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1" name=""/>
          <p:cNvSpPr/>
          <p:nvPr/>
        </p:nvSpPr>
        <p:spPr>
          <a:xfrm>
            <a:off x="369792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60" idx="4"/>
            <a:endCxn id="779" idx="4"/>
          </p:cNvCxnSpPr>
          <p:nvPr/>
        </p:nvCxnSpPr>
        <p:spPr>
          <a:xfrm flipH="1" rot="16200000">
            <a:off x="278064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83" name=""/>
          <p:cNvCxnSpPr>
            <a:stCxn id="774" idx="0"/>
            <a:endCxn id="760" idx="0"/>
          </p:cNvCxnSpPr>
          <p:nvPr/>
        </p:nvCxnSpPr>
        <p:spPr>
          <a:xfrm rot="5400000">
            <a:off x="243684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84" name=""/>
          <p:cNvSpPr/>
          <p:nvPr/>
        </p:nvSpPr>
        <p:spPr>
          <a:xfrm>
            <a:off x="339300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54564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83920" y="2120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91508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76840" y="17431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7" idx="6"/>
            <a:endCxn id="788" idx="2"/>
          </p:cNvCxnSpPr>
          <p:nvPr/>
        </p:nvCxnSpPr>
        <p:spPr>
          <a:xfrm>
            <a:off x="5305320" y="19332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0" name=""/>
          <p:cNvSpPr/>
          <p:nvPr/>
        </p:nvSpPr>
        <p:spPr>
          <a:xfrm>
            <a:off x="6362640" y="12859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362640" y="2200320"/>
            <a:ext cx="38124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2" name=""/>
          <p:cNvCxnSpPr>
            <a:stCxn id="788" idx="7"/>
            <a:endCxn id="790" idx="3"/>
          </p:cNvCxnSpPr>
          <p:nvPr/>
        </p:nvCxnSpPr>
        <p:spPr>
          <a:xfrm flipV="1">
            <a:off x="6002280" y="162036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93" name=""/>
          <p:cNvCxnSpPr>
            <a:stCxn id="788" idx="5"/>
            <a:endCxn id="791" idx="1"/>
          </p:cNvCxnSpPr>
          <p:nvPr/>
        </p:nvCxnSpPr>
        <p:spPr>
          <a:xfrm>
            <a:off x="6002280" y="2077920"/>
            <a:ext cx="41688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4" name=""/>
          <p:cNvSpPr/>
          <p:nvPr/>
        </p:nvSpPr>
        <p:spPr>
          <a:xfrm>
            <a:off x="7124760" y="12859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983920" y="12826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7444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7" name=""/>
          <p:cNvCxnSpPr>
            <a:stCxn id="790" idx="6"/>
            <a:endCxn id="794" idx="2"/>
          </p:cNvCxnSpPr>
          <p:nvPr/>
        </p:nvCxnSpPr>
        <p:spPr>
          <a:xfrm>
            <a:off x="6752880" y="14760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98" name=""/>
          <p:cNvSpPr/>
          <p:nvPr/>
        </p:nvSpPr>
        <p:spPr>
          <a:xfrm>
            <a:off x="7124760" y="22003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91" idx="6"/>
            <a:endCxn id="798" idx="2"/>
          </p:cNvCxnSpPr>
          <p:nvPr/>
        </p:nvCxnSpPr>
        <p:spPr>
          <a:xfrm>
            <a:off x="6752880" y="2390400"/>
            <a:ext cx="3625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0" name=""/>
          <p:cNvSpPr/>
          <p:nvPr/>
        </p:nvSpPr>
        <p:spPr>
          <a:xfrm>
            <a:off x="6740640" y="1022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737040" y="24703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810560" y="1743120"/>
            <a:ext cx="380880" cy="3808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4" idx="5"/>
            <a:endCxn id="802" idx="1"/>
          </p:cNvCxnSpPr>
          <p:nvPr/>
        </p:nvCxnSpPr>
        <p:spPr>
          <a:xfrm>
            <a:off x="7449840" y="162072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04" name=""/>
          <p:cNvCxnSpPr>
            <a:stCxn id="798" idx="7"/>
            <a:endCxn id="802" idx="3"/>
          </p:cNvCxnSpPr>
          <p:nvPr/>
        </p:nvCxnSpPr>
        <p:spPr>
          <a:xfrm flipV="1">
            <a:off x="7449840" y="2077560"/>
            <a:ext cx="416520" cy="1692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5" name=""/>
          <p:cNvSpPr/>
          <p:nvPr/>
        </p:nvSpPr>
        <p:spPr>
          <a:xfrm>
            <a:off x="7526880" y="1292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36600" y="21780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8496360" y="1743120"/>
            <a:ext cx="380880" cy="380880"/>
          </a:xfrm>
          <a:prstGeom prst="ellipse">
            <a:avLst/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08" name=""/>
          <p:cNvCxnSpPr>
            <a:stCxn id="802" idx="6"/>
            <a:endCxn id="807" idx="2"/>
          </p:cNvCxnSpPr>
          <p:nvPr/>
        </p:nvCxnSpPr>
        <p:spPr>
          <a:xfrm>
            <a:off x="8200800" y="1933200"/>
            <a:ext cx="28620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09" name=""/>
          <p:cNvSpPr/>
          <p:nvPr/>
        </p:nvSpPr>
        <p:spPr>
          <a:xfrm>
            <a:off x="8193600" y="151128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0" name=""/>
          <p:cNvCxnSpPr>
            <a:stCxn id="788" idx="4"/>
            <a:endCxn id="807" idx="4"/>
          </p:cNvCxnSpPr>
          <p:nvPr/>
        </p:nvCxnSpPr>
        <p:spPr>
          <a:xfrm flipH="1" rot="16200000">
            <a:off x="7276320" y="724320"/>
            <a:ext cx="2160" cy="2820240"/>
          </a:xfrm>
          <a:prstGeom prst="curvedConnector5">
            <a:avLst>
              <a:gd name="adj1" fmla="val 50080000"/>
              <a:gd name="adj2" fmla="val 49993"/>
              <a:gd name="adj3" fmla="val 5008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11" name=""/>
          <p:cNvCxnSpPr>
            <a:stCxn id="802" idx="0"/>
            <a:endCxn id="788" idx="0"/>
          </p:cNvCxnSpPr>
          <p:nvPr/>
        </p:nvCxnSpPr>
        <p:spPr>
          <a:xfrm rot="5400000">
            <a:off x="6932520" y="666360"/>
            <a:ext cx="2520" cy="2134440"/>
          </a:xfrm>
          <a:prstGeom prst="curvedConnector5">
            <a:avLst>
              <a:gd name="adj1" fmla="val -56900000"/>
              <a:gd name="adj2" fmla="val 50000"/>
              <a:gd name="adj3" fmla="val -569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2" name=""/>
          <p:cNvSpPr/>
          <p:nvPr/>
        </p:nvSpPr>
        <p:spPr>
          <a:xfrm>
            <a:off x="7889040" y="97776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041320" y="227340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14" name=""/>
          <p:cNvCxnSpPr>
            <a:stCxn id="779" idx="6"/>
            <a:endCxn id="787" idx="2"/>
          </p:cNvCxnSpPr>
          <p:nvPr/>
        </p:nvCxnSpPr>
        <p:spPr>
          <a:xfrm>
            <a:off x="4390560" y="1933200"/>
            <a:ext cx="51516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15" name=""/>
          <p:cNvSpPr/>
          <p:nvPr/>
        </p:nvSpPr>
        <p:spPr>
          <a:xfrm>
            <a:off x="4430520" y="127332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819000" y="4876920"/>
            <a:ext cx="1447920" cy="38088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52800" y="4114800"/>
            <a:ext cx="1523880" cy="38088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52800" y="5638680"/>
            <a:ext cx="1523880" cy="381240"/>
          </a:xfrm>
          <a:prstGeom prst="roundRect">
            <a:avLst>
              <a:gd name="adj" fmla="val 50000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,7,2,3,4,8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62200" y="4876920"/>
            <a:ext cx="190512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114800"/>
            <a:ext cx="2438280" cy="38088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3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19920" y="5638680"/>
            <a:ext cx="2438280" cy="381240"/>
          </a:xfrm>
          <a:prstGeom prst="roundRect">
            <a:avLst>
              <a:gd name="adj" fmla="val 50000"/>
            </a:avLst>
          </a:prstGeom>
          <a:solidFill>
            <a:srgbClr val="0099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15,10,11,12,16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816" idx="0"/>
            <a:endCxn id="817" idx="1"/>
          </p:cNvCxnSpPr>
          <p:nvPr/>
        </p:nvCxnSpPr>
        <p:spPr>
          <a:xfrm flipV="1">
            <a:off x="1542600" y="4304520"/>
            <a:ext cx="600840" cy="562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3" name=""/>
          <p:cNvSpPr/>
          <p:nvPr/>
        </p:nvSpPr>
        <p:spPr>
          <a:xfrm>
            <a:off x="1901880" y="446076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4" name=""/>
          <p:cNvCxnSpPr>
            <a:stCxn id="816" idx="2"/>
            <a:endCxn id="818" idx="1"/>
          </p:cNvCxnSpPr>
          <p:nvPr/>
        </p:nvCxnSpPr>
        <p:spPr>
          <a:xfrm>
            <a:off x="1542600" y="5267160"/>
            <a:ext cx="600840" cy="5630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5" name=""/>
          <p:cNvSpPr/>
          <p:nvPr/>
        </p:nvSpPr>
        <p:spPr>
          <a:xfrm>
            <a:off x="1441080" y="55278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897000" y="41115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27" name=""/>
          <p:cNvCxnSpPr>
            <a:stCxn id="817" idx="3"/>
            <a:endCxn id="819" idx="0"/>
          </p:cNvCxnSpPr>
          <p:nvPr/>
        </p:nvCxnSpPr>
        <p:spPr>
          <a:xfrm>
            <a:off x="3686040" y="4304880"/>
            <a:ext cx="829440" cy="56268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828" name=""/>
          <p:cNvCxnSpPr>
            <a:stCxn id="818" idx="3"/>
            <a:endCxn id="819" idx="2"/>
          </p:cNvCxnSpPr>
          <p:nvPr/>
        </p:nvCxnSpPr>
        <p:spPr>
          <a:xfrm flipV="1">
            <a:off x="3686040" y="5266800"/>
            <a:ext cx="829440" cy="563040"/>
          </a:xfrm>
          <a:prstGeom prst="curvedConnector2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29" name=""/>
          <p:cNvSpPr/>
          <p:nvPr/>
        </p:nvSpPr>
        <p:spPr>
          <a:xfrm>
            <a:off x="4030200" y="533088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19" idx="3"/>
            <a:endCxn id="820" idx="1"/>
          </p:cNvCxnSpPr>
          <p:nvPr/>
        </p:nvCxnSpPr>
        <p:spPr>
          <a:xfrm flipV="1">
            <a:off x="5476680" y="430452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1" name=""/>
          <p:cNvSpPr/>
          <p:nvPr/>
        </p:nvSpPr>
        <p:spPr>
          <a:xfrm>
            <a:off x="5387760" y="43084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32" name=""/>
          <p:cNvCxnSpPr>
            <a:stCxn id="819" idx="3"/>
            <a:endCxn id="821" idx="1"/>
          </p:cNvCxnSpPr>
          <p:nvPr/>
        </p:nvCxnSpPr>
        <p:spPr>
          <a:xfrm>
            <a:off x="5476680" y="5067000"/>
            <a:ext cx="533880" cy="76284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33" name=""/>
          <p:cNvSpPr/>
          <p:nvPr/>
        </p:nvSpPr>
        <p:spPr>
          <a:xfrm>
            <a:off x="5422320" y="53276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290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10800000">
            <a:off x="26474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1780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3364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372440" y="449568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rot="10800000">
            <a:off x="6990840" y="4495320"/>
            <a:ext cx="228600" cy="1143000"/>
          </a:xfrm>
          <a:custGeom>
            <a:avLst/>
            <a:gdLst/>
            <a:ahLst/>
            <a:rect l="l" t="t" r="r" b="b"/>
            <a:pathLst>
              <a:path w="144" h="720">
                <a:moveTo>
                  <a:pt x="0" y="0"/>
                </a:moveTo>
                <a:cubicBezTo>
                  <a:pt x="72" y="132"/>
                  <a:pt x="144" y="264"/>
                  <a:pt x="144" y="384"/>
                </a:cubicBezTo>
                <a:cubicBezTo>
                  <a:pt x="144" y="504"/>
                  <a:pt x="72" y="612"/>
                  <a:pt x="0" y="72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21480" y="46134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679800" y="50706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38440" y="3759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991200" y="373392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657520" y="6045120"/>
            <a:ext cx="609480" cy="35568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010280" y="6019200"/>
            <a:ext cx="609840" cy="355320"/>
          </a:xfrm>
          <a:custGeom>
            <a:avLst/>
            <a:gdLst/>
            <a:ahLst/>
            <a:rect l="l" t="t" r="r" b="b"/>
            <a:pathLst>
              <a:path w="384" h="224">
                <a:moveTo>
                  <a:pt x="336" y="224"/>
                </a:moveTo>
                <a:cubicBezTo>
                  <a:pt x="360" y="144"/>
                  <a:pt x="384" y="64"/>
                  <a:pt x="336" y="32"/>
                </a:cubicBezTo>
                <a:cubicBezTo>
                  <a:pt x="288" y="0"/>
                  <a:pt x="96" y="0"/>
                  <a:pt x="48" y="32"/>
                </a:cubicBezTo>
                <a:cubicBezTo>
                  <a:pt x="0" y="64"/>
                  <a:pt x="24" y="144"/>
                  <a:pt x="48" y="224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812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12640" y="60134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216240" y="369900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559640" y="3679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50" name=""/>
          <p:cNvCxnSpPr>
            <a:stCxn id="816" idx="0"/>
            <a:endCxn id="819" idx="0"/>
          </p:cNvCxnSpPr>
          <p:nvPr/>
        </p:nvCxnSpPr>
        <p:spPr>
          <a:xfrm flipH="1" rot="16200000">
            <a:off x="3027600" y="3381120"/>
            <a:ext cx="2520" cy="2972520"/>
          </a:xfrm>
          <a:prstGeom prst="curvedConnector5">
            <a:avLst>
              <a:gd name="adj1" fmla="val -93200000"/>
              <a:gd name="adj2" fmla="val 50000"/>
              <a:gd name="adj3" fmla="val -93200000"/>
            </a:avLst>
          </a:prstGeom>
          <a:ln w="1908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851" name=""/>
          <p:cNvSpPr/>
          <p:nvPr/>
        </p:nvSpPr>
        <p:spPr>
          <a:xfrm>
            <a:off x="1534680" y="3425760"/>
            <a:ext cx="31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N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4000" spc="-1" strike="noStrike">
                <a:solidFill>
                  <a:srgbClr val="ffff66"/>
                </a:solidFill>
                <a:latin typeface="Symbol"/>
                <a:ea typeface="Symbol"/>
              </a:rPr>
              <a:t>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a|b)*.(a|b)*</a:t>
            </a:r>
            <a:endParaRPr b="1" lang="en-US" sz="28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1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1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A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– po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č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no stanje 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DK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Trans(A,a)=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, jer imamo prelazak iz stanja 3 u stanje 5 na slovo A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Symbol"/>
                <a:ea typeface="Symbol"/>
              </a:rPr>
              <a:t>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-closure(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{5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)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 = {5,7,2,3,4,8}</a:t>
            </a:r>
            <a:r>
              <a:rPr b="0" lang="sr-Latn-CS" sz="3600" spc="-1" strike="noStrike">
                <a:solidFill>
                  <a:srgbClr val="ccffff"/>
                </a:solidFill>
                <a:latin typeface="Tahoma"/>
              </a:rPr>
              <a:t> = </a:t>
            </a: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U DKA imamo Trans(A,a) = B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č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a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ru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a jezik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i programski jezik ima više kategorija rječ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.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ipične kategorije 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ljučne rije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if, while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+, -, *, /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Cijeli brojev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, 2, 45, 6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Realni brojev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1.0, .2, 3.337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denti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to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abc, i, j, ab345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običajeno je da imamo leksičku kategoriju za svaku ključnu riječ i/ili svaku kategoriju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Svaka leksička kategorija definiše se regulranim izrazo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ičke kategorije -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fKeyword = if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WhileKeyword = whil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Operator = +|-|*|/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nteger = [0-9]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loat = [0-9]*. [0-9]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Identifier = [a-z]([a-z]|[0-9])*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Note that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[0-9] = (0|1|2|3|4|5|6|7|8|9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4" marL="191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99"/>
                </a:solidFill>
                <a:latin typeface="Tahoma"/>
              </a:rPr>
              <a:t>[a-z] = (a|b|c|…|y|z)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ljedeća faza kompajlera koristi leksičke kategorij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8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8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Formal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i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jezic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Jezik je skup stringova (nizova karaktera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i pristup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Gene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sanje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t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poznavanje riječi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parser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Form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veza i mehanička koverzi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išemo r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egula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ne izraz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Svi stringovi nad alfabetom</a:t>
            </a: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 { &lt;, &gt; }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(&lt;|&gt;)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gdje iza otvorenih zagrada slijede zatvorene zagrade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*&gt;*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22200" indent="-322200">
              <a:spcBef>
                <a:spcPts val="75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3000" spc="-1" strike="noStrike">
                <a:solidFill>
                  <a:srgbClr val="ccff99"/>
                </a:solidFill>
                <a:latin typeface="Tahoma"/>
              </a:rPr>
              <a:t>ovi sa odgovarajućim brojem otvorenih i zatvorenih zagrada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99"/>
                </a:solidFill>
                <a:latin typeface="Tahoma"/>
              </a:rPr>
              <a:t>e može se napisati regularni izraz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!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8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Ugnježedeni izraz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žemo li regularnim izrazima opisati sintaksu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obajte sljedeće: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a+(b-c))*(d-(x-(y-z)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f (x &lt; y) if (y &lt; z) a = 5 else a = 6 else a = 7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Beskontekstne gramatike (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text-Free Gramma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nih simbol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Op, Int, Open, Close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vaki terminal je definisan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egular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m izrazom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{ </a:t>
            </a:r>
            <a:r>
              <a:rPr b="0" i="1" lang="en-US" sz="2600" spc="-1" strike="noStrike">
                <a:solidFill>
                  <a:srgbClr val="ccffff"/>
                </a:solidFill>
                <a:latin typeface="Tahoma"/>
              </a:rPr>
              <a:t>Start, Ex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}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up pravila (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produ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ja)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jedan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lijev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iz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termina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l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sa desne strane pravila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5486400" y="1447920"/>
            <a:ext cx="3505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8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8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8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Gener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is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očinjemo sa neterminalom </a:t>
            </a:r>
            <a:r>
              <a:rPr b="0" i="1" lang="en-US" sz="3200" spc="-1" strike="noStrike">
                <a:solidFill>
                  <a:srgbClr val="ccffff"/>
                </a:solidFill>
                <a:latin typeface="Tahoma"/>
              </a:rPr>
              <a:t>Start</a:t>
            </a:r>
            <a:r>
              <a:rPr b="0" i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ili onom koji je označen kao početni neterminal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loop until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ma neterminala u stringu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erminal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aber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produ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ju sa tim netrminalom sa lijeve stran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mijeni neterminal sa desnom stranom produ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Ovo je proces izvođenja (derivacije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8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62520" y="152388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62520" y="2133720"/>
            <a:ext cx="914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62520" y="2666880"/>
            <a:ext cx="83808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76920" y="320040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876920" y="3809880"/>
            <a:ext cx="7617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434340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4360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10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8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000"/>
                            </p:stCondLst>
                            <p:childTnLst>
                              <p:par>
                                <p:cTn id="65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500" fill="hold"/>
                                        <p:tgtEl>
                                          <p:spTgt spid="8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6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2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10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2000"/>
                                        <p:tgtEl>
                                          <p:spTgt spid="8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000"/>
                            </p:stCondLst>
                            <p:childTnLst>
                              <p:par>
                                <p:cTn id="7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8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 izvođe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+|-|*|/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|-|*|/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gt; + [0-9][0-9]*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038480" y="1371600"/>
            <a:ext cx="8384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43400" y="182880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648320" y="259092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876920" y="342900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105520" y="4191120"/>
            <a:ext cx="9903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10080" y="4648320"/>
            <a:ext cx="60984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91320" y="5410080"/>
            <a:ext cx="6858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7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000"/>
                            </p:stCondLst>
                            <p:childTnLst>
                              <p:par>
                                <p:cTn id="7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8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8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8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8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8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000"/>
                            </p:stCondLst>
                            <p:childTnLst>
                              <p:par>
                                <p:cTn id="7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8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500"/>
                            </p:stCondLst>
                            <p:childTnLst>
                              <p:par>
                                <p:cTn id="80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8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8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2500"/>
                            </p:stCondLst>
                            <p:childTnLst>
                              <p:par>
                                <p:cTn id="8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8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nutrašnji čvor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listov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ermin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grane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: individual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na izvođenj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Drvo parsiranja za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&lt;2-1&gt;+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90" name=""/>
          <p:cNvSpPr/>
          <p:nvPr/>
        </p:nvSpPr>
        <p:spPr>
          <a:xfrm>
            <a:off x="4876200" y="10573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878000" y="181944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439360" y="2428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021000" y="2657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8760" y="273384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45640" y="311472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e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l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767760" y="3191040"/>
            <a:ext cx="10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&gt;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41160" y="3267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33680" y="34956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899" name=""/>
          <p:cNvCxnSpPr>
            <a:stCxn id="890" idx="2"/>
            <a:endCxn id="891" idx="0"/>
          </p:cNvCxnSpPr>
          <p:nvPr/>
        </p:nvCxnSpPr>
        <p:spPr>
          <a:xfrm flipH="1">
            <a:off x="5319000" y="1577520"/>
            <a:ext cx="26280" cy="2422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2"/>
            <a:endCxn id="894" idx="0"/>
          </p:cNvCxnSpPr>
          <p:nvPr/>
        </p:nvCxnSpPr>
        <p:spPr>
          <a:xfrm flipH="1">
            <a:off x="5312880" y="2340000"/>
            <a:ext cx="7200" cy="394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1" name=""/>
          <p:cNvCxnSpPr>
            <a:stCxn id="891" idx="1"/>
            <a:endCxn id="892" idx="0"/>
          </p:cNvCxnSpPr>
          <p:nvPr/>
        </p:nvCxnSpPr>
        <p:spPr>
          <a:xfrm flipH="1">
            <a:off x="2880720" y="2079720"/>
            <a:ext cx="1996200" cy="3499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2" name=""/>
          <p:cNvCxnSpPr>
            <a:stCxn id="891" idx="3"/>
            <a:endCxn id="893" idx="0"/>
          </p:cNvCxnSpPr>
          <p:nvPr/>
        </p:nvCxnSpPr>
        <p:spPr>
          <a:xfrm>
            <a:off x="5762160" y="2079360"/>
            <a:ext cx="700920" cy="5785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3" name=""/>
          <p:cNvCxnSpPr>
            <a:stCxn id="893" idx="2"/>
            <a:endCxn id="898" idx="0"/>
          </p:cNvCxnSpPr>
          <p:nvPr/>
        </p:nvCxnSpPr>
        <p:spPr>
          <a:xfrm flipH="1">
            <a:off x="6457320" y="3178080"/>
            <a:ext cx="540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4" name=""/>
          <p:cNvCxnSpPr>
            <a:stCxn id="892" idx="2"/>
            <a:endCxn id="897" idx="0"/>
          </p:cNvCxnSpPr>
          <p:nvPr/>
        </p:nvCxnSpPr>
        <p:spPr>
          <a:xfrm>
            <a:off x="2881440" y="2949480"/>
            <a:ext cx="21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5" name=""/>
          <p:cNvCxnSpPr>
            <a:stCxn id="892" idx="3"/>
            <a:endCxn id="896" idx="0"/>
          </p:cNvCxnSpPr>
          <p:nvPr/>
        </p:nvCxnSpPr>
        <p:spPr>
          <a:xfrm>
            <a:off x="3324240" y="2689200"/>
            <a:ext cx="984960" cy="5025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6" name=""/>
          <p:cNvCxnSpPr>
            <a:stCxn id="892" idx="1"/>
            <a:endCxn id="895" idx="0"/>
          </p:cNvCxnSpPr>
          <p:nvPr/>
        </p:nvCxnSpPr>
        <p:spPr>
          <a:xfrm flipH="1">
            <a:off x="1393200" y="2689200"/>
            <a:ext cx="1045080" cy="4262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07" name=""/>
          <p:cNvCxnSpPr>
            <a:stCxn id="897" idx="2"/>
            <a:endCxn id="908" idx="0"/>
          </p:cNvCxnSpPr>
          <p:nvPr/>
        </p:nvCxnSpPr>
        <p:spPr>
          <a:xfrm flipH="1">
            <a:off x="2876040" y="3787920"/>
            <a:ext cx="7200" cy="6228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08" name=""/>
          <p:cNvSpPr/>
          <p:nvPr/>
        </p:nvSpPr>
        <p:spPr>
          <a:xfrm>
            <a:off x="2492280" y="4410000"/>
            <a:ext cx="76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Op 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49796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11000" y="501984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1" name=""/>
          <p:cNvCxnSpPr>
            <a:stCxn id="909" idx="2"/>
            <a:endCxn id="910" idx="0"/>
          </p:cNvCxnSpPr>
          <p:nvPr/>
        </p:nvCxnSpPr>
        <p:spPr>
          <a:xfrm flipH="1">
            <a:off x="1934640" y="4702320"/>
            <a:ext cx="5760" cy="3178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912" name=""/>
          <p:cNvSpPr/>
          <p:nvPr/>
        </p:nvSpPr>
        <p:spPr>
          <a:xfrm>
            <a:off x="3507840" y="41814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20520" y="5095800"/>
            <a:ext cx="6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914" name=""/>
          <p:cNvCxnSpPr>
            <a:stCxn id="912" idx="2"/>
            <a:endCxn id="913" idx="0"/>
          </p:cNvCxnSpPr>
          <p:nvPr/>
        </p:nvCxnSpPr>
        <p:spPr>
          <a:xfrm flipH="1">
            <a:off x="3944160" y="4701960"/>
            <a:ext cx="5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5" name=""/>
          <p:cNvCxnSpPr>
            <a:stCxn id="897" idx="2"/>
            <a:endCxn id="912" idx="0"/>
          </p:cNvCxnSpPr>
          <p:nvPr/>
        </p:nvCxnSpPr>
        <p:spPr>
          <a:xfrm>
            <a:off x="2882520" y="3787560"/>
            <a:ext cx="106740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897" idx="2"/>
            <a:endCxn id="909" idx="0"/>
          </p:cNvCxnSpPr>
          <p:nvPr/>
        </p:nvCxnSpPr>
        <p:spPr>
          <a:xfrm flipH="1">
            <a:off x="1939320" y="3787560"/>
            <a:ext cx="943560" cy="3942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&lt;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2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-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1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&gt;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+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1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99"/>
                </a:solidFill>
                <a:latin typeface="Tahoma"/>
              </a:rPr>
              <a:t>Open Int Op Int Close Op Int</a:t>
            </a: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9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9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9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9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Parsi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ranje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962160" y="1447920"/>
            <a:ext cx="5257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en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 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Close 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In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 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Op </a:t>
            </a: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ff99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1219320"/>
            <a:ext cx="3962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 = +|-|*|/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Int = [0-9] [0-9]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Open = 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 = &g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1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Start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2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3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4)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 Expr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 Open </a:t>
            </a:r>
            <a:r>
              <a:rPr b="0" i="1" lang="en-US" sz="2400" spc="-1" strike="noStrike">
                <a:solidFill>
                  <a:srgbClr val="00ffff"/>
                </a:solidFill>
                <a:latin typeface="Tahoma"/>
              </a:rPr>
              <a:t>Expr </a:t>
            </a:r>
            <a:r>
              <a:rPr b="0" lang="en-US" sz="2400" spc="-1" strike="noStrike">
                <a:solidFill>
                  <a:srgbClr val="00ffff"/>
                </a:solidFill>
                <a:latin typeface="Tahoma"/>
              </a:rPr>
              <a:t>Clos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876920" y="1523880"/>
            <a:ext cx="53316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76920" y="266688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38480" y="3200400"/>
            <a:ext cx="25146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257800" y="3733920"/>
            <a:ext cx="5335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038480" y="4343400"/>
            <a:ext cx="205740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4876920"/>
            <a:ext cx="762120" cy="457200"/>
          </a:xfrm>
          <a:prstGeom prst="rect">
            <a:avLst/>
          </a:prstGeom>
          <a:noFill/>
          <a:ln cap="sq" w="57240">
            <a:solidFill>
              <a:srgbClr val="c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3000"/>
                            </p:stCondLst>
                            <p:childTnLst>
                              <p:par>
                                <p:cTn id="8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000"/>
                            </p:stCondLst>
                            <p:childTnLst>
                              <p:par>
                                <p:cTn id="90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0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3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000"/>
                            </p:stCondLst>
                            <p:childTnLst>
                              <p:par>
                                <p:cTn id="9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93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2000"/>
                            </p:stCondLst>
                            <p:childTnLst>
                              <p:par>
                                <p:cTn id="9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9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4500"/>
                            </p:stCondLst>
                            <p:childTnLst>
                              <p:par>
                                <p:cTn id="9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9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10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9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3000"/>
                            </p:stCondLst>
                            <p:childTnLst>
                              <p:par>
                                <p:cTn id="9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9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3" dur="10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2000"/>
                                        <p:tgtEl>
                                          <p:spTgt spid="9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9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3" dur="500" fill="hold"/>
                                        <p:tgtEl>
                                          <p:spTgt spid="9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0" dur="10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2000"/>
                                        <p:tgtEl>
                                          <p:spTgt spid="9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0" dur="500" fill="hold"/>
                                        <p:tgtEl>
                                          <p:spTgt spid="9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eksička analiz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(LA)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83822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Operato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=    +    -    &gt;    (    {   :=    ==    &lt;&g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ljučne riječ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if    while   for    int    double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Numeri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43    6.035    -3.6e10    0x13F3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ara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ter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‘a’    ‘~’    ‘\’’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tring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literal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“6.891”   “Fall 98”   “\”\” = empty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Primjeri šta nisu tokeni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Bjeline (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White space</a:t>
            </a: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space(‘ ‘)  tab(‘\t’)  end-of-line(‘\n’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1ff75"/>
                </a:solidFill>
                <a:latin typeface="Tahoma"/>
              </a:rPr>
              <a:t>Komentari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1ff75"/>
                </a:solidFill>
                <a:latin typeface="Tahoma"/>
              </a:rPr>
              <a:t>/*this is not a token*/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1676520"/>
            <a:ext cx="1600200" cy="228600"/>
          </a:xfrm>
          <a:prstGeom prst="rightArrow">
            <a:avLst>
              <a:gd name="adj1" fmla="val 50000"/>
              <a:gd name="adj2" fmla="val 175000"/>
            </a:avLst>
          </a:prstGeom>
          <a:gradFill rotWithShape="0">
            <a:gsLst>
              <a:gs pos="0">
                <a:srgbClr val="ccffff"/>
              </a:gs>
              <a:gs pos="100000">
                <a:srgbClr val="0099cc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447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ource program text                 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00" y="95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Primjer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3809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(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L </a:t>
            </a:r>
            <a:r>
              <a:rPr b="0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ffff"/>
                </a:solidFill>
                <a:latin typeface="Tahoma"/>
              </a:rPr>
              <a:t>S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Drvo parsiranja za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(a, (a, a)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895280" y="762120"/>
            <a:ext cx="3960360" cy="5945400"/>
            <a:chOff x="4895280" y="762120"/>
            <a:chExt cx="3960360" cy="5945400"/>
          </a:xfrm>
        </p:grpSpPr>
        <p:sp>
          <p:nvSpPr>
            <p:cNvPr id="933" name=""/>
            <p:cNvSpPr/>
            <p:nvPr/>
          </p:nvSpPr>
          <p:spPr>
            <a:xfrm>
              <a:off x="48952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7999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266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(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388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1560" y="6126120"/>
              <a:ext cx="29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,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614000" y="612612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956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8552880" y="6126120"/>
              <a:ext cx="302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)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37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4712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623360" y="524340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427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752160" y="436248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58600" y="353520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66160" y="260028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01400" y="1719360"/>
              <a:ext cx="394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L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08960" y="76212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ahoma"/>
                </a:rPr>
                <a:t>S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2" idx="2"/>
              <a:endCxn id="934" idx="0"/>
            </p:cNvCxnSpPr>
            <p:nvPr/>
          </p:nvCxnSpPr>
          <p:spPr>
            <a:xfrm flipH="1">
              <a:off x="5538600" y="5823000"/>
              <a:ext cx="216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2" name=""/>
            <p:cNvCxnSpPr>
              <a:stCxn id="943" idx="2"/>
              <a:endCxn id="937" idx="0"/>
            </p:cNvCxnSpPr>
            <p:nvPr/>
          </p:nvCxnSpPr>
          <p:spPr>
            <a:xfrm flipH="1">
              <a:off x="6947640" y="5823000"/>
              <a:ext cx="252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3" name=""/>
            <p:cNvCxnSpPr>
              <a:stCxn id="944" idx="2"/>
              <a:endCxn id="939" idx="0"/>
            </p:cNvCxnSpPr>
            <p:nvPr/>
          </p:nvCxnSpPr>
          <p:spPr>
            <a:xfrm flipH="1">
              <a:off x="7818120" y="5823000"/>
              <a:ext cx="8640" cy="303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4" name=""/>
            <p:cNvCxnSpPr>
              <a:stCxn id="945" idx="2"/>
              <a:endCxn id="942" idx="0"/>
            </p:cNvCxnSpPr>
            <p:nvPr/>
          </p:nvCxnSpPr>
          <p:spPr>
            <a:xfrm>
              <a:off x="554004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5" name=""/>
            <p:cNvCxnSpPr>
              <a:stCxn id="946" idx="2"/>
              <a:endCxn id="943" idx="0"/>
            </p:cNvCxnSpPr>
            <p:nvPr/>
          </p:nvCxnSpPr>
          <p:spPr>
            <a:xfrm>
              <a:off x="6949800" y="4941720"/>
              <a:ext cx="108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6" name=""/>
            <p:cNvCxnSpPr>
              <a:stCxn id="947" idx="2"/>
              <a:endCxn id="938" idx="0"/>
            </p:cNvCxnSpPr>
            <p:nvPr/>
          </p:nvCxnSpPr>
          <p:spPr>
            <a:xfrm flipH="1">
              <a:off x="7315920" y="4114440"/>
              <a:ext cx="40680" cy="2012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7" name=""/>
            <p:cNvCxnSpPr>
              <a:stCxn id="947" idx="2"/>
              <a:endCxn id="946" idx="0"/>
            </p:cNvCxnSpPr>
            <p:nvPr/>
          </p:nvCxnSpPr>
          <p:spPr>
            <a:xfrm flipH="1">
              <a:off x="6949440" y="4114800"/>
              <a:ext cx="407160" cy="248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8" name=""/>
            <p:cNvCxnSpPr>
              <a:stCxn id="947" idx="2"/>
              <a:endCxn id="944" idx="0"/>
            </p:cNvCxnSpPr>
            <p:nvPr/>
          </p:nvCxnSpPr>
          <p:spPr>
            <a:xfrm>
              <a:off x="7356240" y="4114440"/>
              <a:ext cx="470520" cy="11293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59" name=""/>
            <p:cNvCxnSpPr>
              <a:endCxn id="936" idx="0"/>
            </p:cNvCxnSpPr>
            <p:nvPr/>
          </p:nvCxnSpPr>
          <p:spPr>
            <a:xfrm>
              <a:off x="64004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0" name=""/>
            <p:cNvCxnSpPr>
              <a:endCxn id="940" idx="0"/>
            </p:cNvCxnSpPr>
            <p:nvPr/>
          </p:nvCxnSpPr>
          <p:spPr>
            <a:xfrm>
              <a:off x="8229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1" name=""/>
            <p:cNvCxnSpPr>
              <a:stCxn id="948" idx="2"/>
            </p:cNvCxnSpPr>
            <p:nvPr/>
          </p:nvCxnSpPr>
          <p:spPr>
            <a:xfrm flipH="1">
              <a:off x="6400440" y="3179520"/>
              <a:ext cx="969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2" name=""/>
            <p:cNvCxnSpPr>
              <a:stCxn id="948" idx="2"/>
            </p:cNvCxnSpPr>
            <p:nvPr/>
          </p:nvCxnSpPr>
          <p:spPr>
            <a:xfrm>
              <a:off x="7369200" y="3179520"/>
              <a:ext cx="861120" cy="1392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3" name=""/>
            <p:cNvCxnSpPr>
              <a:stCxn id="948" idx="2"/>
              <a:endCxn id="947" idx="0"/>
            </p:cNvCxnSpPr>
            <p:nvPr/>
          </p:nvCxnSpPr>
          <p:spPr>
            <a:xfrm flipH="1">
              <a:off x="7355880" y="3179520"/>
              <a:ext cx="13320" cy="3560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4" name=""/>
            <p:cNvCxnSpPr/>
            <p:nvPr/>
          </p:nvCxnSpPr>
          <p:spPr>
            <a:xfrm>
              <a:off x="5943240" y="4571640"/>
              <a:ext cx="18360" cy="15548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5" name=""/>
            <p:cNvCxnSpPr>
              <a:stCxn id="949" idx="2"/>
            </p:cNvCxnSpPr>
            <p:nvPr/>
          </p:nvCxnSpPr>
          <p:spPr>
            <a:xfrm flipH="1">
              <a:off x="5942880" y="2298240"/>
              <a:ext cx="956520" cy="2274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66" name=""/>
            <p:cNvCxnSpPr>
              <a:stCxn id="949" idx="2"/>
              <a:endCxn id="945" idx="0"/>
            </p:cNvCxnSpPr>
            <p:nvPr/>
          </p:nvCxnSpPr>
          <p:spPr>
            <a:xfrm flipH="1">
              <a:off x="5539680" y="2298240"/>
              <a:ext cx="1359720" cy="20646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7" name=""/>
            <p:cNvCxnSpPr>
              <a:stCxn id="949" idx="2"/>
              <a:endCxn id="948" idx="0"/>
            </p:cNvCxnSpPr>
            <p:nvPr/>
          </p:nvCxnSpPr>
          <p:spPr>
            <a:xfrm>
              <a:off x="6899040" y="2298600"/>
              <a:ext cx="470520" cy="30240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8" name=""/>
            <p:cNvCxnSpPr/>
            <p:nvPr/>
          </p:nvCxnSpPr>
          <p:spPr>
            <a:xfrm>
              <a:off x="5028840" y="3352680"/>
              <a:ext cx="18360" cy="28202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69" name=""/>
            <p:cNvCxnSpPr>
              <a:stCxn id="950" idx="2"/>
            </p:cNvCxnSpPr>
            <p:nvPr/>
          </p:nvCxnSpPr>
          <p:spPr>
            <a:xfrm flipH="1">
              <a:off x="5028840" y="1341360"/>
              <a:ext cx="1883520" cy="199944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0" name=""/>
            <p:cNvCxnSpPr/>
            <p:nvPr/>
          </p:nvCxnSpPr>
          <p:spPr>
            <a:xfrm>
              <a:off x="8645040" y="3276360"/>
              <a:ext cx="18360" cy="281988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  <p:cxnSp>
          <p:nvCxnSpPr>
            <p:cNvPr id="971" name=""/>
            <p:cNvCxnSpPr>
              <a:stCxn id="950" idx="2"/>
            </p:cNvCxnSpPr>
            <p:nvPr/>
          </p:nvCxnSpPr>
          <p:spPr>
            <a:xfrm>
              <a:off x="6911640" y="1341360"/>
              <a:ext cx="1734120" cy="19231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</a:ln>
          </p:spPr>
        </p:cxnSp>
        <p:cxnSp>
          <p:nvCxnSpPr>
            <p:cNvPr id="972" name=""/>
            <p:cNvCxnSpPr>
              <a:stCxn id="950" idx="2"/>
              <a:endCxn id="949" idx="0"/>
            </p:cNvCxnSpPr>
            <p:nvPr/>
          </p:nvCxnSpPr>
          <p:spPr>
            <a:xfrm flipH="1">
              <a:off x="6898680" y="1341360"/>
              <a:ext cx="13320" cy="378720"/>
            </a:xfrm>
            <a:prstGeom prst="straightConnector1">
              <a:avLst/>
            </a:prstGeom>
            <a:ln cap="sq" w="25560">
              <a:solidFill>
                <a:srgbClr val="ccff99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e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finisanje KSG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KSG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ruktur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{S,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, N, T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}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</a:t>
            </a:r>
            <a:r>
              <a:rPr b="0" lang="en-US" sz="2600" spc="-1" strike="noStrike">
                <a:solidFill>
                  <a:srgbClr val="ccff99"/>
                </a:solidFill>
                <a:latin typeface="Tahoma"/>
              </a:rPr>
              <a:t> =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no stanj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produ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ci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j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(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avil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n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e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= terminal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V = N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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T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 oblik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-&gt;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1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…W</a:t>
            </a:r>
            <a:r>
              <a:rPr b="1" lang="en-US" sz="3200" spc="-1" strike="noStrike" baseline="-25000">
                <a:solidFill>
                  <a:srgbClr val="ccff99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W</a:t>
            </a:r>
            <a:r>
              <a:rPr b="1" lang="en-US" sz="2800" spc="-1" strike="noStrike" baseline="-25000">
                <a:solidFill>
                  <a:srgbClr val="ccff99"/>
                </a:solidFill>
                <a:latin typeface="Tahoma"/>
              </a:rPr>
              <a:t>i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ccff99"/>
                </a:solidFill>
                <a:latin typeface="Tahoma"/>
              </a:rPr>
              <a:t> V</a:t>
            </a:r>
            <a:r>
              <a:rPr b="1" lang="sr-Latn-CS" sz="2800" spc="-1" strike="noStrike">
                <a:solidFill>
                  <a:srgbClr val="ccff99"/>
                </a:solidFill>
                <a:latin typeface="Tahoma"/>
              </a:rPr>
              <a:t>, i=1,...,n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Palindromi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e.g. “dennis sinned”, “abba”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 N = { E  }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ff99"/>
                </a:solidFill>
                <a:uFillTx/>
                <a:latin typeface="Tahoma"/>
              </a:rPr>
              <a:t>Deriva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cija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sr-Latn-CS" sz="3200" spc="-1" strike="noStrike" u="sng">
                <a:solidFill>
                  <a:srgbClr val="ccff99"/>
                </a:solidFill>
                <a:uFillTx/>
                <a:latin typeface="Tahoma"/>
              </a:rPr>
              <a:t>Pravilo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1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E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aEa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2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E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 -&gt; bEb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3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ba 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-&gt; </a:t>
            </a:r>
            <a:r>
              <a:rPr b="1" lang="en-US" sz="32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4. E </a:t>
            </a:r>
            <a:r>
              <a:rPr b="0" lang="en-US" sz="2600" spc="-1" strike="noStrike">
                <a:solidFill>
                  <a:srgbClr val="ccff99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bba 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7" name=""/>
          <p:cNvSpPr/>
          <p:nvPr/>
        </p:nvSpPr>
        <p:spPr>
          <a:xfrm>
            <a:off x="6172200" y="2362320"/>
            <a:ext cx="2666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a  E  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b  E  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1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   N = {  E  }     S = 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 = { E -&gt; aEa | bEb |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Parse 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stablo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Frontier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Pre-order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bilazak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Prikaz rečenice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0" name=""/>
          <p:cNvSpPr/>
          <p:nvPr/>
        </p:nvSpPr>
        <p:spPr>
          <a:xfrm>
            <a:off x="4952880" y="2209680"/>
            <a:ext cx="4038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/ | \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  E  </a:t>
            </a:r>
            <a:r>
              <a:rPr b="1" lang="en-US" sz="3200" spc="-1" strike="noStrike">
                <a:solidFill>
                  <a:srgbClr val="ff00ff"/>
                </a:solidFill>
                <a:latin typeface="Courier New"/>
              </a:rPr>
              <a:t>b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Courier New"/>
              </a:rPr>
              <a:t>|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KSG primjer 2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T = {a, b} N = { S }  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S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 = { S -&gt; </a:t>
            </a:r>
            <a:r>
              <a:rPr b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| aSbS | bSaS }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String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ov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a jednakim broje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slova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a 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b</a:t>
            </a:r>
            <a:r>
              <a:rPr b="0" lang="sr-Latn-CS" sz="2800" spc="-1" strike="noStrike">
                <a:solidFill>
                  <a:srgbClr val="ccff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914400" y="3276720"/>
            <a:ext cx="3581280" cy="2590560"/>
            <a:chOff x="914400" y="3276720"/>
            <a:chExt cx="3581280" cy="2590560"/>
          </a:xfrm>
        </p:grpSpPr>
        <p:sp>
          <p:nvSpPr>
            <p:cNvPr id="984" name=""/>
            <p:cNvSpPr/>
            <p:nvPr/>
          </p:nvSpPr>
          <p:spPr>
            <a:xfrm>
              <a:off x="16765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14400" y="4832280"/>
              <a:ext cx="363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3828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33720" y="3276720"/>
              <a:ext cx="3650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322800" y="4832280"/>
              <a:ext cx="3664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20800" y="4832280"/>
              <a:ext cx="36684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29000" y="3987720"/>
              <a:ext cx="365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52480" y="3987720"/>
              <a:ext cx="3654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ffff"/>
                  </a:solidFill>
                  <a:latin typeface="Comic Sans MS"/>
                </a:rPr>
                <a:t>S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89120" y="3987720"/>
              <a:ext cx="3668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b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14400" y="3987720"/>
              <a:ext cx="3636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ff"/>
                  </a:solidFill>
                  <a:latin typeface="Comic Sans MS"/>
                </a:rPr>
                <a:t>a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038480" y="4765680"/>
              <a:ext cx="4572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276720" y="5543640"/>
              <a:ext cx="4572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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cxnSp>
          <p:nvCxnSpPr>
            <p:cNvPr id="996" name=""/>
            <p:cNvCxnSpPr>
              <a:stCxn id="987" idx="2"/>
              <a:endCxn id="993" idx="0"/>
            </p:cNvCxnSpPr>
            <p:nvPr/>
          </p:nvCxnSpPr>
          <p:spPr>
            <a:xfrm flipH="1">
              <a:off x="1096200" y="3663720"/>
              <a:ext cx="122004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7" name=""/>
            <p:cNvCxnSpPr>
              <a:stCxn id="987" idx="2"/>
              <a:endCxn id="991" idx="0"/>
            </p:cNvCxnSpPr>
            <p:nvPr/>
          </p:nvCxnSpPr>
          <p:spPr>
            <a:xfrm flipH="1">
              <a:off x="1936440" y="3663720"/>
              <a:ext cx="38016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8" name=""/>
            <p:cNvCxnSpPr>
              <a:stCxn id="992" idx="0"/>
              <a:endCxn id="987" idx="2"/>
            </p:cNvCxnSpPr>
            <p:nvPr/>
          </p:nvCxnSpPr>
          <p:spPr>
            <a:xfrm flipH="1" flipV="1">
              <a:off x="2315880" y="3663360"/>
              <a:ext cx="45792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999" name=""/>
            <p:cNvCxnSpPr>
              <a:stCxn id="990" idx="0"/>
              <a:endCxn id="987" idx="2"/>
            </p:cNvCxnSpPr>
            <p:nvPr/>
          </p:nvCxnSpPr>
          <p:spPr>
            <a:xfrm flipH="1" flipV="1">
              <a:off x="2315880" y="3663360"/>
              <a:ext cx="1296000" cy="32436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0" name=""/>
            <p:cNvCxnSpPr>
              <a:stCxn id="988" idx="0"/>
              <a:endCxn id="991" idx="2"/>
            </p:cNvCxnSpPr>
            <p:nvPr/>
          </p:nvCxnSpPr>
          <p:spPr>
            <a:xfrm flipH="1" flipV="1">
              <a:off x="1936080" y="4377600"/>
              <a:ext cx="156924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1" name=""/>
            <p:cNvCxnSpPr>
              <a:stCxn id="991" idx="2"/>
              <a:endCxn id="986" idx="0"/>
            </p:cNvCxnSpPr>
            <p:nvPr/>
          </p:nvCxnSpPr>
          <p:spPr>
            <a:xfrm>
              <a:off x="1936800" y="4377960"/>
              <a:ext cx="68472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2" name=""/>
            <p:cNvCxnSpPr>
              <a:stCxn id="991" idx="2"/>
              <a:endCxn id="989" idx="0"/>
            </p:cNvCxnSpPr>
            <p:nvPr/>
          </p:nvCxnSpPr>
          <p:spPr>
            <a:xfrm flipH="1">
              <a:off x="1904760" y="4377960"/>
              <a:ext cx="324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3" name=""/>
            <p:cNvCxnSpPr>
              <a:stCxn id="991" idx="2"/>
              <a:endCxn id="985" idx="0"/>
            </p:cNvCxnSpPr>
            <p:nvPr/>
          </p:nvCxnSpPr>
          <p:spPr>
            <a:xfrm flipH="1">
              <a:off x="1096200" y="4377960"/>
              <a:ext cx="840600" cy="4546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4" name=""/>
            <p:cNvCxnSpPr>
              <a:stCxn id="989" idx="2"/>
              <a:endCxn id="984" idx="0"/>
            </p:cNvCxnSpPr>
            <p:nvPr/>
          </p:nvCxnSpPr>
          <p:spPr>
            <a:xfrm>
              <a:off x="19047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5" name=""/>
            <p:cNvCxnSpPr>
              <a:stCxn id="988" idx="2"/>
              <a:endCxn id="995" idx="0"/>
            </p:cNvCxnSpPr>
            <p:nvPr/>
          </p:nvCxnSpPr>
          <p:spPr>
            <a:xfrm>
              <a:off x="3504960" y="5219640"/>
              <a:ext cx="1080" cy="32472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  <p:cxnSp>
          <p:nvCxnSpPr>
            <p:cNvPr id="1006" name=""/>
            <p:cNvCxnSpPr>
              <a:stCxn id="990" idx="2"/>
              <a:endCxn id="994" idx="0"/>
            </p:cNvCxnSpPr>
            <p:nvPr/>
          </p:nvCxnSpPr>
          <p:spPr>
            <a:xfrm>
              <a:off x="3611160" y="4378320"/>
              <a:ext cx="656280" cy="388080"/>
            </a:xfrm>
            <a:prstGeom prst="straightConnector1">
              <a:avLst/>
            </a:prstGeom>
            <a:ln w="28440">
              <a:solidFill>
                <a:srgbClr val="00ffff"/>
              </a:solidFill>
              <a:miter/>
            </a:ln>
          </p:spPr>
        </p:cxnSp>
      </p:grpSp>
      <p:sp>
        <p:nvSpPr>
          <p:cNvPr id="1007" name=""/>
          <p:cNvSpPr/>
          <p:nvPr/>
        </p:nvSpPr>
        <p:spPr>
          <a:xfrm>
            <a:off x="6913440" y="56134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54760" y="3124080"/>
            <a:ext cx="2998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018200" y="395604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64192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29520" y="395604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952880" y="3956040"/>
            <a:ext cx="298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251920" y="5613480"/>
            <a:ext cx="3744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14" name=""/>
          <p:cNvCxnSpPr>
            <a:stCxn id="1008" idx="2"/>
            <a:endCxn id="1012" idx="0"/>
          </p:cNvCxnSpPr>
          <p:nvPr/>
        </p:nvCxnSpPr>
        <p:spPr>
          <a:xfrm flipH="1">
            <a:off x="5103360" y="3578040"/>
            <a:ext cx="10008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5" name=""/>
          <p:cNvCxnSpPr>
            <a:stCxn id="1008" idx="2"/>
            <a:endCxn id="1010" idx="0"/>
          </p:cNvCxnSpPr>
          <p:nvPr/>
        </p:nvCxnSpPr>
        <p:spPr>
          <a:xfrm flipH="1">
            <a:off x="5790960" y="3578040"/>
            <a:ext cx="31320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6" name=""/>
          <p:cNvCxnSpPr>
            <a:stCxn id="1011" idx="0"/>
            <a:endCxn id="1008" idx="2"/>
          </p:cNvCxnSpPr>
          <p:nvPr/>
        </p:nvCxnSpPr>
        <p:spPr>
          <a:xfrm flipH="1" flipV="1">
            <a:off x="6103080" y="3577680"/>
            <a:ext cx="37692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17" name=""/>
          <p:cNvCxnSpPr>
            <a:stCxn id="1009" idx="0"/>
            <a:endCxn id="1008" idx="2"/>
          </p:cNvCxnSpPr>
          <p:nvPr/>
        </p:nvCxnSpPr>
        <p:spPr>
          <a:xfrm flipH="1" flipV="1">
            <a:off x="6103080" y="3577680"/>
            <a:ext cx="1065960" cy="37836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18" name=""/>
          <p:cNvSpPr/>
          <p:nvPr/>
        </p:nvSpPr>
        <p:spPr>
          <a:xfrm>
            <a:off x="6289560" y="4932360"/>
            <a:ext cx="300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236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267760" y="4932360"/>
            <a:ext cx="301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953400" y="4932360"/>
            <a:ext cx="299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2" name=""/>
          <p:cNvCxnSpPr>
            <a:stCxn id="1020" idx="0"/>
            <a:endCxn id="1009" idx="2"/>
          </p:cNvCxnSpPr>
          <p:nvPr/>
        </p:nvCxnSpPr>
        <p:spPr>
          <a:xfrm flipH="1" flipV="1">
            <a:off x="7168320" y="4409280"/>
            <a:ext cx="12502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3" name=""/>
          <p:cNvCxnSpPr>
            <a:stCxn id="1009" idx="2"/>
            <a:endCxn id="1019" idx="0"/>
          </p:cNvCxnSpPr>
          <p:nvPr/>
        </p:nvCxnSpPr>
        <p:spPr>
          <a:xfrm>
            <a:off x="7169040" y="4409640"/>
            <a:ext cx="52488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4" name=""/>
          <p:cNvCxnSpPr>
            <a:stCxn id="1009" idx="2"/>
            <a:endCxn id="1021" idx="0"/>
          </p:cNvCxnSpPr>
          <p:nvPr/>
        </p:nvCxnSpPr>
        <p:spPr>
          <a:xfrm flipH="1">
            <a:off x="7103880" y="4409640"/>
            <a:ext cx="6552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5" name=""/>
          <p:cNvCxnSpPr>
            <a:stCxn id="1009" idx="2"/>
            <a:endCxn id="1018" idx="0"/>
          </p:cNvCxnSpPr>
          <p:nvPr/>
        </p:nvCxnSpPr>
        <p:spPr>
          <a:xfrm flipH="1">
            <a:off x="6440040" y="4409640"/>
            <a:ext cx="729360" cy="5230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6" name=""/>
          <p:cNvCxnSpPr>
            <a:stCxn id="1021" idx="2"/>
            <a:endCxn id="1007" idx="0"/>
          </p:cNvCxnSpPr>
          <p:nvPr/>
        </p:nvCxnSpPr>
        <p:spPr>
          <a:xfrm flipH="1">
            <a:off x="7101720" y="5385960"/>
            <a:ext cx="252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cxnSp>
        <p:nvCxnSpPr>
          <p:cNvPr id="1027" name=""/>
          <p:cNvCxnSpPr>
            <a:stCxn id="1020" idx="2"/>
            <a:endCxn id="1013" idx="0"/>
          </p:cNvCxnSpPr>
          <p:nvPr/>
        </p:nvCxnSpPr>
        <p:spPr>
          <a:xfrm>
            <a:off x="8418240" y="5385960"/>
            <a:ext cx="20880" cy="22788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  <p:sp>
        <p:nvSpPr>
          <p:cNvPr id="1028" name=""/>
          <p:cNvSpPr/>
          <p:nvPr/>
        </p:nvSpPr>
        <p:spPr>
          <a:xfrm>
            <a:off x="5130720" y="4873680"/>
            <a:ext cx="3762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29" name=""/>
          <p:cNvCxnSpPr>
            <a:stCxn id="1010" idx="2"/>
            <a:endCxn id="1028" idx="0"/>
          </p:cNvCxnSpPr>
          <p:nvPr/>
        </p:nvCxnSpPr>
        <p:spPr>
          <a:xfrm flipH="1">
            <a:off x="5317920" y="4410000"/>
            <a:ext cx="475200" cy="464400"/>
          </a:xfrm>
          <a:prstGeom prst="straightConnector1">
            <a:avLst/>
          </a:prstGeom>
          <a:ln w="28440">
            <a:solidFill>
              <a:srgbClr val="00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KSG primjer 3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04920" y="1447920"/>
            <a:ext cx="3733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Start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/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ahoma"/>
              </a:rPr>
              <a:t>Term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ahoma"/>
              </a:rPr>
              <a:t> Int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72000" y="1676520"/>
            <a:ext cx="4572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kup tokena je  { +, -, *, /, Int }, gdje Int = [0-9][0-9]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vaki Int n token predstavljamo samo sa n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/>
          <p:nvPr/>
        </p:nvSpPr>
        <p:spPr>
          <a:xfrm>
            <a:off x="1676520" y="1692360"/>
            <a:ext cx="106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503760" y="356868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2209680" y="2209320"/>
            <a:ext cx="0" cy="31244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956560" y="5149800"/>
            <a:ext cx="197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529680" y="356868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676520" y="251460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endCxn id="1050" idx="0"/>
          </p:cNvCxnSpPr>
          <p:nvPr/>
        </p:nvCxnSpPr>
        <p:spPr>
          <a:xfrm>
            <a:off x="2092320" y="219564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451080" y="5349960"/>
            <a:ext cx="40258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renutna pozicija u drvetu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2209680" y="3048120"/>
            <a:ext cx="0" cy="228600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72720" y="5151600"/>
            <a:ext cx="295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18480" y="3568680"/>
            <a:ext cx="186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4" name=""/>
          <p:cNvCxnSpPr>
            <a:endCxn id="106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68" name=""/>
          <p:cNvCxnSpPr>
            <a:endCxn id="106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69" name=""/>
          <p:cNvCxnSpPr>
            <a:endCxn id="106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70" name=""/>
          <p:cNvCxnSpPr>
            <a:endCxn id="106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7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1371600" y="441972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1447920" y="5029200"/>
            <a:ext cx="2971800" cy="38088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935320" y="5151600"/>
            <a:ext cx="202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969520" y="3568680"/>
            <a:ext cx="1957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3" name=""/>
          <p:cNvCxnSpPr>
            <a:endCxn id="108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8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87" name=""/>
          <p:cNvCxnSpPr>
            <a:endCxn id="108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8" name=""/>
          <p:cNvCxnSpPr>
            <a:endCxn id="108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089" name=""/>
          <p:cNvCxnSpPr>
            <a:endCxn id="108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0" name=""/>
          <p:cNvSpPr/>
          <p:nvPr/>
        </p:nvSpPr>
        <p:spPr>
          <a:xfrm>
            <a:off x="808200" y="4206960"/>
            <a:ext cx="109692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091" name=""/>
          <p:cNvCxnSpPr>
            <a:endCxn id="1090" idx="0"/>
          </p:cNvCxnSpPr>
          <p:nvPr/>
        </p:nvCxnSpPr>
        <p:spPr>
          <a:xfrm>
            <a:off x="135684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09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209680" y="4495680"/>
            <a:ext cx="3505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+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Expr -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Expr </a:t>
            </a:r>
            <a:r>
              <a:rPr b="0" i="1" lang="en-US" sz="2800" spc="-1" strike="noStrike">
                <a:solidFill>
                  <a:srgbClr val="ccff99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ccff99"/>
                </a:solidFill>
                <a:latin typeface="Times New Roman"/>
              </a:rPr>
              <a:t> Term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5638680"/>
            <a:ext cx="2997360" cy="381240"/>
          </a:xfrm>
          <a:prstGeom prst="rect">
            <a:avLst/>
          </a:prstGeom>
          <a:noFill/>
          <a:ln cap="sq" w="381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4443480"/>
            <a:ext cx="838224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4584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3" name=""/>
          <p:cNvCxnSpPr>
            <a:endCxn id="110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0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07" name=""/>
          <p:cNvCxnSpPr>
            <a:endCxn id="110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8" name=""/>
          <p:cNvCxnSpPr>
            <a:endCxn id="110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09" name=""/>
          <p:cNvCxnSpPr>
            <a:endCxn id="110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1" name=""/>
          <p:cNvCxnSpPr>
            <a:endCxn id="111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2" name=""/>
          <p:cNvSpPr/>
          <p:nvPr/>
        </p:nvSpPr>
        <p:spPr>
          <a:xfrm>
            <a:off x="840960" y="4968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13" name=""/>
          <p:cNvCxnSpPr>
            <a:endCxn id="1112" idx="0"/>
          </p:cNvCxnSpPr>
          <p:nvPr/>
        </p:nvCxnSpPr>
        <p:spPr>
          <a:xfrm>
            <a:off x="114912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14" name=""/>
          <p:cNvSpPr/>
          <p:nvPr/>
        </p:nvSpPr>
        <p:spPr>
          <a:xfrm>
            <a:off x="6128640" y="3568680"/>
            <a:ext cx="164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428520" y="2044800"/>
            <a:ext cx="103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endCxn id="112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2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27" name=""/>
          <p:cNvCxnSpPr>
            <a:endCxn id="112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8" name=""/>
          <p:cNvCxnSpPr>
            <a:endCxn id="112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29" name=""/>
          <p:cNvCxnSpPr>
            <a:endCxn id="112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1" name=""/>
          <p:cNvCxnSpPr>
            <a:endCxn id="113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34" name=""/>
          <p:cNvCxnSpPr>
            <a:endCxn id="113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3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522840" y="2044800"/>
            <a:ext cx="84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-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3" name=""/>
          <p:cNvCxnSpPr>
            <a:endCxn id="114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4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91160" y="3429000"/>
            <a:ext cx="2844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99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47" name=""/>
          <p:cNvCxnSpPr>
            <a:endCxn id="1146" idx="0"/>
          </p:cNvCxnSpPr>
          <p:nvPr/>
        </p:nvCxnSpPr>
        <p:spPr>
          <a:xfrm flipH="1">
            <a:off x="2133360" y="3033720"/>
            <a:ext cx="216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8" name=""/>
          <p:cNvCxnSpPr>
            <a:endCxn id="114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49" name=""/>
          <p:cNvCxnSpPr>
            <a:endCxn id="114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1" name=""/>
          <p:cNvCxnSpPr>
            <a:endCxn id="115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endCxn id="115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5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252120" y="3568680"/>
            <a:ext cx="1395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3" name=""/>
          <p:cNvCxnSpPr>
            <a:endCxn id="1162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64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67" name=""/>
          <p:cNvCxnSpPr>
            <a:endCxn id="1166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8" name=""/>
          <p:cNvCxnSpPr>
            <a:endCxn id="1164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69" name=""/>
          <p:cNvCxnSpPr>
            <a:endCxn id="1165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0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1" name=""/>
          <p:cNvCxnSpPr>
            <a:endCxn id="1170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74" name=""/>
          <p:cNvCxnSpPr>
            <a:endCxn id="117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7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496480" y="5151600"/>
            <a:ext cx="2911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944320" y="3568680"/>
            <a:ext cx="201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Term*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5" name=""/>
          <p:cNvCxnSpPr>
            <a:endCxn id="1184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86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89" name=""/>
          <p:cNvCxnSpPr>
            <a:endCxn id="1188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0" name=""/>
          <p:cNvCxnSpPr>
            <a:endCxn id="1186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1" name=""/>
          <p:cNvCxnSpPr>
            <a:endCxn id="1187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2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3" name=""/>
          <p:cNvCxnSpPr>
            <a:endCxn id="1192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194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197" name=""/>
          <p:cNvCxnSpPr>
            <a:endCxn id="1196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8" name=""/>
          <p:cNvCxnSpPr>
            <a:endCxn id="1195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199" name=""/>
          <p:cNvCxnSpPr>
            <a:endCxn id="1194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0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01" name=""/>
          <p:cNvCxnSpPr>
            <a:endCxn id="1200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02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5299200" y="4483080"/>
            <a:ext cx="3297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imijenjeno pravilo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047280" y="5151600"/>
            <a:ext cx="18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 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17040" y="3568680"/>
            <a:ext cx="1869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2" name=""/>
          <p:cNvCxnSpPr>
            <a:endCxn id="1211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3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16" name=""/>
          <p:cNvCxnSpPr>
            <a:endCxn id="1215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7" name=""/>
          <p:cNvCxnSpPr>
            <a:endCxn id="1213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18" name=""/>
          <p:cNvCxnSpPr>
            <a:endCxn id="1214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19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0" name=""/>
          <p:cNvCxnSpPr>
            <a:endCxn id="1219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1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4" name=""/>
          <p:cNvCxnSpPr>
            <a:endCxn id="1223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5" name=""/>
          <p:cNvCxnSpPr>
            <a:endCxn id="1222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26" name=""/>
          <p:cNvCxnSpPr>
            <a:endCxn id="1221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7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7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29" name=""/>
          <p:cNvSpPr/>
          <p:nvPr/>
        </p:nvSpPr>
        <p:spPr>
          <a:xfrm>
            <a:off x="1855440" y="521172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30" name=""/>
          <p:cNvCxnSpPr>
            <a:endCxn id="1229" idx="0"/>
          </p:cNvCxnSpPr>
          <p:nvPr/>
        </p:nvCxnSpPr>
        <p:spPr>
          <a:xfrm>
            <a:off x="216324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31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576120" y="2044800"/>
            <a:ext cx="74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0" name=""/>
          <p:cNvCxnSpPr>
            <a:endCxn id="1239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1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4" name=""/>
          <p:cNvCxnSpPr>
            <a:endCxn id="1243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5" name=""/>
          <p:cNvCxnSpPr>
            <a:endCxn id="1241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46" name=""/>
          <p:cNvCxnSpPr>
            <a:endCxn id="1242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7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48" name=""/>
          <p:cNvCxnSpPr>
            <a:endCxn id="1247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49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2" name=""/>
          <p:cNvCxnSpPr>
            <a:endCxn id="1251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3" name=""/>
          <p:cNvCxnSpPr>
            <a:endCxn id="1250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54" name=""/>
          <p:cNvCxnSpPr>
            <a:endCxn id="1249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5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6" name=""/>
          <p:cNvCxnSpPr>
            <a:endCxn id="1255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7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58" name=""/>
          <p:cNvCxnSpPr>
            <a:endCxn id="1257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59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670440" y="2044800"/>
            <a:ext cx="55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*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68" name=""/>
          <p:cNvCxnSpPr>
            <a:endCxn id="1267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69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2" name=""/>
          <p:cNvCxnSpPr>
            <a:endCxn id="1271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3" name=""/>
          <p:cNvCxnSpPr>
            <a:endCxn id="1269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74" name=""/>
          <p:cNvCxnSpPr>
            <a:endCxn id="1270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5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76" name=""/>
          <p:cNvCxnSpPr>
            <a:endCxn id="1275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77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0" name=""/>
          <p:cNvCxnSpPr>
            <a:endCxn id="1279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1" name=""/>
          <p:cNvCxnSpPr>
            <a:endCxn id="1278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282" name=""/>
          <p:cNvCxnSpPr>
            <a:endCxn id="1277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3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4" name=""/>
          <p:cNvCxnSpPr>
            <a:endCxn id="1283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86" name=""/>
          <p:cNvCxnSpPr>
            <a:endCxn id="1285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87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3812760" y="1663560"/>
            <a:ext cx="1220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tch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put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oken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183720" y="3568680"/>
            <a:ext cx="153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endCxn id="1295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297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0" name=""/>
          <p:cNvCxnSpPr>
            <a:endCxn id="1299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1" name=""/>
          <p:cNvCxnSpPr>
            <a:endCxn id="1297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2" name=""/>
          <p:cNvCxnSpPr>
            <a:endCxn id="1298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3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4" name=""/>
          <p:cNvCxnSpPr>
            <a:endCxn id="1303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05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854160" y="4435560"/>
            <a:ext cx="61668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08" name=""/>
          <p:cNvCxnSpPr>
            <a:endCxn id="1307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09" name=""/>
          <p:cNvCxnSpPr>
            <a:endCxn id="1306" idx="0"/>
          </p:cNvCxnSpPr>
          <p:nvPr/>
        </p:nvCxnSpPr>
        <p:spPr>
          <a:xfrm>
            <a:off x="3703680" y="3781080"/>
            <a:ext cx="45936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10" name=""/>
          <p:cNvCxnSpPr>
            <a:endCxn id="1305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1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2" name=""/>
          <p:cNvCxnSpPr>
            <a:endCxn id="1311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3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14" name=""/>
          <p:cNvCxnSpPr>
            <a:endCxn id="1313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15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762240" y="2044800"/>
            <a:ext cx="36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4" name=""/>
          <p:cNvCxnSpPr>
            <a:endCxn id="1323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25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28" name=""/>
          <p:cNvCxnSpPr>
            <a:endCxn id="1327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29" name=""/>
          <p:cNvCxnSpPr>
            <a:endCxn id="1325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0" name=""/>
          <p:cNvCxnSpPr>
            <a:endCxn id="1326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1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2" name=""/>
          <p:cNvCxnSpPr>
            <a:endCxn id="1331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3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36" name=""/>
          <p:cNvCxnSpPr>
            <a:endCxn id="1335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7" name=""/>
          <p:cNvCxnSpPr>
            <a:endCxn id="1334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38" name=""/>
          <p:cNvCxnSpPr>
            <a:endCxn id="1333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39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endCxn id="1339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1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42" name=""/>
          <p:cNvCxnSpPr>
            <a:endCxn id="1341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43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kener u akciji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442440" y="29718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175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54120" y="2971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676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0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960" y="29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ID(“var1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800" y="29718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eq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&lt;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3657600"/>
            <a:ext cx="8534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Grupiše nizove karaktera u toke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Dodaje</a:t>
            </a: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 atribute toke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ma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ahoma"/>
              </a:rPr>
              <a:t>Elimin</a:t>
            </a:r>
            <a:r>
              <a:rPr b="0" lang="sr-Latn-CS" sz="3200" spc="-1" strike="noStrike">
                <a:solidFill>
                  <a:srgbClr val="ccff99"/>
                </a:solidFill>
                <a:latin typeface="Tahoma"/>
              </a:rPr>
              <a:t>iše bjeline i komentar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800"/>
            </a:gs>
            <a:gs pos="100000">
              <a:srgbClr val="002a0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imjer parsiran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674720" y="1692360"/>
            <a:ext cx="886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Start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355680" y="1206360"/>
            <a:ext cx="1133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 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5554440" y="2882880"/>
            <a:ext cx="278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Rečenična form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442480" y="1359000"/>
            <a:ext cx="301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Preostali dio ulaza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307200" y="3568680"/>
            <a:ext cx="1290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 -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r>
              <a:rPr b="0" i="1" lang="sr-Latn-CS" sz="2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687680" y="25304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1" name=""/>
          <p:cNvCxnSpPr>
            <a:endCxn id="1350" idx="0"/>
          </p:cNvCxnSpPr>
          <p:nvPr/>
        </p:nvCxnSpPr>
        <p:spPr>
          <a:xfrm>
            <a:off x="2103480" y="2211480"/>
            <a:ext cx="2160" cy="3196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2" name=""/>
          <p:cNvSpPr/>
          <p:nvPr/>
        </p:nvSpPr>
        <p:spPr>
          <a:xfrm>
            <a:off x="2902680" y="35211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38440" y="3444840"/>
            <a:ext cx="83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Expr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81800" y="3444840"/>
            <a:ext cx="28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-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endCxn id="1354" idx="0"/>
          </p:cNvCxnSpPr>
          <p:nvPr/>
        </p:nvCxnSpPr>
        <p:spPr>
          <a:xfrm flipH="1">
            <a:off x="2123280" y="304956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6" name=""/>
          <p:cNvCxnSpPr>
            <a:endCxn id="1352" idx="0"/>
          </p:cNvCxnSpPr>
          <p:nvPr/>
        </p:nvCxnSpPr>
        <p:spPr>
          <a:xfrm>
            <a:off x="2567160" y="2790360"/>
            <a:ext cx="802080" cy="7311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57" name=""/>
          <p:cNvCxnSpPr>
            <a:endCxn id="1353" idx="0"/>
          </p:cNvCxnSpPr>
          <p:nvPr/>
        </p:nvCxnSpPr>
        <p:spPr>
          <a:xfrm flipH="1">
            <a:off x="1255320" y="2790360"/>
            <a:ext cx="41184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58" name=""/>
          <p:cNvSpPr/>
          <p:nvPr/>
        </p:nvSpPr>
        <p:spPr>
          <a:xfrm>
            <a:off x="815040" y="42069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59" name=""/>
          <p:cNvCxnSpPr>
            <a:endCxn id="1358" idx="0"/>
          </p:cNvCxnSpPr>
          <p:nvPr/>
        </p:nvCxnSpPr>
        <p:spPr>
          <a:xfrm>
            <a:off x="1280880" y="396360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0" name=""/>
          <p:cNvSpPr/>
          <p:nvPr/>
        </p:nvSpPr>
        <p:spPr>
          <a:xfrm>
            <a:off x="1818360" y="4435560"/>
            <a:ext cx="932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Term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884400" y="449568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182040" y="4435560"/>
            <a:ext cx="36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ffff"/>
                </a:solidFill>
                <a:latin typeface="Tahoma"/>
              </a:rPr>
              <a:t>*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3" name=""/>
          <p:cNvCxnSpPr>
            <a:endCxn id="1362" idx="0"/>
          </p:cNvCxnSpPr>
          <p:nvPr/>
        </p:nvCxnSpPr>
        <p:spPr>
          <a:xfrm flipH="1">
            <a:off x="3363120" y="4040280"/>
            <a:ext cx="2520" cy="39600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4" name=""/>
          <p:cNvCxnSpPr>
            <a:endCxn id="1361" idx="0"/>
          </p:cNvCxnSpPr>
          <p:nvPr/>
        </p:nvCxnSpPr>
        <p:spPr>
          <a:xfrm>
            <a:off x="3871440" y="3841920"/>
            <a:ext cx="459720" cy="65448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cxnSp>
        <p:nvCxnSpPr>
          <p:cNvPr id="1365" name=""/>
          <p:cNvCxnSpPr>
            <a:endCxn id="1360" idx="0"/>
          </p:cNvCxnSpPr>
          <p:nvPr/>
        </p:nvCxnSpPr>
        <p:spPr>
          <a:xfrm flipH="1">
            <a:off x="2283840" y="3781080"/>
            <a:ext cx="616680" cy="65484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6" name=""/>
          <p:cNvSpPr/>
          <p:nvPr/>
        </p:nvSpPr>
        <p:spPr>
          <a:xfrm>
            <a:off x="846000" y="4968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7" name=""/>
          <p:cNvCxnSpPr>
            <a:endCxn id="1366" idx="0"/>
          </p:cNvCxnSpPr>
          <p:nvPr/>
        </p:nvCxnSpPr>
        <p:spPr>
          <a:xfrm>
            <a:off x="1292040" y="4726080"/>
            <a:ext cx="1080" cy="24336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68" name=""/>
          <p:cNvSpPr/>
          <p:nvPr/>
        </p:nvSpPr>
        <p:spPr>
          <a:xfrm>
            <a:off x="1860480" y="5211720"/>
            <a:ext cx="891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ffff"/>
                </a:solidFill>
                <a:latin typeface="Tahoma"/>
              </a:rPr>
              <a:t>Int 2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1369" name=""/>
          <p:cNvCxnSpPr>
            <a:endCxn id="1368" idx="0"/>
          </p:cNvCxnSpPr>
          <p:nvPr/>
        </p:nvCxnSpPr>
        <p:spPr>
          <a:xfrm>
            <a:off x="2306160" y="4968360"/>
            <a:ext cx="1080" cy="243720"/>
          </a:xfrm>
          <a:prstGeom prst="straightConnector1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1370" name=""/>
          <p:cNvSpPr/>
          <p:nvPr/>
        </p:nvSpPr>
        <p:spPr>
          <a:xfrm>
            <a:off x="3542400" y="1663560"/>
            <a:ext cx="1765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rse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lete!</a:t>
            </a:r>
            <a:endParaRPr b="0" lang="en-US" sz="2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LA</a:t>
            </a:r>
            <a:r>
              <a:rPr b="1" lang="sr-Latn-CS" sz="4000" spc="-1" strike="noStrike">
                <a:solidFill>
                  <a:srgbClr val="ffff66"/>
                </a:solidFill>
                <a:latin typeface="Tahoma"/>
              </a:rPr>
              <a:t> treba da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Identif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kuje 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 token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6036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Num(6035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X6035      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ID(“X6035”)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Token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u različitim jezicim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TRAN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DO I=1,10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C++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for(int i=1; i&lt;= 10; i++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1ff75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ff75"/>
                </a:solidFill>
                <a:latin typeface="Tahoma"/>
              </a:rPr>
              <a:t>R/S-plus     for (i in 1:10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ffff"/>
                </a:solidFill>
                <a:latin typeface="Tahoma"/>
              </a:rPr>
              <a:t>Mogu li se ovi jezici opisati jednim jezikom</a:t>
            </a: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?  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00:43:56Z</dcterms:created>
  <dc:creator>Martin Rinard</dc:creator>
  <dc:description/>
  <dc:language>en-US</dc:language>
  <cp:lastModifiedBy>gorans</cp:lastModifiedBy>
  <cp:lastPrinted>2007-08-30T19:57:49Z</cp:lastPrinted>
  <dcterms:modified xsi:type="dcterms:W3CDTF">2009-01-30T11:09:15Z</dcterms:modified>
  <cp:revision>1006</cp:revision>
  <dc:subject/>
  <dc:title>Design-Driven Compilation</dc:title>
</cp:coreProperties>
</file>