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23ADF-C0B1-4AAB-9F17-CDECE7726E02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ftmost derivation going down Top dow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ightmost derivation coming up, bottom u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day, look at top-dow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94C-82CA-4D7B-A0B6-DAE1B0DA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7880" y="35348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E198-168E-4D11-B826-42C06471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56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7F5-C5C8-4AF0-B7DD-F3F2E2E1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588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3520" y="10666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788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588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3520" y="35348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9DC8-19E8-44E2-A2E1-39D074E1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A00-8D75-49C3-87F3-5D532B64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121-EE6D-4F42-A197-46C18717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105-87D4-4E72-BE84-2137771E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FE2-D2FD-42F4-9045-4694ADB9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4AD-0A51-47D2-B442-C8EACEE7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A5DF-CE82-49D2-9B54-DAC92D75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560" y="35348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C599-F8E7-4A66-B280-CD06FB6D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7880" y="35348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FA5-3269-43F4-B0B8-D9E5AA9D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37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7369-6F71-42EA-B068-8BB74B4BDBAC}" type="datetime">
              <a:rPr b="0" i="1" lang="en-US" sz="16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1240" y="62485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2DAD-2D22-4054-8896-AD68CDBF9381}" type="slidenum">
              <a:rPr b="0" lang="en-US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167520"/>
            <a:ext cx="7030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 parsir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E2F-ECEB-4188-8C36-1197B9CE38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ja u pravilima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Transformacija G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 lijevom r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G’ 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 desnom r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: X –&gt; Xa | Xb | AB | C | DE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odat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erm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nal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X’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 kraj svakog nerekurzivnog pravila za 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–&gt; ABX' | CX' | DEFX'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' –&gt; aX' | bX' |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sti jezik, ali je rekurzija sada na desnoj stra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Ovo je vezano za pojedine algoritme za kreiranje parser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6CF-6069-4BD1-8B76-81F634A8FF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ndirektna rekurzija ili prefik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Rekurzija ili zajednički prefiksi ne moraju biti odmah vidljiv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Re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k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r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zij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 u="sng">
                <a:solidFill>
                  <a:srgbClr val="3333cc"/>
                </a:solidFill>
                <a:uFillTx/>
                <a:latin typeface="Tahoma"/>
              </a:rPr>
              <a:t>Zajednički prefi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-&gt;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 -&gt; aW | V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-&gt; X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V -&gt; a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oslije primjene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va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ili tri pravil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-&gt; Y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 -&gt; aW | V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-&gt; X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V -&gt; aY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XZW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aW,  X </a:t>
            </a:r>
            <a:r>
              <a:rPr b="1" lang="en-US" sz="2600" spc="-1" strike="noStrike">
                <a:solidFill>
                  <a:srgbClr val="3333cc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aYZ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2FC-04B5-4E07-BCC5-089FD1E00A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jeva rekurzija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a|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c|Sd|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liminisanje indirektne rekurzije S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a|b  A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c|Aad|bd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liminacijom direktne lijeve rekurzij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dA’|A’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A’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cA’|adA’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16E-4551-4935-9C45-126584BC2F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Načini parsiran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880" y="1066320"/>
            <a:ext cx="7856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p down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reće se od početnog neterminalnog simbola gramatik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imjenjuju se pravila (produkcije) dok se ne dobije tražena sentenc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zgradnja drveta parsiranja od korijena ka listovima,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eorder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ottom up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očinjemo od  sente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dukcija na startni simb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proces obrnut desnoj derivaciji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A97-DEEE-46C9-9D2E-A92EB681FB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 down parsiranje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319560" y="5105520"/>
            <a:ext cx="5331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4019400"/>
            <a:ext cx="53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484440" y="4253040"/>
            <a:ext cx="16844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1371600"/>
            <a:ext cx="1676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nt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5889600" y="2759040"/>
            <a:ext cx="1273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2743200"/>
            <a:ext cx="1752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2819520"/>
            <a:ext cx="1989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-phr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105520"/>
            <a:ext cx="21020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4059360"/>
            <a:ext cx="9907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0" name=""/>
          <p:cNvCxnSpPr>
            <a:stCxn id="144" idx="2"/>
            <a:endCxn id="146" idx="0"/>
          </p:cNvCxnSpPr>
          <p:nvPr/>
        </p:nvCxnSpPr>
        <p:spPr>
          <a:xfrm flipH="1">
            <a:off x="1561680" y="1861920"/>
            <a:ext cx="2782080" cy="881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7" idx="0"/>
            <a:endCxn id="144" idx="2"/>
          </p:cNvCxnSpPr>
          <p:nvPr/>
        </p:nvCxnSpPr>
        <p:spPr>
          <a:xfrm flipV="1">
            <a:off x="3585960" y="1861560"/>
            <a:ext cx="757800" cy="9579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5" idx="0"/>
            <a:endCxn id="144" idx="2"/>
          </p:cNvCxnSpPr>
          <p:nvPr/>
        </p:nvCxnSpPr>
        <p:spPr>
          <a:xfrm flipH="1" flipV="1">
            <a:off x="4342680" y="1861560"/>
            <a:ext cx="2183400" cy="8974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54" idx="2"/>
            <a:endCxn id="148" idx="0"/>
          </p:cNvCxnSpPr>
          <p:nvPr/>
        </p:nvCxnSpPr>
        <p:spPr>
          <a:xfrm>
            <a:off x="7603920" y="4510080"/>
            <a:ext cx="1080" cy="59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46" idx="2"/>
            <a:endCxn id="142" idx="0"/>
          </p:cNvCxnSpPr>
          <p:nvPr/>
        </p:nvCxnSpPr>
        <p:spPr>
          <a:xfrm flipH="1">
            <a:off x="1560240" y="3269880"/>
            <a:ext cx="2160" cy="749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6" name=""/>
          <p:cNvCxnSpPr>
            <a:stCxn id="157" idx="2"/>
            <a:endCxn id="141" idx="0"/>
          </p:cNvCxnSpPr>
          <p:nvPr/>
        </p:nvCxnSpPr>
        <p:spPr>
          <a:xfrm>
            <a:off x="3585960" y="4527360"/>
            <a:ext cx="1080" cy="578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8" name=""/>
          <p:cNvCxnSpPr>
            <a:stCxn id="145" idx="2"/>
            <a:endCxn id="149" idx="0"/>
          </p:cNvCxnSpPr>
          <p:nvPr/>
        </p:nvCxnSpPr>
        <p:spPr>
          <a:xfrm flipH="1">
            <a:off x="5524200" y="3252960"/>
            <a:ext cx="1002240" cy="807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45" idx="2"/>
            <a:endCxn id="154" idx="0"/>
          </p:cNvCxnSpPr>
          <p:nvPr/>
        </p:nvCxnSpPr>
        <p:spPr>
          <a:xfrm>
            <a:off x="6525720" y="3252600"/>
            <a:ext cx="1078560" cy="764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3090960" y="4000680"/>
            <a:ext cx="9903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0" name=""/>
          <p:cNvCxnSpPr/>
          <p:nvPr/>
        </p:nvCxnSpPr>
        <p:spPr>
          <a:xfrm>
            <a:off x="4258800" y="579096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47" idx="2"/>
            <a:endCxn id="157" idx="0"/>
          </p:cNvCxnSpPr>
          <p:nvPr/>
        </p:nvCxnSpPr>
        <p:spPr>
          <a:xfrm>
            <a:off x="3585960" y="3241800"/>
            <a:ext cx="1080" cy="759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62" name=""/>
          <p:cNvCxnSpPr/>
          <p:nvPr/>
        </p:nvCxnSpPr>
        <p:spPr>
          <a:xfrm>
            <a:off x="8145000" y="3428640"/>
            <a:ext cx="1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54" name=""/>
          <p:cNvSpPr/>
          <p:nvPr/>
        </p:nvSpPr>
        <p:spPr>
          <a:xfrm>
            <a:off x="7147080" y="4016520"/>
            <a:ext cx="9144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120-2EBB-4AE8-A33F-01FA6A919F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2133720" y="1066680"/>
            <a:ext cx="4383000" cy="5105520"/>
            <a:chOff x="2133720" y="1066680"/>
            <a:chExt cx="4383000" cy="51055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2133720" y="1066680"/>
              <a:ext cx="43830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 txBox="1"/>
            <p:nvPr/>
          </p:nvSpPr>
          <p:spPr>
            <a:xfrm>
              <a:off x="2133720" y="1066680"/>
              <a:ext cx="4383000" cy="510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 down parsiranje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E92-0DDF-4973-817A-340586E557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ottom up p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rsiranje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500520" cy="316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23F-3D83-45E2-8531-746AD09243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ottom up p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arsiranje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- idej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752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f  x == y then z = 1; else z = 2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934320" cy="248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071-FA84-4051-8A4A-04AC03DB37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: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057040" y="18284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Top-down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Bottom up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3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t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In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F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 * 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Int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 * 3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22860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 + E | 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 * T | 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572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azni niz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 *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C67-6585-49C7-9885-B6225BAD50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ako se koriste sa malim gramatikama i za ad hoc parser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ser posmatra 1 token unaprijed, ne čitav string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ako izabrati produkciju na osnovu 1 tokena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a primjer: B -&gt; b  |  bB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blem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jednički prefiks!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3DB-3863-4DBF-B019-BB7B5F00B6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Gramatike - podsje</a:t>
            </a:r>
            <a:r>
              <a:rPr b="0" lang="hr-HR" sz="4000" spc="-1" strike="noStrike">
                <a:solidFill>
                  <a:srgbClr val="000099"/>
                </a:solidFill>
                <a:latin typeface="Tahoma"/>
              </a:rPr>
              <a:t>ćan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SG kao vodič za izgradnju parser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trebno je modifikovati gramatike da bi se mog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primijeniti odgovarajući algoritam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tpostavimo da imamo gramatiku G za dati jezik 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K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 konstruišemo parser za dati jezik na osnovu gramatike?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2EE8-AFE8-4C63-AC96-459C80E9C9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Mogući pristup: backtracking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imjena pravila, provjeriti da li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o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lazi, ako se zaglavimo, vraćam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e naza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že se primijeniti više pravila do zaglavljivanj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oguć je veliki  broj povrataka i višestruko primjenjivanje pravil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B8C-65E5-4B51-9882-8A6AA3BB63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acktracking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Sent. form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Ulaz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 u="sng">
                <a:solidFill>
                  <a:srgbClr val="000099"/>
                </a:solidFill>
                <a:uFillTx/>
                <a:latin typeface="Tahoma"/>
              </a:rPr>
              <a:t>Derivacija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p + Int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+ Int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p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+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oops, “+” 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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“*”, povratak,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sledeće pravilo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p * Int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 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p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 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lapanje *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pokušaj Int -&gt; 5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5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uspjeh!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6629400" y="152280"/>
            <a:ext cx="2362320" cy="175284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atik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-&gt; p + I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-&gt; p * 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-&gt; 5 | 6 |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E30-A6DF-48C3-B666-30BB55BBAA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sobine backtracking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dnosti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ože se primijeniti na svaku KS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ntualno daje poklapanj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dostaci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mbinatorna eksplozija (Combinatorial explosio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čni efekti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dodati simboli u tabelu simbol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mora se uraditi </a:t>
            </a: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undo</a:t>
            </a:r>
            <a:r>
              <a:rPr b="0" lang="en-US" sz="2400" spc="-1" strike="noStrike">
                <a:solidFill>
                  <a:srgbClr val="cc00cc"/>
                </a:solidFill>
                <a:latin typeface="Tahoma"/>
              </a:rPr>
              <a:t> bočnih efekata</a:t>
            </a:r>
            <a:endParaRPr b="0" lang="en-US" sz="2400" spc="-1" strike="noStrike">
              <a:solidFill>
                <a:srgbClr val="cc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A0A-C293-4354-83C8-636166BC4E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op-down bez backtracking-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retanje naprijed, bez backtracking-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mora poštovati određena pravil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avilo se bira na osnovu sledećeg toke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ije potreban backtracking ak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je G LL(1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: skeniranje ulaza slijeva udesno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: lijeva derivacija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1: posmatra se 1 ulazni token (lookahead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561B-0368-4A1D-AB3A-64544FE0B6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sobine LL(1) gramat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blem zajedničkog prefiksa: lijevo faktorisan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L(1) parser bira pravilo na osnovu sledećeg token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oblem lijeve rekurz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sna rekurzija je OK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evesti G u LL(1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liminisati nejasnoć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Ovo  nije dovoljno; G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dalje ne mora biti LL(1). Formalna definici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j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biće data kasnije, ovo koristite kao intuicij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67E1-F8BB-4693-9F88-C31182E1420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mplementacija top-down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8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ta je LL(1) gramatik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Rekurzivni spust (Recursive descent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ble-driven prediktivni parse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(Kao rekurzivni spust, ali može se implementirati u nerekurzivnim jezicima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B4C3-7F7D-438D-97CD-8E29CA3303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rsiranje rekurzivnim spustom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arsiranje  sentence primjenom pravila na startni simbol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Za svaki neterminalni simbol W, piše se f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nkc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ja za W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pravilo odgovara, vr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 true i pređi na sledeći ulazni simbo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ne odgovara, vr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i false i vrati ulazni pokazivač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o je G rekurzivna, f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nkcij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mogu biti rekurzivn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1B6-0330-41A3-93B1-FBA8175773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1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2976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–&gt; FUNC identifier ( parameter_list ) statement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void ParseFunction() {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FUNC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// saw 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UNC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”;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Identifier()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LPAREN)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 // saw “(“,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ParameterList();  // go parse list of parms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Assert(lookahead == T_RPAREN) ;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lookahead = GetSym(); // saw “)“, get next toke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arseStatements(); // go parse body of function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Primjedba: Call stack evidentira trenutnu poziciju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69E-06B5-4F4E-85F9-07FFA00FDB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bor pravil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Primjer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mt -&gt; if_stmt | null_stmt | return_stm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assg_stmt | while_stm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 block_of_stm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Može se vidjeti samo sledeći token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ja desna strana može izvesti odgovarajuću sentencu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Ne želimo backtracking!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Rješenje problema: </a:t>
            </a:r>
            <a:r>
              <a:rPr b="0" i="1" lang="en-US" sz="3000" spc="-1" strike="noStrike">
                <a:solidFill>
                  <a:srgbClr val="000099"/>
                </a:solidFill>
                <a:latin typeface="Tahoma"/>
              </a:rPr>
              <a:t>First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skupovi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A766-47FD-448B-90B5-E38F8B11CF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First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lično z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jedničkim prefiksima, samo uz tranzitivno zatvoren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mjer: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YZW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|     VQR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 (YZW) sadrži sve tokene kojim mogu počinjati sentence izvedene iz YZW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token t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(YZW) tada ako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želimo da reduciramo X po nekom pravilu 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t je tekući ulazni simbol, tada je X -&gt; YZW moguće pravilo koje možemo primjenit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token t ne pripada First(VQR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tada je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X -&gt; YZW jedino pravilo koje možemo primjeniti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10C-6DA8-4FEB-B5A5-0E72E3513B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Transformacija gramati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788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klanjanje nejasn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klanjanje zajedničkih prefiksa (lijevo faktorisanje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leminisanje lijeve rekurzije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7DC-E0F0-459F-AF93-3A08E5C5B5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irst skup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45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 skup niza simbola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u oznaci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je skup terminalnih simbola kojim može početi niz sentenci koje se mogu izvesti iz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ormalno, razmatramo sve stringove koje možemo izvesti iz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 gdj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očinje terminalnim simbolom t, tada t pripada skupu 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. 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ko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, tada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ipada skupu 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50FA-5B51-421D-8470-DEFCE9B217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potreba First skupov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G ima produkcije X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...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Tekući ulazni  token je t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o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je od pravila X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zabarati?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t u tačno jednom od skupova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First 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, možemo predvidjeti (predict).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Ako je t u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j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 i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, nije moguće predvidjet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Za izgradnju prediktivnog parsera nad G: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Za svaki neterminalni simbol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i sva pravila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-&gt;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| ... </a:t>
            </a:r>
            <a:r>
              <a:rPr b="0" lang="sr-Latn-C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, skupovi First(</a:t>
            </a:r>
            <a:r>
              <a:rPr b="0" lang="en-US" sz="26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6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) moraju biti disjunktni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FA63-2478-4449-AA70-478159F9C84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irst skupovi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Nulabilni (nullable) neterminalni simboli.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 -&gt; ABC | DEF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-&gt;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endParaRPr b="0" lang="en-US" sz="3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Tekući simbol t 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Nije dovoljno 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aći  First(A) and First(D)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o A zamijenimo sa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šta ako B može izvesti string koji počinje sa t?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Rješenje: Follow skupovi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llow(A) uključuje sve tokene koji se mogu pojaviti neposredno iza A u nekoj sentencijalnoj formi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zračunavanje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 First i Follow skupova, može </a:t>
            </a: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e izgraditi parser sa rekurzivnim spustom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86D-5A90-447C-BBE9-73BF805AC2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First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liminacija nejasnoća, lijeve rekurzije, zajedničkih prefiksa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First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skup za svaki neterminalni simbol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sa lijeve strane pravila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X</a:t>
            </a:r>
            <a:r>
              <a:rPr b="0" lang="sr-Latn-CS" sz="24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X2 ... Xn, je: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1.  Ako je X1 terminalni simbol, dodaj X1 skupu First(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. Kraj!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2. Ako je  X1 neterminalni simbol, dodaj (First(X1) -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skupu First(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.  Ako je X1 nulabila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X1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1" lang="sr-Latn-CS" sz="3000" spc="-1" strike="noStrike">
                <a:solidFill>
                  <a:srgbClr val="3333cc"/>
                </a:solidFill>
                <a:latin typeface="Symbol"/>
                <a:ea typeface="Symbol"/>
              </a:rPr>
              <a:t>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dodaj (First(X2) – 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 skupu First(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ko X2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dodaj (First(X3)–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, itd.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do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X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dok ne 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đemo na prvi nenulabilni ne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rmi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l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 simbol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14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. Ako X1 X2... Xn =&gt;*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dodaj </a:t>
            </a:r>
            <a:r>
              <a:rPr b="1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skupu First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B6F-0E69-4AF4-9AAB-F584238EEF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Izračunavanje Follow skup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Za svaki  neterminal A gramatike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1.  Dodati EOF u Follow(S),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gdje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 startni simbol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gramatik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, EOF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je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$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2. Za svako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, gdje su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i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stringovi simbola gramatike i B je neterminalni simbol, dodaj sve elemente skupa First(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(osim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skupu Follow(B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3. Za svako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, ili pravilo A –&gt;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gdje First(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sadrži 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t.j.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je nulabilan), dodati sve elemente skupa Follow(A) skupu Follow(B)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67A-95D7-424A-B63F-0B34DFAC68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arser: kod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oid ParseA() {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witch (lookahead) {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irst(u1):         /* code to recognize u1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turn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irst(u2):        /* code to recognize u2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turn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ase Follow(A):  // predict production A-&gt;</a:t>
            </a:r>
            <a:r>
              <a:rPr b="0" lang="en-US" sz="3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if A nullable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/* usually do nothing here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efault: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intf("syntax error \n");   /* no rule matches */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it(0);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}}</a:t>
            </a: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C8AF-0E9F-486B-9F00-1238ECBC90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ramatika za IF naredbu u nekom PJ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f_stmt –&gt; IF expr THEN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| IF expr THEN stmt ELSE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Lijeva faktorizacija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f_stmt –&gt; IF expr THEN stmt close_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close_if –&gt; ENDIF | ELSE stmt ENDIF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CG Times"/>
              </a:rPr>
              <a:t>Parsirati “IF true THEN temp++ ENDIF”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C87-5B39-454E-8B48-1D672C2F658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cursive-descent primjer kod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void ParseIfStmt() {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IF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Expr (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THEN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Stmt();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CloseIf(); }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97D-C8B4-40B5-AF59-1B557F4B5B1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533520"/>
            <a:ext cx="80773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void ParseCloseIf()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if (lookahead == T_ENDIF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lookahead = GetSym();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else {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ELSE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ParseStmt();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MatchToken(T_ENDIF);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	</a:t>
            </a:r>
            <a:r>
              <a:rPr b="0" lang="sr-Latn-CS" sz="3200" spc="-1" strike="noStrike">
                <a:solidFill>
                  <a:srgbClr val="3333cc"/>
                </a:solidFill>
                <a:latin typeface="CG Times"/>
              </a:rPr>
              <a:t>   </a:t>
            </a: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}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G Times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344-6A96-46CC-82D1-509B2C227E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Primjer rekurzivnog spust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Ulazni niz: </a:t>
            </a:r>
            <a:r>
              <a:rPr b="0" lang="en-US" sz="3200" spc="-1" strike="noStrike">
                <a:solidFill>
                  <a:srgbClr val="000099"/>
                </a:solidFill>
                <a:latin typeface="CG Times"/>
              </a:rPr>
              <a:t>IF true THEN temp++ ENDI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Pr</a:t>
            </a:r>
            <a:r>
              <a:rPr b="0" lang="hr-HR" sz="3200" spc="-1" strike="noStrike">
                <a:solidFill>
                  <a:srgbClr val="000099"/>
                </a:solidFill>
                <a:latin typeface="CG Times"/>
              </a:rPr>
              <a:t>oć</a:t>
            </a:r>
            <a:r>
              <a:rPr b="0" lang="sr-Latn-CS" sz="3200" spc="-1" strike="noStrike">
                <a:solidFill>
                  <a:srgbClr val="000099"/>
                </a:solidFill>
                <a:latin typeface="CG Times"/>
              </a:rPr>
              <a:t>i kroz kod primjera sa prethodnog slajda (dodati prikaz call-steka)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7FFF-1F8F-4CE1-B7D6-0EDFE62391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jas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Dvosmislenost - nejasnoća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Ambiguity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a jednu rečenicu više od jednog stabla parsir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Vidi primjer na sljedećem slajd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309-4E96-4012-8DB1-797F9FD482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1066680"/>
            <a:ext cx="784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G (sa BNF pro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renom notacijo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 = { N , T , S , P 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eterminalni simbol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 = { A , B , C , D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erminalni simbol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= { "(" , ")" , "+" , "a" , "[" , "]" , "." 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artni simbo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 = 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769D-12E5-430A-914E-3B0676D2706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(nastavak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a (produkcije) gramatike: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"."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[ "a" | "(" C ")" | "[" B "]" ]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D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"+" B }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FB9-364A-4CD2-8393-4A663C9A7D2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137160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"."  (1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"a" (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(" C ")" (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[" B "]" (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 D (6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"+" B D (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–&gt; </a:t>
            </a: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(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1DAA-D59F-45A2-9929-76BA8D93CE1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447920"/>
            <a:ext cx="7848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A) = { "a" , "(" , "["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"."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B) = { "a" , "(" , "["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D) = { "+" , </a:t>
            </a:r>
            <a:r>
              <a:rPr b="1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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(C) = FIRST(B) U FIRST(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D) = FOLLOW(C) = { ")"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B) = { "." , "]" , "+" } 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{ ")" } = { "." , "]" , "+" , ")" 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LLOW(A) = {$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562-1C43-4EDF-BE2A-D5DD294758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75248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include &lt;stdlib.h&g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 sym; // Source tok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getsym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 = getchar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F05-515F-48E2-B89D-929BE0F6C55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447920"/>
            <a:ext cx="7772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accept(char expectedterminal, char *errormessage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(sym != expectedterminal) {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s(errormessage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t(1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CFC-AC2E-4C92-BA02-0B101E5230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371600"/>
            <a:ext cx="79246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A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.', " Error ­ '.' expected"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C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981-6DE2-4F4B-BF0E-8E6CE1A1A3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B(void)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itch (sym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a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(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)', " Error ­ ')' expected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E141-BB06-470D-9B16-AD4152ED6E9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1219320"/>
            <a:ext cx="86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[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(']', " Error ­ ']' expected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)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]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+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'.'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k; //no action for followers of 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EC1-9BB4-4827-B03F-AEB8432C09E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295280"/>
            <a:ext cx="807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aul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f("Unknown symbol\n");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t(1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A58-6316-416E-9020-0CEA0FA4D6B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jasne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14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 op E | ( E ) | i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+ | - | * | 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nput: 10 –2 * 5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62120" y="2666880"/>
            <a:ext cx="3352320" cy="2971440"/>
            <a:chOff x="762120" y="2666880"/>
            <a:chExt cx="3352320" cy="2971440"/>
          </a:xfrm>
        </p:grpSpPr>
        <p:sp>
          <p:nvSpPr>
            <p:cNvPr id="60" name=""/>
            <p:cNvSpPr/>
            <p:nvPr/>
          </p:nvSpPr>
          <p:spPr>
            <a:xfrm>
              <a:off x="1563840" y="463680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120" y="3886920"/>
              <a:ext cx="34776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1680" y="3886920"/>
              <a:ext cx="35028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84080" y="2666880"/>
              <a:ext cx="3488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73120" y="460980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06320" y="388692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21320" y="3323520"/>
              <a:ext cx="34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8120" y="3323520"/>
              <a:ext cx="348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19960" y="3389040"/>
              <a:ext cx="350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7400" y="391464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8840" y="529380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71" name=""/>
            <p:cNvCxnSpPr>
              <a:stCxn id="63" idx="2"/>
              <a:endCxn id="67" idx="0"/>
            </p:cNvCxnSpPr>
            <p:nvPr/>
          </p:nvCxnSpPr>
          <p:spPr>
            <a:xfrm flipH="1">
              <a:off x="1781640" y="3000240"/>
              <a:ext cx="976680" cy="32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>
              <a:stCxn id="68" idx="0"/>
              <a:endCxn id="63" idx="2"/>
            </p:cNvCxnSpPr>
            <p:nvPr/>
          </p:nvCxnSpPr>
          <p:spPr>
            <a:xfrm flipH="1" flipV="1">
              <a:off x="2758320" y="2999880"/>
              <a:ext cx="33768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"/>
            <p:cNvCxnSpPr>
              <a:stCxn id="66" idx="0"/>
              <a:endCxn id="63" idx="2"/>
            </p:cNvCxnSpPr>
            <p:nvPr/>
          </p:nvCxnSpPr>
          <p:spPr>
            <a:xfrm flipH="1" flipV="1">
              <a:off x="2758320" y="2999880"/>
              <a:ext cx="1137600" cy="32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"/>
            <p:cNvCxnSpPr>
              <a:stCxn id="67" idx="2"/>
              <a:endCxn id="62" idx="0"/>
            </p:cNvCxnSpPr>
            <p:nvPr/>
          </p:nvCxnSpPr>
          <p:spPr>
            <a:xfrm>
              <a:off x="1782000" y="3659760"/>
              <a:ext cx="76572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"/>
            <p:cNvCxnSpPr>
              <a:stCxn id="67" idx="2"/>
              <a:endCxn id="65" idx="0"/>
            </p:cNvCxnSpPr>
            <p:nvPr/>
          </p:nvCxnSpPr>
          <p:spPr>
            <a:xfrm>
              <a:off x="1782000" y="3659760"/>
              <a:ext cx="108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"/>
            <p:cNvCxnSpPr>
              <a:stCxn id="67" idx="2"/>
              <a:endCxn id="61" idx="0"/>
            </p:cNvCxnSpPr>
            <p:nvPr/>
          </p:nvCxnSpPr>
          <p:spPr>
            <a:xfrm flipH="1">
              <a:off x="936000" y="3659760"/>
              <a:ext cx="846720" cy="227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"/>
            <p:cNvCxnSpPr>
              <a:stCxn id="65" idx="2"/>
              <a:endCxn id="60" idx="0"/>
            </p:cNvCxnSpPr>
            <p:nvPr/>
          </p:nvCxnSpPr>
          <p:spPr>
            <a:xfrm>
              <a:off x="1782000" y="4220640"/>
              <a:ext cx="108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"/>
            <p:cNvCxnSpPr>
              <a:stCxn id="64" idx="2"/>
              <a:endCxn id="70" idx="0"/>
            </p:cNvCxnSpPr>
            <p:nvPr/>
          </p:nvCxnSpPr>
          <p:spPr>
            <a:xfrm flipH="1">
              <a:off x="2547360" y="4943160"/>
              <a:ext cx="2160" cy="351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"/>
            <p:cNvCxnSpPr>
              <a:stCxn id="66" idx="2"/>
              <a:endCxn id="69" idx="0"/>
            </p:cNvCxnSpPr>
            <p:nvPr/>
          </p:nvCxnSpPr>
          <p:spPr>
            <a:xfrm>
              <a:off x="3895560" y="3659400"/>
              <a:ext cx="1080" cy="255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"/>
            <p:cNvSpPr/>
            <p:nvPr/>
          </p:nvSpPr>
          <p:spPr>
            <a:xfrm>
              <a:off x="3677400" y="463680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1" name=""/>
            <p:cNvCxnSpPr>
              <a:stCxn id="69" idx="2"/>
              <a:endCxn id="80" idx="0"/>
            </p:cNvCxnSpPr>
            <p:nvPr/>
          </p:nvCxnSpPr>
          <p:spPr>
            <a:xfrm>
              <a:off x="3895560" y="4193280"/>
              <a:ext cx="1080" cy="44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2" name=""/>
            <p:cNvSpPr/>
            <p:nvPr/>
          </p:nvSpPr>
          <p:spPr>
            <a:xfrm>
              <a:off x="2875680" y="3914640"/>
              <a:ext cx="43704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3" name=""/>
            <p:cNvCxnSpPr>
              <a:stCxn id="68" idx="2"/>
              <a:endCxn id="82" idx="0"/>
            </p:cNvCxnSpPr>
            <p:nvPr/>
          </p:nvCxnSpPr>
          <p:spPr>
            <a:xfrm flipH="1">
              <a:off x="3093840" y="3725640"/>
              <a:ext cx="1800" cy="189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>
              <a:stCxn id="62" idx="2"/>
              <a:endCxn id="64" idx="0"/>
            </p:cNvCxnSpPr>
            <p:nvPr/>
          </p:nvCxnSpPr>
          <p:spPr>
            <a:xfrm>
              <a:off x="2547720" y="4220640"/>
              <a:ext cx="216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5" name=""/>
            <p:cNvSpPr/>
            <p:nvPr/>
          </p:nvSpPr>
          <p:spPr>
            <a:xfrm>
              <a:off x="762120" y="4609800"/>
              <a:ext cx="3506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99160" y="5359320"/>
              <a:ext cx="4370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7" name=""/>
            <p:cNvCxnSpPr>
              <a:stCxn id="85" idx="2"/>
              <a:endCxn id="86" idx="0"/>
            </p:cNvCxnSpPr>
            <p:nvPr/>
          </p:nvCxnSpPr>
          <p:spPr>
            <a:xfrm>
              <a:off x="938160" y="4943520"/>
              <a:ext cx="480240" cy="416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>
              <a:stCxn id="61" idx="2"/>
              <a:endCxn id="85" idx="0"/>
            </p:cNvCxnSpPr>
            <p:nvPr/>
          </p:nvCxnSpPr>
          <p:spPr>
            <a:xfrm>
              <a:off x="936360" y="4220640"/>
              <a:ext cx="2160" cy="389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89" name=""/>
          <p:cNvGrpSpPr/>
          <p:nvPr/>
        </p:nvGrpSpPr>
        <p:grpSpPr>
          <a:xfrm>
            <a:off x="5105520" y="2666880"/>
            <a:ext cx="3352320" cy="3048120"/>
            <a:chOff x="5105520" y="2666880"/>
            <a:chExt cx="3352320" cy="3048120"/>
          </a:xfrm>
        </p:grpSpPr>
        <p:sp>
          <p:nvSpPr>
            <p:cNvPr id="90" name=""/>
            <p:cNvSpPr/>
            <p:nvPr/>
          </p:nvSpPr>
          <p:spPr>
            <a:xfrm>
              <a:off x="6734520" y="2666880"/>
              <a:ext cx="30024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32360" y="3488040"/>
              <a:ext cx="3016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2" name=""/>
            <p:cNvCxnSpPr>
              <a:stCxn id="90" idx="2"/>
              <a:endCxn id="93" idx="0"/>
            </p:cNvCxnSpPr>
            <p:nvPr/>
          </p:nvCxnSpPr>
          <p:spPr>
            <a:xfrm flipH="1">
              <a:off x="5293080" y="2987640"/>
              <a:ext cx="159192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"/>
            <p:cNvCxnSpPr>
              <a:stCxn id="91" idx="0"/>
              <a:endCxn id="90" idx="2"/>
            </p:cNvCxnSpPr>
            <p:nvPr/>
          </p:nvCxnSpPr>
          <p:spPr>
            <a:xfrm flipV="1">
              <a:off x="5983560" y="2987280"/>
              <a:ext cx="901080" cy="500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endCxn id="90" idx="2"/>
            </p:cNvCxnSpPr>
            <p:nvPr/>
          </p:nvCxnSpPr>
          <p:spPr>
            <a:xfrm flipH="1" flipV="1">
              <a:off x="6883920" y="2987280"/>
              <a:ext cx="62748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"/>
            <p:cNvSpPr/>
            <p:nvPr/>
          </p:nvSpPr>
          <p:spPr>
            <a:xfrm>
              <a:off x="5794560" y="4056480"/>
              <a:ext cx="375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7" name=""/>
            <p:cNvCxnSpPr>
              <a:stCxn id="91" idx="2"/>
              <a:endCxn id="96" idx="0"/>
            </p:cNvCxnSpPr>
            <p:nvPr/>
          </p:nvCxnSpPr>
          <p:spPr>
            <a:xfrm flipH="1">
              <a:off x="5982120" y="3811680"/>
              <a:ext cx="2160" cy="245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"/>
            <p:cNvSpPr/>
            <p:nvPr/>
          </p:nvSpPr>
          <p:spPr>
            <a:xfrm>
              <a:off x="5105520" y="47512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99" name=""/>
            <p:cNvCxnSpPr>
              <a:stCxn id="98" idx="0"/>
              <a:endCxn id="100" idx="2"/>
            </p:cNvCxnSpPr>
            <p:nvPr/>
          </p:nvCxnSpPr>
          <p:spPr>
            <a:xfrm flipV="1">
              <a:off x="5293080" y="4324680"/>
              <a:ext cx="1080" cy="426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"/>
            <p:cNvSpPr/>
            <p:nvPr/>
          </p:nvSpPr>
          <p:spPr>
            <a:xfrm>
              <a:off x="5143320" y="3488040"/>
              <a:ext cx="2998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05520" y="4056480"/>
              <a:ext cx="3758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01" name=""/>
            <p:cNvCxnSpPr>
              <a:stCxn id="93" idx="2"/>
              <a:endCxn id="100" idx="0"/>
            </p:cNvCxnSpPr>
            <p:nvPr/>
          </p:nvCxnSpPr>
          <p:spPr>
            <a:xfrm>
              <a:off x="5293080" y="3811680"/>
              <a:ext cx="1080" cy="245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2" name=""/>
            <p:cNvSpPr/>
            <p:nvPr/>
          </p:nvSpPr>
          <p:spPr>
            <a:xfrm>
              <a:off x="7361280" y="47512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ff"/>
                  </a:solidFill>
                  <a:latin typeface="Courier New"/>
                </a:rPr>
                <a:t>*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47400" y="4030200"/>
              <a:ext cx="2988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18720" y="4030200"/>
              <a:ext cx="3013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18720" y="4725360"/>
              <a:ext cx="30132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98000" y="4030200"/>
              <a:ext cx="3016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424280" y="3488040"/>
              <a:ext cx="299880" cy="32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82000" y="544644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09" name=""/>
            <p:cNvCxnSpPr>
              <a:stCxn id="107" idx="2"/>
              <a:endCxn id="104" idx="0"/>
            </p:cNvCxnSpPr>
            <p:nvPr/>
          </p:nvCxnSpPr>
          <p:spPr>
            <a:xfrm>
              <a:off x="7574400" y="3811680"/>
              <a:ext cx="69624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"/>
            <p:cNvCxnSpPr>
              <a:stCxn id="107" idx="2"/>
              <a:endCxn id="106" idx="0"/>
            </p:cNvCxnSpPr>
            <p:nvPr/>
          </p:nvCxnSpPr>
          <p:spPr>
            <a:xfrm flipH="1">
              <a:off x="7548840" y="3811680"/>
              <a:ext cx="2556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"/>
            <p:cNvCxnSpPr>
              <a:stCxn id="107" idx="2"/>
              <a:endCxn id="103" idx="0"/>
            </p:cNvCxnSpPr>
            <p:nvPr/>
          </p:nvCxnSpPr>
          <p:spPr>
            <a:xfrm flipH="1">
              <a:off x="6797160" y="3811680"/>
              <a:ext cx="777600" cy="218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"/>
            <p:cNvCxnSpPr>
              <a:stCxn id="105" idx="2"/>
              <a:endCxn id="108" idx="0"/>
            </p:cNvCxnSpPr>
            <p:nvPr/>
          </p:nvCxnSpPr>
          <p:spPr>
            <a:xfrm>
              <a:off x="8269560" y="5046480"/>
              <a:ext cx="1080" cy="400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>
              <a:stCxn id="104" idx="2"/>
              <a:endCxn id="105" idx="0"/>
            </p:cNvCxnSpPr>
            <p:nvPr/>
          </p:nvCxnSpPr>
          <p:spPr>
            <a:xfrm>
              <a:off x="8269560" y="4351320"/>
              <a:ext cx="1080" cy="37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4" name=""/>
            <p:cNvSpPr/>
            <p:nvPr/>
          </p:nvSpPr>
          <p:spPr>
            <a:xfrm>
              <a:off x="6645960" y="4725360"/>
              <a:ext cx="30168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i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5" name=""/>
            <p:cNvCxnSpPr>
              <a:stCxn id="103" idx="2"/>
              <a:endCxn id="114" idx="0"/>
            </p:cNvCxnSpPr>
            <p:nvPr/>
          </p:nvCxnSpPr>
          <p:spPr>
            <a:xfrm>
              <a:off x="6797160" y="4351320"/>
              <a:ext cx="1080" cy="37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6" name=""/>
            <p:cNvSpPr/>
            <p:nvPr/>
          </p:nvSpPr>
          <p:spPr>
            <a:xfrm>
              <a:off x="6609240" y="5320080"/>
              <a:ext cx="3758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ff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117" name=""/>
            <p:cNvCxnSpPr>
              <a:stCxn id="114" idx="2"/>
              <a:endCxn id="116" idx="0"/>
            </p:cNvCxnSpPr>
            <p:nvPr/>
          </p:nvCxnSpPr>
          <p:spPr>
            <a:xfrm>
              <a:off x="6797160" y="5046480"/>
              <a:ext cx="1080" cy="2743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"/>
            <p:cNvCxnSpPr>
              <a:stCxn id="106" idx="2"/>
              <a:endCxn id="102" idx="0"/>
            </p:cNvCxnSpPr>
            <p:nvPr/>
          </p:nvCxnSpPr>
          <p:spPr>
            <a:xfrm>
              <a:off x="7549200" y="4350960"/>
              <a:ext cx="1080" cy="400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19" name=""/>
          <p:cNvSpPr/>
          <p:nvPr/>
        </p:nvSpPr>
        <p:spPr>
          <a:xfrm>
            <a:off x="1219320" y="556272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556272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Comic Sans MS"/>
              </a:rPr>
              <a:t>Koje je stablo ispravno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350-2EBF-461F-99B5-3F6521148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371600"/>
            <a:ext cx="7925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D(void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(sym == '+'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tsym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2B1-AA89-4326-B757-DCE43F6203E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371600"/>
            <a:ext cx="77724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id main() {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 = getchar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(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tf("Successful\n"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5D6E-583A-4949-9B83-0553961C229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Domaći zadata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!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apisati rekurzivni prediktivni parser za aritmetičke izraze, sa 4 osnovne računske operacij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Promjenljive mogu biti samo slova engleske abecede, brojne konstante kao u C-u,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Odredit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First 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Follow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skupov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Dodati </a:t>
            </a:r>
            <a:r>
              <a:rPr b="0" lang="en-US" sz="2600" spc="-1" strike="noStrike">
                <a:solidFill>
                  <a:srgbClr val="3333cc"/>
                </a:solidFill>
                <a:latin typeface="Tahoma"/>
              </a:rPr>
              <a:t> printf</a:t>
            </a: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 u kod tako da se štampa koje je pravilo primjenjeno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333cc"/>
                </a:solidFill>
                <a:latin typeface="Tahoma"/>
              </a:rPr>
              <a:t>Razmislite kako da obradite eventualne greške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6DBC-7690-4579-9C8C-95129AF1745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Nerekurzivni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 LL(1) pars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op-down,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ao 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r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i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od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iv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og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pust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un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j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obrađuju akciju za neterminal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 stack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videntira napredak u parsiranj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Može doći do rekurzivnih poziva, npr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xp -&gt; term -&gt; factor -&gt; ( exp 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erekurziv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predi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i="1" lang="en-US" sz="2800" spc="-1" strike="noStrike">
                <a:solidFill>
                  <a:srgbClr val="000099"/>
                </a:solidFill>
                <a:latin typeface="Tahoma"/>
              </a:rPr>
              <a:t>tiv</a:t>
            </a:r>
            <a:r>
              <a:rPr b="0" i="1" lang="sr-Latn-CS" sz="2800" spc="-1" strike="noStrike">
                <a:solidFill>
                  <a:srgbClr val="000099"/>
                </a:solidFill>
                <a:latin typeface="Tahoma"/>
              </a:rPr>
              <a:t>n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 parser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am čuva informacij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lici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i zapis na steku za svako pravilo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licit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tab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čuva informaciju o akcijam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30F-7F8F-4A2D-93A4-BE214A3DB0D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Izgradnja tabele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zgradnja tabele - ogroman rad ali jasno definisan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a datu gramatik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, tab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reba da implementira preslikavanje koje par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l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neterminal na steku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ulazn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bol&g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preslikava 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&lt;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avilo gramatik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&gt;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Preslikavanje mora biti f-ij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.j. moramo naći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rst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ollow s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kupov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Preslikavanje je f-ija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&lt;==&gt; G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j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LL(1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B77-6D40-4D51-B762-FA5D17CB67A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ormalna definicija LL(1)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Bez nejasnoća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bez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l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ijev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re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z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je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G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je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LL(1)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ako za svake dvije produkcije      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A –&gt; 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u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| 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v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3000" spc="-1" strike="noStrike">
                <a:solidFill>
                  <a:srgbClr val="000099"/>
                </a:solidFill>
                <a:latin typeface="Tahoma"/>
              </a:rPr>
              <a:t>važi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) =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Najviše iz jednog od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može se izvesti prazan str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ako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=&gt;*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tada se iz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u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ne može izvesti string koji počinje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erminal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om iz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ollow(A)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 (t.j.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rst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Follow </a:t>
            </a:r>
            <a:r>
              <a:rPr b="0" lang="sr-Latn-CS" sz="2800" spc="-1" strike="noStrike">
                <a:solidFill>
                  <a:srgbClr val="3333cc"/>
                </a:solidFill>
                <a:latin typeface="Tahoma"/>
              </a:rPr>
              <a:t>moraju biti disjunktni ako je A nulabilan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FF95-CAD4-456E-85C3-F9CB4FE6747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1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eLLRap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va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hance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L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LR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imated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rser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cs.duke.edu/~rodger/tools/jellrap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apomen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oristite ! (znak uvika) umjesto epsil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4150-185A-41B3-BF70-28ACF69CB8E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tika za aritmeti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čke izraze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-&gt;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+T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-&gt;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T*F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| 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Eliminišemo lijevu rekurz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073A-D000-46BB-ADEA-B4BC6F37647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1523880"/>
            <a:ext cx="7925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Gramatika za aritmeti</a:t>
            </a:r>
            <a:r>
              <a:rPr b="0" lang="hr-HR" sz="3200" spc="-1" strike="noStrike">
                <a:solidFill>
                  <a:srgbClr val="000099"/>
                </a:solidFill>
                <a:latin typeface="Tahoma"/>
              </a:rPr>
              <a:t>č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ke izra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 -&gt;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-&gt; +TA |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 -&gt; 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 -&gt; *FB |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 -&gt; (E) | 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24B-DE92-4856-B218-D17216A9C46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066680"/>
            <a:ext cx="777240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E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, FOLLOW(E) = {$,  )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T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OLLOW(T) = {+,  $, 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F) = {</a:t>
            </a:r>
            <a:r>
              <a:rPr b="0" lang="en-US" sz="30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, ( }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OLLOW(F) = { *,  $,  ),+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A) = {+, </a:t>
            </a:r>
            <a:r>
              <a:rPr b="0" lang="en-US" sz="30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} , FOLLOW(A) = {$,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FIRST(B) = {*, </a:t>
            </a:r>
            <a:r>
              <a:rPr b="0" lang="en-US" sz="30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3000" spc="-1" strike="noStrike">
                <a:solidFill>
                  <a:srgbClr val="000099"/>
                </a:solidFill>
                <a:latin typeface="Tahoma"/>
              </a:rPr>
              <a:t>}, FOLLOW(B) = {+, $ , )}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30E9-0EF5-4306-89A3-DC0953D9C7D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0666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onekad nije neophodno eliminisati nejasnoće (zavisi od tipa parsera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rilikom pisanja gramatike treba voditi računa da se eleminišu nejasnoć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E  Add_op  T   |   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Add_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+  |  -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T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T  Mult_op  F   |   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Mult_op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*  |  /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–&gt;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(E)   |   int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Otklanjanje nejasnoć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76360" y="657360"/>
            <a:ext cx="6372000" cy="1839600"/>
            <a:chOff x="576360" y="657360"/>
            <a:chExt cx="6372000" cy="1839600"/>
          </a:xfrm>
        </p:grpSpPr>
        <p:sp>
          <p:nvSpPr>
            <p:cNvPr id="124" name=""/>
            <p:cNvSpPr/>
            <p:nvPr/>
          </p:nvSpPr>
          <p:spPr>
            <a:xfrm>
              <a:off x="576360" y="657360"/>
              <a:ext cx="3094920" cy="18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6680" y="666720"/>
              <a:ext cx="3361680" cy="18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445-AF44-432B-BD32-A3FFF80078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reiranje tabele parser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77520" y="1066680"/>
            <a:ext cx="8008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a svaki neterminalni simbol N i  terminalni simbol x iz skupa First(N), u polju tabl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x,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] upisujemo odgovar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ju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u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odukc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Ako </a:t>
            </a:r>
            <a:r>
              <a:rPr b="0" lang="sr-Latn-C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 pripada skupu First(N), tada za svaki element y iz skupa Follow(N) u polje tabl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[y,N] upisujemo odgovaraju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ć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 produkcij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AF9-C281-4A39-BE80-9FDF53D43F7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1523880"/>
            <a:ext cx="914400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+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(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$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E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-&gt;TA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  E-&gt;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-&gt;+T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A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A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   T-&gt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T-&gt;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B-&gt;*FB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  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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F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F-&gt;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  F-&gt;(E)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bela nerekurzivnog prediktivnog pars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152388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1600200"/>
            <a:ext cx="0" cy="274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05740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43828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89548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27672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733920"/>
            <a:ext cx="883908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E60-4D5E-433F-9929-1BF6CEDD584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21932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lazni niz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E-&gt;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T-&gt;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B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A244-8533-4CC3-BDAB-7AE733178F0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85345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-&gt;+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+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+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-&gt;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id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-&gt;*F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6A2-B613-4601-AEC1-2459E9488F5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rimjer 2 - nastavak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1219320"/>
            <a:ext cx="87631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k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ulazni niz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kci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*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*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F-&gt;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ahoma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id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id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B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-&gt;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           $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c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96DB-5030-4EDE-8DD1-19DE5DECDFB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Obrada grešaka pri parsiranju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arsiranje zasnovano na gramatikama je odlično za prepoznavanje ispravnih ulaznih nizova. 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ko je ulazni niz  neispravan, korisnik želi da vidi: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Greške po redosljedu pojavljivan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Lokaciju greške u izvornom kodu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oruke izražene terminima source jezik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pr. “simbol T na steku a token je x” je primjer besmislene poruk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Prijavljivanje svih grešaka, ali ne i svih koje proisitiču zbog jedne nepravilnosti (na primjer, ako promjenljiva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nije deklarisana, ne prijavljivati grešku za svaku upotrebu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030-5E2C-4B60-A5C1-67844C5E23C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ajednički prefiksi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145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Neki parseri korist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sledeći terminal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(token)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 za izbor pravila gramatike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Ako dva pravila imaju isti prefiks, nemoguće je odrediti koje od njih treba primjeniti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aBcD | aB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ijevo faktorisanje eliminiše zajedničke prefikse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X -&gt; aB End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End -&gt; </a:t>
            </a:r>
            <a:r>
              <a:rPr b="1" lang="en-US" sz="36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| cD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Pojednostavljuje generisanje parsera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C71F-C0B2-45B8-A6D9-A2AA0D6A27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Lijevo faktorisanj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 - primjer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78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EtS|iEtSeS|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i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Ovdje je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if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then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else,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 i </a:t>
            </a:r>
            <a:r>
              <a:rPr b="0" i="1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 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0099"/>
                </a:solidFill>
                <a:latin typeface="Tahoma"/>
              </a:rPr>
              <a:t>značavaju izraz i naredbu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iEtSS’ |a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S’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S|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3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  <a:ea typeface="Times New Roman"/>
              </a:rPr>
              <a:t>b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11E6-8A81-4314-8CAE-70ED5B12D2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Re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k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ur</a:t>
            </a:r>
            <a:r>
              <a:rPr b="0" lang="sr-Latn-CS" sz="4000" spc="-1" strike="noStrike">
                <a:solidFill>
                  <a:srgbClr val="000099"/>
                </a:solidFill>
                <a:latin typeface="Tahoma"/>
              </a:rPr>
              <a:t>zija u pravilima gramatik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U teoriji uobičajen način predstavljanja, problem nastaje kod implementacije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(Re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r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v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na pravila mogu dovesti do bekonačne petlje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-&gt; Aw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lijeva rekurzi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 -&gt; wA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desna rekurzija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99"/>
                </a:solidFill>
                <a:latin typeface="Tahoma"/>
              </a:rPr>
              <a:t>Primjer</a:t>
            </a: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: &lt;var_list&gt; -&gt; &lt;var_list&gt; &lt;variable&gt; | &lt;variable&gt;</a:t>
            </a:r>
            <a:endParaRPr b="0" lang="en-US" sz="26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99"/>
                </a:solidFill>
                <a:latin typeface="Tahoma"/>
              </a:rPr>
              <a:t>Gramatika se može transformisati tako da se deterministički eliminiše lijeva ili desna rekurzija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5E8-9E01-4746-8DB7-B17FFEB1AD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08:15:37Z</dcterms:created>
  <dc:creator>Godmar Back</dc:creator>
  <dc:description/>
  <dc:language>en-US</dc:language>
  <cp:lastModifiedBy>Goran</cp:lastModifiedBy>
  <dcterms:modified xsi:type="dcterms:W3CDTF">2010-04-01T14:11:42Z</dcterms:modified>
  <cp:revision>1045</cp:revision>
  <dc:subject/>
  <dc:title>Welcome to CS143</dc:title>
</cp:coreProperties>
</file>