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A6D2F-2E6A-4E24-8535-D5B270515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91327-C33E-4274-BAD3-48B7B3488A7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0464B-4C9E-4C33-897A-21CC5D23F15B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248FE-D3EC-4759-942E-706D32294007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73524-A800-42AF-9AFC-6B84EACD1AEB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27E55-A325-4EF5-89CE-DFB355A15A4F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981C6-94F8-4F28-AB60-AC34FB7A401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A910F-EE1B-486D-81D4-7CC478F2ADF3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206E7-340F-4092-BF73-34E236B0A5E4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9EBD1-1816-4988-9911-E2B05CFE43E8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C4607-BFB8-46FD-BD69-3674B57D35C4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28CB6-0814-4973-90E0-91DAC36621E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097EF-9427-4617-A6FB-A96442763FC7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E17E7-7F32-416D-A106-E1528BF728D9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5EADE-D100-4FF6-97CC-3C07288006F8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46603-6E84-4C0E-94C0-2D1D220F72D4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8CF67-D0AF-4B08-870A-54F138CEE4DF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DC759-255C-497D-9E6E-4BC7F96386CB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27875-440F-469F-B641-B6A5FA8368F3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7DF0C-7DB4-4329-924A-0758FA4DF32E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974F0-9700-457D-8136-FC0714FF5737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1406D-8C92-4169-A509-B7847836813F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16D43-253B-4E9C-82E1-D021E00082B5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494BF-52B8-4361-8231-A010EC67105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96CD7-40D8-4659-986F-C6B0C90752BD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30E3C-05C4-421E-89BA-560502CAE849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CFC44-ECFC-44E4-A913-3D5C257F95A9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66656-0B4E-43B5-AB56-6D21C299CD7F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9A9B8-13A2-4B59-9562-B7095D56F65B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F5BF2-1540-4990-9F5F-6737A4D98B7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A1709-D5A2-41DC-93E1-B80214C93FA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CD37C-0063-4673-9386-648BAB738FAB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8AC5D-BEA4-4986-A5AE-4964C448BC21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72559-96AE-425D-8F9D-AC0CF174D40E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C8F53-538F-47C8-A804-AB71F29C88E0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B55F7-17D3-4F55-9F61-0F3FAF604823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722FA-2952-46F0-9E4D-89521DDF21C1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CAD54-CDCC-4CF5-AAE1-4120E1574069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00CF5-7A26-4B78-951D-2E45A05E440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4EBA2-AB16-4352-BE4F-1F81E5D12BCD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70C1C-3820-4B00-BF66-E122AF87C21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6C09F-4ECC-4773-A61C-AC9A89EE999F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D2938-10C2-476E-8D77-9F5B67E6E77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9D0E1-0415-4BDE-9B40-9E8DEEAD6938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E1E34-112E-4791-9201-F71303D3AA8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A2153-AE2B-46D3-879C-FF6E67ACC035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E37C7-7372-415D-9CE2-AFE546A003B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C87C2-E381-4FB9-9D2F-4A7F50FF5C1E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0D538-6C06-461C-A93E-7FD39735A86A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63205-CDE6-4FA3-ADD6-DE2AC8416398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9045F-9DF4-4809-8815-0C7AD871C109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0D9EF-1967-4BA0-B5CC-AF54C0E22DA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8E501-3155-4C4D-80A3-A3303A4B6162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734C3-D5B6-4118-8E80-F352493A2BE1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7AECD-80D5-4802-9921-C0A3F9D0676C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8590D-73B2-4832-892E-DDDD54F9DD77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14504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2C35C-847A-478E-98B0-28BAAF46AFD3}" type="slidenum">
              <a:rPr b="0" lang="en-US" sz="1300" spc="-1" strike="noStrike">
                <a:solidFill>
                  <a:srgbClr val="00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260360" y="720720"/>
            <a:ext cx="4797720" cy="35989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6320" y="455904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4479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9952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9952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4479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9952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cc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80880" y="6552720"/>
            <a:ext cx="8382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BD624B2C-E49B-423C-ABA7-F13A188AE516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Uvod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okretanje prevedenog programa 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47" name="Diagram 33" descr=""/>
          <p:cNvPicPr/>
          <p:nvPr/>
        </p:nvPicPr>
        <p:blipFill>
          <a:blip r:embed="rId1"/>
          <a:stretch/>
        </p:blipFill>
        <p:spPr>
          <a:xfrm>
            <a:off x="2309760" y="225360"/>
            <a:ext cx="451800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4884EAFC-F37C-46F9-A07E-2AA5114AE2B1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ako zadati instrukcije računaru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Ulaz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ogramski jezik visokog nivo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zlaz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embl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rske instrukcije niskog nivo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ompajler vrši prevođenje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(translaciju)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Čita i razumije program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ec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zno određuje koje su tražene ak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hvata kako da doslovno izvrši te ak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aje instrukcije računaru za izvođenje akcij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8921D66F-0926-4155-8A81-66019730758A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Ulaz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tandard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n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imperativ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ni jezic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Java, C, C++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t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Promjenljive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tru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ture, 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Nizovi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zračunavanj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zraz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 (aritmeti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čk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, logi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čk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td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.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Assignment statements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Control flow (conditionals, loops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Procedures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B9AEE3D7-E9CB-48BE-AC73-D34286FEA7F7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laz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t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nj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Registr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Memor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ja sa “ravnim”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dresnim prostorom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M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š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ski 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od – load/store arhite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Load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 i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store instru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e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ritmet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čke i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log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čke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oper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cije nad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registr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m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nstrukcije grananja (b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ranch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7888ABB1-189C-488D-B481-A58A4C75FD8B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rimjer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(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source code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sumcalc(int a, int b, int N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b*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E5D014E1-18E7-438B-A572-1C45B6D227A1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rimjer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(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laz –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sembl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erski k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d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8960" y="1143000"/>
            <a:ext cx="3352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sumcalc: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pushq   %rbp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q    %rsp, %rbp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di, -4(%rbp)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si, -8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dx, -12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$0, -20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$0, -24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$0, -16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2:    movl    -16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cmpl    -12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jg      .L3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-4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l    0(,%rax,4)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q    -8(%rbp), %r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q    %rax, -40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dx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q    -40(%rbp), %rc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divl   (%rcx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ax, -28(%rbp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-28(%rbp)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mull   -16(%rbp)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-16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ncl   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mull   %eax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addl    %eax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-8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movl    %eax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mull   -24(%rbp), %ed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q    -16(%rbp), %r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incl    (%rax)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jmp     .L2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3:    movl    -20(%rbp), %eax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leave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  <a:p>
            <a:pPr marL="3358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1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952880" y="1143000"/>
            <a:ext cx="335304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size   sumcalc, .-sumcalc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section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frame1: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ECIE1-.LSCIE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SCIE1: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string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""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s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-8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1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c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7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8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9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0x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align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8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ECIE1: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EFDE1-.LASFDE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ASFDE1-.Lframe1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quad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FB2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quad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FE2-.LFB2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4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CFI0-.LFB2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e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1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86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2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4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ong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LCFI1-.LCFI0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byte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d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uleb128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0x6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1317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.align 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ccffff"/>
                </a:solidFill>
                <a:latin typeface="Courier New"/>
              </a:rPr>
              <a:t>8</a:t>
            </a:r>
            <a:endParaRPr b="0" lang="en-US" sz="1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Mapping Time Continuum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mpilation to Interpret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ompile tim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Ex: C compiler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Link tim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Ex: Binary layout optimizer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Load tim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Ex: JIT compiler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Run tim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Ex: Java Interpreter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5CB8C164-A8DC-4158-B930-04E8A265CECD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nterpret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cij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cheme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terpr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ste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rogram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oji čita program napisan u jeziku S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cheme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 izvršava funkcije tog program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cxnSp>
        <p:nvCxnSpPr>
          <p:cNvPr id="169" name="AutoShape 5"/>
          <p:cNvCxnSpPr/>
          <p:nvPr/>
        </p:nvCxnSpPr>
        <p:spPr>
          <a:xfrm flipH="1">
            <a:off x="4571640" y="2057400"/>
            <a:ext cx="2160" cy="1448640"/>
          </a:xfrm>
          <a:prstGeom prst="straightConnector1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</p:cxnSp>
      <p:pic>
        <p:nvPicPr>
          <p:cNvPr id="170" name="Diagram 14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108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revođenje (t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ransl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cija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cheme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omp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j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l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evodi program napisan u jeziku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Scheme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u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ma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šinski jezik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roceso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hard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verski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terp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za mašinski jezik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3" name="Diagram 15" descr=""/>
          <p:cNvPicPr/>
          <p:nvPr/>
        </p:nvPicPr>
        <p:blipFill>
          <a:blip r:embed="rId1"/>
          <a:stretch/>
        </p:blipFill>
        <p:spPr>
          <a:xfrm>
            <a:off x="2084400" y="3121200"/>
            <a:ext cx="49687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ahoma"/>
              </a:rPr>
              <a:t>Program u originalnom obliku – izvorni program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ccffff"/>
                </a:solidFill>
                <a:latin typeface="Tahoma"/>
              </a:rPr>
              <a:t>("source program", "source code"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sl-SI" sz="2800" spc="-1" strike="noStrike">
                <a:solidFill>
                  <a:srgbClr val="ccffff"/>
                </a:solidFill>
                <a:latin typeface="Tahoma"/>
              </a:rPr>
              <a:t>revedena verzija – objektni kod ("object code"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ahoma"/>
              </a:rPr>
              <a:t>Kompajler (engl. compiler) – termin koji je uvela Grace Hoper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Terminologij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fld id="{371E75F6-7B51-49C0-96DC-A4FA1BCD8269}" type="slidenum"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egled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757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575"/>
                </a:solidFill>
                <a:latin typeface="Tahoma"/>
              </a:rPr>
              <a:t>Administrativne informacij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Uvod u programske prevodioc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ta 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su kompajleri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Zašto ih izučavamo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Anatom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ija k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omp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aj</a:t>
            </a:r>
            <a:r>
              <a:rPr b="0" lang="en-US" sz="2400" spc="-1" strike="noStrike">
                <a:solidFill>
                  <a:srgbClr val="ffff99"/>
                </a:solidFill>
                <a:latin typeface="Tahoma"/>
              </a:rPr>
              <a:t>ler</a:t>
            </a:r>
            <a:r>
              <a:rPr b="0" lang="sr-Latn-CS" sz="2400" spc="-1" strike="noStrike">
                <a:solidFill>
                  <a:srgbClr val="ffff99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19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nterpretation vs. Translation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Lakše je napisat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interpreter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terpr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 bliži PJ, pa daje bolji opis grešak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terpr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je sporij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(10x?),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li je kod manji 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2X?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nterpreter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daje mogućnost nezavisnosti skupa instrukcij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 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zvršava se na svakoj mašin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nterpretation vs. Translation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Translated/compiled 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kod je skoro uvijek efikasniji i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ima bolje preformanse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39800" indent="-28584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Važno za mnoge aplikacije, posebno OS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marL="411120" indent="-342720">
              <a:spcBef>
                <a:spcPts val="75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Translation/compilation 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pomaže sakrivanju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 “source” </a:t>
            </a:r>
            <a:r>
              <a:rPr b="0" lang="sr-Latn-CS" sz="3000" spc="-1" strike="noStrike">
                <a:solidFill>
                  <a:srgbClr val="ccffff"/>
                </a:solidFill>
                <a:latin typeface="Tahoma"/>
              </a:rPr>
              <a:t>od korisnika</a:t>
            </a:r>
            <a:r>
              <a:rPr b="0" lang="en-US" sz="30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ccffff"/>
              </a:solidFill>
              <a:latin typeface="Tahoma"/>
            </a:endParaRPr>
          </a:p>
          <a:p>
            <a:pPr lvl="1" marL="739800" indent="-28584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M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odel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za zarađivanje 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npr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. Microsoft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čuva svoj source  kod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  <a:p>
            <a:pPr lvl="1" marL="739800" indent="-285840">
              <a:spcBef>
                <a:spcPts val="64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Alternati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vni 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model, “open source”, 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re</a:t>
            </a:r>
            <a:r>
              <a:rPr b="0" lang="sr-Latn-CS" sz="2600" spc="-1" strike="noStrike">
                <a:solidFill>
                  <a:srgbClr val="ccffff"/>
                </a:solidFill>
                <a:latin typeface="Tahoma"/>
              </a:rPr>
              <a:t>ira vrijednost objavljivanjem source koda</a:t>
            </a:r>
            <a:r>
              <a:rPr b="0" lang="en-US" sz="26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8354BE82-7974-420E-B2B0-7D6E5309F160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762120" y="3809880"/>
            <a:ext cx="7619760" cy="2286000"/>
            <a:chOff x="762120" y="3809880"/>
            <a:chExt cx="7619760" cy="2286000"/>
          </a:xfrm>
        </p:grpSpPr>
        <p:sp>
          <p:nvSpPr>
            <p:cNvPr id="183" name="Oval 4"/>
            <p:cNvSpPr/>
            <p:nvPr/>
          </p:nvSpPr>
          <p:spPr>
            <a:xfrm>
              <a:off x="762120" y="3809880"/>
              <a:ext cx="2286000" cy="2286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ogram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napi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an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rogram</a:t>
              </a: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skom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jeziku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84" name="Oval 5"/>
            <p:cNvSpPr/>
            <p:nvPr/>
          </p:nvSpPr>
          <p:spPr>
            <a:xfrm>
              <a:off x="6095880" y="3809880"/>
              <a:ext cx="2286000" cy="22860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Asemb</a:t>
              </a:r>
              <a:r>
                <a:rPr b="0" lang="sr-Latn-CS" sz="2400" spc="-1" strike="noStrike">
                  <a:solidFill>
                    <a:srgbClr val="00ffff"/>
                  </a:solidFill>
                  <a:latin typeface="Times New Roman"/>
                </a:rPr>
                <a:t>erski</a:t>
              </a: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ffff"/>
                  </a:solidFill>
                  <a:latin typeface="Times New Roman"/>
                </a:rPr>
                <a:t>jezik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85" name="AutoShape 6"/>
            <p:cNvSpPr/>
            <p:nvPr/>
          </p:nvSpPr>
          <p:spPr>
            <a:xfrm>
              <a:off x="3200400" y="4191120"/>
              <a:ext cx="2819520" cy="1403280"/>
            </a:xfrm>
            <a:prstGeom prst="rightArrow">
              <a:avLst>
                <a:gd name="adj1" fmla="val 50000"/>
                <a:gd name="adj2" fmla="val 50231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4000" spc="-1" strike="noStrike">
                  <a:solidFill>
                    <a:srgbClr val="150090"/>
                  </a:solidFill>
                  <a:latin typeface="Times New Roman"/>
                </a:rPr>
                <a:t>K</a:t>
              </a:r>
              <a:r>
                <a:rPr b="1" lang="en-US" sz="4000" spc="-1" strike="noStrike">
                  <a:solidFill>
                    <a:srgbClr val="150090"/>
                  </a:solidFill>
                  <a:latin typeface="Times New Roman"/>
                </a:rPr>
                <a:t>omp</a:t>
              </a:r>
              <a:r>
                <a:rPr b="1" lang="sr-Latn-CS" sz="4000" spc="-1" strike="noStrike">
                  <a:solidFill>
                    <a:srgbClr val="150090"/>
                  </a:solidFill>
                  <a:latin typeface="Times New Roman"/>
                </a:rPr>
                <a:t>ajler</a:t>
              </a:r>
              <a:endParaRPr b="0" lang="en-US" sz="4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186" name="WordArt 7"/>
          <p:cNvSpPr txBox="1"/>
          <p:nvPr/>
        </p:nvSpPr>
        <p:spPr>
          <a:xfrm>
            <a:off x="3276720" y="2666880"/>
            <a:ext cx="2209680" cy="169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???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9ACDB9C1-6D60-4DB1-A351-C15AE344E2D9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809880" y="10666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</a:t>
            </a:r>
            <a:r>
              <a:rPr b="0" lang="sr-Latn-CS" sz="2400" spc="-1" strike="noStrike">
                <a:solidFill>
                  <a:srgbClr val="150090"/>
                </a:solidFill>
                <a:latin typeface="Times New Roman"/>
              </a:rPr>
              <a:t>ksička</a:t>
            </a: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15009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nal</a:t>
            </a:r>
            <a:r>
              <a:rPr b="0" lang="sr-Latn-CS" sz="2400" spc="-1" strike="noStrike">
                <a:solidFill>
                  <a:srgbClr val="150090"/>
                </a:solidFill>
                <a:latin typeface="Times New Roman"/>
              </a:rPr>
              <a:t>iza</a:t>
            </a: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94" name="Group 9"/>
          <p:cNvGrpSpPr/>
          <p:nvPr/>
        </p:nvGrpSpPr>
        <p:grpSpPr>
          <a:xfrm>
            <a:off x="2933640" y="1913040"/>
            <a:ext cx="2852640" cy="515160"/>
            <a:chOff x="2933640" y="1913040"/>
            <a:chExt cx="2852640" cy="515160"/>
          </a:xfrm>
        </p:grpSpPr>
        <p:sp>
          <p:nvSpPr>
            <p:cNvPr id="195" name="AutoShape 10"/>
            <p:cNvSpPr/>
            <p:nvPr/>
          </p:nvSpPr>
          <p:spPr>
            <a:xfrm>
              <a:off x="2933640" y="1913040"/>
              <a:ext cx="762120" cy="499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3886200" y="1968480"/>
              <a:ext cx="19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Niz tokena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2895480" y="1066680"/>
            <a:ext cx="5143680" cy="569880"/>
            <a:chOff x="2895480" y="1066680"/>
            <a:chExt cx="5143680" cy="569880"/>
          </a:xfrm>
        </p:grpSpPr>
        <p:sp>
          <p:nvSpPr>
            <p:cNvPr id="198" name="AutoShape 13"/>
            <p:cNvSpPr/>
            <p:nvPr/>
          </p:nvSpPr>
          <p:spPr>
            <a:xfrm>
              <a:off x="2895480" y="1066680"/>
              <a:ext cx="762120" cy="49896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99" name="Text Box 14"/>
            <p:cNvSpPr/>
            <p:nvPr/>
          </p:nvSpPr>
          <p:spPr>
            <a:xfrm>
              <a:off x="3848040" y="117684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rogram (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niz karaketera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3677B836-5414-4721-9A59-1610078B856F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e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s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čk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naliz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(Scanner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9680" y="26668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234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616400" y="266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mul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806920" y="266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lpar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874680" y="26668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11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094000" y="2666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add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7484400" y="2666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rpar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Rectangle 17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Rectangle 18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8" name="Rectangle 20"/>
          <p:cNvSpPr/>
          <p:nvPr/>
        </p:nvSpPr>
        <p:spPr>
          <a:xfrm>
            <a:off x="4114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Rectangle 21"/>
          <p:cNvSpPr/>
          <p:nvPr/>
        </p:nvSpPr>
        <p:spPr>
          <a:xfrm>
            <a:off x="4495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Rectangle 22"/>
          <p:cNvSpPr/>
          <p:nvPr/>
        </p:nvSpPr>
        <p:spPr>
          <a:xfrm>
            <a:off x="4876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5257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Rectangle 24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3" name="Rectangle 25"/>
          <p:cNvSpPr/>
          <p:nvPr/>
        </p:nvSpPr>
        <p:spPr>
          <a:xfrm>
            <a:off x="6019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4" name="Rectangle 26"/>
          <p:cNvSpPr/>
          <p:nvPr/>
        </p:nvSpPr>
        <p:spPr>
          <a:xfrm>
            <a:off x="6400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Rectangle 27"/>
          <p:cNvSpPr/>
          <p:nvPr/>
        </p:nvSpPr>
        <p:spPr>
          <a:xfrm>
            <a:off x="6781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6" name="Rectangle 28"/>
          <p:cNvSpPr/>
          <p:nvPr/>
        </p:nvSpPr>
        <p:spPr>
          <a:xfrm>
            <a:off x="7162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7" name="Rectangle 29"/>
          <p:cNvSpPr/>
          <p:nvPr/>
        </p:nvSpPr>
        <p:spPr>
          <a:xfrm>
            <a:off x="7543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Rectangle 30"/>
          <p:cNvSpPr/>
          <p:nvPr/>
        </p:nvSpPr>
        <p:spPr>
          <a:xfrm>
            <a:off x="8305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7924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0" name="Text Box 32"/>
          <p:cNvSpPr/>
          <p:nvPr/>
        </p:nvSpPr>
        <p:spPr>
          <a:xfrm>
            <a:off x="6188760" y="2666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-2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133DB90D-B49E-4799-A1A2-85937F5744A2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e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s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čk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naliz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(Scanner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382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18..23 + val#ue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29680" y="26668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234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616400" y="266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mul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2806920" y="2666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lpar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3874680" y="26668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11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5094000" y="2666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add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7484400" y="2666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rpar_op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4" name="Rectangle 14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Rectangle 16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(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Rectangle 17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Rectangle 20"/>
          <p:cNvSpPr/>
          <p:nvPr/>
        </p:nvSpPr>
        <p:spPr>
          <a:xfrm>
            <a:off x="4114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4495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Rectangle 22"/>
          <p:cNvSpPr/>
          <p:nvPr/>
        </p:nvSpPr>
        <p:spPr>
          <a:xfrm>
            <a:off x="4876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Rectangle 23"/>
          <p:cNvSpPr/>
          <p:nvPr/>
        </p:nvSpPr>
        <p:spPr>
          <a:xfrm>
            <a:off x="5257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4" name="Rectangle 24"/>
          <p:cNvSpPr/>
          <p:nvPr/>
        </p:nvSpPr>
        <p:spPr>
          <a:xfrm>
            <a:off x="5638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6019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6400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Rectangle 27"/>
          <p:cNvSpPr/>
          <p:nvPr/>
        </p:nvSpPr>
        <p:spPr>
          <a:xfrm>
            <a:off x="6781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Rectangle 28"/>
          <p:cNvSpPr/>
          <p:nvPr/>
        </p:nvSpPr>
        <p:spPr>
          <a:xfrm>
            <a:off x="7162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Rectangle 29"/>
          <p:cNvSpPr/>
          <p:nvPr/>
        </p:nvSpPr>
        <p:spPr>
          <a:xfrm>
            <a:off x="754380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0" name="Rectangle 30"/>
          <p:cNvSpPr/>
          <p:nvPr/>
        </p:nvSpPr>
        <p:spPr>
          <a:xfrm>
            <a:off x="8305920" y="1752480"/>
            <a:ext cx="38088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Rectangle 31"/>
          <p:cNvSpPr/>
          <p:nvPr/>
        </p:nvSpPr>
        <p:spPr>
          <a:xfrm>
            <a:off x="7924680" y="1752480"/>
            <a:ext cx="381240" cy="38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Text Box 32"/>
          <p:cNvSpPr/>
          <p:nvPr/>
        </p:nvSpPr>
        <p:spPr>
          <a:xfrm>
            <a:off x="6188760" y="2666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75"/>
                </a:solidFill>
                <a:latin typeface="Times New Roman"/>
              </a:rPr>
              <a:t>Num(-22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63" name="Group 33"/>
          <p:cNvGrpSpPr/>
          <p:nvPr/>
        </p:nvGrpSpPr>
        <p:grpSpPr>
          <a:xfrm>
            <a:off x="990720" y="4724280"/>
            <a:ext cx="2833200" cy="1110600"/>
            <a:chOff x="990720" y="4724280"/>
            <a:chExt cx="2833200" cy="1110600"/>
          </a:xfrm>
        </p:grpSpPr>
        <p:sp>
          <p:nvSpPr>
            <p:cNvPr id="264" name="Line 34"/>
            <p:cNvSpPr/>
            <p:nvPr/>
          </p:nvSpPr>
          <p:spPr>
            <a:xfrm>
              <a:off x="990720" y="4724280"/>
              <a:ext cx="9140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65" name="Text Box 35"/>
            <p:cNvSpPr/>
            <p:nvPr/>
          </p:nvSpPr>
          <p:spPr>
            <a:xfrm>
              <a:off x="1888920" y="5375160"/>
              <a:ext cx="193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Not a number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266" name="Group 36"/>
          <p:cNvGrpSpPr/>
          <p:nvPr/>
        </p:nvGrpSpPr>
        <p:grpSpPr>
          <a:xfrm>
            <a:off x="2514600" y="4724280"/>
            <a:ext cx="6435720" cy="707400"/>
            <a:chOff x="2514600" y="4724280"/>
            <a:chExt cx="6435720" cy="707400"/>
          </a:xfrm>
        </p:grpSpPr>
        <p:sp>
          <p:nvSpPr>
            <p:cNvPr id="267" name="Line 37"/>
            <p:cNvSpPr/>
            <p:nvPr/>
          </p:nvSpPr>
          <p:spPr>
            <a:xfrm>
              <a:off x="2514600" y="4724280"/>
              <a:ext cx="1204920" cy="37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68" name="Text Box 38"/>
            <p:cNvSpPr/>
            <p:nvPr/>
          </p:nvSpPr>
          <p:spPr>
            <a:xfrm>
              <a:off x="3690000" y="4971960"/>
              <a:ext cx="526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Variable names cannot have ‘#’ characte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Primjer leksičke analiz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1981080" cy="2057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if (i == j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z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els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z = 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514600" y="1980720"/>
            <a:ext cx="6400800" cy="685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SansMS"/>
              </a:rPr>
              <a:t>\tif (i == j)\n\t\tz = 0;\n\telse\n\t\tz = 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2895480"/>
            <a:ext cx="2895480" cy="3796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Whitespace, “\t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Keyword, “if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OpenPar, “(“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Identifier, “i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Relation, “==“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</a:t>
            </a: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(Identifier, “j”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ComicSansMS"/>
              </a:rPr>
              <a:t>– …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457200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\t o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v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 tab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\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 o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ava</a:t>
            </a:r>
            <a:r>
              <a:rPr b="0" lang="sr-Latn-CS" sz="2400" spc="-1" strike="noStrike">
                <a:solidFill>
                  <a:srgbClr val="00ffff"/>
                </a:solidFill>
                <a:latin typeface="Times New Roman"/>
              </a:rPr>
              <a:t>  novi red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268EDD47-71EC-4261-B53E-6C23303D397B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AutoShape 7"/>
          <p:cNvSpPr/>
          <p:nvPr/>
        </p:nvSpPr>
        <p:spPr>
          <a:xfrm>
            <a:off x="2933640" y="274320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0" name="AutoShape 9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3886200" y="119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Program (</a:t>
            </a: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karakte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3" name="Group 12"/>
          <p:cNvGrpSpPr/>
          <p:nvPr/>
        </p:nvGrpSpPr>
        <p:grpSpPr>
          <a:xfrm>
            <a:off x="2933640" y="1913040"/>
            <a:ext cx="2852640" cy="515160"/>
            <a:chOff x="2933640" y="1913040"/>
            <a:chExt cx="2852640" cy="515160"/>
          </a:xfrm>
        </p:grpSpPr>
        <p:sp>
          <p:nvSpPr>
            <p:cNvPr id="284" name="AutoShape 13"/>
            <p:cNvSpPr/>
            <p:nvPr/>
          </p:nvSpPr>
          <p:spPr>
            <a:xfrm>
              <a:off x="2933640" y="1913040"/>
              <a:ext cx="762120" cy="499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85" name="Text Box 14"/>
            <p:cNvSpPr/>
            <p:nvPr/>
          </p:nvSpPr>
          <p:spPr>
            <a:xfrm>
              <a:off x="3886200" y="1968480"/>
              <a:ext cx="19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Niz t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oken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286" name="Group 15"/>
          <p:cNvGrpSpPr/>
          <p:nvPr/>
        </p:nvGrpSpPr>
        <p:grpSpPr>
          <a:xfrm>
            <a:off x="2895480" y="2743200"/>
            <a:ext cx="2857680" cy="880920"/>
            <a:chOff x="2895480" y="2743200"/>
            <a:chExt cx="2857680" cy="880920"/>
          </a:xfrm>
        </p:grpSpPr>
        <p:sp>
          <p:nvSpPr>
            <p:cNvPr id="287" name="AutoShape 16"/>
            <p:cNvSpPr/>
            <p:nvPr/>
          </p:nvSpPr>
          <p:spPr>
            <a:xfrm>
              <a:off x="2895480" y="2743200"/>
              <a:ext cx="762120" cy="499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288" name="Text Box 17"/>
            <p:cNvSpPr/>
            <p:nvPr/>
          </p:nvSpPr>
          <p:spPr>
            <a:xfrm>
              <a:off x="3848040" y="279864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Drvo parsiranja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492AA6DA-0AD2-49A6-88A2-B3222BA5A85A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nt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sn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nal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a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(Parser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839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cxnSp>
        <p:nvCxnSpPr>
          <p:cNvPr id="292" name="AutoShape 4"/>
          <p:cNvCxnSpPr/>
          <p:nvPr/>
        </p:nvCxnSpPr>
        <p:spPr>
          <a:xfrm flipH="1">
            <a:off x="1752120" y="2514600"/>
            <a:ext cx="1139040" cy="6433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3" name="AutoShape 5"/>
          <p:cNvCxnSpPr/>
          <p:nvPr/>
        </p:nvCxnSpPr>
        <p:spPr>
          <a:xfrm>
            <a:off x="3052440" y="2514600"/>
            <a:ext cx="2205720" cy="6433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4" name="AutoShape 6"/>
          <p:cNvCxnSpPr/>
          <p:nvPr/>
        </p:nvCxnSpPr>
        <p:spPr>
          <a:xfrm flipH="1">
            <a:off x="3657240" y="3352320"/>
            <a:ext cx="1519920" cy="5677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5" name="AutoShape 7"/>
          <p:cNvCxnSpPr/>
          <p:nvPr/>
        </p:nvCxnSpPr>
        <p:spPr>
          <a:xfrm>
            <a:off x="5338440" y="3352320"/>
            <a:ext cx="1367640" cy="5677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6" name="AutoShape 8"/>
          <p:cNvCxnSpPr/>
          <p:nvPr/>
        </p:nvCxnSpPr>
        <p:spPr>
          <a:xfrm>
            <a:off x="5257800" y="3385800"/>
            <a:ext cx="38880" cy="6102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297" name="AutoShape 9"/>
          <p:cNvCxnSpPr/>
          <p:nvPr/>
        </p:nvCxnSpPr>
        <p:spPr>
          <a:xfrm flipH="1">
            <a:off x="4342680" y="4114800"/>
            <a:ext cx="834120" cy="7200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298" name="Text Box 10"/>
          <p:cNvSpPr/>
          <p:nvPr/>
        </p:nvSpPr>
        <p:spPr>
          <a:xfrm>
            <a:off x="3961800" y="56721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um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299" name="AutoShape 11"/>
          <p:cNvCxnSpPr/>
          <p:nvPr/>
        </p:nvCxnSpPr>
        <p:spPr>
          <a:xfrm>
            <a:off x="5338440" y="4114800"/>
            <a:ext cx="834120" cy="7200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00" name="Text Box 12"/>
          <p:cNvSpPr/>
          <p:nvPr/>
        </p:nvSpPr>
        <p:spPr>
          <a:xfrm>
            <a:off x="5830560" y="567216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um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01" name="AutoShape 13"/>
          <p:cNvCxnSpPr/>
          <p:nvPr/>
        </p:nvCxnSpPr>
        <p:spPr>
          <a:xfrm>
            <a:off x="5257440" y="4147920"/>
            <a:ext cx="1080" cy="6865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02" name="Text Box 14"/>
          <p:cNvSpPr/>
          <p:nvPr/>
        </p:nvSpPr>
        <p:spPr>
          <a:xfrm>
            <a:off x="5069160" y="574848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03" name="AutoShape 15"/>
          <p:cNvCxnSpPr/>
          <p:nvPr/>
        </p:nvCxnSpPr>
        <p:spPr>
          <a:xfrm>
            <a:off x="2971440" y="2547720"/>
            <a:ext cx="1080" cy="6102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304" name="AutoShape 16"/>
          <p:cNvCxnSpPr>
            <a:endCxn id="300" idx="0"/>
          </p:cNvCxnSpPr>
          <p:nvPr/>
        </p:nvCxnSpPr>
        <p:spPr>
          <a:xfrm>
            <a:off x="6171840" y="5062320"/>
            <a:ext cx="20880" cy="6102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305" name="AutoShape 17"/>
          <p:cNvCxnSpPr>
            <a:endCxn id="302" idx="0"/>
          </p:cNvCxnSpPr>
          <p:nvPr/>
        </p:nvCxnSpPr>
        <p:spPr>
          <a:xfrm>
            <a:off x="5257800" y="5062320"/>
            <a:ext cx="2160" cy="68652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cxnSp>
        <p:nvCxnSpPr>
          <p:cNvPr id="306" name="AutoShape 18"/>
          <p:cNvCxnSpPr>
            <a:endCxn id="298" idx="0"/>
          </p:cNvCxnSpPr>
          <p:nvPr/>
        </p:nvCxnSpPr>
        <p:spPr>
          <a:xfrm flipH="1">
            <a:off x="4323600" y="5062320"/>
            <a:ext cx="19800" cy="61020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07" name="Text Box 19"/>
          <p:cNvSpPr/>
          <p:nvPr/>
        </p:nvSpPr>
        <p:spPr>
          <a:xfrm>
            <a:off x="3468960" y="3919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(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6593040" y="39196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2782800" y="391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0" name="AutoShape 22"/>
          <p:cNvCxnSpPr>
            <a:endCxn id="309" idx="0"/>
          </p:cNvCxnSpPr>
          <p:nvPr/>
        </p:nvCxnSpPr>
        <p:spPr>
          <a:xfrm flipH="1">
            <a:off x="2962080" y="3386160"/>
            <a:ext cx="10080" cy="53424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11" name="Text Box 23"/>
          <p:cNvSpPr/>
          <p:nvPr/>
        </p:nvSpPr>
        <p:spPr>
          <a:xfrm>
            <a:off x="1334520" y="39196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um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cxnSp>
        <p:nvCxnSpPr>
          <p:cNvPr id="312" name="AutoShape 24"/>
          <p:cNvCxnSpPr>
            <a:endCxn id="311" idx="0"/>
          </p:cNvCxnSpPr>
          <p:nvPr/>
        </p:nvCxnSpPr>
        <p:spPr>
          <a:xfrm flipH="1">
            <a:off x="1696680" y="3386160"/>
            <a:ext cx="56160" cy="534240"/>
          </a:xfrm>
          <a:prstGeom prst="straightConnector1">
            <a:avLst/>
          </a:prstGeom>
          <a:ln w="28440">
            <a:solidFill>
              <a:srgbClr val="ffe701"/>
            </a:solidFill>
            <a:miter/>
          </a:ln>
        </p:spPr>
      </p:cxnSp>
      <p:sp>
        <p:nvSpPr>
          <p:cNvPr id="313" name="Text Box 25"/>
          <p:cNvSpPr/>
          <p:nvPr/>
        </p:nvSpPr>
        <p:spPr>
          <a:xfrm>
            <a:off x="2514600" y="213372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4838400" y="300528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1333440" y="300528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Text Box 28"/>
          <p:cNvSpPr/>
          <p:nvPr/>
        </p:nvSpPr>
        <p:spPr>
          <a:xfrm>
            <a:off x="3924000" y="468144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7" name="Text Box 29"/>
          <p:cNvSpPr/>
          <p:nvPr/>
        </p:nvSpPr>
        <p:spPr>
          <a:xfrm>
            <a:off x="4832280" y="382752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Text Box 30"/>
          <p:cNvSpPr/>
          <p:nvPr/>
        </p:nvSpPr>
        <p:spPr>
          <a:xfrm>
            <a:off x="5746680" y="468144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expr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2629080" y="300528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op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0" name="Text Box 32"/>
          <p:cNvSpPr/>
          <p:nvPr/>
        </p:nvSpPr>
        <p:spPr>
          <a:xfrm>
            <a:off x="4915080" y="4681440"/>
            <a:ext cx="7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&lt;op&gt;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1" name="Rectangle 33"/>
          <p:cNvSpPr/>
          <p:nvPr/>
        </p:nvSpPr>
        <p:spPr>
          <a:xfrm>
            <a:off x="905400" y="1523880"/>
            <a:ext cx="476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um ‘*’ ‘(‘ num ‘+’ num ‘)’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F9885F6E-7C47-40F0-9CEE-93D86304FA8D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nt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sn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nal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a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(Parser)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* foo(i, j, k)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i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j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for(i=0; i j) {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fi(i&gt;j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return j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  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325" name="Group 4"/>
          <p:cNvGrpSpPr/>
          <p:nvPr/>
        </p:nvGrpSpPr>
        <p:grpSpPr>
          <a:xfrm>
            <a:off x="4343400" y="2286000"/>
            <a:ext cx="3316680" cy="1110600"/>
            <a:chOff x="4343400" y="2286000"/>
            <a:chExt cx="3316680" cy="1110600"/>
          </a:xfrm>
        </p:grpSpPr>
        <p:sp>
          <p:nvSpPr>
            <p:cNvPr id="326" name="Line 5"/>
            <p:cNvSpPr/>
            <p:nvPr/>
          </p:nvSpPr>
          <p:spPr>
            <a:xfrm>
              <a:off x="4343400" y="2286000"/>
              <a:ext cx="9144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27" name="Text Box 6"/>
            <p:cNvSpPr/>
            <p:nvPr/>
          </p:nvSpPr>
          <p:spPr>
            <a:xfrm>
              <a:off x="5240520" y="2936880"/>
              <a:ext cx="24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Extra parentheses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28" name="Group 7"/>
          <p:cNvGrpSpPr/>
          <p:nvPr/>
        </p:nvGrpSpPr>
        <p:grpSpPr>
          <a:xfrm>
            <a:off x="3657600" y="4191120"/>
            <a:ext cx="4767840" cy="554400"/>
            <a:chOff x="3657600" y="4191120"/>
            <a:chExt cx="4767840" cy="554400"/>
          </a:xfrm>
        </p:grpSpPr>
        <p:sp>
          <p:nvSpPr>
            <p:cNvPr id="329" name="Text Box 8"/>
            <p:cNvSpPr/>
            <p:nvPr/>
          </p:nvSpPr>
          <p:spPr>
            <a:xfrm>
              <a:off x="5961600" y="4285800"/>
              <a:ext cx="24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Missing increment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30" name="Line 9"/>
            <p:cNvSpPr/>
            <p:nvPr/>
          </p:nvSpPr>
          <p:spPr>
            <a:xfrm>
              <a:off x="3657600" y="4191120"/>
              <a:ext cx="236844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3352680" y="4191120"/>
            <a:ext cx="3282840" cy="1110600"/>
            <a:chOff x="3352680" y="4191120"/>
            <a:chExt cx="3282840" cy="1110600"/>
          </a:xfrm>
        </p:grpSpPr>
        <p:sp>
          <p:nvSpPr>
            <p:cNvPr id="332" name="Line 11"/>
            <p:cNvSpPr/>
            <p:nvPr/>
          </p:nvSpPr>
          <p:spPr>
            <a:xfrm>
              <a:off x="3352680" y="4191120"/>
              <a:ext cx="9144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33" name="Text Box 12"/>
            <p:cNvSpPr/>
            <p:nvPr/>
          </p:nvSpPr>
          <p:spPr>
            <a:xfrm>
              <a:off x="4251240" y="484200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Not an expression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34" name="Group 13"/>
          <p:cNvGrpSpPr/>
          <p:nvPr/>
        </p:nvGrpSpPr>
        <p:grpSpPr>
          <a:xfrm>
            <a:off x="1295280" y="4724280"/>
            <a:ext cx="2892600" cy="1110600"/>
            <a:chOff x="1295280" y="4724280"/>
            <a:chExt cx="2892600" cy="1110600"/>
          </a:xfrm>
        </p:grpSpPr>
        <p:sp>
          <p:nvSpPr>
            <p:cNvPr id="335" name="Line 14"/>
            <p:cNvSpPr/>
            <p:nvPr/>
          </p:nvSpPr>
          <p:spPr>
            <a:xfrm>
              <a:off x="1295280" y="4724280"/>
              <a:ext cx="9144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36" name="Text Box 15"/>
            <p:cNvSpPr/>
            <p:nvPr/>
          </p:nvSpPr>
          <p:spPr>
            <a:xfrm>
              <a:off x="2195280" y="537516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Not a keyword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432D4AC3-378C-4FB0-AB4E-5BBBFA029D76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Zašto izučav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mo kompajlere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?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Daju nam mogućnost programiranja primjenom programskih jezika visokog nivoa a ne primjenom mašinskog jezik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Malleability, Portability, Modularity, Simplicity, Programmer Productivity 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lso Efficiency and Performanc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19036C11-8D1E-41DE-9612-C8AD97ED7BF0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933640" y="358128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1219320" y="3233880"/>
            <a:ext cx="4114800" cy="331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3" name="AutoShape 8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3886200" y="1968480"/>
            <a:ext cx="19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token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5" name="AutoShape 10"/>
          <p:cNvSpPr/>
          <p:nvPr/>
        </p:nvSpPr>
        <p:spPr>
          <a:xfrm>
            <a:off x="2933640" y="274320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AutoShape 12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3886200" y="119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Program (</a:t>
            </a: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karakte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48" name="Group 14"/>
          <p:cNvGrpSpPr/>
          <p:nvPr/>
        </p:nvGrpSpPr>
        <p:grpSpPr>
          <a:xfrm>
            <a:off x="2895480" y="3581280"/>
            <a:ext cx="6058080" cy="881280"/>
            <a:chOff x="2895480" y="3581280"/>
            <a:chExt cx="6058080" cy="881280"/>
          </a:xfrm>
        </p:grpSpPr>
        <p:sp>
          <p:nvSpPr>
            <p:cNvPr id="349" name="AutoShape 15"/>
            <p:cNvSpPr/>
            <p:nvPr/>
          </p:nvSpPr>
          <p:spPr>
            <a:xfrm>
              <a:off x="2895480" y="3581280"/>
              <a:ext cx="762120" cy="4978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50" name="Text Box 16"/>
            <p:cNvSpPr/>
            <p:nvPr/>
          </p:nvSpPr>
          <p:spPr>
            <a:xfrm>
              <a:off x="3848040" y="3637080"/>
              <a:ext cx="510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Međuprogramska reprezentacija (</a:t>
              </a: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MPR, engl..Intermediate Representation, IR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351" name="Rectangle 17"/>
          <p:cNvSpPr/>
          <p:nvPr/>
        </p:nvSpPr>
        <p:spPr>
          <a:xfrm>
            <a:off x="1219320" y="3233880"/>
            <a:ext cx="4114800" cy="3315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52" name="Group 18"/>
          <p:cNvGrpSpPr/>
          <p:nvPr/>
        </p:nvGrpSpPr>
        <p:grpSpPr>
          <a:xfrm>
            <a:off x="2819520" y="2743200"/>
            <a:ext cx="3657240" cy="515160"/>
            <a:chOff x="2819520" y="2743200"/>
            <a:chExt cx="3657240" cy="515160"/>
          </a:xfrm>
        </p:grpSpPr>
        <p:sp>
          <p:nvSpPr>
            <p:cNvPr id="353" name="AutoShape 19"/>
            <p:cNvSpPr/>
            <p:nvPr/>
          </p:nvSpPr>
          <p:spPr>
            <a:xfrm>
              <a:off x="2819520" y="2743200"/>
              <a:ext cx="975240" cy="49932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54" name="Text Box 20"/>
            <p:cNvSpPr/>
            <p:nvPr/>
          </p:nvSpPr>
          <p:spPr>
            <a:xfrm>
              <a:off x="4038480" y="27986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Drvo parsiranja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B7269E4D-2ADF-49D5-AFB6-F29BA4E027BE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emanti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čka analaz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* foo(i, j, k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i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j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int x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x = x + j + N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return j;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urier New"/>
              </a:rPr>
              <a:t>     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4038480" y="2286000"/>
            <a:ext cx="3357720" cy="1110600"/>
            <a:chOff x="4038480" y="2286000"/>
            <a:chExt cx="3357720" cy="1110600"/>
          </a:xfrm>
        </p:grpSpPr>
        <p:sp>
          <p:nvSpPr>
            <p:cNvPr id="359" name="Line 5"/>
            <p:cNvSpPr/>
            <p:nvPr/>
          </p:nvSpPr>
          <p:spPr>
            <a:xfrm>
              <a:off x="4038480" y="2286000"/>
              <a:ext cx="91440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60" name="Text Box 6"/>
            <p:cNvSpPr/>
            <p:nvPr/>
          </p:nvSpPr>
          <p:spPr>
            <a:xfrm>
              <a:off x="4935600" y="2936880"/>
              <a:ext cx="24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Type not declared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447920" y="2438280"/>
            <a:ext cx="6819840" cy="2666880"/>
            <a:chOff x="1447920" y="2438280"/>
            <a:chExt cx="6819840" cy="2666880"/>
          </a:xfrm>
        </p:grpSpPr>
        <p:sp>
          <p:nvSpPr>
            <p:cNvPr id="362" name="Line 8"/>
            <p:cNvSpPr/>
            <p:nvPr/>
          </p:nvSpPr>
          <p:spPr>
            <a:xfrm>
              <a:off x="1447920" y="2438280"/>
              <a:ext cx="3643560" cy="18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63" name="Line 9"/>
            <p:cNvSpPr/>
            <p:nvPr/>
          </p:nvSpPr>
          <p:spPr>
            <a:xfrm flipV="1">
              <a:off x="2985840" y="4267080"/>
              <a:ext cx="210528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64" name="Text Box 10"/>
            <p:cNvSpPr/>
            <p:nvPr/>
          </p:nvSpPr>
          <p:spPr>
            <a:xfrm>
              <a:off x="5168520" y="4038480"/>
              <a:ext cx="309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Mismatched return typ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65" name="Group 11"/>
          <p:cNvGrpSpPr/>
          <p:nvPr/>
        </p:nvGrpSpPr>
        <p:grpSpPr>
          <a:xfrm>
            <a:off x="2209680" y="4648320"/>
            <a:ext cx="6287040" cy="535680"/>
            <a:chOff x="2209680" y="4648320"/>
            <a:chExt cx="6287040" cy="535680"/>
          </a:xfrm>
        </p:grpSpPr>
        <p:sp>
          <p:nvSpPr>
            <p:cNvPr id="366" name="Text Box 12"/>
            <p:cNvSpPr/>
            <p:nvPr/>
          </p:nvSpPr>
          <p:spPr>
            <a:xfrm>
              <a:off x="5024160" y="4724280"/>
              <a:ext cx="34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Uninitialized variable used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>
              <a:off x="2209680" y="4648320"/>
              <a:ext cx="289584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368" name="Group 14"/>
          <p:cNvGrpSpPr/>
          <p:nvPr/>
        </p:nvGrpSpPr>
        <p:grpSpPr>
          <a:xfrm>
            <a:off x="3886200" y="4495680"/>
            <a:ext cx="3620520" cy="1265400"/>
            <a:chOff x="3886200" y="4495680"/>
            <a:chExt cx="3620520" cy="1265400"/>
          </a:xfrm>
        </p:grpSpPr>
        <p:sp>
          <p:nvSpPr>
            <p:cNvPr id="369" name="Line 15"/>
            <p:cNvSpPr/>
            <p:nvPr/>
          </p:nvSpPr>
          <p:spPr>
            <a:xfrm>
              <a:off x="3886200" y="4495680"/>
              <a:ext cx="914400" cy="122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70" name="Text Box 16"/>
            <p:cNvSpPr/>
            <p:nvPr/>
          </p:nvSpPr>
          <p:spPr>
            <a:xfrm>
              <a:off x="4782600" y="530136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Undeclared variable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3FECE5F5-8ED6-4247-931F-1E350504DB1B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219320" y="4079880"/>
            <a:ext cx="4114800" cy="3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Optimi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2933640" y="4411800"/>
            <a:ext cx="762120" cy="498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2933640" y="358128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1219320" y="3233880"/>
            <a:ext cx="4114800" cy="3315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9" name="AutoShape 11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3886200" y="1968480"/>
            <a:ext cx="19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token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1" name="AutoShape 13"/>
          <p:cNvSpPr/>
          <p:nvPr/>
        </p:nvSpPr>
        <p:spPr>
          <a:xfrm>
            <a:off x="2933640" y="274320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3886200" y="27986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Drvo parsi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nj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3" name="AutoShape 15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3886200" y="119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Program (n</a:t>
            </a: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iz karakte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5" name="Rectangle 17"/>
          <p:cNvSpPr/>
          <p:nvPr/>
        </p:nvSpPr>
        <p:spPr>
          <a:xfrm>
            <a:off x="1219320" y="4079880"/>
            <a:ext cx="4114800" cy="331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Optimi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86" name="Group 18"/>
          <p:cNvGrpSpPr/>
          <p:nvPr/>
        </p:nvGrpSpPr>
        <p:grpSpPr>
          <a:xfrm>
            <a:off x="2933640" y="4411800"/>
            <a:ext cx="5981760" cy="515160"/>
            <a:chOff x="2933640" y="4411800"/>
            <a:chExt cx="5981760" cy="515160"/>
          </a:xfrm>
        </p:grpSpPr>
        <p:sp>
          <p:nvSpPr>
            <p:cNvPr id="387" name="AutoShape 19"/>
            <p:cNvSpPr/>
            <p:nvPr/>
          </p:nvSpPr>
          <p:spPr>
            <a:xfrm>
              <a:off x="2933640" y="4411800"/>
              <a:ext cx="762120" cy="498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388" name="Text Box 20"/>
            <p:cNvSpPr/>
            <p:nvPr/>
          </p:nvSpPr>
          <p:spPr>
            <a:xfrm>
              <a:off x="3886200" y="446724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Optimiz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ovana MP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199C5D8B-09AB-40A4-B38E-6F062FDE7DD2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ptimiz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acij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47960" y="21333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int sumcalc(int a, int b, int N)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int i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int x, t, u, v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x = 0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u = ((a&lt;&lt;2)/b)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v = 0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for(i = 0; i &lt;= N; i++) {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t = i+1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x = x + v + t*t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v = v + u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return x;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2133720"/>
            <a:ext cx="4572000" cy="38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sumcalc(int a, int b, int N)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x, y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y = 0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for(i = 0; i &lt;= N; i++) {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x+4*a/b*i+(i+1)*(i+1)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x + b*y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return x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4038480" y="365760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38EA93EE-3BF8-4965-A2F9-3850EA2CF3DE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nato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ja kompajler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1219320" y="4079880"/>
            <a:ext cx="4114800" cy="331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Optimi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1219320" y="4910040"/>
            <a:ext cx="4114800" cy="3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2933640" y="4411800"/>
            <a:ext cx="762120" cy="4982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2933640" y="524196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3886200" y="529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1" name="AutoShape 9"/>
          <p:cNvSpPr/>
          <p:nvPr/>
        </p:nvSpPr>
        <p:spPr>
          <a:xfrm>
            <a:off x="2933640" y="358128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3886200" y="363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MP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1219320" y="3233880"/>
            <a:ext cx="4114800" cy="331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emantic Analyze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1219320" y="1581120"/>
            <a:ext cx="4114800" cy="33192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Lexical Analyzer (Scann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1219320" y="2411280"/>
            <a:ext cx="4114800" cy="33192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Syntax Analyzer (Parser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6" name="AutoShape 14"/>
          <p:cNvSpPr/>
          <p:nvPr/>
        </p:nvSpPr>
        <p:spPr>
          <a:xfrm>
            <a:off x="2933640" y="191304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3886200" y="1968480"/>
            <a:ext cx="19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token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8" name="AutoShape 16"/>
          <p:cNvSpPr/>
          <p:nvPr/>
        </p:nvSpPr>
        <p:spPr>
          <a:xfrm>
            <a:off x="2933640" y="2743200"/>
            <a:ext cx="762120" cy="5000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3886200" y="279864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Drvo parsiranja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0" name="AutoShape 18"/>
          <p:cNvSpPr/>
          <p:nvPr/>
        </p:nvSpPr>
        <p:spPr>
          <a:xfrm>
            <a:off x="2933640" y="1082520"/>
            <a:ext cx="762120" cy="49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3886200" y="11923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Program (</a:t>
            </a:r>
            <a:r>
              <a:rPr b="0" lang="sr-Latn-CS" sz="2400" spc="-1" strike="noStrike">
                <a:solidFill>
                  <a:srgbClr val="989400"/>
                </a:solidFill>
                <a:latin typeface="Times New Roman"/>
              </a:rPr>
              <a:t>niz karaktera</a:t>
            </a:r>
            <a:r>
              <a:rPr b="0" lang="en-US" sz="2400" spc="-1" strike="noStrike">
                <a:solidFill>
                  <a:srgbClr val="9894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1219320" y="4910040"/>
            <a:ext cx="4114800" cy="33192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090"/>
                </a:solidFill>
                <a:latin typeface="Times New Roman"/>
              </a:rPr>
              <a:t>Code Generator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413" name="Group 21"/>
          <p:cNvGrpSpPr/>
          <p:nvPr/>
        </p:nvGrpSpPr>
        <p:grpSpPr>
          <a:xfrm>
            <a:off x="2933640" y="4411800"/>
            <a:ext cx="5981760" cy="515160"/>
            <a:chOff x="2933640" y="4411800"/>
            <a:chExt cx="5981760" cy="515160"/>
          </a:xfrm>
        </p:grpSpPr>
        <p:sp>
          <p:nvSpPr>
            <p:cNvPr id="414" name="AutoShape 22"/>
            <p:cNvSpPr/>
            <p:nvPr/>
          </p:nvSpPr>
          <p:spPr>
            <a:xfrm>
              <a:off x="2933640" y="4411800"/>
              <a:ext cx="762120" cy="49824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15" name="Text Box 23"/>
            <p:cNvSpPr/>
            <p:nvPr/>
          </p:nvSpPr>
          <p:spPr>
            <a:xfrm>
              <a:off x="3886200" y="446724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Optimizovani MP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16" name="Group 24"/>
          <p:cNvGrpSpPr/>
          <p:nvPr/>
        </p:nvGrpSpPr>
        <p:grpSpPr>
          <a:xfrm>
            <a:off x="2895480" y="5257800"/>
            <a:ext cx="5333760" cy="515160"/>
            <a:chOff x="2895480" y="5257800"/>
            <a:chExt cx="5333760" cy="515160"/>
          </a:xfrm>
        </p:grpSpPr>
        <p:sp>
          <p:nvSpPr>
            <p:cNvPr id="417" name="AutoShape 25"/>
            <p:cNvSpPr/>
            <p:nvPr/>
          </p:nvSpPr>
          <p:spPr>
            <a:xfrm>
              <a:off x="2895480" y="5257800"/>
              <a:ext cx="790200" cy="497880"/>
            </a:xfrm>
            <a:prstGeom prst="down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1ff37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18" name="Text Box 26"/>
            <p:cNvSpPr/>
            <p:nvPr/>
          </p:nvSpPr>
          <p:spPr>
            <a:xfrm>
              <a:off x="3882960" y="5313240"/>
              <a:ext cx="434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As</a:t>
              </a:r>
              <a:r>
                <a:rPr b="0" lang="sr-Latn-CS" sz="2400" spc="-1" strike="noStrike">
                  <a:solidFill>
                    <a:srgbClr val="ffff00"/>
                  </a:solidFill>
                  <a:latin typeface="Times New Roman"/>
                </a:rPr>
                <a:t>emblerski kod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83CFA19A-A9A4-4E1E-B786-C0DD6909A98A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Generisanje kod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4120" y="2133360"/>
            <a:ext cx="3581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sumcalc: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xorl    %r8d, %r8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xorl    %ecx, %ec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%r9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mpl    %edx, %r8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jg      .L7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sall    $2, %edi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.L5:    movl    %edi, %ea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divl   %esi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l    1(%rcx), %ed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ax, %r10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%ecx, %r10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%ec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%edx, %ec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l    (%r10,%rcx), %ea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%ec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addl    %eax, %r8d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mpl    %r9d, %ed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jle     .L5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.L7:    movl    %r8d, %eax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4267080" y="3657600"/>
            <a:ext cx="609840" cy="533520"/>
          </a:xfrm>
          <a:prstGeom prst="rightArrow">
            <a:avLst>
              <a:gd name="adj1" fmla="val 50000"/>
              <a:gd name="adj2" fmla="val 28576"/>
            </a:avLst>
          </a:prstGeom>
          <a:gradFill rotWithShape="0">
            <a:gsLst>
              <a:gs pos="0">
                <a:srgbClr val="ff3300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152280" y="2133720"/>
            <a:ext cx="4267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sumcalc(int a, int b, int N)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i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int x, t, u, v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0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u = ((a&lt;&lt;2)/b)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v = 0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for(i = 0; i &lt;= N; i++) {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t = i+1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x = x + v + t*t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v = v + u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return x;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E8B95AA7-A62B-4798-B88C-5D2C1F30E837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evođenje progra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orektnos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kcije koje se zahtijevaju u programu moraju biti doslovno izvršen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Efi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asnost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Inteligent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na i efiksana upotreba dostupnih resurs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(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Riječ optimizacija koristi se u “širokom”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značenju u kompajlerim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– Optimiz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rajući k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mp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jleri nikada nisu optimalni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086D4F6B-7439-4D82-8516-99D4B2A99A9E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429" name="Group 3"/>
          <p:cNvGrpSpPr/>
          <p:nvPr/>
        </p:nvGrpSpPr>
        <p:grpSpPr>
          <a:xfrm>
            <a:off x="828720" y="5372280"/>
            <a:ext cx="4429080" cy="1180800"/>
            <a:chOff x="828720" y="5372280"/>
            <a:chExt cx="4429080" cy="1180800"/>
          </a:xfrm>
        </p:grpSpPr>
        <p:pic>
          <p:nvPicPr>
            <p:cNvPr id="430" name="Picture 4" descr="z-private"/>
            <p:cNvPicPr/>
            <p:nvPr/>
          </p:nvPicPr>
          <p:blipFill>
            <a:blip r:embed="rId1"/>
            <a:stretch/>
          </p:blipFill>
          <p:spPr>
            <a:xfrm>
              <a:off x="828720" y="5600520"/>
              <a:ext cx="685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5" descr="x-S116tn"/>
            <p:cNvPicPr/>
            <p:nvPr/>
          </p:nvPicPr>
          <p:blipFill>
            <a:blip r:embed="rId2"/>
            <a:stretch/>
          </p:blipFill>
          <p:spPr>
            <a:xfrm>
              <a:off x="3429000" y="5372280"/>
              <a:ext cx="182880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6"/>
            <p:cNvSpPr/>
            <p:nvPr/>
          </p:nvSpPr>
          <p:spPr>
            <a:xfrm>
              <a:off x="1660680" y="556560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Foot Soldie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33" name="Group 7"/>
          <p:cNvGrpSpPr/>
          <p:nvPr/>
        </p:nvGrpSpPr>
        <p:grpSpPr>
          <a:xfrm>
            <a:off x="3200400" y="2244600"/>
            <a:ext cx="655200" cy="819000"/>
            <a:chOff x="3200400" y="2244600"/>
            <a:chExt cx="655200" cy="819000"/>
          </a:xfrm>
        </p:grpSpPr>
        <p:sp>
          <p:nvSpPr>
            <p:cNvPr id="434" name="Freeform 8"/>
            <p:cNvSpPr/>
            <p:nvPr/>
          </p:nvSpPr>
          <p:spPr>
            <a:xfrm flipH="1">
              <a:off x="3200400" y="2244600"/>
              <a:ext cx="655200" cy="81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5" name="Freeform 9"/>
            <p:cNvSpPr/>
            <p:nvPr/>
          </p:nvSpPr>
          <p:spPr>
            <a:xfrm flipH="1">
              <a:off x="3743640" y="2634480"/>
              <a:ext cx="3960" cy="17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6" name="Freeform 10"/>
            <p:cNvSpPr/>
            <p:nvPr/>
          </p:nvSpPr>
          <p:spPr>
            <a:xfrm flipH="1">
              <a:off x="3651480" y="2620800"/>
              <a:ext cx="85680" cy="35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7" name="Freeform 11"/>
            <p:cNvSpPr/>
            <p:nvPr/>
          </p:nvSpPr>
          <p:spPr>
            <a:xfrm flipH="1">
              <a:off x="3532320" y="2660760"/>
              <a:ext cx="322920" cy="2728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8" name="Freeform 12"/>
            <p:cNvSpPr/>
            <p:nvPr/>
          </p:nvSpPr>
          <p:spPr>
            <a:xfrm flipH="1">
              <a:off x="3503880" y="2823480"/>
              <a:ext cx="114120" cy="900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39" name="Freeform 13"/>
            <p:cNvSpPr/>
            <p:nvPr/>
          </p:nvSpPr>
          <p:spPr>
            <a:xfrm flipH="1">
              <a:off x="3556800" y="2912040"/>
              <a:ext cx="127080" cy="7416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0" name="Freeform 14"/>
            <p:cNvSpPr/>
            <p:nvPr/>
          </p:nvSpPr>
          <p:spPr>
            <a:xfrm flipH="1">
              <a:off x="3438360" y="2847960"/>
              <a:ext cx="129600" cy="702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1" name="Freeform 15"/>
            <p:cNvSpPr/>
            <p:nvPr/>
          </p:nvSpPr>
          <p:spPr>
            <a:xfrm flipH="1">
              <a:off x="3240000" y="2389680"/>
              <a:ext cx="366840" cy="4006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2" name="Freeform 16"/>
            <p:cNvSpPr/>
            <p:nvPr/>
          </p:nvSpPr>
          <p:spPr>
            <a:xfrm flipH="1">
              <a:off x="3464640" y="2709360"/>
              <a:ext cx="250200" cy="2311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3" name="Freeform 17"/>
            <p:cNvSpPr/>
            <p:nvPr/>
          </p:nvSpPr>
          <p:spPr>
            <a:xfrm flipH="1">
              <a:off x="3479760" y="2526480"/>
              <a:ext cx="308160" cy="17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4" name="Freeform 18"/>
            <p:cNvSpPr/>
            <p:nvPr/>
          </p:nvSpPr>
          <p:spPr>
            <a:xfrm flipH="1">
              <a:off x="3528000" y="2964240"/>
              <a:ext cx="198000" cy="662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5" name="Freeform 19"/>
            <p:cNvSpPr/>
            <p:nvPr/>
          </p:nvSpPr>
          <p:spPr>
            <a:xfrm flipH="1">
              <a:off x="3441960" y="2491200"/>
              <a:ext cx="207000" cy="20916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6" name="Freeform 20"/>
            <p:cNvSpPr/>
            <p:nvPr/>
          </p:nvSpPr>
          <p:spPr>
            <a:xfrm flipH="1">
              <a:off x="3301200" y="2248920"/>
              <a:ext cx="305640" cy="20700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7" name="Freeform 21"/>
            <p:cNvSpPr/>
            <p:nvPr/>
          </p:nvSpPr>
          <p:spPr>
            <a:xfrm flipH="1">
              <a:off x="3327840" y="2392200"/>
              <a:ext cx="24120" cy="3492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8" name="Freeform 22"/>
            <p:cNvSpPr/>
            <p:nvPr/>
          </p:nvSpPr>
          <p:spPr>
            <a:xfrm flipH="1">
              <a:off x="3449520" y="2759760"/>
              <a:ext cx="21600" cy="5256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49" name="Freeform 23"/>
            <p:cNvSpPr/>
            <p:nvPr/>
          </p:nvSpPr>
          <p:spPr>
            <a:xfrm flipH="1">
              <a:off x="3481920" y="2799720"/>
              <a:ext cx="32760" cy="1728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50" name="Freeform 24"/>
            <p:cNvSpPr/>
            <p:nvPr/>
          </p:nvSpPr>
          <p:spPr>
            <a:xfrm flipH="1">
              <a:off x="3504600" y="2713680"/>
              <a:ext cx="28080" cy="4824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51" name="Group 25"/>
          <p:cNvGrpSpPr/>
          <p:nvPr/>
        </p:nvGrpSpPr>
        <p:grpSpPr>
          <a:xfrm>
            <a:off x="457200" y="1447920"/>
            <a:ext cx="7848720" cy="1104120"/>
            <a:chOff x="457200" y="1447920"/>
            <a:chExt cx="7848720" cy="1104120"/>
          </a:xfrm>
        </p:grpSpPr>
        <p:pic>
          <p:nvPicPr>
            <p:cNvPr id="452" name="Picture 26" descr="z-general"/>
            <p:cNvPicPr/>
            <p:nvPr/>
          </p:nvPicPr>
          <p:blipFill>
            <a:blip r:embed="rId3"/>
            <a:stretch/>
          </p:blipFill>
          <p:spPr>
            <a:xfrm>
              <a:off x="457200" y="2168640"/>
              <a:ext cx="14288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 Box 27"/>
            <p:cNvSpPr/>
            <p:nvPr/>
          </p:nvSpPr>
          <p:spPr>
            <a:xfrm>
              <a:off x="1935360" y="20923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General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54" name="AutoShape 28"/>
            <p:cNvSpPr/>
            <p:nvPr/>
          </p:nvSpPr>
          <p:spPr>
            <a:xfrm>
              <a:off x="4724280" y="1482840"/>
              <a:ext cx="3581640" cy="838080"/>
            </a:xfrm>
            <a:prstGeom prst="wedgeRoundRectCallout">
              <a:avLst>
                <a:gd name="adj1" fmla="val -52481"/>
                <a:gd name="adj2" fmla="val 71592"/>
                <a:gd name="adj3" fmla="val 16667"/>
              </a:avLst>
            </a:prstGeom>
            <a:solidFill>
              <a:srgbClr val="15009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55" name="Text Box 29"/>
            <p:cNvSpPr/>
            <p:nvPr/>
          </p:nvSpPr>
          <p:spPr>
            <a:xfrm>
              <a:off x="4706280" y="1447920"/>
              <a:ext cx="308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Cross the river and tak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defensive positions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pic>
        <p:nvPicPr>
          <p:cNvPr id="456" name="Picture 30" descr="z-sergeant"/>
          <p:cNvPicPr/>
          <p:nvPr/>
        </p:nvPicPr>
        <p:blipFill>
          <a:blip r:embed="rId4"/>
          <a:stretch/>
        </p:blipFill>
        <p:spPr>
          <a:xfrm>
            <a:off x="861840" y="3768840"/>
            <a:ext cx="619200" cy="79056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31"/>
          <p:cNvSpPr/>
          <p:nvPr/>
        </p:nvSpPr>
        <p:spPr>
          <a:xfrm>
            <a:off x="1884240" y="39974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ergea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458" name="Group 32"/>
          <p:cNvGrpSpPr/>
          <p:nvPr/>
        </p:nvGrpSpPr>
        <p:grpSpPr>
          <a:xfrm>
            <a:off x="3192120" y="3997440"/>
            <a:ext cx="671400" cy="701640"/>
            <a:chOff x="3192120" y="3997440"/>
            <a:chExt cx="671400" cy="701640"/>
          </a:xfrm>
        </p:grpSpPr>
        <p:sp>
          <p:nvSpPr>
            <p:cNvPr id="459" name="Freeform 33"/>
            <p:cNvSpPr/>
            <p:nvPr/>
          </p:nvSpPr>
          <p:spPr>
            <a:xfrm flipH="1">
              <a:off x="3245760" y="4002120"/>
              <a:ext cx="609480" cy="398520"/>
            </a:xfrm>
            <a:prstGeom prst="pie">
              <a:avLst/>
            </a:pr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0" name="Freeform 34"/>
            <p:cNvSpPr/>
            <p:nvPr/>
          </p:nvSpPr>
          <p:spPr>
            <a:xfrm flipH="1">
              <a:off x="3525840" y="4002120"/>
              <a:ext cx="16848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1" name="Freeform 35"/>
            <p:cNvSpPr/>
            <p:nvPr/>
          </p:nvSpPr>
          <p:spPr>
            <a:xfrm flipH="1">
              <a:off x="3273480" y="3997440"/>
              <a:ext cx="25560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2" name="Freeform 36"/>
            <p:cNvSpPr/>
            <p:nvPr/>
          </p:nvSpPr>
          <p:spPr>
            <a:xfrm flipH="1">
              <a:off x="3237840" y="4159080"/>
              <a:ext cx="493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3" name="Freeform 37"/>
            <p:cNvSpPr/>
            <p:nvPr/>
          </p:nvSpPr>
          <p:spPr>
            <a:xfrm flipH="1">
              <a:off x="3243240" y="4254480"/>
              <a:ext cx="604800" cy="15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4" name="Freeform 38"/>
            <p:cNvSpPr/>
            <p:nvPr/>
          </p:nvSpPr>
          <p:spPr>
            <a:xfrm flipH="1">
              <a:off x="3833280" y="4335480"/>
              <a:ext cx="2988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5" name="Freeform 39"/>
            <p:cNvSpPr/>
            <p:nvPr/>
          </p:nvSpPr>
          <p:spPr>
            <a:xfrm flipH="1">
              <a:off x="3675240" y="4251240"/>
              <a:ext cx="18576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6" name="Freeform 40"/>
            <p:cNvSpPr/>
            <p:nvPr/>
          </p:nvSpPr>
          <p:spPr>
            <a:xfrm flipH="1">
              <a:off x="3196440" y="4262400"/>
              <a:ext cx="452520" cy="433440"/>
            </a:xfrm>
            <a:prstGeom prst="pie">
              <a:avLst/>
            </a:prstGeom>
            <a:solidFill>
              <a:srgbClr val="c67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7" name="Freeform 41"/>
            <p:cNvSpPr/>
            <p:nvPr/>
          </p:nvSpPr>
          <p:spPr>
            <a:xfrm flipH="1">
              <a:off x="3243240" y="4254480"/>
              <a:ext cx="20952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8" name="Freeform 42"/>
            <p:cNvSpPr/>
            <p:nvPr/>
          </p:nvSpPr>
          <p:spPr>
            <a:xfrm flipH="1">
              <a:off x="3196440" y="4260960"/>
              <a:ext cx="5724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69" name="Freeform 43"/>
            <p:cNvSpPr/>
            <p:nvPr/>
          </p:nvSpPr>
          <p:spPr>
            <a:xfrm flipH="1">
              <a:off x="3191760" y="4441680"/>
              <a:ext cx="96840" cy="22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70" name="Freeform 44"/>
            <p:cNvSpPr/>
            <p:nvPr/>
          </p:nvSpPr>
          <p:spPr>
            <a:xfrm flipH="1">
              <a:off x="3440880" y="4530600"/>
              <a:ext cx="17316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71" name="Freeform 45"/>
            <p:cNvSpPr/>
            <p:nvPr/>
          </p:nvSpPr>
          <p:spPr>
            <a:xfrm flipH="1">
              <a:off x="3602160" y="4349880"/>
              <a:ext cx="5400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72" name="Freeform 46"/>
            <p:cNvSpPr/>
            <p:nvPr/>
          </p:nvSpPr>
          <p:spPr>
            <a:xfrm flipH="1">
              <a:off x="3444120" y="4303800"/>
              <a:ext cx="20484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A16FD18A-B3A3-4B3C-967C-ECC15A53B1B9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AutoShape 2"/>
          <p:cNvSpPr/>
          <p:nvPr/>
        </p:nvSpPr>
        <p:spPr>
          <a:xfrm>
            <a:off x="4267080" y="2438280"/>
            <a:ext cx="4876920" cy="2438640"/>
          </a:xfrm>
          <a:prstGeom prst="cloudCallout">
            <a:avLst>
              <a:gd name="adj1" fmla="val -62143"/>
              <a:gd name="adj2" fmla="val 38412"/>
            </a:avLst>
          </a:prstGeom>
          <a:solidFill>
            <a:srgbClr val="15009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476" name="Group 4"/>
          <p:cNvGrpSpPr/>
          <p:nvPr/>
        </p:nvGrpSpPr>
        <p:grpSpPr>
          <a:xfrm>
            <a:off x="828720" y="5372280"/>
            <a:ext cx="4429080" cy="1180800"/>
            <a:chOff x="828720" y="5372280"/>
            <a:chExt cx="4429080" cy="1180800"/>
          </a:xfrm>
        </p:grpSpPr>
        <p:pic>
          <p:nvPicPr>
            <p:cNvPr id="477" name="Picture 5" descr="z-private"/>
            <p:cNvPicPr/>
            <p:nvPr/>
          </p:nvPicPr>
          <p:blipFill>
            <a:blip r:embed="rId1"/>
            <a:stretch/>
          </p:blipFill>
          <p:spPr>
            <a:xfrm>
              <a:off x="828720" y="5600520"/>
              <a:ext cx="685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6" descr="x-S116tn"/>
            <p:cNvPicPr/>
            <p:nvPr/>
          </p:nvPicPr>
          <p:blipFill>
            <a:blip r:embed="rId2"/>
            <a:stretch/>
          </p:blipFill>
          <p:spPr>
            <a:xfrm>
              <a:off x="3429000" y="5372280"/>
              <a:ext cx="182880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7"/>
            <p:cNvSpPr/>
            <p:nvPr/>
          </p:nvSpPr>
          <p:spPr>
            <a:xfrm>
              <a:off x="1660680" y="556560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Foot Soldie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80" name="Group 8"/>
          <p:cNvGrpSpPr/>
          <p:nvPr/>
        </p:nvGrpSpPr>
        <p:grpSpPr>
          <a:xfrm>
            <a:off x="3200400" y="2244600"/>
            <a:ext cx="655200" cy="819000"/>
            <a:chOff x="3200400" y="2244600"/>
            <a:chExt cx="655200" cy="819000"/>
          </a:xfrm>
        </p:grpSpPr>
        <p:sp>
          <p:nvSpPr>
            <p:cNvPr id="481" name="Freeform 9"/>
            <p:cNvSpPr/>
            <p:nvPr/>
          </p:nvSpPr>
          <p:spPr>
            <a:xfrm flipH="1">
              <a:off x="3200400" y="2244600"/>
              <a:ext cx="655200" cy="81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2" name="Freeform 10"/>
            <p:cNvSpPr/>
            <p:nvPr/>
          </p:nvSpPr>
          <p:spPr>
            <a:xfrm flipH="1">
              <a:off x="3743640" y="2634480"/>
              <a:ext cx="3960" cy="17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3" name="Freeform 11"/>
            <p:cNvSpPr/>
            <p:nvPr/>
          </p:nvSpPr>
          <p:spPr>
            <a:xfrm flipH="1">
              <a:off x="3651480" y="2620800"/>
              <a:ext cx="85680" cy="35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 flipH="1">
              <a:off x="3532320" y="2660760"/>
              <a:ext cx="322920" cy="2728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 flipH="1">
              <a:off x="3503880" y="2823480"/>
              <a:ext cx="114120" cy="900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 flipH="1">
              <a:off x="3556800" y="2912040"/>
              <a:ext cx="127080" cy="7416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 flipH="1">
              <a:off x="3438360" y="2847960"/>
              <a:ext cx="129600" cy="702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 flipH="1">
              <a:off x="3240000" y="2389680"/>
              <a:ext cx="366840" cy="4006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 flipH="1">
              <a:off x="3464640" y="2709360"/>
              <a:ext cx="250200" cy="2311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 flipH="1">
              <a:off x="3479760" y="2526480"/>
              <a:ext cx="308160" cy="17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 flipH="1">
              <a:off x="3528000" y="2964240"/>
              <a:ext cx="198000" cy="662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 flipH="1">
              <a:off x="3441960" y="2491200"/>
              <a:ext cx="207000" cy="20916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 flipH="1">
              <a:off x="3301200" y="2248920"/>
              <a:ext cx="305640" cy="20700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 flipH="1">
              <a:off x="3327840" y="2392200"/>
              <a:ext cx="24120" cy="3492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5" name="Freeform 23"/>
            <p:cNvSpPr/>
            <p:nvPr/>
          </p:nvSpPr>
          <p:spPr>
            <a:xfrm flipH="1">
              <a:off x="3449520" y="2759760"/>
              <a:ext cx="21600" cy="5256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6" name="Freeform 24"/>
            <p:cNvSpPr/>
            <p:nvPr/>
          </p:nvSpPr>
          <p:spPr>
            <a:xfrm flipH="1">
              <a:off x="3481920" y="2799720"/>
              <a:ext cx="32760" cy="1728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497" name="Freeform 25"/>
            <p:cNvSpPr/>
            <p:nvPr/>
          </p:nvSpPr>
          <p:spPr>
            <a:xfrm flipH="1">
              <a:off x="3504600" y="2713680"/>
              <a:ext cx="28080" cy="4824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498" name="Group 26"/>
          <p:cNvGrpSpPr/>
          <p:nvPr/>
        </p:nvGrpSpPr>
        <p:grpSpPr>
          <a:xfrm>
            <a:off x="457200" y="1447920"/>
            <a:ext cx="7848720" cy="1104120"/>
            <a:chOff x="457200" y="1447920"/>
            <a:chExt cx="7848720" cy="1104120"/>
          </a:xfrm>
        </p:grpSpPr>
        <p:pic>
          <p:nvPicPr>
            <p:cNvPr id="499" name="Picture 27" descr="z-general"/>
            <p:cNvPicPr/>
            <p:nvPr/>
          </p:nvPicPr>
          <p:blipFill>
            <a:blip r:embed="rId3"/>
            <a:stretch/>
          </p:blipFill>
          <p:spPr>
            <a:xfrm>
              <a:off x="457200" y="2168640"/>
              <a:ext cx="14288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28"/>
            <p:cNvSpPr/>
            <p:nvPr/>
          </p:nvSpPr>
          <p:spPr>
            <a:xfrm>
              <a:off x="1935360" y="209232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General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1" name="AutoShape 29"/>
            <p:cNvSpPr/>
            <p:nvPr/>
          </p:nvSpPr>
          <p:spPr>
            <a:xfrm>
              <a:off x="4724280" y="1482840"/>
              <a:ext cx="3581640" cy="838080"/>
            </a:xfrm>
            <a:prstGeom prst="wedgeRoundRectCallout">
              <a:avLst>
                <a:gd name="adj1" fmla="val -52481"/>
                <a:gd name="adj2" fmla="val 71592"/>
                <a:gd name="adj3" fmla="val 16667"/>
              </a:avLst>
            </a:prstGeom>
            <a:solidFill>
              <a:srgbClr val="15009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2" name="Text Box 30"/>
            <p:cNvSpPr/>
            <p:nvPr/>
          </p:nvSpPr>
          <p:spPr>
            <a:xfrm>
              <a:off x="4706280" y="1447920"/>
              <a:ext cx="308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Cross the river and take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defensive positions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pic>
        <p:nvPicPr>
          <p:cNvPr id="503" name="Picture 31" descr="z-sergeant"/>
          <p:cNvPicPr/>
          <p:nvPr/>
        </p:nvPicPr>
        <p:blipFill>
          <a:blip r:embed="rId4"/>
          <a:stretch/>
        </p:blipFill>
        <p:spPr>
          <a:xfrm>
            <a:off x="861840" y="3768840"/>
            <a:ext cx="619200" cy="79056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32"/>
          <p:cNvSpPr/>
          <p:nvPr/>
        </p:nvSpPr>
        <p:spPr>
          <a:xfrm>
            <a:off x="1884240" y="39974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Sergea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505" name="Group 33"/>
          <p:cNvGrpSpPr/>
          <p:nvPr/>
        </p:nvGrpSpPr>
        <p:grpSpPr>
          <a:xfrm>
            <a:off x="3192120" y="3997440"/>
            <a:ext cx="671400" cy="701640"/>
            <a:chOff x="3192120" y="3997440"/>
            <a:chExt cx="671400" cy="701640"/>
          </a:xfrm>
        </p:grpSpPr>
        <p:sp>
          <p:nvSpPr>
            <p:cNvPr id="506" name="Freeform 34"/>
            <p:cNvSpPr/>
            <p:nvPr/>
          </p:nvSpPr>
          <p:spPr>
            <a:xfrm flipH="1">
              <a:off x="3245760" y="4002120"/>
              <a:ext cx="609480" cy="398520"/>
            </a:xfrm>
            <a:prstGeom prst="pie">
              <a:avLst/>
            </a:prstGeom>
            <a:solidFill>
              <a:srgbClr val="007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7" name="Freeform 35"/>
            <p:cNvSpPr/>
            <p:nvPr/>
          </p:nvSpPr>
          <p:spPr>
            <a:xfrm flipH="1">
              <a:off x="3525840" y="4002120"/>
              <a:ext cx="168480" cy="258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8" name="Freeform 36"/>
            <p:cNvSpPr/>
            <p:nvPr/>
          </p:nvSpPr>
          <p:spPr>
            <a:xfrm flipH="1">
              <a:off x="3273480" y="3997440"/>
              <a:ext cx="25560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09" name="Freeform 37"/>
            <p:cNvSpPr/>
            <p:nvPr/>
          </p:nvSpPr>
          <p:spPr>
            <a:xfrm flipH="1">
              <a:off x="3237840" y="4159080"/>
              <a:ext cx="49320" cy="10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0" name="Freeform 38"/>
            <p:cNvSpPr/>
            <p:nvPr/>
          </p:nvSpPr>
          <p:spPr>
            <a:xfrm flipH="1">
              <a:off x="3243240" y="4254480"/>
              <a:ext cx="604800" cy="15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1" name="Freeform 39"/>
            <p:cNvSpPr/>
            <p:nvPr/>
          </p:nvSpPr>
          <p:spPr>
            <a:xfrm flipH="1">
              <a:off x="3833280" y="4335480"/>
              <a:ext cx="2988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2" name="Freeform 40"/>
            <p:cNvSpPr/>
            <p:nvPr/>
          </p:nvSpPr>
          <p:spPr>
            <a:xfrm flipH="1">
              <a:off x="3675240" y="4251240"/>
              <a:ext cx="18576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3" name="Freeform 41"/>
            <p:cNvSpPr/>
            <p:nvPr/>
          </p:nvSpPr>
          <p:spPr>
            <a:xfrm flipH="1">
              <a:off x="3196440" y="4262400"/>
              <a:ext cx="452520" cy="433440"/>
            </a:xfrm>
            <a:prstGeom prst="pie">
              <a:avLst/>
            </a:prstGeom>
            <a:solidFill>
              <a:srgbClr val="c67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4" name="Freeform 42"/>
            <p:cNvSpPr/>
            <p:nvPr/>
          </p:nvSpPr>
          <p:spPr>
            <a:xfrm flipH="1">
              <a:off x="3243240" y="4254480"/>
              <a:ext cx="20952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5" name="Freeform 43"/>
            <p:cNvSpPr/>
            <p:nvPr/>
          </p:nvSpPr>
          <p:spPr>
            <a:xfrm flipH="1">
              <a:off x="3196440" y="4260960"/>
              <a:ext cx="5724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6" name="Freeform 44"/>
            <p:cNvSpPr/>
            <p:nvPr/>
          </p:nvSpPr>
          <p:spPr>
            <a:xfrm flipH="1">
              <a:off x="3191760" y="4441680"/>
              <a:ext cx="96840" cy="22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7" name="Freeform 45"/>
            <p:cNvSpPr/>
            <p:nvPr/>
          </p:nvSpPr>
          <p:spPr>
            <a:xfrm flipH="1">
              <a:off x="3440880" y="4530600"/>
              <a:ext cx="173160" cy="16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8" name="Freeform 46"/>
            <p:cNvSpPr/>
            <p:nvPr/>
          </p:nvSpPr>
          <p:spPr>
            <a:xfrm flipH="1">
              <a:off x="3602160" y="4349880"/>
              <a:ext cx="54000" cy="18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19" name="Freeform 47"/>
            <p:cNvSpPr/>
            <p:nvPr/>
          </p:nvSpPr>
          <p:spPr>
            <a:xfrm flipH="1">
              <a:off x="3444120" y="4303800"/>
              <a:ext cx="204840" cy="58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520" name="Text Box 48"/>
          <p:cNvSpPr/>
          <p:nvPr/>
        </p:nvSpPr>
        <p:spPr>
          <a:xfrm>
            <a:off x="4789440" y="2895480"/>
            <a:ext cx="416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Where to cross the river? Use the 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bridge upstream or  surprise the enemy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by crossing downstream?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How do I minimize the  casualties??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C3746CF4-5FC2-453E-A028-8EE9C86581BF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2" name="AutoShape 2"/>
          <p:cNvSpPr/>
          <p:nvPr/>
        </p:nvSpPr>
        <p:spPr>
          <a:xfrm>
            <a:off x="3886200" y="2438280"/>
            <a:ext cx="4800600" cy="18288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15009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524" name="Group 4"/>
          <p:cNvGrpSpPr/>
          <p:nvPr/>
        </p:nvGrpSpPr>
        <p:grpSpPr>
          <a:xfrm>
            <a:off x="3371760" y="1890720"/>
            <a:ext cx="769680" cy="1157400"/>
            <a:chOff x="3371760" y="1890720"/>
            <a:chExt cx="769680" cy="1157400"/>
          </a:xfrm>
        </p:grpSpPr>
        <p:sp>
          <p:nvSpPr>
            <p:cNvPr id="525" name="Freeform 5"/>
            <p:cNvSpPr/>
            <p:nvPr/>
          </p:nvSpPr>
          <p:spPr>
            <a:xfrm>
              <a:off x="3430440" y="1890720"/>
              <a:ext cx="711000" cy="115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26" name="Freeform 6"/>
            <p:cNvSpPr/>
            <p:nvPr/>
          </p:nvSpPr>
          <p:spPr>
            <a:xfrm>
              <a:off x="3371760" y="2373480"/>
              <a:ext cx="504720" cy="67464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27" name="Freeform 7"/>
            <p:cNvSpPr/>
            <p:nvPr/>
          </p:nvSpPr>
          <p:spPr>
            <a:xfrm>
              <a:off x="3885840" y="2606760"/>
              <a:ext cx="192240" cy="376200"/>
            </a:xfrm>
            <a:prstGeom prst="pie">
              <a:avLst/>
            </a:prstGeom>
            <a:solidFill>
              <a:srgbClr val="ade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28" name="Freeform 8"/>
            <p:cNvSpPr/>
            <p:nvPr/>
          </p:nvSpPr>
          <p:spPr>
            <a:xfrm>
              <a:off x="3468600" y="2500200"/>
              <a:ext cx="96480" cy="1126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3463560" y="2459160"/>
              <a:ext cx="104760" cy="6336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3430440" y="2116080"/>
              <a:ext cx="680760" cy="45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3722400" y="2558880"/>
              <a:ext cx="196920" cy="125640"/>
            </a:xfrm>
            <a:prstGeom prst="pie">
              <a:avLst/>
            </a:prstGeom>
            <a:solidFill>
              <a:srgbClr val="ade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713040" y="1979640"/>
              <a:ext cx="338040" cy="555480"/>
            </a:xfrm>
            <a:prstGeom prst="pie">
              <a:avLst/>
            </a:prstGeom>
            <a:solidFill>
              <a:srgbClr val="dda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865320" y="2305080"/>
              <a:ext cx="120600" cy="6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4" name="Freeform 14"/>
            <p:cNvSpPr/>
            <p:nvPr/>
          </p:nvSpPr>
          <p:spPr>
            <a:xfrm>
              <a:off x="3838320" y="2395440"/>
              <a:ext cx="15732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5" name="Freeform 15"/>
            <p:cNvSpPr/>
            <p:nvPr/>
          </p:nvSpPr>
          <p:spPr>
            <a:xfrm>
              <a:off x="3873240" y="2444760"/>
              <a:ext cx="982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6" name="Freeform 16"/>
            <p:cNvSpPr/>
            <p:nvPr/>
          </p:nvSpPr>
          <p:spPr>
            <a:xfrm>
              <a:off x="3460320" y="2173320"/>
              <a:ext cx="98640" cy="38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37" name="Freeform 17"/>
            <p:cNvSpPr/>
            <p:nvPr/>
          </p:nvSpPr>
          <p:spPr>
            <a:xfrm>
              <a:off x="3474720" y="2141640"/>
              <a:ext cx="58680" cy="2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pic>
        <p:nvPicPr>
          <p:cNvPr id="538" name="Picture 18" descr="z-president"/>
          <p:cNvPicPr/>
          <p:nvPr/>
        </p:nvPicPr>
        <p:blipFill>
          <a:blip r:embed="rId1"/>
          <a:stretch/>
        </p:blipFill>
        <p:spPr>
          <a:xfrm>
            <a:off x="609480" y="1890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19"/>
          <p:cNvSpPr/>
          <p:nvPr/>
        </p:nvSpPr>
        <p:spPr>
          <a:xfrm>
            <a:off x="1765440" y="227160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President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0" name="AutoShape 20"/>
          <p:cNvSpPr/>
          <p:nvPr/>
        </p:nvSpPr>
        <p:spPr>
          <a:xfrm>
            <a:off x="4343400" y="1433520"/>
            <a:ext cx="3581280" cy="838080"/>
          </a:xfrm>
          <a:prstGeom prst="wedgeRoundRectCallout">
            <a:avLst>
              <a:gd name="adj1" fmla="val -54254"/>
              <a:gd name="adj2" fmla="val 64013"/>
              <a:gd name="adj3" fmla="val 16667"/>
            </a:avLst>
          </a:prstGeom>
          <a:solidFill>
            <a:srgbClr val="15009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1" name="Text Box 21"/>
          <p:cNvSpPr/>
          <p:nvPr/>
        </p:nvSpPr>
        <p:spPr>
          <a:xfrm>
            <a:off x="4322520" y="1398600"/>
            <a:ext cx="32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My poll ratings are low,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lets invade a small nation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542" name="Group 22"/>
          <p:cNvGrpSpPr/>
          <p:nvPr/>
        </p:nvGrpSpPr>
        <p:grpSpPr>
          <a:xfrm>
            <a:off x="3429000" y="4149720"/>
            <a:ext cx="655200" cy="818640"/>
            <a:chOff x="3429000" y="4149720"/>
            <a:chExt cx="655200" cy="818640"/>
          </a:xfrm>
        </p:grpSpPr>
        <p:sp>
          <p:nvSpPr>
            <p:cNvPr id="543" name="Freeform 23"/>
            <p:cNvSpPr/>
            <p:nvPr/>
          </p:nvSpPr>
          <p:spPr>
            <a:xfrm flipH="1">
              <a:off x="3429000" y="4149720"/>
              <a:ext cx="655200" cy="81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4" name="Freeform 24"/>
            <p:cNvSpPr/>
            <p:nvPr/>
          </p:nvSpPr>
          <p:spPr>
            <a:xfrm flipH="1">
              <a:off x="3972240" y="4539240"/>
              <a:ext cx="3960" cy="17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5" name="Freeform 25"/>
            <p:cNvSpPr/>
            <p:nvPr/>
          </p:nvSpPr>
          <p:spPr>
            <a:xfrm flipH="1">
              <a:off x="3880080" y="4525920"/>
              <a:ext cx="85680" cy="352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6" name="Freeform 26"/>
            <p:cNvSpPr/>
            <p:nvPr/>
          </p:nvSpPr>
          <p:spPr>
            <a:xfrm flipH="1">
              <a:off x="3760920" y="4565880"/>
              <a:ext cx="322920" cy="27288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7" name="Freeform 27"/>
            <p:cNvSpPr/>
            <p:nvPr/>
          </p:nvSpPr>
          <p:spPr>
            <a:xfrm flipH="1">
              <a:off x="3732480" y="4728240"/>
              <a:ext cx="114120" cy="900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8" name="Freeform 28"/>
            <p:cNvSpPr/>
            <p:nvPr/>
          </p:nvSpPr>
          <p:spPr>
            <a:xfrm flipH="1">
              <a:off x="3785400" y="4816800"/>
              <a:ext cx="127080" cy="7416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49" name="Freeform 29"/>
            <p:cNvSpPr/>
            <p:nvPr/>
          </p:nvSpPr>
          <p:spPr>
            <a:xfrm flipH="1">
              <a:off x="3666960" y="4752720"/>
              <a:ext cx="129600" cy="70200"/>
            </a:xfrm>
            <a:prstGeom prst="pie">
              <a:avLst/>
            </a:prstGeom>
            <a:solidFill>
              <a:srgbClr val="db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0" name="Freeform 30"/>
            <p:cNvSpPr/>
            <p:nvPr/>
          </p:nvSpPr>
          <p:spPr>
            <a:xfrm flipH="1">
              <a:off x="3468600" y="4294800"/>
              <a:ext cx="366840" cy="40068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1" name="Freeform 31"/>
            <p:cNvSpPr/>
            <p:nvPr/>
          </p:nvSpPr>
          <p:spPr>
            <a:xfrm flipH="1">
              <a:off x="3693240" y="4614120"/>
              <a:ext cx="250200" cy="23076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2" name="Freeform 32"/>
            <p:cNvSpPr/>
            <p:nvPr/>
          </p:nvSpPr>
          <p:spPr>
            <a:xfrm flipH="1">
              <a:off x="3708360" y="4431600"/>
              <a:ext cx="308160" cy="17352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3" name="Freeform 33"/>
            <p:cNvSpPr/>
            <p:nvPr/>
          </p:nvSpPr>
          <p:spPr>
            <a:xfrm flipH="1">
              <a:off x="3756600" y="4869000"/>
              <a:ext cx="198000" cy="66240"/>
            </a:xfrm>
            <a:prstGeom prst="pi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4" name="Freeform 34"/>
            <p:cNvSpPr/>
            <p:nvPr/>
          </p:nvSpPr>
          <p:spPr>
            <a:xfrm flipH="1">
              <a:off x="3670560" y="4395960"/>
              <a:ext cx="207000" cy="20880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5" name="Freeform 35"/>
            <p:cNvSpPr/>
            <p:nvPr/>
          </p:nvSpPr>
          <p:spPr>
            <a:xfrm flipH="1">
              <a:off x="3529800" y="4154040"/>
              <a:ext cx="305640" cy="20700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6" name="Freeform 36"/>
            <p:cNvSpPr/>
            <p:nvPr/>
          </p:nvSpPr>
          <p:spPr>
            <a:xfrm flipH="1">
              <a:off x="3556440" y="4297320"/>
              <a:ext cx="24120" cy="34920"/>
            </a:xfrm>
            <a:prstGeom prst="pie">
              <a:avLst/>
            </a:prstGeom>
            <a:solidFill>
              <a:srgbClr val="d8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7" name="Freeform 37"/>
            <p:cNvSpPr/>
            <p:nvPr/>
          </p:nvSpPr>
          <p:spPr>
            <a:xfrm flipH="1">
              <a:off x="3678120" y="4664520"/>
              <a:ext cx="21600" cy="5256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8" name="Freeform 38"/>
            <p:cNvSpPr/>
            <p:nvPr/>
          </p:nvSpPr>
          <p:spPr>
            <a:xfrm flipH="1">
              <a:off x="3710520" y="4704480"/>
              <a:ext cx="32760" cy="1728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59" name="Freeform 39"/>
            <p:cNvSpPr/>
            <p:nvPr/>
          </p:nvSpPr>
          <p:spPr>
            <a:xfrm flipH="1">
              <a:off x="3733200" y="4618440"/>
              <a:ext cx="28080" cy="48240"/>
            </a:xfrm>
            <a:prstGeom prst="pie">
              <a:avLst/>
            </a:prstGeom>
            <a:solidFill>
              <a:srgbClr val="66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pic>
        <p:nvPicPr>
          <p:cNvPr id="560" name="Picture 40" descr="z-general"/>
          <p:cNvPicPr/>
          <p:nvPr/>
        </p:nvPicPr>
        <p:blipFill>
          <a:blip r:embed="rId2"/>
          <a:stretch/>
        </p:blipFill>
        <p:spPr>
          <a:xfrm>
            <a:off x="457200" y="4378320"/>
            <a:ext cx="1428840" cy="3618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41"/>
          <p:cNvSpPr/>
          <p:nvPr/>
        </p:nvSpPr>
        <p:spPr>
          <a:xfrm>
            <a:off x="1935360" y="43020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2" name="Text Box 42"/>
          <p:cNvSpPr/>
          <p:nvPr/>
        </p:nvSpPr>
        <p:spPr>
          <a:xfrm>
            <a:off x="4645080" y="2743200"/>
            <a:ext cx="31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Russia or Bermuda?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Or just stall for his poll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numbers to go up?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84139959-B00B-4716-A8E7-688CD0A37566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odir sa</a:t>
            </a: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ostalim oblastim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Teor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j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Konačni automati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gramatike i parsiranj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protok podataka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Algoritm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Gra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fovi, dinamičko programiranje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Strukture podatak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Tabele seimbola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a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stra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t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na sintaksna drveta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tem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Al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okacija i imenovanj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višeprolazni istemi, 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Arhite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tur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a računar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Hijerarhija memeorij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selekcija instrukcija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interlok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ovi i latensij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paral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l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izam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gurnsot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Dete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c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ija i zaštita od prijetnji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Soft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versko inženjerstvo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Razvoj softvera</a:t>
            </a: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, debugging 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Vještačka inteligencija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ahoma"/>
              </a:rPr>
              <a:t>Heuristi</a:t>
            </a: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ča traženja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6523C4CE-E45C-4440-8FF9-58F39E1C77B7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reslikavanje od visokog do niskog nivo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irektno preslikavanje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ograma u asemblesrki jezik vodi ka neefikasnom izvršavanju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Veči nivo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tr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ci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e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cc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veća neefikasno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Ako nije efikasn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Apstrakcija vis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og nivoa je beskorisn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trebno je da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bezbijedimo visok nivo apstrak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a 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erforma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sama koje imaju instrukcije niskog nivoa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53FB0DE3-21D2-4C45-B328-F5CD987FDDF3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f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kasno izvršavanje podiže nivo apstrakci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876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rogram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ski jezic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d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C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 OO-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ezika sa “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garbage collectio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Još apstraktnije defini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Microprocesor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Od prostog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CISC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-a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 RISC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o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 VLIW 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5715000" y="1600200"/>
            <a:ext cx="1752480" cy="1676520"/>
            <a:chOff x="5715000" y="1600200"/>
            <a:chExt cx="1752480" cy="1676520"/>
          </a:xfrm>
        </p:grpSpPr>
        <p:sp>
          <p:nvSpPr>
            <p:cNvPr id="570" name="AutoShape 5"/>
            <p:cNvSpPr/>
            <p:nvPr/>
          </p:nvSpPr>
          <p:spPr>
            <a:xfrm>
              <a:off x="5715000" y="1600200"/>
              <a:ext cx="1752480" cy="7621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00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71" name="Rectangle 6"/>
            <p:cNvSpPr/>
            <p:nvPr/>
          </p:nvSpPr>
          <p:spPr>
            <a:xfrm>
              <a:off x="6172200" y="2362320"/>
              <a:ext cx="838080" cy="91440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00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572" name="Group 7"/>
          <p:cNvGrpSpPr/>
          <p:nvPr/>
        </p:nvGrpSpPr>
        <p:grpSpPr>
          <a:xfrm>
            <a:off x="5715000" y="4191480"/>
            <a:ext cx="1752480" cy="1675800"/>
            <a:chOff x="5715000" y="4191480"/>
            <a:chExt cx="1752480" cy="1675800"/>
          </a:xfrm>
        </p:grpSpPr>
        <p:sp>
          <p:nvSpPr>
            <p:cNvPr id="573" name="AutoShape 8"/>
            <p:cNvSpPr/>
            <p:nvPr/>
          </p:nvSpPr>
          <p:spPr>
            <a:xfrm flipV="1">
              <a:off x="5715000" y="5105520"/>
              <a:ext cx="1752480" cy="7617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f00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574" name="Rectangle 9"/>
            <p:cNvSpPr/>
            <p:nvPr/>
          </p:nvSpPr>
          <p:spPr>
            <a:xfrm flipV="1">
              <a:off x="6172200" y="4191120"/>
              <a:ext cx="838080" cy="914040"/>
            </a:xfrm>
            <a:prstGeom prst="rect">
              <a:avLst/>
            </a:prstGeom>
            <a:gradFill rotWithShape="0">
              <a:gsLst>
                <a:gs pos="0">
                  <a:srgbClr val="ff9900"/>
                </a:gs>
                <a:gs pos="50000">
                  <a:srgbClr val="ff0000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9238B05A-7A86-4257-8B99-AAB76966CD15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ptimiza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cija - primjer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sumcalc(int a, int b, int N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x, 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b*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4E961796-8FE6-4DE0-BF7A-21925778AE7F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8688960" y="763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99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152280" y="152280"/>
            <a:ext cx="52578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pushq   %rbp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q    %rsp, %rbp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i, -4(%rbp)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si, -8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-12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$0, -20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$0, -24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$0, -16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.L2:    movl    -16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mpl    -12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jg      .L3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-4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l    0(,%rax,4)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q    -8(%rbp), %r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q    %rax, -40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dx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q    -40(%rbp), %rc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divl   (%rcx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ax, -28(%rbp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-28(%rbp)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-16(%rbp)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-16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ncl   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%eax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addl    %eax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-8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movl    %eax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mull   -24(%rbp), %ed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q    -16(%rbp), %r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incl    (%rax)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jmp     .L2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.L3:    movl    -20(%rbp), %eax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leave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12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DAA1390C-1B38-47D0-A076-4D4CFD45D52F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oraci optimizaci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sumcalc(int a, int b, int N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b*y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1F06C0E3-E260-4B4D-9AE6-105CCEA97530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nstant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Courier New"/>
              </a:rPr>
              <a:t>   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b*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907257DA-00A9-42C2-8E35-C3284CDD8896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nstant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y = 0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b*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y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2DD8E14F-1B4F-42DE-AE70-4478B819CED2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nstant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y = 0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b*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671AF745-D496-4299-98F5-F6DD9B44EBCF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lgebraic Simplifi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b*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CBBA3EF2-9918-4037-A3FF-238030AD9D37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lgebraic Simplifi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b*0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2EADA249-E36E-4181-98ED-1B9880A18C3E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Izražajnost jezika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Koristi se za opisivanje bilo koje akcij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ije vezan za kontek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Više načina da se opiše ista akcij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Fle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ksibilno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D39098EB-CD5C-42C1-BDD2-E1B6881CAC0B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lgebraic Simplifi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5D8BA012-D8BC-416F-A860-A50E94DF7509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py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C1CE1A4A-E42B-4688-8BA2-DF5CBA510A92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py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x =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50A5BD26-C418-4D70-A6C3-84F6ED27205F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py Propag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6ADAD100-4872-4BC1-AD79-993E1945521C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ommon Subexpression Elimination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(i+1)*(i+1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94F1CC99-344D-45B0-AB06-E73C9480320F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ommon Subexpression Elimination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(i+1)*(i+1)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3E5275ED-E069-43E3-8B5C-C5BAF90A15F8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Common Subexpression Elimination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,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*t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A2048AB6-43AC-4582-A63D-3788DF2BE333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ead Code Elimin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A1FDEACC-E5CA-42B1-A715-4F4A3C3D3E9E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ead Code Elimin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y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y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8B347E93-2D44-431A-8A71-92667966E323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ead Code Elimin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A387281C-6194-43F4-A4E9-66CBC390638E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ako dati in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trukcije računaru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irodni jezici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Engl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esk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Open the pod bay doors, Hal.”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ccffff"/>
                </a:solidFill>
                <a:latin typeface="Comic Sans MS"/>
              </a:rPr>
              <a:t>I am sorry Dave, I am afraid I cannot do that”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Daleko smo od tog nivoa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Prirodni jezici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Izražajni (moćni)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, </a:t>
            </a: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ali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cffff"/>
                </a:solidFill>
                <a:latin typeface="Tahoma"/>
              </a:rPr>
              <a:t>Dvosmisleni (nejasni)</a:t>
            </a: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ccffff"/>
                </a:solidFill>
                <a:latin typeface="Tahoma"/>
              </a:rPr>
              <a:t>Neki izrazi opisuju više mogućih akcija</a:t>
            </a:r>
            <a:endParaRPr b="0" lang="en-US" sz="1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63" name="Rectangle 3" descr=""/>
          <p:cNvPicPr/>
          <p:nvPr/>
        </p:nvPicPr>
        <p:blipFill>
          <a:blip r:embed="rId1"/>
          <a:stretch/>
        </p:blipFill>
        <p:spPr>
          <a:xfrm>
            <a:off x="7696080" y="1447920"/>
            <a:ext cx="10018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25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25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25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15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15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5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4E801975-0BFC-4C95-8680-825659CE59E0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oop Invariant Removal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(4*a/b)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783C58D8-097C-4B74-8D51-8F321428B0DE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oop Invariant Removal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(4*a/b)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DA74AD1D-490F-48DF-BD15-BF3D9E0F4514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Loop Invariant Removal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,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u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u = (4*a/b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u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9D4EC3E0-3AC0-4DA9-9415-FF1905AED240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trength Reduc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, u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u = (4*a/b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u*i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758018C2-F605-4B6F-A1B9-B23F9D7B0D44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trength Reduc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, u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u = (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4*a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/b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66"/>
                </a:solidFill>
                <a:latin typeface="Courier New"/>
              </a:rPr>
              <a:t>u*i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92185F09-8C9A-41DB-ABC7-58741819023C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Strength Reduc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int i, x, t, u,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v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u = (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(a&lt;&lt;2)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/b)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v = 0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x = x +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v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+ t*t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v = v + u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F96FEDB3-32A5-466A-85F3-FD87B72285F3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Register Allo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ffff"/>
              </a:solidFill>
              <a:latin typeface="Courier New"/>
            </a:endParaRPr>
          </a:p>
        </p:txBody>
      </p:sp>
      <p:grpSp>
        <p:nvGrpSpPr>
          <p:cNvPr id="650" name="Group 4"/>
          <p:cNvGrpSpPr/>
          <p:nvPr/>
        </p:nvGrpSpPr>
        <p:grpSpPr>
          <a:xfrm>
            <a:off x="1600200" y="1347840"/>
            <a:ext cx="5032800" cy="1607760"/>
            <a:chOff x="1600200" y="1347840"/>
            <a:chExt cx="5032800" cy="1607760"/>
          </a:xfrm>
        </p:grpSpPr>
        <p:sp>
          <p:nvSpPr>
            <p:cNvPr id="651" name="Line 5"/>
            <p:cNvSpPr/>
            <p:nvPr/>
          </p:nvSpPr>
          <p:spPr>
            <a:xfrm flipH="1">
              <a:off x="5437800" y="1912680"/>
              <a:ext cx="698400" cy="0"/>
            </a:xfrm>
            <a:prstGeom prst="line">
              <a:avLst/>
            </a:prstGeom>
            <a:ln w="9360">
              <a:solidFill>
                <a:srgbClr val="cc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2" name="Text Box 6"/>
            <p:cNvSpPr/>
            <p:nvPr/>
          </p:nvSpPr>
          <p:spPr>
            <a:xfrm>
              <a:off x="6112440" y="134784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ff99"/>
                  </a:solidFill>
                  <a:latin typeface="Times New Roman"/>
                </a:rPr>
                <a:t>fp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3" name="Rectangle 7"/>
            <p:cNvSpPr/>
            <p:nvPr/>
          </p:nvSpPr>
          <p:spPr>
            <a:xfrm>
              <a:off x="1600200" y="1902600"/>
              <a:ext cx="3841920" cy="354240"/>
            </a:xfrm>
            <a:prstGeom prst="rect">
              <a:avLst/>
            </a:prstGeom>
            <a:noFill/>
            <a:ln w="284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Local variable </a:t>
              </a:r>
              <a:r>
                <a:rPr b="1" lang="en-US" sz="2400" spc="-1" strike="noStrike">
                  <a:solidFill>
                    <a:srgbClr val="ccff99"/>
                  </a:solidFill>
                  <a:latin typeface="Courier New"/>
                </a:rPr>
                <a:t>X</a:t>
              </a: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4" name="Rectangle 8"/>
            <p:cNvSpPr/>
            <p:nvPr/>
          </p:nvSpPr>
          <p:spPr>
            <a:xfrm>
              <a:off x="1600200" y="2252160"/>
              <a:ext cx="3841920" cy="354240"/>
            </a:xfrm>
            <a:prstGeom prst="rect">
              <a:avLst/>
            </a:prstGeom>
            <a:noFill/>
            <a:ln w="284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Local variable </a:t>
              </a:r>
              <a:r>
                <a:rPr b="1" lang="en-US" sz="2400" spc="-1" strike="noStrike">
                  <a:solidFill>
                    <a:srgbClr val="ccff99"/>
                  </a:solidFill>
                  <a:latin typeface="Courier New"/>
                </a:rPr>
                <a:t>Y</a:t>
              </a: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55" name="Rectangle 9"/>
            <p:cNvSpPr/>
            <p:nvPr/>
          </p:nvSpPr>
          <p:spPr>
            <a:xfrm>
              <a:off x="1600200" y="2601360"/>
              <a:ext cx="3841920" cy="354240"/>
            </a:xfrm>
            <a:prstGeom prst="rect">
              <a:avLst/>
            </a:prstGeom>
            <a:noFill/>
            <a:ln w="284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99"/>
                  </a:solidFill>
                  <a:latin typeface="Times New Roman"/>
                </a:rPr>
                <a:t>Local variable </a:t>
              </a:r>
              <a:r>
                <a:rPr b="1" lang="en-US" sz="2400" spc="-1" strike="noStrike">
                  <a:solidFill>
                    <a:srgbClr val="ccff99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B36F2CC3-CE7A-49FA-AB5B-986DE35CB103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Register Allocation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80880" y="365760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r8d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= X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r9d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= t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r10d = u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ebx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= v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$ecx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= i 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9" name="Line 4"/>
          <p:cNvSpPr/>
          <p:nvPr/>
        </p:nvSpPr>
        <p:spPr>
          <a:xfrm flipH="1">
            <a:off x="5438880" y="1913040"/>
            <a:ext cx="698400" cy="0"/>
          </a:xfrm>
          <a:prstGeom prst="line">
            <a:avLst/>
          </a:prstGeom>
          <a:ln w="9360">
            <a:solidFill>
              <a:srgbClr val="cc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6112440" y="13478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99"/>
                </a:solidFill>
                <a:latin typeface="Times New Roman"/>
              </a:rPr>
              <a:t>fp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1600200" y="1903320"/>
            <a:ext cx="3843360" cy="3542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ocal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1600200" y="2252520"/>
            <a:ext cx="3843360" cy="3542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ocal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1600200" y="2602080"/>
            <a:ext cx="3843360" cy="3538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ocal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I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4" name="Line 9"/>
          <p:cNvSpPr/>
          <p:nvPr/>
        </p:nvSpPr>
        <p:spPr>
          <a:xfrm>
            <a:off x="1600200" y="1905120"/>
            <a:ext cx="3886200" cy="1066680"/>
          </a:xfrm>
          <a:prstGeom prst="line">
            <a:avLst/>
          </a:prstGeom>
          <a:ln w="284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5" name="Line 10"/>
          <p:cNvSpPr/>
          <p:nvPr/>
        </p:nvSpPr>
        <p:spPr>
          <a:xfrm flipH="1">
            <a:off x="1523520" y="1905120"/>
            <a:ext cx="3962520" cy="1066680"/>
          </a:xfrm>
          <a:prstGeom prst="line">
            <a:avLst/>
          </a:prstGeom>
          <a:ln w="2844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1240BCE8-3289-47B4-B8A5-13D1F0D39EC4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ptimiz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ovani kod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sumcalc(int a, int b, int N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int i, x, t, u, v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u = ((a&lt;&lt;2)/b)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v = 0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for(i = 0; i &lt;= N; i++) {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t = i+1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x = x + v + t*t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v = v + u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fld id="{FFAE4596-3F0A-4C6B-9797-C8D333101201}" type="slidenum"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5638680" y="533160"/>
            <a:ext cx="3353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xorl    %r8d, %r8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xorl    %ecx, %ec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%r9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mpl    %edx, %r8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jg      .L7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sall    $2, %edi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.L5:    movl    %edi, %ea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divl   %esi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l    1(%rcx), %ed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ax, %r10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%ecx, %r10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%ec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%edx, %ec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l    (%r10,%rcx), %ea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%ec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addl    %eax, %r8d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mpl    %r9d, %ed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jle     .L5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.L7:    movl    %r8d, %eax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152280" y="533520"/>
            <a:ext cx="4419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pushq   %rbp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q    %rsp, %rbp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i, -4(%rbp)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si, -8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-12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$0, -20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$0, -24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$0, -16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.L2:    movl    -16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mpl    -12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jg      .L3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-4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l    0(,%rax,4)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q    -8(%rbp), %r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q    %rax, -40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dx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q    -40(%rbp), %rc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cltd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divl   (%rcx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ax, -28(%rbp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-28(%rbp)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-16(%rbp)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-16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ncl   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%eax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addl    %eax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-8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movl    %eax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mull   -24(%rbp), %ed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q    -20(%rbp), %r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addl    %edx, (%rax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q    -16(%rbp), %r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incl    (%rax)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jmp     .L2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.L3:    movl    -20(%rbp), %eax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leave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ccffff"/>
                </a:solidFill>
                <a:latin typeface="Courier New"/>
              </a:rPr>
              <a:t>ret</a:t>
            </a: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672" name="Group 4"/>
          <p:cNvGrpSpPr/>
          <p:nvPr/>
        </p:nvGrpSpPr>
        <p:grpSpPr>
          <a:xfrm>
            <a:off x="297720" y="4952880"/>
            <a:ext cx="8380080" cy="1313640"/>
            <a:chOff x="297720" y="4952880"/>
            <a:chExt cx="8380080" cy="1313640"/>
          </a:xfrm>
        </p:grpSpPr>
        <p:sp>
          <p:nvSpPr>
            <p:cNvPr id="673" name="Text Box 5"/>
            <p:cNvSpPr/>
            <p:nvPr/>
          </p:nvSpPr>
          <p:spPr>
            <a:xfrm>
              <a:off x="297720" y="4952880"/>
              <a:ext cx="3183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Inner Loop: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10*mov + 5*lea + 5*add/inc </a:t>
              </a:r>
              <a:br>
                <a:rPr sz="2000"/>
              </a:b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+ 4*div/mul + 5*cmp/br/jmp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= 29 instructions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74" name="Text Box 6"/>
            <p:cNvSpPr/>
            <p:nvPr/>
          </p:nvSpPr>
          <p:spPr>
            <a:xfrm>
              <a:off x="5479560" y="4952880"/>
              <a:ext cx="3198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4*mov + 2*lea + 1*add/inc+ </a:t>
              </a:r>
              <a:br>
                <a:rPr sz="2000"/>
              </a:b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3*div/mul + 2*cmp/br/jmp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= 12 instructions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sp>
        <p:nvSpPr>
          <p:cNvPr id="675" name="Text Box 7"/>
          <p:cNvSpPr/>
          <p:nvPr/>
        </p:nvSpPr>
        <p:spPr>
          <a:xfrm>
            <a:off x="532800" y="76320"/>
            <a:ext cx="24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noptimized Cod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5714280" y="76320"/>
            <a:ext cx="21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ptimized Code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677" name="Group 9"/>
          <p:cNvGrpSpPr/>
          <p:nvPr/>
        </p:nvGrpSpPr>
        <p:grpSpPr>
          <a:xfrm>
            <a:off x="453240" y="6172200"/>
            <a:ext cx="7597800" cy="398880"/>
            <a:chOff x="453240" y="6172200"/>
            <a:chExt cx="7597800" cy="398880"/>
          </a:xfrm>
        </p:grpSpPr>
        <p:sp>
          <p:nvSpPr>
            <p:cNvPr id="678" name="Text Box 10"/>
            <p:cNvSpPr/>
            <p:nvPr/>
          </p:nvSpPr>
          <p:spPr>
            <a:xfrm>
              <a:off x="5406120" y="6172200"/>
              <a:ext cx="26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Execution time = 17 sec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679" name="Text Box 11"/>
            <p:cNvSpPr/>
            <p:nvPr/>
          </p:nvSpPr>
          <p:spPr>
            <a:xfrm>
              <a:off x="453240" y="6172200"/>
              <a:ext cx="264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ff99"/>
                  </a:solidFill>
                  <a:latin typeface="Times New Roman"/>
                </a:rPr>
                <a:t>Execution time = 43 sec</a:t>
              </a:r>
              <a:endParaRPr b="0" lang="en-US" sz="20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3033D9FC-9C15-45DA-99C1-3B1A38D9BDE7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ogram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ski jezici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Željena svojstv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Precizno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Koncizno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Izra</a:t>
            </a: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ccffff"/>
                </a:solidFill>
                <a:latin typeface="Tahoma"/>
              </a:rPr>
              <a:t>ajnost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ffff"/>
                </a:solidFill>
                <a:latin typeface="Tahoma"/>
              </a:rPr>
              <a:t>Visoki nivo apstrakcij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F0A0F887-0BBF-4C12-868F-0245B702A5EB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66"/>
                </a:solidFill>
                <a:latin typeface="Tahoma"/>
              </a:rPr>
              <a:t>K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omp</a:t>
            </a:r>
            <a:r>
              <a:rPr b="1" lang="sr-Latn-CS" sz="3200" spc="-1" strike="noStrike">
                <a:solidFill>
                  <a:srgbClr val="ffff66"/>
                </a:solidFill>
                <a:latin typeface="Tahoma"/>
              </a:rPr>
              <a:t>ajleri o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timiz</a:t>
            </a:r>
            <a:r>
              <a:rPr b="1" lang="sr-Latn-CS" sz="3200" spc="-1" strike="noStrike">
                <a:solidFill>
                  <a:srgbClr val="ffff66"/>
                </a:solidFill>
                <a:latin typeface="Tahoma"/>
              </a:rPr>
              <a:t>uju p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rogram</a:t>
            </a:r>
            <a:r>
              <a:rPr b="1" lang="sr-Latn-CS" sz="3200" spc="-1" strike="noStrike">
                <a:solidFill>
                  <a:srgbClr val="ffff66"/>
                </a:solidFill>
                <a:latin typeface="Tahoma"/>
              </a:rPr>
              <a:t>e zbog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Performans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/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Brzine izvršavanj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Veliči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n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 kod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trošnje elektriciteta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Brž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e/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efikasnij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e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 kompilacij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S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igurnos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ti/</a:t>
            </a:r>
            <a:r>
              <a:rPr b="0" lang="sr-Latn-CS" sz="2800" spc="-1" strike="noStrike">
                <a:solidFill>
                  <a:srgbClr val="ccffff"/>
                </a:solidFill>
                <a:latin typeface="Tahoma"/>
              </a:rPr>
              <a:t>Pouzdanost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Debugging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866774DB-6046-46B1-A64F-C8114474A8B9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Od visokog nivoa apstrakcije do niskog nivoa detalja implementacije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828720" y="5372280"/>
            <a:ext cx="4429080" cy="1180800"/>
            <a:chOff x="828720" y="5372280"/>
            <a:chExt cx="4429080" cy="1180800"/>
          </a:xfrm>
        </p:grpSpPr>
        <p:pic>
          <p:nvPicPr>
            <p:cNvPr id="70" name="Picture 4" descr="z-private"/>
            <p:cNvPicPr/>
            <p:nvPr/>
          </p:nvPicPr>
          <p:blipFill>
            <a:blip r:embed="rId1"/>
            <a:stretch/>
          </p:blipFill>
          <p:spPr>
            <a:xfrm>
              <a:off x="828720" y="5600520"/>
              <a:ext cx="6858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5" descr="x-S116tn"/>
            <p:cNvPicPr/>
            <p:nvPr/>
          </p:nvPicPr>
          <p:blipFill>
            <a:blip r:embed="rId2"/>
            <a:stretch/>
          </p:blipFill>
          <p:spPr>
            <a:xfrm>
              <a:off x="3429000" y="5372280"/>
              <a:ext cx="1828800" cy="118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6"/>
            <p:cNvSpPr/>
            <p:nvPr/>
          </p:nvSpPr>
          <p:spPr>
            <a:xfrm>
              <a:off x="1660680" y="5565600"/>
              <a:ext cx="169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Foot Soldier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73" name="Group 7"/>
          <p:cNvGrpSpPr/>
          <p:nvPr/>
        </p:nvGrpSpPr>
        <p:grpSpPr>
          <a:xfrm>
            <a:off x="695160" y="1398600"/>
            <a:ext cx="7686720" cy="1649520"/>
            <a:chOff x="695160" y="1398600"/>
            <a:chExt cx="7686720" cy="1649520"/>
          </a:xfrm>
        </p:grpSpPr>
        <p:grpSp>
          <p:nvGrpSpPr>
            <p:cNvPr id="74" name="Group 8"/>
            <p:cNvGrpSpPr/>
            <p:nvPr/>
          </p:nvGrpSpPr>
          <p:grpSpPr>
            <a:xfrm>
              <a:off x="3957480" y="1890720"/>
              <a:ext cx="769680" cy="1157400"/>
              <a:chOff x="3957480" y="1890720"/>
              <a:chExt cx="769680" cy="1157400"/>
            </a:xfrm>
          </p:grpSpPr>
          <p:sp>
            <p:nvSpPr>
              <p:cNvPr id="75" name="Freeform 9"/>
              <p:cNvSpPr/>
              <p:nvPr/>
            </p:nvSpPr>
            <p:spPr>
              <a:xfrm>
                <a:off x="4016160" y="1890720"/>
                <a:ext cx="711000" cy="1154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76" name="Freeform 10"/>
              <p:cNvSpPr/>
              <p:nvPr/>
            </p:nvSpPr>
            <p:spPr>
              <a:xfrm>
                <a:off x="3957480" y="2373480"/>
                <a:ext cx="504720" cy="67464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77" name="Freeform 11"/>
              <p:cNvSpPr/>
              <p:nvPr/>
            </p:nvSpPr>
            <p:spPr>
              <a:xfrm>
                <a:off x="4471560" y="2606760"/>
                <a:ext cx="192240" cy="376200"/>
              </a:xfrm>
              <a:prstGeom prst="pie">
                <a:avLst/>
              </a:prstGeom>
              <a:solidFill>
                <a:srgbClr val="ade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78" name="Freeform 12"/>
              <p:cNvSpPr/>
              <p:nvPr/>
            </p:nvSpPr>
            <p:spPr>
              <a:xfrm>
                <a:off x="4054320" y="2500200"/>
                <a:ext cx="96480" cy="1126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79" name="Freeform 13"/>
              <p:cNvSpPr/>
              <p:nvPr/>
            </p:nvSpPr>
            <p:spPr>
              <a:xfrm>
                <a:off x="4049280" y="2459160"/>
                <a:ext cx="104760" cy="6336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0" name="Freeform 14"/>
              <p:cNvSpPr/>
              <p:nvPr/>
            </p:nvSpPr>
            <p:spPr>
              <a:xfrm>
                <a:off x="4016160" y="2116080"/>
                <a:ext cx="68076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1" name="Freeform 15"/>
              <p:cNvSpPr/>
              <p:nvPr/>
            </p:nvSpPr>
            <p:spPr>
              <a:xfrm>
                <a:off x="4308120" y="2558880"/>
                <a:ext cx="196920" cy="125640"/>
              </a:xfrm>
              <a:prstGeom prst="pie">
                <a:avLst/>
              </a:prstGeom>
              <a:solidFill>
                <a:srgbClr val="ade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2" name="Freeform 16"/>
              <p:cNvSpPr/>
              <p:nvPr/>
            </p:nvSpPr>
            <p:spPr>
              <a:xfrm>
                <a:off x="4298760" y="1979640"/>
                <a:ext cx="338040" cy="555480"/>
              </a:xfrm>
              <a:prstGeom prst="pie">
                <a:avLst/>
              </a:prstGeom>
              <a:solidFill>
                <a:srgbClr val="dda5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3" name="Freeform 17"/>
              <p:cNvSpPr/>
              <p:nvPr/>
            </p:nvSpPr>
            <p:spPr>
              <a:xfrm>
                <a:off x="4451040" y="2305080"/>
                <a:ext cx="120600" cy="63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4" name="Freeform 18"/>
              <p:cNvSpPr/>
              <p:nvPr/>
            </p:nvSpPr>
            <p:spPr>
              <a:xfrm>
                <a:off x="4424040" y="2395440"/>
                <a:ext cx="15732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5" name="Freeform 19"/>
              <p:cNvSpPr/>
              <p:nvPr/>
            </p:nvSpPr>
            <p:spPr>
              <a:xfrm>
                <a:off x="4458960" y="2444760"/>
                <a:ext cx="98280" cy="3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6" name="Freeform 20"/>
              <p:cNvSpPr/>
              <p:nvPr/>
            </p:nvSpPr>
            <p:spPr>
              <a:xfrm>
                <a:off x="4046040" y="2173320"/>
                <a:ext cx="98640" cy="38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87" name="Freeform 21"/>
              <p:cNvSpPr/>
              <p:nvPr/>
            </p:nvSpPr>
            <p:spPr>
              <a:xfrm>
                <a:off x="4060440" y="2141640"/>
                <a:ext cx="58680" cy="2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22"/>
            <p:cNvGrpSpPr/>
            <p:nvPr/>
          </p:nvGrpSpPr>
          <p:grpSpPr>
            <a:xfrm>
              <a:off x="695160" y="1398600"/>
              <a:ext cx="7686720" cy="1444680"/>
              <a:chOff x="695160" y="1398600"/>
              <a:chExt cx="7686720" cy="1444680"/>
            </a:xfrm>
          </p:grpSpPr>
          <p:pic>
            <p:nvPicPr>
              <p:cNvPr id="89" name="Picture 23" descr="z-president"/>
              <p:cNvPicPr/>
              <p:nvPr/>
            </p:nvPicPr>
            <p:blipFill>
              <a:blip r:embed="rId3"/>
              <a:stretch/>
            </p:blipFill>
            <p:spPr>
              <a:xfrm>
                <a:off x="695160" y="1890720"/>
                <a:ext cx="952560" cy="95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Text Box 24"/>
              <p:cNvSpPr/>
              <p:nvPr/>
            </p:nvSpPr>
            <p:spPr>
              <a:xfrm>
                <a:off x="1851120" y="2271960"/>
                <a:ext cx="131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President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1" name="AutoShape 25"/>
              <p:cNvSpPr/>
              <p:nvPr/>
            </p:nvSpPr>
            <p:spPr>
              <a:xfrm>
                <a:off x="4800600" y="1433520"/>
                <a:ext cx="3581280" cy="838440"/>
              </a:xfrm>
              <a:prstGeom prst="wedgeRoundRectCallout">
                <a:avLst>
                  <a:gd name="adj1" fmla="val -54254"/>
                  <a:gd name="adj2" fmla="val 64013"/>
                  <a:gd name="adj3" fmla="val 16667"/>
                </a:avLst>
              </a:prstGeom>
              <a:solidFill>
                <a:srgbClr val="15009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2" name="Text Box 26"/>
              <p:cNvSpPr/>
              <p:nvPr/>
            </p:nvSpPr>
            <p:spPr>
              <a:xfrm>
                <a:off x="4779720" y="1398600"/>
                <a:ext cx="3286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My poll ratings are low,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lets invade a small nation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Group 27"/>
          <p:cNvGrpSpPr/>
          <p:nvPr/>
        </p:nvGrpSpPr>
        <p:grpSpPr>
          <a:xfrm>
            <a:off x="457200" y="2803680"/>
            <a:ext cx="7848720" cy="1310760"/>
            <a:chOff x="457200" y="2803680"/>
            <a:chExt cx="7848720" cy="1310760"/>
          </a:xfrm>
        </p:grpSpPr>
        <p:grpSp>
          <p:nvGrpSpPr>
            <p:cNvPr id="94" name="Group 28"/>
            <p:cNvGrpSpPr/>
            <p:nvPr/>
          </p:nvGrpSpPr>
          <p:grpSpPr>
            <a:xfrm>
              <a:off x="4014720" y="3295800"/>
              <a:ext cx="655200" cy="818640"/>
              <a:chOff x="4014720" y="3295800"/>
              <a:chExt cx="655200" cy="818640"/>
            </a:xfrm>
          </p:grpSpPr>
          <p:sp>
            <p:nvSpPr>
              <p:cNvPr id="95" name="Freeform 29"/>
              <p:cNvSpPr/>
              <p:nvPr/>
            </p:nvSpPr>
            <p:spPr>
              <a:xfrm flipH="1">
                <a:off x="4014720" y="3295800"/>
                <a:ext cx="655200" cy="81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6" name="Freeform 30"/>
              <p:cNvSpPr/>
              <p:nvPr/>
            </p:nvSpPr>
            <p:spPr>
              <a:xfrm flipH="1">
                <a:off x="4557960" y="3685320"/>
                <a:ext cx="3960" cy="1728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7" name="Freeform 31"/>
              <p:cNvSpPr/>
              <p:nvPr/>
            </p:nvSpPr>
            <p:spPr>
              <a:xfrm flipH="1">
                <a:off x="4465800" y="3672000"/>
                <a:ext cx="85680" cy="3528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8" name="Freeform 32"/>
              <p:cNvSpPr/>
              <p:nvPr/>
            </p:nvSpPr>
            <p:spPr>
              <a:xfrm flipH="1">
                <a:off x="4346640" y="3711960"/>
                <a:ext cx="322920" cy="27288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99" name="Freeform 33"/>
              <p:cNvSpPr/>
              <p:nvPr/>
            </p:nvSpPr>
            <p:spPr>
              <a:xfrm flipH="1">
                <a:off x="4318200" y="3874320"/>
                <a:ext cx="114120" cy="9000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0" name="Freeform 34"/>
              <p:cNvSpPr/>
              <p:nvPr/>
            </p:nvSpPr>
            <p:spPr>
              <a:xfrm flipH="1">
                <a:off x="4371120" y="3962880"/>
                <a:ext cx="127080" cy="7416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1" name="Freeform 35"/>
              <p:cNvSpPr/>
              <p:nvPr/>
            </p:nvSpPr>
            <p:spPr>
              <a:xfrm flipH="1">
                <a:off x="4252680" y="3898800"/>
                <a:ext cx="129600" cy="70200"/>
              </a:xfrm>
              <a:prstGeom prst="pie">
                <a:avLst/>
              </a:prstGeom>
              <a:solidFill>
                <a:srgbClr val="dbb2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2" name="Freeform 36"/>
              <p:cNvSpPr/>
              <p:nvPr/>
            </p:nvSpPr>
            <p:spPr>
              <a:xfrm flipH="1">
                <a:off x="4054320" y="3440880"/>
                <a:ext cx="366840" cy="40068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3" name="Freeform 37"/>
              <p:cNvSpPr/>
              <p:nvPr/>
            </p:nvSpPr>
            <p:spPr>
              <a:xfrm flipH="1">
                <a:off x="4278960" y="3760200"/>
                <a:ext cx="250200" cy="23076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4" name="Freeform 38"/>
              <p:cNvSpPr/>
              <p:nvPr/>
            </p:nvSpPr>
            <p:spPr>
              <a:xfrm flipH="1">
                <a:off x="4294080" y="3577680"/>
                <a:ext cx="308160" cy="17352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5" name="Freeform 39"/>
              <p:cNvSpPr/>
              <p:nvPr/>
            </p:nvSpPr>
            <p:spPr>
              <a:xfrm flipH="1">
                <a:off x="4342320" y="4015080"/>
                <a:ext cx="198000" cy="66240"/>
              </a:xfrm>
              <a:prstGeom prst="pie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6" name="Freeform 40"/>
              <p:cNvSpPr/>
              <p:nvPr/>
            </p:nvSpPr>
            <p:spPr>
              <a:xfrm flipH="1">
                <a:off x="4256280" y="3542040"/>
                <a:ext cx="207000" cy="208800"/>
              </a:xfrm>
              <a:prstGeom prst="pie">
                <a:avLst/>
              </a:prstGeom>
              <a:solidFill>
                <a:srgbClr val="d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7" name="Freeform 41"/>
              <p:cNvSpPr/>
              <p:nvPr/>
            </p:nvSpPr>
            <p:spPr>
              <a:xfrm flipH="1">
                <a:off x="4115520" y="3300120"/>
                <a:ext cx="305640" cy="207000"/>
              </a:xfrm>
              <a:prstGeom prst="pie">
                <a:avLst/>
              </a:prstGeom>
              <a:solidFill>
                <a:srgbClr val="d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8" name="Freeform 42"/>
              <p:cNvSpPr/>
              <p:nvPr/>
            </p:nvSpPr>
            <p:spPr>
              <a:xfrm flipH="1">
                <a:off x="4142160" y="3443400"/>
                <a:ext cx="24120" cy="34920"/>
              </a:xfrm>
              <a:prstGeom prst="pie">
                <a:avLst/>
              </a:prstGeom>
              <a:solidFill>
                <a:srgbClr val="d8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09" name="Freeform 43"/>
              <p:cNvSpPr/>
              <p:nvPr/>
            </p:nvSpPr>
            <p:spPr>
              <a:xfrm flipH="1">
                <a:off x="4263840" y="3810600"/>
                <a:ext cx="21600" cy="52560"/>
              </a:xfrm>
              <a:prstGeom prst="pie">
                <a:avLst/>
              </a:prstGeom>
              <a:solidFill>
                <a:srgbClr val="6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10" name="Freeform 44"/>
              <p:cNvSpPr/>
              <p:nvPr/>
            </p:nvSpPr>
            <p:spPr>
              <a:xfrm flipH="1">
                <a:off x="4296240" y="3850560"/>
                <a:ext cx="32760" cy="17280"/>
              </a:xfrm>
              <a:prstGeom prst="pie">
                <a:avLst/>
              </a:prstGeom>
              <a:solidFill>
                <a:srgbClr val="6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11" name="Freeform 45"/>
              <p:cNvSpPr/>
              <p:nvPr/>
            </p:nvSpPr>
            <p:spPr>
              <a:xfrm flipH="1">
                <a:off x="4318920" y="3764520"/>
                <a:ext cx="28080" cy="48240"/>
              </a:xfrm>
              <a:prstGeom prst="pie">
                <a:avLst/>
              </a:prstGeom>
              <a:solidFill>
                <a:srgbClr val="66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46"/>
            <p:cNvGrpSpPr/>
            <p:nvPr/>
          </p:nvGrpSpPr>
          <p:grpSpPr>
            <a:xfrm>
              <a:off x="457200" y="2803680"/>
              <a:ext cx="7848720" cy="1104120"/>
              <a:chOff x="457200" y="2803680"/>
              <a:chExt cx="7848720" cy="1104120"/>
            </a:xfrm>
          </p:grpSpPr>
          <p:pic>
            <p:nvPicPr>
              <p:cNvPr id="113" name="Picture 47" descr="z-general"/>
              <p:cNvPicPr/>
              <p:nvPr/>
            </p:nvPicPr>
            <p:blipFill>
              <a:blip r:embed="rId4"/>
              <a:stretch/>
            </p:blipFill>
            <p:spPr>
              <a:xfrm>
                <a:off x="457200" y="3524400"/>
                <a:ext cx="1428840" cy="36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Text Box 48"/>
              <p:cNvSpPr/>
              <p:nvPr/>
            </p:nvSpPr>
            <p:spPr>
              <a:xfrm>
                <a:off x="1935360" y="3448080"/>
                <a:ext cx="1146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General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15" name="AutoShape 49"/>
              <p:cNvSpPr/>
              <p:nvPr/>
            </p:nvSpPr>
            <p:spPr>
              <a:xfrm>
                <a:off x="4724280" y="2838600"/>
                <a:ext cx="3581640" cy="838080"/>
              </a:xfrm>
              <a:prstGeom prst="wedgeRoundRectCallout">
                <a:avLst>
                  <a:gd name="adj1" fmla="val -52481"/>
                  <a:gd name="adj2" fmla="val 71592"/>
                  <a:gd name="adj3" fmla="val 16667"/>
                </a:avLst>
              </a:prstGeom>
              <a:solidFill>
                <a:srgbClr val="150090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16" name="Text Box 50"/>
              <p:cNvSpPr/>
              <p:nvPr/>
            </p:nvSpPr>
            <p:spPr>
              <a:xfrm>
                <a:off x="4706280" y="2803680"/>
                <a:ext cx="3080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Cross the river and take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Times New Roman"/>
                  </a:rPr>
                  <a:t>defensive positions</a:t>
                </a:r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Group 51"/>
          <p:cNvGrpSpPr/>
          <p:nvPr/>
        </p:nvGrpSpPr>
        <p:grpSpPr>
          <a:xfrm>
            <a:off x="861840" y="4064040"/>
            <a:ext cx="7596360" cy="1193040"/>
            <a:chOff x="861840" y="4064040"/>
            <a:chExt cx="7596360" cy="1193040"/>
          </a:xfrm>
        </p:grpSpPr>
        <p:pic>
          <p:nvPicPr>
            <p:cNvPr id="118" name="Picture 52" descr="z-sergeant"/>
            <p:cNvPicPr/>
            <p:nvPr/>
          </p:nvPicPr>
          <p:blipFill>
            <a:blip r:embed="rId5"/>
            <a:stretch/>
          </p:blipFill>
          <p:spPr>
            <a:xfrm>
              <a:off x="861840" y="4327560"/>
              <a:ext cx="6192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53"/>
            <p:cNvSpPr/>
            <p:nvPr/>
          </p:nvSpPr>
          <p:spPr>
            <a:xfrm>
              <a:off x="1884240" y="455616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ergeant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grpSp>
          <p:nvGrpSpPr>
            <p:cNvPr id="120" name="Group 54"/>
            <p:cNvGrpSpPr/>
            <p:nvPr/>
          </p:nvGrpSpPr>
          <p:grpSpPr>
            <a:xfrm>
              <a:off x="4007160" y="4556160"/>
              <a:ext cx="670680" cy="700920"/>
              <a:chOff x="4007160" y="4556160"/>
              <a:chExt cx="670680" cy="700920"/>
            </a:xfrm>
          </p:grpSpPr>
          <p:sp>
            <p:nvSpPr>
              <p:cNvPr id="121" name="Freeform 55"/>
              <p:cNvSpPr/>
              <p:nvPr/>
            </p:nvSpPr>
            <p:spPr>
              <a:xfrm flipH="1">
                <a:off x="4060800" y="4560840"/>
                <a:ext cx="609120" cy="398520"/>
              </a:xfrm>
              <a:prstGeom prst="pie">
                <a:avLst/>
              </a:prstGeom>
              <a:solidFill>
                <a:srgbClr val="007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2" name="Freeform 56"/>
              <p:cNvSpPr/>
              <p:nvPr/>
            </p:nvSpPr>
            <p:spPr>
              <a:xfrm flipH="1">
                <a:off x="4339440" y="4560840"/>
                <a:ext cx="167400" cy="25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3" name="Freeform 57"/>
              <p:cNvSpPr/>
              <p:nvPr/>
            </p:nvSpPr>
            <p:spPr>
              <a:xfrm flipH="1">
                <a:off x="4087800" y="4556160"/>
                <a:ext cx="254160" cy="169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4" name="Freeform 58"/>
              <p:cNvSpPr/>
              <p:nvPr/>
            </p:nvSpPr>
            <p:spPr>
              <a:xfrm flipH="1">
                <a:off x="4053240" y="4718160"/>
                <a:ext cx="48240" cy="108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5" name="Freeform 59"/>
              <p:cNvSpPr/>
              <p:nvPr/>
            </p:nvSpPr>
            <p:spPr>
              <a:xfrm flipH="1">
                <a:off x="4057920" y="4813200"/>
                <a:ext cx="604080" cy="15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6" name="Freeform 60"/>
              <p:cNvSpPr/>
              <p:nvPr/>
            </p:nvSpPr>
            <p:spPr>
              <a:xfrm flipH="1">
                <a:off x="4648320" y="4894560"/>
                <a:ext cx="2916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7" name="Freeform 61"/>
              <p:cNvSpPr/>
              <p:nvPr/>
            </p:nvSpPr>
            <p:spPr>
              <a:xfrm flipH="1">
                <a:off x="4488480" y="4810320"/>
                <a:ext cx="187200" cy="95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8" name="Freeform 62"/>
              <p:cNvSpPr/>
              <p:nvPr/>
            </p:nvSpPr>
            <p:spPr>
              <a:xfrm flipH="1">
                <a:off x="4011480" y="4821480"/>
                <a:ext cx="452520" cy="432720"/>
              </a:xfrm>
              <a:prstGeom prst="pie">
                <a:avLst/>
              </a:prstGeom>
              <a:solidFill>
                <a:srgbClr val="c67c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29" name="Freeform 63"/>
              <p:cNvSpPr/>
              <p:nvPr/>
            </p:nvSpPr>
            <p:spPr>
              <a:xfrm flipH="1">
                <a:off x="4057920" y="4813200"/>
                <a:ext cx="208440" cy="5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0" name="Freeform 64"/>
              <p:cNvSpPr/>
              <p:nvPr/>
            </p:nvSpPr>
            <p:spPr>
              <a:xfrm flipH="1">
                <a:off x="4011840" y="4818240"/>
                <a:ext cx="56880" cy="18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1" name="Freeform 65"/>
              <p:cNvSpPr/>
              <p:nvPr/>
            </p:nvSpPr>
            <p:spPr>
              <a:xfrm flipH="1">
                <a:off x="4006800" y="5000040"/>
                <a:ext cx="96840" cy="22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2" name="Freeform 66"/>
              <p:cNvSpPr/>
              <p:nvPr/>
            </p:nvSpPr>
            <p:spPr>
              <a:xfrm flipH="1">
                <a:off x="4255920" y="5088960"/>
                <a:ext cx="172800" cy="16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3" name="Freeform 67"/>
              <p:cNvSpPr/>
              <p:nvPr/>
            </p:nvSpPr>
            <p:spPr>
              <a:xfrm flipH="1">
                <a:off x="4415040" y="4907880"/>
                <a:ext cx="54360" cy="18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  <p:sp>
            <p:nvSpPr>
              <p:cNvPr id="134" name="Freeform 68"/>
              <p:cNvSpPr/>
              <p:nvPr/>
            </p:nvSpPr>
            <p:spPr>
              <a:xfrm flipH="1">
                <a:off x="4258440" y="4861800"/>
                <a:ext cx="205560" cy="59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AutoShape 69"/>
            <p:cNvSpPr/>
            <p:nvPr/>
          </p:nvSpPr>
          <p:spPr>
            <a:xfrm>
              <a:off x="4876920" y="4098960"/>
              <a:ext cx="3581280" cy="838080"/>
            </a:xfrm>
            <a:prstGeom prst="wedgeRoundRectCallout">
              <a:avLst>
                <a:gd name="adj1" fmla="val -61791"/>
                <a:gd name="adj2" fmla="val 74810"/>
                <a:gd name="adj3" fmla="val 16667"/>
              </a:avLst>
            </a:prstGeom>
            <a:solidFill>
              <a:srgbClr val="150090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36" name="Text Box 70"/>
            <p:cNvSpPr/>
            <p:nvPr/>
          </p:nvSpPr>
          <p:spPr>
            <a:xfrm>
              <a:off x="4858560" y="4064040"/>
              <a:ext cx="318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Forward march, turn left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Stop!, Shoot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380880" y="6553080"/>
            <a:ext cx="838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fld id="{2CD016DB-BBB6-4009-A594-EA245E25B919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lang="sr-Latn-CS" sz="3600" spc="-1" strike="noStrike">
                <a:solidFill>
                  <a:srgbClr val="ffff66"/>
                </a:solidFill>
                <a:latin typeface="Tahoma"/>
              </a:rPr>
              <a:t>Kako zadati instrukcije računaru</a:t>
            </a:r>
            <a:endParaRPr b="1" lang="en-US" sz="36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3200400" y="4191120"/>
            <a:ext cx="2819520" cy="1403280"/>
          </a:xfrm>
          <a:prstGeom prst="rightArrow">
            <a:avLst>
              <a:gd name="adj1" fmla="val 50000"/>
              <a:gd name="adj2" fmla="val 50231"/>
            </a:avLst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0090"/>
                </a:solidFill>
                <a:latin typeface="Times New Roman"/>
              </a:rPr>
              <a:t>Compiler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380880" y="2514600"/>
            <a:ext cx="8610840" cy="3581280"/>
            <a:chOff x="380880" y="2514600"/>
            <a:chExt cx="8610840" cy="3581280"/>
          </a:xfrm>
        </p:grpSpPr>
        <p:sp>
          <p:nvSpPr>
            <p:cNvPr id="141" name="Oval 5"/>
            <p:cNvSpPr/>
            <p:nvPr/>
          </p:nvSpPr>
          <p:spPr>
            <a:xfrm>
              <a:off x="6095880" y="3809880"/>
              <a:ext cx="2286000" cy="228600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Asemblerski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jezik 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380880" y="2514600"/>
              <a:ext cx="86108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cc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ffff"/>
                  </a:solidFill>
                  <a:latin typeface="Tahoma"/>
                </a:rPr>
                <a:t>Mikroprocesor</a:t>
              </a:r>
              <a:r>
                <a:rPr b="0" lang="sr-Latn-CS" sz="2800" spc="-1" strike="noStrike">
                  <a:solidFill>
                    <a:srgbClr val="ccffff"/>
                  </a:solidFill>
                  <a:latin typeface="Tahoma"/>
                </a:rPr>
                <a:t>i “govore”</a:t>
              </a:r>
              <a:r>
                <a:rPr b="0" lang="en-US" sz="2800" spc="-1" strike="noStrike">
                  <a:solidFill>
                    <a:srgbClr val="ccffff"/>
                  </a:solidFill>
                  <a:latin typeface="Tahoma"/>
                </a:rPr>
                <a:t> asembl</a:t>
              </a:r>
              <a:r>
                <a:rPr b="0" lang="sr-Latn-CS" sz="2800" spc="-1" strike="noStrike">
                  <a:solidFill>
                    <a:srgbClr val="ccffff"/>
                  </a:solidFill>
                  <a:latin typeface="Tahoma"/>
                </a:rPr>
                <a:t>erskim jezikom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ccffff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ffff"/>
                  </a:solidFill>
                  <a:latin typeface="Tahoma"/>
                </a:rPr>
                <a:t>Low-level Implementation Details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  <p:grpSp>
        <p:nvGrpSpPr>
          <p:cNvPr id="143" name="Group 7"/>
          <p:cNvGrpSpPr/>
          <p:nvPr/>
        </p:nvGrpSpPr>
        <p:grpSpPr>
          <a:xfrm>
            <a:off x="369000" y="1447920"/>
            <a:ext cx="8253360" cy="4647960"/>
            <a:chOff x="369000" y="1447920"/>
            <a:chExt cx="8253360" cy="4647960"/>
          </a:xfrm>
        </p:grpSpPr>
        <p:sp>
          <p:nvSpPr>
            <p:cNvPr id="144" name="Oval 8"/>
            <p:cNvSpPr/>
            <p:nvPr/>
          </p:nvSpPr>
          <p:spPr>
            <a:xfrm>
              <a:off x="762120" y="3809880"/>
              <a:ext cx="2286000" cy="22860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Program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napi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s</a:t>
              </a: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an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u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rogram</a:t>
              </a: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skom</a:t>
              </a:r>
              <a:br>
                <a:rPr sz="2400"/>
              </a:br>
              <a:r>
                <a:rPr b="0" lang="sr-Latn-CS" sz="2400" spc="-1" strike="noStrike">
                  <a:solidFill>
                    <a:srgbClr val="000066"/>
                  </a:solidFill>
                  <a:latin typeface="Times New Roman"/>
                </a:rPr>
                <a:t>jeziku</a:t>
              </a: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>
              <a:off x="369000" y="1447920"/>
              <a:ext cx="8253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sr-Latn-CS" sz="3200" spc="-1" strike="noStrike">
                  <a:solidFill>
                    <a:srgbClr val="00ffff"/>
                  </a:solidFill>
                  <a:latin typeface="Times New Roman"/>
                </a:rPr>
                <a:t>Napišite program u nekom programskom jeziku</a:t>
              </a:r>
              <a:endParaRPr b="0" lang="en-US" sz="3200" spc="-1" strike="noStrike">
                <a:solidFill>
                  <a:srgbClr val="00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ffff"/>
                  </a:solidFill>
                  <a:latin typeface="Times New Roman"/>
                </a:rPr>
                <a:t>High-level Abstract Description</a:t>
              </a:r>
              <a:br>
                <a:rPr sz="2800"/>
              </a:br>
              <a:r>
                <a:rPr b="0" lang="en-US" sz="28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8T13:24:48Z</dcterms:created>
  <dc:creator>Saman Amarasinghe</dc:creator>
  <dc:description/>
  <dc:language>en-US</dc:language>
  <cp:lastModifiedBy>gorans</cp:lastModifiedBy>
  <cp:lastPrinted>1998-09-09T12:10:23Z</cp:lastPrinted>
  <dcterms:modified xsi:type="dcterms:W3CDTF">2011-02-10T08:21:08Z</dcterms:modified>
  <cp:revision>145</cp:revision>
  <dc:subject/>
  <dc:title>Lecture 1: 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compiler.lcs.mit.edu/~saman</vt:lpwstr>
  </property>
  <property fmtid="{D5CDD505-2E9C-101B-9397-08002B2CF9AE}" pid="9" name="LinkColor">
    <vt:r8>16711782</vt:r8>
  </property>
  <property fmtid="{D5CDD505-2E9C-101B-9397-08002B2CF9AE}" pid="10" name="MailAddress">
    <vt:lpwstr>saman@lcs.mit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I:\wwwroot\6035-99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