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A6F-8ECD-4A1F-BD5C-A2E6F25B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D04-D97B-40A1-B0F9-C3D68FCF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9E0-744B-4C56-A3E6-AC333023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37F-8D12-4431-A6A4-5070BE85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7AFE-9A65-40D0-A264-8FC4D648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0C1-8B18-4B91-95E1-BCB7DB1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D23-CBED-4670-9930-805680D2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B960-608F-45C4-936C-22DD5B79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95E1-0679-4E6C-9FED-1EA8C25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250-E179-41FF-9D01-B76E1D81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2C2-12F0-4FC8-882C-B10813B5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8A8-BAE8-4FC5-A6F6-35B0C387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3B0D-D4CF-49FD-9102-D947B3F9D0CB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Run-time okolin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BF8-B6EA-48B6-9658-4998D4E013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CDD1F-21B5-4596-92BE-1F194CD04E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7721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kreirani sa malloc ili New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svi objekti su na heap-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na heap-u žive dok ih ne dealociramo ili do završetka program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arbage collection / reference counting su načini automatske dealokacije “mrtve memorije” (kojoj ne pristupamo) na heap-u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4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97D8-9D41-45EB-864A-78440CB923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C313B-F002-47D0-B67B-0D843B5404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eap alokacija počinje na dnu heap-a (niže adrese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alocira ka višim adresama. Zahtjevi za poravnavanjem (alignment), specifičn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pojedine algoritme alokacije mogu dovesti da memorije bude alocirana van adresnog redosle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1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2 = new Medium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3 = new Big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4 = new Tiny()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je  (int)p2 &gt; (int)p1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i (int)p4 &lt; (int)p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eđenje pointer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 jednakost, a ne  &lt;  ili  &gt;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91120" y="3336840"/>
            <a:ext cx="4800600" cy="2624400"/>
            <a:chOff x="4191120" y="3336840"/>
            <a:chExt cx="4800600" cy="2624400"/>
          </a:xfrm>
        </p:grpSpPr>
        <p:sp>
          <p:nvSpPr>
            <p:cNvPr id="154" name=""/>
            <p:cNvSpPr/>
            <p:nvPr/>
          </p:nvSpPr>
          <p:spPr>
            <a:xfrm>
              <a:off x="6781680" y="5501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x100000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191120" y="3336840"/>
              <a:ext cx="2741400" cy="2462760"/>
              <a:chOff x="4191120" y="3336840"/>
              <a:chExt cx="2741400" cy="2462760"/>
            </a:xfrm>
          </p:grpSpPr>
          <p:sp>
            <p:nvSpPr>
              <p:cNvPr id="156" name=""/>
              <p:cNvSpPr/>
              <p:nvPr/>
            </p:nvSpPr>
            <p:spPr>
              <a:xfrm>
                <a:off x="4191120" y="333684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3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91120" y="4978800"/>
                <a:ext cx="2741400" cy="820800"/>
              </a:xfrm>
              <a:prstGeom prst="rect">
                <a:avLst/>
              </a:prstGeom>
              <a:solidFill>
                <a:srgbClr val="febfb4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1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000840" y="4157640"/>
                <a:ext cx="698400" cy="820800"/>
              </a:xfrm>
              <a:prstGeom prst="rect">
                <a:avLst/>
              </a:prstGeom>
              <a:solidFill>
                <a:srgbClr val="ffff99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4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191120" y="4157640"/>
                <a:ext cx="1600200" cy="820800"/>
              </a:xfrm>
              <a:prstGeom prst="rect">
                <a:avLst/>
              </a:prstGeom>
              <a:solidFill>
                <a:srgbClr val="b2b2b2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*p2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C93-85BF-45DB-810F-4C396EF587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161A2-E2EA-4D68-BB86-8E4AE4E7D8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7480" y="711360"/>
            <a:ext cx="7823160" cy="59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aci potrebni za pozivanje f-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lokalno u f-iji (uključujući main) tzv. “automatski” podaci. Izuzetak su static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deklarisane u anonimnom bloku unutar f-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gumenti f-ije (predaje ih pozivač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vremene promjenljive koje koristi generisani kod (nisu imena u source kodu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e vrijednost koju vraća pozvana funkci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6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E73F-BC29-43EF-8B8C-76D7B4AA5A1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54ACF-5DC2-4943-A1B2-04D577949A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ste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7480" y="622080"/>
            <a:ext cx="756612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ipovi podataka koji mogu biti alocirani na runtime ste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svi tipovi: prosti tipovi, struct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, arrays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: objekti deklarisani kao class tip, kao i pokazi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i (p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i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c800c8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c800c8"/>
                </a:solidFill>
                <a:latin typeface="Tahoma"/>
              </a:rPr>
              <a:t>Drone dilbert(17);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: objekti su uvije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locirani  na heap-u. Lokalni pokazivač (pointer) na objekat čuva s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ki programski jezici ne dozvoljavaju nizove na ste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73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EC7C-A067-46FE-949D-2C92D9B73A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E3848-6EE4-4E56-B181-9CFB42BFCB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 je apstraktni tip podata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ush postavlja novu vrijednost na vrh(Top); Pop uzima vrijednost sa pozicije Top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82680" y="1413000"/>
            <a:ext cx="7251120" cy="3288240"/>
            <a:chOff x="382680" y="1413000"/>
            <a:chExt cx="7251120" cy="3288240"/>
          </a:xfrm>
        </p:grpSpPr>
        <p:grpSp>
          <p:nvGrpSpPr>
            <p:cNvPr id="183" name=""/>
            <p:cNvGrpSpPr/>
            <p:nvPr/>
          </p:nvGrpSpPr>
          <p:grpSpPr>
            <a:xfrm>
              <a:off x="382680" y="1543320"/>
              <a:ext cx="4079160" cy="3054240"/>
              <a:chOff x="382680" y="1543320"/>
              <a:chExt cx="4079160" cy="3054240"/>
            </a:xfrm>
          </p:grpSpPr>
          <p:sp>
            <p:nvSpPr>
              <p:cNvPr id="184" name=""/>
              <p:cNvSpPr/>
              <p:nvPr/>
            </p:nvSpPr>
            <p:spPr>
              <a:xfrm>
                <a:off x="383760" y="35532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83760" y="305136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2680" y="254808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2680" y="2046600"/>
                <a:ext cx="4078080" cy="10443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680" y="1543320"/>
                <a:ext cx="4078080" cy="104472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884480" y="141300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64040" y="4119840"/>
              <a:ext cx="266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B07-94A7-4BD6-A1CD-A6689D9F24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8EA89-FCE6-43B8-927A-AE14EC64A5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ek terminolog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7840" y="723600"/>
            <a:ext cx="7835760" cy="59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Stek </a:t>
            </a:r>
            <a:r>
              <a:rPr b="0" i="1" lang="en-US" sz="3100" spc="-1" strike="noStrike">
                <a:solidFill>
                  <a:srgbClr val="000099"/>
                </a:solidFill>
                <a:latin typeface="Tahoma"/>
              </a:rPr>
              <a:t>implementacija </a:t>
            </a: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že rasti u oba pravca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IPS stek raste naniže (od viših memorijskih adresa ka nižim).  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Mogući problemi sa terminologjom, jer se u  literaturi govori o kretanju gore i dolje u steku (up i down)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Koristi se i apstrakcija gdje gore znači “noviji objekat”, ka Top-u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ahoma"/>
              </a:rPr>
              <a:t>Drugi govore (uključujući gdb) “gore” sa značenjem  “ka starijim objektima na steku”, ka Base.</a:t>
            </a:r>
            <a:endParaRPr b="0" lang="en-US" sz="31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991640" y="949320"/>
            <a:ext cx="901440" cy="5103720"/>
            <a:chOff x="7991640" y="949320"/>
            <a:chExt cx="901440" cy="5103720"/>
          </a:xfrm>
        </p:grpSpPr>
        <p:sp>
          <p:nvSpPr>
            <p:cNvPr id="194" name=""/>
            <p:cNvSpPr/>
            <p:nvPr/>
          </p:nvSpPr>
          <p:spPr>
            <a:xfrm>
              <a:off x="7994520" y="24004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432640" y="17524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91640" y="5251320"/>
              <a:ext cx="90144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91640" y="4464000"/>
              <a:ext cx="90144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1640" y="3740040"/>
              <a:ext cx="90144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91640" y="949320"/>
              <a:ext cx="901440" cy="8031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91640" y="2990880"/>
              <a:ext cx="90144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72B-20B6-481F-8173-839B1D5477F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1C011-DD53-411D-860A-5EDCC28915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3048120" y="585720"/>
            <a:ext cx="6095880" cy="6119640"/>
            <a:chOff x="3048120" y="585720"/>
            <a:chExt cx="6095880" cy="6119640"/>
          </a:xfrm>
        </p:grpSpPr>
        <p:graphicFrame>
          <p:nvGraphicFramePr>
            <p:cNvPr id="202" name=""/>
            <p:cNvGraphicFramePr/>
            <p:nvPr/>
          </p:nvGraphicFramePr>
          <p:xfrm>
            <a:off x="3048120" y="830160"/>
            <a:ext cx="4475160" cy="5875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830160"/>
                      <a:ext cx="4475160" cy="587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"/>
            <p:cNvSpPr/>
            <p:nvPr/>
          </p:nvSpPr>
          <p:spPr>
            <a:xfrm>
              <a:off x="7464600" y="487008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18520" y="585720"/>
              <a:ext cx="167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as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0" y="0"/>
            <a:ext cx="8915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zuelni prikaz steka koji raste naniž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1452600"/>
            <a:ext cx="5105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stead of stacking the next plate, how about “hanging” the new fra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F0D-2F5E-40C1-9F90-298F8E7FFB5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BC341-9F3B-4064-8AEA-01B970A6A8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ugi resursi u runtime okruže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7840" y="711360"/>
            <a:ext cx="876312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š (Cache) - veoma brz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guće na više nivo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zička memorija (brz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irtuelna memorija (swapping je sporij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ključuje glavnu memoriju i swap prostor na disk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gistri (najbrž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Često su samo vidljivi registri i memorijske adre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stalo se krije iza adresiranj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ve operacije se izvode u registrima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C9E-DA62-4F59-B596-469161AD86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4710B-9C84-4B11-AEF5-76C6F6731F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: Decaf i ostal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8737560" cy="57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bično se nizovi smještaju u jedan veliki prostor za s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emente. Ako je niz deklarisan sa “int a [n] [k] ”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koristi row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 prvi red, pa drugi red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rtran koristi column-major redosl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itava prva kolona, pa druga kolona, it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 se i dalje veliki blok memorije, ali su kolone uzastopne a ne redov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59BB-07D4-4C08-90A7-35E88786EC8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BA684-AE3B-4690-84A8-BFEA335F15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3708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C  nizovi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7116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Posle startovanj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main, niz a je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inicijalizovan.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rint 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{ 0, 1, 2, 3, 4 }, { 10, 11, 12, 13, 14 }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1 = (int (*)[2]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0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2 = (int (*)[5]) 0x208a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(gdb)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 &amp;a[1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3 = (int (*)[5]) 0x208b4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4889520" y="0"/>
            <a:ext cx="4254480" cy="2928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a [2][5]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id main(void) 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i=0; i&lt;2; 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 (j=0; j&lt;5; j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[i] [j] = 10*i+j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F2A-7EE5-44AC-9569-7FADB5A9D7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EDEFB-44F9-43DF-9B9A-B51515D212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ilacija od početka do kra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1333440"/>
            <a:ext cx="1828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intaksn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1333440"/>
            <a:ext cx="1524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eks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934320" y="1333440"/>
            <a:ext cx="1904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mantička analiz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191040"/>
            <a:ext cx="914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PR ge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2438280" y="319104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boljšanje MPR-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9" name=""/>
          <p:cNvCxnSpPr>
            <a:stCxn id="46" idx="3"/>
            <a:endCxn id="47" idx="1"/>
          </p:cNvCxnSpPr>
          <p:nvPr/>
        </p:nvCxnSpPr>
        <p:spPr>
          <a:xfrm flipH="1">
            <a:off x="380160" y="1776240"/>
            <a:ext cx="8458920" cy="1858320"/>
          </a:xfrm>
          <a:prstGeom prst="curvedConnector5">
            <a:avLst>
              <a:gd name="adj1" fmla="val -2702"/>
              <a:gd name="adj2" fmla="val 24995"/>
              <a:gd name="adj3" fmla="val -2702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477120" y="3191040"/>
            <a:ext cx="2133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Generisanje ko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809880" y="51055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ing &amp;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5319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zvršava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53" name=""/>
          <p:cNvCxnSpPr>
            <a:stCxn id="50" idx="3"/>
            <a:endCxn id="54" idx="1"/>
          </p:cNvCxnSpPr>
          <p:nvPr/>
        </p:nvCxnSpPr>
        <p:spPr>
          <a:xfrm flipH="1">
            <a:off x="380520" y="3633840"/>
            <a:ext cx="8230320" cy="1946880"/>
          </a:xfrm>
          <a:prstGeom prst="curvedConnector5">
            <a:avLst>
              <a:gd name="adj1" fmla="val -2777"/>
              <a:gd name="adj2" fmla="val 27316"/>
              <a:gd name="adj3" fmla="val -2777"/>
            </a:avLst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3"/>
            <a:endCxn id="52" idx="1"/>
          </p:cNvCxnSpPr>
          <p:nvPr/>
        </p:nvCxnSpPr>
        <p:spPr>
          <a:xfrm>
            <a:off x="5715000" y="5578560"/>
            <a:ext cx="12960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  <a:endCxn id="50" idx="1"/>
          </p:cNvCxnSpPr>
          <p:nvPr/>
        </p:nvCxnSpPr>
        <p:spPr>
          <a:xfrm>
            <a:off x="4952880" y="3633480"/>
            <a:ext cx="1524960" cy="1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7" name=""/>
          <p:cNvGrpSpPr/>
          <p:nvPr/>
        </p:nvGrpSpPr>
        <p:grpSpPr>
          <a:xfrm>
            <a:off x="152280" y="1295280"/>
            <a:ext cx="1143000" cy="947160"/>
            <a:chOff x="152280" y="1295280"/>
            <a:chExt cx="1143000" cy="947160"/>
          </a:xfrm>
        </p:grpSpPr>
        <p:sp>
          <p:nvSpPr>
            <p:cNvPr id="58" name=""/>
            <p:cNvSpPr/>
            <p:nvPr/>
          </p:nvSpPr>
          <p:spPr>
            <a:xfrm>
              <a:off x="190440" y="1768320"/>
              <a:ext cx="10670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1295280"/>
              <a:ext cx="1143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ko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743200" y="1295280"/>
            <a:ext cx="1143000" cy="520560"/>
            <a:chOff x="2743200" y="1295280"/>
            <a:chExt cx="1143000" cy="520560"/>
          </a:xfrm>
        </p:grpSpPr>
        <p:cxnSp>
          <p:nvCxnSpPr>
            <p:cNvPr id="61" name=""/>
            <p:cNvCxnSpPr>
              <a:stCxn id="45" idx="3"/>
              <a:endCxn id="44" idx="1"/>
            </p:cNvCxnSpPr>
            <p:nvPr/>
          </p:nvCxnSpPr>
          <p:spPr>
            <a:xfrm>
              <a:off x="2819160" y="1806120"/>
              <a:ext cx="106740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2743200" y="12952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tokeni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57440" y="1295280"/>
            <a:ext cx="1752480" cy="947160"/>
            <a:chOff x="5257440" y="1295280"/>
            <a:chExt cx="1752480" cy="947160"/>
          </a:xfrm>
        </p:grpSpPr>
        <p:cxnSp>
          <p:nvCxnSpPr>
            <p:cNvPr id="64" name=""/>
            <p:cNvCxnSpPr>
              <a:stCxn id="44" idx="3"/>
              <a:endCxn id="46" idx="1"/>
            </p:cNvCxnSpPr>
            <p:nvPr/>
          </p:nvCxnSpPr>
          <p:spPr>
            <a:xfrm>
              <a:off x="5257440" y="1806120"/>
              <a:ext cx="175284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5257800" y="1295280"/>
              <a:ext cx="1642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Drvo  parsiranj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294920" y="3200400"/>
            <a:ext cx="1447920" cy="520560"/>
            <a:chOff x="1294920" y="3200400"/>
            <a:chExt cx="1447920" cy="520560"/>
          </a:xfrm>
        </p:grpSpPr>
        <p:cxnSp>
          <p:nvCxnSpPr>
            <p:cNvPr id="67" name=""/>
            <p:cNvCxnSpPr>
              <a:stCxn id="47" idx="3"/>
              <a:endCxn id="48" idx="1"/>
            </p:cNvCxnSpPr>
            <p:nvPr/>
          </p:nvCxnSpPr>
          <p:spPr>
            <a:xfrm>
              <a:off x="1294920" y="3663720"/>
              <a:ext cx="1448280" cy="1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1488600" y="3200400"/>
              <a:ext cx="86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MP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209680" y="51055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ocatable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510552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šin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2670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emblerski k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32004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P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53197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emb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286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pravno 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74" name=""/>
          <p:cNvCxnSpPr>
            <a:stCxn id="54" idx="3"/>
            <a:endCxn id="51" idx="1"/>
          </p:cNvCxnSpPr>
          <p:nvPr/>
        </p:nvCxnSpPr>
        <p:spPr>
          <a:xfrm flipV="1">
            <a:off x="2361960" y="5578200"/>
            <a:ext cx="144828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404-F711-4E09-88D6-17DB20EC872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25CA3-3B8D-4C55-A56D-87A1633BCB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izovi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ovi nisu u jednom velikom bloku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i red predstavlja jednu blok memorij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2][5] ima po jedan pokazivač za svaki od 2 re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41320" y="3132000"/>
          <a:ext cx="587232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1320" y="3132000"/>
                    <a:ext cx="587232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298600" y="3162240"/>
            <a:ext cx="116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[0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A0E8-9E96-4A08-9332-F0C54960EC8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9B5BF-6890-4953-9D8D-427BA40F42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1- i 2-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je jedan neprekidan blo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3][4] ima 3 pokazivača na po 4 elemen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305080" y="1473120"/>
            <a:ext cx="3587400" cy="762120"/>
            <a:chOff x="2305080" y="1473120"/>
            <a:chExt cx="3587400" cy="762120"/>
          </a:xfrm>
        </p:grpSpPr>
        <p:sp>
          <p:nvSpPr>
            <p:cNvPr id="223" name=""/>
            <p:cNvSpPr/>
            <p:nvPr/>
          </p:nvSpPr>
          <p:spPr>
            <a:xfrm>
              <a:off x="230508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10000" y="1473120"/>
              <a:ext cx="11912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01600" y="1473120"/>
              <a:ext cx="11908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09520" y="3111480"/>
            <a:ext cx="8934120" cy="3110760"/>
            <a:chOff x="209520" y="3111480"/>
            <a:chExt cx="8934120" cy="3110760"/>
          </a:xfrm>
        </p:grpSpPr>
        <p:grpSp>
          <p:nvGrpSpPr>
            <p:cNvPr id="227" name=""/>
            <p:cNvGrpSpPr/>
            <p:nvPr/>
          </p:nvGrpSpPr>
          <p:grpSpPr>
            <a:xfrm>
              <a:off x="209520" y="3111480"/>
              <a:ext cx="3213000" cy="762120"/>
              <a:chOff x="209520" y="3111480"/>
              <a:chExt cx="3213000" cy="762120"/>
            </a:xfrm>
          </p:grpSpPr>
          <p:sp>
            <p:nvSpPr>
              <p:cNvPr id="228" name=""/>
              <p:cNvSpPr/>
              <p:nvPr/>
            </p:nvSpPr>
            <p:spPr>
              <a:xfrm>
                <a:off x="20952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0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88800" y="3111480"/>
                <a:ext cx="106704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1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355840" y="3111480"/>
                <a:ext cx="1066680" cy="7621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[2]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47320" y="5520960"/>
              <a:ext cx="5410440" cy="701280"/>
              <a:chOff x="247320" y="5520960"/>
              <a:chExt cx="5410440" cy="701280"/>
            </a:xfrm>
          </p:grpSpPr>
          <p:sp>
            <p:nvSpPr>
              <p:cNvPr id="232" name=""/>
              <p:cNvSpPr/>
              <p:nvPr/>
            </p:nvSpPr>
            <p:spPr>
              <a:xfrm>
                <a:off x="247320" y="55209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1892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977920" y="55209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298760" y="55209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0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618920" y="4568760"/>
              <a:ext cx="5410440" cy="701280"/>
              <a:chOff x="1618920" y="4568760"/>
              <a:chExt cx="5410440" cy="701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618920" y="4568760"/>
                <a:ext cx="13716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0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99052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 1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349520" y="4568760"/>
                <a:ext cx="132084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2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670360" y="4568760"/>
                <a:ext cx="1359000" cy="7012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7160" bIns="13716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</a:rPr>
                  <a:t>A[1,3]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241" name=""/>
            <p:cNvCxnSpPr>
              <a:stCxn id="228" idx="2"/>
              <a:endCxn id="232" idx="0"/>
            </p:cNvCxnSpPr>
            <p:nvPr/>
          </p:nvCxnSpPr>
          <p:spPr>
            <a:xfrm>
              <a:off x="742320" y="3914640"/>
              <a:ext cx="191160" cy="1592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29" idx="2"/>
              <a:endCxn id="237" idx="0"/>
            </p:cNvCxnSpPr>
            <p:nvPr/>
          </p:nvCxnSpPr>
          <p:spPr>
            <a:xfrm>
              <a:off x="1822320" y="3914640"/>
              <a:ext cx="483120" cy="6400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>
              <a:off x="3422520" y="3674880"/>
              <a:ext cx="336600" cy="37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59120" y="3687480"/>
              <a:ext cx="137160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30720" y="3687480"/>
              <a:ext cx="13586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 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02320" y="3687480"/>
              <a:ext cx="132084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3160" y="3687480"/>
              <a:ext cx="1320480" cy="701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2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45A-EF43-43B1-9C60-AF4766D2F54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F3785-888E-49F0-8AB4-6BE2A07486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išedimenzionalni niz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748800"/>
            <a:ext cx="9144000" cy="10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[3][4][5] ima 3 pokazivača, svaki pokazuje na 4 pokazivača, od kojih svaki pokazuje na red od 5 cijelih brojev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46160" y="2057400"/>
            <a:ext cx="3213000" cy="762120"/>
            <a:chOff x="146160" y="2057400"/>
            <a:chExt cx="3213000" cy="762120"/>
          </a:xfrm>
        </p:grpSpPr>
        <p:sp>
          <p:nvSpPr>
            <p:cNvPr id="251" name=""/>
            <p:cNvSpPr/>
            <p:nvPr/>
          </p:nvSpPr>
          <p:spPr>
            <a:xfrm>
              <a:off x="14616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2057400"/>
              <a:ext cx="106704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2480" y="2057400"/>
              <a:ext cx="106668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54" name=""/>
          <p:cNvCxnSpPr>
            <a:stCxn id="255" idx="2"/>
            <a:endCxn id="256" idx="0"/>
          </p:cNvCxnSpPr>
          <p:nvPr/>
        </p:nvCxnSpPr>
        <p:spPr>
          <a:xfrm flipH="1">
            <a:off x="1251000" y="4594320"/>
            <a:ext cx="2032200" cy="117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"/>
          <p:cNvGrpSpPr/>
          <p:nvPr/>
        </p:nvGrpSpPr>
        <p:grpSpPr>
          <a:xfrm>
            <a:off x="949320" y="3790800"/>
            <a:ext cx="6273720" cy="763560"/>
            <a:chOff x="949320" y="3790800"/>
            <a:chExt cx="6273720" cy="763560"/>
          </a:xfrm>
        </p:grpSpPr>
        <p:sp>
          <p:nvSpPr>
            <p:cNvPr id="258" name=""/>
            <p:cNvSpPr/>
            <p:nvPr/>
          </p:nvSpPr>
          <p:spPr>
            <a:xfrm>
              <a:off x="949320" y="3790800"/>
              <a:ext cx="160632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0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5640" y="3790800"/>
              <a:ext cx="145440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1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10040" y="3790800"/>
              <a:ext cx="157464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2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84680" y="3792240"/>
              <a:ext cx="1638360" cy="762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[0,3]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cxnSp>
        <p:nvCxnSpPr>
          <p:cNvPr id="261" name=""/>
          <p:cNvCxnSpPr>
            <a:stCxn id="251" idx="2"/>
            <a:endCxn id="258" idx="0"/>
          </p:cNvCxnSpPr>
          <p:nvPr/>
        </p:nvCxnSpPr>
        <p:spPr>
          <a:xfrm>
            <a:off x="678960" y="2860200"/>
            <a:ext cx="1073520" cy="91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2" name=""/>
          <p:cNvGrpSpPr/>
          <p:nvPr/>
        </p:nvGrpSpPr>
        <p:grpSpPr>
          <a:xfrm>
            <a:off x="380880" y="5778360"/>
            <a:ext cx="8242560" cy="703080"/>
            <a:chOff x="380880" y="5778360"/>
            <a:chExt cx="8242560" cy="703080"/>
          </a:xfrm>
        </p:grpSpPr>
        <p:sp>
          <p:nvSpPr>
            <p:cNvPr id="256" name=""/>
            <p:cNvSpPr/>
            <p:nvPr/>
          </p:nvSpPr>
          <p:spPr>
            <a:xfrm>
              <a:off x="380880" y="5780160"/>
              <a:ext cx="173988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0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076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1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46520" y="57801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2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72280" y="5778360"/>
              <a:ext cx="162540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3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97680" y="5778360"/>
              <a:ext cx="1625760" cy="701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7160" bIns="13716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[0,1,4]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B4C-8216-40A9-A5F9-CD52CAA74A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D5371B-F7C0-4B40-8EE4-0913679CAD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enerisanje koda za referenciranje n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koristi se veličina elementa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interval indeksa svake dimenzije da bi odredili offset za pojedinačni element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A ima m redova i n kolona elemenata veličine 4 bajt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&amp;A[i] [j]  je &amp;A + 4 * (n * i + 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moramo uraditi jedno dereferenciranje i jedan offset za svaku dimenziju, nema jedinstvene formul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A1B-56E6-420E-9B17-C18EE569EB8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21E5A-CF94-470F-A49E-964BB744A0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 strukture i Decaf objekt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5240" y="762120"/>
            <a:ext cx="8673840" cy="24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e u C-u se čuvaju u susjednim memorijskim riječima, dovoljno za sva polja, da budu poravna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struct cow {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 milk;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// 3 prazna bajta posle ovo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2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char* name;   /* poravnat na jednu riječ*/ } Cow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152800" y="3618000"/>
            <a:ext cx="5371920" cy="963360"/>
            <a:chOff x="2152800" y="3618000"/>
            <a:chExt cx="5371920" cy="963360"/>
          </a:xfrm>
        </p:grpSpPr>
        <p:sp>
          <p:nvSpPr>
            <p:cNvPr id="272" name=""/>
            <p:cNvSpPr/>
            <p:nvPr/>
          </p:nvSpPr>
          <p:spPr>
            <a:xfrm>
              <a:off x="2152800" y="3618000"/>
              <a:ext cx="224784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‘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52800" y="4060800"/>
              <a:ext cx="2247840" cy="4633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0x20000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40608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“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ossy”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0" y="4665600"/>
            <a:ext cx="86742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 objekti se čuvaju slično strukturama u C-u, sa svim poljima i naslijeđenim članovima, i sa vptr (pokazivač na tabelu funkcija članov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5C27-0894-427E-96F7-D697B7CAF9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EC98C-987D-4C0B-A890-17B13D959F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99"/>
                </a:solidFill>
                <a:uFillTx/>
                <a:latin typeface="Tahoma"/>
              </a:rPr>
              <a:t>Decaf objekti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7480" y="152280"/>
            <a:ext cx="84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* nam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Grr”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lass Cow extends Mamma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r milk; // production grad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noise() { print “Moo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 weight() { return 1000; }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w elsie = new Cow(‘A’, “Elsie”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851040" y="5502240"/>
            <a:ext cx="218412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40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851040" y="592596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827520" y="5905440"/>
            <a:ext cx="2019240" cy="5205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si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851040" y="5059440"/>
            <a:ext cx="2184120" cy="426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t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851040" y="3505320"/>
            <a:ext cx="220968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a heap-u, pronalazimo  objekat elsi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3819600" y="3505320"/>
            <a:ext cx="2027160" cy="1373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segmentu statičkih podata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4" name=""/>
          <p:cNvCxnSpPr>
            <a:stCxn id="278" idx="3"/>
            <a:endCxn id="280" idx="1"/>
          </p:cNvCxnSpPr>
          <p:nvPr/>
        </p:nvCxnSpPr>
        <p:spPr>
          <a:xfrm>
            <a:off x="3042720" y="5741640"/>
            <a:ext cx="777240" cy="4323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835440" y="524520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w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6" name=""/>
          <p:cNvCxnSpPr>
            <a:stCxn id="281" idx="3"/>
            <a:endCxn id="287" idx="1"/>
          </p:cNvCxnSpPr>
          <p:nvPr/>
        </p:nvCxnSpPr>
        <p:spPr>
          <a:xfrm flipV="1">
            <a:off x="3042720" y="5004720"/>
            <a:ext cx="785160" cy="2768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835440" y="4765680"/>
            <a:ext cx="2019240" cy="4633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amp;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88" name=""/>
          <p:cNvCxnSpPr>
            <a:stCxn id="287" idx="3"/>
            <a:endCxn id="289" idx="1"/>
          </p:cNvCxnSpPr>
          <p:nvPr/>
        </p:nvCxnSpPr>
        <p:spPr>
          <a:xfrm flipV="1">
            <a:off x="5862240" y="3312360"/>
            <a:ext cx="754920" cy="16930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5" idx="3"/>
            <a:endCxn id="291" idx="1"/>
          </p:cNvCxnSpPr>
          <p:nvPr/>
        </p:nvCxnSpPr>
        <p:spPr>
          <a:xfrm flipV="1">
            <a:off x="5862240" y="5059080"/>
            <a:ext cx="762840" cy="42624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5862600" y="1689120"/>
            <a:ext cx="3041640" cy="542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 tekst segment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6624720" y="283212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6632640" y="4578480"/>
            <a:ext cx="2287440" cy="9619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d za Cow::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319-17F6-4E20-85CC-12586D271F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736EC-A09E-4B7E-B984-8F4B615BC5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O m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thod dispatch j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š jedn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98560" y="914400"/>
            <a:ext cx="7637400" cy="522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E9C-F705-4CFD-AD72-5D00793EF6F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47C14-84B0-42B4-9CC8-FBE1CFCD11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Metod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14280" y="914400"/>
            <a:ext cx="5815080" cy="2579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46000" y="3753000"/>
            <a:ext cx="7718400" cy="220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1D70-2B8F-477E-963C-E7AE285E5D5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B5BF5-9145-4C55-A614-C102E2EB11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asl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điv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8458200" cy="49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176-6387-49C1-97BD-2830DAA3044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E784D-E0E9-4043-9CAB-B962F56326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ispatch vektor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760840" y="1020600"/>
            <a:ext cx="3686040" cy="542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4A0-90E2-4D19-BEE9-8D548E16A79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6E577-9877-4019-B972-190599B72C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untime environme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se program smješta u memorij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Kod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odaci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tek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Heap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425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Kako se predaje i</a:t>
            </a:r>
            <a:r>
              <a:rPr b="0" lang="sr-Latn-CS" sz="34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400" spc="-1" strike="noStrike">
                <a:solidFill>
                  <a:srgbClr val="000099"/>
                </a:solidFill>
                <a:latin typeface="Tahoma"/>
              </a:rPr>
              <a:t>formacija između pozivačke i pozvane funkcije</a:t>
            </a:r>
            <a:endParaRPr b="0" lang="en-US" sz="3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7011-38FF-4E8A-A7CB-47C17D885C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352F1-5B1B-44C9-8E2F-8D47F2D1F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edstavljanje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143000" y="1127160"/>
            <a:ext cx="6797520" cy="3506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7B06-AA3C-4566-B1DA-2C3B242EFE5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0010E-A8A6-450B-A32A-6664E83F07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lokacija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380880" y="1336680"/>
            <a:ext cx="8534520" cy="426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EBAF-ECFE-494F-8D30-A45A19AE43F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61B88-56E5-4501-86CF-3D779034BC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80880" y="1008000"/>
            <a:ext cx="8534520" cy="493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2966-A505-493A-9F8B-710487B584D5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788CA-9AA4-4829-A827-0AAB60A381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1355760"/>
            <a:ext cx="8534520" cy="42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6CE-868B-4C7B-8D17-2612CE90D14F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1C0CA-BA6A-4E3A-A5DD-3C76AA06F9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Pozivi f-ija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65240" y="901800"/>
            <a:ext cx="882648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je potrebno za generisanje poziv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ushParam, PopParam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Call, ACal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eginFunc, EndFunc, Retur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 šta radi pozivačka (caller) ili pozvana (callee) funkcij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ako međusobno komuniciraju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IPS, u opštem slučaju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Decaf, kao poseban slučaj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675-0529-4A10-B0D8-B36FD19378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4E238-F598-4A61-8214-E3842ADAB7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51544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je poziva f-ije,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i argumente na ste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statičku vezu (ako je potrebno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Šta je to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povratnu adresu u  $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uje skok ili grananje (jump ili branch) na pozvanu f-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FDA-5C8E-4FA9-BE29-6F30466D67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E22A70-BEA4-4290-84C5-EDFB9BA7B0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</a:t>
            </a:r>
            <a:r>
              <a:rPr b="0" lang="sr-Latn-CS" sz="4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(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52280" y="876240"/>
            <a:ext cx="86868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toku poziva f-ije, pozvan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ačuva sve neophodne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novi frame pokazivač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prema prostor za lokalne promjenljive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om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rađuje svoj posa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tavlja povratnu vrijednost u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riše frame pokazivač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čku vez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kok na povratnu adresu (sačuvanu na stek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262-D491-420D-AF81-8D47787F43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95C37-2709-46B3-8487-E9B65625AF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Ko šta radi? (III)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280" y="875880"/>
            <a:ext cx="8686800" cy="56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lije poziva f-ije pozivačka f-ij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 povratnu adresu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parametre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te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zima povratnu vrijednost sa $v0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raća vrijednosti u regist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tavlja sa izvršavanjem svog ko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azličite arhitekture / kompajleri biraju različite načine čuvanja i povraćaja vrijednost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gledati SPIM_Manual.pdf  za opšti slučaj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EA7-6A1D-40D8-83DD-326168DF9E4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64F94-EEAD-4B0A-869C-3EA16D45F8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daja parameta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 vrijednosti (Call by value): argument se izračunava i kopiju vrijednosti šalje na stek pozivač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Obično se prvih nekoliko parametara mogu predati preko registara (opšte namjene ili FP), radi  bržeg pristupa. 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Decaf-u :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pozivački kod za push argumenata na stek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cc"/>
                </a:solidFill>
                <a:latin typeface="Tahoma"/>
              </a:rPr>
              <a:t>Emitujemo kod za pozvanu f-iju da pročita parametre sa steka.</a:t>
            </a:r>
            <a:endParaRPr b="0" lang="en-US" sz="30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3DE-D01A-46BA-824B-3D68C527C4E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89CB62-3C99-4AA0-B059-EDFCF63096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č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5056200" cy="58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 parm3, parm2, parm 1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čitava return addr u $r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Jumps to calle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ushParam (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Call ili Acall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($ra će biti učitan u asm kod koji se generiše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23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7067-B684-4538-8ABC-532A0B54593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3161E-5836-4873-9F08-15A8C99B3D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gled memorije pri izvršav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27000"/>
            <a:ext cx="9144000" cy="54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IM_Manual.pd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838080" y="2652840"/>
            <a:ext cx="6807240" cy="3906720"/>
            <a:chOff x="838080" y="2652840"/>
            <a:chExt cx="6807240" cy="3906720"/>
          </a:xfrm>
        </p:grpSpPr>
        <p:grpSp>
          <p:nvGrpSpPr>
            <p:cNvPr id="80" name=""/>
            <p:cNvGrpSpPr/>
            <p:nvPr/>
          </p:nvGrpSpPr>
          <p:grpSpPr>
            <a:xfrm>
              <a:off x="838080" y="2890080"/>
              <a:ext cx="2971800" cy="3460680"/>
              <a:chOff x="838080" y="2890080"/>
              <a:chExt cx="2971800" cy="3460680"/>
            </a:xfrm>
          </p:grpSpPr>
          <p:sp>
            <p:nvSpPr>
              <p:cNvPr id="81" name=""/>
              <p:cNvSpPr/>
              <p:nvPr/>
            </p:nvSpPr>
            <p:spPr>
              <a:xfrm>
                <a:off x="838080" y="583020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8080" y="529524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Static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38080" y="4760280"/>
                <a:ext cx="297180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Global data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62040" y="3746520"/>
                <a:ext cx="457200" cy="492120"/>
              </a:xfrm>
              <a:prstGeom prst="upArrow">
                <a:avLst>
                  <a:gd name="adj1" fmla="val 38889"/>
                  <a:gd name="adj2" fmla="val 56245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2247840" y="3385440"/>
                <a:ext cx="457200" cy="493560"/>
              </a:xfrm>
              <a:prstGeom prst="upArrow">
                <a:avLst>
                  <a:gd name="adj1" fmla="val 38889"/>
                  <a:gd name="adj2" fmla="val 5641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38080" y="289008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Runtime stack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38080" y="4245840"/>
                <a:ext cx="2971800" cy="520560"/>
              </a:xfrm>
              <a:prstGeom prst="rect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 Narrow"/>
                  </a:rPr>
                  <a:t>Dynamic data (heap)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4178160" y="2652840"/>
              <a:ext cx="303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High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30800" y="6039000"/>
              <a:ext cx="288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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Low memory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92640" y="422928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(not to scal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F95-B7BD-4EEC-AF65-83FE52C885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96EDB-6B97-4306-904F-9646DC1E44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vana f-ij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-360" y="583920"/>
            <a:ext cx="539748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sta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ja $fp i $sp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$sp markira slobodan prostor na steku (za temps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zvršava kod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raća vrijednost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vanu f-iju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eginFunc n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gs get set in asm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TAC for callee’s cod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ndFunc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Restores regs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eturn ili Return 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loads $v0, jumps to old $r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44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310-A8A7-4ACE-9178-51570A969C5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9E971-82F3-4805-8307-735683D133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2680" y="-360"/>
            <a:ext cx="485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slije poziva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02680" y="752400"/>
            <a:ext cx="4853160" cy="58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Za pozivača, emitujem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pParams (n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sani Asm će očistiti registr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330800" y="320760"/>
            <a:ext cx="4976640" cy="5752800"/>
            <a:chOff x="4330800" y="320760"/>
            <a:chExt cx="4976640" cy="5752800"/>
          </a:xfrm>
        </p:grpSpPr>
        <p:sp>
          <p:nvSpPr>
            <p:cNvPr id="365" name=""/>
            <p:cNvSpPr/>
            <p:nvPr/>
          </p:nvSpPr>
          <p:spPr>
            <a:xfrm>
              <a:off x="5600880" y="320760"/>
              <a:ext cx="2311200" cy="853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revious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’s fram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00880" y="12034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00880" y="16462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00880" y="20890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Parameter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00880" y="253188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f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00880" y="29750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aved ra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00880" y="34178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1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00880" y="386064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0880" y="43038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Local 3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00880" y="47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00880" y="51894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0160" y="250992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f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30800" y="4724280"/>
              <a:ext cx="136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$sp </a:t>
              </a:r>
              <a:r>
                <a:rPr b="0" lang="en-US" sz="2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00880" y="5646600"/>
              <a:ext cx="2311200" cy="426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fr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12080" y="1195560"/>
              <a:ext cx="353880" cy="131436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34200 h 1314360"/>
                <a:gd name="textAreaBottom" fmla="*/ 1280160 h 131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12080" y="2523960"/>
              <a:ext cx="353880" cy="2200320"/>
            </a:xfrm>
            <a:custGeom>
              <a:avLst/>
              <a:gdLst>
                <a:gd name="textAreaLeft" fmla="*/ 0 w 353880"/>
                <a:gd name="textAreaRight" fmla="*/ 127800 w 353880"/>
                <a:gd name="textAreaTop" fmla="*/ 57240 h 2200320"/>
                <a:gd name="textAreaBottom" fmla="*/ 2143080 h 220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265960" y="1562040"/>
              <a:ext cx="103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265960" y="3333600"/>
              <a:ext cx="104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alle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AA1-B62E-4B80-BF03-B2A5AEEFBDE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9527F-2438-40B8-91C1-7E2EE70336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mještanje programa u memori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d nižih adresa ka višim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(tekst segment, instrukci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i (konstantni)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i podaci (heap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untime stek (pozivi procedur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gled svake sekcij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9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594-61D0-44F7-8F2E-479650F0C1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5EE54-6963-4990-8EF1-AE7BB0C43D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executable code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varne m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nstru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MIPS/u, sve su 32 bi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ritmeti</a:t>
            </a:r>
            <a:r>
              <a:rPr b="0" lang="hr-HR" sz="3200" spc="-1" strike="noStrike">
                <a:solidFill>
                  <a:srgbClr val="3333cc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 / logičk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ređenje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Grananje (Branch - short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kokovi (Jump - long distances)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ad / store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omjeranje podatak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anipulisanje konstantama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0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0B3-533B-4CF6-9B69-BBFE048B2E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27D06B-44F1-4696-9EDF-27D66318DE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ekst segment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d segment je write-protected, pa se startovanjem koda ne može obrisati segment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Debuger može obrisati.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1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CFA-C4A3-4845-9CCA-2732D115DB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958F4F-7D3A-478B-B18C-353D6A3D22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82316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dac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ja je veličina p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ta u vrijeme kompajl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iji je životni ciklus cijelo izvršavanje programa a ne samo vrijeme izvršavanja f-ije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Statički pod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ključuju  stvari koje se mijenjaju (mogu biti write-protected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e za virtu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e f-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ring literali korišćeni u instrukcija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rithmetički literali bi mogli biti, ali se češće uključuju u instr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2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88D-47B5-4A39-8B7E-68C459402C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13519-2B34-4651-B727-E8965D3A2E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gment podataka (data segment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7480" y="761760"/>
            <a:ext cx="7566120" cy="58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i podaci (ne samo statičk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o deklarisane promjenlji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e static promjenljive (u C-u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okalne za f-iju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uva se njihova vrijednost između 2 izvršavanja f-ij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a analiza obezbjeđuje da statičke lokalne promjenljive nisu referencirane van njihovog opseg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8001000" y="1177920"/>
            <a:ext cx="901800" cy="5103720"/>
            <a:chOff x="8001000" y="1177920"/>
            <a:chExt cx="901800" cy="5103720"/>
          </a:xfrm>
        </p:grpSpPr>
        <p:sp>
          <p:nvSpPr>
            <p:cNvPr id="134" name=""/>
            <p:cNvSpPr/>
            <p:nvPr/>
          </p:nvSpPr>
          <p:spPr>
            <a:xfrm>
              <a:off x="8004240" y="2629080"/>
              <a:ext cx="457200" cy="614160"/>
            </a:xfrm>
            <a:prstGeom prst="upArrow">
              <a:avLst>
                <a:gd name="adj1" fmla="val 38889"/>
                <a:gd name="adj2" fmla="val 70194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442360" y="1981080"/>
              <a:ext cx="457200" cy="648000"/>
            </a:xfrm>
            <a:prstGeom prst="upArrow">
              <a:avLst>
                <a:gd name="adj1" fmla="val 38889"/>
                <a:gd name="adj2" fmla="val 74062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01000" y="5479920"/>
              <a:ext cx="901800" cy="801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cod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692600"/>
              <a:ext cx="901800" cy="787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ti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1000" y="3968640"/>
              <a:ext cx="901800" cy="723960"/>
            </a:xfrm>
            <a:prstGeom prst="rect">
              <a:avLst/>
            </a:prstGeom>
            <a:solidFill>
              <a:srgbClr val="ffff66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l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01000" y="1177920"/>
              <a:ext cx="901800" cy="803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stack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1000" y="3219480"/>
              <a:ext cx="901800" cy="7491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heap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5D90-B6F7-4B29-A3B4-17298780CD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FFC6C-D97B-4BA3-9431-02EC6C5F9D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s</cp:lastModifiedBy>
  <dcterms:modified xsi:type="dcterms:W3CDTF">2009-04-16T07:38:23Z</dcterms:modified>
  <cp:revision>5441</cp:revision>
  <dc:subject/>
  <dc:title>Welcome to CS143</dc:title>
</cp:coreProperties>
</file>