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0AB9-BB22-4616-91F7-6620A0F5C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40400"/>
            <a:ext cx="8458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7E65-7192-4653-B774-B533B1F0A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40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4560" y="3740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C867-3B7D-49B1-B8E0-84C3BC717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914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0560" y="914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40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740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0560" y="3740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C1C4-7B1E-438D-95C5-E91C1E7E5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F8EB-9453-435D-A8DF-9BEC3614B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69B1-D798-45C2-8059-D763CAC2F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D346-B2E7-4919-8008-D9CC6C8C8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039B-9EF5-4B37-AB3F-17DA3DE4D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61B1-374C-49A9-AC77-69329BC7F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40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EC1A-9FCD-42C7-8199-93936C63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4560" y="3740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3B58-0F4F-40CC-BFF8-80A76C57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40400"/>
            <a:ext cx="8458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2AF8-F54B-4142-930C-1DE3E699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48320" y="6552720"/>
            <a:ext cx="2666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0" y="6552720"/>
            <a:ext cx="4191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467120" y="6552720"/>
            <a:ext cx="1676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38B05-2FB5-4A40-B16F-135AB3D316DA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Međuprogramska reprezentacija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Međuprogramska reprezentacija (intermediate representation)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Kada se kreira apstraktno sintaksno stablo (AST), posjedujemo dovoljno informacija za otpočinjanje generisanja koda.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evođenje AST u MP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Optimizacija međuprogramskog koda.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Generisanje koda od MP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9A45-8018-45E2-9809-81CB69F78DC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FED7ED-62A6-4665-9E19-321D92A764D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AST kao MPR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6858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ST (Abstract Syntax Tree) je oblik MP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pstraktniji od drveta pasriranja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63376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620120" cy="4638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39E1-4219-41D1-A6A1-1BA5B136537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2B2881-49F8-48D3-8524-94F76C79430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Primjer AST-a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8991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unction: PROCEDURE ident ( params ) body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{ $$ = MakeFunctionNode($2, $4, $6); }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unction_list: function_list funct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{ $$ = $1; $1-&gt;AppendNode($2); }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onstant : int_constan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{ $$ = MakeIntConstantNode($1); }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CDAB-77DE-4BB9-ADB3-985522CFACD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1BF0CD-9A23-4E34-923D-B0566C911D2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Od drveta do koda: primjer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rvo parsiranja za aritmetičke izraze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-609480" y="914400"/>
            <a:ext cx="9753480" cy="4041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04920" y="5334120"/>
            <a:ext cx="84582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Neki čvorovi su nebitni za izračunavanje(npr. expr </a:t>
            </a:r>
            <a:r>
              <a:rPr b="0" lang="en-US" sz="32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variable </a:t>
            </a:r>
            <a:r>
              <a:rPr b="0" lang="en-US" sz="32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AB76-A2E2-49D0-8F71-51627158855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07DEC4-90F3-490D-A72F-C8EBE202B69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Od drveta do koda: primjer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ST za isti aritmetički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zraz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Kao generisati kod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za ovo drvo?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Koristi se AST kao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MPR, i odrađujemo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ranslaciju u rutinama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koje obilaze drvo.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utine obilaska drveta i generisanja koda (Tree-walk code-gen routines )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5869080" y="1759680"/>
            <a:ext cx="2283120" cy="2082600"/>
            <a:chOff x="5869080" y="1759680"/>
            <a:chExt cx="2283120" cy="2082600"/>
          </a:xfrm>
        </p:grpSpPr>
        <p:sp>
          <p:nvSpPr>
            <p:cNvPr id="107" name=""/>
            <p:cNvSpPr/>
            <p:nvPr/>
          </p:nvSpPr>
          <p:spPr>
            <a:xfrm>
              <a:off x="6474960" y="1759680"/>
              <a:ext cx="388080" cy="5205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869080" y="2453400"/>
              <a:ext cx="1568160" cy="596880"/>
              <a:chOff x="5869080" y="2453400"/>
              <a:chExt cx="1568160" cy="5968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69080" y="2529720"/>
                <a:ext cx="378720" cy="52056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117920" y="2453400"/>
                <a:ext cx="319320" cy="52056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*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6480360" y="3321720"/>
              <a:ext cx="378720" cy="5205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793280" y="3321720"/>
              <a:ext cx="358920" cy="5205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3" name=""/>
            <p:cNvCxnSpPr>
              <a:stCxn id="107" idx="2"/>
              <a:endCxn id="109" idx="0"/>
            </p:cNvCxnSpPr>
            <p:nvPr/>
          </p:nvCxnSpPr>
          <p:spPr>
            <a:xfrm flipH="1">
              <a:off x="6058440" y="2295000"/>
              <a:ext cx="610200" cy="21996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114" name=""/>
            <p:cNvCxnSpPr>
              <a:stCxn id="107" idx="2"/>
              <a:endCxn id="110" idx="0"/>
            </p:cNvCxnSpPr>
            <p:nvPr/>
          </p:nvCxnSpPr>
          <p:spPr>
            <a:xfrm>
              <a:off x="6668640" y="2295000"/>
              <a:ext cx="610560" cy="14364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115" name=""/>
            <p:cNvCxnSpPr>
              <a:stCxn id="110" idx="2"/>
              <a:endCxn id="112" idx="0"/>
            </p:cNvCxnSpPr>
            <p:nvPr/>
          </p:nvCxnSpPr>
          <p:spPr>
            <a:xfrm>
              <a:off x="7278120" y="2989080"/>
              <a:ext cx="695520" cy="3178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116" name=""/>
            <p:cNvCxnSpPr>
              <a:stCxn id="110" idx="2"/>
              <a:endCxn id="111" idx="0"/>
            </p:cNvCxnSpPr>
            <p:nvPr/>
          </p:nvCxnSpPr>
          <p:spPr>
            <a:xfrm flipH="1">
              <a:off x="6669720" y="2989080"/>
              <a:ext cx="608760" cy="3178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601E-B3ED-43D8-9D64-43DFFC63846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6C881B-875A-4277-9EFB-C0DCBD99967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Rutine obilaska drveta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685440"/>
            <a:ext cx="861084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99"/>
                </a:solidFill>
                <a:latin typeface="Arial"/>
              </a:rPr>
              <a:t>void GenerateCode(tree t, int resultRegNum) </a:t>
            </a:r>
            <a:endParaRPr b="0" lang="en-US" sz="3100" spc="-1" strike="noStrike">
              <a:solidFill>
                <a:srgbClr val="0000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99"/>
                </a:solidFill>
                <a:latin typeface="Arial"/>
              </a:rPr>
              <a:t>{ if (IsArithmeticOp(t-&gt;label)) {</a:t>
            </a:r>
            <a:endParaRPr b="0" lang="en-US" sz="3100" spc="-1" strike="noStrike">
              <a:solidFill>
                <a:srgbClr val="0000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3100" spc="-1" strike="noStrike">
                <a:solidFill>
                  <a:srgbClr val="000099"/>
                </a:solidFill>
                <a:latin typeface="Arial"/>
              </a:rPr>
              <a:t>GenerateCode(t-&gt;left, resultRegNum);</a:t>
            </a:r>
            <a:endParaRPr b="0" lang="en-US" sz="3100" spc="-1" strike="noStrike">
              <a:solidFill>
                <a:srgbClr val="0000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3100" spc="-1" strike="noStrike">
                <a:solidFill>
                  <a:srgbClr val="000099"/>
                </a:solidFill>
                <a:latin typeface="Arial"/>
              </a:rPr>
              <a:t>GenerateCode(t-&gt;right, resultRegNum + 1);</a:t>
            </a:r>
            <a:endParaRPr b="0" lang="en-US" sz="3100" spc="-1" strike="noStrike">
              <a:solidFill>
                <a:srgbClr val="0000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3100" spc="-1" strike="noStrike">
                <a:solidFill>
                  <a:srgbClr val="000099"/>
                </a:solidFill>
                <a:latin typeface="Arial"/>
              </a:rPr>
              <a:t>GenerateArithmeticOp(t-&gt;label,    </a:t>
            </a:r>
            <a:endParaRPr b="0" lang="en-US" sz="3100" spc="-1" strike="noStrike">
              <a:solidFill>
                <a:srgbClr val="0000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99"/>
                </a:solidFill>
                <a:latin typeface="Arial"/>
              </a:rPr>
              <a:t>         </a:t>
            </a:r>
            <a:r>
              <a:rPr b="0" lang="en-US" sz="3100" spc="-1" strike="noStrike">
                <a:solidFill>
                  <a:srgbClr val="000099"/>
                </a:solidFill>
                <a:latin typeface="Arial"/>
              </a:rPr>
              <a:t>resultRegNum, resultRegNum + 1);</a:t>
            </a:r>
            <a:endParaRPr b="0" lang="en-US" sz="3100" spc="-1" strike="noStrike">
              <a:solidFill>
                <a:srgbClr val="0000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99"/>
                </a:solidFill>
                <a:latin typeface="Arial"/>
              </a:rPr>
              <a:t>} else {</a:t>
            </a:r>
            <a:endParaRPr b="0" lang="en-US" sz="3100" spc="-1" strike="noStrike">
              <a:solidFill>
                <a:srgbClr val="0000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3100" spc="-1" strike="noStrike">
                <a:solidFill>
                  <a:srgbClr val="000099"/>
                </a:solidFill>
                <a:latin typeface="Arial"/>
              </a:rPr>
              <a:t>GenerateLoad(t-&gt;label, resultRegNum);  } }</a:t>
            </a:r>
            <a:endParaRPr b="0" lang="en-US" sz="3100" spc="-1" strike="noStrike">
              <a:solidFill>
                <a:srgbClr val="0000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99"/>
                </a:solidFill>
                <a:latin typeface="Arial"/>
              </a:rPr>
              <a:t>bool IsArithmeticOp(char ch) {</a:t>
            </a:r>
            <a:endParaRPr b="0" lang="en-US" sz="3100" spc="-1" strike="noStrike">
              <a:solidFill>
                <a:srgbClr val="0000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3100" spc="-1" strike="noStrike">
                <a:solidFill>
                  <a:srgbClr val="000099"/>
                </a:solidFill>
                <a:latin typeface="Arial"/>
              </a:rPr>
              <a:t>return ((ch == '+') || (ch == '-') || </a:t>
            </a:r>
            <a:endParaRPr b="0" lang="en-US" sz="3100" spc="-1" strike="noStrike">
              <a:solidFill>
                <a:srgbClr val="000099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US" sz="3100" spc="-1" strike="noStrike">
                <a:solidFill>
                  <a:srgbClr val="000099"/>
                </a:solidFill>
                <a:latin typeface="Arial"/>
              </a:rPr>
              <a:t>(ch == '*') || (ch == '/')); }</a:t>
            </a:r>
            <a:endParaRPr b="0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B9E0-1924-42A4-BEB6-DD0B0B4F15D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59B4F4-0AFF-42B7-97ED-8694D8A447A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Rutine obilaska drveta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280" y="6094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void GenerateArithmeticOp(char op,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t reg1, int reg2) {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har *opCode;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witch (op) {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ase '+': opCode = "ADD"; break;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ase '-': opCode = "SUB"; break;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ase '*': opCode = "MUL"; break;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ase '/': opCode = "DIV"; break; }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intf("%s R%d, R%d\n", opCode,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eg1, reg2); }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void GenerateLoad(char c, int reg) {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intf("LOAD %c, R%d\n",c , reg); }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66D9-71E3-47B1-9C15-C7B0C01B1B1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885DAF-06CB-45AE-84DF-5D6682D240C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Napomene vezane za primjer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Arial"/>
              </a:rPr>
              <a:t>LOAD, MUL, DIV, itd. su kodovi operacija na ciljnoj mašini.</a:t>
            </a:r>
            <a:endParaRPr b="0" lang="en-US" sz="3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Arial"/>
              </a:rPr>
              <a:t>GenerateCode kao argument ima registar za čuvanje rezultata.</a:t>
            </a:r>
            <a:endParaRPr b="0" lang="en-US" sz="3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Nije nam poznato koliko registara ima ciljna mašina (target machine).</a:t>
            </a: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GenerateCode inkrementira broj registra kada mu zatreba novi registar</a:t>
            </a: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Za složene izraze, ovaj pristup može zauzeti sve registre.</a:t>
            </a: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Arial"/>
              </a:rPr>
              <a:t>Generišemo asemblerski kod kao tekst.</a:t>
            </a:r>
            <a:endParaRPr b="0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0A94-8722-45DB-87B9-7AF10A967E8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9FE484-7618-4C8A-9949-3BEE6DE9643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Još jedan primjer izraza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520" y="609480"/>
            <a:ext cx="84582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GenerateCode('+', 0)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GenerateCode('a', 0)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write “LOAD a, R0”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GenerateCode('*', 1)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GenerateCode('-', 1)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GenerateCode('b', 1)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write "LOAD b, R1"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GenerateCode('c', 2)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write "LOAD c, R2"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write "SUB R1, R2"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GenerateCode('d', 2)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write "LOAD d, R2"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write "MUL R1, R2"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write "ADD R0, R1"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6640560" y="235440"/>
            <a:ext cx="2294280" cy="2989080"/>
            <a:chOff x="6640560" y="235440"/>
            <a:chExt cx="2294280" cy="2989080"/>
          </a:xfrm>
        </p:grpSpPr>
        <p:sp>
          <p:nvSpPr>
            <p:cNvPr id="126" name=""/>
            <p:cNvSpPr/>
            <p:nvPr/>
          </p:nvSpPr>
          <p:spPr>
            <a:xfrm>
              <a:off x="7246440" y="235440"/>
              <a:ext cx="388080" cy="5205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40560" y="1005120"/>
              <a:ext cx="378720" cy="5205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889760" y="928800"/>
              <a:ext cx="319320" cy="5205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556120" y="1797480"/>
              <a:ext cx="378720" cy="5205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0" name=""/>
            <p:cNvCxnSpPr>
              <a:stCxn id="126" idx="2"/>
              <a:endCxn id="127" idx="0"/>
            </p:cNvCxnSpPr>
            <p:nvPr/>
          </p:nvCxnSpPr>
          <p:spPr>
            <a:xfrm flipH="1">
              <a:off x="6830280" y="771120"/>
              <a:ext cx="610200" cy="21960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131" name=""/>
            <p:cNvCxnSpPr>
              <a:stCxn id="126" idx="2"/>
              <a:endCxn id="128" idx="0"/>
            </p:cNvCxnSpPr>
            <p:nvPr/>
          </p:nvCxnSpPr>
          <p:spPr>
            <a:xfrm>
              <a:off x="7440480" y="771120"/>
              <a:ext cx="610560" cy="1432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132" name=""/>
            <p:cNvCxnSpPr>
              <a:stCxn id="128" idx="2"/>
              <a:endCxn id="129" idx="0"/>
            </p:cNvCxnSpPr>
            <p:nvPr/>
          </p:nvCxnSpPr>
          <p:spPr>
            <a:xfrm>
              <a:off x="8049960" y="1465200"/>
              <a:ext cx="695520" cy="31752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133" name=""/>
            <p:cNvCxnSpPr>
              <a:stCxn id="128" idx="2"/>
              <a:endCxn id="134" idx="0"/>
            </p:cNvCxnSpPr>
            <p:nvPr/>
          </p:nvCxnSpPr>
          <p:spPr>
            <a:xfrm flipH="1">
              <a:off x="7443000" y="1465200"/>
              <a:ext cx="607320" cy="3556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sp>
          <p:nvSpPr>
            <p:cNvPr id="134" name=""/>
            <p:cNvSpPr/>
            <p:nvPr/>
          </p:nvSpPr>
          <p:spPr>
            <a:xfrm>
              <a:off x="7293240" y="1835280"/>
              <a:ext cx="299520" cy="5205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645600" y="2703960"/>
              <a:ext cx="378720" cy="5205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58880" y="2703960"/>
              <a:ext cx="358920" cy="5205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7" name=""/>
            <p:cNvCxnSpPr>
              <a:stCxn id="134" idx="2"/>
              <a:endCxn id="136" idx="0"/>
            </p:cNvCxnSpPr>
            <p:nvPr/>
          </p:nvCxnSpPr>
          <p:spPr>
            <a:xfrm>
              <a:off x="7443720" y="2370960"/>
              <a:ext cx="696240" cy="3178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  <p:cxnSp>
          <p:nvCxnSpPr>
            <p:cNvPr id="138" name=""/>
            <p:cNvCxnSpPr>
              <a:stCxn id="134" idx="2"/>
              <a:endCxn id="135" idx="0"/>
            </p:cNvCxnSpPr>
            <p:nvPr/>
          </p:nvCxnSpPr>
          <p:spPr>
            <a:xfrm flipH="1">
              <a:off x="6834960" y="2370960"/>
              <a:ext cx="608760" cy="31788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</a:ln>
          </p:spPr>
        </p:cxnSp>
      </p:grpSp>
      <p:sp>
        <p:nvSpPr>
          <p:cNvPr id="139" name=""/>
          <p:cNvSpPr/>
          <p:nvPr/>
        </p:nvSpPr>
        <p:spPr>
          <a:xfrm>
            <a:off x="5791320" y="3352680"/>
            <a:ext cx="3047760" cy="30801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 a, R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 b, R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 c, R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 R1, R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 d, R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 R1, R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R0, R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D749-B352-4508-A3B5-14D4837EF1B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128AF2-8C62-4E3A-9D10-50FB2EC2A9F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Generisani kod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Koristili smo registre ali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nema konflikta (prepisujemo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vrijednost kada nam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još treba.)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Učitali smo vrijednost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u R0 i ne koristimo je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o samog kraja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ačunanja. 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Za poboljšanje koda, prvo se primjenjuje tehnika alokacije registara.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67080" y="175248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685800"/>
            <a:ext cx="2438280" cy="39333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+(b-c)*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 a, R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 b, R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 c, R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 R1, R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 d, R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 R1, R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R0, R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90FE-39F9-427D-AFFA-0D709F88B94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4278CA-ABAB-497B-8FA5-C1E5E616F7B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GCC MPR: RTL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Register Transfer Language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Nizak nivo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Inspirisan Lisp-om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Kompajleri na Solaris-u: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gcc.gnu.org/onlinedocs/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gcc-2.95.3/gcc_15.html#SEC149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Poslednja verzija: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gcc.gnu.org/onlinedocs/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gcc-3.2.2/gccint/RTL.html#RTL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EFC2-48B1-405A-8A28-EC115B3FEED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C07AB2-4C3E-4FA1-9F15-7F3E449B2CA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Zašto je potrebna MPR?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685440"/>
            <a:ext cx="8610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MPR – reprezentacija programa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pstraktnije od stabala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ezavisnije od jezika nego stabla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ezavisnije od mašine nego krajnji kod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Zašto direktno ne generisati kod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o je moguće, čak i uobičajeno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Nezavisnost je vrlina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GCC -- ranije GNU C kompajler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ada Gnu Compiler Collectio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Iz više jezika (source) u jednu MPR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Iz jedne MPR u više arhitektura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3339-C9EF-4ED3-9862-9FDED80BBF7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3517CA-7353-40DA-9082-7E1C3FD9058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Hello World u GNU  RTL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1920" y="609120"/>
            <a:ext cx="89917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;; Function main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(note 3 2 4 "" NOTE_INSN_FUNCTION_BEG)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(note 6 4 7 0 NOTE_INSN_BLOCK_BEG)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(insn 7 6 8 (set (reg:SI 106) </a:t>
            </a: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// labele, jump na njih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(high:SI (symbol_ref:SI ("*.LLC0")))) -1 (nil)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(nil)) </a:t>
            </a:r>
            <a:r>
              <a:rPr b="0" lang="en-US" sz="3000" spc="-1" strike="noStrike">
                <a:solidFill>
                  <a:srgbClr val="ff3399"/>
                </a:solidFill>
                <a:latin typeface="Times New Roman"/>
              </a:rPr>
              <a:t>// .LLC0 je asemblerska labela za string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(insn 8 7 10 (set (reg:SI 8 %o0) (lo_sum:SI (reg:SI 106)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       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(symbol_ref:SI ("*.LLC0")))) -1 (nil)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       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(nil))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99"/>
                </a:solidFill>
                <a:latin typeface="Arial"/>
              </a:rPr>
              <a:t>// </a:t>
            </a:r>
            <a:r>
              <a:rPr b="0" lang="en-US" sz="3000" spc="-1" strike="noStrike">
                <a:solidFill>
                  <a:srgbClr val="ff3399"/>
                </a:solidFill>
                <a:latin typeface="Times New Roman"/>
              </a:rPr>
              <a:t>“high” &amp; “lo_sum” izgrađuju  niz od 2 instrukcije za dostup globalnoj memoriji.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8D1F-DF92-4394-9E8F-263654FB66C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4CA2EA-516C-4884-9DE0-4E07A2E5BB5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Hello World - nastavak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-360" y="533520"/>
            <a:ext cx="89917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(call_insn 10 8 12 (parallel[ </a:t>
            </a: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// nekoliko bočnih efekata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(set (reg:SI 8 %o0)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// paralelno odrađenih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(call (mem:SI (symbol_ref:SI ("printf")) 0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(const_int 0 [0x0]))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(clobber (reg:SI 15 %o7)) 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] ) -1 (nil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(nil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(expr_list (use (reg:SI 8 %o0)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(nil))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(note 12 10 13 0 NOTE_INSN_BLOCK_END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(note 13 12 15 "" NOTE_INSN_FUNCTION_END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// clobber: moguće čuvanje neočekivane, neopisane vrijedsnoti u x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5B55-5557-4A1B-88AF-C16AD40BD20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696D9C-34F5-43AD-B499-D578F1D19C1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Java Bytecode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76176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MPR postaje primarno način distribucij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iljna mašina je Java Virtual Machine (JVM)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Zasnovana na registrima+stek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ogodna za strukturalnu verifikaciju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Provjera sigurnosti tipova!</a:t>
            </a:r>
            <a:endParaRPr b="0" lang="en-US" sz="2800" spc="-1" strike="noStrike">
              <a:solidFill>
                <a:srgbClr val="cc00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ogodna za direktnu interpretaciju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Vrlo visoki nivo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ozvoljava laku dekompilaciju (iz objektnog koda nazad u neki izvorni kod)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671C-9894-4E08-9197-975526B30AF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FCE950-E6CE-405C-BA7A-854FD7BF5DE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Java Bytecode - primjer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50529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 gcd {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tatic int gcd(int x, int y) {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nt d = x - y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f (d &gt; 0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return gcd(d, y)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se if (d &lt; 0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return gcd(x, -d)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s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return x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419720" y="2209320"/>
            <a:ext cx="441936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ublic static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void main(String []av) {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ystem.out.println(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gcd(33, 42))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4E43-2A23-455B-BD0C-87895C156373}" type="slidenum">
              <a:t>2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FCA471-24A9-4623-BFC6-3E4A379EACD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Java Bytecode primjer (nastavak)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-360" y="762120"/>
            <a:ext cx="52815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Method int gcd(int x, int y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0 iload_0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; push r[0] (x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 iload_1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; push r[1] (y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2 isub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; x - y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3 istore_2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; r[2] (d) := pop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4 iload_2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; push r[2] (d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5 ifle 14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; branch if &lt;= 0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  …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25 iload_0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; push r[0]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26 ireturn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; return in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81480" y="1676520"/>
            <a:ext cx="381024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imes New Roman"/>
              </a:rPr>
              <a:t>Lokalni registri r[0], r[1] sadr</a:t>
            </a:r>
            <a:r>
              <a:rPr b="0" lang="hr-HR" sz="2600" spc="-1" strike="noStrike">
                <a:solidFill>
                  <a:srgbClr val="000099"/>
                </a:solidFill>
                <a:latin typeface="Times New Roman"/>
              </a:rPr>
              <a:t>ž</a:t>
            </a:r>
            <a:r>
              <a:rPr b="0" lang="en-US" sz="2600" spc="-1" strike="noStrike">
                <a:solidFill>
                  <a:srgbClr val="000099"/>
                </a:solidFill>
                <a:latin typeface="Times New Roman"/>
              </a:rPr>
              <a:t>e aktuelne argumente po ulasku  u proceduru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Poređenje sa  </a:t>
            </a:r>
            <a:br>
              <a:rPr sz="2600"/>
            </a:b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Decaf-VM</a:t>
            </a: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imes New Roman"/>
              </a:rPr>
              <a:t>Može biti ponovo korišćen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imes New Roman"/>
              </a:rPr>
              <a:t>Sve operacije se rade na steku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0205-BFA9-46C1-9A4B-B147A280513F}" type="slidenum">
              <a:t>2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6DBD5E-2788-4EB3-B238-5D8D52FEBE8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Java Bytecode primjer (nastavak)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Method void main(java.lang.String[])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0 getstatic #3 &lt;Field java.io.PrintStream out&gt; 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990000"/>
                </a:solidFill>
                <a:latin typeface="Times New Roman"/>
              </a:rPr>
              <a:t>; push System.out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3 bipush 33 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990000"/>
                </a:solidFill>
                <a:latin typeface="Times New Roman"/>
              </a:rPr>
              <a:t>; push integer byte 33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5 bipush 42 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990000"/>
                </a:solidFill>
                <a:latin typeface="Times New Roman"/>
              </a:rPr>
              <a:t>; push integer byte 42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7 invokestatic #2 &lt;Method int gcd(int, int)&gt;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990000"/>
                </a:solidFill>
                <a:latin typeface="Times New Roman"/>
              </a:rPr>
              <a:t>; invoke static method gcd()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10 invokevirtual #4 &lt;Method void println(int)&gt;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990000"/>
                </a:solidFill>
                <a:latin typeface="Times New Roman"/>
              </a:rPr>
              <a:t>; invoke instance method println()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13 return 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990000"/>
                </a:solidFill>
                <a:latin typeface="Times New Roman"/>
              </a:rPr>
              <a:t>; return from main()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4640-A88B-4DC0-A500-058B114B8A3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C1975C-7BCA-453D-8845-1D510E66615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TAC: MPR model za Decaf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048120"/>
            <a:ext cx="2209680" cy="1295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 ko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05520" y="3048120"/>
            <a:ext cx="2209680" cy="1295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t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o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1" idx="3"/>
            <a:endCxn id="162" idx="1"/>
          </p:cNvCxnSpPr>
          <p:nvPr/>
        </p:nvCxnSpPr>
        <p:spPr>
          <a:xfrm>
            <a:off x="4123800" y="3695400"/>
            <a:ext cx="9723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5" idx="1"/>
            <a:endCxn id="165" idx="3"/>
          </p:cNvCxnSpPr>
          <p:nvPr/>
        </p:nvCxnSpPr>
        <p:spPr>
          <a:xfrm>
            <a:off x="151920" y="3695400"/>
            <a:ext cx="17535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67" idx="1"/>
            <a:endCxn id="167" idx="3"/>
          </p:cNvCxnSpPr>
          <p:nvPr/>
        </p:nvCxnSpPr>
        <p:spPr>
          <a:xfrm>
            <a:off x="7314840" y="3619080"/>
            <a:ext cx="1677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152280" y="3048120"/>
            <a:ext cx="17528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nt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14800" y="3657600"/>
            <a:ext cx="914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315200" y="3124080"/>
            <a:ext cx="1676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Asemblers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jez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66880" y="2066760"/>
            <a:ext cx="123840" cy="990720"/>
          </a:xfrm>
          <a:custGeom>
            <a:avLst/>
            <a:gdLst/>
            <a:ahLst/>
            <a:rect l="l" t="t" r="r" b="b"/>
            <a:pathLst>
              <a:path w="78" h="624">
                <a:moveTo>
                  <a:pt x="78" y="0"/>
                </a:moveTo>
                <a:cubicBezTo>
                  <a:pt x="64" y="23"/>
                  <a:pt x="0" y="86"/>
                  <a:pt x="0" y="138"/>
                </a:cubicBezTo>
                <a:cubicBezTo>
                  <a:pt x="0" y="190"/>
                  <a:pt x="78" y="256"/>
                  <a:pt x="78" y="312"/>
                </a:cubicBezTo>
                <a:cubicBezTo>
                  <a:pt x="78" y="368"/>
                  <a:pt x="0" y="422"/>
                  <a:pt x="0" y="474"/>
                </a:cubicBezTo>
                <a:cubicBezTo>
                  <a:pt x="0" y="526"/>
                  <a:pt x="62" y="593"/>
                  <a:pt x="78" y="624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2666880" y="4343400"/>
            <a:ext cx="123840" cy="990720"/>
          </a:xfrm>
          <a:custGeom>
            <a:avLst/>
            <a:gdLst/>
            <a:ahLst/>
            <a:rect l="l" t="t" r="r" b="b"/>
            <a:pathLst>
              <a:path w="78" h="624">
                <a:moveTo>
                  <a:pt x="78" y="0"/>
                </a:moveTo>
                <a:cubicBezTo>
                  <a:pt x="64" y="23"/>
                  <a:pt x="0" y="86"/>
                  <a:pt x="0" y="138"/>
                </a:cubicBezTo>
                <a:cubicBezTo>
                  <a:pt x="0" y="190"/>
                  <a:pt x="78" y="256"/>
                  <a:pt x="78" y="312"/>
                </a:cubicBezTo>
                <a:cubicBezTo>
                  <a:pt x="78" y="368"/>
                  <a:pt x="0" y="422"/>
                  <a:pt x="0" y="474"/>
                </a:cubicBezTo>
                <a:cubicBezTo>
                  <a:pt x="0" y="526"/>
                  <a:pt x="62" y="593"/>
                  <a:pt x="78" y="624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95880" y="2057400"/>
            <a:ext cx="123840" cy="990720"/>
          </a:xfrm>
          <a:custGeom>
            <a:avLst/>
            <a:gdLst/>
            <a:ahLst/>
            <a:rect l="l" t="t" r="r" b="b"/>
            <a:pathLst>
              <a:path w="78" h="624">
                <a:moveTo>
                  <a:pt x="78" y="0"/>
                </a:moveTo>
                <a:cubicBezTo>
                  <a:pt x="64" y="23"/>
                  <a:pt x="0" y="86"/>
                  <a:pt x="0" y="138"/>
                </a:cubicBezTo>
                <a:cubicBezTo>
                  <a:pt x="0" y="190"/>
                  <a:pt x="78" y="256"/>
                  <a:pt x="78" y="312"/>
                </a:cubicBezTo>
                <a:cubicBezTo>
                  <a:pt x="78" y="368"/>
                  <a:pt x="0" y="422"/>
                  <a:pt x="0" y="474"/>
                </a:cubicBezTo>
                <a:cubicBezTo>
                  <a:pt x="0" y="526"/>
                  <a:pt x="62" y="593"/>
                  <a:pt x="78" y="624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6095880" y="4333320"/>
            <a:ext cx="123840" cy="990360"/>
          </a:xfrm>
          <a:custGeom>
            <a:avLst/>
            <a:gdLst/>
            <a:ahLst/>
            <a:rect l="l" t="t" r="r" b="b"/>
            <a:pathLst>
              <a:path w="78" h="624">
                <a:moveTo>
                  <a:pt x="78" y="0"/>
                </a:moveTo>
                <a:cubicBezTo>
                  <a:pt x="64" y="23"/>
                  <a:pt x="0" y="86"/>
                  <a:pt x="0" y="138"/>
                </a:cubicBezTo>
                <a:cubicBezTo>
                  <a:pt x="0" y="190"/>
                  <a:pt x="78" y="256"/>
                  <a:pt x="78" y="312"/>
                </a:cubicBezTo>
                <a:cubicBezTo>
                  <a:pt x="78" y="368"/>
                  <a:pt x="0" y="422"/>
                  <a:pt x="0" y="474"/>
                </a:cubicBezTo>
                <a:cubicBezTo>
                  <a:pt x="0" y="526"/>
                  <a:pt x="62" y="593"/>
                  <a:pt x="78" y="624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971800" y="1981080"/>
            <a:ext cx="2971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Nezavisno 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jezika i maš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29400" y="1981080"/>
            <a:ext cx="1981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Zavis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od maš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1981080"/>
            <a:ext cx="1981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Zavisi 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jez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162920" y="44956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parc, x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5029200"/>
            <a:ext cx="1447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e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kreir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57400" y="5029200"/>
            <a:ext cx="1447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reb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apis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657600" y="5029200"/>
            <a:ext cx="1676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D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486400" y="5181480"/>
            <a:ext cx="1676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reb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apis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"/>
          <p:cNvCxnSpPr>
            <a:stCxn id="179" idx="0"/>
            <a:endCxn id="168" idx="2"/>
          </p:cNvCxnSpPr>
          <p:nvPr/>
        </p:nvCxnSpPr>
        <p:spPr>
          <a:xfrm flipV="1">
            <a:off x="4495680" y="4190760"/>
            <a:ext cx="76680" cy="838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78" idx="0"/>
          </p:cNvCxnSpPr>
          <p:nvPr/>
        </p:nvCxnSpPr>
        <p:spPr>
          <a:xfrm flipV="1">
            <a:off x="2781000" y="4419000"/>
            <a:ext cx="268920" cy="61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7" idx="0"/>
            <a:endCxn id="165" idx="2"/>
          </p:cNvCxnSpPr>
          <p:nvPr/>
        </p:nvCxnSpPr>
        <p:spPr>
          <a:xfrm flipV="1">
            <a:off x="952560" y="4342680"/>
            <a:ext cx="76680" cy="686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0" idx="0"/>
            <a:endCxn id="162" idx="2"/>
          </p:cNvCxnSpPr>
          <p:nvPr/>
        </p:nvCxnSpPr>
        <p:spPr>
          <a:xfrm flipH="1" flipV="1">
            <a:off x="6209640" y="4352400"/>
            <a:ext cx="114840" cy="829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9472-3EE2-41F2-9FC0-9CA112C4920F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70CBF6-C73A-46CC-A698-3CFA9EC2805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Troadresni kod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Generalni koncept sa više realizacija; osnovna ideja j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:= Y op Z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vo-, tro- i četvoro-adresni kod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eprezentacija kao trojke (triple), četvorke (quadruples), petorke (quintuples)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Neuniformna terminologija</a:t>
            </a:r>
            <a:endParaRPr b="0" lang="en-US" sz="2800" spc="-1" strike="noStrike">
              <a:solidFill>
                <a:srgbClr val="cc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ecaf TAC je izuzetno prost, ali dovoljan za kreiranje kompajlera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0D3B-5F5A-4C66-A39C-AFC5714E0DE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B6093A-0483-46A4-8C6F-64715A78E95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Generisanje TAC-a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Obilazak AST-a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AC se čuva kao rastuća lista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st&lt;Instruction*&gt;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zlaz na kraju obilaska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U obliku pogodnom za štampu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U MIPS asemblerskom kodu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Potrebno je obezbijediti emiter zavisan od mašine</a:t>
            </a:r>
            <a:endParaRPr b="0" lang="en-US" sz="2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420C-D031-40F0-AF7C-818B65FD46F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80B4A6-B4DF-41A4-8143-41C9AF13852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Šta je Decaf-TAC?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761760"/>
            <a:ext cx="8534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strukcije koje operišu sa imenovanim lokacijama i labelama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generički kod nivoa asemblera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Lokacij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vaka lokacija je mjesto za čuvanje 4 bajta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26"/>
              </a:spcBef>
              <a:buClr>
                <a:srgbClr val="cc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cc"/>
                </a:solidFill>
                <a:latin typeface="Times New Roman"/>
              </a:rPr>
              <a:t>Smatraćemo da broj lokacija nije ograničen</a:t>
            </a:r>
            <a:endParaRPr b="0" lang="en-US" sz="2600" spc="-1" strike="noStrike">
              <a:solidFill>
                <a:srgbClr val="cc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li na stek frejmu: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26"/>
              </a:spcBef>
              <a:buClr>
                <a:srgbClr val="cc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cc"/>
                </a:solidFill>
                <a:latin typeface="Times New Roman"/>
              </a:rPr>
              <a:t>Zadajemo offset (plus ostalu dostupnu informaciju)</a:t>
            </a:r>
            <a:endParaRPr b="0" lang="en-US" sz="2600" spc="-1" strike="noStrike">
              <a:solidFill>
                <a:srgbClr val="cc00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li globalna promjenljiva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26"/>
              </a:spcBef>
              <a:buClr>
                <a:srgbClr val="cc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cc"/>
                </a:solidFill>
                <a:latin typeface="Times New Roman"/>
              </a:rPr>
              <a:t>referisan preko globalnog imena</a:t>
            </a:r>
            <a:endParaRPr b="0" lang="en-US" sz="2600" spc="-1" strike="noStrike">
              <a:solidFill>
                <a:srgbClr val="cc00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abele (generišu se po potrebi)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itanja vezana za okolinu izvršavanja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A903-51F9-4F2B-AD23-7EF2FB9363D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4F0AD2-01A6-4C6F-AB73-A20BA5E31EF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Motivacija za MPR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4356000"/>
            <a:ext cx="845820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dr</a:t>
            </a:r>
            <a:r>
              <a:rPr b="0" lang="hr-HR" sz="2800" spc="-1" strike="noStrike">
                <a:solidFill>
                  <a:srgbClr val="000099"/>
                </a:solidFill>
                <a:latin typeface="Arial"/>
              </a:rPr>
              <a:t>š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ka za više front i back-endova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djela zadataka i odlaganje zadataka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Dozvoljava optimizaciju nezavisnu od mašin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28600" y="1066680"/>
            <a:ext cx="8609760" cy="3199680"/>
            <a:chOff x="228600" y="1066680"/>
            <a:chExt cx="8609760" cy="3199680"/>
          </a:xfrm>
        </p:grpSpPr>
        <p:grpSp>
          <p:nvGrpSpPr>
            <p:cNvPr id="48" name=""/>
            <p:cNvGrpSpPr/>
            <p:nvPr/>
          </p:nvGrpSpPr>
          <p:grpSpPr>
            <a:xfrm>
              <a:off x="228600" y="1066680"/>
              <a:ext cx="1542960" cy="3199680"/>
              <a:chOff x="228600" y="1066680"/>
              <a:chExt cx="1542960" cy="3199680"/>
            </a:xfrm>
          </p:grpSpPr>
          <p:sp>
            <p:nvSpPr>
              <p:cNvPr id="49" name=""/>
              <p:cNvSpPr/>
              <p:nvPr/>
            </p:nvSpPr>
            <p:spPr>
              <a:xfrm>
                <a:off x="390600" y="1066680"/>
                <a:ext cx="1299600" cy="8294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90600" y="2251800"/>
                <a:ext cx="1299600" cy="8294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Deca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28600" y="3437280"/>
                <a:ext cx="1542960" cy="8290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odula-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" name=""/>
            <p:cNvSpPr/>
            <p:nvPr/>
          </p:nvSpPr>
          <p:spPr>
            <a:xfrm>
              <a:off x="6158160" y="2251800"/>
              <a:ext cx="974520" cy="829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Arial"/>
                </a:rPr>
                <a:t>MP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2584080" y="1066680"/>
              <a:ext cx="1299240" cy="3199680"/>
              <a:chOff x="2584080" y="1066680"/>
              <a:chExt cx="1299240" cy="3199680"/>
            </a:xfrm>
          </p:grpSpPr>
          <p:sp>
            <p:nvSpPr>
              <p:cNvPr id="54" name=""/>
              <p:cNvSpPr/>
              <p:nvPr/>
            </p:nvSpPr>
            <p:spPr>
              <a:xfrm>
                <a:off x="2584080" y="1066680"/>
                <a:ext cx="1299240" cy="8294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Spar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584080" y="2251800"/>
                <a:ext cx="1299240" cy="8294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R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584080" y="3437280"/>
                <a:ext cx="1299240" cy="8290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x8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" name=""/>
            <p:cNvGrpSpPr/>
            <p:nvPr/>
          </p:nvGrpSpPr>
          <p:grpSpPr>
            <a:xfrm>
              <a:off x="4289760" y="1066680"/>
              <a:ext cx="1542960" cy="3199680"/>
              <a:chOff x="4289760" y="1066680"/>
              <a:chExt cx="1542960" cy="3199680"/>
            </a:xfrm>
          </p:grpSpPr>
          <p:sp>
            <p:nvSpPr>
              <p:cNvPr id="58" name=""/>
              <p:cNvSpPr/>
              <p:nvPr/>
            </p:nvSpPr>
            <p:spPr>
              <a:xfrm>
                <a:off x="4370760" y="1066680"/>
                <a:ext cx="1299600" cy="8294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70760" y="2251800"/>
                <a:ext cx="1299600" cy="8294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Deca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4289760" y="3437280"/>
                <a:ext cx="1542960" cy="8290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odula-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" name=""/>
            <p:cNvGrpSpPr/>
            <p:nvPr/>
          </p:nvGrpSpPr>
          <p:grpSpPr>
            <a:xfrm>
              <a:off x="7539120" y="1066680"/>
              <a:ext cx="1299240" cy="3199680"/>
              <a:chOff x="7539120" y="1066680"/>
              <a:chExt cx="1299240" cy="3199680"/>
            </a:xfrm>
          </p:grpSpPr>
          <p:sp>
            <p:nvSpPr>
              <p:cNvPr id="62" name=""/>
              <p:cNvSpPr/>
              <p:nvPr/>
            </p:nvSpPr>
            <p:spPr>
              <a:xfrm>
                <a:off x="7539120" y="1066680"/>
                <a:ext cx="1299240" cy="8294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Spar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7539120" y="2251800"/>
                <a:ext cx="1299240" cy="8294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R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539120" y="3437280"/>
                <a:ext cx="1299240" cy="8290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x8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5" name=""/>
            <p:cNvCxnSpPr>
              <a:stCxn id="49" idx="3"/>
              <a:endCxn id="54" idx="1"/>
            </p:cNvCxnSpPr>
            <p:nvPr/>
          </p:nvCxnSpPr>
          <p:spPr>
            <a:xfrm>
              <a:off x="1700640" y="1481040"/>
              <a:ext cx="8740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6" name=""/>
            <p:cNvCxnSpPr>
              <a:stCxn id="49" idx="3"/>
              <a:endCxn id="55" idx="1"/>
            </p:cNvCxnSpPr>
            <p:nvPr/>
          </p:nvCxnSpPr>
          <p:spPr>
            <a:xfrm>
              <a:off x="1700640" y="1481400"/>
              <a:ext cx="874080" cy="1185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7" name=""/>
            <p:cNvCxnSpPr>
              <a:stCxn id="49" idx="3"/>
              <a:endCxn id="56" idx="1"/>
            </p:cNvCxnSpPr>
            <p:nvPr/>
          </p:nvCxnSpPr>
          <p:spPr>
            <a:xfrm>
              <a:off x="1700640" y="1481040"/>
              <a:ext cx="874080" cy="23713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0" idx="3"/>
            </p:cNvCxnSpPr>
            <p:nvPr/>
          </p:nvCxnSpPr>
          <p:spPr>
            <a:xfrm flipV="1">
              <a:off x="1700280" y="1540440"/>
              <a:ext cx="803160" cy="1126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0" idx="3"/>
              <a:endCxn id="55" idx="1"/>
            </p:cNvCxnSpPr>
            <p:nvPr/>
          </p:nvCxnSpPr>
          <p:spPr>
            <a:xfrm>
              <a:off x="1700640" y="2666520"/>
              <a:ext cx="8740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50" idx="3"/>
              <a:endCxn id="56" idx="1"/>
            </p:cNvCxnSpPr>
            <p:nvPr/>
          </p:nvCxnSpPr>
          <p:spPr>
            <a:xfrm>
              <a:off x="1700640" y="2666880"/>
              <a:ext cx="874080" cy="1185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51" idx="3"/>
              <a:endCxn id="54" idx="1"/>
            </p:cNvCxnSpPr>
            <p:nvPr/>
          </p:nvCxnSpPr>
          <p:spPr>
            <a:xfrm flipV="1">
              <a:off x="1782000" y="1480680"/>
              <a:ext cx="792720" cy="23713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2" name=""/>
            <p:cNvCxnSpPr>
              <a:stCxn id="51" idx="3"/>
              <a:endCxn id="55" idx="1"/>
            </p:cNvCxnSpPr>
            <p:nvPr/>
          </p:nvCxnSpPr>
          <p:spPr>
            <a:xfrm flipV="1">
              <a:off x="1782000" y="2666520"/>
              <a:ext cx="792720" cy="1185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3" name=""/>
            <p:cNvCxnSpPr>
              <a:stCxn id="51" idx="3"/>
              <a:endCxn id="56" idx="1"/>
            </p:cNvCxnSpPr>
            <p:nvPr/>
          </p:nvCxnSpPr>
          <p:spPr>
            <a:xfrm>
              <a:off x="1782000" y="3852000"/>
              <a:ext cx="7927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58" idx="3"/>
              <a:endCxn id="52" idx="1"/>
            </p:cNvCxnSpPr>
            <p:nvPr/>
          </p:nvCxnSpPr>
          <p:spPr>
            <a:xfrm>
              <a:off x="5680440" y="1481400"/>
              <a:ext cx="467640" cy="1185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59" idx="3"/>
              <a:endCxn id="52" idx="1"/>
            </p:cNvCxnSpPr>
            <p:nvPr/>
          </p:nvCxnSpPr>
          <p:spPr>
            <a:xfrm>
              <a:off x="5680440" y="2666520"/>
              <a:ext cx="4676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6" name=""/>
            <p:cNvCxnSpPr>
              <a:stCxn id="60" idx="3"/>
              <a:endCxn id="52" idx="1"/>
            </p:cNvCxnSpPr>
            <p:nvPr/>
          </p:nvCxnSpPr>
          <p:spPr>
            <a:xfrm flipV="1">
              <a:off x="5843160" y="2666520"/>
              <a:ext cx="305280" cy="1185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7" name=""/>
            <p:cNvCxnSpPr>
              <a:stCxn id="52" idx="3"/>
              <a:endCxn id="62" idx="1"/>
            </p:cNvCxnSpPr>
            <p:nvPr/>
          </p:nvCxnSpPr>
          <p:spPr>
            <a:xfrm flipV="1">
              <a:off x="7143120" y="1481040"/>
              <a:ext cx="386640" cy="1185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8" name=""/>
            <p:cNvCxnSpPr>
              <a:stCxn id="52" idx="3"/>
              <a:endCxn id="63" idx="1"/>
            </p:cNvCxnSpPr>
            <p:nvPr/>
          </p:nvCxnSpPr>
          <p:spPr>
            <a:xfrm>
              <a:off x="7143120" y="2666520"/>
              <a:ext cx="38664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>
              <a:stCxn id="52" idx="3"/>
              <a:endCxn id="64" idx="1"/>
            </p:cNvCxnSpPr>
            <p:nvPr/>
          </p:nvCxnSpPr>
          <p:spPr>
            <a:xfrm>
              <a:off x="7143120" y="2666880"/>
              <a:ext cx="386640" cy="1185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FE7C-B1D4-4E9B-874D-A724FD18C7B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9162E5-851E-4FD5-9DBC-62D99F63DA9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Decaf TAC Instrukcije (I)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46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odjeljivanje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esna strana može biti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Lokacija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tring konstanta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Integer konstanta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Labela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92600" y="914400"/>
            <a:ext cx="4146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imjer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t2 = t1;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t3 = “Hello”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t5 = 42;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t7 = _L1;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4267080"/>
            <a:ext cx="761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-&gt;Append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new LoadStringConstant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/*t3=*/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TempVar(), 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“Hello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F7EE-88FE-48F8-8B3B-4164F739FB78}" type="slidenum">
              <a:t>3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CD2884-D33A-4F87-ADB4-B837E617EAE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Decaf TAC instrukcije (II)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14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ritmetičk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Binarno add, sub, multiply, divide, modulu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Jednakost (==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Relacioni (&lt;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Logički (&amp;&amp;, ||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191120" y="1066320"/>
            <a:ext cx="4572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Labele i grananje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Umetanje labele u TAC niz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_L4:</a:t>
            </a:r>
            <a:endParaRPr b="0" lang="en-US" sz="2800" spc="-1" strike="noStrike">
              <a:solidFill>
                <a:srgbClr val="cc00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Bezuslovni skok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Goto _L4</a:t>
            </a:r>
            <a:endParaRPr b="0" lang="en-US" sz="2800" spc="-1" strike="noStrike">
              <a:solidFill>
                <a:srgbClr val="cc00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Uslovni skok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IfZ t1 Goto _L3</a:t>
            </a:r>
            <a:endParaRPr b="0" lang="en-US" sz="28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C084-7307-4656-847F-A836BC7FF684}" type="slidenum">
              <a:t>3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9C3542-8799-428E-8AD2-2E8528BDDF7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Decaf TAC instrukcije (III)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4527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iprema poziva f-ij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PushParam t1;</a:t>
            </a: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(eval left to right)</a:t>
            </a: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(push right to left)</a:t>
            </a: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PopParams n</a:t>
            </a: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cc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cc"/>
                </a:solidFill>
                <a:latin typeface="Arial"/>
              </a:rPr>
              <a:t>(no effect on Sparc)</a:t>
            </a:r>
            <a:endParaRPr b="0" lang="en-US" sz="2600" spc="-1" strike="noStrike">
              <a:solidFill>
                <a:srgbClr val="cc00cc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92600" y="914400"/>
            <a:ext cx="4146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zivanje metoda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Label vs. Adres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LCall, ACall</a:t>
            </a: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Void vs. nonvoid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T1 = LCall _L3</a:t>
            </a: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ACall t3</a:t>
            </a: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0D42-7F1A-4AE1-B4EB-339ADDF1BC9B}" type="slidenum">
              <a:t>3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9A5825-27CB-42A9-83B3-AE23003C71B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Decaf TAC instrukcije (IV)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4527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efinisanje funkcija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BeginFunc &lt;n&gt;</a:t>
            </a: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cc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cc"/>
                </a:solidFill>
                <a:latin typeface="Arial"/>
              </a:rPr>
              <a:t>Ulazak u f-iju, specifkacija veličine  stek frejma</a:t>
            </a:r>
            <a:endParaRPr b="0" lang="en-US" sz="2600" spc="-1" strike="noStrike">
              <a:solidFill>
                <a:srgbClr val="cc00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EndFunc</a:t>
            </a: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Return</a:t>
            </a: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Return t3</a:t>
            </a: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66720" y="8380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Loads i Stor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Opcionalni integer offset</a:t>
            </a: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Primjeri:</a:t>
            </a: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cc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cc"/>
                </a:solidFill>
                <a:latin typeface="Arial"/>
              </a:rPr>
              <a:t>t2 = *(t4)</a:t>
            </a:r>
            <a:endParaRPr b="0" lang="en-US" sz="2600" spc="-1" strike="noStrike">
              <a:solidFill>
                <a:srgbClr val="cc00cc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cc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cc"/>
                </a:solidFill>
                <a:latin typeface="Arial"/>
              </a:rPr>
              <a:t>*(t5+4) = t6</a:t>
            </a:r>
            <a:endParaRPr b="0" lang="en-US" sz="2600" spc="-1" strike="noStrike">
              <a:solidFill>
                <a:srgbClr val="cc00cc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Specifikacija podataka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VTable name = &lt;list of labels&gt;</a:t>
            </a: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4993-0BB0-4C98-8BA6-3FBFC89892AF}" type="slidenum">
              <a:t>3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3D64E4-4DF4-4B7E-A3DF-8AF1161591E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Šta TAC nema?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Unarni minus, logi</a:t>
            </a:r>
            <a:r>
              <a:rPr b="0" lang="sr-Latn-CS" sz="3200" spc="-1" strike="noStrike">
                <a:solidFill>
                  <a:srgbClr val="000099"/>
                </a:solidFill>
                <a:latin typeface="Times New Roman"/>
              </a:rPr>
              <a:t>č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ko no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deksacija niza (provjera granica!)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rray.length()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elacioni &lt;=, &gt;=, &gt;, …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rugi uslovni skokovi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istup poljima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Koristi se base+offset load/stor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Method dispatch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Koristi se load iz vtable i Acal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83DA-3392-45E1-B284-7AA99763CDB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DB8358-CCCB-4E2B-BC35-0A6A2003D72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Built-in funkcije: libdecaf.c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520" y="609120"/>
            <a:ext cx="84582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alled using LCal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0" y="1143000"/>
          <a:ext cx="9144000" cy="5334120"/>
        </p:xfrm>
        <a:graphic>
          <a:graphicData uri="http://schemas.openxmlformats.org/drawingml/2006/table">
            <a:tbl>
              <a:tblPr/>
              <a:tblGrid>
                <a:gridCol w="2286000"/>
                <a:gridCol w="2021040"/>
                <a:gridCol w="1368360"/>
                <a:gridCol w="3468600"/>
              </a:tblGrid>
              <a:tr h="598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</a:rPr>
                        <a:t>paramteri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</a:rPr>
                        <a:t>vrača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_Alloc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nt sz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void *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llocate memory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_Readlin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har *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ad a lin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_ReadInteger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nt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ad an int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_StringEqual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har *a, *b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nt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mpare two string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_PrintInt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nt i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rint int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_PrintString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har *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rint string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_PrintBool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nt b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rint bool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_Halt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top (runtime error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97D7-7D2D-4623-B8F2-5B553E57F81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2E25A1-D20F-4E9F-8235-DFE1CD3B4EB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Emitovanje TAC: primjer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43754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void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main() {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int x;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int y;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x = ReadInteger();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y = ReadInteger();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Print(gcd(x, y), "\n");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581280" y="685800"/>
            <a:ext cx="55627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main: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BeginFunc 24 ;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_tmp9 = LCall _ReadInteger ;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x = _tmp9 ;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_tmp10 = LCall _ReadInteger ;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y = _tmp10 ;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PushParam y #1 ;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PushParam x #0 ;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_tmp11 = LCall _gcd ;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PopParams 8 ;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PushParam _tmp11 #0 ;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LCall _PrintInt ;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PopParams 4 ; </a:t>
            </a: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/* ostatka nema */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…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EndFunc ;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7A01-1341-4DC1-93D5-2D30056639D2}" type="slidenum">
              <a:t>3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A0D538-401E-4B4F-BFF8-4C00929D5C0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TAC primjer: IfZ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2280" y="685440"/>
            <a:ext cx="405144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int gcd(int x, int y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int d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 = x - y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if (d &gt; 0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return gcd(d, y)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else if (d &lt;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eturn gcd(x, -d)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eturn x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0" y="609480"/>
            <a:ext cx="4572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_gcd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BeginFunc 40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_tmp0 = x - y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d = _tmp0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_tmp1 = 0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_tmp2 = _tmp1 &lt; d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fZ _tmp2 Goto _L0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PushParam y #1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PushParam d #0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_tmp3 = LCall _gcd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PopParams 8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eturn _tmp3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Goto _L1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_L0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_tmp4 = 0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_L1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EndFunc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3CFC-9599-4597-9DD1-0CF3C14FCEB4}" type="slidenum">
              <a:t>3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6F6BEA-BDE2-4075-AB45-4C6BAEC9252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TAC: sintetisanje &lt;=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43754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int factorial(int n)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if (n &lt;=1 )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return 1;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return n*factorial(n-1);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void main()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Print(factorial(6));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962160" y="609480"/>
            <a:ext cx="51814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_factorial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BeginFunc 36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_tmp0 = 1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_tmp1 = n &lt; _tmp0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_tmp2 = n == _tmp0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_tmp3 = _tmp1 || _tmp2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IfZ _tmp3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Goto _L0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_tmp4 = 1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eturn _tmp4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_L0: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_tmp5 = 1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_tmp6 = n - _tmp5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PushParam _tmp6 #0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_tmp7 = LCall _factorial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PopParams 4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_tmp8 = n * _tmp7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eturn _tmp8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EndFunc 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42C9-D338-48A7-BCB4-8AD0A26D7154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4D1EC3-B761-4A49-9635-E1E4A80CC1D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TAC: pristup poljima (I)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-360" y="609120"/>
            <a:ext cx="4527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 P2 {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nt x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nt y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void set(int x, int y) {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this.x = x; this.y = y;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int getX() { return x; }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nt getY() { return y; }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nt abs() {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return x*x + y*y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343040" y="609480"/>
            <a:ext cx="4800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_P2.set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BeginFunc 0 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*(this + 4) = x 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*(this + 8) = y 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EndFunc 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_P2.getX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BeginFunc 4 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_tmp0 = *(this + 4) 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Return _tmp0 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EndFunc 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B867-7546-4895-9E6D-32F9503EF131}" type="slidenum">
              <a:t>3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8AD766-F14D-4BCC-8A92-403320E1AC9C}" type="datetime1">
              <a:rPr lang="en-US"/>
              <a:t>07/28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Kontinuum MPR-ova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86868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ostoji mnogo MP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ow-level MP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Kao RISC instrukcij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Registri, literali, proste operacij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High-level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Reference na nizove, izdvajanje polja, itd.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Čuvaju određenu semantiku, jer će možda kasnije iskoristiti tu informaciju za popravljanje koda ili za specifične brze mašinske operacij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4F62-2E04-45EA-A644-1FE560FB8C5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4C1393-69D5-4E31-BA80-DB158832CA4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TAC: pristup poljima (II)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4527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class P2 {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int x;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int y;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int set(int x, int y) { 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this.x = x; this.y = y; 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int getX() { return x; }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int getY() { return y; }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int abs() {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return x*x + y*y;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990000"/>
                </a:solidFill>
                <a:latin typeface="Arial"/>
              </a:rPr>
              <a:t>}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809520" y="609120"/>
            <a:ext cx="5334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_P2.abs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BeginFunc 28 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_tmp2 = *(this + 4) 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_tmp3 = *(this + 4) 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_tmp4 = _tmp2 * _tmp3 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_tmp5 = *(this + 8) 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_tmp6 = *(this + 8) 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_tmp7 = _tmp5 * _tmp6 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_tmp8 = _tmp4 + _tmp7 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Return _tmp8 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EndFunc 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CA51-9805-4A71-8D13-E90AC17FF76F}" type="slidenum">
              <a:t>4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725835-6E32-4D82-A0A8-B13C6B87DF50}" type="datetime1">
              <a:rPr lang="en-US"/>
              <a:t>07/28/26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TAC: virtuelni metodi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nt computeAbs(P2 p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return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p.abs()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n C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p-&gt;vtable-&gt;abs(p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886200" y="685800"/>
            <a:ext cx="5105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_computeAbs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eginFunc 12 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_tmp21 = *(p)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; thi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_tmp22 = *(_tmp21 + 12) 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ushParam p #0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; thi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_tmp23 = ACall _tmp22 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pParams 4 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Return _tmp23 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ndFunc 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6B23-8531-4897-A255-6D22C0326ECB}" type="slidenum">
              <a:t>4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0080CC-5EDE-4FE4-913C-E455C853FD88}" type="datetime1">
              <a:rPr lang="en-US"/>
              <a:t>07/28/26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TAC: implementacija </a:t>
            </a:r>
            <a:r>
              <a:rPr b="0" i="1" lang="en-US" sz="4000" spc="-1" strike="noStrike">
                <a:solidFill>
                  <a:srgbClr val="000099"/>
                </a:solidFill>
                <a:latin typeface="Arial"/>
              </a:rPr>
              <a:t>New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4527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2 makeNewPoint() {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return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New(P2)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343400" y="685440"/>
            <a:ext cx="44956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Arial"/>
              </a:rPr>
              <a:t>VTable P2 =</a:t>
            </a:r>
            <a:endParaRPr b="0" lang="en-US" sz="25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500" spc="-1" strike="noStrike">
                <a:solidFill>
                  <a:srgbClr val="000099"/>
                </a:solidFill>
                <a:latin typeface="Arial"/>
              </a:rPr>
              <a:t>_P2.set,</a:t>
            </a:r>
            <a:endParaRPr b="0" lang="en-US" sz="25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500" spc="-1" strike="noStrike">
                <a:solidFill>
                  <a:srgbClr val="000099"/>
                </a:solidFill>
                <a:latin typeface="Arial"/>
              </a:rPr>
              <a:t>_P2.getX,</a:t>
            </a:r>
            <a:endParaRPr b="0" lang="en-US" sz="25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500" spc="-1" strike="noStrike">
                <a:solidFill>
                  <a:srgbClr val="000099"/>
                </a:solidFill>
                <a:latin typeface="Arial"/>
              </a:rPr>
              <a:t>_P2.getY,</a:t>
            </a:r>
            <a:endParaRPr b="0" lang="en-US" sz="25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500" spc="-1" strike="noStrike">
                <a:solidFill>
                  <a:srgbClr val="000099"/>
                </a:solidFill>
                <a:latin typeface="Arial"/>
              </a:rPr>
              <a:t>_P2.abs,</a:t>
            </a:r>
            <a:endParaRPr b="0" lang="en-US" sz="25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25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Arial"/>
              </a:rPr>
              <a:t>_makeNewPoint:</a:t>
            </a:r>
            <a:endParaRPr b="0" lang="en-US" sz="25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500" spc="-1" strike="noStrike">
                <a:solidFill>
                  <a:srgbClr val="000099"/>
                </a:solidFill>
                <a:latin typeface="Arial"/>
              </a:rPr>
              <a:t>BeginFunc 12 ;</a:t>
            </a:r>
            <a:endParaRPr b="0" lang="en-US" sz="25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500" spc="-1" strike="noStrike">
                <a:solidFill>
                  <a:srgbClr val="990000"/>
                </a:solidFill>
                <a:latin typeface="Arial"/>
              </a:rPr>
              <a:t>_tmp24 = 12 ;</a:t>
            </a:r>
            <a:endParaRPr b="0" lang="en-US" sz="25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500" spc="-1" strike="noStrike">
                <a:solidFill>
                  <a:srgbClr val="990000"/>
                </a:solidFill>
                <a:latin typeface="Arial"/>
              </a:rPr>
              <a:t>PushParam _tmp24 #0 ;</a:t>
            </a:r>
            <a:endParaRPr b="0" lang="en-US" sz="25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500" spc="-1" strike="noStrike">
                <a:solidFill>
                  <a:srgbClr val="990000"/>
                </a:solidFill>
                <a:latin typeface="Arial"/>
              </a:rPr>
              <a:t>_tmp25 = LCall _Alloc ;</a:t>
            </a:r>
            <a:endParaRPr b="0" lang="en-US" sz="25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500" spc="-1" strike="noStrike">
                <a:solidFill>
                  <a:srgbClr val="990000"/>
                </a:solidFill>
                <a:latin typeface="Arial"/>
              </a:rPr>
              <a:t>PopParams 4 ;</a:t>
            </a:r>
            <a:endParaRPr b="0" lang="en-US" sz="25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500" spc="-1" strike="noStrike">
                <a:solidFill>
                  <a:srgbClr val="990000"/>
                </a:solidFill>
                <a:latin typeface="Arial"/>
              </a:rPr>
              <a:t>_tmp26 = P2 ;</a:t>
            </a:r>
            <a:endParaRPr b="0" lang="en-US" sz="25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500" spc="-1" strike="noStrike">
                <a:solidFill>
                  <a:srgbClr val="990000"/>
                </a:solidFill>
                <a:latin typeface="Arial"/>
              </a:rPr>
              <a:t>*(_tmp25) = _tmp26</a:t>
            </a:r>
            <a:r>
              <a:rPr b="0" lang="en-US" sz="25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990000"/>
                </a:solidFill>
                <a:latin typeface="Arial"/>
              </a:rPr>
              <a:t>;</a:t>
            </a:r>
            <a:endParaRPr b="0" lang="en-US" sz="25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500" spc="-1" strike="noStrike">
                <a:solidFill>
                  <a:srgbClr val="000099"/>
                </a:solidFill>
                <a:latin typeface="Arial"/>
              </a:rPr>
              <a:t>Return _tmp25 ;</a:t>
            </a:r>
            <a:endParaRPr b="0" lang="en-US" sz="25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500" spc="-1" strike="noStrike">
                <a:solidFill>
                  <a:srgbClr val="000099"/>
                </a:solidFill>
                <a:latin typeface="Arial"/>
              </a:rPr>
              <a:t>EndFunc ;</a:t>
            </a:r>
            <a:endParaRPr b="0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09E0-E525-4E23-8549-EB08F4A57997}" type="slidenum">
              <a:t>4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040AF8-AAD8-400A-BC9F-A1E4FCB13644}" type="datetime1">
              <a:rPr lang="en-US"/>
              <a:t>07/28/26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TAC: implementacija </a:t>
            </a:r>
            <a:r>
              <a:rPr b="0" i="1" lang="en-US" sz="4000" spc="-1" strike="noStrike">
                <a:solidFill>
                  <a:srgbClr val="000099"/>
                </a:solidFill>
                <a:latin typeface="Arial"/>
              </a:rPr>
              <a:t>for 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petlje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4527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void main() {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int i;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for (i = 0; i &lt; 10; i = i + 1)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Print(i);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191120" y="762120"/>
            <a:ext cx="49528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main: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BeginFunc 24 ;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_tmp0 = 0 ;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i = _tmp0 ;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_L0: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_tmp1 = 10 ;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_tmp2 = i &lt; _tmp1 ;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IfZ _tmp2 Goto _L1 ;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PushParam i #0 ;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LCall _PrintInt ;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PopParams 4 ;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_tmp3 = 1 ;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_tmp4 = i + _tmp3 ;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i = _tmp4 ;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Goto _L0 ;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00"/>
                </a:solidFill>
                <a:latin typeface="Arial"/>
              </a:rPr>
              <a:t>_L1: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EndFunc ;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6A38-9843-4F67-9A1A-CF9886B8365F}" type="slidenum">
              <a:t>4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152E70-2C88-4817-80CD-CC3E5A985DFB}" type="datetime1">
              <a:rPr lang="en-US"/>
              <a:t>07/28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Kontinuum MPR-ova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4114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Originalni C sourc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float a[10][20];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[i][j+2];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High-level MPR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t1 = a[i, j+2]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// kao C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914400"/>
            <a:ext cx="41148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67080" y="685800"/>
            <a:ext cx="46483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Mid-level MP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1 = j + 2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2 = i * 20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3 = t1 + t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4 = 4 * t3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5 = addr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6 = t5 + t4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7 = *t6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// kao asemb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// koriste  privremene // promjenlj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06FA-7DC6-4EC2-B1A4-6A797DD6A18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BC4ADB-218F-406D-A378-0BA9D6BC8F5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Kontinuum MPR-ova 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ow-level IR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  // Kao RISC asemble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r1 = [fp - 4]    // Proste operacije na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r2 = [r1 + 2]    // registrima.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r3 = [fp - 8]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r4 = r3 * 20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r5 = r4 + r2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r6 = 4 * r5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r7 = fp – 216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f1 = [r7 + r6]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B31B-F4E1-42D8-BE66-7E216EF67CE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77CAC9-01A0-44A3-BFBD-62998E17CE9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Oblici MPR-a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Više oblika je moguć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azličiti nivoi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imjeri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ST (Abstract syntax trees)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Vrlo visok nivo</a:t>
            </a:r>
            <a:endParaRPr b="0" lang="en-US" sz="2800" spc="-1" strike="noStrike">
              <a:solidFill>
                <a:srgbClr val="cc00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GCC-ov RTL (Register Transfer Language)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Nizak nivo</a:t>
            </a:r>
            <a:endParaRPr b="0" lang="en-US" sz="2800" spc="-1" strike="noStrike">
              <a:solidFill>
                <a:srgbClr val="cc00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Java bytecod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Visok nivo</a:t>
            </a:r>
            <a:endParaRPr b="0" lang="en-US" sz="2800" spc="-1" strike="noStrike">
              <a:solidFill>
                <a:srgbClr val="cc00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roadresni kod (Three Address Code)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7D3C-EC1A-4287-9F38-1D4A9ED8702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ED2DB8-62A2-4037-B900-75A116BE9CA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AST kao MPR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ogram –&gt; function_lis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unction_list –&gt; function_list function | funct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unction –&gt; PROCEDURE ident ( params ) body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arams –&gt; …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B11F-50EA-4929-BF56-B4633F7D0BD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1F1C2C-9E90-4813-B9FD-FF637AB5208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AST kao MPR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OCEDURE main()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BEGI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tatement...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OCEDURE factorial(n:INTEGER)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BEGI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tatement...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C89A-0110-4189-B5C8-36D35780FFF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6F4385-7494-40FC-B466-AA93823F027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5T08:15:37Z</dcterms:created>
  <dc:creator>Godmar Back</dc:creator>
  <dc:description/>
  <dc:language>en-US</dc:language>
  <cp:lastModifiedBy>Home</cp:lastModifiedBy>
  <dcterms:modified xsi:type="dcterms:W3CDTF">2009-04-01T20:33:03Z</dcterms:modified>
  <cp:revision>4877</cp:revision>
  <dc:subject/>
  <dc:title>Welcome to CS143</dc:title>
</cp:coreProperties>
</file>