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99558-0149-4CB9-A47B-2A43728C41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2989A7-61FC-4557-9928-13AA25B591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79440" y="614520"/>
            <a:ext cx="4783320" cy="3587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19EAA-AEF8-4D32-8DEB-6B52CAD60F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76200" y="614520"/>
            <a:ext cx="4786560" cy="35892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F4ABE-AE49-48C3-BFB7-68F14F8B05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76200" y="614520"/>
            <a:ext cx="4786560" cy="35892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8C624-8A17-4AF7-873E-04BAF6A362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76200" y="614520"/>
            <a:ext cx="4786560" cy="35892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3B649-7559-429A-A112-7F1723E5A4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E215F-062C-4ABA-ADC3-B2FECA20B0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D78A0-64AB-44C0-920A-2FDB5D3650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352F5-62E7-46A2-B3CC-05285C3640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6A2F7-3977-47E9-A21B-80DCF44C2A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D82E3-7FDF-46B3-BEA6-12487A47C9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39457-D417-4F65-919F-7DC9D2B16D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95505-698A-4CC7-86F9-3D542A490E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79440" y="614520"/>
            <a:ext cx="4783320" cy="3587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E3ECA-4F91-40C5-AD2F-F7E12E933A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79440" y="614520"/>
            <a:ext cx="4783320" cy="3587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B9AA7-1C85-4F94-B20D-93D1FA546E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79440" y="614520"/>
            <a:ext cx="4783320" cy="3587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EE12D-9562-47EB-9378-8D4DDC36AB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78000" y="615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53CD8-2A61-433A-878E-610D944802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78000" y="615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727EE-F8D4-43D1-9A27-7C3C6CB5C6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78000" y="615960"/>
            <a:ext cx="4786200" cy="35892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8F157-F79C-4E9C-92AE-632B62202B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6A00E-4FA1-4252-B912-83ADB88F50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B0E83-EF7B-4B07-AB9B-3EC2DD3B6D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A0AAE-D2B4-4A2F-85D2-D51B619277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B7ABF-FC37-45B5-9A02-BAD7D4665B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CED9B-530B-45D0-93D3-91A83605AD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B768E-1331-42FF-83ED-DB1C3A5F08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7C9CC-E919-409E-BE78-04C39196D8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BD956-CD1C-4B62-9942-DA8427F7B1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487DE-B72B-40FA-90E2-0038BFF34F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E285D-0DD3-4D17-8421-F4FF80C17B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73320" y="617400"/>
            <a:ext cx="4781520" cy="35863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22DF7-575A-4BA8-80B0-A06DB76C58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79440" y="614520"/>
            <a:ext cx="4783320" cy="3587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50800" y="4562640"/>
            <a:ext cx="6300720" cy="43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5258-0D32-44ED-904C-7B596B08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FC76-3F02-4CBD-ACE3-BB7DBCFF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28CE-4CD9-4B08-B006-DED1472C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F7F1-173C-44EB-ACF8-17460D89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56AE-6EDD-418D-A8B4-641E6676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D56C-686C-4597-B7AE-2F617A68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B2B1-420F-4657-BEF2-C9A0B937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4FC5-0214-497C-8995-7BF4DA76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F403-E134-41D1-8B8A-8656C17E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9B51-FF54-4C82-8E67-A22A4778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E94E-C390-4B92-8008-EB0D705A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1D3E-0BCF-45C6-8656-B0C15CC9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E1D7-4994-4B52-B75E-FAB4EFFE1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achyonsoft.com/elf.html" TargetMode="External"/><Relationship Id="rId2" Type="http://schemas.openxmlformats.org/officeDocument/2006/relationships/hyperlink" Target="http://www.ibm.com/developerworks/power/library/pa-spec12/" TargetMode="External"/><Relationship Id="rId3" Type="http://schemas.openxmlformats.org/officeDocument/2006/relationships/hyperlink" Target="http://www.linuxjournal.com/node/1060/print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d koda do </a:t>
            </a:r>
            <a:r>
              <a:rPr b="0" lang="sr-Latn-CS" sz="5400" spc="-1" strike="noStrike">
                <a:solidFill>
                  <a:srgbClr val="000000"/>
                </a:solidFill>
                <a:latin typeface="Times New Roman"/>
              </a:rPr>
              <a:t>izvršavanj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A010-3748-4031-9BF3-7F052725CC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10600"/>
            <a:ext cx="85345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emb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: Assembly Language Cod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p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o.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: Object Code, information tab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p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o.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ita i koristi direktive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Directives</a:t>
            </a:r>
            <a:r>
              <a:rPr b="0" lang="sr-Latn-CS" sz="32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mjenjuje 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udoinstr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reira mašinski jez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rei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Object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able and Linking Format (ELF) – format objektnog faj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5714-95A0-4C7B-8161-B38AE1E174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210600"/>
            <a:ext cx="74790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bler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sk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050480"/>
            <a:ext cx="8229600" cy="52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aju uputst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embler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li ne prave mašinske instru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tex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men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inski k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aci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segme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bina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 reprezentacija podataka iz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f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jl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glob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cij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kojoj se može pristupati iz drugih fajl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asciiz 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ješt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word w1…w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ješt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2-bi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ih vrijednosti u uzastopne memorijske lo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78B3-1140-44D3-97B3-B56DD2E939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10600"/>
            <a:ext cx="85345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Zamjena 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udoinstru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000080"/>
            <a:ext cx="845820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Times New Roman"/>
              <a:buChar char="•"/>
              <a:tabLst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Pseudo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eal</a:t>
            </a:r>
            <a:r>
              <a:rPr b="0" lang="sr-Latn-CS" sz="3600" spc="-1" strike="noStrike">
                <a:solidFill>
                  <a:srgbClr val="3333cc"/>
                </a:solidFill>
                <a:latin typeface="Times New Roman"/>
              </a:rPr>
              <a:t>no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bu $sp,$sp,32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iu $sp,$sp,-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d $a0, 32($sp)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 $a0, 32($sp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w $a1, 36($s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ul $t7,$t6,$t5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ul $t6,$t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flo $t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u $t0,$t6,1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ddiu $t0,$t6,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le $t0,100,loop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lti $at,$t0,10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ne $at,$0,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a $a0, str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ui $at,left(str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ri $a0,$at,right(st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F01A-358D-41C9-BFC8-8C6EB24B44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reiranje mašinskog kod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ostavni slučaje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met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k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log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ke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if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ovi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 neophodna informacija je unutar instrukcij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ta sa grananjem (branche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no u odnosu na Program Counter (P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a kada se zamijen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-instr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 stvarnim instrukcijama, znamo koliko instrukcija da ide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D6BC-5285-4DF9-85A2-C8D306DB32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reiranje mašinskog kod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36960" indent="-280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ward Reference”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-234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nch instr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cije mogu referencirat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e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 koje su naprijed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forward”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6600" indent="-234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vo se rješava sa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olaza kroz progr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16120" indent="-18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vi prola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amti pozicije lab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16120" indent="-18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Drugi prola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oristi pozicije labela za generisanje 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95280" y="2514600"/>
            <a:ext cx="7848720" cy="16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7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or   $v0, $0,  $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L1: slt  $t0, $0,  $a1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beq  $t0, $0, 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L2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addi $a1, $a1, -1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j    L1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urier New"/>
                <a:ea typeface="ＭＳ Ｐゴシック"/>
              </a:rPr>
              <a:t>L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add  $t1, $a0, $a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3F22-7BD3-4BC2-B051-B332AB820D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784872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ta sa skokovi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j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mp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zahtijeva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cc99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solut</a:t>
            </a:r>
            <a:r>
              <a:rPr b="0" lang="sr-Latn-CS" sz="2800" spc="-1" strike="noStrike">
                <a:solidFill>
                  <a:srgbClr val="00cc99"/>
                </a:solidFill>
                <a:latin typeface="Times New Roman"/>
              </a:rPr>
              <a:t>nu adres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pa bez obzira da li je forward ili ne, ne može se generisati kod bez pozicije instrukcije u memorij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ta s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ma na podatk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e razbija 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u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ne zahtijevaju pun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2-bi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re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podatk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vo se ne može odrediti unaprijed, pa se kreiraju dvije tabe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reiranje mašinskog koda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/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4141-D3B3-4874-BEBC-8FD1B66F3C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Tabela simbola 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bol Table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vih elemen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items”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 u fajlu koji mogu biti korišćeni u drugom fajl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ji su to elemen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e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poziv funkcij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calling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ac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e iz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cc99"/>
                </a:solidFill>
                <a:latin typeface="Courier New"/>
                <a:ea typeface="Courier New"/>
              </a:rPr>
              <a:t>.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ci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jenljive kojim se može pristupati kroz različite fajl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9814-583A-4A40-9C52-BB3784B1AC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7412040" cy="38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lemen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items”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 koje ovaj fajl treba da dresira kasni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ji su to elemen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9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a labela iz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j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5544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nutrašnj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544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poljašnj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ncluding lib fi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9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i dio podat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5544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ao što j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tru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Tabela relokacije (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location Table</a:t>
            </a: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5299-98F0-405B-BE6C-7D1DF49B0B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5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c99"/>
                </a:solidFill>
                <a:uFillTx/>
                <a:latin typeface="Times New Roman"/>
              </a:rPr>
              <a:t>object file head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veličina i pozicija drugih dijelova objektnog fajl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5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c99"/>
                </a:solidFill>
                <a:uFillTx/>
                <a:latin typeface="Times New Roman"/>
              </a:rPr>
              <a:t>text segmen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ma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šinski ko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5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c99"/>
                </a:solidFill>
                <a:uFillTx/>
                <a:latin typeface="Times New Roman"/>
              </a:rPr>
              <a:t>data segmen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binar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repre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ta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cija podataka iz source-fajl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5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c99"/>
                </a:solidFill>
                <a:uFillTx/>
                <a:latin typeface="Times New Roman"/>
              </a:rPr>
              <a:t>relocation inform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identifi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kuj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in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kode koje treba kasnije obradit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5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c99"/>
                </a:solidFill>
                <a:uFillTx/>
                <a:latin typeface="Times New Roman"/>
              </a:rPr>
              <a:t>symbol tabl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: list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bel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a i podataka iz tekućeg fajla koji će možda referencirat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5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c99"/>
                </a:solidFill>
                <a:uFillTx/>
                <a:latin typeface="Times New Roman"/>
              </a:rPr>
              <a:t>debugging in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Fil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2B65-59BC-448E-9417-CE1BA0CC91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E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tachyonsoft.com/elf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ibm.com/developerworks/power/library/pa-spec12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linuxjournal.com/node/1060/pr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57F5-67B4-4952-AC2C-7F682EA032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iranje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revo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ko pokrećemo program napisan u jeziku višeg nivo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Dir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o izvršavamo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Prevodilac (kompajler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ver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j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laznog (source) jezika 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al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gram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 drugom jezi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p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ogram u jezik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o.s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2CA1-5C8C-4FA0-B03E-80F223C134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Format objektnog faj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316160"/>
            <a:ext cx="8028000" cy="459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73B2-54E9-4756-A4AF-35507ACBBD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Format objektnog faj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227560" cy="579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5BA4-2C65-497E-A01B-7A842412A5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Programski kod može se nalaziti u više modula, a često se koriste neki utility-programi koji su dio operativnog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Linker – program koji povezuje više objektnih programa, rutina operativnog sistema i drugih utility-programa u jednu cjeli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"load module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Loader - 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oad module" se smješta u operativnu memoriju; loader je često dio OS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Linker i loa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54E-E006-4BA8-96FE-A3AFA5BABA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10600"/>
            <a:ext cx="85345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Editor/Lin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732960"/>
            <a:ext cx="8077320" cy="58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: Object Code, information tabl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p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o.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: Executable Cod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(np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.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b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viš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j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.o) f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jlova u jed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“</a:t>
            </a:r>
            <a:r>
              <a:rPr b="0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link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mogućava odvojeno prevođenje fajlo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jena jednog fajla ne zahtijeva rekompilaciju cijelog pro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Editor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– ime zbog promje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ting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ez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links”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ump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nk instru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9D0F-2180-4D54-BE1E-81D8E0C506B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Editor/Link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0960" y="762120"/>
            <a:ext cx="14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.o fil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11600" y="1219320"/>
            <a:ext cx="1174320" cy="5814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tex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12680" y="1828800"/>
            <a:ext cx="1308600" cy="5814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data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12320" y="2438280"/>
            <a:ext cx="1172880" cy="5814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info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40960" y="3429000"/>
            <a:ext cx="148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.o fil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11600" y="3886200"/>
            <a:ext cx="1174320" cy="581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ex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12680" y="4495680"/>
            <a:ext cx="1308600" cy="581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ata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12320" y="5105520"/>
            <a:ext cx="1172880" cy="581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fo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3600" y="289548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Lin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2666880"/>
            <a:ext cx="2133720" cy="114300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3480" y="16178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.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1981080"/>
            <a:ext cx="457200" cy="76212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514600" y="3809520"/>
            <a:ext cx="533520" cy="83844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3200400"/>
            <a:ext cx="838080" cy="0"/>
          </a:xfrm>
          <a:prstGeom prst="line">
            <a:avLst/>
          </a:prstGeom>
          <a:ln w="381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12920" y="2133720"/>
            <a:ext cx="3115800" cy="5814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Relocated text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12920" y="2743200"/>
            <a:ext cx="3115800" cy="581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located text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14000" y="3352680"/>
            <a:ext cx="3250080" cy="5814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Relocated data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14000" y="3962520"/>
            <a:ext cx="3250080" cy="581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located data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3830-98EC-4F46-BFD8-3899A6C0354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10600"/>
            <a:ext cx="762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Editor/Link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r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zim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 svako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o f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 i sastavlja i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zima 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 svako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o f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 sastavl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h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i nadovezuje ih na kraj tekst-segmen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3: 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zrješava 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lazi kro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ocation Tabl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 obrađuje svaku poziciju tj. popunjava ih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olut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nim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dres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B508-8176-4C13-B98D-B616BDB6B91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-Relativ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dresiran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e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ikada se ne premješta (n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ever relocate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a adres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lway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o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Reference 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bičn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j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relo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Reference 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e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lu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r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reloc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tipa adre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E703-C617-4034-9806-6571F808A5E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adrese u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-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20400" indent="-26712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je instrukcije zahtijevaju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ocation editing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22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-format: jump, jump and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22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s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ores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jenljivim 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ekcij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relati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o u odnosu n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kaziv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040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22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ta sa uslovnim grananj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720" indent="-222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-relativno adres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anje </a:t>
            </a:r>
            <a:r>
              <a:rPr b="0" lang="sr-Latn-CS" sz="2800" spc="-1" strike="noStrike">
                <a:solidFill>
                  <a:srgbClr val="00cc99"/>
                </a:solidFill>
                <a:latin typeface="Times New Roman"/>
              </a:rPr>
              <a:t>očuvano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a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 ako se kod pomj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533520" y="2133720"/>
            <a:ext cx="8153280" cy="591120"/>
            <a:chOff x="533520" y="2133720"/>
            <a:chExt cx="8153280" cy="591120"/>
          </a:xfrm>
        </p:grpSpPr>
        <p:sp>
          <p:nvSpPr>
            <p:cNvPr id="124" name="Text Box 5"/>
            <p:cNvSpPr/>
            <p:nvPr/>
          </p:nvSpPr>
          <p:spPr>
            <a:xfrm>
              <a:off x="717840" y="213372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j/j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6"/>
            <p:cNvSpPr/>
            <p:nvPr/>
          </p:nvSpPr>
          <p:spPr>
            <a:xfrm>
              <a:off x="4703760" y="213372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xxxx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7"/>
            <p:cNvSpPr/>
            <p:nvPr/>
          </p:nvSpPr>
          <p:spPr>
            <a:xfrm>
              <a:off x="2057400" y="2133720"/>
              <a:ext cx="0" cy="59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8"/>
            <p:cNvSpPr/>
            <p:nvPr/>
          </p:nvSpPr>
          <p:spPr>
            <a:xfrm>
              <a:off x="533520" y="2133720"/>
              <a:ext cx="8153280" cy="5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1"/>
          <p:cNvGrpSpPr/>
          <p:nvPr/>
        </p:nvGrpSpPr>
        <p:grpSpPr>
          <a:xfrm>
            <a:off x="609480" y="3657600"/>
            <a:ext cx="8153640" cy="615240"/>
            <a:chOff x="609480" y="3657600"/>
            <a:chExt cx="8153640" cy="615240"/>
          </a:xfrm>
        </p:grpSpPr>
        <p:grpSp>
          <p:nvGrpSpPr>
            <p:cNvPr id="129" name="Group 12"/>
            <p:cNvGrpSpPr/>
            <p:nvPr/>
          </p:nvGrpSpPr>
          <p:grpSpPr>
            <a:xfrm>
              <a:off x="824040" y="3657600"/>
              <a:ext cx="7269120" cy="615240"/>
              <a:chOff x="824040" y="3657600"/>
              <a:chExt cx="7269120" cy="615240"/>
            </a:xfrm>
          </p:grpSpPr>
          <p:sp>
            <p:nvSpPr>
              <p:cNvPr id="130" name="Text Box 13"/>
              <p:cNvSpPr/>
              <p:nvPr/>
            </p:nvSpPr>
            <p:spPr>
              <a:xfrm>
                <a:off x="824040" y="365760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ＭＳ Ｐゴシック"/>
                  </a:rPr>
                  <a:t>lw/sw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Text Box 14"/>
              <p:cNvSpPr/>
              <p:nvPr/>
            </p:nvSpPr>
            <p:spPr>
              <a:xfrm>
                <a:off x="2409480" y="365760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ＭＳ Ｐゴシック"/>
                  </a:rPr>
                  <a:t>$gp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Text Box 15"/>
              <p:cNvSpPr/>
              <p:nvPr/>
            </p:nvSpPr>
            <p:spPr>
              <a:xfrm>
                <a:off x="3786480" y="365760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ＭＳ Ｐゴシック"/>
                  </a:rPr>
                  <a:t>$x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Text Box 16"/>
              <p:cNvSpPr/>
              <p:nvPr/>
            </p:nvSpPr>
            <p:spPr>
              <a:xfrm>
                <a:off x="5265720" y="3759840"/>
                <a:ext cx="183960" cy="51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Text Box 17"/>
              <p:cNvSpPr/>
              <p:nvPr/>
            </p:nvSpPr>
            <p:spPr>
              <a:xfrm>
                <a:off x="7908840" y="3759840"/>
                <a:ext cx="184320" cy="51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Text Box 18"/>
              <p:cNvSpPr/>
              <p:nvPr/>
            </p:nvSpPr>
            <p:spPr>
              <a:xfrm>
                <a:off x="5789880" y="3657600"/>
                <a:ext cx="1674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ＭＳ Ｐゴシック"/>
                  </a:rPr>
                  <a:t>addre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Rectangle 19"/>
            <p:cNvSpPr/>
            <p:nvPr/>
          </p:nvSpPr>
          <p:spPr>
            <a:xfrm>
              <a:off x="609480" y="3657600"/>
              <a:ext cx="8153640" cy="591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0"/>
            <p:cNvSpPr/>
            <p:nvPr/>
          </p:nvSpPr>
          <p:spPr>
            <a:xfrm>
              <a:off x="2133720" y="3657600"/>
              <a:ext cx="0" cy="59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1"/>
            <p:cNvSpPr/>
            <p:nvPr/>
          </p:nvSpPr>
          <p:spPr>
            <a:xfrm>
              <a:off x="3429000" y="3657600"/>
              <a:ext cx="0" cy="59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2"/>
            <p:cNvSpPr/>
            <p:nvPr/>
          </p:nvSpPr>
          <p:spPr>
            <a:xfrm>
              <a:off x="4648320" y="3657600"/>
              <a:ext cx="0" cy="59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25"/>
          <p:cNvGrpSpPr/>
          <p:nvPr/>
        </p:nvGrpSpPr>
        <p:grpSpPr>
          <a:xfrm>
            <a:off x="610560" y="4876920"/>
            <a:ext cx="8154000" cy="591480"/>
            <a:chOff x="610560" y="4876920"/>
            <a:chExt cx="8154000" cy="591480"/>
          </a:xfrm>
        </p:grpSpPr>
        <p:grpSp>
          <p:nvGrpSpPr>
            <p:cNvPr id="141" name="Group 26"/>
            <p:cNvGrpSpPr/>
            <p:nvPr/>
          </p:nvGrpSpPr>
          <p:grpSpPr>
            <a:xfrm>
              <a:off x="610560" y="4876920"/>
              <a:ext cx="7481880" cy="520560"/>
              <a:chOff x="610560" y="4876920"/>
              <a:chExt cx="7481880" cy="520560"/>
            </a:xfrm>
          </p:grpSpPr>
          <p:sp>
            <p:nvSpPr>
              <p:cNvPr id="142" name="Text Box 27"/>
              <p:cNvSpPr/>
              <p:nvPr/>
            </p:nvSpPr>
            <p:spPr>
              <a:xfrm>
                <a:off x="610560" y="4876920"/>
                <a:ext cx="1674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ＭＳ Ｐゴシック"/>
                  </a:rPr>
                  <a:t>beq/bn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Text Box 28"/>
              <p:cNvSpPr/>
              <p:nvPr/>
            </p:nvSpPr>
            <p:spPr>
              <a:xfrm>
                <a:off x="2408400" y="487692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ＭＳ Ｐゴシック"/>
                  </a:rPr>
                  <a:t>$r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Text Box 29"/>
              <p:cNvSpPr/>
              <p:nvPr/>
            </p:nvSpPr>
            <p:spPr>
              <a:xfrm>
                <a:off x="3676680" y="487692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ＭＳ Ｐゴシック"/>
                  </a:rPr>
                  <a:t>$r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Text Box 30"/>
              <p:cNvSpPr/>
              <p:nvPr/>
            </p:nvSpPr>
            <p:spPr>
              <a:xfrm>
                <a:off x="5265360" y="4979160"/>
                <a:ext cx="18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Text Box 31"/>
              <p:cNvSpPr/>
              <p:nvPr/>
            </p:nvSpPr>
            <p:spPr>
              <a:xfrm>
                <a:off x="7908480" y="4979160"/>
                <a:ext cx="18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Text Box 32"/>
              <p:cNvSpPr/>
              <p:nvPr/>
            </p:nvSpPr>
            <p:spPr>
              <a:xfrm>
                <a:off x="5788440" y="4876920"/>
                <a:ext cx="1674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  <a:ea typeface="ＭＳ Ｐゴシック"/>
                  </a:rPr>
                  <a:t>addre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Rectangle 33"/>
            <p:cNvSpPr/>
            <p:nvPr/>
          </p:nvSpPr>
          <p:spPr>
            <a:xfrm>
              <a:off x="611280" y="4876920"/>
              <a:ext cx="8153280" cy="591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4"/>
            <p:cNvSpPr/>
            <p:nvPr/>
          </p:nvSpPr>
          <p:spPr>
            <a:xfrm>
              <a:off x="2211120" y="4876920"/>
              <a:ext cx="0" cy="59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35"/>
            <p:cNvSpPr/>
            <p:nvPr/>
          </p:nvSpPr>
          <p:spPr>
            <a:xfrm>
              <a:off x="3430440" y="4876920"/>
              <a:ext cx="0" cy="59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6"/>
            <p:cNvSpPr/>
            <p:nvPr/>
          </p:nvSpPr>
          <p:spPr>
            <a:xfrm>
              <a:off x="4649760" y="4876920"/>
              <a:ext cx="0" cy="59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FE13-63C2-468D-93CF-E01744B813E5}" type="slidenum">
              <a:t>2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azrješavanje 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erenc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er </a:t>
            </a:r>
            <a:r>
              <a:rPr b="0" lang="sr-Latn-CS" sz="3200" spc="-1" strike="noStrike">
                <a:solidFill>
                  <a:srgbClr val="00cc99"/>
                </a:solidFill>
                <a:latin typeface="Times New Roman"/>
              </a:rPr>
              <a:t>pretpostavlja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 je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va riječ prvo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 na adresi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0x00000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sjetite 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virtua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mo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339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užin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segme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j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segme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339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račun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adre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e labele na koju se vrši sko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nter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 il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 svakog podatka koji se referenci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E539-6D56-4E92-A937-E183FBF8549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azrješavanje 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erenc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a bi razrješil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aži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ference (labe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li podataka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svi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user” tab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m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h n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đ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, traž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 u library f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jlo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pr, kada imamo poziv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se odre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adre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punjavamo mašinski kod na odgovarajući nač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la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inke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vršni fajl koji sadrži kod i podatk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lus hea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6B4-8956-410C-B896-970F47483C7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a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c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erpret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s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ji čita program napisan u jeziku 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m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 izvršava funkcije tog progra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AutoShape 5"/>
          <p:cNvCxnSpPr/>
          <p:nvPr/>
        </p:nvCxnSpPr>
        <p:spPr>
          <a:xfrm flipH="1">
            <a:off x="4571640" y="2057400"/>
            <a:ext cx="2160" cy="144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" name="Diagram 14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108840" cy="25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CC1A-583D-4346-A06F-3D531BC111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i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čk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i d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i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čko povezivan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pisali smo tradicionalni nač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atically-link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9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iblioteka je sada dio izvršnog ko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a ako se ona izmijeni, moramo prekompajlirati naš source da bi uračunali izmjene bibliote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9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ljučena je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it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iblioteka čak i ako se ne koristi u potpunost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92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vršni kod je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contained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-328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ternativ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 s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ynamically linked librari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LL)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običajene n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 &amp; UNIX platform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-328680">
              <a:spcBef>
                <a:spcPts val="799"/>
              </a:spcBef>
              <a:buClr>
                <a:srgbClr val="738ac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38ac8"/>
                </a:solidFill>
                <a:latin typeface="Times New Roman"/>
              </a:rPr>
              <a:t>en.wikipedia.org/wiki/Dynamic_l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938F-8037-4A41-AF7F-4097CCFDFA6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ally linked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/tim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od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uvanj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 zahtijeva manje prost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lan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gram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htijeva manje vrem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vršavan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gra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htijeva manje memorij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oni dijele bibliote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– 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Pri izvršavanju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troši se vrijeme da bi se odr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dilo povezivanje (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ime overhead to do link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339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grad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 bibliote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mjena jedog fajl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pr.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XYZ.s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upgr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-uje svak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gram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ji korist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XYZ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2240" indent="-28296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– 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Nije dovoljno imati samo izvršni ko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0" y="5715000"/>
            <a:ext cx="91440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1092240" y="-76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BD39-BEC7-4D59-B2A0-C3ADE4668C4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ally linked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inamičko povezivanje usložnjava kompajler, linker i OS, ali ima više prednosti negio man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02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istup koji preovladava je da se koristi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ki 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ka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ajmanji zajedničk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owest common)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adržala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72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ker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korist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iju kako j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li biblioteka 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mp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ran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j. koji je kompajler ili jezi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72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vo se može opisati ka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linking at the machine code level”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što nije jedini nači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E164-3A39-4858-A87B-570C9225CA4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PS arhitek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80880" y="1049400"/>
            <a:ext cx="8001000" cy="580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3C41-FD60-47CC-8964-3048F645F7A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upravljanje memorij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071720"/>
            <a:ext cx="8229600" cy="54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ima 3 izvora memor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99"/>
                </a:solidFill>
                <a:uFillTx/>
                <a:latin typeface="Times New Roman"/>
              </a:rPr>
              <a:t>Stati</a:t>
            </a:r>
            <a:r>
              <a:rPr b="0" lang="sr-Latn-CS" sz="2800" spc="-1" strike="noStrike" u="sng">
                <a:solidFill>
                  <a:srgbClr val="00cc99"/>
                </a:solidFill>
                <a:uFillTx/>
                <a:latin typeface="Times New Roman"/>
              </a:rPr>
              <a:t>č</a:t>
            </a:r>
            <a:r>
              <a:rPr b="0" lang="en-US" sz="2800" spc="-1" strike="noStrike" u="sng">
                <a:solidFill>
                  <a:srgbClr val="00cc99"/>
                </a:solidFill>
                <a:uFillTx/>
                <a:latin typeface="Times New Roman"/>
              </a:rPr>
              <a:t>ka </a:t>
            </a:r>
            <a:r>
              <a:rPr b="0" lang="sr-Latn-CS" sz="2800" spc="-1" strike="noStrike" u="sng">
                <a:solidFill>
                  <a:srgbClr val="00cc99"/>
                </a:solidFill>
                <a:uFillTx/>
                <a:latin typeface="Times New Roman"/>
              </a:rPr>
              <a:t>memorij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loba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enlj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glavnom stal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k program ra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99"/>
                </a:solidFill>
                <a:uFillTx/>
                <a:latin typeface="Times New Roman"/>
              </a:rPr>
              <a:t>St</a:t>
            </a:r>
            <a:r>
              <a:rPr b="0" lang="sr-Latn-CS" sz="2800" spc="-1" strike="noStrike" u="sng">
                <a:solidFill>
                  <a:srgbClr val="00cc99"/>
                </a:solidFill>
                <a:uFillTx/>
                <a:latin typeface="Times New Roman"/>
              </a:rPr>
              <a:t>e</a:t>
            </a:r>
            <a:r>
              <a:rPr b="0" lang="en-US" sz="2800" spc="-1" strike="noStrike" u="sng">
                <a:solidFill>
                  <a:srgbClr val="00cc99"/>
                </a:solidFill>
                <a:uFillTx/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promjenlj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aramet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vratn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re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ij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v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ionog zapi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Ja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stack frame”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99"/>
                </a:solidFill>
                <a:uFillTx/>
                <a:latin typeface="Times New Roman"/>
              </a:rPr>
              <a:t>He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inamičko alociranje memori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aci su “živi” dok ih programer ne oslobo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htijeva znanje gdje se nalaze objekti u memoriji, inače programi ne rade kako je očekiv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akriva lokaciju objek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7D7D-D2F4-4495-8C56-0EADD10D749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791320" y="1295280"/>
            <a:ext cx="243828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ni izgled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Memor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i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5334120" cy="58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dres</a:t>
            </a:r>
            <a:r>
              <a:rPr b="0" i="1" lang="sr-Latn-CS" sz="3200" spc="-1" strike="noStrike">
                <a:solidFill>
                  <a:srgbClr val="3333cc"/>
                </a:solidFill>
                <a:latin typeface="Times New Roman"/>
              </a:rPr>
              <a:t>ni pros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m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regio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promjenlj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e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inamički mu se mijenja velič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c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jenjive deklarisane va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r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čitava se kada se program pokrene, ne mijenja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762120"/>
            <a:ext cx="2438280" cy="457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4495680"/>
            <a:ext cx="243828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3809880"/>
            <a:ext cx="24382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1320" y="312408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129528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7680" y="450864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6600" y="3822840"/>
            <a:ext cx="20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59240" y="313704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87120" y="762120"/>
            <a:ext cx="11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858000" y="274320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0" y="1295280"/>
            <a:ext cx="0" cy="381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30520" y="685800"/>
            <a:ext cx="1430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Arial"/>
              </a:rPr>
              <a:t>~ FFFF FFFF</a:t>
            </a:r>
            <a:r>
              <a:rPr b="1" i="1" lang="en-US" sz="1400" spc="-1" strike="noStrike" baseline="-25000">
                <a:solidFill>
                  <a:srgbClr val="00cc99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91200" y="5105520"/>
            <a:ext cx="61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Arial"/>
              </a:rPr>
              <a:t>~ 0</a:t>
            </a:r>
            <a:r>
              <a:rPr b="1" i="1" lang="en-US" sz="1400" spc="-1" strike="noStrike" baseline="-25000">
                <a:solidFill>
                  <a:srgbClr val="00cc99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0F75-1890-48D6-9612-A05FD3B63E7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791320" y="5029200"/>
            <a:ext cx="243828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91320" y="762120"/>
            <a:ext cx="2438280" cy="1828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l 80x86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Izgled memorij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5334120" cy="58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x86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dress sp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e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ic d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762120"/>
            <a:ext cx="2438280" cy="3200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3962520"/>
            <a:ext cx="2438280" cy="1752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3276720"/>
            <a:ext cx="243828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259092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50292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7680" y="397512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6600" y="3289320"/>
            <a:ext cx="20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0160" y="26035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68040" y="4495680"/>
            <a:ext cx="11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858000" y="2209320"/>
            <a:ext cx="0" cy="381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0" y="502920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91320" y="45720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28720" y="4419720"/>
            <a:ext cx="1307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Arial"/>
              </a:rPr>
              <a:t>~ 08000000</a:t>
            </a:r>
            <a:r>
              <a:rPr b="1" i="1" lang="en-US" sz="1400" spc="-1" strike="noStrike" baseline="-25000">
                <a:solidFill>
                  <a:srgbClr val="00cc99"/>
                </a:solidFill>
                <a:latin typeface="Arial"/>
              </a:rPr>
              <a:t>h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D8CA-6F00-4129-AC1C-0E100181A70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10600"/>
            <a:ext cx="91440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er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: Executable Cod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p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.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I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: (program is r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vršni fajlovi čuvaju se na disk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da se pokreće program, uloga loader-a je da ga učita u OM i pokrene g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 praks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oad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stem (O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ing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 jedan od zadatak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89D8-3243-4CF3-A70A-16330E264E9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10600"/>
            <a:ext cx="91440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er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927000"/>
            <a:ext cx="807732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ta radi loa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i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header izvršnog fajla da odredi veliči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 segme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rei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vi adresni prostor dovoljno veliki da sadrž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 segment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i stek-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pi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str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 i podatke iz izvršnog fajla u novi adresni prost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ji može biti bilo gdje u memori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8511-28BE-405E-8137-58F97D33543C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10600"/>
            <a:ext cx="91440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er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pi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gu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 predate programu na s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z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m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regist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ećina registara se samo očist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li se stek-pokazivač postavlja na prvu slobodnu lokaciju na st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kok 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t-up rut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 koja kopira argumente programa sa steka u registre i postavlja Program Cou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7DA6-8920-4549-BCC9-E99A68E424C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Prevođenje (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sla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cij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m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evodi program napisan u jezik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chem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šinski jez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ceso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ersk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et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 mašinski jezi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Diagram 15" descr=""/>
          <p:cNvPicPr/>
          <p:nvPr/>
        </p:nvPicPr>
        <p:blipFill>
          <a:blip r:embed="rId1"/>
          <a:stretch/>
        </p:blipFill>
        <p:spPr>
          <a:xfrm>
            <a:off x="2084400" y="3121200"/>
            <a:ext cx="4968720" cy="348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F1FF-87E3-42E1-A62E-A1907CDCF4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28240" y="1785600"/>
            <a:ext cx="8915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int main (int argc, char *argv[]) {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int i, sum = 0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for (i = 0; i&lt;= 100; i++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  sum = sum + i * i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printf ("The sum of sq from 0 .. 100 is %d\n", 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sum)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547200" y="1219320"/>
            <a:ext cx="48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99"/>
                </a:solidFill>
                <a:latin typeface="18 VAG Rounded Bold   07390"/>
              </a:rPr>
              <a:t>C Program Source Code: </a:t>
            </a:r>
            <a:r>
              <a:rPr b="1" i="1" lang="en-US" sz="2400" spc="-1" strike="noStrike">
                <a:solidFill>
                  <a:srgbClr val="00cc99"/>
                </a:solidFill>
                <a:latin typeface="Courier New"/>
                <a:ea typeface="Courier New"/>
              </a:rPr>
              <a:t>prog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672120" y="5715000"/>
            <a:ext cx="37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99"/>
                </a:solidFill>
                <a:latin typeface="18 VAG Rounded Bold   07390"/>
              </a:rPr>
              <a:t>“</a:t>
            </a:r>
            <a:r>
              <a:rPr b="1" i="1" lang="en-US" sz="2400" spc="-1" strike="noStrike">
                <a:solidFill>
                  <a:srgbClr val="00cc99"/>
                </a:solidFill>
                <a:latin typeface="Courier New"/>
                <a:ea typeface="Courier New"/>
              </a:rPr>
              <a:t>printf</a:t>
            </a:r>
            <a:r>
              <a:rPr b="1" i="1" lang="en-US" sz="2400" spc="-1" strike="noStrike">
                <a:solidFill>
                  <a:srgbClr val="00cc99"/>
                </a:solidFill>
                <a:latin typeface="18 VAG Rounded Bold   07390"/>
              </a:rPr>
              <a:t>” lives in “</a:t>
            </a:r>
            <a:r>
              <a:rPr b="1" i="1" lang="en-US" sz="2400" spc="-1" strike="noStrike">
                <a:solidFill>
                  <a:srgbClr val="00cc99"/>
                </a:solidFill>
                <a:latin typeface="Courier New"/>
                <a:ea typeface="Courier New"/>
              </a:rPr>
              <a:t>libc</a:t>
            </a:r>
            <a:r>
              <a:rPr b="1" i="1" lang="en-US" sz="2400" spc="-1" strike="noStrike">
                <a:solidFill>
                  <a:srgbClr val="00cc99"/>
                </a:solidFill>
                <a:latin typeface="18 VAG Rounded Bold   07390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imes New Roman"/>
              </a:rPr>
              <a:t>Primj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m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u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290B-FFAF-4ACC-B6AF-D6B9B734D80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838080"/>
            <a:ext cx="3886200" cy="56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tex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align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globl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ai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ubu $sp,$sp,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ra, 20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d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a0, 32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0, 24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0, 28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t6, 28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ul$t7, $t6,$t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t8, 24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ddu $t9,$t8,$t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t9, 24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800240" y="762120"/>
            <a:ext cx="384804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ddu $t0, $t6,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t0, 28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ble $t0,100, loo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a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a0, st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a1, 24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alprint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ove $v0, $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ra, 20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ddiu $sp,$sp,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r $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align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t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asciiz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"The sum of sq from 0 .. 100 is %d\n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5"/>
          <p:cNvSpPr/>
          <p:nvPr/>
        </p:nvSpPr>
        <p:spPr>
          <a:xfrm>
            <a:off x="4572000" y="1066680"/>
            <a:ext cx="0" cy="5334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7031880" y="419112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dje 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 pseudo-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strukcij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ilation: 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CB3E-C1F1-4AE5-B1BA-8BA04A8E87CC}" type="slidenum">
              <a:t>41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6840" y="838080"/>
            <a:ext cx="3886200" cy="56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tex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align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globl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ai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subu $sp,$sp,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ra, 20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sd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$a0, 32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0, 24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0, 28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t6, 28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mul$t7, $t6,$t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t8, 24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ddu $t9,$t8,$t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t9, 24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800240" y="762120"/>
            <a:ext cx="384804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addu $t0, $t6,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t0, 28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ble $t0,100, loo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la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$a0, st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a1, 24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alprint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move $v0, $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ra, 20($sp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ddiu $sp,$sp,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r $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align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t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9456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.asciiz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"The sum of sq from 0 .. 100 is %d\n"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4572000" y="1066680"/>
            <a:ext cx="0" cy="5334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7032960" y="4191120"/>
            <a:ext cx="180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 pseudo-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strukcija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dvu</a:t>
            </a:r>
            <a:r>
              <a:rPr b="1" lang="sr-Latn-CS" sz="2400" spc="-1" strike="noStrike">
                <a:solidFill>
                  <a:srgbClr val="3333cc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ilation: 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D6AC-DA98-4D27-966B-1969B907AC67}" type="slidenum">
              <a:t>42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51920" y="1560240"/>
            <a:ext cx="449604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00 addiu $29,$29,-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4 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31,20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08 sw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$4, 32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0c sw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$5, 36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0 sw    $0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4 sw    $0, 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8 lw   $14, 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c multu $14, $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20 mflo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 $1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4 lw   $24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8 addu $25,$24,$1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c sw   $25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723920" y="1563480"/>
            <a:ext cx="4419720" cy="45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30 addiu $8,$14,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4 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8,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38 slti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$1,$8, 101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3c bne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$1,$0, loo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40 lui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$4, l.st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44 ori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$4,$4,r.st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8 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5,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c jal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50 add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	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$2, $0, $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4 lw    $31,20($29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8 addiu $29,$29,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c jr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$3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80240" y="776160"/>
            <a:ext cx="79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Uklanjanje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 pseudoinstru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ci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dodjela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 adres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4648320" y="1447920"/>
            <a:ext cx="0" cy="51051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embl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BDF7-06B7-43FB-B87B-B4210959CF21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65530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embl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03240" y="1255680"/>
            <a:ext cx="748512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 simbol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720" indent="0">
              <a:spcBef>
                <a:spcPts val="649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bel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ress (in module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720"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n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x0000000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lobal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720"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oop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x00000018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ocal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720" indent="0">
              <a:lnSpc>
                <a:spcPct val="55000"/>
              </a:lnSpc>
              <a:spcBef>
                <a:spcPts val="70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r: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x0000006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oc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0240" indent="-325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ija o relokac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720" indent="0">
              <a:spcBef>
                <a:spcPts val="649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.  typ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Dependen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2720" indent="0">
              <a:spcBef>
                <a:spcPts val="70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x0000004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ui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.st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x00000044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ri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.st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x0000004c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al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795240" y="685800"/>
            <a:ext cx="75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re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ranje 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tab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l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relokacije i tabele simbo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2BA8-718B-4CE8-862A-6560796F16BD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69343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embl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483920"/>
            <a:ext cx="44960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0 addiu$29,$29,-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4 sw$31,20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8 sw$4, 32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c sw$5, 36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0 sw$0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4 sw$0, 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8 lw$14, 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c multu$14, $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0 mflo$1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4 lw$24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8 addu$25,$24,$1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c sw$25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23920" y="1487520"/>
            <a:ext cx="44197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0 addiu $8,$14,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4 sw$8,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8 slti$1,$8, 101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c bne$1,$0, 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-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0 lui$4,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l.st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4 ori$4,$4,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r.st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8 lw$5,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c jal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urier New"/>
              </a:rPr>
              <a:t>printf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0 add$2, $0, $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4 lw$31,20($29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8 addiu $29,$29,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c jr$3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94080" y="762120"/>
            <a:ext cx="650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R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zrješiti 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lo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al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 PC-relativ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18 VAG Rounded Bold   07390"/>
              </a:rPr>
              <a:t>e label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6"/>
          <p:cNvSpPr/>
          <p:nvPr/>
        </p:nvSpPr>
        <p:spPr>
          <a:xfrm>
            <a:off x="4648320" y="1523880"/>
            <a:ext cx="0" cy="50292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E22A-B06D-4A7D-A250-FA6B86B03E00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embl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sanje objektnog fajl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.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na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u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iju 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5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 segment (instru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5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egment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da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5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abela simbola i tabela reloakci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riste se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placeholders”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nerazrješe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psolutne i eksterne refer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8CE0-29A5-4853-B90A-3ADA6C04AA6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67960" y="151920"/>
            <a:ext cx="75898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obje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nom faj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7848720" cy="56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0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1001111011110111111111111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0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101111101111110000000000010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0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1011111010010000000000001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0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101111101001010000000000100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101111101000000000000000011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1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101111101000000000000000011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1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01111101011100000000000011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1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01111101110000000000000011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2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000001110011100000000000011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2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100101110010000000000000000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1010010000000100000000011001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2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101111101010000000000000011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3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0000000000000001111000000100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3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000011000011111100100000100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3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0101000010000011111111111101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3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101111101110010000000000011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4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11110000000100</a:t>
            </a: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00000000000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4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0111110100101</a:t>
            </a: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00000000000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4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001100000100000000000011101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4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1001</a:t>
            </a: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000000000000000000000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5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011111011111100000000000101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5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1001111011110100000000001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5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000011111000000000000000001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5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0000000000000000001000000100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5DA3-AC50-46C0-8802-50B268B88375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210600"/>
            <a:ext cx="8991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1: 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bin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u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og.o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libc.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Spaj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ext/data segment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Kreir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olut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 memor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ske adre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dif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ikuje i spaja tabele simbola i relokacij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ab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a simbol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bel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: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0x00000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op: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0x0000001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: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0x100004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45000"/>
              </a:lnSpc>
              <a:spcBef>
                <a:spcPts val="55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printf:</a:t>
            </a: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cc99"/>
                </a:solidFill>
                <a:latin typeface="Courier New"/>
              </a:rPr>
              <a:t>0x000003b0  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forma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cija o relokacij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r. Ty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pendenc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004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uil.st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400480"/>
                <a:tab algn="l" pos="331488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004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rir.st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x0000004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lprintf  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4B35-DF19-44B2-AA4D-E3CCDD088B9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1920" y="1865160"/>
            <a:ext cx="449604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0 addiu $29,$29,-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4 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31,20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8 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4, 32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c 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5, 36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0 sw    $0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4 sw    $0, 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8 lw   $14, 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c multu $14, $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0 mflo $1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4 lw   $24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8 addu $25,$24,$1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2c sw   $25, 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23920" y="1868400"/>
            <a:ext cx="441972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0 addiu $8,$14,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4 s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8,28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8 slti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1,$8, 101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3c bne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1,$0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urier New"/>
              </a:rPr>
              <a:t>-1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0 lui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4, 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409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4 ori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4,$4,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107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8 lw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5,24($2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4c jal</a:t>
            </a:r>
            <a:r>
              <a:rPr b="0" lang="en-US" sz="2600" spc="-1" strike="noStrike" u="sng">
                <a:solidFill>
                  <a:srgbClr val="00cc99"/>
                </a:solidFill>
                <a:uFillTx/>
                <a:latin typeface="Courier New"/>
              </a:rPr>
              <a:t>81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0 add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2, $0, $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4 lw  $31,20($29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8 addiu  $29,$29,3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0">
              <a:lnSpc>
                <a:spcPct val="6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5c jr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$3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533520" y="685800"/>
            <a:ext cx="8153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jeni adrese u tabeli relok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808080"/>
              </a:buClr>
              <a:buFont typeface="18 VAG Rounded Bold   0739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18 VAG Rounded Bold   07390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18 VAG Rounded Bold   07390"/>
              </a:rPr>
              <a:t>(</a:t>
            </a:r>
            <a:r>
              <a:rPr b="1" i="1" lang="sr-Latn-CS" sz="2400" spc="-1" strike="noStrike">
                <a:solidFill>
                  <a:srgbClr val="808080"/>
                </a:solidFill>
                <a:latin typeface="Arial"/>
              </a:rPr>
              <a:t>prikazano HEX</a:t>
            </a:r>
            <a:r>
              <a:rPr b="1" i="1" lang="en-US" sz="2400" spc="-1" strike="noStrike">
                <a:solidFill>
                  <a:srgbClr val="808080"/>
                </a:solidFill>
                <a:latin typeface="18 VAG Rounded Bold   07390"/>
              </a:rPr>
              <a:t>, </a:t>
            </a:r>
            <a:r>
              <a:rPr b="1" i="1" lang="sr-Latn-CS" sz="2400" spc="-1" strike="noStrike">
                <a:solidFill>
                  <a:srgbClr val="808080"/>
                </a:solidFill>
                <a:latin typeface="Arial"/>
              </a:rPr>
              <a:t>ali se radi u bunarnim</a:t>
            </a:r>
            <a:r>
              <a:rPr b="1" lang="en-US" sz="2400" spc="-1" strike="noStrike">
                <a:solidFill>
                  <a:srgbClr val="808080"/>
                </a:solidFill>
                <a:latin typeface="18 VAG Rounded Bold   07390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6"/>
          <p:cNvSpPr/>
          <p:nvPr/>
        </p:nvSpPr>
        <p:spPr>
          <a:xfrm>
            <a:off x="4648320" y="1676520"/>
            <a:ext cx="0" cy="4876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0841-C50F-4D36-B443-92528869C92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ation vs. Transl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akše je napisa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rpr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ret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 bliži PJ, pa daje bolji opis greš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ret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 sporij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0x?)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li je kod manj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X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pret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aje mogućnost nezavisnosti skupa instrukc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vršava se na svakoj maš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1BFB-6D08-4B0A-B764-6D0D0AF4F9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k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5800" y="1142640"/>
            <a:ext cx="784872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Daje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izvršnu verziju spojenih modula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Jeda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te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k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instructio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Jeda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data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daje detalje o veličini segmen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85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cc99"/>
                </a:solidFill>
                <a:latin typeface="Times New Roman"/>
              </a:rPr>
              <a:t>N</a:t>
            </a:r>
            <a:r>
              <a:rPr b="0" lang="sr-Latn-CS" sz="3400" spc="-1" strike="noStrike">
                <a:solidFill>
                  <a:srgbClr val="00cc99"/>
                </a:solidFill>
                <a:latin typeface="Times New Roman"/>
              </a:rPr>
              <a:t>apomena</a:t>
            </a:r>
            <a:r>
              <a:rPr b="0" lang="en-US" sz="3400" spc="-1" strike="noStrike">
                <a:solidFill>
                  <a:srgbClr val="00cc99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Prethodni primjer je pojednostavljena verzija kako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LF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i drugi standardni formati rade. Primjer ilustruje samo osnovne element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E400-CC05-481D-B871-1DD38A0640D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pretation vs. Transl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ranslated/compiled 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kod je skoro uvijek efikasniji i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ima bolje preformanse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Važno za mnoge aplikacije, posebno O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11120" indent="-3427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ranslation/compilation 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pomaže sakrivanju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“source” 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od korisnika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el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za zarađivanje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np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Microsoft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čuva svoj source  ko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ternati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vni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odel, “open source”,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ira vrijednost objavljivanjem source kod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FB92-C76D-4A68-912B-29D181BEA5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Pokretanje prevedenog program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Diagram 33" descr=""/>
          <p:cNvPicPr/>
          <p:nvPr/>
        </p:nvPicPr>
        <p:blipFill>
          <a:blip r:embed="rId1"/>
          <a:stretch/>
        </p:blipFill>
        <p:spPr>
          <a:xfrm>
            <a:off x="2309760" y="225360"/>
            <a:ext cx="4518000" cy="656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0233-6B67-42D8-BD8A-868211E09A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10600"/>
            <a:ext cx="73915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p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aj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30592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: High-Level Language Cod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p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asc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, Java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o.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: Assembly Language Cod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p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oo.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apome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la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i="1" lang="sr-Latn-CS" sz="3200" spc="-1" strike="noStrike">
                <a:solidFill>
                  <a:srgbClr val="3333cc"/>
                </a:solidFill>
                <a:latin typeface="Times New Roman"/>
              </a:rPr>
              <a:t>ož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adržat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seudo-instr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 (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udoinstructions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Pseudoinstru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nstr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cije koj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emble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azumije ali ih mašina ne razumi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pr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ov $s1,$s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55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r $s1,$s2,$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6AAE-5177-4463-BDEE-647DC0D51B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Proces prevođen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303200" y="1143000"/>
          <a:ext cx="56073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1143000"/>
                    <a:ext cx="56073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8061-3F9C-4CC0-B969-EE15A734C2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4:38:27Z</dcterms:created>
  <dc:creator>Nikola Radovanovic</dc:creator>
  <dc:description/>
  <dc:language>en-US</dc:language>
  <cp:lastModifiedBy>gorans</cp:lastModifiedBy>
  <dcterms:modified xsi:type="dcterms:W3CDTF">2011-02-10T08:15:11Z</dcterms:modified>
  <cp:revision>226</cp:revision>
  <dc:subject/>
  <dc:title>Implementacija jezika</dc:title>
</cp:coreProperties>
</file>