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C95-E977-47CD-A3B5-8F713399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8347-95DD-4A4B-8F60-992F5A47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2027-FF51-42C0-9044-50804236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EC3-C4E3-4EA0-8851-B1B89347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B67C-5B4B-413E-8262-620CA88A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DBF-5551-4D27-A060-71C5CB06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C11-9978-4527-9440-F08F9939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FD3-C788-423C-9706-3D9966AB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129F-3820-4441-BCDA-16D9918B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385-AA11-4FB3-B8FC-97BFFFAA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E81-FB86-4B28-B7AE-DBF8F722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AB7-D042-4A3A-8273-99EFBFA7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9D19-1621-4498-BA1C-FE1D26A6EC3A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atike- pregle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ramatike koje gener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u LR jezik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0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A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G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gradn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pars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 gramatikam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Različite gramatike su pogodne za različite tehnike parsiranj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(Regula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 izrazi su "dobri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skener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BED-926B-4418-9F26-90A751D27D2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F2ACC-545A-462D-BABD-E67F6F446C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a li je spajanje bezbjedno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moguće je da se pojav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guće je da se pojav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postoji 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gra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tike ni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LR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 definiciji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lgori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konstrukciju tabel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efi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ALR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tabela dobijena primjenom algoritma konstrukicje ne sadfrži konflikte, tada je gramatik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LR(1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F36F-E2D4-4984-8B20-B7856CA2F9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C4458-27ED-43E8-BCF1-04B4FAC494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hift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mislit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ALR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m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 -&gt; uA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v , look1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X -&gt; uA </a:t>
            </a:r>
            <a:r>
              <a:rPr b="0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look2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ko su ova dva itema došla u isti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pajamo stanja sa istim jezgrom, p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A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v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A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već u istom skup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3C3-7E3C-4471-9E78-EBA479B63F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EB31F-E6B2-4A76-AA7B-E9E6CAF816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educe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smatrajmo sledeće skupov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n     =  { X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   ;  Y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b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m    =  { X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b   ;  Y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su u različitim stanji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ve je O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pajanjem dobija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nm  =  { X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/b ;  Y -&gt; u </a:t>
            </a:r>
            <a:r>
              <a:rPr b="0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, a/b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pajanje dovodi do konflikta, p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 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ALR(1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itanje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e raditi spajanja osim u ovakvom sluča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?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r to ne bi napravilo algoritam primjenljivijim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7D9-E314-4FE1-952A-16F263D970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471CD-42D8-4851-8CB1-B0890BF4C1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onstrukci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A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primjenom algoritma spajanja n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1)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n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m  Inm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brute force”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onstru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ja tabel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stoje bolji načini 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mplemen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cij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odgovara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ookahead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-ovi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st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#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ka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vjerovatno će biti više akci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uccessor(Inm) = un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uccesso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n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m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risti s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alg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 za tabelu akcija i prelazak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05A2-72AB-4089-82A0-FF9116335AE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E7174-F92B-4735-91CC-282FC71946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brute for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28600" y="762120"/>
          <a:ext cx="6835680" cy="5686200"/>
        </p:xfrm>
        <a:graphic>
          <a:graphicData uri="http://schemas.openxmlformats.org/drawingml/2006/table">
            <a:tbl>
              <a:tblPr/>
              <a:tblGrid>
                <a:gridCol w="1295280"/>
                <a:gridCol w="1067040"/>
                <a:gridCol w="1143000"/>
                <a:gridCol w="1295280"/>
                <a:gridCol w="1066680"/>
                <a:gridCol w="9684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i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las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s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3333cc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accep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7391520" y="685800"/>
            <a:ext cx="1523880" cy="1677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5105520"/>
            <a:ext cx="3733920" cy="13644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R(1) tab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Kandidati za spajanj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&amp;6, 4&amp;7, 8&amp;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B13-024E-4734-85DA-7D2688A50DC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8E98F-F1F5-4F5E-92BE-2B1DCCA461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brute force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" y="762120"/>
          <a:ext cx="6835680" cy="4265640"/>
        </p:xfrm>
        <a:graphic>
          <a:graphicData uri="http://schemas.openxmlformats.org/drawingml/2006/table">
            <a:tbl>
              <a:tblPr/>
              <a:tblGrid>
                <a:gridCol w="1295280"/>
                <a:gridCol w="1067040"/>
                <a:gridCol w="1143000"/>
                <a:gridCol w="1295280"/>
                <a:gridCol w="1066680"/>
                <a:gridCol w="968400"/>
              </a:tblGrid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i</a:t>
                      </a: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las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accep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7391520" y="685800"/>
            <a:ext cx="1523880" cy="1677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343400"/>
            <a:ext cx="3276360" cy="12819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ALR(1) tab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600" spc="-1" strike="noStrike">
                <a:solidFill>
                  <a:srgbClr val="000000"/>
                </a:solidFill>
                <a:latin typeface="Comic Sans MS"/>
              </a:rPr>
              <a:t>3 spojena stanja, ne postoje konflikti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C23-675D-4811-90A4-7811DCF9A6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8C558-B911-42DD-A64A-EF93A768BA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 korak po kora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se prvo grad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ov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p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ća se cijena konstrukcije z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1)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šteda je u izvršavanju, jer je tabela manj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Bolji nači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gradnja i spajanje istovremeno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snov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d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trenutku dodavanja novog skup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porediti njegovo jezgro sa postojećim jezgrima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 se poklap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sa postojećim jezgrom, item dodajemo u taj skup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6CCE-07BB-4738-876C-11B1699F5DE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14529-0052-4253-81A8-FE105D970C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orak po kor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51814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ledeć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ta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I11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{ E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,  ) / + }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sto jezgro kao 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I6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a ih kombinujemo u 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I611: { E -&gt; F 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$ / + / ) }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762120"/>
            <a:ext cx="8610480" cy="45972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’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; 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V=E  ; 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 | E+F  ;  F -&gt; V | int | (E)  ;  V -&gt;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1523880"/>
          <a:ext cx="9143640" cy="34290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  <a:gridCol w="3047760"/>
              </a:tblGrid>
              <a:tr h="34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 S'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V = E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,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 S' -&gt; S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 S' -&gt; V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= E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3: V -&gt; i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4: S -&gt; V =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F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V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nt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)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 S -&gt; V =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F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6: E -&gt; F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7: F-&gt; V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8: F-&gt; int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9: F-&gt; (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)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F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V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nt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)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)/+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0: F-&gt; (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, $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F, )/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439-7A64-4476-AFA3-4FA1DE9051F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55782-A127-4DDC-ABB0-E23E792CBC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a li je korak po korak bol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korak po korak metroda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ep-by-step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tabele bolja od metod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rute forc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potreb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(n</a:t>
            </a:r>
            <a:r>
              <a:rPr b="0" lang="en-US" sz="3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upoređivanje svih jezga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ko efikasno implementirati ovaj metod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798-6736-4926-BA72-86C119EB6EF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54CD8-2CA3-478C-8C47-A8A107129D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a li je korak po korak bol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korak po korak metroda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ep-by-step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tabele bolja od metod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rute forc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potreb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(n</a:t>
            </a:r>
            <a:r>
              <a:rPr b="0" lang="en-US" sz="3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upoređivanje svih jezga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ko efikasno implementirati ovaj metod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 treba upoređivati sa cijelom listom jezgara kada naiđe novo jezgro, već treba koristiti heš tabel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524-F589-4536-BDA2-F8B2A53FA48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B7CBB-1AC3-41B0-9A3D-96FA923BD3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ređe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828800"/>
          <a:ext cx="8610480" cy="4946760"/>
        </p:xfrm>
        <a:graphic>
          <a:graphicData uri="http://schemas.openxmlformats.org/drawingml/2006/table">
            <a:tbl>
              <a:tblPr/>
              <a:tblGrid>
                <a:gridCol w="1219320"/>
                <a:gridCol w="3886200"/>
                <a:gridCol w="3504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d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a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manje tabele, najlakše za izgradn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odgovarajuće za mnoge konstrukcije P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iš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nforma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a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d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noge korisne gramatike nisu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A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ame size tables as SLR, more langs, efficient to bui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preciznija upotreba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ookahead,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veći dio konstrukcija PJ koje mi želi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b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e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u za red veličine veće o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ab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8380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14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CD2-2E97-4D20-BCE1-C92E762DA9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68999-5164-4104-8BAC-A52D074A84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ALR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najbolji" meto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ore discriminating than SLR(1), but matches more PL language construct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Veličina tabele razumn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a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 jezik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snov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enerato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 kao što s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yac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biso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stojanje 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ta  ne utiče n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ALR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Razrješavanje konflikta direktno u tabeli poslije konstrukcije ("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dangling else</a:t>
            </a: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")</a:t>
            </a:r>
            <a:endParaRPr b="0" lang="en-US" sz="30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ra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tika može bi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kor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” LALR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451-6B87-47CD-8BE7-A28E1FFF904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BA26B-6F93-47E6-99AA-8FB99DF694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boljšanja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?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ta se dešava ako "naslijepo"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spajamo i ond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et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j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što ne odbijemo spajanje u takvom sluča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Dobićemo više 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sta</a:t>
            </a: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nja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3000" spc="-1" strike="noStrike">
                <a:solidFill>
                  <a:srgbClr val="3333cc"/>
                </a:solidFill>
                <a:latin typeface="Comic Sans MS"/>
              </a:rPr>
              <a:t>ali će to biti i dalje manje nego za </a:t>
            </a:r>
            <a:r>
              <a:rPr b="0" lang="en-US" sz="3000" spc="-1" strike="noStrike">
                <a:solidFill>
                  <a:srgbClr val="3333cc"/>
                </a:solidFill>
                <a:latin typeface="Comic Sans MS"/>
              </a:rPr>
              <a:t>LR(1)</a:t>
            </a:r>
            <a:endParaRPr b="0" lang="en-US" sz="30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ažljivo proučite algoritam i zaključite zašto to ne možemo uradit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B84-FFCE-4462-A75B-2BC7FA07684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32A48-D28A-4DDB-8328-8636424CAE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Od teorije ka praks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1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mogu imati nejasnoće, p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(1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mogu imati nejasnoć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 mi možemo koristiti LALR alate čak i ako gramatika ima nejasnoć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Yacc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Bison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u zasnovani n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a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 ne robuju tome, tj. ne zahtijevaju da njihov ulaz bude list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ALR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želimo posebno obraditi specijalne slučajeve i razriješiti konflikte ručno, možemo koristiti LALR alat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 u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treba nejasnih gramatik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674A-CC9F-470C-A37A-666B861E900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F552E-86D3-407D-A4FF-C2810F46BB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Upotreba nejasnih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jasnoća 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c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: G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oizvodi viš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esnih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eriv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G = { E </a:t>
            </a:r>
            <a:r>
              <a:rPr b="0" lang="en-US" sz="26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E + E  |  E * E  |  (E)  |  id  }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odali sm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er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o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bi otkonili nejasnoće za ispravan poredak operacija i asocijativnos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Šta kao pustimo algoritam za konstrukciju LR tabele z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likt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=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više akcija u poljima tabel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Biramo koju akciju želimo, eliminišemo ostale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16E-291B-4F12-8BE9-2B395873FE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775B4-2EB0-49FA-90C8-EC238610EA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učno popravljan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28600" y="838080"/>
          <a:ext cx="8610480" cy="4472280"/>
        </p:xfrm>
        <a:graphic>
          <a:graphicData uri="http://schemas.openxmlformats.org/drawingml/2006/table">
            <a:tbl>
              <a:tblPr/>
              <a:tblGrid>
                <a:gridCol w="2590920"/>
                <a:gridCol w="2819160"/>
                <a:gridCol w="3200400"/>
              </a:tblGrid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 E'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  E'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*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 E -&gt; (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3: E -&gt;i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4: E -&gt; E+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 E -&gt; E*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6: E -&gt; (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I7:</a:t>
                      </a:r>
                      <a:r>
                        <a:rPr b="1" lang="en-US" sz="8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E -&gt; E + E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E -&gt; E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E -&gt; E 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1" lang="en-US" sz="2400" spc="-1" strike="noStrike">
                          <a:solidFill>
                            <a:srgbClr val="fc4122"/>
                          </a:solidFill>
                          <a:latin typeface="Comic Sans MS"/>
                        </a:rPr>
                        <a:t>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8: E -&gt; E * 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 -&gt;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*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9: E -&gt; (E)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0" y="0"/>
            <a:ext cx="22860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E + 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E * 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(E)  |  id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486400"/>
            <a:ext cx="86104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Sta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nje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 I7 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- 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shift-reduce 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onfli</a:t>
            </a: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6666ff"/>
                </a:solidFill>
                <a:latin typeface="Comic Sans MS"/>
              </a:rPr>
              <a:t>Da li možemo izabrati samo jednu akciju od ponuđenih</a:t>
            </a:r>
            <a:r>
              <a:rPr b="0" lang="en-US" sz="2600" spc="-1" strike="noStrike">
                <a:solidFill>
                  <a:srgbClr val="6666ff"/>
                </a:solidFill>
                <a:latin typeface="Comic Sans MS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4FB-886F-4C79-AC50-FD9E994ADDE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FB7AF-B89B-4925-B178-91D00CE2DC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učno popravljan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smatramo proces parsiranja da bi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obili naznaku kako da popravimo tabelu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0"/>
            <a:ext cx="2286000" cy="1447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E +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E *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(E)  | 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0200"/>
            <a:ext cx="8458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“id + id * i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činjemo s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0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t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ush id, reduce E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d, goto S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ush “+” (S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ush id, reduce E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d, goto S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“*”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stanj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E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+E?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treb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“*”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bi sledeća operacija bil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“+”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li treb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hift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Biramo po prioritetu i asocijativno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87C-AF87-415A-968B-14F9F4640C7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F00A6-723D-4292-ABC8-8C0987CE5C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učno popravljan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6782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ovano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E+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 ulaz 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*”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radimo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er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*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ma veći prioritet od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+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0" y="0"/>
            <a:ext cx="2286000" cy="144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E +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E *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|  (E)  | 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8288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se pomjeramo od operatora višeg ka operatoru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ižeg prioritet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radimo </a:t>
            </a:r>
            <a:r>
              <a:rPr b="0" i="1" lang="en-US" sz="2600" spc="-1" strike="noStrike">
                <a:solidFill>
                  <a:srgbClr val="000099"/>
                </a:solidFill>
                <a:latin typeface="Comic Sans MS"/>
              </a:rPr>
              <a:t>reduce</a:t>
            </a:r>
            <a:r>
              <a:rPr b="0" i="1" lang="sr-Latn-C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ovano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E+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 ulaz 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+”, reduce E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E+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bog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asoci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ativ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ost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smo parsiral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E op 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a desno asocijativne operatoir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i="1" lang="en-US" sz="2600" spc="-1" strike="noStrike">
                <a:solidFill>
                  <a:srgbClr val="000099"/>
                </a:solidFill>
                <a:latin typeface="Comic Sans MS"/>
              </a:rPr>
              <a:t>shift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“op”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ve nejasne gramatike će imati ovakve konflikte, čak i neke jas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o izaberemo akcije za svaki konflikt, generator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parser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 nam mogu pomoći, bez obzira što gramatika ni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LR(0) / SLR(1) / LALR(1) /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bilo št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431-0CBB-4A02-8779-70C303C1C72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81208-BFDC-4C26-903B-60B857C61B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Nejasnoć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dangling els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914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838080"/>
            <a:ext cx="83822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ak čist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k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generišu sbe programske konstrukc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 els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naiđe 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viable prefix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“if E then if E then S”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, pa zatim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else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(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 pravilom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1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U LR gramatikama ne može se otkloniti problem "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dangling else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Može se promijeniti tabela, tako da se izbjegne konflikt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C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Jav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bira s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, što znači vezivan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“else”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za najbliž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if”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lijevo od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“else”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F24-C7C5-4356-AC8B-A5558D36BD9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C7BFA-75F6-4073-848A-B7A7B53D63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ašto koristiti nejasne gram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ike i kod komuniciraj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mp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ut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gram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rogramer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Čitljivije su ljudi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raju se dokumentovati izmjene u tabelam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anje pravila znači i manje tabel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Lakše se implementiraj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anje pravila znači i manje vrijeme potrebno za prelaske tip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E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T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F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DA1A-65DA-4B96-BE5F-B7AB6DA79F4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D2973-AD8F-4BDB-9EE4-4089F0A597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ostor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3638520" y="3602160"/>
            <a:ext cx="3365640" cy="10778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29080" y="3076560"/>
            <a:ext cx="5047920" cy="197316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24000" y="2286000"/>
            <a:ext cx="5889600" cy="342108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65320" y="2549520"/>
            <a:ext cx="2355840" cy="2895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21160" y="363060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3200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57640" y="238284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57600" y="274320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2680" y="1628640"/>
            <a:ext cx="7067520" cy="434340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838080"/>
            <a:ext cx="8077320" cy="579132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560" y="187164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Jas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65320" y="110160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95920" y="4027320"/>
            <a:ext cx="1320840" cy="527040"/>
          </a:xfrm>
          <a:prstGeom prst="ellipse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83040" y="4033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891-2077-4BFC-8711-565328BA7CA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76842-E65E-4BFE-BFED-5C46603E5F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ređe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1828800"/>
          <a:ext cx="8610480" cy="4946760"/>
        </p:xfrm>
        <a:graphic>
          <a:graphicData uri="http://schemas.openxmlformats.org/drawingml/2006/table">
            <a:tbl>
              <a:tblPr/>
              <a:tblGrid>
                <a:gridCol w="1219320"/>
                <a:gridCol w="3886200"/>
                <a:gridCol w="3504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ed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a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manje tabele, najlakše za izgradn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odgovarajuće za mnoge konstrukcije PJ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Viš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nforma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a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d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LR(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noge korisne gramatike nisu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Arial Narrow"/>
                        </a:rPr>
                        <a:t>LA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Veličina tabele kao</a:t>
                      </a: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 SLR, </a:t>
                      </a: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više jezika</a:t>
                      </a: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, ef</a:t>
                      </a: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ikasnije za izgradnj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Defin</a:t>
                      </a:r>
                      <a:r>
                        <a:rPr b="0" lang="sr-Latn-CS" sz="2400" spc="-1" strike="noStrike">
                          <a:solidFill>
                            <a:srgbClr val="cc0066"/>
                          </a:solidFill>
                          <a:latin typeface="Comic Sans MS"/>
                        </a:rPr>
                        <a:t>isanje empirijski a ne matematičk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LR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preciznija upotreba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ookahead,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jveći dio konstrukcija PJ koje mi želi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ab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e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u za red veličine veće od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LR(1)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ab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28600" y="8380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144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0D7-CF46-4699-A82E-BA7692BC5F8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D1B52-4554-4DE8-A33E-BA7483549E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ostor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638520" y="3602160"/>
            <a:ext cx="3365640" cy="10778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9080" y="3076560"/>
            <a:ext cx="5047920" cy="1973160"/>
          </a:xfrm>
          <a:prstGeom prst="ellipse">
            <a:avLst/>
          </a:prstGeom>
          <a:solidFill>
            <a:srgbClr val="bebaf8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286000"/>
            <a:ext cx="5889600" cy="342108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65320" y="2549520"/>
            <a:ext cx="2355840" cy="2895480"/>
          </a:xfrm>
          <a:prstGeom prst="ellipse">
            <a:avLst/>
          </a:prstGeom>
          <a:solidFill>
            <a:srgbClr val="febfb4">
              <a:alpha val="50000"/>
            </a:srgbClr>
          </a:solidFill>
          <a:ln w="28440">
            <a:solidFill>
              <a:srgbClr val="fc41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21160" y="363060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S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32004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57640" y="238284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LR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2743200"/>
            <a:ext cx="9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82680" y="1628640"/>
            <a:ext cx="7067520" cy="43434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838080"/>
            <a:ext cx="8077320" cy="579132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560" y="187164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b2b2b2"/>
                </a:solidFill>
                <a:latin typeface="Arial"/>
              </a:rPr>
              <a:t>Jasne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 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65320" y="1101600"/>
            <a:ext cx="33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CF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5920" y="4027320"/>
            <a:ext cx="1320840" cy="52704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83040" y="40338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LR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04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Mi radimo 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572000" y="914400"/>
            <a:ext cx="3124080" cy="19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400800" y="914400"/>
            <a:ext cx="1295280" cy="259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876560" y="914400"/>
            <a:ext cx="28191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C1CB-D055-4953-88AE-0F05915DDC9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5DC99-A105-4765-8C88-6191B51650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L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L(k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ALR(k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uobičajeni izbor u praksi i najčešće je k=1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riterijumi za izbo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mplemen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Jednostavnost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pštos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Uslovi za transformaciju gramatik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poravak od grešak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Veličina tabel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fikasnos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53BC-2067-4E57-A29E-E2E71A1EC5B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F5B02-501D-41A1-8812-D1F4A695D3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L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: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uslov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3815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trebno je mnogo transformacija z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oste gramatike postaju složenij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419720" y="914040"/>
            <a:ext cx="441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 m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š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gu obraditi mnoge gramatik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ak 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-LALR!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895480"/>
            <a:ext cx="8534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poređivanje implementacionih zahtje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oliko dodatnog vremen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Vrijeme za transformaciju i pokuša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ome se vjeru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Mogu li čitati svoju transformisanu gramatik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Može li se nadgradit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655-B20B-4A1E-B005-C28D0F1F33E6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238A8-2B3B-4CBC-99A8-D1D5983520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L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ALR: implementa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4152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v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 spust može se ručno kodirati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izgradi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able-driven LL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Lgen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86120" y="914040"/>
            <a:ext cx="415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AL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izgled se uvijek generišu mašinski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ator (yacc / bison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že pronaći problem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nejasnoće u gramatic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A54-69C2-4C04-A2F3-5083EE44061E}" type="slidenum">
              <a:t>3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71B431-6930-4385-A31C-ACE4343A9C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eal lif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"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parser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GCC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pis i source na adresi: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http://www.gnu.org/software/gcc/gcc.html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Comic Sans MS"/>
              </a:rPr>
              <a:t>Provjeriti </a:t>
            </a: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makefile!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Comic Sans MS"/>
              </a:rPr>
              <a:t>Vjerovatno nećete pisati čitav kompajler, ali jedan njegov dio vjerovatno hoćete</a:t>
            </a:r>
            <a:r>
              <a:rPr b="0" lang="en-US" sz="30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B9F-3FDA-4B44-886B-5B820F8290D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99401-6912-4F52-AE98-467D9DDC37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odsjećanje n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djela skup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(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 osnov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-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jgori slučaj broja stanja: partitivni skup skupa ite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n ite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že bi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3600" spc="-1" strike="noStrike" baseline="30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- 1 st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j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Vjerovatniji je broj stanja koji je za red veličine veći neg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kušaj čuvanj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 inf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macija uz smanjivanje broja stan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E88-00C0-46A3-8F42-84D54B2F1B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3B1C3-91A6-4E9C-B061-344267D535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A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stup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bično se govori sam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ALR (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vijek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raks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i skup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 gramatik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kušaćemo sa spajanjem sličnih st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ndidati za spajanje (merging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sto jezgr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(LR(0) item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dine razlike 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okahead-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vim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v , a/b/c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-&gt; u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v , d/e/f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2EE-BD60-455C-BF90-9A641EA24B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BA8EE-549E-4F48-B623-F6381B8303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762120"/>
          <a:ext cx="7543800" cy="52498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52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S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3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4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6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7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8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9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7315200" y="228600"/>
            <a:ext cx="1600200" cy="15570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5181480"/>
            <a:ext cx="5410080" cy="1191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bratiti pažnju na kandidate za spajan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isto jezgr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npr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R(0) item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različit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ahead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o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963-0B92-40CB-B3F5-9906203597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3C969-049B-472D-89AC-5807F29D32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685800"/>
          <a:ext cx="7543800" cy="52498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52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0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1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' -&gt; S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2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3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4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5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 -&gt; X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fc4122"/>
                          </a:solidFill>
                          <a:uFillTx/>
                          <a:latin typeface="Comic Sans MS"/>
                        </a:rPr>
                        <a:t>I6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aX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b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27f731"/>
                          </a:solidFill>
                          <a:uFillTx/>
                          <a:latin typeface="Comic Sans MS"/>
                        </a:rPr>
                        <a:t>I7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b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8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a/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 u="sng">
                          <a:solidFill>
                            <a:srgbClr val="c800c8"/>
                          </a:solidFill>
                          <a:uFillTx/>
                          <a:latin typeface="Comic Sans MS"/>
                        </a:rPr>
                        <a:t>I9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: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	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X -&gt; aX 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</a:t>
                      </a:r>
                      <a:r>
                        <a:rPr b="0" lang="en-US" sz="2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, $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7315200" y="228600"/>
            <a:ext cx="1600200" cy="15570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–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  –&gt;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4559400"/>
            <a:ext cx="3962520" cy="22885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ojeni parov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7f731"/>
                </a:solidFill>
                <a:uFillTx/>
                <a:latin typeface="Comic Sans MS"/>
              </a:rPr>
              <a:t>I47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b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800c8"/>
                </a:solidFill>
                <a:uFillTx/>
                <a:latin typeface="Comic Sans MS"/>
              </a:rPr>
              <a:t>I89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aX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4122"/>
                </a:solidFill>
                <a:uFillTx/>
                <a:latin typeface="Comic Sans MS"/>
              </a:rPr>
              <a:t>I36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a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X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X -&gt;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b, a/b/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4B9-242C-4A4A-9E1B-3FC9D60B48D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8E781-5054-419D-A6E4-1E0ABDB92F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1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-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ta se desil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rilikom spaj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ri stanja manj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m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oji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spojen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ovom sluča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lookahead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-ovi u spojenim skupovima čine čitav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llow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up, pa smo spajanjem dobil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.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zul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 spajanja obično ni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D25-A324-47D6-A309-1F651DDAEE8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CD381-EB6D-4509-8009-3DC2591523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685800"/>
            <a:ext cx="3886200" cy="1191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' -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-&gt; Bbb | aab | b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 -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981080"/>
          <a:ext cx="7924680" cy="2743200"/>
        </p:xfrm>
        <a:graphic>
          <a:graphicData uri="http://schemas.openxmlformats.org/drawingml/2006/table">
            <a:tbl>
              <a:tblPr/>
              <a:tblGrid>
                <a:gridCol w="3962160"/>
                <a:gridCol w="396252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0: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' –&gt; •S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•Bb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•aa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•bBa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B –&gt; •a,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1: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' –&gt; S•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2: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B•b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3: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a•ab,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B –&gt; a•,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....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533520" y="4800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smatrajte stanj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3. 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LR(1), shift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. 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ALR, shif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, 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b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, tj.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ALR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pajanje ne vodi ka SLR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0525-6D62-430A-B93F-FFAACEDECE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BEBB2-8B75-4984-8768-379EDF25CF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CPQ</cp:lastModifiedBy>
  <dcterms:modified xsi:type="dcterms:W3CDTF">2006-10-10T19:12:49Z</dcterms:modified>
  <cp:revision>2125</cp:revision>
  <dc:subject/>
  <dc:title>Welcome to CS143</dc:title>
</cp:coreProperties>
</file>