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5A77-CBE5-480B-BFF6-42AD65DA1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D4EF-3F99-4C0E-92EC-B7D0BE05C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DAD6-46DC-4BF2-B659-1773FC79D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096-A2CF-48E8-BB5E-E41E6668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BF9-318D-4AEB-93A4-6699B7DE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5EB-C76A-4D83-BFF7-599A154F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B62-9B9F-4CBF-8BED-3ED458F6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3398-21CD-43A8-ABB5-4B4BEB10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DFD-2358-424B-9901-0CE7DBF3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1518-AAE2-4656-BCB1-5FCA53A5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D9E0-B682-4716-B121-0ABD68B9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09A7-637E-40B4-90BD-10C59C6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5A43-77F2-4629-A56F-F132DC53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E184-0136-4642-A3DE-49C60FA6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6B9-EB23-4A73-B217-9F6E5CCD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3D09-25AF-40B0-81AD-A3D09BD1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906C-213B-4E83-A244-22CD8A26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9417-08F4-426B-AF20-F4592C73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3F4D-07CC-4E50-8150-C08D4ACE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4FA9-8AE6-4E99-AE50-95E9067A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ACA3-33BD-47BE-B382-7656BC9A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1931-2D98-4F2E-A817-B1462A2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A3A3C-00CE-4BE2-BAE7-EB6DB9A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7AEB6-2997-45B4-A900-D03E443E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EDF8D-C35F-4066-9B27-C9189E99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84E-D4CA-42FA-8C06-F0BA8147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0EA8-49C2-4E03-BC5A-EA1B33BC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3C19-2702-4D81-8A7A-1F46CA1D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ABBA-C417-475B-AE15-BF8C31B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E207-AAE5-4E3D-BD7C-09308530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4D684-9FD3-4EEB-B54D-77C1675A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3FBA6-8746-4DFD-AD02-55A45B57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75FB-16D0-4CD4-8184-FB27A280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A8C-80B9-44B7-87B1-3FF6FBF6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4CA-C3A4-4EB0-A816-C26088F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F56-A685-4C55-B266-84E1579B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158-A171-42B3-B4A8-3C1279E8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A10-5430-41E8-90EA-9ABE6C47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E29-0DDF-484F-9CCA-83EC7996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A027-E248-4E63-9A41-C019DBC042E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D681-9DEE-4AD7-B7FE-D3539358C96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595959"/>
                </a:solidFill>
                <a:latin typeface="Century Gothic"/>
              </a:rPr>
              <a:t>Copyright Sasa Popović, Ekonomski fakultet, Podgo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9036-6706-440A-8126-3EDFC81655BC}" type="slidenum">
              <a:rPr b="0" lang="sr-Latn-C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500" spc="-1" strike="noStrike">
                <a:solidFill>
                  <a:srgbClr val="0000ff"/>
                </a:solidFill>
                <a:latin typeface="Palatino Linotype"/>
              </a:rPr>
              <a:t>U</a:t>
            </a:r>
            <a:r>
              <a:rPr b="1" lang="en-US" sz="2500" spc="-1" strike="noStrike">
                <a:solidFill>
                  <a:srgbClr val="0000ff"/>
                </a:solidFill>
                <a:latin typeface="Palatino Linotype"/>
              </a:rPr>
              <a:t>niverzitet Crne Gore</a:t>
            </a:r>
            <a:br>
              <a:rPr sz="2500"/>
            </a:br>
            <a:r>
              <a:rPr b="1" lang="sr-Latn-ME" sz="2500" spc="-1" strike="noStrike">
                <a:solidFill>
                  <a:srgbClr val="0000ff"/>
                </a:solidFill>
                <a:latin typeface="Palatino Linotype"/>
              </a:rPr>
              <a:t>Pomorski fakultet, Kotor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sr-Latn-ME" sz="2800" spc="-1" strike="noStrike">
                <a:solidFill>
                  <a:srgbClr val="0000ff"/>
                </a:solidFill>
                <a:latin typeface="Palatino Linotype"/>
              </a:rPr>
              <a:t>OSNOVE FINANSIJA</a:t>
            </a:r>
            <a:br>
              <a:rPr sz="3100"/>
            </a:br>
            <a:r>
              <a:rPr b="1" lang="sr-BA" sz="1800" spc="-1" strike="noStrike">
                <a:solidFill>
                  <a:srgbClr val="0000ff"/>
                </a:solidFill>
                <a:latin typeface="Palatino Linotype"/>
              </a:rPr>
              <a:t> U</a:t>
            </a:r>
            <a:r>
              <a:rPr b="1" lang="en-US" sz="1800" spc="-1" strike="noStrike">
                <a:solidFill>
                  <a:srgbClr val="0000ff"/>
                </a:solidFill>
                <a:latin typeface="Palatino Linotype"/>
              </a:rPr>
              <a:t>vodne informacije o predmetu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sr-Latn-ME" sz="2200" spc="-1" strike="noStrike">
                <a:solidFill>
                  <a:srgbClr val="0000ff"/>
                </a:solidFill>
                <a:latin typeface="Palatino Linotype"/>
              </a:rPr>
              <a:t>D</a:t>
            </a:r>
            <a:r>
              <a:rPr b="1" lang="en-US" sz="2200" spc="-1" strike="noStrike">
                <a:solidFill>
                  <a:srgbClr val="0000ff"/>
                </a:solidFill>
                <a:latin typeface="Palatino Linotype"/>
              </a:rPr>
              <a:t>r Ana Mugoša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2f5897"/>
                </a:solidFill>
                <a:latin typeface="Palatino Linotype"/>
              </a:rPr>
              <a:t>Osnove informacije o predmetu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-293760" y="1744560"/>
          <a:ext cx="9458280" cy="18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3760" y="1744560"/>
                    <a:ext cx="94582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6"/>
          <p:cNvSpPr/>
          <p:nvPr/>
        </p:nvSpPr>
        <p:spPr>
          <a:xfrm>
            <a:off x="1355760" y="3922560"/>
            <a:ext cx="42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25440" y="327672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Predavač: Doc. dr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Ana Mugoš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Osnovna litera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snove finansijskog menad</a:t>
            </a:r>
            <a:r>
              <a:rPr b="0" i="1" lang="sr-Latn-ME" sz="1800" spc="-1" strike="noStrike" u="sng">
                <a:solidFill>
                  <a:srgbClr val="000000"/>
                </a:solidFill>
                <a:uFillTx/>
                <a:latin typeface="Calibri"/>
              </a:rPr>
              <a:t>ž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enta, Van Horne i Wachowicz</a:t>
            </a:r>
            <a:r>
              <a:rPr b="0" i="1" lang="sr-Latn-ME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oslovne finansije, Jovan Rodi</a:t>
            </a:r>
            <a:r>
              <a:rPr b="0" i="1" lang="sr-Latn-ME" sz="1800" spc="-1" strike="noStrike">
                <a:solidFill>
                  <a:srgbClr val="000000"/>
                </a:solidFill>
                <a:latin typeface="Calibri"/>
              </a:rPr>
              <a:t>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 sva dodatna pitanja možete se obratiti na mail </a:t>
            </a:r>
            <a:r>
              <a:rPr b="0" lang="pl-PL" sz="1800" spc="-1" strike="noStrike">
                <a:solidFill>
                  <a:srgbClr val="0033cc"/>
                </a:solidFill>
                <a:latin typeface="Calibri"/>
              </a:rPr>
              <a:t>ana.mugosa@ucg.ac.m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200" spc="-1" strike="noStrike">
                <a:solidFill>
                  <a:srgbClr val="2f5897"/>
                </a:solidFill>
                <a:latin typeface="Palatino Linotype"/>
              </a:rPr>
              <a:t>Informaciona lista</a:t>
            </a:r>
            <a:endParaRPr b="0" lang="en-US" sz="22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474840" y="914400"/>
          <a:ext cx="8080200" cy="57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914400"/>
                    <a:ext cx="808020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Latn-CS" sz="2200" spc="-1" strike="noStrike">
                <a:solidFill>
                  <a:srgbClr val="2f5897"/>
                </a:solidFill>
                <a:latin typeface="Palatino Linotype"/>
              </a:rPr>
              <a:t>Oblici provjere znanja i ocjenjivanje</a:t>
            </a:r>
            <a:r>
              <a:rPr b="0" lang="sr-Latn-CS" sz="2000" spc="-1" strike="noStrike">
                <a:solidFill>
                  <a:srgbClr val="2f5897"/>
                </a:solidFill>
                <a:latin typeface="Palatino Linotyp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Kolokvijum</a:t>
            </a:r>
            <a:r>
              <a:rPr b="0" lang="sr-Latn-ME" sz="2400" spc="-1" strike="noStrike">
                <a:solidFill>
                  <a:srgbClr val="7f7f7f"/>
                </a:solidFill>
                <a:latin typeface="Century Gothic"/>
              </a:rPr>
              <a:t>                       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sr-Latn-ME" sz="2400" spc="-1" strike="noStrike">
                <a:solidFill>
                  <a:srgbClr val="7f7f7f"/>
                </a:solidFill>
                <a:latin typeface="Century Gothic"/>
              </a:rPr>
              <a:t>0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 poena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Zavr</a:t>
            </a:r>
            <a:r>
              <a:rPr b="0" lang="sr-Latn-ME" sz="2400" spc="-1" strike="noStrike">
                <a:solidFill>
                  <a:srgbClr val="7f7f7f"/>
                </a:solidFill>
                <a:latin typeface="Century Gothic"/>
              </a:rPr>
              <a:t>šni                               25 poen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Praktični rad                     10 poena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Aktivnost na času            5  poena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UKUPNO</a:t>
            </a: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              </a:t>
            </a:r>
            <a:r>
              <a:rPr b="1" lang="sr-Latn-ME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r>
              <a:rPr b="1" lang="sr-Latn-ME" sz="2400" spc="-1" strike="noStrike">
                <a:solidFill>
                  <a:srgbClr val="7f7f7f"/>
                </a:solidFill>
                <a:latin typeface="Century Gothic"/>
              </a:rPr>
              <a:t>    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1</a:t>
            </a: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00</a:t>
            </a:r>
            <a:r>
              <a:rPr b="1" lang="en-US" sz="2400" spc="-1" strike="noStrike">
                <a:solidFill>
                  <a:srgbClr val="7f7f7f"/>
                </a:solidFill>
                <a:latin typeface="Century Gothic"/>
              </a:rPr>
              <a:t>  poena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4191120"/>
          <a:ext cx="7924680" cy="102060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  <a:gridCol w="1320840"/>
                <a:gridCol w="1320840"/>
                <a:gridCol w="132084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-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f5897"/>
                </a:solidFill>
                <a:latin typeface="Palatino Linotype"/>
              </a:rPr>
              <a:t>Terminski plan ispitnih obaveza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90360" y="2128680"/>
          <a:ext cx="8872560" cy="22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2128680"/>
                    <a:ext cx="88725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8:09:47Z</dcterms:created>
  <dc:creator>User</dc:creator>
  <dc:description/>
  <dc:language>en-US</dc:language>
  <cp:lastModifiedBy>Ana Mugosa</cp:lastModifiedBy>
  <dcterms:modified xsi:type="dcterms:W3CDTF">2022-02-16T08:49:56Z</dcterms:modified>
  <cp:revision>28</cp:revision>
  <dc:subject/>
  <dc:title>Univerzitet Crne Gore Ekonomski fakultet   FINANSIJSKI MENADŽMENT  Uvodne informacije o predmetu     Prof. dr Saša Popović Mr Ana Mugoša</dc:title>
</cp:coreProperties>
</file>