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FBC-1FC5-4198-9716-C9EBFBC4A45D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DDB-A191-4568-A631-75CD0B61851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A542-2AEC-4836-A53B-F28F617F8E5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B01-8EB9-4933-BD65-FA405842138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655-F351-49C2-BBE7-299714A2781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6F89-3F28-450D-A820-61688A7DBE5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4A4F-B752-4195-9A19-815B01AAE95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AB4-FD36-45C5-8AA7-31C12D737AC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13BD-80FD-479F-B12F-095494386EE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0CEE-2EA6-479A-8C6D-B2BED0D6A610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B265-6F96-4402-AC9C-F3850EB5142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B881-1351-4AD7-B903-AAECEF28ABA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2C87-B7CC-45C6-9E2F-7D1ACA7EFD3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3910-3035-453C-80FF-93E4F1E541C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E030-51CB-452E-964F-3D4728755DE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1D65-2953-4B98-9096-F3B4D99C309D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8432-8965-4615-9F12-B47FD7224B0C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4776-DF22-4FFA-92A1-A79E1F67A684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98E5-1553-4230-BCDA-6D8F0418DDB8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9FF-6DD2-4031-B56A-C2EBF732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E4C-DCD9-4BF8-8A7B-79738476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4F3-6253-4ABF-9774-D0E0F8F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11A-24CB-431D-A48F-29FCCA67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2351-56A4-478D-BC0E-89ACEBAE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9798-57C5-49FC-8DC3-943D3A83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A694-19A7-4EDD-9177-3857B05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CC5B-42C6-4F94-9E99-C7E38404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5C7-E09D-4516-B197-7B3D08B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F675-F3B8-433A-8407-A195565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8F04-658A-4A19-BC3C-1B97190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345-0810-4BA8-BE5F-3E83D41F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A1EF-B51D-4E54-BC53-1C7D0E6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67FC-22E0-4368-85A4-E70BB630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9073-388D-4321-9933-1D226E5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E2E1-FCC8-4E0C-B92F-9E3AC17C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662F-894A-4484-89F4-3AFB19DC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C30D-B4A4-4F24-8988-C2A1C8E0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430D-77A4-47F3-AD9B-923AD53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6B05-0647-404C-92D2-F9DF2703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1B85-47E5-49F2-AF15-74F5467C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4A77-B000-4ABE-8DF6-6E53831D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27E-9C5A-4DD7-98BF-8859ECB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DA25-7801-452F-A78B-ACEB9E17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E3C9-B5D9-4BDF-8099-0DE87C4C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2065-E513-4A1F-ABEB-086497B5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1494-04A7-4F9A-A03D-EE6FF97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AC751-F299-4CE7-B165-D6C4A21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97A0-4035-4D0D-B1B4-71F9AC35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18D0C-A46A-4099-A6D7-1851380F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FDFC-E999-4CBF-AD02-D8A3F5CC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BA62-9971-4B7D-BC1A-9902830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DDF8D-F1FB-4EE4-A73C-EA45CCE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210-0914-403B-A24F-83BE8F08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8CF1B-AEA6-4BB7-A9AA-6C12129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1404-7E8B-4594-AF09-8D93E9A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44BD-60A4-409B-BCDB-42A3AB11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FF0E-0F89-4E80-BB88-C7C7FE1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D4522-9024-4F4B-9A5F-CC84B27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1756-2543-4080-8BDE-5F005CD8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4FEA1-2112-497B-A1E5-1F69DB2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B648-4DEB-4484-A70F-59F3400B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16E9D-87B7-4454-A3A5-E3F74E50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920A-F6C5-471E-8823-9D3E0EBD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0DD-914B-44A5-AFE6-13D95FEF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4D03-8755-4918-9507-EEAB9484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29AD-F67A-46FE-813F-582E942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EA94-2118-4CEA-A7C2-9443D8A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2AF9-CA5A-4383-B7D2-9DFBFD4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E456-F2B6-4171-B87F-DF94B9F3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E8FC-28F4-412F-A9C6-462F3CB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8CB9-4A2D-4A1B-860A-0B7664C0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15DD-74C3-48A4-812B-B6EE475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4F88-4CF0-41A6-B082-DD8668B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4014F-935E-4096-9862-495F9DD8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4FC-BF77-416C-A0DB-D46ECD8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4290-0E44-45C2-B1FB-C19D4622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970F0-0B37-4BB6-B573-EF7F8A1B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A84BA-3F54-4D91-8947-A1D02B5D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7A1B3-ED71-4D58-8879-CC0F8E2D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16DC-4B5F-4183-BFA1-85E65CB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0390-C5D2-4994-80CE-8A2067B9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4DB3-0FA6-4D23-8BCD-64F9D5FF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77B53-5CBC-4DBD-9309-99844FF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62599-7AA8-4FAE-83B8-8526118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0CB6-EC79-49B8-8268-BBF88E56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FB1-0596-442F-BB12-DB040E5C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23D82-7AAC-4676-B2FE-88643E8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88126-59E0-4B83-B3B6-3BC50A84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A5F7-9C13-4666-8CA9-B2EEB21D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E319-3AE4-44B8-85A2-835E86AD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6C09-54E5-40DD-A75D-A08447F3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08C3-68FF-450B-AB25-1943C78C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35EC8-28CF-4731-A360-9E66C028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721D2-36A9-4727-B17A-629E2BA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6E599-819C-4ACB-BE33-23E3D8B4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E086D-E744-4629-B14D-F8AC8BB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2F9-C540-48F1-AED3-434D11B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F2CFE-F592-4DF5-95C7-FDE589A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23C6-72C0-49A4-AFF1-449670D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0E68E-9CDD-46D0-A466-4153E5E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625B8-A954-491B-BC35-107D4977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1FBB4-1E7C-4936-9C3F-C36F80CF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9C7-4E26-48B4-A08C-0C92472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78A9-0F7B-449A-8682-3520F2F1D154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AA63-429D-4314-BBFB-C41F8D3939E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2287-1AE0-44C4-8EDA-E39C7348FE1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ADD-1B81-4A5E-B4DA-C18895D935F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5A60-79DE-4B91-AAD5-0BD12B3082D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76E-5DA7-45A9-970B-96D54F65987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693D-F94B-4BEA-847D-7E1337482751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sr-Latn-ME" sz="4400" spc="-1" strike="noStrike">
                <a:solidFill>
                  <a:srgbClr val="572314"/>
                </a:solidFill>
                <a:latin typeface="Arial"/>
                <a:ea typeface="Arial"/>
              </a:rPr>
              <a:t>Osnove Finansija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572314"/>
                </a:solidFill>
                <a:latin typeface="Arial"/>
              </a:rPr>
              <a:t>Osnove finansija</a:t>
            </a:r>
            <a:br>
              <a:rPr sz="2500"/>
            </a:br>
            <a:r>
              <a:rPr b="1" lang="sr-Latn-CS" sz="25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5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5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200"/>
            </a:b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Ana Mugosa</cp:lastModifiedBy>
  <dcterms:modified xsi:type="dcterms:W3CDTF">2020-02-16T11:03:05Z</dcterms:modified>
  <cp:revision>92</cp:revision>
  <dc:subject/>
  <dc:title>Finansijski menadžment</dc:title>
</cp:coreProperties>
</file>