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72D2-077B-4201-BC30-23D3E33F1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9CEC-8B76-4FE6-A223-3D0BA01E4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D990-8715-4EE4-81EE-99F6F7089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41D2-737C-4536-9646-15C626C7B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AFAC-6F3C-4BDD-A467-F401451C4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791B-61E5-4996-8F96-0C5F2A9787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B3E0-78A1-46D8-93E4-AB7045CCF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5851-41ED-4464-BD98-61B6677DA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A0FC-AE3F-4307-9895-1CAF68E73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1C4E-4961-440F-B10E-E1C2696BE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09D5-958D-46E1-AF26-FEA255422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9B26-EE46-4CF6-AAA8-6D47643E1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FF88-F36A-41F7-8F78-5E801DA3C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4565-372F-4933-986E-E2B5EF4C10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CA73-CF7B-44A9-B0CB-2E574F6C64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23E4-B9D1-46AD-859B-B1B328713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C126-D695-4E10-955F-FFB1D1CA3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EF36-5934-421F-9337-752CDFF11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3B66-0D82-4723-93E0-85670ED2C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362B-966F-46A1-9179-065CDBEF7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2E7D-D129-42FA-8F7F-9E1877DDF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1B72-F364-4197-AAA2-DC76F0B77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27B4-D44A-44BB-B0B4-9F569AEE4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E62A-04BC-442C-A2DE-51DB350D0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AA3F-ED94-4B3E-A92C-A34A7A5A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55B-61F7-441D-BBB6-308AD85D9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3 – Iz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đenj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sanje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zvedene klase i konve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i destruk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limorf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e (polimorfne met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amičko vez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pstrakt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i de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šestruko nasljeđ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 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E7C6-4211-4757-A3C1-2860DD2C66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Ptr = new Circ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X(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Y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R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C484-D190-4746-88B3-8DADB6F4AD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93080" cy="53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5DDB-16D3-4688-9EB1-91B9B57FA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izvedene klase sadr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navedene u deklaraciji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nasljeđuje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ruktori i de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st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člana u izvedenoj klasi skriva deklaraciju člana sa istim imenom u osnov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u u osnovnoj klasi pristupa se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_klase::ime_cl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839F-3FDC-4466-B57C-D0E15E329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x = x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y = y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5281560"/>
            <a:ext cx="313200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D8D6-263F-49CA-BFC8-3CE3D966FC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atni članovi vidjivi su isključivo u klasi kojoj pripada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jivi izvedenim klas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štićeni članovi označavaju se 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idjivi su u metodama izvede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ijivi u drugim klasama, niti im se može pristupiti preko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bjekta izvedene klase javnim članovima osnovne klase se pristupa kao i javnim članovima izvede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objekta nije moguće pristupiti privatnim i zaštićenim članovima, kako izvedene tako i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51AB-6C91-4E5A-8AAE-DEDAD5ABD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1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62BC-3D11-4620-AE69-641E7EE100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dređuje ključna riječ ispred imen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oje tri načina izvođe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štiće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zvođenje je podrazumijevano priva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javno, onda u izvedenoj kl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članovi postaju jav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zaštiće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zaštiće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privat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privatni, zaštićeni postaju privatni i privatni 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BF8D-410C-46D7-9455-DA3CE164A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o pristupa može samo biti “sniže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postoji način da neki privatni član osnovne klase u izvedenoj klasi postane zaštićen ili ja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uva se princip enkapsula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obzira na način izvođenja svi članovi osnovne klase se naslje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čin izvođenja određuje nasljeđivanje prava pristu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en kontrole pristup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snovne klase preko objekt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utiče na pravo pristupa iz metod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EF29-056F-4C77-82E4-49937E778A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 Circle :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priva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x = x;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OK, zasticeni clanovi su i dalje vidjivi iz metoda izvede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y = y; //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cPtr-&gt;setX(1.0);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//Greska, setX vise nije vidljivo jer je izvođenje privat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BFB7-2BAB-41CA-89CA-5062F7D7C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vođ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lan osnovne k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B20B-0600-4BE1-9347-173BEFF4D0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izvođ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izvede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morfizam i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o vez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apstrakt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virtulenih de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struko nasljeđ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operator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2ECC-69E8-48D8-ABA1-81A58C3E39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zmeđu privatnog i javnog izvođe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i  suštinska razl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koncept nas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rst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edena klasa ima sve što i osnovna, na isti 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stupno korisn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ncept sadrž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deo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part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n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l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uča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B sadr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tipa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d privatnog izvođenja dijete ne može da zameni roditelj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9E91-EAF3-487D-B787-46A27B639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 na izvedenu klasu može se konvertovati u pokazivač na dostupnu osnovn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je dostupna ako su na nekom mjestu u programu dostupni njeni javni člav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u pitanju su klase koje su izvedene jav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zvoljena je konverzija iz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*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 ne važi za privatno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tno ne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u osnov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dodijeliti objekat izvede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BE81-9856-405D-8BEB-7B99435ED3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lphaPoint :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etaPoint :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Point(Point p){p.Print()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1 = new AlphaPoint(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2 = new BetaPoint();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Po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Po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a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b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F1A7-DB76-4F9A-91C8-1DE8657588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likom kreiranja objekta izvedene klase poziva se konstruktor te klase, ali i kon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u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anja objekta 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ene klase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ziva se destruktor te klase, ali i de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kon odabira odgovarajućeg konstruktora izvedene klase redosljed izvršavanja je sljedeć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konstruktora osv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nicijalizacija članova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ršavanje tijela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osljed poziva destruktora je obra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enos parametara konstruktoru osnov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inicijalizato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onstruktora izvede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je navesti i inicijalizator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nicijalizator osnovne klase se sastoji od imena osnov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rgumenata poziva konstruktora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958C-A1E4-4995-A0F9-4A64D6DCDE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De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C458-87FD-4E15-B18C-B7168F770E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: Point(x,y), r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~Circle(){cout &lt;&lt; "Destr : Circle" &lt;&lt; endl;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Print(){ Point::Print(); cout &lt;&lt; "R=" &lt;&lt; r &lt;&lt;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* c = new Circle(1.0, 2.0, 3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-&gt;Print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ete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72360" y="4538520"/>
            <a:ext cx="2771640" cy="23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6C52-52E1-4088-8AD6-1DF7979C27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 je projektovana osnovn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ima metod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osnovne klase izvodimo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c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e treba da imaju svoju specifičnu varijantu metod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p objekata tipa vozila (nezavisno od vrste) možemo predstaviti nizom pokazivača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2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jel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dozvoljena zato što je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6E1F-3104-4051-94AB-9B7EF88CDE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Vehicle : regNum=" &lt;&lt; reg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554B-4A0C-4A59-B85C-7B417CCC4E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odštampati informacije o svim vozil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for(int 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{vArr[i]-&gt;Print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ba slučaj pozvana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z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“obične” metode se razrešava prema tipu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pokazivač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Arr[i]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ehicle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a se poziva i odgovarajuća metoda iz te kla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o vezivanje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ncip polimorfiz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anje metode na osnovu tipa objekta, a ne tipa pokazivač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41964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6932-073C-4BB3-A41A-795A87FCBA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jstvo 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izvedene klase izvršav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ako kako je to definisano u njegovoj izvedenoj klasi, iako mu se pristupa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oj izvedenoj klasi pripada, iako mu se o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bjekta za koji se zove metoda određuje koja oblik  metode će biti poz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postupak je potpuno dinamič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objekta na koji ukazuje pokazivač određuje se u toku izvršav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 polimorfizma realizovan je tzv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im funk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078B-124A-4BAE-80B2-1AD40645AA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ealnom sistemu, nije rijedak slučaj da se u skupu entiteta uoči jedan ili više podskupova entiteta koji imaju dodatne specifične oso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tudenata, koji dijele zajedničke osobine kao što su broj indeksa, datum upisa itd., mogu se uoč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magistarskih studija koji imaju dodatnu osobinu kao što je naziv magistarskog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doktorskih studija koji imaju dodatnu osobinu kao što je broj objavljenih naučnih rad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lasa studenat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gistars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tudija je specijalni sluč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klase stud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30B8-8A77-4DEB-A66B-5EC85A4E4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metode su metode koje se u izvedenim klasama mogu predefins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iše se nova implementacija metode koja je specifična za tu izvede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koja sadrži barem jednu polimorfnu metod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morfna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 osnovnoj klasi deklariš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đenj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p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ku dekla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deklarisanja virtuel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vedenim klas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mora se stavljati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C969-9C5F-44E9-AC80-6B0F8AD9D2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om preko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 izvršava se o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pripada klasi pokazanog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metoda ne mora biti predefinisana u svakoj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nije redefinisana u nekoj izvedenoj klasi onda važi značenje iz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virtuelne funkcije u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 da se potpuno sl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 deklaracijom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arajuće met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snovnoj klas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uno slaganje z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a se podudaraju broj i tipovi argumenata, kao i tip rezult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D760-EB21-4D3C-9E64-9AA3D7F00B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virtual void Print() {cout &lt;&lt; "Vehicle : regNum=" &lt;&lt; regNum &lt;&lt; endl;}</a:t>
            </a:r>
            <a:r>
              <a:rPr b="0" lang="sr-Latn-CS" sz="1400" spc="-1" strike="noStrike">
                <a:solidFill>
                  <a:srgbClr val="ff3300"/>
                </a:solidFill>
                <a:latin typeface="Times New Roman"/>
              </a:rPr>
              <a:t> //virtelna met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6DE5-6C7C-4490-9C3A-A4C2666C07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i]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03640" y="5245200"/>
            <a:ext cx="4140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04B5-B2C6-4E8D-A768-37229ADEFA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inamičko vezi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l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anizam koji obez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da 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e poziva 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tipu objek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 tipu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li reference na taj obje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 ko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(iz koje klas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i, tj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vlja se u toku izvršavanja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na je 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a u odnosu na mehanizam preklapanja imena funkcija koji je stat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j.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mehanizima aktivira se isključivo kada je potreb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C13B-5792-4ECF-A5B8-FC27055594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jednostrukog nasljeđivanja za svaku polimorfnu klasu kreira se tabela virtuelnih funkcija (TV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bela virtuelnih funkcija klase sadrži pokazivače na verzije virtuelnih funkcija za t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neke klase sadrži pokazivač na tabelu virtuelnih funkcija t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j zadatak obavljaju kon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vodilac generiše kod za indirektan poziv virtuelne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pokazivača na TV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 se iz objekta pročita adresa TV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tim se iz tabele pročita adres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FBE1-7DF3-42AA-B358-B0F2780CCE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Vehic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regNu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(int regNum) : regNum(regNum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Print() {cout &lt;&lt; "Vehicle : regNum=" &lt;&lt; regNum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setReg(int regNum) {this-&gt;regNum = regNum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* vArr[3]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0] = new Vehicle(1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1] = new Car(100, 5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2] = new Truck(200, 200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vNum = 3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        vArr[i]-&gt;Print();   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5400720"/>
            <a:ext cx="370836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E105-CA16-4D31-B750-5E6D6F18CC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748720" cy="535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133B-5C5C-47C1-B059-937EAF7342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koja nema in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uži da se iz nje izvode drug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alizuje koncept generaliz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jedničke osobine nekoliko klasa se grupišu u jednu osnovnu (apstraktnu)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uprotan proces specijalizaci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d postojeće klase koja ima svoje objekte uočava se podskup sa nekim dodatnim specifičnim osobin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 se ponavljanje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mjer: Publi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Knjige, naučni časopisi itd. imaju zajedničke osobine kao što je ISBN i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jednične osobine se grupišu u apstraktnu klasu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smisla da postoje objekti klas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jer ne predstavljaju neki realni entit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8A76-6228-44C4-9A27-3E091AECB0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gu postojati pokazivači i reference na apstrakt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će ukazivati na konkretne objekte klasa izvedenih iz te apstrak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a klasa može im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e čla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ične”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pstraktna klasa može imati konstruktor iako se ne mogu konstruisati objekti apstrakt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n će se pozivati kao konstruktor osnovne klase pri konstrukciji objekata konkretnih klasa koje se izvode iz apstrakt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lasa koja se izvodi iz apstraktne je jedna konkretizacija t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FB38-6C09-48E2-9599-3DA1055088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modelovanje navedene pojave omogućeno je putem mehanizma koji se zove 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an od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čnih, ako ne i najvažniji koncept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lizuje se konceptom izvedenih kl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je relacija između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B nasljeđuje klasu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klase B je jedna vrsta objekta klas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i klase B imaju osobine objekata klase A, ali i neke svoje specifič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5E99-AAE7-4A0A-AEAE-571000F56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je apstraktna ako ima makar jednu apstraktnu (čisto virtuelnu) meto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traktna met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definisana za osnov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eklaraciji u osnovnoj klasi umjesto tijela fun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sljeđuje se kao apstraktna metod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izvedenoj klasi je takođe apstraktna meto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nije definisana u izvedenoj klasi, onda je i izvedena klasa takođe apstraktna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E8C2-6546-4965-93CB-3CF1DCA5DE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(int id) : id(id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virtual float getEarnings()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missionWorker : public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sal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commi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tem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issionWorker(int id, float salary, float commision, float items) : Employee(id), salary(salary), commision(commision), items(items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float getEarnings() {return salary + commision * item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2179-A3E7-45FC-B91A-F7632C2B36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hou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w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urlyWorker(int id, float hours, float wage) : Employee(id), hours(hours), wage(wage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loat getEarnings() {return hours * wage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ommissionWorker(1, 100.0, 0.30, 200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HourlyWorker(1, 40.0, 1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vArr[i]-&gt;getEarnings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E19F-71E1-409F-82D2-01DF45F4C9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ne može da bude virtuel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prije samog kreiranja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može da bude virtue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da destruktor osnovne klase uvijek bude virtuel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uprotnom, prilikom poz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nad objektom izvedene klase biće pozvan destruktor os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da se poziv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destruktora izvedene klase ne treba pozivati destruktor osnovne klas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mplicitno se poziv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2E2C-F58E-469D-B4F6-9A2F011F17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Base() {cout &lt;&lt; "Destr : Base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27640" y="5410080"/>
            <a:ext cx="291636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453B-3677-4CEF-BCF9-B0496FB18E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1600" spc="-1" strike="noStrike">
                <a:solidFill>
                  <a:srgbClr val="ff3300"/>
                </a:solidFill>
                <a:latin typeface="Courier New"/>
              </a:rPr>
              <a:t>virtual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Base() {cout &lt;&lt; "Destr : Base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00720" y="5603760"/>
            <a:ext cx="2843280" cy="12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66C5-5249-4202-B5CE-08C33A517F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može biti izvedena iz više različit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struko nasl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heritanc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 zaglavlju se navode imena klasa odvojenih zarez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osnovnih klasa može bit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o nasljeđenim članov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i za konstruktore i de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i nedosta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 dijamant struk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B0B2-3252-42E5-9A2A-6326683EB1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išestruki podobjek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će imati dva skupa članov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imjeru problem nastaje jer je referenca na član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dvosmisl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 li 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se izbjeći upotrebom operatora 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::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6205-DC59-4DD8-BD12-C498CDD059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651640" y="5027760"/>
            <a:ext cx="349236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843D-B75C-4CDE-8EB8-FBCE4BC69BD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osnovn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zbjegavanje višestrukih pod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d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sljeđuje samo jedan pod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dvosmislenosti kod pristupa članu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raju se virtuelno izve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9727-A514-43E3-9C32-794673E55D5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B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izveden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nov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B izvede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po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itelj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om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B nasl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arakterist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iže se visok stepen ponovne upotrebe programskog 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novnu klasu ne treba mijenj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ije je potrebno ponovo kompajli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5B45-4621-4E92-B544-0B04F819E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 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: 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56360" y="4994280"/>
            <a:ext cx="2987640" cy="186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4994-7035-4776-95ED-3D3A2C3D16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vog operatora omogućeno da se dinamički (u toku izvršavanja) odredi tip izr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izra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Izraz može biti bilo kojeg tipa ugrađeni ili korisnički defini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naziv_t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Može biti proizvoljan t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ada je operatoru predat izraz nema opasnosti od bočnih efek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ijednost se ne izračun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rlo korisno za polimorf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Rezultat je dinamički tip operanda, a ne onaj tip koji je upotrijebljen pri deklaraciji pokazivač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C875-B4A3-4990-833C-66E7B1A765B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const type_inf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tip iz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typeinf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oji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i podatke o ti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dražani su operatori == i !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name() vraća neko logično ime ti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azliku je između prevodila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va klasa nema javne kon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se kreirati objekti ov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53C7-2D06-41F7-BDA3-D331AE51F4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Car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Car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Truck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Truc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Name()=" &lt;&lt; typeid(*(vArr[i])).name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9640" y="1557360"/>
            <a:ext cx="302436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E7F9-0C7B-4DE6-957C-33AA6C7BC0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13532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3471-BB5F-4E44-803A-43860C0ED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ne definiše na sljeći nač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je imena klase navodi 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izvođ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biti navedena imena više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a su odvojena zarez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ostoji samo jedna osnovna klas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u pitanj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ruko, ako postoji v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višestruko 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iše kora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osnovna klasa za sled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zv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akvo izvođenje se ne naziva višestruk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37BA-A3F6-4B19-B581-37BCA886C8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vidljivo samo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A5F4-AE84-46C1-A1C9-D274112D16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x = x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y = y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5FDC-E8ED-4B98-99C9-208174810E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7T13:02:21Z</dcterms:modified>
  <cp:revision>829</cp:revision>
  <dc:subject/>
  <dc:title>Chapter 1 – Introduction to Computers and C++ Programming</dc:title>
</cp:coreProperties>
</file>