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479D-E530-4D73-BFD0-1C0211376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BE5D-352D-48B1-9677-89148C3B1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AADF-B10E-4A18-BFDE-FA840CB61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065E-46E3-4624-945D-F8444DC44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57027-4C10-4884-B646-F2A97F63CC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ADB07-CB4B-438D-9107-8F39773A7B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A23FC-2D22-45E7-ADD7-2CE21794AD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54548-D594-4681-AA0A-6C8F082533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71999-C703-4B3B-A8B5-7EED6ABF2F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0CEE7-7F4B-4C31-BE90-FB7BF9119C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BDCF-008F-438B-AB2B-6A4671DBFA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2337-46AE-4BC0-9461-E4AE76122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88340-8CCC-4717-9F74-C59FEFD58D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2649-AC41-42E3-9FF9-199D418B19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27BE8-7357-465F-B984-6F8E8337A5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6D01-1753-4F65-84A9-4F99657B33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C5859-EC97-4109-8A24-098B175CE9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4712-2152-496B-ACE6-5ACF77457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1736-1511-46A7-B141-6E43A6209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916B-79DD-41EA-A55D-251CFE08C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C8C8-CEEB-4D72-AFE2-48A5B7889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1730-BA71-4A4D-B973-CA5690AE5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E274-64A2-400A-9F2E-8A039F51D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C8DC-0159-493A-A90D-3C38F2533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4953-7A46-42D1-9DD5-8FA0AD653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8CAC-D2D1-4A9E-8034-12DD48B27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7 – Gener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ki mehanizam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243080"/>
            <a:ext cx="7696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Motiv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Šabloni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enerisanje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Šabloni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odrazumijevane vrijednos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Šabloni funkcija čla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Specijalizacija šabl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Zaključ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E27E-BDCB-4608-B598-D829171ECA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Generisanje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 maxfunc(T a, T 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    return a &gt; b? a : b;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000000"/>
                </a:solidFill>
                <a:latin typeface="Courier New"/>
              </a:rPr>
              <a:t>//preklopljena funkci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har* maxfunc(char* str1, char* str2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 return strcmp(str1,str1)&gt;=0?str1:str1;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// ekspl. zahtijev za generisanj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emplate float maxfunc&lt;float&gt; (float,float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i1 = -3, i2 = 5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loat f1 = 5.5, f2 = 34.4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har* s1 = "bc"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har* s2 = "abc"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max(i1, i2)=" &lt;&lt; maxfunc(i1, i2)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// generise se int maxfunc(int,in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max(f1, f2)=" &lt;&lt; maxfunc(f1, f2)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1300" spc="-1" strike="noStrike">
                <a:solidFill>
                  <a:srgbClr val="000000"/>
                </a:solidFill>
                <a:latin typeface="Courier New"/>
              </a:rPr>
              <a:t>//poziva se preklopljena funkcija maxfun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max(s1, s2)=" &lt;&lt; maxfunc(s1, s2)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max(s1, s2)=" &lt;&lt; maxfunc&lt;char*&gt;(s1, s2)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//ekspl. se poziva genericka funkci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24360" y="2637000"/>
            <a:ext cx="3419640" cy="159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F6B2-4F46-4A2A-BC73-6F930B9450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Šablon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ablonom klase definiše se cijela familija klasa koje imaju isti izg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Šablon klase naziva se i generičkom klas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klaracija šablona klase odgovara deklaraciji “obične” klase izuzev što ispred stoj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emplate&lt;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naštanje prevodioca za šablone klasa je identično kao i za šablone funk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Generiše se konkrenta klasa kada se naiđe na deklaraciju sa objekta te generičk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rši se zamjena parametra šablona stvarnim tip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sti efekat kao da je programer sam ispisao sve konkrentne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rši  se i generisanje svih funkcije član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9039-C018-4916-95D3-86EB5E97A4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Šablon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znaka tipa generičke klase treda da sadrž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dentifikator generičk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Listu stvarnih argumenata za generičke parametre i konstan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vodi se unutar &l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varni argument može bi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znaka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me klase, ugrađeni tip, pokazivač it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Zamjenjuje parametar koji je identifikator tip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onstan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li konstantni izr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Zamjenjuje parametar koji je identifikator konst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D83C-4E3E-45BE-A617-A538C79DD6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Šablon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76464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template &lt;class T, int n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*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ay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&amp; operator[](int i) {return a[i];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Print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(int i = 0; i &lt; num; i++) cout &lt;&lt; a[ i ] &lt;&lt; " 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template &lt;class T, int n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Array&lt;T, num&gt;::Array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a = new T[num];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&lt;int,2&gt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rr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&lt;Complex,2&gt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rr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1[0] = 1;arr1[1] = 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2[0] = Complex(10.1, 11.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1.Prin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2.Prin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16360" y="5595840"/>
            <a:ext cx="4427640" cy="12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D1D0-0807-4DD2-9DAE-F5F85075CA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odrazumijene vrijednosti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arametri šablona mogu da imaju podrazumijena vrije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koliko posljednjih argumenta može da ima podrazumijenu vrijednos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lično kao i kod funkci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voljno je navesti samo u deklaraciji k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ije potrebno ponavljati u metoda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parameter ti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drazumijevana vrijednost može da bude primitivni tip, “obična” klasa, generička klasa sa navedenim stvarnim tipovi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parametar konstan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drazumijevana vrijednost je konstantni izra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2FBF-E111-4FDF-BED2-7813951E1F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odrazumijene vrijednos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*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){a = new T[num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&amp; operator[](int i) {return a[i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um; i++) cout &lt;&lt; a[ i ] &lt;&lt; "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&lt;&gt; arr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&lt;Complex&gt; arr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1[0] = 1;arr1[1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2[0] = Complex(10.1, 11.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1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2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16360" y="4005360"/>
            <a:ext cx="442764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8A03-7EB6-4B11-8D08-5AAEEA9D52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Šabloni funkcija članic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e funkcije članice šablonske klase su podrazumijevano šablons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unkcije članice mogu da budu šablonske, tj. generič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Bez obzira da li je klasa šablonsk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enerička funkcija članica mogu da se definišu unutar klase izi izv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mogu biti virtuel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struktor ne može da bude generičk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struktor može da bude generičk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pozivu stvari argumenti šablona navode se poslije imena funkci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F09B-9F75-4F0E-A717-4091F2C6F8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Šabloni funkcija članic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template &lt;class T&gt; void mul(T 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 *= 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i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*= 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iend ostream&amp; operator&lt;&lt;(ostream&amp; os, Complex&amp; 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stream&amp; operator&lt;&lt;(ostream&amp; os, Complex&amp; 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return os &lt;&lt; "(Im=" &lt;&lt; c.re &lt;&lt; ",Re=" &lt;&lt; c.im &lt;&lt; ")"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c1(1.0, 2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c1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1.mul&lt;int&gt;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c1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1.mul&lt;float&gt;(2.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c1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46920" y="4842000"/>
            <a:ext cx="3097080" cy="20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2276-D4C4-4E38-B3FE-DFA655913A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dređenom broju slučajeva postoji potreba da 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neke specif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ne vrednosti parametara šablona definiše specifična definicija šablonske funkcije ili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pr. funkcij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ma drugačije ponašanje za nizove znaka u odnosu na broje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prethodnom primjeru, tu funkciju smo preklopili što je u određenim slučajevima dalo neželjeno ponašan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ržan je koncept specijalizacije šablo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efinisanje posebnog šablona za neku kombinaciju parameta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ra da postoji prethodno definisati opšti šabl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2E6F7-DA37-42F5-ABD7-2857444918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ecijalizacija može bi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jelimič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pecijalizovani šablom ima makar jedan argu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tpu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pecijalizovani šablom nema ni jedan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guće je specijalizov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ic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ecijalizacija funkcija mora da bude potpu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spred deklaracije navodi 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emplat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raju se koristiti konkretni tipovi za deklaraciju formalnih argumenata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7452-D23B-4299-B007-F1A2FA8B18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iljevi le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osnovim pojmovima vezanim šabl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nje šablona funkcija funkcija i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nje podrazumijevanih vrijednosti šablo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jalizacija šabl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003B-5971-4C36-B606-9E5E07CEF8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 maxfunc(T a, T 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   return a &gt; b? a : b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template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har* maxfunc(char* str1, char* str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{ return strcmp(str1,str1)&gt;=0?str1:str1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kspl. zahtijev za generisa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mplate float maxfunc&lt;float&gt; (float,floa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i1 = -3, i2 = 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f1 = 5.5, f2 = 34.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* s1 = "bc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* s2 = "abc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max(i1, i2)=" &lt;&lt; maxfunc(i1, i2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generise se int maxfunc(int,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max(f1, f2)=" &lt;&lt; maxfunc(f1, f2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out &lt;&lt; "max(s1, s2)=" &lt;&lt; maxfunc(s1, s2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out &lt;&lt; "max(s1, s2)=" &lt;&lt; maxfunc&lt;char*&gt;(s1, s2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46920" y="1773360"/>
            <a:ext cx="3097080" cy="165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CD4CA-F7C2-4239-8FA8-5F30E41923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pecijalizacija generičke klase može biti potpuna ili djelimič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lar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ourier New"/>
              </a:rPr>
              <a:t>templ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sl-SI" sz="1800" spc="-1" strike="noStrike">
                <a:solidFill>
                  <a:srgbClr val="000000"/>
                </a:solidFill>
                <a:latin typeface="Courier New"/>
              </a:rPr>
              <a:t>argument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class GSklasa&lt;parametri&gt;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rgumen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Svi ili samo neki formalni argumenti opšteg šabl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Ne mogu imati podrazumevane vred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Parame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Specijalizovani argumenti opšteg šablo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 deklaraciji objekta generičke klase navodi se onoliko parametara koliko ima opšti šab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evodilac bi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Najviše specijalizovani šablon (sa najmanje argumen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pšti - ako ni jedan specijalizovani ne odgov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DAEC-81F4-4FF0-A71D-2E7CAA2C8A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*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int n) : n(n) {a = new T[n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&amp; operator[](int i) {return a[i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operator==(Array&amp; arr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!= arr1.n) 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a[i] != arr1.a[i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9FD9A-A9CE-4302-A1E2-C17B14E224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&lt;int&gt; a1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1[0] = 1; a1[1]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&lt;int&gt; a2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2[0] = 1; a2[1]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a1 == a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==a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!=a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&lt;char*&gt; s1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1[0] = new char[3]; strcpy(s1[0], "ab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1[1] = new char[3]; strcpy(s1[1], "bc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&lt;char*&gt; s2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2[0] = new char[3]; strcpy(s2[0], "ab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2[1] = new char[3]; strcpy(s2[1], "bc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1 == s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s1==s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s1!=s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48360" y="4962600"/>
            <a:ext cx="3095640" cy="189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8109-1EBB-405F-83B6-43CD04915E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template &l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class Array&lt;char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*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int n) : n(n) {a = new char*[n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~Array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&amp; operator[](int i) {return a[i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bool operator==(Array&amp; arr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!= arr1.n) 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strcmp(a[i], arr1.a[i]) !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77080" y="5238720"/>
            <a:ext cx="2266920" cy="16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8A9D-A2EA-4A94-9E46-A488351DA6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Zaključak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eneričke klase se najčešće koriste za realizaciju kontejnerskih kl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t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Lista it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ez generičkog mehanizma ovaj problem rješavan je putem nasljeđivan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etodu se defisane tako da rade sa nekim opštim tipom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z koga se izvode ostal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pitanju je zapravo pokazivač na bilo koji objek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eliki nedostatak je mogućnost da se neka operacija jednom pozove za jedan objekat, a drugi put za neki drug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ada se koristi gen. mehanizam do toga ne može doć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d deklaracije objekta se navodi i stvaran t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2C13-6199-41ED-AD80-5C9A1B5D69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značajnom broju slučajeva istu funkciju (algoritam) treba primjenjivati nad različitim tipovima poda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psolutna vrijedn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aksimum dva bro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Bez odgovarajućeg mehanizma trebalo bi pisati po jednu funkciju za svaki tip podatk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int abs(int n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return n &gt; 0? n : -n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 abs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 n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return n &gt; 0? n : -n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 abs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 n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return n &gt; 0? n : -n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Jezik C ne podržava preklapanje imena pa se funkcije zovu 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fabs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labs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it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94B0-0D95-4EFA-84C2-B8DF20F68B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Šabloni funkcija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z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 C++ omogućava definisanje šablona (engl.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templa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ablon opisuje familiju funkcija koje imaju istu realizaciju, ali operišu nad različitim tipovima podat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gu se praviti i za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 osnovu šablona se automatski generišu konkrente funkcije za konkretan tip podat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adatak prevodioca, a ne programe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unkcije koje su opisane šablonom nazivaju se generič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enerički mehanizam je statič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vrijeme prevođenja vrši se tekstualna zamj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1C91-1BC2-4A13-8124-8E069E9332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Šablon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finicija šablona počinje ključnom riječju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empla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tom se između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&lt;&gt;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navode parametri šablo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arametri šablona su odvojeni zarez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vaki parameter može biti tip ili konstan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je u pitanju tip onda se navodi ključna riječ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l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, a zatim se navede i identifikator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detifikator tipa može se koristiti unutar šablona na svim mjestima gdje se očekuje identifikator tipa podat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je u pitanju konstanta, onda se navede oznaka tipa(npr.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 , a zatim identifikator konst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nstanta se može koristiti unutar šablona na svim mjestima na kojima se očekuje konstan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86AF-4CEE-4C71-B295-7A891B0815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Šablon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template &lt;class 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T abs(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&l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1 = -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f1 = 5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i1=" &lt;&lt; abs(i1)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f1=" &lt;&lt; abs(f1)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183440" y="5522760"/>
            <a:ext cx="1960560" cy="13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96B9-F588-4C6C-B541-34B7BC9636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Generisanje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enerisanje konkretnih funkcija na osnovu šablona vrši se automatski od strane prevodio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likom analize šablona prevodilac ne generiše k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ip je još uvijek nepozna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enerisanje koda se vrši kada se dođe do poziva fun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smatra se stvarni ti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Generiše konkretnu verziju funkcije tako što parametre šablona zamijeni stvarnim tip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ima više poziva sa istim tipoom (npr.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 generiše se samo jednom za taj ti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F4CC-8BB0-4325-9701-E4C2B8433E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Generisanje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309920" cy="511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313A-0BE8-4F3E-8EEC-5F51030F67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Generisanje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kretne funkcije mogu biti generisane i na eksplicitan zahtje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ksplicitno generisanje vrši se sa navođenjem prototipa sa tipovima stvarnih argumen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enerisanje funkcije se vrši samo ako odgovarajuća funkcija ne postoj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Bilo generisana bilo definisa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dgovarajuća funkcija znači da se stvarni argumetni uklapaju u formalne bez konverz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ablonske funkcije je moguće preklap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8D48-B758-4357-A058-C5CC18E354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16T09:28:52Z</dcterms:modified>
  <cp:revision>893</cp:revision>
  <dc:subject/>
  <dc:title>Chapter 1 – Introduction to Computers and C++ Programming</dc:title>
</cp:coreProperties>
</file>