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5E26-0A97-4879-ABB9-51FEF04E6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5847-F8C8-42A7-BB82-5642390F9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7EB4-49EA-492C-9F8F-AA2274FFF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A7CB-AC67-48B6-8B4B-43452FCD5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221A-9F5B-4CD3-9849-CE1B801376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0BEA-1153-447D-841C-0CC7019D3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67BE-C3F9-4E6F-A2DB-A3F40E21A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B4F3-8A81-4A91-A140-F2D6AD0E7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9ABB-CA81-4023-A7FF-303C48A300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9EF1-BE35-4E0D-B363-AABF869D9F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E920-F26C-4C2D-9F0C-F7C3424017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F9DB-3687-43FC-B1B8-6E5EDB03D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7F59-6464-4322-B785-1212FE565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2E25-E2EC-4AD0-BB3F-1CCE07CC9B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F6DD-60D4-4E7E-B1F4-B8435BC753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9C00-ADEC-434F-888D-057A40D28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4CD4-F587-4EE5-A81C-B6F2D3437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69D6-53DD-4EDA-A539-AC1CFAA8E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B3E1-6236-4C0A-BBB8-8E8EC08D4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34C-ACDA-49F5-AFF7-BF92E25A3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E5CF-A40E-4016-8EB6-EDF782E93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E08B-6AC6-4F42-8C7F-0D7D687D9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51BA-4314-4ED7-958B-F40440F50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8B11-A4DD-4620-B244-1D318FFF0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A74-222D-416E-BC1C-5C98228C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3B63-53A1-4C3D-B839-C4269D5AA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uzec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ehaniza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cij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Izaziv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ihvat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fikacija izuzetaka funk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prihvaće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3C8E-4A4B-4698-8489-15CA9F3430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i &lt; 0 || i &gt;= 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14BB-2270-41FF-928C-8A36C9550F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27640" y="4884840"/>
            <a:ext cx="291636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64CA-5B3F-41B5-8B1C-34EB41845A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Definicija hendle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a hendlera l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 definiciju funkcije sa t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dnim argumen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da je 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je njego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izuzetke tip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i tip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snovna klas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pokazivači koji se mogu konvertov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liste hendlera bira se onaj koji odgovara tip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odgovara više bira se onaj po redosljedu pojavljiv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1D26-88E8-42FC-BBD2-346B6B298D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ši se naredb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hrow izra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raz svojim tipom određuje koji hendler će biti poz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ijednosti izraza se prenosi handleru kao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ok programa se nastavlja na mjestu koj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kaz sa odgovarajućim tipom formalnog argumenta koji pripada najbliž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blok koji je započet, a nije završ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558D-73A5-49DB-9015-A502C4553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309A-A9AB-4B70-8FCA-9B2788A909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if ( i &lt; 0 || i &gt;= n) throw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Array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DAF4-6633-47E0-A89A-8ECA2D1093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main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491000"/>
            <a:ext cx="262728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0621-62B3-4B6F-B763-C08105BBA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f ( i &lt; 0 || i &gt;= n ) throw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A2E7-8FB2-4489-A683-CAF6E1DEDE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uzetak main " &lt;&lt; 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23400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8562-6517-4405-9235-50B0FA9E75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Und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v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CA19-192B-49FA-8191-12454BE4AC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mehanizmo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zivanje i prihvatanj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s informacije o izuzet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hvaćen i 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8A0A-FF39-4A22-A925-C29497881A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15280" y="1484280"/>
            <a:ext cx="2628720" cy="21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65E4-F7EA-4686-87E8-52D3B818FB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2271-A55D-4FDA-AEE9-FB10A1E90B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 izazivanja izuzet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ira se privremeni objekat sa v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o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r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ja kontrole hendleru podrazu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vno napuštanje bloka u kojem se dogodio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uze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uštanje bloka podrazumijeva uništavanje svih lokalnih objekata u tom bloku i ug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m blok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kat koji se pojavi kao operand nared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štav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se zato prethodno kopira u privrem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remeni objekat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uništiti tek po napuštanju 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na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 hendlera treba se 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 s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pravi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lere tipa izvedenog iz neke osnovne 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 stavljati ispred hendlera tipa t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rzalni hendler treba stavljati na pos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je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DFEC-9A76-40EE-9B49-AE5BB14C69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lass IndexEx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Und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Ov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82F6-DCB1-4DDC-9AB0-A57D86F4D9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atch(IndexEx ix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out &lt;&lt; "Van granica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51640" y="1700280"/>
            <a:ext cx="259236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E432-35AD-4D85-9F0D-2C0DB1B688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IndexEx&amp; 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ind.id * ind.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kopije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IndexEx(){cout &lt;&lt; "Destr. " &lt;&lt; id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52CE-0D15-486A-BEB5-C3BE93CD5B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Ex::cou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  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dexEx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75280" y="1989000"/>
            <a:ext cx="3168720" cy="312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811E-A377-43C8-A2B9-C8DC0534C7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46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AB1E-138C-4553-A3A5-CAB9E04FFA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&amp;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70560" y="1341360"/>
            <a:ext cx="3673440" cy="35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CBA4-5B12-426D-9772-D34D16B1E2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0BF4-5C0E-4A4E-B07C-80B27B2E1A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da g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ka, tj. izuzetnih situacija u programiranju ima veliki znača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i obično sadrže značajnu količinu koda koja obrađuje situacije koje nijesu dio osnovnog zadatka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ogućnost otvaranja dat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uspješna alokacija memor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mogu završiti rad neupješno iz razloga koji nijesu pod direktnim uticajem program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postojanje datotok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dovoljno slobodne memorij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7F43-307E-4BB8-90AB-5D4581AA8A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&amp;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88000" y="1628640"/>
            <a:ext cx="3456000" cy="24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1A88-F708-418E-AF45-C55A39250D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8487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C327-6199-4CF3-BB02-3EC3FD07E1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new Index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94560" y="2133720"/>
            <a:ext cx="244944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3D52-46D3-4F6A-AA36-A787D2864F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24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683F-9597-4539-9BF4-779A8C191C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eklaraciji ili definiciji funkcija 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se navede spisak tipova izuzetaka koje funkcija izaz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spiska tipova izuzetaka se pos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(niz_identifikator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_tipov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liste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koja nem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kaciju može izazvati bilo koji izuze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uprotnom može izazvati samo one izuzetke koji su navedeni 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rtuelna metoda u izvedenoj k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sme da proširi listu izuzetaka iz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me da suzi listu izuzetak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2893-6C91-41AD-87C3-F58860C9D6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nt " &lt;&lt;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Complex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Complex " &lt;&lt;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59280" y="5942160"/>
            <a:ext cx="4284720" cy="91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F128-9513-4BC6-A6D1-57B6009F58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lučaju kada dođe do izuzetka za koji ne postoji odgovarajući hendler poziva se sistemsk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ermin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bor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4325-AB9B-48A1-AA27-83EFB39548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hrow new IndexEx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user_def_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Postoji neprihvaceni izuzeta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_terminate(&amp;user_def_abor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Van granica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211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02B6-ECE8-450B-9DCF-6091F2E69E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lučaju u toku izvršavanja funkcije dođe do izuzetka koji nije naznačen u spisku dozvoljenih izuzetaka funkcije poziva se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EC61-1C1B-40EE-AA06-9D8FF5BDDF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user_def_terminate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stoji neocekivani izuzetak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_unexpected(&amp;user_def_terminate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59280" y="5875200"/>
            <a:ext cx="338472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DD83-61CA-422B-BA74-318A54558B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a koje je okončala rad neuspješno mora informaciju o tome proslijediti funkciju koja ju je pozva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juća funkcija razrešava nepredviđenu situaciju ili informaciju dalje prosljeđuje nadređenoj funkcij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zik nema odgorajuću podršku za obradu izuzetaka informacije se moraju prenositi kao parametri funkcija, ili kao povratne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akav pristup ima brojne mane koje utiču na razumljivost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su opterećene dodatnim argumentima čime se smanjuje čitljivo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E63-7369-4D5C-8798-0471BD081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predak (korjena klasa) svih standardnih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exception.h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 standardnih klasa i neki operatori prijavljuju izuzetke klasa izvedenih iz klase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o znači da se bilo koji od ovih izuzetaka može prihvatiti s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Još jedna od prednosti polimorf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poručlivo je da se i svi korisnički izuzeci budu izvedeni iz 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mogućeno je projetkovanje hijerarhije izuzetaka gdje se oni mogu obrađivati pojedinačno i u grup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A0CB-E558-4292-96CE-ABFDA5327B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rfejs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lass excep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)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&amp; operator=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~exception(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const char* what() const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 jedna metoda ne smije da prijavi izuzeta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ezbijeđno putem deklaraci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hrow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what vraća opis na tesktualni opis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E3A6-C69D-4B8E-9A48-406AC45951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niz = new int[1000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8720" y="5672160"/>
            <a:ext cx="417528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AA20-0683-4719-B32E-E671EE90EE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IndexEx : public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Und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d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UnderflowIndexEx()throw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Und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Ov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OverflowIndexEx() throw(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Ov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04EC-915D-48A8-A30D-A81135868C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2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4067280" cy="13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CAB3-AE25-4ABD-B334-ED1485A6A3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-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414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B536-5720-4624-AD62-1AC7A16DC8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Und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und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Ov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ov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5003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161F-02B4-466C-A6C6-02BA15B09E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i sadrže veliki broj if naredbi za provjeru statu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gracija u des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f1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2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3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lancu poziva funkcija kada grešku treba propagirati prema višem nivou svaka funkcija iz lanca mora da sadrži  odgovarajući k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A45C-DC96-4F8D-81C8-0BD7DE8B8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uvesti mehanizam koji omoguć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nos informacije o nepredviđenim situacijama nezavisno od argumenata ili povratne vrijenosti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isivanje izuzetata korisničkim tip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asno razdvajanje programskog koda koji se odnosi na glavni zadatak programa i programskog koda za obradu izuzeta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snovni tok programa rasterećuje se provjera stat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rada nekog izuzetka se vrši na jednom mjes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pojavu izuzetke automatski se prelazi na dio koda za obra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hanizam obrade izuzetaka u jeziku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država ove zaht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5253-1990-4ADE-80BB-649B17E45C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ogućava prenos kontrole toka programa sa mjesta na kojem dolazi do izuzetka do mjesta gdje s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jesto obrade nije poznato u trenutku pojave izuzet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avljanje i obrada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mjestu gdje je izuzetak nastao treba postaviti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uzetak se postavlja narednom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tom mjestu se prekida tok izvršavanja pr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se nastavlja u posebnoj rutini (hendler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jesto obrade nije poznato u trenutku postavljanja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zetak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b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klase (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li nekog drugo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a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e dostavlja hendleru ka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vaki tip izuzetka se definiše zaseban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AA12-BCA0-46F6-AF09-13D353BE0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da izuzetaka je vezana za blok u kojem se predv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 se mogu pojaviti izuzetne situ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 blok se navodi iza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ovog bloka slijedi proizvoljan broj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k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raz predstavlja jedan hend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riječ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zagradama se navodi deklaracija formalnog argumenta bloka za obrad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predstavlja objekat koji se prihvata kada se generiše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je naveden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...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da je to univerzalni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zagrada slijed blok koji predstavlja programski kod za obradu izuze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42E8-F176-4F5A-876B-26EFEBB86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3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E1E7-3673-4121-9269-2EDD32DD0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2:28:36Z</dcterms:modified>
  <cp:revision>931</cp:revision>
  <dc:subject/>
  <dc:title>Chapter 1 – Introduction to Computers and C++ Programming</dc:title>
</cp:coreProperties>
</file>