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9960-2DA5-4E89-94CA-C29A2C143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AE18-8176-4DB2-B3BE-C78D01495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2DC1-6CBD-46E5-AA26-29444E03B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3F14-FE4C-4280-AEA0-11C8F4115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3F262-7ABE-4D46-898B-E464393078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E433-3445-45B5-A11D-38EFC3C6AA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8DEE-D1AF-46BA-B27F-A4568904A4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6DF8-7613-499C-91CC-02DEF27C62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19ED3-4287-437E-822F-1683B8FC0E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D115-7FBC-4BBD-A6A3-F326844D2A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54CDF-E3AA-43C5-9CFF-D5D169B4A9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B984-5751-428B-9FE9-E8C4572E6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07A28-DBB0-407B-A76D-474CD4E3C9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AAE5-F3C3-4F5D-80EA-C7DA1D40B2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2AFD-8326-4B0E-91A9-99A2F214ED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D2F2-7165-40FE-AC6E-69BA08F0B4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0E295-D0FF-429E-96E9-6D89EC7991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3390-58B0-49F4-8240-7759C5F59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6692-35F2-4094-B3C5-60081376F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110A-B0ED-47B0-8B4B-CF8CF9CCC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FF39-6B0A-40B2-A2F3-D2164093A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7784-82B9-4C92-A4DA-720665C5F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9570-5AEC-490A-8A4B-58DC23DDA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876C-445B-46BB-8C41-E815F720E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1B16-2A8F-4BCD-9B3F-3C34DE3CA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36CE-28CC-4606-AA9A-D4609D7B5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5 – Prostori imena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otiv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rganizacija programa po fajlov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Način povezivanja i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ostori i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Anonimni prostor i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Standardni prostor i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C62B-89D8-43DF-85C4-1898E88D37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ostori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različitim fajlovima ili bibliotekama mogu da se nađu globalne varijable, funkcije, ili klase sa istim imeni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blem konfilikta ime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ješenje: Upotreba prostora ime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stor imena je imenovana sekcija faj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graničen je vitičastim zagrada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činje s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pace Identifika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dentifikator predstavlja naziv prostora im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iše definicija sa istim identifikatorom obrazuje jedan prostor sa datim ime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Un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3A35-AD55-4FFD-A02A-D4664F7528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ostori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lobalna imena uvedena u prostoru imena mogu se neposredno koristiti unutar tog prostora ime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su vidljiva izvan tog prostora ime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ra se koristi posebna notacija za referenciran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stoje tri načina za referenc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Referenciranje pojedinačnog čla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ourier New"/>
              </a:rPr>
              <a:t>Identifikator_prostora_imena::Ime_iz_prostora_im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voz pojedičnog elemen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ourier New"/>
              </a:rPr>
              <a:t>using </a:t>
            </a:r>
            <a:r>
              <a:rPr b="0" i="1" lang="sl-SI" sz="1600" spc="-1" strike="noStrike">
                <a:solidFill>
                  <a:srgbClr val="000000"/>
                </a:solidFill>
                <a:latin typeface="Courier New"/>
              </a:rPr>
              <a:t>Identifikator_prostora_imena</a:t>
            </a:r>
            <a:r>
              <a:rPr b="0" lang="sl-SI" sz="1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i="1" lang="sl-SI" sz="1600" spc="-1" strike="noStrike">
                <a:solidFill>
                  <a:srgbClr val="000000"/>
                </a:solidFill>
                <a:latin typeface="Courier New"/>
              </a:rPr>
              <a:t>Ime_iz_prostora_im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voz svih imena iz prostora ime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ourier New"/>
              </a:rPr>
              <a:t>using namespace </a:t>
            </a:r>
            <a:r>
              <a:rPr b="0" i="1" lang="sl-SI" sz="1600" spc="-1" strike="noStrike">
                <a:solidFill>
                  <a:srgbClr val="000000"/>
                </a:solidFill>
                <a:latin typeface="Courier New"/>
              </a:rPr>
              <a:t>Identifikator_prostora_imena</a:t>
            </a:r>
            <a:r>
              <a:rPr b="0" i="1" lang="sl-SI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EC0C-1FB0-4023-A74E-DEDC76302C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ostori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24720" cy="555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688E-230D-41C5-A1AE-13899D2DE5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ostori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vezena imena mogu da se koriste bez navođenja identifikatora prostora imena i operatora :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ime nije jednoznačno onda se mora navesti identifikator prostora i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dva različita prostora imena postoje dvije funkcije sa istim imen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postoji lokalno ime onda se mora navesti identifikator prostora i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oz se odnosi samo na delove prostora imena definisane p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C48D-BCD4-4E2D-8131-D0A2E6D226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ostori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1382760"/>
            <a:ext cx="6696000" cy="547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1A26-FB1A-44E6-BF2A-DB34A29EF7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Anonimni prostor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še se izostavljanjem identifikatora iz definicije prostora i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mena iz anonimnog prostora imena vidjive su u datote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 vidljivo u drugim fajlov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mena iz anonimnog prostora mogu se koristiti bez navođenj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o ime iz anonimnog prostora 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vi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oteke označava različite entit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nimni prostor imena se preporučuj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esto stavljanj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a globalna i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107D-C5EB-49DF-B058-2A1F271207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Anonimni prostor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pace A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globalVar = 1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Globa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printGlobalA 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 ++globalVar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printGlobalA(); //gre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::printGlobalA(); //dozvolj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0E49-646D-4390-BBDF-1FFFD19F77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Anonimni prostor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space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globalVar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printGlobal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t &lt;&lt; "printGlobalA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&lt; ++globalVar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GlobalA(); //dozvolj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3DF2-D4C6-46C5-A4FC-9D17C79B75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Anonimni prostor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1325520"/>
            <a:ext cx="7777440" cy="553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8C71-FF5F-40F8-B7B2-737687453C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Standardni prostor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dardna zaglavlja s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štaju imena u prosto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mena pod naziv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iostream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še sva imena u prostoru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 razliku 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iostream.h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d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u imena globa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t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::cout&lt;&lt;”n?”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ut&lt;&lt;”n?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::cin&gt;&gt;n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in&gt;&gt;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&lt;&lt;”n?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n&gt;&gt;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DF11-F964-4AAA-B602-29F083311B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organizacijom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i pojmovi vezani za način povezivanja im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sa prostorima im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imni i standardni prostori im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64B7-A371-4D0A-8646-97478DC267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praktično i nepregledno je da se kompletan programski kod nalazi u jednom fajl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eći programi  bivaju “razbijeni” na više manjih organizacionih jedi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risti se i termin programski mod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ično se jedan modul sadrži u jednom fajl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radicionalno, proizvođači softvera su grupu srodnih funkcija organizovali kao jedan modu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oristi se termin biblioteke, ili biblioteke gotovog ko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tandardne bibliote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3125-E32F-41D5-B076-4B0C5A6863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rganizacija programa po fajlovim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rogrameru ne piše programski kod “od nule” već u svom kodu koristi bibliote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Standard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Kreirane od strane drugih proizvođač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Kreirane od strane drugih članova ti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programskom jezik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biblioteke sadrže fun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i modul (biblioteka) se potpuno nezavisno prevodi od drugih mod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eklaracije iz drugih modula učitavaju se putem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includ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direk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rezultat dobija se tzv. objektni faj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adatak linkera je da nezavisne cjeline poveže u izvršnu verziju programa ili novu bibliote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ličnu ogranizaciju koristi jezik 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mjesto biblioteka funkcija postoje biblioteke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499A-F164-421D-8E91-85F56870FA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rganizacija programa po fajlovim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92360" y="1476360"/>
            <a:ext cx="5976720" cy="53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24DF-9E82-4EBC-886B-AD385C82D6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povezivanja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ovezivanja imen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određuje kako s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vezuju ista imena (identifikator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orišćeni u različitim datotek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poljašnje povezivanje (SP) imaj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Imena koja označavaju isti entitet (podatak ili funkciju) </a:t>
            </a:r>
            <a:br>
              <a:rPr sz="2200"/>
            </a:b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unutar svih datoteka programskog sist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nutrašenje povezivanje (UP) imaj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Imena koja označavaju različite entitete u različitim datotekama, imena koja su lokalna za datote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lobalna imena imaju SP, osim ako se koristi 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(tada je unutrašn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Lokalna imena imaju UP, osim ako se koristi 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(tada je spoljašn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6FC7-8A75-439B-B107-5424C91E6D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povezivanja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74872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122E-9FE6-4060-BE3C-7E216D0E99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povezivanja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208720" cy="571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D3FE-D604-4926-8FDD-16C31F4B41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povezivanja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128000" cy="544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1E89-C65B-432D-9818-446EF82734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20T13:57:06Z</dcterms:modified>
  <cp:revision>945</cp:revision>
  <dc:subject/>
  <dc:title>Chapter 1 – Introduction to Computers and C++ Programming</dc:title>
</cp:coreProperties>
</file>