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A6BA-43EA-4587-898F-0D9FA10E0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A56F-708E-4210-A193-04FBA7F6A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D499-CD06-4E88-9BAB-E72F7420C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5C09-6B1E-406E-BE7D-145D2F219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CFE5-77BA-4C35-A195-E3E7316D0D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B3FE-A279-4010-B82D-872E4DBD7B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07F4-8741-4841-ACB5-978892E5EB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9027-C1E1-4FA2-B28E-FCFF6340A3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ACF7-CAB3-40B1-85AA-8248CF9C9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742A-051B-4EAE-A2F5-91C9873CF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AE4D-64DA-4F78-A943-4226A31E6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F74F-408F-43C5-8CE3-4E2F88A69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E8A1-CCF7-4692-8416-99DFCB1D7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03DD-F880-4B28-A79A-D226EAD5FD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71CE-1DE9-4FAA-8D2B-28C71ED39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CB07-2C57-41B5-B4B1-FE75A6878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0F6B-E11F-46DA-8897-21A1F5BFF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B497-54BA-42DF-BF00-D59312E87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1ACE-B067-44DC-B48B-272F8D0DD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DA39-0FD2-409A-9FE8-0DD7F152E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241F-62B7-4391-884D-DF6EFDC45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784A-C59F-40B5-9626-229455CCD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3F41-A23B-44EC-A634-3A962C9D4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B16C-420B-4CBA-9986-0E3C6E553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DF0F-B6DA-4DCA-BA33-C8A1EC98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330-FD51-4AD4-B8E4-16A056A3D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lase i objekt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mplementacija i interfejs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procesi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kazivač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efere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 i funkcije člani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kazivač 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is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klopljen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line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onstant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drazumijevani argu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t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struk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 kao arugmenti funkcij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tatički (dijeljeni) atrib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tatičke (dijeljene) met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ijatelji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7546-F1D7-4660-99DC-6CD0F39C09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tributima i metodama pristupa se preko operatora tačka (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iv metoda članica vrši se isključivo u kontekstu konkretnog objek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iv nema smisla vršiti u kontekstu cijel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oziv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Print();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smisla i prevodilac bi prijavio greš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to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e naziv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u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em poru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u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 koji šalje poruku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poziva meto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-klij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bjek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ima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ruku (čiji se metod poziv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oje metode objek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zivat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tod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g objek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AFDA-BEED-4F80-9278-46AE109268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int coun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float x = 0.0, float y = 0.0) : x(x), y(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Point&amp; p) : x(p.x), y(p.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kopije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Po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destruktor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</a:t>
            </a:r>
            <a:r>
              <a:rPr b="0" lang="sr-Latn-CS" sz="1500" spc="-1" strike="noStrike">
                <a:solidFill>
                  <a:srgbClr val="ff3300"/>
                </a:solidFill>
                <a:latin typeface="Courier New"/>
              </a:rPr>
              <a:t>int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getCount(){return count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B978-BA6D-46BA-8E14-18D23A4F96C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7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Statičke (zajedničk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1 = new Point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1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2 = new Point(3.0, 4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2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3 = new Point(5.0, 6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3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AD72-8751-4020-A5D4-379DF38906E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nekim slučajevima potrebno je da klasa ima “povlašćene” koristnike koji mogu da pristupaju privatnim i zaštićenim članicama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atelji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atelji klase mogu b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ateljstvo je relacija koja reguliše pravo pristu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t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nasl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simetr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elacij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tranzijent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rela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F99D-D33D-4D8D-9E13-F13EEFEB02E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ke funkcije su funkcije koje nis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klase, ali imaj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ozvolj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up do privatn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a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ke funkcije mogu da bud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ne funkcije i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drugih kl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je prijateljsk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se u definiciji klase navede deklaracija funkcije sa klju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 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avo pristupa sekciji klase (privatno, zaštišeno, javno) u kojoj se navod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a prijateljske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816F-3B80-4B27-942A-3FA13E4DDF1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a bude prijatelj v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broju klasa istovre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e narušava se princip enkapsul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ojektant klase sam određuje koje funkcije će biti prijateljs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zbjegava se “publikovanje” članova svim ostalim kla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lobalne prijateljske funkcije najčešće imaju jedan ili više argumenata koji su tipa t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ebne usluge koje su vezane za klasu, a ne za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godnije za kor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funkcija treba da pristup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više klas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kasnija je prijateljska globaln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preklapaju operatori,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je jednostavnije definisati globalne (operatorske) funkcije nego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4D78-6733-4901-91AA-30B8DB82B71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(float r, float i) : re(r), im(i)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 int IsEqual(Complex* c1, Complex* c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4D41-A9C1-427E-B551-60E3C974593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IsEqual(Complex* c1, Complex* c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c1-&gt;re == c2-&gt;im &amp;&amp; c1-&gt;im == c2-&gt;i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* c1 = new Complex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* c2 = new Complex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sEqual(c1, c2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1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2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7FDC-8A47-412A-8C1B-2D0AFF8D5E3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1( B&amp;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2( B&amp;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 int A::Func1( B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::Func1( B&amp; b ) { return b._b; }   //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::Func2( B&amp; b ) { return b._b; }   //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Gre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3EDB-A10B-4D4D-92F1-4DBFE1D7BB5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su sv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teljske funkcije klas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da 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teljska klasa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klas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o koja 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pristup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m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aj princip se koristi kada dvije klase tijesno sarađu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Može se obezbijediti da samo 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reira objekte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iže se tako što se konstrukori klas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klarišu kao privatni, a zatim se klas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klariše kao prijateljska klas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C18F-F401-46A3-A6BE-C1824D65FBA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int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int getCount(){return count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friend class Cir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77EB-EE48-4C52-B3C8-1841622D605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ozvoljeno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 nizo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elj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rednosti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dnog objekta drug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im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e objekata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redno 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ima preko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osredno 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tributi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redno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istupanje atributi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ma preko pokazivač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ima nizova objekat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enošen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o argume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ja i to po vrednosti ili referen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e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kao argumenat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raćan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 funkcija po vrednosti ili referen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A0C2-E07B-40C3-871A-17EA887479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::Circle(Circle &amp;x) :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konstruktor kopije"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r = x.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 = new Po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-&gt;x = x.p-&gt;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-&gt;y = x.p-&gt;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52DA-E035-4633-BAA1-4911A9693CB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bra programerska praksa je da sve podaci članovi budu privat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me se izbjegava neželjeni pristup podac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stup podacima dozvoljen je jedino preko metoda član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435312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6C43-3B48-4A94-ADC8-B10822AFD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varijabla se dovodi u nevalidno s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F560-54A1-4F15-82E9-165615AAF5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Hour(int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h &gt; 23 || h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nvalid hour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ur = 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BCDC-572D-4268-B7A2-DDA9E6BC7A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e t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1.setHour(2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351640" cy="8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8D8E-56E7-4DAF-91F8-16632ACF5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a klasa ima implementaciju i interfe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ementaciju klase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i podaci članovi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fejs klase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 podaci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e preporučuje 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aksa se da implementacija i interfejs razdvoje u posebne fajl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toteka sa ekstenzijom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drži interfejs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toteka sa ekstenzijom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drži implementaciju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82B9-2152-403C-AD2B-9446E800E8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re;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//deklaracija podata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//zaglavlja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E281-EAB0-4B6D-99C7-37A3F35C29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Complex::setData(float r, floa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E07A-62F2-41D0-BD2F-5FDB82FBA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funkcije članice obično se nalazi u interfejsu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šti oblik 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 ime(lista_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povratn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m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identifikator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lista_arg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– lista formal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ista je odvojena zarez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klaracija argumenta ima oblik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 ime_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cija (implementacija) funkcije je zapravo deklaracija funkcije iza koje slijedi tijelo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četak i kraj tijela funkci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načava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vratna vrijednost funkcije jeste izraz naveden poslije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4270-7D4B-4D21-880B-5CCAD2C5E3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za klase i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ive preproces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či i re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je pokazivač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lapanje imen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i destruktor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čki podaci članovi i statičk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EA91-B409-407C-B25A-528A4E2AC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definicije funkcije prije imena navodi se ime klase zajedno sa operatorom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 razrešavanja oblasti važe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lika razlika izmeđ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definiciju funk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z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cij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definiciju neke globalne funk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E68E-5C56-42A2-A9FF-73EA18897A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eno iz programskog jezik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e samog prevođenja izvorni kod programa se najprije procesira posebnim programom za obradu tek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ogram se naziva preproce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laz u proces prepocerisanja jeste izvorni kod, a rezultat je takođe izvorni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cesor prevodiocu daje “očišćen” tekst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ansformaciju koje treba obaviti nad tekstom zadaju s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irektiv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pecijalne linije u programu koje počinju simbolom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9BC8-6C9E-4558-AE0E-FCF340CE3D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fi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finisanje simboličkih konst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pšti obli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defin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dentifika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rijed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“slijepu” zamjenu svakog pojavljivanja identifikatora zadatom vrijednošću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137440" cy="29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37B1-7884-4016-A54A-3A313C1833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rocesorska direkti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ziva se prije samog kompajlira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pir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mpletan sadržaj jednog fajla u drug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mogućava da se na jednostavan način učita interfejs klase u više fajl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i oblici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fajl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čitava korisnički definisan fajl sa tekućeg direktorij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mefajl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itava sistemski (predefinisani) fajl sa odgovarajuće lok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294F-2C4B-4713-83EF-CE3906D023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304920"/>
            <a:ext cx="727236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157A-73DC-4F91-B35C-83537CBDFB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rekti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def, #ifndef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mogućavaju da se određeni dio koda isključi ili uključi u zavisnosti od toga da li je zadovoljen određeni usl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zvoljava kompajliranje dijela koda samo je definisana simbolička konstanta koja se javlja poslije ove direk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sto se koristi kod fajlova koji sadrže zaglavlje neke klase, kako bi se izbjeglo višestruko učivanje interfejs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9E6E-B5DF-42C6-8908-18D5654486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9360"/>
            <a:ext cx="6767640" cy="305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6913800" cy="300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60AF-61FC-476D-8BE0-9D202F9EE7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ifndef _COMPLEX_CLASS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define _COMPLEX_CLASS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E1A6-C71B-4A43-8947-8DF083F009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razliku od većine savremenih jezika (Java, C# itd.) jezik C++ podržava pokaziv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bajt u memoriji ima svoju adre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drese su redni brojev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 koji je učitan u memoriju zauzima jedan opseg ad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a varijabla, kao i svaka funkcija ima svoju adre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dresa neke promjenjive može se dobiti putem operatora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56CE-7453-4744-BA59-E4846A9CD0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4036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CB8D-8970-443F-8731-C4CD68CD58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trakci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jedn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atributa i zajedn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ponašanja jednog skupa srodnih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sad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ke 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efinišu sta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(definišu ponašanj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ci koji su dio klase nazivaju s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ci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i, ili atributi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koje su dio klase nazivaju s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člani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to se koristi naziv </a:t>
            </a:r>
            <a:r>
              <a:rPr b="0" i="1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8A5E-9636-42B7-8403-597A77ABC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e je deklarisati promjenljivu koja ne sadrži neku vrijednost već adre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ke varijable, tj. pokazivač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kazivačka varijabl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kl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e se navođenj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poslije naziva tip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t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ograničenja u pogledu tipa podatka, tj. može se deklarisati pokazivač na bilo koji t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c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no je 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ličita u odnosu n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mjenljiv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predstavlja objekat, do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Ptr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reba da sadrži adresu objekt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6FB4-3499-4C8D-9F0A-7A0C39221A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NUL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568800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1E10-8E69-428A-B8AD-2AB64E1FD3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5832360" cy="26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9648-150C-4133-B74B-A80C19E6C4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Comple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Ptr-&gt;setData(1.2, 0.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43640" cy="26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15E5-99CA-4364-8B43-3BD56DBEF7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reira novi objek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uzima potrebnu memoriju z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uvanje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at se čuva u dijelu memorije koji se naziv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aća  adresu novokreiranog obj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mogu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ćava da u vrijeme izvršavanja zauzimate memoriju po potreb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lobađa memoriju za objekat 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jekat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koji se oslobađa memorija mora prethodno biti kreiran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ktno (posredno)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istupanje atributim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ama preko pokazivač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69FE-2767-42D5-AE38-D80D91FBCC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itanju je izvedeni t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a na objeka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pućuje na objeka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lizak je pojmu pokazivač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većini slučajeva, realizovana je kao konstantni pokazivač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kazivač koji je jednom inicijalizovan i ne može se preusmjer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rajno upućuje na objeka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likom deklaracije referenca se mora inicijalizovati objetkom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ferenca je “čvrsto” vezana za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edstavlj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alias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ta, tj. njegovo drugo 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vaka operacija nad referencom je operacija nad objek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B9B3-7C26-4F00-9CE0-DEFAAA673C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stup objektu preko reference je posredan isto kao i kod pokazivač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pak, ne zahtijeva se upotreba posebnog operatora (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već se koristi operator direktnog pristupa (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 se može preusmjeriti, a referenca ne mož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gu postoj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e na 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i na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osim po vrijednosti, argument se mogu prenositi i po referen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jčešće, reference se koriste u tu svr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F2B3-24CD-45AF-B809-F09E30053C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&amp;c2 =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setData(3.5, 7.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590400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038E-9F4F-4DEE-A7B8-27BFB27904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axmin(int a, int b, int mx,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int&amp; m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lt;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x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n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x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n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x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n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xmin(3, 5, mx, m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mx " &lt;&lt; mx &lt;&lt; " mn " &lt;&lt; m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89564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55B0-8AE1-4099-A5D4-070C5EA395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Objekti i funkcije člani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objekat ima svoju kopiju atributa č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funkcije članice stvar nije tako jednostavn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 objekti koriste istu implementaciju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ogično, implementacija funkcije je ista za svaki objekat određ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at ne sadrži kopiju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adrži adresu fun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ogično pit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osnovu čega funkcija “zna” koji objekat je pozvao njeno izvršavan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131D-47FE-4CB8-94BF-5413F7E4C0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a klasa ima sekcije koje određuju pravo pristupa članovima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o se odnosi i na podatke i na met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ncip enkapsul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kcija može biti označena k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privatnim članovicama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može im se pristupiti “spolj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idjivi su samo ostalim članicam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javnim članicam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ma ograničenja u pogledu pristu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zaštičenim članicama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idjivi su ostalim članicama klase, kao i članicama izvedenih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kcije mogu biti navedene u proizvoljnom redoslj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biti više sekcija sa isto oznak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8F00-63A1-4577-8E0D-49B207B04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64560" cy="64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2012-0639-4B79-BCFB-DD1B805AFC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ar svake funkci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postoji implicitni (ug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)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lni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 ovog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e "konstantni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klas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a je funkci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a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za funkcije članice iz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le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č this je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 je konstantan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j. nije dozvoljeno mijenjati vrijednost ovog pokazivač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= NULL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je validna nared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rži adresu objekta putem koga je metoda članica pozv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A629-E13D-40E7-BA82-C80200071C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o se koristi se za prist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se i eksplicitno naves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prav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iveni argu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kat.f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e semantički ekvivalent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&amp;objek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8759-AA5D-4D12-99CB-22597F429E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ljedeće implementacije funkcija su ekvivalen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drugoj je pokaziva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eksplicitno nav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t &lt;&lt; "Re " &lt;&lt; </a:t>
            </a:r>
            <a:r>
              <a:rPr b="0" lang="sr-Latn-CS" sz="2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re &lt;&lt; " Im " &lt;&lt; </a:t>
            </a:r>
            <a:r>
              <a:rPr b="0" lang="sr-Latn-CS" sz="2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im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FF0D-3EFB-4950-B7DA-0C1D89B0A6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461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0368-AC17-4A02-85AC-655E41296CE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lasi je moguće definisati dvije funkcije članice koje imaju isto 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kve funkcije se nazivaju preklopljene funkcije 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verloaded Function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ju da se razlikuju se po broju ili po tipu formalnih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je pozvana preklopljena funkcija, onda se na osnovu poklapanja stvarnih i formalnih argumenata određuje koja verzija funkcije će biti pozv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upak se radi u toku prevođe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koje se razlikuju samo po tipu rezultata ne mogu imati isto 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404B-BB95-4EB8-9F43-E216B357D3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mplex::Print(int n, char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      cout &lt;&lt; c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endl &lt;&lt; "Re " &lt;&lt; re &lt;&lt; " Im " &lt;&lt; im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10, '*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7280" y="5264280"/>
            <a:ext cx="5076720" cy="15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F598-3FC5-4616-A8D7-DB7093A6D7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499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DCC2-51C5-4391-99EB-8D97C77AFF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ijelo funkcije čuva se na jednom mjestu u memori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šteda prost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kompajler naiđe na poziv funkcije, tada se generiše odgovarajuća asemblerska naredba (npr. CALL ili JM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kok” se na prvu naredbu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da poziva funkcije zahtijeva vrije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uva se stanje regist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varni argumenti se stavljaju na st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euzimanje povratne vrijednos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stauriranje stanja regist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 naročito dolazi do izražaja za kratke funkcije koje imaju nekoliko naredb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lazi do situacije da više vremena troši obrada poziva nego samo izvršavanje tijela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E8AF-08B2-4855-BFFD-B0C4EA2D13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ski jezik C++ nudi mogućnost neposrednog ugrađivanja tijela funkcije u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kve funkcije se zovu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line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pred njihove deklaracije se navodi ključna rije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d prevodioca se zahtijeva da optimizuje pozive funkcija time što će umjesto poziva funkcije direktno u ko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i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gra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o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njeno tije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aj zahtjev prevodilac nije u obavezi da isp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emantika programa ostaje 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mehanizam treba pažljivo koristi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bjegavati za obimne fun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godno je za funkcije koje imaju par naredb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članice su podrazumijevano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lin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ako je njihova implementacija navedena u deklaraciji (interfejsu)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A071-4262-48FB-ADF0-9D5AAF4B380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deklaracij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daci clan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ata(float r, float i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 = 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//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cout &lt;&lt; "Re " &lt;&lt; re &lt;&lt; " Im " &lt;&lt; im &lt;&lt; endl;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8857-82D0-40B2-8D1F-2BCCADD81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604872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7F7C-3851-4C14-9B2A-A620FD9A31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Re(float re){this-&gt;re = r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743E-D2BB-4973-B603-9E261CC061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Konstant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e funkcije mogu samo da čitaju stanje objekta ali ne i da mijenjaju njegovo st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gu da mijenjaju vrijednosti varijab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ju 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ktor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ktor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funkcije koje mogu da mijenjaju stanje objekta koristi se term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eklaraciju ovih funkcija koristi se ključna riječ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a zaglavlj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itanju je zapravo dobra programerska prak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je objekta se takođe ne može promijeniti ni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č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9BA1-4823-489A-A453-75F81DE0B3B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Konstant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Re (float re) const {this-&gt;re = re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87138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6012-64D9-4926-A64E-79B3F923D6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Podrazumijevani argumen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ormalni argument može biti deklarisan tako da ima podrazumijevanu vrijed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njih, prilikom poziva funkcije, stvarni argumenti mogu biti izostavlje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varni argument ima podrazumijevanu vrijednost navedenu u deklar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u vrijednost mogu da imaju samo nekoliko posljednjih argumenata iz l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neki argument ima podrazumijevanu vrijednosti svi argmenti navedeni poslije njega u listi moraju imati podrazumijevanu vrijedno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a vrijednosti navodi se poslije deklaracije argumenta i to poslije simbol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46BF-5B95-4425-B513-EF9AD020A96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Podrazumijevani argumen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Data(float r, float i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=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Re (float re) {this-&gt;re = re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2.setData(3.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2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041800" cy="174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FDA4-5E55-4A95-ADED-8D6730E9356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las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postoji metod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SetDa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oja je namijenjena inicijalizaciji č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 metoda treba biti pozvana odmah poslije kreiranja objek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tencijalini izvor grešaka jer ne postoje garancije da će ta metoda biti poz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reban je mehanizam koji će omogućiti da se inicijalizacija članica objekta vrši automatski, odmah poslije kreiranja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trukto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if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oda kla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defin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š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no stan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objek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 isto ime kao i kla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ma tip rezultata (čak ni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ože imati proizvoljan broj argumenata proizvoljnog ti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B0EA-B5E6-438C-8B2C-61B9651D21C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se ne poziva eksplicit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likom kreiranja obj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izvršavanja definicije objek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kreiranja putem operatora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Kada se stvarni argument klasnog tipa prenosi 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n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(formalni argument se inicijalizuje stvarn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tijela konstruktora ostalim članovima objekta se pristupa kao i kod drugih funk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mogu b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loplj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e ista pravila preklapanja kao i za ostal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, privatni ili zaštićeni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e ista pravila kao i za drug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k, najčešće konstruktori su jav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2BBB-94F2-4899-8C91-75D1BA10BF8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::Point(float x, floa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-&gt;x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-&gt;y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oint::Pri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out &lt;&lt; "X=" &lt;&lt; x &lt;&lt; ",Y=" &lt;&lt; y 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236B-94D4-4DF3-BC1A-BEFCC7906A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(1.0,1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2.0, 2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pr. deklaracij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(1.0,1.0,1.0)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ma smisla i prevodilac bi prijavio greš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postoji odgovarajući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105440" cy="14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56EB-86D1-4062-B6C7-CD70C2FA37F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, c2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kreiranje objekata c1 i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setData(4.5, 2.3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ziv 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setData(1.2, 0.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ziv metoda za prikaz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867564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77C9-DEB9-446E-9D7C-B750C8741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(float x)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//inline konstru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-&gt;x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-&gt;y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(1.0,1.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pPtr = new Point(2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75280" y="4998960"/>
            <a:ext cx="3168720" cy="18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4B7B-944C-4CCD-ABC5-184BCF41378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razlikovati inicijalizaciju od dodj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rethodnom primjeru podaci članovi su prostog tipa, pa dodjela i inicijalizacija imaju isto značen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opštem slučaju, za proizvoljan tip T to ne mora da važ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vlja se pitanje kako inicijalizovati podatke članove u slučaju kad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je član objekat klase za koju 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azumevani konstruk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j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ada je čla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B5A6-1C4E-4509-BD81-24B7091D561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&amp;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onst float 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. float 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3E23-31C4-486B-A326-D110F0C67E3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ršavanja konstruktora pozivaju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s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om pojavljivanja u klas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icijalizatori (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umenti ovih po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gu da se naved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glavlja definicij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 deklaracije) konstruktora, iza znak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zv. inicijalizatori člano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jeni su zarez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 se koristiti argmenti konstruktora, kao i kon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eljno je da se navedu u redosljedu u kojem su deklarisani u kl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D372-F839-4426-95B2-6028B3121DB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, float r) : p(x,y), r(r),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B433-133A-4974-BC61-304CC8749F5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::Complex(float r, float i) : re(r), im(i){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2277-679C-4181-9894-B338367AB8F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i konstruk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formal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svi argumenti imaju podrazumijevanu vrij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bez stvar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građeni podrazumijevani konstruk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formalnih argumen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a prazno tij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oj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o ako klasa nije definisala ni jedan kon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me se obezbjeđuje da svaka klasa ima makar jedan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56CA-8698-4A36-AEF1-C38335B9F5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//poziv ugrađenog podrazumijevanog konstru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701E-5358-4A01-A94B-D00960CD2C2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//Greska. Ugrađeni podrazumijevani konstruktor vise ne posto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2798-8772-4B3C-B268-778E3EADB2E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 : x(x), y(y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) : x(x), y(0.0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) : x(0.0), y(0.0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//Val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1C17-4A60-4495-BF0C-A8422AB97F7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 pojava (instanca) klase naziva se obje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481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DBA2-24C1-4EA7-A7BD-4FF6C7A7E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jedan objekat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nicijalizuje drugim objektom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ste te klase, onda će se izvršiti prosta inicijalizacija članova objekt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dgovarajućim članovima objekt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vo može biti problematično ako je pokazivač član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lazi do tzv. plitkog dodjeljiva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pokazivač ukazuje na objekat koji je kreiran dinamički, onda će oba objekta imati pokazivač na taj isti objekat koji je kreiran dinamič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3CFF-715A-4B69-926A-734ECE86FCD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(float x = 0.0, float y = 0.0) : x(x), y(y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42FD-0231-409C-AAD7-7359D357890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 float PI;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, float r) : r(r),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 = new Point(x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* getP(){return p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B2D1-CF71-4B78-8C26-D77393ACF59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1(2.0, 3.0, 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poziva se ugradjeni 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2 = c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getP()-&gt;setX(9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94200" y="5054760"/>
            <a:ext cx="42498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D329-FEB8-48CB-8F4C-F4CC9A7A7BE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55616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8B9B-499E-4089-8C58-3E8FC87A573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tpuna kontrola nad inicijalizacijom jednog objekta drugim može se ostvariti definisanjem tzv. konstruktora kop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 poziv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objekat inicijalizuje objektom iste klase, a to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inicijalizacije objekta (pom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znak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sa zagrad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prenosa argumenata u funkcij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(kreira se lokalni objek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v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a vrednosti iz funkcije (kreira se privremeni objek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 ima argument tip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X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 XX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datno, može imati još argmenata, ali oni moraju imati definisanu podrazumijevanu vrij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ne s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ati formalni argument tip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svoje 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eskonačna rekur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3AF4-20F8-4BAF-A9B0-3767DE921EA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(Circle &amp;x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::Circle(Circle &amp;x) : PI(3.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ut &lt;&lt; "konstruktor kopij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r = x.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 = new 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-&gt;setX(x.p-&gt;getX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-&gt;setY(x.p-&gt;get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24C9-9A69-4A47-B671-F095747A90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 c1(2.0, 3.0, 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oziva 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edefinisan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onstruktor kop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 c2 = c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2.getP()-&gt;setX(9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27640" y="5184720"/>
            <a:ext cx="381636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2E8C-67B3-4C4E-B5BD-09D18E4130D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58784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5EB0-1B1E-482A-96FC-DF59A1DD02C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nička konverzija (engl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user-defined conversio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ma konstruktor koji se može pozvati sa jednim stvarnim argumentom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ovim konstruktorom se definiše korisnička konverzija iz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u tip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p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može biti ugrađni ili korisnički definisan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plicitno se koristi tamo gdje je potreb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 inicijalizaciji objekta tip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objektom tip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6790-C9F5-4CB4-8471-DAE0CCC4E60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i klase definišu (deklarišu) se na uobičajen način, kao i promjenjive osnovih tip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ziv klase se koristi kao ime tipa, 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mplex C1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aki objekat klase formira se poseban kompl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h nestat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tribu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objekat ima sopstvenu memoriju i u toj memoriji se čuvaju vrijednosti atributa (promjenjiv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am statičkih atributa biće detaljnije opisani u ostatku lek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emoriji objekta se čuvaju i adrese funkcija čla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6235-3DE2-415E-8302-4604CC08E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1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ozvoljeno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. I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o ka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da je napisa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Complex c1(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300720" y="5391000"/>
            <a:ext cx="2843280" cy="14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4FA7-A32F-40B2-A855-EE2F867B220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vremeni objek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ezime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er nema kontrolu nad nj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otpunosti pod kontrolom prevo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se na nekom mjestu uvodi privremeni objekat koji ima konstruktor, onda se obavezno i poziva taj konstruk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lično važi i za destruk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vodilac određuje kada će neki privremeni objekat biti kreiran, a kada uniš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e se optimiza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emantika programa ostaje saču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3046-A949-4ABC-9B5F-BFE66990AB7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add(Complex c1, Complex c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mplex(c1.re + c2.re, c1.im + c2.i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 = add(Complex(1.0,2.0), Complex(4.5, 6.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59280" y="907920"/>
            <a:ext cx="3384720" cy="13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8837-70D5-4F6E-A08C-0972C297C8C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kto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pecifična funkcija 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se koja se implicitno poziva pri uništavanju objekta, tj. na kraju životnog vije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os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 ime kao klasa,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 zna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red i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 tip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ezultat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e 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mati argum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može imati samo jedan destruk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destruktora članovima se pristupa kao i u okviru drugih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oziva se i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uništavanju dinam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objekta po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perator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struktori se dosta koris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objekat treba da dealocira memoriju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u je konstruktor aloci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1DD0-92CE-44EE-A439-D8491B64EAF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{{cout &lt;&lt; "Point : konstruktor" &lt;&lt; endl;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{cout &lt;&lt; "Point : konstruktor kopije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{cout &lt;&lt; "Point : destruktor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B7D9-824F-4926-9AD3-66F535D3DC5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ircle(Circle 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ircle(float x, float y, float r) : r(r), PI(3.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Circle : konstruktor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= new Point(x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getP(){return p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ircle::~Circl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ut &lt;&lt; "Circle : destructor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lete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3B1B-BD20-40BF-8A22-E15BC375F41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* c1 = new Circle(2.0, 3.0, 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lete 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92360" y="4851360"/>
            <a:ext cx="6551640" cy="20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9C31-29D6-42A6-80C1-350A9EC3E30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 sada argumenti funkcija su bili prostog tipa 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t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rgument funkcije može da bude i objek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ograničenja, tj. može biti objekat bilo koj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kođe, argument funkcije može da pokazivač, kao i referen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gument funkcije je lokalni obje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Životni vijek objekta ograničen je trajanjem izvršavanja funk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konstruktor kop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pira se objekat koji se stvarni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slučaju da konstruktor kopije nije definisan od strane korisnika, poziva se podrazumijevani 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0DE3-4462-44EA-919C-B905D2CA4D7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func1(Poin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setX(9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(1.0, 2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464000" y="4557600"/>
            <a:ext cx="4680000" cy="23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E43C-997D-4E5E-904E-CFF718A3301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769080" cy="460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4B4F-73B4-4DE3-9EC3-7D018648D24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264360" cy="54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94F1-BA97-400D-B05F-ED4C5204E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func1(Point&amp;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setX(9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(1.0, 2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95640" y="4979880"/>
            <a:ext cx="5148360" cy="18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DDA3-2AF3-444B-8146-A5866AACD4E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29440" cy="40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7AB6-91CD-47EA-978A-E78EA0B46BB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ki objekat klas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jedu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eban komplet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tribu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k, moguće je deklarisati atribute koji su zajednički za sve objek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ti koji su zajednički za sve objekte nazivaju se statičkim atributima, tj. statičkim podacima član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išu se navođem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 samo jedan pri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k stat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 atribu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emorij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 kla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odat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e objekt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4AF6-FEA4-4AF2-8317-7535A2BB6E9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int coun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float x = 0.0, float y = 0.0) : x(x), y(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Point&amp; p) : x(p.x), y(p.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kopije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Po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destruktor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12B5-DABB-45A6-A3CE-1A8F23CBDA6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70580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68D4-09F4-4E67-9C2C-3B86D0E622C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pristup statičkom atributu iz bilo kojeg objekta znači i pristup istoj oblasti u memori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 atributi postoje tokom cijelog izvršavanja pro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zavisi od postojanja bilo kojeg objekt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oji i kada ne postoji ni jedan objekat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statičkog člana nije i njegova defini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 se definisati posebnom deklaracij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an deklaracij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an deklaracije funk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2429-D555-4BB0-B932-03807015445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m atributima može se pristupiti bez navođenja konkretnog objek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e imena atributna navodi 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im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statički atribut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onda mu se pristupa 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oint::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m atributima može se pristupiti i preko operator pristupa (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aže ista pravila kao i za nestatičke član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ola pristupa važi kao i za ostale član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kada svi primjerci jedne klase dijele zajedničku informac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obina klase, a ne konkretnog atribu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3193-7362-4ABB-A147-C464EED099F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1 = new Point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1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2 = new Point(3.0, 4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2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3 = new Point(5.0, 6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3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C7FF-F280-4218-9944-D7ED8E61AC4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21440" cy="34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45A4-6055-4E2D-9372-EEE285B23EC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Statičke (zajedničk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tode, kao i atributi, mogu da budu deklarisane kao statičke (zajedničke) za cijelu kl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zivaju se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statičkim metodama člani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vodi se ključna rije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spred deklaracije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atičke metode ne pripadaju ni jednom ob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že im se pristupiti iako nije kreiran nijedan objekt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posjeduju pokaziva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mogu pristupi nestatičkim atributima klase kojoj pripad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stup statičkim metodama je sličan kao i pristup statičkim atribu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vodi se ime klase i operator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ispred imena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oint::getCou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se pristupiti i preko operator pristupa 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aže ista pravila kao i za drug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53F0-D8F5-434D-B4F3-51E36580D98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9T11:51:43Z</dcterms:modified>
  <cp:revision>763</cp:revision>
  <dc:subject/>
  <dc:title>Chapter 1 – Introduction to Computers and C++ Programming</dc:title>
</cp:coreProperties>
</file>