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ECBE-17A9-43B7-AA4E-84945CB99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2728-8313-438C-AC29-A86018834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6E7D-FE83-420A-B6DC-5C75DE503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8DD5-8592-4DF8-BD6F-D000ABC9F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5F1E-AF7B-4676-B60E-40918DE83E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E66E-71B8-4206-B465-258C98D799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DF47-76FC-441C-B9F9-ACB78E4EEE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405D-D8B9-45DE-95EC-A1222C2B8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4494-5C5F-4B4C-B34A-CFD988B73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2642-1C5A-4FB1-B5E5-16CE4DDE2A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1129-999D-44FE-8767-1DE2380DA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1CFB-95E0-4D2A-B8A1-B5D1250E0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2997-BEF3-49BE-A980-8BA71DD214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8886-7E7B-4B41-B2C1-58366283B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7A03-7AF0-4981-B712-738242A92B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6AA7-E8AB-4030-ACB3-E6C377BF32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9249-4EFB-4102-A7BD-C8F7CB2DB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FCC2-0F4A-4BC1-BAD4-C618926B8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357E-757A-45E9-A94F-F193E25F5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88FB-FCCA-4B12-952F-0FC571D40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D8AA-1458-4F44-A4B9-B70F10572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9A0E-6ECE-4FD1-87B9-DE8E57977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8623-DEFC-444E-A7F1-A4E082C3B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552B-B309-468A-8473-E70930C92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3E1E-F111-48B6-916D-15A71A0B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DA39-D7EF-4607-A551-7D0977379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4 – Preklapanje operatora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ojam preklapanje oper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orske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očni efekti i ve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++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i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w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i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U/I tok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gt;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i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lt;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icijalizacija i dodj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Konverzije tip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9F15-9EBA-4258-A3D7-6F44CF721A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ni operator ima samo jedan operand, pa se može realizova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metoda bez argumenat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globalna funkcija sa jednim argumentom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ni operator ima dva argumenta, pa se može realizo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metoda  sa jednim argumentom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des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globalna funkcija sa dva argument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levi, X xdes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B69F-701C-4706-8731-590E86D143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operator-(); //unarni min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Complex ::operator-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mplex( -re, -im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c1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1 = -c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84720" y="5638680"/>
            <a:ext cx="305928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7A17-BF1E-447D-99B8-7D5BEE95A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Sporedni efekti i vez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čni efekti koji postoje kod operatora za primitivne tipove ne podraz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ju se z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klopljene oper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čni efekti postoje ko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tor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–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refiksnih i postfiksnih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h operatora do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 koje postoje između operatora za primitivne tipove ne podraz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ju se za preklopljene oper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ko je definis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+=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 znači automatsk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=a+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 je potreban, operat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ora posebno da se preklo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0AD9-639C-4945-92A7-A23D781898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Sporedni efekti i vez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oru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klopljeni operatori treba da imaju očekivano značenje (zbog čitljivost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ko su definisan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 je d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+=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a isti efekat kao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+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tori do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 treba da 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jaju stanje 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g oper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a se definišu operatori za klasu, treba težiti da njihov skup bude komple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ko su definisan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reba definisat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finis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ba definisat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!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469D-11CD-468D-B928-04E358E848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plikovaniji je postoji i prefiksna i postfiksna varija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klapanje prefiks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g opera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vrši se pu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ob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s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funkcija članic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globalna funkcij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no važi i z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klap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fiksnog opera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vrši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funkcija članic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globalna funkcij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, 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se drugi stvarni argument ne navede bić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može se navesti kada se funkcija poziva kao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že se navesti kada se funkcija poziva direktn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.operator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no važi i z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14C9-D3C4-4C5E-8FE8-0B9F277AAE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+(); //prefik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+(int); //postfik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 ::operator++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rvo se uvecaju re i i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a se kreira lokalni ob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 ++re, ++i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 ::operator++(int 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rvo se kreira lokalni objek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a uvecaju re i 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 re++, im++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1C85-DAA0-48E0-AAFD-9AA8B4B2D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lex c1(1.0,2.0), c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2 = c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2="; 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2 = ++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2="; 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5170320"/>
            <a:ext cx="262728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D21F-1755-4B7E-8F88-D87C143087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govara mu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()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a proizvoljan broj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argument 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f(a1,...,aN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f.operator()(a1,...,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zultat je lvrijednost ako i samo ako funkcija vraća referenc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 važi za sve operatorske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ermin lvrijednost označava izraz koji se odnosi na neki objekat ili funkcij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jčeće, u pitanju je izraz koji se može naći sa lijeve strane znaka jedankos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F430-3D8F-4777-9122-5F5BC217E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Matr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** ma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(int r, int c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~Matrix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&amp; operator()(int i, int j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::Matrix(int r, int c) :r(r), c(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 = new int*[r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r; i++) {mat[i] = new int[c]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::~Matrix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r; i++) {delete new int[c]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lete ma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int&amp; Matrix::operator()(int i, int j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mat[i][j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7FF5-8D57-48AC-B408-51DFA18DFC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atrix m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(0,0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//lvrijednost, moze se naci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//lijeve strane znaka jednak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ut &lt;&lt; m(0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338C-69AF-4315-A41B-14A09EBFA3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za preklapanje oper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operatorskih funk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finisanje operator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e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finisanje operatora dodjele i razlike u odnosu na inicijaliza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e ulaz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laznih tokova i operator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verzije tipo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2E00-3BF8-45FF-B8A5-58225DA3E0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reklapanj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[]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govara mu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[]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no jedan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n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i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niz.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češća upotre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d objekata koji predstavljaju neke kole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3876-9CAA-4777-8048-FBF97E2669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reklapanj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[]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u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::Array(int num) : num(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a = new int[num]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::~Array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delete a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a[i]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a[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9605-E2FB-4E07-AC7E-81F6F3C521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&g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narni operator kojem odgovara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bez arg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o-&gt;clan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(o.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-&gt;()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nd))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-&gt;c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češća upotre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stup članovima preko pametnih pokazivač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roji pristu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EF31-3E5C-408A-BD8E-0C203BB95B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&g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public: int dat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* x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(X* xPtr) : xPtr(xPtr), num(0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X* operator-&gt;(){num++; return xPtr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Num(){return num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y(&amp;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data = 5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//(poziva se y-&gt;operator-&gt;)-&gt;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data="&lt;&lt; x.data &lt;&lt; ",num=" &lt;&lt; y.getN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27640" y="3860640"/>
            <a:ext cx="291636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3080-2FAF-4071-951D-6A4FFFE442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efinisanjem operator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vrši se kontrola nad alokacijom memor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male objekte može se vršiti precizno alokacija i optimizovati taj postup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e funkcij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uvijek stati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su pozvane objekat još uvijek ne posto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nutar tijela nije potrebno pozivati konstruktor, tj. destru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ni su implicitno pozva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ba da vrati pokazivač na alocirani pro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746B-8F60-430F-8663-1B5171BE48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* operator new (size_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rgumen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z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cjelobrojni i prestavlja broj bajta koje treba alocira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raća generički pokazivač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oid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tj. pokazivač na zauzetu memoriju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efiniše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operator delete (void*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a jedan argumen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tr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ji je pokazivač na memoriju koju treba oslobodi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F0D2-0725-4DF2-89D7-06B76C9AFD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atic int num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* operator new (size_t sz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 operator delete (void* ptr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X::num =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* X::operator new(size_t sz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num == 10) {cout &lt;&lt; "max 10"&lt;&lt;endl; return 0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um++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::operator new(sz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 X::operator delete (void* pt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ptr != 0){num--; ::operator delete(ptr)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X* x[5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11; i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x[i] = new X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43640" y="5516640"/>
            <a:ext cx="2700360" cy="133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6141-6E5C-4A12-9BDD-F5592D0594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narni operator kojem odgovara funkci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erator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ima jedan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o=izraz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o.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zra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ijek je treba definisati kada prosto dodjeljivanje član po član nije logič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ličan problem kod konstruktora kop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0B92-879D-42F7-9EBB-16349BD478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um): num(num){a = new int[num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1(3), a2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1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1[0]=" &lt;&lt; a1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,a2[0]=" &lt;&lt; a2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0000" y="5261040"/>
            <a:ext cx="3564000" cy="15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20BD-EC89-4A3F-AA2F-31E654CB5A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632720" cy="31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6763-DE10-4C9E-8FFD-E04D0ACCB0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jam preklapanja operatora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enje operatora ugrađenih u jezik moguće je definisati za korisničke tipove (klas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eklapanje operatora (engl. 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operator overloading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ličan princip kao kod preklapanja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ko je za operator definisano novo značenje onda se kaže da je on prekloplj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većavanje čitljivosti k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imjer: Klasa koja predstavlja kompleksne brojeve i operacija sab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ilo bi pogodno da možemo koristiti operator + nad objektima ov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85B7-52A1-4CED-A439-3FCB45C068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isto ka ranii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&amp; operator=(Array&amp; arr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&amp; Array::operator=(Array&amp; ar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izbjegavanje a=a probl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this == &amp;arr){return *this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um = arr.num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*this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 a1(3), a2(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1[0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1[0]=" &lt;&lt; a1[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,a2[0]=" &lt;&lt; a2[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19640" y="5243400"/>
            <a:ext cx="3924360" cy="16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B8B8-4FC8-4232-B0CE-00EB0DE3AB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32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03FF-1066-40ED-8B54-2F10F23603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 postoje naredbe ug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đene u jezik koje su namijenjene ulaz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zlaznim operacij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 tu svrhu se koriste standardne bibli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to v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ži i za programski jezik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dardne biblioteke za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realizovane su u duhu OOP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klaracije bibliotek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laze u zaglavl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sani su pojmovi ulaznog i izlaznog to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ogički pojmovi koji se odnose na ulazi i izlaz niza znaka na uređaj ili datote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tek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drž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u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oja realizuje ulazni 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u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oja realizuje izlazni 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CEB9-1AE1-442C-AAD4-76EF3ABBDF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 navedenih klasa izveden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edn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ktu kla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že da se pridruži jedna datotek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uređa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 U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bibliotec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sana su i dv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na statička objek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jek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j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 pridružen standardnom ulaznom uređaju (obično tasta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jek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oji je pridruž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nom izlaznom uređaju (obično ek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adrži po jednu operatorsku funkcij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 svaki ugrađeni tip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tream&amp; operator&gt;&gt;(istream &amp;is,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t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Gdje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Tip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označava neki ugrađeni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0ECA-0718-4AE0-AAD6-CF7CCD41BC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adrži po jednu operatorsku funkci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svaki ugrađeni tip poda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stream&amp; operator&lt;&lt;(ostream &amp;os, T&amp; x)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dj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označava neki ugrađeni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jevi operand je tok, dok je desni se drug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iše ili čita u ili iz t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vraćaju reference na isti tok nad kojim je izvršena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I opera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u se vršiti višestruke 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I operaci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stiti za jednostav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 ope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1EA1-B222-4F4A-AD67-B9FD5DE594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Preklapanje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&gt;&gt;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&lt;&l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e je da korisnik predefiniše opera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svoj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šu se globalne operatorske funkcije koje su prijatelji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mogu biti metode klase jer prvi operand mora bit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vi operand je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rugi operand je objekat tipa klase za koju predefinišemo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željno je funkcije vraća referencu n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tj. n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ako bi omogućili pozivanje u niz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A1EF-79C5-4E6B-97CE-E9AA7BA1C5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Preklapanje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&gt;&gt;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&lt;&l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iend ostream&amp; operator&lt;&lt;(ostream&amp; os, Complex&amp; c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s &lt;&lt; "(Im=" &lt;&lt; c.re &lt;&lt; ",Re=" &lt;&lt; c.im &lt;&lt; ")"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mplex c(2.3, 1.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cout &lt;&lt;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227640" y="5229360"/>
            <a:ext cx="291636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C76C-BF91-4C95-B052-32E19A436C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i razlika između pojmova inicijalizacije i dodj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nicijalizacija se vrši nad objektom u “fazi kreriranj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samo jed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še početno stanje objek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odjela se vrši nad postojećim objekt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se vršiti proizvoljan broj pu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jenja postojeće stanje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objekat inicijalizuje objektom iste klase poziva se konstruktor, a ne operator d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nstruktor se poziva č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ako je notacija za inicijalizaciju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imb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 je izraz sa desne stran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tog tipa kao i objekat koji se kreira, poziva se konstruktor kop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0E37-A3E0-4D41-8E13-554A339109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ja dodjele v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i se u okviru naredbe dodjele (operator =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 dodjele se može preklopiti pisanj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ke funkcij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o ponašanje je kopiranje objekta član po č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 kopiranju članova klase pozivaju se operatori = za članov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je član klase pokazič izvršiće se tzv. plitko dodjeljivanje, tj. kopiranje pokazivača, ali ne i sadrž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ktično pravi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klasa ima konstruktor kopije, operator dodjelje ili destruktor, onda najvjerovatnije treba da ima sva t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E285-5A2A-4072-8A09-B4350C62C4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amp; operator=(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iend bool operator==(Array&amp; arr1, Array&amp; arr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iend ostream&amp; operator&lt;&lt;(ostream &amp;os, 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::Array(int num): num(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onstr.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35B3-376D-48F9-9D00-C2463D0E27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jam preklapanja operator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add(Complex c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re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z.re = this-&gt;re + c1.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z.im = this-&gt;im + c1.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e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3 = c1.add(c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5CC9-E392-4EC0-AA68-C537829A9B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::Array(Array&amp; arr): num(arr.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onstr. kop.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amp; Array::operator=(Array&amp; ar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Op. =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this == &amp;arr){return *this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 = arr.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*th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5043-D906-4462-B2CE-5612B33EE5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 operator==(Array&amp; arr1, Array&amp; ar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Op. ==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rr1.num != arr2.num) 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arr1.num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rr1[i] != arr2[i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tream&amp; operator&lt;&lt;(ostream &amp;os, Array&amp; a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arr.num; i++) cout &lt;&lt; arr[ i ] &lt;&lt; 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84B5-F29D-4702-94C3-122E44DC1D0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1[0] = 1; a1[1]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" &lt;&lt;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2 =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2=" &lt;&lt; a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2=" &lt;&lt; a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6760" y="3689280"/>
            <a:ext cx="30272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AB2D-F48F-4237-81C0-2B0E51C5E72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(float x = 0.0, float y = 0.0) : x(x), y(y) {cout &lt;&lt; "Konstr. : Point" &lt;&lt; endl;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(Point&amp; p) : x(p.x), y(p.y) {cout &lt;&lt; "Konstr. kop : Point" &lt;&lt; endl;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&amp; operator=(Point &amp;p){cout &lt;&lt; "Point Op =" &lt;&lt; endl; x = p.x; y = p.y; return *this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 : p(x,y), r(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cout &lt;&lt; "Konstr : Circle" &lt;&lt; endl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ircle(Circle&amp; c) : p(c.p), r(c.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cout &lt;&lt; "Konstr kop. : Circle" &lt;&lt; endl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ircle c1(1.0,2.0,3.0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ircle c2 = c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2 = c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5110200"/>
            <a:ext cx="3348000" cy="17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48B5-304A-4EE5-B44C-490A3D1ACC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verzija tipova može se vršiti putem konst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cout &lt;&lt; "Konstr " &lt;&lt; endl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Complex(){cout &lt;&lt; "Dest" &lt;&lt; end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iend ostream&amp; operator&lt;&lt;(ostream &amp;os, Complex&amp; 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s &lt;&lt; "(Im=" &lt;&lt; c.re &lt;&lt; ",Re=" &lt;&lt; c.im &lt;&lt; ")"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 c1(1.2, 2.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c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c1 = 5</a:t>
            </a:r>
            <a:r>
              <a:rPr b="0" lang="sr-Latn-CS" sz="1200" spc="-1" strike="noStrike">
                <a:solidFill>
                  <a:srgbClr val="ff3300"/>
                </a:solidFill>
                <a:latin typeface="Courier New"/>
              </a:rPr>
              <a:t>.0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c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11640" y="4586400"/>
            <a:ext cx="4032360" cy="22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BBB5-3BAB-42DF-9BDB-7FEC6E84BA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ugi način jeste definisanje operatorske funkcije za konverz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članica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oja ima obli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 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še konverziju iz tip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 ti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 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statička metoda, niti može da bude globalna prijateljs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ma argu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itanju je unarni oper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ip povratnog rezultata se ne navodi u deklar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 se na osnovu imen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1D70-EB17-47CB-AB46-C0857CDA8D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 float(){return re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(1.2, 2.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 =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f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07280" y="5200560"/>
            <a:ext cx="273672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BF65-C0F0-49AE-B3D7-B974783971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načenje operatora za korisnički tip definiše se putem operatorskih funkcij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maju posebna imena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neki operator ugrađen u jez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operator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ve funkcije preklapaju standardne operatore (+,-, , /, * i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sim eksplicitnog poziva preko imena mogu se pozivati koristeći notaciju koja se koristi za operatore nad ugrađenim tipo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raz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1@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 tumači ka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tor@(t1,t2)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// za operatorsku prijateljsku funkciju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t1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tor@(t2)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// za operatorsku metodu klas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9DB9-7F23-45BA-BFA0-4DE392B9E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riend Complex operator+(Complex c1, Complex c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(Complex c1, Complex c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re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z.re = c1.re + c2.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z.im = c1.im + c2.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re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 = c1 + c2; //ekv. sa c3 = operator+(c1,c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3860640"/>
            <a:ext cx="3132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ABBC-D087-40E8-A8A4-8EFDC43F3B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mplex operator-(Complex c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mplex operator+(float f){return Complex(this-&gt;re + f, this-&gt;im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::operator-(Complex c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this-&gt;re - c1.re, this-&gt;im - c1.i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3 = c2 - c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//ekv. sa c3 = c2.operator-(c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3 = c3 + 1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88000" y="5423040"/>
            <a:ext cx="2556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1171-BD92-472F-8AF9-E4B3F108B9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je moguć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mijeniti prioritet, asocijativnost i broj operanda operatora u odnosu na svojstva koja su ugrađena u jez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nije moguće definisati da prekolopljeni operator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ma veći prioritet u odnosu na preklopljeni operator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definisati operatore za ugrađene tip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nije dozvoljeno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 operator+(float, flo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diti nove operatore u jez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lopit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k svi ostali mog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i operatori imaju posebna ograničenja za preklapanje: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t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1EA3-2526-4A9D-9EF4-F770BB2F5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a članic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binarni opererator, tada operatorska funkcije ko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 funkcij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lanic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ba da se realizuje ka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@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vi operand mora biti objekat klase kojoj operatorska funkcija prip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i operator mora biti tipa argume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r. ako u klasi Complex postoji definisana operatroska  funkcij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operator+(float 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da prvi argument mora biti objekat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Drugi argument mora biti tip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lobalna funkcija (najčešće prijateljsk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binarni opererator, tada operatorska funkcije ko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lobal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ba da se realizuje ka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@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381C-A60F-439C-B881-746537F0FA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5T09:26:27Z</dcterms:modified>
  <cp:revision>865</cp:revision>
  <dc:subject/>
  <dc:title>Chapter 1 – Introduction to Computers and C++ Programming</dc:title>
</cp:coreProperties>
</file>