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DEC8-603F-4C05-89C6-6F000E39B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F9D0-D914-4461-BC81-25A074743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6D93-A135-416F-9FF8-6FABFCC07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9C39-C219-4C75-86F6-CCA0BAE1B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0EF1-68AB-4BE3-AA76-D59AF857A6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7DD3-102B-457A-BACD-06C3A449EB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2B02-50D1-4638-ACFA-28718C6013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9CB5-6CD1-482C-9CDA-354DEDBB26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7834-B17D-48FD-A91A-70309A61E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05BB-8E83-4E08-A669-58BBAA65E0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BE3A-F2AF-4D98-96DE-428B92013B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21F4-A467-47B0-AEAC-8C790508A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6B0A-53D6-449E-B1C6-E35C920E90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AEE7-BCE7-47A4-A99D-653A3679AE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594B-6E1D-44AE-A47E-0ACE7453E8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61FB-D30A-4D6C-8534-B97E256123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7636-A4B6-41C9-8EF1-EB03B1B6F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9AFF-72D1-4CFB-8235-3CCBE4312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76AE-9AD7-4EAB-B21F-64D1395EB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D74F-8CED-42E9-8976-B1EF7CD06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AEED-6A7F-4661-9ADC-CE03F1DE4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62CF-F2E6-4072-A352-32EA75941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A885-2B1D-46C5-8623-B485FB4C5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307D-CC88-4FAA-81E8-C97AB3A86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FB18-2957-4A48-9AE3-ADF42368A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BCBC-5028-4C9E-862F-2D150A7DB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1 – Uvod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447920"/>
            <a:ext cx="7696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novni pojmo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emeljni princi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eg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C19E-4B58-4631-A12C-DF3F20141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038760" cy="532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384804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53760" y="5877000"/>
            <a:ext cx="24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mperativno vs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0A09-10E5-45CA-AAFF-93984F4E06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ncip je da se podaci i programski kod vezani za jedan entitet čuvaju u okviru jedne programske jedinice (kl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jčešće, ovaj princip realizuje su putem koncepta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tiže se bolja sprega programskog koda sa podac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akše je kontrolisati više manjih jedi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Znatno unapređenje u odnosu na strukturirano programiranje gdje postoje dvije velike odvojene cjeline, tj. programski kod i poda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daci vezani za jedan entitet dostupni su samo funkcijama i procedurama vezanim za taj entit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ojednostavljuje se traženje greša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nalogija sa preduzeć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Sastoji se iz više odvojenih departmana i svako ima svoja zaduž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pr. računovodstvo vodi računa o zaradama i samo su njima dostupni ti poda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aži princip “crne kutij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 ulazi se u detalje implementacije klase koja modelira neki entit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Sakrivanje slože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313A-0093-4617-92F5-7E46C7EAA8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13400" y="63086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O  paradi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769440" cy="59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821A-BC43-4FE3-9FDD-055F3AE8DA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O pristup stvara osnove za modelovanje rješe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očavaju se entiteti, njihova stanja i a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stoje jezici za modelovanje putem kojih je ove opise moguće i formalno zapisati i sačuvati (UM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ješenje se potom implementira u nekom konkretnom OO programskom jeziku koristeći koncepte OO programiran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razlikovati OO modelovanje (projektovanje) i OO program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O modelovanje je pristup koji se bavi kreiranjem modela realnog svij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O programiranje je tehnika za realizaciju kreiranog mode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C6EA-4BBA-43BF-8BA0-F7086B1134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Apstraktni tip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pstraktni tipovi poda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trakcij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prepoznavan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nih svojstava skupova sli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 objek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ivanje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m tipom pod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red ugrađenih tipove podataka, u OO jezicima moguće je definisati i sopstvene tipove podata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ni se ravnopravno koriste sa ugrađenim tipovi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kreirati proizvoljan broj promjenjivih za taj novi t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Instanciran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definisati i operacije nad novim tip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ovi tip se uglavnom realizuje putem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ovi tipovi podataka odgovaraju pojmovima iz realnog svijeta, tj. domena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Time se postiže bolja razumljivost programskog koda i olakšava programiran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pr. novi tipovi mogu da prestavljaju studente, zgrade, geometrijske objekte i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C87B-265C-4A55-B8F2-C0B82A1D08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Enkapsul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nkapsula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mplementacija nekog tipa može (treba) biti skrivena od ostatka 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ime se smanjuje mogućnost da dođe do greš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risnicima je jasno definisano šta je moguće raditi sa nekim tip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ko se sprovodi određena implementacija je skriveno od njeg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nalogija sa kućnim aparat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risnik vidi samo skup dugmati putem kojih koiste apar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lektronika i mehanika koja vrši operacije su skriveni od korisn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rincip se ostvaruje tako što pojedini dijelovi koda (podaci, funkcije, procedure) mogu označiti kao javni ili privat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B9F9-D618-42EE-B1CB-DBB64E23F3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12680" y="6308640"/>
            <a:ext cx="19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nkapsul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5329440" cy="417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4F5D-D06D-48FF-8C75-01068F43F3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iv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jerovatno i najvažniji princip OO programir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skupu sličnih entiteta mogu se uočiti podskupovi koji dijele neke zajedničke osobine koje razlikuju od ostalih objek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u skupu entiteta Vozilo mogu se uočiti podskupovi Automobil i Kam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ni dijele zajedničke osobine jer pripadaju skupu entiteta Voz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red toga, imaju svoje specifične oso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 svaki kamion mora biti poznata maksimalna dozvoljena težina ter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E067-D357-46FB-A3CB-677CB0F082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sljeđ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 sličan način klasa A može se izvesti iz kl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na zadržava sve funkcionalnosti osnovne klase, tako da se te funkcionalnosti ne moraju ponovo implementirati u izvedenoj kla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guće je dodavati nove funkcionalnosti, kao i mijenjati postojeć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vime se postiže visok stepen ponovne upotrebe programskog k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Jednom kreirana klasa može biti proslijeđena drugim programerima da je kori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Ako treba unijeti izmjenu programer kreira novu klasu koja se izvodi iz postojeće klase i modifikuje samo samo određene funkcionalnos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rogramski kod osnovne klase ostaje neizmijenj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rogramer čak ne mora da zna ni jedan detalj implementacije iz osnovne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rogramiranje GUI-a kod većine OO jezika je zasnovana na ovom princip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08D8-C5CF-450B-BE39-D76E1055DD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991280" cy="5437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81400" y="616572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asljeđiv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B0E3-AE04-4A83-A82B-BE2F551AF1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sa istorijatom struktiranog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O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ir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sa osnovnim pojmovima i principima vezanim za OO programira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led koncepata koji će biti izučavani u ostatku kur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E44A-229C-426D-93B4-5C99197393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Preklapanje operatora i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lapanje operato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red mogućnosti uvođenja novih tipova moguće je definisati i značenje operatora za taj novi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ako je definisan novi tip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koji odgovara  kompleksnim brojevima, moguće je i definisati značenje operatora + nad tim novim tip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perator + u različitim kontekstima ima drugačiji smisa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limorfiz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ojam vezan je nasljeđivan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ka u klasi A postoji funkcij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izvesti klase B i C iz klase A i u tim klasama napisati novu (specifičnu) implementaciju z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Funkcij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ma više oblik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ji oblik će biti pozvan zavisi od tipa objek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C09B-55C6-4101-8C7F-3C2BC4B034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gled – Klase i objekti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lj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trakci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jedn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h atributa i zajedn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g ponašanja jednog skupa srodnih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sadr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tk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e (atribut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definišu sta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(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e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šu ponašanj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a klasa ima implementaciju i interfe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lementaciju klas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ni podaci članovi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je funk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fejs klas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i podaci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 (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ne preporučuje 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e funk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jave (instance) klase nazivaju se objekt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519F-6083-4600-8BCD-B68300B6A1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7488360" cy="632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93040" y="6381720"/>
            <a:ext cx="20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lasa i objek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446F-985D-4435-904A-C416DDF0F4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gled – Klase i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Uce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cenik(int BrojIndeksa, char* i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Uceni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tamp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rojIndek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ime[15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835B-996E-4C82-8272-73731D6D6E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gled – Klase i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cenik::Ucenik(int brojIndeksa, char* 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brojIndeksa = brojIndek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cpy(this-&gt;ime, i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cenik::~Uceni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Ucenik::Stamp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Broj indeksa " &lt;&lt; this-&gt;brojIndeksa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me " &lt;&lt; ime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FA86-4661-4B72-AE4D-8CA9AC8560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lan ra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nosti u poslovanju i napredak računarske tehnike ima za posljedicu porast pritiska na softversku industri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naraslim zahtjevima nije moguće odgovoriti dolazi do tzv. “softverske kriz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rize se prevazilaze uvođenjem novih alata i tehni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roces je ciklič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zvoj softvera prati ciklično smjenjivanje povećanja pritiska na softversku industriju usljed rasta složenosti poslovanja i smanjena pritisaka usljed uvođenja novih alata i tehnik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.S. Frank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51AC-F6D2-44D5-A650-8761790EB9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 takva kriza javila se šestdesetih god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to vrijeme nije postojala tehnologija razvoja programa, pa se za takav pristup koristi naziv “haotično programiranj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rogramima se često koristila naredba skoka (goto) pa se takav programski kod nazivao “špageti ko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trukturirano programiranje nastaje kao odgovor na narasle zahtje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vodi se red u programiranje upotrebom strogo definisanih upravljačkih struktura (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t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vezano je sa imperativnom paradigmom program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7801-C7FD-4866-BEB6-D6BED33EB7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rukturirano programir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groman napredak u odnosu na programiranje putem asembl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gram predstavlja niz instru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što je rečeno koriste se propisane instru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eći programi koji imaju nekoliko stotina instrukcija postaju nerazumljiv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se razbijanje na manje procedure i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vrsto je vezano sa metodom sukcesivne dekompozi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blem se postepeno dekompomponuje i raščlanjuje na manje jedinice (procedure i funkci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D979-4F39-4976-B2B9-D6BA02D8EE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red brojnih prednosti i postoje i m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gram je podijeljen na dvije velike cjeline, podaci i k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Za složene programe ovo može biti probl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dovoljno razvijena podrška za uvodjenje novih tipova podataka i proširenje postojeći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dovoljno razvijeni mehanizmi za povezivanje modula koda napisanih od strane različitih timova progr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dostatak mehanizama za ponovnu upotrebu k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ko složenost softvera stalno raste navedeni nedostaci predstavljaju ozbiljno ograničenje u upotrebi strukturiranog programir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O programiranje je dijelom uvedeno kako bi se prevazišli nedostaci tradicionalnog program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O programiranje ne znači kompletan nestanak strukturiranog programiranja, već su principi strukturiranog programiranja prisutni u OO programskim jezic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5116-9DDA-49F2-A6F9-5293E982F1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424720" cy="3559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83200" y="5084640"/>
            <a:ext cx="28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roceduralna paradi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83F3-197D-4502-AF4C-C6E22FE74B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 prevazilaženje poteškoća uzrokovanih složenošću često se pribjegava upotrebi mod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apa je primjer modela, kao i maketa z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 se sastoje od elemenata koji opisuju neku fizičku, apstraktnu ili hipotetičku realn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del je pojednostavljenja slika svij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Ta “slika” sadrži samo one detalje koji su od inte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reba mode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e široka i prisutna u mnogim domen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očigledne prednos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še je sprovoditi eksperimente i analizu nad modelima, jer su jednostavniji i njihova izrada košta mnogo manje nego izrada samog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ćava se nivo apstrak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ša komunikacija između članova razvojnog ti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6799-6AFB-481F-9613-924E2F1EDB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O pristupu uvodi bitno drugačiji način razmišljanja u programir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O pristupu softver se tretira kao model realnog svi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ijet se sastoji iz entiteta (objekat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Entiteti imaju svoja stanja (atribute) i ponašanja (akcije, procedur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ncepti kao što su klase, metode i nasljeđivanje služe za modelovanje (opisivanje) entit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lasa je glavni koncept koji predstavlja apstrakciju (model) jednog entit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5194-3AC7-411C-BA2A-32DA66F1A7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2T18:10:47Z</dcterms:modified>
  <cp:revision>581</cp:revision>
  <dc:subject/>
  <dc:title>Chapter 1 – Introduction to Computers and C++ Programming</dc:title>
</cp:coreProperties>
</file>