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7.jpeg" ContentType="image/jpeg"/>
  <Override PartName="/ppt/media/image28.png" ContentType="image/png"/>
  <Override PartName="/ppt/media/image13.wmf" ContentType="image/x-wmf"/>
  <Override PartName="/ppt/media/image9.png" ContentType="image/png"/>
  <Override PartName="/ppt/media/image34.png" ContentType="image/png"/>
  <Override PartName="/ppt/media/image32.png" ContentType="image/png"/>
  <Override PartName="/ppt/media/image33.png" ContentType="image/png"/>
  <Override PartName="/ppt/media/image8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35.png" ContentType="image/png"/>
  <Override PartName="/ppt/media/image5.jpeg" ContentType="image/jpeg"/>
  <Override PartName="/ppt/media/image36.wmf" ContentType="image/x-wmf"/>
  <Override PartName="/ppt/media/image37.png" ContentType="image/png"/>
  <Override PartName="/ppt/media/image38.wmf" ContentType="image/x-wmf"/>
  <Override PartName="/ppt/media/image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89280"/>
            <a:ext cx="693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6000480" y="89280"/>
            <a:ext cx="857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867160"/>
            <a:ext cx="650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F80E-0250-4501-828D-AF87457AF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6812-FFF1-4907-9D8A-5E08783113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6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CB32-24F5-4AAA-8B3F-E07B22F625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C314-4CC5-4A26-B454-CC585E780B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6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C46C-2E12-4F54-8FCE-AEE627920C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8A53-5317-42A1-877C-A7E06F1FBC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E2C2-D86F-49FA-89DE-6EBFD5679A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5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11B9-523E-4963-B672-9297FC9A1D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8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1ED0-68CA-43BB-874D-CDE83E9954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1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5F73-F8D2-482B-B2BF-B9EB41B8DD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4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7582-4F10-43C6-9B05-C2120C649F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7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3BB6-F047-4A83-9A3D-8E749DCF68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0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EA57-5093-40C3-A095-3ABB5E3973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3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E9BE-7523-4D84-BD06-B118A48675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6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4AAB-44CA-488F-8F24-9D8A4199F5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1072-B2D7-42CB-9F4D-DC7EF137D5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AC68-D783-4138-8FB6-FDA6004D6B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BDCD-4C02-4F9D-AABF-ACE34EAB48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5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7558-D1CD-4E09-B335-15DC83B9B1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8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8B96-2A2B-4AD0-AB1E-66902C29B0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1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E08E-C778-420A-B1E7-5E45CF02B2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4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588E-C221-4300-B418-9D8C1FEE23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7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F154-6E72-4822-A166-1AA8171760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A3D1-802B-46A5-9874-BD0C169739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3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D27D-13AD-4D9A-BD66-A215C4D64F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6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D9F7-3EE2-4213-A78A-0E84568EB6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1D61-FD60-4C4E-993C-6981118FAC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A394-63E2-46A2-8127-6889000189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5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C776-2D2B-4F7E-93F5-B8A04353B4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8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F2BE-8445-4375-B722-C14E6BAAB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1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02B8-21AB-46B8-A510-F41F04CC3F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4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BFCC-E251-4176-A7D8-CE835506D3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7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C710-F2F0-4DBB-B5D2-0D0245C87A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0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0B06-4E97-4830-8BAA-E2ACA04C30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3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6BAF-11E9-4E0B-8CE4-3978A9562C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6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D778-7685-420B-BA61-D815BF8D3B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EBA2-9379-4706-88BE-7CB0CF7BFB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180A-44D8-4704-A656-AD7B1016BD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5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CEA5-AAA4-4165-A259-582DD10BC9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8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C441-B6B8-4499-816A-6AD76D7FCD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1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7C51-5B3E-4238-8BA9-139DAADE8F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4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DCEB-83ED-49A7-BF12-AC3546F672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7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B2D4-0EEB-4C59-8DC7-BFF0ACFA91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0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474B-D306-4ABA-A65D-24D027E740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3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FA44-0433-4A97-9BC6-0E06551436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6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397F-39BF-45CE-9FA0-E0363B78E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79E9-B235-4A20-B563-ED5DF3DF93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9B11-C7F5-4ABE-AE52-F0A54B38D3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5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BECB-87D7-4DEC-A0C5-C0BC104831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8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BB29-F2CB-45C1-B4ED-D4B4758FB2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1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FB79-6474-4823-8442-566D6A7310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4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548E-7358-482A-93CD-8101F016AA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7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899E-ABAC-4151-9D53-759BF77AB4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0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2DD9-4CAC-4900-B6CF-1100D0CEB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3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3F0B-7E23-4E8D-891B-AD64FB543F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6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3470-6B65-462C-AF34-E6DA67B387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9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C1E2-6C8C-49B8-87B3-D99E028D35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2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6030-52CB-4917-B912-5FC0D5584B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5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2A60-C2E5-4835-AA2D-F827F2F9B7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8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743C-3130-4B79-A4F4-E067A99B56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1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B883-B227-4417-915B-185C1B2C63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4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A572-4301-44B9-A9CB-77CF11D72C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7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8EEC-8EBB-495F-8206-44E79090F3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0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2D8F-EC4C-4983-A491-E38C3E2912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2E73-BF4D-4AAD-91E6-D0CA3DBF5C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6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F711-1ADD-4DC4-859E-A9D52D7E72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9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481F-9282-47E3-9DD4-81FF51333E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2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1613-AA5E-4E88-88C0-CA64E1D6A3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5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D321-27B9-41EC-9F92-1F55244F67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8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CB50-83C1-4E6D-93CA-147927D207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1A75-7983-440D-94B7-B314CDDA2E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4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9BE2-D051-4D5C-A8E5-776596AC59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7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E351-02D5-487B-82A1-765845A819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0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D071-172B-488F-B303-BA40DF4593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3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424C-46BE-410C-9CEA-EDCC4D7037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6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E1D5-B056-4A45-A68A-AB9BFC17EE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9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D183-71AB-4D9F-AAA2-BDA9D82FC7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2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C629-C20F-4984-9F43-E1877CB3AD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5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C2A6-B095-49DA-A3DD-CBD7ECCB69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8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D2EB-9B38-4CDB-9ADA-97FD5DA52F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1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51CC-A7A1-44D7-8473-300A258DCB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4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741F-8962-4DF5-8E82-5F8AB96A91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7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5347-5F9A-44BE-9261-9D835126CE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0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AE5C-A415-47A7-8F17-F216D5F61D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3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BB72-DF96-46DA-9623-7BB00E0075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6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1904-ACBB-4F42-AF1A-DBB6EC2DC4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EE27-CE51-44FC-8DA9-6D67B35589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1162-6377-44C2-B8B7-E515724ED0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5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DDBF-6DE0-4BB8-A242-9EB0C2BA07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8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12DE-84B4-4F3C-BE02-25D9C3B58D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1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72C7-AA79-40F5-9631-FE6FEE1D24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4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6F8F-EBF0-4082-B3FB-4E9B54131E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7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1355-CFBA-4815-A530-CC7D9A42AD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0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E473-FFB0-4EBA-9359-D678FB64AE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3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Ewh-rF7KSEg" TargetMode="External"/><Relationship Id="rId2" Type="http://schemas.openxmlformats.org/officeDocument/2006/relationships/hyperlink" Target="http://inst.eecs.berkeley.edu/~cs61b/fa14/ta-materials/apps/ab_tree_practice/" TargetMode="External"/><Relationship Id="rId3" Type="http://schemas.openxmlformats.org/officeDocument/2006/relationships/hyperlink" Target="http://web.cs.ucla.edu/~rosen/161/notes/alphabeta.html" TargetMode="External"/><Relationship Id="rId4" Type="http://schemas.openxmlformats.org/officeDocument/2006/relationships/hyperlink" Target="http://homepage.ufp.pt/jtorres/ensino/ia/alfabeta.html" TargetMode="Externa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me Play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povi iga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438280" y="1905120"/>
          <a:ext cx="609624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ess, Check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, Othel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ckgammon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opo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ttles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idge, Poker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bbl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uclear w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5"/>
          <p:cNvSpPr/>
          <p:nvPr/>
        </p:nvSpPr>
        <p:spPr>
          <a:xfrm>
            <a:off x="2504160" y="1131840"/>
            <a:ext cx="26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sti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428520" y="10810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Šan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80520" y="2209680"/>
            <a:ext cx="1902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vrš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form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187920" y="4343400"/>
            <a:ext cx="20811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savrš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form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 sa nepotpunom informacij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ke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i ostale igre sa kartama kombinuju slučajnost sa nepotpunom informacij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može se, u principu, tražiti prosjek po nepoznat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 primjer, ne znamo da li protivnik ima kralja ili puba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j najbolji prvi potez može biti isti kad bi znao da li protivnik ima kralja i kad bih znao da ima puba, ali može bit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optima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na ako ja to ne zn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stražujemo da bi sakupili informac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Primjer - bri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21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 - preg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gre su zabavne za r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 opas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st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ju više važnih tačaka o A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avršenost je nedostiž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oramo 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obra ideja je da razmislite o čemu ćete razmišlja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određenost ograničava dodjeljivanja vrijednosti stanji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s are to AI as grand prix racing is to automobile design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Igr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a 2 igrač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motiva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ci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hodne heuristike i procedure pretraživanja su korisne samo za igre sa jednim igrač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postoji pojam povratnog poteza: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dan ili više k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operativ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ih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ge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uzimaju se u obzir protivnički pot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gre su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dea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za istraživanje 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versaria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strateg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obro definisana apstraktna prav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jčešće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ormu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kao zadatak pretraži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eoma složeni kombinatorni problemi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šah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 sa 2 igrač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rvo pretraživanja za oba igrača ostaje i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arni nivo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u potezi igrača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(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parni nivo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i+1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u potezi igrača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(Ma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aki od igrača pokušava da dostigne cilj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različit za svakog igrač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 njihovom niv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aki igrač procjenjuje stanja u skladu sa sopstven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uri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k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u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j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jbolji potez dovodi igrača B u najgore st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raži najbolji potez prepostavljajući da B takođe traži svoj najbolji pot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 i problemi traženja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epredvidiv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otivni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ješenje je plan za nepredviđene situacije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cy pla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Vremensko ograničen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ije vjerovatno pronalaženje cilja, moramo aproksimira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storij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gorit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 savršenu igr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[Von Neumann, 1944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onačni horizo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ibližno izračunavan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[Zuse, 1945; Shannon, 1950; Samuel, 1952-57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drezivanje zbog smanjenja cije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[McCarthy, 1956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 igre za 2 igrač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va igrača naizmjenično vuku potez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i igrač zna šta je drugi igrač uradio i šta može uradi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bjeđuje jedan od igrača (drugi tada gubi) ili je neriješe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Igre kao traženj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 Grundy’s Game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27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 početku je data jedna grupa novči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igrač dijeli jednu gomilu na dvije manje gomile nejednake velič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gra završava kada svaka gomila ima najviše 2 novči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i igrač koji ne može odigrati potez gubi ig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066680" y="4648320"/>
            <a:ext cx="3505320" cy="1904760"/>
          </a:xfrm>
          <a:prstGeom prst="diamond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Group 12"/>
          <p:cNvGrpSpPr/>
          <p:nvPr/>
        </p:nvGrpSpPr>
        <p:grpSpPr>
          <a:xfrm>
            <a:off x="1981080" y="4800600"/>
            <a:ext cx="838440" cy="1066680"/>
            <a:chOff x="1981080" y="4800600"/>
            <a:chExt cx="838440" cy="1066680"/>
          </a:xfrm>
        </p:grpSpPr>
        <p:sp>
          <p:nvSpPr>
            <p:cNvPr id="87" name="Oval 6"/>
            <p:cNvSpPr/>
            <p:nvPr/>
          </p:nvSpPr>
          <p:spPr>
            <a:xfrm>
              <a:off x="1981080" y="5334120"/>
              <a:ext cx="83844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Oval 7"/>
            <p:cNvSpPr/>
            <p:nvPr/>
          </p:nvSpPr>
          <p:spPr>
            <a:xfrm>
              <a:off x="1981080" y="5200560"/>
              <a:ext cx="83844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Oval 8"/>
            <p:cNvSpPr/>
            <p:nvPr/>
          </p:nvSpPr>
          <p:spPr>
            <a:xfrm>
              <a:off x="1981080" y="5067360"/>
              <a:ext cx="83844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Oval 9"/>
            <p:cNvSpPr/>
            <p:nvPr/>
          </p:nvSpPr>
          <p:spPr>
            <a:xfrm>
              <a:off x="1981080" y="4933800"/>
              <a:ext cx="83844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Oval 10"/>
            <p:cNvSpPr/>
            <p:nvPr/>
          </p:nvSpPr>
          <p:spPr>
            <a:xfrm>
              <a:off x="1981080" y="4800600"/>
              <a:ext cx="83844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2" name="Picture 11" descr="amidea"/>
          <p:cNvPicPr/>
          <p:nvPr/>
        </p:nvPicPr>
        <p:blipFill>
          <a:blip r:embed="rId1"/>
          <a:stretch/>
        </p:blipFill>
        <p:spPr>
          <a:xfrm flipH="1">
            <a:off x="304560" y="4295880"/>
            <a:ext cx="717480" cy="2181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amconfus"/>
          <p:cNvPicPr/>
          <p:nvPr/>
        </p:nvPicPr>
        <p:blipFill>
          <a:blip r:embed="rId2"/>
          <a:stretch/>
        </p:blipFill>
        <p:spPr>
          <a:xfrm>
            <a:off x="4267080" y="4343400"/>
            <a:ext cx="965160" cy="2073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1145520" y="43718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583800" y="449568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5486400" y="4572000"/>
            <a:ext cx="3505320" cy="1905120"/>
          </a:xfrm>
          <a:prstGeom prst="diamond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6400800" y="5257800"/>
            <a:ext cx="83808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19"/>
          <p:cNvSpPr/>
          <p:nvPr/>
        </p:nvSpPr>
        <p:spPr>
          <a:xfrm>
            <a:off x="6400800" y="5124600"/>
            <a:ext cx="83808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Oval 20"/>
          <p:cNvSpPr/>
          <p:nvPr/>
        </p:nvSpPr>
        <p:spPr>
          <a:xfrm>
            <a:off x="6400800" y="4991040"/>
            <a:ext cx="83808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Oval 21"/>
          <p:cNvSpPr/>
          <p:nvPr/>
        </p:nvSpPr>
        <p:spPr>
          <a:xfrm>
            <a:off x="7543800" y="5257800"/>
            <a:ext cx="83808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7543800" y="5124600"/>
            <a:ext cx="83808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undy’s Game: Sta</a:t>
            </a: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nj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19600" y="1146240"/>
            <a:ext cx="3787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017880" y="4967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1869840" y="1665000"/>
            <a:ext cx="4509000" cy="1017720"/>
            <a:chOff x="1869840" y="1665000"/>
            <a:chExt cx="4509000" cy="1017720"/>
          </a:xfrm>
        </p:grpSpPr>
        <p:sp>
          <p:nvSpPr>
            <p:cNvPr id="106" name="Text Box 6"/>
            <p:cNvSpPr/>
            <p:nvPr/>
          </p:nvSpPr>
          <p:spPr>
            <a:xfrm>
              <a:off x="1869840" y="2136600"/>
              <a:ext cx="77508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,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Text Box 7"/>
            <p:cNvSpPr/>
            <p:nvPr/>
          </p:nvSpPr>
          <p:spPr>
            <a:xfrm>
              <a:off x="3622320" y="2136600"/>
              <a:ext cx="77508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,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5603760" y="2162160"/>
              <a:ext cx="77508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,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9" name="AutoShape 9"/>
            <p:cNvCxnSpPr>
              <a:stCxn id="103" idx="2"/>
              <a:endCxn id="106" idx="0"/>
            </p:cNvCxnSpPr>
            <p:nvPr/>
          </p:nvCxnSpPr>
          <p:spPr>
            <a:xfrm flipH="1">
              <a:off x="2257200" y="1665000"/>
              <a:ext cx="1753200" cy="4719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10" name="AutoShape 10"/>
            <p:cNvCxnSpPr>
              <a:stCxn id="103" idx="2"/>
              <a:endCxn id="107" idx="0"/>
            </p:cNvCxnSpPr>
            <p:nvPr/>
          </p:nvCxnSpPr>
          <p:spPr>
            <a:xfrm>
              <a:off x="4009680" y="1665000"/>
              <a:ext cx="1080" cy="4719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11" name="AutoShape 11"/>
            <p:cNvCxnSpPr>
              <a:stCxn id="103" idx="2"/>
              <a:endCxn id="108" idx="0"/>
            </p:cNvCxnSpPr>
            <p:nvPr/>
          </p:nvCxnSpPr>
          <p:spPr>
            <a:xfrm>
              <a:off x="4009680" y="1665360"/>
              <a:ext cx="1981800" cy="49752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12" name="Group 12"/>
          <p:cNvGrpSpPr/>
          <p:nvPr/>
        </p:nvGrpSpPr>
        <p:grpSpPr>
          <a:xfrm>
            <a:off x="3324960" y="2655360"/>
            <a:ext cx="2109600" cy="916200"/>
            <a:chOff x="3324960" y="2655360"/>
            <a:chExt cx="2109600" cy="916200"/>
          </a:xfrm>
        </p:grpSpPr>
        <p:sp>
          <p:nvSpPr>
            <p:cNvPr id="113" name="Text Box 13"/>
            <p:cNvSpPr/>
            <p:nvPr/>
          </p:nvSpPr>
          <p:spPr>
            <a:xfrm>
              <a:off x="4263120" y="3051000"/>
              <a:ext cx="1171440" cy="520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, 2,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4" name="AutoShape 14"/>
            <p:cNvCxnSpPr>
              <a:stCxn id="107" idx="2"/>
              <a:endCxn id="115" idx="0"/>
            </p:cNvCxnSpPr>
            <p:nvPr/>
          </p:nvCxnSpPr>
          <p:spPr>
            <a:xfrm flipH="1">
              <a:off x="3324960" y="2655360"/>
              <a:ext cx="685080" cy="4071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16" name="AutoShape 15"/>
            <p:cNvCxnSpPr>
              <a:stCxn id="107" idx="2"/>
              <a:endCxn id="113" idx="0"/>
            </p:cNvCxnSpPr>
            <p:nvPr/>
          </p:nvCxnSpPr>
          <p:spPr>
            <a:xfrm>
              <a:off x="4009680" y="2655720"/>
              <a:ext cx="840600" cy="3960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17" name="Group 16"/>
          <p:cNvGrpSpPr/>
          <p:nvPr/>
        </p:nvGrpSpPr>
        <p:grpSpPr>
          <a:xfrm>
            <a:off x="3325320" y="2681280"/>
            <a:ext cx="3760200" cy="901440"/>
            <a:chOff x="3325320" y="2681280"/>
            <a:chExt cx="3760200" cy="901440"/>
          </a:xfrm>
        </p:grpSpPr>
        <p:grpSp>
          <p:nvGrpSpPr>
            <p:cNvPr id="118" name="Group 17"/>
            <p:cNvGrpSpPr/>
            <p:nvPr/>
          </p:nvGrpSpPr>
          <p:grpSpPr>
            <a:xfrm>
              <a:off x="5914080" y="2681280"/>
              <a:ext cx="1171440" cy="901440"/>
              <a:chOff x="5914080" y="2681280"/>
              <a:chExt cx="1171440" cy="901440"/>
            </a:xfrm>
          </p:grpSpPr>
          <p:sp>
            <p:nvSpPr>
              <p:cNvPr id="119" name="Text Box 18"/>
              <p:cNvSpPr/>
              <p:nvPr/>
            </p:nvSpPr>
            <p:spPr>
              <a:xfrm>
                <a:off x="5914080" y="3062160"/>
                <a:ext cx="1171440" cy="520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3, 3, 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0" name="AutoShape 19"/>
              <p:cNvCxnSpPr>
                <a:stCxn id="108" idx="2"/>
                <a:endCxn id="119" idx="0"/>
              </p:cNvCxnSpPr>
              <p:nvPr/>
            </p:nvCxnSpPr>
            <p:spPr>
              <a:xfrm>
                <a:off x="5991120" y="2681280"/>
                <a:ext cx="510480" cy="38160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cxnSp>
          <p:nvCxnSpPr>
            <p:cNvPr id="121" name="AutoShape 20"/>
            <p:cNvCxnSpPr>
              <a:stCxn id="108" idx="2"/>
              <a:endCxn id="115" idx="0"/>
            </p:cNvCxnSpPr>
            <p:nvPr/>
          </p:nvCxnSpPr>
          <p:spPr>
            <a:xfrm flipH="1">
              <a:off x="3325320" y="2681280"/>
              <a:ext cx="2666160" cy="3816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122" name="Text Box 21"/>
          <p:cNvSpPr/>
          <p:nvPr/>
        </p:nvSpPr>
        <p:spPr>
          <a:xfrm>
            <a:off x="7417440" y="114300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 pot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22"/>
          <p:cNvGrpSpPr/>
          <p:nvPr/>
        </p:nvGrpSpPr>
        <p:grpSpPr>
          <a:xfrm>
            <a:off x="1231200" y="2209680"/>
            <a:ext cx="7909560" cy="1373040"/>
            <a:chOff x="1231200" y="2209680"/>
            <a:chExt cx="7909560" cy="1373040"/>
          </a:xfrm>
        </p:grpSpPr>
        <p:sp>
          <p:nvSpPr>
            <p:cNvPr id="124" name="Text Box 23"/>
            <p:cNvSpPr/>
            <p:nvPr/>
          </p:nvSpPr>
          <p:spPr>
            <a:xfrm>
              <a:off x="1231200" y="3062160"/>
              <a:ext cx="1171440" cy="520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, 1,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24"/>
            <p:cNvSpPr/>
            <p:nvPr/>
          </p:nvSpPr>
          <p:spPr>
            <a:xfrm>
              <a:off x="2739240" y="3062160"/>
              <a:ext cx="1171440" cy="520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, 2,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AutoShape 25"/>
            <p:cNvCxnSpPr>
              <a:stCxn id="106" idx="2"/>
              <a:endCxn id="124" idx="0"/>
            </p:cNvCxnSpPr>
            <p:nvPr/>
          </p:nvCxnSpPr>
          <p:spPr>
            <a:xfrm flipH="1">
              <a:off x="1817280" y="2655360"/>
              <a:ext cx="440640" cy="4071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26" name="AutoShape 26"/>
            <p:cNvCxnSpPr>
              <a:stCxn id="106" idx="2"/>
              <a:endCxn id="115" idx="0"/>
            </p:cNvCxnSpPr>
            <p:nvPr/>
          </p:nvCxnSpPr>
          <p:spPr>
            <a:xfrm>
              <a:off x="2257200" y="2655360"/>
              <a:ext cx="1068480" cy="4071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27" name="Text Box 27"/>
            <p:cNvSpPr/>
            <p:nvPr/>
          </p:nvSpPr>
          <p:spPr>
            <a:xfrm>
              <a:off x="7317000" y="2209680"/>
              <a:ext cx="182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x pote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28"/>
          <p:cNvGrpSpPr/>
          <p:nvPr/>
        </p:nvGrpSpPr>
        <p:grpSpPr>
          <a:xfrm>
            <a:off x="713160" y="3580920"/>
            <a:ext cx="3675600" cy="1082880"/>
            <a:chOff x="713160" y="3580920"/>
            <a:chExt cx="3675600" cy="1082880"/>
          </a:xfrm>
        </p:grpSpPr>
        <p:sp>
          <p:nvSpPr>
            <p:cNvPr id="129" name="Text Box 29"/>
            <p:cNvSpPr/>
            <p:nvPr/>
          </p:nvSpPr>
          <p:spPr>
            <a:xfrm>
              <a:off x="713160" y="4129200"/>
              <a:ext cx="156744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, 1, 1,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30"/>
            <p:cNvSpPr/>
            <p:nvPr/>
          </p:nvSpPr>
          <p:spPr>
            <a:xfrm>
              <a:off x="2821320" y="4143240"/>
              <a:ext cx="156744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, 2, 1,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1" name="AutoShape 31"/>
            <p:cNvCxnSpPr>
              <a:stCxn id="124" idx="2"/>
              <a:endCxn id="129" idx="0"/>
            </p:cNvCxnSpPr>
            <p:nvPr/>
          </p:nvCxnSpPr>
          <p:spPr>
            <a:xfrm flipH="1">
              <a:off x="1496160" y="3581280"/>
              <a:ext cx="321480" cy="54864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32" name="AutoShape 32"/>
            <p:cNvCxnSpPr>
              <a:stCxn id="124" idx="2"/>
              <a:endCxn id="130" idx="0"/>
            </p:cNvCxnSpPr>
            <p:nvPr/>
          </p:nvCxnSpPr>
          <p:spPr>
            <a:xfrm>
              <a:off x="1817280" y="3580920"/>
              <a:ext cx="1788120" cy="5626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33" name="Group 33"/>
          <p:cNvGrpSpPr/>
          <p:nvPr/>
        </p:nvGrpSpPr>
        <p:grpSpPr>
          <a:xfrm>
            <a:off x="3325680" y="3580920"/>
            <a:ext cx="3175200" cy="562320"/>
            <a:chOff x="3325680" y="3580920"/>
            <a:chExt cx="3175200" cy="562320"/>
          </a:xfrm>
        </p:grpSpPr>
        <p:cxnSp>
          <p:nvCxnSpPr>
            <p:cNvPr id="134" name="AutoShape 34"/>
            <p:cNvCxnSpPr>
              <a:stCxn id="115" idx="2"/>
              <a:endCxn id="130" idx="0"/>
            </p:cNvCxnSpPr>
            <p:nvPr/>
          </p:nvCxnSpPr>
          <p:spPr>
            <a:xfrm>
              <a:off x="3325680" y="3580920"/>
              <a:ext cx="280080" cy="5626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35" name="AutoShape 35"/>
            <p:cNvCxnSpPr>
              <a:stCxn id="119" idx="2"/>
              <a:endCxn id="130" idx="0"/>
            </p:cNvCxnSpPr>
            <p:nvPr/>
          </p:nvCxnSpPr>
          <p:spPr>
            <a:xfrm flipH="1">
              <a:off x="3604680" y="3580920"/>
              <a:ext cx="2896560" cy="5626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36" name="Group 36"/>
          <p:cNvGrpSpPr/>
          <p:nvPr/>
        </p:nvGrpSpPr>
        <p:grpSpPr>
          <a:xfrm>
            <a:off x="458640" y="4281480"/>
            <a:ext cx="8735400" cy="2579040"/>
            <a:chOff x="458640" y="4281480"/>
            <a:chExt cx="8735400" cy="2579040"/>
          </a:xfrm>
        </p:grpSpPr>
        <p:sp>
          <p:nvSpPr>
            <p:cNvPr id="137" name="Text Box 37"/>
            <p:cNvSpPr/>
            <p:nvPr/>
          </p:nvSpPr>
          <p:spPr>
            <a:xfrm>
              <a:off x="7317000" y="4281480"/>
              <a:ext cx="182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x pote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Group 38"/>
            <p:cNvGrpSpPr/>
            <p:nvPr/>
          </p:nvGrpSpPr>
          <p:grpSpPr>
            <a:xfrm>
              <a:off x="458640" y="4648320"/>
              <a:ext cx="8735400" cy="2212200"/>
              <a:chOff x="458640" y="4648320"/>
              <a:chExt cx="8735400" cy="2212200"/>
            </a:xfrm>
          </p:grpSpPr>
          <p:sp>
            <p:nvSpPr>
              <p:cNvPr id="139" name="Text Box 39"/>
              <p:cNvSpPr/>
              <p:nvPr/>
            </p:nvSpPr>
            <p:spPr>
              <a:xfrm>
                <a:off x="7469640" y="4967280"/>
                <a:ext cx="172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Min potez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Text Box 40"/>
              <p:cNvSpPr/>
              <p:nvPr/>
            </p:nvSpPr>
            <p:spPr>
              <a:xfrm>
                <a:off x="7318440" y="5805360"/>
                <a:ext cx="182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Max potez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1" name="Group 41"/>
              <p:cNvGrpSpPr/>
              <p:nvPr/>
            </p:nvGrpSpPr>
            <p:grpSpPr>
              <a:xfrm>
                <a:off x="458640" y="4648320"/>
                <a:ext cx="2841840" cy="2212200"/>
                <a:chOff x="458640" y="4648320"/>
                <a:chExt cx="2841840" cy="2212200"/>
              </a:xfrm>
            </p:grpSpPr>
            <p:sp>
              <p:nvSpPr>
                <p:cNvPr id="142" name="Text Box 42"/>
                <p:cNvSpPr/>
                <p:nvPr/>
              </p:nvSpPr>
              <p:spPr>
                <a:xfrm>
                  <a:off x="458640" y="4967280"/>
                  <a:ext cx="196380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3, 1, 1, 1, 1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Text Box 43"/>
                <p:cNvSpPr/>
                <p:nvPr/>
              </p:nvSpPr>
              <p:spPr>
                <a:xfrm>
                  <a:off x="536040" y="5805360"/>
                  <a:ext cx="2360160" cy="52056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2, 1, 1, 1, 1, 1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4" name="AutoShape 44"/>
                <p:cNvCxnSpPr>
                  <a:stCxn id="129" idx="2"/>
                  <a:endCxn id="142" idx="0"/>
                </p:cNvCxnSpPr>
                <p:nvPr/>
              </p:nvCxnSpPr>
              <p:spPr>
                <a:xfrm flipH="1">
                  <a:off x="1441080" y="4648320"/>
                  <a:ext cx="56160" cy="319680"/>
                </a:xfrm>
                <a:prstGeom prst="straightConnector1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5" name="AutoShape 45"/>
                <p:cNvCxnSpPr>
                  <a:stCxn id="142" idx="2"/>
                  <a:endCxn id="143" idx="0"/>
                </p:cNvCxnSpPr>
                <p:nvPr/>
              </p:nvCxnSpPr>
              <p:spPr>
                <a:xfrm>
                  <a:off x="1441080" y="5486400"/>
                  <a:ext cx="275400" cy="319680"/>
                </a:xfrm>
                <a:prstGeom prst="straightConnector1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</p:cxnSp>
            <p:sp>
              <p:nvSpPr>
                <p:cNvPr id="146" name="Text Box 46"/>
                <p:cNvSpPr/>
                <p:nvPr/>
              </p:nvSpPr>
              <p:spPr>
                <a:xfrm>
                  <a:off x="1800000" y="6400800"/>
                  <a:ext cx="1500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MAX </a:t>
                  </a:r>
                  <a:r>
                    <a:rPr b="0" lang="sr-Latn-CS" sz="2400" spc="-1" strike="noStrike">
                      <a:solidFill>
                        <a:srgbClr val="ffffff"/>
                      </a:solidFill>
                      <a:latin typeface="Arial"/>
                    </a:rPr>
                    <a:t>gub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7" name="Group 47"/>
          <p:cNvGrpSpPr/>
          <p:nvPr/>
        </p:nvGrpSpPr>
        <p:grpSpPr>
          <a:xfrm>
            <a:off x="4849560" y="3048120"/>
            <a:ext cx="4292280" cy="2577960"/>
            <a:chOff x="4849560" y="3048120"/>
            <a:chExt cx="4292280" cy="2577960"/>
          </a:xfrm>
        </p:grpSpPr>
        <p:sp>
          <p:nvSpPr>
            <p:cNvPr id="148" name="Text Box 48"/>
            <p:cNvSpPr/>
            <p:nvPr/>
          </p:nvSpPr>
          <p:spPr>
            <a:xfrm>
              <a:off x="7417440" y="3048120"/>
              <a:ext cx="172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in pote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9" name="Group 49"/>
            <p:cNvGrpSpPr/>
            <p:nvPr/>
          </p:nvGrpSpPr>
          <p:grpSpPr>
            <a:xfrm>
              <a:off x="4849560" y="3570120"/>
              <a:ext cx="2174400" cy="2055960"/>
              <a:chOff x="4849560" y="3570120"/>
              <a:chExt cx="2174400" cy="2055960"/>
            </a:xfrm>
          </p:grpSpPr>
          <p:sp>
            <p:nvSpPr>
              <p:cNvPr id="150" name="Text Box 50"/>
              <p:cNvSpPr/>
              <p:nvPr/>
            </p:nvSpPr>
            <p:spPr>
              <a:xfrm>
                <a:off x="5456520" y="4281480"/>
                <a:ext cx="1567440" cy="520560"/>
              </a:xfrm>
              <a:prstGeom prst="rect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2, 2, 2, 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1" name="AutoShape 51"/>
              <p:cNvCxnSpPr>
                <a:stCxn id="113" idx="2"/>
                <a:endCxn id="150" idx="0"/>
              </p:cNvCxnSpPr>
              <p:nvPr/>
            </p:nvCxnSpPr>
            <p:spPr>
              <a:xfrm>
                <a:off x="4849560" y="3570120"/>
                <a:ext cx="1391040" cy="71208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</p:cxnSp>
          <p:sp>
            <p:nvSpPr>
              <p:cNvPr id="152" name="Text Box 52"/>
              <p:cNvSpPr/>
              <p:nvPr/>
            </p:nvSpPr>
            <p:spPr>
              <a:xfrm>
                <a:off x="5457600" y="4724280"/>
                <a:ext cx="1500480" cy="90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MAX </a:t>
                </a:r>
                <a:r>
                  <a:rPr b="0" lang="sr-Latn-CS" sz="2400" spc="-1" strike="noStrike">
                    <a:solidFill>
                      <a:srgbClr val="ffffff"/>
                    </a:solidFill>
                    <a:latin typeface="Arial"/>
                  </a:rPr>
                  <a:t>gub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53"/>
          <p:cNvGrpSpPr/>
          <p:nvPr/>
        </p:nvGrpSpPr>
        <p:grpSpPr>
          <a:xfrm>
            <a:off x="2865600" y="4662000"/>
            <a:ext cx="2094120" cy="1257480"/>
            <a:chOff x="2865600" y="4662000"/>
            <a:chExt cx="2094120" cy="1257480"/>
          </a:xfrm>
        </p:grpSpPr>
        <p:sp>
          <p:nvSpPr>
            <p:cNvPr id="154" name="Text Box 54"/>
            <p:cNvSpPr/>
            <p:nvPr/>
          </p:nvSpPr>
          <p:spPr>
            <a:xfrm>
              <a:off x="2865600" y="4967280"/>
              <a:ext cx="1963800" cy="520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, 2, 1, 1,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5" name="AutoShape 55"/>
            <p:cNvCxnSpPr>
              <a:stCxn id="130" idx="2"/>
              <a:endCxn id="154" idx="0"/>
            </p:cNvCxnSpPr>
            <p:nvPr/>
          </p:nvCxnSpPr>
          <p:spPr>
            <a:xfrm>
              <a:off x="3604680" y="4662000"/>
              <a:ext cx="243720" cy="30564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6" name="Text Box 56"/>
            <p:cNvSpPr/>
            <p:nvPr/>
          </p:nvSpPr>
          <p:spPr>
            <a:xfrm>
              <a:off x="3433320" y="5398920"/>
              <a:ext cx="152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in </a:t>
              </a:r>
              <a:r>
                <a:rPr b="0" lang="sr-Latn-CS" sz="2800" spc="-1" strike="noStrike">
                  <a:solidFill>
                    <a:srgbClr val="ffffff"/>
                  </a:solidFill>
                  <a:latin typeface="Arial"/>
                </a:rPr>
                <a:t>gub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Group 70"/>
          <p:cNvGrpSpPr/>
          <p:nvPr/>
        </p:nvGrpSpPr>
        <p:grpSpPr>
          <a:xfrm>
            <a:off x="2257200" y="1665000"/>
            <a:ext cx="3733920" cy="3302280"/>
            <a:chOff x="2257200" y="1665000"/>
            <a:chExt cx="3733920" cy="3302280"/>
          </a:xfrm>
        </p:grpSpPr>
        <p:grpSp>
          <p:nvGrpSpPr>
            <p:cNvPr id="158" name="Group 60"/>
            <p:cNvGrpSpPr/>
            <p:nvPr/>
          </p:nvGrpSpPr>
          <p:grpSpPr>
            <a:xfrm>
              <a:off x="2257200" y="1665000"/>
              <a:ext cx="3733920" cy="497520"/>
              <a:chOff x="2257200" y="1665000"/>
              <a:chExt cx="3733920" cy="497520"/>
            </a:xfrm>
          </p:grpSpPr>
          <p:cxnSp>
            <p:nvCxnSpPr>
              <p:cNvPr id="159" name="AutoShape 57"/>
              <p:cNvCxnSpPr>
                <a:stCxn id="103" idx="2"/>
                <a:endCxn id="106" idx="0"/>
              </p:cNvCxnSpPr>
              <p:nvPr/>
            </p:nvCxnSpPr>
            <p:spPr>
              <a:xfrm flipH="1">
                <a:off x="2257200" y="1665000"/>
                <a:ext cx="1753200" cy="471960"/>
              </a:xfrm>
              <a:prstGeom prst="straightConnector1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160" name="AutoShape 58"/>
              <p:cNvCxnSpPr>
                <a:stCxn id="103" idx="2"/>
                <a:endCxn id="107" idx="0"/>
              </p:cNvCxnSpPr>
              <p:nvPr/>
            </p:nvCxnSpPr>
            <p:spPr>
              <a:xfrm>
                <a:off x="4009680" y="1665000"/>
                <a:ext cx="1080" cy="471960"/>
              </a:xfrm>
              <a:prstGeom prst="straightConnector1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161" name="AutoShape 59"/>
              <p:cNvCxnSpPr>
                <a:stCxn id="103" idx="2"/>
                <a:endCxn id="108" idx="0"/>
              </p:cNvCxnSpPr>
              <p:nvPr/>
            </p:nvCxnSpPr>
            <p:spPr>
              <a:xfrm>
                <a:off x="4009680" y="1665360"/>
                <a:ext cx="1981800" cy="497520"/>
              </a:xfrm>
              <a:prstGeom prst="straightConnector1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2" name="Group 65"/>
            <p:cNvGrpSpPr/>
            <p:nvPr/>
          </p:nvGrpSpPr>
          <p:grpSpPr>
            <a:xfrm>
              <a:off x="2257200" y="2655360"/>
              <a:ext cx="3733920" cy="407160"/>
              <a:chOff x="2257200" y="2655360"/>
              <a:chExt cx="3733920" cy="407160"/>
            </a:xfrm>
          </p:grpSpPr>
          <p:cxnSp>
            <p:nvCxnSpPr>
              <p:cNvPr id="163" name="AutoShape 62"/>
              <p:cNvCxnSpPr>
                <a:stCxn id="106" idx="2"/>
                <a:endCxn id="115" idx="0"/>
              </p:cNvCxnSpPr>
              <p:nvPr/>
            </p:nvCxnSpPr>
            <p:spPr>
              <a:xfrm>
                <a:off x="2257200" y="2655360"/>
                <a:ext cx="1068480" cy="407160"/>
              </a:xfrm>
              <a:prstGeom prst="straightConnector1">
                <a:avLst/>
              </a:prstGeom>
              <a:ln w="76320">
                <a:solidFill>
                  <a:srgbClr val="660066"/>
                </a:solidFill>
                <a:miter/>
                <a:tailEnd len="med" type="triangle" w="med"/>
              </a:ln>
            </p:spPr>
          </p:cxnSp>
          <p:cxnSp>
            <p:nvCxnSpPr>
              <p:cNvPr id="164" name="AutoShape 63"/>
              <p:cNvCxnSpPr>
                <a:stCxn id="107" idx="2"/>
                <a:endCxn id="115" idx="0"/>
              </p:cNvCxnSpPr>
              <p:nvPr/>
            </p:nvCxnSpPr>
            <p:spPr>
              <a:xfrm flipH="1">
                <a:off x="3324960" y="2655360"/>
                <a:ext cx="685080" cy="407160"/>
              </a:xfrm>
              <a:prstGeom prst="straightConnector1">
                <a:avLst/>
              </a:prstGeom>
              <a:ln w="76320">
                <a:solidFill>
                  <a:srgbClr val="660066"/>
                </a:solidFill>
                <a:miter/>
                <a:tailEnd len="med" type="triangle" w="med"/>
              </a:ln>
            </p:spPr>
          </p:cxnSp>
          <p:cxnSp>
            <p:nvCxnSpPr>
              <p:cNvPr id="165" name="AutoShape 64"/>
              <p:cNvCxnSpPr>
                <a:stCxn id="108" idx="2"/>
                <a:endCxn id="115" idx="0"/>
              </p:cNvCxnSpPr>
              <p:nvPr/>
            </p:nvCxnSpPr>
            <p:spPr>
              <a:xfrm flipH="1">
                <a:off x="3325320" y="2681280"/>
                <a:ext cx="2666160" cy="381600"/>
              </a:xfrm>
              <a:prstGeom prst="straightConnector1">
                <a:avLst/>
              </a:prstGeom>
              <a:ln w="76320">
                <a:solidFill>
                  <a:srgbClr val="660066"/>
                </a:solidFill>
                <a:miter/>
                <a:tailEnd len="med" type="triangle" w="med"/>
              </a:ln>
            </p:spPr>
          </p:cxnSp>
        </p:grpSp>
        <p:cxnSp>
          <p:nvCxnSpPr>
            <p:cNvPr id="166" name="AutoShape 66"/>
            <p:cNvCxnSpPr>
              <a:stCxn id="115" idx="2"/>
              <a:endCxn id="130" idx="0"/>
            </p:cNvCxnSpPr>
            <p:nvPr/>
          </p:nvCxnSpPr>
          <p:spPr>
            <a:xfrm>
              <a:off x="3325680" y="3580920"/>
              <a:ext cx="280080" cy="562680"/>
            </a:xfrm>
            <a:prstGeom prst="straightConnector1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7" name="AutoShape 67"/>
            <p:cNvCxnSpPr>
              <a:stCxn id="130" idx="2"/>
              <a:endCxn id="154" idx="0"/>
            </p:cNvCxnSpPr>
            <p:nvPr/>
          </p:nvCxnSpPr>
          <p:spPr>
            <a:xfrm>
              <a:off x="3604680" y="4662000"/>
              <a:ext cx="243720" cy="305640"/>
            </a:xfrm>
            <a:prstGeom prst="straightConnector1">
              <a:avLst/>
            </a:prstGeom>
            <a:ln w="76320">
              <a:solidFill>
                <a:srgbClr val="660066"/>
              </a:solidFill>
              <a:miter/>
              <a:tailEnd len="med" type="triangle" w="med"/>
            </a:ln>
          </p:spPr>
        </p:cxnSp>
      </p:grpSp>
      <p:sp>
        <p:nvSpPr>
          <p:cNvPr id="168" name="Text Box 71"/>
          <p:cNvSpPr/>
          <p:nvPr/>
        </p:nvSpPr>
        <p:spPr>
          <a:xfrm>
            <a:off x="0" y="83808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Može li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Max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 razviti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trateg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iju tako da uvije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pobijedi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Kada postoji pobjedničk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ja z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ada j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o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tez,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bjedu mora biti moguće realizovati iz 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vih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rezultata potez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ada j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o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tez,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bjedu mora biti moguće realizovati 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z bar jednog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rezultata potez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5"/>
          <p:cNvSpPr/>
          <p:nvPr/>
        </p:nvSpPr>
        <p:spPr>
          <a:xfrm>
            <a:off x="609480" y="5105520"/>
            <a:ext cx="7772400" cy="1218960"/>
          </a:xfrm>
          <a:prstGeom prst="flowChartAlternateProcess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m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00"/>
                </a:solidFill>
                <a:latin typeface="Times New Roman"/>
              </a:rPr>
              <a:t>Početno stanje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tanje na tabli i čiji je red za pote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perator</a:t>
            </a:r>
            <a:r>
              <a:rPr b="1" lang="sr-Latn-CS" sz="24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egal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i potezi koje igrač može odigra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est</a:t>
            </a:r>
            <a:r>
              <a:rPr b="1" lang="sr-Latn-CS" sz="2400" spc="-1" strike="noStrike">
                <a:solidFill>
                  <a:srgbClr val="ff9900"/>
                </a:solidFill>
                <a:latin typeface="Times New Roman"/>
              </a:rPr>
              <a:t> završetka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 st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ja da se odredi da li je igra završe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s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up stanja koja zadovoljavaju test završetka su završna stanja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inal state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00"/>
                </a:solidFill>
                <a:latin typeface="Times New Roman"/>
              </a:rPr>
              <a:t>Funkcija korisnosti (u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tility function</a:t>
            </a:r>
            <a:r>
              <a:rPr b="1" lang="sr-Latn-C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er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ijednost za izlaz iz ig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isto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primjer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1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bje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-1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gubita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eriješen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primjer, broj bodov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scored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ackgammo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Pretpostavk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Protivnik će uvijek birati operat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potez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koji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k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miz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ira njegovu korisnost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tility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m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avrše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gra z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ist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ke igre sa savršeno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ij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ov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ja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i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u sa najvećo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ax v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ijednošću (najbolji dostižn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off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 odnosu na najbolju igru 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azmotri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gru za 2 igrač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želi najveći izla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-- Min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želi najmanj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029" descr=""/>
          <p:cNvPicPr/>
          <p:nvPr/>
        </p:nvPicPr>
        <p:blipFill>
          <a:blip r:embed="rId1"/>
          <a:srcRect l="11340" t="7448" r="30618" b="73277"/>
          <a:stretch/>
        </p:blipFill>
        <p:spPr>
          <a:xfrm>
            <a:off x="533520" y="3200400"/>
            <a:ext cx="80010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U ovoj lekcij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u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d</a:t>
            </a:r>
            <a:r>
              <a:rPr b="0" lang="sr-Latn-CS" sz="3600" spc="-1" strike="noStrike">
                <a:solidFill>
                  <a:srgbClr val="ffff00"/>
                </a:solidFill>
                <a:latin typeface="Times New Roman"/>
              </a:rPr>
              <a:t>žbeni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lajd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glavlje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Max fu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1226520"/>
            <a:ext cx="7925040" cy="518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MinMax-Decision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game)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return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an op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or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:= MinMax-Value(Apply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,g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highest Value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MinMax-Value(state,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game)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return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an utility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l-Test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ur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ty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se 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X’s tu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highest MinMax-Value of Successors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IN’s tur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ur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owest  MinMax-Value of Successors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762120" y="3352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5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Max algorit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teku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e stanj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ije pobjedničk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Gener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sati drvo za igru do nivoa 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od 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tekuće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mjeniti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ty fun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ju na list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Propag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vrijed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 svakog čvora 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re, u skladu s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Max princip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e do korij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abrati akciju sa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lnom vrijednošću u korijenu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minmax 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odluk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preći u sledeće stanj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tekuć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= Apply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p,g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Složenost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: O(b</a:t>
            </a:r>
            <a:r>
              <a:rPr b="0" i="1" lang="es-MX" sz="32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67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imax Algorit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33520" y="1309680"/>
            <a:ext cx="7696080" cy="448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unction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inimax-Decision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s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n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 :=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ax-Value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th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ction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 Successors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with valu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-----------------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unc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ax-Value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 utility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Terminal-Test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then retur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Utility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f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, 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ucces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do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Max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 Min-Val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nd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67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imax Algorit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533520" y="2224080"/>
            <a:ext cx="769608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unctio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Min-Value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 utility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Terminal-Test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then retur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Utility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+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f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, 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ucces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do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Min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 Max-Val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nd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5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Max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u praks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praksi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možemo ići sve do listov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eć koristimo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sirani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ook-ahead,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liko poteza unaprijed izračunavam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možemo znati koliko je korisan čvor na dubini m ako on nije li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cjenjujemo njegov kvalit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jegova stvarn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max v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rijed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nderisani prosjek različitih razmatranja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ed average of different considerations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Max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n ako j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 &lt;=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dubina rješenj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FS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a informacija protiče naviš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5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Max </a:t>
            </a:r>
            <a:r>
              <a:rPr b="0" lang="sr-Latn-ME" sz="4400" spc="-1" strike="noStrike">
                <a:solidFill>
                  <a:srgbClr val="ffff00"/>
                </a:solidFill>
                <a:latin typeface="Times New Roman"/>
              </a:rPr>
              <a:t>za više igrač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9" name="Picture 3" descr="Minmax.png"/>
          <p:cNvPicPr/>
          <p:nvPr/>
        </p:nvPicPr>
        <p:blipFill>
          <a:blip r:embed="rId1"/>
          <a:stretch/>
        </p:blipFill>
        <p:spPr>
          <a:xfrm>
            <a:off x="104760" y="1752480"/>
            <a:ext cx="8934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5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em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 sa 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Max-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blem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horizont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vor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že biti najbolji na nivou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li katastrofalan na nivou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pokretna (quiescent)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 sta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j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amo mala varijacija u vrijednosti funkcij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straživati stanja koja nisu nepokret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ansp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z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cije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uvati prethodne pozicije u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hash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tabeli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Max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za 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ic-Tac-To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a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val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 igrač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beskonač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ko j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bjedničko stanje z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(Ma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beskonač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ko j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bjedničko stanje za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(M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# of 3-moves for A)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(# of 3-moves for B)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3-move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e otvoren red, kolona ili dijagon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2200320" y="403848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981160" y="4038480"/>
            <a:ext cx="0" cy="20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1371600" y="4702320"/>
            <a:ext cx="234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1371600" y="541332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2438280" y="4876920"/>
            <a:ext cx="292320" cy="33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438280" y="4876920"/>
            <a:ext cx="292320" cy="33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2438280" y="4267080"/>
            <a:ext cx="292320" cy="2858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419720" y="4249080"/>
            <a:ext cx="2895480" cy="10756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je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9900"/>
                </a:solidFill>
                <a:latin typeface="Times New Roman"/>
              </a:rPr>
              <a:t>Eval(</a:t>
            </a:r>
            <a:r>
              <a:rPr b="0" i="1" lang="es-MX" sz="2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0" lang="es-MX" sz="2800" spc="-1" strike="noStrike">
                <a:solidFill>
                  <a:srgbClr val="ff9900"/>
                </a:solidFill>
                <a:latin typeface="Times New Roman"/>
              </a:rPr>
              <a:t>) = 6 -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omic Sans MS"/>
              </a:rPr>
              <a:t>Example: Tic-tac-To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447920" y="1523880"/>
            <a:ext cx="609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(s) =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mber of rows, columns,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diagonals open for MA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mber of rows, columns,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diagonals open for M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52480" y="4038120"/>
            <a:ext cx="5904360" cy="1553400"/>
            <a:chOff x="1752480" y="4038120"/>
            <a:chExt cx="5904360" cy="1553400"/>
          </a:xfrm>
        </p:grpSpPr>
        <p:grpSp>
          <p:nvGrpSpPr>
            <p:cNvPr id="205" name="Group 5"/>
            <p:cNvGrpSpPr/>
            <p:nvPr/>
          </p:nvGrpSpPr>
          <p:grpSpPr>
            <a:xfrm>
              <a:off x="1752480" y="4038480"/>
              <a:ext cx="914400" cy="914400"/>
              <a:chOff x="1752480" y="4038480"/>
              <a:chExt cx="914400" cy="914400"/>
            </a:xfrm>
          </p:grpSpPr>
          <p:sp>
            <p:nvSpPr>
              <p:cNvPr id="206" name="Rectangle 6"/>
              <p:cNvSpPr/>
              <p:nvPr/>
            </p:nvSpPr>
            <p:spPr>
              <a:xfrm>
                <a:off x="175248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7"/>
              <p:cNvSpPr/>
              <p:nvPr/>
            </p:nvSpPr>
            <p:spPr>
              <a:xfrm>
                <a:off x="2057040" y="403848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2361960" y="403848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9"/>
              <p:cNvSpPr/>
              <p:nvPr/>
            </p:nvSpPr>
            <p:spPr>
              <a:xfrm>
                <a:off x="1752480" y="434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10"/>
              <p:cNvSpPr/>
              <p:nvPr/>
            </p:nvSpPr>
            <p:spPr>
              <a:xfrm>
                <a:off x="1752480" y="464796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11"/>
            <p:cNvGrpSpPr/>
            <p:nvPr/>
          </p:nvGrpSpPr>
          <p:grpSpPr>
            <a:xfrm>
              <a:off x="6629400" y="4038480"/>
              <a:ext cx="914400" cy="914400"/>
              <a:chOff x="6629400" y="4038480"/>
              <a:chExt cx="914400" cy="914400"/>
            </a:xfrm>
          </p:grpSpPr>
          <p:sp>
            <p:nvSpPr>
              <p:cNvPr id="212" name="Rectangle 12"/>
              <p:cNvSpPr/>
              <p:nvPr/>
            </p:nvSpPr>
            <p:spPr>
              <a:xfrm>
                <a:off x="662940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Line 13"/>
              <p:cNvSpPr/>
              <p:nvPr/>
            </p:nvSpPr>
            <p:spPr>
              <a:xfrm>
                <a:off x="6933960" y="403848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Line 14"/>
              <p:cNvSpPr/>
              <p:nvPr/>
            </p:nvSpPr>
            <p:spPr>
              <a:xfrm>
                <a:off x="7238880" y="403848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15"/>
              <p:cNvSpPr/>
              <p:nvPr/>
            </p:nvSpPr>
            <p:spPr>
              <a:xfrm>
                <a:off x="6629400" y="434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16"/>
              <p:cNvSpPr/>
              <p:nvPr/>
            </p:nvSpPr>
            <p:spPr>
              <a:xfrm>
                <a:off x="6629400" y="464796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7"/>
            <p:cNvGrpSpPr/>
            <p:nvPr/>
          </p:nvGrpSpPr>
          <p:grpSpPr>
            <a:xfrm>
              <a:off x="4191120" y="4038480"/>
              <a:ext cx="914400" cy="914400"/>
              <a:chOff x="4191120" y="4038480"/>
              <a:chExt cx="914400" cy="914400"/>
            </a:xfrm>
          </p:grpSpPr>
          <p:sp>
            <p:nvSpPr>
              <p:cNvPr id="218" name="Rectangle 18"/>
              <p:cNvSpPr/>
              <p:nvPr/>
            </p:nvSpPr>
            <p:spPr>
              <a:xfrm>
                <a:off x="419112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19"/>
              <p:cNvSpPr/>
              <p:nvPr/>
            </p:nvSpPr>
            <p:spPr>
              <a:xfrm>
                <a:off x="4495680" y="403848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Line 20"/>
              <p:cNvSpPr/>
              <p:nvPr/>
            </p:nvSpPr>
            <p:spPr>
              <a:xfrm>
                <a:off x="4800600" y="403848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21"/>
              <p:cNvSpPr/>
              <p:nvPr/>
            </p:nvSpPr>
            <p:spPr>
              <a:xfrm>
                <a:off x="4191120" y="434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22"/>
              <p:cNvSpPr/>
              <p:nvPr/>
            </p:nvSpPr>
            <p:spPr>
              <a:xfrm>
                <a:off x="4191120" y="464796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23"/>
            <p:cNvSpPr/>
            <p:nvPr/>
          </p:nvSpPr>
          <p:spPr>
            <a:xfrm>
              <a:off x="1797840" y="519264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8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8 =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Text Box 24"/>
            <p:cNvSpPr/>
            <p:nvPr/>
          </p:nvSpPr>
          <p:spPr>
            <a:xfrm>
              <a:off x="4236480" y="519264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4 =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6674760" y="511632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3 =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Oval 26"/>
            <p:cNvSpPr/>
            <p:nvPr/>
          </p:nvSpPr>
          <p:spPr>
            <a:xfrm>
              <a:off x="6934320" y="4038480"/>
              <a:ext cx="304560" cy="30492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27"/>
            <p:cNvSpPr/>
            <p:nvPr/>
          </p:nvSpPr>
          <p:spPr>
            <a:xfrm>
              <a:off x="7238880" y="403848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28"/>
            <p:cNvSpPr/>
            <p:nvPr/>
          </p:nvSpPr>
          <p:spPr>
            <a:xfrm flipV="1">
              <a:off x="7238880" y="403812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Oval 29"/>
            <p:cNvSpPr/>
            <p:nvPr/>
          </p:nvSpPr>
          <p:spPr>
            <a:xfrm>
              <a:off x="6934320" y="4343400"/>
              <a:ext cx="304560" cy="30456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30"/>
            <p:cNvSpPr/>
            <p:nvPr/>
          </p:nvSpPr>
          <p:spPr>
            <a:xfrm>
              <a:off x="6629400" y="403848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31"/>
            <p:cNvSpPr/>
            <p:nvPr/>
          </p:nvSpPr>
          <p:spPr>
            <a:xfrm flipV="1">
              <a:off x="6629400" y="403812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Oval 32"/>
            <p:cNvSpPr/>
            <p:nvPr/>
          </p:nvSpPr>
          <p:spPr>
            <a:xfrm>
              <a:off x="4800600" y="4343400"/>
              <a:ext cx="304920" cy="30456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33"/>
            <p:cNvSpPr/>
            <p:nvPr/>
          </p:nvSpPr>
          <p:spPr>
            <a:xfrm>
              <a:off x="4495680" y="4343400"/>
              <a:ext cx="3049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34"/>
            <p:cNvSpPr/>
            <p:nvPr/>
          </p:nvSpPr>
          <p:spPr>
            <a:xfrm flipV="1">
              <a:off x="4495680" y="4343400"/>
              <a:ext cx="3049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ic-Tac-Toe MinMax search, </a:t>
            </a:r>
            <a:r>
              <a:rPr b="0" i="1" lang="es-MX" sz="4400" spc="-1" strike="noStrike">
                <a:solidFill>
                  <a:srgbClr val="ffff00"/>
                </a:solidFill>
                <a:latin typeface="Times New Roman"/>
              </a:rPr>
              <a:t>d=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6" name="Picture 3" descr="tictac1"/>
          <p:cNvPicPr/>
          <p:nvPr/>
        </p:nvPicPr>
        <p:blipFill>
          <a:blip r:embed="rId1"/>
          <a:stretch/>
        </p:blipFill>
        <p:spPr>
          <a:xfrm>
            <a:off x="380880" y="1203480"/>
            <a:ext cx="838224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Checkers (droughts) ili da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Picture 4" descr="Chekckers"/>
          <p:cNvPicPr/>
          <p:nvPr/>
        </p:nvPicPr>
        <p:blipFill>
          <a:blip r:embed="rId1"/>
          <a:stretch/>
        </p:blipFill>
        <p:spPr>
          <a:xfrm>
            <a:off x="2590920" y="2209680"/>
            <a:ext cx="319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ic-Tac-Toe MinMax search, </a:t>
            </a:r>
            <a:r>
              <a:rPr b="0" i="1" lang="es-MX" sz="4400" spc="-1" strike="noStrike">
                <a:solidFill>
                  <a:srgbClr val="ffff00"/>
                </a:solidFill>
                <a:latin typeface="Times New Roman"/>
              </a:rPr>
              <a:t>d=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8" name="Picture 3" descr="tictac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04920" y="1219320"/>
            <a:ext cx="8610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Svojstv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Minimax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algorit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omplet</a:t>
            </a: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nost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Optimal</a:t>
            </a: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nost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Vrijeme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Prostor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733920" y="1371600"/>
            <a:ext cx="51814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je drvo konač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odnosu n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og protivn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suprotn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b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b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228600" y="4495680"/>
            <a:ext cx="8839080" cy="192024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pome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ša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5,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0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zumnu part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ješenje je potpuno neizvodljivo (infea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tvari, samo (!!!!!) j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a a 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Ograničenja resur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etpostavimo da imam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s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und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stražujem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sr-Latn-C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ova u sekun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ova po potez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 mov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ist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Test odrezivanja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utoff test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primj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graničenje dubine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th limit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on func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ocje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željnosti pozi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pro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ija korisnosti up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bljene ko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ax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aluation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a ša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pičn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near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na ponderi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su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ed sum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arakteris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(s)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) +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) + ... +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primjer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9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) =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ijelih kralj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-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rnih kralj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) =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ijelih topo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-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rnih topo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9071" t="5256" r="70306" b="76562"/>
          <a:stretch/>
        </p:blipFill>
        <p:spPr>
          <a:xfrm>
            <a:off x="5715000" y="990720"/>
            <a:ext cx="3273480" cy="373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gres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j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tačne vrijednosti nisu važ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457200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našanje je sačuvano ako primjenimo bilo koju monotonu transformaciju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amo je redosled važ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rada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off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terminist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ki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garama ponaša se ka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dinal ut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u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rcRect l="25123" t="5258" r="10986" b="76342"/>
          <a:stretch/>
        </p:blipFill>
        <p:spPr>
          <a:xfrm>
            <a:off x="1295280" y="1306440"/>
            <a:ext cx="7696440" cy="28670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231120" y="1523880"/>
            <a:ext cx="948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Odrezivanj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Zamjen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axVal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axCutoff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axCutoff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dent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an s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axVal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s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inal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e zamijenjen s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toff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t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e zamijen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s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adi li to u praks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=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m=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4 poteza unaprijed je nivo početni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poteza - početni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poteza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a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js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poteza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ep Blue, Kaspar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Sledeća ide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drezivanje (pru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snov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d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da se zaustavi traženje naniže duž onih grana drveta za koje je određeno da su ćorsokak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ad end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podrezivanj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dostatak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inMax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a je što mora proširivati svaki čvor u poddrvetu do dubine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ože li se donijeti ispravna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Max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luka bez posmatranja svakog čvor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Želimo da podrežemo (prune) drvo: zaustavljamo  istraživanje poddrveta čija vrijednost nema uticaja na konačnu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Max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luku korij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apažanje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i čvorovi čija je vrijednost već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anj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 tekućeg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inimum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(m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um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moraju se istraživati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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uning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4114800" y="163836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4574880" y="1625760"/>
            <a:ext cx="7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utoShape 5"/>
          <p:cNvSpPr/>
          <p:nvPr/>
        </p:nvSpPr>
        <p:spPr>
          <a:xfrm flipV="1">
            <a:off x="1752480" y="3352680"/>
            <a:ext cx="609840" cy="533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2880" y="1676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6228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457200" y="495288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10"/>
          <p:cNvSpPr/>
          <p:nvPr/>
        </p:nvSpPr>
        <p:spPr>
          <a:xfrm>
            <a:off x="1523880" y="4952880"/>
            <a:ext cx="609840" cy="533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utoShape 11"/>
          <p:cNvSpPr/>
          <p:nvPr/>
        </p:nvSpPr>
        <p:spPr>
          <a:xfrm>
            <a:off x="2514600" y="495288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7" name="AutoShape 12"/>
          <p:cNvCxnSpPr>
            <a:stCxn id="259" idx="3"/>
            <a:endCxn id="261" idx="3"/>
          </p:cNvCxnSpPr>
          <p:nvPr/>
        </p:nvCxnSpPr>
        <p:spPr>
          <a:xfrm flipH="1">
            <a:off x="2055600" y="2190240"/>
            <a:ext cx="2364480" cy="114372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268" name="AutoShape 13"/>
          <p:cNvCxnSpPr>
            <a:stCxn id="261" idx="0"/>
            <a:endCxn id="264" idx="0"/>
          </p:cNvCxnSpPr>
          <p:nvPr/>
        </p:nvCxnSpPr>
        <p:spPr>
          <a:xfrm flipH="1">
            <a:off x="761760" y="3904920"/>
            <a:ext cx="1294560" cy="102888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269" name="AutoShape 15"/>
          <p:cNvCxnSpPr>
            <a:stCxn id="261" idx="0"/>
            <a:endCxn id="265" idx="0"/>
          </p:cNvCxnSpPr>
          <p:nvPr/>
        </p:nvCxnSpPr>
        <p:spPr>
          <a:xfrm flipH="1">
            <a:off x="1828080" y="3904920"/>
            <a:ext cx="227880" cy="102888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270" name="AutoShape 16"/>
          <p:cNvCxnSpPr>
            <a:stCxn id="261" idx="0"/>
            <a:endCxn id="266" idx="0"/>
          </p:cNvCxnSpPr>
          <p:nvPr/>
        </p:nvCxnSpPr>
        <p:spPr>
          <a:xfrm>
            <a:off x="2055600" y="3904920"/>
            <a:ext cx="764280" cy="102888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sp>
        <p:nvSpPr>
          <p:cNvPr id="271" name="Text Box 18"/>
          <p:cNvSpPr/>
          <p:nvPr/>
        </p:nvSpPr>
        <p:spPr>
          <a:xfrm>
            <a:off x="2223000" y="3265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5320" y="548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1554480" y="54752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2630880" y="5475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Group 34"/>
          <p:cNvGrpSpPr/>
          <p:nvPr/>
        </p:nvGrpSpPr>
        <p:grpSpPr>
          <a:xfrm>
            <a:off x="3657600" y="2190240"/>
            <a:ext cx="2087280" cy="3881880"/>
            <a:chOff x="3657600" y="2190240"/>
            <a:chExt cx="2087280" cy="3881880"/>
          </a:xfrm>
        </p:grpSpPr>
        <p:sp>
          <p:nvSpPr>
            <p:cNvPr id="276" name="AutoShape 22"/>
            <p:cNvSpPr/>
            <p:nvPr/>
          </p:nvSpPr>
          <p:spPr>
            <a:xfrm flipV="1">
              <a:off x="4114800" y="3429000"/>
              <a:ext cx="609480" cy="533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AutoShape 24"/>
            <p:cNvSpPr/>
            <p:nvPr/>
          </p:nvSpPr>
          <p:spPr>
            <a:xfrm>
              <a:off x="3657600" y="4952880"/>
              <a:ext cx="609480" cy="533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Text Box 25"/>
            <p:cNvSpPr/>
            <p:nvPr/>
          </p:nvSpPr>
          <p:spPr>
            <a:xfrm>
              <a:off x="3735720" y="5551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Text Box 26"/>
            <p:cNvSpPr/>
            <p:nvPr/>
          </p:nvSpPr>
          <p:spPr>
            <a:xfrm>
              <a:off x="4649760" y="49528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Text Box 28"/>
            <p:cNvSpPr/>
            <p:nvPr/>
          </p:nvSpPr>
          <p:spPr>
            <a:xfrm>
              <a:off x="5259240" y="49528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81" name="AutoShape 29"/>
            <p:cNvCxnSpPr>
              <a:stCxn id="276" idx="0"/>
              <a:endCxn id="277" idx="0"/>
            </p:cNvCxnSpPr>
            <p:nvPr/>
          </p:nvCxnSpPr>
          <p:spPr>
            <a:xfrm flipH="1">
              <a:off x="3961800" y="3981240"/>
              <a:ext cx="456120" cy="95292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cxnSp>
          <p:nvCxnSpPr>
            <p:cNvPr id="282" name="AutoShape 30"/>
            <p:cNvCxnSpPr>
              <a:stCxn id="276" idx="0"/>
              <a:endCxn id="279" idx="0"/>
            </p:cNvCxnSpPr>
            <p:nvPr/>
          </p:nvCxnSpPr>
          <p:spPr>
            <a:xfrm>
              <a:off x="4417560" y="3981600"/>
              <a:ext cx="475560" cy="972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cxnSp>
          <p:nvCxnSpPr>
            <p:cNvPr id="283" name="AutoShape 31"/>
            <p:cNvCxnSpPr>
              <a:stCxn id="276" idx="0"/>
              <a:endCxn id="280" idx="0"/>
            </p:cNvCxnSpPr>
            <p:nvPr/>
          </p:nvCxnSpPr>
          <p:spPr>
            <a:xfrm>
              <a:off x="4417920" y="3981600"/>
              <a:ext cx="1085040" cy="972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sp>
          <p:nvSpPr>
            <p:cNvPr id="284" name="Text Box 32"/>
            <p:cNvSpPr/>
            <p:nvPr/>
          </p:nvSpPr>
          <p:spPr>
            <a:xfrm>
              <a:off x="4574880" y="3260880"/>
              <a:ext cx="75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85" name="AutoShape 33"/>
            <p:cNvCxnSpPr>
              <a:stCxn id="259" idx="3"/>
              <a:endCxn id="276" idx="3"/>
            </p:cNvCxnSpPr>
            <p:nvPr/>
          </p:nvCxnSpPr>
          <p:spPr>
            <a:xfrm flipH="1">
              <a:off x="4417200" y="2190240"/>
              <a:ext cx="2520" cy="122004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</p:grpSp>
      <p:grpSp>
        <p:nvGrpSpPr>
          <p:cNvPr id="286" name="Group 46"/>
          <p:cNvGrpSpPr/>
          <p:nvPr/>
        </p:nvGrpSpPr>
        <p:grpSpPr>
          <a:xfrm>
            <a:off x="4419720" y="2190240"/>
            <a:ext cx="4156560" cy="3729240"/>
            <a:chOff x="4419720" y="2190240"/>
            <a:chExt cx="4156560" cy="3729240"/>
          </a:xfrm>
        </p:grpSpPr>
        <p:sp>
          <p:nvSpPr>
            <p:cNvPr id="287" name="AutoShape 23"/>
            <p:cNvSpPr/>
            <p:nvPr/>
          </p:nvSpPr>
          <p:spPr>
            <a:xfrm flipV="1">
              <a:off x="7086600" y="3504600"/>
              <a:ext cx="609480" cy="533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AutoShape 35"/>
            <p:cNvSpPr/>
            <p:nvPr/>
          </p:nvSpPr>
          <p:spPr>
            <a:xfrm>
              <a:off x="6400800" y="4876920"/>
              <a:ext cx="609480" cy="5331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38"/>
            <p:cNvSpPr/>
            <p:nvPr/>
          </p:nvSpPr>
          <p:spPr>
            <a:xfrm>
              <a:off x="6418440" y="53989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90" name="AutoShape 41"/>
            <p:cNvCxnSpPr>
              <a:stCxn id="287" idx="0"/>
              <a:endCxn id="288" idx="0"/>
            </p:cNvCxnSpPr>
            <p:nvPr/>
          </p:nvCxnSpPr>
          <p:spPr>
            <a:xfrm flipH="1">
              <a:off x="6705360" y="4057200"/>
              <a:ext cx="684720" cy="801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cxnSp>
          <p:nvCxnSpPr>
            <p:cNvPr id="291" name="AutoShape 44"/>
            <p:cNvCxnSpPr>
              <a:stCxn id="259" idx="3"/>
              <a:endCxn id="287" idx="3"/>
            </p:cNvCxnSpPr>
            <p:nvPr/>
          </p:nvCxnSpPr>
          <p:spPr>
            <a:xfrm>
              <a:off x="4419720" y="2190240"/>
              <a:ext cx="2970720" cy="129636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sp>
          <p:nvSpPr>
            <p:cNvPr id="292" name="Text Box 45"/>
            <p:cNvSpPr/>
            <p:nvPr/>
          </p:nvSpPr>
          <p:spPr>
            <a:xfrm>
              <a:off x="7618320" y="3429000"/>
              <a:ext cx="95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53"/>
          <p:cNvGrpSpPr/>
          <p:nvPr/>
        </p:nvGrpSpPr>
        <p:grpSpPr>
          <a:xfrm>
            <a:off x="7315200" y="3352320"/>
            <a:ext cx="1870560" cy="2578320"/>
            <a:chOff x="7315200" y="3352320"/>
            <a:chExt cx="1870560" cy="2578320"/>
          </a:xfrm>
        </p:grpSpPr>
        <p:sp>
          <p:nvSpPr>
            <p:cNvPr id="294" name="AutoShape 36"/>
            <p:cNvSpPr/>
            <p:nvPr/>
          </p:nvSpPr>
          <p:spPr>
            <a:xfrm>
              <a:off x="7315200" y="4876920"/>
              <a:ext cx="609480" cy="5331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Text Box 39"/>
            <p:cNvSpPr/>
            <p:nvPr/>
          </p:nvSpPr>
          <p:spPr>
            <a:xfrm>
              <a:off x="7431480" y="5410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96" name="AutoShape 42"/>
            <p:cNvCxnSpPr>
              <a:stCxn id="287" idx="0"/>
              <a:endCxn id="294" idx="0"/>
            </p:cNvCxnSpPr>
            <p:nvPr/>
          </p:nvCxnSpPr>
          <p:spPr>
            <a:xfrm>
              <a:off x="7389720" y="4057200"/>
              <a:ext cx="231120" cy="801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sp>
          <p:nvSpPr>
            <p:cNvPr id="297" name="Text Box 47"/>
            <p:cNvSpPr/>
            <p:nvPr/>
          </p:nvSpPr>
          <p:spPr>
            <a:xfrm>
              <a:off x="8426160" y="3429000"/>
              <a:ext cx="75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48"/>
            <p:cNvSpPr/>
            <p:nvPr/>
          </p:nvSpPr>
          <p:spPr>
            <a:xfrm>
              <a:off x="7772400" y="335268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49"/>
            <p:cNvSpPr/>
            <p:nvPr/>
          </p:nvSpPr>
          <p:spPr>
            <a:xfrm flipV="1">
              <a:off x="7772400" y="335232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Group 59"/>
          <p:cNvGrpSpPr/>
          <p:nvPr/>
        </p:nvGrpSpPr>
        <p:grpSpPr>
          <a:xfrm>
            <a:off x="7389360" y="2666880"/>
            <a:ext cx="1678320" cy="3252600"/>
            <a:chOff x="7389360" y="2666880"/>
            <a:chExt cx="1678320" cy="3252600"/>
          </a:xfrm>
        </p:grpSpPr>
        <p:sp>
          <p:nvSpPr>
            <p:cNvPr id="301" name="AutoShape 37"/>
            <p:cNvSpPr/>
            <p:nvPr/>
          </p:nvSpPr>
          <p:spPr>
            <a:xfrm>
              <a:off x="8305920" y="4876920"/>
              <a:ext cx="609480" cy="5331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Text Box 40"/>
            <p:cNvSpPr/>
            <p:nvPr/>
          </p:nvSpPr>
          <p:spPr>
            <a:xfrm>
              <a:off x="8345880" y="5398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03" name="AutoShape 43"/>
            <p:cNvCxnSpPr>
              <a:stCxn id="287" idx="0"/>
              <a:endCxn id="301" idx="0"/>
            </p:cNvCxnSpPr>
            <p:nvPr/>
          </p:nvCxnSpPr>
          <p:spPr>
            <a:xfrm>
              <a:off x="7389360" y="4057200"/>
              <a:ext cx="1221480" cy="801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grpSp>
          <p:nvGrpSpPr>
            <p:cNvPr id="304" name="Group 54"/>
            <p:cNvGrpSpPr/>
            <p:nvPr/>
          </p:nvGrpSpPr>
          <p:grpSpPr>
            <a:xfrm>
              <a:off x="8381880" y="3352320"/>
              <a:ext cx="685800" cy="686160"/>
              <a:chOff x="8381880" y="3352320"/>
              <a:chExt cx="685800" cy="686160"/>
            </a:xfrm>
          </p:grpSpPr>
          <p:sp>
            <p:nvSpPr>
              <p:cNvPr id="305" name="Line 51"/>
              <p:cNvSpPr/>
              <p:nvPr/>
            </p:nvSpPr>
            <p:spPr>
              <a:xfrm>
                <a:off x="8381880" y="3352680"/>
                <a:ext cx="68580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Line 52"/>
              <p:cNvSpPr/>
              <p:nvPr/>
            </p:nvSpPr>
            <p:spPr>
              <a:xfrm flipV="1">
                <a:off x="8381880" y="3352320"/>
                <a:ext cx="68580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7" name="Text Box 55"/>
            <p:cNvSpPr/>
            <p:nvPr/>
          </p:nvSpPr>
          <p:spPr>
            <a:xfrm>
              <a:off x="7807680" y="266688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Group 60"/>
          <p:cNvGrpSpPr/>
          <p:nvPr/>
        </p:nvGrpSpPr>
        <p:grpSpPr>
          <a:xfrm>
            <a:off x="4648320" y="1561680"/>
            <a:ext cx="1288800" cy="686160"/>
            <a:chOff x="4648320" y="1561680"/>
            <a:chExt cx="1288800" cy="686160"/>
          </a:xfrm>
        </p:grpSpPr>
        <p:sp>
          <p:nvSpPr>
            <p:cNvPr id="309" name="Line 56"/>
            <p:cNvSpPr/>
            <p:nvPr/>
          </p:nvSpPr>
          <p:spPr>
            <a:xfrm>
              <a:off x="4648320" y="156204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57"/>
            <p:cNvSpPr/>
            <p:nvPr/>
          </p:nvSpPr>
          <p:spPr>
            <a:xfrm flipV="1">
              <a:off x="4648320" y="156168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Text Box 58"/>
            <p:cNvSpPr/>
            <p:nvPr/>
          </p:nvSpPr>
          <p:spPr>
            <a:xfrm>
              <a:off x="5293080" y="16146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Kako podrezati drvo traženj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rcRect l="8204" t="755" r="51276" b="62124"/>
          <a:stretch/>
        </p:blipFill>
        <p:spPr>
          <a:xfrm>
            <a:off x="4800600" y="1447920"/>
            <a:ext cx="4114800" cy="4876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304920" y="1523880"/>
            <a:ext cx="44575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najbolja vrijednost z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pronađena do sa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da poddrvo koje sadrž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maće korisnost ne veću o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drezati tu gra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može bit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isano slično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z perspektiv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Othello (ili reversi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Picture 4" descr="OT1"/>
          <p:cNvPicPr/>
          <p:nvPr/>
        </p:nvPicPr>
        <p:blipFill>
          <a:blip r:embed="rId1"/>
          <a:stretch/>
        </p:blipFill>
        <p:spPr>
          <a:xfrm>
            <a:off x="152280" y="1981080"/>
            <a:ext cx="2086200" cy="2324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Ot2"/>
          <p:cNvPicPr/>
          <p:nvPr/>
        </p:nvPicPr>
        <p:blipFill>
          <a:blip r:embed="rId2"/>
          <a:stretch/>
        </p:blipFill>
        <p:spPr>
          <a:xfrm>
            <a:off x="1752480" y="4114800"/>
            <a:ext cx="2076480" cy="230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Ot3"/>
          <p:cNvPicPr/>
          <p:nvPr/>
        </p:nvPicPr>
        <p:blipFill>
          <a:blip r:embed="rId3"/>
          <a:stretch/>
        </p:blipFill>
        <p:spPr>
          <a:xfrm>
            <a:off x="3048120" y="1981080"/>
            <a:ext cx="2057400" cy="23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Ot4"/>
          <p:cNvPicPr/>
          <p:nvPr/>
        </p:nvPicPr>
        <p:blipFill>
          <a:blip r:embed="rId4"/>
          <a:stretch/>
        </p:blipFill>
        <p:spPr>
          <a:xfrm>
            <a:off x="4648320" y="4038480"/>
            <a:ext cx="2076480" cy="23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Ot5"/>
          <p:cNvPicPr/>
          <p:nvPr/>
        </p:nvPicPr>
        <p:blipFill>
          <a:blip r:embed="rId5"/>
          <a:stretch/>
        </p:blipFill>
        <p:spPr>
          <a:xfrm>
            <a:off x="6553080" y="1905120"/>
            <a:ext cx="20671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search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pravi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uvamo informaciju o dvije vrijednosti i mijenjamo 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lph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vrijednost najboljeg izbora za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AXIMIZ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bet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vrijednost najboljeg izbora za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INIMI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avil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proširivati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aximizer (minimizer)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vor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je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beta  &lt;=  value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(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value &lt;= alph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najgorem slučaju, nema završetka (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t-off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, pa je složenost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O(b</a:t>
            </a:r>
            <a:r>
              <a:rPr b="0" i="1" lang="es-MX" sz="28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)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praksi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O(b</a:t>
            </a:r>
            <a:r>
              <a:rPr b="0" i="1" lang="es-MX" sz="2800" spc="-1" strike="noStrike" baseline="30000">
                <a:solidFill>
                  <a:srgbClr val="ffffff"/>
                </a:solidFill>
                <a:latin typeface="Times New Roman"/>
              </a:rPr>
              <a:t>d/2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sa faktorom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grananja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mjes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67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609480" y="1050480"/>
            <a:ext cx="7696440" cy="52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unction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lpha-Beta-Search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retur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n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ax-Value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-infty, +infty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the action 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Successors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with valu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-----------------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unctio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 (Hebrew)"/>
              </a:rPr>
              <a:t>Max-Valu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gam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alpha,be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inmax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alue of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Cutoff-Test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then retur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val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f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, 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ucces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do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Max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 Min-Val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, game, alpha, be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 &gt;= be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then 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lpha :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ax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lpha, 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nd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4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67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609480" y="1781640"/>
            <a:ext cx="769644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unctio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 (Hebrew)"/>
              </a:rPr>
              <a:t>Min-Valu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gam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alpha,be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inmax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alue of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Cutoff-Test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then retur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val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+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f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, 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ucces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do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Min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 Max-Val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, game, alpha, be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 &lt;= alph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then 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beta :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in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beta, 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nd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prunning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u 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ic-Tac-To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4" name="Picture 3" descr="tictac-minmax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tictac-minmax"/>
          <p:cNvPicPr/>
          <p:nvPr/>
        </p:nvPicPr>
        <p:blipFill>
          <a:blip r:embed="rId1"/>
          <a:srcRect l="0" t="33046" r="36462" b="0"/>
          <a:stretch/>
        </p:blipFill>
        <p:spPr>
          <a:xfrm>
            <a:off x="533520" y="457200"/>
            <a:ext cx="8001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91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9116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96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84836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Ša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Picture 4" descr="Chess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3888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9644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964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Rectangle 1027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1028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1029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1030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Rectangle 1031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1032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Rectangle 1033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1034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1035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1036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1037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1038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Rectangle 1039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1040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1041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1042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1043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1044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Rectangle 1045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1046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1047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104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04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Rectangle 105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1051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1052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1053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054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1055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1056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057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058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1059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1060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1061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1062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1063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1064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1065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066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067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1068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1069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070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071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1072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Rectangle 1073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Rectangle 1074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1075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1076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1077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1078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1079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Rectangle 1080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1081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Line 1082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1083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108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Line 108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Line 1086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Line 1087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Line 1088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Line 1089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Line 1090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1091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Line 1092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Line 1093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Line 1094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Line 1095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Line 1096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Line 1097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Line 1098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Line 1099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Line 1100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1101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Line 1102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Line 1103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Line 1104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1105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1106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Line 1107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Line 1108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Line 1109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Line 1110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Line 1111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Line 1112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Line 1113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Line 1114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Line 1115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116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Line 1117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Line 1118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Line 1119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Line 1120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Line 1121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Line 1122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Line 1123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Line 1124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1125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Line 1126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1127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1128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1129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Rectangle 1130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1131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Line 1132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Line 1133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Line 1134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1135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Line 1136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1137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1138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1139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1140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1141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1142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Line 1143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1144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1145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1146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1147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1148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1149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1150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1151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1152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1153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1154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1155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1156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1157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1158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1159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1160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1161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1162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163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1164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1165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1166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Text Box 1167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Text Box 1168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116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146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Text Box 146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Text Box 147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Rectangle 1027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Rectangle 1028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Rectangle 1029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Rectangle 1030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Rectangle 1031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Rectangle 1032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Rectangle 1033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Rectangle 1034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Rectangle 1035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Rectangle 1036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Rectangle 1037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Rectangle 1038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Rectangle 1039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Rectangle 1040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Rectangle 1041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Rectangle 1042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Rectangle 1043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1044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Rectangle 1045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Rectangle 1046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Rectangle 1047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Rectangle 104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Rectangle 104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Rectangle 105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Rectangle 1051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Rectangle 1052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Rectangle 1053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Rectangle 1054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Rectangle 1055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Rectangle 1056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Rectangle 1057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1058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1059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Rectangle 1060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1061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Rectangle 1062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Rectangle 1063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Rectangle 1064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Rectangle 1065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Rectangle 1066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Rectangle 1067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Rectangle 1068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Rectangle 1069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Rectangle 1070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Rectangle 1071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Rectangle 1072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Rectangle 1073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Rectangle 1074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Rectangle 1075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Rectangle 1076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Rectangle 1077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Rectangle 1078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Rectangle 1079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Rectangle 1080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Rectangle 1081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Line 1082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Line 1083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Line 108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Line 108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Line 1086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Line 1087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Line 1088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Line 1089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Line 1090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Line 1091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Line 1092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Line 1093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Line 1094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Line 1095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Line 1096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Line 1097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Line 1098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Line 1099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Line 1100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Line 1101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Line 1102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Line 1103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Line 1104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Line 1105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Line 1106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Line 1107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Line 1108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Line 1109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Line 1110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Line 1111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Line 1112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Line 1113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Line 1114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Line 1115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Line 1116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Line 1117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Line 1118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Line 1119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Line 1120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Line 1121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Line 1122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Line 1123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Line 1124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Line 1125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Line 1126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Line 1127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Rectangle 1128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Rectangle 1129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Rectangle 1130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1131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Line 1132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Line 1133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Line 1134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Line 1135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Line 1136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Line 1137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Line 1138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Line 1139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Line 1140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Line 1141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Line 1142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Line 1143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Text Box 1144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Text Box 1145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Text Box 1146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Text Box 1147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Text Box 1148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1149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Text Box 1150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Text Box 1151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Text Box 1152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Text Box 1153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Text Box 1154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Text Box 1155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Text Box 1156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Text Box 1157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Text Box 1158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Text Box 1159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Text Box 1160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Text Box 1161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Text Box 1162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Text Box 1163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Text Box 1164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Text Box 1165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Text Box 1166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Text Box 1167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1168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Text Box 1169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Text Box 117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Text Box 117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Picture 4" descr="779px-Go-Equipment-Narrow-Black"/>
          <p:cNvPicPr/>
          <p:nvPr/>
        </p:nvPicPr>
        <p:blipFill>
          <a:blip r:embed="rId1"/>
          <a:stretch/>
        </p:blipFill>
        <p:spPr>
          <a:xfrm>
            <a:off x="380880" y="1447920"/>
            <a:ext cx="3397320" cy="261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80px-Go_capturing"/>
          <p:cNvPicPr/>
          <p:nvPr/>
        </p:nvPicPr>
        <p:blipFill>
          <a:blip r:embed="rId2"/>
          <a:stretch/>
        </p:blipFill>
        <p:spPr>
          <a:xfrm>
            <a:off x="5181480" y="4343400"/>
            <a:ext cx="2421000" cy="18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Go_adjacent_stones"/>
          <p:cNvPicPr/>
          <p:nvPr/>
        </p:nvPicPr>
        <p:blipFill>
          <a:blip r:embed="rId3"/>
          <a:stretch/>
        </p:blipFill>
        <p:spPr>
          <a:xfrm>
            <a:off x="5257800" y="1600200"/>
            <a:ext cx="2192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8" name="Rectangle 1027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Rectangle 1028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Rectangle 1029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Rectangle 1030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Rectangle 1031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Rectangle 1032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Rectangle 1033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Rectangle 1034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Rectangle 1035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Rectangle 1036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Rectangle 1037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Rectangle 1038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Rectangle 1039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Rectangle 1040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Rectangle 1041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Rectangle 1042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Rectangle 1043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Rectangle 1044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Rectangle 1045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Rectangle 1046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Rectangle 1047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Rectangle 104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Rectangle 104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Rectangle 105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Rectangle 1051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Rectangle 1052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Rectangle 1053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Rectangle 1054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Rectangle 1055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Rectangle 1056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Rectangle 1057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Rectangle 1058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Rectangle 1059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Rectangle 1060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Rectangle 1061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Rectangle 1062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Rectangle 1063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Rectangle 1064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Rectangle 1065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Rectangle 1066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Rectangle 1067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Rectangle 1068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Rectangle 1069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Rectangle 1070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Rectangle 1071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Rectangle 1072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Rectangle 1073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Rectangle 1074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Rectangle 1075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Rectangle 1076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Rectangle 1077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Rectangle 1078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Rectangle 1079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Rectangle 1080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Rectangle 1081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Line 1082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Line 1083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Line 108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Line 108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Line 1086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Line 1087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Line 1088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Line 1089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Line 1090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Line 1091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Line 1092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Line 1093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Line 1094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Line 1095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Line 1096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Line 1097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Line 1098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Line 1099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Line 1100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Line 1101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Line 1102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Line 1103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Line 1104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Line 1105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Line 1106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Line 1107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Line 1108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Line 1109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Line 1110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Line 1111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Line 1112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Line 1113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Line 1114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Line 1115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Line 1116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Line 1117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Line 1118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Line 1119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Line 1120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Line 1121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Line 1122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Line 1123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Line 1124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Line 1125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Line 1126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Line 1127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Rectangle 1128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Rectangle 1129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Rectangle 1130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Rectangle 1131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Line 1132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Line 1133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Line 1134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Line 1135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Line 1136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Line 1137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Line 1138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Line 1139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Line 1140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Line 1141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Line 1142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Line 1143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Text Box 1144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Text Box 1145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Text Box 1146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Text Box 1147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Text Box 1148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Text Box 1149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Text Box 1150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Text Box 1151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Text Box 1152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Text Box 1153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Text Box 1154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Text Box 1155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Text Box 1156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Text Box 1157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Text Box 1158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Text Box 1159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Text Box 1160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Text Box 1161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Text Box 1162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Text Box 1163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Text Box 1164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Text Box 1165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Text Box 1166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Text Box 1167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Text Box 1168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Text Box 1169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Text Box 1170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Text Box 1171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Text Box 1172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Text Box 1173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Text Box 1174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7" name="Rectangle 1027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Rectangle 1028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Rectangle 1029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Rectangle 1030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Rectangle 1031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Rectangle 1032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Rectangle 1033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Rectangle 1034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Rectangle 1035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Rectangle 1036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Rectangle 1037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Rectangle 1038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Rectangle 1039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Rectangle 1040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Rectangle 1041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Rectangle 1042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Rectangle 1043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Rectangle 1044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Rectangle 1045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Rectangle 1046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Rectangle 1047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Rectangle 104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Rectangle 104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Rectangle 105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Rectangle 1051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Rectangle 1052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Rectangle 1053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Rectangle 1054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Rectangle 1055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Rectangle 1056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Rectangle 1057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Rectangle 1058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Rectangle 1059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Rectangle 1060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Rectangle 1061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Rectangle 1062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Rectangle 1063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Rectangle 1064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Rectangle 1065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Rectangle 1066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Rectangle 1067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Rectangle 1068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Rectangle 1069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Rectangle 1070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Rectangle 1071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Rectangle 1072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Rectangle 1073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Rectangle 1074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Rectangle 1075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Rectangle 1076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Rectangle 1077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Rectangle 1078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Rectangle 1079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Rectangle 1080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Rectangle 1081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Line 1082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Line 1083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Line 108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Line 108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Line 1086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Line 1087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Line 1088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Line 1089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Line 1090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Line 1091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Line 1092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Line 1093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Line 1094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Line 1095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Line 1096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Line 1097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Line 1098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Line 1099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Line 1100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Line 1101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Line 1102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Line 1103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Line 1104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Line 1105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Line 1106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Line 1107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Line 1108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Line 1109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Line 1110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Line 1111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Line 1112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Line 1113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Line 1114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Line 1115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Line 1116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Line 1117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Line 1118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Line 1119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Line 1120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Line 1121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Line 1122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Line 1123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Line 1124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Line 1125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Line 1126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Line 1127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Rectangle 1128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Rectangle 1129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Rectangle 1130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Rectangle 1131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Line 1132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Line 1133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Line 1134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Line 1135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Line 1136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Line 1137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Line 1138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Line 1139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Line 1140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Line 1141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Line 1142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Line 1143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Text Box 1144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Text Box 1145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Text Box 1146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Text Box 1147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Text Box 1148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Text Box 1149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Text Box 1150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Text Box 1151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Text Box 1152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Text Box 1153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Text Box 1154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Text Box 1155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Text Box 1156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Text Box 1157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Text Box 1158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Text Box 1159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Text Box 1160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Text Box 1161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Text Box 1162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Text Box 1163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Text Box 1164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Text Box 1165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Text Box 1166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Text Box 1167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Text Box 1168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Text Box 1169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Text Box 1170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Text Box 1171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Text Box 1172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Text Box 1173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Text Box 1174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6" name="Rectangle 1027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Rectangle 1028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Rectangle 1029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Rectangle 1030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Rectangle 1031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Rectangle 1032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Rectangle 1033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Rectangle 1034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Rectangle 1035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Rectangle 1036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Rectangle 1037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Rectangle 1038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Rectangle 1039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Rectangle 1040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Rectangle 1041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Rectangle 1042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Rectangle 1043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Rectangle 1044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Rectangle 1045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Rectangle 1046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Rectangle 1047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Rectangle 104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Rectangle 104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Rectangle 105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Rectangle 1051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Rectangle 1052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Rectangle 1053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Rectangle 1054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Rectangle 1055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Rectangle 1056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Rectangle 1057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Rectangle 1058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Rectangle 1059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Rectangle 1060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Rectangle 1061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Rectangle 1062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Rectangle 1063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Rectangle 1064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Rectangle 1065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Rectangle 1066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Rectangle 1067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Rectangle 1068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Rectangle 1069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Rectangle 1070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Rectangle 1071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Rectangle 1072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Rectangle 1073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Rectangle 1074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Rectangle 1075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Rectangle 1076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Rectangle 1077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Rectangle 1078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Rectangle 1079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Rectangle 1080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Rectangle 1081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Line 1082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Line 1083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Line 108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Line 108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Line 1086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Line 1087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Line 1088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Line 1089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Line 1090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Line 1091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Line 1092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Line 1093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Line 1094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Line 1095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Line 1096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Line 1097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Line 1098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Line 1099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Line 1100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Line 1101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Line 1102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Line 1103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Line 1104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Line 1105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Line 1106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Line 1107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Line 1108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Line 1109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Line 1110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Line 1111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Line 1112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Line 1113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Line 1114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Line 1115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Line 1116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Line 1117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Line 1118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Line 1119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Line 1120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Line 1121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Line 1122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Line 1123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Line 1124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Line 1125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Line 1126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Line 1127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Rectangle 1128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Rectangle 1129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Rectangle 1130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Rectangle 1131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Line 1132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Line 1133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Line 1134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Line 1135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Line 1136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Line 1137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Line 1138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Line 1139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Line 1140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Line 1141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Line 1142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Line 1143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Text Box 1144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Text Box 1145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Text Box 1146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Text Box 1147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Text Box 1148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Text Box 1149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Text Box 1150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Text Box 1151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Text Box 1152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Text Box 1153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Text Box 1154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Text Box 1155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Text Box 1156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Text Box 1157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Text Box 1158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Text Box 1159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Text Box 1160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Text Box 1161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Text Box 1162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Text Box 1163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Text Box 1164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Text Box 1165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Text Box 1166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Text Box 1167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Text Box 1168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Text Box 1169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Text Box 1170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Text Box 1171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Text Box 1172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Text Box 1173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Text Box 1174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Text Box 1175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Text Box 1176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7" name="Rectangle 1027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Rectangle 1028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Rectangle 1029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Rectangle 1030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Rectangle 1031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Rectangle 1032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Rectangle 1033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Rectangle 1034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Rectangle 1035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Rectangle 1036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Rectangle 1037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Rectangle 1038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Rectangle 1039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Rectangle 1040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Rectangle 1041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Rectangle 1042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Rectangle 1043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Rectangle 1044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Rectangle 1045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Rectangle 1046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Rectangle 1047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Rectangle 104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Rectangle 104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Rectangle 105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Rectangle 1051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Rectangle 1052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Rectangle 1053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Rectangle 1054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Rectangle 1055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Rectangle 1056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Rectangle 1057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Rectangle 1058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Rectangle 1059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Rectangle 1060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Rectangle 1061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Rectangle 1062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Rectangle 1063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Rectangle 1064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Rectangle 1065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Rectangle 1066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Rectangle 1067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Rectangle 1068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Rectangle 1069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Rectangle 1070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Rectangle 1071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Rectangle 1072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Rectangle 1073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Rectangle 1074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Rectangle 1075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Rectangle 1076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Rectangle 1077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Rectangle 1078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Rectangle 1079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Rectangle 1080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Rectangle 1081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Line 1082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Line 1083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Line 108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Line 108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Line 1086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Line 1087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Line 1088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Line 1089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Line 1090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Line 1091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Line 1092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Line 1093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Line 1094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Line 1095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Line 1096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Line 1097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Line 1098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Line 1099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Line 1100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Line 1101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Line 1102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Line 1103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Line 1104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Line 1105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Line 1106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Line 1107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Line 1108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Line 1109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Line 1110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Line 1111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Line 1112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Line 1113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Line 1114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Line 1115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Line 1116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Line 1117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Line 1118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Line 1119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Line 1120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Line 1121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Line 1122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Line 1123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Line 1124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Line 1125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Line 1126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Line 1127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Rectangle 1128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Rectangle 1129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Rectangle 1130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Rectangle 1131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Line 1132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Line 1133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Line 1134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Line 1135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Line 1136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Line 1137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Line 1138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Line 1139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Line 1140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Line 1141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Line 1142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Line 1143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Text Box 1144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Text Box 1145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Text Box 1146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Text Box 1147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Text Box 1148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Text Box 1149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Text Box 1150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Text Box 1151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Text Box 1152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Text Box 1153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Text Box 1154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Text Box 1155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Text Box 1156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Text Box 1157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Text Box 1158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Text Box 1159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Text Box 1160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Text Box 1161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Text Box 1162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Text Box 1163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Text Box 1164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Text Box 1165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Text Box 1166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Text Box 1167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Text Box 1168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Text Box 1169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Text Box 1170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Text Box 1171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Text Box 1172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Text Box 1173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Text Box 1174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Text Box 1175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Text Box 1176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Text Box 1177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9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2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Text Box 157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Scra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Picture 5" descr="800px-Scrabble_board_in_play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Text Box 158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8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8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9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2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5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7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8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9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0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1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4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9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7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8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9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Text Box 159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0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1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2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3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4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5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6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7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0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1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2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Text Box 161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0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1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2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3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4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6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7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8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9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1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2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3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4" name="Text Box 161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0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1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2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3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4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5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6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7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8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9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0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1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2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3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4" name="Text Box 161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5" name="Text Box 162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6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8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9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0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1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2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3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6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8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9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0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1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2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5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6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7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8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9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0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1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2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3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4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5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6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7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8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9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0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1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2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3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4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5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6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7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8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9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0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1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2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3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4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5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6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7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8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9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0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1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2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3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5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6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7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8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9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0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1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2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3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4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5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6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7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8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9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0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1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2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3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4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5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6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7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8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9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0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1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2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3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4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5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6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7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8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9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0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1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2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3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4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6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7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8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9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0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1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2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3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4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5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6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7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8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9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0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1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2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3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4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5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6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7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8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9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0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1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2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3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4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5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6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7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8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9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0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1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2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3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4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5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7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8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9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0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1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2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3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4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5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6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7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8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9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0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1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2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3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4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5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6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7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8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8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9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0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1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2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3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4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5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6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7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8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9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0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1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2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3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4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5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6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7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8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9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0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1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2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3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4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5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6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7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8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9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1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2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3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4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5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6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7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8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9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0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1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2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3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4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5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6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7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8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9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0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2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3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4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5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6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7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8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9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0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1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2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3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4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5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6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7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8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9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0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1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2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3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4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5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6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7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8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9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0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1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2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3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4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5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6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7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8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9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0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1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2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3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4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5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6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7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8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9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0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1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2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3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4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5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6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7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8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9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0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1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3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4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5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6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7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8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9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0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1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2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3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4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5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6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7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8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9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0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1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2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3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4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5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6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7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8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9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0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1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2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3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4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5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6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7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8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9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0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1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2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4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5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6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7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8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9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0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1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2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3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4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5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6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7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8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9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0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1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2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3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4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5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6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7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8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9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0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1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2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3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4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5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6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7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8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9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0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1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2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3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5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6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7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8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9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0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1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2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3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4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5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6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7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8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9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0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1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2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3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4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4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5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6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7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8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9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0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1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2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3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4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5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6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7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8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9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0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1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2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3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4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5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6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7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8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9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0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1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2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3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4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5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6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7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8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9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0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1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2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3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4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5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6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7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8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9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4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5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7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8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8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9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0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1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2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3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4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5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6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7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8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9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0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1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2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3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4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5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6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7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8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9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0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1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2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3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4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5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6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7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8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9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0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1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2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3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4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5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6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7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8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9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0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1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2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3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4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5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6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7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8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9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0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1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2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3" name="Text Box 166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Battleship (podmornic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Picture 5" descr="500px-Battleship_game_board_svg"/>
          <p:cNvPicPr/>
          <p:nvPr/>
        </p:nvPicPr>
        <p:blipFill>
          <a:blip r:embed="rId1"/>
          <a:stretch/>
        </p:blipFill>
        <p:spPr>
          <a:xfrm>
            <a:off x="2133720" y="160020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3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4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5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6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7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8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9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0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1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2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3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4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5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6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7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8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9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0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1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2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3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4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5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6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7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8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9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0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1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2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3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4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5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6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7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8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9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0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1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2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3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4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5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6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7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8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9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0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1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2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3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4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5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6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7" name="Text Box 165"/>
          <p:cNvSpPr/>
          <p:nvPr/>
        </p:nvSpPr>
        <p:spPr>
          <a:xfrm>
            <a:off x="7167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8" name="Text Box 166"/>
          <p:cNvSpPr/>
          <p:nvPr/>
        </p:nvSpPr>
        <p:spPr>
          <a:xfrm>
            <a:off x="69386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9" name="Text Box 167"/>
          <p:cNvSpPr/>
          <p:nvPr/>
        </p:nvSpPr>
        <p:spPr>
          <a:xfrm>
            <a:off x="64051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0" name="Text Box 168"/>
          <p:cNvSpPr/>
          <p:nvPr/>
        </p:nvSpPr>
        <p:spPr>
          <a:xfrm>
            <a:off x="71672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1" name="Text Box 169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2" name="Text Box 170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4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5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6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7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8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9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0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1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2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3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4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5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6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7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8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9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0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1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2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3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4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5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6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7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8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9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0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1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2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3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4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5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6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7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8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9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0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1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2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3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4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5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6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7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8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9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0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1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2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3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4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5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6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7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8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9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0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1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2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3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4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5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6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7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8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9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0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1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2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3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4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5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6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7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8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9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0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1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2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3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4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5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6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7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8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9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0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1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2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3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4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5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6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7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8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9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0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1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2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3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4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5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6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7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8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9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0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1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2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3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4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5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6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7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8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9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0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1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2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3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4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5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6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7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8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9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0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1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2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3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4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5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6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7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8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9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0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1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2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3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4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5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6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7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8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9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0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1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2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3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4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5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6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7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8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9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0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1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2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3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4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5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6" name="Text Box 165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7" name="Text Box 166"/>
          <p:cNvSpPr/>
          <p:nvPr/>
        </p:nvSpPr>
        <p:spPr>
          <a:xfrm>
            <a:off x="7167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8" name="Text Box 167"/>
          <p:cNvSpPr/>
          <p:nvPr/>
        </p:nvSpPr>
        <p:spPr>
          <a:xfrm>
            <a:off x="69386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9" name="Text Box 168"/>
          <p:cNvSpPr/>
          <p:nvPr/>
        </p:nvSpPr>
        <p:spPr>
          <a:xfrm>
            <a:off x="64051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0" name="Text Box 169"/>
          <p:cNvSpPr/>
          <p:nvPr/>
        </p:nvSpPr>
        <p:spPr>
          <a:xfrm>
            <a:off x="71672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1" name="Text Box 170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liko dobijam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azmotrimo 2 slu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4" name="Group 4"/>
          <p:cNvGrpSpPr/>
          <p:nvPr/>
        </p:nvGrpSpPr>
        <p:grpSpPr>
          <a:xfrm>
            <a:off x="523440" y="2556000"/>
            <a:ext cx="3298320" cy="3768480"/>
            <a:chOff x="523440" y="2556000"/>
            <a:chExt cx="3298320" cy="3768480"/>
          </a:xfrm>
        </p:grpSpPr>
        <p:grpSp>
          <p:nvGrpSpPr>
            <p:cNvPr id="4545" name="Group 5"/>
            <p:cNvGrpSpPr/>
            <p:nvPr/>
          </p:nvGrpSpPr>
          <p:grpSpPr>
            <a:xfrm>
              <a:off x="914040" y="2590920"/>
              <a:ext cx="2667240" cy="3733560"/>
              <a:chOff x="914040" y="2590920"/>
              <a:chExt cx="2667240" cy="3733560"/>
            </a:xfrm>
          </p:grpSpPr>
          <p:sp>
            <p:nvSpPr>
              <p:cNvPr id="4546" name="Line 6"/>
              <p:cNvSpPr/>
              <p:nvPr/>
            </p:nvSpPr>
            <p:spPr>
              <a:xfrm flipH="1">
                <a:off x="914040" y="4343400"/>
                <a:ext cx="15228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7" name="Line 7"/>
              <p:cNvSpPr/>
              <p:nvPr/>
            </p:nvSpPr>
            <p:spPr>
              <a:xfrm>
                <a:off x="1066680" y="4343400"/>
                <a:ext cx="15264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8" name="Rectangle 8"/>
              <p:cNvSpPr/>
              <p:nvPr/>
            </p:nvSpPr>
            <p:spPr>
              <a:xfrm>
                <a:off x="2743200" y="2590920"/>
                <a:ext cx="304920" cy="30456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49" name="Group 9"/>
              <p:cNvGrpSpPr/>
              <p:nvPr/>
            </p:nvGrpSpPr>
            <p:grpSpPr>
              <a:xfrm>
                <a:off x="914400" y="4038480"/>
                <a:ext cx="2666880" cy="304920"/>
                <a:chOff x="914400" y="4038480"/>
                <a:chExt cx="2666880" cy="304920"/>
              </a:xfrm>
            </p:grpSpPr>
            <p:sp>
              <p:nvSpPr>
                <p:cNvPr id="4550" name="Rectangle 10"/>
                <p:cNvSpPr/>
                <p:nvPr/>
              </p:nvSpPr>
              <p:spPr>
                <a:xfrm>
                  <a:off x="914400" y="4038480"/>
                  <a:ext cx="304920" cy="30492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1" name="Rectangle 11"/>
                <p:cNvSpPr/>
                <p:nvPr/>
              </p:nvSpPr>
              <p:spPr>
                <a:xfrm>
                  <a:off x="2133720" y="4038480"/>
                  <a:ext cx="304560" cy="30492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2" name="Rectangle 12"/>
                <p:cNvSpPr/>
                <p:nvPr/>
              </p:nvSpPr>
              <p:spPr>
                <a:xfrm>
                  <a:off x="3276720" y="4038480"/>
                  <a:ext cx="304560" cy="30492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3" name="Rectangle 13"/>
              <p:cNvSpPr/>
              <p:nvPr/>
            </p:nvSpPr>
            <p:spPr>
              <a:xfrm>
                <a:off x="1371600" y="5486400"/>
                <a:ext cx="304920" cy="30492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4" name="Rectangle 14"/>
              <p:cNvSpPr/>
              <p:nvPr/>
            </p:nvSpPr>
            <p:spPr>
              <a:xfrm>
                <a:off x="2133720" y="5486400"/>
                <a:ext cx="304560" cy="30492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5" name="Line 15"/>
              <p:cNvSpPr/>
              <p:nvPr/>
            </p:nvSpPr>
            <p:spPr>
              <a:xfrm flipH="1">
                <a:off x="1066680" y="2895480"/>
                <a:ext cx="182880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6" name="Line 16"/>
              <p:cNvSpPr/>
              <p:nvPr/>
            </p:nvSpPr>
            <p:spPr>
              <a:xfrm flipH="1">
                <a:off x="2285640" y="2895480"/>
                <a:ext cx="60948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7" name="Line 17"/>
              <p:cNvSpPr/>
              <p:nvPr/>
            </p:nvSpPr>
            <p:spPr>
              <a:xfrm>
                <a:off x="2895480" y="2895480"/>
                <a:ext cx="53352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8" name="Line 18"/>
              <p:cNvSpPr/>
              <p:nvPr/>
            </p:nvSpPr>
            <p:spPr>
              <a:xfrm flipH="1">
                <a:off x="1523520" y="4343400"/>
                <a:ext cx="76212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9" name="Line 19"/>
              <p:cNvSpPr/>
              <p:nvPr/>
            </p:nvSpPr>
            <p:spPr>
              <a:xfrm>
                <a:off x="2286000" y="4343400"/>
                <a:ext cx="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60" name="Group 20"/>
              <p:cNvGrpSpPr/>
              <p:nvPr/>
            </p:nvGrpSpPr>
            <p:grpSpPr>
              <a:xfrm>
                <a:off x="1371600" y="5791320"/>
                <a:ext cx="304920" cy="533160"/>
                <a:chOff x="1371600" y="5791320"/>
                <a:chExt cx="304920" cy="533160"/>
              </a:xfrm>
            </p:grpSpPr>
            <p:sp>
              <p:nvSpPr>
                <p:cNvPr id="4561" name="Line 21"/>
                <p:cNvSpPr/>
                <p:nvPr/>
              </p:nvSpPr>
              <p:spPr>
                <a:xfrm flipH="1">
                  <a:off x="1371600" y="5791320"/>
                  <a:ext cx="152640" cy="533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2" name="Line 22"/>
                <p:cNvSpPr/>
                <p:nvPr/>
              </p:nvSpPr>
              <p:spPr>
                <a:xfrm>
                  <a:off x="1524240" y="5791320"/>
                  <a:ext cx="152280" cy="533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3" name="Line 23"/>
              <p:cNvSpPr/>
              <p:nvPr/>
            </p:nvSpPr>
            <p:spPr>
              <a:xfrm flipH="1">
                <a:off x="2133360" y="5791320"/>
                <a:ext cx="15228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4" name="Line 24"/>
              <p:cNvSpPr/>
              <p:nvPr/>
            </p:nvSpPr>
            <p:spPr>
              <a:xfrm>
                <a:off x="2286000" y="5791320"/>
                <a:ext cx="15228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65" name="Text Box 25"/>
            <p:cNvSpPr/>
            <p:nvPr/>
          </p:nvSpPr>
          <p:spPr>
            <a:xfrm>
              <a:off x="523440" y="4003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6" name="Text Box 26"/>
            <p:cNvSpPr/>
            <p:nvPr/>
          </p:nvSpPr>
          <p:spPr>
            <a:xfrm>
              <a:off x="3115440" y="2556000"/>
              <a:ext cx="70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  <a:ea typeface="Arial"/>
                </a:rPr>
                <a:t>=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7" name="Text Box 27"/>
            <p:cNvSpPr/>
            <p:nvPr/>
          </p:nvSpPr>
          <p:spPr>
            <a:xfrm>
              <a:off x="989640" y="54910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8" name="Text Box 28"/>
            <p:cNvSpPr/>
            <p:nvPr/>
          </p:nvSpPr>
          <p:spPr>
            <a:xfrm>
              <a:off x="1515600" y="403848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  <a:ea typeface="Arial"/>
                </a:rPr>
                <a:t>=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9" name="Text Box 29"/>
            <p:cNvSpPr/>
            <p:nvPr/>
          </p:nvSpPr>
          <p:spPr>
            <a:xfrm>
              <a:off x="2459880" y="54100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(4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70" name="Group 30"/>
            <p:cNvGrpSpPr/>
            <p:nvPr/>
          </p:nvGrpSpPr>
          <p:grpSpPr>
            <a:xfrm>
              <a:off x="2133720" y="4952880"/>
              <a:ext cx="304560" cy="228600"/>
              <a:chOff x="2133720" y="4952880"/>
              <a:chExt cx="304560" cy="228600"/>
            </a:xfrm>
          </p:grpSpPr>
          <p:sp>
            <p:nvSpPr>
              <p:cNvPr id="4571" name="Line 31"/>
              <p:cNvSpPr/>
              <p:nvPr/>
            </p:nvSpPr>
            <p:spPr>
              <a:xfrm>
                <a:off x="2133720" y="4952880"/>
                <a:ext cx="304560" cy="2286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2" name="Line 32"/>
              <p:cNvSpPr/>
              <p:nvPr/>
            </p:nvSpPr>
            <p:spPr>
              <a:xfrm flipH="1">
                <a:off x="2133720" y="4952880"/>
                <a:ext cx="304560" cy="2286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73" name="Group 33"/>
          <p:cNvGrpSpPr/>
          <p:nvPr/>
        </p:nvGrpSpPr>
        <p:grpSpPr>
          <a:xfrm>
            <a:off x="4882680" y="2590920"/>
            <a:ext cx="3298320" cy="3768480"/>
            <a:chOff x="4882680" y="2590920"/>
            <a:chExt cx="3298320" cy="3768480"/>
          </a:xfrm>
        </p:grpSpPr>
        <p:grpSp>
          <p:nvGrpSpPr>
            <p:cNvPr id="4574" name="Group 34"/>
            <p:cNvGrpSpPr/>
            <p:nvPr/>
          </p:nvGrpSpPr>
          <p:grpSpPr>
            <a:xfrm>
              <a:off x="5273280" y="2625840"/>
              <a:ext cx="2667240" cy="3733560"/>
              <a:chOff x="5273280" y="2625840"/>
              <a:chExt cx="2667240" cy="3733560"/>
            </a:xfrm>
          </p:grpSpPr>
          <p:sp>
            <p:nvSpPr>
              <p:cNvPr id="4575" name="Line 35"/>
              <p:cNvSpPr/>
              <p:nvPr/>
            </p:nvSpPr>
            <p:spPr>
              <a:xfrm flipH="1">
                <a:off x="5273280" y="4378320"/>
                <a:ext cx="15228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6" name="Line 36"/>
              <p:cNvSpPr/>
              <p:nvPr/>
            </p:nvSpPr>
            <p:spPr>
              <a:xfrm>
                <a:off x="5425920" y="4378320"/>
                <a:ext cx="15264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7" name="Rectangle 37"/>
              <p:cNvSpPr/>
              <p:nvPr/>
            </p:nvSpPr>
            <p:spPr>
              <a:xfrm>
                <a:off x="7102440" y="2625840"/>
                <a:ext cx="304920" cy="30456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78" name="Group 38"/>
              <p:cNvGrpSpPr/>
              <p:nvPr/>
            </p:nvGrpSpPr>
            <p:grpSpPr>
              <a:xfrm>
                <a:off x="5273640" y="4073400"/>
                <a:ext cx="2666880" cy="304920"/>
                <a:chOff x="5273640" y="4073400"/>
                <a:chExt cx="2666880" cy="304920"/>
              </a:xfrm>
            </p:grpSpPr>
            <p:sp>
              <p:nvSpPr>
                <p:cNvPr id="4579" name="Rectangle 39"/>
                <p:cNvSpPr/>
                <p:nvPr/>
              </p:nvSpPr>
              <p:spPr>
                <a:xfrm>
                  <a:off x="5273640" y="4073400"/>
                  <a:ext cx="304920" cy="30492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Rectangle 40"/>
                <p:cNvSpPr/>
                <p:nvPr/>
              </p:nvSpPr>
              <p:spPr>
                <a:xfrm>
                  <a:off x="6492960" y="4073400"/>
                  <a:ext cx="304560" cy="30492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Rectangle 41"/>
                <p:cNvSpPr/>
                <p:nvPr/>
              </p:nvSpPr>
              <p:spPr>
                <a:xfrm>
                  <a:off x="7635960" y="4073400"/>
                  <a:ext cx="304560" cy="30492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2" name="Rectangle 42"/>
              <p:cNvSpPr/>
              <p:nvPr/>
            </p:nvSpPr>
            <p:spPr>
              <a:xfrm>
                <a:off x="5730840" y="5521320"/>
                <a:ext cx="304920" cy="30492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3" name="Rectangle 43"/>
              <p:cNvSpPr/>
              <p:nvPr/>
            </p:nvSpPr>
            <p:spPr>
              <a:xfrm>
                <a:off x="6492960" y="5521320"/>
                <a:ext cx="304560" cy="30492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4" name="Line 44"/>
              <p:cNvSpPr/>
              <p:nvPr/>
            </p:nvSpPr>
            <p:spPr>
              <a:xfrm flipH="1">
                <a:off x="5425920" y="2930400"/>
                <a:ext cx="182880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5" name="Line 45"/>
              <p:cNvSpPr/>
              <p:nvPr/>
            </p:nvSpPr>
            <p:spPr>
              <a:xfrm flipH="1">
                <a:off x="6644880" y="2930400"/>
                <a:ext cx="60948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6" name="Line 46"/>
              <p:cNvSpPr/>
              <p:nvPr/>
            </p:nvSpPr>
            <p:spPr>
              <a:xfrm>
                <a:off x="7254720" y="2930400"/>
                <a:ext cx="53352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7" name="Line 47"/>
              <p:cNvSpPr/>
              <p:nvPr/>
            </p:nvSpPr>
            <p:spPr>
              <a:xfrm flipH="1">
                <a:off x="5882760" y="4378320"/>
                <a:ext cx="76212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8" name="Line 48"/>
              <p:cNvSpPr/>
              <p:nvPr/>
            </p:nvSpPr>
            <p:spPr>
              <a:xfrm>
                <a:off x="6645240" y="4378320"/>
                <a:ext cx="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89" name="Group 49"/>
              <p:cNvGrpSpPr/>
              <p:nvPr/>
            </p:nvGrpSpPr>
            <p:grpSpPr>
              <a:xfrm>
                <a:off x="5730840" y="5826240"/>
                <a:ext cx="304920" cy="533160"/>
                <a:chOff x="5730840" y="5826240"/>
                <a:chExt cx="304920" cy="533160"/>
              </a:xfrm>
            </p:grpSpPr>
            <p:sp>
              <p:nvSpPr>
                <p:cNvPr id="4590" name="Line 50"/>
                <p:cNvSpPr/>
                <p:nvPr/>
              </p:nvSpPr>
              <p:spPr>
                <a:xfrm flipH="1">
                  <a:off x="5730840" y="5826240"/>
                  <a:ext cx="152640" cy="533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1" name="Line 51"/>
                <p:cNvSpPr/>
                <p:nvPr/>
              </p:nvSpPr>
              <p:spPr>
                <a:xfrm>
                  <a:off x="5883480" y="5826240"/>
                  <a:ext cx="152280" cy="533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2" name="Line 52"/>
              <p:cNvSpPr/>
              <p:nvPr/>
            </p:nvSpPr>
            <p:spPr>
              <a:xfrm flipH="1">
                <a:off x="6492600" y="5826240"/>
                <a:ext cx="15228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3" name="Line 53"/>
              <p:cNvSpPr/>
              <p:nvPr/>
            </p:nvSpPr>
            <p:spPr>
              <a:xfrm>
                <a:off x="6645240" y="5826240"/>
                <a:ext cx="15228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94" name="Text Box 54"/>
            <p:cNvSpPr/>
            <p:nvPr/>
          </p:nvSpPr>
          <p:spPr>
            <a:xfrm>
              <a:off x="4882680" y="4038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5" name="Text Box 55"/>
            <p:cNvSpPr/>
            <p:nvPr/>
          </p:nvSpPr>
          <p:spPr>
            <a:xfrm>
              <a:off x="7474680" y="2590920"/>
              <a:ext cx="70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  <a:ea typeface="Arial"/>
                </a:rPr>
                <a:t>=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6" name="Text Box 56"/>
            <p:cNvSpPr/>
            <p:nvPr/>
          </p:nvSpPr>
          <p:spPr>
            <a:xfrm>
              <a:off x="5355720" y="5526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7" name="Text Box 57"/>
            <p:cNvSpPr/>
            <p:nvPr/>
          </p:nvSpPr>
          <p:spPr>
            <a:xfrm>
              <a:off x="5882040" y="407340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  <a:ea typeface="Arial"/>
                </a:rPr>
                <a:t>=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8" name="Text Box 58"/>
            <p:cNvSpPr/>
            <p:nvPr/>
          </p:nvSpPr>
          <p:spPr>
            <a:xfrm>
              <a:off x="6796440" y="544500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Onlajn AlphaBe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s://www.youtube.com/watch?v=Ewh-rF7KS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inst.eecs.berkeley.edu/~cs61b/fa14/ta-materials/apps/ab_tree_practice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ttp://web.cs.ucla.edu/~rosen/161/notes/alphabeta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omepage.ufp.pt/jtorres/ensino/ia/alfabeta.html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liko dobijam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etpostavimo da je drvo sa ravnomjernim faktorom grananja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nimax istra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je  O(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čvorov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pa to radi i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pha-beta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u najgorem slučaj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Dobit je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ma</a:t>
            </a:r>
            <a:r>
              <a:rPr b="0" lang="sr-Latn-CS" sz="2000" spc="-1" strike="noStrike">
                <a:solidFill>
                  <a:srgbClr val="ffff00"/>
                </a:solidFill>
                <a:latin typeface="Comic Sans MS"/>
              </a:rPr>
              <a:t>ks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</a:t>
            </a:r>
            <a:r>
              <a:rPr b="0" lang="sr-Latn-CS" sz="2000" spc="-1" strike="noStrike">
                <a:solidFill>
                  <a:srgbClr val="ffff00"/>
                </a:solidFill>
                <a:latin typeface="Comic Sans MS"/>
              </a:rPr>
              <a:t>aln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kad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N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djeca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X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čvora su uređeni po opadajućim vrijednost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X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djeca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N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čvor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su uređeni po rastućim vrijednost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Tad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alpha-beta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istražuje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O(b</a:t>
            </a:r>
            <a:r>
              <a:rPr b="0" lang="en-US" sz="2000" spc="-1" strike="noStrike" baseline="30000">
                <a:solidFill>
                  <a:srgbClr val="ffff00"/>
                </a:solidFill>
                <a:latin typeface="Comic Sans MS"/>
              </a:rPr>
              <a:t>h/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čvorov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[Knuth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ore, 1975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Ali, ako bi znali kako savršeno urediti čvorove nema potrebe da pretražujemo dr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Ako su čvorovi uređeni slučajno, tada je prosječan broj čvorova koje algoritam istraži ranga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~O(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3h/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ur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uređivanja čvorov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Urediti čvorove ispod nivoa korijena u skladu sa vrijednostima dobijenim u prethodnoj iteraciji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Uredit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AX (resp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ektivno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)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čvorove po opadajući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rastući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v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rijednostima funkcije e izračunate u tim čvorov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a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čna proširen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izračunavamo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pth-fir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zračunavam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t-first: k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uri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u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cija u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-off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ter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um p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valitetu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ness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 ne po dubin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sel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v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o produblja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širivanje nepokretnih st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blem 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zo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mpilovana (precompiled) izračunavanja za početak i kraj ig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okretna stan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08" name="Picture 5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89920" cy="3578400"/>
          </a:xfrm>
          <a:prstGeom prst="rect">
            <a:avLst/>
          </a:prstGeom>
          <a:ln w="0">
            <a:noFill/>
          </a:ln>
        </p:spPr>
      </p:pic>
      <p:sp>
        <p:nvSpPr>
          <p:cNvPr id="4609" name="Text Box 7"/>
          <p:cNvSpPr/>
          <p:nvPr/>
        </p:nvSpPr>
        <p:spPr>
          <a:xfrm>
            <a:off x="533520" y="563868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) Crni ima 2 pj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k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i ko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b) Bijeli dobi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fekat h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zo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Loše vijesti mogu biti odmah iza dubine odrezivanj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2" name="AutoShape 4"/>
          <p:cNvSpPr/>
          <p:nvPr/>
        </p:nvSpPr>
        <p:spPr>
          <a:xfrm>
            <a:off x="4857840" y="1981080"/>
            <a:ext cx="238752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3" name="Group 5"/>
          <p:cNvGrpSpPr/>
          <p:nvPr/>
        </p:nvGrpSpPr>
        <p:grpSpPr>
          <a:xfrm>
            <a:off x="2705040" y="2133720"/>
            <a:ext cx="3695760" cy="3963960"/>
            <a:chOff x="2705040" y="2133720"/>
            <a:chExt cx="3695760" cy="3963960"/>
          </a:xfrm>
        </p:grpSpPr>
        <p:sp>
          <p:nvSpPr>
            <p:cNvPr id="4614" name="Rectangle 6"/>
            <p:cNvSpPr/>
            <p:nvPr/>
          </p:nvSpPr>
          <p:spPr>
            <a:xfrm>
              <a:off x="3624480" y="3619800"/>
              <a:ext cx="46008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5" name="Rectangle 7"/>
            <p:cNvSpPr/>
            <p:nvPr/>
          </p:nvSpPr>
          <p:spPr>
            <a:xfrm>
              <a:off x="4084560" y="3125880"/>
              <a:ext cx="465120" cy="4939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6" name="Rectangle 8"/>
            <p:cNvSpPr/>
            <p:nvPr/>
          </p:nvSpPr>
          <p:spPr>
            <a:xfrm>
              <a:off x="5010120" y="2133720"/>
              <a:ext cx="465120" cy="5065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7" name="Rectangle 9"/>
            <p:cNvSpPr/>
            <p:nvPr/>
          </p:nvSpPr>
          <p:spPr>
            <a:xfrm>
              <a:off x="4549680" y="2640240"/>
              <a:ext cx="460440" cy="4856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8" name="Rectangle 10"/>
            <p:cNvSpPr/>
            <p:nvPr/>
          </p:nvSpPr>
          <p:spPr>
            <a:xfrm>
              <a:off x="5934240" y="2133720"/>
              <a:ext cx="466560" cy="5065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9" name="Rectangle 11"/>
            <p:cNvSpPr/>
            <p:nvPr/>
          </p:nvSpPr>
          <p:spPr>
            <a:xfrm>
              <a:off x="5475240" y="2640240"/>
              <a:ext cx="459000" cy="4856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0" name="Rectangle 12"/>
            <p:cNvSpPr/>
            <p:nvPr/>
          </p:nvSpPr>
          <p:spPr>
            <a:xfrm>
              <a:off x="5010120" y="3125880"/>
              <a:ext cx="465120" cy="4939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1" name="Rectangle 13"/>
            <p:cNvSpPr/>
            <p:nvPr/>
          </p:nvSpPr>
          <p:spPr>
            <a:xfrm>
              <a:off x="4549680" y="3619800"/>
              <a:ext cx="46044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2" name="Rectangle 14"/>
            <p:cNvSpPr/>
            <p:nvPr/>
          </p:nvSpPr>
          <p:spPr>
            <a:xfrm>
              <a:off x="5934240" y="3125880"/>
              <a:ext cx="466560" cy="4939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3" name="Rectangle 15"/>
            <p:cNvSpPr/>
            <p:nvPr/>
          </p:nvSpPr>
          <p:spPr>
            <a:xfrm>
              <a:off x="5475240" y="3619800"/>
              <a:ext cx="45900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4" name="Rectangle 16"/>
            <p:cNvSpPr/>
            <p:nvPr/>
          </p:nvSpPr>
          <p:spPr>
            <a:xfrm>
              <a:off x="5010120" y="4118400"/>
              <a:ext cx="465120" cy="49356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5" name="Rectangle 17"/>
            <p:cNvSpPr/>
            <p:nvPr/>
          </p:nvSpPr>
          <p:spPr>
            <a:xfrm>
              <a:off x="4549680" y="4611960"/>
              <a:ext cx="46044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6" name="Rectangle 18"/>
            <p:cNvSpPr/>
            <p:nvPr/>
          </p:nvSpPr>
          <p:spPr>
            <a:xfrm>
              <a:off x="5934240" y="4118400"/>
              <a:ext cx="466560" cy="49356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7" name="Rectangle 19"/>
            <p:cNvSpPr/>
            <p:nvPr/>
          </p:nvSpPr>
          <p:spPr>
            <a:xfrm>
              <a:off x="5475240" y="4611960"/>
              <a:ext cx="45900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8" name="Rectangle 20"/>
            <p:cNvSpPr/>
            <p:nvPr/>
          </p:nvSpPr>
          <p:spPr>
            <a:xfrm>
              <a:off x="5010120" y="5110560"/>
              <a:ext cx="465120" cy="482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9" name="Rectangle 21"/>
            <p:cNvSpPr/>
            <p:nvPr/>
          </p:nvSpPr>
          <p:spPr>
            <a:xfrm>
              <a:off x="4549680" y="5592960"/>
              <a:ext cx="460440" cy="5047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0" name="Rectangle 22"/>
            <p:cNvSpPr/>
            <p:nvPr/>
          </p:nvSpPr>
          <p:spPr>
            <a:xfrm>
              <a:off x="5934240" y="5110560"/>
              <a:ext cx="466560" cy="482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1" name="Rectangle 23"/>
            <p:cNvSpPr/>
            <p:nvPr/>
          </p:nvSpPr>
          <p:spPr>
            <a:xfrm>
              <a:off x="5475240" y="5592960"/>
              <a:ext cx="459000" cy="5047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2" name="Rectangle 24"/>
            <p:cNvSpPr/>
            <p:nvPr/>
          </p:nvSpPr>
          <p:spPr>
            <a:xfrm>
              <a:off x="3176640" y="4118400"/>
              <a:ext cx="447840" cy="49356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3" name="Rectangle 25"/>
            <p:cNvSpPr/>
            <p:nvPr/>
          </p:nvSpPr>
          <p:spPr>
            <a:xfrm>
              <a:off x="2705040" y="4611960"/>
              <a:ext cx="47160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4" name="Rectangle 26"/>
            <p:cNvSpPr/>
            <p:nvPr/>
          </p:nvSpPr>
          <p:spPr>
            <a:xfrm>
              <a:off x="4084560" y="4118400"/>
              <a:ext cx="465120" cy="49356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5" name="Rectangle 27"/>
            <p:cNvSpPr/>
            <p:nvPr/>
          </p:nvSpPr>
          <p:spPr>
            <a:xfrm>
              <a:off x="3624480" y="4611960"/>
              <a:ext cx="46008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6" name="Rectangle 28"/>
            <p:cNvSpPr/>
            <p:nvPr/>
          </p:nvSpPr>
          <p:spPr>
            <a:xfrm>
              <a:off x="3176640" y="5110560"/>
              <a:ext cx="447840" cy="482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7" name="Rectangle 29"/>
            <p:cNvSpPr/>
            <p:nvPr/>
          </p:nvSpPr>
          <p:spPr>
            <a:xfrm>
              <a:off x="2705040" y="5592960"/>
              <a:ext cx="471600" cy="5047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8" name="Rectangle 30"/>
            <p:cNvSpPr/>
            <p:nvPr/>
          </p:nvSpPr>
          <p:spPr>
            <a:xfrm>
              <a:off x="4084560" y="5110560"/>
              <a:ext cx="465120" cy="482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9" name="Rectangle 31"/>
            <p:cNvSpPr/>
            <p:nvPr/>
          </p:nvSpPr>
          <p:spPr>
            <a:xfrm>
              <a:off x="3624480" y="5592960"/>
              <a:ext cx="460080" cy="5047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0" name="Rectangle 32"/>
            <p:cNvSpPr/>
            <p:nvPr/>
          </p:nvSpPr>
          <p:spPr>
            <a:xfrm>
              <a:off x="3176640" y="2133720"/>
              <a:ext cx="447840" cy="5065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1" name="Rectangle 33"/>
            <p:cNvSpPr/>
            <p:nvPr/>
          </p:nvSpPr>
          <p:spPr>
            <a:xfrm>
              <a:off x="2705040" y="2640240"/>
              <a:ext cx="471600" cy="4856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2" name="Rectangle 34"/>
            <p:cNvSpPr/>
            <p:nvPr/>
          </p:nvSpPr>
          <p:spPr>
            <a:xfrm>
              <a:off x="3624480" y="2640240"/>
              <a:ext cx="460080" cy="4856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3" name="Rectangle 35"/>
            <p:cNvSpPr/>
            <p:nvPr/>
          </p:nvSpPr>
          <p:spPr>
            <a:xfrm>
              <a:off x="3176640" y="3125880"/>
              <a:ext cx="447840" cy="4939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4" name="Rectangle 36"/>
            <p:cNvSpPr/>
            <p:nvPr/>
          </p:nvSpPr>
          <p:spPr>
            <a:xfrm>
              <a:off x="4084560" y="2133720"/>
              <a:ext cx="465120" cy="5065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5" name="Rectangle 37"/>
            <p:cNvSpPr/>
            <p:nvPr/>
          </p:nvSpPr>
          <p:spPr>
            <a:xfrm>
              <a:off x="2705040" y="3619800"/>
              <a:ext cx="47160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6" name="Rectangle 38"/>
            <p:cNvSpPr/>
            <p:nvPr/>
          </p:nvSpPr>
          <p:spPr>
            <a:xfrm>
              <a:off x="4549680" y="2133720"/>
              <a:ext cx="460440" cy="5065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7" name="Rectangle 39"/>
            <p:cNvSpPr/>
            <p:nvPr/>
          </p:nvSpPr>
          <p:spPr>
            <a:xfrm>
              <a:off x="2705040" y="2133720"/>
              <a:ext cx="471600" cy="5065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8" name="Rectangle 40"/>
            <p:cNvSpPr/>
            <p:nvPr/>
          </p:nvSpPr>
          <p:spPr>
            <a:xfrm>
              <a:off x="3176640" y="2640240"/>
              <a:ext cx="447840" cy="48564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9" name="Rectangle 41"/>
            <p:cNvSpPr/>
            <p:nvPr/>
          </p:nvSpPr>
          <p:spPr>
            <a:xfrm>
              <a:off x="3624480" y="2133720"/>
              <a:ext cx="460080" cy="5065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0" name="Rectangle 42"/>
            <p:cNvSpPr/>
            <p:nvPr/>
          </p:nvSpPr>
          <p:spPr>
            <a:xfrm>
              <a:off x="4084560" y="2640240"/>
              <a:ext cx="465120" cy="48564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1" name="Rectangle 43"/>
            <p:cNvSpPr/>
            <p:nvPr/>
          </p:nvSpPr>
          <p:spPr>
            <a:xfrm>
              <a:off x="2705040" y="3125880"/>
              <a:ext cx="471600" cy="4939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2" name="Rectangle 44"/>
            <p:cNvSpPr/>
            <p:nvPr/>
          </p:nvSpPr>
          <p:spPr>
            <a:xfrm>
              <a:off x="3176640" y="3619800"/>
              <a:ext cx="44784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3" name="Rectangle 45"/>
            <p:cNvSpPr/>
            <p:nvPr/>
          </p:nvSpPr>
          <p:spPr>
            <a:xfrm>
              <a:off x="3624480" y="3125880"/>
              <a:ext cx="460080" cy="4939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4" name="Rectangle 46"/>
            <p:cNvSpPr/>
            <p:nvPr/>
          </p:nvSpPr>
          <p:spPr>
            <a:xfrm>
              <a:off x="4084560" y="3619800"/>
              <a:ext cx="46512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5" name="Rectangle 47"/>
            <p:cNvSpPr/>
            <p:nvPr/>
          </p:nvSpPr>
          <p:spPr>
            <a:xfrm>
              <a:off x="5010120" y="2640240"/>
              <a:ext cx="465120" cy="48564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6" name="Rectangle 48"/>
            <p:cNvSpPr/>
            <p:nvPr/>
          </p:nvSpPr>
          <p:spPr>
            <a:xfrm>
              <a:off x="5475240" y="2133720"/>
              <a:ext cx="459000" cy="5065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7" name="Rectangle 49"/>
            <p:cNvSpPr/>
            <p:nvPr/>
          </p:nvSpPr>
          <p:spPr>
            <a:xfrm>
              <a:off x="5934240" y="2640240"/>
              <a:ext cx="466560" cy="48564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8" name="Rectangle 50"/>
            <p:cNvSpPr/>
            <p:nvPr/>
          </p:nvSpPr>
          <p:spPr>
            <a:xfrm>
              <a:off x="4549680" y="3125880"/>
              <a:ext cx="460440" cy="4939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9" name="Rectangle 51"/>
            <p:cNvSpPr/>
            <p:nvPr/>
          </p:nvSpPr>
          <p:spPr>
            <a:xfrm>
              <a:off x="5010120" y="3619800"/>
              <a:ext cx="46512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0" name="Rectangle 52"/>
            <p:cNvSpPr/>
            <p:nvPr/>
          </p:nvSpPr>
          <p:spPr>
            <a:xfrm>
              <a:off x="5475240" y="3125880"/>
              <a:ext cx="459000" cy="4939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1" name="Rectangle 53"/>
            <p:cNvSpPr/>
            <p:nvPr/>
          </p:nvSpPr>
          <p:spPr>
            <a:xfrm>
              <a:off x="5934240" y="3619800"/>
              <a:ext cx="46656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2" name="Rectangle 54"/>
            <p:cNvSpPr/>
            <p:nvPr/>
          </p:nvSpPr>
          <p:spPr>
            <a:xfrm>
              <a:off x="4549680" y="4118400"/>
              <a:ext cx="460440" cy="4935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3" name="Rectangle 55"/>
            <p:cNvSpPr/>
            <p:nvPr/>
          </p:nvSpPr>
          <p:spPr>
            <a:xfrm>
              <a:off x="5010120" y="4611960"/>
              <a:ext cx="46512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4" name="Rectangle 56"/>
            <p:cNvSpPr/>
            <p:nvPr/>
          </p:nvSpPr>
          <p:spPr>
            <a:xfrm>
              <a:off x="5475240" y="4118400"/>
              <a:ext cx="459000" cy="4935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5" name="Rectangle 57"/>
            <p:cNvSpPr/>
            <p:nvPr/>
          </p:nvSpPr>
          <p:spPr>
            <a:xfrm>
              <a:off x="5934240" y="4611960"/>
              <a:ext cx="46656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6" name="Rectangle 58"/>
            <p:cNvSpPr/>
            <p:nvPr/>
          </p:nvSpPr>
          <p:spPr>
            <a:xfrm>
              <a:off x="4549680" y="5110560"/>
              <a:ext cx="460440" cy="4824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7" name="Rectangle 59"/>
            <p:cNvSpPr/>
            <p:nvPr/>
          </p:nvSpPr>
          <p:spPr>
            <a:xfrm>
              <a:off x="5010120" y="5592960"/>
              <a:ext cx="465120" cy="5047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8" name="Rectangle 60"/>
            <p:cNvSpPr/>
            <p:nvPr/>
          </p:nvSpPr>
          <p:spPr>
            <a:xfrm>
              <a:off x="5475240" y="5110560"/>
              <a:ext cx="459000" cy="4824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9" name="Rectangle 61"/>
            <p:cNvSpPr/>
            <p:nvPr/>
          </p:nvSpPr>
          <p:spPr>
            <a:xfrm>
              <a:off x="5934240" y="5592960"/>
              <a:ext cx="466560" cy="5047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0" name="Rectangle 62"/>
            <p:cNvSpPr/>
            <p:nvPr/>
          </p:nvSpPr>
          <p:spPr>
            <a:xfrm>
              <a:off x="2705040" y="4118400"/>
              <a:ext cx="471600" cy="4935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1" name="Rectangle 63"/>
            <p:cNvSpPr/>
            <p:nvPr/>
          </p:nvSpPr>
          <p:spPr>
            <a:xfrm>
              <a:off x="3176640" y="4611960"/>
              <a:ext cx="44784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2" name="Rectangle 64"/>
            <p:cNvSpPr/>
            <p:nvPr/>
          </p:nvSpPr>
          <p:spPr>
            <a:xfrm>
              <a:off x="3624480" y="4118400"/>
              <a:ext cx="460080" cy="4935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3" name="Rectangle 65"/>
            <p:cNvSpPr/>
            <p:nvPr/>
          </p:nvSpPr>
          <p:spPr>
            <a:xfrm>
              <a:off x="4084560" y="4611960"/>
              <a:ext cx="46512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4" name="Rectangle 66"/>
            <p:cNvSpPr/>
            <p:nvPr/>
          </p:nvSpPr>
          <p:spPr>
            <a:xfrm>
              <a:off x="2705040" y="5110560"/>
              <a:ext cx="471600" cy="4824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5" name="Rectangle 67"/>
            <p:cNvSpPr/>
            <p:nvPr/>
          </p:nvSpPr>
          <p:spPr>
            <a:xfrm>
              <a:off x="3176640" y="5592960"/>
              <a:ext cx="447840" cy="5047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6" name="Rectangle 68"/>
            <p:cNvSpPr/>
            <p:nvPr/>
          </p:nvSpPr>
          <p:spPr>
            <a:xfrm>
              <a:off x="3624480" y="5110560"/>
              <a:ext cx="460080" cy="4824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7" name="Rectangle 69"/>
            <p:cNvSpPr/>
            <p:nvPr/>
          </p:nvSpPr>
          <p:spPr>
            <a:xfrm>
              <a:off x="4084560" y="5592960"/>
              <a:ext cx="465120" cy="5047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8" name="Rectangle 70"/>
            <p:cNvSpPr/>
            <p:nvPr/>
          </p:nvSpPr>
          <p:spPr>
            <a:xfrm>
              <a:off x="2705040" y="2133720"/>
              <a:ext cx="3695760" cy="3963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9" name="Freeform 71"/>
            <p:cNvSpPr/>
            <p:nvPr/>
          </p:nvSpPr>
          <p:spPr>
            <a:xfrm>
              <a:off x="3768840" y="3240360"/>
              <a:ext cx="177840" cy="253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38" h="49">
                  <a:moveTo>
                    <a:pt x="0" y="45"/>
                  </a:moveTo>
                  <a:lnTo>
                    <a:pt x="0" y="41"/>
                  </a:lnTo>
                  <a:lnTo>
                    <a:pt x="12" y="37"/>
                  </a:lnTo>
                  <a:lnTo>
                    <a:pt x="14" y="29"/>
                  </a:lnTo>
                  <a:lnTo>
                    <a:pt x="14" y="23"/>
                  </a:lnTo>
                  <a:lnTo>
                    <a:pt x="6" y="21"/>
                  </a:lnTo>
                  <a:lnTo>
                    <a:pt x="14" y="19"/>
                  </a:lnTo>
                  <a:lnTo>
                    <a:pt x="10" y="18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2"/>
                  </a:lnTo>
                  <a:lnTo>
                    <a:pt x="34" y="10"/>
                  </a:lnTo>
                  <a:lnTo>
                    <a:pt x="32" y="16"/>
                  </a:lnTo>
                  <a:lnTo>
                    <a:pt x="26" y="19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26" y="29"/>
                  </a:lnTo>
                  <a:lnTo>
                    <a:pt x="28" y="37"/>
                  </a:lnTo>
                  <a:lnTo>
                    <a:pt x="38" y="41"/>
                  </a:lnTo>
                  <a:lnTo>
                    <a:pt x="38" y="49"/>
                  </a:lnTo>
                  <a:lnTo>
                    <a:pt x="0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0" name="Freeform 72"/>
            <p:cNvSpPr/>
            <p:nvPr/>
          </p:nvSpPr>
          <p:spPr>
            <a:xfrm>
              <a:off x="3768840" y="3240360"/>
              <a:ext cx="177840" cy="253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38" h="49">
                  <a:moveTo>
                    <a:pt x="0" y="45"/>
                  </a:moveTo>
                  <a:lnTo>
                    <a:pt x="0" y="41"/>
                  </a:lnTo>
                  <a:lnTo>
                    <a:pt x="12" y="37"/>
                  </a:lnTo>
                  <a:lnTo>
                    <a:pt x="14" y="29"/>
                  </a:lnTo>
                  <a:lnTo>
                    <a:pt x="14" y="23"/>
                  </a:lnTo>
                  <a:lnTo>
                    <a:pt x="6" y="21"/>
                  </a:lnTo>
                  <a:lnTo>
                    <a:pt x="14" y="19"/>
                  </a:lnTo>
                  <a:lnTo>
                    <a:pt x="10" y="18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2"/>
                  </a:lnTo>
                  <a:lnTo>
                    <a:pt x="34" y="10"/>
                  </a:lnTo>
                  <a:lnTo>
                    <a:pt x="32" y="16"/>
                  </a:lnTo>
                  <a:lnTo>
                    <a:pt x="26" y="19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26" y="29"/>
                  </a:lnTo>
                  <a:lnTo>
                    <a:pt x="28" y="37"/>
                  </a:lnTo>
                  <a:lnTo>
                    <a:pt x="38" y="41"/>
                  </a:lnTo>
                  <a:lnTo>
                    <a:pt x="38" y="49"/>
                  </a:lnTo>
                  <a:lnTo>
                    <a:pt x="0" y="49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1" name="Line 73"/>
            <p:cNvSpPr/>
            <p:nvPr/>
          </p:nvSpPr>
          <p:spPr>
            <a:xfrm>
              <a:off x="3835440" y="3340440"/>
              <a:ext cx="5544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2" name="Line 74"/>
            <p:cNvSpPr/>
            <p:nvPr/>
          </p:nvSpPr>
          <p:spPr>
            <a:xfrm>
              <a:off x="3835440" y="3364200"/>
              <a:ext cx="5544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3" name="Line 75"/>
            <p:cNvSpPr/>
            <p:nvPr/>
          </p:nvSpPr>
          <p:spPr>
            <a:xfrm>
              <a:off x="3824280" y="3435480"/>
              <a:ext cx="77760" cy="12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4" name="Line 76"/>
            <p:cNvSpPr/>
            <p:nvPr/>
          </p:nvSpPr>
          <p:spPr>
            <a:xfrm>
              <a:off x="3768840" y="3453120"/>
              <a:ext cx="17784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5" name="Line 77"/>
            <p:cNvSpPr/>
            <p:nvPr/>
          </p:nvSpPr>
          <p:spPr>
            <a:xfrm>
              <a:off x="3768840" y="3476880"/>
              <a:ext cx="17784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6" name="Freeform 78"/>
            <p:cNvSpPr/>
            <p:nvPr/>
          </p:nvSpPr>
          <p:spPr>
            <a:xfrm>
              <a:off x="3297240" y="2752920"/>
              <a:ext cx="193680" cy="2430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0" h="47">
                  <a:moveTo>
                    <a:pt x="0" y="45"/>
                  </a:moveTo>
                  <a:lnTo>
                    <a:pt x="2" y="41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6" y="21"/>
                  </a:lnTo>
                  <a:lnTo>
                    <a:pt x="6" y="21"/>
                  </a:lnTo>
                  <a:lnTo>
                    <a:pt x="16" y="18"/>
                  </a:lnTo>
                  <a:lnTo>
                    <a:pt x="12" y="16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6" y="10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36" y="21"/>
                  </a:lnTo>
                  <a:lnTo>
                    <a:pt x="28" y="21"/>
                  </a:lnTo>
                  <a:lnTo>
                    <a:pt x="28" y="29"/>
                  </a:lnTo>
                  <a:lnTo>
                    <a:pt x="30" y="37"/>
                  </a:lnTo>
                  <a:lnTo>
                    <a:pt x="40" y="41"/>
                  </a:lnTo>
                  <a:lnTo>
                    <a:pt x="40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7" name="Freeform 79"/>
            <p:cNvSpPr/>
            <p:nvPr/>
          </p:nvSpPr>
          <p:spPr>
            <a:xfrm>
              <a:off x="3297240" y="2752920"/>
              <a:ext cx="193680" cy="2430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0" h="47">
                  <a:moveTo>
                    <a:pt x="0" y="45"/>
                  </a:moveTo>
                  <a:lnTo>
                    <a:pt x="2" y="41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6" y="21"/>
                  </a:lnTo>
                  <a:lnTo>
                    <a:pt x="6" y="21"/>
                  </a:lnTo>
                  <a:lnTo>
                    <a:pt x="16" y="18"/>
                  </a:lnTo>
                  <a:lnTo>
                    <a:pt x="12" y="16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6" y="10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36" y="21"/>
                  </a:lnTo>
                  <a:lnTo>
                    <a:pt x="28" y="21"/>
                  </a:lnTo>
                  <a:lnTo>
                    <a:pt x="28" y="29"/>
                  </a:lnTo>
                  <a:lnTo>
                    <a:pt x="30" y="37"/>
                  </a:lnTo>
                  <a:lnTo>
                    <a:pt x="40" y="41"/>
                  </a:lnTo>
                  <a:lnTo>
                    <a:pt x="40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8" name="Line 80"/>
            <p:cNvSpPr/>
            <p:nvPr/>
          </p:nvSpPr>
          <p:spPr>
            <a:xfrm>
              <a:off x="3375000" y="2841840"/>
              <a:ext cx="558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9" name="Line 81"/>
            <p:cNvSpPr/>
            <p:nvPr/>
          </p:nvSpPr>
          <p:spPr>
            <a:xfrm>
              <a:off x="3375000" y="286560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0" name="Line 82"/>
            <p:cNvSpPr/>
            <p:nvPr/>
          </p:nvSpPr>
          <p:spPr>
            <a:xfrm>
              <a:off x="3363840" y="2941920"/>
              <a:ext cx="7776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1" name="Line 83"/>
            <p:cNvSpPr/>
            <p:nvPr/>
          </p:nvSpPr>
          <p:spPr>
            <a:xfrm>
              <a:off x="3308400" y="2965680"/>
              <a:ext cx="18252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2" name="Line 84"/>
            <p:cNvSpPr/>
            <p:nvPr/>
          </p:nvSpPr>
          <p:spPr>
            <a:xfrm>
              <a:off x="3308400" y="2984760"/>
              <a:ext cx="1825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3" name="Freeform 85"/>
            <p:cNvSpPr/>
            <p:nvPr/>
          </p:nvSpPr>
          <p:spPr>
            <a:xfrm>
              <a:off x="4222800" y="2752920"/>
              <a:ext cx="193680" cy="2430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2" y="41"/>
                  </a:lnTo>
                  <a:lnTo>
                    <a:pt x="14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6" y="18"/>
                  </a:lnTo>
                  <a:lnTo>
                    <a:pt x="12" y="16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6" y="10"/>
                  </a:lnTo>
                  <a:lnTo>
                    <a:pt x="32" y="16"/>
                  </a:lnTo>
                  <a:lnTo>
                    <a:pt x="26" y="18"/>
                  </a:lnTo>
                  <a:lnTo>
                    <a:pt x="36" y="21"/>
                  </a:lnTo>
                  <a:lnTo>
                    <a:pt x="28" y="21"/>
                  </a:lnTo>
                  <a:lnTo>
                    <a:pt x="28" y="29"/>
                  </a:lnTo>
                  <a:lnTo>
                    <a:pt x="28" y="37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4" name="Freeform 86"/>
            <p:cNvSpPr/>
            <p:nvPr/>
          </p:nvSpPr>
          <p:spPr>
            <a:xfrm>
              <a:off x="4222800" y="2752920"/>
              <a:ext cx="193680" cy="2430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2" y="41"/>
                  </a:lnTo>
                  <a:lnTo>
                    <a:pt x="14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6" y="18"/>
                  </a:lnTo>
                  <a:lnTo>
                    <a:pt x="12" y="16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6" y="10"/>
                  </a:lnTo>
                  <a:lnTo>
                    <a:pt x="32" y="16"/>
                  </a:lnTo>
                  <a:lnTo>
                    <a:pt x="26" y="18"/>
                  </a:lnTo>
                  <a:lnTo>
                    <a:pt x="36" y="21"/>
                  </a:lnTo>
                  <a:lnTo>
                    <a:pt x="28" y="21"/>
                  </a:lnTo>
                  <a:lnTo>
                    <a:pt x="28" y="29"/>
                  </a:lnTo>
                  <a:lnTo>
                    <a:pt x="28" y="37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5" name="Line 87"/>
            <p:cNvSpPr/>
            <p:nvPr/>
          </p:nvSpPr>
          <p:spPr>
            <a:xfrm>
              <a:off x="4300560" y="2841840"/>
              <a:ext cx="493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6" name="Line 88"/>
            <p:cNvSpPr/>
            <p:nvPr/>
          </p:nvSpPr>
          <p:spPr>
            <a:xfrm>
              <a:off x="4300560" y="2865600"/>
              <a:ext cx="6048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7" name="Line 89"/>
            <p:cNvSpPr/>
            <p:nvPr/>
          </p:nvSpPr>
          <p:spPr>
            <a:xfrm>
              <a:off x="4289400" y="2941920"/>
              <a:ext cx="7164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8" name="Line 90"/>
            <p:cNvSpPr/>
            <p:nvPr/>
          </p:nvSpPr>
          <p:spPr>
            <a:xfrm>
              <a:off x="4233960" y="2965680"/>
              <a:ext cx="18252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9" name="Line 91"/>
            <p:cNvSpPr/>
            <p:nvPr/>
          </p:nvSpPr>
          <p:spPr>
            <a:xfrm>
              <a:off x="4233960" y="2984760"/>
              <a:ext cx="1825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0" name="Freeform 92"/>
            <p:cNvSpPr/>
            <p:nvPr/>
          </p:nvSpPr>
          <p:spPr>
            <a:xfrm>
              <a:off x="4222800" y="4737240"/>
              <a:ext cx="193680" cy="2430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2" y="41"/>
                  </a:lnTo>
                  <a:lnTo>
                    <a:pt x="14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6" y="17"/>
                  </a:lnTo>
                  <a:lnTo>
                    <a:pt x="12" y="15"/>
                  </a:lnTo>
                  <a:lnTo>
                    <a:pt x="8" y="9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6" y="9"/>
                  </a:lnTo>
                  <a:lnTo>
                    <a:pt x="32" y="15"/>
                  </a:lnTo>
                  <a:lnTo>
                    <a:pt x="26" y="17"/>
                  </a:lnTo>
                  <a:lnTo>
                    <a:pt x="36" y="19"/>
                  </a:lnTo>
                  <a:lnTo>
                    <a:pt x="28" y="21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1" name="Freeform 93"/>
            <p:cNvSpPr/>
            <p:nvPr/>
          </p:nvSpPr>
          <p:spPr>
            <a:xfrm>
              <a:off x="4222800" y="4737240"/>
              <a:ext cx="193680" cy="2430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2" y="41"/>
                  </a:lnTo>
                  <a:lnTo>
                    <a:pt x="14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6" y="17"/>
                  </a:lnTo>
                  <a:lnTo>
                    <a:pt x="12" y="15"/>
                  </a:lnTo>
                  <a:lnTo>
                    <a:pt x="8" y="9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6" y="9"/>
                  </a:lnTo>
                  <a:lnTo>
                    <a:pt x="32" y="15"/>
                  </a:lnTo>
                  <a:lnTo>
                    <a:pt x="26" y="17"/>
                  </a:lnTo>
                  <a:lnTo>
                    <a:pt x="36" y="19"/>
                  </a:lnTo>
                  <a:lnTo>
                    <a:pt x="28" y="21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2" name="Line 94"/>
            <p:cNvSpPr/>
            <p:nvPr/>
          </p:nvSpPr>
          <p:spPr>
            <a:xfrm>
              <a:off x="4300560" y="4826160"/>
              <a:ext cx="493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3" name="Line 95"/>
            <p:cNvSpPr/>
            <p:nvPr/>
          </p:nvSpPr>
          <p:spPr>
            <a:xfrm>
              <a:off x="4300560" y="4849920"/>
              <a:ext cx="6048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4" name="Line 96"/>
            <p:cNvSpPr/>
            <p:nvPr/>
          </p:nvSpPr>
          <p:spPr>
            <a:xfrm>
              <a:off x="4289400" y="4921560"/>
              <a:ext cx="716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5" name="Line 97"/>
            <p:cNvSpPr/>
            <p:nvPr/>
          </p:nvSpPr>
          <p:spPr>
            <a:xfrm>
              <a:off x="4233960" y="4950000"/>
              <a:ext cx="18252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6" name="Line 98"/>
            <p:cNvSpPr/>
            <p:nvPr/>
          </p:nvSpPr>
          <p:spPr>
            <a:xfrm>
              <a:off x="4233960" y="4969080"/>
              <a:ext cx="1825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7" name="Freeform 99"/>
            <p:cNvSpPr/>
            <p:nvPr/>
          </p:nvSpPr>
          <p:spPr>
            <a:xfrm>
              <a:off x="2809800" y="5194440"/>
              <a:ext cx="249480" cy="3207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51" h="60">
                  <a:moveTo>
                    <a:pt x="0" y="56"/>
                  </a:moveTo>
                  <a:lnTo>
                    <a:pt x="0" y="51"/>
                  </a:lnTo>
                  <a:lnTo>
                    <a:pt x="15" y="41"/>
                  </a:lnTo>
                  <a:lnTo>
                    <a:pt x="15" y="27"/>
                  </a:lnTo>
                  <a:lnTo>
                    <a:pt x="11" y="17"/>
                  </a:lnTo>
                  <a:lnTo>
                    <a:pt x="9" y="6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3" y="27"/>
                  </a:lnTo>
                  <a:lnTo>
                    <a:pt x="35" y="33"/>
                  </a:lnTo>
                  <a:lnTo>
                    <a:pt x="35" y="41"/>
                  </a:lnTo>
                  <a:lnTo>
                    <a:pt x="49" y="51"/>
                  </a:lnTo>
                  <a:lnTo>
                    <a:pt x="51" y="60"/>
                  </a:lnTo>
                  <a:lnTo>
                    <a:pt x="0" y="6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8" name="Freeform 100"/>
            <p:cNvSpPr/>
            <p:nvPr/>
          </p:nvSpPr>
          <p:spPr>
            <a:xfrm>
              <a:off x="2809800" y="5194440"/>
              <a:ext cx="249480" cy="3207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51" h="60">
                  <a:moveTo>
                    <a:pt x="0" y="56"/>
                  </a:moveTo>
                  <a:lnTo>
                    <a:pt x="0" y="51"/>
                  </a:lnTo>
                  <a:lnTo>
                    <a:pt x="15" y="41"/>
                  </a:lnTo>
                  <a:lnTo>
                    <a:pt x="15" y="27"/>
                  </a:lnTo>
                  <a:lnTo>
                    <a:pt x="11" y="17"/>
                  </a:lnTo>
                  <a:lnTo>
                    <a:pt x="9" y="6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3" y="27"/>
                  </a:lnTo>
                  <a:lnTo>
                    <a:pt x="35" y="33"/>
                  </a:lnTo>
                  <a:lnTo>
                    <a:pt x="35" y="41"/>
                  </a:lnTo>
                  <a:lnTo>
                    <a:pt x="49" y="51"/>
                  </a:lnTo>
                  <a:lnTo>
                    <a:pt x="51" y="60"/>
                  </a:lnTo>
                  <a:lnTo>
                    <a:pt x="0" y="60"/>
                  </a:lnTo>
                  <a:lnTo>
                    <a:pt x="0" y="5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9" name="Line 101"/>
            <p:cNvSpPr/>
            <p:nvPr/>
          </p:nvSpPr>
          <p:spPr>
            <a:xfrm>
              <a:off x="2820960" y="5461200"/>
              <a:ext cx="23328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0" name="Line 102"/>
            <p:cNvSpPr/>
            <p:nvPr/>
          </p:nvSpPr>
          <p:spPr>
            <a:xfrm>
              <a:off x="2809800" y="5491440"/>
              <a:ext cx="2444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1" name="Line 103"/>
            <p:cNvSpPr/>
            <p:nvPr/>
          </p:nvSpPr>
          <p:spPr>
            <a:xfrm>
              <a:off x="2860560" y="5224680"/>
              <a:ext cx="1429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2" name="Line 104"/>
            <p:cNvSpPr/>
            <p:nvPr/>
          </p:nvSpPr>
          <p:spPr>
            <a:xfrm>
              <a:off x="2860560" y="5259600"/>
              <a:ext cx="13212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3" name="Line 105"/>
            <p:cNvSpPr/>
            <p:nvPr/>
          </p:nvSpPr>
          <p:spPr>
            <a:xfrm>
              <a:off x="2871720" y="5289840"/>
              <a:ext cx="12096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4" name="Line 106"/>
            <p:cNvSpPr/>
            <p:nvPr/>
          </p:nvSpPr>
          <p:spPr>
            <a:xfrm>
              <a:off x="2887560" y="5409000"/>
              <a:ext cx="93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5" name="Freeform 107"/>
            <p:cNvSpPr/>
            <p:nvPr/>
          </p:nvSpPr>
          <p:spPr>
            <a:xfrm>
              <a:off x="2776680" y="3179880"/>
              <a:ext cx="322200" cy="3985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66" h="78">
                  <a:moveTo>
                    <a:pt x="2" y="78"/>
                  </a:moveTo>
                  <a:lnTo>
                    <a:pt x="63" y="78"/>
                  </a:lnTo>
                  <a:lnTo>
                    <a:pt x="63" y="67"/>
                  </a:lnTo>
                  <a:lnTo>
                    <a:pt x="45" y="61"/>
                  </a:lnTo>
                  <a:lnTo>
                    <a:pt x="63" y="57"/>
                  </a:lnTo>
                  <a:lnTo>
                    <a:pt x="66" y="41"/>
                  </a:lnTo>
                  <a:lnTo>
                    <a:pt x="66" y="33"/>
                  </a:lnTo>
                  <a:lnTo>
                    <a:pt x="57" y="20"/>
                  </a:lnTo>
                  <a:lnTo>
                    <a:pt x="45" y="18"/>
                  </a:lnTo>
                  <a:lnTo>
                    <a:pt x="35" y="24"/>
                  </a:lnTo>
                  <a:lnTo>
                    <a:pt x="35" y="12"/>
                  </a:lnTo>
                  <a:lnTo>
                    <a:pt x="41" y="12"/>
                  </a:lnTo>
                  <a:lnTo>
                    <a:pt x="41" y="6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3" y="6"/>
                  </a:lnTo>
                  <a:lnTo>
                    <a:pt x="23" y="12"/>
                  </a:lnTo>
                  <a:lnTo>
                    <a:pt x="29" y="12"/>
                  </a:lnTo>
                  <a:lnTo>
                    <a:pt x="29" y="24"/>
                  </a:lnTo>
                  <a:lnTo>
                    <a:pt x="21" y="18"/>
                  </a:lnTo>
                  <a:lnTo>
                    <a:pt x="8" y="2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21" y="61"/>
                  </a:lnTo>
                  <a:lnTo>
                    <a:pt x="2" y="67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6" name="Freeform 108"/>
            <p:cNvSpPr/>
            <p:nvPr/>
          </p:nvSpPr>
          <p:spPr>
            <a:xfrm>
              <a:off x="2776680" y="3179880"/>
              <a:ext cx="322200" cy="3985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66" h="78">
                  <a:moveTo>
                    <a:pt x="2" y="78"/>
                  </a:moveTo>
                  <a:lnTo>
                    <a:pt x="63" y="78"/>
                  </a:lnTo>
                  <a:lnTo>
                    <a:pt x="63" y="67"/>
                  </a:lnTo>
                  <a:lnTo>
                    <a:pt x="45" y="61"/>
                  </a:lnTo>
                  <a:lnTo>
                    <a:pt x="63" y="57"/>
                  </a:lnTo>
                  <a:lnTo>
                    <a:pt x="66" y="41"/>
                  </a:lnTo>
                  <a:lnTo>
                    <a:pt x="66" y="33"/>
                  </a:lnTo>
                  <a:lnTo>
                    <a:pt x="57" y="20"/>
                  </a:lnTo>
                  <a:lnTo>
                    <a:pt x="45" y="18"/>
                  </a:lnTo>
                  <a:lnTo>
                    <a:pt x="35" y="24"/>
                  </a:lnTo>
                  <a:lnTo>
                    <a:pt x="35" y="12"/>
                  </a:lnTo>
                  <a:lnTo>
                    <a:pt x="41" y="12"/>
                  </a:lnTo>
                  <a:lnTo>
                    <a:pt x="41" y="6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3" y="6"/>
                  </a:lnTo>
                  <a:lnTo>
                    <a:pt x="23" y="12"/>
                  </a:lnTo>
                  <a:lnTo>
                    <a:pt x="29" y="12"/>
                  </a:lnTo>
                  <a:lnTo>
                    <a:pt x="29" y="24"/>
                  </a:lnTo>
                  <a:lnTo>
                    <a:pt x="21" y="18"/>
                  </a:lnTo>
                  <a:lnTo>
                    <a:pt x="8" y="2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21" y="61"/>
                  </a:lnTo>
                  <a:lnTo>
                    <a:pt x="2" y="67"/>
                  </a:lnTo>
                  <a:lnTo>
                    <a:pt x="2" y="7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7" name="Line 109"/>
            <p:cNvSpPr/>
            <p:nvPr/>
          </p:nvSpPr>
          <p:spPr>
            <a:xfrm>
              <a:off x="2782800" y="3578400"/>
              <a:ext cx="2984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8" name="Line 110"/>
            <p:cNvSpPr/>
            <p:nvPr/>
          </p:nvSpPr>
          <p:spPr>
            <a:xfrm flipV="1">
              <a:off x="2782800" y="3517920"/>
              <a:ext cx="11160" cy="6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9" name="Line 111"/>
            <p:cNvSpPr/>
            <p:nvPr/>
          </p:nvSpPr>
          <p:spPr>
            <a:xfrm>
              <a:off x="2782800" y="3518280"/>
              <a:ext cx="29844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0" name="Line 112"/>
            <p:cNvSpPr/>
            <p:nvPr/>
          </p:nvSpPr>
          <p:spPr>
            <a:xfrm>
              <a:off x="3081240" y="3518280"/>
              <a:ext cx="6480" cy="6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1" name="Line 113"/>
            <p:cNvSpPr/>
            <p:nvPr/>
          </p:nvSpPr>
          <p:spPr>
            <a:xfrm>
              <a:off x="2782800" y="3548160"/>
              <a:ext cx="298440" cy="12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2" name="Line 114"/>
            <p:cNvSpPr/>
            <p:nvPr/>
          </p:nvSpPr>
          <p:spPr>
            <a:xfrm flipV="1">
              <a:off x="2782800" y="3489480"/>
              <a:ext cx="10008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3" name="Line 115"/>
            <p:cNvSpPr/>
            <p:nvPr/>
          </p:nvSpPr>
          <p:spPr>
            <a:xfrm>
              <a:off x="2882880" y="3489480"/>
              <a:ext cx="10980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4" name="Line 116"/>
            <p:cNvSpPr/>
            <p:nvPr/>
          </p:nvSpPr>
          <p:spPr>
            <a:xfrm>
              <a:off x="2992680" y="3489480"/>
              <a:ext cx="8856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5" name="Freeform 117"/>
            <p:cNvSpPr/>
            <p:nvPr/>
          </p:nvSpPr>
          <p:spPr>
            <a:xfrm>
              <a:off x="6012000" y="5645520"/>
              <a:ext cx="311040" cy="4111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7" h="78">
                  <a:moveTo>
                    <a:pt x="2" y="78"/>
                  </a:moveTo>
                  <a:lnTo>
                    <a:pt x="63" y="78"/>
                  </a:lnTo>
                  <a:lnTo>
                    <a:pt x="63" y="66"/>
                  </a:lnTo>
                  <a:lnTo>
                    <a:pt x="45" y="60"/>
                  </a:lnTo>
                  <a:lnTo>
                    <a:pt x="63" y="57"/>
                  </a:lnTo>
                  <a:lnTo>
                    <a:pt x="67" y="41"/>
                  </a:lnTo>
                  <a:lnTo>
                    <a:pt x="67" y="33"/>
                  </a:lnTo>
                  <a:lnTo>
                    <a:pt x="57" y="21"/>
                  </a:lnTo>
                  <a:lnTo>
                    <a:pt x="45" y="17"/>
                  </a:lnTo>
                  <a:lnTo>
                    <a:pt x="35" y="23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1" y="6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24" y="11"/>
                  </a:lnTo>
                  <a:lnTo>
                    <a:pt x="29" y="11"/>
                  </a:lnTo>
                  <a:lnTo>
                    <a:pt x="29" y="23"/>
                  </a:lnTo>
                  <a:lnTo>
                    <a:pt x="22" y="17"/>
                  </a:lnTo>
                  <a:lnTo>
                    <a:pt x="8" y="21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22" y="60"/>
                  </a:lnTo>
                  <a:lnTo>
                    <a:pt x="2" y="66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6" name="Freeform 118"/>
            <p:cNvSpPr/>
            <p:nvPr/>
          </p:nvSpPr>
          <p:spPr>
            <a:xfrm>
              <a:off x="6012000" y="5645520"/>
              <a:ext cx="311040" cy="4111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7" h="78">
                  <a:moveTo>
                    <a:pt x="2" y="78"/>
                  </a:moveTo>
                  <a:lnTo>
                    <a:pt x="63" y="78"/>
                  </a:lnTo>
                  <a:lnTo>
                    <a:pt x="63" y="66"/>
                  </a:lnTo>
                  <a:lnTo>
                    <a:pt x="45" y="60"/>
                  </a:lnTo>
                  <a:lnTo>
                    <a:pt x="63" y="57"/>
                  </a:lnTo>
                  <a:lnTo>
                    <a:pt x="67" y="41"/>
                  </a:lnTo>
                  <a:lnTo>
                    <a:pt x="67" y="33"/>
                  </a:lnTo>
                  <a:lnTo>
                    <a:pt x="57" y="21"/>
                  </a:lnTo>
                  <a:lnTo>
                    <a:pt x="45" y="17"/>
                  </a:lnTo>
                  <a:lnTo>
                    <a:pt x="35" y="23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1" y="6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24" y="11"/>
                  </a:lnTo>
                  <a:lnTo>
                    <a:pt x="29" y="11"/>
                  </a:lnTo>
                  <a:lnTo>
                    <a:pt x="29" y="23"/>
                  </a:lnTo>
                  <a:lnTo>
                    <a:pt x="22" y="17"/>
                  </a:lnTo>
                  <a:lnTo>
                    <a:pt x="8" y="21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22" y="60"/>
                  </a:lnTo>
                  <a:lnTo>
                    <a:pt x="2" y="66"/>
                  </a:lnTo>
                  <a:lnTo>
                    <a:pt x="2" y="7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7" name="Freeform 119"/>
            <p:cNvSpPr/>
            <p:nvPr/>
          </p:nvSpPr>
          <p:spPr>
            <a:xfrm>
              <a:off x="4694400" y="4737240"/>
              <a:ext cx="182520" cy="243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7">
                  <a:moveTo>
                    <a:pt x="0" y="45"/>
                  </a:moveTo>
                  <a:lnTo>
                    <a:pt x="0" y="41"/>
                  </a:lnTo>
                  <a:lnTo>
                    <a:pt x="12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4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6" y="9"/>
                  </a:lnTo>
                  <a:lnTo>
                    <a:pt x="10" y="2"/>
                  </a:lnTo>
                  <a:lnTo>
                    <a:pt x="20" y="0"/>
                  </a:lnTo>
                  <a:lnTo>
                    <a:pt x="29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6" y="17"/>
                  </a:lnTo>
                  <a:lnTo>
                    <a:pt x="33" y="19"/>
                  </a:lnTo>
                  <a:lnTo>
                    <a:pt x="26" y="21"/>
                  </a:lnTo>
                  <a:lnTo>
                    <a:pt x="26" y="29"/>
                  </a:lnTo>
                  <a:lnTo>
                    <a:pt x="28" y="35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8" name="Freeform 120"/>
            <p:cNvSpPr/>
            <p:nvPr/>
          </p:nvSpPr>
          <p:spPr>
            <a:xfrm>
              <a:off x="4694400" y="4737240"/>
              <a:ext cx="182520" cy="243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7">
                  <a:moveTo>
                    <a:pt x="0" y="45"/>
                  </a:moveTo>
                  <a:lnTo>
                    <a:pt x="0" y="41"/>
                  </a:lnTo>
                  <a:lnTo>
                    <a:pt x="12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4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6" y="9"/>
                  </a:lnTo>
                  <a:lnTo>
                    <a:pt x="10" y="2"/>
                  </a:lnTo>
                  <a:lnTo>
                    <a:pt x="20" y="0"/>
                  </a:lnTo>
                  <a:lnTo>
                    <a:pt x="29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6" y="17"/>
                  </a:lnTo>
                  <a:lnTo>
                    <a:pt x="33" y="19"/>
                  </a:lnTo>
                  <a:lnTo>
                    <a:pt x="26" y="21"/>
                  </a:lnTo>
                  <a:lnTo>
                    <a:pt x="26" y="29"/>
                  </a:lnTo>
                  <a:lnTo>
                    <a:pt x="28" y="35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9" name="Line 121"/>
            <p:cNvSpPr/>
            <p:nvPr/>
          </p:nvSpPr>
          <p:spPr>
            <a:xfrm>
              <a:off x="4761000" y="4826160"/>
              <a:ext cx="554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0" name="Line 122"/>
            <p:cNvSpPr/>
            <p:nvPr/>
          </p:nvSpPr>
          <p:spPr>
            <a:xfrm>
              <a:off x="4761000" y="4849920"/>
              <a:ext cx="5544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1" name="Line 123"/>
            <p:cNvSpPr/>
            <p:nvPr/>
          </p:nvSpPr>
          <p:spPr>
            <a:xfrm>
              <a:off x="4749840" y="4921560"/>
              <a:ext cx="7776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2" name="Line 124"/>
            <p:cNvSpPr/>
            <p:nvPr/>
          </p:nvSpPr>
          <p:spPr>
            <a:xfrm>
              <a:off x="4694400" y="4950000"/>
              <a:ext cx="18252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3" name="Line 125"/>
            <p:cNvSpPr/>
            <p:nvPr/>
          </p:nvSpPr>
          <p:spPr>
            <a:xfrm>
              <a:off x="4694400" y="4969080"/>
              <a:ext cx="1825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4" name="Freeform 126"/>
            <p:cNvSpPr/>
            <p:nvPr/>
          </p:nvSpPr>
          <p:spPr>
            <a:xfrm>
              <a:off x="5153040" y="4737240"/>
              <a:ext cx="189000" cy="243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4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8" y="9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5" y="17"/>
                  </a:lnTo>
                  <a:lnTo>
                    <a:pt x="35" y="19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5" name="Freeform 127"/>
            <p:cNvSpPr/>
            <p:nvPr/>
          </p:nvSpPr>
          <p:spPr>
            <a:xfrm>
              <a:off x="5153040" y="4737240"/>
              <a:ext cx="189000" cy="243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4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8" y="9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5" y="17"/>
                  </a:lnTo>
                  <a:lnTo>
                    <a:pt x="35" y="19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6" name="Line 128"/>
            <p:cNvSpPr/>
            <p:nvPr/>
          </p:nvSpPr>
          <p:spPr>
            <a:xfrm>
              <a:off x="5226120" y="4826160"/>
              <a:ext cx="493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7" name="Line 129"/>
            <p:cNvSpPr/>
            <p:nvPr/>
          </p:nvSpPr>
          <p:spPr>
            <a:xfrm>
              <a:off x="5219640" y="484992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8" name="Line 130"/>
            <p:cNvSpPr/>
            <p:nvPr/>
          </p:nvSpPr>
          <p:spPr>
            <a:xfrm>
              <a:off x="5219640" y="4921560"/>
              <a:ext cx="6696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9" name="Line 131"/>
            <p:cNvSpPr/>
            <p:nvPr/>
          </p:nvSpPr>
          <p:spPr>
            <a:xfrm>
              <a:off x="5159520" y="4950000"/>
              <a:ext cx="17136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0" name="Line 132"/>
            <p:cNvSpPr/>
            <p:nvPr/>
          </p:nvSpPr>
          <p:spPr>
            <a:xfrm>
              <a:off x="5153040" y="4969080"/>
              <a:ext cx="1890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1" name="Freeform 133"/>
            <p:cNvSpPr/>
            <p:nvPr/>
          </p:nvSpPr>
          <p:spPr>
            <a:xfrm>
              <a:off x="5619960" y="4737240"/>
              <a:ext cx="182520" cy="243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7">
                  <a:moveTo>
                    <a:pt x="0" y="45"/>
                  </a:moveTo>
                  <a:lnTo>
                    <a:pt x="0" y="41"/>
                  </a:lnTo>
                  <a:lnTo>
                    <a:pt x="12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4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9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5" y="17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2" name="Freeform 134"/>
            <p:cNvSpPr/>
            <p:nvPr/>
          </p:nvSpPr>
          <p:spPr>
            <a:xfrm>
              <a:off x="5619960" y="4737240"/>
              <a:ext cx="182520" cy="243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7">
                  <a:moveTo>
                    <a:pt x="0" y="45"/>
                  </a:moveTo>
                  <a:lnTo>
                    <a:pt x="0" y="41"/>
                  </a:lnTo>
                  <a:lnTo>
                    <a:pt x="12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4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9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5" y="17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3" name="Line 135"/>
            <p:cNvSpPr/>
            <p:nvPr/>
          </p:nvSpPr>
          <p:spPr>
            <a:xfrm>
              <a:off x="5684760" y="4826160"/>
              <a:ext cx="558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4" name="Line 136"/>
            <p:cNvSpPr/>
            <p:nvPr/>
          </p:nvSpPr>
          <p:spPr>
            <a:xfrm>
              <a:off x="5684760" y="484992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5" name="Line 137"/>
            <p:cNvSpPr/>
            <p:nvPr/>
          </p:nvSpPr>
          <p:spPr>
            <a:xfrm>
              <a:off x="5673960" y="4921560"/>
              <a:ext cx="7776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6" name="Line 138"/>
            <p:cNvSpPr/>
            <p:nvPr/>
          </p:nvSpPr>
          <p:spPr>
            <a:xfrm>
              <a:off x="5619960" y="4950000"/>
              <a:ext cx="18252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7" name="Line 139"/>
            <p:cNvSpPr/>
            <p:nvPr/>
          </p:nvSpPr>
          <p:spPr>
            <a:xfrm>
              <a:off x="5619960" y="4969080"/>
              <a:ext cx="1825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8" name="Freeform 140"/>
            <p:cNvSpPr/>
            <p:nvPr/>
          </p:nvSpPr>
          <p:spPr>
            <a:xfrm>
              <a:off x="6078600" y="4737240"/>
              <a:ext cx="177840" cy="243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2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8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5" y="17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37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9" name="Freeform 141"/>
            <p:cNvSpPr/>
            <p:nvPr/>
          </p:nvSpPr>
          <p:spPr>
            <a:xfrm>
              <a:off x="6078600" y="4737240"/>
              <a:ext cx="177840" cy="243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2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8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5" y="17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37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0" name="Line 142"/>
            <p:cNvSpPr/>
            <p:nvPr/>
          </p:nvSpPr>
          <p:spPr>
            <a:xfrm>
              <a:off x="6145200" y="4826160"/>
              <a:ext cx="558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1" name="Line 143"/>
            <p:cNvSpPr/>
            <p:nvPr/>
          </p:nvSpPr>
          <p:spPr>
            <a:xfrm>
              <a:off x="6145200" y="484992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2" name="Line 144"/>
            <p:cNvSpPr/>
            <p:nvPr/>
          </p:nvSpPr>
          <p:spPr>
            <a:xfrm>
              <a:off x="6134040" y="4921560"/>
              <a:ext cx="7776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3" name="Line 145"/>
            <p:cNvSpPr/>
            <p:nvPr/>
          </p:nvSpPr>
          <p:spPr>
            <a:xfrm>
              <a:off x="6078600" y="4950000"/>
              <a:ext cx="17784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4" name="Line 146"/>
            <p:cNvSpPr/>
            <p:nvPr/>
          </p:nvSpPr>
          <p:spPr>
            <a:xfrm>
              <a:off x="6078600" y="4969080"/>
              <a:ext cx="1778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5" name="Freeform 147"/>
            <p:cNvSpPr/>
            <p:nvPr/>
          </p:nvSpPr>
          <p:spPr>
            <a:xfrm>
              <a:off x="6078600" y="2752920"/>
              <a:ext cx="177840" cy="243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2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8" y="10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33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7"/>
                  </a:lnTo>
                  <a:lnTo>
                    <a:pt x="37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6" name="Freeform 148"/>
            <p:cNvSpPr/>
            <p:nvPr/>
          </p:nvSpPr>
          <p:spPr>
            <a:xfrm>
              <a:off x="6078600" y="2752920"/>
              <a:ext cx="177840" cy="243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2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8" y="10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33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7"/>
                  </a:lnTo>
                  <a:lnTo>
                    <a:pt x="37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7" name="Line 149"/>
            <p:cNvSpPr/>
            <p:nvPr/>
          </p:nvSpPr>
          <p:spPr>
            <a:xfrm>
              <a:off x="6145200" y="2841840"/>
              <a:ext cx="558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8" name="Line 150"/>
            <p:cNvSpPr/>
            <p:nvPr/>
          </p:nvSpPr>
          <p:spPr>
            <a:xfrm>
              <a:off x="6145200" y="286560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9" name="Line 151"/>
            <p:cNvSpPr/>
            <p:nvPr/>
          </p:nvSpPr>
          <p:spPr>
            <a:xfrm>
              <a:off x="6134040" y="2941920"/>
              <a:ext cx="7776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0" name="Line 152"/>
            <p:cNvSpPr/>
            <p:nvPr/>
          </p:nvSpPr>
          <p:spPr>
            <a:xfrm>
              <a:off x="6078600" y="2965680"/>
              <a:ext cx="17784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1" name="Line 153"/>
            <p:cNvSpPr/>
            <p:nvPr/>
          </p:nvSpPr>
          <p:spPr>
            <a:xfrm>
              <a:off x="6078600" y="2984760"/>
              <a:ext cx="1778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2" name="Freeform 154"/>
            <p:cNvSpPr/>
            <p:nvPr/>
          </p:nvSpPr>
          <p:spPr>
            <a:xfrm>
              <a:off x="5619960" y="2752920"/>
              <a:ext cx="182520" cy="243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7">
                  <a:moveTo>
                    <a:pt x="0" y="45"/>
                  </a:moveTo>
                  <a:lnTo>
                    <a:pt x="0" y="41"/>
                  </a:lnTo>
                  <a:lnTo>
                    <a:pt x="12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4" y="21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6" y="10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9" y="2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33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7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3" name="Freeform 155"/>
            <p:cNvSpPr/>
            <p:nvPr/>
          </p:nvSpPr>
          <p:spPr>
            <a:xfrm>
              <a:off x="5619960" y="2752920"/>
              <a:ext cx="182520" cy="243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7">
                  <a:moveTo>
                    <a:pt x="0" y="45"/>
                  </a:moveTo>
                  <a:lnTo>
                    <a:pt x="0" y="41"/>
                  </a:lnTo>
                  <a:lnTo>
                    <a:pt x="12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4" y="21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6" y="10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9" y="2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33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7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4" name="Line 156"/>
            <p:cNvSpPr/>
            <p:nvPr/>
          </p:nvSpPr>
          <p:spPr>
            <a:xfrm>
              <a:off x="5684760" y="2841840"/>
              <a:ext cx="558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5" name="Line 157"/>
            <p:cNvSpPr/>
            <p:nvPr/>
          </p:nvSpPr>
          <p:spPr>
            <a:xfrm>
              <a:off x="5684760" y="286560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6" name="Line 158"/>
            <p:cNvSpPr/>
            <p:nvPr/>
          </p:nvSpPr>
          <p:spPr>
            <a:xfrm>
              <a:off x="5673960" y="2941920"/>
              <a:ext cx="7776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7" name="Line 159"/>
            <p:cNvSpPr/>
            <p:nvPr/>
          </p:nvSpPr>
          <p:spPr>
            <a:xfrm>
              <a:off x="5619960" y="2965680"/>
              <a:ext cx="18252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8" name="Line 160"/>
            <p:cNvSpPr/>
            <p:nvPr/>
          </p:nvSpPr>
          <p:spPr>
            <a:xfrm>
              <a:off x="5619960" y="2984760"/>
              <a:ext cx="1825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9" name="Freeform 161"/>
            <p:cNvSpPr/>
            <p:nvPr/>
          </p:nvSpPr>
          <p:spPr>
            <a:xfrm>
              <a:off x="5153040" y="2752920"/>
              <a:ext cx="189000" cy="243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4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8" y="10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35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7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0" name="Freeform 162"/>
            <p:cNvSpPr/>
            <p:nvPr/>
          </p:nvSpPr>
          <p:spPr>
            <a:xfrm>
              <a:off x="5153040" y="2752920"/>
              <a:ext cx="189000" cy="243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4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8" y="10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35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7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1" name="Line 163"/>
            <p:cNvSpPr/>
            <p:nvPr/>
          </p:nvSpPr>
          <p:spPr>
            <a:xfrm>
              <a:off x="5226120" y="2841840"/>
              <a:ext cx="493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2" name="Line 164"/>
            <p:cNvSpPr/>
            <p:nvPr/>
          </p:nvSpPr>
          <p:spPr>
            <a:xfrm>
              <a:off x="5219640" y="286560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3" name="Line 165"/>
            <p:cNvSpPr/>
            <p:nvPr/>
          </p:nvSpPr>
          <p:spPr>
            <a:xfrm>
              <a:off x="5219640" y="2941920"/>
              <a:ext cx="6696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4" name="Line 166"/>
            <p:cNvSpPr/>
            <p:nvPr/>
          </p:nvSpPr>
          <p:spPr>
            <a:xfrm>
              <a:off x="5159520" y="2965680"/>
              <a:ext cx="17136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5" name="Line 167"/>
            <p:cNvSpPr/>
            <p:nvPr/>
          </p:nvSpPr>
          <p:spPr>
            <a:xfrm>
              <a:off x="5153040" y="2984760"/>
              <a:ext cx="1890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76" name="Text Box 168"/>
          <p:cNvSpPr/>
          <p:nvPr/>
        </p:nvSpPr>
        <p:spPr>
          <a:xfrm>
            <a:off x="3260520" y="628956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rni na pote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8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primj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gammo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ockica određuje sku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ih pote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mjesto kockice, koristićemo bacanje novčić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9" name="Picture 4" descr=""/>
          <p:cNvPicPr/>
          <p:nvPr/>
        </p:nvPicPr>
        <p:blipFill>
          <a:blip r:embed="rId1"/>
          <a:srcRect l="12015" t="6134" r="44331" b="68894"/>
          <a:stretch/>
        </p:blipFill>
        <p:spPr>
          <a:xfrm>
            <a:off x="1371600" y="2286000"/>
            <a:ext cx="5867280" cy="4343400"/>
          </a:xfrm>
          <a:prstGeom prst="rect">
            <a:avLst/>
          </a:prstGeom>
          <a:ln w="0">
            <a:noFill/>
          </a:ln>
        </p:spPr>
      </p:pic>
      <p:grpSp>
        <p:nvGrpSpPr>
          <p:cNvPr id="4780" name="Group 5"/>
          <p:cNvGrpSpPr/>
          <p:nvPr/>
        </p:nvGrpSpPr>
        <p:grpSpPr>
          <a:xfrm>
            <a:off x="2666880" y="5181120"/>
            <a:ext cx="3733920" cy="304920"/>
            <a:chOff x="2666880" y="5181120"/>
            <a:chExt cx="3733920" cy="304920"/>
          </a:xfrm>
        </p:grpSpPr>
        <p:sp>
          <p:nvSpPr>
            <p:cNvPr id="4781" name="Rectangle 6"/>
            <p:cNvSpPr/>
            <p:nvPr/>
          </p:nvSpPr>
          <p:spPr>
            <a:xfrm flipV="1">
              <a:off x="6095880" y="5180760"/>
              <a:ext cx="30492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2" name="Rectangle 7"/>
            <p:cNvSpPr/>
            <p:nvPr/>
          </p:nvSpPr>
          <p:spPr>
            <a:xfrm flipV="1">
              <a:off x="5029200" y="5180760"/>
              <a:ext cx="30492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3" name="Rectangle 8"/>
            <p:cNvSpPr/>
            <p:nvPr/>
          </p:nvSpPr>
          <p:spPr>
            <a:xfrm flipV="1">
              <a:off x="3733920" y="5180760"/>
              <a:ext cx="3045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4" name="Rectangle 9"/>
            <p:cNvSpPr/>
            <p:nvPr/>
          </p:nvSpPr>
          <p:spPr>
            <a:xfrm flipV="1">
              <a:off x="2666880" y="5180760"/>
              <a:ext cx="30492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5" name="Rectangle 10"/>
          <p:cNvSpPr/>
          <p:nvPr/>
        </p:nvSpPr>
        <p:spPr>
          <a:xfrm>
            <a:off x="3200400" y="3733920"/>
            <a:ext cx="38088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6" name="Rectangle 11"/>
          <p:cNvSpPr/>
          <p:nvPr/>
        </p:nvSpPr>
        <p:spPr>
          <a:xfrm>
            <a:off x="6248520" y="3733920"/>
            <a:ext cx="4572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Backgamm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9258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 sa elementom slučajnost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8" name="Text Box 4"/>
          <p:cNvSpPr/>
          <p:nvPr/>
        </p:nvSpPr>
        <p:spPr>
          <a:xfrm>
            <a:off x="1600200" y="6019920"/>
            <a:ext cx="3429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9900"/>
                </a:solidFill>
                <a:latin typeface="Times New Roman"/>
              </a:rPr>
              <a:t>Backgammon </a:t>
            </a: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tab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9" name="Picture 5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4925880" cy="4805640"/>
          </a:xfrm>
          <a:prstGeom prst="rect">
            <a:avLst/>
          </a:prstGeom>
          <a:ln w="0">
            <a:noFill/>
          </a:ln>
        </p:spPr>
      </p:pic>
      <p:sp>
        <p:nvSpPr>
          <p:cNvPr id="4790" name="Text Box 6"/>
          <p:cNvSpPr/>
          <p:nvPr/>
        </p:nvSpPr>
        <p:spPr>
          <a:xfrm>
            <a:off x="6095880" y="1447920"/>
            <a:ext cx="26672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ijeli je bacio kock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stoje 4 moguća pote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5-10, 5-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5-11, 19-2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5-10, 10-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5-11, 11-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Drvo traženja sa vjerovatnoć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92" name="Picture 4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3878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5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 sa elementom slučajnost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chanc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čvorovi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vorovi gdje se slučajni događaju realizuj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acanje kockica ili novčić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itd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čekivanu vrijednost izračunavamo kao prosjek izlaznih vjerovatnoć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j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ance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v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(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jerovatnoća 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janj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,2, …, 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(C,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skup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z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cij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ene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ih 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mjenom svi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teza bacanje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5" name="Object 0"/>
              <p:cNvSpPr txBox="1"/>
              <p:nvPr/>
            </p:nvSpPr>
            <p:spPr>
              <a:xfrm>
                <a:off x="1371600" y="5181480"/>
                <a:ext cx="65502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ectedimax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tilit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97" name="Picture 3" descr=""/>
          <p:cNvPicPr/>
          <p:nvPr/>
        </p:nvPicPr>
        <p:blipFill>
          <a:blip r:embed="rId1"/>
          <a:srcRect l="12015" t="6134" r="44331" b="68894"/>
          <a:stretch/>
        </p:blipFill>
        <p:spPr>
          <a:xfrm>
            <a:off x="1371600" y="2286000"/>
            <a:ext cx="5867280" cy="4343400"/>
          </a:xfrm>
          <a:prstGeom prst="rect">
            <a:avLst/>
          </a:prstGeom>
          <a:ln w="0">
            <a:noFill/>
          </a:ln>
        </p:spPr>
      </p:pic>
      <p:sp>
        <p:nvSpPr>
          <p:cNvPr id="4798" name="Rectangle 4"/>
          <p:cNvSpPr/>
          <p:nvPr/>
        </p:nvSpPr>
        <p:spPr>
          <a:xfrm>
            <a:off x="3200400" y="3733920"/>
            <a:ext cx="38088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9" name="Rectangle 5"/>
          <p:cNvSpPr/>
          <p:nvPr/>
        </p:nvSpPr>
        <p:spPr>
          <a:xfrm>
            <a:off x="6248520" y="3733920"/>
            <a:ext cx="4572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0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in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zračunat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mum svih neposrednih potomaka (djece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02" name="Picture 3" descr=""/>
          <p:cNvPicPr/>
          <p:nvPr/>
        </p:nvPicPr>
        <p:blipFill>
          <a:blip r:embed="rId1"/>
          <a:srcRect l="12015" t="6134" r="44331" b="68894"/>
          <a:stretch/>
        </p:blipFill>
        <p:spPr>
          <a:xfrm>
            <a:off x="1371600" y="2286000"/>
            <a:ext cx="5867280" cy="4343400"/>
          </a:xfrm>
          <a:prstGeom prst="rect">
            <a:avLst/>
          </a:prstGeom>
          <a:ln w="0">
            <a:noFill/>
          </a:ln>
        </p:spPr>
      </p:pic>
      <p:sp>
        <p:nvSpPr>
          <p:cNvPr id="480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in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zračunat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mum svih neposrednih potoma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hance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zračunati ponderisani prosjek dje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in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zračunat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mum svih neposrednih potoma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hance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zračunati ponderisani prosjek dje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zračunat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ksimum svih neposrednih potoma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6" name="Picture 4" descr=""/>
          <p:cNvPicPr/>
          <p:nvPr/>
        </p:nvPicPr>
        <p:blipFill>
          <a:blip r:embed="rId1"/>
          <a:srcRect l="12015" t="6134" r="44331" b="68894"/>
          <a:stretch/>
        </p:blipFill>
        <p:spPr>
          <a:xfrm>
            <a:off x="1371600" y="2286000"/>
            <a:ext cx="5867280" cy="4343400"/>
          </a:xfrm>
          <a:prstGeom prst="rect">
            <a:avLst/>
          </a:prstGeom>
          <a:ln w="0">
            <a:noFill/>
          </a:ln>
        </p:spPr>
      </p:pic>
      <p:sp>
        <p:nvSpPr>
          <p:cNvPr id="4807" name="Text Box 5"/>
          <p:cNvSpPr/>
          <p:nvPr/>
        </p:nvSpPr>
        <p:spPr>
          <a:xfrm>
            <a:off x="5167800" y="2325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gorit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za n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pectimini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iz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ra očekivanu vrijedn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osje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orisnosti (utility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 odnosu na savršenog protivni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eudo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d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je isti ka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i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sim što moramo obradit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ce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o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chance no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verage of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iMinimax-Value of  Successors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Verzi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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drezivanja je moguća ali samo ako su vrijedn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ti u listovima ograniče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1" name="Text Box 3"/>
          <p:cNvSpPr/>
          <p:nvPr/>
        </p:nvSpPr>
        <p:spPr>
          <a:xfrm>
            <a:off x="457200" y="457200"/>
            <a:ext cx="838188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X-VALUE (state, game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tility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-TEST[game](state)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[game](st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is to mov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ghest MINIMAX-VALUE of Successors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west MINIMAX-VALUE of Successors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2" name="Text Box 4"/>
          <p:cNvSpPr/>
          <p:nvPr/>
        </p:nvSpPr>
        <p:spPr>
          <a:xfrm>
            <a:off x="76320" y="3129120"/>
            <a:ext cx="8991360" cy="322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IMINIMAX-VALUE (state, game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tility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-TEST[game](state)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[game](st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hance n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rage of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IMINMAX-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ccessors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is to mov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ghest EXPECTIMINIMAX-VALUE of Successors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west EXPECTIMINIMAX-VALUE of Successors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 igre u praks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Bacanje kockica povećava faktor grananj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1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moguća rezultata bacanja 2 kockic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ckgammon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 legal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nih potez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dubi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4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0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21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1.2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Povećavanjem dub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vjerovatnoća dostizanja datog čvora se smanju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rijedos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head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je nesta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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odrezivanje je mnogo manje efektivn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DGamm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korist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pth-2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traženj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eoma dobru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l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funkcij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igra na nivou šampiona svijet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gres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j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tačne vrijednosti su važ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533160" y="4876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našanje se može očuvati samo primjeno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iv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 linear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ransform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ije n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tu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treba da bu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al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očekivanom dobitku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off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17" name="Picture 4" descr=""/>
          <p:cNvPicPr/>
          <p:nvPr/>
        </p:nvPicPr>
        <p:blipFill>
          <a:blip r:embed="rId1"/>
          <a:srcRect l="11908" t="6134" r="5670" b="67089"/>
          <a:stretch/>
        </p:blipFill>
        <p:spPr>
          <a:xfrm>
            <a:off x="533520" y="1143000"/>
            <a:ext cx="807696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6T22:53:54Z</dcterms:created>
  <dc:creator>David J. Kriegman</dc:creator>
  <dc:description/>
  <dc:language>en-US</dc:language>
  <cp:lastModifiedBy>Goran Sukovic</cp:lastModifiedBy>
  <dcterms:modified xsi:type="dcterms:W3CDTF">2017-10-30T12:35:36Z</dcterms:modified>
  <cp:revision>352</cp:revision>
  <dc:subject/>
  <dc:title>Inroduction</dc:title>
</cp:coreProperties>
</file>