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9D8-8C50-4078-967B-AFB3D567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8E6-53A4-4576-9746-CBC0A778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6BD-DD79-4FB2-9D02-C7F1726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551-9FB8-4885-9C44-67132EB1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9BD0-E96A-4843-8747-81BA51A4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1DA3-6D69-47B5-AA70-E2431F7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A237-B4BD-4750-AF7E-402BE4EA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B94-CC57-4965-9929-9EF3A53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8841-E159-42F5-91D6-6FFCF266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D1FF-65F7-4370-81DF-417FF72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A22-8553-40AC-B737-2912736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235-215B-4D7D-B8FA-C4A08126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61E9-CA1E-4D64-9DC0-049BB57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D220-7535-4CF7-9009-340A10B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356C-E43D-4825-8C5F-D5B66B5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D92B-C317-4C5F-88EE-B8DA044B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C509-26F3-4D8E-882B-761E828D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CBA-D353-4DEF-9177-A3FA23A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A48-19EF-4584-9694-78E6AF57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19E-78C3-4AA5-9882-130012E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D18-B101-4B3E-B3B7-7319CDB6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F6A-9B81-45CB-812D-E44BAFE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7A2-FEAC-46BE-98D6-2E0DE65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366-2F0F-4E8C-9BB3-F1BC630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447920"/>
            <a:ext cx="47246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609480"/>
            <a:ext cx="838044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enetic Algorithms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rimjer sa realnim vrijednostima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. 9. 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, Dong-Ye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mo slučaj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opseg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v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nač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sr-Latn-ME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p_s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kav da 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14400" y="1523880"/>
          <a:ext cx="3429000" cy="5029200"/>
        </p:xfrm>
        <a:graphic>
          <a:graphicData uri="http://schemas.openxmlformats.org/drawingml/2006/table">
            <a:tbl>
              <a:tblPr/>
              <a:tblGrid>
                <a:gridCol w="533520"/>
                <a:gridCol w="1447560"/>
                <a:gridCol w="14479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75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086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38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625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650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276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880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156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668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824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008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832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09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942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482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424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75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Object 84"/>
              <p:cNvSpPr txBox="1"/>
              <p:nvPr/>
            </p:nvSpPr>
            <p:spPr>
              <a:xfrm>
                <a:off x="1073160" y="533520"/>
                <a:ext cx="315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537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Picture 85" descr="C:\temp\Image2.bmp"/>
          <p:cNvPicPr/>
          <p:nvPr/>
        </p:nvPicPr>
        <p:blipFill>
          <a:blip r:embed="rId1"/>
          <a:stretch/>
        </p:blipFill>
        <p:spPr>
          <a:xfrm>
            <a:off x="5562720" y="1752480"/>
            <a:ext cx="13665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Gene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ski o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a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r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ove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(ukrštan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point cross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over r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rosso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d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oditel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 se slučajan 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interv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da izvršava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osso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(mut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cija mijenja jedan ili više gena sa vjerovatnoćom jednak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tepenu mutaci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1600200" y="1676520"/>
            <a:ext cx="5153040" cy="1222200"/>
            <a:chOff x="1600200" y="1676520"/>
            <a:chExt cx="5153040" cy="1222200"/>
          </a:xfrm>
        </p:grpSpPr>
        <mc:AlternateContent>
          <mc:Choice xmlns:a14="http://schemas.microsoft.com/office/drawing/2010/main" Requires="a14">
            <p:sp>
              <p:nvSpPr>
                <p:cNvPr id="148" name="Object 2"/>
                <p:cNvSpPr txBox="1"/>
                <p:nvPr/>
              </p:nvSpPr>
              <p:spPr>
                <a:xfrm>
                  <a:off x="1600200" y="1676520"/>
                  <a:ext cx="515304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1000000010111001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0010110011001100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Line 3"/>
            <p:cNvSpPr/>
            <p:nvPr/>
          </p:nvSpPr>
          <p:spPr>
            <a:xfrm>
              <a:off x="4419720" y="1752480"/>
              <a:ext cx="1440" cy="22860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2209680" y="2057400"/>
              <a:ext cx="4343400" cy="38088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2209680" y="2514600"/>
              <a:ext cx="441972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1600200" y="3124080"/>
            <a:ext cx="5130720" cy="800280"/>
            <a:chOff x="1600200" y="3124080"/>
            <a:chExt cx="5130720" cy="800280"/>
          </a:xfrm>
        </p:grpSpPr>
        <mc:AlternateContent>
          <mc:Choice xmlns:a14="http://schemas.microsoft.com/office/drawing/2010/main" Requires="a14">
            <p:sp>
              <p:nvSpPr>
                <p:cNvPr id="153" name="Object 6"/>
                <p:cNvSpPr txBox="1"/>
                <p:nvPr/>
              </p:nvSpPr>
              <p:spPr>
                <a:xfrm>
                  <a:off x="1600200" y="3124080"/>
                  <a:ext cx="513072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0010110011001100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1000000010111001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Rectangle 8"/>
            <p:cNvSpPr/>
            <p:nvPr/>
          </p:nvSpPr>
          <p:spPr>
            <a:xfrm>
              <a:off x="2209680" y="3144960"/>
              <a:ext cx="2286000" cy="30456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495680" y="3525840"/>
              <a:ext cx="2133720" cy="30492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4495680" y="3144960"/>
              <a:ext cx="2133720" cy="30456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209680" y="3525840"/>
              <a:ext cx="228600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Object 45"/>
              <p:cNvSpPr txBox="1"/>
              <p:nvPr/>
            </p:nvSpPr>
            <p:spPr>
              <a:xfrm>
                <a:off x="1600200" y="4876920"/>
                <a:ext cx="51084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110011001100</m:t>
                        </m:r>
                        <m:r>
                          <m:t xml:space="preserve">]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01001100110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0"/>
          <p:cNvSpPr/>
          <p:nvPr/>
        </p:nvSpPr>
        <p:spPr>
          <a:xfrm>
            <a:off x="5073480" y="5272200"/>
            <a:ext cx="0" cy="380880"/>
          </a:xfrm>
          <a:prstGeom prst="line">
            <a:avLst/>
          </a:prstGeom>
          <a:ln cap="sq"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s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imen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dešavanj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aramet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m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ion condi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imum_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pop_size (large, small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parameter setting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 r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 setting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ti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ajbol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omi iz prethodne populacije  se samo kopiraj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Funkcije za eksperi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unkcija sa slaj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*) - max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kley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Test 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n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47920" y="2057400"/>
                <a:ext cx="5734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Picture 5" descr="C:\temp\Image3.bmp"/>
          <p:cNvPicPr/>
          <p:nvPr/>
        </p:nvPicPr>
        <p:blipFill>
          <a:blip r:embed="rId1"/>
          <a:stretch/>
        </p:blipFill>
        <p:spPr>
          <a:xfrm>
            <a:off x="1752480" y="3343320"/>
            <a:ext cx="51357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ley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90720" y="2133720"/>
                <a:ext cx="79563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y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2176560" y="4800600"/>
                <a:ext cx="5511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2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z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l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at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Za izabranu fun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bela 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 funkciju i vaš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al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 svim eksperimen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Grafik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ness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 funkcije kada je nađeno najbolje rješe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19320" y="2624040"/>
          <a:ext cx="7696080" cy="286560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762120"/>
                <a:gridCol w="838080"/>
                <a:gridCol w="1676520"/>
                <a:gridCol w="685800"/>
                <a:gridCol w="83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rge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C:\temp\dycho.bmp"/>
          <p:cNvPicPr/>
          <p:nvPr/>
        </p:nvPicPr>
        <p:blipFill>
          <a:blip r:embed="rId1"/>
          <a:stretch/>
        </p:blipFill>
        <p:spPr>
          <a:xfrm>
            <a:off x="1752480" y="1828800"/>
            <a:ext cx="630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ferenc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C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GA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enetic Algorithms and Engineering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itsuo Gen and Runwei Cheng, pp. 1-15, John Wiley &amp; Sons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timizalna vrijednost fun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752480" y="2057400"/>
                <a:ext cx="48006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" name="Picture 5" descr="C:\temp\Image1.bmp"/>
          <p:cNvPicPr/>
          <p:nvPr/>
        </p:nvPicPr>
        <p:blipFill>
          <a:blip r:embed="rId1"/>
          <a:stretch/>
        </p:blipFill>
        <p:spPr>
          <a:xfrm>
            <a:off x="1752480" y="3295800"/>
            <a:ext cx="5896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prezentacija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 Binarni stringov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k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523880" y="2286000"/>
                <a:ext cx="511812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8" name="Group 12"/>
          <p:cNvGrpSpPr/>
          <p:nvPr/>
        </p:nvGrpSpPr>
        <p:grpSpPr>
          <a:xfrm>
            <a:off x="1828800" y="4952880"/>
            <a:ext cx="4491000" cy="1155600"/>
            <a:chOff x="1828800" y="4952880"/>
            <a:chExt cx="4491000" cy="1155600"/>
          </a:xfrm>
        </p:grpSpPr>
        <mc:AlternateContent>
          <mc:Choice xmlns:a14="http://schemas.microsoft.com/office/drawing/2010/main" Requires="a14">
            <p:sp>
              <p:nvSpPr>
                <p:cNvPr id="99" name="Object 5"/>
                <p:cNvSpPr txBox="1"/>
                <p:nvPr/>
              </p:nvSpPr>
              <p:spPr>
                <a:xfrm>
                  <a:off x="1828800" y="4952880"/>
                  <a:ext cx="449100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                33bit                           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00001010100101001101111011111110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18bit             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15bit          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Line 6"/>
            <p:cNvSpPr/>
            <p:nvPr/>
          </p:nvSpPr>
          <p:spPr>
            <a:xfrm flipH="1">
              <a:off x="1905120" y="5105160"/>
              <a:ext cx="190512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4419720" y="5105160"/>
              <a:ext cx="1752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 flipH="1">
              <a:off x="190512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335304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 flipH="1">
              <a:off x="4267080" y="5943600"/>
              <a:ext cx="68580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5562720" y="5943600"/>
              <a:ext cx="609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reslikavanj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nog stringa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br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828800" y="2438280"/>
                <a:ext cx="4653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cimal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ubstrin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8" name="Object 56"/>
          <p:cNvGraphicFramePr/>
          <p:nvPr/>
        </p:nvGraphicFramePr>
        <p:xfrm>
          <a:off x="1828800" y="3352680"/>
          <a:ext cx="472428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52680"/>
                    <a:ext cx="4724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1828800" y="4648320"/>
                <a:ext cx="471816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17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318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65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pšti oblik 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52480" y="1828800"/>
            <a:ext cx="2971800" cy="457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Initial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52480" y="28954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Fit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52480" y="49528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ar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52480" y="58672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New Off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752480" y="3733920"/>
            <a:ext cx="2971800" cy="685800"/>
          </a:xfrm>
          <a:prstGeom prst="flowChartDecision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on Conditi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AutoShape 8"/>
          <p:cNvCxnSpPr>
            <a:stCxn id="112" idx="2"/>
            <a:endCxn id="113" idx="0"/>
          </p:cNvCxnSpPr>
          <p:nvPr/>
        </p:nvCxnSpPr>
        <p:spPr>
          <a:xfrm>
            <a:off x="3238200" y="22856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AutoShape 9"/>
          <p:cNvCxnSpPr>
            <a:stCxn id="113" idx="2"/>
            <a:endCxn id="116" idx="0"/>
          </p:cNvCxnSpPr>
          <p:nvPr/>
        </p:nvCxnSpPr>
        <p:spPr>
          <a:xfrm>
            <a:off x="3238200" y="327672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AutoShape 10"/>
          <p:cNvCxnSpPr>
            <a:stCxn id="116" idx="2"/>
            <a:endCxn id="114" idx="0"/>
          </p:cNvCxnSpPr>
          <p:nvPr/>
        </p:nvCxnSpPr>
        <p:spPr>
          <a:xfrm>
            <a:off x="3238200" y="4419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AutoShape 11"/>
          <p:cNvCxnSpPr>
            <a:stCxn id="114" idx="2"/>
            <a:endCxn id="115" idx="0"/>
          </p:cNvCxnSpPr>
          <p:nvPr/>
        </p:nvCxnSpPr>
        <p:spPr>
          <a:xfrm>
            <a:off x="3238200" y="5333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Text Box 12"/>
          <p:cNvSpPr/>
          <p:nvPr/>
        </p:nvSpPr>
        <p:spPr>
          <a:xfrm>
            <a:off x="4878720" y="3733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77800" y="4572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AutoShape 14"/>
          <p:cNvCxnSpPr>
            <a:stCxn id="115" idx="2"/>
            <a:endCxn id="113" idx="1"/>
          </p:cNvCxnSpPr>
          <p:nvPr/>
        </p:nvCxnSpPr>
        <p:spPr>
          <a:xfrm flipV="1" rot="16200000">
            <a:off x="914040" y="3923640"/>
            <a:ext cx="3162960" cy="1486800"/>
          </a:xfrm>
          <a:prstGeom prst="bentConnector4">
            <a:avLst>
              <a:gd name="adj1" fmla="val -7216"/>
              <a:gd name="adj2" fmla="val 115379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4" name="Oval 15"/>
          <p:cNvSpPr/>
          <p:nvPr/>
        </p:nvSpPr>
        <p:spPr>
          <a:xfrm>
            <a:off x="5486400" y="2362320"/>
            <a:ext cx="2514600" cy="53316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3276720" y="25909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5486400" y="525780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over, M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276720" y="55627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5486400" y="380988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st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" name="AutoShape 20"/>
          <p:cNvCxnSpPr>
            <a:stCxn id="116" idx="3"/>
            <a:endCxn id="128" idx="2"/>
          </p:cNvCxnSpPr>
          <p:nvPr/>
        </p:nvCxnSpPr>
        <p:spPr>
          <a:xfrm>
            <a:off x="4723920" y="4076280"/>
            <a:ext cx="7628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Početna p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ula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ci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čet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pul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je slučajno generisa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828800" y="2355840"/>
                <a:ext cx="517860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01010100101001101111011111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1101011100110000000101010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000111000001000010101001000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10000000101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101111011000100011100011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1010110110000000101100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010001001111100010011001110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0110101000011000101100110011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00101110110001110100011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0100111010101000001010110101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zračunavanje 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itness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-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izračun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pa hromozoma u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o znači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og stringa u realne vrijednost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računavanje ciljne funkcij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vrijednosti cilj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cije u fit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aks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f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jednak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in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recipročan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(ili se promijeni znak ciljne funkcij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905120" y="1905120"/>
                <a:ext cx="504504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9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6165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511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410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014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089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945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46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054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995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59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122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28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728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609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8084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434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54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206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17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8717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25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49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319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126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35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166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627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190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2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el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i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 proporcionalna fitnesu (npr. ru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u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e može 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stru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sati na sljedeći nač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ukupa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popula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ci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vjerovatnoće selekcij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hromoz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ulativ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vjerovatoć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581280" y="3048120"/>
                <a:ext cx="1644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2362320" y="4191120"/>
                <a:ext cx="4022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362320" y="5289480"/>
                <a:ext cx="3911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9:20:43Z</dcterms:created>
  <dc:creator>Cho, Dong-Yeon</dc:creator>
  <dc:description/>
  <dc:language>en-US</dc:language>
  <cp:lastModifiedBy>Goran Sukovic</cp:lastModifiedBy>
  <dcterms:modified xsi:type="dcterms:W3CDTF">2017-10-31T12:12:10Z</dcterms:modified>
  <cp:revision>36</cp:revision>
  <dc:subject/>
  <dc:title>Optimization Problem with Simple Genetic Algorithms</dc:title>
</cp:coreProperties>
</file>