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424-A613-4C4F-8DC6-29DF23DC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FC72-9FCD-425A-8A45-41E19E7A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15D-603B-4596-80E0-1D98FC5D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14D-F863-40AA-AB86-0C5CD749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D650-9815-4E67-A80C-BC33A189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C84F-71BA-4969-85D9-CEF907B3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82FE-F446-40C3-A8F3-F4EF3097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35BC-0557-4B1C-8E20-A8FD23A4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E073-BA6A-4D83-9CA5-34E90C12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6634-BF24-46D1-B200-0518BC42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5E27-6ABF-49B4-A1C7-54A5C1A4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0CB-FE04-425E-B735-6B808424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80F2-4F92-4EEC-BEEC-0C633D9A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10BE-C188-4CC1-8727-8378F321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1162-18C1-4BCF-A01E-01DF4F8D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C5D9-1DE9-4F95-8E39-47B71F49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5D56-0808-4987-AD11-95F83A70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0A4-959E-441D-8E64-B364D20D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30D-0500-40DB-A224-61BC59A8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3127-8B79-4B5B-BD29-7BFDE5AD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D0F-9C1E-4E31-A77D-D563228C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774-6A66-4A34-91D6-1208DCDF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7E6-1267-4BA2-8A00-6B97D590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228-373C-48A7-A284-9D32DF98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C73A-4AC8-451C-AB49-BFAC1C11A06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67F0-43EC-42DE-9DC4-4ECAB21EA17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Uvod u programski jezik PROLO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Upit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nterpreter pokušava da izvede upit koristeći činjenice i pravila iz baze zna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vije vrste odgov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Yes/No: parent(tom, bob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nifikacija/No: parent(X, bob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vi mogući odgovori se dobijaju sa ; dok ENTER prekida izvršavanj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882080" y="54864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-parent(Parent,abraha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Upiti, primjer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: Who is a grandparent of Jim? (using parent relationshi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vo nađemo Jimovog roditelja, neka je to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ađemo roditelja od Y, neka je to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- parent (Y, jim) </a:t>
            </a:r>
            <a:r>
              <a:rPr b="0" lang="en-US" sz="2600" spc="-1" strike="noStrike" u="sng">
                <a:solidFill>
                  <a:srgbClr val="ff4600"/>
                </a:solidFill>
                <a:uFillTx/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ent  (X, Y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: Who are Tom’s grandchildr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: Are Ann and Pat sibling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okretanje progr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Činjenice i pravila se snimaju u jednu ili više datoteka i čine bazu zna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toteke se učitavaju u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ko se kasnije ove datoteke mijenjaju moraju se ponovo učita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piti se zadaju iza prompt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čitavanj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ime_datoteke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omentari u PROLOG-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 vi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še lin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4600"/>
                </a:solidFill>
                <a:latin typeface="Arial"/>
              </a:rPr>
              <a:t>	</a:t>
            </a:r>
            <a:r>
              <a:rPr b="0" lang="sr-Latn-CS" sz="3000" spc="-1" strike="noStrike">
                <a:solidFill>
                  <a:srgbClr val="ff46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4600"/>
                </a:solidFill>
                <a:latin typeface="Arial"/>
              </a:rPr>
              <a:t>/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is is a com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another comment </a:t>
            </a:r>
            <a:r>
              <a:rPr b="0" lang="en-US" sz="3000" spc="-1" strike="noStrike">
                <a:solidFill>
                  <a:srgbClr val="ff4600"/>
                </a:solidFill>
                <a:latin typeface="Arial"/>
              </a:rPr>
              <a:t>*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 jednoj lini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677240" y="388620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600"/>
                </a:solidFill>
                <a:latin typeface="Arial"/>
              </a:rPr>
              <a:t>%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lso a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OLOG sintak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er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tomi su nizovi slova, cifara ili _ koji počinju sa malim slovom ili stringovi karaktera između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Brojev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ogu da budu cijeli ili real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omjenlj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 stringovi slova, cifara ili _ koji po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činju sa velikim slovom ili 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trukture su oblika f(t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, ... t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f je atom i naziva se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funkt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... t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su ter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Liste se predstavljaju s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Head|Tail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LOG sintak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last v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ženja atoma je cijeli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blast važenja promjenljive je klauzula u kojoj se promjenljiva nalaz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pecijalna promjenljiva 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imjeri struk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e(1, jan, 20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e(Day, jan, 20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LOG sintak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njunkcija 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isjunkcija 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ći prioritet ima 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imjer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 :- Q , R ; S , T , U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 :- (Q , R) ; (S , T , U)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410080" y="3733920"/>
            <a:ext cx="2225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 :- Q ; 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 :- 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 :-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Backtracking, primjer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15240" y="1523880"/>
            <a:ext cx="1095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525680" y="32004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26400" y="4302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H="1">
            <a:off x="777600" y="36162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90512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769400" y="4302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065040" y="4302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1920960" y="361620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1236240" y="38448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1846080" y="38448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=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2760120" y="38448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=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132440" cy="43434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7"/>
          <p:cNvSpPr/>
          <p:nvPr/>
        </p:nvSpPr>
        <p:spPr>
          <a:xfrm>
            <a:off x="5867280" y="3200400"/>
            <a:ext cx="76212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 flipH="1">
            <a:off x="6248520" y="1219320"/>
            <a:ext cx="914400" cy="1904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5856120" y="874800"/>
            <a:ext cx="30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terna reprezentacija za n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stanciranu promjenlji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Backtracking i cut (!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Line 5"/>
          <p:cNvSpPr/>
          <p:nvPr/>
        </p:nvSpPr>
        <p:spPr>
          <a:xfrm flipH="1">
            <a:off x="3885840" y="19810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449568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4495680" y="19810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344840" y="1692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412600" y="160020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:-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 flipH="1">
            <a:off x="3276360" y="26668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38862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3886200" y="26668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5490000" y="220968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:-Bl,!,B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3735000" y="2362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2285640" y="3048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l,!,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 flipH="1">
            <a:off x="2361960" y="3352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29718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>
            <a:off x="2971800" y="3352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4797360" y="3048120"/>
            <a:ext cx="237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iječe grane 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0"/>
          <p:cNvSpPr/>
          <p:nvPr/>
        </p:nvSpPr>
        <p:spPr>
          <a:xfrm>
            <a:off x="3657600" y="1828800"/>
            <a:ext cx="838080" cy="457200"/>
          </a:xfrm>
          <a:custGeom>
            <a:avLst/>
            <a:gdLst>
              <a:gd name="textAreaLeft" fmla="*/ 0 w 838080"/>
              <a:gd name="textAreaRight" fmla="*/ 838440 w 838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28" h="288">
                <a:moveTo>
                  <a:pt x="0" y="0"/>
                </a:moveTo>
                <a:cubicBezTo>
                  <a:pt x="76" y="96"/>
                  <a:pt x="152" y="192"/>
                  <a:pt x="240" y="240"/>
                </a:cubicBezTo>
                <a:cubicBezTo>
                  <a:pt x="328" y="288"/>
                  <a:pt x="428" y="288"/>
                  <a:pt x="528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615600" y="1219320"/>
            <a:ext cx="336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raženje nastavlja odav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ne usp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Backtracking i cut (!), primj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767520" y="1828800"/>
            <a:ext cx="10951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(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590920" y="182880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-p(X),q(Y),!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-p(X),!,q(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=a, Y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=a, Y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-!,p(X),q(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 = 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=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 = 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= 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 = 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=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 = 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= 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 = 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=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 = 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= 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vo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ming in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stao je 1972. god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venstveno namijenjen za primjenu u 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kaziv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či teor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Ekspretni siste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LP (natural language proccess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Backtracking i cut (!), primjer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 (2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2360" y="1219320"/>
          <a:ext cx="8815320" cy="1463400"/>
        </p:xfrm>
        <a:graphic>
          <a:graphicData uri="http://schemas.openxmlformats.org/drawingml/2006/table">
            <a:tbl>
              <a:tblPr/>
              <a:tblGrid>
                <a:gridCol w="2938680"/>
                <a:gridCol w="2938320"/>
                <a:gridCol w="2938320"/>
              </a:tblGrid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s(dr_fred, history).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s(dr_fred, english).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s(dr_fred, drama).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s(dr_fiona, physics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 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ies(alice, english).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ies(angus, english).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ies(amelia, drama).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ies(alex, physics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3" name="Rectangle 1"/>
          <p:cNvSpPr/>
          <p:nvPr/>
        </p:nvSpPr>
        <p:spPr>
          <a:xfrm>
            <a:off x="4721400" y="-1465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737440" y="2780640"/>
            <a:ext cx="3646440" cy="33768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960" rIns="23796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?- teaches(dr_fred, Course), studies(Student, Course). </a:t>
            </a:r>
            <a:br>
              <a:rPr sz="6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691720" y="3565080"/>
            <a:ext cx="3747240" cy="33768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960" rIns="23796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?- teaches(dr_fred, Course), !, studies(Student, Course). </a:t>
            </a:r>
            <a:br>
              <a:rPr sz="6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697840" y="4388400"/>
            <a:ext cx="3735000" cy="24624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960" rIns="23796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?- teaches(dr_fred, Course), studies(Student, Course), !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697840" y="5164920"/>
            <a:ext cx="3735000" cy="24624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960" rIns="23796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?- !, teaches(dr_fred, Course), studies(Student, Course)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kurzija u PROLOG-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avila u su kao funkcije u proceduralnim jezicima i mogu da budu rekurziv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imjer: relacija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ances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baza rekurzije: </a:t>
            </a:r>
            <a:r>
              <a:rPr b="0" lang="pl-PL" sz="2600" spc="-1" strike="noStrike">
                <a:solidFill>
                  <a:srgbClr val="ff0000"/>
                </a:solidFill>
                <a:latin typeface="Arial"/>
              </a:rPr>
              <a:t>ancestor(X, Z) :- parent (X, Z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rekurzija: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ncestor (X, Z) :- parent (X, Y) , ancestor (Y, Z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Računanje upita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OLOG počinje od cilja (backwar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riste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ći pravila, tekući cilj (koji se unifikuje sa glavom nekog pravila) zamjenjuje sa podciljevima koji su u tijelu pravila, sve dok novi podciljevi ne budu činjenice iz ba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OLOG vraća prvi odgovor koji zadovoljava cil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ada tekućom granom ne može da dokaže cilj ili kada se pritisne ; PROLOG interpreter se vraća na prethodni čvor i pokušava sa nekim drugim pravil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imj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Ba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avi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Cilj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cestor(tom, pat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vo navedeno pravilo se primjenjuje, unifikacij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X/tom} , {Z/pat}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, pa je sada cilj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ent (tom, pat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Fails, backtr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90720" y="2362320"/>
            <a:ext cx="3733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688680" y="1981080"/>
            <a:ext cx="624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(pam, bob).  parent (tom, bob).  parent (tom, li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(bob, ann).   parent (bob, pat).   parent (pat, ji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42360" y="2997360"/>
            <a:ext cx="61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cestor (X, Z) :- parent (X, 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estor (X, Z) :- parent (X, Y) , ancestor (Y, 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imj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rugo pravilo </a:t>
            </a:r>
            <a:r>
              <a:rPr b="1" lang="en-US" sz="2600" spc="-1" strike="noStrike">
                <a:solidFill>
                  <a:srgbClr val="e4df80"/>
                </a:solidFill>
                <a:latin typeface="Arial"/>
              </a:rPr>
              <a:t>ancestor (X, Z) :- parent (X, Y) , ancestor (Y, Z)</a:t>
            </a:r>
            <a:r>
              <a:rPr b="1" lang="sr-Latn-CS" sz="2600" spc="-1" strike="noStrike">
                <a:solidFill>
                  <a:srgbClr val="e4df80"/>
                </a:solidFill>
                <a:latin typeface="Arial"/>
              </a:rPr>
              <a:t>.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nifikacij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X/tom} , {Z/pat}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ovi cilj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ent (tom, Y) , ancestor(Y, pa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dciljevi se rješavaju redosl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edom kojim su navede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vi podcilj je činjenic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Y/bob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rugi podcilj j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cestor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a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sti koraci kao i za originalni cil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Redosl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j</a:t>
            </a: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ed ciljeva i klauzu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a li postoji put izme</a:t>
            </a:r>
            <a:r>
              <a:rPr b="0" lang="sr-Latn-ME" sz="3000" spc="-1" strike="noStrike">
                <a:solidFill>
                  <a:srgbClr val="000000"/>
                </a:solidFill>
                <a:latin typeface="Arial"/>
              </a:rPr>
              <a:t>đu dva čvora u usmjerenom grafu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a li je ispravn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2"/>
          <p:cNvGraphicFramePr/>
          <p:nvPr/>
        </p:nvGraphicFramePr>
        <p:xfrm>
          <a:off x="990720" y="2743200"/>
          <a:ext cx="6172200" cy="7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61722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3"/>
          <p:cNvGraphicFramePr/>
          <p:nvPr/>
        </p:nvGraphicFramePr>
        <p:xfrm>
          <a:off x="990720" y="4378320"/>
          <a:ext cx="594360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378320"/>
                    <a:ext cx="59436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4"/>
          <p:cNvGraphicFramePr/>
          <p:nvPr/>
        </p:nvGraphicFramePr>
        <p:xfrm>
          <a:off x="7077240" y="1836720"/>
          <a:ext cx="157788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7240" y="1836720"/>
                    <a:ext cx="15778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Redosl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j</a:t>
            </a: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ed ciljeva i klauzula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 (2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Object 3"/>
          <p:cNvGraphicFramePr/>
          <p:nvPr/>
        </p:nvGraphicFramePr>
        <p:xfrm>
          <a:off x="152280" y="2162160"/>
          <a:ext cx="8991720" cy="340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162160"/>
                    <a:ext cx="8991720" cy="34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Rekurzija, lis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Lista se predstavlja s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H|T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mplementirati sledeće predika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ar(Xs, 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dr(Xs, Y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ons(X, Xs, Y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l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,X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poj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s,Ys,Z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duzin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s,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Rekurzija, lis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Implementirati sledeće predika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oslednj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X,X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f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k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re,X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fik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os,X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okr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Xs,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f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ks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re,X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fiks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os,X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sum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Xs,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(Xs,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s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s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x1,x2,...,xn]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nd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s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lis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y1,y2,...,yn]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kva 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rt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raj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L,Sorted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Binarna stab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Binarno stablo u PROLOG-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imj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47560" y="2230560"/>
            <a:ext cx="540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azno stab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(N,L,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: 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jevo podstab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esno podstab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733120" y="47242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(a, t(b,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, t(c,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1410840" y="4140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817560" y="524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2036520" y="5165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 flipH="1">
            <a:off x="968040" y="455616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1577880" y="455616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Uvod</a:t>
            </a: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-numeričko (simboličko) račun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imjer: parent(tom, bob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arent je relacija između parametara: tom i b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ve zajedno se naziva rečenica ili klauzu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vaka klauzula predstavlja jednu činjenicu vezano za relacij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OLOG interpret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WI-prolog, razvijen na Swedish Institute of Computer Sc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5791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OLOG interpret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nterpreter može da učitava PROLOG datoteke ili da izvršava up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zlaz iz interpretera: hal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LOG datoteke obično imaju ekstenziju .p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Naredbe u PROLOG-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stoje tri kategorije komandi u PROLOG-u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Činjenice (facts): rečenice koje su uvijek tačne i koje formiraju bazu zn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avila (rules): slična funkcijama iz proceduralnih jezika; imaju if/then struktu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piti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ries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: interpreter učitava upit i pristupa bazi znanja; startovanje progr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Činjeni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Činjenice su komande u jednoj liniji sa tačkom na kraj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432880" y="2743200"/>
            <a:ext cx="33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ther(terach,abraham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le(tera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avila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avila se sastoje 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slovnog dijela ili tijela (desna stra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Zaključka ili glave (lijeva stra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eparat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- ima zn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čenje I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684800" y="3886200"/>
            <a:ext cx="5423400" cy="18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ent(Parent,Child):-father(Parent,Chil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ent(Parent,Child):-mother(Parent,Chil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cle(Uncle,Person) :-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other(Uncle,Parent)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ent(Parent,Person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avila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mjenljive sa lijeve strane su kvantifikovane sa univerzalnim kvantifikator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mjenljiv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je su samo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a desne stra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vantifikovan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a egzistencijalnim kvantifikator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avila vs. Činjen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Jednim imenom klauz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Činjenice su uvijek tač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avila definišu uslove pod kojima je nešto tač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2:50:39Z</dcterms:created>
  <dc:creator>pedja</dc:creator>
  <dc:description/>
  <dc:language>en-US</dc:language>
  <cp:lastModifiedBy>Microsoft account</cp:lastModifiedBy>
  <dcterms:modified xsi:type="dcterms:W3CDTF">2022-11-16T13:04:05Z</dcterms:modified>
  <cp:revision>158</cp:revision>
  <dc:subject/>
  <dc:title>Uvod u programski jezik PROLOG</dc:title>
</cp:coreProperties>
</file>