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50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6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6784-CC43-4858-B087-1E01B9137E7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F476-5396-45A9-874D-2E831577AF7E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4692-8E96-4902-A92C-C6B865AB6FF6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7782-72F7-4D88-9F87-F951B4D91B2A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4E02-6A58-4335-89FF-3B0C3EEDFE7C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3491-5579-4675-B990-7118EE1FC3B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B8D3-FD8F-45C0-BBE5-38BB0DE6052A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BC76-D99C-48DC-87D6-6CCB55F28BB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FA84-299B-43D2-96C3-565EF3FF9F09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B54C-91E3-4137-9286-D417A0D639F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1464-717A-4DA6-A9C1-84D32A114523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D7F2-1EA3-490B-9F6F-ED7073D84F1E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D909-A8FE-4FC2-88E8-A70CF5DC1406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A228-8AA6-49B4-A7A7-4CD1F7AA5658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864F-D591-45A1-A215-D0008C7EA01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EDEF-DC67-4FCD-93CB-21C37A38A3EA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4B0D-3A61-472A-BDED-D66B98069B6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7E5B-A5B0-4F28-90E5-2DEA4DCDFD13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761C-6B72-450B-955C-4C1E7182349A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EE8A-39BD-439A-8C04-534861DDC8F6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D6B0-7A3F-4317-86F8-22DAF77D44B8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3E5E-D259-4CD9-BEFC-E67EE4E4C69E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4D0A-7284-4976-9F8B-A35E6B0FDD3C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EDAB-CBC7-443C-BA20-96137CB1FA94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9E28-C2F3-4A74-90CB-62370F83647C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2521-D306-46A8-9867-68ECFF91D680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718F-DEE4-4FE3-BEE6-2E430D3CC036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5EBF-1222-44A3-AF3F-E5E2EF3FDFFA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8444-E888-4DBC-8B8E-4AD25671DB74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511C-C09F-48C9-9E8F-53100A09071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12CC-9CB6-466B-A8EE-8229D1A293D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A49D-252C-4D67-963D-50FB8AC58EE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4DB8-797A-4907-9FAA-7809C2BA40B0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1887-5097-4223-822D-67752C7D461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6E4D-DB8C-40DB-A163-8535C68987A5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C83A-1679-48E1-8B15-7E7317D16A1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F6C7-3029-4A71-92D7-06C951CB90D7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26B7-9CED-453B-BD62-56C872824FB3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EE09-70E5-4F0E-83B7-FCC1E8B8587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915-778F-4ED5-BE1E-8BFAB1A9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059-25B0-489E-8C12-22ECB1FD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637D-F300-4CC3-AB52-B8F3B2FB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2B0-AA2D-45B9-95BE-5595FBBF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DC6C-B405-4B10-BA9C-C20BAC96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C415-ACE7-4BEB-897F-0215ACB1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ED5B-999E-45EC-A5FC-B1029BCA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2E41-522C-463A-9BBF-4EAB70E8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D518-A24B-4EAE-B149-D3ADF1C5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4017-ABAE-49D3-A24F-4B8F0A6A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353E-E770-4DF2-A329-1549B46E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61F-9005-49A8-80ED-F891167E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3C12-23C2-493D-BDDE-D35DBB65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54C6-C273-4453-AC0E-AF1E7F16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9DCC-1E85-43B3-8803-C5BBEAC9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8C54-216A-46D9-A6A7-ADF5FF41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EF0E-E713-4275-A32C-4FF518FC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A4CB6-41ED-471B-A2CD-E7116DAA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A90FE-D426-4550-BC3E-14662365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09097-B289-4229-A6D9-D1592FCC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62AA8-789F-4286-936F-A5131B54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F0952-4D83-41EC-AC6B-08C5F686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747-A4F3-4F85-B24C-861F1E19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D500F-E042-464C-A3E8-5933FA2A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B4D04-240F-4CAC-BC30-9E555D6C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ED441-744A-41F1-9C1B-3DEE1B1B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471D0-DED0-4027-8A72-14794B24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D6042-A7E8-4213-9703-F5B40D20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0521F-451F-4158-AA6C-50381CE7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AF18-4FCE-4C76-A937-8D28BE60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C15E4-4B41-4030-96CF-991FE542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D74DD-1565-427A-A775-DF275A66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AC9C2-99E4-49EA-B254-59F9022E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70B-D1ED-419F-9711-9F91D3C1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B4DCC-0C69-4764-86AA-9C2E8470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2926C-6E2A-4B85-809A-7813C844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C636D-001E-45C1-BCD4-4AD3DF43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84ED8-7057-4CE7-A4E9-E5A72515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D1003-0303-48A7-8949-E2FA790D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0791B-D862-4EBD-9529-193EB30D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D8206-987E-4894-B115-11137C7C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2BE6F-E4C4-4DF7-9CE3-7A6C129E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A6077-AC2E-4E3A-AB66-79C4D9F8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09256-0660-4B5B-B043-DD0C5C20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A7BE-2FCC-4D33-93A5-B375E021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9059A-D0A7-4E9E-9892-FCC98AFA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29D05-5D71-44FF-9968-964E52D5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7438E-0FE0-4EE9-9BA6-C84D600F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CBFE4-06FA-46E4-ACCB-A16F9820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B87B0-7600-4CDA-9196-8E5EB14C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855DB-6092-46EA-B98B-55E9473B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25299-4908-4139-A5BB-29B9ED42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51018-829E-4C1A-85DB-8FC5AAF9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F5954-E4B9-444A-BAB7-3A60272D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0C6FD-BF22-4306-8817-F2BD13DD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6A4D-5030-4F97-A584-DC7DB6B4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6C9A7-4D8D-4208-8280-96C6E67D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40A42-B66C-4FB6-ABCA-A5FA4679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EE7F4-3356-4F09-904E-76E37619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D5936-8E3F-4196-8EAA-886F7FDA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5E7A7-DF65-468F-BC8A-71F2F7B2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E5A84-CD89-47FC-85F9-83E6E178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65525-1A49-4E6D-9A60-2643F6AC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BFFD1-C1B1-4C41-B974-8BDBAE7C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1C30D-470A-4100-AEE0-9A277105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3D0BF-DF6F-47CC-8A2A-2E8BE691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9A4-DB31-4A24-A597-C2AF4659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B7A40-493A-43EC-AAF7-23A0BDBC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9B5AB-9E71-4DE8-9BAF-CD07FE8A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62E54-0BD8-4564-8F4D-08D16AA3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9244D-AAE8-4E65-B31E-B0024F4E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C4A4A-A284-4DE7-B6F0-1DBD15CF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4DAB2-4A02-471B-A181-FE3139F3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F8364-7C4F-481D-9DA1-452C9B1F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C4DB5-8E84-4811-94C6-8B17743C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5194A-3D5C-4FCB-9A89-4C59E037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86F9C-BC03-4E1B-91CD-9972D09B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EE8-CEBF-410E-B8E5-D3539046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A59CA-AB39-499E-BD8D-53752224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2176B-D2B1-4D3D-A407-1044AB85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19007-D0E3-45E2-9BA9-D3664CD7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9F417-FE61-4B93-B13C-B0BDFB9D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BF80C-1E11-4EC8-A7BB-5AF4DEE6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16D72-3AEA-4A1E-891D-07362408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B2F6C-3726-49AC-B5B4-80E2EC23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40E1D-EA48-4ED8-BDA2-D6E93D79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BF404-84B1-4673-A51D-09B53C52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D808C-DB2C-4036-9357-66A4D4F3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52E-B5D1-4608-8E9D-8346A263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1D4FF-41D9-456C-A557-4FC47603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E8E33-EA2C-4097-A068-3818F503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3FC0D-834E-48A4-A946-EE2D1A4A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4D9E4-E33E-483E-A26F-C800365A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7562F-1BBA-4230-A99F-130D98CA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57BC6-AB1F-4D1A-87FA-D4757428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75EA2-820A-4571-B115-5828AA3F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F90F-DA5E-40F2-93F5-40CC7798D95D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7085-46AD-4D80-9F0A-5EE6FF30CFB1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5609-B370-41E5-9CAC-6D71C82D8F3D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CDEA-353D-4AAA-A592-E06B14AB845C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9211-A854-4072-9DB7-43CDA412B3EA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3DAC-CE24-4B27-986D-14B0DE63ADC5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CA83-F3BE-419C-ACE0-EFCBD09E189D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0E23-C36C-4847-8B79-3530D378E98C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192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Modus 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najčešća vrijednost koja se pojavljuje u jednom setu brojeva. Npr. ako je set brojeva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3,4,6,1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9,3,4,6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2,3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0,9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,8,4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5,6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3,3,4,7,8,9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0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</a:t>
            </a:r>
            <a:r>
              <a:rPr b="0" i="1" lang="sr-Latn-CS" sz="2800" spc="-1" strike="noStrike">
                <a:solidFill>
                  <a:srgbClr val="000000"/>
                </a:solidFill>
                <a:latin typeface="Lucida Sans Unicode"/>
              </a:rPr>
              <a:t>5,</a:t>
            </a:r>
            <a:r>
              <a:rPr b="1" i="1" lang="sr-Latn-CS" sz="2800" spc="-1" strike="noStrike">
                <a:solidFill>
                  <a:srgbClr val="000000"/>
                </a:solidFill>
                <a:latin typeface="Lucida Sans Unicode"/>
              </a:rPr>
              <a:t>8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Onda je modus = 8, dakle, broj koji se najviše puta pojavio u nizu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208080" y="66600"/>
            <a:ext cx="847872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zavisnosti od prirode podataka modus može biti manje ili više korisna mjera centralne tenden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U našem pri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eru da u uzorku ima najviše ispitanika koji imaju 21 godinu, taj podatkak nam i ne govori mnogo. Međuti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 ako pogledamo grafik pri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etićemo da je distribucija neravno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vi-VN" sz="2700" spc="-1" strike="noStrike">
                <a:solidFill>
                  <a:srgbClr val="000000"/>
                </a:solidFill>
                <a:latin typeface="Lucida Sans Unicode"/>
              </a:rPr>
              <a:t>erna upravo u ovom sektoru, tačnije kod mlađe kategorije ispitanik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istraživanjima se ner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tko koriste likertove l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stvice proc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ne koje imaju vr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 npr.: veome dobro, dobro, loše i veoma loše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petostepena skala: „uopšte se ne slažem”, „ne slažem se”, „nemam mišljenje”, „slažem se”, „potpuno se slažem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  </a:t>
            </a: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ovakvim situacijama modus nam daje vredniju informaciju u poređenju sa aritmetičkom sredinom i medijanom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. Zašto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3059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Mjere centralne tendencije samo parcijalno opisuju podatke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Centralna tendencija uz mjere varijabilnosti nam pomaže da vizualizujemo oblik jedne distribucij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Varijabilnost je sastvani dio distribucij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641520" y="1371600"/>
            <a:ext cx="7511760" cy="4533840"/>
          </a:xfrm>
          <a:prstGeom prst="rect">
            <a:avLst/>
          </a:prstGeom>
          <a:ln w="0">
            <a:noFill/>
          </a:ln>
        </p:spPr>
      </p:pic>
      <p:pic>
        <p:nvPicPr>
          <p:cNvPr id="405" name="Title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1523880" y="1601640"/>
            <a:ext cx="6391440" cy="3875400"/>
          </a:xfrm>
          <a:prstGeom prst="rect">
            <a:avLst/>
          </a:prstGeom>
          <a:ln w="0">
            <a:noFill/>
          </a:ln>
        </p:spPr>
      </p:pic>
      <p:pic>
        <p:nvPicPr>
          <p:cNvPr id="407" name="Title 1" descr=""/>
          <p:cNvPicPr/>
          <p:nvPr/>
        </p:nvPicPr>
        <p:blipFill>
          <a:blip r:embed="rId2"/>
          <a:stretch/>
        </p:blipFill>
        <p:spPr>
          <a:xfrm>
            <a:off x="231840" y="133200"/>
            <a:ext cx="845496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4748040" cy="4422960"/>
          </a:xfrm>
          <a:prstGeom prst="rect">
            <a:avLst/>
          </a:prstGeom>
          <a:ln w="0">
            <a:noFill/>
          </a:ln>
        </p:spPr>
      </p:pic>
      <p:pic>
        <p:nvPicPr>
          <p:cNvPr id="409" name="Title 1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1981080" y="167652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imjer asimetri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čne distribucije nakrivljene u des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,2,2,2,2,3,3,3,4,4,5,5,5,8,9,10,11,12,13,1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edijana je (4+5)/2=4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Aritmetička sredina 119/20=5.9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9780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2362320" y="2562120"/>
            <a:ext cx="4267080" cy="3679920"/>
          </a:xfrm>
          <a:prstGeom prst="rect">
            <a:avLst/>
          </a:prstGeom>
          <a:ln w="0">
            <a:noFill/>
          </a:ln>
        </p:spPr>
      </p:pic>
      <p:pic>
        <p:nvPicPr>
          <p:cNvPr id="414" name="Title 1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415" name="TextBox 4"/>
          <p:cNvSpPr/>
          <p:nvPr/>
        </p:nvSpPr>
        <p:spPr>
          <a:xfrm>
            <a:off x="2209680" y="190512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imjer asimetri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čne distribucije nakrivljene u lij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,2,3,4,5,5,8,8,8,8,9,9,9,9,9,10,10,11,11,1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edijana (8+8)/2=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Aritmetička sredina = 151/20 = 7.5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5154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609480"/>
            <a:ext cx="8686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Lucida Sans Unicode"/>
              </a:rPr>
              <a:t>ŠTA MORAMO 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SAVLADATI</a:t>
            </a:r>
            <a:r>
              <a:rPr b="0" lang="sr-Latn-CS" sz="40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ere centralne tenden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jere varij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ocjenu i značaj distribu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105520" cy="5061240"/>
          </a:xfrm>
          <a:prstGeom prst="rect">
            <a:avLst/>
          </a:prstGeom>
          <a:ln w="0">
            <a:noFill/>
          </a:ln>
        </p:spPr>
      </p:pic>
      <p:pic>
        <p:nvPicPr>
          <p:cNvPr id="419" name="Title 1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2,2,2,3,3,3,4,4,4,5,5,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edijana (3+4)/2=3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Aritmetička sredina 42/12=3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Normalna distribucija predstavlja onaj tip distribucije u kojem se vrh distribucije poklapa sa aritmetičkom sredinom distribucije (grafikon 5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Ovaj tip distribucije ima oblik ‘zvona’ pa se često upravo ovaj figurativan naziv koristi za normalnu distribuciju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Normalna distribucija, kao koncept, igra veoma važnu ulogu u statistici, naime, veliki broj statističkih testova počiva na pretpostavci da su vrijednosti normalno distribuiran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Asimetrična distribucija je onaj tip distribucije u kome se aritmetička sredina ne poklapa sa vrhom distribucije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Distribucija može biti asimetrična u dva smjera: prvo, ona može biti iskrivljena u desno (grafikon 3) i ona može biti iskrivljena u lijevo (grafikon 4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Najgori mogući slučaj asimetrične distribucije jeste ukoliko je ona nakrivljena istovremeno i u lijevo i u desno - ona ima dva vrh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Kada imamo slučaj izrazito asimetrične distribucije, onda nam to govori da mi u okviru populacije imamo dve kategorije (kohorte), koje se suštinski razlikuju po datoj karakteristici . Odvojena analiza.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631280" cy="5278680"/>
          </a:xfrm>
          <a:prstGeom prst="rect">
            <a:avLst/>
          </a:prstGeom>
          <a:ln w="0">
            <a:noFill/>
          </a:ln>
        </p:spPr>
      </p:pic>
      <p:pic>
        <p:nvPicPr>
          <p:cNvPr id="427" name="Title 1" descr=""/>
          <p:cNvPicPr/>
          <p:nvPr/>
        </p:nvPicPr>
        <p:blipFill>
          <a:blip r:embed="rId2"/>
          <a:stretch/>
        </p:blipFill>
        <p:spPr>
          <a:xfrm>
            <a:off x="285840" y="201600"/>
            <a:ext cx="840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Skewness je parametar koji pokazuje da li je distribucija asimetrična ulijevo ili udesn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Treći momenat distribucij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Skewness je jednak 0 ako je distribucija simetrična, a u suprotnom imaće vrijednost drugačiju od 0 sa predznakom koji je identičan kao i asimetri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gativna asimetrija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, to znači da je distribucija nakošena ulijevo, tj. u tom slučaju veća je frekvencija natprosječnih vrijednost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ozitivna asimetrija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, onda je distribucija nakošena udesno, i to znači da je frekvencija vrijednosti u korist ispodprosječnih vrijednost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237960" y="225360"/>
            <a:ext cx="88758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Kurtosis je parametar koji pruža informaciju o rasprostranjenosti distribucije po y osi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Kurtosis zapravo govori o tome u kojoj mjeri su vrijednosti koncentrisane oko aritmetičke sredine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Grafikon 2 pokazuje različite mogućnosti distribucije koje su normalne, spljoštene ili zaoštrene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Četvrti momenat distribucije i ima vrijednost 3 za normalnu distribuciju (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&lt; 3 distribucija je spljo</a:t>
            </a:r>
            <a:r>
              <a:rPr b="0" lang="sr-Latn-ME" sz="2100" spc="-1" strike="noStrike">
                <a:solidFill>
                  <a:srgbClr val="000000"/>
                </a:solidFill>
                <a:latin typeface="Lucida Sans Unicode"/>
              </a:rPr>
              <a:t>štenija </a:t>
            </a: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od normalne ,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&gt; 3 distribucija je za</a:t>
            </a: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šiljenija od normalne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Takođe, od vrijednosti koju smo dobili možemo oduzeti  3 tako da idealna distribucija ima kurtosis = 0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Lucida Sans Unicode"/>
              </a:rPr>
              <a:t>U tom slučaju, spljoštene distribucije imaju negativnu (-) vrijednost a zašiljene pozitivnu (+) vrijednost kurtosis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5280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457200" y="1481040"/>
          <a:ext cx="8229600" cy="3606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Xi-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Xi-µ)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(Xi-µ)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(Xi-µ)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7.68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83.0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51.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8.30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41.5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4.07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1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1.07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6.46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.6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0.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0.92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7.4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.2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.70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6.2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1.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6.3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2.6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6.66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4.7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97,08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28600" y="1481040"/>
            <a:ext cx="86868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=7.025   </a:t>
            </a:r>
            <a:r>
              <a:rPr b="0" lang="el-GR" sz="25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=2.576 </a:t>
            </a:r>
            <a:r>
              <a:rPr b="0" lang="el-GR" sz="26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=1.605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3=-24.7244/40=-0.6181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4=597.0845/40=14.9271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M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/ </a:t>
            </a:r>
            <a:r>
              <a:rPr b="0" lang="el-GR" sz="25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-0.6181/4.134=-0.15    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nako</a:t>
            </a:r>
            <a:r>
              <a:rPr b="1" lang="sr-Latn-CS" sz="1900" spc="-1" strike="noStrike">
                <a:solidFill>
                  <a:srgbClr val="000000"/>
                </a:solidFill>
                <a:latin typeface="Lucida Sans Unicode"/>
              </a:rPr>
              <a:t>š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ena ulijevo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   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M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/ </a:t>
            </a:r>
            <a:r>
              <a:rPr b="0" lang="el-GR" sz="25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r>
              <a:rPr b="0" lang="en-US" sz="25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α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14.9271/6.636= 2.25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spljo</a:t>
            </a:r>
            <a:r>
              <a:rPr b="1" lang="sr-Latn-CS" sz="1900" spc="-1" strike="noStrike">
                <a:solidFill>
                  <a:srgbClr val="000000"/>
                </a:solidFill>
                <a:latin typeface="Lucida Sans Unicode"/>
              </a:rPr>
              <a:t>š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tenija od normaln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ko oduzmemo 3 od rezultata  kurtosisa dobijamo                 – 0.75 (negativna vrijednost zna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 sp</a:t>
            </a:r>
            <a:r>
              <a:rPr b="0" lang="sr-Latn-CS" sz="2500" spc="-1" strike="noStrike">
                <a:solidFill>
                  <a:srgbClr val="000000"/>
                </a:solidFill>
                <a:latin typeface="Lucida Sans Unicode"/>
              </a:rPr>
              <a:t>ljoštenu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distribuciju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4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228600" cy="457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45720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U statistici postoje numeričke 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mjere varij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Mjere varijablinosti imaju za cilj da numerički precizno ukažu u kojoj mjeri distribucija vrijednosti odstupa od centralne tenden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663480" y="1523880"/>
            <a:ext cx="7794720" cy="4427640"/>
          </a:xfrm>
          <a:prstGeom prst="rect">
            <a:avLst/>
          </a:prstGeom>
          <a:ln w="0">
            <a:noFill/>
          </a:ln>
        </p:spPr>
      </p:pic>
      <p:pic>
        <p:nvPicPr>
          <p:cNvPr id="380" name="Title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psolutna mjera disperzij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Opseg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(Range) je najjednostavnija m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a varijabilnosti i on odgovara razlici između najveće(max)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 najmanje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(min)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zm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en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 u nizu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našem gornjem prim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u u kojima smo dali prikaz dstribucije godina ispitanika Opseg = 90–18= 72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NAPOMENA: Range je jedna od mjera varijabilnosti koja je sasvim nedostatna, naime, u okviru opsega (max-min) moguće su sasvim različite distribucije vrijednos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700" spc="-1" strike="noStrike">
                <a:solidFill>
                  <a:srgbClr val="000000"/>
                </a:solidFill>
                <a:latin typeface="Lucida Sans Unicode"/>
              </a:rPr>
              <a:t>Standardna devijacija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je jedna od ključnih mjera varijabilnosti koja ukazuje u kojoj su mjeri vrijednosti udaljene od aritmetičke sredin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Da bi izračunali standardu devijaciju nužno je prvo izračunati 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varijans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Varijansa se izračunava po sledećoj formuli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9007560" cy="2971800"/>
          </a:xfrm>
          <a:prstGeom prst="rect">
            <a:avLst/>
          </a:prstGeom>
          <a:ln w="0">
            <a:noFill/>
          </a:ln>
        </p:spPr>
      </p:pic>
      <p:pic>
        <p:nvPicPr>
          <p:cNvPr id="446" name="Title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4"/>
          <p:cNvSpPr/>
          <p:nvPr/>
        </p:nvSpPr>
        <p:spPr>
          <a:xfrm>
            <a:off x="380880" y="419112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Arial"/>
              </a:rPr>
              <a:t>Na osnovu varijanse se izračunava standardna devijacija, a ona predstavlja pozitivni kvadratni korijen varijan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3"/>
          <a:stretch/>
        </p:blipFill>
        <p:spPr>
          <a:xfrm>
            <a:off x="2895480" y="5181480"/>
            <a:ext cx="2549520" cy="60984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6"/>
          <p:cNvSpPr/>
          <p:nvPr/>
        </p:nvSpPr>
        <p:spPr>
          <a:xfrm>
            <a:off x="557640" y="5943600"/>
            <a:ext cx="435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Prema tome u našem primjeru SD j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4952880" y="5867280"/>
            <a:ext cx="2711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eficijent varijaci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σ/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liki je udio odstupanja u aritmeti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j sredin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58/3=0.526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ko se radi o cijenama, kakav bi bio komenta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Standardna devijacija uz aritmetičku sredinu nam pruža veoma korisne informacij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Ključna uloga standardne devijacije jeste da se na osnovu nje formiraju intervali povjerenj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663040" cy="1189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426240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533520" y="1447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Dakle, aritmetička sredina starosti naših ispitanika je 44,28, a standardna devijacija je 16,82. Slijedi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7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551800" cy="11890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8205840" cy="167652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4"/>
          <p:cNvSpPr/>
          <p:nvPr/>
        </p:nvSpPr>
        <p:spPr>
          <a:xfrm>
            <a:off x="533520" y="4191120"/>
            <a:ext cx="8153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Promptni zaključak: Distribucija je asimetrična i to udesno, naime, sa +/-dve standardne devijacije mi smo potpuno iscrp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eli nisk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ednosti tj. mlađi, dok još uvek nismo obuhvatili visok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ednosti tj.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</a:rPr>
              <a:t>tariji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04920" y="19810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Ukoliko je distribucija normalna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 – </a:t>
            </a: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Oko 68% vrijednosti će biti obuhvaćene +/-1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 – </a:t>
            </a: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Oko 95% vrijednosti će biti obuhvaćene +/-2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  – </a:t>
            </a:r>
            <a:r>
              <a:rPr b="0" lang="sr-Latn-CS" sz="2600" spc="-1" strike="noStrike">
                <a:solidFill>
                  <a:srgbClr val="000000"/>
                </a:solidFill>
                <a:latin typeface="Lucida Sans Unicode"/>
              </a:rPr>
              <a:t>Oko 99,7% vrijednosti će biti obuhvaćene +/-3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1" name="Title 1" descr=""/>
          <p:cNvPicPr/>
          <p:nvPr/>
        </p:nvPicPr>
        <p:blipFill>
          <a:blip r:embed="rId1"/>
          <a:stretch/>
        </p:blipFill>
        <p:spPr>
          <a:xfrm>
            <a:off x="231840" y="133200"/>
            <a:ext cx="877248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Ako su pro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čna primanja u Crnoj Gori 300 EUR sa standardnom devijacijom 130 EUR. To znači da oko 68%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populacije u Crnoj Gori ima primanja između 170 i 430 EUR i oko 95% populacije ima platu od 40 do 560 EUR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Percentili predstavljaju sumarne kumulativne pokazatelje distribucije iskazane relativnim frekvencijam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Percentili u suštini dijele ukupnu kumulativnu distribuciju u jednoj tački, te prema tome se distribucija dijeli na dva dijel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Najčešći u upotrebi je tzv 50-ti percentil, koji ima vrijednost medijane. Kada je o njemu riječ, ukupna distribucija se dijeli na način da polovina slučajeva (objekata) ima vrijednosti ispod a polovina iznad medijan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U upotrebi su takođe i 25-ti, 75-ti percentil, a nekada se koriste i 10-ti i 90-ti percenti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Upotreba je jednostavna, npr. ako je u našem prim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u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sa godinama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 na 25-om percentilu =30, to znači da 25% populacije jeste mlađe od 30 godina. Budući da j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 75-og percentila 57,6, to znači da je 75% naših ispitanika mlađe od 57,6 g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od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na. Konsekventno, pošto j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 na 90-tom percentilu 68, proističe da je 90% naših ispitanika mlađe od 68 godina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Budući da 25-ti, 50-ti i 75-ti percentil d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li populaciju u četiri grupe, njih nazivamo 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kvartilima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a razliku između 75-tog i 25-tog, nazivamo 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interkvartilni opseg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(IQR –interquartile range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ključna svrha upotrebe 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1" lang="sr-Latn-CS" sz="18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era centralne tendencije u društvenim naukama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statističk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 parametr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 -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 sv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ednosti jednog numeričkog niza (varijable)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e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‘centriraju’ i iskazuju posredstvom određene (jedne) numeričke vr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</a:rPr>
              <a:t>i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ednosti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Redukcioniz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a</a:t>
            </a:r>
            <a:r>
              <a:rPr b="1" lang="vi-VN" sz="1800" spc="-1" strike="noStrike">
                <a:solidFill>
                  <a:srgbClr val="000000"/>
                </a:solidFill>
                <a:latin typeface="Lucida Sans Unicode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</a:rPr>
              <a:t>singularni numerički izra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158760" y="15876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0520" y="15235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društv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ne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nauk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 - 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pros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čne karakteristike populacije ili uzorka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DEFINICIJA: Aritmetička sredina nekog seta kvantitativnih podataka (numeričkog niza) jeste suma svih vrijednosti podijeljena sa ukupnim brojem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podataka 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od kojih se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uzorak </a:t>
            </a:r>
            <a:r>
              <a:rPr b="0" lang="sr-Latn-CS" sz="1800" spc="-1" strike="noStrike">
                <a:solidFill>
                  <a:srgbClr val="000000"/>
                </a:solidFill>
                <a:latin typeface="Lucida Sans Unicode"/>
                <a:ea typeface="Arial"/>
              </a:rPr>
              <a:t>sastoji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231840" y="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3352680" y="3578400"/>
            <a:ext cx="2210040" cy="114588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80880" y="489420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Napomena:  </a:t>
            </a:r>
            <a:r>
              <a:rPr b="0" i="1" lang="sr-Latn-CS" sz="2000" spc="-1" strike="noStrike">
                <a:solidFill>
                  <a:srgbClr val="000000"/>
                </a:solidFill>
                <a:latin typeface="Lucida Sans Unicode"/>
              </a:rPr>
              <a:t>Simbol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i="1" lang="sr-Latn-CS" sz="2000" spc="-1" strike="noStrike">
                <a:solidFill>
                  <a:srgbClr val="000000"/>
                </a:solidFill>
                <a:latin typeface="Lucida Sans Unicode"/>
              </a:rPr>
              <a:t> se koristi kada se označava aritmetička sredina uzorka, dok se simbol </a:t>
            </a:r>
            <a:r>
              <a:rPr b="0" i="1" lang="el-GR" sz="2000" spc="-1" strike="noStrike">
                <a:solidFill>
                  <a:srgbClr val="000000"/>
                </a:solidFill>
                <a:latin typeface="Lucida Sans Unicode"/>
              </a:rPr>
              <a:t>μ </a:t>
            </a:r>
            <a:r>
              <a:rPr b="0" i="1" lang="sr-Latn-CS" sz="2000" spc="-1" strike="noStrike">
                <a:solidFill>
                  <a:srgbClr val="000000"/>
                </a:solidFill>
                <a:latin typeface="Lucida Sans Unicode"/>
              </a:rPr>
              <a:t>koristi kada je reč o popul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3"/>
          <a:stretch/>
        </p:blipFill>
        <p:spPr>
          <a:xfrm>
            <a:off x="2890800" y="4670280"/>
            <a:ext cx="3142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Npr. Ako 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žemo da su ispitanici u našem uzorku stari u prosjeku 44 god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to znači d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Dva su ključna faktora od kojih zavisi preciznost ovog podatka (aritmetičke sredine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1. Od veličine uzork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2. Od varijabilnosti tj. opsega (rasprostranjenosti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231840" y="133200"/>
            <a:ext cx="86994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Medijana,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akođe,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este neka vrsta pros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čn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DEFINICIJA: Medijana nekog kvan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t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tativnog seta podataka jeste srednji broj u situaciji kada se sve v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ij</a:t>
            </a:r>
            <a:r>
              <a:rPr b="0" lang="vi-VN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ednosti poređaju od najniže do najviše ili obrnut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Ukoliko je niz brojeva neparan, onda je medijana broj u sredini. Ukoliko je broj paran, onda je medijana srednja vrijednost srednja dva broja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Pr.1. Ako se varijabla sastoji od 7 brojeva 5,7,4,5,20,6 i 2 onda se medijana izračunava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2,4,5,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,6,7,20  M=5 (broj u sredini posmatrano s krajev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Pr.2. Ukoliko je pak varijabla sa parnim brojem brojeva (n=6) , npr. varijabla 4,5,5,6,7,20 onda se medijana izračunava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4,5,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5,6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7,20         M = (5+6)/2 = 5.5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U nekim situacijama medijana je bolja mjera centralne tendencije u odnosu na aritmetičku sredinu. Zašto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Neke varijable u društvenim istraživanjima su naročito pogodne za medijanu, npr. prihod iskazan u intervalnoj skali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Prosjek zarada – aritmetička sredina ili medijana?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231840" y="133200"/>
            <a:ext cx="845496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9:30:32Z</dcterms:created>
  <dc:creator>Ana</dc:creator>
  <dc:description/>
  <dc:language>en-US</dc:language>
  <cp:lastModifiedBy>User</cp:lastModifiedBy>
  <dcterms:modified xsi:type="dcterms:W3CDTF">2019-02-06T14:26:44Z</dcterms:modified>
  <cp:revision>87</cp:revision>
  <dc:subject/>
  <dc:title>DESKRIPTIVNA STATISTIKA II DEO</dc:title>
</cp:coreProperties>
</file>