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19C1-1B80-44EE-A4FA-92A265D47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A02B-7940-4BD6-9C8A-B1ECE5D1B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C2E4-4CFA-493F-B9B7-293643D63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DEAA-9ECE-4863-AFBC-E246ED135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B0DB-6B5F-45FD-976F-EEDEF98C77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9279-AEAB-4DA9-9CB7-8E1B24EC71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42F9-FA7E-4C60-90E1-FBEC0AF139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1EB7-F7CB-4ABB-8D15-3513C79D8E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2BE5-C846-42D4-A56C-0B10522B50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EC1B9-2298-4422-B510-8C9DC23345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EA392-3AB9-4564-BC98-977634B5EA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F220-2722-4D70-81B0-D420C297A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D9A3-AB42-44FE-843C-B1E1091B47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FF8B-4989-4073-B131-84415B0594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D858-4183-42A2-B9DC-9261AA8985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25A9-932A-4A7A-B47E-D10FC58BC2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706D-8A85-43BD-B07B-5A7C0A3D2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040D-62A8-44ED-9F70-19E4E4763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0208-8544-4EF3-8D6F-1EB7E2E32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F854-3CF0-495B-AD6E-49515B84A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6FA2-5DEE-4299-9679-3669F797E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F177-C36F-49B7-80FD-66AC0AEE6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92A4-E864-460E-9F7B-A856A0C25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16A6-D7E2-4330-8149-ADAC1E42E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 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09DD-0617-4A41-8876-A116C6B58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 Prentice H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AutoShape 5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6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BDA6-FA46-4651-BDCF-1FA819403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FB6A-9CEF-4F72-A3E5-7A6E43F09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26"/>
          <p:cNvSpPr/>
          <p:nvPr/>
        </p:nvSpPr>
        <p:spPr>
          <a:xfrm>
            <a:off x="685800" y="1523880"/>
            <a:ext cx="72388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Pregled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metanje podataka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zmjena podatak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isanje podataka</a:t>
            </a:r>
            <a:br>
              <a:rPr sz="1800"/>
            </a:b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revođenje modela E/R u relacioni</a:t>
            </a:r>
            <a:br>
              <a:rPr sz="1800"/>
            </a:br>
            <a:r>
              <a:rPr b="1" lang="sr-Latn-ME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sr-Latn-ME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MySQL</a:t>
            </a:r>
            <a:br>
              <a:rPr sz="1800"/>
            </a:br>
            <a:r>
              <a:rPr b="1" lang="sr-Latn-ME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sr-Latn-ME" sz="1800" spc="-1" strike="noStrike">
                <a:solidFill>
                  <a:srgbClr val="ff0000"/>
                </a:solidFill>
                <a:latin typeface="Arial"/>
              </a:rPr>
              <a:t>SQL 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r>
              <a:rPr b="1" lang="en-US" sz="3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elekcija podatak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Naredba </a:t>
            </a:r>
            <a:r>
              <a:rPr b="0" i="1" lang="sr-Latn-ME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Operator LIKE provjerava da li neki string odgovara regularnom izraz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Regularni izraz se sastoji od simbola koji mogu zamjenjivati jedno ili više slov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  označava pojavljivanje nekog slova proizvoljan broj p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pr. regu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om izraz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b' odgovaraju stringovi ab, aab, agggb i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 označava jedan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pr. regu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om izraz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b' odgovaraju stringovi ab, aab, a1b, a ne odgovara agg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-z] o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značava opseg ili skup znak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pr. regu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om izraz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-z]' odgovaraju stringovi ab, ag, a ne odgovara a1, a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EF48-D474-4FFE-8D5A-718AEB4A0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elekcija podatak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Naredba </a:t>
            </a:r>
            <a:r>
              <a:rPr b="0" i="1" lang="sr-Latn-ME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ći sve radnike čije ime počinje velikim slovom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ime from ZAPOSLENI where ime like ‘M*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Naći sve radnike čije ime i prezime počinju velikim slov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ime from ZAPOSLENI where ime like ‘M* M*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13F7-2795-4A1E-B0A1-72192DDDD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elekcija podatak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Sortiranje rezult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ostiže se naredbom Order By koja se može navesti na kraju up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Moguće je sortirati po jednoj ili više kolo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U rastućem ili opadajućem poretk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SC i D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rikazati sve departmane sortirane po naziv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from DEPARTMAN order by naz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rikazati sve departmane sortirane po nazivu u opadajućem poretk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from DEPARTMAN order by naziv d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Sortiranje po više kolo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from radi order by dept_id asc, r_vrijeme d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8966-568D-4E53-9C54-6793741AF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Grupisanje i agregacij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Znatno doprinose mogućnostima i izražajnosti upit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Agregatne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M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COU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S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AV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elect count(*) from zaposl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elect avg(god_rodj) from zaposl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A481-EE0C-4714-9761-08740FEFA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Grupisanje i agregacij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219320"/>
            <a:ext cx="77724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Funkcija COUN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Specifične jer ima nekoliko varijant 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count(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Broji sve redo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count(kolo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Broji redove u kojima je vrijednost različita od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AA78-DF7A-42C5-9147-6C22B753E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95640" y="4440240"/>
          <a:ext cx="2520720" cy="1854360"/>
        </p:xfrm>
        <a:graphic>
          <a:graphicData uri="http://schemas.openxmlformats.org/drawingml/2006/table">
            <a:tbl>
              <a:tblPr/>
              <a:tblGrid>
                <a:gridCol w="1260360"/>
                <a:gridCol w="126036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sp>
        <p:nvSpPr>
          <p:cNvPr id="134" name="Content Placeholder 2"/>
          <p:cNvSpPr/>
          <p:nvPr/>
        </p:nvSpPr>
        <p:spPr>
          <a:xfrm>
            <a:off x="4662360" y="4365720"/>
            <a:ext cx="352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count(*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count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Grupisanje i agregacij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Grupis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Moguće je grupisati relaciju po jednom ili više atribu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Torke iz tabele se grupišu tako da  u svakoj grupi budu one torke koje imaju iste vrijednosti atributa po kojima se tabela grupiš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Nad grupama je moguće primjenjivati agregante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Ako u upitu postoji grupisanje onda se u select dijelu smiju naći samo atributi po kojima grupišemo, kao i agregante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rimjer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Izlistati za svaki departman njegov id, ukupan broj ljudi koji radi u njemu, kao i prosječan broj 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dept_id, count(*), avg(r_vrijeme) from radi group by dept_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5652-B8A2-4CF2-B528-15B370C88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Grupisanje i agregacij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BCE7-3DB8-4DF5-B883-4B2575D6E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332000" y="1413000"/>
          <a:ext cx="6095880" cy="2595600"/>
        </p:xfrm>
        <a:graphic>
          <a:graphicData uri="http://schemas.openxmlformats.org/drawingml/2006/table">
            <a:tbl>
              <a:tblPr/>
              <a:tblGrid>
                <a:gridCol w="1523880"/>
                <a:gridCol w="1739880"/>
                <a:gridCol w="1368360"/>
                <a:gridCol w="1463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pt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p_jm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_vrij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d_pocet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1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222222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333333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4444444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55555555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66666666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Grupisanje i agregacij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E0B0-7A84-4636-9956-31A898584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332000" y="1143000"/>
          <a:ext cx="6095880" cy="1482840"/>
        </p:xfrm>
        <a:graphic>
          <a:graphicData uri="http://schemas.openxmlformats.org/drawingml/2006/table">
            <a:tbl>
              <a:tblPr/>
              <a:tblGrid>
                <a:gridCol w="1523880"/>
                <a:gridCol w="1739880"/>
                <a:gridCol w="1368360"/>
                <a:gridCol w="146376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pt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p_jm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_vrij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d_pocet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1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222222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55555555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332000" y="2852640"/>
          <a:ext cx="6095880" cy="1112760"/>
        </p:xfrm>
        <a:graphic>
          <a:graphicData uri="http://schemas.openxmlformats.org/drawingml/2006/table">
            <a:tbl>
              <a:tblPr/>
              <a:tblGrid>
                <a:gridCol w="1523880"/>
                <a:gridCol w="1739880"/>
                <a:gridCol w="1368360"/>
                <a:gridCol w="1463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pt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p_jm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_vrij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d_pocet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44444444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66666666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332000" y="4508640"/>
          <a:ext cx="6095880" cy="742680"/>
        </p:xfrm>
        <a:graphic>
          <a:graphicData uri="http://schemas.openxmlformats.org/drawingml/2006/table">
            <a:tbl>
              <a:tblPr/>
              <a:tblGrid>
                <a:gridCol w="1523880"/>
                <a:gridCol w="1739880"/>
                <a:gridCol w="1368360"/>
                <a:gridCol w="146376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pt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p_jm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_vrij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d_pocet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333333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 Grupisanje i agregacij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218960"/>
            <a:ext cx="77724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U rezulatu imamo redova koliko imamo i gru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Kolone će da čine sve one kolone po kojima grupišemo i dodatno kolone dobijene primjenom agregatnih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E07C-D40F-4378-A063-0257BCDE7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76360" y="3789360"/>
          <a:ext cx="6095880" cy="1482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pt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m(r_vrije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 Grupisanje i agregacij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Moguće je dodatno filtrirati dobijene rezul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200" spc="-1" strike="noStrike">
                <a:solidFill>
                  <a:srgbClr val="000000"/>
                </a:solidFill>
                <a:latin typeface="Times New Roman"/>
              </a:rPr>
              <a:t>Having</a:t>
            </a: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 klauzu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Agregatna funkcija smije da se nađe samo u tom dijel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Izlistati za svaki departman njegov id, ukupan broj ljudi koji radi u njemu, kao i prosječan broj sati, pod uslovom da u departmanu radi više od 2 zaposl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etačn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dept_id, count(*), avg(r_vrijeme) from radi group by dept_id where count(*) &gt;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Tač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dept_id, count(*), avg(r_vrijeme) from radi group by dept_id having count(*) &gt;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DACA-FD28-46E9-938B-53A1ADE77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726B-B019-4A64-B043-10D24B520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 Umetanje podatak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218960"/>
            <a:ext cx="78469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ert i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redba </a:t>
            </a: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vodi se ime tabele i u zagrada kolone koje </a:t>
            </a: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čije vrijednosti želimo da definišemo prilikom umetan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Iza ključne riječi </a:t>
            </a:r>
            <a:r>
              <a:rPr b="0" i="1" lang="sr-Latn-ME" sz="22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 se u zagradama navode vrijednosti Odvojene zarez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tringovi se navode pod jednostrukim znacima nav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Kolone koje nemaju NOT NULL ograničenje mogu da se izost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U tom slučaju njihova vrijednost postaje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UTO_INCREMENT kolone se najčešće izostavljaj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44"/>
          <p:cNvSpPr/>
          <p:nvPr/>
        </p:nvSpPr>
        <p:spPr>
          <a:xfrm>
            <a:off x="324000" y="558972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ZAPOSLENI(jmbg, ime, god_rodj, s_sprema_id) values ('1111111111111', 'Marko Markovic', 199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pajanj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Upite je moguće vršiti nad više tabe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Dekartov proizvo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ko prva tabela ima n torki, a druga m torki, rezultat će imati n  * m tor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ko prva kolona ima n kolona, a druga m kolona, rezultat će imati n + m kol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elect * from DEPARTMAN, RA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Ako kod dekartovog proizvoda dodamo i </a:t>
            </a:r>
            <a:r>
              <a:rPr b="0" i="1" lang="sr-Latn-ME" sz="2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 uslov onda se radi zapravo o spajanju tabe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Izlistati jmbg zaposlenog i ime departmana u kojem taj zaposleni ra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elect RADI.zap_jmbg, DEPARTMAN.naziv from DEPARTMAN, RADI where DEPARTMAN.id=RADI.dept_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D7DA-6DD6-45E6-AFEE-EF36F6F27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pajanj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05228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U spajanju može učestvovati proizvoljan broj tabe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Naći imena radnika rođenih prije 1990, koji rade u departmanu sa nazivom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elect ZAPOSLENI.ime from ZAPOSLENI, RADI, DEPARTMAN  where ZAPOSLENI.jmbg=RADI.zap_jmbg and DEPARTMAN.id=RADI.dept_id and ZAPOSLENI.god_rodj&lt;1990 and DEPARTMAN.naziv='IT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Kako imamo podatke iz više tabela, može se desiti da imamo kolone sa istim nazivom u dvije tabe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Zato ispred imena kolone stavljamo naziv tabele kao prefi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Mogu se koristiti i skraćenice, tj. alias-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elect Z.ime from ZAPOSLENI Z, RADI R, DEPARTMAN  D where Z.jmbg=R.zap_jmbg and D.id=R.dept_id and Z.god_rodj&lt;1990 and D.naziv='IT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247C-401F-43D8-A5F0-1601835B5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pajanj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Spajanje je zapravo jako česta opera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odaci su obično usitnjeni po tabel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Tzv. normaliz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Dobra dizajnerska praksa radi izbjegavanja anomal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INNER JO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Operator specijalno namijenjen spajanju tab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aći imena departmana u kojima radi makar jedan radnik čije je radno vrijeme veće od 4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elect distinct D.naziv from DEPARTMAN  D inner join RADI R on D.id=R.dept_id where R.r_vrijeme &gt;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Koristi se i </a:t>
            </a:r>
            <a:r>
              <a:rPr b="0" i="1" lang="sr-Latn-ME" sz="2000" spc="-1" strike="noStrike">
                <a:solidFill>
                  <a:srgbClr val="000000"/>
                </a:solidFill>
                <a:latin typeface="Times New Roman"/>
              </a:rPr>
              <a:t>distinct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 koje omogućava da se eliminišu duplika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23C4-1FB4-4326-BCB7-18AC7E792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pajanj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Spoljašnje spaj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OUTER JO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Uključuje i one koji nijesu spojeni, sa lijeve i desne stra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elect Z.ime, R.r_vrijeme from ZAPOSLENI Z inner join RADI R on Z.jmbg=R.zap_jmb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07D4-268A-45FE-9AD0-2824FB6E2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2637000"/>
          <a:ext cx="3529080" cy="1463400"/>
        </p:xfrm>
        <a:graphic>
          <a:graphicData uri="http://schemas.openxmlformats.org/drawingml/2006/table">
            <a:tbl>
              <a:tblPr/>
              <a:tblGrid>
                <a:gridCol w="1512720"/>
                <a:gridCol w="2016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m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o Marko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2222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ena Marko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3333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ko Janko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554360" y="2637000"/>
          <a:ext cx="3911760" cy="1112760"/>
        </p:xfrm>
        <a:graphic>
          <a:graphicData uri="http://schemas.openxmlformats.org/drawingml/2006/table">
            <a:tbl>
              <a:tblPr/>
              <a:tblGrid>
                <a:gridCol w="1511640"/>
                <a:gridCol w="1031760"/>
                <a:gridCol w="1368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p_jm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pt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_vrij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2222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700360" y="5157720"/>
          <a:ext cx="4127400" cy="1111320"/>
        </p:xfrm>
        <a:graphic>
          <a:graphicData uri="http://schemas.openxmlformats.org/drawingml/2006/table">
            <a:tbl>
              <a:tblPr/>
              <a:tblGrid>
                <a:gridCol w="2063880"/>
                <a:gridCol w="206352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_vrij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o Marko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ena Marko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pajanj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Spoljašnje spaj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OUTER JO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elect Z.ime, R.r_vrijeme from ZAPOSLENI Z LEFT OUTER JOIN RADI R on Z.jmbg=R.zap_jmb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8692-17E5-40E6-AC63-8AFB44C66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4000" y="2133720"/>
          <a:ext cx="3527280" cy="1461960"/>
        </p:xfrm>
        <a:graphic>
          <a:graphicData uri="http://schemas.openxmlformats.org/drawingml/2006/table">
            <a:tbl>
              <a:tblPr/>
              <a:tblGrid>
                <a:gridCol w="1511280"/>
                <a:gridCol w="201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m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o Marko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2222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ena Marko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3333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ko Janko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46440" y="2133720"/>
          <a:ext cx="3911760" cy="1110960"/>
        </p:xfrm>
        <a:graphic>
          <a:graphicData uri="http://schemas.openxmlformats.org/drawingml/2006/table">
            <a:tbl>
              <a:tblPr/>
              <a:tblGrid>
                <a:gridCol w="1511640"/>
                <a:gridCol w="1031760"/>
                <a:gridCol w="1368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p_jm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pt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_vrij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2222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92360" y="4581360"/>
          <a:ext cx="6095880" cy="1482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_vrij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o Marko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ena Marko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ko Janko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 Podupiti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u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aredba unutar dru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ared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gu se podijeliti u dvije vrs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zani upi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veza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i su sa glavnim upitom čiji su d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evezani podupi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Računaju se nezavisno od glavnog upi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 naredba koja vraća jednu vrijednost može se u upitima koristiti svuda gdje dozvoljeno koristiti konstan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Pod jedna vrijednost podrazumijeva se sa u rezultatu izvšavanja imamo jednu vrstu i jednu kolo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D70D-141D-4F00-A243-93FE48731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 Podupiti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u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Naći departmane u kojma radi više od 20% zaposlen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RADI.dept_id, count(*) from RADI group by RADI.dept_id having count(*) &gt; (select count(*) from ZAPOSLENI) /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odupiti koji vraćaju više vrijednosti mogu se kombinovati sa operator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IN i 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EXISTS i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vi operatori osim EXISTS rade sa jednom kolon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CD06-28FD-4E0D-AA55-8F4770D51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 Podupiti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Naći departmane u kojma svaki zaposleni radi više od 4 s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from DEPARTMAN where 4 &lt;= ALL(select r_vrijeme from RADI where RADI.dept_id=DEPARTMAN.i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Naći najstarijeg radnik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from ZAPOSLENI where god_rodj &lt;= ALL(select god_rodj from ZAPOSL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Naći departmane u kojma makar jedan zaposleni radi kraće od 4 s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 * from DEPARTMAN where 4 &gt; ANY(select r_vrijeme from RADI where RADI.dept_id=DEPARTMAN.i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3575-EDA0-4FE2-8B54-D627A0B11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 Podupiti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Naći departman u kojem radi makar jedan radnik čije je stručna sprema jednaka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dept_id from RADI where zap_jmbg in (select jmbg from ZAPOSLENI where s_sprema_id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Naći departman u kojem radi makar jedan radnik čije je radno vrijeme veće od 4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from DEPARTMAN D where EXISTS(select * from RADI R where R.dept_id=D.id and r_vrijeme &gt;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5CF4-F1FA-4A95-AC78-352A1DD78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 Podupiti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Mogu se naći FROM dij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Izlistati departmane po broju radnika u opadajućem poret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 from (select dept_id, count(*) as br_rad from RADI group by dept_id) A order by br_rad d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Mogu se naći SELECT dij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Izlistati departmane, kao broj radnika koji rade u njima čije je radno vrijeme duže od 4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*,(select count(*) as br_rad from RADI where RADI.dept_id=DEPARTMAN.id and RADI.r_vrijeme &gt;=4) from DEPART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A8EF-4912-4917-887A-2B11125E4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18B2-4231-4FAC-BF32-C86D0EB1D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Izmjena podatak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218960"/>
            <a:ext cx="784692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8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redba </a:t>
            </a: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vodi se ime tabele </a:t>
            </a: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čije podatke želimo da ažuriram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Iza ključne riječi </a:t>
            </a:r>
            <a:r>
              <a:rPr b="0" i="1" lang="sr-Latn-ME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 definišu se vrijednosti za kolone odvojene zarez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e moramo ažurirati sve ko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e moramo ažurirati sve torke 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Iza ključne riječi </a:t>
            </a:r>
            <a:r>
              <a:rPr b="0" i="1" lang="sr-Latn-ME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 se navodi logički uslov za tor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ko je uslov izostavljen ažuriraju se sve tor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4"/>
          <p:cNvSpPr/>
          <p:nvPr/>
        </p:nvSpPr>
        <p:spPr>
          <a:xfrm>
            <a:off x="-31680" y="5589720"/>
            <a:ext cx="91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ZAPOSLENI </a:t>
            </a:r>
            <a:r>
              <a:rPr b="0" lang="sr-Latn-ME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_sprema_id=1,god_rodj=1900 where jmbg='4444444444443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 Podupit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Dodatni uslov koliko torki želimo da vidimo u rezultat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lect top 2 * from DEPARTMA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Naći departman koji ima najveći broj radni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op 1 * from (select dept_id, count(*) as br_rad from RADI group by dept_id) A order by br_rad d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0F47-9F89-4598-A22B-A1C47421E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375A-28A0-421C-9B01-066DED01F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Brisanje podatak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218960"/>
            <a:ext cx="784692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800" spc="-1" strike="noStrike">
                <a:solidFill>
                  <a:srgbClr val="000000"/>
                </a:solidFill>
                <a:latin typeface="Times New Roman"/>
              </a:rPr>
              <a:t>Delete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redba </a:t>
            </a: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vodi se ime tabele </a:t>
            </a: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čije podatke želimo da brišem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Brišu se kompletno torke </a:t>
            </a: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Iza ključne riječi </a:t>
            </a:r>
            <a:r>
              <a:rPr b="0" i="1" lang="sr-Latn-ME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 se navodi logički uslov za tor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ko je uslov izostavljen ažuriraju se sve tor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Opas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44"/>
          <p:cNvSpPr/>
          <p:nvPr/>
        </p:nvSpPr>
        <p:spPr>
          <a:xfrm>
            <a:off x="1476360" y="41497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from ZAPOSLENI where jmbg='4444444444443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elekcija podatak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Naredba </a:t>
            </a:r>
            <a:r>
              <a:rPr b="0" i="1" lang="sr-Latn-ME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utem nje definišu se upiti nad bazom podatak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Može biti vrlo složena i uključivati više tabela, operacije agregacije, podupite it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Iza ključne riječi </a:t>
            </a:r>
            <a:r>
              <a:rPr b="0" i="1" lang="sr-Latn-ME" sz="2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 navode se kolone koje želimo da prikažem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Ključna riječ </a:t>
            </a:r>
            <a:r>
              <a:rPr b="0" i="1" lang="sr-Latn-ME" sz="22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Iz kojih tabela selektujemo podat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Ključna riječ W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Logički uslov za torke i definiše koje torke želimo da prikaž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ko je izostavljen selektujemo sve tor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2115-14CC-465D-A3E3-02F8709E7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elekcija podatak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Naredba </a:t>
            </a:r>
            <a:r>
              <a:rPr b="0" i="1" lang="sr-Latn-ME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rikazati sve informacije o departman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id, naziv from DEPART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Skraćeno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DEPART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D7D3-4ECD-4ABF-8D07-51CB19BDD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332000" y="2637000"/>
          <a:ext cx="6095880" cy="1482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z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rza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elekcija podatak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Naredba </a:t>
            </a:r>
            <a:r>
              <a:rPr b="0" i="1" lang="sr-Latn-ME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rikazati imena zaposlenih čija je godina rođenja različita od 196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ime from ZAPOSLENI where god_rodj&lt;&gt;19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ime from ZAPOSLENI where 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ot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d_rodj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0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oređenje sa NULL uvijek daje netač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rikazati imena zaposlenih za koje nije poznata godina rođe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ime from ZAPOSLENI where god_rodj is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ime from ZAPOSLENI where god_rodj is 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6400-8CEF-4420-95E7-E2C89F96A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elekcija podatak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Naredba </a:t>
            </a:r>
            <a:r>
              <a:rPr b="0" i="1" lang="sr-Latn-ME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rikazati jmg i imena zaposlen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jmb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ZAPOS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rikazati imena zaposlenih rođenih prije 196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Where d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ime from ZAPOSLENI where god_rodj&lt;19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rikazati imena zaposlenih rođenih poslije 1960. i prije 197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And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ime from ZAPOSLENI where god_rodj&gt;1960 and god_rodj&lt;1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ime from ZAPOSLENI where god_rodj between 1960 and 1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uklju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</a:rPr>
              <a:t>čuje granice interv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4B00-A3C5-4BE3-AD83-BC4DF8A2D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. </a:t>
            </a:r>
            <a:r>
              <a:rPr b="1" lang="sr-Latn-ME" sz="2800" spc="-1" strike="noStrike">
                <a:solidFill>
                  <a:srgbClr val="ff3300"/>
                </a:solidFill>
                <a:latin typeface="AvantGarde"/>
              </a:rPr>
              <a:t>Selekcija podatak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800" spc="-1" strike="noStrike">
                <a:solidFill>
                  <a:srgbClr val="000000"/>
                </a:solidFill>
                <a:latin typeface="Times New Roman"/>
              </a:rPr>
              <a:t>Naredba </a:t>
            </a:r>
            <a:r>
              <a:rPr b="0" i="1" lang="sr-Latn-ME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Operator IN provjerava da li je neka vrijednost u skup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rikazati imena zaposlenih rođenih 1961., ili  1972. ili 1983. god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ime from ZAPOSLENI where god_rodj in (1961,1972,198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200" spc="-1" strike="noStrike">
                <a:solidFill>
                  <a:srgbClr val="000000"/>
                </a:solidFill>
                <a:latin typeface="Times New Roman"/>
              </a:rPr>
              <a:t>Podržan je i operator NOT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E586-B7C1-4560-94CD-8302CFC37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16:20:06Z</dcterms:created>
  <dc:creator>gadzik</dc:creator>
  <dc:description/>
  <dc:language>en-US</dc:language>
  <cp:lastModifiedBy>velibor dosljak</cp:lastModifiedBy>
  <dcterms:modified xsi:type="dcterms:W3CDTF">2023-10-24T19:24:22Z</dcterms:modified>
  <cp:revision>461</cp:revision>
  <dc:subject/>
  <dc:title>Chapter 3 – Introduction to Visual Basic Programming </dc:title>
</cp:coreProperties>
</file>