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7BB-B694-4E6B-904E-7943CCA5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8D6-0A52-453A-8F18-E1A99162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2E0-CDF3-436B-B99B-66AA5805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072D-6ED7-413D-901F-FC4B9717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79E3-EBDA-40BF-8928-3EF6F612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7E66-A317-4CC3-9F56-2C0B188B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E13A-639B-4129-AE46-823653AB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9DB0-2D73-46C7-894D-22319D0F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E28E-82A5-424F-AB82-18DA702E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50A8-A954-4A7D-BA32-D614CF49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5A91-962F-4D90-8530-DC5699D2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129-CA58-419D-8438-073BE7BC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07A9-8665-4ACE-BCEA-6342AEEB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D4ED-1D4C-41EA-BADF-D910321A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5726-4749-4D5A-9ECF-CDDAC65F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198A-59B7-415D-8448-CBBA88B9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A7FD-F092-4EC7-9A17-872EA016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585-40EC-4209-9773-2C143934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F4F-4405-4E7B-82D4-2D75B8FD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199-925A-4A7E-8847-AD595993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53D-3A99-42D4-B5DB-B7AB54EC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EED-8E15-4C89-95A1-F694759A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FFC-E4ED-4452-BCDA-96612999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65B-65E4-42A4-BC55-B4981BC7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91F7C8-59DD-4285-9837-F1DA2BCC8ABD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5B401D-85CD-4635-9047-96603FC54C95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GB" sz="6000" spc="-1" strike="noStrike">
                <a:solidFill>
                  <a:srgbClr val="000000"/>
                </a:solidFill>
                <a:latin typeface="Calibri Light"/>
              </a:rPr>
              <a:t>Programski jezik C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kaziva</a:t>
            </a: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či i niz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 na </a:t>
            </a:r>
            <a:r>
              <a:rPr b="0" lang="sr-Latn-ME" sz="44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Content Placeholder 3" descr=""/>
          <p:cNvPicPr/>
          <p:nvPr/>
        </p:nvPicPr>
        <p:blipFill>
          <a:blip r:embed="rId1"/>
          <a:stretch/>
        </p:blipFill>
        <p:spPr>
          <a:xfrm>
            <a:off x="838080" y="1690560"/>
            <a:ext cx="7902360" cy="59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2946240" y="2422080"/>
            <a:ext cx="6576120" cy="256788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6"/>
          <p:cNvCxnSpPr>
            <a:stCxn id="117" idx="1"/>
          </p:cNvCxnSpPr>
          <p:nvPr/>
        </p:nvCxnSpPr>
        <p:spPr>
          <a:xfrm>
            <a:off x="838080" y="1987560"/>
            <a:ext cx="2108520" cy="2097360"/>
          </a:xfrm>
          <a:prstGeom prst="straightConnector1">
            <a:avLst/>
          </a:prstGeom>
          <a:ln>
            <a:solidFill>
              <a:srgbClr val="5b9bd5"/>
            </a:solidFill>
            <a:tailEnd len="med" type="triangle" w="med"/>
          </a:ln>
        </p:spPr>
      </p:cxnSp>
      <p:cxnSp>
        <p:nvCxnSpPr>
          <p:cNvPr id="120" name="Straight Arrow Connector 8"/>
          <p:cNvCxnSpPr/>
          <p:nvPr/>
        </p:nvCxnSpPr>
        <p:spPr>
          <a:xfrm>
            <a:off x="2613600" y="2284920"/>
            <a:ext cx="1321200" cy="596880"/>
          </a:xfrm>
          <a:prstGeom prst="straightConnector1">
            <a:avLst/>
          </a:prstGeom>
          <a:ln>
            <a:solidFill>
              <a:srgbClr val="5b9bd5"/>
            </a:solidFill>
            <a:tailEnd len="med" type="triangle" w="med"/>
          </a:ln>
        </p:spPr>
      </p:cxnSp>
      <p:sp>
        <p:nvSpPr>
          <p:cNvPr id="121" name="TextBox 9"/>
          <p:cNvSpPr/>
          <p:nvPr/>
        </p:nvSpPr>
        <p:spPr>
          <a:xfrm>
            <a:off x="884880" y="4815720"/>
            <a:ext cx="938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ME" sz="1800" spc="-1" strike="noStrike">
                <a:solidFill>
                  <a:srgbClr val="000000"/>
                </a:solidFill>
                <a:latin typeface="Courier New"/>
              </a:rPr>
              <a:t>amessage</a:t>
            </a: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 je niz dovoljan da smjesti gornji niz karaktera zajedno sa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\0, pojedin</a:t>
            </a: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i karakteri se mog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mijenjati, </a:t>
            </a:r>
            <a:r>
              <a:rPr b="0" lang="sr-Latn-ME" sz="1800" spc="-1" strike="noStrike">
                <a:solidFill>
                  <a:srgbClr val="000000"/>
                </a:solidFill>
                <a:latin typeface="Courier New"/>
              </a:rPr>
              <a:t>amessage</a:t>
            </a: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 uvijek ukazuje na istu memorij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844200" y="5527080"/>
            <a:ext cx="10780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ME" sz="1800" spc="-1" strike="noStrike">
                <a:solidFill>
                  <a:srgbClr val="000000"/>
                </a:solidFill>
                <a:latin typeface="Courier New"/>
              </a:rPr>
              <a:t>pmessage</a:t>
            </a: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 je pokazivač, inicijalizovan da ukazuje na string konstantu, pokazivač kasnije može biti preusmjeren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neku drugu lokaciju, ali je rezultat nedefinisan ako pokušate da mijenjate karaktere unutar st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 na </a:t>
            </a:r>
            <a:r>
              <a:rPr b="0" lang="sr-Latn-ME" sz="4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sr-Latn-ME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838080" y="1690560"/>
            <a:ext cx="5349240" cy="2247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6436080" y="1593000"/>
            <a:ext cx="5295960" cy="2842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3752640" y="4834440"/>
            <a:ext cx="4686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 na </a:t>
            </a:r>
            <a:r>
              <a:rPr b="0" lang="sr-Latn-ME" sz="4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20160" y="1825560"/>
            <a:ext cx="8504280" cy="2339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920160" y="4300200"/>
            <a:ext cx="5181840" cy="252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izovi pokaziva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č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a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Pokazivač je promjenljiva pa može biti smještana i u ni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Šta predstavlja 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20880" y="3351240"/>
            <a:ext cx="8550000" cy="163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1820880" y="2386800"/>
            <a:ext cx="6621840" cy="754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3"/>
          <a:stretch/>
        </p:blipFill>
        <p:spPr>
          <a:xfrm>
            <a:off x="3331080" y="5505480"/>
            <a:ext cx="1317960" cy="319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4"/>
          <a:stretch/>
        </p:blipFill>
        <p:spPr>
          <a:xfrm>
            <a:off x="5734080" y="5124600"/>
            <a:ext cx="52120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Vi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šedimenzionalni nizo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Content Placeholder 3" descr=""/>
          <p:cNvPicPr/>
          <p:nvPr/>
        </p:nvPicPr>
        <p:blipFill>
          <a:blip r:embed="rId1"/>
          <a:stretch/>
        </p:blipFill>
        <p:spPr>
          <a:xfrm>
            <a:off x="838080" y="1400040"/>
            <a:ext cx="6660000" cy="3169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4897440" y="4320720"/>
            <a:ext cx="7033680" cy="2468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3"/>
          <a:stretch/>
        </p:blipFill>
        <p:spPr>
          <a:xfrm>
            <a:off x="8038800" y="3291480"/>
            <a:ext cx="3558600" cy="662760"/>
          </a:xfrm>
          <a:prstGeom prst="rect">
            <a:avLst/>
          </a:prstGeom>
          <a:ln w="0">
            <a:noFill/>
          </a:ln>
        </p:spPr>
      </p:pic>
      <p:cxnSp>
        <p:nvCxnSpPr>
          <p:cNvPr id="142" name="Straight Arrow Connector 7"/>
          <p:cNvCxnSpPr>
            <a:stCxn id="141" idx="2"/>
          </p:cNvCxnSpPr>
          <p:nvPr/>
        </p:nvCxnSpPr>
        <p:spPr>
          <a:xfrm flipH="1">
            <a:off x="5883480" y="3954240"/>
            <a:ext cx="3934800" cy="396360"/>
          </a:xfrm>
          <a:prstGeom prst="straightConnector1">
            <a:avLst/>
          </a:prstGeom>
          <a:ln>
            <a:solidFill>
              <a:srgbClr val="5b9bd5"/>
            </a:solidFill>
            <a:tailEnd len="med" type="triangle" w="med"/>
          </a:ln>
        </p:spPr>
      </p:cxnSp>
      <p:cxnSp>
        <p:nvCxnSpPr>
          <p:cNvPr id="143" name="Straight Arrow Connector 9"/>
          <p:cNvCxnSpPr/>
          <p:nvPr/>
        </p:nvCxnSpPr>
        <p:spPr>
          <a:xfrm flipH="1" flipV="1">
            <a:off x="8829720" y="5763240"/>
            <a:ext cx="988560" cy="286920"/>
          </a:xfrm>
          <a:prstGeom prst="straightConnector1">
            <a:avLst/>
          </a:prstGeom>
          <a:ln>
            <a:solidFill>
              <a:srgbClr val="5b9bd5"/>
            </a:solidFill>
            <a:tailEnd len="med" type="triangle" w="med"/>
          </a:ln>
        </p:spPr>
      </p:cxnSp>
      <p:sp>
        <p:nvSpPr>
          <p:cNvPr id="144" name="TextBox 11"/>
          <p:cNvSpPr/>
          <p:nvPr/>
        </p:nvSpPr>
        <p:spPr>
          <a:xfrm>
            <a:off x="9558000" y="6050520"/>
            <a:ext cx="2633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ea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se koristi kao ind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13"/>
          <p:cNvCxnSpPr/>
          <p:nvPr/>
        </p:nvCxnSpPr>
        <p:spPr>
          <a:xfrm flipH="1" flipV="1">
            <a:off x="1958040" y="1542240"/>
            <a:ext cx="6081120" cy="9720"/>
          </a:xfrm>
          <a:prstGeom prst="straightConnector1">
            <a:avLst/>
          </a:prstGeom>
          <a:ln>
            <a:solidFill>
              <a:srgbClr val="5b9bd5"/>
            </a:solidFill>
            <a:tailEnd len="med" type="triangle" w="med"/>
          </a:ln>
        </p:spPr>
      </p:cxnSp>
      <p:sp>
        <p:nvSpPr>
          <p:cNvPr id="146" name="TextBox 14"/>
          <p:cNvSpPr/>
          <p:nvPr/>
        </p:nvSpPr>
        <p:spPr>
          <a:xfrm>
            <a:off x="7724880" y="1215360"/>
            <a:ext cx="351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lobalna promjenljiva, za</a:t>
            </a: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što </a:t>
            </a:r>
            <a:r>
              <a:rPr b="0" lang="sr-Latn-ME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6"/>
          <p:cNvCxnSpPr/>
          <p:nvPr/>
        </p:nvCxnSpPr>
        <p:spPr>
          <a:xfrm flipH="1" flipV="1">
            <a:off x="1532880" y="1976400"/>
            <a:ext cx="213120" cy="314280"/>
          </a:xfrm>
          <a:prstGeom prst="straightConnector1">
            <a:avLst/>
          </a:prstGeom>
          <a:ln>
            <a:solidFill>
              <a:srgbClr val="5b9bd5"/>
            </a:solidFill>
            <a:tailEnd len="med" type="triangle" w="med"/>
          </a:ln>
        </p:spPr>
      </p:cxnSp>
      <p:sp>
        <p:nvSpPr>
          <p:cNvPr id="148" name="TextBox 17"/>
          <p:cNvSpPr/>
          <p:nvPr/>
        </p:nvSpPr>
        <p:spPr>
          <a:xfrm>
            <a:off x="1749960" y="2241000"/>
            <a:ext cx="95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Zašto 0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Vi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šedimenzionalni nizovi</a:t>
            </a: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ementi se smje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štaju po vrst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imj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je dvodimenzionalni niz, zauzima 200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lokacija, 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adresa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ement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a[row][col]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ra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čuna se kao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a + 20*row + col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je niz od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0 pokazivača na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koji nijesu inicijalizovani, ako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tpostavimo da je kasnije 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svaki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[i]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stavljen da ukazuje na niz od 20 cijelih brojeva koliko ovaj na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čin reprezentacije zauzima memorije u poređenju sa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492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[i]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ne moraju ukazivati na nizove iste du</a:t>
            </a: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ž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105560" y="2877120"/>
            <a:ext cx="1760040" cy="45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Vi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šedimenzionalni nizovi</a:t>
            </a: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 (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3</a:t>
            </a: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781000" y="2602800"/>
            <a:ext cx="6629760" cy="279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Argumenti komandne lin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Funkcija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ima dva argumenta,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argc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je broj argumenata,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argv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je pokazivač na niz pokazivača (stringova) koji predstavljaju stvarne argu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737520" y="3232440"/>
            <a:ext cx="4716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i na funkc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Deklaracija pokazivača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comp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na funkciju koja vraća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i ima dva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void*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argum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Poziv funk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4503240" y="2599200"/>
            <a:ext cx="3184920" cy="273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4808160" y="3646800"/>
            <a:ext cx="2575440" cy="304560"/>
          </a:xfrm>
          <a:prstGeom prst="rect">
            <a:avLst/>
          </a:prstGeom>
          <a:ln w="0">
            <a:noFill/>
          </a:ln>
        </p:spPr>
      </p:pic>
      <p:cxnSp>
        <p:nvCxnSpPr>
          <p:cNvPr id="162" name="Straight Arrow Connector 6"/>
          <p:cNvCxnSpPr/>
          <p:nvPr/>
        </p:nvCxnSpPr>
        <p:spPr>
          <a:xfrm flipH="1" flipV="1">
            <a:off x="5754240" y="2736000"/>
            <a:ext cx="342000" cy="413640"/>
          </a:xfrm>
          <a:prstGeom prst="straightConnector1">
            <a:avLst/>
          </a:prstGeom>
          <a:ln>
            <a:solidFill>
              <a:srgbClr val="5b9bd5"/>
            </a:solidFill>
            <a:tailEnd len="med" type="triangle" w="med"/>
          </a:ln>
        </p:spPr>
      </p:cxnSp>
      <p:cxnSp>
        <p:nvCxnSpPr>
          <p:cNvPr id="163" name="Straight Arrow Connector 8"/>
          <p:cNvCxnSpPr/>
          <p:nvPr/>
        </p:nvCxnSpPr>
        <p:spPr>
          <a:xfrm flipH="1" flipV="1">
            <a:off x="5061240" y="2807640"/>
            <a:ext cx="1035000" cy="328320"/>
          </a:xfrm>
          <a:prstGeom prst="straightConnector1">
            <a:avLst/>
          </a:prstGeom>
          <a:ln>
            <a:solidFill>
              <a:srgbClr val="5b9bd5"/>
            </a:solidFill>
            <a:tailEnd len="med" type="triangle" w="med"/>
          </a:ln>
        </p:spPr>
      </p:cxnSp>
      <p:sp>
        <p:nvSpPr>
          <p:cNvPr id="164" name="TextBox 9"/>
          <p:cNvSpPr/>
          <p:nvPr/>
        </p:nvSpPr>
        <p:spPr>
          <a:xfrm>
            <a:off x="6108480" y="3001320"/>
            <a:ext cx="238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Zagrade su neophod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Pokazivač je promjenljiva koja sadrži adresu neke druge projenlj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Citati iz knjige Introducion to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inters have been lumped with the goto statement as a marvelous way to create impossibleto-understand programs</a:t>
            </a: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h discipline, however, pointers can also be used to achieve clarity and simplicity. This is the aspect that we will try to illustrate</a:t>
            </a: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i i adr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Uobičajeno je memorija predstavljena nizom uzastopno numerisanih (adresiranih) memorijskih riječi kojima je moguće manipulisati pojedinačno ili u kontinualnom opseg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Na primjer  bajt može predstavljati </a:t>
            </a:r>
            <a:r>
              <a:rPr b="0" lang="sr-Latn-ME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, par predstavlja </a:t>
            </a:r>
            <a:r>
              <a:rPr b="0" lang="sr-Latn-ME" sz="2400" spc="-1" strike="noStrike">
                <a:solidFill>
                  <a:srgbClr val="000000"/>
                </a:solidFill>
                <a:latin typeface="Courier New"/>
              </a:rPr>
              <a:t>short int</a:t>
            </a: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, a četiri uzastopna bajta mogu se tretirati kao </a:t>
            </a:r>
            <a:r>
              <a:rPr b="0" lang="sr-Latn-ME" sz="2400" spc="-1" strike="noStrike">
                <a:solidFill>
                  <a:srgbClr val="000000"/>
                </a:solidFill>
                <a:latin typeface="Courier New"/>
              </a:rPr>
              <a:t>long 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Pokazivač je grupa bajtova (obično 2 ili 4) koja može sadržati adre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400" spc="-1" strike="noStrike">
                <a:solidFill>
                  <a:srgbClr val="000000"/>
                </a:solidFill>
                <a:latin typeface="Courier New"/>
              </a:rPr>
              <a:t>p = &amp;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Operator &amp; može da se primijeni samo na objekte iz memorije (promjenljive, nizove), ne može se primijeniti na izraze, konstante ili </a:t>
            </a:r>
            <a:r>
              <a:rPr b="0" lang="sr-Latn-ME" sz="2400" spc="-1" strike="noStrike">
                <a:solidFill>
                  <a:srgbClr val="000000"/>
                </a:solidFill>
                <a:latin typeface="Courier New"/>
              </a:rPr>
              <a:t>register</a:t>
            </a: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 promjenlj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4227120" y="5311080"/>
            <a:ext cx="7246800" cy="15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i i adres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Unarni operator * je „dereferenciranje“ – pristupa se objektu na koji ukazuje pokaziva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Pokazivač ukazuje na poseban tip podat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Pokazivač na </a:t>
            </a:r>
            <a:r>
              <a:rPr b="0" lang="sr-Latn-ME" sz="2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 može biti zamijenjen pokazivačem na bilo koji tip ali ne može biti dereferencir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104840" y="3996360"/>
            <a:ext cx="3756600" cy="73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104840" y="4619160"/>
            <a:ext cx="175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i i argumenti funk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Agrumenti se u C-u predaju po vrijednosti pa ne postoji direktan način da pozvana funkcija mijenja promjenljive iz funkcije koja je poziva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Primjer, da li je ispravna zamjena sadržaja dvije promjenljive sljedećom funkcijo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029960" y="3730680"/>
            <a:ext cx="3703320" cy="24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Pokaziva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či i argumenti funkcija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838080" y="1825560"/>
            <a:ext cx="4358520" cy="2331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6001560" y="1296000"/>
            <a:ext cx="3421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i i nizo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16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U C-u postoji jaka veza pokazivača i niz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838080" y="3264120"/>
            <a:ext cx="10691280" cy="3192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2633760" y="2379600"/>
            <a:ext cx="1843920" cy="34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1063800" y="2403360"/>
            <a:ext cx="1287360" cy="2815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2271240" y="2370960"/>
            <a:ext cx="336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i i nizovi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4" descr=""/>
          <p:cNvPicPr/>
          <p:nvPr/>
        </p:nvPicPr>
        <p:blipFill>
          <a:blip r:embed="rId1"/>
          <a:stretch/>
        </p:blipFill>
        <p:spPr>
          <a:xfrm>
            <a:off x="5452200" y="3860280"/>
            <a:ext cx="1287360" cy="28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838080" y="1690560"/>
            <a:ext cx="10539000" cy="354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935640" y="1675800"/>
            <a:ext cx="1287360" cy="2815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844920" y="5689440"/>
            <a:ext cx="128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Napomen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4"/>
          <a:stretch/>
        </p:blipFill>
        <p:spPr>
          <a:xfrm>
            <a:off x="2422440" y="5746320"/>
            <a:ext cx="3246120" cy="312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5"/>
          <a:stretch/>
        </p:blipFill>
        <p:spPr>
          <a:xfrm>
            <a:off x="2422440" y="6187680"/>
            <a:ext cx="2971800" cy="3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Adresna aritmet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4640" indent="-224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Konzistentnost adresne aritmetike ogleda su u tome da ako je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pokazivač na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, onda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p++ 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pokazuje na sljedeći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u ni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4640" indent="-224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Validne operacije sa pokazivačima su dodjela pokazivača kada su istog tipa, sabiranje i oduzimanje pokazivača i integer-a, oduzimanje ili upoređivanje dva pokazivača unutar istog niza, dodjela ili poređenje sa 0 (NU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4108320" y="1654200"/>
            <a:ext cx="3642480" cy="23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  <Words>590</Words>
  <Paragraphs>71</Paragraphs>
  <Company>HP Inc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3-03T19:40:44Z</dcterms:created>
  <dc:creator>Microsoft account</dc:creator>
  <dc:description/>
  <dc:language>en-US</dc:language>
  <cp:lastModifiedBy>Microsoft account</cp:lastModifiedBy>
  <dcterms:modified xsi:type="dcterms:W3CDTF">2024-04-01T07:44:21Z</dcterms:modified>
  <cp:revision>196</cp:revision>
  <dc:subject/>
  <dc:title>Programski jezik 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8</vt:r8>
  </property>
</Properties>
</file>