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FDF4-9B81-40A3-9934-12E9FA139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9E73-AADF-4DE3-B5DF-DD5E9C4AC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19DF-7A62-4E6C-8F8F-28BABB010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5DC9-1CD0-4BCC-95E7-DF845FAFF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F0C4-3AEA-4B4E-9308-C9B63A9EE0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A97A-FAE3-40DF-9C48-8AB9AFF44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8D20-3C80-446D-AE1B-87FF8CC135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8826-9B1C-4BCE-B2A9-BDC2A1C070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7B68-79FC-4032-998C-644AFE571F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2619-F20A-4433-9E73-75CE59072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A22C8-5364-4370-96A7-5524D4F42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3E71-AC57-4508-9B95-B9D4E7BF0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B0F8-96F1-4602-9488-B3543219DD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A064-443F-4375-AC33-7FA6CDCBB6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02F1-EC92-4CB9-B29C-91ABC3A93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FEB5-250E-414C-ACB1-63E19C2383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4654-3522-4361-B473-F946FC10F2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2D9D-B60E-4D02-AD40-B9A3B5E96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4E7F-9368-436E-B3EC-7FF896A99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61E0-6F5E-44BD-BEE4-15130BC3A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1EF3-30A0-44C0-AFC7-1AD3D6766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EBEC-DFEB-4B01-8327-B2FA9C84D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9521-CD2A-4242-815F-94D1CD19B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0295-00E9-4C99-9A35-680CD7655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8776-AEC3-49DE-9843-5714B3265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01BE-C309-4482-8CD2-F9E821AD1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3 – Iz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đenj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finisanje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ačini izvođ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zvedene klase i konver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tori i destruk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olimorfiz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rtuelne (polimorfne met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amičko vez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pstrakt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rtuelni de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Višestruko nasljeđ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perator </a:t>
            </a:r>
            <a:r>
              <a:rPr b="1" i="1" lang="sr-Latn-C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3CE9-0431-4399-869E-6E2EF57F73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* cPtr = new Circ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X(1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Y(2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setR(2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Ptr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D6A8-2221-43F2-A88D-482A890C95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193080" cy="53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7D56-B96D-4A96-902B-CC8913F311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i izvedene klase sadr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ove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ove navedene u deklaraciji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nasljeđuje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nstruktori i destrukto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ateljst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člana u izvedenoj klasi skriva deklaraciju člana sa istim imenom u osnov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lanu u osnovnoj klasi pristupa se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me_klase::ime_cl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6A3A-45C7-44BA-B019-B44EB8FF3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x = x; //nalijedjeno iz osnov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y = y; //nalijedjeno iz osnov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is-&gt;r =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void Print(){ Point::Print(); cout &lt;&lt; "R=" &lt;&lt; r &lt;&lt;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ircle* cPtr = new Circle(1.0,2.0,3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Ptr-&gt;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5281560"/>
            <a:ext cx="313200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C215-441D-4D70-B0D3-591BFC6188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vatni članovi vidjivi su isključivo u klasi kojoj pripada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jivi izvedenim klas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štićeni članovi označavaju se 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idjivi su u metodama izvede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su vidijivi u drugim klasama, niti im se može pristupiti preko objek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utem objekta izvedene klase javnim članovima osnovne klase se pristupa kao i javnim članovima izvede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o objekta nije moguće pristupiti privatnim i zaštićenim članovima, kako izvedene tako i osnov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6A08-A148-4127-9DFE-79837410E8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964720" cy="514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5E3A-98BA-42AA-9765-9BD3E22A8E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dređuje ključna riječ ispred imena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oje tri načina izvođen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štiće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rotect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vatno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zvođenje je podrazumijevano privat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javno, onda u izvedenoj kl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članovi postaju javni, zaštićeni postaju zaštićeni i privatni p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zaštićeno, onda u izvedenoj kl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postaju zaštićeni, zaštićeni postaju zaštićeni i privatni p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je izvođenje privatno, onda u izvedenoj kla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avni postaju privatni, zaštićeni postaju privatni i privatni ostaju priva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C67C-9EAF-4561-BE45-784D3FBDF9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vo pristupa može samo biti “sniže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postoji način da neki privatni član osnovne klase u izvedenoj klasi postane zaštićen ili jav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uva se princip enkapsula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ez obzira na način izvođenja svi članovi osnovne klase se nasljeđu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čin izvođenja određuje nasljeđivanje prava pristu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en kontrole pristup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osnovne klase preko objekta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 utiče na pravo pristupa iz metoda izved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6907-A55B-45FE-9901-D84E8D3D49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ass Circle :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privat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at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ircle(float x = 0.0, float y = 0.0, float r = 0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x = x; 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0" lang="sr-Latn-CS" sz="1500" spc="-1" strike="noStrike">
                <a:solidFill>
                  <a:srgbClr val="ff3300"/>
                </a:solidFill>
                <a:latin typeface="Times New Roman"/>
              </a:rPr>
              <a:t>OK, zasticeni clanovi su i dalje vidjivi iz metoda izvedene kl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y = y; //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-&gt;r = 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loat getR(){return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oid setR(float r){this-&gt;r = r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oid Print(){ Point::Print(); cout &lt;&lt; "R=" &lt;&lt; r &lt;&lt;endl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ircle* cPtr = new Circle(1.0,2.0,3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ff3300"/>
                </a:solidFill>
                <a:latin typeface="Times New Roman"/>
              </a:rPr>
              <a:t>cPtr-&gt;setX(1.0);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500" spc="-1" strike="noStrike">
                <a:solidFill>
                  <a:srgbClr val="ff3300"/>
                </a:solidFill>
                <a:latin typeface="Times New Roman"/>
              </a:rPr>
              <a:t>//Greska, setX vise nije vidljivo jer je izvođenje privat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Ptr-&gt;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lete cPtr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7C00-ACF2-4903-8B8E-FE33485C62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397160"/>
          <a:ext cx="6096240" cy="50799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15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zvođ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lan osnovne k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štiće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t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F3D6-EB9D-4AAE-9866-486724A810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izvođe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izvedenih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i izvođ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i destruktori u izvedenim klas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morfizam i 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mičko vezi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a apstraktnih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nje virtulenih destruk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šestruko nasljeđiv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a operator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3BA6-313D-4EE7-B6F4-EFDEA4E55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Način izvođen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zmeđu privatnog i javnog izvođen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stoji  suštinska razl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o iz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realizuje koncept nas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ci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vrst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kind-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edena klasa ima sve što i osnovna, na isti 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ostupno korisn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o iz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realizu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oncept sadrž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ci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deo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part-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nt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sl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lučaje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B sadr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tipa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od privatnog izvođenja dijete ne može da zameni roditelj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29C7-BE42-4DAD-91FB-621154D236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vedene klase i konverz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azivač na izvedenu klasu može se konvertovati u pokazivač na dostupnu osnovnu kl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je dostupna ako su na nekom mjestu u programu dostupni njeni javni člavo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jčešće, u pitanju su klase koje su izvedene jav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zvoljena je konverzija iz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*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je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avno izvedena iz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ujedno 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o ne važi za privatno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tno ne važ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u osnovn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dodijeliti objekat izveden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je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avno izvedena iz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BAF2-C00D-4579-AB8C-B21A815192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Izvedene klase i konverz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AlphaPoint :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oint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etaPoint :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oint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Point(Point p){p.Print()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1 = new AlphaPoint(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2 = new BetaPoint();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Gre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phaPo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aPo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oint(a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Point(b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Courier New"/>
              </a:rPr>
              <a:t>//Gre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F31A-D1D3-432F-B589-D37E1530EC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likom kreiranja objekta izvedene klase poziva se konstruktor te klase, ali i konstruktor osnov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u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vanja objekta 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ene klase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ziva se destruktor te klase, ali i destruktor osnov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kon odabira odgovarajućeg konstruktora izvedene klase redosljed izvršavanja je sljedeć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ziv konstruktora osvnov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nicijalizacija članova izvede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ršavanje tijela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osljed poziva destruktora je obra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enos parametara konstruktoru osnovn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i inicijalizato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konstruktora izvedene kl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je navesti i inicijalizator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nicijalizator osnovne klase se sastoji od imena osnov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rgumenata poziva konstruktora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92D0-7723-4A0A-B31F-4945694286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 {cout &lt;&lt; "Konstr : Point" &lt;&lt; endl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{cout &lt;&lt; "Destr : Point" &lt;&lt; endl;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 {cout &lt;&lt; "X=" &lt;&lt; x &lt;&lt; ",Y=" &lt;&lt; y 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3D82-2F9B-487C-9E2F-ADEF5A627F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Konstruktori i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: Point(x,y), r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cout &lt;&lt; "Konstr : Circle" &lt;&lt; 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~Circle(){cout &lt;&lt; "Destr : Circle" &lt;&lt; endl;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oid Print(){ Point::Print(); cout &lt;&lt; "R=" &lt;&lt; r &lt;&lt;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ircle* c = new Circle(1.0, 2.0, 3.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-&gt;Print(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ete c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72360" y="4538520"/>
            <a:ext cx="2771640" cy="23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05C7-9EA0-4112-8182-45879BC52E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a je projektovana osnovna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4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ima metodu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osnovne klase izvodimo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ck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e treba da imaju svoju specifičnu varijantu metod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p objekata tipa vozila (nezavisno od vrste) možemo predstaviti nizom pokazivača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2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jel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dozvoljena zato što je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ujedno 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" sz="2400" spc="-1" strike="noStrike">
                <a:solidFill>
                  <a:srgbClr val="000000"/>
                </a:solidFill>
                <a:latin typeface="Courier New"/>
              </a:rPr>
              <a:t>ehi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CCDC-3C39-4C12-AF0A-239BBD3D35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reg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(int regNum) : regNum(reg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Vehicle : regNum=" &lt;&lt; reg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seat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(int regNum, int seatNum) : Vehicle(regNum), seatNum(seat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Car : regNum=" &lt;&lt; regNum &lt;&lt; ",seatNum=" &lt;&lt; seat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Truck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ca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ck(int regNum, int cap) : Vehicle(regNum), cap(cap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Truck : regNum=" &lt;&lt; regNum &lt;&lt; ",cap=" &lt;&lt; cap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4AB4-3F34-4E92-B435-32DF4F2F37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odštampati informacije o svim vozil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for(int 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{vArr[i]-&gt;Print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ba slučaj pozvana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z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 “obične” metode se razrešava prema tipu pokazivač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p pokazivač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Arr[i]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ehicle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pa se poziva i odgovarajuća metoda iz te kla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atičko vezivanje u vrijeme kompajl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ncip polimorfiz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ivanje metode na osnovu tipa objekta, a ne tipa pokazivač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419640" cy="16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15EC-BB0C-4605-BC4A-828CAA7D64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ojstvo 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objekat izvedene klase izvršav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ako kako je to definisano u njegovoj izvedenoj klasi, iako mu se pristupa kao objektu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i objekat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zna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oj izvedenoj klasi pripada, iako mu se ob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 kao objektu osnovn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 objekta za koji se zove metoda određuje koja oblik  metode će biti pozv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j postupak je potpuno dinamič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objekta na koji ukazuje pokazivač određuje se u toku izvršava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 polimorfizma realizovan je tzv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im funk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D3C7-7074-437B-9614-C30FEA577D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realnom sistemu, nije rijedak slučaj da se u skupu entiteta uoči jedan ili više podskupova entiteta koji imaju dodatne specifične osob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skupu studenata, koji dijele zajedničke osobine kao što su broj indeksa, datum upisa itd., mogu se uoči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udenti magistarskih studija koji imaju dodatnu osobinu kao što je naziv magistarskog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udenti doktorskih studija koji imaju dodatnu osobinu kao što je broj objavljenih naučnih rad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lasa studenat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gistarsk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tudija je specijalni sluča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kind-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klase studen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7BED-658A-491F-82EF-7BF17EBE5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e metode su metode koje se u izvedenim klasama mogu predefins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iše se nova implementacija metode koja je specifična za tu izvedenu kla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a koja sadrži barem jednu polimorfnu metod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 se 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morfna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 osnovnoj klasi deklariš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ođenj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j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p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ku dekla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deklarisanja virtueln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zvedenim klas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mora se stavljati 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85F3-248A-4F12-8B1A-6C12280C52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om preko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 osnovnu klasu izvršava se o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pripada klasi pokazanog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elna metoda ne mora biti predefinisana u svakoj izvede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nije redefinisana u nekoj izvedenoj klasi onda važi značenje iz osnovn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a virtuelne funkcije u izvedenoj kla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 da se potpuno sl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 deklaracijom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arajuće met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osnovnoj klas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uno slaganje z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a se podudaraju broj i tipovi argumenata, kao i tip rezult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2CC0-90F7-4EC8-9714-273C1C8D37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reg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(int regNum) : regNum(reg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virtual void Print() {cout &lt;&lt; "Vehicle : regNum=" &lt;&lt; regNum &lt;&lt; endl;}</a:t>
            </a:r>
            <a:r>
              <a:rPr b="0" lang="sr-Latn-CS" sz="1400" spc="-1" strike="noStrike">
                <a:solidFill>
                  <a:srgbClr val="ff3300"/>
                </a:solidFill>
                <a:latin typeface="Times New Roman"/>
              </a:rPr>
              <a:t> //virtelna meto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Car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seatN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(int regNum, int seatNum) : Vehicle(regNum), seatNum(seatNum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Car : regNum=" &lt;&lt; regNum &lt;&lt; ",seatNum=" &lt;&lt; seatNum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Truck : public 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 ca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ck(int regNum, int cap) : Vehicle(regNum), cap(cap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d Print() {cout &lt;&lt; "Truck : regNum=" &lt;&lt; regNum &lt;&lt; ",cap=" &lt;&lt; cap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576C-1583-46CC-93E9-90398CD3DA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Virtuelne (polimorfn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r[i]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03640" y="5245200"/>
            <a:ext cx="4140360" cy="16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22E1-85FF-46FF-9D68-A49D30077D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inamičko veziv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l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hanizam koji obezb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da s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se poziva od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tipu objek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 tipu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li reference na taj objek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e ko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e virtuel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(iz koje klas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v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mički, tj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vlja se u toku izvršavanja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na je 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a u odnosu na mehanizam preklapanja imena funkcija koji je stat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j. u vrijeme kompajl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j mehanizima aktivira se isključivo kada je potreb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2849-6BA5-4705-B523-C82ECD4491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jednostrukog nasljeđivanja za svaku polimorfnu klasu kreira se tabela virtuelnih funkcija (TV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bela virtuelnih funkcija klase sadrži pokazivače na verzije virtuelnih funkcija za tu kla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objekat neke klase sadrži pokazivač na tabelu virtuelnih funkcija t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j zadatak obavljaju konstrukto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vodilac generiše kod za indirektan poziv virtuelne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ko pokazivača na TV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 se iz objekta pročita adresa TV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tim se iz tabele pročita adres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A793-0930-451D-8126-702D36C2C8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ass Vehic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regNu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hicle(int regNum) : regNum(regNum){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virtual void Print() {cout &lt;&lt; "Vehicle : regNum=" &lt;&lt; regNum &lt;&lt; endl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ff3300"/>
                </a:solidFill>
                <a:latin typeface="Courier New"/>
              </a:rPr>
              <a:t>virtual void setReg(int regNum) {this-&gt;regNum = regNum;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hicle* vArr[3]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0] = new Vehicle(1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1] = new Car(100, 5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r[2] = new Truck(200, 200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 vNum = 3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{        vArr[i]-&gt;Print();    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35640" y="5400720"/>
            <a:ext cx="370836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A272-B043-42DD-9B82-E45A57FDA8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Dinamičko vez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748720" cy="535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5734-5D5E-4022-BEED-064FC0DCF3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lasa koja nema in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luži da se iz nje izvode drug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alizuje koncept generaliz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jedničke osobine nekoliko klasa se grupišu u jednu osnovnu (apstraktnu) kl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uprotan proces specijalizacij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d postojeće klase koja ima svoje objekte uočava se podskup sa nekim dodatnim specifičnim osobin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bjegava se ponavljanje k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mjer: Publik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Knjige, naučni časopisi itd. imaju zajedničke osobine kao što je ISBN it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ajednične osobine se grupišu u apstraktnu klasu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ublik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ma smisla da postoje objekti klase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ublikacij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jer ne predstavljaju neki realni entit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D75E-DA47-45E3-8A62-3B92882FD2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gu postojati pokazivači i reference na apstrakt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ni će ukazivati na konkretne objekte klasa izvedenih iz te apstrakt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straktna klasa može im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tke čla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ične” virtuel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pstraktna klasa može imati konstruktor iako se ne mogu konstruisati objekti apstraktn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n će se pozivati kao konstruktor osnovne klase pri konstrukciji objekata konkretnih klasa koje se izvode iz apstraktne kl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lasa koja se izvodi iz apstraktne je jedna konkretizacija te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824C-6B65-4C02-838C-6E11DC3353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modelovanje navedene pojave omogućeno je putem mehanizma koji se zove naslje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an od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jučnih, ako ne i najvažniji koncept OO program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lizuje se konceptom izvedenih kl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 je relacija između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B nasljeđuje klasu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at klase B je jedna vrsta objekta klas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ti klase B imaju osobine objekata klase A, ali i neke svoje specifič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4189-D63E-4659-AAE5-42659400BF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je apstraktna ako ima makar jednu apstraktnu (čisto virtuelnu) meto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straktna met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ije definisana za osnovnu kla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deklaraciji u osnovnoj klasi umjesto tijela funcije navodi 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sljeđuje se kao apstraktna metod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izvedenoj klasi je takođe apstraktna meto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nije definisana u izvedenoj klasi, onda je i izvedena klasa takođe apstraktna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FA50-5089-4983-9A42-69576ADC90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(int id) : id(id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etId(){return id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virtual float getEarnings()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missionWorker : public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sala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commi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tem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issionWorker(int id, float salary, float commision, float items) : Employee(id), salary(salary), commision(commision), items(items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float getEarnings() {return salary + commision * items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F9E7-B031-45E8-97F3-CB13238A47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Apstrakt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hour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loat w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urlyWorker(int id, float hours, float wage) : Employee(id), hours(hours), wage(wage){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loat getEarnings() {return hours * wage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ployee* vArr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0] = new CommissionWorker(1, 100.0, 0.30, 2000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1] = new HourlyWorker(1, 40.0, 10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vArr[i]-&gt;getEarnings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D8B0-7F45-4E1D-BBDB-0E83AD24FD9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struktor ne može da bude virtuelna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prije samog kreiranja objek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struktor može da bude virtuelna fun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željno je da destruktor osnovne klase uvijek bude virtuel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suprotnom, prilikom poz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nad objektom izvedene klase biće pozvan destruktor osnovn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da se poziv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 osnovnu kla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tar destruktora izvedene klase ne treba pozivati destruktor osnovne klas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mplicitno se poziv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880D-221C-48CE-A83F-54E8760E38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Base() {cout &lt;&lt; "Destr : Base "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 : public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rived()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Derived() {cout &lt;&lt; "Destr : Derived " &lt;&lt; 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se* ptr = new Derive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227640" y="5410080"/>
            <a:ext cx="291636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4F8B-66C6-47D0-9B1C-DD504FE5C0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Virtuelni destruktor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(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sr-Latn-CS" sz="1600" spc="-1" strike="noStrike">
                <a:solidFill>
                  <a:srgbClr val="ff3300"/>
                </a:solidFill>
                <a:latin typeface="Courier New"/>
              </a:rPr>
              <a:t>virtual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~Base() {cout &lt;&lt; "Destr : Base "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erived : public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rived(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Derived() {cout &lt;&lt; "Destr : Derived "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* ptr = new Derive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300720" y="5603760"/>
            <a:ext cx="2843280" cy="12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F3F7-2C47-41F1-AFB7-A8F106DF8D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lasa može biti izvedena iz više različitih kl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struko nasl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inheritanc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 zaglavlju se navode imena klasa odvojenih zarez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od osnovnih klasa može bit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že ista pravila o nasljeđenim članovi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že ista pravila i za konstruktore i destruk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i nedosta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blem dijamant struk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54A9-D58F-483D-867C-C14F15C713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 { public:int i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1 : 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2 : 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Derived3(){i = 0;}};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od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adrži 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išestruki podobjek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rived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će imati dva skupa članov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rimjeru problem nastaje jer je referenca na član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dvosmisle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 li j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z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že se izbjeći upotrebom operatora :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::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9AA2-75B2-4747-B8D3-3B89C17CF6B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cout &lt;&lt; "Konstr : Base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1 :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Derived1() {cout &lt;&lt; "Konstr : Derived1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2 :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2() {cout &lt;&lt; "Konstr : Derived2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(){cout &lt;&lt; "Konstr : Derived3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* ptr = new Derived3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651640" y="5027760"/>
            <a:ext cx="3492360" cy="183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64A6-56A9-4864-BF16-ABB67FB10B7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e osnovne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zbjegavanje višestrukih podobjek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j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Base { public:int i;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1 :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2 :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se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Derived3(){i = 0;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da klas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nasljeđuje samo jedan podobjekat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dvosmislenosti kod pristupa članu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Derived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raju se virtuelno izve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3AA0-6087-4085-97C2-2784CF3EFC9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a B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e izvedena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nov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B izveden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derived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klasa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B podklasa (</a:t>
            </a:r>
            <a:r>
              <a:rPr b="0" i="1" lang="sl-SI" sz="22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itelj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B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om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B nasl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arakterist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iže se visok stepen ponovne upotrebe programskog 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novnu klasu ne treba mijenj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ije je potrebno ponovo kompajli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5B87-1BE4-472F-8EBC-A5BDE926D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Višestruko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se() {cout &lt;&lt; "Konstr : Base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1 : virtual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Derived1() {cout &lt;&lt; "Konstr : Derived1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2 : virtual public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 Derived2() {cout &lt;&lt; "Konstr : Derived2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erived3 : public Derived1, public Derive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: Derived3(){cout &lt;&lt; "Konstr : Derived3" &lt;&lt; endl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ed3* ptr = new Derived3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t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56360" y="4994280"/>
            <a:ext cx="2987640" cy="186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75BB-7591-40D1-BEC4-EEE375EFD1A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utem ovog operatora omogućeno da se dinamički (u toku izvršavanja) odredi tip izra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zi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typeid(izra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Izraz može biti bilo kojeg tipa ugrađeni ili korisnički defini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typeid(naziv_t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Može biti proizvoljan t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ada je operatoru predat izraz nema opasnosti od bočnih efek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rijednost se ne izračun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Vrlo korisno za polimorfn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Rezultat je dinamički tip operanda, a ne onaj tip koji je upotrijebljen pri deklaraciji pokazivač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9B68-3986-499F-8138-D0742EE44B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zultat je </a:t>
            </a:r>
            <a:r>
              <a:rPr b="0" lang="sl-SI" sz="2800" spc="-1" strike="noStrike">
                <a:solidFill>
                  <a:srgbClr val="000000"/>
                </a:solidFill>
                <a:latin typeface="Courier New"/>
              </a:rPr>
              <a:t>const type_info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ype_in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e tip iz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typeinf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oji sad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i podatke o ti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dražani su operatori == i !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a name() vraća neko logično ime ti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azliku je između prevodila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va klasa nema javne konstruk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gu se kreirati objekti ovog tip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FBB5-CEA8-45D5-A406-BC0CB53D43A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Operator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typeid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hicle* vArr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0] = new Car(100,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r[1] = new Truck(200, 20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vNum =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int i = 0; i &lt; vNu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typeid(*(vArr[i])) == typeid(Car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bjekat klase Car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typeid(*(vArr[i])) == typeid(Truck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Objekat klase Truck"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Name()=" &lt;&lt; typeid(*(vArr[i])).name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9640" y="1557360"/>
            <a:ext cx="3024360" cy="20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B2B8-9106-44A9-98B3-E04EC0F0FC4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13532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B67A-1D0F-4192-A21A-9396F09E0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ena klasa ne definiše na sljeći nač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je imena klase navodi s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izvođe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 osnovne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 biti navedena imena više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na su odvojena zarez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postoji samo jedna osnovna klas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da je u pitanj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ruko, ako postoji v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višestruko iz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it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iše korak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ena klasa m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iti osnovna klasa za sled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zv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akvo izvođenje se ne naziva višestruk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4F51-225D-440C-BB06-F4AF982A4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ected: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//vidljivo samo u izvedenim klas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 {cout &lt;&lt; "X=" &lt;&lt; x &lt;&lt; ",Y=" &lt;&lt; y 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6354-CC96-451B-97E6-C81B95016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Definisanje izvedene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ircle : public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ircle(float x = 0.0, float y = 0.0, float r = 0.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x = x; //n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jedjeno iz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y = y; //na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jedjeno iz osnov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-&gt;r = 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getR(){return r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tR(float r){this-&gt;r = r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49AA-3F34-46CE-B0D7-502C7E2CEA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7T13:02:21Z</dcterms:modified>
  <cp:revision>829</cp:revision>
  <dc:subject/>
  <dc:title>Chapter 1 – Introduction to Computers and C++ Programming</dc:title>
</cp:coreProperties>
</file>