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7BDB-1375-4B2E-8C69-70A3DC116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18E89-3A7C-468E-A718-CEAB6F3B0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35E9-23D1-409F-B381-FEBEFB285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8C8F-735D-4F1F-9C73-0651FB549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DBEB1-84C9-4E50-9D7E-D35011B6AE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D12E7-D2B1-4937-8022-5E97695EE4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5090B-A73F-4FA3-9D9A-EDF23A54E4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17B7E-113C-44B3-B230-6073E74E20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08B65-77D5-474F-87C6-D57FE596CA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D3819-F008-4B9F-8123-B6CD8E5AF5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60C3E-4728-4D73-A84B-C214B595EA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A06D-5E11-411D-A213-8CF3D408B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2CEBC-B86B-4947-83A5-762A9F7EC1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F7AC2-4273-4518-85BA-5166762190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F7551-AD4F-4D0D-87E9-4EDECC32B5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49B00-F8E0-49AC-9031-977ACB30B4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4C4E9-4E67-4A3A-89BA-0131E14390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2546-6672-4CE5-9194-3E4107448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C0377-F05C-4849-B82B-0FE2F64C0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FF41-D518-41B2-AA10-0ED078DC8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B690-D3D4-4605-B7E5-1209C41F3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0AA9-4EF5-4355-B261-89334EE1A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67E6-723B-45DD-AA61-A0A62F0C7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6B85-7EAD-4856-87CB-2CCD63878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7128-7C49-4C25-9ED9-C737A6919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1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09D0-8E9C-4891-876A-B99212013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rot="5400000">
            <a:off x="6781320" y="7596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 rot="16200000">
            <a:off x="6781680" y="45684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kcija 4 – Preklapanje operatora 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243080"/>
            <a:ext cx="7696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eg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ojam preklapanje opera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peratorske f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Bočni efekti i ve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eklapanje </a:t>
            </a:r>
            <a:r>
              <a:rPr b="1" i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++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i </a:t>
            </a:r>
            <a:r>
              <a:rPr b="1" i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eklapanje </a:t>
            </a:r>
            <a:r>
              <a:rPr b="1" i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eklapanje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eklapanje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eklapanje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new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i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eklapanje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U/I toko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eklapanj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&gt;&g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i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&lt;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Inicijalizacija i dodj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Konverzije tip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35B6-6495-490F-9AF8-E7CEA9B01C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peratorsk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ni operator ima samo jedan operand, pa se može realizovat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ao metoda bez argumenata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p operator@ 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ao globalna funkcija sa jednim argumentom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p operator@ (X 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ni operator ima dva argumenta, pa se može realizov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ao metoda  sa jednim argumentom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p operator@ (X xdesn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ao globalna funkcija sa dva argumenta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p operator@ (X xlevi, X xdesn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974A8-FE29-4DD7-9859-A131F0F185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peratorsk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Print(){cout &lt;&lt; "Re=" &lt;&lt; re &lt;&lt;",Im=" &lt;&lt; im &lt;&lt; endl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mplex operator-(); //unarni min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mplex Complex ::operator-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mplex( -re, -im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mplex c1(1.0,2.0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1 = -c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84720" y="5638680"/>
            <a:ext cx="305928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CDFB-F569-49A7-ACF8-03CFA00002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Sporedni efekti i vez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čni efekti koji postoje kod operatora za primitivne tipove ne podrazu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ju se z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klopljene opera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čni efekti postoje ko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ator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–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prefiksnih i postfiksnih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h operatora dod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ze koje postoje između operatora za primitivne tipove ne podrazu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ju se za preklopljene opera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pr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ko je definis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perator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+=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e znači automatski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=a+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o je potreban, operat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ora posebno da se preklo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EC8A-DCC3-451F-B347-F5E93B4049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Sporedni efekti i vez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oru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klopljeni operatori treba da imaju očekivano značenje (zbog čitljivost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ko su definisani 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+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bro je d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+=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ma isti efekat kao 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=a+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atori dod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 treba da m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jaju stanje l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og oper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a se definišu operatori za klasu, treba težiti da njihov skup bude komplet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ko su definisan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reba definisati 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+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efinis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=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eba definisati 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!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64D0-8D11-48D0-930C-5C34C0FA9D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++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i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--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omplikovaniji je postoji i prefiksna i postfiksna varijan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klapanje prefiks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g operato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vrši se put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obi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je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sk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kcij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ao funkcija članica -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operator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ao globalna funkcija -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operator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nalogno važi i za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klap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fiksnog operato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vrši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ao funkcija članica -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operator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ao globalna funkcija -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operator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T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, 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ko se drugi stvarni argument ne navede biće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e može se navesti kada se funkcija poziva kao 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Može se navesti kada se funkcija poziva direktn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.operator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k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nalogno važi i za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0AFA1-2E0C-4CC7-A4EF-E1929205AA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++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i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--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Print(){cout &lt;&lt; "Re=" &lt;&lt; re &lt;&lt;",Im=" &lt;&lt; im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operator++(); //prefiks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operator++(int); //postfiks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Complex ::operator++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prvo se uvecaju re i im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pa se kreira lokalni objek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Complex( ++re, ++i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Complex ::operator++(int 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prvo se kreira lokalni objeka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pa uvecaju re i 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Complex( re++, im++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EEC3-BCEC-4004-A115-63C4532738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++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i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--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mplex c1(1.0,2.0), c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ut &lt;&lt; "c1="; c1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2 = c1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ut &lt;&lt; "c2="; c2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ut &lt;&lt; "c1="; c1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2 = ++c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ut &lt;&lt; "c2="; c2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ut &lt;&lt; "c1="; c1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16720" y="5170320"/>
            <a:ext cx="2627280" cy="16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96B4-452A-467A-B1B8-FB213EA9FF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()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dgovara mu funkcij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erator()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ra da bude nestatička funkci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 može da bude globalna funkc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ma proizvoljan broj argumen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vaki argument može da bude proizvoljnog tip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ziva se </a:t>
            </a:r>
            <a:r>
              <a:rPr b="0" lang="sl-SI" sz="2800" spc="-1" strike="noStrike">
                <a:solidFill>
                  <a:srgbClr val="000000"/>
                </a:solidFill>
                <a:latin typeface="Courier New"/>
              </a:rPr>
              <a:t>f(a1,...,aN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o je ekvivalent 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f.operator()(a1,...,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zultat je lvrijednost ako i samo ako funkcija vraća referenc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o važi za sve operatorske 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ermin lvrijednost označava izraz koji se odnosi na neki objekat ili funkcij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ajčeće, u pitanju je izraz koji se može naći sa lijeve strane znaka jedankost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83B7-9EBF-4C6A-9B82-796F57A931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()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lass Matri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** ma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r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c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Matrix(int r, int c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~Matrix(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&amp; operator()(int i, int j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Matrix::Matrix(int r, int c) :r(r), c(c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mat = new int*[r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int i = 0; i &lt; r; i++) {mat[i] = new int[c]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Matrix::~Matrix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int i = 0; i &lt; r; i++) {delete new int[c]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lete ma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3300"/>
                </a:solidFill>
                <a:latin typeface="Courier New"/>
              </a:rPr>
              <a:t>int&amp; Matrix::operator()(int i, int j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mat[i][j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FDBE9-1B61-46E5-B996-768E7FEB96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()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Matrix m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m(0,0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//lvrijednost, moze se naci 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//lijeve strane znaka jednak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cout &lt;&lt; m(0,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C00B-F6AF-4D83-AAD3-17E8EC9211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iljevi le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voj lekci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osnovim pojmovima vezanim za preklapanje opera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sanje operatorskih funkc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efinisanje operator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&gt;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let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efinisanje operatora dodjele i razlike u odnosu na inicijalizaci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e ulaz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laznih tokova i operatori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verzije tipo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14E1E-DF90-4CF8-BCDD-FA311D446B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Preklapanje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[]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dgovara mu funkcij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erator[]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ra da bude nestatička funkc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može da bude globalna funk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m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no jedan arg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že da bude proizvoljnog tip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ziva se </a:t>
            </a:r>
            <a:r>
              <a:rPr b="0" lang="sl-SI" sz="2800" spc="-1" strike="noStrike">
                <a:solidFill>
                  <a:srgbClr val="000000"/>
                </a:solidFill>
                <a:latin typeface="Courier New"/>
              </a:rPr>
              <a:t>ni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lang="sl-SI" sz="2800" spc="-1" strike="noStrike">
                <a:solidFill>
                  <a:srgbClr val="000000"/>
                </a:solidFill>
                <a:latin typeface="Courier New"/>
              </a:rPr>
              <a:t>i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o je ekvivalent 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niz.op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(in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jčešća upotreb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od objekata koji predstavljaju neke kole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3FAF6-F51D-4D3D-801D-A8937542E9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Preklapanje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[]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*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n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(int nu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Arra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&amp; operator[](int i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::Array(int num) : num(n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a = new int[num]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::~Array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delete a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&amp; Array::operator[](in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return a[i]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 a(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[0]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a[0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0858-5B56-4F45-B402-B268F6DB33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-&gt;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narni operator kojem odgovara funkcij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ra da bude nestatička funkc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može da bude globalna funk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ra da bude bez arg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že da bude proizvoljnog tip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ziva se </a:t>
            </a:r>
            <a:r>
              <a:rPr b="0" lang="sl-SI" sz="2400" spc="-1" strike="noStrike">
                <a:solidFill>
                  <a:srgbClr val="000000"/>
                </a:solidFill>
                <a:latin typeface="Courier New"/>
              </a:rPr>
              <a:t>o-&gt;clan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o je ekvivalent 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(o.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-&gt;()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(ind))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-&gt;c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jčešća upotreb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istup članovima preko pametnih pokazivača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Broji pristu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F978-BD1F-4C65-B8AC-59CF20201D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-&gt;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public: int data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* x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(X* xPtr) : xPtr(xPtr), num(0)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X* operator-&gt;(){num++; return xPtr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etNum(){return num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y(&amp;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-&gt;data = 5;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 //(poziva se y-&gt;operator-&gt;)-&gt;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data="&lt;&lt; x.data &lt;&lt; ",num=" &lt;&lt; y.getNum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227640" y="3860640"/>
            <a:ext cx="2916360" cy="12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B7A3-95F4-4F52-B4EB-346013A000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new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delet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definisanjem operator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vrši se kontrola nad alokacijom memor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Za male objekte može se vršiti precizno alokacija i optimizovati taj postupa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ske funkcij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u uvijek statič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ada su pozvane objekat još uvijek ne postoj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nutar tijela nije potrebno pozivati konstruktor, tj. destruk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ni su implicitno pozva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eba da vrati pokazivač na alocirani pro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89BE9-A858-4015-A98B-E5666B98D07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new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delet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ska funkcij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* operator new (size_t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sz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rgument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sz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je cjelobrojni i prestavlja broj bajta koje treba alocirat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Vraća generički pokazivač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void*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, tj. pokazivač na zauzetu memoriju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ska funkcij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efiniše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 operator delete (void*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pt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ma jedan argument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ptr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oji je pokazivač na memoriju koju treba oslobodi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F43E-D3A8-44FE-AE69-17A1AF39B1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Preklapanje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new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delet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lass 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tatic int num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void* operator new (size_t sz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void operator delete (void* ptr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X::num = 0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void* X::operator new(size_t sz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num == 10) {cout &lt;&lt; "max 10"&lt;&lt;endl; return 0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num++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::operator new(sz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void X::operator delete (void* ptr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ptr != 0){num--; ::operator delete(ptr)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X* x[50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int i = 0; i &lt; 11; i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 x[i] = new X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443640" y="5516640"/>
            <a:ext cx="2700360" cy="133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8E20-1862-4A89-A6F8-111810EDDC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Preklapanje </a:t>
            </a:r>
            <a:r>
              <a:rPr b="0" i="1" lang="sr-Latn-CS" sz="28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inarni operator kojem odgovara funkcij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perator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ra da bude nestatička funkc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može da bude globalna funk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ra da ima jedan argu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že da bude proizvoljnog tip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ziva se </a:t>
            </a:r>
            <a:r>
              <a:rPr b="0" lang="sl-SI" sz="2400" spc="-1" strike="noStrike">
                <a:solidFill>
                  <a:srgbClr val="000000"/>
                </a:solidFill>
                <a:latin typeface="Courier New"/>
              </a:rPr>
              <a:t>o=izraz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o je ekvivalent 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o.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(izraz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vijek je treba definisati kada prosto dodjeljivanje član po član nije logič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ličan problem kod konstruktora kop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0964-4BBA-4A32-B6A8-0245DBD8941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Preklapanje </a:t>
            </a:r>
            <a:r>
              <a:rPr b="0" i="1" lang="sr-Latn-CS" sz="28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*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(int num): num(num){a = new int[num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&amp; operator[](int i) {return a[i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 a1(3), a2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1[0]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2 = a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2[0] = 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a1[0]=" &lt;&lt; a1[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,a2[0]=" &lt;&lt; a2[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580000" y="5261040"/>
            <a:ext cx="3564000" cy="15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D2884-2EF3-43A6-B93C-2EAB9D88D3B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Preklapanje </a:t>
            </a:r>
            <a:r>
              <a:rPr b="0" i="1" lang="sr-Latn-CS" sz="28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632720" cy="31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2569-C1D1-4168-BD03-AEFF8904A46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ojam preklapanja operatora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enje operatora ugrađenih u jezik moguće je definisati za korisničke tipove (klas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Preklapanje operatora (engl. 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"/>
              </a:rPr>
              <a:t>operator overloading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Sličan princip kao kod preklapanja funkci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Ako je za operator definisano novo značenje onda se kaže da je on prekloplj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većavanje čitljivosti ko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Primjer: Klasa koja predstavlja kompleksne brojeve i operacija sabiran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Bilo bi pogodno da možemo koristiti operator + nad objektima ov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F215-981F-4158-ADD9-EC3117DA8B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Preklapanje </a:t>
            </a:r>
            <a:r>
              <a:rPr b="0" i="1" lang="sr-Latn-CS" sz="28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1300" spc="-1" strike="noStrike">
                <a:solidFill>
                  <a:srgbClr val="000000"/>
                </a:solidFill>
                <a:latin typeface="Courier New"/>
              </a:rPr>
              <a:t>//isto ka raniij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rray&amp; operator=(Array&amp; arr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rray&amp; Array::operator=(Array&amp; arr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//izbjegavanje a=a proble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this == &amp;arr){return *this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lete a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num = arr.num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 = new int[num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int i = 0; i &lt; num; i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[i] = arr.a[i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*this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rray a1(3), a2(2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1[0] = 1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2 = a1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2[0] = 5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a1[0]=" &lt;&lt; a1[0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t &lt;&lt; ",a2[0]=" &lt;&lt; a2[0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19640" y="5243400"/>
            <a:ext cx="3924360" cy="16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DBCE-1517-48FF-93B0-64BC1246D4E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Preklapanje </a:t>
            </a:r>
            <a:r>
              <a:rPr b="0" i="1" lang="sr-Latn-CS" sz="28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785440" cy="32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D496-20B6-4126-A71F-7C4DA303E2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/I tok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 postoje naredbe ugr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đene u jezik koje su namijenjene ulaz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izlaznim operacija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 tu svrhu se koriste standardne bibliotek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to va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ži i za programski jezik 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dardne biblioteke za 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realizovane su u duhu OOP-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klaracije bibliotek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alaze u zaglavlju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ostream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Definisani su pojmovi ulaznog i izlaznog tok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Logički pojmovi koji se odnose na ulazi i izlaz niza znaka na uređaj ili datote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bliotek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drž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lasu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koja realizuje ulazni to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lasu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koja realizuje izlazni to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3F94-B7C0-4F81-ACCA-601806E9D0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/I tok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 navedenih klasa izveden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a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Jedno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ktu klas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f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že da se pridruži jedna datotek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li uređaj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 U/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biblioteci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finisana su i dv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na statička objek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jek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la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j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 pridružen standardnom ulaznom uređaju (obično tastatu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jek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la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oji je pridruže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nom izlaznom uređaju (obično ekr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las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sadrži po jednu operatorsku funkciju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za svaki ugrađeni tip poda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tream&amp; operator&gt;&gt;(istream &amp;is,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amp;t)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Gdje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Tip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označava neki ugrađeni t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769A-E92D-4858-8FCE-4B69A8DF87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/I tok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lasa 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ea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adrži po jednu operatorsku funkciju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svaki ugrađeni tip podat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stream&amp; operator&lt;&lt;(ostream &amp;os, T&amp; x)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Gdje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ip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označava neki ugrađeni t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jevi operand je tok, dok je desni se drugi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iše ili čita u ili iz t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cije vraćaju reference na isti tok nad kojim je izvršena 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I operaci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gu se vršiti višestruke 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I operacij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reb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stiti za jednostavn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I oper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1664-C8FF-457C-9D0C-AAE0FF8A74F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Preklapanje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&gt;&gt;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 &lt;&lt;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e je da korisnik predefiniše opera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svoje kl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Definišu se globalne operatorske funkcije koje su prijatelji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 mogu biti metode klase jer prvi operand mora biti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li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vi operand je tip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li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Drugi operand je objekat tipa klase za koju predefinišemo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željno je funkcije vraća referencu n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, tj. n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kako bi omogućili pozivanje u niz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309D-2C05-4C6D-B241-8931361651C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Preklapanje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&gt;&gt;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 &lt;&lt;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iend ostream&amp; operator&lt;&lt;(ostream&amp; os, Complex&amp; c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ostream&amp; operator&lt;&lt;(ostream&amp; os, Complex&amp; 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os &lt;&lt; "(Im=" &lt;&lt; c.re &lt;&lt; ",Re=" &lt;&lt; c.im &lt;&lt; ")"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turn o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omplex c(2.3, 1.0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ff3300"/>
                </a:solidFill>
                <a:latin typeface="Courier New"/>
              </a:rPr>
              <a:t>cout &lt;&lt; c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227640" y="5229360"/>
            <a:ext cx="2916360" cy="16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ABF5-6AB1-4045-8042-CAE7459F79F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Inicijalizacija i dodjel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oji razlika između pojmova inicijalizacije i dodje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nicijalizacija se vrši nad objektom u “fazi kreriranja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rši se samo jedn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efiniše početno stanje objekt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Dodjela se vrši nad postojećim objekto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že se vršiti proizvoljan broj pu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ijenja postojeće stanje objek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se objekat inicijalizuje objektom iste klase poziva se konstruktor, a ne operator dodj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Konstruktor se poziva čak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ako je notacija za inicijalizaciju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imbo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o je izraz sa desne stran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tog tipa kao i objekat koji se kreira, poziva se konstruktor kopi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1ED6-F784-4671-ABA0-B59905A617D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Inicijalizacija i dodjel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ija dodjele v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i se u okviru naredbe dodjele (operator =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perator dodjele se može preklopiti pisanje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ske funkcij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perator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razumijevano ponašanje je kopiranje objekta član po č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i kopiranju članova klase pozivaju se operatori = za članov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ko je član klase pokazič izvršiće se tzv. plitko dodjeljivanje, tj. kopiranje pokazivača, ali ne i sadrž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aktično pravi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ko klasa ima konstruktor kopije, operator dodjelje ili destruktor, onda najvjerovatnije treba da ima sva tr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64904-8B2B-4146-A115-51D80F8E075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Inicijalizacija i dodjel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*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(int nu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(Array&amp; a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Array(){delete a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&amp; operator[](int i) {return a[i];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&amp; operator=(Array&amp; a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iend bool operator==(Array&amp; arr1, Array&amp; arr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iend ostream&amp; operator&lt;&lt;(ostream &amp;os, Array&amp; a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::Array(int num): num(n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onstr.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= new int[num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925E1-0F1F-4D96-9F77-2F24AF6F52E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ojam preklapanja operator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add(Complex c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re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z.re = this-&gt;re + c1.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z.im = this-&gt;im + c1.i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re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c1(1.0,2.0), c2(4.5,5.6), c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3 = c1.add(c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E2900-6FE7-42ED-A326-878951F6E1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Inicijalizacija i dodjel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::Array(Array&amp; arr): num(arr.n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Konstr. kop.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= new int[num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(int i = 0; i &lt; num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 = arr.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&amp; Array::operator=(Array&amp; ar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Op. =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this == &amp;arr){return *this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um = arr.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= new int[num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(int i = 0; i &lt; num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[i] = arr.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*thi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6A6C-2E98-49F2-BC38-C2CDA416CFB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Inicijalizacija i dodjel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 operator==(Array&amp; arr1, Array&amp; arr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"Op. =="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rr1.num != arr2.num) 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 = 0; i &lt; arr1.num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rr1[i] != arr2[i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stream&amp; operator&lt;&lt;(ostream &amp;os, Array&amp; ar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 = 0; i &lt; arr.num; i++) cout &lt;&lt; arr[ i ] &lt;&lt; " 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C70C7-B099-4F18-8F28-4126B9CC1F6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Inicijalizacija i dodjel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 a1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1[0] = 1; a1[1] =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1=" &lt;&lt; a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 a2 = a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2[0] = 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2=" &lt;&lt; a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a1 == a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1==a2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1!=a2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2 = a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2=" &lt;&lt; a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a1 == a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1==a2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a1!=a2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6760" y="3689280"/>
            <a:ext cx="3027240" cy="31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7E156-445D-4534-B141-B65C431C6B3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Inicijalizacija i dodjel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69228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oint(float x = 0.0, float y = 0.0) : x(x), y(y) {cout &lt;&lt; "Konstr. : Point" &lt;&lt; endl;}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oint(Point&amp; p) : x(p.x), y(p.y) {cout &lt;&lt; "Konstr. kop : Point" &lt;&lt; endl;}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oint&amp; operator=(Point &amp;p){cout &lt;&lt; "Point Op =" &lt;&lt; endl; x = p.x; y = p.y; return *this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lass Circ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oint p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loat r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ircle(float x = 0.0, float y = 0.0, float r = 0.0) : p(x,y), r(r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cout &lt;&lt; "Konstr : Circle" &lt;&lt; endl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ircle(Circle&amp; c) : p(c.p), r(c.r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{cout &lt;&lt; "Konstr kop. : Circle" &lt;&lt; endl;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Circle c1(1.0,2.0,3.0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Circle c2 = c1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c2 = c1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796000" y="5110200"/>
            <a:ext cx="3348000" cy="17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1E0B-8CFB-4845-B075-881C2382B30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Konverzije tipov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nverzija tipova može se vršiti putem konst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cout &lt;&lt; "Konstr " &lt;&lt; endl;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Complex(){cout &lt;&lt; "Dest" &lt;&lt; endl;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riend ostream&amp; operator&lt;&lt;(ostream &amp;os, Complex&amp; c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stream&amp; operator&lt;&lt;(ostream&amp; os, Complex&amp;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s &lt;&lt; "(Im=" &lt;&lt; c.re &lt;&lt; ",Re=" &lt;&lt; c.im &lt;&lt; ")"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o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mplex c1(1.2, 2.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ut &lt;&lt; c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c1 = 5</a:t>
            </a:r>
            <a:r>
              <a:rPr b="0" lang="sr-Latn-CS" sz="1200" spc="-1" strike="noStrike">
                <a:solidFill>
                  <a:srgbClr val="ff3300"/>
                </a:solidFill>
                <a:latin typeface="Courier New"/>
              </a:rPr>
              <a:t>.0</a:t>
            </a:r>
            <a:r>
              <a:rPr b="0" lang="en-US" sz="1200" spc="-1" strike="noStrike">
                <a:solidFill>
                  <a:srgbClr val="ff33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ut &lt;&lt; c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111640" y="4586400"/>
            <a:ext cx="4032360" cy="22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743F2-746A-4B16-9A7B-57A22D02A92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Konverzije tipov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ugi način jeste definisanje operatorske funkcije za konverzij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ska funkcija članica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koja ima oblik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erator 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finiše konverziju iz tip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u tip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ska funkcij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erator 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može da bude statička metoda, niti može da bude globalna prijateljska funkc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ma argu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pitanju je unarni opera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ip povratnog rezultata se ne navodi u deklar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drazumijeva se na osnovu imena 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614F8-6D7C-4E67-BC0F-22A0A2C22A5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Konverzije tipov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 float(){return re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 c1(1.2, 2.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 = c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f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07280" y="5200560"/>
            <a:ext cx="273672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423A-7D79-4AAC-AA96-7B53480C304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peratorsk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Značenje operatora za korisnički tip definiše se putem operatorskih funkcij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maju posebna imena 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bo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značava neki operator ugrađen u jezi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sl-SI" sz="1800" spc="-1" strike="noStrike">
                <a:solidFill>
                  <a:srgbClr val="000000"/>
                </a:solidFill>
                <a:latin typeface="Courier New"/>
              </a:rPr>
              <a:t>operator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ve funkcije preklapaju standardne operatore (+,-, , /, * it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sim eksplicitnog poziva preko imena mogu se pozivati koristeći notaciju koja se koristi za operatore nad ugrađenim tipov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raz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1@t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 tumači ka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perator@(t1,t2)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// za operatorsku prijateljsku funkciju k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t1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perator@(t2)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// za operatorsku metodu klase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DD0E-95C5-4F3D-8E1C-380F7CB731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peratorsk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friend Complex operator+(Complex c1, Complex c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Print(){cout &lt;&lt; "Re=" &lt;&lt; re &lt;&lt;",Im=" &lt;&lt; im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operator+(Complex c1, Complex c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re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z.re = c1.re + c2.r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z.im = c1.im + c2.i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re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c1(1.0,2.0), c2(4.5,5.6), c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3 = c1 + c2; //ekv. sa c3 = operator+(c1,c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3.Pri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12000" y="3860640"/>
            <a:ext cx="3132000" cy="141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D7FD-5F7C-49CE-8120-ACA1DCEC62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peratorsk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omplex operator-(Complex c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omplex operator+(float f){return Complex(this-&gt;re + f, this-&gt;im)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Print(){cout &lt;&lt; "Re=" &lt;&lt; re &lt;&lt;",Im=" &lt;&lt; im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Complex::operator-(Complex c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Complex(this-&gt;re - c1.re, this-&gt;im - c1.i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lex c1(1.0,2.0), c2(4.5,5.6), c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3 = c2 - c1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//ekv. sa c3 = c2.operator-(c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3.Pri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3 = c3 + 1.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3.Prin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588000" y="5423040"/>
            <a:ext cx="2556000" cy="143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9D494-4B5F-4468-AC54-BC38F414D4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peratorsk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je moguć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omijeniti prioritet, asocijativnost i broj operanda operatora u odnosu na svojstva koja su ugrađena u jez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 nije moguće definisati da prekolopljeni operator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ma veći prioritet u odnosu na preklopljeni operator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edefinisati operatore za ugrađene tipov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 nije dozvoljeno 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Complex operator+(float, flo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voditi nove operatore u jez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eklopiti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?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ok svi ostali mog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ki operatori imaju posebna ograničenja za preklapanje: 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ti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2533-C56B-493C-976A-395D1AEFA2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peratorsk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ska funkcija može bi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cija članica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ka j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 binarni opererator, tada operatorska funkcije koj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e funkcij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lanic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ba da se realizuje ka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operator@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vi operand mora biti objekat klase kojoj operatorska funkcija prip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ugi operator mora biti tipa argumen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pr. ako u klasi Complex postoji definisana operatroska  funkcij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 operator+(float f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da prvi argument mora biti objekat kla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Drugi argument mora biti tip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Globalna funkcija (najčešće prijateljsk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ka j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 binarni opererator, tada operatorska funkcije koj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globaln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ba da se realizuje ka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operator@(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186CE-B5D7-4BEE-B38B-C756D652E1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leksandar</cp:lastModifiedBy>
  <dcterms:modified xsi:type="dcterms:W3CDTF">2013-08-15T09:26:27Z</dcterms:modified>
  <cp:revision>865</cp:revision>
  <dc:subject/>
  <dc:title>Chapter 1 – Introduction to Computers and C++ Programming</dc:title>
</cp:coreProperties>
</file>