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450E-5072-4EC2-82F8-1628D700E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0219-C601-42F2-B686-4DC5E4534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60ED-61B2-424D-8288-319B73800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41B0-A688-47FF-A55C-B37FF7948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ED179-D75E-49FC-A18C-206830F2AF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BBC3-1659-46F3-BE7B-C00AE48D9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0674-F9D4-4F79-8083-4165CD6F2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40C3-8DCF-4F51-AADE-E2DF764924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E1AA-4319-4E75-810B-DADFB53514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63E9-7891-4F21-A38F-D8F58D43A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BC3A-6288-4B68-9BDC-A8D3ED9F2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6C3F-6819-4637-8719-CEEA3F658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CB50-F478-42AC-907D-394E112678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A70F-9A62-45C8-A040-9A2F9B020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EFCB-F197-4003-9450-0DBA178175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60E9-B66D-419C-8662-8CA6A7D10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F03A-971F-401C-9AC2-246FE058D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DCEF-A2FF-4737-8BF6-965221E6E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4E36-A7B8-4C96-B989-A2D60EC43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5891-87DC-411B-896A-1EFE08B7E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88CB-6594-44E2-923C-E72FEF973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891C-FD26-4C46-B3F5-6A2ACA6AB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688E-01FC-4A0A-A41A-3D0984513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36FA-5A79-4704-9F80-9A6FA930E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9EE-EBCB-446D-B3D9-EF176466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D0B4-BB08-4DCC-9EC0-1D3628A01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7 – Gene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ki mehanizam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Šabloni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nerisan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odrazumijeva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Šabloni funkcija čla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Zaključ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9244-CBDD-4B7D-B42D-43ACE5E1BA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reklopljen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maxfunc(char* str1, char* str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return strcmp(str1,str1)&gt;=0?str1:str1;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poziva se preklopljena funkcija maxfun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ekspl. se poziva genericka funkci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419640" cy="15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DB39-1EFE-4A80-8A8C-8E61E52EF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om klase definiše se cijela familija klasa koje imaju isti iz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Šablon klase naziva se i generičkom klas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šablona klase odgovara deklaraciji “obične” klase izuzev što ispred stoj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mplate&lt;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naštanje prevodioca za šablone klasa je identično kao i za šablone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se konkrenta klasa kada se naiđe na deklaraciju sa objekta te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zamjena parametra šablona stvarnim tip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ti efekat kao da je programer sam ispisao sve konkren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ši  se i generisanje svih funkcije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2A3F-BDA5-4DCD-A488-0DB8B9782F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znaka tipa generičke klase treda da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dentifikator generičk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u stvarnih argumenata za generičke parametre i konst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vodi se unutar 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varni argument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znaka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e klase, ugrađeni tip, pokazivač i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ti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konstantni izr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mjenjuje parametar koji je identifikator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2DD6-6DA6-4EC5-83EB-F1E5ADECA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Šablon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764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template &lt;class T, int n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Array&lt;T, num&gt;::Arra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a = new T[num]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int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&lt;Complex,2&gt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r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5595840"/>
            <a:ext cx="442764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9B0E-5A13-4D26-AC89-446CA9560B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rametri šablona mogu da imaju podrazumijena vrij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oliko posljednjih argumenta može da ima podrazumijenu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no kao i kod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voljno je navesti samo u deklaraciji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potrebno ponavljati u metod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er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može da bude primitivni tip, “obična” klasa, generička klasa sa navedenim stvarnim tipov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parametar konsta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na vrijednost je konstantni iz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CA0D-00E1-4B75-AB47-47FCDB1CC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drazumijene vrijednos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){a = new 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 cout &lt;&lt; a[ i ] &lt;&lt; 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&gt; ar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lt;Complex&gt; arr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[0] = 1;arr1[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[0] = Complex(10.1, 1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442764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13A-6246-4372-9EC8-0FCBD233D1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funkcije članice šablonske klase su podrazumijevano šablons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članice mogu da budu šablonske, tj. gener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 obzira da li je klasa šablons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a funkcija članica mogu da se definišu unutar klase izi iz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biti virtuel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ne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može da bude gener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ozivu stvari argumenti šablona navode se poslije ime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8018-CFF7-4300-AF87-E61672F059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Šabloni funkcija članic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class T&gt; void mul(T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*= 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os &lt;&lt; "(Im=" &lt;&lt; c.re &lt;&lt; ",Re=" &lt;&lt; c.im &lt;&lt; ")"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int&gt;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1.mul&lt;float&gt;(2.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c1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46920" y="48420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7211-1506-49DB-B6C6-461B623245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dređenom broju slučajeva postoji potreba da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neke specif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ne vrednosti parametara šablona definiše specifična definicija šablonske funkcije ili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drugačije ponašanje za nizove znaka u odnosu na broje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ethodnom primjeru, tu funkciju smo preklopili što je u određenim slučajevima dalo neželjeno ponaš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žan je koncept specijalizacije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je posebnog šablona za neku kombinaciju paramet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da postoji prethodno definisati opšti šabl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B05E-70F5-462A-AA5F-2EB6F0B2F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jelimič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ima makar jedan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tpu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pecijalizovani šablom nema ni jed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specij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ic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izacija funkcija mora da bude potp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spred deklara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se koristiti konkretni tipovi za deklaraciju formalnih argumenat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FF08-69CB-405C-8771-50720E3D6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šabl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šablona funkcija funkcija 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podrazumijevanih vrijednosti šablo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izacija šabl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AB77-BFF8-47CF-9710-192A83431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maxfunc(T a, T 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return a &gt; b? a : b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har* maxfunc(char* str1, char* str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{ return strcmp(str1,str1)&gt;=0?str1:str1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kspl. zahtijev za generis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float maxfunc&lt;float&gt; (float,floa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1 = -3, i2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f1 = 5.5, f2 = 34.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1 = "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* s2 = "ab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i1, i2)=" &lt;&lt; maxfunc(i1, i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generise se int maxfunc(int,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max(f1, f2)=" &lt;&lt; maxfunc(f1, f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ut &lt;&lt; "max(s1, s2)=" &lt;&lt; maxfunc&lt;char*&gt;(s1, s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46920" y="1773360"/>
            <a:ext cx="309708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116A-A65E-4FF1-9AFA-BA666F002D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pecijalizacija generičke klase može biti potpuna ili djelim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la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argument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class GSklasa&lt;parametri&gt;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rgum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vi ili samo neki formalni argumenti opšteg šabl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mogu imati podrazumevan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arame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Specijalizovani argumenti opšteg šablo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 deklaraciji objekta generičke klase navodi se onoliko parametara koliko ima opšti šab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vodilac bi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jviše specijalizovani šablon (sa najmanje argumen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pšti - ako ni jedan specijalizovani ne odgov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EAD-F390-4680-AACF-610888633B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[i] != arr1.a[i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34E7-F99E-4025-9307-7C204E698A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int&gt; a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1; a2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0] = new char[3]; strcpy(s1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[1] = new char[3]; strcpy(s1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&lt;char*&gt; s2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0] = new char[3]; strcpy(s2[0], "ab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[1] = new char[3]; strcpy(s2[1], "b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 == s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=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s1!=s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48360" y="4962600"/>
            <a:ext cx="309564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4FE7-772D-4215-9BF2-D2C2D2CF05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Specijalizacija šablo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emplate &l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lass Array&lt;char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 *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char*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Array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*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bool operator==(Array&amp; arr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!= arr1.n) 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trcmp(a[i], arr1.a[i])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77080" y="5238720"/>
            <a:ext cx="22669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21E7-1BE5-4D6F-8FDC-E1AE930848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Zaključak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e klase se najčešće koriste za realizaciju kontejnersk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ista it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generičkog mehanizma ovaj problem rješavan je putem nasljeđ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etodu se defisane tako da rade sa nekim opštim tipo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 koga se izvode ostal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itanju je zapravo pokazivač na bilo koji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i nedostatak je mogućnost da se neka operacija jednom pozove za jedan objekat, a drugi put za neki drug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e koristi gen. mehanizam do toga ne može doć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d deklaracije objekta se navodi i stvar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CBAB-2E7B-4B64-9E5C-531BFB5F86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značajnom broju slučajeva istu funkciju (algoritam) treba primjenjivati nad različitim tipovima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psolutna vrijed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ksimum dva br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Bez odgovarajućeg mehanizma trebalo bi pisati po jednu funkciju za svaki tip podat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int abs(int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abs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 n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return n &gt; 0? n : -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Jezik C ne podržava preklapanje imena pa se funkcije zovu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f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lab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it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1931-0E1D-4AE3-95E8-80087AB17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z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 C++ omogućava definisanje šablon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 opisuje familiju funkcija koje imaju istu realizaciju, ali operišu nad različitim tipovima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gu se praviti i z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osnovu šablona se automatski generišu konkrente funkcije za konkretan tip poda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datak prevodioca, a ne program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koje su opisane šablonom nazivaju se generič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čki mehanizam je stat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rijeme prevođenja vrši se tekstualna zamj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85C7-38AE-455D-876E-26370B938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šablona počinje ključnom riječ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om se izmeđ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&lt;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vode parametri šabl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arametri šablona su odvojeni zarez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parameter može biti tip ili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tip onda se navodi ključna rije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a zatim se navede i identifikator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tifikator tipa može se koristiti unutar šablona na svim mjestima gdje se očekuje identifikator tipa 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u pitanju konstanta, onda se navede oznaka tipa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, a zatim identifikator konst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stanta se može koristiti unutar šablona na svim mjestima na kojima se očekuje konsta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7464-7387-4895-A40E-A29040A96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Šablon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emplate &lt;class 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T abs(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1 = -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f1 = 5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1=" &lt;&lt; abs(i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f1=" &lt;&lt; abs(f1)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83440" y="5522760"/>
            <a:ext cx="1960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2F95-CAFA-4DEB-8C5E-2E4727C1A3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nkretnih funkcija na osnovu šablona vrši se automatski od strane prevodio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likom analize šablona prevodilac ne generiše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je još uvijek nepozn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koda se vrši kada se dođe do poziva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matra se stvar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eneriše konkretnu verziju funkcije tako što parametre šablona zamijeni stvarnim tip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ima više poziva sa istim tipoom (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generiše se samo jednom za taj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E0D6-92B5-4C56-B4EB-1B34C41BF5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30992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089D-BD4C-4940-86CE-C9B2FED72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Generisanje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kretne funkcije mogu biti generisane i na eksplicitan zahtje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ksplicitno generisanje vrši se sa navođenjem prototipa sa tipovima stvarnih argum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enerisanje funkcije se vrši samo ako odgovarajuća funkcija ne posto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ilo generisana bilo definis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govarajuća funkcija znači da se stvarni argumetni uklapaju u formalne bez konverz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blonske funkcije je moguće preklap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2BA2-74F6-47C1-BA00-DBB3914700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6T09:28:52Z</dcterms:modified>
  <cp:revision>893</cp:revision>
  <dc:subject/>
  <dc:title>Chapter 1 – Introduction to Computers and C++ Programming</dc:title>
</cp:coreProperties>
</file>