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983F8-0BE1-42F1-B965-0EBCE2453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8CF3-708B-4E4C-9C98-AFFFE1FA6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B0F74-943E-4E10-9CC2-1A9D862D72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B8A8F-C533-4253-B128-1B6D22798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2BB28-F8C5-419E-880C-AF3148326E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56961-B113-4846-BD82-96F9629A77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E0089-D236-4B42-92DF-3EB6568619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90FF-1BD4-4A2E-ADF4-B1C9C43281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CCBFE-AC3B-46D6-97F2-2F6BD550DE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DCC9E-B5EA-454A-9E97-753D19DC4B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3E307-6798-4498-BE3C-AB7A7EE050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9A506-2D60-4559-8B3D-3987798FA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1A8FF-64C7-4439-807A-BA775D8791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5C369-2882-4C75-83DC-CF020488A9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1BCF1-C739-4DB7-B590-6A9BD7E6BF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5119C-7780-4C91-9AA9-2DFC1B02A1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8943B-0DB0-40EB-9D40-AFD9EDE904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9CDC-4E9F-4BD2-93BC-CE145873E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97C4-05CE-4D3E-BF18-C1CAAC7D0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28F6D-3254-45C1-A184-2972B5FA7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3135-A811-46F4-9B68-E95D40FCD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3DA44-1680-4BEE-B08C-BBBC9831E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10FB7-1F4A-4A92-96C7-B0357A352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B08B0-B9B1-473C-A751-5B417FFC9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7BA9-3784-4FA6-BAC3-C63997976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1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C9E6-CB28-4C4C-B5B2-546740A671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 rot="5400000">
            <a:off x="6781320" y="7596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 rot="16200000">
            <a:off x="6781680" y="45684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1992–2004 by Deitel &amp; Associates, Inc. and Pearson Education Inc. All Rights Reserved</a:t>
            </a:r>
            <a:r>
              <a:rPr b="0" lang="en-US" sz="1200" spc="-1" strike="noStrike">
                <a:solidFill>
                  <a:srgbClr val="000000"/>
                </a:solidFill>
                <a:latin typeface="AvantGar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kcija 1 – Uvod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1447920"/>
            <a:ext cx="7696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reg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Motiva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snovni pojmo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emeljni princi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reg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3F7C5-8134-456D-B7A4-2637E76F13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038760" cy="5329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0" y="1916280"/>
            <a:ext cx="3848040" cy="3076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353760" y="5877000"/>
            <a:ext cx="24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k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Imperativno vs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123A-DCA4-4F2B-B591-DA9AAFA113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ncip je da se podaci i programski kod vezani za jedan entitet čuvaju u okviru jedne programske jedinice (kl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ajčešće, ovaj princip realizuje su putem koncepta k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stiže se bolja sprega programskog koda sa podaci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Lakše je kontrolisati više manjih jedi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Znatno unapređenje u odnosu na strukturirano programiranje gdje postoje dvije velike odvojene cjeline, tj. programski kod i podac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daci vezani za jedan entitet dostupni su samo funkcijama i procedurama vezanim za taj entit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Pojednostavljuje se traženje greša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nalogija sa preduzeć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Sastoji se iz više odvojenih departmana i svako ima svoja zaduž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pr. računovodstvo vodi računa o zaradama i samo su njima dostupni ti poda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aži princip “crne kutij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e ulazi se u detalje implementacije klase koja modelira neki entit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Sakrivanje slože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67779-77D9-4D03-BC33-730D57BEC2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713400" y="630864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k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OO  paradi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769440" cy="591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FB20-304A-4E55-A031-E63CA552F4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O pristup stvara osnove za modelovanje rješen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očavaju se entiteti, njihova stanja i akcij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stoje jezici za modelovanje putem kojih je ove opise moguće i formalno zapisati i sačuvati (UM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Rješenje se potom implementira u nekom konkretnom OO programskom jeziku koristeći koncepte OO programiran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reba razlikovati OO modelovanje (projektovanje) i OO programi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O modelovanje je pristup koji se bavi kreiranjem modela realnog svije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O programiranje je tehnika za realizaciju kreiranog mode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8FC4-EE70-402C-BFB6-3DB7A1AB71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Temeljni principi – Apstraktni tip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pstraktni tipovi poda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trakcij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prepoznavanj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nih svojstava skupova sli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h objek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sivanje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im tipom podat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red ugrađenih tipove podataka, u OO jezicima moguće je definisati i sopstvene tipove podata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Oni se ravnopravno koriste sa ugrađenim tipovi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guće je kreirati proizvoljan broj promjenjivih za taj novi ti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Instanciran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guće je definisati i operacije nad novim tip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ovi tip se uglavnom realizuje putem k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ovi tipovi podataka odgovaraju pojmovima iz realnog svijeta, tj. domena probl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Time se postiže bolja razumljivost programskog koda i olakšava programiran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pr. novi tipovi mogu da prestavljaju studente, zgrade, geometrijske objekte it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857F6-743E-44A6-9A51-361DBD2A62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Temeljni principi – Enkapsula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nkapsulac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Implementacija nekog tipa može (treba) biti skrivena od ostatka sist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time se smanjuje mogućnost da dođe do greš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orisnicima je jasno definisano šta je moguće raditi sa nekim tipo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ako se sprovodi određena implementacija je skriveno od njeg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Analogija sa kućnim aparat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risnik vidi samo skup dugmati putem kojih koiste apar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Elektronika i mehanika koja vrši operacije su skriveni od korisni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aj princip se ostvaruje tako što pojedini dijelovi koda (podaci, funkcije, procedure) mogu označiti kao javni ili privat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53160-9A6D-46F6-B742-3B715A2DF3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712680" y="6308640"/>
            <a:ext cx="19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k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Enkapsul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0920" y="836640"/>
            <a:ext cx="5329440" cy="417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5D13-366C-4FE4-97E1-AF4B1AA237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Temeljni principi – Nasljeđ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sljeđivan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Vjerovatno i najvažniji princip OO programiran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skupu sličnih entiteta mogu se uočiti podskupovi koji dijele neke zajedničke osobine koje razlikuju od ostalih objek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 u skupu entiteta Vozilo mogu se uočiti podskupovi Automobil i Kam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ni dijele zajedničke osobine jer pripadaju skupu entiteta Vozi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red toga, imaju svoje specifične oso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Za svaki kamion mora biti poznata maksimalna dozvoljena težina tere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7872-7A90-494E-A16B-87AA5276A8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Temeljni principi – Nasljeđivanj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sljeđ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a sličan način klasa A može se izvesti iz klas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Ona zadržava sve funkcionalnosti osnovne klase, tako da se te funkcionalnosti ne moraju ponovo implementirati u izvedenoj klas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Moguće je dodavati nove funkcionalnosti, kao i mijenjati postojeć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Ovime se postiže visok stepen ponovne upotrebe programskog ko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Jednom kreirana klasa može biti proslijeđena drugim programerima da je kori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Ako treba unijeti izmjenu programer kreira novu klasu koja se izvodi iz postojeće klase i modifikuje samo samo određene funkcionalnos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Programski kod osnovne klase ostaje neizmijenj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Programer čak ne mora da zna ni jedan detalj implementacije iz osnovne k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Programiranje GUI-a kod većine OO jezika je zasnovana na ovom princip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37A5-A740-4FE5-A40C-FA28823390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991280" cy="5437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81400" y="6165720"/>
            <a:ext cx="19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k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Nasljeđiva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69E2-26CA-4E7C-9FDA-A36C88911D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iljevi le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voj lekci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sa istorijatom struktiranog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O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iran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 sa osnovnim pojmovima i principima vezanim za OO programira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gled koncepata koji će biti izučavani u ostatku kur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72FA-DA1B-4AAB-BECA-B483F767A7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Temeljni principi – Preklapanje operatora i polimorfizam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klapanje operato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red mogućnosti uvođenja novih tipova moguće je definisati i značenje operatora za taj novi ti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pr. ako je definisan novi tip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Complex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koji odgovara  kompleksnim brojevima, moguće je i definisati značenje operatora + nad tim novim tip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perator + u različitim kontekstima ima drugačiji smisa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limorfiz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aj pojam vezan je nasljeđivan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ka u klasi A postoji funkcij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guće je izvesti klase B i C iz klase A i u tim klasama napisati novu (specifičnu) implementaciju z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Funkcija </a:t>
            </a: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ma više oblik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ji oblik će biti pozvan zavisi od tipa objek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5B4B-0981-4197-8E87-57435F7ED6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egled – Klase i objekti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stavlj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trakcij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jedni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h atributa i zajedni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g ponašanja jednog skupa srodnih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t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e sadr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atke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e (atribut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definišu sta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e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ice (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metode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šu ponašanj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ka klasa ima implementaciju i interfe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lementaciju klase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ni podaci članovi 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cije funk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fejs klase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ni podaci 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vi (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ne preporučuje 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laracije funk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ojave (instance) klase nazivaju se objekti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E33C4-CDAB-4044-9F29-F8472E334A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7488360" cy="6324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993040" y="6381720"/>
            <a:ext cx="20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k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Klasa i objek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50CEB-8397-4FE8-B762-3C3D866E36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egled – Klase i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&lt;string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ing namespace st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Ucen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cenik(int BrojIndeksa, char* i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~Ucenik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Stamp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rojIndeks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ime[15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675F4-5643-4BD0-93E6-20A78E36D5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.4 Pregled – Klase i objekt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cenik::Ucenik(int brojIndeksa, char* 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-&gt;brojIndeksa = brojIndeks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cpy(this-&gt;ime, i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cenik::~Uceni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Ucenik::Stamp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"Broj indeksa " &lt;&lt; this-&gt;brojIndeksa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t &lt;&lt; "Ime " &lt;&lt; ime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91841-617F-47DD-AA83-F713C63C82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Motiva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lan ra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nosti u poslovanju i napredak računarske tehnike ima za posljedicu porast pritiska na softversku industrij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ada naraslim zahtjevima nije moguće odgovoriti dolazi do tzv. “softverske kriz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Krize se prevazilaze uvođenjem novih alata i tehni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vaj proces je ciklič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zvoj softvera prati ciklično smjenjivanje povećanja pritiska na softversku industriju usljed rasta složenosti poslovanja i smanjena pritisaka usljed uvođenja novih alata i tehnik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.S. Frank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8E8B9-1D83-4F32-9ECD-B4582B2542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Motiva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dna takva kriza javila se šestdesetih godi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to vrijeme nije postojala tehnologija razvoja programa, pa se za takav pristup koristi naziv “haotično programiranj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 programima se često koristila naredba skoka (goto) pa se takav programski kod nazivao “špageti ko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Strukturirano programiranje nastaje kao odgovor na narasle zahtje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vodi se red u programiranje upotrebom strogo definisanih upravljačkih struktura (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td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vezano je sa imperativnom paradigmom programir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3255-B2D3-43D3-94AE-165DD8CC0A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Motiva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rukturirano programiran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Ogroman napredak u odnosu na programiranje putem asembl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rogram predstavlja niz instrukci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ao što je rečeno koriste se propisane instru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Veći programi koji imaju nekoliko stotina instrukcija postaju nerazumljiv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rši se razbijanje na manje procedure i f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Čvrsto je vezano sa metodom sukcesivne dekompozici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oblem se postepeno dekompomponuje i raščlanjuje na manje jedinice (procedure i funkci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3C56-EF19-4EA3-8A63-5D9A72D117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Motivacija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red brojnih prednosti i postoje i ma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ogram je podijeljen na dvije velike cjeline, podaci i k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Za složene programe ovo može biti probl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dovoljno razvijena podrška za uvodjenje novih tipova podataka i proširenje postojeći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dovoljno razvijeni mehanizmi za povezivanje modula koda napisanih od strane različitih timova program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edostatak mehanizama za ponovnu upotrebu k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ako složenost softvera stalno raste navedeni nedostaci predstavljaju ozbiljno ograničenje u upotrebi strukturiranog programir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O programiranje je dijelom uvedeno kako bi se prevazišli nedostaci tradicionalnog programir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OO programiranje ne znači kompletan nestanak strukturiranog programiranja, već su principi strukturiranog programiranja prisutni u OO programskim jezic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F12AC-70A0-4DEA-8C2B-0D1B80ED34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424720" cy="3559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83200" y="5084640"/>
            <a:ext cx="28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k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roceduralna paradi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5BCB1-2649-4C8A-80EE-FFDBD9D3EC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Za prevazilaženje poteškoća uzrokovanih složenošću često se pribjegava upotrebi mode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apa je primjer modela, kao i maketa z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 se sastoje od elemenata koji opisuju neku fizičku, apstraktnu ili hipotetičku realn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del je pojednostavljenja slika svije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Ta “slika” sadrži samo one detalje koji su od inte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reba model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je široka i prisutna u mnogim domeni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 očigledne prednos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še je sprovoditi eksperimente i analizu nad modelima, jer su jednostavniji i njihova izrada košta mnogo manje nego izrada samog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ćava se nivo apstrakci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ša komunikacija između članova razvojnog ti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DCF6-5215-4EB4-A60F-2159520C36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snovni pojmovi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O pristupu uvodi bitno drugačiji način razmišljanja u programiran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O pristupu softver se tretira kao model realnog svij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ijet se sastoji iz entiteta (objekat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Entiteti imaju svoja stanja (atribute) i ponašanja (akcije, procedur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ncepti kao što su klase, metode i nasljeđivanje služe za modelovanje (opisivanje) entite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lasa je glavni koncept koji predstavlja apstrakciju (model) jednog entit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48FF-DA1A-4EB0-91EA-8AB1B59D51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Aleksandar</cp:lastModifiedBy>
  <dcterms:modified xsi:type="dcterms:W3CDTF">2013-08-12T18:10:47Z</dcterms:modified>
  <cp:revision>581</cp:revision>
  <dc:subject/>
  <dc:title>Chapter 1 – Introduction to Computers and C++ Programming</dc:title>
</cp:coreProperties>
</file>