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E3154-23B2-49BC-A310-70CE9B791D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95F4B-0037-465C-9C68-0DAF33A43A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7E638-7D06-40B1-A16E-D34CBDDB4C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6CC4C-2759-41B3-9C0E-0A650DC8E3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C6239-22AE-446D-9DEF-0DEB7322CE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917EE-6CA4-4993-B300-3B7F62A615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B05D8-D9ED-4DBC-8A41-0B3E616AE3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97836-F75C-422A-806B-E6A046E3FA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13AD8-5C52-44C2-9712-5674583649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261A2-1096-4E70-8BE4-06B58DE2E4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2D6CB-279F-4901-86C1-CDCB32A6B0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06748-812B-4963-A250-00D9E7C489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AEBCD-2B9F-461F-B2BB-8EDA438F06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FD627-4730-4F80-BDE3-6E1A7133C3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EF993-C3C8-404B-A6D1-E45BDEA674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46944-6C89-438F-82BF-77B06FB43F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6A42B-E6CB-4E17-9D60-9FF7F6C5EF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E85BE-5DC8-4060-B345-118449C5D1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9A7C1-4340-4BB0-AE6C-D1A54F41DF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A37A3-CA96-4D20-9D48-86357BC293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284C4-E208-4E04-B9CF-C99B5A257D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F59D6-65AC-4415-B02B-2D0D31C3C4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4C61C-CCBF-43C7-AF6A-81BCA66F7C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A0F1D-105B-45E5-8E99-096C382B70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25ED-4B2E-4732-AC3C-C17A0513A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1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6D24-62E5-4AE8-93E2-D51C3CF90D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 rot="5400000">
            <a:off x="6781320" y="7596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 rot="16200000">
            <a:off x="6781680" y="45684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0080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4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kcija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lase i objekti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1243080"/>
            <a:ext cx="7696080" cy="56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Preg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Osnovni pojmov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Objek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3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mplementacija i interfejs kl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4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Preprocesiran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5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Pokazivači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6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Referenc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7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Objekti i funkcije članic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8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Pokazivač </a:t>
            </a:r>
            <a:r>
              <a:rPr b="1" i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his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Preklopljene funkci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0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i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nline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funkci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Konstante funkci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Podrazumijevani argum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3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Konstruktor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4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Destruk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5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Objekti kao arugmenti funkcij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6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tatički (dijeljeni) atribu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7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tatičke (dijeljene) met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8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Prijatelji kl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558D7-6086-42FF-BBCB-8A67B02BAED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bjek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tributima i metodama pristupa se preko operatora tačka (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ziv metoda članica vrši se isključivo u kontekstu konkretnog objek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pr.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1.Print();</a:t>
            </a:r>
            <a:r>
              <a:rPr b="0" lang="sr-Latn-C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ziv nema smisla vršiti u kontekstu cijele kl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Poziv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Print();</a:t>
            </a:r>
            <a:r>
              <a:rPr b="0" lang="sr-Latn-C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ema smisla i prevodilac bi prijavio grešk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iv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meto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se naziv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u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anjem poruk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ktu k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kat koji šalje poruku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poziva metod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ziva 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kat-klij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Objeka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i prima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poruku (čiji se metod poziv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kat-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svoje metode objeka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pozivati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metod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og objek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D793F-7599-470C-A23B-44E95C3EC4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755640" y="-360"/>
            <a:ext cx="77724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lass Poi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loat x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33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ff3300"/>
                </a:solidFill>
                <a:latin typeface="Courier New"/>
              </a:rPr>
              <a:t>static int coun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(float x = 0.0, float y = 0.0) : x(x), y(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nt = count + 1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t &lt;&lt; "Point : konstruktor " &lt;&lt;  endl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(Point&amp; p) : x(p.x), y(p.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nt = count + 1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t &lt;&lt; "Point : konstruktor kopije" &lt;&lt;  endl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~Point(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nt = count - 1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t &lt;&lt; "Point : destruktor" &lt;&lt; endl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loat getX(){return this-&gt;x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loat getY(){return this-&gt;y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void setX(float x){this-&gt;x = x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void setY(float y){this-&gt;y = y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ff3300"/>
                </a:solidFill>
                <a:latin typeface="Courier New"/>
              </a:rPr>
              <a:t>static </a:t>
            </a:r>
            <a:r>
              <a:rPr b="0" lang="sr-Latn-CS" sz="1500" spc="-1" strike="noStrike">
                <a:solidFill>
                  <a:srgbClr val="ff3300"/>
                </a:solidFill>
                <a:latin typeface="Courier New"/>
              </a:rPr>
              <a:t>int </a:t>
            </a:r>
            <a:r>
              <a:rPr b="0" lang="en-US" sz="1500" spc="-1" strike="noStrike">
                <a:solidFill>
                  <a:srgbClr val="ff3300"/>
                </a:solidFill>
                <a:latin typeface="Courier New"/>
              </a:rPr>
              <a:t>getCount(){return count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9BBD2-5052-4EE2-B363-AE7C336CDA81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7 </a:t>
            </a:r>
            <a:r>
              <a:rPr b="1" lang="sl-SI" sz="2800" spc="-1" strike="noStrike">
                <a:solidFill>
                  <a:srgbClr val="ff3300"/>
                </a:solidFill>
                <a:latin typeface="Arial"/>
              </a:rPr>
              <a:t>Statičke (zajedničke) metod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Point::count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int* p1 = new Point(1.0, 2.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Broj objekata klase point " &lt;&lt; p1-&gt;getCount()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int* p2 = new Point(3.0, 4.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Broj objekata klase point " &lt;&lt; p2-&gt;getCount()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int* p3 = new Point(5.0, 6.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Broj objekata klase point " &lt;&lt; p3-&gt;getCount()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lete p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Broj objekata klase point " &lt;&lt; Point::getCount()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lete p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Broj objekata klase point " &lt;&lt; Point::getCount()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lete p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Broj objekata klase point " &lt;&lt; Point::getCount()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A0A20-96A6-4F03-9E99-82DCC63C8374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8 </a:t>
            </a:r>
            <a:r>
              <a:rPr b="1" lang="sl-SI" sz="2800" spc="-1" strike="noStrike">
                <a:solidFill>
                  <a:srgbClr val="ff3300"/>
                </a:solidFill>
                <a:latin typeface="Arial"/>
              </a:rPr>
              <a:t>Prijatelji klas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nekim slučajevima potrebno je da klasa ima “povlašćene” koristnike koji mogu da pristupaju privatnim i zaštićenim članicama k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ijatelji 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jatelji klase mogu b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Funkci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l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jateljstvo je relacija koja reguliše pravo pristup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jateljstvo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 nasl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je simetri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relacij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je tranzijentna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 relaci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B3349-BE1B-4906-8700-2CE38DCE63D4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8 </a:t>
            </a:r>
            <a:r>
              <a:rPr b="1" lang="sl-SI" sz="2800" spc="-1" strike="noStrike">
                <a:solidFill>
                  <a:srgbClr val="ff3300"/>
                </a:solidFill>
                <a:latin typeface="Arial"/>
              </a:rPr>
              <a:t>Prijatelji klas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jateljske funkcije su funkcije koje nisu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ice klase, ali imaju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dozvolj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stup do privatnih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ova kl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jateljske funkcije mogu da budu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ne funkcije il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ice drugih kla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kcija je prijateljsk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o se u definiciji klase navede deklaracija funkcije sa klju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m re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fri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v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je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ravo pristupa sekciji klase (privatno, zaštišeno, javno) u kojoj se navod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klaracija prijateljske funk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5A202-9FAE-4941-8C04-0097671E107B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8 </a:t>
            </a:r>
            <a:r>
              <a:rPr b="1" lang="sl-SI" sz="2800" spc="-1" strike="noStrike">
                <a:solidFill>
                  <a:srgbClr val="ff3300"/>
                </a:solidFill>
                <a:latin typeface="Arial"/>
              </a:rPr>
              <a:t>Prijatelji klas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kcija mo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da bude prijatelj ve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 broju klasa istovrem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Ne narušava se princip enkapsulaci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Projektant klase sam određuje koje funkcije će biti prijateljs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Izbjegava se “publikovanje” članova svim ostalim kla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Globalne prijateljske funkcije najčešće imaju jedan ili više argumenata koji su tipa te kl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sebne usluge koje su vezane za klasu, a ne za objek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Ut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godnije za korište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da funkcija treba da pristupa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ovima više klasa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ikasnija je prijateljska globalna funk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da se preklapaju operatori,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 je jednostavnije definisati globalne (operatorske) funkcije nego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met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67D01-D896-4B36-965A-CC2E174C1990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8 </a:t>
            </a:r>
            <a:r>
              <a:rPr b="1" lang="sl-SI" sz="2800" spc="-1" strike="noStrike">
                <a:solidFill>
                  <a:srgbClr val="ff3300"/>
                </a:solidFill>
                <a:latin typeface="Arial"/>
              </a:rPr>
              <a:t>Prijatelji klas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lex(float r, float i) : re(r), im(i){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iend int IsEqual(Complex* c1, Complex* c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27EB7-CB8F-4D5C-B40C-BC98B3D7CB56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8 </a:t>
            </a:r>
            <a:r>
              <a:rPr b="1" lang="sl-SI" sz="2800" spc="-1" strike="noStrike">
                <a:solidFill>
                  <a:srgbClr val="ff3300"/>
                </a:solidFill>
                <a:latin typeface="Arial"/>
              </a:rPr>
              <a:t>Prijatelji klas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IsEqual(Complex* c1, Complex* c2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c1-&gt;re == c2-&gt;im &amp;&amp; c1-&gt;im == c2-&gt;im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mplex* c1 = new Complex(1.0,2.0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mplex* c2 = new Complex(1.0,2.0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sEqual(c1, c2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lete c1;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lete c2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37678-8CED-458D-8F72-60A78C0E2EE9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8 </a:t>
            </a:r>
            <a:r>
              <a:rPr b="1" lang="sl-SI" sz="2800" spc="-1" strike="noStrike">
                <a:solidFill>
                  <a:srgbClr val="ff3300"/>
                </a:solidFill>
                <a:latin typeface="Arial"/>
              </a:rPr>
              <a:t>Prijatelji klas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unc1( B&amp; b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unc2( B&amp; b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B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_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iend int A::Func1( B&amp;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::Func1( B&amp; b ) { return b._b; }   //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::Func2( B&amp; b ) { return b._b; }   //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Gres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AF04D-A246-470A-B48F-47E80486B23D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8 </a:t>
            </a:r>
            <a:r>
              <a:rPr b="1" lang="sl-SI" sz="2800" spc="-1" strike="noStrike">
                <a:solidFill>
                  <a:srgbClr val="ff3300"/>
                </a:solidFill>
                <a:latin typeface="Arial"/>
              </a:rPr>
              <a:t>Prijatelji klas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o su sve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eto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jateljske funkcije klasi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nda j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jateljska klasa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iend cla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klasi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o koja meto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ž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pristupa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im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ovima kla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vaj princip se koristi kada dvije klase tijesno sarađuj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r. Može se obezbijediti da samo klas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reira objekte klas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iže se tako što se konstrukori klase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klarišu kao privatni, a zatim se klasa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klariše kao prijateljska klasi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7B647-3AA8-426F-80A5-96D02DFBF7CC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8 </a:t>
            </a:r>
            <a:r>
              <a:rPr b="1" lang="sl-SI" sz="2800" spc="-1" strike="noStrike">
                <a:solidFill>
                  <a:srgbClr val="ff3300"/>
                </a:solidFill>
                <a:latin typeface="Arial"/>
              </a:rPr>
              <a:t>Prijatelji klas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int cou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(float x = 0.0, float y = 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(Point&amp; p) : x(p.x), y(p.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~Po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int getCount(){return count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ff3300"/>
                </a:solidFill>
                <a:latin typeface="Courier New"/>
              </a:rPr>
              <a:t>friend class Circ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C91BB-576F-452C-A698-D297520E0480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bjek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Dozvoljeno 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s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n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kaziv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č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objek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sa nizov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k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deljiv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n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rednosti (operat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jednog objekta drug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zim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n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rese objekata (operat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redno pristup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n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ktima preko pokaziv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(operat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osredno pristup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n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tributim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oziv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n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metod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perat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redno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pristupanje atributim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metodama preko pokazivač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perat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-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stup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n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ementima nizova objekata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0" lang="sl-SI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prenošenj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k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ao argumen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kcija i to po vrednosti ili referenc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no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šen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kaziv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č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objekte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kao argumenata funk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vraćanj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k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 funkcija po vrednosti ili referenc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n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kaziv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č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objek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CA41A-19CE-4D4B-934B-4D5159067E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8 </a:t>
            </a:r>
            <a:r>
              <a:rPr b="1" lang="sl-SI" sz="2800" spc="-1" strike="noStrike">
                <a:solidFill>
                  <a:srgbClr val="ff3300"/>
                </a:solidFill>
                <a:latin typeface="Arial"/>
              </a:rPr>
              <a:t>Prijatelji klas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::Circle(Circle &amp;x) : PI(3.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t &lt;&lt; "konstruktor kopije"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-&gt;r = x.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-&gt;p = new Po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-&gt;p-&gt;x = x.p-&gt;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-&gt;p-&gt;y = x.p-&gt;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F730E-7CE3-49A9-8250-99F02ADB7AB6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bjek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obra programerska praksa je da sve podaci članovi budu privat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Time se izbjegava neželjeni pristup podaci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istup podacima dozvoljen je jedino preko metoda članic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24000" y="3141720"/>
            <a:ext cx="4353120" cy="287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EB6C2-6347-4EEA-B44A-3AF23AFBA5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bjek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hou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.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hou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2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varijabla se dovodi u nevalidno st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BBDE5-0CDA-40FA-A803-0EBED60023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bjek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hou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setHour(int 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h &gt; 23 || h &lt;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t &lt;&lt; "Invalid hour" &lt;&lt;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our = 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99F73-FDEE-4C63-8334-95E5E896D5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bjek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me t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1.setHour(25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8351640" cy="8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CCDD7-EB57-45E7-B1A6-98751B7ACD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Implementacija i interfejs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ka klasa ima implementaciju i interfej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lementaciju klase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e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ni podaci članovi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cije funk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erfejs klase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e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ni podaci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ovi (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ne preporučuje 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klaracije funk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aksa se da implementacija i interfejs razdvoje u posebne fajlov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Datoteka sa ekstenzijom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sadrži interfejs kl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Datoteka sa ekstenzijom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cpp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sadrži implementaciju kl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284E5-846A-4C48-A842-F980F1EE30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Implementacija i interfejs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loat re;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 //deklaracija podatak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//zaglavlja funkci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oid setData(float r, float i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6ADCD-0186-4ACB-997E-5732E8E2EC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Implementacija i interfejs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#include "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lex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.h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Complex::setData(float r, float 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 = 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 =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Complex::Pr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t &lt;&lt; "Re " &lt;&lt; re &lt;&lt; " Im " &lt;&lt; im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4E999-FE65-4B0F-8EDE-A728AD8C43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Implementacija i interfejs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klaracija funkcije članice obično se nalazi u interfejsu k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pšti oblik 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T ime(lista_ar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– povratni ti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ime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– identifikator funkci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lista_arg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– lista formalnih argumena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Lista je odvojena zarezi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Deklaracija argumenta ima oblik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T ime_a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finicija (implementacija) funkcije je zapravo deklaracija funkcije iza koje slijedi tijelo funk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četak i kraj tijela funkcij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značavaju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vratna vrijednost funkcije jeste izraz naveden poslije ključne riječi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pr.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10E34-92AF-44FB-9EE9-810F457B4A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38080" y="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iljevi lek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91440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ovoj lekcij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znavanje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osnovim pojmovima vezanim za klase i objek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ktive preproceso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azivači i refer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enje pokazivača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klapanje imena funk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lin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k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struktori i destruktor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struktor kop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čki podaci članovi i statičke met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jatelji kl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BA34C-8E52-456B-AA28-6F755EAEBE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3 Implementacija i interfejs klas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d definicije funkcije prije imena navodi se ime klase zajedno sa operatorom :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pr.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oid Complex::Print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perator :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perator razrešavanja oblasti važenj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Velika razlika izmeđ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definicij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Complex::Prin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značava definiciju funkcij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iz kla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Definicij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Prin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značava definiciju neke globalne funkcij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B80F6-F082-46BB-9DB0-A5B9240BFA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eproces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r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sljeđeno iz programskog jezika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je samog prevođenja izvorni kod programa se najprije procesira posebnim programom za obradu teks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vaj program se naziva preproces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laz u proces prepocerisanja jeste izvorni kod, a rezultat je takođe izvorni k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ocesor prevodiocu daje “očišćen” tekst progra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ransformaciju koje treba obaviti nad tekstom zadaju se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direktivam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Specijalne linije u programu koje počinju simbolom #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F1398-8BDC-4723-938C-A35D3515B9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eproces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r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ktiv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#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defin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Definisanje simboličkih konstan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Opšti oblik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#defin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identifikato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vrijedn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Vrši “slijepu” zamjenu svakog pojavljivanja identifikatora zadatom vrijednošću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11280" y="3429000"/>
            <a:ext cx="8137440" cy="290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080C3-F445-4936-AFA0-AEBBA37346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eproces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r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ktiv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#inclu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procesorska direktiv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ziva se prije samog kompajliranja 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pira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ompletan sadržaj jednog fajla u drug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mogućava da se na jednostavan način učita interfejs klase u više fajlov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ogući oblici s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Direktiva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#include 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efajla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Učitava korisnički definisan fajl sa tekućeg direktorij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Direktiva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#includ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imefajl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itava sistemski (predefinisani) fajl sa odgovarajuće lokacij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D4B69-6441-47B1-B9CA-B93B69352D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26920" y="304920"/>
            <a:ext cx="7272360" cy="65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488D5-FB2E-4F66-B809-122081C7C39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eproces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r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irektiv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fdef, #ifndef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Omogućavaju da se određeni dio koda isključi ili uključi u zavisnosti od toga da li je zadovoljen određeni uslo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Direktiv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fdef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dozvoljava kompajliranje dijela koda samo je definisana simbolička konstanta koja se javlja poslije ove direkt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esto se koristi kod fajlova koji sadrže zaglavlje neke klase, kako bi se izbjeglo višestruko učivanje interfejsa kl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E9914-97F0-4599-97B5-29E9DA1207C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42920" y="9360"/>
            <a:ext cx="6767640" cy="3059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900000" y="3284640"/>
            <a:ext cx="6913800" cy="300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41051-7507-4D91-8BCD-004576130AA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eproces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r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ifndef _COMPLEX_CLASS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define _COMPLEX_CLASS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setData(float r, float 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26597-0FFE-461E-8833-F2B818A0634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okazivač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razliku od većine savremenih jezika (Java, C# itd.) jezik C++ podržava pokaziv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i bajt u memoriji ima svoju adre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Adrese su redni brojev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gram koji je učitan u memoriju zauzima jedan opseg adre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Svaka varijabla, kao i svaka funkcija ima svoju adres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dresa neke promjenjive može se dobiti putem operatora 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1EEA2-4B80-46D6-9B64-BA7649084E0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840360" cy="618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AAB1B-0B35-4490-B0F3-1FD975B9905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snovni pojmovi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stavlj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strakcij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jedni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h atributa i zajedni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g ponašanja jednog skupa srodnih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it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e sadr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atke (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definišu stan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kcije (definišu ponašanj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aci koji su dio klase nazivaju se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aci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lanovi, ili atributi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kcije koje su dio klase nazivaju se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kcije članic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sto se koristi naziv </a:t>
            </a:r>
            <a:r>
              <a:rPr b="0" i="1" lang="sr-Latn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e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D04BC-35CE-4563-BF58-A755CE50EB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okazivač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oguće je deklarisati promjenljivu koja ne sadrži neku vrijednost već adre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kazivačke varijable, tj. pokazivač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kazivačka varijabl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klari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še se navođenje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poslije naziva tipa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datk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ema ograničenja u pogledu tipa podatka, tj. može se deklarisati pokazivač na bilo koji ti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klaracija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 cP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no je r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ličita u odnosu na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c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omjenljiv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c1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predstavlja objekat, dok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Ptr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treba da sadrži adresu objekta klas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Comple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87B03-00BD-44C1-86AA-598DB1C8119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okazivač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mplex c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c1.setData(4.5, 1.2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mplex* cPtr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 = NUL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476360" y="2781360"/>
            <a:ext cx="5688000" cy="289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CFDCF-6919-411D-A5BE-79201AD1912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Pokazivač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mplex c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c1.setData(4.5, 1.2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mplex* cPtr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amp;c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71640" y="2781360"/>
            <a:ext cx="5832360" cy="26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15DA8-4966-4342-B18F-08EF9DF0143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Pokazivač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mplex c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c1.setData(4.5, 1.2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mplex* cPtr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 Complex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Ptr-&gt;setData(1.2, 0.5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11280" y="2997360"/>
            <a:ext cx="8243640" cy="269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AB7C7-35D8-4245-9749-DE9387044EC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5 Pokazivač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reira novi objek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uzima potrebnu memoriju za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uvanje objek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bjekat se čuva u dijelu memorije koji se naziva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he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Vraća  adresu novokreiranog objek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mogu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ćava da u vrijeme izvršavanja zauzimate memoriju po potreb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perator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slobađa memoriju za objekat npr.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delete cPt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bjekat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za koji se oslobađa memorija mora prethodno biti kreiran putem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perato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perator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rektno (posredno)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pristupanje atributima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metodama preko pokazivač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B0E6A-E34E-4471-BEE7-44162120B64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6 Referenc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pitanju je izvedeni ti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Referenca na objekat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j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T&am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Upućuje na objekat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Blizak je pojmu pokazivač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 većini slučajeva, realizovana je kao konstantni pokazivač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kazivač koji je jednom inicijalizovan i ne može se preusmjeri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Trajno upućuje na objekat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ilikom deklaracije referenca se mora inicijalizovati objetkom tip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Referenca je “čvrsto” vezana za objek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redstavlja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alias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bjekta, tj. njegovo drugo i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vaka operacija nad referencom je operacija nad objekt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DABEF-B9EA-48EA-9CA9-F3CD5C2A128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6 Referenc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stup objektu preko reference je posredan isto kao i kod pokazivač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Ipak, ne zahtijeva se upotreba posebnog operatora (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) već se koristi operator direktnog pristupa (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kazivač se može preusmjeriti, a referenca ne mož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mogu postoj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Reference na referenc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kazivači na re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it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C+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osim po vrijednosti, argument se mogu prenositi i po referenc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ajčešće, reference se koriste u tu svrh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6D343-9CA8-4674-96AB-0CE19324CD8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6 Referenc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lex c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lex &amp;c2 = c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1.setData(4.5, 1.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1.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2.setData(3.5, 7.9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1.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771640" y="4581360"/>
            <a:ext cx="5904000" cy="199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F9084-17D2-42E5-A9F6-C47FDED9DEE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6 Referenc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maxmin(int a, int b, int mx, 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int&amp; m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 &lt; 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x =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n = 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x = 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n =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x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n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xmin(3, 5, mx, m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"mx " &lt;&lt; mx &lt;&lt; " mn " &lt;&lt; m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067280" y="3789360"/>
            <a:ext cx="4895640" cy="156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DF857-0F55-4976-96B6-16BA060B54E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7 Objekti i funkcije članic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i objekat ima svoju kopiju atributa član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Za funkcije članice stvar nije tako jednostavna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i objekti koriste istu implementaciju funk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Logično, implementacija funkcije je ista za svaki objekat određene kl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bjekat ne sadrži kopiju funkcij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adrži adresu funkcij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Logično pitanj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a osnovu čega funkcija “zna” koji objekat je pozvao njeno izvršavan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98C45-D436-4E09-9089-C2F4020B965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snovni pojmov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vaka klasa ima sekcije koje određuju pravo pristupa članovima kl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To se odnosi i na podatke i na meto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rincip enkapsula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ekcija može biti označena ka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riv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Nazivaju se privatnim članovicama kl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Ne može im se pristupiti “spolj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Vidjivi su samo ostalim članicama kla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Nazivaju se javnim članicama kla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Nema ograničenja u pogledu pristup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Nazivaju se zaštičenim članicama kl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Vidjivi su ostalim članicama klase, kao i članicama izvedenih kl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ekcije mogu biti navedene u proizvoljnom redosljed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ože biti više sekcija sa isto oznak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8C8EB-022F-4B9B-982F-C09299DC37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6064560" cy="648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3D19F-DB9A-4404-8A05-319BD406007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Pokazivač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Courier New"/>
              </a:rPr>
              <a:t>this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utar svake funkcije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ice postoji implicitni (ugr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i)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lni pokaziv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 ovog pokaziv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e "konstantni pokaziv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klasu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ja je funkcij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ica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r. za funkcije članice iz klas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plex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kazivač this je tip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ple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con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aziva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 je konstantan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t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tj. nije dozvoljeno mijenjati vrijednost ovog pokazivač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r.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 = NULL;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ije validna nared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drži adresu objekta putem koga je metoda članica pozva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79019-F90E-4BBE-8AEC-03AAF3B7F0E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Pokazivač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Courier New"/>
              </a:rPr>
              <a:t>this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icitno se koristi se za prist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ovima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že se i eksplicitno navest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aziv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prav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riveni argumen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e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iv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kat.f</a:t>
            </a:r>
            <a:r>
              <a:rPr b="0" lang="sr-Latn-C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unc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je semantički ekvivalentn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(&amp;objek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E472F-4CAC-45A5-8FA7-154C1566829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8 Pokazivač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Courier New"/>
              </a:rPr>
              <a:t>this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ljedeće implementacije funkcija su ekvivalent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U drugoj je pokazivač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eksplicitno nave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void Complex::Print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cout &lt;&lt; "Re " &lt;&lt; re &lt;&lt; " Im " &lt;&lt; im &lt;&lt; endl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void Complex::Print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cout &lt;&lt; "Re " &lt;&lt; </a:t>
            </a:r>
            <a:r>
              <a:rPr b="0" lang="sr-Latn-CS" sz="2200" spc="-1" strike="noStrike">
                <a:solidFill>
                  <a:srgbClr val="3333cc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re &lt;&lt; " Im " &lt;&lt; </a:t>
            </a:r>
            <a:r>
              <a:rPr b="0" lang="sr-Latn-CS" sz="2200" spc="-1" strike="noStrike">
                <a:solidFill>
                  <a:srgbClr val="3333cc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im &lt;&lt; endl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992F7-FEC6-48A3-B333-4079B6222C8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920000" cy="461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E4DA9-7483-49BC-A3FB-66102C3986B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9 Preklopljene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klasi je moguće definisati dvije funkcije članice koje imaju isto i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Takve funkcije se nazivaju preklopljene funkcije (</a:t>
            </a: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</a:rPr>
              <a:t>Overloaded Functions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Moraju da se razlikuju se po broju ili po tipu formalnih argumen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ada je pozvana preklopljena funkcija, onda se na osnovu poklapanja stvarnih i formalnih argumenata određuje koja verzija funkcije će biti pozvan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stupak se radi u toku prevođenja 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Funkcije koje se razlikuju samo po tipu rezultata ne mogu imati isto im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385C7-9418-446A-BC61-0567C615C90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9 Preklopljene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Complex::Prin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Re " &lt;&lt; re &lt;&lt; " Im " &lt;&lt; im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Complex::Print(int n, char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(int i = 0; i &lt; n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       cout &lt;&lt; c;</a:t>
            </a:r>
            <a:r>
              <a:rPr b="0" lang="sr-Latn-C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endl &lt;&lt; "Re " &lt;&lt; re &lt;&lt; " Im " &lt;&lt; im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lex c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1.setData(4.5, 1.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1.Pri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1.Print(10, '*'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067280" y="5264280"/>
            <a:ext cx="5076720" cy="159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AC9C1-4FD7-442D-838E-B6590BFA7B1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9 Preklopljene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489800" cy="499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BE97C-501F-4ED6-878E-AE350E64155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0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Inline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ijelo funkcije čuva se na jednom mjestu u memorij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šteda prosto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ada kompajler naiđe na poziv funkcije, tada se generiše odgovarajuća asemblerska naredba (npr. CALL ili JM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kok” se na prvu naredbu funk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brada poziva funkcije zahtijeva vrijem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uva se stanje regist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tvarni argumenti se stavljaju na ste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reuzimanje povratne vrijednost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Restauriranje stanja regista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vo naročito dolazi do izražaja za kratke funkcije koje imaju nekoliko naredb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Dolazi do situacije da više vremena troši obrada poziva nego samo izvršavanje tijela funk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B6B8B-B1BB-4E16-81B8-85E789BB685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0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Inline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gramski jezik C++ nudi mogućnost neposrednog ugrađivanja tijela funkcije u k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vakve funkcije se zovu </a:t>
            </a: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</a:rPr>
              <a:t>inline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funkci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spred njihove deklaracije se navodi ključna riječ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inlin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d prevodioca se zahtijeva da optimizuje pozive funkcija time što će umjesto poziva funkcije direktno u kod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iti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građ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o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njeno tijel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vaj zahtjev prevodilac nije u obavezi da ispu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emantika programa ostaje 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vaj mehanizam treba pažljivo koristit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zbjegavati za obimne funkcij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godno je za funkcije koje imaju par naredbi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Funkcije članice su podrazumijevano </a:t>
            </a: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</a:rPr>
              <a:t>inline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ako je njihova implementacija navedena u deklaraciji (interfejsu) 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EAA4A-492E-4111-A94C-3DA75A3CC82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snovni pojmov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//deklaracija kl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re;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//podaci clano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setData(float r, float i)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//met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 = r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 = 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Print()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 //met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cout &lt;&lt; "Re " &lt;&lt; re &lt;&lt; " Im " &lt;&lt; im &lt;&lt; endl;}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3F8D6-50E1-4D2D-8129-3477156FD0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0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Inline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908000" y="1052640"/>
            <a:ext cx="6048720" cy="563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55205-906F-43FD-8BFA-93E369F0D83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0 </a:t>
            </a:r>
            <a:r>
              <a:rPr b="1" i="1" lang="sr-Latn-CS" sz="2800" spc="-1" strike="noStrike">
                <a:solidFill>
                  <a:srgbClr val="ff3300"/>
                </a:solidFill>
                <a:latin typeface="Arial"/>
              </a:rPr>
              <a:t>Inline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setData(float r, float 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Print(int n, char 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setRe(float re){this-&gt;re = re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line void setIm(float im){this-&gt;im = im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19DF3-D0E3-45DB-AA94-CE579285422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1 Konstante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ve funkcije mogu samo da čitaju stanje objekta ali ne i da mijenjaju njegovo stanj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e mogu da mijenjaju vrijednosti varijabl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zivaju s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pektor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li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ktor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ngl.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pec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funkcije koje mogu da mijenjaju stanje objekta koristi se term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ta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li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ika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ngl.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ta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i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deklaraciju ovih funkcija koristi se ključna riječ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a zaglavlja funkci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pitanju je zapravo dobra programerska praks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je objekta se takođe ne može promijeniti ni putem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kazivač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D74B2-F018-4C6C-B970-BA672AD5121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1 Konstante funkci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setData(float r, float i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Print(int n, char 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setRe (float re) const {this-&gt;re = re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line void setIm(float im){this-&gt;im = im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5300640"/>
            <a:ext cx="8713800" cy="136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3EEAD-EC6B-436F-90E2-CF1CA0E177F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2 Podrazumijevani argumen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ormalni argument može biti deklarisan tako da ima podrazumijevanu vrijedno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Za njih, prilikom poziva funkcije, stvarni argumenti mogu biti izostavljen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tvarni argument ima podrazumijevanu vrijednost navedenu u deklaraci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drazumijevanu vrijednost mogu da imaju samo nekoliko posljednjih argumenata iz li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Ako neki argument ima podrazumijevanu vrijednosti svi argmenti navedeni poslije njega u listi moraju imati podrazumijevanu vrijednos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drazumijevana vrijednosti navodi se poslije deklaracije argumenta i to poslije simbola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3DA6B-7F5F-42D8-B687-C920AE1F42C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2 Podrazumijevani argumen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setData(float r, float i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= 0.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Print(int n, char 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setRe (float re) {this-&gt;re = re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line void setIm(float im){this-&gt;im = im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lex c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lex c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1.setData(4.5, 1.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2.setData(3.5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1.Pri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2.Pri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51280" y="4005360"/>
            <a:ext cx="5041800" cy="174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F7D1F-B851-424B-BC6F-25AB6813B7C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klasi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Complex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postoji metoda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SetDat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koja je namijenjena inicijalizaciji član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va metoda treba biti pozvana odmah poslije kreiranja objek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tencijalini izvor grešaka jer ne postoje garancije da će ta metoda biti pozv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treban je mehanizam koji će omogućiti da se inicijalizacija članica objekta vrši automatski, odmah poslije kreiranja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struktor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cifi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toda klas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a defin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iš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no stanje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 objek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i isto ime kao i klas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Nema tip rezultata (čak ni </a:t>
            </a:r>
            <a:r>
              <a:rPr b="0" lang="sl-SI" sz="2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Može imati proizvoljan broj argumenata proizvoljnog ti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CDCFD-71C0-4CDE-A6E0-F86B44DD709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struktor se ne poziva eksplicit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icit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likom kreiranja objek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likom izvršavanja definicije objek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likom kreiranja putem operatora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Kada se stvarni argument klasnog tipa prenosi u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lni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(formalni argument se inicijalizuje stvarni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okviru tijela konstruktora ostalim članovima objekta se pristupa kao i kod drugih funkcij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struktori mogu bi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kloplje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že ista pravila preklapanja kao i za ostale funkci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lin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ni, privatni ili zaštićeni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že ista pravila kao i za druge funkci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ak, najčešće konstruktori su javn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DD91F-CCDD-42FA-AC87-58A72CE6F69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oat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(float x, float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::Point(float x, float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-&gt;x 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-&gt;y =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Point::Prin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cout &lt;&lt; "X=" &lt;&lt; x &lt;&lt; ",Y=" &lt;&lt; y 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5EC72-5297-4C2C-8D8E-D411605110A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1(1.0,1.5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* pPtr = new Point(2.0, 2.5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1.Pri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Ptr-&gt;Pri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pr. deklaracij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1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(1.0,1.0,1.0);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ema smisla i prevodilac bi prijavio grešk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e postoji odgovarajući konstruk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859280" y="2565360"/>
            <a:ext cx="4105440" cy="146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72BA6-F01D-410A-84FB-DAA119E1EF7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snovni pojmov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lex c1, c2;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//kreiranje objekata c1 i 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1.setData(4.5, 2.3);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//poziv met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2.setData(1.2, 0.5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1.Print();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//poziv metoda za prikaz podata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2.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9280" y="5373720"/>
            <a:ext cx="8675640" cy="93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4A5E4-CD88-47E4-A1E0-9EF5657F20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int(float x, float 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int(float x)</a:t>
            </a:r>
            <a:r>
              <a:rPr b="0" lang="sr-Latn-CS" sz="1600" spc="-1" strike="noStrike">
                <a:solidFill>
                  <a:srgbClr val="000000"/>
                </a:solidFill>
                <a:latin typeface="Courier New"/>
              </a:rPr>
              <a:t> //inline konstruk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is-&gt;x =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is-&gt;y = 0.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int p1(1.0,1.5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int* pPtr = new Point(2.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1.Pri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Ptr-&gt;Pri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975280" y="4998960"/>
            <a:ext cx="3168720" cy="185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5174A-77A6-4390-8106-FB1DE6CDBCC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reba razlikovati inicijalizaciju od dodje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 prethodnom primjeru podaci članovi su prostog tipa, pa dodjela i inicijalizacija imaju isto značen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 opštem slučaju, za proizvoljan tip T to ne mora da važ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avlja se pitanje kako inicijalizovati podatke članove u slučaju kad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da je član objekat klase za koju n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oji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razumevani konstruk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 je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 konstan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Kada je čla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9BD17-E6D9-4E12-8DB0-8275CFCC38A3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 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 &amp;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const float r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(float x, float y. float 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B31DB-6976-4D2D-9116-CCBD7F5451C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vršavanja konstruktora pozivaju s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struktori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osl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om pojavljivanja u klas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nicijalizatori (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gumenti ovih poziv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gu da se navedu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zaglavlja definicije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e deklaracije) konstruktora, iza znak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zv. inicijalizatori članov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vojeni su zarez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gu se koristiti argmenti konstruktora, kao i konsta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željno je da se navedu u redosljedu u kojem su deklarisani u kla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64324-64E0-48A1-A75E-0E12808D980E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 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 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st float P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(float x, float y, float r) : p(x,y), r(r), PI(3.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683F3-D366-4967-962C-63C037FA5758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lex(float r, float 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lex::Complex(float r, float i) : re(r), im(i){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D06EE-ACD8-470A-81D4-8890CD37042F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drazumijevani konstruk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ema formalnih argumena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li svi argumenti imaju podrazumijevanu vrijedn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ziva se bez stvarnih argumena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građeni podrazumijevani konstrukt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ema formalnih argumen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ma prazno tije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toji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o ako klasa nije definisala ni jedan konstruk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Time se obezbjeđuje da svaka klasa ima makar jedan konstruk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0489B-D8D7-4FDE-B8B0-F555B6D0CBAF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//poziv ugrađenog podrazumijevanog konstruk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* pPtr = new Po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Ptr-&gt;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42F28-8CF7-4F6B-81D9-6D6DB06DB57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oat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(float x, float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//Greska. Ugrađeni podrazumijevani konstruktor vise ne posto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* pPtr = new Poi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Ptr-&gt;Pri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04D06-6F84-4B14-B08B-25B495229CC2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oat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(float x, float y) : x(x), y(y){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(float x) : x(x), y(0.0){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() : x(0.0), y(0.0){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//Valid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* pPtr = new Poi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Ptr-&gt;Pri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5CF69-17AA-4F7A-8DE8-A08EE269973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bjek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edna pojava (instanca) klase naziva se objek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7272360" cy="481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97B1C-47CB-450A-964D-CBDDFE790A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da se jedan objekat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t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klas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nicijalizuje drugim objektom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t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ste te klase, onda će se izvršiti prosta inicijalizacija članova objekta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t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odgovarajućim članovima objekta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Ovo može biti problematično ako je pokazivač član k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Dolazi do tzv. plitkog dodjeljivan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Ako pokazivač ukazuje na objekat koji je kreiran dinamički, onda će oba objekta imati pokazivač na taj isti objekat koji je kreiran dinamič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1C7C7-9EA4-4155-B9A4-68B77C2F7046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(float x = 0.0, float y = 0.0) : x(x), y(y)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 getX(){return this-&gt;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 getY(){return this-&gt;y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setX(float x){this-&gt;x = 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setY(float y){this-&gt;y = y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0D432-3BBB-48F1-97B3-BFC971DD56ED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 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*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 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st float PI;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(float x, float y, float r) : r(r), PI(3.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 = new Point(x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* getP(){return p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E91A3-15F5-496D-AF6A-DC86024A5393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ircle c1(2.0, 3.0, 5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poziva se ugradjeni konstruktor kop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ircle c2 = c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1.getP()-&gt;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2.getP()-&gt;setX(9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1.getP()-&gt;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894200" y="5054760"/>
            <a:ext cx="4249800" cy="180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BF630-2101-4E13-9546-07BC96FE57DC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908000" y="1125360"/>
            <a:ext cx="4556160" cy="539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EE4A5-801E-4F61-9B8E-652811BAC32D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tpuna kontrola nad inicijalizacijom jednog objekta drugim može se ostvariti definisanjem tzv. konstruktora kop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struktor kopije poziv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da se objekat inicijalizuje objektom iste klase, a to 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likom inicijalizacije objekta (pomo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znak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li sa zagrada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likom prenosa argumenata u funkciju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(kreira se lokalni objek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likom vr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ja vrednosti iz funkcije (kreira se privremeni objek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struktor kopije ima argument tip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X&amp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li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 XX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odatno, može imati još argmenata, ali oni moraju imati definisanu podrazumijevanu vrijedn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struktor ne sm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mati formalni argument tip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svoje  k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Beskonačna rekurz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D9619-E4E7-4281-BE41-28371CC05E7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ir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* 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 float P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ircle(Circle &amp;x);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//konstruktor kop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ircle::Circle(Circle &amp;x) : PI(3.1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cout &lt;&lt; "konstruktor kopije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-&gt;r = x.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-&gt;p = new Po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-&gt;p-&gt;setX(x.p-&gt;getX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-&gt;p-&gt;setY(x.p-&gt;getY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7E78F-F92A-487A-8286-37B39AF8DD2A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 c1(2.0, 3.0, 5.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poziva se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predefinisani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onstruktor kop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 c2 = c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1.getP()-&gt;Pr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2.getP()-&gt;setX(9.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1.getP()-&gt;Pr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327640" y="5184720"/>
            <a:ext cx="3816360" cy="167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12D77-BCE0-4AF1-A9C4-8B5BD7A055C7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340000" y="1052640"/>
            <a:ext cx="4587840" cy="55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9DBA6-2658-4CA5-B3C6-7B2D6A129EFF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risnička konverzija (engl.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user-defined conversio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Ako klas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ima konstruktor koji se može pozvati sa jednim stvarnim argumentom tip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, ovim konstruktorom se definiše korisnička konverzija iz tip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u tip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Tip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može biti ugrađni ili korisnički definisan t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mplicitno se koristi tamo gdje je potreb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ri inicijalizaciji objekta tipa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objektom tipa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2F868-3048-47EC-8D48-879CFA3A7B3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2 Objek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bjekti klase definišu (deklarišu) se na uobičajen način, kao i promjenjive osnovih tip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aziv klase se koristi kao ime tipa, npr.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Complex C1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svaki objekat klase formira se poseban komple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ih nestati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h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atribut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k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Svaki objekat ima sopstvenu memoriju i u toj memoriji se čuvaju vrijednosti atributa (promjenjivih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jam statičkih atributa biće detaljnije opisani u ostatku lekci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memoriji objekta se čuvaju i adrese funkcija član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B10A8-A3AE-4A80-A9FD-B570BA2507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lex(float r = 0.0, float i = 0.0) : re(r), im(i){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Print(){cout &lt;&lt; "Re=" &lt;&lt; re &lt;&lt;",Im=" &lt;&lt; im &lt;&lt; endl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lex c1</a:t>
            </a:r>
            <a:r>
              <a:rPr b="0" lang="sr-Latn-C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 1.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sr-Latn-CS" sz="16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ozvoljeno</a:t>
            </a:r>
            <a:r>
              <a:rPr b="0" lang="sr-Latn-CS" sz="1600" spc="-1" strike="noStrike">
                <a:solidFill>
                  <a:srgbClr val="000000"/>
                </a:solidFill>
                <a:latin typeface="Courier New"/>
              </a:rPr>
              <a:t>. I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sto ka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//da je napisan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//Complex c1(1.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1.Pri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300720" y="5391000"/>
            <a:ext cx="2843280" cy="146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6A2E4-CE43-4EF6-8321-0CD07F870E11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vremeni objek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Bezimen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ogramer nema kontrolu nad nji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U potpunosti pod kontrolom prevod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Ako se na nekom mjestu uvodi privremeni objekat koji ima konstruktor, onda se obavezno i poziva taj konstrukt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lično važi i za destrukto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evodilac određuje kada će neki privremeni objekat biti kreiran, a kada uniš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Vrše se optimizaci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emantika programa ostaje sačuv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74D9C-CE82-47F2-ABD7-484B132D4214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onstruktor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Compl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i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lex(float r = 0.0, float i = 0.0) : re(r), im(i){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Print(){cout &lt;&lt; "Re=" &lt;&lt; re &lt;&lt;",Im=" &lt;&lt; im &lt;&lt; endl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lex add(Complex c1, Complex c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Complex(c1.re + c2.re, c1.im + c2.i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lex c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1 = add(Complex(1.0,2.0), Complex(4.5, 6.5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1.Pri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759280" y="907920"/>
            <a:ext cx="3384720" cy="137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9810A-24E4-42B8-BE51-950787CB2003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4 Destruktor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uktor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Specifična funkcija 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klase koja se implicitno poziva pri uništavanju objekta, tj. na kraju životnog vijek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Nosi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o ime kao klasa,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z znak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~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pred ime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a tip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rezultata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ne mo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imati argumen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a može imati samo jedan destruk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okviru destruktora članovima se pristupa kao i u okviru drugih funkci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Poziva se i 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 uništavanju dinami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g objekta pomo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operator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estruktori se dosta koris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da objekat treba da dealocira memoriju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ju je konstruktor alocir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109C3-85AD-4A8B-BB8E-71F704449EA8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4 Destruktor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(float x = 0.0, float y = 0.0) : x(x), y(y){{cout &lt;&lt; "Point : konstruktor" &lt;&lt; endl;}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(Point&amp; p) : x(p.x), y(p.y){cout &lt;&lt; "Point : konstruktor kopije" &lt;&lt; endl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~Point(){cout &lt;&lt; "Point : destruktor" &lt;&lt; endl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getX(){return this-&gt;x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at getY(){return this-&gt;y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setX(float x){this-&gt;x = x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setY(float y){this-&gt;y = y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BA395-BC83-4503-BC17-6118ACC2FCD1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4 Destruktor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Cir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int* 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loat 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st float P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ircle(Circle &amp;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ircle(float x, float y, float r) : r(r), PI(3.1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"Circle : konstruktor"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 = new Point(x, 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~Circl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int* getP(){return p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Circle::~Circl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cout &lt;&lt; "Circle : destructor "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delete 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42CE2-32D8-4A62-A198-D8A6C6570A79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4 Destruktor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* c1 = new Circle(2.0, 3.0, 5.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lete 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592360" y="4851360"/>
            <a:ext cx="6551640" cy="200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48617-3060-410D-8BC4-27C02355A7E6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5 Objekti kao argumenti funk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o sada argumenti funkcija su bili prostog tipa (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floa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td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Argument funkcije može da bude i objeka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ema ograničenja, tj. može biti objekat bilo koje 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Takođe, argument funkcije može da pokazivač, kao i referen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rgument funkcije je lokalni objek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Životni vijek objekta ograničen je trajanjem izvršavanja funkci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ziva se konstruktor kopi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opira se objekat koji se stvarni argu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U slučaju da konstruktor kopije nije definisan od strane korisnika, poziva se podrazumijevani konstruktor kop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09229-1327-4341-BEB6-7951A18267F9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5 Objekti kao argumenti funk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func1(Point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setX(9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(1.0, 2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unc1(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Print();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464000" y="4557600"/>
            <a:ext cx="4680000" cy="23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8CD76-3018-4B0C-9AF1-042112A84F4B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5 Objekti kao argumenti funk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769080" cy="460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F8C90-51E4-4BD5-90E9-09729B9748BD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6264360" cy="542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F86DD-C4BA-4806-971D-6723CDA0CD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5 Objekti kao argumenti funk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func1(Point&amp;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setX(9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(1.0, 2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unc1(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995640" y="4979880"/>
            <a:ext cx="5148360" cy="187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79C40-CCA3-4333-9EC5-99B377B117DB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5 Objekti kao argumenti funk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7129440" cy="401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432F8-9286-47DD-8EC1-BB0ABF1B301F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6 Statički (dijeljeni) atribu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ki objekat klas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jeduj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eban komplet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atribut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k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ak, moguće je deklarisati atribute koji su zajednički za sve objek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ibuti koji su zajednički za sve objekte nazivaju se statičkim atributima, tj. statičkim podacima članov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klarišu se navođem ključne riječi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oji samo jedan prim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ak stati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g atribu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memorij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u klasu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jedni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</a:rPr>
              <a:t>podatak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sve objekte kl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F36E4-7F96-4288-B553-D93DEA6A3751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lass Poi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loat x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ff3300"/>
                </a:solidFill>
                <a:latin typeface="Courier New"/>
              </a:rPr>
              <a:t>static int coun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(float x = 0.0, float y = 0.0) : x(x), y(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nt = count + 1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t &lt;&lt; "Point : konstruktor " &lt;&lt;  endl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(Point&amp; p) : x(p.x), y(p.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nt = count + 1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t &lt;&lt; "Point : konstruktor kopije" &lt;&lt;  endl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~Point(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nt = count - 1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t &lt;&lt; "Point : destruktor" &lt;&lt; endl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loat getX(){return this-&gt;x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loat getY(){return this-&gt;y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void setX(float x){this-&gt;x = x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void setY(float y){this-&gt;y = y;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F2859-BAE9-4262-8C9E-F1C6D51259B8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6 Statički (dijeljeni) atribu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705800" cy="385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1F022-0639-4D87-B928-2A5F43D62267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6 Statički (dijeljeni) atribu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i pristup statičkom atributu iz bilo kojeg objekta znači i pristup istoj oblasti u memorij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tatički atributi postoje tokom cijelog izvršavanja progra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e zavisi od postojanja bilo kojeg objekta kla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stoji i kada ne postoji ni jedan objekat kl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klaracija statičkog člana nije i njegova definic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Mora se definisati posebnom deklaracijo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zvan deklaracije kl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zvan deklaracije funkci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pr.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int Point::count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CD1B9-6DA9-4719-B0B0-2EB73992E675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6 Statički (dijeljeni) atribu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tatičkim atributima može se pristupiti bez navođenja konkretnog objek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ije imena atributna navodi operator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i ime kl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Ako j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statički atribut klase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, onda mu se pristupa sa </a:t>
            </a: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Point::cou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tatičkim atributima može se pristupiti i preko operator pristupa (</a:t>
            </a:r>
            <a:r>
              <a:rPr b="0" lang="sr-Latn-CS" sz="28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Važe ista pravila kao i za nestatičke članov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ntrola pristupa važi kao i za ostale člano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riste se kada svi primjerci jedne klase dijele zajedničku informacij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sobina klase, a ne konkretnog atribu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1E9E4-B004-458C-ACA8-93DBEFFA33A4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6 Statički (dijeljeni) atribu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Point::count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int* p1 = new Point(1.0, 2.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Broj objekata klase point " &lt;&lt; p1-&gt;count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int* p2 = new Point(3.0, 4.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Broj objekata klase point " &lt;&lt; p2-&gt;count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int* p3 = new Point(5.0, 6.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Broj objekata klase point " &lt;&lt; p3-&gt;count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lete p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Broj objekata klase point " &lt;&lt; Point::count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lete p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Broj objekata klase point " &lt;&lt; Point::count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lete p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t &lt;&lt; "Broj objekata klase point " &lt;&lt; Point::count &lt;&lt; 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48C0C-611D-4C66-8A2D-AA2E744D8859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6 Statički (dijeljeni) atribu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6121440" cy="346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8145C-6573-4307-89E6-0CFE7D9635D4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13 </a:t>
            </a:r>
            <a:r>
              <a:rPr b="1" lang="sl-SI" sz="2800" spc="-1" strike="noStrike">
                <a:solidFill>
                  <a:srgbClr val="ff3300"/>
                </a:solidFill>
                <a:latin typeface="Arial"/>
              </a:rPr>
              <a:t>Statičke (zajedničke) metod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Metode, kao i atributi, mogu da budu deklarisane kao statičke (zajedničke) za cijelu kla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azivaju se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statičkim metodama članic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avodi se ključna riječ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ispred deklaracije funk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tatičke metode ne pripadaju ni jednom objekt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Može im se pristupiti iako nije kreiran nijedan objekta kla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e posjeduju pokazivač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e mogu pristupi nestatičkim atributima klase kojoj pripadaj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ristup statičkim metodama je sličan kao i pristup statičkim atribut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Navodi se ime klase i operator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ispred imena funkci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Npr.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Point::getCoun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ože se pristupiti i preko operator pristupa (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Važe ista pravila kao i za druge met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E4C3B-8838-4B62-8BAE-BE390557F533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17:02:59Z</dcterms:created>
  <dc:creator>jason</dc:creator>
  <dc:description/>
  <dc:language>en-US</dc:language>
  <cp:lastModifiedBy>Aleksandar</cp:lastModifiedBy>
  <dcterms:modified xsi:type="dcterms:W3CDTF">2013-08-19T11:51:43Z</dcterms:modified>
  <cp:revision>763</cp:revision>
  <dc:subject/>
  <dc:title>Chapter 1 – Introduction to Computers and C++ Programming</dc:title>
</cp:coreProperties>
</file>