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AED7-ADE1-4195-A726-C3C95AE27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6D13-194B-4164-B60F-A5084742C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8DB0-EC36-4631-BD15-1116E15EF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D5A1-CFBA-442E-AF82-C67BBEB9F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4E72-1B34-47FE-BA29-018902F854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B43C-9471-4363-96C8-3C2F36C297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833B3-D1A8-43DC-A3CC-12078482B8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0885-911F-49C8-8BBE-60E3CB8348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A2E6-15EE-4AED-B7E5-0685359215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B820-3207-43BC-A9C8-047FF73E12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F828-7812-409F-AA36-A15FC2FEB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02F6-9191-4469-B430-71C0AAE9C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F6F2-AC20-4E20-B8C5-54F5492835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4F3C-600B-4B5C-B9F7-3E4F5AFB2E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2B10-7B25-4C9E-9ABF-E76BBAA44C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24A5-68AD-4B01-B688-85929BA1CE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97C61-3638-472F-8A6E-19D4A7437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D243-02AD-4E52-91CD-0DC0D03A3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B6E8-0BFA-43E4-9065-2A881924D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4584-279F-4C13-96F0-21BC48B6F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A703-621C-441B-9F82-E3655A967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CF4A-F0BB-4ED9-880C-86D5928C9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59A7-B064-4D2C-8328-9473770E5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43DE-B52E-4B2A-B75D-CF2CEFEF9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55DA-331B-4DEC-B7E7-2AE457744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012E-172E-4522-BBDE-F9874DEDA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5 – Prostori imena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rganizacija programa po fajlov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ačin povezivanja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ostori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nonimni prostor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tandardni prostor i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3D65-CDD5-47DD-87E2-C325C4B894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različitim fajlovima ili bibliotekama mogu da se nađu globalne varijable, funkcije, ili klase sa istim imen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blem konfilikt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ješenje: Upotreba prostor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stor imena je imenovana sekcija faj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graničen je vitičastim zagrada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činje s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pace Identifik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dentifikator predstavlja naziv prostor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iše definicija sa istim identifikatorom obrazuje jedan prostor sa datim ime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Un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36FE-0B8D-416E-8D61-8A8B4F88F6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lobalna imena uvedena u prostoru imena mogu se neposredno koristiti unutar tog prostora ime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ljiva izvan tog prostora im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ra se koristi posebna notacija za referencir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stoje tri načina za referenc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iranje pojedinačnog čl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Identifikator_prostora_imena::Ime_iz_prostora_i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z pojedičnog eleme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using 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dentifikator_prostora_imena</a:t>
            </a: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me_iz_prostora_i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z svih imena iz prostora im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urier New"/>
              </a:rPr>
              <a:t>using namespace </a:t>
            </a:r>
            <a:r>
              <a:rPr b="0" i="1" lang="sl-SI" sz="1600" spc="-1" strike="noStrike">
                <a:solidFill>
                  <a:srgbClr val="000000"/>
                </a:solidFill>
                <a:latin typeface="Courier New"/>
              </a:rPr>
              <a:t>Identifikator_prostora_imena</a:t>
            </a:r>
            <a:r>
              <a:rPr b="0" i="1" lang="sl-SI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6042-2D2E-45A8-B04D-808D3999D2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24720" cy="555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EDE1-A1EB-4641-80A3-5051B261F7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ezena imena mogu da se koriste bez navođenja identifikatora prostora imena i operatora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e nije jednoznačno onda se mora navesti identifikator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dva različita prostora imena postoje dvije funkcije sa istim imen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postoji lokalno ime onda se mora navesti identifikator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z se odnosi samo na delove prostora imena definisane p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CD91-4836-4D8E-8988-834A2F5B0C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ostori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382760"/>
            <a:ext cx="6696000" cy="54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FD3A-F118-4B04-A39C-D4019E6655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še se izostavljanjem identifikatora iz definicije prostor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ena iz anonimnog prostora imena vidjive su u datote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vidljivo u drugim fajlov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ena iz anonimnog prostora mogu se koristiti bez navođen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o ime iz anonimnog prostora 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teke označava različite entit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nimni prostor imena se preporuču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esto stavljan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 globalna i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9D79-A134-467C-A8CC-0C2948CEDE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pace 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lobalVar = 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Globa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printGlobalA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 ++globalVa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printGlobalA(); //gre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::printGlobalA(); //dozvolj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F815-6808-4DE6-914F-D5C0007AF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spac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globalVar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Global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printGlobalA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 ++globalVar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GlobalA(); //dozvolj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F282-EEF1-413D-B2B9-EAFB1B14AE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Anonim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325520"/>
            <a:ext cx="7777440" cy="55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2AFE-345B-4045-B9F6-EB49AD09AC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Standardni prostor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dardna zaglavlja s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štaju imena u prosto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mena pod naziv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iostream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še sva imena u prostoru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razliku 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u imena globa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::cout&lt;&lt;”n?”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t&lt;&lt;”n?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::cin&gt;&gt;n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in&gt;&gt;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&lt;&lt;”n?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n&gt;&gt;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FCAF-B11B-4A66-BBCA-30F1461BD0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rganizacijom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i pojmovi vezani za način povezivanj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prostorima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imni i standardni prostori i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4AC5-8F0E-426C-8342-6F92A2E6D6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Motivacija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praktično i nepregledno je da se kompletan programski kod nalazi u jednom fajl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ći programi  bivaju “razbijeni” na više manjih organizacionih jedi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risti se i termin programski mod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ično se jedan modul sadrži u jednom faj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radicionalno, proizvođači softvera su grupu srodnih funkcija organizovali kao jedan mod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risti se termin biblioteke, ili biblioteke gotovog ko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tandardne bibli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34D8-3408-46CC-B113-B1F444DD0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rganizacija programa po fajlovim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ogrameru ne piše programski kod “od nule” već u svom kodu koristi bibliote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Standard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reirane od strane drugih proizvođač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reirane od strane drugih članova t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programskom jezik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biblioteke sadrže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i modul (biblioteka) se potpuno nezavisno prevodi od drugih mo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klaracije iz drugih modula učitavaju se putem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direk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rezultat dobija se tzv. objektni faj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datak linkera je da nezavisne cjeline poveže u izvršnu verziju programa ili novu bibliote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ličnu ogranizaciju koristi jezik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mjesto biblioteka funkcija postoje biblioteke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C5CD-879C-4FCE-AEB9-B1BE7FDF1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rganizacija programa po fajlovim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1476360"/>
            <a:ext cx="597672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61EC-71FF-44D8-8B2C-2A566F0F05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ovezivanja ime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određuje kako s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vezuju ista imena (identifikator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orišćeni u različitim datotek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poljašnje povezivanje (SP) imaj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mena koja označavaju isti entitet (podatak ili funkciju) </a:t>
            </a:r>
            <a:br>
              <a:rPr sz="2200"/>
            </a:b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unutar svih datoteka programskog 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nutrašenje povezivanje (UP) imaj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mena koja označavaju različite entitete u različitim datotekama, imena koja su lokalna za datote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lobalna imena imaju SP, osim ako se koristi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(tada je unutraš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Lokalna imena imaju UP, osim ako se koristi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(tada je spoljaš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9D9C-6425-44BB-B466-A14FFC9906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74872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BCCC-8617-449B-A305-3399136863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208720" cy="571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69E9-5A85-4001-9ACD-000CF3870E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povezivanja imen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28000" cy="544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3954-0452-4341-B007-1460EB87F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20T13:57:06Z</dcterms:modified>
  <cp:revision>945</cp:revision>
  <dc:subject/>
  <dc:title>Chapter 1 – Introduction to Computers and C++ Programming</dc:title>
</cp:coreProperties>
</file>