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AD7E-2314-4D66-8220-DFBBD31C7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6A69-F63A-456A-8149-6C64109F4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A41F-27D1-4812-A83F-78A1F4B7C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DE29-6E75-4720-AB16-A59864C4E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3925C-E2F4-49C7-B4F8-4D8D5DB7B8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CC48-4314-4673-BEF3-C35A71B86F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B919A-9C46-498E-95B3-77093EADBE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A801B-F5B5-4172-89C7-42330A787E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BC62-6413-46FA-88AC-45EF79C62B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1935-B48B-4247-BBCD-79476A95B6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ABED-88D9-4856-A46B-313C386917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AF9A-F38B-4529-9546-C022B2E28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67D8-10D5-4796-B34B-4D78C73C4E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D91A-9F52-4578-AD17-313948C311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CB7B5-36A4-491F-A5CC-5DC7122D91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954A-847B-4042-B3D5-0EFBFC56AC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9B17-904B-458F-AF6C-1D646C8A39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D201-68DE-4837-809D-EB51F3DD9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8A0A-14F7-4912-B981-2F3BB9CFB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241F-24D5-4727-9EDF-FB0B30C99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889B-C6E2-4DED-B7C2-E6391532D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1765-47EC-4FEC-8D09-32A148E28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3D15-7272-4032-A6B6-C85243D1F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4D1F-FB72-4DA9-BB94-A492C4BBB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D495-6C9E-46EF-AC6C-96CE08D59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1069-EB9B-4FA4-B866-C55EB1864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uzeci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otiv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ehanizam obrade izuze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finicija hendl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Izazivanje izuze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ihvatanje izuze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Specifikacija izuzetaka funk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Neprihvaćeni izuz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Neočekivani izuz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Standardni izuz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92DA-C290-4C7C-831D-CA01CBDE62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Mehanizam obrad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(int n) : n(n) {a = new int[n];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&amp; operator[](int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 i &lt; 0 || i &gt;= 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B736-6320-4462-B20F-EF2716B60A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Mehanizam obrad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2]=" &lt;&lt; a[2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(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Izuzetak 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27640" y="4884840"/>
            <a:ext cx="2916360" cy="19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700A-BFE1-40F2-A73B-031D6CFE9A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Definicija hendler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ja hendlera l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a definiciju funkcije sa t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jednim argumen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e da je hendler tip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ko je njego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p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dler tip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 izuzetke tipa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ti tipov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osnovna klasa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pokazivači koji se mogu konvertova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 liste hendlera bira se onaj koji odgovara tipu izuzet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odgovara više bira se onaj po redosljedu pojavljiva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D8E8-4B3B-4D77-9418-380610FF07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ši se naredbom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hrow izra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raz svojim tipom određuje koji hendler će biti pozv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ijednosti izraza se prenosi handleru kao argu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ok programa se nastavlja na mjestu koje taj izuzetak može obrad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pitanju j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zkaz sa odgovarajućim tipom formalnog argumenta koji pripada najbližem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blok koji je započet, a nije završ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B627-F5D4-400D-AD16-3537CE2C6A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272360" cy="53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0472-61BC-4F52-8DA9-F23559C305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(int n) : n(n) {a = new int[n]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&amp; operator[]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if ( i &lt; 0 || i &gt;= n) throw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Izuzetak Array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[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31A4-2CB8-4C9E-ABC5-18749C3429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a[2]=" &lt;&lt; a[2]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(int 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Izuzetak main 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16720" y="4491000"/>
            <a:ext cx="2627280" cy="23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E969-CC0F-4014-85A0-492597CA19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(int n) : n(n) {a = new int[n]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&amp; operator[](int 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if ( i &lt; 0 || i &gt;= n ) throw 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[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EA42-CC9B-4209-AADA-01FB88A2C5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2]=" &lt;&lt; a[2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Izuzetak main " &lt;&lt; i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04000" y="4815000"/>
            <a:ext cx="2340000" cy="20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4FEA-F4F5-486A-BBC1-6FDABED7D2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Underflow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public: 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derflowIndex(int i) : i(i){}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Overflow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public: 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flowIndex(int i) : i(i){}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int n) : n(n) {a = new int[n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operator[]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lt; 0 ) throw UnderflowIndex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gt;= n ) throw OverflowIndex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[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99F7-BA03-4EF7-ACFA-5FCF979F6B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mehanizmom obrade izuze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azivanje i prihvatanje izuze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os informacije o izuzet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hvaćen i neočekivani izuz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ni izuz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DC44-B1ED-4D67-891E-8E01801C52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2]=" &lt;&lt; a[2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UnderflowIndex u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Ispod donje granice " &lt;&lt; uie.i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OverflowIndex u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Iznad gornje granice " &lt;&lt; uie.i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515280" y="1484280"/>
            <a:ext cx="2628720" cy="21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DFC8-67E2-4B7D-BE4C-617BE87DD2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azivanje izuzet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-1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[-1]=" &lt;&lt; a[-1]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UnderflowIndex u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Ispod donje granice " &lt;&lt; uie.i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OverflowIndex u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Iznad gornje granice " &lt;&lt; uie.i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3348000" cy="15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EC22-4F9A-4193-ADF5-A88C4FFAF9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 izazivanja izuzetk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mira se privremeni objekat sa v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noš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izr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aja kontrole hendleru podrazu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vno napuštanje bloka u kojem se dogodio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uzet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uštanje bloka podrazumijeva uništavanje svih lokalnih objekata u tom bloku i ugnj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žd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im blokov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jekat koji se pojavi kao operand naredb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štav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 se zato prethodno kopira u privrem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remeni objekat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e uništiti tek po napuštanju 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 hendl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nav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a hendlera treba se dr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i s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 pravi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lere tipa izvedenog iz neke osnovne kla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ba stavljati ispred hendlera tipa te osnov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rzalni hendler treba stavljati na posl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nje 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B8E6-6F79-43AC-8052-4016EF7F81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lass IndexEx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UnderflowIndex : public Index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public: 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derflowIndex(int i) : i(i){}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OverflowIndex : public Index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public: 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verflowIndex(int i) : i(i){}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(int n) : n(n) {a = new int[n]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&amp; operator[]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i &lt; 0 ) throw UnderflowIndex(i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i &gt;= n ) throw OverflowIndex(i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[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AAF9-9CC7-4A47-99A4-92D154ABF5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a[0]=" &lt;&lt; a[0]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a[1]=" &lt;&lt; a[1]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[-1] = 2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a[-1]=" &lt;&lt; a[-1]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catch(IndexEx ix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cout &lt;&lt; "Van granica "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atch(UnderflowIndex ui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Ispod donje granice " &lt;&lt; uie.i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atch(OverflowIndex ui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Iznad gornje granice " &lt;&lt; uie.i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551640" y="1700280"/>
            <a:ext cx="259236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7210-D0B8-4B80-9F57-A2DDDD6524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Index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cou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Ex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coun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Konstr. " &lt;&lt; id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Ex(IndexEx&amp; i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ind.id * ind.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Konstr. kopije " &lt;&lt; id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IndexEx(){cout &lt;&lt; "Destr. " &lt;&lt; id &lt;&lt; endl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getId(){return id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B77C-BDBF-4CFB-98C0-6A8F9AC842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Ex::count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dexEx 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lt; 0 || i &gt;= n )  throw 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IndexEx 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Van granica " &lt;&lt; ix.getId()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975280" y="1989000"/>
            <a:ext cx="3168720" cy="312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838B-B279-490B-963D-793532C4AF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64720" cy="465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65FF-C3DF-4560-825E-13AC59CEEE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dexEx 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lt; 0 || i &gt;=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throw 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catch(IndexEx&amp; 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Van granica " &lt;&lt; ix.getId()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470560" y="1341360"/>
            <a:ext cx="3673440" cy="359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88C6-8C9D-40A9-B59D-081FE4D245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AEC4-9BF6-4521-9C0C-7B6BD40E6A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da g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aka, tj. izuzetnih situacija u programiranju ima veliki znača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grami obično sadrže značajnu količinu koda koja obrađuje situacije koje nijesu dio osnovnog zadatka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mogućnost otvaranja datote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uspješna alokacija memor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unkcije mogu završiti rad neupješno iz razloga koji nijesu pod direktnim uticajem programe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postojanje datotok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dovoljno slobodne memorij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E637-C03E-4DE1-B98B-B5A33D394D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dexEx 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lt; 0 || i &gt;=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throw &amp;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catch(IndexEx* 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cout &lt;&lt; "Van granica " &lt;&lt; ix-&gt;getId()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i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688000" y="1628640"/>
            <a:ext cx="3456000" cy="247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9509-1818-4F37-A1BB-FD127707D2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848720" cy="478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45BC-7E36-46C1-8989-C3EABBD21B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i &lt; 0 || i &gt;=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throw new IndexE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catch(IndexEx* 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Van granica " &lt;&lt; ix-&gt;getId()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delete i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694560" y="2133720"/>
            <a:ext cx="2449440" cy="189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F3E2-B760-4A2A-A746-B2F30CA6FF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ihvatanj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424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C056-5B3C-4361-9956-27F32202F6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Specifikacija izuzetaka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deklaraciji ili definiciji funkcija m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da se navede spisak tipova izuzetaka koje funkcija izaz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o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spiska tipova izuzetaka se post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pomo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(niz_identifikatora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_tipov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a liste argumen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a koja nem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kaciju može izazvati bilo koji izuze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suprotnom može izazvati samo one izuzetke koji su navedeni u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s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irtuelna metoda u izvedenoj kla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ne sme da proširi listu izuzetaka iz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lauz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me da suzi listu izuzetak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ow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lauz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ABA8-8988-47BD-8BEC-50FA5B319B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Specifikacija izuzetaka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func1(int k) throw(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k &gt; 1)  throw 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k == 0) throw Complex(1.0, 1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k -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func1(2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int " &lt;&lt;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func1(0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Complex 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Complex " &lt;&lt;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859280" y="5942160"/>
            <a:ext cx="4284720" cy="91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51ED-5950-414A-BB0C-BE239A36F8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Neprihvaće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slučaju kada dođe do izuzetka za koji ne postoji odgovarajući hendler poziva se sistemska funkcij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erminat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odrazumijevano ova funkcije poziva funkcij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bor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Kontrola biva vraćena operativnom sistem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vo je moguće promijeniti pozivom funkcij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e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oj funkciji se predaje pokazivač na funkciju koja treba da bude pozvana umjesto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guće je predati samo pokazivač na funkciju koja nema argumenata i povratni rezultat (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Za povratak kontrole OS-u pozvat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ema smisla izvršit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naredb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C704-6752-48AD-990D-B4A5DE23B9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Neprihvaće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i &lt; 0 || i &gt;= n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throw new IndexEx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a[i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user_def_abor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Postoji neprihvaceni izuzetak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_terminate(&amp;user_def_abor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1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2] =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atch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Van granica 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Kraj 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4211640" cy="14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5BC7-598C-4D6D-8C19-FA98CF6337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Neočekiva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slučaju u toku izvršavanja funkcije dođe do izuzetka koji nije naznačen u spisku dozvoljenih izuzetaka funkcije poziva se funkcij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expecte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odrazumijevano ova funkcije poziva funkciju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Kontrola biva vraćena operativnom siste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vo je moguće promijeniti pozivom funkcij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expected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voj funkciji se predaje pokazivač na funkciju koja treba da bude pozvana umjesto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er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Moguće je predati samo pokazivač na funkciju koja nema argumenata i povratni rezultat (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Za povratak kontrole OS-u pozvati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ema smisla izvršiti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naredb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B08D-B709-4C06-BC83-123020A367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Neočekiva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func1(int k) throw(in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k &gt; 1)  throw 5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k == 0) throw Complex(1.0, 1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k -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user_def_terminate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stoji neocekivani izuzetak" &lt;&lt;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_unexpected(&amp;user_def_terminate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func1(0) &lt;&lt;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ch(...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759280" y="5875200"/>
            <a:ext cx="3384720" cy="98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B00A-3232-4E0D-A3F6-8D21ED1A5F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unkcija koje je okončala rad neuspješno mora informaciju o tome proslijediti funkciju koja ju je pozva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zivajuća funkcija razrešava nepredviđenu situaciju ili informaciju dalje prosljeđuje nadređenoj funkcij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zik nema odgorajuću podršku za obradu izuzetaka informacije se moraju prenositi kao parametri funkcija, ili kao povratne vrijednos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akav pristup ima brojne mane koje utiču na razumljivost progr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su opterećene dodatnim argumentima čime se smanjuje čitljivost progra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6CC4-61AA-4BDA-B6D9-4EAE8963BD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predak (korjena klasa) svih standardnih izuze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zaglavlju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exception.h&gt;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etode standardnih klasa i neki operatori prijavljuju izuzetke klasa izvedenih iz klase 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To znači da se bilo koji od ovih izuzetaka može prihvatiti sa 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catch(exception&amp;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Još jedna od prednosti polimorfiz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reporučlivo je da se i svi korisnički izuzeci budu izvedeni iz ov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mogućeno je projetkovanje hijerarhije izuzetaka gdje se oni mogu obrađivati pojedinačno i u grup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4CD2-F6CC-4B87-9A2C-50E7CB70818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nterfejs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class except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eption() thr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eption(const exception &amp;)thr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eption&amp; operator=(const exception &amp;)thr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rtual ~exception()thr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rtual const char* what() const throw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 jedna metoda ne smije da prijavi izuzeta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ezbijeđno putem deklaracij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hrow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toda what vraća opis na tesktualni opis izuzet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1FB6-F8EF-4E56-9504-93A80525ADA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* niz = new int[10000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(exception&amp;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izuzetak "&lt;&lt; e.wha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68720" y="5672160"/>
            <a:ext cx="4175280" cy="11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57C0-4918-4030-97C7-9FC4417D076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class IndexEx : public 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class UnderflowIndexEx : public Index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derflowIndexEx()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UnderflowIndexEx()throw()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st char* what() const throw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return "UnderflowIndexEx"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class OverflowIndexEx : public Index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verflowIndexEx()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OverflowIndexEx() throw() 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st char* what() const throw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return "OverflowIndexEx"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CE98-3D45-4546-8CFC-2FCA396DFCB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0]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1]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2]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catch(exception&amp;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izuzetak "&lt;&lt; e.wha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4067280" cy="135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5742-9C9E-4ACD-A6F0-7D059DAC994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0]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1]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-1]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(IndexEx&amp;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izuzetak "&lt;&lt; e.wha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(exception&amp;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ostali "&lt;&lt; e.wha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4140360" cy="13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76AB-80DD-4EE7-886D-F37F9215EC8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Standardni izuzec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 a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0]=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1]=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]=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UnderflowIndexEx&amp; 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izuzetak under "&lt;&lt; e.wha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OverflowIndexEx&amp; 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izuzetak over "&lt;&lt; e.wha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IndexEx&amp; 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izuzetak "&lt;&lt; e.wha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exception&amp; 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ostali "&lt;&lt; e.wha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140360" y="1844640"/>
            <a:ext cx="5003640" cy="11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4F2D-E4FC-4746-8237-88F8DEA338E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grami sadrže veliki broj if naredbi za provjeru status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igracija u des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f1())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us==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(f2())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us==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(f3())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us==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sl-SI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lancu poziva funkcija kada grešku treba propagirati prema višem nivou svaka funkcija iz lanca mora da sadrži  odgovarajući ko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9464-12B2-460B-B5B3-2822F1A7C3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eba uvesti mehanizam koji omoguć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nos informacije o nepredviđenim situacijama nezavisno od argumenata ili povratne vrijenosti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pisivanje izuzetata korisničkim tipov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Jasno razdvajanje programskog koda koji se odnosi na glavni zadatak programa i programskog koda za obradu izuzetak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snovni tok programa rasterećuje se provjera statu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rada nekog izuzetka se vrši na jednom mjest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 pojavu izuzetke automatski se prelazi na dio koda za obra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hanizam obrade izuzetaka u jeziku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 C+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podržava ove zaht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C938-653C-493B-8845-F4DB1AB026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Mehanizam obrad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mogućava prenos kontrole toka programa sa mjesta na kojem dolazi do izuzetka do mjesta gdje se taj izuzetak može obrad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jesto obrade nije poznato u trenutku pojave izuzet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avljanje i obrada izuze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 mjestu gdje je izuzetak nastao treba postaviti izuzeta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uzetak se postavlja narednom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h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 tom mjestu se prekida tok izvršavanja progra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rada se nastavlja u posebnoj rutini (hendler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jesto obrade nije poznato u trenutku postavljanja izuze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zetak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ože biti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klase (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ili nekog drugo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a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se dostavlja hendleru kao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vaki tip izuzetka se definiše zaseban he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29D3-0DAC-4157-80D9-32B1A9E6EF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Mehanizam obrad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rada izuzetaka je vezana za blok u kojem se predv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 se mogu pojaviti izuzetne situ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j blok se navodi iza ključne riječ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y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a ovog bloka slijedi proizvoljan broj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ka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raz predstavlja jedan hendl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a riječ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zagradama se navodi deklaracija formalnog argumenta bloka za obradu izuzet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 predstavlja objekat koji se prihvata kada se generiše izuzeta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je navedeno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...)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da je to univerzalni hend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a zagrada slijed blok koji predstavlja programski kod za obradu izuzet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8E93-3145-4679-B9B2-F42D251C02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Mehanizam obrade izuzetak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201080" cy="532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4E5B-21A5-40E8-A2CA-EDB2210435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9T12:28:36Z</dcterms:modified>
  <cp:revision>931</cp:revision>
  <dc:subject/>
  <dc:title>Chapter 1 – Introduction to Computers and C++ Programming</dc:title>
</cp:coreProperties>
</file>